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29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82F-E589-4203-B82A-B1020A3B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" y="3895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4E3-3267-483B-935E-11F70E1E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8540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E0D-EC13-4753-8AF3-4C56FF6B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836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5080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3324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ACD-17B9-47C1-9A06-5898AC6F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AC5FB-56AA-4C98-900C-B62902F54F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D1A3C-1172-4383-B604-C60994ED6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0F784-692E-4037-80CD-3ADC78CBFF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B1D20-F246-471E-B563-77433749C5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3676-6B40-4824-8A08-285201B20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3D593-873B-4420-9222-6690B40D4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4DDC-971E-45E1-88B8-A786486EE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663-9A5E-4197-AEB9-84209990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540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9A927-CAAC-419D-A23B-64B5CB8B9C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FC2A1-F21B-471D-BCA5-A9ACA5F06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3895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16E18-4CF4-4B76-8D66-3204E2033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8540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0A5F4-A29B-460F-AF76-7466136ABB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5080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33240" y="3895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D60D8-647B-44A2-9763-9AF764ACE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189-47C9-4D16-913A-7EE28881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DC7-F4A2-4C03-844A-6F39627D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95C-49E4-4156-AFA1-B596E25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984-377F-429D-8044-1770544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6A1-8B0B-47D9-9579-223BFD0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85400" y="3895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9C2-384D-4122-AB01-FC75CA4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8360" y="3895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F77-8A9B-432B-A6B4-932CA4B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554B-3CD1-4F3F-BABA-7A1E79EB08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" name="Picture 9" descr="a1"/>
          <p:cNvPicPr/>
          <p:nvPr/>
        </p:nvPicPr>
        <p:blipFill>
          <a:blip r:embed="rId3"/>
          <a:stretch/>
        </p:blipFill>
        <p:spPr>
          <a:xfrm>
            <a:off x="395280" y="189000"/>
            <a:ext cx="414360" cy="476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b_1"/>
          <p:cNvPicPr/>
          <p:nvPr/>
        </p:nvPicPr>
        <p:blipFill>
          <a:blip r:embed="rId4"/>
          <a:stretch/>
        </p:blipFill>
        <p:spPr>
          <a:xfrm>
            <a:off x="8748720" y="5734080"/>
            <a:ext cx="395280" cy="171360"/>
          </a:xfrm>
          <a:prstGeom prst="rect">
            <a:avLst/>
          </a:prstGeom>
          <a:ln w="0">
            <a:noFill/>
          </a:ln>
        </p:spPr>
      </p:pic>
      <p:pic>
        <p:nvPicPr>
          <p:cNvPr id="9" name="图片 3" descr="07102121185355915.gif"/>
          <p:cNvPicPr/>
          <p:nvPr/>
        </p:nvPicPr>
        <p:blipFill>
          <a:blip r:embed="rId5"/>
          <a:stretch/>
        </p:blipFill>
        <p:spPr>
          <a:xfrm>
            <a:off x="7238880" y="6165720"/>
            <a:ext cx="1078200" cy="238320"/>
          </a:xfrm>
          <a:prstGeom prst="rect">
            <a:avLst/>
          </a:prstGeom>
          <a:ln w="0">
            <a:noFill/>
          </a:ln>
        </p:spPr>
      </p:pic>
      <p:grpSp>
        <p:nvGrpSpPr>
          <p:cNvPr id="10" name="Group 12"/>
          <p:cNvGrpSpPr/>
          <p:nvPr/>
        </p:nvGrpSpPr>
        <p:grpSpPr>
          <a:xfrm>
            <a:off x="8028000" y="6021360"/>
            <a:ext cx="1370160" cy="907920"/>
            <a:chOff x="8028000" y="6021360"/>
            <a:chExt cx="1370160" cy="907920"/>
          </a:xfrm>
        </p:grpSpPr>
        <p:pic>
          <p:nvPicPr>
            <p:cNvPr id="11" name="Picture 13" descr="artplus_nature_naturalcity42_a"/>
            <p:cNvPicPr/>
            <p:nvPr/>
          </p:nvPicPr>
          <p:blipFill>
            <a:blip r:embed="rId6"/>
            <a:stretch/>
          </p:blipFill>
          <p:spPr>
            <a:xfrm>
              <a:off x="8163000" y="6265800"/>
              <a:ext cx="9842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" descr="artplus_nature_naturalcity42_i"/>
            <p:cNvPicPr/>
            <p:nvPr/>
          </p:nvPicPr>
          <p:blipFill>
            <a:blip r:embed="rId7"/>
            <a:stretch/>
          </p:blipFill>
          <p:spPr>
            <a:xfrm rot="1178400">
              <a:off x="8570880" y="6308280"/>
              <a:ext cx="46188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Picture 15" descr="artplus_nature_naturalcity42_c"/>
            <p:cNvPicPr/>
            <p:nvPr/>
          </p:nvPicPr>
          <p:blipFill>
            <a:blip r:embed="rId8"/>
            <a:stretch/>
          </p:blipFill>
          <p:spPr>
            <a:xfrm rot="1094400">
              <a:off x="8713440" y="6236640"/>
              <a:ext cx="30960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Picture 16" descr="artplus_nature_naturalcity42_f"/>
            <p:cNvPicPr/>
            <p:nvPr/>
          </p:nvPicPr>
          <p:blipFill>
            <a:blip r:embed="rId9"/>
            <a:stretch/>
          </p:blipFill>
          <p:spPr>
            <a:xfrm>
              <a:off x="8028000" y="6405480"/>
              <a:ext cx="137016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" name="Group 17"/>
            <p:cNvGrpSpPr/>
            <p:nvPr/>
          </p:nvGrpSpPr>
          <p:grpSpPr>
            <a:xfrm>
              <a:off x="8283600" y="6021360"/>
              <a:ext cx="719280" cy="382320"/>
              <a:chOff x="8283600" y="6021360"/>
              <a:chExt cx="719280" cy="382320"/>
            </a:xfrm>
          </p:grpSpPr>
          <p:pic>
            <p:nvPicPr>
              <p:cNvPr id="16" name="Picture 18" descr="artplus_nature_naturalcity42_b"/>
              <p:cNvPicPr/>
              <p:nvPr/>
            </p:nvPicPr>
            <p:blipFill>
              <a:blip r:embed="rId10"/>
              <a:stretch/>
            </p:blipFill>
            <p:spPr>
              <a:xfrm>
                <a:off x="8283600" y="6229440"/>
                <a:ext cx="71928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未标题-3"/>
              <p:cNvPicPr/>
              <p:nvPr/>
            </p:nvPicPr>
            <p:blipFill>
              <a:blip r:embed="rId11"/>
              <a:stretch/>
            </p:blipFill>
            <p:spPr>
              <a:xfrm>
                <a:off x="8400240" y="6021360"/>
                <a:ext cx="562320" cy="3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Picture 20" descr="artplus_nature_naturalcity42_d"/>
              <p:cNvPicPr/>
              <p:nvPr/>
            </p:nvPicPr>
            <p:blipFill>
              <a:blip r:embed="rId12"/>
              <a:stretch/>
            </p:blipFill>
            <p:spPr>
              <a:xfrm>
                <a:off x="8370360" y="6195960"/>
                <a:ext cx="128520" cy="14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" name="Group 21"/>
          <p:cNvGrpSpPr/>
          <p:nvPr/>
        </p:nvGrpSpPr>
        <p:grpSpPr>
          <a:xfrm>
            <a:off x="8028000" y="6021360"/>
            <a:ext cx="1370160" cy="907920"/>
            <a:chOff x="8028000" y="6021360"/>
            <a:chExt cx="1370160" cy="907920"/>
          </a:xfrm>
        </p:grpSpPr>
        <p:pic>
          <p:nvPicPr>
            <p:cNvPr id="20" name="Picture 22" descr="artplus_nature_naturalcity42_a"/>
            <p:cNvPicPr/>
            <p:nvPr/>
          </p:nvPicPr>
          <p:blipFill>
            <a:blip r:embed="rId13"/>
            <a:stretch/>
          </p:blipFill>
          <p:spPr>
            <a:xfrm>
              <a:off x="8163000" y="6265800"/>
              <a:ext cx="98424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artplus_nature_naturalcity42_i"/>
            <p:cNvPicPr/>
            <p:nvPr/>
          </p:nvPicPr>
          <p:blipFill>
            <a:blip r:embed="rId14"/>
            <a:stretch/>
          </p:blipFill>
          <p:spPr>
            <a:xfrm rot="1178400">
              <a:off x="8570880" y="6308280"/>
              <a:ext cx="46188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Picture 24" descr="artplus_nature_naturalcity42_c"/>
            <p:cNvPicPr/>
            <p:nvPr/>
          </p:nvPicPr>
          <p:blipFill>
            <a:blip r:embed="rId15"/>
            <a:stretch/>
          </p:blipFill>
          <p:spPr>
            <a:xfrm rot="1094400">
              <a:off x="8713440" y="6236640"/>
              <a:ext cx="30960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" name="Picture 25" descr="artplus_nature_naturalcity42_f"/>
            <p:cNvPicPr/>
            <p:nvPr/>
          </p:nvPicPr>
          <p:blipFill>
            <a:blip r:embed="rId16"/>
            <a:stretch/>
          </p:blipFill>
          <p:spPr>
            <a:xfrm>
              <a:off x="8028000" y="6405480"/>
              <a:ext cx="137016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" name="Group 26"/>
            <p:cNvGrpSpPr/>
            <p:nvPr/>
          </p:nvGrpSpPr>
          <p:grpSpPr>
            <a:xfrm>
              <a:off x="8283600" y="6021360"/>
              <a:ext cx="719280" cy="382320"/>
              <a:chOff x="8283600" y="6021360"/>
              <a:chExt cx="719280" cy="382320"/>
            </a:xfrm>
          </p:grpSpPr>
          <p:pic>
            <p:nvPicPr>
              <p:cNvPr id="25" name="Picture 27" descr="artplus_nature_naturalcity42_b"/>
              <p:cNvPicPr/>
              <p:nvPr/>
            </p:nvPicPr>
            <p:blipFill>
              <a:blip r:embed="rId17"/>
              <a:stretch/>
            </p:blipFill>
            <p:spPr>
              <a:xfrm>
                <a:off x="8283600" y="6229440"/>
                <a:ext cx="71928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Picture 28" descr="未标题-3"/>
              <p:cNvPicPr/>
              <p:nvPr/>
            </p:nvPicPr>
            <p:blipFill>
              <a:blip r:embed="rId18"/>
              <a:stretch/>
            </p:blipFill>
            <p:spPr>
              <a:xfrm>
                <a:off x="8400240" y="6021360"/>
                <a:ext cx="562320" cy="3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" name="Picture 29" descr="artplus_nature_naturalcity42_d"/>
              <p:cNvPicPr/>
              <p:nvPr/>
            </p:nvPicPr>
            <p:blipFill>
              <a:blip r:embed="rId19"/>
              <a:stretch/>
            </p:blipFill>
            <p:spPr>
              <a:xfrm>
                <a:off x="8370360" y="6195960"/>
                <a:ext cx="128520" cy="14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" name="页脚占位符 3"/>
          <p:cNvSpPr/>
          <p:nvPr/>
        </p:nvSpPr>
        <p:spPr>
          <a:xfrm>
            <a:off x="0" y="6477120"/>
            <a:ext cx="337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楷体_GB2312"/>
                <a:ea typeface="Arial"/>
              </a:rPr>
              <a:t>第</a:t>
            </a:r>
            <a:r>
              <a:rPr b="1" lang="en-US" sz="1800" spc="-1" strike="noStrike">
                <a:solidFill>
                  <a:srgbClr val="000066"/>
                </a:solidFill>
                <a:latin typeface="楷体_GB2312"/>
                <a:ea typeface="Arial"/>
              </a:rPr>
              <a:t>1</a:t>
            </a:r>
            <a:r>
              <a:rPr b="1" lang="zh-CN" sz="1800" spc="-1" strike="noStrike">
                <a:solidFill>
                  <a:srgbClr val="000066"/>
                </a:solidFill>
                <a:latin typeface="楷体_GB2312"/>
                <a:ea typeface="Arial"/>
              </a:rPr>
              <a:t>章 程序设计和</a:t>
            </a:r>
            <a:r>
              <a:rPr b="1" lang="en-US" sz="1800" spc="-1" strike="noStrike">
                <a:solidFill>
                  <a:srgbClr val="000066"/>
                </a:solidFill>
                <a:latin typeface="楷体_GB2312"/>
                <a:ea typeface="Arial"/>
              </a:rPr>
              <a:t>C</a:t>
            </a:r>
            <a:r>
              <a:rPr b="1" lang="zh-CN" sz="1800" spc="-1" strike="noStrike">
                <a:solidFill>
                  <a:srgbClr val="000066"/>
                </a:solidFill>
                <a:latin typeface="楷体_GB2312"/>
                <a:ea typeface="Arial"/>
              </a:rPr>
              <a:t>语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标题-3"/>
          <p:cNvPicPr/>
          <p:nvPr/>
        </p:nvPicPr>
        <p:blipFill>
          <a:blip r:embed="rId3"/>
          <a:stretch/>
        </p:blipFill>
        <p:spPr>
          <a:xfrm>
            <a:off x="5292720" y="2697120"/>
            <a:ext cx="288144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gradFill rotWithShape="0">
            <a:gsLst>
              <a:gs pos="0">
                <a:srgbClr val="4ab1e4">
                  <a:alpha val="8117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7" name="Picture 32" descr="artplus_nature_naturalcity42_a"/>
          <p:cNvPicPr/>
          <p:nvPr/>
        </p:nvPicPr>
        <p:blipFill>
          <a:blip r:embed="rId4"/>
          <a:stretch/>
        </p:blipFill>
        <p:spPr>
          <a:xfrm>
            <a:off x="4859280" y="356220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artplus_nature_naturalcity42_i"/>
          <p:cNvPicPr/>
          <p:nvPr/>
        </p:nvPicPr>
        <p:blipFill>
          <a:blip r:embed="rId5"/>
          <a:stretch/>
        </p:blipFill>
        <p:spPr>
          <a:xfrm rot="1350600">
            <a:off x="6587640" y="3633840"/>
            <a:ext cx="1941480" cy="1030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artplus_nature_naturalcity42_c"/>
          <p:cNvPicPr/>
          <p:nvPr/>
        </p:nvPicPr>
        <p:blipFill>
          <a:blip r:embed="rId6"/>
          <a:stretch/>
        </p:blipFill>
        <p:spPr>
          <a:xfrm rot="1264800">
            <a:off x="7235640" y="3705120"/>
            <a:ext cx="1112760" cy="866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artplus_nature_naturalcity42_f"/>
          <p:cNvPicPr/>
          <p:nvPr/>
        </p:nvPicPr>
        <p:blipFill>
          <a:blip r:embed="rId7"/>
          <a:stretch/>
        </p:blipFill>
        <p:spPr>
          <a:xfrm>
            <a:off x="5003640" y="5002200"/>
            <a:ext cx="4911840" cy="1882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artplus_nature_naturalcity42_b"/>
          <p:cNvPicPr/>
          <p:nvPr/>
        </p:nvPicPr>
        <p:blipFill>
          <a:blip r:embed="rId8"/>
          <a:stretch/>
        </p:blipFill>
        <p:spPr>
          <a:xfrm>
            <a:off x="5435640" y="3562200"/>
            <a:ext cx="2035080" cy="4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artplus_nature_naturalcity42_e"/>
          <p:cNvPicPr/>
          <p:nvPr/>
        </p:nvPicPr>
        <p:blipFill>
          <a:blip r:embed="rId9"/>
          <a:stretch/>
        </p:blipFill>
        <p:spPr>
          <a:xfrm>
            <a:off x="10764720" y="191628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artplus_nature_naturalcity42_d"/>
          <p:cNvPicPr/>
          <p:nvPr/>
        </p:nvPicPr>
        <p:blipFill>
          <a:blip r:embed="rId10"/>
          <a:stretch/>
        </p:blipFill>
        <p:spPr>
          <a:xfrm>
            <a:off x="5340240" y="327348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1"/>
          <p:cNvPicPr/>
          <p:nvPr/>
        </p:nvPicPr>
        <p:blipFill>
          <a:blip r:embed="rId11"/>
          <a:stretch/>
        </p:blipFill>
        <p:spPr>
          <a:xfrm>
            <a:off x="250920" y="333360"/>
            <a:ext cx="115704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b_1"/>
          <p:cNvPicPr/>
          <p:nvPr/>
        </p:nvPicPr>
        <p:blipFill>
          <a:blip r:embed="rId12"/>
          <a:stretch/>
        </p:blipFill>
        <p:spPr>
          <a:xfrm>
            <a:off x="611280" y="17002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4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2AAD-53D7-4B4A-9046-9F5E683D39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.jobbole.com/wp-content/uploads/2013/02/traditionalLanguageRelativeGrowth-Inde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1.xml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4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4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4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4.xm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黑体"/>
                <a:ea typeface="黑体"/>
              </a:rPr>
              <a:t>C</a:t>
            </a:r>
            <a:r>
              <a:rPr b="1" lang="zh-CN" sz="5400" spc="-1" strike="noStrike">
                <a:solidFill>
                  <a:srgbClr val="080808"/>
                </a:solidFill>
                <a:latin typeface="黑体"/>
                <a:ea typeface="黑体"/>
              </a:rPr>
              <a:t>语言程序设计</a:t>
            </a:r>
            <a:endParaRPr b="1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544464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李 楠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80808"/>
                </a:solidFill>
                <a:latin typeface="Arial"/>
              </a:rPr>
              <a:t>几种语言</a:t>
            </a: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保留了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原有的所有优点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增加了面向对象的机制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｡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#: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基于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框架的、面向对象的高级编程语言。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#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派生而来，继承了其强大的性能，同时又以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.NET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框架类库作为基础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Objective-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：是扩充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的面向对象编程语言。主要用于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Mac OS X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GNUstep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这两个使用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OpenStep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标准的系统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Java: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可撰写跨平台应用软件的面向对象的程序设计语言，具有卓越的通用性、高效性、平台移植性和安全性，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3"/>
          <p:cNvSpPr/>
          <p:nvPr/>
        </p:nvSpPr>
        <p:spPr>
          <a:xfrm>
            <a:off x="826920" y="1159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TIOBE Index for March 2014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826920" y="638280"/>
            <a:ext cx="7129800" cy="6124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traditional Language Relative Growth - Inde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81000"/>
            <a:ext cx="8064360" cy="4479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042920" y="5661000"/>
            <a:ext cx="6337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6a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随着移动设备的增长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Objective-C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已成移动开发语言中的领头羊。我们所能看到的会是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Web</a:t>
            </a:r>
            <a:r>
              <a:rPr b="0" lang="zh-CN" sz="1600" spc="-1" strike="noStrike">
                <a:solidFill>
                  <a:srgbClr val="080808"/>
                </a:solidFill>
                <a:latin typeface="Arial"/>
              </a:rPr>
              <a:t>开发的真正崛起。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14240" y="1999800"/>
            <a:ext cx="7632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是一种用途广泛、功能强大、使用灵活的过程性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(procedural)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编程语言，既可用于编写应用软件，又能用于编写系统软件。因此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问世以后得到迅速推广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7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40" y="1999800"/>
            <a:ext cx="76327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简洁、紧凑，使用方便、灵活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只有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个关键字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种控制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程序书写形式自由，源程序短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0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2000160"/>
            <a:ext cx="76327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运算符丰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有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种运算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把括号、赋值、强制类型转换等都作为运算符处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表达式类型多样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3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13880" y="200016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数据类型丰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包括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整型、浮点型、字符型、数组类型、指针类型、结构体类型、共用体类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99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又扩充了复数浮点类型、超长整型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long long)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布尔类型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bool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指针类型数据，能用来实现各种复杂的数据结构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如链表、树、栈等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的运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6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4240" y="200016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具有结构化的控制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f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lse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句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ile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句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ile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句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witch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句、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or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用函数作为程序的模块单位，便于实现程序的模块化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言是完全模块化和结构化的语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9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200016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法限制不太严格，程序设计自由度大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对数组下标越界不做检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对变量的类型使用比较灵活，例如，整型量与字符型数据可以通用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言允许程序编写者有较大的自由度，因此放宽了语法检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2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4240" y="200016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允许直接访问物理地址，能进行位操作，可以直接对硬件进行操作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言具有高级语言的功能和低级语言的许多功能，可用来编写系统软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这种双重性，使它既是成功的系统描述语言，又是通用的程序设计语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5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549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课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学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上机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学时，地点：网络中心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57200" y="1428840"/>
          <a:ext cx="6715080" cy="4960800"/>
        </p:xfrm>
        <a:graphic>
          <a:graphicData uri="http://schemas.openxmlformats.org/drawingml/2006/table">
            <a:tbl>
              <a:tblPr/>
              <a:tblGrid>
                <a:gridCol w="3392640"/>
                <a:gridCol w="704880"/>
                <a:gridCol w="2617560"/>
              </a:tblGrid>
              <a:tr h="284040">
                <a:tc gridSpan="3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验课日程安排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实验项目内容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学时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计划安排时间（周次）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语言程序设计初步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四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数据类型、运算符和表达式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五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顺序结构程序设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六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选择结构程序设计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七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循环结构程序设计（一）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八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循环结构程序设计（二）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九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数组应用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一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数组应用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二</a:t>
                      </a: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一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函数应用与预处理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二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指针、结构体与共用体应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三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文件操作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四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综合练习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第十五周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200016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用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编写的程序可移植性好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的编译系统简洁，很容易移植到新系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在新系统上运行时，可直接编译“标准链接库”中的大部分功能，不需要修改源代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几乎所有计算机系统都可以使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语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8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8440" y="785880"/>
            <a:ext cx="764388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2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特点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3880" y="200016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主要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生成目标代码质量高，程序执行效率高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64388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3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发展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3" name="图片 1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4"/>
          <p:cNvSpPr/>
          <p:nvPr/>
        </p:nvSpPr>
        <p:spPr>
          <a:xfrm>
            <a:off x="2286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Ｃ语言是国际上广泛流行的计算机高级语言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Ｃ语言是上个世纪</a:t>
            </a:r>
            <a:r>
              <a:rPr b="1" lang="en-US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70</a:t>
            </a: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年代初问世的，最早主要是为描述和实现</a:t>
            </a:r>
            <a:r>
              <a:rPr b="1" lang="en-US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UNIX</a:t>
            </a: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操作系统提供一种工作语言而设计的。以后进入其它操作系统，并很快在各类大、中、小和微型计算机上得到了广泛的使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美国国家标准协会在以前Ｃ版本的基础上制定了一个Ｃ语言标准，通常称之为</a:t>
            </a:r>
            <a:r>
              <a:rPr b="1" lang="en-US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ANSI C</a:t>
            </a: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微机上常用的</a:t>
            </a:r>
            <a:r>
              <a:rPr b="1" lang="en-US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C</a:t>
            </a: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：</a:t>
            </a:r>
            <a:r>
              <a:rPr b="1" lang="en-US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Microsoft C,Turbo C,Quick C, Borland C</a:t>
            </a:r>
            <a:r>
              <a:rPr b="1" lang="zh-CN" sz="2800" spc="-1" strike="noStrike">
                <a:solidFill>
                  <a:srgbClr val="8f038f"/>
                </a:solidFill>
                <a:latin typeface="仿宋_GB2312"/>
                <a:ea typeface="仿宋_GB2312"/>
              </a:rPr>
              <a:t>等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5" name="Picture 16" descr="bg2011102501"/>
          <p:cNvPicPr/>
          <p:nvPr/>
        </p:nvPicPr>
        <p:blipFill>
          <a:blip r:embed="rId3"/>
          <a:stretch/>
        </p:blipFill>
        <p:spPr>
          <a:xfrm>
            <a:off x="826920" y="1179360"/>
            <a:ext cx="7850520" cy="567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6435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3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的发展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267920"/>
            <a:ext cx="867564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983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年，美国国家标准协会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ANSI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制定了第一个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标准草案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(’83 ANSI C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98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年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NSI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公布了一个完整的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标准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NSI X3.159-1989(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常称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NSI 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或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89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990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年，国际标准化组织接受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8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作为国际标准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SO/IEC 9899:1990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它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NSI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8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基本相同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99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年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SO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又对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标准进行修订，在基本保留原来的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语言特征的基础上，针对应用的需要，增加了一些功能，尤其是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++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中的一些功能，命名为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SO/IEC 9899:199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被称为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9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99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89(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及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基准增补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的扩充。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8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440" y="901800"/>
            <a:ext cx="678636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428840" y="2500200"/>
            <a:ext cx="6572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a1d"/>
                </a:solidFill>
                <a:uFillTx/>
                <a:latin typeface="Arial"/>
                <a:hlinkClick r:id="rId1" action="ppaction://hlinksldjump"/>
              </a:rPr>
              <a:t>1.4.1 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Arial"/>
                <a:hlinkClick r:id="rId2" action="ppaction://hlinksldjump"/>
              </a:rPr>
              <a:t>最简单的</a:t>
            </a:r>
            <a:r>
              <a:rPr b="0" lang="en-US" sz="3200" spc="-1" strike="noStrike" u="sng">
                <a:solidFill>
                  <a:srgbClr val="f77a1d"/>
                </a:solidFill>
                <a:uFillTx/>
                <a:latin typeface="Arial"/>
                <a:hlinkClick r:id="rId3" action="ppaction://hlinksldjump"/>
              </a:rPr>
              <a:t>C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Arial"/>
                <a:hlinkClick r:id="rId4" action="ppaction://hlinksldjump"/>
              </a:rPr>
              <a:t>语言程序举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7a1d"/>
                </a:solidFill>
                <a:uFillTx/>
                <a:latin typeface="Arial"/>
                <a:hlinkClick r:id="rId5" action="ppaction://hlinksldjump"/>
              </a:rPr>
              <a:t>1.4.2  C</a:t>
            </a:r>
            <a:r>
              <a:rPr b="0" lang="zh-CN" sz="3200" spc="-1" strike="noStrike" u="sng">
                <a:solidFill>
                  <a:srgbClr val="f77a1d"/>
                </a:solidFill>
                <a:uFillTx/>
                <a:latin typeface="Arial"/>
                <a:hlinkClick r:id="rId6" action="ppaction://hlinksldjump"/>
              </a:rPr>
              <a:t>语言程序的结构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1" name="图片 3" descr="Untitled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28800" y="2285640"/>
            <a:ext cx="7891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1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要求在屏幕上输出以下一行信息。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a C progra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928800" y="4071960"/>
            <a:ext cx="7500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思路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在主函数中用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printf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函数原样输出以上文字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5" name="图片 4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{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直接连接符 5"/>
          <p:cNvSpPr/>
          <p:nvPr/>
        </p:nvSpPr>
        <p:spPr>
          <a:xfrm>
            <a:off x="1917720" y="3143160"/>
            <a:ext cx="1214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圆角矩形标注 7"/>
          <p:cNvSpPr/>
          <p:nvPr/>
        </p:nvSpPr>
        <p:spPr>
          <a:xfrm>
            <a:off x="2000160" y="3500280"/>
            <a:ext cx="4500720" cy="642960"/>
          </a:xfrm>
          <a:prstGeom prst="wedgeRoundRectCallout">
            <a:avLst>
              <a:gd name="adj1" fmla="val -31092"/>
              <a:gd name="adj2" fmla="val -85060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函数的名字，表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横卷形 8"/>
          <p:cNvSpPr/>
          <p:nvPr/>
        </p:nvSpPr>
        <p:spPr>
          <a:xfrm>
            <a:off x="3714840" y="2571840"/>
            <a:ext cx="4857840" cy="8571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程序必须有一个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main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1" name="图片 6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直接连接符 5"/>
          <p:cNvSpPr/>
          <p:nvPr/>
        </p:nvSpPr>
        <p:spPr>
          <a:xfrm>
            <a:off x="977760" y="3141720"/>
            <a:ext cx="857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圆角矩形标注 7"/>
          <p:cNvSpPr/>
          <p:nvPr/>
        </p:nvSpPr>
        <p:spPr>
          <a:xfrm>
            <a:off x="1420920" y="3284640"/>
            <a:ext cx="2214360" cy="642960"/>
          </a:xfrm>
          <a:prstGeom prst="wedgeRoundRectCallout">
            <a:avLst>
              <a:gd name="adj1" fmla="val -30296"/>
              <a:gd name="adj2" fmla="val -75824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主函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类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6" name="图片 6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圆角矩形标注 7"/>
          <p:cNvSpPr/>
          <p:nvPr/>
        </p:nvSpPr>
        <p:spPr>
          <a:xfrm>
            <a:off x="3419640" y="4508640"/>
            <a:ext cx="1857240" cy="642960"/>
          </a:xfrm>
          <a:prstGeom prst="wedgeRoundRectCallout">
            <a:avLst>
              <a:gd name="adj1" fmla="val -24902"/>
              <a:gd name="adj2" fmla="val -95305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函数体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0" name="图片 4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圆角矩形标注 7"/>
          <p:cNvSpPr/>
          <p:nvPr/>
        </p:nvSpPr>
        <p:spPr>
          <a:xfrm>
            <a:off x="2195640" y="3141720"/>
            <a:ext cx="1857240" cy="642960"/>
          </a:xfrm>
          <a:prstGeom prst="wedgeRoundRectCallout">
            <a:avLst>
              <a:gd name="adj1" fmla="val -40412"/>
              <a:gd name="adj2" fmla="val 87828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输出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直接连接符 4"/>
          <p:cNvSpPr/>
          <p:nvPr/>
        </p:nvSpPr>
        <p:spPr>
          <a:xfrm>
            <a:off x="1332000" y="4221000"/>
            <a:ext cx="1214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直接连接符 5"/>
          <p:cNvSpPr/>
          <p:nvPr/>
        </p:nvSpPr>
        <p:spPr>
          <a:xfrm>
            <a:off x="1332000" y="4363920"/>
            <a:ext cx="547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圆角矩形标注 9"/>
          <p:cNvSpPr/>
          <p:nvPr/>
        </p:nvSpPr>
        <p:spPr>
          <a:xfrm>
            <a:off x="4643280" y="4581360"/>
            <a:ext cx="1857600" cy="642960"/>
          </a:xfrm>
          <a:prstGeom prst="wedgeRoundRectCallout">
            <a:avLst>
              <a:gd name="adj1" fmla="val -35018"/>
              <a:gd name="adj2" fmla="val -101148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输出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7" name="图片 8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68360" y="76500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考核与成绩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平时成绩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期末考试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60%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平时成绩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期中测试（三次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平时上机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作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期末考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机考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直接连接符 5"/>
          <p:cNvSpPr/>
          <p:nvPr/>
        </p:nvSpPr>
        <p:spPr>
          <a:xfrm>
            <a:off x="1332000" y="4363920"/>
            <a:ext cx="5616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圆角矩形标注 9"/>
          <p:cNvSpPr/>
          <p:nvPr/>
        </p:nvSpPr>
        <p:spPr>
          <a:xfrm>
            <a:off x="4643280" y="4653000"/>
            <a:ext cx="1857600" cy="642960"/>
          </a:xfrm>
          <a:prstGeom prst="wedgeRoundRectCallout">
            <a:avLst>
              <a:gd name="adj1" fmla="val -35018"/>
              <a:gd name="adj2" fmla="val -101148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输出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673280" y="5445000"/>
            <a:ext cx="4933800" cy="82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Untitled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403280" y="5373720"/>
            <a:ext cx="5556240" cy="928800"/>
          </a:xfrm>
          <a:prstGeom prst="rect">
            <a:avLst/>
          </a:prstGeom>
          <a:ln w="0">
            <a:noFill/>
          </a:ln>
        </p:spPr>
      </p:pic>
      <p:sp>
        <p:nvSpPr>
          <p:cNvPr id="217" name="圆角矩形标注 6"/>
          <p:cNvSpPr/>
          <p:nvPr/>
        </p:nvSpPr>
        <p:spPr>
          <a:xfrm>
            <a:off x="4871880" y="4653000"/>
            <a:ext cx="1500480" cy="642960"/>
          </a:xfrm>
          <a:prstGeom prst="wedgeRoundRectCallout">
            <a:avLst>
              <a:gd name="adj1" fmla="val 43606"/>
              <a:gd name="adj2" fmla="val -108189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换行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流程图: 联系 7"/>
          <p:cNvSpPr/>
          <p:nvPr/>
        </p:nvSpPr>
        <p:spPr>
          <a:xfrm>
            <a:off x="6215040" y="3571920"/>
            <a:ext cx="571680" cy="92880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9" name="图片 8" descr="Untitled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28800" y="1999800"/>
            <a:ext cx="82152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void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 (”This is a C program.\n”)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圆角矩形标注 9"/>
          <p:cNvSpPr/>
          <p:nvPr/>
        </p:nvSpPr>
        <p:spPr>
          <a:xfrm>
            <a:off x="6875640" y="4586400"/>
            <a:ext cx="2268360" cy="642960"/>
          </a:xfrm>
          <a:prstGeom prst="wedgeRoundRectCallout">
            <a:avLst>
              <a:gd name="adj1" fmla="val -43231"/>
              <a:gd name="adj2" fmla="val -92606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示语句结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流程图: 联系 5"/>
          <p:cNvSpPr/>
          <p:nvPr/>
        </p:nvSpPr>
        <p:spPr>
          <a:xfrm>
            <a:off x="6875640" y="3716280"/>
            <a:ext cx="357120" cy="7858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圆角矩形标注 7"/>
          <p:cNvSpPr/>
          <p:nvPr/>
        </p:nvSpPr>
        <p:spPr>
          <a:xfrm>
            <a:off x="3348000" y="2924280"/>
            <a:ext cx="5214960" cy="571320"/>
          </a:xfrm>
          <a:prstGeom prst="wedgeRoundRectCallout">
            <a:avLst>
              <a:gd name="adj1" fmla="val -31222"/>
              <a:gd name="adj2" fmla="val -112333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到函数库中的输入输出函数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直接连接符 8"/>
          <p:cNvSpPr/>
          <p:nvPr/>
        </p:nvSpPr>
        <p:spPr>
          <a:xfrm>
            <a:off x="1071720" y="2565360"/>
            <a:ext cx="3284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6" name="图片 10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429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最简单的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举例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85920" y="199980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允许用两种注释方式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//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：单行注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可单独占一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可出现在一行中其他内容的右侧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/*……*/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：块式注释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可包含多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9" name="图片 3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28440" y="1357200"/>
            <a:ext cx="5715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2 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求两个整数之和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785880" y="2205000"/>
            <a:ext cx="80722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思路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设置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个变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用来存放两个整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sum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用来存放和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用赋值运算符“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=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把结果传送给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su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2" name="图片 3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13880" y="642600"/>
            <a:ext cx="75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t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t a,b,sum;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= 123;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 = 456;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um =  a + b;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(”sum is %d\n”,sum);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return 0;     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4214880" y="2428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定义整型变量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a,b,su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右大括号 3"/>
          <p:cNvSpPr/>
          <p:nvPr/>
        </p:nvSpPr>
        <p:spPr>
          <a:xfrm>
            <a:off x="3286080" y="3143160"/>
            <a:ext cx="357120" cy="8575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857520"/>
              <a:gd name="textAreaBottom" fmla="*/ 8485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5"/>
                  <a:pt x="10800" y="750"/>
                </a:cubicBezTo>
                <a:lnTo>
                  <a:pt x="10800" y="10050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5"/>
                  <a:pt x="10800" y="11550"/>
                </a:cubicBezTo>
                <a:lnTo>
                  <a:pt x="10800" y="20850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3857760" y="327348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对变量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a,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赋值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4357800" y="41432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和赋给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su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直接连接符 7"/>
          <p:cNvSpPr/>
          <p:nvPr/>
        </p:nvSpPr>
        <p:spPr>
          <a:xfrm>
            <a:off x="1000080" y="5286240"/>
            <a:ext cx="47959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6215040" y="5500800"/>
            <a:ext cx="2374920" cy="4284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8" descr="Untitled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13880" y="642600"/>
            <a:ext cx="75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t main(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{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nt a,b,sum;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= 123;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 = 456;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um =  a + b;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printf(”sum is %d\n”,sum);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return 0;                         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}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3924360" y="42926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u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值替代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直接连接符 7"/>
          <p:cNvSpPr/>
          <p:nvPr/>
        </p:nvSpPr>
        <p:spPr>
          <a:xfrm>
            <a:off x="2050920" y="5300640"/>
            <a:ext cx="16430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215040" y="5500800"/>
            <a:ext cx="2374920" cy="4284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0"/>
          <p:cNvSpPr/>
          <p:nvPr/>
        </p:nvSpPr>
        <p:spPr>
          <a:xfrm>
            <a:off x="2771640" y="537372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希望输出的字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流程图: 联系 11"/>
          <p:cNvSpPr/>
          <p:nvPr/>
        </p:nvSpPr>
        <p:spPr>
          <a:xfrm>
            <a:off x="3348000" y="4581360"/>
            <a:ext cx="857160" cy="7858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6000840" y="5429160"/>
            <a:ext cx="1643040" cy="5716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7715160" y="5429160"/>
            <a:ext cx="1000080" cy="571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9" name="图片 9" descr="Untitled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28800" y="1357200"/>
            <a:ext cx="59292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求两个整数中的较大者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85880" y="2286000"/>
            <a:ext cx="80722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思路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用一个函数实现求两个整数中的较大者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99"/>
              </a:spcBef>
              <a:buClr>
                <a:srgbClr val="080808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在主函数中调用此函数并输出结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2" name="图片 3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云形标注 9"/>
          <p:cNvSpPr/>
          <p:nvPr/>
        </p:nvSpPr>
        <p:spPr>
          <a:xfrm>
            <a:off x="1071720" y="5715000"/>
            <a:ext cx="2500200" cy="928800"/>
          </a:xfrm>
          <a:prstGeom prst="cloudCallout">
            <a:avLst>
              <a:gd name="adj1" fmla="val -8597"/>
              <a:gd name="adj2" fmla="val -85115"/>
            </a:avLst>
          </a:prstGeom>
          <a:solidFill>
            <a:srgbClr val="e1ffe1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主函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云形标注 10"/>
          <p:cNvSpPr/>
          <p:nvPr/>
        </p:nvSpPr>
        <p:spPr>
          <a:xfrm>
            <a:off x="5929200" y="1143000"/>
            <a:ext cx="2500560" cy="928800"/>
          </a:xfrm>
          <a:prstGeom prst="cloudCallout">
            <a:avLst>
              <a:gd name="adj1" fmla="val -4939"/>
              <a:gd name="adj2" fmla="val 108995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ma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函数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7" name="图片 5" descr="Untitled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云形标注 10"/>
          <p:cNvSpPr/>
          <p:nvPr/>
        </p:nvSpPr>
        <p:spPr>
          <a:xfrm>
            <a:off x="4786200" y="428760"/>
            <a:ext cx="4357800" cy="1571400"/>
          </a:xfrm>
          <a:prstGeom prst="cloudCallout">
            <a:avLst>
              <a:gd name="adj1" fmla="val 1680"/>
              <a:gd name="adj2" fmla="val 80064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将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中较大者值返回给主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1" name="图片 4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80808"/>
                </a:solidFill>
                <a:latin typeface="Arial"/>
              </a:rPr>
              <a:t>参考书目</a:t>
            </a: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设计教程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李延珩，中国铁道出版社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014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《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Arial"/>
              </a:rPr>
              <a:t>程序设计（第四版）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谭浩强，清华大学出版社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he C Programming Language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设计语言，亦被称为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K&amp;R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或者“ 白皮书”）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rian W. Kernighan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Dennis M. Ritchie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机械工业出版社，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004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2" name="Picture 7" descr="031938-01"/>
          <p:cNvPicPr/>
          <p:nvPr/>
        </p:nvPicPr>
        <p:blipFill>
          <a:blip r:embed="rId1"/>
          <a:stretch/>
        </p:blipFill>
        <p:spPr>
          <a:xfrm>
            <a:off x="5364000" y="404640"/>
            <a:ext cx="2187720" cy="306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1106934"/>
          <p:cNvPicPr/>
          <p:nvPr/>
        </p:nvPicPr>
        <p:blipFill>
          <a:blip r:embed="rId2"/>
          <a:stretch/>
        </p:blipFill>
        <p:spPr>
          <a:xfrm>
            <a:off x="5219640" y="1371600"/>
            <a:ext cx="3924360" cy="548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bg2011102505"/>
          <p:cNvPicPr/>
          <p:nvPr/>
        </p:nvPicPr>
        <p:blipFill>
          <a:blip r:embed="rId3"/>
          <a:stretch/>
        </p:blipFill>
        <p:spPr>
          <a:xfrm>
            <a:off x="2050920" y="326700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64" name="直接箭头连接符 9"/>
          <p:cNvCxnSpPr/>
          <p:nvPr/>
        </p:nvCxnSpPr>
        <p:spPr>
          <a:xfrm flipH="1">
            <a:off x="212400" y="785880"/>
            <a:ext cx="2160" cy="300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65" name="组合 17"/>
          <p:cNvGrpSpPr/>
          <p:nvPr/>
        </p:nvGrpSpPr>
        <p:grpSpPr>
          <a:xfrm>
            <a:off x="1000080" y="2928600"/>
            <a:ext cx="4929480" cy="1214640"/>
            <a:chOff x="1000080" y="2928600"/>
            <a:chExt cx="4929480" cy="1214640"/>
          </a:xfrm>
        </p:grpSpPr>
        <p:sp>
          <p:nvSpPr>
            <p:cNvPr id="266" name="流程图: 联系 11"/>
            <p:cNvSpPr/>
            <p:nvPr/>
          </p:nvSpPr>
          <p:spPr>
            <a:xfrm>
              <a:off x="1000080" y="3571920"/>
              <a:ext cx="1071360" cy="571320"/>
            </a:xfrm>
            <a:prstGeom prst="flowChartConnector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267" name="直接箭头连接符 12"/>
            <p:cNvCxnSpPr>
              <a:stCxn id="266" idx="7"/>
            </p:cNvCxnSpPr>
            <p:nvPr/>
          </p:nvCxnSpPr>
          <p:spPr>
            <a:xfrm flipV="1">
              <a:off x="1914480" y="2928600"/>
              <a:ext cx="4015440" cy="72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cxnSp>
        <p:nvCxnSpPr>
          <p:cNvPr id="268" name="直接箭头连接符 18"/>
          <p:cNvCxnSpPr/>
          <p:nvPr/>
        </p:nvCxnSpPr>
        <p:spPr>
          <a:xfrm flipH="1">
            <a:off x="8786520" y="2999880"/>
            <a:ext cx="2160" cy="207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9" name="流程图: 联系 21"/>
          <p:cNvSpPr/>
          <p:nvPr/>
        </p:nvSpPr>
        <p:spPr>
          <a:xfrm>
            <a:off x="5429160" y="5072040"/>
            <a:ext cx="1357560" cy="5716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70" name="直接箭头连接符 22"/>
          <p:cNvCxnSpPr>
            <a:endCxn id="266" idx="5"/>
          </p:cNvCxnSpPr>
          <p:nvPr/>
        </p:nvCxnSpPr>
        <p:spPr>
          <a:xfrm flipH="1" flipV="1">
            <a:off x="1914120" y="4058640"/>
            <a:ext cx="3572640" cy="1168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1" name="直接箭头连接符 25"/>
          <p:cNvCxnSpPr/>
          <p:nvPr/>
        </p:nvCxnSpPr>
        <p:spPr>
          <a:xfrm flipH="1">
            <a:off x="212400" y="4071600"/>
            <a:ext cx="216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2" name="图片 11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直接连接符 5"/>
          <p:cNvSpPr/>
          <p:nvPr/>
        </p:nvSpPr>
        <p:spPr>
          <a:xfrm>
            <a:off x="285840" y="2500200"/>
            <a:ext cx="4000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500040" y="1547640"/>
            <a:ext cx="72151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a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函数的定义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ain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函数之后，需声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7" name="图片 6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直接连接符 5"/>
          <p:cNvSpPr/>
          <p:nvPr/>
        </p:nvSpPr>
        <p:spPr>
          <a:xfrm>
            <a:off x="357120" y="35719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云形标注 10"/>
          <p:cNvSpPr/>
          <p:nvPr/>
        </p:nvSpPr>
        <p:spPr>
          <a:xfrm>
            <a:off x="571680" y="1785960"/>
            <a:ext cx="2571480" cy="857160"/>
          </a:xfrm>
          <a:prstGeom prst="cloudCallout">
            <a:avLst>
              <a:gd name="adj1" fmla="val -19652"/>
              <a:gd name="adj2" fmla="val 110106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输入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2" name="图片 6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直接连接符 5"/>
          <p:cNvSpPr/>
          <p:nvPr/>
        </p:nvSpPr>
        <p:spPr>
          <a:xfrm>
            <a:off x="357120" y="3571920"/>
            <a:ext cx="471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云形标注 10"/>
          <p:cNvSpPr/>
          <p:nvPr/>
        </p:nvSpPr>
        <p:spPr>
          <a:xfrm>
            <a:off x="2071800" y="1857240"/>
            <a:ext cx="2571480" cy="857520"/>
          </a:xfrm>
          <a:prstGeom prst="cloudCallout">
            <a:avLst>
              <a:gd name="adj1" fmla="val -10509"/>
              <a:gd name="adj2" fmla="val 97916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输入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6" descr="Untitled2.png"/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直接连接符 5"/>
          <p:cNvSpPr/>
          <p:nvPr/>
        </p:nvSpPr>
        <p:spPr>
          <a:xfrm>
            <a:off x="3571920" y="3571920"/>
            <a:ext cx="128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云形标注 10"/>
          <p:cNvSpPr/>
          <p:nvPr/>
        </p:nvSpPr>
        <p:spPr>
          <a:xfrm>
            <a:off x="3714840" y="928800"/>
            <a:ext cx="3071880" cy="1500120"/>
          </a:xfrm>
          <a:prstGeom prst="cloudCallout">
            <a:avLst>
              <a:gd name="adj1" fmla="val -20291"/>
              <a:gd name="adj2" fmla="val 91819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输入的数据放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,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直接连接符 7"/>
          <p:cNvSpPr/>
          <p:nvPr/>
        </p:nvSpPr>
        <p:spPr>
          <a:xfrm>
            <a:off x="1785960" y="3571920"/>
            <a:ext cx="142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云形标注 9"/>
          <p:cNvSpPr/>
          <p:nvPr/>
        </p:nvSpPr>
        <p:spPr>
          <a:xfrm>
            <a:off x="1000080" y="1857240"/>
            <a:ext cx="2571840" cy="857520"/>
          </a:xfrm>
          <a:prstGeom prst="cloudCallout">
            <a:avLst>
              <a:gd name="adj1" fmla="val -861"/>
              <a:gd name="adj2" fmla="val 97916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输入格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流程图: 联系 11"/>
          <p:cNvSpPr/>
          <p:nvPr/>
        </p:nvSpPr>
        <p:spPr>
          <a:xfrm>
            <a:off x="3429000" y="3071880"/>
            <a:ext cx="785880" cy="500040"/>
          </a:xfrm>
          <a:prstGeom prst="flowChartConnector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云形标注 12"/>
          <p:cNvSpPr/>
          <p:nvPr/>
        </p:nvSpPr>
        <p:spPr>
          <a:xfrm>
            <a:off x="2786040" y="3857760"/>
            <a:ext cx="2357640" cy="857160"/>
          </a:xfrm>
          <a:prstGeom prst="cloudCallout">
            <a:avLst>
              <a:gd name="adj1" fmla="val -3768"/>
              <a:gd name="adj2" fmla="val -80365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的地址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3" descr="Untitled2.png"/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直接连接符 7"/>
          <p:cNvSpPr/>
          <p:nvPr/>
        </p:nvSpPr>
        <p:spPr>
          <a:xfrm>
            <a:off x="1000080" y="4071960"/>
            <a:ext cx="200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云形标注 9"/>
          <p:cNvSpPr/>
          <p:nvPr/>
        </p:nvSpPr>
        <p:spPr>
          <a:xfrm>
            <a:off x="214200" y="2428920"/>
            <a:ext cx="3714840" cy="857160"/>
          </a:xfrm>
          <a:prstGeom prst="cloudCallout">
            <a:avLst>
              <a:gd name="adj1" fmla="val -861"/>
              <a:gd name="adj2" fmla="val 97916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调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ma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6" descr="Untitled2.png"/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直接连接符 7"/>
          <p:cNvSpPr/>
          <p:nvPr/>
        </p:nvSpPr>
        <p:spPr>
          <a:xfrm>
            <a:off x="1000080" y="4071960"/>
            <a:ext cx="200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sp>
        <p:nvSpPr>
          <p:cNvPr id="309" name="下箭头 6"/>
          <p:cNvSpPr/>
          <p:nvPr/>
        </p:nvSpPr>
        <p:spPr>
          <a:xfrm>
            <a:off x="6907320" y="1913040"/>
            <a:ext cx="358560" cy="642960"/>
          </a:xfrm>
          <a:prstGeom prst="downArrow">
            <a:avLst>
              <a:gd name="adj1" fmla="val 50000"/>
              <a:gd name="adj2" fmla="val 49810"/>
            </a:avLst>
          </a:prstGeom>
          <a:solidFill>
            <a:srgbClr val="ffcc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6875640" y="1413000"/>
            <a:ext cx="5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下箭头 11"/>
          <p:cNvSpPr/>
          <p:nvPr/>
        </p:nvSpPr>
        <p:spPr>
          <a:xfrm>
            <a:off x="8005680" y="1913040"/>
            <a:ext cx="358920" cy="642960"/>
          </a:xfrm>
          <a:prstGeom prst="downArrow">
            <a:avLst>
              <a:gd name="adj1" fmla="val 50000"/>
              <a:gd name="adj2" fmla="val 49760"/>
            </a:avLst>
          </a:prstGeom>
          <a:solidFill>
            <a:srgbClr val="ffcc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7974000" y="141300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流程图: 联系 13"/>
          <p:cNvSpPr/>
          <p:nvPr/>
        </p:nvSpPr>
        <p:spPr>
          <a:xfrm>
            <a:off x="6516720" y="5013360"/>
            <a:ext cx="500040" cy="5713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6516720" y="5661000"/>
            <a:ext cx="5000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214200" y="3071880"/>
            <a:ext cx="5000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流程图: 联系 17"/>
          <p:cNvSpPr/>
          <p:nvPr/>
        </p:nvSpPr>
        <p:spPr>
          <a:xfrm>
            <a:off x="214200" y="3571920"/>
            <a:ext cx="500040" cy="5713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17" name="图片 14" descr="Untitled2.png"/>
          <p:cNvPicPr/>
          <p:nvPr/>
        </p:nvPicPr>
        <p:blipFill>
          <a:blip r:embed="rId2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sp>
        <p:nvSpPr>
          <p:cNvPr id="321" name="下箭头 6"/>
          <p:cNvSpPr/>
          <p:nvPr/>
        </p:nvSpPr>
        <p:spPr>
          <a:xfrm>
            <a:off x="7110360" y="1857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c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7078680" y="1357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下箭头 11"/>
          <p:cNvSpPr/>
          <p:nvPr/>
        </p:nvSpPr>
        <p:spPr>
          <a:xfrm>
            <a:off x="8209080" y="185724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ffcc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8175600" y="1357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流程图: 联系 13"/>
          <p:cNvSpPr/>
          <p:nvPr/>
        </p:nvSpPr>
        <p:spPr>
          <a:xfrm>
            <a:off x="6786720" y="5072040"/>
            <a:ext cx="500040" cy="5716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6858000" y="5643720"/>
            <a:ext cx="5000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214200" y="3071880"/>
            <a:ext cx="50004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流程图: 联系 17"/>
          <p:cNvSpPr/>
          <p:nvPr/>
        </p:nvSpPr>
        <p:spPr>
          <a:xfrm>
            <a:off x="214200" y="3571920"/>
            <a:ext cx="500040" cy="5713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直接连接符 18"/>
          <p:cNvSpPr/>
          <p:nvPr/>
        </p:nvSpPr>
        <p:spPr>
          <a:xfrm>
            <a:off x="285840" y="4643280"/>
            <a:ext cx="471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1968480" y="5870520"/>
            <a:ext cx="1571760" cy="57168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4" descr="Untitled2.png"/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0" y="500040"/>
            <a:ext cx="5500800" cy="521496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#include &lt;stdio.h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in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max(int x,int y);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int a,b,c;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scanf(”%d,%d”,&amp;a,&amp;b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c = max(a,b)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printf("max=%d\n",c);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return 0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Verdana"/>
                <a:ea typeface="宋体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214960" y="2500200"/>
            <a:ext cx="3929040" cy="378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max(int x,int y)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{                         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nt z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if (x &gt; y) z = x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else z = y;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return(z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5357880"/>
            <a:ext cx="1609560" cy="542880"/>
          </a:xfrm>
          <a:prstGeom prst="rect">
            <a:avLst/>
          </a:prstGeom>
          <a:ln w="0">
            <a:noFill/>
          </a:ln>
        </p:spPr>
      </p:pic>
      <p:sp>
        <p:nvSpPr>
          <p:cNvPr id="335" name="流程图: 联系 17"/>
          <p:cNvSpPr/>
          <p:nvPr/>
        </p:nvSpPr>
        <p:spPr>
          <a:xfrm>
            <a:off x="2000160" y="3571920"/>
            <a:ext cx="357120" cy="5713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1968480" y="5870520"/>
            <a:ext cx="1571760" cy="571680"/>
          </a:xfrm>
          <a:prstGeom prst="rect">
            <a:avLst/>
          </a:prstGeom>
          <a:ln w="0">
            <a:noFill/>
          </a:ln>
        </p:spPr>
      </p:pic>
      <p:sp>
        <p:nvSpPr>
          <p:cNvPr id="337" name="流程图: 联系 19"/>
          <p:cNvSpPr/>
          <p:nvPr/>
        </p:nvSpPr>
        <p:spPr>
          <a:xfrm>
            <a:off x="2428920" y="3571920"/>
            <a:ext cx="357120" cy="5713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云形标注 21"/>
          <p:cNvSpPr/>
          <p:nvPr/>
        </p:nvSpPr>
        <p:spPr>
          <a:xfrm>
            <a:off x="1000080" y="2214720"/>
            <a:ext cx="2714760" cy="857160"/>
          </a:xfrm>
          <a:prstGeom prst="cloudCallout">
            <a:avLst>
              <a:gd name="adj1" fmla="val 2027"/>
              <a:gd name="adj2" fmla="val 99439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实际参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流程图: 联系 22"/>
          <p:cNvSpPr/>
          <p:nvPr/>
        </p:nvSpPr>
        <p:spPr>
          <a:xfrm>
            <a:off x="7093080" y="2492280"/>
            <a:ext cx="357120" cy="5716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流程图: 联系 23"/>
          <p:cNvSpPr/>
          <p:nvPr/>
        </p:nvSpPr>
        <p:spPr>
          <a:xfrm>
            <a:off x="7956720" y="2565360"/>
            <a:ext cx="357120" cy="5716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云形标注 24"/>
          <p:cNvSpPr/>
          <p:nvPr/>
        </p:nvSpPr>
        <p:spPr>
          <a:xfrm>
            <a:off x="6215040" y="1071720"/>
            <a:ext cx="2714760" cy="857160"/>
          </a:xfrm>
          <a:prstGeom prst="cloudCallout">
            <a:avLst>
              <a:gd name="adj1" fmla="val 9726"/>
              <a:gd name="adj2" fmla="val 110106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形式参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42" name="图片 11" descr="Untitled2.png"/>
          <p:cNvPicPr/>
          <p:nvPr/>
        </p:nvPicPr>
        <p:blipFill>
          <a:blip r:embed="rId3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28800" y="2000160"/>
            <a:ext cx="7572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程序由一个或多个源程序文件组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小程序往往只包括一个源程序文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.1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例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只有一个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.3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有两个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流程图: 联系 3"/>
          <p:cNvSpPr/>
          <p:nvPr/>
        </p:nvSpPr>
        <p:spPr>
          <a:xfrm>
            <a:off x="1619280" y="3573360"/>
            <a:ext cx="1000080" cy="6429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流程图: 联系 4"/>
          <p:cNvSpPr/>
          <p:nvPr/>
        </p:nvSpPr>
        <p:spPr>
          <a:xfrm>
            <a:off x="2987640" y="3573360"/>
            <a:ext cx="1000080" cy="6429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流程图: 联系 5"/>
          <p:cNvSpPr/>
          <p:nvPr/>
        </p:nvSpPr>
        <p:spPr>
          <a:xfrm>
            <a:off x="1692360" y="4149720"/>
            <a:ext cx="1000080" cy="6429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2340000" y="4869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只包括一个源程序文件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49" name="图片 7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440" y="901800"/>
            <a:ext cx="649116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计算机语言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14240" y="1856880"/>
            <a:ext cx="7632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计算机语言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：人和计算机交流信息的、计算机和人都能识别的语言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7" name="图片 3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28800" y="2000160"/>
            <a:ext cx="75722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源程序文件中可以包括三个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预处理指令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全局声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定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3857760" y="3141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#include &lt;stdio.h&gt;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3714840" y="36450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在函数之外进行的数据声明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3714840" y="422100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每个函数用来实现一定的功能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55" name="图片 6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1999800"/>
            <a:ext cx="75722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函数是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的主要组成部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一个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程序是由一个或多个函数组成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必须包含一个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main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（只能有一个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每个函数都用来实现一个或几个特定功能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被调用的函数可以是库函数，也可以是自己编制设计的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58" name="图片 3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1999800"/>
            <a:ext cx="75722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函数包括两个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首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   max  (  int   x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  y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3851280" y="31417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函数的第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圆角矩形标注 4"/>
          <p:cNvSpPr/>
          <p:nvPr/>
        </p:nvSpPr>
        <p:spPr>
          <a:xfrm>
            <a:off x="0" y="4645080"/>
            <a:ext cx="1785960" cy="642960"/>
          </a:xfrm>
          <a:prstGeom prst="wedgeRoundRectCallout">
            <a:avLst>
              <a:gd name="adj1" fmla="val 17787"/>
              <a:gd name="adj2" fmla="val -96504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函数类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直接连接符 5"/>
          <p:cNvSpPr/>
          <p:nvPr/>
        </p:nvSpPr>
        <p:spPr>
          <a:xfrm>
            <a:off x="928800" y="4287960"/>
            <a:ext cx="642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流程图: 联系 8"/>
          <p:cNvSpPr/>
          <p:nvPr/>
        </p:nvSpPr>
        <p:spPr>
          <a:xfrm>
            <a:off x="2771640" y="3716280"/>
            <a:ext cx="79236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圆角矩形标注 9"/>
          <p:cNvSpPr/>
          <p:nvPr/>
        </p:nvSpPr>
        <p:spPr>
          <a:xfrm>
            <a:off x="1857240" y="4645080"/>
            <a:ext cx="1357560" cy="642960"/>
          </a:xfrm>
          <a:prstGeom prst="wedgeRoundRectCallout">
            <a:avLst>
              <a:gd name="adj1" fmla="val -12888"/>
              <a:gd name="adj2" fmla="val -102347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函数名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圆角矩形标注 10"/>
          <p:cNvSpPr/>
          <p:nvPr/>
        </p:nvSpPr>
        <p:spPr>
          <a:xfrm>
            <a:off x="3357720" y="4645080"/>
            <a:ext cx="1643040" cy="642960"/>
          </a:xfrm>
          <a:prstGeom prst="wedgeRoundRectCallout">
            <a:avLst>
              <a:gd name="adj1" fmla="val -55337"/>
              <a:gd name="adj2" fmla="val -113106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参数类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圆角矩形标注 11"/>
          <p:cNvSpPr/>
          <p:nvPr/>
        </p:nvSpPr>
        <p:spPr>
          <a:xfrm>
            <a:off x="5357880" y="4645080"/>
            <a:ext cx="1428840" cy="642960"/>
          </a:xfrm>
          <a:prstGeom prst="wedgeRoundRectCallout">
            <a:avLst>
              <a:gd name="adj1" fmla="val -61277"/>
              <a:gd name="adj2" fmla="val -119402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参数名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直接连接符 12"/>
          <p:cNvSpPr/>
          <p:nvPr/>
        </p:nvSpPr>
        <p:spPr>
          <a:xfrm>
            <a:off x="1763640" y="4292640"/>
            <a:ext cx="9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流程图: 联系 14"/>
          <p:cNvSpPr/>
          <p:nvPr/>
        </p:nvSpPr>
        <p:spPr>
          <a:xfrm>
            <a:off x="4140360" y="3716280"/>
            <a:ext cx="863280" cy="4334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矩形 15"/>
          <p:cNvSpPr/>
          <p:nvPr/>
        </p:nvSpPr>
        <p:spPr>
          <a:xfrm>
            <a:off x="3492360" y="3645000"/>
            <a:ext cx="357480" cy="5713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4932360" y="3645000"/>
            <a:ext cx="357120" cy="57132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72" name="图片 17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28800" y="2000160"/>
            <a:ext cx="75722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函数包括两个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首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   max  (  int   x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int   y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若函数无参，在括弧中写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void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或空括弧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TextBox 17"/>
          <p:cNvSpPr/>
          <p:nvPr/>
        </p:nvSpPr>
        <p:spPr>
          <a:xfrm>
            <a:off x="1042920" y="47973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int main( void)    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int main(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76" name="图片 4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28800" y="1999800"/>
            <a:ext cx="7572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函数包括两个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体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声明部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定义在本函数中所用到的变量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对本函数所调用函数进行声明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执行部分：由若干个语句组成，指定在函数中所进行的操作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圆角矩形标注 4"/>
          <p:cNvSpPr/>
          <p:nvPr/>
        </p:nvSpPr>
        <p:spPr>
          <a:xfrm>
            <a:off x="3635280" y="3284640"/>
            <a:ext cx="3214800" cy="642960"/>
          </a:xfrm>
          <a:prstGeom prst="wedgeRoundRectCallout">
            <a:avLst>
              <a:gd name="adj1" fmla="val -56245"/>
              <a:gd name="adj2" fmla="val 34027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以没有声明部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80" name="图片 5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28800" y="1999800"/>
            <a:ext cx="75722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一个函数包括两个部分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函数体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void dump ( 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{        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圆角矩形标注 4"/>
          <p:cNvSpPr/>
          <p:nvPr/>
        </p:nvSpPr>
        <p:spPr>
          <a:xfrm>
            <a:off x="3276720" y="4154400"/>
            <a:ext cx="3379680" cy="642960"/>
          </a:xfrm>
          <a:prstGeom prst="wedgeRoundRectCallout">
            <a:avLst>
              <a:gd name="adj1" fmla="val -76912"/>
              <a:gd name="adj2" fmla="val 26296"/>
              <a:gd name="adj3" fmla="val 16667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以是空函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84" name="图片 5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28800" y="1999800"/>
            <a:ext cx="7572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总是从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main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函数开始执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. 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对计算机的操作由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句完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程序书写格式是比较自由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行内可以写几个语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个语句可以分写在多行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为清晰起见，习惯上每行只写一个语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87" name="图片 3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4.2  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语言程序的结构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28800" y="1999800"/>
            <a:ext cx="7572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程序的结构特点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总是从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main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函数开始执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. 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对计算机的操作由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句完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数据声明和语句最后必须有分号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7. 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语言本身不提供输入输出语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8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程序应当包含注释，增加可读性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90" name="图片 3" descr="Untitled2.png"/>
          <p:cNvPicPr/>
          <p:nvPr/>
        </p:nvPicPr>
        <p:blipFill>
          <a:blip r:embed="rId1"/>
          <a:stretch/>
        </p:blipFill>
        <p:spPr>
          <a:xfrm>
            <a:off x="8429760" y="614376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5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运行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C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程序的步骤与方法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28800" y="1999800"/>
            <a:ext cx="75722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上机输入和编辑源程序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c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文件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源程序进行编译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obj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文件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进行连接处理（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exe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文件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运行可执行程序，得到运行结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93" name="图片 3" descr="Untitled.png"/>
          <p:cNvPicPr/>
          <p:nvPr/>
        </p:nvPicPr>
        <p:blipFill>
          <a:blip r:embed="rId1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038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8f038f"/>
                </a:solidFill>
                <a:latin typeface="Arial"/>
              </a:rPr>
              <a:t>语言程序的运行过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33520" y="3124080"/>
            <a:ext cx="12189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宋体"/>
              </a:rPr>
              <a:t>编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2590920" y="3124080"/>
            <a:ext cx="137160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宋体"/>
              </a:rPr>
              <a:t>编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4890960" y="3138480"/>
            <a:ext cx="126360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宋体"/>
              </a:rPr>
              <a:t>连接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7086600" y="3124080"/>
            <a:ext cx="129528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宋体"/>
              </a:rPr>
              <a:t>运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1752480" y="3352680"/>
            <a:ext cx="8384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62520" y="3352680"/>
            <a:ext cx="912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6143760" y="3352680"/>
            <a:ext cx="9144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1219320" y="4267080"/>
            <a:ext cx="1752480" cy="1323000"/>
          </a:xfrm>
          <a:prstGeom prst="rect">
            <a:avLst/>
          </a:prstGeom>
          <a:solidFill>
            <a:srgbClr val="9933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源文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.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3429000" y="4267080"/>
            <a:ext cx="1828800" cy="1323000"/>
          </a:xfrm>
          <a:prstGeom prst="rect">
            <a:avLst/>
          </a:prstGeom>
          <a:solidFill>
            <a:srgbClr val="9933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目标文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.obj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5572080" y="4267080"/>
            <a:ext cx="2500200" cy="1323000"/>
          </a:xfrm>
          <a:prstGeom prst="rect">
            <a:avLst/>
          </a:prstGeom>
          <a:solidFill>
            <a:srgbClr val="9933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可执行文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.ex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2133720" y="3352680"/>
            <a:ext cx="0" cy="914400"/>
          </a:xfrm>
          <a:prstGeom prst="line">
            <a:avLst/>
          </a:prstGeom>
          <a:ln w="9360">
            <a:solidFill>
              <a:srgbClr val="8f03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9360">
            <a:solidFill>
              <a:srgbClr val="8f03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6629400" y="3352680"/>
            <a:ext cx="0" cy="914400"/>
          </a:xfrm>
          <a:prstGeom prst="line">
            <a:avLst/>
          </a:prstGeom>
          <a:ln w="9360">
            <a:solidFill>
              <a:srgbClr val="8f03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8440" y="901800"/>
            <a:ext cx="649116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1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计算机语言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9680" y="1857240"/>
            <a:ext cx="82868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计算机语言发展阶段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机器语言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（由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组成的指令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符号语言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（用英文字母和数字表示指令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高级语言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（接近于人的自然语言和数学语言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面向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过程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的语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非结构化的语言、结构化语言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面向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对象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的语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云形标注 4"/>
          <p:cNvSpPr/>
          <p:nvPr/>
        </p:nvSpPr>
        <p:spPr>
          <a:xfrm>
            <a:off x="5929200" y="1285920"/>
            <a:ext cx="2928960" cy="928800"/>
          </a:xfrm>
          <a:prstGeom prst="cloudCallout">
            <a:avLst>
              <a:gd name="adj1" fmla="val -35800"/>
              <a:gd name="adj2" fmla="val 93523"/>
            </a:avLst>
          </a:prstGeom>
          <a:solidFill>
            <a:srgbClr val="ff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低级语言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00080" y="2492280"/>
            <a:ext cx="6929640" cy="10018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" name="图片 6" descr="Untitle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6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程序设计的任务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28440" y="2000160"/>
            <a:ext cx="7072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问题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于接手的任务要进行认真的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研究所给定的条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分析最后应达到的目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找出解决问题的规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选择解题的方法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11" name="图片 3" descr="Untitled.png"/>
          <p:cNvPicPr/>
          <p:nvPr/>
        </p:nvPicPr>
        <p:blipFill>
          <a:blip r:embed="rId1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6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程序设计的任务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28440" y="2000160"/>
            <a:ext cx="7072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问题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设计算法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设计出解题的方法和具体步骤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14" name="图片 3" descr="Untitled.png"/>
          <p:cNvPicPr/>
          <p:nvPr/>
        </p:nvPicPr>
        <p:blipFill>
          <a:blip r:embed="rId1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404280"/>
            <a:ext cx="8429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6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程序设计的任务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28440" y="1413000"/>
            <a:ext cx="70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问题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设计算法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编写程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源程序进行编辑、编译和连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运行程序，分析结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结果错了，程序肯定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结果对了，程序未必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17" name="图片 3" descr="Untitled.png"/>
          <p:cNvPicPr/>
          <p:nvPr/>
        </p:nvPicPr>
        <p:blipFill>
          <a:blip r:embed="rId1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0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0" y="901800"/>
            <a:ext cx="8429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  <a:ea typeface="黑体"/>
              </a:rPr>
              <a:t>1.6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程序设计的任务</a:t>
            </a:r>
            <a:endParaRPr b="1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28440" y="2000160"/>
            <a:ext cx="70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问题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设计算法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编写程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源程序进行编辑、编译和连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运行程序，分析结果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编写程序文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0" name="图片 3" descr="Untitled.png"/>
          <p:cNvPicPr/>
          <p:nvPr/>
        </p:nvPicPr>
        <p:blipFill>
          <a:blip r:embed="rId1"/>
          <a:stretch/>
        </p:blipFill>
        <p:spPr>
          <a:xfrm>
            <a:off x="8217000" y="5937120"/>
            <a:ext cx="92700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250920" y="711360"/>
            <a:ext cx="7850160" cy="631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55640" y="-27000"/>
            <a:ext cx="6948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TIOBE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 2017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月份编程语言排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楷体_GB2312"/>
              </a:rPr>
              <a:t>http://www.tiobe.com/index.php/content/paperinfo/tpci/index.htm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755640" y="-27000"/>
            <a:ext cx="69483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TIOBE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 201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楷体_GB2312"/>
              </a:rPr>
              <a:t>月份编程语言排行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楷体_GB2312"/>
              </a:rPr>
              <a:t>http://www.tiobe.com/index.php/content/paperinfo/tpci/index.htm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1"/>
          <a:stretch/>
        </p:blipFill>
        <p:spPr>
          <a:xfrm>
            <a:off x="395280" y="730080"/>
            <a:ext cx="8064360" cy="788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47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语言是使用最广泛的语言之一，可以说，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语言的诞生是现代程序语言革命的起点，是程序设计语言发展史中的一个里程碑。自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语言出现后，以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语言为根基的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++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Java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#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面向对象语言相继诞生，并在各自领域大获成功。但今天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语言依旧在系统编程、嵌入式编程等领域占据着统治地位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24:47Z</dcterms:created>
  <dc:creator>谭浩强</dc:creator>
  <dc:description/>
  <dc:language>en-US</dc:language>
  <cp:lastModifiedBy>Nan Li</cp:lastModifiedBy>
  <dcterms:modified xsi:type="dcterms:W3CDTF">2017-03-07T04:00:35Z</dcterms:modified>
  <cp:revision>850</cp:revision>
  <dc:subject/>
  <dc:title>PowerPoint 演示文稿</dc:title>
</cp:coreProperties>
</file>