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1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9.wmf" ContentType="image/x-wmf"/>
  <Override PartName="/ppt/media/image177.wmf" ContentType="image/x-wmf"/>
  <Override PartName="/ppt/media/image108.wmf" ContentType="image/x-wmf"/>
  <Override PartName="/ppt/media/image176.wmf" ContentType="image/x-wmf"/>
  <Override PartName="/ppt/media/image107.wmf" ContentType="image/x-wmf"/>
  <Override PartName="/ppt/media/image175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120.png" ContentType="image/png"/>
  <Override PartName="/ppt/media/image91.wmf" ContentType="image/x-wmf"/>
  <Override PartName="/ppt/media/image23.wmf" ContentType="image/x-wmf"/>
  <Override PartName="/ppt/media/image87.wmf" ContentType="image/x-wmf"/>
  <Override PartName="/ppt/media/image86.wmf" ContentType="image/x-wmf"/>
  <Override PartName="/ppt/media/image18.wmf" ContentType="image/x-wmf"/>
  <Override PartName="/ppt/media/image85.wmf" ContentType="image/x-wmf"/>
  <Override PartName="/ppt/media/image84.wmf" ContentType="image/x-wmf"/>
  <Override PartName="/ppt/media/image82.wmf" ContentType="image/x-wmf"/>
  <Override PartName="/ppt/media/image81.wmf" ContentType="image/x-wmf"/>
  <Override PartName="/ppt/media/image80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31.wmf" ContentType="image/x-wmf"/>
  <Override PartName="/ppt/media/image128.wmf" ContentType="image/x-wmf"/>
  <Override PartName="/ppt/media/image37.wmf" ContentType="image/x-wmf"/>
  <Override PartName="/ppt/media/image38.wmf" ContentType="image/x-wmf"/>
  <Override PartName="/ppt/media/image133.png" ContentType="image/png"/>
  <Override PartName="/ppt/media/image39.wmf" ContentType="image/x-wmf"/>
  <Override PartName="/ppt/media/image24.jpeg" ContentType="image/jpeg"/>
  <Override PartName="/ppt/media/image52.wmf" ContentType="image/x-wmf"/>
  <Override PartName="/ppt/media/image149.wmf" ContentType="image/x-wmf"/>
  <Override PartName="/ppt/media/image9.png" ContentType="image/png"/>
  <Override PartName="/ppt/media/image43.wmf" ContentType="image/x-wmf"/>
  <Override PartName="/ppt/media/image47.wmf" ContentType="image/x-wmf"/>
  <Override PartName="/ppt/media/image141.png" ContentType="image/png"/>
  <Override PartName="/ppt/media/image53.wmf" ContentType="image/x-wmf"/>
  <Override PartName="/ppt/media/image129.wmf" ContentType="image/x-wmf"/>
  <Override PartName="/ppt/media/image32.wmf" ContentType="image/x-wmf"/>
  <Override PartName="/ppt/media/image48.wmf" ContentType="image/x-wmf"/>
  <Override PartName="/ppt/media/image142.png" ContentType="image/png"/>
  <Override PartName="/ppt/media/image134.wmf" ContentType="image/x-wmf"/>
  <Override PartName="/ppt/media/image3.png" ContentType="image/png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136.wmf" ContentType="image/x-wmf"/>
  <Override PartName="/ppt/media/image5.png" ContentType="image/png"/>
  <Override PartName="/ppt/media/image137.wmf" ContentType="image/x-wmf"/>
  <Override PartName="/ppt/media/image40.wmf" ContentType="image/x-wmf"/>
  <Override PartName="/ppt/media/image6.png" ContentType="image/png"/>
  <Override PartName="/ppt/media/image35.wmf" ContentType="image/x-wmf"/>
  <Override PartName="/ppt/media/image158.wmf" ContentType="image/x-wmf"/>
  <Override PartName="/ppt/media/image61.wmf" ContentType="image/x-wmf"/>
  <Override PartName="/ppt/media/image160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71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72.wmf" ContentType="image/x-wmf"/>
  <Override PartName="/ppt/media/image166.wmf" ContentType="image/x-wmf"/>
  <Override PartName="/ppt/media/image145.gif" ContentType="image/gif"/>
  <Override PartName="/ppt/media/image178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67.wmf" ContentType="image/x-wmf"/>
  <Override PartName="/ppt/media/image70.wmf" ContentType="image/x-wmf"/>
  <Override PartName="/ppt/media/image179.wmf" ContentType="image/x-wmf"/>
  <Override PartName="/ppt/media/image144.wmf" ContentType="image/x-wmf"/>
  <Override PartName="/ppt/media/image34.wmf" ContentType="image/x-wmf"/>
  <Override PartName="/ppt/media/image157.wmf" ContentType="image/x-wmf"/>
  <Override PartName="/ppt/media/image60.wmf" ContentType="image/x-wmf"/>
  <Override PartName="/ppt/media/image33.wmf" ContentType="image/x-wmf"/>
  <Override PartName="/ppt/media/image156.wmf" ContentType="image/x-wmf"/>
  <Override PartName="/ppt/media/image155.wmf" ContentType="image/x-wmf"/>
  <Override PartName="/ppt/media/image153.png" ContentType="image/png"/>
  <Override PartName="/ppt/media/image59.wmf" ContentType="image/x-wmf"/>
  <Override PartName="/ppt/media/image110.wmf" ContentType="image/x-wmf"/>
  <Override PartName="/ppt/media/image148.wmf" ContentType="image/x-wmf"/>
  <Override PartName="/ppt/media/image51.wmf" ContentType="image/x-wmf"/>
  <Override PartName="/ppt/media/image26.gif" ContentType="image/gif"/>
  <Override PartName="/ppt/media/image147.wmf" ContentType="image/x-wmf"/>
  <Override PartName="/ppt/media/image50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138.wmf" ContentType="image/x-wmf"/>
  <Override PartName="/ppt/media/image41.wmf" ContentType="image/x-wmf"/>
  <Override PartName="/ppt/media/image7.png" ContentType="image/png"/>
  <Override PartName="/ppt/media/image139.wmf" ContentType="image/x-wmf"/>
  <Override PartName="/ppt/media/image42.wmf" ContentType="image/x-wmf"/>
  <Override PartName="/ppt/media/image8.png" ContentType="image/png"/>
  <Override PartName="/ppt/media/image30.wmf" ContentType="image/x-wmf"/>
  <Override PartName="/ppt/media/image127.wmf" ContentType="image/x-wmf"/>
  <Override PartName="/ppt/media/image94.wmf" ContentType="image/x-wmf"/>
  <Override PartName="/ppt/media/image123.png" ContentType="image/png"/>
  <Override PartName="/ppt/media/image16.png" ContentType="image/png"/>
  <Override PartName="/ppt/media/image151.wmf" ContentType="image/x-wmf"/>
  <Override PartName="/ppt/media/image15.png" ContentType="image/png"/>
  <Override PartName="/ppt/media/image150.wmf" ContentType="image/x-wmf"/>
  <Override PartName="/ppt/media/image19.png" ContentType="image/png"/>
  <Override PartName="/ppt/media/image154.wmf" ContentType="image/x-wmf"/>
  <Override PartName="/ppt/media/image2.wmf" ContentType="image/x-wmf"/>
  <Override PartName="/ppt/media/image1.jpeg" ContentType="image/jpeg"/>
  <Override PartName="/ppt/media/image165.wmf" ContentType="image/x-wmf"/>
  <Override PartName="/ppt/media/image12.jpeg" ContentType="image/jpeg"/>
  <Override PartName="/ppt/media/image10.png" ContentType="image/png"/>
  <Override PartName="/ppt/media/image78.wmf" ContentType="image/x-wmf"/>
  <Override PartName="/ppt/media/image25.wmf" ContentType="image/x-wmf"/>
  <Override PartName="/ppt/media/image93.wmf" ContentType="image/x-wmf"/>
  <Override PartName="/ppt/media/image122.png" ContentType="image/png"/>
  <Override PartName="/ppt/media/image17.png" ContentType="image/png"/>
  <Override PartName="/ppt/media/image152.wmf" ContentType="image/x-wmf"/>
  <Override PartName="/ppt/media/image54.wmf" ContentType="image/x-wmf"/>
  <Override PartName="/ppt/media/image14.png" ContentType="image/png"/>
  <Override PartName="/ppt/media/image55.wmf" ContentType="image/x-wmf"/>
  <Override PartName="/ppt/media/image56.wmf" ContentType="image/x-wmf"/>
  <Override PartName="/ppt/media/image57.wmf" ContentType="image/x-wmf"/>
  <Override PartName="/ppt/media/image83.wmf" ContentType="image/x-wmf"/>
  <Override PartName="/ppt/media/image13.jpeg" ContentType="image/jpeg"/>
  <Override PartName="/ppt/media/image20.png" ContentType="image/png"/>
  <Override PartName="/ppt/media/image88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0"/>
                </a:moveTo>
                <a:lnTo>
                  <a:pt x="39" y="0"/>
                </a:lnTo>
                <a:lnTo>
                  <a:pt x="37" y="1"/>
                </a:lnTo>
                <a:lnTo>
                  <a:pt x="1" y="1"/>
                </a:lnTo>
                <a:close/>
              </a:path>
              <a:path w="21600" h="21600">
                <a:moveTo>
                  <a:pt x="39" y="0"/>
                </a:moveTo>
                <a:lnTo>
                  <a:pt x="39" y="23"/>
                </a:lnTo>
                <a:lnTo>
                  <a:pt x="37" y="21"/>
                </a:lnTo>
                <a:lnTo>
                  <a:pt x="37" y="1"/>
                </a:lnTo>
                <a:close/>
              </a:path>
              <a:path w="21600" h="21600">
                <a:moveTo>
                  <a:pt x="39" y="23"/>
                </a:moveTo>
                <a:lnTo>
                  <a:pt x="0" y="23"/>
                </a:lnTo>
                <a:lnTo>
                  <a:pt x="1" y="21"/>
                </a:lnTo>
                <a:lnTo>
                  <a:pt x="37" y="21"/>
                </a:lnTo>
                <a:close/>
              </a:path>
              <a:path w="21600" h="21600">
                <a:moveTo>
                  <a:pt x="0" y="23"/>
                </a:moveTo>
                <a:lnTo>
                  <a:pt x="0" y="0"/>
                </a:lnTo>
                <a:lnTo>
                  <a:pt x="1" y="1"/>
                </a:lnTo>
                <a:lnTo>
                  <a:pt x="1" y="21"/>
                </a:lnTo>
                <a:close/>
              </a:path>
            </a:pathLst>
          </a:custGeom>
          <a:solidFill>
            <a:srgbClr val="f0fac4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7886880" y="6489720"/>
            <a:ext cx="5000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0"/>
                </a:moveTo>
                <a:lnTo>
                  <a:pt x="39" y="0"/>
                </a:lnTo>
                <a:lnTo>
                  <a:pt x="37" y="1"/>
                </a:lnTo>
                <a:lnTo>
                  <a:pt x="1" y="1"/>
                </a:lnTo>
                <a:close/>
              </a:path>
              <a:path w="21600" h="21600">
                <a:moveTo>
                  <a:pt x="39" y="0"/>
                </a:moveTo>
                <a:lnTo>
                  <a:pt x="39" y="23"/>
                </a:lnTo>
                <a:lnTo>
                  <a:pt x="37" y="21"/>
                </a:lnTo>
                <a:lnTo>
                  <a:pt x="37" y="1"/>
                </a:lnTo>
                <a:close/>
              </a:path>
              <a:path w="21600" h="21600">
                <a:moveTo>
                  <a:pt x="39" y="23"/>
                </a:moveTo>
                <a:lnTo>
                  <a:pt x="0" y="23"/>
                </a:lnTo>
                <a:lnTo>
                  <a:pt x="1" y="21"/>
                </a:lnTo>
                <a:lnTo>
                  <a:pt x="37" y="21"/>
                </a:lnTo>
                <a:close/>
              </a:path>
              <a:path w="21600" h="21600">
                <a:moveTo>
                  <a:pt x="0" y="23"/>
                </a:moveTo>
                <a:lnTo>
                  <a:pt x="0" y="0"/>
                </a:lnTo>
                <a:lnTo>
                  <a:pt x="1" y="1"/>
                </a:lnTo>
                <a:lnTo>
                  <a:pt x="1" y="21"/>
                </a:lnTo>
                <a:close/>
              </a:path>
            </a:pathLst>
          </a:custGeom>
          <a:solidFill>
            <a:srgbClr val="f0fac4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 hidden="1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0"/>
                </a:moveTo>
                <a:lnTo>
                  <a:pt x="39" y="0"/>
                </a:lnTo>
                <a:lnTo>
                  <a:pt x="37" y="1"/>
                </a:lnTo>
                <a:lnTo>
                  <a:pt x="1" y="1"/>
                </a:lnTo>
                <a:close/>
              </a:path>
              <a:path w="21600" h="21600">
                <a:moveTo>
                  <a:pt x="39" y="0"/>
                </a:moveTo>
                <a:lnTo>
                  <a:pt x="39" y="23"/>
                </a:lnTo>
                <a:lnTo>
                  <a:pt x="37" y="21"/>
                </a:lnTo>
                <a:lnTo>
                  <a:pt x="37" y="1"/>
                </a:lnTo>
                <a:close/>
              </a:path>
              <a:path w="21600" h="21600">
                <a:moveTo>
                  <a:pt x="39" y="23"/>
                </a:moveTo>
                <a:lnTo>
                  <a:pt x="0" y="23"/>
                </a:lnTo>
                <a:lnTo>
                  <a:pt x="1" y="21"/>
                </a:lnTo>
                <a:lnTo>
                  <a:pt x="37" y="21"/>
                </a:lnTo>
                <a:close/>
              </a:path>
              <a:path w="21600" h="21600">
                <a:moveTo>
                  <a:pt x="0" y="23"/>
                </a:moveTo>
                <a:lnTo>
                  <a:pt x="0" y="0"/>
                </a:lnTo>
                <a:lnTo>
                  <a:pt x="1" y="1"/>
                </a:lnTo>
                <a:lnTo>
                  <a:pt x="1" y="21"/>
                </a:lnTo>
                <a:close/>
              </a:path>
            </a:pathLst>
          </a:custGeom>
          <a:solidFill>
            <a:srgbClr val="f0fac4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 hidden="1"/>
          <p:cNvSpPr/>
          <p:nvPr/>
        </p:nvSpPr>
        <p:spPr>
          <a:xfrm>
            <a:off x="8412120" y="6488280"/>
            <a:ext cx="5000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0"/>
                </a:moveTo>
                <a:lnTo>
                  <a:pt x="39" y="0"/>
                </a:lnTo>
                <a:lnTo>
                  <a:pt x="37" y="1"/>
                </a:lnTo>
                <a:lnTo>
                  <a:pt x="1" y="1"/>
                </a:lnTo>
                <a:close/>
              </a:path>
              <a:path w="21600" h="21600">
                <a:moveTo>
                  <a:pt x="39" y="0"/>
                </a:moveTo>
                <a:lnTo>
                  <a:pt x="39" y="23"/>
                </a:lnTo>
                <a:lnTo>
                  <a:pt x="37" y="21"/>
                </a:lnTo>
                <a:lnTo>
                  <a:pt x="37" y="1"/>
                </a:lnTo>
                <a:close/>
              </a:path>
              <a:path w="21600" h="21600">
                <a:moveTo>
                  <a:pt x="39" y="23"/>
                </a:moveTo>
                <a:lnTo>
                  <a:pt x="0" y="23"/>
                </a:lnTo>
                <a:lnTo>
                  <a:pt x="1" y="21"/>
                </a:lnTo>
                <a:lnTo>
                  <a:pt x="37" y="21"/>
                </a:lnTo>
                <a:close/>
              </a:path>
              <a:path w="21600" h="21600">
                <a:moveTo>
                  <a:pt x="0" y="23"/>
                </a:moveTo>
                <a:lnTo>
                  <a:pt x="0" y="0"/>
                </a:lnTo>
                <a:lnTo>
                  <a:pt x="1" y="1"/>
                </a:lnTo>
                <a:lnTo>
                  <a:pt x="1" y="21"/>
                </a:lnTo>
                <a:close/>
              </a:path>
            </a:pathLst>
          </a:custGeom>
          <a:solidFill>
            <a:srgbClr val="f0fac4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 hidden="1"/>
          <p:cNvSpPr/>
          <p:nvPr/>
        </p:nvSpPr>
        <p:spPr>
          <a:xfrm>
            <a:off x="6316560" y="6489720"/>
            <a:ext cx="5000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0"/>
                </a:moveTo>
                <a:lnTo>
                  <a:pt x="39" y="0"/>
                </a:lnTo>
                <a:lnTo>
                  <a:pt x="37" y="1"/>
                </a:lnTo>
                <a:lnTo>
                  <a:pt x="1" y="1"/>
                </a:lnTo>
                <a:close/>
              </a:path>
              <a:path w="21600" h="21600">
                <a:moveTo>
                  <a:pt x="39" y="0"/>
                </a:moveTo>
                <a:lnTo>
                  <a:pt x="39" y="23"/>
                </a:lnTo>
                <a:lnTo>
                  <a:pt x="37" y="21"/>
                </a:lnTo>
                <a:lnTo>
                  <a:pt x="37" y="1"/>
                </a:lnTo>
                <a:close/>
              </a:path>
              <a:path w="21600" h="21600">
                <a:moveTo>
                  <a:pt x="39" y="23"/>
                </a:moveTo>
                <a:lnTo>
                  <a:pt x="0" y="23"/>
                </a:lnTo>
                <a:lnTo>
                  <a:pt x="1" y="21"/>
                </a:lnTo>
                <a:lnTo>
                  <a:pt x="37" y="21"/>
                </a:lnTo>
                <a:close/>
              </a:path>
              <a:path w="21600" h="21600">
                <a:moveTo>
                  <a:pt x="0" y="23"/>
                </a:moveTo>
                <a:lnTo>
                  <a:pt x="0" y="0"/>
                </a:lnTo>
                <a:lnTo>
                  <a:pt x="1" y="1"/>
                </a:lnTo>
                <a:lnTo>
                  <a:pt x="1" y="21"/>
                </a:lnTo>
                <a:close/>
              </a:path>
            </a:pathLst>
          </a:custGeom>
          <a:solidFill>
            <a:srgbClr val="f0fac4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61.wmf"/><Relationship Id="rId3" Type="http://schemas.openxmlformats.org/officeDocument/2006/relationships/image" Target="../media/image162.wmf"/><Relationship Id="rId4" Type="http://schemas.openxmlformats.org/officeDocument/2006/relationships/image" Target="../media/image163.wmf"/><Relationship Id="rId5" Type="http://schemas.openxmlformats.org/officeDocument/2006/relationships/image" Target="../media/image164.wmf"/><Relationship Id="rId6" Type="http://schemas.openxmlformats.org/officeDocument/2006/relationships/image" Target="../media/image165.wmf"/><Relationship Id="rId7" Type="http://schemas.openxmlformats.org/officeDocument/2006/relationships/image" Target="../media/image166.wmf"/><Relationship Id="rId8" Type="http://schemas.openxmlformats.org/officeDocument/2006/relationships/image" Target="../media/image167.wmf"/><Relationship Id="rId9" Type="http://schemas.openxmlformats.org/officeDocument/2006/relationships/image" Target="../media/image168.wmf"/><Relationship Id="rId10" Type="http://schemas.openxmlformats.org/officeDocument/2006/relationships/image" Target="../media/image169.wmf"/><Relationship Id="rId11" Type="http://schemas.openxmlformats.org/officeDocument/2006/relationships/image" Target="../media/image170.wmf"/><Relationship Id="rId12" Type="http://schemas.openxmlformats.org/officeDocument/2006/relationships/image" Target="../media/image17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61.wmf"/><Relationship Id="rId3" Type="http://schemas.openxmlformats.org/officeDocument/2006/relationships/image" Target="../media/image162.wmf"/><Relationship Id="rId4" Type="http://schemas.openxmlformats.org/officeDocument/2006/relationships/image" Target="../media/image163.wmf"/><Relationship Id="rId5" Type="http://schemas.openxmlformats.org/officeDocument/2006/relationships/image" Target="../media/image164.wmf"/><Relationship Id="rId6" Type="http://schemas.openxmlformats.org/officeDocument/2006/relationships/image" Target="../media/image165.wmf"/><Relationship Id="rId7" Type="http://schemas.openxmlformats.org/officeDocument/2006/relationships/image" Target="../media/image166.wmf"/><Relationship Id="rId8" Type="http://schemas.openxmlformats.org/officeDocument/2006/relationships/image" Target="../media/image167.wmf"/><Relationship Id="rId9" Type="http://schemas.openxmlformats.org/officeDocument/2006/relationships/image" Target="../media/image168.wmf"/><Relationship Id="rId10" Type="http://schemas.openxmlformats.org/officeDocument/2006/relationships/image" Target="../media/image169.wmf"/><Relationship Id="rId11" Type="http://schemas.openxmlformats.org/officeDocument/2006/relationships/image" Target="../media/image170.wmf"/><Relationship Id="rId12" Type="http://schemas.openxmlformats.org/officeDocument/2006/relationships/image" Target="../media/image171.wmf"/><Relationship Id="rId13" Type="http://schemas.openxmlformats.org/officeDocument/2006/relationships/image" Target="../media/image3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72.wmf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2.png"/><Relationship Id="rId3" Type="http://schemas.openxmlformats.org/officeDocument/2006/relationships/image" Target="../media/image2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73.wmf"/><Relationship Id="rId2" Type="http://schemas.openxmlformats.org/officeDocument/2006/relationships/image" Target="../media/image174.wmf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75.wmf"/><Relationship Id="rId2" Type="http://schemas.openxmlformats.org/officeDocument/2006/relationships/image" Target="../media/image176.wmf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77.wmf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78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79.wmf"/><Relationship Id="rId2" Type="http://schemas.openxmlformats.org/officeDocument/2006/relationships/image" Target="../media/image180.wmf"/><Relationship Id="rId3" Type="http://schemas.openxmlformats.org/officeDocument/2006/relationships/image" Target="../media/image181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82.wmf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10.png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26.gif"/><Relationship Id="rId45" Type="http://schemas.openxmlformats.org/officeDocument/2006/relationships/image" Target="../media/image61.wmf"/><Relationship Id="rId46" Type="http://schemas.openxmlformats.org/officeDocument/2006/relationships/image" Target="../media/image62.wmf"/><Relationship Id="rId47" Type="http://schemas.openxmlformats.org/officeDocument/2006/relationships/image" Target="../media/image63.wmf"/><Relationship Id="rId48" Type="http://schemas.openxmlformats.org/officeDocument/2006/relationships/image" Target="../media/image64.wmf"/><Relationship Id="rId49" Type="http://schemas.openxmlformats.org/officeDocument/2006/relationships/image" Target="../media/image65.wmf"/><Relationship Id="rId50" Type="http://schemas.openxmlformats.org/officeDocument/2006/relationships/image" Target="../media/image66.wmf"/><Relationship Id="rId51" Type="http://schemas.openxmlformats.org/officeDocument/2006/relationships/image" Target="../media/image67.wmf"/><Relationship Id="rId52" Type="http://schemas.openxmlformats.org/officeDocument/2006/relationships/image" Target="../media/image68.wmf"/><Relationship Id="rId5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85.wmf"/><Relationship Id="rId9" Type="http://schemas.openxmlformats.org/officeDocument/2006/relationships/image" Target="../media/image86.wmf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90.wmf"/><Relationship Id="rId5" Type="http://schemas.openxmlformats.org/officeDocument/2006/relationships/image" Target="../media/image91.wmf"/><Relationship Id="rId6" Type="http://schemas.openxmlformats.org/officeDocument/2006/relationships/image" Target="../media/image92.wmf"/><Relationship Id="rId7" Type="http://schemas.openxmlformats.org/officeDocument/2006/relationships/image" Target="../media/image93.wmf"/><Relationship Id="rId8" Type="http://schemas.openxmlformats.org/officeDocument/2006/relationships/image" Target="../media/image94.wmf"/><Relationship Id="rId9" Type="http://schemas.openxmlformats.org/officeDocument/2006/relationships/image" Target="../media/image95.wmf"/><Relationship Id="rId10" Type="http://schemas.openxmlformats.org/officeDocument/2006/relationships/image" Target="../media/image96.wmf"/><Relationship Id="rId11" Type="http://schemas.openxmlformats.org/officeDocument/2006/relationships/image" Target="../media/image97.wmf"/><Relationship Id="rId12" Type="http://schemas.openxmlformats.org/officeDocument/2006/relationships/image" Target="../media/image98.wmf"/><Relationship Id="rId13" Type="http://schemas.openxmlformats.org/officeDocument/2006/relationships/image" Target="../media/image91.wmf"/><Relationship Id="rId14" Type="http://schemas.openxmlformats.org/officeDocument/2006/relationships/image" Target="../media/image92.wmf"/><Relationship Id="rId15" Type="http://schemas.openxmlformats.org/officeDocument/2006/relationships/image" Target="../media/image93.wmf"/><Relationship Id="rId16" Type="http://schemas.openxmlformats.org/officeDocument/2006/relationships/image" Target="../media/image94.wmf"/><Relationship Id="rId17" Type="http://schemas.openxmlformats.org/officeDocument/2006/relationships/image" Target="../media/image95.wmf"/><Relationship Id="rId18" Type="http://schemas.openxmlformats.org/officeDocument/2006/relationships/image" Target="../media/image96.wmf"/><Relationship Id="rId19" Type="http://schemas.openxmlformats.org/officeDocument/2006/relationships/image" Target="../media/image97.wmf"/><Relationship Id="rId20" Type="http://schemas.openxmlformats.org/officeDocument/2006/relationships/image" Target="../media/image98.wmf"/><Relationship Id="rId21" Type="http://schemas.openxmlformats.org/officeDocument/2006/relationships/image" Target="../media/image99.wmf"/><Relationship Id="rId22" Type="http://schemas.openxmlformats.org/officeDocument/2006/relationships/image" Target="../media/image99.wmf"/><Relationship Id="rId23" Type="http://schemas.openxmlformats.org/officeDocument/2006/relationships/image" Target="../media/image100.wmf"/><Relationship Id="rId24" Type="http://schemas.openxmlformats.org/officeDocument/2006/relationships/image" Target="../media/image101.wmf"/><Relationship Id="rId25" Type="http://schemas.openxmlformats.org/officeDocument/2006/relationships/image" Target="../media/image102.wmf"/><Relationship Id="rId26" Type="http://schemas.openxmlformats.org/officeDocument/2006/relationships/image" Target="../media/image103.wmf"/><Relationship Id="rId27" Type="http://schemas.openxmlformats.org/officeDocument/2006/relationships/image" Target="../media/image104.wmf"/><Relationship Id="rId28" Type="http://schemas.openxmlformats.org/officeDocument/2006/relationships/image" Target="../media/image105.wmf"/><Relationship Id="rId2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image" Target="../media/image113.wmf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image" Target="../media/image128.wmf"/><Relationship Id="rId8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9.wmf"/><Relationship Id="rId2" Type="http://schemas.openxmlformats.org/officeDocument/2006/relationships/image" Target="../media/image130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1.wmf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3.png"/><Relationship Id="rId3" Type="http://schemas.openxmlformats.org/officeDocument/2006/relationships/image" Target="../media/image133.png"/><Relationship Id="rId4" Type="http://schemas.openxmlformats.org/officeDocument/2006/relationships/image" Target="../media/image133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5.wmf"/><Relationship Id="rId3" Type="http://schemas.openxmlformats.org/officeDocument/2006/relationships/image" Target="../media/image136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gi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6.wmf"/><Relationship Id="rId2" Type="http://schemas.openxmlformats.org/officeDocument/2006/relationships/image" Target="../media/image147.wmf"/><Relationship Id="rId3" Type="http://schemas.openxmlformats.org/officeDocument/2006/relationships/image" Target="../media/image148.wmf"/><Relationship Id="rId4" Type="http://schemas.openxmlformats.org/officeDocument/2006/relationships/image" Target="../media/image149.wmf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image" Target="../media/image151.wmf"/><Relationship Id="rId3" Type="http://schemas.openxmlformats.org/officeDocument/2006/relationships/image" Target="../media/image15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门电路和组合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2760" y="12733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冲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757520"/>
            <a:ext cx="48769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2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门电路及其组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965320"/>
            <a:ext cx="3810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5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逻辑代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51604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4   CM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0368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3   TT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3037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6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逻辑电路的分析与综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80196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7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法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2210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8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码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6483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9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译码器和数字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5620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1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据分配器和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54832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1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举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37720" y="838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 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非”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4876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关系是否定或相反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003040" y="3962520"/>
            <a:ext cx="2797560" cy="581400"/>
            <a:chOff x="2003040" y="3962520"/>
            <a:chExt cx="2797560" cy="581400"/>
          </a:xfrm>
        </p:grpSpPr>
        <p:sp>
          <p:nvSpPr>
            <p:cNvPr id="372" name=""/>
            <p:cNvSpPr/>
            <p:nvPr/>
          </p:nvSpPr>
          <p:spPr>
            <a:xfrm>
              <a:off x="2003040" y="3962520"/>
              <a:ext cx="247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表达式：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Y 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2000" y="4038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334120" y="1599480"/>
            <a:ext cx="2286000" cy="2104920"/>
            <a:chOff x="5334120" y="1599480"/>
            <a:chExt cx="2286000" cy="2104920"/>
          </a:xfrm>
        </p:grpSpPr>
        <p:sp>
          <p:nvSpPr>
            <p:cNvPr id="375" name=""/>
            <p:cNvSpPr/>
            <p:nvPr/>
          </p:nvSpPr>
          <p:spPr>
            <a:xfrm>
              <a:off x="6086520" y="1599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1480" y="3183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93280" y="3183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93280" y="2682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22096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4120" y="27432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34120" y="37018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37160" y="220968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57040" y="225504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10560" y="2255040"/>
              <a:ext cx="29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1480" y="2712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621240" y="23853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57440" y="24422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1833480"/>
            <a:ext cx="54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833480"/>
            <a:ext cx="14842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1120" y="2367000"/>
            <a:ext cx="573120" cy="5745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59320" y="185256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2209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18"/>
                </a:solidFill>
                <a:latin typeface="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1792440"/>
            <a:ext cx="7632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8240" y="3433680"/>
            <a:ext cx="7632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183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3052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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59320" y="2959200"/>
            <a:ext cx="0" cy="52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5320" y="1833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2860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2671920"/>
            <a:ext cx="0" cy="7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1752480"/>
            <a:ext cx="380880" cy="152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17800" y="34704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18334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295800" y="2286000"/>
            <a:ext cx="1504800" cy="685800"/>
            <a:chOff x="3295800" y="2286000"/>
            <a:chExt cx="1504800" cy="685800"/>
          </a:xfrm>
        </p:grpSpPr>
        <p:sp>
          <p:nvSpPr>
            <p:cNvPr id="405" name=""/>
            <p:cNvSpPr/>
            <p:nvPr/>
          </p:nvSpPr>
          <p:spPr>
            <a:xfrm flipV="1">
              <a:off x="3295800" y="2286000"/>
              <a:ext cx="2854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91120" y="2362320"/>
              <a:ext cx="609480" cy="6094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68600" y="2590920"/>
            <a:ext cx="7632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22860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3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subTitle"/>
          </p:nvPr>
        </p:nvSpPr>
        <p:spPr>
          <a:xfrm>
            <a:off x="2895120" y="457200"/>
            <a:ext cx="30574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0. 8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编码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762120" y="1508040"/>
            <a:ext cx="769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把二进制码按一定规律编排，使每组代码具有一特定的含义，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称为编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具有编码功能的逻辑电路称为编码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838080" y="318456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n</a:t>
            </a:r>
            <a:r>
              <a:rPr b="1" lang="en-US" sz="2800" spc="-1" strike="noStrike">
                <a:solidFill>
                  <a:srgbClr val="ff0066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位二进制代码有 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"/>
              </a:rPr>
              <a:t>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种组合，可以表示 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"/>
              </a:rPr>
              <a:t>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个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914400" y="4327560"/>
            <a:ext cx="739152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   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要表示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个信息所需的二进制代码应满足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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4" name="" descr=""/>
          <p:cNvPicPr/>
          <p:nvPr/>
        </p:nvPicPr>
        <p:blipFill>
          <a:blip r:embed="rId1"/>
          <a:stretch/>
        </p:blipFill>
        <p:spPr>
          <a:xfrm>
            <a:off x="7719840" y="4994280"/>
            <a:ext cx="1043280" cy="1177920"/>
          </a:xfrm>
          <a:prstGeom prst="rect">
            <a:avLst/>
          </a:prstGeom>
          <a:ln w="0">
            <a:noFill/>
          </a:ln>
        </p:spPr>
      </p:pic>
      <p:grpSp>
        <p:nvGrpSpPr>
          <p:cNvPr id="6085" name=""/>
          <p:cNvGrpSpPr/>
          <p:nvPr/>
        </p:nvGrpSpPr>
        <p:grpSpPr>
          <a:xfrm>
            <a:off x="2209680" y="1200240"/>
            <a:ext cx="4419000" cy="171360"/>
            <a:chOff x="2209680" y="1200240"/>
            <a:chExt cx="4419000" cy="171360"/>
          </a:xfrm>
        </p:grpSpPr>
        <p:pic>
          <p:nvPicPr>
            <p:cNvPr id="6086" name="" descr=""/>
            <p:cNvPicPr/>
            <p:nvPr/>
          </p:nvPicPr>
          <p:blipFill>
            <a:blip r:embed="rId2"/>
            <a:stretch/>
          </p:blipFill>
          <p:spPr>
            <a:xfrm>
              <a:off x="311436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7" name="" descr=""/>
            <p:cNvPicPr/>
            <p:nvPr/>
          </p:nvPicPr>
          <p:blipFill>
            <a:blip r:embed="rId3"/>
            <a:stretch/>
          </p:blipFill>
          <p:spPr>
            <a:xfrm>
              <a:off x="32572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8" name="" descr=""/>
            <p:cNvPicPr/>
            <p:nvPr/>
          </p:nvPicPr>
          <p:blipFill>
            <a:blip r:embed="rId4"/>
            <a:stretch/>
          </p:blipFill>
          <p:spPr>
            <a:xfrm>
              <a:off x="34192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9" name="" descr=""/>
            <p:cNvPicPr/>
            <p:nvPr/>
          </p:nvPicPr>
          <p:blipFill>
            <a:blip r:embed="rId5"/>
            <a:stretch/>
          </p:blipFill>
          <p:spPr>
            <a:xfrm>
              <a:off x="37144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0" name="" descr=""/>
            <p:cNvPicPr/>
            <p:nvPr/>
          </p:nvPicPr>
          <p:blipFill>
            <a:blip r:embed="rId6"/>
            <a:stretch/>
          </p:blipFill>
          <p:spPr>
            <a:xfrm>
              <a:off x="387648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1" name="" descr=""/>
            <p:cNvPicPr/>
            <p:nvPr/>
          </p:nvPicPr>
          <p:blipFill>
            <a:blip r:embed="rId7"/>
            <a:stretch/>
          </p:blipFill>
          <p:spPr>
            <a:xfrm>
              <a:off x="402876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2" name="" descr=""/>
            <p:cNvPicPr/>
            <p:nvPr/>
          </p:nvPicPr>
          <p:blipFill>
            <a:blip r:embed="rId8"/>
            <a:stretch/>
          </p:blipFill>
          <p:spPr>
            <a:xfrm>
              <a:off x="3571560" y="12096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93" name=""/>
            <p:cNvGrpSpPr/>
            <p:nvPr/>
          </p:nvGrpSpPr>
          <p:grpSpPr>
            <a:xfrm>
              <a:off x="4171680" y="1209600"/>
              <a:ext cx="1238400" cy="162000"/>
              <a:chOff x="4171680" y="1209600"/>
              <a:chExt cx="1238400" cy="162000"/>
            </a:xfrm>
          </p:grpSpPr>
          <p:pic>
            <p:nvPicPr>
              <p:cNvPr id="609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716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336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288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908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431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860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8596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48080" y="12096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2" name=""/>
            <p:cNvGrpSpPr/>
            <p:nvPr/>
          </p:nvGrpSpPr>
          <p:grpSpPr>
            <a:xfrm>
              <a:off x="2209680" y="1200240"/>
              <a:ext cx="923760" cy="162000"/>
              <a:chOff x="2209680" y="1200240"/>
              <a:chExt cx="923760" cy="162000"/>
            </a:xfrm>
          </p:grpSpPr>
          <p:pic>
            <p:nvPicPr>
              <p:cNvPr id="610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35260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460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66688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80980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97180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209680" y="120024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9" name=""/>
            <p:cNvGrpSpPr/>
            <p:nvPr/>
          </p:nvGrpSpPr>
          <p:grpSpPr>
            <a:xfrm>
              <a:off x="5391000" y="1200240"/>
              <a:ext cx="1237680" cy="162000"/>
              <a:chOff x="5391000" y="1200240"/>
              <a:chExt cx="1237680" cy="162000"/>
            </a:xfrm>
          </p:grpSpPr>
          <p:pic>
            <p:nvPicPr>
              <p:cNvPr id="611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9100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5526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478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0098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16212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3050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70492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467040" y="120024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4" dur="indefinite" restart="never" nodeType="tmRoot">
          <p:childTnLst>
            <p:seq>
              <p:cTn id="3735" dur="indefinite" nodeType="mainSeq">
                <p:childTnLst>
                  <p:par>
                    <p:cTn id="3736" nodeType="clickEffect" fill="hold">
                      <p:stCondLst>
                        <p:cond delay="indefinite"/>
                      </p:stCondLst>
                      <p:childTnLst>
                        <p:par>
                          <p:cTn id="37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40" dur="500"/>
                                        <p:tgtEl>
                                          <p:spTgt spid="6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2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44" dur="500"/>
                                        <p:tgtEl>
                                          <p:spTgt spid="6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6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48" dur="500"/>
                                        <p:tgtEl>
                                          <p:spTgt spid="6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"/>
          <p:cNvSpPr/>
          <p:nvPr/>
        </p:nvSpPr>
        <p:spPr>
          <a:xfrm>
            <a:off x="762120" y="5335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8. 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进制编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762120" y="1523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将输入信号编成二进制代码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2461680" y="3114720"/>
            <a:ext cx="8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000099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5966280" y="3114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2" name=""/>
          <p:cNvGrpSpPr/>
          <p:nvPr/>
        </p:nvGrpSpPr>
        <p:grpSpPr>
          <a:xfrm>
            <a:off x="838080" y="1143000"/>
            <a:ext cx="3952800" cy="171360"/>
            <a:chOff x="838080" y="1143000"/>
            <a:chExt cx="3952800" cy="171360"/>
          </a:xfrm>
        </p:grpSpPr>
        <p:pic>
          <p:nvPicPr>
            <p:cNvPr id="6123" name="" descr=""/>
            <p:cNvPicPr/>
            <p:nvPr/>
          </p:nvPicPr>
          <p:blipFill>
            <a:blip r:embed="rId1"/>
            <a:stretch/>
          </p:blipFill>
          <p:spPr>
            <a:xfrm>
              <a:off x="17431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4" name="" descr=""/>
            <p:cNvPicPr/>
            <p:nvPr/>
          </p:nvPicPr>
          <p:blipFill>
            <a:blip r:embed="rId2"/>
            <a:stretch/>
          </p:blipFill>
          <p:spPr>
            <a:xfrm>
              <a:off x="1885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5" name="" descr=""/>
            <p:cNvPicPr/>
            <p:nvPr/>
          </p:nvPicPr>
          <p:blipFill>
            <a:blip r:embed="rId3"/>
            <a:stretch/>
          </p:blipFill>
          <p:spPr>
            <a:xfrm>
              <a:off x="2047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6" name="" descr=""/>
            <p:cNvPicPr/>
            <p:nvPr/>
          </p:nvPicPr>
          <p:blipFill>
            <a:blip r:embed="rId4"/>
            <a:stretch/>
          </p:blipFill>
          <p:spPr>
            <a:xfrm>
              <a:off x="23428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7" name="" descr=""/>
            <p:cNvPicPr/>
            <p:nvPr/>
          </p:nvPicPr>
          <p:blipFill>
            <a:blip r:embed="rId5"/>
            <a:stretch/>
          </p:blipFill>
          <p:spPr>
            <a:xfrm>
              <a:off x="25048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8" name="" descr=""/>
            <p:cNvPicPr/>
            <p:nvPr/>
          </p:nvPicPr>
          <p:blipFill>
            <a:blip r:embed="rId6"/>
            <a:stretch/>
          </p:blipFill>
          <p:spPr>
            <a:xfrm>
              <a:off x="26575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9" name="" descr=""/>
            <p:cNvPicPr/>
            <p:nvPr/>
          </p:nvPicPr>
          <p:blipFill>
            <a:blip r:embed="rId7"/>
            <a:stretch/>
          </p:blipFill>
          <p:spPr>
            <a:xfrm>
              <a:off x="28000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0" name="" descr=""/>
            <p:cNvPicPr/>
            <p:nvPr/>
          </p:nvPicPr>
          <p:blipFill>
            <a:blip r:embed="rId8"/>
            <a:stretch/>
          </p:blipFill>
          <p:spPr>
            <a:xfrm>
              <a:off x="29620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1" name="" descr=""/>
            <p:cNvPicPr/>
            <p:nvPr/>
          </p:nvPicPr>
          <p:blipFill>
            <a:blip r:embed="rId9"/>
            <a:stretch/>
          </p:blipFill>
          <p:spPr>
            <a:xfrm>
              <a:off x="32572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2" name="" descr=""/>
            <p:cNvPicPr/>
            <p:nvPr/>
          </p:nvPicPr>
          <p:blipFill>
            <a:blip r:embed="rId10"/>
            <a:stretch/>
          </p:blipFill>
          <p:spPr>
            <a:xfrm>
              <a:off x="34192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3" name="" descr=""/>
            <p:cNvPicPr/>
            <p:nvPr/>
          </p:nvPicPr>
          <p:blipFill>
            <a:blip r:embed="rId11"/>
            <a:stretch/>
          </p:blipFill>
          <p:spPr>
            <a:xfrm>
              <a:off x="35719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4" name="" descr=""/>
            <p:cNvPicPr/>
            <p:nvPr/>
          </p:nvPicPr>
          <p:blipFill>
            <a:blip r:embed="rId12"/>
            <a:stretch/>
          </p:blipFill>
          <p:spPr>
            <a:xfrm>
              <a:off x="37144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5" name="" descr=""/>
            <p:cNvPicPr/>
            <p:nvPr/>
          </p:nvPicPr>
          <p:blipFill>
            <a:blip r:embed="rId13"/>
            <a:stretch/>
          </p:blipFill>
          <p:spPr>
            <a:xfrm>
              <a:off x="22003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6" name="" descr=""/>
            <p:cNvPicPr/>
            <p:nvPr/>
          </p:nvPicPr>
          <p:blipFill>
            <a:blip r:embed="rId14"/>
            <a:stretch/>
          </p:blipFill>
          <p:spPr>
            <a:xfrm>
              <a:off x="31147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7" name="" descr=""/>
            <p:cNvPicPr/>
            <p:nvPr/>
          </p:nvPicPr>
          <p:blipFill>
            <a:blip r:embed="rId15"/>
            <a:stretch/>
          </p:blipFill>
          <p:spPr>
            <a:xfrm>
              <a:off x="38764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8" name="" descr=""/>
            <p:cNvPicPr/>
            <p:nvPr/>
          </p:nvPicPr>
          <p:blipFill>
            <a:blip r:embed="rId16"/>
            <a:stretch/>
          </p:blipFill>
          <p:spPr>
            <a:xfrm>
              <a:off x="40291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9" name="" descr=""/>
            <p:cNvPicPr/>
            <p:nvPr/>
          </p:nvPicPr>
          <p:blipFill>
            <a:blip r:embed="rId17"/>
            <a:stretch/>
          </p:blipFill>
          <p:spPr>
            <a:xfrm>
              <a:off x="4171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0" name="" descr=""/>
            <p:cNvPicPr/>
            <p:nvPr/>
          </p:nvPicPr>
          <p:blipFill>
            <a:blip r:embed="rId18"/>
            <a:stretch/>
          </p:blipFill>
          <p:spPr>
            <a:xfrm>
              <a:off x="43336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1" name="" descr=""/>
            <p:cNvPicPr/>
            <p:nvPr/>
          </p:nvPicPr>
          <p:blipFill>
            <a:blip r:embed="rId19"/>
            <a:stretch/>
          </p:blipFill>
          <p:spPr>
            <a:xfrm>
              <a:off x="4486320" y="115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2" name="" descr=""/>
            <p:cNvPicPr/>
            <p:nvPr/>
          </p:nvPicPr>
          <p:blipFill>
            <a:blip r:embed="rId20"/>
            <a:stretch/>
          </p:blipFill>
          <p:spPr>
            <a:xfrm>
              <a:off x="4628880" y="115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43" name=""/>
            <p:cNvGrpSpPr/>
            <p:nvPr/>
          </p:nvGrpSpPr>
          <p:grpSpPr>
            <a:xfrm>
              <a:off x="838080" y="1143000"/>
              <a:ext cx="923760" cy="162000"/>
              <a:chOff x="838080" y="1143000"/>
              <a:chExt cx="923760" cy="162000"/>
            </a:xfrm>
          </p:grpSpPr>
          <p:pic>
            <p:nvPicPr>
              <p:cNvPr id="614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98100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143000" y="1143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29528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43820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600200" y="1143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9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38080" y="11430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150" name=""/>
          <p:cNvGrpSpPr/>
          <p:nvPr/>
        </p:nvGrpSpPr>
        <p:grpSpPr>
          <a:xfrm>
            <a:off x="1600200" y="2365200"/>
            <a:ext cx="6019560" cy="1906560"/>
            <a:chOff x="1600200" y="2365200"/>
            <a:chExt cx="6019560" cy="1906560"/>
          </a:xfrm>
        </p:grpSpPr>
        <p:sp>
          <p:nvSpPr>
            <p:cNvPr id="6151" name=""/>
            <p:cNvSpPr/>
            <p:nvPr/>
          </p:nvSpPr>
          <p:spPr>
            <a:xfrm>
              <a:off x="5943600" y="32050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438280" y="31730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657600" y="3433680"/>
              <a:ext cx="1904760" cy="83808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809880" y="358596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编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1600200" y="2365200"/>
              <a:ext cx="68580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高低电平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010280" y="2442960"/>
              <a:ext cx="60948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二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5867280" y="3662280"/>
              <a:ext cx="990720" cy="457200"/>
            </a:xfrm>
            <a:prstGeom prst="rightArrow">
              <a:avLst>
                <a:gd name="adj1" fmla="val 50000"/>
                <a:gd name="adj2" fmla="val 5392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438280" y="3662280"/>
              <a:ext cx="990720" cy="457200"/>
            </a:xfrm>
            <a:prstGeom prst="rightArrow">
              <a:avLst>
                <a:gd name="adj1" fmla="val 50000"/>
                <a:gd name="adj2" fmla="val 5392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9" dur="indefinite" restart="never" nodeType="tmRoot">
          <p:childTnLst>
            <p:seq>
              <p:cTn id="3750" dur="indefinite" nodeType="mainSeq">
                <p:childTnLst>
                  <p:par>
                    <p:cTn id="3751" nodeType="clickEffect" fill="hold">
                      <p:stCondLst>
                        <p:cond delay="indefinite"/>
                      </p:stCondLst>
                      <p:childTnLst>
                        <p:par>
                          <p:cTn id="37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55" dur="500"/>
                                        <p:tgtEl>
                                          <p:spTgt spid="6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nodeType="clickEffect" fill="hold">
                      <p:stCondLst>
                        <p:cond delay="indefinite"/>
                      </p:stCondLst>
                      <p:childTnLst>
                        <p:par>
                          <p:cTn id="3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3760" dur="500"/>
                                        <p:tgtEl>
                                          <p:spTgt spid="6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nodeType="clickEffect" fill="hold">
                      <p:stCondLst>
                        <p:cond delay="indefinite"/>
                      </p:stCondLst>
                      <p:childTnLst>
                        <p:par>
                          <p:cTn id="37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765" dur="500"/>
                                        <p:tgtEl>
                                          <p:spTgt spid="6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nodeType="clickEffect" fill="hold">
                      <p:stCondLst>
                        <p:cond delay="indefinite"/>
                      </p:stCondLst>
                      <p:childTnLst>
                        <p:par>
                          <p:cTn id="3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770" dur="500"/>
                                        <p:tgtEl>
                                          <p:spTgt spid="6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"/>
          <p:cNvSpPr/>
          <p:nvPr/>
        </p:nvSpPr>
        <p:spPr>
          <a:xfrm>
            <a:off x="685800" y="3778200"/>
            <a:ext cx="7924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分析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入有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个信号，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即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N=8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根据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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 baseline="30000">
                <a:solidFill>
                  <a:srgbClr val="cc0000"/>
                </a:solidFill>
                <a:latin typeface="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N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的关系，即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=3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即输出为三位二进制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685800" y="743040"/>
            <a:ext cx="7620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计一个编码器，满足以下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、…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7 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个信号编成二进制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编码器每次只能对一个信号进行编码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允许两个或两个以上的信号同时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输入信号高电平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866160" y="333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1" dur="indefinite" restart="never" nodeType="tmRoot">
          <p:childTnLst>
            <p:seq>
              <p:cTn id="3772" dur="indefinite" nodeType="mainSeq">
                <p:childTnLst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77" dur="500"/>
                                        <p:tgtEl>
                                          <p:spTgt spid="6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82" dur="500"/>
                                        <p:tgtEl>
                                          <p:spTgt spid="6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2" name=""/>
          <p:cNvGrpSpPr/>
          <p:nvPr/>
        </p:nvGrpSpPr>
        <p:grpSpPr>
          <a:xfrm>
            <a:off x="2014560" y="2244600"/>
            <a:ext cx="3977640" cy="3753720"/>
            <a:chOff x="2014560" y="2244600"/>
            <a:chExt cx="3977640" cy="3753720"/>
          </a:xfrm>
        </p:grpSpPr>
        <p:grpSp>
          <p:nvGrpSpPr>
            <p:cNvPr id="6163" name=""/>
            <p:cNvGrpSpPr/>
            <p:nvPr/>
          </p:nvGrpSpPr>
          <p:grpSpPr>
            <a:xfrm>
              <a:off x="3605400" y="2244600"/>
              <a:ext cx="2386800" cy="3701160"/>
              <a:chOff x="3605400" y="2244600"/>
              <a:chExt cx="2386800" cy="3701160"/>
            </a:xfrm>
          </p:grpSpPr>
          <p:sp>
            <p:nvSpPr>
              <p:cNvPr id="6164" name=""/>
              <p:cNvSpPr/>
              <p:nvPr/>
            </p:nvSpPr>
            <p:spPr>
              <a:xfrm>
                <a:off x="3672360" y="2684880"/>
                <a:ext cx="231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0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672360" y="3565080"/>
                <a:ext cx="231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1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605400" y="444564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0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605400" y="224460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0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605400" y="312660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0      1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605400" y="400716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0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605400" y="488592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1      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605400" y="5364360"/>
                <a:ext cx="224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1      1      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2" name=""/>
            <p:cNvGrpSpPr/>
            <p:nvPr/>
          </p:nvGrpSpPr>
          <p:grpSpPr>
            <a:xfrm>
              <a:off x="2014560" y="2332440"/>
              <a:ext cx="745560" cy="3665880"/>
              <a:chOff x="2014560" y="2332440"/>
              <a:chExt cx="745560" cy="3665880"/>
            </a:xfrm>
          </p:grpSpPr>
          <p:sp>
            <p:nvSpPr>
              <p:cNvPr id="6173" name=""/>
              <p:cNvSpPr/>
              <p:nvPr/>
            </p:nvSpPr>
            <p:spPr>
              <a:xfrm>
                <a:off x="2014560" y="2332440"/>
                <a:ext cx="74556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018880" y="272268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018880" y="316512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2018880" y="360504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2018880" y="404352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2018880" y="448560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2018880" y="492408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2018880" y="5367960"/>
                <a:ext cx="45360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00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1" name=""/>
          <p:cNvSpPr/>
          <p:nvPr/>
        </p:nvSpPr>
        <p:spPr>
          <a:xfrm>
            <a:off x="832320" y="533520"/>
            <a:ext cx="20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编码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2" name="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1467000" cy="1273320"/>
          </a:xfrm>
          <a:prstGeom prst="rect">
            <a:avLst/>
          </a:prstGeom>
          <a:ln w="0">
            <a:noFill/>
          </a:ln>
        </p:spPr>
      </p:pic>
      <p:grpSp>
        <p:nvGrpSpPr>
          <p:cNvPr id="6183" name=""/>
          <p:cNvGrpSpPr/>
          <p:nvPr/>
        </p:nvGrpSpPr>
        <p:grpSpPr>
          <a:xfrm>
            <a:off x="1600200" y="1200240"/>
            <a:ext cx="4952880" cy="4690800"/>
            <a:chOff x="1600200" y="1200240"/>
            <a:chExt cx="4952880" cy="4690800"/>
          </a:xfrm>
        </p:grpSpPr>
        <p:grpSp>
          <p:nvGrpSpPr>
            <p:cNvPr id="6184" name=""/>
            <p:cNvGrpSpPr/>
            <p:nvPr/>
          </p:nvGrpSpPr>
          <p:grpSpPr>
            <a:xfrm>
              <a:off x="1600200" y="1200240"/>
              <a:ext cx="4723920" cy="4666680"/>
              <a:chOff x="1600200" y="1200240"/>
              <a:chExt cx="4723920" cy="4666680"/>
            </a:xfrm>
          </p:grpSpPr>
          <p:grpSp>
            <p:nvGrpSpPr>
              <p:cNvPr id="6185" name=""/>
              <p:cNvGrpSpPr/>
              <p:nvPr/>
            </p:nvGrpSpPr>
            <p:grpSpPr>
              <a:xfrm>
                <a:off x="1600200" y="1200240"/>
                <a:ext cx="4723920" cy="4666680"/>
                <a:chOff x="1600200" y="1200240"/>
                <a:chExt cx="4723920" cy="4666680"/>
              </a:xfrm>
            </p:grpSpPr>
            <p:sp>
              <p:nvSpPr>
                <p:cNvPr id="6186" name=""/>
                <p:cNvSpPr/>
                <p:nvPr/>
              </p:nvSpPr>
              <p:spPr>
                <a:xfrm>
                  <a:off x="1600200" y="1200240"/>
                  <a:ext cx="47239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7" name=""/>
                <p:cNvSpPr/>
                <p:nvPr/>
              </p:nvSpPr>
              <p:spPr>
                <a:xfrm>
                  <a:off x="1600200" y="2256840"/>
                  <a:ext cx="47239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>
                  <a:off x="3092040" y="1200240"/>
                  <a:ext cx="0" cy="46666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>
                  <a:off x="3092040" y="1728360"/>
                  <a:ext cx="32320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0" name=""/>
              <p:cNvGrpSpPr/>
              <p:nvPr/>
            </p:nvGrpSpPr>
            <p:grpSpPr>
              <a:xfrm>
                <a:off x="1931040" y="1209600"/>
                <a:ext cx="3960720" cy="1127160"/>
                <a:chOff x="1931040" y="1209600"/>
                <a:chExt cx="3960720" cy="1127160"/>
              </a:xfrm>
            </p:grpSpPr>
            <p:sp>
              <p:nvSpPr>
                <p:cNvPr id="6191" name=""/>
                <p:cNvSpPr/>
                <p:nvPr/>
              </p:nvSpPr>
              <p:spPr>
                <a:xfrm>
                  <a:off x="1931040" y="144216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cc0000"/>
                      </a:solidFill>
                      <a:latin typeface=""/>
                    </a:rPr>
                    <a:t>输入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2" name=""/>
                <p:cNvSpPr/>
                <p:nvPr/>
              </p:nvSpPr>
              <p:spPr>
                <a:xfrm>
                  <a:off x="4160160" y="1209600"/>
                  <a:ext cx="1194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cc0000"/>
                      </a:solidFill>
                      <a:latin typeface=""/>
                    </a:rPr>
                    <a:t>输     出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3" name=""/>
                <p:cNvSpPr/>
                <p:nvPr/>
              </p:nvSpPr>
              <p:spPr>
                <a:xfrm>
                  <a:off x="3602520" y="1706400"/>
                  <a:ext cx="22892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33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3399"/>
                      </a:solidFill>
                      <a:latin typeface=""/>
                    </a:rPr>
                    <a:t>2</a:t>
                  </a:r>
                  <a:r>
                    <a:rPr b="1" lang="en-US" sz="3200" spc="-1" strike="noStrike">
                      <a:solidFill>
                        <a:srgbClr val="003399"/>
                      </a:solidFill>
                      <a:latin typeface=""/>
                    </a:rPr>
                    <a:t>     </a:t>
                  </a:r>
                  <a:r>
                    <a:rPr b="1" i="1" lang="en-US" sz="2800" spc="-1" strike="noStrike">
                      <a:solidFill>
                        <a:srgbClr val="0033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3399"/>
                      </a:solidFill>
                      <a:latin typeface=""/>
                    </a:rPr>
                    <a:t>1</a:t>
                  </a:r>
                  <a:r>
                    <a:rPr b="1" lang="en-US" sz="3200" spc="-1" strike="noStrike">
                      <a:solidFill>
                        <a:srgbClr val="003399"/>
                      </a:solidFill>
                      <a:latin typeface=""/>
                    </a:rPr>
                    <a:t>      </a:t>
                  </a:r>
                  <a:r>
                    <a:rPr b="1" i="1" lang="en-US" sz="2800" spc="-1" strike="noStrike">
                      <a:solidFill>
                        <a:srgbClr val="0033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33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94" name=""/>
            <p:cNvSpPr/>
            <p:nvPr/>
          </p:nvSpPr>
          <p:spPr>
            <a:xfrm>
              <a:off x="1752480" y="5891040"/>
              <a:ext cx="4800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3" dur="indefinite" restart="never" nodeType="tmRoot">
          <p:childTnLst>
            <p:seq>
              <p:cTn id="3784" dur="indefinite" nodeType="mainSeq">
                <p:childTnLst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89" dur="500"/>
                                        <p:tgtEl>
                                          <p:spTgt spid="6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794" dur="5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"/>
          <p:cNvSpPr/>
          <p:nvPr/>
        </p:nvSpPr>
        <p:spPr>
          <a:xfrm>
            <a:off x="1431000" y="685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3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式并转换成“与非”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143000" y="1467000"/>
            <a:ext cx="3794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7" name=""/>
          <p:cNvGrpSpPr/>
          <p:nvPr/>
        </p:nvGrpSpPr>
        <p:grpSpPr>
          <a:xfrm>
            <a:off x="1600200" y="2058840"/>
            <a:ext cx="3220920" cy="933120"/>
            <a:chOff x="1600200" y="2058840"/>
            <a:chExt cx="3220920" cy="933120"/>
          </a:xfrm>
        </p:grpSpPr>
        <p:grpSp>
          <p:nvGrpSpPr>
            <p:cNvPr id="6198" name=""/>
            <p:cNvGrpSpPr/>
            <p:nvPr/>
          </p:nvGrpSpPr>
          <p:grpSpPr>
            <a:xfrm>
              <a:off x="1600200" y="2058840"/>
              <a:ext cx="3220920" cy="933120"/>
              <a:chOff x="1600200" y="2058840"/>
              <a:chExt cx="3220920" cy="933120"/>
            </a:xfrm>
          </p:grpSpPr>
          <p:sp>
            <p:nvSpPr>
              <p:cNvPr id="6199" name=""/>
              <p:cNvSpPr/>
              <p:nvPr/>
            </p:nvSpPr>
            <p:spPr>
              <a:xfrm>
                <a:off x="1600200" y="2273760"/>
                <a:ext cx="3220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4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5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6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530800" y="2058840"/>
                <a:ext cx="42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3247920" y="205884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3892320" y="205884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3" name=""/>
            <p:cNvGrpSpPr/>
            <p:nvPr/>
          </p:nvGrpSpPr>
          <p:grpSpPr>
            <a:xfrm>
              <a:off x="2100960" y="2273760"/>
              <a:ext cx="2433600" cy="71280"/>
              <a:chOff x="2100960" y="2273760"/>
              <a:chExt cx="2433600" cy="71280"/>
            </a:xfrm>
          </p:grpSpPr>
          <p:sp>
            <p:nvSpPr>
              <p:cNvPr id="6204" name=""/>
              <p:cNvSpPr/>
              <p:nvPr/>
            </p:nvSpPr>
            <p:spPr>
              <a:xfrm>
                <a:off x="2100960" y="234504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104720" y="234504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460680" y="234504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2745000" y="234504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2100960" y="227376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09" name=""/>
          <p:cNvGrpSpPr/>
          <p:nvPr/>
        </p:nvGrpSpPr>
        <p:grpSpPr>
          <a:xfrm>
            <a:off x="4840920" y="1511280"/>
            <a:ext cx="2922480" cy="718200"/>
            <a:chOff x="4840920" y="1511280"/>
            <a:chExt cx="2922480" cy="718200"/>
          </a:xfrm>
        </p:grpSpPr>
        <p:sp>
          <p:nvSpPr>
            <p:cNvPr id="6210" name=""/>
            <p:cNvSpPr/>
            <p:nvPr/>
          </p:nvSpPr>
          <p:spPr>
            <a:xfrm>
              <a:off x="4840920" y="1511280"/>
              <a:ext cx="2922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1" name=""/>
            <p:cNvGrpSpPr/>
            <p:nvPr/>
          </p:nvGrpSpPr>
          <p:grpSpPr>
            <a:xfrm>
              <a:off x="5230080" y="1511280"/>
              <a:ext cx="2433600" cy="71640"/>
              <a:chOff x="5230080" y="1511280"/>
              <a:chExt cx="2433600" cy="71640"/>
            </a:xfrm>
          </p:grpSpPr>
          <p:sp>
            <p:nvSpPr>
              <p:cNvPr id="6212" name=""/>
              <p:cNvSpPr/>
              <p:nvPr/>
            </p:nvSpPr>
            <p:spPr>
              <a:xfrm>
                <a:off x="5230080" y="158292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230080" y="151128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4" name=""/>
          <p:cNvSpPr/>
          <p:nvPr/>
        </p:nvSpPr>
        <p:spPr>
          <a:xfrm>
            <a:off x="1193400" y="3067200"/>
            <a:ext cx="3106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5" name=""/>
          <p:cNvGrpSpPr/>
          <p:nvPr/>
        </p:nvGrpSpPr>
        <p:grpSpPr>
          <a:xfrm>
            <a:off x="1611360" y="3639960"/>
            <a:ext cx="3220920" cy="1556280"/>
            <a:chOff x="1611360" y="3639960"/>
            <a:chExt cx="3220920" cy="1556280"/>
          </a:xfrm>
        </p:grpSpPr>
        <p:grpSp>
          <p:nvGrpSpPr>
            <p:cNvPr id="6216" name=""/>
            <p:cNvGrpSpPr/>
            <p:nvPr/>
          </p:nvGrpSpPr>
          <p:grpSpPr>
            <a:xfrm>
              <a:off x="1611360" y="3639960"/>
              <a:ext cx="3220920" cy="1556280"/>
              <a:chOff x="1611360" y="3639960"/>
              <a:chExt cx="3220920" cy="1556280"/>
            </a:xfrm>
          </p:grpSpPr>
          <p:sp>
            <p:nvSpPr>
              <p:cNvPr id="6217" name=""/>
              <p:cNvSpPr/>
              <p:nvPr/>
            </p:nvSpPr>
            <p:spPr>
              <a:xfrm>
                <a:off x="1611360" y="3854880"/>
                <a:ext cx="3220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 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6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2540160" y="3639960"/>
                <a:ext cx="4309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 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258000" y="363996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3902760" y="363996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1" name=""/>
            <p:cNvGrpSpPr/>
            <p:nvPr/>
          </p:nvGrpSpPr>
          <p:grpSpPr>
            <a:xfrm>
              <a:off x="2195640" y="3828960"/>
              <a:ext cx="2590560" cy="75960"/>
              <a:chOff x="2195640" y="3828960"/>
              <a:chExt cx="2590560" cy="75960"/>
            </a:xfrm>
          </p:grpSpPr>
          <p:sp>
            <p:nvSpPr>
              <p:cNvPr id="6222" name=""/>
              <p:cNvSpPr/>
              <p:nvPr/>
            </p:nvSpPr>
            <p:spPr>
              <a:xfrm>
                <a:off x="2195640" y="3904920"/>
                <a:ext cx="3808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329000" y="3904920"/>
                <a:ext cx="3812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643200" y="3904920"/>
                <a:ext cx="3812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2881440" y="3904920"/>
                <a:ext cx="3808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195640" y="3828960"/>
                <a:ext cx="259056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7" name=""/>
          <p:cNvGrpSpPr/>
          <p:nvPr/>
        </p:nvGrpSpPr>
        <p:grpSpPr>
          <a:xfrm>
            <a:off x="4500720" y="3067200"/>
            <a:ext cx="3057120" cy="718200"/>
            <a:chOff x="4500720" y="3067200"/>
            <a:chExt cx="3057120" cy="718200"/>
          </a:xfrm>
        </p:grpSpPr>
        <p:sp>
          <p:nvSpPr>
            <p:cNvPr id="6228" name=""/>
            <p:cNvSpPr/>
            <p:nvPr/>
          </p:nvSpPr>
          <p:spPr>
            <a:xfrm>
              <a:off x="4500720" y="3067200"/>
              <a:ext cx="305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9" name=""/>
            <p:cNvGrpSpPr/>
            <p:nvPr/>
          </p:nvGrpSpPr>
          <p:grpSpPr>
            <a:xfrm>
              <a:off x="5008680" y="3067200"/>
              <a:ext cx="2433600" cy="71280"/>
              <a:chOff x="5008680" y="3067200"/>
              <a:chExt cx="2433600" cy="71280"/>
            </a:xfrm>
          </p:grpSpPr>
          <p:sp>
            <p:nvSpPr>
              <p:cNvPr id="6230" name=""/>
              <p:cNvSpPr/>
              <p:nvPr/>
            </p:nvSpPr>
            <p:spPr>
              <a:xfrm>
                <a:off x="5008680" y="313848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5008680" y="306720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2" name=""/>
          <p:cNvSpPr/>
          <p:nvPr/>
        </p:nvSpPr>
        <p:spPr>
          <a:xfrm>
            <a:off x="1143000" y="4540320"/>
            <a:ext cx="3733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3" name=""/>
          <p:cNvGrpSpPr/>
          <p:nvPr/>
        </p:nvGrpSpPr>
        <p:grpSpPr>
          <a:xfrm>
            <a:off x="1390680" y="5164200"/>
            <a:ext cx="3220920" cy="933120"/>
            <a:chOff x="1390680" y="5164200"/>
            <a:chExt cx="3220920" cy="933120"/>
          </a:xfrm>
        </p:grpSpPr>
        <p:grpSp>
          <p:nvGrpSpPr>
            <p:cNvPr id="6234" name=""/>
            <p:cNvGrpSpPr/>
            <p:nvPr/>
          </p:nvGrpSpPr>
          <p:grpSpPr>
            <a:xfrm>
              <a:off x="1390680" y="5164200"/>
              <a:ext cx="3220920" cy="933120"/>
              <a:chOff x="1390680" y="5164200"/>
              <a:chExt cx="3220920" cy="933120"/>
            </a:xfrm>
          </p:grpSpPr>
          <p:sp>
            <p:nvSpPr>
              <p:cNvPr id="6235" name=""/>
              <p:cNvSpPr/>
              <p:nvPr/>
            </p:nvSpPr>
            <p:spPr>
              <a:xfrm>
                <a:off x="1390680" y="5379120"/>
                <a:ext cx="3220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5     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2319480" y="5164200"/>
                <a:ext cx="430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037680" y="51642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682080" y="51642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9" name=""/>
            <p:cNvGrpSpPr/>
            <p:nvPr/>
          </p:nvGrpSpPr>
          <p:grpSpPr>
            <a:xfrm>
              <a:off x="1892160" y="5361120"/>
              <a:ext cx="2433600" cy="71640"/>
              <a:chOff x="1892160" y="5361120"/>
              <a:chExt cx="2433600" cy="71640"/>
            </a:xfrm>
          </p:grpSpPr>
          <p:sp>
            <p:nvSpPr>
              <p:cNvPr id="6240" name=""/>
              <p:cNvSpPr/>
              <p:nvPr/>
            </p:nvSpPr>
            <p:spPr>
              <a:xfrm>
                <a:off x="1892160" y="543276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895920" y="543276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251880" y="5432760"/>
                <a:ext cx="3578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2536200" y="5432760"/>
                <a:ext cx="35748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1892160" y="536112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45" name=""/>
          <p:cNvGrpSpPr/>
          <p:nvPr/>
        </p:nvGrpSpPr>
        <p:grpSpPr>
          <a:xfrm>
            <a:off x="4741920" y="4572000"/>
            <a:ext cx="3057120" cy="718200"/>
            <a:chOff x="4741920" y="4572000"/>
            <a:chExt cx="3057120" cy="718200"/>
          </a:xfrm>
        </p:grpSpPr>
        <p:sp>
          <p:nvSpPr>
            <p:cNvPr id="6246" name=""/>
            <p:cNvSpPr/>
            <p:nvPr/>
          </p:nvSpPr>
          <p:spPr>
            <a:xfrm>
              <a:off x="4741920" y="4572000"/>
              <a:ext cx="305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7" name=""/>
            <p:cNvGrpSpPr/>
            <p:nvPr/>
          </p:nvGrpSpPr>
          <p:grpSpPr>
            <a:xfrm>
              <a:off x="4970520" y="4643280"/>
              <a:ext cx="2433600" cy="71640"/>
              <a:chOff x="4970520" y="4643280"/>
              <a:chExt cx="2433600" cy="71640"/>
            </a:xfrm>
          </p:grpSpPr>
          <p:sp>
            <p:nvSpPr>
              <p:cNvPr id="6248" name=""/>
              <p:cNvSpPr/>
              <p:nvPr/>
            </p:nvSpPr>
            <p:spPr>
              <a:xfrm>
                <a:off x="4970520" y="471492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70520" y="4643280"/>
                <a:ext cx="243360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5" dur="indefinite" restart="never" nodeType="tmRoot">
          <p:childTnLst>
            <p:seq>
              <p:cTn id="3796" dur="indefinite" nodeType="mainSeq">
                <p:childTnLst>
                  <p:par>
                    <p:cTn id="3797" nodeType="clickEffect" fill="hold">
                      <p:stCondLst>
                        <p:cond delay="indefinite"/>
                      </p:stCondLst>
                      <p:childTnLst>
                        <p:par>
                          <p:cTn id="37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01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06" dur="500"/>
                                        <p:tgtEl>
                                          <p:spTgt spid="6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nodeType="clickEffect" fill="hold">
                      <p:stCondLst>
                        <p:cond delay="indefinite"/>
                      </p:stCondLst>
                      <p:childTnLst>
                        <p:par>
                          <p:cTn id="3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11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nodeType="clickEffect" fill="hold">
                      <p:stCondLst>
                        <p:cond delay="indefinite"/>
                      </p:stCondLst>
                      <p:childTnLst>
                        <p:par>
                          <p:cTn id="38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16" dur="500"/>
                                        <p:tgtEl>
                                          <p:spTgt spid="6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21" dur="500"/>
                                        <p:tgtEl>
                                          <p:spTgt spid="6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2" nodeType="clickEffect" fill="hold">
                      <p:stCondLst>
                        <p:cond delay="indefinite"/>
                      </p:stCondLst>
                      <p:childTnLst>
                        <p:par>
                          <p:cTn id="38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26" dur="500"/>
                                        <p:tgtEl>
                                          <p:spTgt spid="6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nodeType="clickEffect" fill="hold">
                      <p:stCondLst>
                        <p:cond delay="indefinite"/>
                      </p:stCondLst>
                      <p:childTnLst>
                        <p:par>
                          <p:cTn id="3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31" dur="500"/>
                                        <p:tgtEl>
                                          <p:spTgt spid="6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nodeType="clickEffect" fill="hold">
                      <p:stCondLst>
                        <p:cond delay="indefinite"/>
                      </p:stCondLst>
                      <p:childTnLst>
                        <p:par>
                          <p:cTn id="38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36" dur="500"/>
                                        <p:tgtEl>
                                          <p:spTgt spid="6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41" dur="500"/>
                                        <p:tgtEl>
                                          <p:spTgt spid="6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"/>
          <p:cNvSpPr/>
          <p:nvPr/>
        </p:nvSpPr>
        <p:spPr>
          <a:xfrm>
            <a:off x="762120" y="5335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4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画出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1" name=""/>
          <p:cNvGrpSpPr/>
          <p:nvPr/>
        </p:nvGrpSpPr>
        <p:grpSpPr>
          <a:xfrm>
            <a:off x="1600200" y="990720"/>
            <a:ext cx="6324480" cy="5253120"/>
            <a:chOff x="1600200" y="990720"/>
            <a:chExt cx="6324480" cy="5253120"/>
          </a:xfrm>
        </p:grpSpPr>
        <p:grpSp>
          <p:nvGrpSpPr>
            <p:cNvPr id="6252" name=""/>
            <p:cNvGrpSpPr/>
            <p:nvPr/>
          </p:nvGrpSpPr>
          <p:grpSpPr>
            <a:xfrm>
              <a:off x="1981080" y="5334120"/>
              <a:ext cx="5832000" cy="459720"/>
              <a:chOff x="1981080" y="5334120"/>
              <a:chExt cx="5832000" cy="459720"/>
            </a:xfrm>
          </p:grpSpPr>
          <p:sp>
            <p:nvSpPr>
              <p:cNvPr id="6253" name=""/>
              <p:cNvSpPr/>
              <p:nvPr/>
            </p:nvSpPr>
            <p:spPr>
              <a:xfrm>
                <a:off x="1981080" y="53341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4" name=""/>
              <p:cNvGrpSpPr/>
              <p:nvPr/>
            </p:nvGrpSpPr>
            <p:grpSpPr>
              <a:xfrm>
                <a:off x="2962800" y="5334120"/>
                <a:ext cx="4850280" cy="459720"/>
                <a:chOff x="2962800" y="5334120"/>
                <a:chExt cx="4850280" cy="459720"/>
              </a:xfrm>
            </p:grpSpPr>
            <p:sp>
              <p:nvSpPr>
                <p:cNvPr id="6255" name=""/>
                <p:cNvSpPr/>
                <p:nvPr/>
              </p:nvSpPr>
              <p:spPr>
                <a:xfrm>
                  <a:off x="296280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>
                  <a:off x="38008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>
                  <a:off x="47152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56296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65440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>
                  <a:off x="7458480" y="53341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1" name=""/>
            <p:cNvSpPr/>
            <p:nvPr/>
          </p:nvSpPr>
          <p:spPr>
            <a:xfrm>
              <a:off x="197208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2" name=""/>
            <p:cNvGrpSpPr/>
            <p:nvPr/>
          </p:nvGrpSpPr>
          <p:grpSpPr>
            <a:xfrm>
              <a:off x="2505600" y="1447920"/>
              <a:ext cx="4317120" cy="459720"/>
              <a:chOff x="2505600" y="1447920"/>
              <a:chExt cx="4317120" cy="459720"/>
            </a:xfrm>
          </p:grpSpPr>
          <p:sp>
            <p:nvSpPr>
              <p:cNvPr id="6263" name=""/>
              <p:cNvSpPr/>
              <p:nvPr/>
            </p:nvSpPr>
            <p:spPr>
              <a:xfrm>
                <a:off x="2505600" y="144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563000" y="144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468120" y="144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6" name=""/>
            <p:cNvGrpSpPr/>
            <p:nvPr/>
          </p:nvGrpSpPr>
          <p:grpSpPr>
            <a:xfrm>
              <a:off x="1756440" y="5638680"/>
              <a:ext cx="6164640" cy="605160"/>
              <a:chOff x="1756440" y="5638680"/>
              <a:chExt cx="6164640" cy="605160"/>
            </a:xfrm>
          </p:grpSpPr>
          <p:grpSp>
            <p:nvGrpSpPr>
              <p:cNvPr id="6267" name=""/>
              <p:cNvGrpSpPr/>
              <p:nvPr/>
            </p:nvGrpSpPr>
            <p:grpSpPr>
              <a:xfrm>
                <a:off x="1756440" y="5664240"/>
                <a:ext cx="6164640" cy="579600"/>
                <a:chOff x="1756440" y="5664240"/>
                <a:chExt cx="6164640" cy="579600"/>
              </a:xfrm>
            </p:grpSpPr>
            <p:sp>
              <p:nvSpPr>
                <p:cNvPr id="6268" name=""/>
                <p:cNvSpPr/>
                <p:nvPr/>
              </p:nvSpPr>
              <p:spPr>
                <a:xfrm>
                  <a:off x="7374960" y="5715000"/>
                  <a:ext cx="5461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>
                  <a:off x="175644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276984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363168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456768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5504760" y="5664240"/>
                  <a:ext cx="4338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I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6437880" y="5715000"/>
                  <a:ext cx="7027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5" name=""/>
              <p:cNvSpPr/>
              <p:nvPr/>
            </p:nvSpPr>
            <p:spPr>
              <a:xfrm>
                <a:off x="7378560" y="563868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6441840" y="5638680"/>
                <a:ext cx="43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7" name=""/>
            <p:cNvSpPr/>
            <p:nvPr/>
          </p:nvSpPr>
          <p:spPr>
            <a:xfrm flipV="1">
              <a:off x="7534440" y="44604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6284880" y="268596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6051600" y="26859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4332240" y="2685960"/>
              <a:ext cx="0" cy="51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068560" y="26859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303640" y="2685960"/>
              <a:ext cx="0" cy="51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536920" y="268596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771640" y="2685960"/>
              <a:ext cx="0" cy="10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098960" y="26859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567320" y="2685960"/>
              <a:ext cx="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 flipV="1">
              <a:off x="6597720" y="44604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1913040" y="1947960"/>
              <a:ext cx="101448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146320" y="194796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81400" y="179856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V="1">
              <a:off x="2459160" y="15033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3943440" y="1947960"/>
              <a:ext cx="101448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4176720" y="194796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4411800" y="179856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V="1">
              <a:off x="4489560" y="15033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894280" y="1947960"/>
              <a:ext cx="101628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6129360" y="1947960"/>
              <a:ext cx="5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6362640" y="1798560"/>
              <a:ext cx="1573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 flipV="1">
              <a:off x="6442200" y="1503360"/>
              <a:ext cx="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1600200" y="298116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1600200" y="322884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1600200" y="349884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1600200" y="372096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1600200" y="396720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1600200" y="423864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1600200" y="446076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6284880" y="4830840"/>
              <a:ext cx="6256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6519960" y="468144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659772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643464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221600" y="4830840"/>
              <a:ext cx="62532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456320" y="4681440"/>
              <a:ext cx="15588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53444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36956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348160" y="4830840"/>
              <a:ext cx="6238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5581800" y="4681440"/>
              <a:ext cx="15696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566100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549504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4411800" y="4830840"/>
              <a:ext cx="6238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4645080" y="4681440"/>
              <a:ext cx="15696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472428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455832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473280" y="4830840"/>
              <a:ext cx="6256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708360" y="4681440"/>
              <a:ext cx="1555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78612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362160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614680" y="4830840"/>
              <a:ext cx="62532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849400" y="4681440"/>
              <a:ext cx="15588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92752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76264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1600200" y="4830840"/>
              <a:ext cx="623880" cy="44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1833480" y="4681440"/>
              <a:ext cx="157320" cy="14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1913040" y="527364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1866960" y="564372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1746720" y="483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4879800" y="2685960"/>
              <a:ext cx="0" cy="15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6519960" y="2685960"/>
              <a:ext cx="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6753240" y="2685960"/>
              <a:ext cx="0" cy="17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 flipV="1">
              <a:off x="5661000" y="3943440"/>
              <a:ext cx="0" cy="73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 flipV="1">
              <a:off x="4722840" y="3720960"/>
              <a:ext cx="0" cy="9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 flipV="1">
              <a:off x="3786120" y="3498480"/>
              <a:ext cx="0" cy="11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 flipV="1">
              <a:off x="2927520" y="3203280"/>
              <a:ext cx="0" cy="147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 flipV="1">
              <a:off x="1913040" y="2980800"/>
              <a:ext cx="0" cy="17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 flipV="1">
              <a:off x="6597720" y="4238280"/>
              <a:ext cx="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221920" y="9907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267080" y="990720"/>
              <a:ext cx="698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184440" y="9907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33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87820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62140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468468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3733920" y="563868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491240" y="5638680"/>
              <a:ext cx="9396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534000" y="5621400"/>
              <a:ext cx="9396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409840" y="14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4454640" y="14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400800" y="14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2" dur="indefinite" restart="never" nodeType="tmRoot">
          <p:childTnLst>
            <p:seq>
              <p:cTn id="3843" dur="indefinite" nodeType="mainSeq">
                <p:childTnLst>
                  <p:par>
                    <p:cTn id="3844" nodeType="clickEffect" fill="hold">
                      <p:stCondLst>
                        <p:cond delay="indefinite"/>
                      </p:stCondLst>
                      <p:childTnLst>
                        <p:par>
                          <p:cTn id="3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3848" dur="500"/>
                                        <p:tgtEl>
                                          <p:spTgt spid="6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"/>
          <p:cNvSpPr/>
          <p:nvPr/>
        </p:nvSpPr>
        <p:spPr>
          <a:xfrm>
            <a:off x="838080" y="1295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将十进制数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~9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编成二进制代码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8. 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十进制编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2743200" y="5161680"/>
            <a:ext cx="2590920" cy="561600"/>
          </a:xfrm>
          <a:prstGeom prst="wedgeRoundRectCallout">
            <a:avLst>
              <a:gd name="adj1" fmla="val -66541"/>
              <a:gd name="adj2" fmla="val -276773"/>
              <a:gd name="adj3" fmla="val 16667"/>
            </a:avLst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十进制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0" name=""/>
          <p:cNvGrpSpPr/>
          <p:nvPr/>
        </p:nvGrpSpPr>
        <p:grpSpPr>
          <a:xfrm>
            <a:off x="1676520" y="2289240"/>
            <a:ext cx="6019560" cy="1906560"/>
            <a:chOff x="1676520" y="2289240"/>
            <a:chExt cx="6019560" cy="1906560"/>
          </a:xfrm>
        </p:grpSpPr>
        <p:sp>
          <p:nvSpPr>
            <p:cNvPr id="6361" name=""/>
            <p:cNvSpPr/>
            <p:nvPr/>
          </p:nvSpPr>
          <p:spPr>
            <a:xfrm>
              <a:off x="6038280" y="315108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520360" y="3119400"/>
              <a:ext cx="8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0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3733920" y="3357720"/>
              <a:ext cx="1904760" cy="83808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3886200" y="3510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编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1676520" y="2289240"/>
              <a:ext cx="68580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高低电平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086600" y="2367000"/>
              <a:ext cx="60948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二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5943600" y="3586320"/>
              <a:ext cx="990720" cy="457200"/>
            </a:xfrm>
            <a:prstGeom prst="rightArrow">
              <a:avLst>
                <a:gd name="adj1" fmla="val 50000"/>
                <a:gd name="adj2" fmla="val 5392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514600" y="3586320"/>
              <a:ext cx="990720" cy="457200"/>
            </a:xfrm>
            <a:prstGeom prst="rightArrow">
              <a:avLst>
                <a:gd name="adj1" fmla="val 50000"/>
                <a:gd name="adj2" fmla="val 5392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9" dur="indefinite" restart="never" nodeType="tmRoot">
          <p:childTnLst>
            <p:seq>
              <p:cTn id="3850" dur="indefinite" nodeType="mainSeq">
                <p:childTnLst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55" dur="500"/>
                                        <p:tgtEl>
                                          <p:spTgt spid="6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3860" dur="500"/>
                                        <p:tgtEl>
                                          <p:spTgt spid="6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3865" dur="500"/>
                                        <p:tgtEl>
                                          <p:spTgt spid="6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"/>
          <p:cNvSpPr/>
          <p:nvPr/>
        </p:nvSpPr>
        <p:spPr>
          <a:xfrm>
            <a:off x="457200" y="1522440"/>
            <a:ext cx="3581280" cy="373716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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列编码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四位二进制代码可以表示十六种不同的状态，其中任何十种状态都可以表示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0~9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十个数码，最常用的是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8421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45720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8421BCD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码编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1" name=""/>
          <p:cNvGrpSpPr/>
          <p:nvPr/>
        </p:nvGrpSpPr>
        <p:grpSpPr>
          <a:xfrm>
            <a:off x="4332600" y="1066680"/>
            <a:ext cx="3820680" cy="5135040"/>
            <a:chOff x="4332600" y="1066680"/>
            <a:chExt cx="3820680" cy="5135040"/>
          </a:xfrm>
        </p:grpSpPr>
        <p:grpSp>
          <p:nvGrpSpPr>
            <p:cNvPr id="6372" name=""/>
            <p:cNvGrpSpPr/>
            <p:nvPr/>
          </p:nvGrpSpPr>
          <p:grpSpPr>
            <a:xfrm>
              <a:off x="4332600" y="1066680"/>
              <a:ext cx="3645000" cy="5135040"/>
              <a:chOff x="4332600" y="1066680"/>
              <a:chExt cx="3645000" cy="5135040"/>
            </a:xfrm>
          </p:grpSpPr>
          <p:grpSp>
            <p:nvGrpSpPr>
              <p:cNvPr id="6373" name=""/>
              <p:cNvGrpSpPr/>
              <p:nvPr/>
            </p:nvGrpSpPr>
            <p:grpSpPr>
              <a:xfrm>
                <a:off x="4495680" y="1144440"/>
                <a:ext cx="3429000" cy="4949640"/>
                <a:chOff x="4495680" y="1144440"/>
                <a:chExt cx="3429000" cy="4949640"/>
              </a:xfrm>
            </p:grpSpPr>
            <p:sp>
              <p:nvSpPr>
                <p:cNvPr id="6374" name=""/>
                <p:cNvSpPr/>
                <p:nvPr/>
              </p:nvSpPr>
              <p:spPr>
                <a:xfrm>
                  <a:off x="4495680" y="1144440"/>
                  <a:ext cx="34290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5486040" y="1144440"/>
                  <a:ext cx="0" cy="494964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4495680" y="2087280"/>
                  <a:ext cx="34290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5486040" y="1615680"/>
                  <a:ext cx="24386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8" name=""/>
              <p:cNvSpPr/>
              <p:nvPr/>
            </p:nvSpPr>
            <p:spPr>
              <a:xfrm>
                <a:off x="5628240" y="3265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628240" y="4051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628240" y="4836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1" name=""/>
              <p:cNvGrpSpPr/>
              <p:nvPr/>
            </p:nvGrpSpPr>
            <p:grpSpPr>
              <a:xfrm>
                <a:off x="4332600" y="1066680"/>
                <a:ext cx="3645000" cy="5135040"/>
                <a:chOff x="4332600" y="1066680"/>
                <a:chExt cx="3645000" cy="5135040"/>
              </a:xfrm>
            </p:grpSpPr>
            <p:grpSp>
              <p:nvGrpSpPr>
                <p:cNvPr id="6382" name=""/>
                <p:cNvGrpSpPr/>
                <p:nvPr/>
              </p:nvGrpSpPr>
              <p:grpSpPr>
                <a:xfrm>
                  <a:off x="4332600" y="1066680"/>
                  <a:ext cx="3645000" cy="5135040"/>
                  <a:chOff x="4332600" y="1066680"/>
                  <a:chExt cx="3645000" cy="5135040"/>
                </a:xfrm>
              </p:grpSpPr>
              <p:sp>
                <p:nvSpPr>
                  <p:cNvPr id="6383" name=""/>
                  <p:cNvSpPr/>
                  <p:nvPr/>
                </p:nvSpPr>
                <p:spPr>
                  <a:xfrm>
                    <a:off x="6391800" y="1066680"/>
                    <a:ext cx="700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"/>
                      </a:rPr>
                      <a:t>输 出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4" name=""/>
                  <p:cNvSpPr/>
                  <p:nvPr/>
                </p:nvSpPr>
                <p:spPr>
                  <a:xfrm>
                    <a:off x="4343400" y="1380600"/>
                    <a:ext cx="990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"/>
                      </a:rPr>
                      <a:t>输 入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5" name=""/>
                  <p:cNvSpPr/>
                  <p:nvPr/>
                </p:nvSpPr>
                <p:spPr>
                  <a:xfrm>
                    <a:off x="687024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6" name=""/>
                  <p:cNvSpPr/>
                  <p:nvPr/>
                </p:nvSpPr>
                <p:spPr>
                  <a:xfrm>
                    <a:off x="626076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7" name=""/>
                  <p:cNvSpPr/>
                  <p:nvPr/>
                </p:nvSpPr>
                <p:spPr>
                  <a:xfrm>
                    <a:off x="747972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88" name=""/>
                  <p:cNvGrpSpPr/>
                  <p:nvPr/>
                </p:nvGrpSpPr>
                <p:grpSpPr>
                  <a:xfrm>
                    <a:off x="4332600" y="2087640"/>
                    <a:ext cx="1077840" cy="4114080"/>
                    <a:chOff x="4332600" y="2087640"/>
                    <a:chExt cx="1077840" cy="4114080"/>
                  </a:xfrm>
                </p:grpSpPr>
                <p:sp>
                  <p:nvSpPr>
                    <p:cNvPr id="6389" name=""/>
                    <p:cNvSpPr/>
                    <p:nvPr/>
                  </p:nvSpPr>
                  <p:spPr>
                    <a:xfrm>
                      <a:off x="4343400" y="2087640"/>
                      <a:ext cx="10670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 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0" name=""/>
                    <p:cNvSpPr/>
                    <p:nvPr/>
                  </p:nvSpPr>
                  <p:spPr>
                    <a:xfrm>
                      <a:off x="4332600" y="247716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1" name=""/>
                    <p:cNvSpPr/>
                    <p:nvPr/>
                  </p:nvSpPr>
                  <p:spPr>
                    <a:xfrm>
                      <a:off x="4332600" y="287316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2" name=""/>
                    <p:cNvSpPr/>
                    <p:nvPr/>
                  </p:nvSpPr>
                  <p:spPr>
                    <a:xfrm>
                      <a:off x="4332600" y="326088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3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3" name=""/>
                    <p:cNvSpPr/>
                    <p:nvPr/>
                  </p:nvSpPr>
                  <p:spPr>
                    <a:xfrm>
                      <a:off x="4332600" y="365868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4" name=""/>
                    <p:cNvSpPr/>
                    <p:nvPr/>
                  </p:nvSpPr>
                  <p:spPr>
                    <a:xfrm>
                      <a:off x="4332600" y="405144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5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5" name=""/>
                    <p:cNvSpPr/>
                    <p:nvPr/>
                  </p:nvSpPr>
                  <p:spPr>
                    <a:xfrm>
                      <a:off x="4332600" y="444384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6" name=""/>
                    <p:cNvSpPr/>
                    <p:nvPr/>
                  </p:nvSpPr>
                  <p:spPr>
                    <a:xfrm>
                      <a:off x="4332600" y="483696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7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7" name=""/>
                    <p:cNvSpPr/>
                    <p:nvPr/>
                  </p:nvSpPr>
                  <p:spPr>
                    <a:xfrm>
                      <a:off x="4343400" y="5228280"/>
                      <a:ext cx="10670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8" name=""/>
                    <p:cNvSpPr/>
                    <p:nvPr/>
                  </p:nvSpPr>
                  <p:spPr>
                    <a:xfrm>
                      <a:off x="4332600" y="5622120"/>
                      <a:ext cx="96984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9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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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99" name=""/>
                  <p:cNvSpPr/>
                  <p:nvPr/>
                </p:nvSpPr>
                <p:spPr>
                  <a:xfrm>
                    <a:off x="5574960" y="1537920"/>
                    <a:ext cx="497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6600"/>
                        </a:solidFill>
                        <a:latin typeface=""/>
                      </a:rPr>
                      <a:t>Y</a:t>
                    </a:r>
                    <a:r>
                      <a:rPr b="1" lang="en-US" sz="2800" spc="-1" strike="noStrike" baseline="-25000">
                        <a:solidFill>
                          <a:srgbClr val="006600"/>
                        </a:solidFill>
                        <a:latin typeface="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0" name=""/>
                <p:cNvGrpSpPr/>
                <p:nvPr/>
              </p:nvGrpSpPr>
              <p:grpSpPr>
                <a:xfrm>
                  <a:off x="5628240" y="2087640"/>
                  <a:ext cx="2288520" cy="4055040"/>
                  <a:chOff x="5628240" y="2087640"/>
                  <a:chExt cx="2288520" cy="4055040"/>
                </a:xfrm>
              </p:grpSpPr>
              <p:grpSp>
                <p:nvGrpSpPr>
                  <p:cNvPr id="6401" name=""/>
                  <p:cNvGrpSpPr/>
                  <p:nvPr/>
                </p:nvGrpSpPr>
                <p:grpSpPr>
                  <a:xfrm>
                    <a:off x="7533000" y="2087640"/>
                    <a:ext cx="383400" cy="3269880"/>
                    <a:chOff x="7533000" y="2087640"/>
                    <a:chExt cx="383400" cy="3269880"/>
                  </a:xfrm>
                </p:grpSpPr>
                <p:sp>
                  <p:nvSpPr>
                    <p:cNvPr id="6402" name=""/>
                    <p:cNvSpPr/>
                    <p:nvPr/>
                  </p:nvSpPr>
                  <p:spPr>
                    <a:xfrm>
                      <a:off x="7533000" y="20876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3" name=""/>
                    <p:cNvSpPr/>
                    <p:nvPr/>
                  </p:nvSpPr>
                  <p:spPr>
                    <a:xfrm>
                      <a:off x="7533000" y="2873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4" name=""/>
                    <p:cNvSpPr/>
                    <p:nvPr/>
                  </p:nvSpPr>
                  <p:spPr>
                    <a:xfrm>
                      <a:off x="7533000" y="365868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5" name=""/>
                    <p:cNvSpPr/>
                    <p:nvPr/>
                  </p:nvSpPr>
                  <p:spPr>
                    <a:xfrm>
                      <a:off x="7533000" y="2477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6" name=""/>
                    <p:cNvSpPr/>
                    <p:nvPr/>
                  </p:nvSpPr>
                  <p:spPr>
                    <a:xfrm>
                      <a:off x="7533000" y="32659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7" name=""/>
                    <p:cNvSpPr/>
                    <p:nvPr/>
                  </p:nvSpPr>
                  <p:spPr>
                    <a:xfrm>
                      <a:off x="7533000" y="40514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8" name=""/>
                    <p:cNvSpPr/>
                    <p:nvPr/>
                  </p:nvSpPr>
                  <p:spPr>
                    <a:xfrm>
                      <a:off x="7533000" y="444240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9" name=""/>
                    <p:cNvSpPr/>
                    <p:nvPr/>
                  </p:nvSpPr>
                  <p:spPr>
                    <a:xfrm>
                      <a:off x="7533000" y="48369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10" name=""/>
                  <p:cNvGrpSpPr/>
                  <p:nvPr/>
                </p:nvGrpSpPr>
                <p:grpSpPr>
                  <a:xfrm>
                    <a:off x="6237720" y="2087640"/>
                    <a:ext cx="383400" cy="3269880"/>
                    <a:chOff x="6237720" y="2087640"/>
                    <a:chExt cx="383400" cy="3269880"/>
                  </a:xfrm>
                </p:grpSpPr>
                <p:sp>
                  <p:nvSpPr>
                    <p:cNvPr id="6411" name=""/>
                    <p:cNvSpPr/>
                    <p:nvPr/>
                  </p:nvSpPr>
                  <p:spPr>
                    <a:xfrm>
                      <a:off x="6237720" y="20876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2" name=""/>
                    <p:cNvSpPr/>
                    <p:nvPr/>
                  </p:nvSpPr>
                  <p:spPr>
                    <a:xfrm>
                      <a:off x="6248520" y="2477160"/>
                      <a:ext cx="361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3" name=""/>
                    <p:cNvSpPr/>
                    <p:nvPr/>
                  </p:nvSpPr>
                  <p:spPr>
                    <a:xfrm>
                      <a:off x="6237720" y="2873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4" name=""/>
                    <p:cNvSpPr/>
                    <p:nvPr/>
                  </p:nvSpPr>
                  <p:spPr>
                    <a:xfrm>
                      <a:off x="6237720" y="32659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5" name=""/>
                    <p:cNvSpPr/>
                    <p:nvPr/>
                  </p:nvSpPr>
                  <p:spPr>
                    <a:xfrm>
                      <a:off x="6237720" y="365868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6" name=""/>
                    <p:cNvSpPr/>
                    <p:nvPr/>
                  </p:nvSpPr>
                  <p:spPr>
                    <a:xfrm>
                      <a:off x="6237720" y="40514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7" name=""/>
                    <p:cNvSpPr/>
                    <p:nvPr/>
                  </p:nvSpPr>
                  <p:spPr>
                    <a:xfrm>
                      <a:off x="6237720" y="444240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8" name=""/>
                    <p:cNvSpPr/>
                    <p:nvPr/>
                  </p:nvSpPr>
                  <p:spPr>
                    <a:xfrm>
                      <a:off x="6237720" y="48369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19" name=""/>
                  <p:cNvGrpSpPr/>
                  <p:nvPr/>
                </p:nvGrpSpPr>
                <p:grpSpPr>
                  <a:xfrm>
                    <a:off x="6923520" y="2087640"/>
                    <a:ext cx="383400" cy="3269880"/>
                    <a:chOff x="6923520" y="2087640"/>
                    <a:chExt cx="383400" cy="3269880"/>
                  </a:xfrm>
                </p:grpSpPr>
                <p:sp>
                  <p:nvSpPr>
                    <p:cNvPr id="6420" name=""/>
                    <p:cNvSpPr/>
                    <p:nvPr/>
                  </p:nvSpPr>
                  <p:spPr>
                    <a:xfrm>
                      <a:off x="6923520" y="20876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1" name=""/>
                    <p:cNvSpPr/>
                    <p:nvPr/>
                  </p:nvSpPr>
                  <p:spPr>
                    <a:xfrm>
                      <a:off x="6923520" y="2477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2" name=""/>
                    <p:cNvSpPr/>
                    <p:nvPr/>
                  </p:nvSpPr>
                  <p:spPr>
                    <a:xfrm>
                      <a:off x="6923520" y="365868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3" name=""/>
                    <p:cNvSpPr/>
                    <p:nvPr/>
                  </p:nvSpPr>
                  <p:spPr>
                    <a:xfrm>
                      <a:off x="6923520" y="28731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4" name=""/>
                    <p:cNvSpPr/>
                    <p:nvPr/>
                  </p:nvSpPr>
                  <p:spPr>
                    <a:xfrm>
                      <a:off x="6923520" y="32659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5" name=""/>
                    <p:cNvSpPr/>
                    <p:nvPr/>
                  </p:nvSpPr>
                  <p:spPr>
                    <a:xfrm>
                      <a:off x="6923520" y="405144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6" name=""/>
                    <p:cNvSpPr/>
                    <p:nvPr/>
                  </p:nvSpPr>
                  <p:spPr>
                    <a:xfrm>
                      <a:off x="6923520" y="444240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7" name=""/>
                    <p:cNvSpPr/>
                    <p:nvPr/>
                  </p:nvSpPr>
                  <p:spPr>
                    <a:xfrm>
                      <a:off x="6923520" y="483696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8" name=""/>
                  <p:cNvSpPr/>
                  <p:nvPr/>
                </p:nvSpPr>
                <p:spPr>
                  <a:xfrm>
                    <a:off x="5639040" y="2087640"/>
                    <a:ext cx="361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9" name=""/>
                  <p:cNvSpPr/>
                  <p:nvPr/>
                </p:nvSpPr>
                <p:spPr>
                  <a:xfrm>
                    <a:off x="5628240" y="247716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0" name=""/>
                  <p:cNvSpPr/>
                  <p:nvPr/>
                </p:nvSpPr>
                <p:spPr>
                  <a:xfrm>
                    <a:off x="5628240" y="287316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1" name=""/>
                  <p:cNvSpPr/>
                  <p:nvPr/>
                </p:nvSpPr>
                <p:spPr>
                  <a:xfrm>
                    <a:off x="5628240" y="365904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2" name=""/>
                  <p:cNvSpPr/>
                  <p:nvPr/>
                </p:nvSpPr>
                <p:spPr>
                  <a:xfrm>
                    <a:off x="5628240" y="444420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33" name=""/>
                  <p:cNvGrpSpPr/>
                  <p:nvPr/>
                </p:nvGrpSpPr>
                <p:grpSpPr>
                  <a:xfrm>
                    <a:off x="5628240" y="5229720"/>
                    <a:ext cx="2288520" cy="912960"/>
                    <a:chOff x="5628240" y="5229720"/>
                    <a:chExt cx="2288520" cy="912960"/>
                  </a:xfrm>
                </p:grpSpPr>
                <p:sp>
                  <p:nvSpPr>
                    <p:cNvPr id="6434" name=""/>
                    <p:cNvSpPr/>
                    <p:nvPr/>
                  </p:nvSpPr>
                  <p:spPr>
                    <a:xfrm>
                      <a:off x="753336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5" name=""/>
                    <p:cNvSpPr/>
                    <p:nvPr/>
                  </p:nvSpPr>
                  <p:spPr>
                    <a:xfrm>
                      <a:off x="692352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6" name=""/>
                    <p:cNvSpPr/>
                    <p:nvPr/>
                  </p:nvSpPr>
                  <p:spPr>
                    <a:xfrm>
                      <a:off x="623772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7" name=""/>
                    <p:cNvSpPr/>
                    <p:nvPr/>
                  </p:nvSpPr>
                  <p:spPr>
                    <a:xfrm>
                      <a:off x="692352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8" name=""/>
                    <p:cNvSpPr/>
                    <p:nvPr/>
                  </p:nvSpPr>
                  <p:spPr>
                    <a:xfrm>
                      <a:off x="623772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9" name=""/>
                    <p:cNvSpPr/>
                    <p:nvPr/>
                  </p:nvSpPr>
                  <p:spPr>
                    <a:xfrm>
                      <a:off x="5628240" y="52297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0" name=""/>
                    <p:cNvSpPr/>
                    <p:nvPr/>
                  </p:nvSpPr>
                  <p:spPr>
                    <a:xfrm>
                      <a:off x="562824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1" name=""/>
                    <p:cNvSpPr/>
                    <p:nvPr/>
                  </p:nvSpPr>
                  <p:spPr>
                    <a:xfrm>
                      <a:off x="7533360" y="56221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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42" name=""/>
            <p:cNvSpPr/>
            <p:nvPr/>
          </p:nvSpPr>
          <p:spPr>
            <a:xfrm>
              <a:off x="4343400" y="6094440"/>
              <a:ext cx="380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6" dur="indefinite" restart="never" nodeType="tmRoot">
          <p:childTnLst>
            <p:seq>
              <p:cTn id="3867" dur="indefinite" nodeType="mainSeq">
                <p:childTnLst>
                  <p:par>
                    <p:cTn id="3868" nodeType="clickEffect" fill="hold">
                      <p:stCondLst>
                        <p:cond delay="indefinite"/>
                      </p:stCondLst>
                      <p:childTnLst>
                        <p:par>
                          <p:cTn id="38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872" dur="500"/>
                                        <p:tgtEl>
                                          <p:spTgt spid="6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3" nodeType="clickEffect" fill="hold">
                      <p:stCondLst>
                        <p:cond delay="indefinite"/>
                      </p:stCondLst>
                      <p:childTnLst>
                        <p:par>
                          <p:cTn id="38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77" dur="500"/>
                                        <p:tgtEl>
                                          <p:spTgt spid="6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81" dur="500"/>
                                        <p:tgtEl>
                                          <p:spTgt spid="6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"/>
          <p:cNvSpPr/>
          <p:nvPr/>
        </p:nvSpPr>
        <p:spPr>
          <a:xfrm>
            <a:off x="762120" y="776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写出逻辑式并化成“或非”门和“与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4" name=""/>
          <p:cNvGrpSpPr/>
          <p:nvPr/>
        </p:nvGrpSpPr>
        <p:grpSpPr>
          <a:xfrm>
            <a:off x="1378800" y="1522440"/>
            <a:ext cx="1801440" cy="667800"/>
            <a:chOff x="1378800" y="1522440"/>
            <a:chExt cx="1801440" cy="667800"/>
          </a:xfrm>
        </p:grpSpPr>
        <p:sp>
          <p:nvSpPr>
            <p:cNvPr id="6445" name=""/>
            <p:cNvSpPr/>
            <p:nvPr/>
          </p:nvSpPr>
          <p:spPr>
            <a:xfrm>
              <a:off x="1378800" y="1541520"/>
              <a:ext cx="1801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6" name=""/>
            <p:cNvGrpSpPr/>
            <p:nvPr/>
          </p:nvGrpSpPr>
          <p:grpSpPr>
            <a:xfrm>
              <a:off x="2286000" y="1522440"/>
              <a:ext cx="762120" cy="75960"/>
              <a:chOff x="2286000" y="1522440"/>
              <a:chExt cx="762120" cy="75960"/>
            </a:xfrm>
          </p:grpSpPr>
          <p:sp>
            <p:nvSpPr>
              <p:cNvPr id="6447" name=""/>
              <p:cNvSpPr/>
              <p:nvPr/>
            </p:nvSpPr>
            <p:spPr>
              <a:xfrm>
                <a:off x="2286000" y="1598400"/>
                <a:ext cx="7621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2286000" y="1522440"/>
                <a:ext cx="7621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9" name=""/>
          <p:cNvGrpSpPr/>
          <p:nvPr/>
        </p:nvGrpSpPr>
        <p:grpSpPr>
          <a:xfrm>
            <a:off x="1371600" y="2055960"/>
            <a:ext cx="6629400" cy="927720"/>
            <a:chOff x="1371600" y="2055960"/>
            <a:chExt cx="6629400" cy="927720"/>
          </a:xfrm>
        </p:grpSpPr>
        <p:grpSp>
          <p:nvGrpSpPr>
            <p:cNvPr id="6450" name=""/>
            <p:cNvGrpSpPr/>
            <p:nvPr/>
          </p:nvGrpSpPr>
          <p:grpSpPr>
            <a:xfrm>
              <a:off x="4267080" y="2055960"/>
              <a:ext cx="3733920" cy="927720"/>
              <a:chOff x="4267080" y="2055960"/>
              <a:chExt cx="3733920" cy="927720"/>
            </a:xfrm>
          </p:grpSpPr>
          <p:sp>
            <p:nvSpPr>
              <p:cNvPr id="6451" name=""/>
              <p:cNvSpPr/>
              <p:nvPr/>
            </p:nvSpPr>
            <p:spPr>
              <a:xfrm>
                <a:off x="5934600" y="2055960"/>
                <a:ext cx="354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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267080" y="2284200"/>
                <a:ext cx="37339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4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6      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5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3" name=""/>
              <p:cNvGrpSpPr/>
              <p:nvPr/>
            </p:nvGrpSpPr>
            <p:grpSpPr>
              <a:xfrm>
                <a:off x="4800600" y="2360520"/>
                <a:ext cx="2438280" cy="75600"/>
                <a:chOff x="4800600" y="2360520"/>
                <a:chExt cx="2438280" cy="75600"/>
              </a:xfrm>
            </p:grpSpPr>
            <p:sp>
              <p:nvSpPr>
                <p:cNvPr id="6454" name=""/>
                <p:cNvSpPr/>
                <p:nvPr/>
              </p:nvSpPr>
              <p:spPr>
                <a:xfrm>
                  <a:off x="4800600" y="2436120"/>
                  <a:ext cx="1083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>
                  <a:off x="6290640" y="2436120"/>
                  <a:ext cx="9478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>
                  <a:off x="4800600" y="23605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57" name=""/>
            <p:cNvSpPr/>
            <p:nvPr/>
          </p:nvSpPr>
          <p:spPr>
            <a:xfrm>
              <a:off x="1371600" y="232884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4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5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6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8" name=""/>
            <p:cNvGrpSpPr/>
            <p:nvPr/>
          </p:nvGrpSpPr>
          <p:grpSpPr>
            <a:xfrm>
              <a:off x="2286000" y="2360520"/>
              <a:ext cx="2057400" cy="74160"/>
              <a:chOff x="2286000" y="2360520"/>
              <a:chExt cx="2057400" cy="74160"/>
            </a:xfrm>
          </p:grpSpPr>
          <p:sp>
            <p:nvSpPr>
              <p:cNvPr id="6459" name=""/>
              <p:cNvSpPr/>
              <p:nvPr/>
            </p:nvSpPr>
            <p:spPr>
              <a:xfrm>
                <a:off x="2286000" y="236052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2286000" y="243468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1" name=""/>
          <p:cNvGrpSpPr/>
          <p:nvPr/>
        </p:nvGrpSpPr>
        <p:grpSpPr>
          <a:xfrm>
            <a:off x="1371600" y="4037040"/>
            <a:ext cx="4495680" cy="648720"/>
            <a:chOff x="1371600" y="4037040"/>
            <a:chExt cx="4495680" cy="648720"/>
          </a:xfrm>
        </p:grpSpPr>
        <p:sp>
          <p:nvSpPr>
            <p:cNvPr id="6462" name=""/>
            <p:cNvSpPr/>
            <p:nvPr/>
          </p:nvSpPr>
          <p:spPr>
            <a:xfrm>
              <a:off x="1371600" y="4037040"/>
              <a:ext cx="4495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5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3" name=""/>
            <p:cNvGrpSpPr/>
            <p:nvPr/>
          </p:nvGrpSpPr>
          <p:grpSpPr>
            <a:xfrm>
              <a:off x="2286000" y="4037040"/>
              <a:ext cx="2590560" cy="75960"/>
              <a:chOff x="2286000" y="4037040"/>
              <a:chExt cx="2590560" cy="75960"/>
            </a:xfrm>
          </p:grpSpPr>
          <p:sp>
            <p:nvSpPr>
              <p:cNvPr id="6464" name=""/>
              <p:cNvSpPr/>
              <p:nvPr/>
            </p:nvSpPr>
            <p:spPr>
              <a:xfrm>
                <a:off x="2286000" y="4113000"/>
                <a:ext cx="2590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2286000" y="4037040"/>
                <a:ext cx="2590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6" name=""/>
          <p:cNvGrpSpPr/>
          <p:nvPr/>
        </p:nvGrpSpPr>
        <p:grpSpPr>
          <a:xfrm>
            <a:off x="1676520" y="4722840"/>
            <a:ext cx="4952880" cy="909000"/>
            <a:chOff x="1676520" y="4722840"/>
            <a:chExt cx="4952880" cy="909000"/>
          </a:xfrm>
        </p:grpSpPr>
        <p:sp>
          <p:nvSpPr>
            <p:cNvPr id="6467" name=""/>
            <p:cNvSpPr/>
            <p:nvPr/>
          </p:nvSpPr>
          <p:spPr>
            <a:xfrm>
              <a:off x="4495680" y="4722840"/>
              <a:ext cx="45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1676520" y="4983120"/>
              <a:ext cx="4952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9 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5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159360" y="4722840"/>
              <a:ext cx="35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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0" name=""/>
            <p:cNvGrpSpPr/>
            <p:nvPr/>
          </p:nvGrpSpPr>
          <p:grpSpPr>
            <a:xfrm>
              <a:off x="2286000" y="4951440"/>
              <a:ext cx="3428640" cy="76320"/>
              <a:chOff x="2286000" y="4951440"/>
              <a:chExt cx="3428640" cy="76320"/>
            </a:xfrm>
          </p:grpSpPr>
          <p:sp>
            <p:nvSpPr>
              <p:cNvPr id="6471" name=""/>
              <p:cNvSpPr/>
              <p:nvPr/>
            </p:nvSpPr>
            <p:spPr>
              <a:xfrm>
                <a:off x="2286000" y="5027760"/>
                <a:ext cx="922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2286000" y="4951440"/>
                <a:ext cx="34286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4791240" y="5027760"/>
                <a:ext cx="9230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3538800" y="5027760"/>
                <a:ext cx="922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75" name=""/>
          <p:cNvGrpSpPr/>
          <p:nvPr/>
        </p:nvGrpSpPr>
        <p:grpSpPr>
          <a:xfrm>
            <a:off x="1371600" y="2817720"/>
            <a:ext cx="6629400" cy="928080"/>
            <a:chOff x="1371600" y="2817720"/>
            <a:chExt cx="6629400" cy="928080"/>
          </a:xfrm>
        </p:grpSpPr>
        <p:grpSp>
          <p:nvGrpSpPr>
            <p:cNvPr id="6476" name=""/>
            <p:cNvGrpSpPr/>
            <p:nvPr/>
          </p:nvGrpSpPr>
          <p:grpSpPr>
            <a:xfrm>
              <a:off x="4267080" y="2817720"/>
              <a:ext cx="3733920" cy="928080"/>
              <a:chOff x="4267080" y="2817720"/>
              <a:chExt cx="3733920" cy="928080"/>
            </a:xfrm>
          </p:grpSpPr>
          <p:sp>
            <p:nvSpPr>
              <p:cNvPr id="6477" name=""/>
              <p:cNvSpPr/>
              <p:nvPr/>
            </p:nvSpPr>
            <p:spPr>
              <a:xfrm>
                <a:off x="5934600" y="2817720"/>
                <a:ext cx="354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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4267080" y="3046320"/>
                <a:ext cx="37339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2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6      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3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+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9" name=""/>
              <p:cNvGrpSpPr/>
              <p:nvPr/>
            </p:nvGrpSpPr>
            <p:grpSpPr>
              <a:xfrm>
                <a:off x="4800600" y="3122640"/>
                <a:ext cx="2438280" cy="75960"/>
                <a:chOff x="4800600" y="3122640"/>
                <a:chExt cx="2438280" cy="75960"/>
              </a:xfrm>
            </p:grpSpPr>
            <p:sp>
              <p:nvSpPr>
                <p:cNvPr id="6480" name=""/>
                <p:cNvSpPr/>
                <p:nvPr/>
              </p:nvSpPr>
              <p:spPr>
                <a:xfrm>
                  <a:off x="4800600" y="3198600"/>
                  <a:ext cx="1083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6290640" y="3198600"/>
                  <a:ext cx="9478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800600" y="312264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3" name=""/>
            <p:cNvSpPr/>
            <p:nvPr/>
          </p:nvSpPr>
          <p:spPr>
            <a:xfrm>
              <a:off x="1371600" y="3090960"/>
              <a:ext cx="312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3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6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+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4" name=""/>
            <p:cNvGrpSpPr/>
            <p:nvPr/>
          </p:nvGrpSpPr>
          <p:grpSpPr>
            <a:xfrm>
              <a:off x="2286000" y="3122280"/>
              <a:ext cx="2057400" cy="74520"/>
              <a:chOff x="2286000" y="3122280"/>
              <a:chExt cx="2057400" cy="74520"/>
            </a:xfrm>
          </p:grpSpPr>
          <p:sp>
            <p:nvSpPr>
              <p:cNvPr id="6485" name=""/>
              <p:cNvSpPr/>
              <p:nvPr/>
            </p:nvSpPr>
            <p:spPr>
              <a:xfrm>
                <a:off x="2286000" y="312228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286000" y="3196800"/>
                <a:ext cx="20574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88" dur="500"/>
                                        <p:tgtEl>
                                          <p:spTgt spid="6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93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898" dur="500"/>
                                        <p:tgtEl>
                                          <p:spTgt spid="6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03" dur="500"/>
                                        <p:tgtEl>
                                          <p:spTgt spid="6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08" dur="500"/>
                                        <p:tgtEl>
                                          <p:spTgt spid="6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7" name=""/>
          <p:cNvSpPr/>
          <p:nvPr/>
        </p:nvSpPr>
        <p:spPr>
          <a:xfrm>
            <a:off x="91440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画出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8" name=""/>
          <p:cNvGrpSpPr/>
          <p:nvPr/>
        </p:nvGrpSpPr>
        <p:grpSpPr>
          <a:xfrm>
            <a:off x="1210320" y="5867280"/>
            <a:ext cx="6808680" cy="459720"/>
            <a:chOff x="1210320" y="5867280"/>
            <a:chExt cx="6808680" cy="459720"/>
          </a:xfrm>
        </p:grpSpPr>
        <p:sp>
          <p:nvSpPr>
            <p:cNvPr id="6489" name=""/>
            <p:cNvSpPr/>
            <p:nvPr/>
          </p:nvSpPr>
          <p:spPr>
            <a:xfrm>
              <a:off x="4038120" y="5867280"/>
              <a:ext cx="2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6634440" y="5867280"/>
              <a:ext cx="3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66440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528948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84220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47032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10024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165456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121032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8" name=""/>
          <p:cNvGrpSpPr/>
          <p:nvPr/>
        </p:nvGrpSpPr>
        <p:grpSpPr>
          <a:xfrm>
            <a:off x="1667520" y="2971800"/>
            <a:ext cx="6333480" cy="459720"/>
            <a:chOff x="1667520" y="2971800"/>
            <a:chExt cx="6333480" cy="459720"/>
          </a:xfrm>
        </p:grpSpPr>
        <p:sp>
          <p:nvSpPr>
            <p:cNvPr id="6499" name=""/>
            <p:cNvSpPr/>
            <p:nvPr/>
          </p:nvSpPr>
          <p:spPr>
            <a:xfrm>
              <a:off x="7696080" y="2971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654408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532512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410580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88648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166752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5" name=""/>
          <p:cNvGrpSpPr/>
          <p:nvPr/>
        </p:nvGrpSpPr>
        <p:grpSpPr>
          <a:xfrm>
            <a:off x="1819800" y="1219320"/>
            <a:ext cx="6069600" cy="535680"/>
            <a:chOff x="1819800" y="1219320"/>
            <a:chExt cx="6069600" cy="535680"/>
          </a:xfrm>
        </p:grpSpPr>
        <p:sp>
          <p:nvSpPr>
            <p:cNvPr id="6506" name=""/>
            <p:cNvSpPr/>
            <p:nvPr/>
          </p:nvSpPr>
          <p:spPr>
            <a:xfrm>
              <a:off x="1819800" y="1295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191400" y="1295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5553720" y="121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7534800" y="121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0" name=""/>
          <p:cNvGrpSpPr/>
          <p:nvPr/>
        </p:nvGrpSpPr>
        <p:grpSpPr>
          <a:xfrm>
            <a:off x="1221840" y="762120"/>
            <a:ext cx="6931440" cy="5303880"/>
            <a:chOff x="1221840" y="762120"/>
            <a:chExt cx="6931440" cy="5303880"/>
          </a:xfrm>
        </p:grpSpPr>
        <p:sp>
          <p:nvSpPr>
            <p:cNvPr id="6511" name=""/>
            <p:cNvSpPr/>
            <p:nvPr/>
          </p:nvSpPr>
          <p:spPr>
            <a:xfrm>
              <a:off x="1292400" y="1928880"/>
              <a:ext cx="876240" cy="7318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1511280" y="1928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1657440" y="178272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 flipV="1">
              <a:off x="1730520" y="141768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2606760" y="1928880"/>
              <a:ext cx="874800" cy="7318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2752560" y="192888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970360" y="178272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 flipV="1">
              <a:off x="3043080" y="141768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5014800" y="1855800"/>
              <a:ext cx="876240" cy="730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5160960" y="185580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5380200" y="170964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 flipV="1">
              <a:off x="5452920" y="134460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7058160" y="1855800"/>
              <a:ext cx="876240" cy="730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7203960" y="185580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7423200" y="170964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 flipV="1">
              <a:off x="7496280" y="134460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700440" y="3610080"/>
              <a:ext cx="7304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99240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773520" y="3610080"/>
              <a:ext cx="7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3919320" y="3902040"/>
              <a:ext cx="14580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1365120" y="3610080"/>
              <a:ext cx="7304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1657440" y="3463920"/>
              <a:ext cx="14580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1438200" y="3610080"/>
              <a:ext cx="7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 flipH="1">
              <a:off x="1584360" y="3902040"/>
              <a:ext cx="14616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4941720" y="3610080"/>
              <a:ext cx="7304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523404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5014800" y="3610080"/>
              <a:ext cx="7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 flipH="1">
              <a:off x="5160960" y="3902040"/>
              <a:ext cx="14616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6183360" y="3610080"/>
              <a:ext cx="7286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647388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6256440" y="3610080"/>
              <a:ext cx="7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 flipH="1">
              <a:off x="6402240" y="3902040"/>
              <a:ext cx="14472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7350120" y="3610080"/>
              <a:ext cx="73008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642080" y="3463920"/>
              <a:ext cx="14616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423200" y="3610080"/>
              <a:ext cx="7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 flipH="1">
              <a:off x="7569000" y="3902040"/>
              <a:ext cx="14580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533680" y="3610080"/>
              <a:ext cx="728640" cy="51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825640" y="3463920"/>
              <a:ext cx="144720" cy="1461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606760" y="3610080"/>
              <a:ext cx="7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</a:rPr>
                <a:t>&gt;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 flipH="1">
              <a:off x="2752560" y="3902040"/>
              <a:ext cx="146160" cy="745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 flipV="1">
              <a:off x="1730520" y="2658960"/>
              <a:ext cx="0" cy="804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V="1">
              <a:off x="4065480" y="3024000"/>
              <a:ext cx="0" cy="4395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5672160" y="2585880"/>
              <a:ext cx="0" cy="6588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5672160" y="3244680"/>
              <a:ext cx="874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5307120" y="2585880"/>
              <a:ext cx="0" cy="878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 flipV="1">
              <a:off x="2898720" y="2658960"/>
              <a:ext cx="0" cy="804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189240" y="2658960"/>
              <a:ext cx="0" cy="3654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189240" y="3024360"/>
              <a:ext cx="8762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 flipV="1">
              <a:off x="6546960" y="3244320"/>
              <a:ext cx="0" cy="2192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 flipV="1">
              <a:off x="7715160" y="2585520"/>
              <a:ext cx="0" cy="878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5307120" y="3024360"/>
              <a:ext cx="2189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 flipV="1">
              <a:off x="7496280" y="2585880"/>
              <a:ext cx="0" cy="4384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898720" y="2805120"/>
              <a:ext cx="43783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 flipV="1">
              <a:off x="7277040" y="2585520"/>
              <a:ext cx="0" cy="2192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786132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51128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87632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679840" y="412272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04488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7496280" y="4122720"/>
              <a:ext cx="0" cy="8762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676584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545292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4211640" y="4122720"/>
              <a:ext cx="0" cy="131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5087880" y="4122720"/>
              <a:ext cx="0" cy="365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314440" y="4487760"/>
              <a:ext cx="2773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3846600" y="4122720"/>
              <a:ext cx="0" cy="584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1511280" y="4998960"/>
              <a:ext cx="59850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6400800" y="4122720"/>
              <a:ext cx="0" cy="584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679840" y="4707000"/>
              <a:ext cx="3720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314440" y="4487760"/>
              <a:ext cx="0" cy="9511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679840" y="4707000"/>
              <a:ext cx="0" cy="731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1460520" y="543888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3" name=""/>
            <p:cNvGrpSpPr/>
            <p:nvPr/>
          </p:nvGrpSpPr>
          <p:grpSpPr>
            <a:xfrm>
              <a:off x="1221840" y="5486400"/>
              <a:ext cx="6931080" cy="579600"/>
              <a:chOff x="1221840" y="5486400"/>
              <a:chExt cx="6931080" cy="579600"/>
            </a:xfrm>
          </p:grpSpPr>
          <p:sp>
            <p:nvSpPr>
              <p:cNvPr id="6584" name=""/>
              <p:cNvSpPr/>
              <p:nvPr/>
            </p:nvSpPr>
            <p:spPr>
              <a:xfrm>
                <a:off x="7569360" y="5486400"/>
                <a:ext cx="583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54948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23620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399528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282744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246240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209772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1657080" y="5486400"/>
                <a:ext cx="583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1221840" y="548640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3" name=""/>
            <p:cNvSpPr/>
            <p:nvPr/>
          </p:nvSpPr>
          <p:spPr>
            <a:xfrm>
              <a:off x="1536120" y="8380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2831400" y="8380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5270040" y="7621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7251120" y="76212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182880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26692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62584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008160" y="54482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414828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5410080" y="544356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6721560" y="544356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7808760" y="54482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1676520" y="133524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3008160" y="13352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5410080" y="125892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7442280" y="125892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9" dur="indefinite" restart="never" nodeType="tmRoot">
          <p:childTnLst>
            <p:seq>
              <p:cTn id="3910" dur="indefinite" nodeType="mainSeq">
                <p:childTnLst>
                  <p:par>
                    <p:cTn id="3911" nodeType="clickEffect" fill="hold">
                      <p:stCondLst>
                        <p:cond delay="indefinite"/>
                      </p:stCondLst>
                      <p:childTnLst>
                        <p:par>
                          <p:cTn id="39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15" dur="500"/>
                                        <p:tgtEl>
                                          <p:spTgt spid="6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nodeType="clickEffect" fill="hold">
                      <p:stCondLst>
                        <p:cond delay="indefinite"/>
                      </p:stCondLst>
                      <p:childTnLst>
                        <p:par>
                          <p:cTn id="39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20" dur="500"/>
                                        <p:tgtEl>
                                          <p:spTgt spid="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nodeType="clickEffect" fill="hold">
                      <p:stCondLst>
                        <p:cond delay="indefinite"/>
                      </p:stCondLst>
                      <p:childTnLst>
                        <p:par>
                          <p:cTn id="39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25" dur="500"/>
                                        <p:tgtEl>
                                          <p:spTgt spid="6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00040" y="4476240"/>
            <a:ext cx="807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由电子电路实现逻辑运算时，它的输入和输出信号都是用电位（或称电平）的高低表示的。高电平和低电平都不是一个固定的数值，而是有一定的变化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1809720"/>
            <a:ext cx="7772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门电路是用以实现逻辑关系的电子电路，与前面所讲过的基本逻辑关系相对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278136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门电路主要有：与门、或门、非门、与非门、或非门、异或门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314360"/>
            <a:ext cx="6553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2.2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分立元件基本逻辑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 rot="16200000">
            <a:off x="182844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2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基本门电路及其组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"/>
          <p:cNvSpPr/>
          <p:nvPr/>
        </p:nvSpPr>
        <p:spPr>
          <a:xfrm>
            <a:off x="762120" y="7761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法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0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611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3544920" cy="817560"/>
          </a:xfrm>
          <a:prstGeom prst="rect">
            <a:avLst/>
          </a:prstGeom>
          <a:ln w="0">
            <a:noFill/>
          </a:ln>
        </p:spPr>
      </p:pic>
      <p:pic>
        <p:nvPicPr>
          <p:cNvPr id="6612" name="" descr=""/>
          <p:cNvPicPr/>
          <p:nvPr/>
        </p:nvPicPr>
        <p:blipFill>
          <a:blip r:embed="rId3"/>
          <a:stretch/>
        </p:blipFill>
        <p:spPr>
          <a:xfrm>
            <a:off x="1447920" y="2279520"/>
            <a:ext cx="6325920" cy="768600"/>
          </a:xfrm>
          <a:prstGeom prst="rect">
            <a:avLst/>
          </a:prstGeom>
          <a:ln w="0">
            <a:noFill/>
          </a:ln>
        </p:spPr>
      </p:pic>
      <p:pic>
        <p:nvPicPr>
          <p:cNvPr id="6613" name="" descr=""/>
          <p:cNvPicPr/>
          <p:nvPr/>
        </p:nvPicPr>
        <p:blipFill>
          <a:blip r:embed="rId4"/>
          <a:stretch/>
        </p:blipFill>
        <p:spPr>
          <a:xfrm>
            <a:off x="1447920" y="3117960"/>
            <a:ext cx="6325920" cy="768240"/>
          </a:xfrm>
          <a:prstGeom prst="rect">
            <a:avLst/>
          </a:prstGeom>
          <a:ln w="0">
            <a:noFill/>
          </a:ln>
        </p:spPr>
      </p:pic>
      <p:pic>
        <p:nvPicPr>
          <p:cNvPr id="6614" name="" descr=""/>
          <p:cNvPicPr/>
          <p:nvPr/>
        </p:nvPicPr>
        <p:blipFill>
          <a:blip r:embed="rId5"/>
          <a:stretch/>
        </p:blipFill>
        <p:spPr>
          <a:xfrm>
            <a:off x="1447920" y="4049640"/>
            <a:ext cx="43434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5" name=""/>
          <p:cNvSpPr/>
          <p:nvPr/>
        </p:nvSpPr>
        <p:spPr>
          <a:xfrm>
            <a:off x="2689920" y="5821200"/>
            <a:ext cx="3017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4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码编码器的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6" name=""/>
          <p:cNvGrpSpPr/>
          <p:nvPr/>
        </p:nvGrpSpPr>
        <p:grpSpPr>
          <a:xfrm>
            <a:off x="1158840" y="457200"/>
            <a:ext cx="6627600" cy="5446080"/>
            <a:chOff x="1158840" y="457200"/>
            <a:chExt cx="6627600" cy="5446080"/>
          </a:xfrm>
        </p:grpSpPr>
        <p:grpSp>
          <p:nvGrpSpPr>
            <p:cNvPr id="6617" name=""/>
            <p:cNvGrpSpPr/>
            <p:nvPr/>
          </p:nvGrpSpPr>
          <p:grpSpPr>
            <a:xfrm>
              <a:off x="1158840" y="457200"/>
              <a:ext cx="6627600" cy="5446080"/>
              <a:chOff x="1158840" y="457200"/>
              <a:chExt cx="6627600" cy="5446080"/>
            </a:xfrm>
          </p:grpSpPr>
          <p:sp>
            <p:nvSpPr>
              <p:cNvPr id="6618" name=""/>
              <p:cNvSpPr/>
              <p:nvPr/>
            </p:nvSpPr>
            <p:spPr>
              <a:xfrm>
                <a:off x="7148520" y="457200"/>
                <a:ext cx="637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+5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6274800" y="123516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7193520" y="1378080"/>
                <a:ext cx="3207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274800" y="216360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7208640" y="2324160"/>
                <a:ext cx="3207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274800" y="310680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7180920" y="3244680"/>
                <a:ext cx="3207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6274800" y="405288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7180920" y="4179960"/>
                <a:ext cx="3207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151416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198432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45232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291996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338580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85272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430344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478908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524340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703480" y="4692600"/>
                <a:ext cx="20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798880" y="811080"/>
                <a:ext cx="1104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1K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</a:t>
                </a: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×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1440000" y="668160"/>
                <a:ext cx="5581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144000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1440000" y="1209600"/>
                <a:ext cx="144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1909800" y="1209600"/>
                <a:ext cx="144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190980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2378160" y="1209600"/>
                <a:ext cx="144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237816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2846520" y="1209600"/>
                <a:ext cx="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2846520" y="669960"/>
                <a:ext cx="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3309840" y="1209600"/>
                <a:ext cx="180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3309840" y="669960"/>
                <a:ext cx="180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3776760" y="1209600"/>
                <a:ext cx="144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377676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4229280" y="1209600"/>
                <a:ext cx="144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422928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4711680" y="1209600"/>
                <a:ext cx="1440" cy="53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471168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5168880" y="1209600"/>
                <a:ext cx="1440" cy="59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5168880" y="669960"/>
                <a:ext cx="144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7" name=""/>
              <p:cNvGrpSpPr/>
              <p:nvPr/>
            </p:nvGrpSpPr>
            <p:grpSpPr>
              <a:xfrm>
                <a:off x="1382760" y="846000"/>
                <a:ext cx="4306320" cy="340920"/>
                <a:chOff x="1382760" y="846000"/>
                <a:chExt cx="4306320" cy="340920"/>
              </a:xfrm>
            </p:grpSpPr>
            <p:sp>
              <p:nvSpPr>
                <p:cNvPr id="6658" name=""/>
                <p:cNvSpPr/>
                <p:nvPr/>
              </p:nvSpPr>
              <p:spPr>
                <a:xfrm>
                  <a:off x="1382760" y="846000"/>
                  <a:ext cx="11916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1850400" y="846000"/>
                  <a:ext cx="11916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2316240" y="846000"/>
                  <a:ext cx="12276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2785680" y="846000"/>
                  <a:ext cx="12240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3247560" y="846000"/>
                  <a:ext cx="11916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3716640" y="846000"/>
                  <a:ext cx="11952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4169520" y="846000"/>
                  <a:ext cx="12240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4653360" y="846000"/>
                  <a:ext cx="11952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106600" y="846000"/>
                  <a:ext cx="11916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569920" y="846000"/>
                  <a:ext cx="119160" cy="3409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8" name=""/>
              <p:cNvSpPr/>
              <p:nvPr/>
            </p:nvSpPr>
            <p:spPr>
              <a:xfrm>
                <a:off x="5630760" y="1209600"/>
                <a:ext cx="0" cy="59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630760" y="669960"/>
                <a:ext cx="0" cy="18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021440" y="6318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26"/>
                    </a:moveTo>
                    <a:lnTo>
                      <a:pt x="43" y="6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26"/>
                    </a:lnTo>
                    <a:lnTo>
                      <a:pt x="6" y="43"/>
                    </a:lnTo>
                    <a:lnTo>
                      <a:pt x="26" y="52"/>
                    </a:lnTo>
                    <a:lnTo>
                      <a:pt x="43" y="43"/>
                    </a:lnTo>
                    <a:lnTo>
                      <a:pt x="52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6105600" y="1266840"/>
                <a:ext cx="487440" cy="685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6593040" y="157176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27"/>
                    </a:moveTo>
                    <a:lnTo>
                      <a:pt x="46" y="7"/>
                    </a:lnTo>
                    <a:lnTo>
                      <a:pt x="27" y="0"/>
                    </a:lnTo>
                    <a:lnTo>
                      <a:pt x="9" y="7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27" y="53"/>
                    </a:lnTo>
                    <a:lnTo>
                      <a:pt x="46" y="44"/>
                    </a:lnTo>
                    <a:lnTo>
                      <a:pt x="53" y="2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672240" y="1611360"/>
                <a:ext cx="352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7024680" y="157176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52" y="27"/>
                    </a:moveTo>
                    <a:lnTo>
                      <a:pt x="44" y="7"/>
                    </a:lnTo>
                    <a:lnTo>
                      <a:pt x="26" y="0"/>
                    </a:lnTo>
                    <a:lnTo>
                      <a:pt x="9" y="7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26" y="53"/>
                    </a:lnTo>
                    <a:lnTo>
                      <a:pt x="44" y="44"/>
                    </a:lnTo>
                    <a:lnTo>
                      <a:pt x="52" y="2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672240" y="2535120"/>
                <a:ext cx="352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105600" y="2192400"/>
                <a:ext cx="487440" cy="685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593040" y="249552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26"/>
                    </a:moveTo>
                    <a:lnTo>
                      <a:pt x="46" y="9"/>
                    </a:lnTo>
                    <a:lnTo>
                      <a:pt x="27" y="0"/>
                    </a:lnTo>
                    <a:lnTo>
                      <a:pt x="9" y="9"/>
                    </a:lnTo>
                    <a:lnTo>
                      <a:pt x="0" y="26"/>
                    </a:lnTo>
                    <a:lnTo>
                      <a:pt x="9" y="46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53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7024680" y="24955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52" y="26"/>
                    </a:moveTo>
                    <a:lnTo>
                      <a:pt x="44" y="9"/>
                    </a:lnTo>
                    <a:lnTo>
                      <a:pt x="26" y="0"/>
                    </a:lnTo>
                    <a:lnTo>
                      <a:pt x="9" y="9"/>
                    </a:lnTo>
                    <a:lnTo>
                      <a:pt x="0" y="26"/>
                    </a:lnTo>
                    <a:lnTo>
                      <a:pt x="9" y="46"/>
                    </a:lnTo>
                    <a:lnTo>
                      <a:pt x="26" y="53"/>
                    </a:lnTo>
                    <a:lnTo>
                      <a:pt x="44" y="46"/>
                    </a:lnTo>
                    <a:lnTo>
                      <a:pt x="52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672240" y="3475080"/>
                <a:ext cx="352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105600" y="3133800"/>
                <a:ext cx="487440" cy="684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593040" y="343836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26"/>
                    </a:moveTo>
                    <a:lnTo>
                      <a:pt x="46" y="8"/>
                    </a:lnTo>
                    <a:lnTo>
                      <a:pt x="27" y="0"/>
                    </a:lnTo>
                    <a:lnTo>
                      <a:pt x="9" y="8"/>
                    </a:lnTo>
                    <a:lnTo>
                      <a:pt x="0" y="26"/>
                    </a:lnTo>
                    <a:lnTo>
                      <a:pt x="9" y="46"/>
                    </a:lnTo>
                    <a:lnTo>
                      <a:pt x="27" y="52"/>
                    </a:lnTo>
                    <a:lnTo>
                      <a:pt x="46" y="46"/>
                    </a:lnTo>
                    <a:lnTo>
                      <a:pt x="53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7024680" y="34383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26"/>
                    </a:moveTo>
                    <a:lnTo>
                      <a:pt x="44" y="8"/>
                    </a:lnTo>
                    <a:lnTo>
                      <a:pt x="26" y="0"/>
                    </a:lnTo>
                    <a:lnTo>
                      <a:pt x="9" y="8"/>
                    </a:lnTo>
                    <a:lnTo>
                      <a:pt x="0" y="26"/>
                    </a:lnTo>
                    <a:lnTo>
                      <a:pt x="9" y="46"/>
                    </a:lnTo>
                    <a:lnTo>
                      <a:pt x="26" y="52"/>
                    </a:lnTo>
                    <a:lnTo>
                      <a:pt x="44" y="46"/>
                    </a:lnTo>
                    <a:lnTo>
                      <a:pt x="52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672240" y="4425840"/>
                <a:ext cx="352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105600" y="4083120"/>
                <a:ext cx="487440" cy="684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593040" y="4387680"/>
                <a:ext cx="79200" cy="7812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26"/>
                    </a:moveTo>
                    <a:lnTo>
                      <a:pt x="46" y="6"/>
                    </a:lnTo>
                    <a:lnTo>
                      <a:pt x="27" y="0"/>
                    </a:lnTo>
                    <a:lnTo>
                      <a:pt x="9" y="6"/>
                    </a:lnTo>
                    <a:lnTo>
                      <a:pt x="0" y="26"/>
                    </a:lnTo>
                    <a:lnTo>
                      <a:pt x="9" y="44"/>
                    </a:lnTo>
                    <a:lnTo>
                      <a:pt x="27" y="52"/>
                    </a:lnTo>
                    <a:lnTo>
                      <a:pt x="46" y="44"/>
                    </a:lnTo>
                    <a:lnTo>
                      <a:pt x="53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7024680" y="4387680"/>
                <a:ext cx="76320" cy="78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26"/>
                    </a:moveTo>
                    <a:lnTo>
                      <a:pt x="44" y="6"/>
                    </a:lnTo>
                    <a:lnTo>
                      <a:pt x="26" y="0"/>
                    </a:lnTo>
                    <a:lnTo>
                      <a:pt x="9" y="6"/>
                    </a:lnTo>
                    <a:lnTo>
                      <a:pt x="0" y="26"/>
                    </a:lnTo>
                    <a:lnTo>
                      <a:pt x="9" y="44"/>
                    </a:lnTo>
                    <a:lnTo>
                      <a:pt x="26" y="52"/>
                    </a:lnTo>
                    <a:lnTo>
                      <a:pt x="44" y="44"/>
                    </a:lnTo>
                    <a:lnTo>
                      <a:pt x="52" y="2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144000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190980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237816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2846520" y="1741320"/>
                <a:ext cx="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3309840" y="1741320"/>
                <a:ext cx="180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377676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22928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71168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168880" y="1741320"/>
                <a:ext cx="144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630760" y="1741320"/>
                <a:ext cx="0" cy="323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1909440" y="4629240"/>
                <a:ext cx="4195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2846160" y="4513320"/>
                <a:ext cx="3259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3776400" y="4397400"/>
                <a:ext cx="2328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4711680" y="4281480"/>
                <a:ext cx="1393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5630400" y="4141800"/>
                <a:ext cx="474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2378160" y="3701880"/>
                <a:ext cx="3727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2846160" y="3540240"/>
                <a:ext cx="3259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4229280" y="3379680"/>
                <a:ext cx="18763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4711680" y="3240000"/>
                <a:ext cx="1393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3309840" y="2778120"/>
                <a:ext cx="27957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3776400" y="2579760"/>
                <a:ext cx="2328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4229280" y="2419200"/>
                <a:ext cx="18763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4711680" y="2266920"/>
                <a:ext cx="1393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5168880" y="1782720"/>
                <a:ext cx="9367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5630400" y="1387440"/>
                <a:ext cx="47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115884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141264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186840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162720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235080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209556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281592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256536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28428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02904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374616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49596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20264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394668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68360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443232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514008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488628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5601960" y="553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5349960" y="5165640"/>
                <a:ext cx="258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1409760" y="519912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40" y="19"/>
                    </a:moveTo>
                    <a:lnTo>
                      <a:pt x="35" y="6"/>
                    </a:lnTo>
                    <a:lnTo>
                      <a:pt x="20" y="0"/>
                    </a:lnTo>
                    <a:lnTo>
                      <a:pt x="7" y="6"/>
                    </a:lnTo>
                    <a:lnTo>
                      <a:pt x="0" y="19"/>
                    </a:lnTo>
                    <a:lnTo>
                      <a:pt x="7" y="35"/>
                    </a:lnTo>
                    <a:lnTo>
                      <a:pt x="20" y="39"/>
                    </a:lnTo>
                    <a:lnTo>
                      <a:pt x="35" y="35"/>
                    </a:lnTo>
                    <a:lnTo>
                      <a:pt x="40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 flipV="1">
                <a:off x="1352520" y="4960800"/>
                <a:ext cx="1094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1440000" y="5564160"/>
                <a:ext cx="4655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 flipV="1">
                <a:off x="1821960" y="4960800"/>
                <a:ext cx="1098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1879560" y="51991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5" y="6"/>
                    </a:lnTo>
                    <a:lnTo>
                      <a:pt x="20" y="0"/>
                    </a:lnTo>
                    <a:lnTo>
                      <a:pt x="7" y="6"/>
                    </a:lnTo>
                    <a:lnTo>
                      <a:pt x="0" y="19"/>
                    </a:lnTo>
                    <a:lnTo>
                      <a:pt x="7" y="35"/>
                    </a:lnTo>
                    <a:lnTo>
                      <a:pt x="20" y="39"/>
                    </a:lnTo>
                    <a:lnTo>
                      <a:pt x="35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 flipV="1">
                <a:off x="3222360" y="4960800"/>
                <a:ext cx="10476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279600" y="51991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3" y="6"/>
                    </a:lnTo>
                    <a:lnTo>
                      <a:pt x="20" y="0"/>
                    </a:lnTo>
                    <a:lnTo>
                      <a:pt x="4" y="6"/>
                    </a:lnTo>
                    <a:lnTo>
                      <a:pt x="0" y="19"/>
                    </a:lnTo>
                    <a:lnTo>
                      <a:pt x="4" y="35"/>
                    </a:lnTo>
                    <a:lnTo>
                      <a:pt x="20" y="39"/>
                    </a:lnTo>
                    <a:lnTo>
                      <a:pt x="33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 flipV="1">
                <a:off x="3689280" y="4960800"/>
                <a:ext cx="1080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745080" y="519912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41" y="19"/>
                    </a:moveTo>
                    <a:lnTo>
                      <a:pt x="35" y="6"/>
                    </a:lnTo>
                    <a:lnTo>
                      <a:pt x="21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21" y="39"/>
                    </a:lnTo>
                    <a:lnTo>
                      <a:pt x="35" y="35"/>
                    </a:lnTo>
                    <a:lnTo>
                      <a:pt x="41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 flipV="1">
                <a:off x="4141440" y="4960800"/>
                <a:ext cx="111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4202280" y="519912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5" y="6"/>
                    </a:lnTo>
                    <a:lnTo>
                      <a:pt x="19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19" y="39"/>
                    </a:lnTo>
                    <a:lnTo>
                      <a:pt x="35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3" name=""/>
              <p:cNvGrpSpPr/>
              <p:nvPr/>
            </p:nvGrpSpPr>
            <p:grpSpPr>
              <a:xfrm>
                <a:off x="4624560" y="4960800"/>
                <a:ext cx="124920" cy="301320"/>
                <a:chOff x="4624560" y="4960800"/>
                <a:chExt cx="124920" cy="301320"/>
              </a:xfrm>
            </p:grpSpPr>
            <p:sp>
              <p:nvSpPr>
                <p:cNvPr id="6744" name=""/>
                <p:cNvSpPr/>
                <p:nvPr/>
              </p:nvSpPr>
              <p:spPr>
                <a:xfrm flipH="1" flipV="1">
                  <a:off x="4624560" y="4960800"/>
                  <a:ext cx="110160" cy="24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4682520" y="5199120"/>
                  <a:ext cx="66960" cy="63000"/>
                </a:xfrm>
                <a:custGeom>
                  <a:avLst/>
                  <a:gdLst/>
                  <a:ahLst/>
                  <a:rect l="l" t="t" r="r" b="b"/>
                  <a:pathLst>
                    <a:path w="40" h="39">
                      <a:moveTo>
                        <a:pt x="40" y="19"/>
                      </a:moveTo>
                      <a:lnTo>
                        <a:pt x="35" y="6"/>
                      </a:lnTo>
                      <a:lnTo>
                        <a:pt x="20" y="0"/>
                      </a:lnTo>
                      <a:lnTo>
                        <a:pt x="7" y="6"/>
                      </a:lnTo>
                      <a:lnTo>
                        <a:pt x="0" y="19"/>
                      </a:lnTo>
                      <a:lnTo>
                        <a:pt x="7" y="35"/>
                      </a:lnTo>
                      <a:lnTo>
                        <a:pt x="20" y="39"/>
                      </a:lnTo>
                      <a:lnTo>
                        <a:pt x="35" y="35"/>
                      </a:lnTo>
                      <a:lnTo>
                        <a:pt x="40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6" name=""/>
              <p:cNvGrpSpPr/>
              <p:nvPr/>
            </p:nvGrpSpPr>
            <p:grpSpPr>
              <a:xfrm>
                <a:off x="5081760" y="4960800"/>
                <a:ext cx="123480" cy="301320"/>
                <a:chOff x="5081760" y="4960800"/>
                <a:chExt cx="123480" cy="301320"/>
              </a:xfrm>
            </p:grpSpPr>
            <p:sp>
              <p:nvSpPr>
                <p:cNvPr id="6747" name=""/>
                <p:cNvSpPr/>
                <p:nvPr/>
              </p:nvSpPr>
              <p:spPr>
                <a:xfrm flipH="1" flipV="1">
                  <a:off x="5081760" y="4960800"/>
                  <a:ext cx="105840" cy="24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5139000" y="5199120"/>
                  <a:ext cx="66240" cy="63000"/>
                </a:xfrm>
                <a:custGeom>
                  <a:avLst/>
                  <a:gdLst/>
                  <a:ahLst/>
                  <a:rect l="l" t="t" r="r" b="b"/>
                  <a:pathLst>
                    <a:path w="40" h="39">
                      <a:moveTo>
                        <a:pt x="40" y="19"/>
                      </a:moveTo>
                      <a:lnTo>
                        <a:pt x="33" y="6"/>
                      </a:lnTo>
                      <a:lnTo>
                        <a:pt x="20" y="0"/>
                      </a:lnTo>
                      <a:lnTo>
                        <a:pt x="5" y="6"/>
                      </a:lnTo>
                      <a:lnTo>
                        <a:pt x="0" y="19"/>
                      </a:lnTo>
                      <a:lnTo>
                        <a:pt x="5" y="35"/>
                      </a:lnTo>
                      <a:lnTo>
                        <a:pt x="20" y="39"/>
                      </a:lnTo>
                      <a:lnTo>
                        <a:pt x="33" y="35"/>
                      </a:lnTo>
                      <a:lnTo>
                        <a:pt x="40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9" name=""/>
              <p:cNvGrpSpPr/>
              <p:nvPr/>
            </p:nvGrpSpPr>
            <p:grpSpPr>
              <a:xfrm>
                <a:off x="5541480" y="4960800"/>
                <a:ext cx="130320" cy="309240"/>
                <a:chOff x="5541480" y="4960800"/>
                <a:chExt cx="130320" cy="309240"/>
              </a:xfrm>
            </p:grpSpPr>
            <p:sp>
              <p:nvSpPr>
                <p:cNvPr id="6750" name=""/>
                <p:cNvSpPr/>
                <p:nvPr/>
              </p:nvSpPr>
              <p:spPr>
                <a:xfrm flipH="1" flipV="1">
                  <a:off x="5541480" y="4960800"/>
                  <a:ext cx="10620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5600880" y="5199840"/>
                  <a:ext cx="70920" cy="702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2" y="6"/>
                      </a:lnTo>
                      <a:lnTo>
                        <a:pt x="19" y="0"/>
                      </a:lnTo>
                      <a:lnTo>
                        <a:pt x="4" y="6"/>
                      </a:lnTo>
                      <a:lnTo>
                        <a:pt x="0" y="19"/>
                      </a:lnTo>
                      <a:lnTo>
                        <a:pt x="4" y="35"/>
                      </a:lnTo>
                      <a:lnTo>
                        <a:pt x="19" y="39"/>
                      </a:lnTo>
                      <a:lnTo>
                        <a:pt x="32" y="35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2" name=""/>
              <p:cNvSpPr/>
              <p:nvPr/>
            </p:nvSpPr>
            <p:spPr>
              <a:xfrm>
                <a:off x="6084720" y="5430960"/>
                <a:ext cx="0" cy="28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 flipV="1">
                <a:off x="2288880" y="4960800"/>
                <a:ext cx="111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2349360" y="51991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3" y="6"/>
                    </a:lnTo>
                    <a:lnTo>
                      <a:pt x="20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20" y="39"/>
                    </a:lnTo>
                    <a:lnTo>
                      <a:pt x="33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 flipV="1">
                <a:off x="2757600" y="4951440"/>
                <a:ext cx="11088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2835360" y="520236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3" y="6"/>
                    </a:lnTo>
                    <a:lnTo>
                      <a:pt x="20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20" y="39"/>
                    </a:lnTo>
                    <a:lnTo>
                      <a:pt x="33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7" name=""/>
              <p:cNvGrpSpPr/>
              <p:nvPr/>
            </p:nvGrpSpPr>
            <p:grpSpPr>
              <a:xfrm>
                <a:off x="1440000" y="5257800"/>
                <a:ext cx="1445400" cy="323280"/>
                <a:chOff x="1440000" y="5257800"/>
                <a:chExt cx="1445400" cy="323280"/>
              </a:xfrm>
            </p:grpSpPr>
            <p:grpSp>
              <p:nvGrpSpPr>
                <p:cNvPr id="6758" name=""/>
                <p:cNvGrpSpPr/>
                <p:nvPr/>
              </p:nvGrpSpPr>
              <p:grpSpPr>
                <a:xfrm>
                  <a:off x="1440000" y="5257800"/>
                  <a:ext cx="482040" cy="320400"/>
                  <a:chOff x="1440000" y="5257800"/>
                  <a:chExt cx="482040" cy="320400"/>
                </a:xfrm>
              </p:grpSpPr>
              <p:sp>
                <p:nvSpPr>
                  <p:cNvPr id="6759" name=""/>
                  <p:cNvSpPr/>
                  <p:nvPr/>
                </p:nvSpPr>
                <p:spPr>
                  <a:xfrm>
                    <a:off x="1440000" y="5263560"/>
                    <a:ext cx="1440" cy="314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0" name=""/>
                  <p:cNvSpPr/>
                  <p:nvPr/>
                </p:nvSpPr>
                <p:spPr>
                  <a:xfrm>
                    <a:off x="1920600" y="5257800"/>
                    <a:ext cx="1440" cy="314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61" name=""/>
                <p:cNvGrpSpPr/>
                <p:nvPr/>
              </p:nvGrpSpPr>
              <p:grpSpPr>
                <a:xfrm>
                  <a:off x="2403720" y="5260680"/>
                  <a:ext cx="481680" cy="320400"/>
                  <a:chOff x="2403720" y="5260680"/>
                  <a:chExt cx="481680" cy="320400"/>
                </a:xfrm>
              </p:grpSpPr>
              <p:sp>
                <p:nvSpPr>
                  <p:cNvPr id="6762" name=""/>
                  <p:cNvSpPr/>
                  <p:nvPr/>
                </p:nvSpPr>
                <p:spPr>
                  <a:xfrm>
                    <a:off x="2403720" y="5266440"/>
                    <a:ext cx="1440" cy="314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3" name=""/>
                  <p:cNvSpPr/>
                  <p:nvPr/>
                </p:nvSpPr>
                <p:spPr>
                  <a:xfrm>
                    <a:off x="2883960" y="5260680"/>
                    <a:ext cx="1440" cy="314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764" name=""/>
              <p:cNvSpPr/>
              <p:nvPr/>
            </p:nvSpPr>
            <p:spPr>
              <a:xfrm>
                <a:off x="3303720" y="5232240"/>
                <a:ext cx="144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3786120" y="5289480"/>
                <a:ext cx="1800" cy="28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232160" y="5264280"/>
                <a:ext cx="1800" cy="30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713120" y="5264280"/>
                <a:ext cx="1800" cy="31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8" name=""/>
              <p:cNvGrpSpPr/>
              <p:nvPr/>
            </p:nvGrpSpPr>
            <p:grpSpPr>
              <a:xfrm>
                <a:off x="5165640" y="5257800"/>
                <a:ext cx="482400" cy="320400"/>
                <a:chOff x="5165640" y="5257800"/>
                <a:chExt cx="482400" cy="320400"/>
              </a:xfrm>
            </p:grpSpPr>
            <p:sp>
              <p:nvSpPr>
                <p:cNvPr id="6769" name=""/>
                <p:cNvSpPr/>
                <p:nvPr/>
              </p:nvSpPr>
              <p:spPr>
                <a:xfrm>
                  <a:off x="5165640" y="5263560"/>
                  <a:ext cx="1440" cy="314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5646600" y="5257800"/>
                  <a:ext cx="1440" cy="31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1" name=""/>
              <p:cNvSpPr/>
              <p:nvPr/>
            </p:nvSpPr>
            <p:spPr>
              <a:xfrm>
                <a:off x="4208400" y="52196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19"/>
                    </a:moveTo>
                    <a:lnTo>
                      <a:pt x="35" y="6"/>
                    </a:lnTo>
                    <a:lnTo>
                      <a:pt x="19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6" y="35"/>
                    </a:lnTo>
                    <a:lnTo>
                      <a:pt x="19" y="39"/>
                    </a:lnTo>
                    <a:lnTo>
                      <a:pt x="35" y="35"/>
                    </a:lnTo>
                    <a:lnTo>
                      <a:pt x="39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2" name=""/>
            <p:cNvGrpSpPr/>
            <p:nvPr/>
          </p:nvGrpSpPr>
          <p:grpSpPr>
            <a:xfrm>
              <a:off x="1523880" y="4724280"/>
              <a:ext cx="1543320" cy="0"/>
              <a:chOff x="1523880" y="4724280"/>
              <a:chExt cx="1543320" cy="0"/>
            </a:xfrm>
          </p:grpSpPr>
          <p:sp>
            <p:nvSpPr>
              <p:cNvPr id="6773" name=""/>
              <p:cNvSpPr/>
              <p:nvPr/>
            </p:nvSpPr>
            <p:spPr>
              <a:xfrm>
                <a:off x="1523880" y="4724280"/>
                <a:ext cx="1526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1981080" y="4724280"/>
                <a:ext cx="1526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914560" y="4724280"/>
                <a:ext cx="1526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467080" y="472428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7" name=""/>
            <p:cNvSpPr/>
            <p:nvPr/>
          </p:nvSpPr>
          <p:spPr>
            <a:xfrm>
              <a:off x="3867120" y="4724280"/>
              <a:ext cx="152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390840" y="4724280"/>
              <a:ext cx="152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9" name=""/>
            <p:cNvGrpSpPr/>
            <p:nvPr/>
          </p:nvGrpSpPr>
          <p:grpSpPr>
            <a:xfrm>
              <a:off x="4324320" y="4724280"/>
              <a:ext cx="1542600" cy="0"/>
              <a:chOff x="4324320" y="4724280"/>
              <a:chExt cx="1542600" cy="0"/>
            </a:xfrm>
          </p:grpSpPr>
          <p:sp>
            <p:nvSpPr>
              <p:cNvPr id="6780" name=""/>
              <p:cNvSpPr/>
              <p:nvPr/>
            </p:nvSpPr>
            <p:spPr>
              <a:xfrm>
                <a:off x="4324320" y="472428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781160" y="472428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5714640" y="472428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5267160" y="4724280"/>
                <a:ext cx="151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4" name=""/>
          <p:cNvGrpSpPr/>
          <p:nvPr/>
        </p:nvGrpSpPr>
        <p:grpSpPr>
          <a:xfrm>
            <a:off x="4148280" y="4905360"/>
            <a:ext cx="110880" cy="304920"/>
            <a:chOff x="4148280" y="4905360"/>
            <a:chExt cx="110880" cy="304920"/>
          </a:xfrm>
        </p:grpSpPr>
        <p:sp>
          <p:nvSpPr>
            <p:cNvPr id="6785" name=""/>
            <p:cNvSpPr/>
            <p:nvPr/>
          </p:nvSpPr>
          <p:spPr>
            <a:xfrm flipH="1" flipV="1">
              <a:off x="4148280" y="4952880"/>
              <a:ext cx="110880" cy="247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4219560" y="49053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7" name=""/>
          <p:cNvGrpSpPr/>
          <p:nvPr/>
        </p:nvGrpSpPr>
        <p:grpSpPr>
          <a:xfrm>
            <a:off x="3945240" y="2181240"/>
            <a:ext cx="337680" cy="1412280"/>
            <a:chOff x="3945240" y="2181240"/>
            <a:chExt cx="337680" cy="1412280"/>
          </a:xfrm>
        </p:grpSpPr>
        <p:sp>
          <p:nvSpPr>
            <p:cNvPr id="6788" name=""/>
            <p:cNvSpPr/>
            <p:nvPr/>
          </p:nvSpPr>
          <p:spPr>
            <a:xfrm>
              <a:off x="3945240" y="218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949920" y="313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0" name=""/>
          <p:cNvGrpSpPr/>
          <p:nvPr/>
        </p:nvGrpSpPr>
        <p:grpSpPr>
          <a:xfrm>
            <a:off x="6631200" y="1219320"/>
            <a:ext cx="333000" cy="3259800"/>
            <a:chOff x="6631200" y="1219320"/>
            <a:chExt cx="333000" cy="3259800"/>
          </a:xfrm>
        </p:grpSpPr>
        <p:sp>
          <p:nvSpPr>
            <p:cNvPr id="6791" name=""/>
            <p:cNvSpPr/>
            <p:nvPr/>
          </p:nvSpPr>
          <p:spPr>
            <a:xfrm>
              <a:off x="66312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6631200" y="21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663120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6631200" y="401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6" dur="indefinite" restart="never" nodeType="tmRoot">
          <p:childTnLst>
            <p:seq>
              <p:cTn id="3927" dur="indefinite" nodeType="mainSeq">
                <p:childTnLst>
                  <p:par>
                    <p:cTn id="3928" nodeType="clickEffect" fill="hold">
                      <p:stCondLst>
                        <p:cond delay="indefinite"/>
                      </p:stCondLst>
                      <p:childTnLst>
                        <p:par>
                          <p:cTn id="39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32" dur="500"/>
                                        <p:tgtEl>
                                          <p:spTgt spid="6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nodeType="clickEffect" fill="hold">
                      <p:stCondLst>
                        <p:cond delay="indefinite"/>
                      </p:stCondLst>
                      <p:childTnLst>
                        <p:par>
                          <p:cTn id="3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37" dur="500"/>
                                        <p:tgtEl>
                                          <p:spTgt spid="6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8" nodeType="clickEffect" fill="hold">
                      <p:stCondLst>
                        <p:cond delay="indefinite"/>
                      </p:stCondLst>
                      <p:childTnLst>
                        <p:par>
                          <p:cTn id="39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42" dur="500"/>
                                        <p:tgtEl>
                                          <p:spTgt spid="6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5" name=""/>
          <p:cNvSpPr/>
          <p:nvPr/>
        </p:nvSpPr>
        <p:spPr>
          <a:xfrm>
            <a:off x="609480" y="1473120"/>
            <a:ext cx="8153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当有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两个或两个以上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的信号同时输入编码电路，电路只能对其中一个优先级别高的信号进行编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685800" y="2514600"/>
            <a:ext cx="762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即允许几个信号同时有效，但电路只对其中优先级别高的信号进行编码，而对其它优先级别低的信号不予理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1600200" y="3048120"/>
            <a:ext cx="6400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838080" y="3581280"/>
            <a:ext cx="7010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838080" y="533520"/>
            <a:ext cx="449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. 8. 3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优先编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0" name=""/>
          <p:cNvGrpSpPr/>
          <p:nvPr/>
        </p:nvGrpSpPr>
        <p:grpSpPr>
          <a:xfrm>
            <a:off x="838080" y="1200240"/>
            <a:ext cx="3809880" cy="171000"/>
            <a:chOff x="838080" y="1200240"/>
            <a:chExt cx="3809880" cy="171000"/>
          </a:xfrm>
        </p:grpSpPr>
        <p:pic>
          <p:nvPicPr>
            <p:cNvPr id="6801" name="" descr=""/>
            <p:cNvPicPr/>
            <p:nvPr/>
          </p:nvPicPr>
          <p:blipFill>
            <a:blip r:embed="rId1"/>
            <a:stretch/>
          </p:blipFill>
          <p:spPr>
            <a:xfrm>
              <a:off x="17431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2" name="" descr=""/>
            <p:cNvPicPr/>
            <p:nvPr/>
          </p:nvPicPr>
          <p:blipFill>
            <a:blip r:embed="rId2"/>
            <a:stretch/>
          </p:blipFill>
          <p:spPr>
            <a:xfrm>
              <a:off x="1885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3" name="" descr=""/>
            <p:cNvPicPr/>
            <p:nvPr/>
          </p:nvPicPr>
          <p:blipFill>
            <a:blip r:embed="rId3"/>
            <a:stretch/>
          </p:blipFill>
          <p:spPr>
            <a:xfrm>
              <a:off x="2047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4" name="" descr=""/>
            <p:cNvPicPr/>
            <p:nvPr/>
          </p:nvPicPr>
          <p:blipFill>
            <a:blip r:embed="rId4"/>
            <a:stretch/>
          </p:blipFill>
          <p:spPr>
            <a:xfrm>
              <a:off x="23428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5" name="" descr=""/>
            <p:cNvPicPr/>
            <p:nvPr/>
          </p:nvPicPr>
          <p:blipFill>
            <a:blip r:embed="rId5"/>
            <a:stretch/>
          </p:blipFill>
          <p:spPr>
            <a:xfrm>
              <a:off x="25048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6" name="" descr=""/>
            <p:cNvPicPr/>
            <p:nvPr/>
          </p:nvPicPr>
          <p:blipFill>
            <a:blip r:embed="rId6"/>
            <a:stretch/>
          </p:blipFill>
          <p:spPr>
            <a:xfrm>
              <a:off x="26575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7" name="" descr=""/>
            <p:cNvPicPr/>
            <p:nvPr/>
          </p:nvPicPr>
          <p:blipFill>
            <a:blip r:embed="rId7"/>
            <a:stretch/>
          </p:blipFill>
          <p:spPr>
            <a:xfrm>
              <a:off x="28000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8" name="" descr=""/>
            <p:cNvPicPr/>
            <p:nvPr/>
          </p:nvPicPr>
          <p:blipFill>
            <a:blip r:embed="rId8"/>
            <a:stretch/>
          </p:blipFill>
          <p:spPr>
            <a:xfrm>
              <a:off x="29620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9" name="" descr=""/>
            <p:cNvPicPr/>
            <p:nvPr/>
          </p:nvPicPr>
          <p:blipFill>
            <a:blip r:embed="rId9"/>
            <a:stretch/>
          </p:blipFill>
          <p:spPr>
            <a:xfrm>
              <a:off x="32572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0" name="" descr=""/>
            <p:cNvPicPr/>
            <p:nvPr/>
          </p:nvPicPr>
          <p:blipFill>
            <a:blip r:embed="rId10"/>
            <a:stretch/>
          </p:blipFill>
          <p:spPr>
            <a:xfrm>
              <a:off x="34192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1" name="" descr=""/>
            <p:cNvPicPr/>
            <p:nvPr/>
          </p:nvPicPr>
          <p:blipFill>
            <a:blip r:embed="rId11"/>
            <a:stretch/>
          </p:blipFill>
          <p:spPr>
            <a:xfrm>
              <a:off x="35719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2" name="" descr=""/>
            <p:cNvPicPr/>
            <p:nvPr/>
          </p:nvPicPr>
          <p:blipFill>
            <a:blip r:embed="rId12"/>
            <a:stretch/>
          </p:blipFill>
          <p:spPr>
            <a:xfrm>
              <a:off x="37144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3" name="" descr=""/>
            <p:cNvPicPr/>
            <p:nvPr/>
          </p:nvPicPr>
          <p:blipFill>
            <a:blip r:embed="rId13"/>
            <a:stretch/>
          </p:blipFill>
          <p:spPr>
            <a:xfrm>
              <a:off x="22003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4" name="" descr=""/>
            <p:cNvPicPr/>
            <p:nvPr/>
          </p:nvPicPr>
          <p:blipFill>
            <a:blip r:embed="rId14"/>
            <a:stretch/>
          </p:blipFill>
          <p:spPr>
            <a:xfrm>
              <a:off x="31147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5" name="" descr=""/>
            <p:cNvPicPr/>
            <p:nvPr/>
          </p:nvPicPr>
          <p:blipFill>
            <a:blip r:embed="rId15"/>
            <a:stretch/>
          </p:blipFill>
          <p:spPr>
            <a:xfrm>
              <a:off x="38764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6" name="" descr=""/>
            <p:cNvPicPr/>
            <p:nvPr/>
          </p:nvPicPr>
          <p:blipFill>
            <a:blip r:embed="rId16"/>
            <a:stretch/>
          </p:blipFill>
          <p:spPr>
            <a:xfrm>
              <a:off x="40291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7" name="" descr=""/>
            <p:cNvPicPr/>
            <p:nvPr/>
          </p:nvPicPr>
          <p:blipFill>
            <a:blip r:embed="rId17"/>
            <a:stretch/>
          </p:blipFill>
          <p:spPr>
            <a:xfrm>
              <a:off x="4171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8" name="" descr=""/>
            <p:cNvPicPr/>
            <p:nvPr/>
          </p:nvPicPr>
          <p:blipFill>
            <a:blip r:embed="rId18"/>
            <a:stretch/>
          </p:blipFill>
          <p:spPr>
            <a:xfrm>
              <a:off x="4333680" y="12096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9" name="" descr=""/>
            <p:cNvPicPr/>
            <p:nvPr/>
          </p:nvPicPr>
          <p:blipFill>
            <a:blip r:embed="rId19"/>
            <a:stretch/>
          </p:blipFill>
          <p:spPr>
            <a:xfrm>
              <a:off x="4486320" y="12096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0" name=""/>
            <p:cNvGrpSpPr/>
            <p:nvPr/>
          </p:nvGrpSpPr>
          <p:grpSpPr>
            <a:xfrm>
              <a:off x="838080" y="1200240"/>
              <a:ext cx="923760" cy="161640"/>
              <a:chOff x="838080" y="1200240"/>
              <a:chExt cx="923760" cy="161640"/>
            </a:xfrm>
          </p:grpSpPr>
          <p:pic>
            <p:nvPicPr>
              <p:cNvPr id="682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98100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14300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9528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43820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0020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83808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27" name=""/>
          <p:cNvSpPr/>
          <p:nvPr/>
        </p:nvSpPr>
        <p:spPr>
          <a:xfrm>
            <a:off x="762120" y="4114800"/>
            <a:ext cx="3352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3" dur="indefinite" restart="never" nodeType="tmRoot">
          <p:childTnLst>
            <p:seq>
              <p:cTn id="3944" dur="indefinite" nodeType="mainSeq">
                <p:childTnLst>
                  <p:par>
                    <p:cTn id="3945" nodeType="clickEffect" fill="hold">
                      <p:stCondLst>
                        <p:cond delay="indefinite"/>
                      </p:stCondLst>
                      <p:childTnLst>
                        <p:par>
                          <p:cTn id="39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49" dur="500"/>
                                        <p:tgtEl>
                                          <p:spTgt spid="6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nodeType="clickEffect" fill="hold">
                      <p:stCondLst>
                        <p:cond delay="indefinite"/>
                      </p:stCondLst>
                      <p:childTnLst>
                        <p:par>
                          <p:cTn id="39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54" dur="500"/>
                                        <p:tgtEl>
                                          <p:spTgt spid="6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nodeType="clickEffect" fill="hold">
                      <p:stCondLst>
                        <p:cond delay="indefinite"/>
                      </p:stCondLst>
                      <p:childTnLst>
                        <p:par>
                          <p:cTn id="39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3959" dur="500"/>
                                        <p:tgtEl>
                                          <p:spTgt spid="6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1" nodeType="afterEffect" fill="hold" presetClass="entr" presetID="3" presetSubtype="5"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3963" dur="500"/>
                                        <p:tgtEl>
                                          <p:spTgt spid="6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5" nodeType="afterEffect" fill="hold" presetClass="entr" presetID="3" presetSubtype="5"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3967" dur="500"/>
                                        <p:tgtEl>
                                          <p:spTgt spid="6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8" name=""/>
          <p:cNvSpPr/>
          <p:nvPr/>
        </p:nvSpPr>
        <p:spPr>
          <a:xfrm>
            <a:off x="3081600" y="380880"/>
            <a:ext cx="32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4LS</a:t>
            </a:r>
            <a:r>
              <a:rPr b="1" lang="en-US" sz="2800" spc="-1" strike="noStrike">
                <a:solidFill>
                  <a:srgbClr val="003399"/>
                </a:solidFill>
                <a:latin typeface=""/>
              </a:rPr>
              <a:t>4147 </a:t>
            </a:r>
            <a:r>
              <a:rPr b="1" lang="zh-CN" sz="2800" spc="-1" strike="noStrike">
                <a:solidFill>
                  <a:srgbClr val="003399"/>
                </a:solidFill>
                <a:latin typeface=""/>
              </a:rPr>
              <a:t>编码器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9" name=""/>
          <p:cNvGrpSpPr/>
          <p:nvPr/>
        </p:nvGrpSpPr>
        <p:grpSpPr>
          <a:xfrm>
            <a:off x="782280" y="914400"/>
            <a:ext cx="7738560" cy="5333760"/>
            <a:chOff x="782280" y="914400"/>
            <a:chExt cx="7738560" cy="5333760"/>
          </a:xfrm>
        </p:grpSpPr>
        <p:sp>
          <p:nvSpPr>
            <p:cNvPr id="6830" name=""/>
            <p:cNvSpPr/>
            <p:nvPr/>
          </p:nvSpPr>
          <p:spPr>
            <a:xfrm>
              <a:off x="1066680" y="914400"/>
              <a:ext cx="7086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066680" y="1447560"/>
              <a:ext cx="7113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1066680" y="2057400"/>
              <a:ext cx="7086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276200" y="1538280"/>
              <a:ext cx="56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127620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7391520" y="1523880"/>
              <a:ext cx="71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7437600" y="1620720"/>
              <a:ext cx="320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1755720" y="1538280"/>
              <a:ext cx="56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175572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2236680" y="1538280"/>
              <a:ext cx="55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236680" y="1620720"/>
              <a:ext cx="3193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2716200" y="1538280"/>
              <a:ext cx="560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71620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195720" y="153828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19572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676680" y="1538280"/>
              <a:ext cx="55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676680" y="1620720"/>
              <a:ext cx="318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4156200" y="153828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4156200" y="1620720"/>
              <a:ext cx="320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4637160" y="1538280"/>
              <a:ext cx="55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463536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5116680" y="153828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5116680" y="1620720"/>
              <a:ext cx="320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6823080" y="1523880"/>
              <a:ext cx="72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6902280" y="16063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6291360" y="1538280"/>
              <a:ext cx="71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6370560" y="16207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5791320" y="1523880"/>
              <a:ext cx="72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5870520" y="1606320"/>
              <a:ext cx="3207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965880" y="2057400"/>
              <a:ext cx="70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1   1   1   1      1    1    1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1676520" y="91440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输   入  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低电平有效</a:t>
              </a: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5688720" y="965160"/>
              <a:ext cx="21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输 出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"/>
                </a:rPr>
                <a:t>8421</a:t>
              </a:r>
              <a:r>
                <a:rPr b="1" lang="zh-CN" sz="2400" spc="-1" strike="noStrike">
                  <a:solidFill>
                    <a:srgbClr val="ff0000"/>
                  </a:solidFill>
                  <a:latin typeface=""/>
                </a:rPr>
                <a:t>反码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794880" y="2438280"/>
              <a:ext cx="77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0    1    1    0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829800" y="2819160"/>
              <a:ext cx="74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0    1    1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782280" y="3200400"/>
              <a:ext cx="747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1    0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891720" y="3581280"/>
              <a:ext cx="73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1    0    0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922320" y="3962160"/>
              <a:ext cx="722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1    0    1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953280" y="4419360"/>
              <a:ext cx="71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  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   1    0    1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984240" y="4876560"/>
              <a:ext cx="706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1    1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1013040" y="5333760"/>
              <a:ext cx="70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1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1    1    0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1044000" y="5715000"/>
              <a:ext cx="699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1    1   1    1   1   1   1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1    1    1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1066680" y="914400"/>
              <a:ext cx="0" cy="5333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H="1">
              <a:off x="5638320" y="914400"/>
              <a:ext cx="1800" cy="52578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8153280" y="914400"/>
              <a:ext cx="0" cy="5333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4" name=""/>
          <p:cNvSpPr/>
          <p:nvPr/>
        </p:nvSpPr>
        <p:spPr>
          <a:xfrm>
            <a:off x="1066680" y="62485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5" name=""/>
          <p:cNvSpPr/>
          <p:nvPr/>
        </p:nvSpPr>
        <p:spPr>
          <a:xfrm>
            <a:off x="1283040" y="81900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4LS14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集成优先编码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>
            <a:off x="3602880" y="50655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4LS147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引脚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>
            <a:off x="711360" y="3505320"/>
            <a:ext cx="1211040" cy="855720"/>
          </a:xfrm>
          <a:prstGeom prst="wedgeRoundRectCallout">
            <a:avLst>
              <a:gd name="adj1" fmla="val 119069"/>
              <a:gd name="adj2" fmla="val 8543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低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8" name=""/>
          <p:cNvGrpSpPr/>
          <p:nvPr/>
        </p:nvGrpSpPr>
        <p:grpSpPr>
          <a:xfrm>
            <a:off x="2514600" y="1600200"/>
            <a:ext cx="5281560" cy="3522600"/>
            <a:chOff x="2514600" y="1600200"/>
            <a:chExt cx="5281560" cy="3522600"/>
          </a:xfrm>
        </p:grpSpPr>
        <p:pic>
          <p:nvPicPr>
            <p:cNvPr id="6879" name="" descr=""/>
            <p:cNvPicPr/>
            <p:nvPr/>
          </p:nvPicPr>
          <p:blipFill>
            <a:blip r:embed="rId2"/>
            <a:stretch/>
          </p:blipFill>
          <p:spPr>
            <a:xfrm>
              <a:off x="2590920" y="4549680"/>
              <a:ext cx="52052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0" name="" descr=""/>
            <p:cNvPicPr/>
            <p:nvPr/>
          </p:nvPicPr>
          <p:blipFill>
            <a:blip r:embed="rId3"/>
            <a:stretch/>
          </p:blipFill>
          <p:spPr>
            <a:xfrm>
              <a:off x="2514600" y="1600200"/>
              <a:ext cx="45720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1" name=""/>
            <p:cNvSpPr/>
            <p:nvPr/>
          </p:nvSpPr>
          <p:spPr>
            <a:xfrm>
              <a:off x="2579760" y="2575080"/>
              <a:ext cx="4552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6  15  14  13   12   11  10 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2705040" y="3754440"/>
              <a:ext cx="436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2    3    4     5    6    7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604320" y="3078000"/>
              <a:ext cx="222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74LS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414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706840" y="4229280"/>
              <a:ext cx="25704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706840" y="2178000"/>
              <a:ext cx="25704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4375080" y="4229280"/>
              <a:ext cx="25560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797280" y="4229280"/>
              <a:ext cx="25560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219480" y="4229280"/>
              <a:ext cx="25704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4951440" y="4229280"/>
              <a:ext cx="25704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5527800" y="4229280"/>
              <a:ext cx="25848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6105600" y="4229280"/>
              <a:ext cx="25560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6683400" y="4229280"/>
              <a:ext cx="255600" cy="32040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3284640" y="2178000"/>
              <a:ext cx="25704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3797280" y="2178000"/>
              <a:ext cx="25560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4375080" y="2178000"/>
              <a:ext cx="25560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4951440" y="2178000"/>
              <a:ext cx="25704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5527800" y="2178000"/>
              <a:ext cx="25848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6105600" y="2178000"/>
              <a:ext cx="25560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6683400" y="2178000"/>
              <a:ext cx="255600" cy="32076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2514600" y="2498760"/>
              <a:ext cx="4681440" cy="1730520"/>
            </a:xfrm>
            <a:prstGeom prst="rect">
              <a:avLst/>
            </a:pr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522520" y="3209760"/>
              <a:ext cx="168120" cy="473400"/>
            </a:xfrm>
            <a:custGeom>
              <a:avLst/>
              <a:gdLst/>
              <a:ahLst/>
              <a:rect l="l" t="t" r="r" b="b"/>
              <a:pathLst>
                <a:path w="126" h="354">
                  <a:moveTo>
                    <a:pt x="0" y="0"/>
                  </a:moveTo>
                  <a:cubicBezTo>
                    <a:pt x="34" y="11"/>
                    <a:pt x="48" y="34"/>
                    <a:pt x="82" y="45"/>
                  </a:cubicBezTo>
                  <a:cubicBezTo>
                    <a:pt x="113" y="143"/>
                    <a:pt x="126" y="77"/>
                    <a:pt x="100" y="254"/>
                  </a:cubicBezTo>
                  <a:cubicBezTo>
                    <a:pt x="93" y="300"/>
                    <a:pt x="9" y="314"/>
                    <a:pt x="9" y="354"/>
                  </a:cubicBezTo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8" dur="indefinite" restart="never" nodeType="tmRoot">
          <p:childTnLst>
            <p:seq>
              <p:cTn id="3969" dur="indefinite" nodeType="mainSeq">
                <p:childTnLst>
                  <p:par>
                    <p:cTn id="3970" nodeType="clickEffect" fill="hold">
                      <p:stCondLst>
                        <p:cond delay="indefinite"/>
                      </p:stCondLst>
                      <p:childTnLst>
                        <p:par>
                          <p:cTn id="39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974" dur="500"/>
                                        <p:tgtEl>
                                          <p:spTgt spid="6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2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9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译码器和数字显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609480" y="1351080"/>
            <a:ext cx="807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译码是编码的反过程，它是将代码的组合译成一个特定的输出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159200" y="2438280"/>
            <a:ext cx="34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20. 9. 1   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二进制译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5" name=""/>
          <p:cNvGrpSpPr/>
          <p:nvPr/>
        </p:nvGrpSpPr>
        <p:grpSpPr>
          <a:xfrm>
            <a:off x="1066680" y="1066680"/>
            <a:ext cx="5486400" cy="171360"/>
            <a:chOff x="1066680" y="1066680"/>
            <a:chExt cx="5486400" cy="171360"/>
          </a:xfrm>
        </p:grpSpPr>
        <p:pic>
          <p:nvPicPr>
            <p:cNvPr id="6906" name="" descr=""/>
            <p:cNvPicPr/>
            <p:nvPr/>
          </p:nvPicPr>
          <p:blipFill>
            <a:blip r:embed="rId1"/>
            <a:stretch/>
          </p:blipFill>
          <p:spPr>
            <a:xfrm>
              <a:off x="1971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7" name="" descr=""/>
            <p:cNvPicPr/>
            <p:nvPr/>
          </p:nvPicPr>
          <p:blipFill>
            <a:blip r:embed="rId2"/>
            <a:stretch/>
          </p:blipFill>
          <p:spPr>
            <a:xfrm>
              <a:off x="2114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8" name="" descr=""/>
            <p:cNvPicPr/>
            <p:nvPr/>
          </p:nvPicPr>
          <p:blipFill>
            <a:blip r:embed="rId3"/>
            <a:stretch/>
          </p:blipFill>
          <p:spPr>
            <a:xfrm>
              <a:off x="2276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9" name="" descr=""/>
            <p:cNvPicPr/>
            <p:nvPr/>
          </p:nvPicPr>
          <p:blipFill>
            <a:blip r:embed="rId4"/>
            <a:stretch/>
          </p:blipFill>
          <p:spPr>
            <a:xfrm>
              <a:off x="2571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0" name="" descr=""/>
            <p:cNvPicPr/>
            <p:nvPr/>
          </p:nvPicPr>
          <p:blipFill>
            <a:blip r:embed="rId5"/>
            <a:stretch/>
          </p:blipFill>
          <p:spPr>
            <a:xfrm>
              <a:off x="27338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1" name="" descr=""/>
            <p:cNvPicPr/>
            <p:nvPr/>
          </p:nvPicPr>
          <p:blipFill>
            <a:blip r:embed="rId6"/>
            <a:stretch/>
          </p:blipFill>
          <p:spPr>
            <a:xfrm>
              <a:off x="2886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2" name="" descr=""/>
            <p:cNvPicPr/>
            <p:nvPr/>
          </p:nvPicPr>
          <p:blipFill>
            <a:blip r:embed="rId7"/>
            <a:stretch/>
          </p:blipFill>
          <p:spPr>
            <a:xfrm>
              <a:off x="3029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3" name="" descr=""/>
            <p:cNvPicPr/>
            <p:nvPr/>
          </p:nvPicPr>
          <p:blipFill>
            <a:blip r:embed="rId8"/>
            <a:stretch/>
          </p:blipFill>
          <p:spPr>
            <a:xfrm>
              <a:off x="3191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4" name="" descr=""/>
            <p:cNvPicPr/>
            <p:nvPr/>
          </p:nvPicPr>
          <p:blipFill>
            <a:blip r:embed="rId9"/>
            <a:stretch/>
          </p:blipFill>
          <p:spPr>
            <a:xfrm>
              <a:off x="3486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5" name="" descr=""/>
            <p:cNvPicPr/>
            <p:nvPr/>
          </p:nvPicPr>
          <p:blipFill>
            <a:blip r:embed="rId10"/>
            <a:stretch/>
          </p:blipFill>
          <p:spPr>
            <a:xfrm>
              <a:off x="3648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6" name="" descr=""/>
            <p:cNvPicPr/>
            <p:nvPr/>
          </p:nvPicPr>
          <p:blipFill>
            <a:blip r:embed="rId11"/>
            <a:stretch/>
          </p:blipFill>
          <p:spPr>
            <a:xfrm>
              <a:off x="3800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7" name="" descr=""/>
            <p:cNvPicPr/>
            <p:nvPr/>
          </p:nvPicPr>
          <p:blipFill>
            <a:blip r:embed="rId12"/>
            <a:stretch/>
          </p:blipFill>
          <p:spPr>
            <a:xfrm>
              <a:off x="3943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8" name="" descr=""/>
            <p:cNvPicPr/>
            <p:nvPr/>
          </p:nvPicPr>
          <p:blipFill>
            <a:blip r:embed="rId13"/>
            <a:stretch/>
          </p:blipFill>
          <p:spPr>
            <a:xfrm>
              <a:off x="2428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9" name="" descr=""/>
            <p:cNvPicPr/>
            <p:nvPr/>
          </p:nvPicPr>
          <p:blipFill>
            <a:blip r:embed="rId14"/>
            <a:stretch/>
          </p:blipFill>
          <p:spPr>
            <a:xfrm>
              <a:off x="3343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0" name="" descr=""/>
            <p:cNvPicPr/>
            <p:nvPr/>
          </p:nvPicPr>
          <p:blipFill>
            <a:blip r:embed="rId15"/>
            <a:stretch/>
          </p:blipFill>
          <p:spPr>
            <a:xfrm>
              <a:off x="4105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1" name="" descr=""/>
            <p:cNvPicPr/>
            <p:nvPr/>
          </p:nvPicPr>
          <p:blipFill>
            <a:blip r:embed="rId16"/>
            <a:stretch/>
          </p:blipFill>
          <p:spPr>
            <a:xfrm>
              <a:off x="4257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2" name="" descr=""/>
            <p:cNvPicPr/>
            <p:nvPr/>
          </p:nvPicPr>
          <p:blipFill>
            <a:blip r:embed="rId17"/>
            <a:stretch/>
          </p:blipFill>
          <p:spPr>
            <a:xfrm>
              <a:off x="4400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3" name="" descr=""/>
            <p:cNvPicPr/>
            <p:nvPr/>
          </p:nvPicPr>
          <p:blipFill>
            <a:blip r:embed="rId18"/>
            <a:stretch/>
          </p:blipFill>
          <p:spPr>
            <a:xfrm>
              <a:off x="4562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4" name="" descr=""/>
            <p:cNvPicPr/>
            <p:nvPr/>
          </p:nvPicPr>
          <p:blipFill>
            <a:blip r:embed="rId19"/>
            <a:stretch/>
          </p:blipFill>
          <p:spPr>
            <a:xfrm>
              <a:off x="4714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5" name="" descr=""/>
            <p:cNvPicPr/>
            <p:nvPr/>
          </p:nvPicPr>
          <p:blipFill>
            <a:blip r:embed="rId20"/>
            <a:stretch/>
          </p:blipFill>
          <p:spPr>
            <a:xfrm>
              <a:off x="4857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6" name="" descr=""/>
            <p:cNvPicPr/>
            <p:nvPr/>
          </p:nvPicPr>
          <p:blipFill>
            <a:blip r:embed="rId21"/>
            <a:stretch/>
          </p:blipFill>
          <p:spPr>
            <a:xfrm>
              <a:off x="50198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7" name="" descr=""/>
            <p:cNvPicPr/>
            <p:nvPr/>
          </p:nvPicPr>
          <p:blipFill>
            <a:blip r:embed="rId22"/>
            <a:stretch/>
          </p:blipFill>
          <p:spPr>
            <a:xfrm>
              <a:off x="5315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8" name="" descr=""/>
            <p:cNvPicPr/>
            <p:nvPr/>
          </p:nvPicPr>
          <p:blipFill>
            <a:blip r:embed="rId23"/>
            <a:stretch/>
          </p:blipFill>
          <p:spPr>
            <a:xfrm>
              <a:off x="5477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9" name="" descr=""/>
            <p:cNvPicPr/>
            <p:nvPr/>
          </p:nvPicPr>
          <p:blipFill>
            <a:blip r:embed="rId24"/>
            <a:stretch/>
          </p:blipFill>
          <p:spPr>
            <a:xfrm>
              <a:off x="5629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0" name="" descr=""/>
            <p:cNvPicPr/>
            <p:nvPr/>
          </p:nvPicPr>
          <p:blipFill>
            <a:blip r:embed="rId25"/>
            <a:stretch/>
          </p:blipFill>
          <p:spPr>
            <a:xfrm>
              <a:off x="5772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1" name="" descr=""/>
            <p:cNvPicPr/>
            <p:nvPr/>
          </p:nvPicPr>
          <p:blipFill>
            <a:blip r:embed="rId26"/>
            <a:stretch/>
          </p:blipFill>
          <p:spPr>
            <a:xfrm>
              <a:off x="5934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2" name="" descr=""/>
            <p:cNvPicPr/>
            <p:nvPr/>
          </p:nvPicPr>
          <p:blipFill>
            <a:blip r:embed="rId27"/>
            <a:stretch/>
          </p:blipFill>
          <p:spPr>
            <a:xfrm>
              <a:off x="6229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3" name="" descr=""/>
            <p:cNvPicPr/>
            <p:nvPr/>
          </p:nvPicPr>
          <p:blipFill>
            <a:blip r:embed="rId28"/>
            <a:stretch/>
          </p:blipFill>
          <p:spPr>
            <a:xfrm>
              <a:off x="6391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4" name="" descr=""/>
            <p:cNvPicPr/>
            <p:nvPr/>
          </p:nvPicPr>
          <p:blipFill>
            <a:blip r:embed="rId29"/>
            <a:stretch/>
          </p:blipFill>
          <p:spPr>
            <a:xfrm>
              <a:off x="5172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5" name="" descr=""/>
            <p:cNvPicPr/>
            <p:nvPr/>
          </p:nvPicPr>
          <p:blipFill>
            <a:blip r:embed="rId30"/>
            <a:stretch/>
          </p:blipFill>
          <p:spPr>
            <a:xfrm>
              <a:off x="6086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6" name=""/>
            <p:cNvGrpSpPr/>
            <p:nvPr/>
          </p:nvGrpSpPr>
          <p:grpSpPr>
            <a:xfrm>
              <a:off x="1066680" y="1066680"/>
              <a:ext cx="923760" cy="162000"/>
              <a:chOff x="1066680" y="1066680"/>
              <a:chExt cx="923760" cy="162000"/>
            </a:xfrm>
          </p:grpSpPr>
          <p:pic>
            <p:nvPicPr>
              <p:cNvPr id="693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209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3716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238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668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8288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0666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943" name=""/>
          <p:cNvGrpSpPr/>
          <p:nvPr/>
        </p:nvGrpSpPr>
        <p:grpSpPr>
          <a:xfrm>
            <a:off x="1523880" y="2975040"/>
            <a:ext cx="6095880" cy="1828080"/>
            <a:chOff x="1523880" y="2975040"/>
            <a:chExt cx="6095880" cy="1828080"/>
          </a:xfrm>
        </p:grpSpPr>
        <p:sp>
          <p:nvSpPr>
            <p:cNvPr id="6944" name=""/>
            <p:cNvSpPr/>
            <p:nvPr/>
          </p:nvSpPr>
          <p:spPr>
            <a:xfrm>
              <a:off x="5961600" y="375912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2795"/>
                  </a:solidFill>
                  <a:latin typeface=""/>
                </a:rPr>
                <a:t>8</a:t>
              </a:r>
              <a:r>
                <a:rPr b="1" lang="zh-CN" sz="2800" spc="-1" strike="noStrike">
                  <a:solidFill>
                    <a:srgbClr val="112795"/>
                  </a:solidFill>
                  <a:latin typeface="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2575440" y="372744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2795"/>
                  </a:solidFill>
                  <a:latin typeface=""/>
                </a:rPr>
                <a:t>3</a:t>
              </a:r>
              <a:r>
                <a:rPr b="1" lang="zh-CN" sz="2800" spc="-1" strike="noStrike">
                  <a:solidFill>
                    <a:srgbClr val="112795"/>
                  </a:solidFill>
                  <a:latin typeface="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657240" y="3965400"/>
              <a:ext cx="1905120" cy="83772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809880" y="41176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1523880" y="3203280"/>
              <a:ext cx="68580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二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7010280" y="2975040"/>
              <a:ext cx="609480" cy="1373760"/>
            </a:xfrm>
            <a:prstGeom prst="rect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高低电平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5867280" y="4194000"/>
              <a:ext cx="990360" cy="456840"/>
            </a:xfrm>
            <a:prstGeom prst="rightArrow">
              <a:avLst>
                <a:gd name="adj1" fmla="val 50000"/>
                <a:gd name="adj2" fmla="val 539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2438280" y="4194000"/>
              <a:ext cx="990360" cy="456840"/>
            </a:xfrm>
            <a:prstGeom prst="rightArrow">
              <a:avLst>
                <a:gd name="adj1" fmla="val 50000"/>
                <a:gd name="adj2" fmla="val 539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5" dur="indefinite" restart="never" nodeType="tmRoot">
          <p:childTnLst>
            <p:seq>
              <p:cTn id="3976" dur="indefinite" nodeType="mainSeq">
                <p:childTnLst>
                  <p:par>
                    <p:cTn id="3977" nodeType="clickEffect" fill="hold">
                      <p:stCondLst>
                        <p:cond delay="indefinite"/>
                      </p:stCondLst>
                      <p:childTnLst>
                        <p:par>
                          <p:cTn id="39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81" dur="500"/>
                                        <p:tgtEl>
                                          <p:spTgt spid="6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nodeType="clickEffect" fill="hold">
                      <p:stCondLst>
                        <p:cond delay="indefinite"/>
                      </p:stCondLst>
                      <p:childTnLst>
                        <p:par>
                          <p:cTn id="39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86" dur="500"/>
                                        <p:tgtEl>
                                          <p:spTgt spid="6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nodeType="clickEffect" fill="hold">
                      <p:stCondLst>
                        <p:cond delay="indefinite"/>
                      </p:stCondLst>
                      <p:childTnLst>
                        <p:par>
                          <p:cTn id="39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91" dur="500"/>
                                        <p:tgtEl>
                                          <p:spTgt spid="6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"/>
          <p:cNvSpPr/>
          <p:nvPr/>
        </p:nvSpPr>
        <p:spPr>
          <a:xfrm>
            <a:off x="3254400" y="1004760"/>
            <a:ext cx="29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状     态    表</a:t>
            </a:r>
            <a:r>
              <a:rPr b="1" lang="en-US" sz="3200" spc="-1" strike="noStrike">
                <a:solidFill>
                  <a:srgbClr val="003399"/>
                </a:solidFill>
                <a:latin typeface="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2206080" y="533520"/>
            <a:ext cx="42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位二进制译码器（输出高电平有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4" name=""/>
          <p:cNvGrpSpPr/>
          <p:nvPr/>
        </p:nvGrpSpPr>
        <p:grpSpPr>
          <a:xfrm>
            <a:off x="1218960" y="1447920"/>
            <a:ext cx="6687000" cy="4787640"/>
            <a:chOff x="1218960" y="1447920"/>
            <a:chExt cx="6687000" cy="4787640"/>
          </a:xfrm>
        </p:grpSpPr>
        <p:sp>
          <p:nvSpPr>
            <p:cNvPr id="6955" name=""/>
            <p:cNvSpPr/>
            <p:nvPr/>
          </p:nvSpPr>
          <p:spPr>
            <a:xfrm>
              <a:off x="1295280" y="1447920"/>
              <a:ext cx="6310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963880" y="1447920"/>
              <a:ext cx="0" cy="4724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1295280" y="1905120"/>
              <a:ext cx="6310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1295280" y="2438280"/>
              <a:ext cx="63104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1512720" y="1447920"/>
              <a:ext cx="130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1454400" y="1905120"/>
              <a:ext cx="13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   B  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3291120" y="1905120"/>
              <a:ext cx="421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4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5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6 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1219320" y="25146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0   0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 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0     0     0    0 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1219320" y="29718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0   1 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 0    0 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1218960" y="3429000"/>
              <a:ext cx="66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1   0      0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 0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1219320" y="38862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    1   1      0     0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1219320" y="43434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0   0      0     0     0 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0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1219320" y="48006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0   1      0     0     0     0     0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0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1219320" y="52578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1   0      0     0     0     0     0    0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1219320" y="5715000"/>
              <a:ext cx="66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 1   1      0     0     0     0     0    0     0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4393800" y="1447920"/>
              <a:ext cx="153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1447920" y="6172200"/>
              <a:ext cx="6310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2" name=""/>
          <p:cNvSpPr/>
          <p:nvPr/>
        </p:nvSpPr>
        <p:spPr>
          <a:xfrm>
            <a:off x="1571760" y="662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3" name=""/>
          <p:cNvGrpSpPr/>
          <p:nvPr/>
        </p:nvGrpSpPr>
        <p:grpSpPr>
          <a:xfrm>
            <a:off x="1519200" y="1447920"/>
            <a:ext cx="5262480" cy="2629800"/>
            <a:chOff x="1519200" y="1447920"/>
            <a:chExt cx="5262480" cy="2629800"/>
          </a:xfrm>
        </p:grpSpPr>
        <p:sp>
          <p:nvSpPr>
            <p:cNvPr id="6974" name=""/>
            <p:cNvSpPr/>
            <p:nvPr/>
          </p:nvSpPr>
          <p:spPr>
            <a:xfrm>
              <a:off x="1523880" y="1447920"/>
              <a:ext cx="210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A B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5" name=""/>
            <p:cNvGrpSpPr/>
            <p:nvPr/>
          </p:nvGrpSpPr>
          <p:grpSpPr>
            <a:xfrm>
              <a:off x="2286000" y="1512720"/>
              <a:ext cx="987120" cy="0"/>
              <a:chOff x="2286000" y="1512720"/>
              <a:chExt cx="987120" cy="0"/>
            </a:xfrm>
          </p:grpSpPr>
          <p:sp>
            <p:nvSpPr>
              <p:cNvPr id="6976" name=""/>
              <p:cNvSpPr/>
              <p:nvPr/>
            </p:nvSpPr>
            <p:spPr>
              <a:xfrm>
                <a:off x="2286000" y="1512720"/>
                <a:ext cx="26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680920" y="1512720"/>
                <a:ext cx="26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009960" y="1512720"/>
                <a:ext cx="26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9" name=""/>
            <p:cNvGrpSpPr/>
            <p:nvPr/>
          </p:nvGrpSpPr>
          <p:grpSpPr>
            <a:xfrm>
              <a:off x="4191120" y="1447920"/>
              <a:ext cx="2109600" cy="648720"/>
              <a:chOff x="4191120" y="1447920"/>
              <a:chExt cx="2109600" cy="648720"/>
            </a:xfrm>
          </p:grpSpPr>
          <p:sp>
            <p:nvSpPr>
              <p:cNvPr id="6980" name=""/>
              <p:cNvSpPr/>
              <p:nvPr/>
            </p:nvSpPr>
            <p:spPr>
              <a:xfrm>
                <a:off x="4191120" y="1447920"/>
                <a:ext cx="2109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4952880" y="1513080"/>
                <a:ext cx="261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46720" y="1513080"/>
                <a:ext cx="26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3" name=""/>
            <p:cNvGrpSpPr/>
            <p:nvPr/>
          </p:nvGrpSpPr>
          <p:grpSpPr>
            <a:xfrm>
              <a:off x="1558080" y="2133720"/>
              <a:ext cx="1746000" cy="648720"/>
              <a:chOff x="1558080" y="2133720"/>
              <a:chExt cx="1746000" cy="648720"/>
            </a:xfrm>
          </p:grpSpPr>
          <p:sp>
            <p:nvSpPr>
              <p:cNvPr id="6984" name=""/>
              <p:cNvSpPr/>
              <p:nvPr/>
            </p:nvSpPr>
            <p:spPr>
              <a:xfrm>
                <a:off x="1558080" y="2133720"/>
                <a:ext cx="1746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2286000" y="22017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009960" y="22017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7" name=""/>
            <p:cNvGrpSpPr/>
            <p:nvPr/>
          </p:nvGrpSpPr>
          <p:grpSpPr>
            <a:xfrm>
              <a:off x="4225320" y="2057400"/>
              <a:ext cx="1746000" cy="648720"/>
              <a:chOff x="4225320" y="2057400"/>
              <a:chExt cx="1746000" cy="648720"/>
            </a:xfrm>
          </p:grpSpPr>
          <p:sp>
            <p:nvSpPr>
              <p:cNvPr id="6988" name=""/>
              <p:cNvSpPr/>
              <p:nvPr/>
            </p:nvSpPr>
            <p:spPr>
              <a:xfrm>
                <a:off x="4225320" y="2057400"/>
                <a:ext cx="1746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4952880" y="2138400"/>
                <a:ext cx="26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0" name=""/>
            <p:cNvSpPr/>
            <p:nvPr/>
          </p:nvSpPr>
          <p:spPr>
            <a:xfrm>
              <a:off x="4225320" y="3429000"/>
              <a:ext cx="174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A B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1" name=""/>
            <p:cNvGrpSpPr/>
            <p:nvPr/>
          </p:nvGrpSpPr>
          <p:grpSpPr>
            <a:xfrm>
              <a:off x="1559880" y="2773440"/>
              <a:ext cx="1640880" cy="648720"/>
              <a:chOff x="1559880" y="2773440"/>
              <a:chExt cx="1640880" cy="648720"/>
            </a:xfrm>
          </p:grpSpPr>
          <p:sp>
            <p:nvSpPr>
              <p:cNvPr id="6992" name=""/>
              <p:cNvSpPr/>
              <p:nvPr/>
            </p:nvSpPr>
            <p:spPr>
              <a:xfrm>
                <a:off x="1559880" y="2773440"/>
                <a:ext cx="1640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600280" y="28209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928960" y="28209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5" name=""/>
            <p:cNvGrpSpPr/>
            <p:nvPr/>
          </p:nvGrpSpPr>
          <p:grpSpPr>
            <a:xfrm>
              <a:off x="1519200" y="3429000"/>
              <a:ext cx="2900520" cy="648720"/>
              <a:chOff x="1519200" y="3429000"/>
              <a:chExt cx="2900520" cy="648720"/>
            </a:xfrm>
          </p:grpSpPr>
          <p:sp>
            <p:nvSpPr>
              <p:cNvPr id="6996" name=""/>
              <p:cNvSpPr/>
              <p:nvPr/>
            </p:nvSpPr>
            <p:spPr>
              <a:xfrm>
                <a:off x="1519200" y="3429000"/>
                <a:ext cx="2900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6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008160" y="349416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8" name=""/>
            <p:cNvGrpSpPr/>
            <p:nvPr/>
          </p:nvGrpSpPr>
          <p:grpSpPr>
            <a:xfrm>
              <a:off x="4186080" y="2743200"/>
              <a:ext cx="2595600" cy="648720"/>
              <a:chOff x="4186080" y="2743200"/>
              <a:chExt cx="2595600" cy="648720"/>
            </a:xfrm>
          </p:grpSpPr>
          <p:sp>
            <p:nvSpPr>
              <p:cNvPr id="6999" name=""/>
              <p:cNvSpPr/>
              <p:nvPr/>
            </p:nvSpPr>
            <p:spPr>
              <a:xfrm>
                <a:off x="4186080" y="2743200"/>
                <a:ext cx="2595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"/>
                  </a:rPr>
                  <a:t>=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"/>
                  </a:rPr>
                  <a:t>A B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5329080" y="2806920"/>
                <a:ext cx="26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2" dur="indefinite" restart="never" nodeType="tmRoot">
          <p:childTnLst>
            <p:seq>
              <p:cTn id="3993" dur="indefinite" nodeType="mainSeq">
                <p:childTnLst>
                  <p:par>
                    <p:cTn id="3994" nodeType="clickEffect" fill="hold">
                      <p:stCondLst>
                        <p:cond delay="indefinite"/>
                      </p:stCondLst>
                      <p:childTnLst>
                        <p:par>
                          <p:cTn id="39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98" dur="500"/>
                                        <p:tgtEl>
                                          <p:spTgt spid="6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nodeType="clickEffect" fill="hold">
                      <p:stCondLst>
                        <p:cond delay="indefinite"/>
                      </p:stCondLst>
                      <p:childTnLst>
                        <p:par>
                          <p:cTn id="40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03" dur="500"/>
                                        <p:tgtEl>
                                          <p:spTgt spid="6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1" name=""/>
          <p:cNvSpPr/>
          <p:nvPr/>
        </p:nvSpPr>
        <p:spPr>
          <a:xfrm>
            <a:off x="762120" y="380880"/>
            <a:ext cx="13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2" name=""/>
          <p:cNvGrpSpPr/>
          <p:nvPr/>
        </p:nvGrpSpPr>
        <p:grpSpPr>
          <a:xfrm>
            <a:off x="311400" y="838080"/>
            <a:ext cx="8146800" cy="5473800"/>
            <a:chOff x="311400" y="838080"/>
            <a:chExt cx="8146800" cy="5473800"/>
          </a:xfrm>
        </p:grpSpPr>
        <p:grpSp>
          <p:nvGrpSpPr>
            <p:cNvPr id="7003" name=""/>
            <p:cNvGrpSpPr/>
            <p:nvPr/>
          </p:nvGrpSpPr>
          <p:grpSpPr>
            <a:xfrm>
              <a:off x="609480" y="838080"/>
              <a:ext cx="7848720" cy="5473800"/>
              <a:chOff x="609480" y="838080"/>
              <a:chExt cx="7848720" cy="5473800"/>
            </a:xfrm>
          </p:grpSpPr>
          <p:sp>
            <p:nvSpPr>
              <p:cNvPr id="7004" name=""/>
              <p:cNvSpPr/>
              <p:nvPr/>
            </p:nvSpPr>
            <p:spPr>
              <a:xfrm>
                <a:off x="5344920" y="579132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048560" y="579132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751840" y="579132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105876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128268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150660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203040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225432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247824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00204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22596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44952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973680" y="251460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419724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42116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494496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516888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39280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91660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140520" y="2514600"/>
                <a:ext cx="0" cy="9144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36588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88824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711216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7337520" y="2514600"/>
                <a:ext cx="0" cy="15238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7859880" y="25146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8085240" y="2514600"/>
                <a:ext cx="0" cy="12193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8308800" y="2514600"/>
                <a:ext cx="0" cy="19051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V="1">
                <a:off x="2927520" y="2819520"/>
                <a:ext cx="0" cy="182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V="1">
                <a:off x="4272120" y="3428640"/>
                <a:ext cx="0" cy="12193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V="1">
                <a:off x="5543640" y="4038480"/>
                <a:ext cx="0" cy="609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2627280" y="4800600"/>
                <a:ext cx="598680" cy="4572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2776680" y="4724280"/>
                <a:ext cx="37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2852640" y="4648320"/>
                <a:ext cx="149400" cy="152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2927520" y="52578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2889360" y="5791320"/>
                <a:ext cx="93600" cy="936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973680" y="4800600"/>
                <a:ext cx="598320" cy="4572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122720" y="4724280"/>
                <a:ext cx="3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197240" y="4648320"/>
                <a:ext cx="149400" cy="152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4272120" y="52578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243400" y="4800600"/>
                <a:ext cx="598680" cy="4572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392800" y="4724280"/>
                <a:ext cx="37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468760" y="4648320"/>
                <a:ext cx="149400" cy="1522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543640" y="52578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09480" y="3124080"/>
                <a:ext cx="784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09480" y="4419720"/>
                <a:ext cx="784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09480" y="3733920"/>
                <a:ext cx="784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609480" y="2819520"/>
                <a:ext cx="78487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09480" y="3429000"/>
                <a:ext cx="78487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09480" y="4038480"/>
                <a:ext cx="78487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2927520" y="5486400"/>
                <a:ext cx="447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V="1">
                <a:off x="3375000" y="3124080"/>
                <a:ext cx="0" cy="2362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4272120" y="5486400"/>
                <a:ext cx="449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V="1">
                <a:off x="4721400" y="3733920"/>
                <a:ext cx="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543640" y="5486400"/>
                <a:ext cx="671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V="1">
                <a:off x="6215040" y="4419360"/>
                <a:ext cx="0" cy="1066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82428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973680" y="182880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V="1">
                <a:off x="419724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90792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1058760" y="1828800"/>
                <a:ext cx="52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V="1">
                <a:off x="128268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187956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2030400" y="1828800"/>
                <a:ext cx="52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V="1">
                <a:off x="225432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2852640" y="1905120"/>
                <a:ext cx="74628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002040" y="1828800"/>
                <a:ext cx="52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V="1">
                <a:off x="322596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71048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85988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V="1">
                <a:off x="808524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576756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591660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V="1">
                <a:off x="614052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673884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688824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V="1">
                <a:off x="711216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4795920" y="1905120"/>
                <a:ext cx="747720" cy="60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4944960" y="1828800"/>
                <a:ext cx="52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V="1">
                <a:off x="5168880" y="1371600"/>
                <a:ext cx="0" cy="5335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1066680" y="838080"/>
                <a:ext cx="67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1981080" y="838080"/>
                <a:ext cx="596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6000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886200" y="838080"/>
                <a:ext cx="596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488880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87952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679392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860600" y="838080"/>
                <a:ext cx="497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333300"/>
                    </a:solidFill>
                    <a:latin typeface="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4227480" y="5791320"/>
                <a:ext cx="93600" cy="936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486400" y="5791320"/>
                <a:ext cx="93600" cy="9360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12445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209680" y="1295280"/>
                <a:ext cx="9396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31813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414828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12460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6095880" y="1295280"/>
                <a:ext cx="9396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80359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067520" y="1295280"/>
                <a:ext cx="93600" cy="939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2807280" y="5562720"/>
                <a:ext cx="320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              1       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2805120" y="4343400"/>
                <a:ext cx="32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1              0     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3" name=""/>
              <p:cNvGrpSpPr/>
              <p:nvPr/>
            </p:nvGrpSpPr>
            <p:grpSpPr>
              <a:xfrm>
                <a:off x="1284480" y="1371600"/>
                <a:ext cx="7112880" cy="520560"/>
                <a:chOff x="1284480" y="1371600"/>
                <a:chExt cx="7112880" cy="520560"/>
              </a:xfrm>
            </p:grpSpPr>
            <p:sp>
              <p:nvSpPr>
                <p:cNvPr id="7104" name=""/>
                <p:cNvSpPr/>
                <p:nvPr/>
              </p:nvSpPr>
              <p:spPr>
                <a:xfrm>
                  <a:off x="4179240" y="1371600"/>
                  <a:ext cx="44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5" name=""/>
                <p:cNvSpPr/>
                <p:nvPr/>
              </p:nvSpPr>
              <p:spPr>
                <a:xfrm>
                  <a:off x="320688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6" name=""/>
                <p:cNvSpPr/>
                <p:nvPr/>
              </p:nvSpPr>
              <p:spPr>
                <a:xfrm>
                  <a:off x="224568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128448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8" name=""/>
                <p:cNvSpPr/>
                <p:nvPr/>
              </p:nvSpPr>
              <p:spPr>
                <a:xfrm>
                  <a:off x="513000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9" name=""/>
                <p:cNvSpPr/>
                <p:nvPr/>
              </p:nvSpPr>
              <p:spPr>
                <a:xfrm>
                  <a:off x="609120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0" name=""/>
                <p:cNvSpPr/>
                <p:nvPr/>
              </p:nvSpPr>
              <p:spPr>
                <a:xfrm>
                  <a:off x="705240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1" name=""/>
                <p:cNvSpPr/>
                <p:nvPr/>
              </p:nvSpPr>
              <p:spPr>
                <a:xfrm>
                  <a:off x="8013960" y="13716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2" name=""/>
            <p:cNvGrpSpPr/>
            <p:nvPr/>
          </p:nvGrpSpPr>
          <p:grpSpPr>
            <a:xfrm>
              <a:off x="311400" y="2535120"/>
              <a:ext cx="340920" cy="2079720"/>
              <a:chOff x="311400" y="2535120"/>
              <a:chExt cx="340920" cy="2079720"/>
            </a:xfrm>
          </p:grpSpPr>
          <p:grpSp>
            <p:nvGrpSpPr>
              <p:cNvPr id="7113" name=""/>
              <p:cNvGrpSpPr/>
              <p:nvPr/>
            </p:nvGrpSpPr>
            <p:grpSpPr>
              <a:xfrm>
                <a:off x="311400" y="2535120"/>
                <a:ext cx="340920" cy="743400"/>
                <a:chOff x="311400" y="2535120"/>
                <a:chExt cx="340920" cy="743400"/>
              </a:xfrm>
            </p:grpSpPr>
            <p:sp>
              <p:nvSpPr>
                <p:cNvPr id="7114" name=""/>
                <p:cNvSpPr/>
                <p:nvPr/>
              </p:nvSpPr>
              <p:spPr>
                <a:xfrm>
                  <a:off x="311400" y="28796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5" name=""/>
                <p:cNvSpPr/>
                <p:nvPr/>
              </p:nvSpPr>
              <p:spPr>
                <a:xfrm>
                  <a:off x="311400" y="253512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6" name=""/>
                <p:cNvSpPr/>
                <p:nvPr/>
              </p:nvSpPr>
              <p:spPr>
                <a:xfrm>
                  <a:off x="415800" y="2622240"/>
                  <a:ext cx="20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7" name=""/>
              <p:cNvGrpSpPr/>
              <p:nvPr/>
            </p:nvGrpSpPr>
            <p:grpSpPr>
              <a:xfrm>
                <a:off x="312120" y="3200400"/>
                <a:ext cx="339120" cy="743400"/>
                <a:chOff x="312120" y="3200400"/>
                <a:chExt cx="339120" cy="743400"/>
              </a:xfrm>
            </p:grpSpPr>
            <p:sp>
              <p:nvSpPr>
                <p:cNvPr id="7118" name=""/>
                <p:cNvSpPr/>
                <p:nvPr/>
              </p:nvSpPr>
              <p:spPr>
                <a:xfrm>
                  <a:off x="312120" y="3544920"/>
                  <a:ext cx="33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9" name=""/>
                <p:cNvSpPr/>
                <p:nvPr/>
              </p:nvSpPr>
              <p:spPr>
                <a:xfrm>
                  <a:off x="312120" y="3200400"/>
                  <a:ext cx="33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0" name=""/>
                <p:cNvSpPr/>
                <p:nvPr/>
              </p:nvSpPr>
              <p:spPr>
                <a:xfrm>
                  <a:off x="415800" y="3287520"/>
                  <a:ext cx="20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1" name=""/>
              <p:cNvGrpSpPr/>
              <p:nvPr/>
            </p:nvGrpSpPr>
            <p:grpSpPr>
              <a:xfrm>
                <a:off x="313560" y="3906720"/>
                <a:ext cx="336240" cy="708120"/>
                <a:chOff x="313560" y="3906720"/>
                <a:chExt cx="336240" cy="708120"/>
              </a:xfrm>
            </p:grpSpPr>
            <p:sp>
              <p:nvSpPr>
                <p:cNvPr id="7122" name=""/>
                <p:cNvSpPr/>
                <p:nvPr/>
              </p:nvSpPr>
              <p:spPr>
                <a:xfrm>
                  <a:off x="313560" y="42159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3" name=""/>
                <p:cNvSpPr/>
                <p:nvPr/>
              </p:nvSpPr>
              <p:spPr>
                <a:xfrm>
                  <a:off x="313560" y="390672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00"/>
                      </a:solidFill>
                      <a:latin typeface="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4" name=""/>
                <p:cNvSpPr/>
                <p:nvPr/>
              </p:nvSpPr>
              <p:spPr>
                <a:xfrm>
                  <a:off x="415800" y="3984840"/>
                  <a:ext cx="20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4" dur="indefinite" restart="never" nodeType="tmRoot">
          <p:childTnLst>
            <p:seq>
              <p:cTn id="4005" dur="indefinite" nodeType="mainSeq">
                <p:childTnLst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4010" dur="500"/>
                                        <p:tgtEl>
                                          <p:spTgt spid="7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5" name="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利用译码器分时将采样数据送入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6" name=""/>
          <p:cNvGrpSpPr/>
          <p:nvPr/>
        </p:nvGrpSpPr>
        <p:grpSpPr>
          <a:xfrm>
            <a:off x="229680" y="990720"/>
            <a:ext cx="8492040" cy="5068800"/>
            <a:chOff x="229680" y="990720"/>
            <a:chExt cx="8492040" cy="5068800"/>
          </a:xfrm>
        </p:grpSpPr>
        <p:sp>
          <p:nvSpPr>
            <p:cNvPr id="7127" name=""/>
            <p:cNvSpPr/>
            <p:nvPr/>
          </p:nvSpPr>
          <p:spPr>
            <a:xfrm>
              <a:off x="229680" y="990720"/>
              <a:ext cx="6069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762120" y="1106640"/>
              <a:ext cx="71546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762120" y="1335240"/>
              <a:ext cx="68580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762120" y="1868400"/>
              <a:ext cx="6248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819520" y="4998960"/>
              <a:ext cx="2970000" cy="98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818320" y="56340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1320" y="514512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5791320" y="545004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948280" y="5707080"/>
              <a:ext cx="30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6237360" y="5692680"/>
              <a:ext cx="1116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6019920" y="605952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8862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594320" y="48402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5181480" y="484812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5146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5257800" y="4459320"/>
              <a:ext cx="0" cy="380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8381880" y="2859120"/>
              <a:ext cx="0" cy="1600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257800" y="4459320"/>
              <a:ext cx="3124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45720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3956040" y="414828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3962520" y="4154400"/>
              <a:ext cx="6094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V="1">
              <a:off x="4648320" y="4306680"/>
              <a:ext cx="0" cy="533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648320" y="4307040"/>
              <a:ext cx="1981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6629400" y="2859120"/>
              <a:ext cx="0" cy="1436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51" name="" descr=""/>
            <p:cNvPicPr/>
            <p:nvPr/>
          </p:nvPicPr>
          <p:blipFill>
            <a:blip r:embed="rId1"/>
            <a:stretch/>
          </p:blipFill>
          <p:spPr>
            <a:xfrm>
              <a:off x="6545160" y="4840200"/>
              <a:ext cx="4730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2" name="" descr=""/>
            <p:cNvPicPr/>
            <p:nvPr/>
          </p:nvPicPr>
          <p:blipFill>
            <a:blip r:embed="rId2"/>
            <a:stretch/>
          </p:blipFill>
          <p:spPr>
            <a:xfrm>
              <a:off x="6292800" y="5526000"/>
              <a:ext cx="3794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3" name=""/>
            <p:cNvSpPr/>
            <p:nvPr/>
          </p:nvSpPr>
          <p:spPr>
            <a:xfrm>
              <a:off x="3124080" y="5221440"/>
              <a:ext cx="25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-4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线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119052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322596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89480" y="38149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7237440" y="379080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2514600" y="4154400"/>
              <a:ext cx="7621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 flipV="1">
              <a:off x="3276720" y="415440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2004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685800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8083440" y="2782800"/>
              <a:ext cx="11448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 flipV="1">
              <a:off x="69850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V="1">
              <a:off x="72709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 flipV="1">
              <a:off x="75754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 flipV="1">
              <a:off x="7880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8188200" y="2859120"/>
              <a:ext cx="1936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 flipV="1" rot="16200000">
              <a:off x="728064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685800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V="1">
              <a:off x="701028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 flipV="1">
              <a:off x="731520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V="1">
              <a:off x="762012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 flipV="1">
              <a:off x="792468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762120" y="1563840"/>
              <a:ext cx="65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89548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4121280" y="278280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 flipV="1">
              <a:off x="302256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 flipV="1">
              <a:off x="3308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36133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flipV="1">
              <a:off x="39178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226040" y="285912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 flipV="1" rot="16200000">
              <a:off x="331812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89548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 flipV="1">
              <a:off x="304812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 flipV="1">
              <a:off x="335268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 flipV="1">
              <a:off x="365760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 flipV="1">
              <a:off x="396252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873000" y="24908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09880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V="1">
              <a:off x="10000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V="1">
              <a:off x="12859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 flipV="1">
              <a:off x="159084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 flipV="1">
              <a:off x="18954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03560" y="285588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 flipV="1" rot="16200000">
              <a:off x="129564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87300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 flipV="1">
              <a:off x="102564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 flipV="1">
              <a:off x="133020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 flipV="1">
              <a:off x="163512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 flipV="1">
              <a:off x="194004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1" name="" descr=""/>
            <p:cNvPicPr/>
            <p:nvPr/>
          </p:nvPicPr>
          <p:blipFill>
            <a:blip r:embed="rId3"/>
            <a:stretch/>
          </p:blipFill>
          <p:spPr>
            <a:xfrm>
              <a:off x="2832120" y="4459320"/>
              <a:ext cx="43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2" name="" descr=""/>
            <p:cNvPicPr/>
            <p:nvPr/>
          </p:nvPicPr>
          <p:blipFill>
            <a:blip r:embed="rId4"/>
            <a:stretch/>
          </p:blipFill>
          <p:spPr>
            <a:xfrm>
              <a:off x="3505320" y="4419720"/>
              <a:ext cx="43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3" name="" descr=""/>
            <p:cNvPicPr/>
            <p:nvPr/>
          </p:nvPicPr>
          <p:blipFill>
            <a:blip r:embed="rId5"/>
            <a:stretch/>
          </p:blipFill>
          <p:spPr>
            <a:xfrm>
              <a:off x="4205160" y="4459320"/>
              <a:ext cx="428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4" name=""/>
            <p:cNvSpPr/>
            <p:nvPr/>
          </p:nvSpPr>
          <p:spPr>
            <a:xfrm>
              <a:off x="4952880" y="2459160"/>
              <a:ext cx="1219320" cy="7426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617868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 flipV="1">
              <a:off x="507996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 flipV="1">
              <a:off x="53658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 flipV="1">
              <a:off x="56707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 flipV="1">
              <a:off x="59752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6283440" y="285588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 flipV="1" rot="16200000">
              <a:off x="537552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495288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 flipV="1">
              <a:off x="510552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4" name=""/>
            <p:cNvSpPr/>
            <p:nvPr/>
          </p:nvSpPr>
          <p:spPr>
            <a:xfrm flipV="1">
              <a:off x="541008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 flipV="1">
              <a:off x="571500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601992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17" name="" descr=""/>
            <p:cNvPicPr/>
            <p:nvPr/>
          </p:nvPicPr>
          <p:blipFill>
            <a:blip r:embed="rId6"/>
            <a:stretch/>
          </p:blipFill>
          <p:spPr>
            <a:xfrm>
              <a:off x="762120" y="4789440"/>
              <a:ext cx="190476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8" name=""/>
            <p:cNvSpPr/>
            <p:nvPr/>
          </p:nvSpPr>
          <p:spPr>
            <a:xfrm>
              <a:off x="1024920" y="523872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译码器工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19" name="" descr=""/>
            <p:cNvPicPr/>
            <p:nvPr/>
          </p:nvPicPr>
          <p:blipFill>
            <a:blip r:embed="rId7"/>
            <a:stretch/>
          </p:blipFill>
          <p:spPr>
            <a:xfrm>
              <a:off x="4800600" y="4419720"/>
              <a:ext cx="43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0" name="" descr=""/>
            <p:cNvPicPr/>
            <p:nvPr/>
          </p:nvPicPr>
          <p:blipFill>
            <a:blip r:embed="rId8"/>
            <a:stretch/>
          </p:blipFill>
          <p:spPr>
            <a:xfrm>
              <a:off x="6566040" y="5197320"/>
              <a:ext cx="44748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1" name="" descr=""/>
            <p:cNvPicPr/>
            <p:nvPr/>
          </p:nvPicPr>
          <p:blipFill>
            <a:blip r:embed="rId9"/>
            <a:stretch/>
          </p:blipFill>
          <p:spPr>
            <a:xfrm>
              <a:off x="2079720" y="2359080"/>
              <a:ext cx="51120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2" name="" descr=""/>
            <p:cNvPicPr/>
            <p:nvPr/>
          </p:nvPicPr>
          <p:blipFill>
            <a:blip r:embed="rId10"/>
            <a:stretch/>
          </p:blipFill>
          <p:spPr>
            <a:xfrm>
              <a:off x="4165560" y="2325600"/>
              <a:ext cx="50328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3" name="" descr=""/>
            <p:cNvPicPr/>
            <p:nvPr/>
          </p:nvPicPr>
          <p:blipFill>
            <a:blip r:embed="rId11"/>
            <a:stretch/>
          </p:blipFill>
          <p:spPr>
            <a:xfrm>
              <a:off x="6221520" y="2325600"/>
              <a:ext cx="5047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4" name="" descr=""/>
            <p:cNvPicPr/>
            <p:nvPr/>
          </p:nvPicPr>
          <p:blipFill>
            <a:blip r:embed="rId12"/>
            <a:stretch/>
          </p:blipFill>
          <p:spPr>
            <a:xfrm>
              <a:off x="8202600" y="2306520"/>
              <a:ext cx="51912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90720" y="1699920"/>
            <a:ext cx="3276360" cy="35377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平的高低一般用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两种状态区别，若规定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高电平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低电平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则称为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正逻辑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反之则称为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负逻辑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若无特殊说明，均采用正逻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24680" y="18288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41148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267080" y="4449600"/>
            <a:ext cx="3352680" cy="520560"/>
            <a:chOff x="4267080" y="4449600"/>
            <a:chExt cx="3352680" cy="520560"/>
          </a:xfrm>
        </p:grpSpPr>
        <p:sp>
          <p:nvSpPr>
            <p:cNvPr id="418" name=""/>
            <p:cNvSpPr/>
            <p:nvPr/>
          </p:nvSpPr>
          <p:spPr>
            <a:xfrm>
              <a:off x="4267080" y="4449600"/>
              <a:ext cx="104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0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52880" y="4724280"/>
              <a:ext cx="2666880" cy="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952880" y="4038480"/>
            <a:ext cx="2666880" cy="682560"/>
            <a:chOff x="4952880" y="4038480"/>
            <a:chExt cx="2666880" cy="682560"/>
          </a:xfrm>
        </p:grpSpPr>
        <p:grpSp>
          <p:nvGrpSpPr>
            <p:cNvPr id="421" name=""/>
            <p:cNvGrpSpPr/>
            <p:nvPr/>
          </p:nvGrpSpPr>
          <p:grpSpPr>
            <a:xfrm>
              <a:off x="4979880" y="4038480"/>
              <a:ext cx="2639520" cy="682560"/>
              <a:chOff x="4979880" y="4038480"/>
              <a:chExt cx="2639520" cy="682560"/>
            </a:xfrm>
          </p:grpSpPr>
          <p:sp>
            <p:nvSpPr>
              <p:cNvPr id="422" name=""/>
              <p:cNvSpPr/>
              <p:nvPr/>
            </p:nvSpPr>
            <p:spPr>
              <a:xfrm>
                <a:off x="4979880" y="4721040"/>
                <a:ext cx="2639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79880" y="4038480"/>
                <a:ext cx="2639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979880" y="4062600"/>
                <a:ext cx="2617920" cy="633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952880" y="4038480"/>
              <a:ext cx="2666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952880" y="1523880"/>
            <a:ext cx="2743200" cy="1218960"/>
            <a:chOff x="4952880" y="1523880"/>
            <a:chExt cx="2743200" cy="1218960"/>
          </a:xfrm>
        </p:grpSpPr>
        <p:grpSp>
          <p:nvGrpSpPr>
            <p:cNvPr id="427" name=""/>
            <p:cNvGrpSpPr/>
            <p:nvPr/>
          </p:nvGrpSpPr>
          <p:grpSpPr>
            <a:xfrm>
              <a:off x="4952880" y="1523880"/>
              <a:ext cx="2742840" cy="1218240"/>
              <a:chOff x="4952880" y="1523880"/>
              <a:chExt cx="2742840" cy="1218240"/>
            </a:xfrm>
          </p:grpSpPr>
          <p:sp>
            <p:nvSpPr>
              <p:cNvPr id="428" name=""/>
              <p:cNvSpPr/>
              <p:nvPr/>
            </p:nvSpPr>
            <p:spPr>
              <a:xfrm>
                <a:off x="4952880" y="1523880"/>
                <a:ext cx="2742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52880" y="2742120"/>
                <a:ext cx="27428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74840" y="1607760"/>
                <a:ext cx="2698200" cy="1091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952880" y="2742840"/>
              <a:ext cx="2743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286160" y="1214280"/>
            <a:ext cx="3352680" cy="560880"/>
            <a:chOff x="4286160" y="1214280"/>
            <a:chExt cx="3352680" cy="560880"/>
          </a:xfrm>
        </p:grpSpPr>
        <p:sp>
          <p:nvSpPr>
            <p:cNvPr id="433" name=""/>
            <p:cNvSpPr/>
            <p:nvPr/>
          </p:nvSpPr>
          <p:spPr>
            <a:xfrm>
              <a:off x="4286160" y="1214280"/>
              <a:ext cx="16063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  <a:ea typeface="楷体_GB2312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71960" y="1564920"/>
              <a:ext cx="26668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696080" y="4038480"/>
            <a:ext cx="152640" cy="60984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96080" y="16002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44160" y="658080"/>
            <a:ext cx="886320" cy="561600"/>
          </a:xfrm>
          <a:prstGeom prst="wedgeRoundRectCallout">
            <a:avLst>
              <a:gd name="adj1" fmla="val -68064"/>
              <a:gd name="adj2" fmla="val 156083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高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71200" y="2944080"/>
            <a:ext cx="886320" cy="561600"/>
          </a:xfrm>
          <a:prstGeom prst="wedgeRoundRectCallout">
            <a:avLst>
              <a:gd name="adj1" fmla="val -68064"/>
              <a:gd name="adj2" fmla="val 156083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低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638680" y="5181480"/>
            <a:ext cx="1447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3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6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4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5" name=""/>
          <p:cNvGrpSpPr/>
          <p:nvPr/>
        </p:nvGrpSpPr>
        <p:grpSpPr>
          <a:xfrm>
            <a:off x="229680" y="990720"/>
            <a:ext cx="8492040" cy="5068800"/>
            <a:chOff x="229680" y="990720"/>
            <a:chExt cx="8492040" cy="5068800"/>
          </a:xfrm>
        </p:grpSpPr>
        <p:sp>
          <p:nvSpPr>
            <p:cNvPr id="7226" name=""/>
            <p:cNvSpPr/>
            <p:nvPr/>
          </p:nvSpPr>
          <p:spPr>
            <a:xfrm>
              <a:off x="229680" y="990720"/>
              <a:ext cx="6069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总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762120" y="1106640"/>
              <a:ext cx="71546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762120" y="1335240"/>
              <a:ext cx="68580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762120" y="1868400"/>
              <a:ext cx="6248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2819520" y="4998960"/>
              <a:ext cx="2970000" cy="98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5818320" y="56340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5791320" y="514512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5791320" y="5450040"/>
              <a:ext cx="66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5948280" y="5707080"/>
              <a:ext cx="30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6237360" y="5692680"/>
              <a:ext cx="1116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6019920" y="605952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38862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594320" y="4840200"/>
              <a:ext cx="12996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5181480" y="484812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5146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5257800" y="4459320"/>
              <a:ext cx="0" cy="380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8381880" y="2859120"/>
              <a:ext cx="0" cy="1600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5257800" y="4459320"/>
              <a:ext cx="3124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4572000" y="2859120"/>
              <a:ext cx="0" cy="1295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 flipV="1">
              <a:off x="3956040" y="414828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3962520" y="4154400"/>
              <a:ext cx="6094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 flipV="1">
              <a:off x="4648320" y="4306680"/>
              <a:ext cx="0" cy="533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4648320" y="4307040"/>
              <a:ext cx="1981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629400" y="2859120"/>
              <a:ext cx="0" cy="14367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0" name="" descr=""/>
            <p:cNvPicPr/>
            <p:nvPr/>
          </p:nvPicPr>
          <p:blipFill>
            <a:blip r:embed="rId1"/>
            <a:stretch/>
          </p:blipFill>
          <p:spPr>
            <a:xfrm>
              <a:off x="6545160" y="4840200"/>
              <a:ext cx="4730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1" name="" descr=""/>
            <p:cNvPicPr/>
            <p:nvPr/>
          </p:nvPicPr>
          <p:blipFill>
            <a:blip r:embed="rId2"/>
            <a:stretch/>
          </p:blipFill>
          <p:spPr>
            <a:xfrm>
              <a:off x="6292800" y="5526000"/>
              <a:ext cx="3794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2" name=""/>
            <p:cNvSpPr/>
            <p:nvPr/>
          </p:nvSpPr>
          <p:spPr>
            <a:xfrm>
              <a:off x="3124080" y="5221440"/>
              <a:ext cx="25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-4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线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119052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3225960" y="38797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5289480" y="381492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7237440" y="379080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514600" y="4154400"/>
              <a:ext cx="7621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 flipV="1">
              <a:off x="3276720" y="4154400"/>
              <a:ext cx="0" cy="7207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3200400" y="4840200"/>
              <a:ext cx="130320" cy="1317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685800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8083440" y="2782800"/>
              <a:ext cx="11448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 flipV="1">
              <a:off x="69850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 flipV="1">
              <a:off x="72709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 flipV="1">
              <a:off x="75754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 flipV="1">
              <a:off x="7880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188200" y="2859120"/>
              <a:ext cx="1936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 flipV="1" rot="16200000">
              <a:off x="728064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85800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 flipV="1">
              <a:off x="701028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731520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 flipV="1">
              <a:off x="762012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792468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762120" y="1563840"/>
              <a:ext cx="65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2895480" y="24620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121280" y="278280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 flipV="1">
              <a:off x="302256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 flipV="1">
              <a:off x="330840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 flipV="1">
              <a:off x="361332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 flipV="1">
              <a:off x="3917880" y="322092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4226040" y="285912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 flipV="1" rot="16200000">
              <a:off x="3318120" y="330588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2895480" y="263052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V="1">
              <a:off x="3048120" y="18684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 flipV="1">
              <a:off x="3352680" y="15638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 flipV="1">
              <a:off x="3657600" y="13348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 flipV="1">
              <a:off x="3962520" y="1106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873000" y="2490840"/>
              <a:ext cx="1219320" cy="743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09880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 flipV="1">
              <a:off x="10000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 flipV="1">
              <a:off x="12859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 flipV="1">
              <a:off x="159084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 flipV="1">
              <a:off x="18954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203560" y="285588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 flipV="1" rot="16200000">
              <a:off x="129564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87300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 flipV="1">
              <a:off x="102564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 flipV="1">
              <a:off x="133020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V="1">
              <a:off x="163512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 flipV="1">
              <a:off x="194004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00" name="" descr=""/>
            <p:cNvPicPr/>
            <p:nvPr/>
          </p:nvPicPr>
          <p:blipFill>
            <a:blip r:embed="rId3"/>
            <a:stretch/>
          </p:blipFill>
          <p:spPr>
            <a:xfrm>
              <a:off x="2832120" y="4459320"/>
              <a:ext cx="43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1" name="" descr=""/>
            <p:cNvPicPr/>
            <p:nvPr/>
          </p:nvPicPr>
          <p:blipFill>
            <a:blip r:embed="rId4"/>
            <a:stretch/>
          </p:blipFill>
          <p:spPr>
            <a:xfrm>
              <a:off x="3505320" y="4419720"/>
              <a:ext cx="43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2" name="" descr=""/>
            <p:cNvPicPr/>
            <p:nvPr/>
          </p:nvPicPr>
          <p:blipFill>
            <a:blip r:embed="rId5"/>
            <a:stretch/>
          </p:blipFill>
          <p:spPr>
            <a:xfrm>
              <a:off x="4205160" y="4459320"/>
              <a:ext cx="428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3" name=""/>
            <p:cNvSpPr/>
            <p:nvPr/>
          </p:nvSpPr>
          <p:spPr>
            <a:xfrm>
              <a:off x="4952880" y="2459160"/>
              <a:ext cx="1219320" cy="7426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6178680" y="2779560"/>
              <a:ext cx="114120" cy="1335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 flipV="1">
              <a:off x="507996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 flipV="1">
              <a:off x="536580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V="1">
              <a:off x="567072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 flipV="1">
              <a:off x="5975280" y="3218040"/>
              <a:ext cx="0" cy="457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6283440" y="2855880"/>
              <a:ext cx="3459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 flipV="1" rot="16200000">
              <a:off x="5375520" y="3302640"/>
              <a:ext cx="317520" cy="9954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5920 h 995400"/>
                <a:gd name="textAreaBottom" fmla="*/ 96948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952880" y="2627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三态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 flipV="1">
              <a:off x="5105520" y="1865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 flipV="1">
              <a:off x="5410080" y="1560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V="1">
              <a:off x="5715000" y="133164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V="1">
              <a:off x="6019920" y="1103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6" name="" descr=""/>
            <p:cNvPicPr/>
            <p:nvPr/>
          </p:nvPicPr>
          <p:blipFill>
            <a:blip r:embed="rId6"/>
            <a:stretch/>
          </p:blipFill>
          <p:spPr>
            <a:xfrm>
              <a:off x="762120" y="4789440"/>
              <a:ext cx="190476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7" name=""/>
            <p:cNvSpPr/>
            <p:nvPr/>
          </p:nvSpPr>
          <p:spPr>
            <a:xfrm>
              <a:off x="1024920" y="523872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译码器工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8" name="" descr=""/>
            <p:cNvPicPr/>
            <p:nvPr/>
          </p:nvPicPr>
          <p:blipFill>
            <a:blip r:embed="rId7"/>
            <a:stretch/>
          </p:blipFill>
          <p:spPr>
            <a:xfrm>
              <a:off x="4800600" y="4419720"/>
              <a:ext cx="43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9" name="" descr=""/>
            <p:cNvPicPr/>
            <p:nvPr/>
          </p:nvPicPr>
          <p:blipFill>
            <a:blip r:embed="rId8"/>
            <a:stretch/>
          </p:blipFill>
          <p:spPr>
            <a:xfrm>
              <a:off x="6566040" y="5197320"/>
              <a:ext cx="44748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0" name="" descr=""/>
            <p:cNvPicPr/>
            <p:nvPr/>
          </p:nvPicPr>
          <p:blipFill>
            <a:blip r:embed="rId9"/>
            <a:stretch/>
          </p:blipFill>
          <p:spPr>
            <a:xfrm>
              <a:off x="2079720" y="2359080"/>
              <a:ext cx="51120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1" name="" descr=""/>
            <p:cNvPicPr/>
            <p:nvPr/>
          </p:nvPicPr>
          <p:blipFill>
            <a:blip r:embed="rId10"/>
            <a:stretch/>
          </p:blipFill>
          <p:spPr>
            <a:xfrm>
              <a:off x="4165560" y="2325600"/>
              <a:ext cx="50328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2" name="" descr=""/>
            <p:cNvPicPr/>
            <p:nvPr/>
          </p:nvPicPr>
          <p:blipFill>
            <a:blip r:embed="rId11"/>
            <a:stretch/>
          </p:blipFill>
          <p:spPr>
            <a:xfrm>
              <a:off x="6221520" y="2325600"/>
              <a:ext cx="5047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3" name="" descr=""/>
            <p:cNvPicPr/>
            <p:nvPr/>
          </p:nvPicPr>
          <p:blipFill>
            <a:blip r:embed="rId12"/>
            <a:stretch/>
          </p:blipFill>
          <p:spPr>
            <a:xfrm>
              <a:off x="8202600" y="2306520"/>
              <a:ext cx="519120" cy="4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4" name=""/>
          <p:cNvSpPr/>
          <p:nvPr/>
        </p:nvSpPr>
        <p:spPr>
          <a:xfrm>
            <a:off x="533520" y="45720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工作原理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5" name=""/>
          <p:cNvGrpSpPr/>
          <p:nvPr/>
        </p:nvGrpSpPr>
        <p:grpSpPr>
          <a:xfrm>
            <a:off x="6923520" y="4800600"/>
            <a:ext cx="383400" cy="1020240"/>
            <a:chOff x="6923520" y="4800600"/>
            <a:chExt cx="383400" cy="1020240"/>
          </a:xfrm>
        </p:grpSpPr>
        <p:sp>
          <p:nvSpPr>
            <p:cNvPr id="7326" name=""/>
            <p:cNvSpPr/>
            <p:nvPr/>
          </p:nvSpPr>
          <p:spPr>
            <a:xfrm>
              <a:off x="6923520" y="48006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923520" y="52578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8" name=""/>
          <p:cNvGrpSpPr/>
          <p:nvPr/>
        </p:nvGrpSpPr>
        <p:grpSpPr>
          <a:xfrm>
            <a:off x="2819520" y="1905120"/>
            <a:ext cx="5257440" cy="456840"/>
            <a:chOff x="2819520" y="1905120"/>
            <a:chExt cx="5257440" cy="456840"/>
          </a:xfrm>
        </p:grpSpPr>
        <p:sp>
          <p:nvSpPr>
            <p:cNvPr id="7329" name=""/>
            <p:cNvSpPr/>
            <p:nvPr/>
          </p:nvSpPr>
          <p:spPr>
            <a:xfrm>
              <a:off x="2819520" y="190512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4854600" y="192204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6663600" y="1972440"/>
              <a:ext cx="1413360" cy="389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2" name=""/>
          <p:cNvSpPr/>
          <p:nvPr/>
        </p:nvSpPr>
        <p:spPr>
          <a:xfrm>
            <a:off x="2819520" y="4038480"/>
            <a:ext cx="380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>
            <a:off x="6553080" y="624600"/>
            <a:ext cx="1981440" cy="561600"/>
          </a:xfrm>
          <a:prstGeom prst="wedgeRoundRectCallout">
            <a:avLst>
              <a:gd name="adj1" fmla="val 152"/>
              <a:gd name="adj2" fmla="val 217773"/>
              <a:gd name="adj3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  <a:ea typeface="楷体_GB2312"/>
              </a:rPr>
              <a:t>脱离总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4" name=""/>
          <p:cNvGrpSpPr/>
          <p:nvPr/>
        </p:nvGrpSpPr>
        <p:grpSpPr>
          <a:xfrm>
            <a:off x="1066680" y="1295280"/>
            <a:ext cx="800280" cy="1390680"/>
            <a:chOff x="1066680" y="1295280"/>
            <a:chExt cx="800280" cy="1390680"/>
          </a:xfrm>
        </p:grpSpPr>
        <p:sp>
          <p:nvSpPr>
            <p:cNvPr id="7335" name=""/>
            <p:cNvSpPr/>
            <p:nvPr/>
          </p:nvSpPr>
          <p:spPr>
            <a:xfrm>
              <a:off x="1066680" y="1295280"/>
              <a:ext cx="800280" cy="1047960"/>
            </a:xfrm>
            <a:prstGeom prst="upArrow">
              <a:avLst>
                <a:gd name="adj1" fmla="val 50000"/>
                <a:gd name="adj2" fmla="val 32737"/>
              </a:avLst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141920" y="1447920"/>
              <a:ext cx="66780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"/>
                  <a:ea typeface="楷体_GB2312"/>
                </a:rPr>
                <a:t>数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7" name=""/>
          <p:cNvSpPr/>
          <p:nvPr/>
        </p:nvSpPr>
        <p:spPr>
          <a:xfrm>
            <a:off x="5791320" y="4353840"/>
            <a:ext cx="1981080" cy="561600"/>
          </a:xfrm>
          <a:prstGeom prst="wedgeRoundRectCallout">
            <a:avLst>
              <a:gd name="adj1" fmla="val -66824"/>
              <a:gd name="adj2" fmla="val -6953"/>
              <a:gd name="adj3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全为“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505320" y="434340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1" dur="indefinite" restart="never" nodeType="tmRoot">
          <p:childTnLst>
            <p:seq>
              <p:cTn id="4012" dur="indefinite" nodeType="mainSeq">
                <p:childTnLst>
                  <p:par>
                    <p:cTn id="4013" nodeType="clickEffect" fill="hold">
                      <p:stCondLst>
                        <p:cond delay="indefinite"/>
                      </p:stCondLst>
                      <p:childTnLst>
                        <p:par>
                          <p:cTn id="40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017" dur="500"/>
                                        <p:tgtEl>
                                          <p:spTgt spid="7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nodeType="clickEffect" fill="hold">
                      <p:stCondLst>
                        <p:cond delay="indefinite"/>
                      </p:stCondLst>
                      <p:childTnLst>
                        <p:par>
                          <p:cTn id="40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22" dur="500"/>
                                        <p:tgtEl>
                                          <p:spTgt spid="7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nodeType="clickEffect" fill="hold">
                      <p:stCondLst>
                        <p:cond delay="indefinite"/>
                      </p:stCondLst>
                      <p:childTnLst>
                        <p:par>
                          <p:cTn id="40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27" dur="500"/>
                                        <p:tgtEl>
                                          <p:spTgt spid="7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9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031" dur="500"/>
                                        <p:tgtEl>
                                          <p:spTgt spid="7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nodeType="clickEffect" fill="hold">
                      <p:stCondLst>
                        <p:cond delay="indefinite"/>
                      </p:stCondLst>
                      <p:childTnLst>
                        <p:par>
                          <p:cTn id="40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18" presetSubtype="6"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base">
                                        <p:cTn id="4036" dur="500"/>
                                        <p:tgtEl>
                                          <p:spTgt spid="7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8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040" dur="500"/>
                                        <p:tgtEl>
                                          <p:spTgt spid="7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nodeType="clickEffect" fill="hold">
                      <p:stCondLst>
                        <p:cond delay="indefinite"/>
                      </p:stCondLst>
                      <p:childTnLst>
                        <p:par>
                          <p:cTn id="40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045" dur="500"/>
                                        <p:tgtEl>
                                          <p:spTgt spid="7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9" name=""/>
          <p:cNvGrpSpPr/>
          <p:nvPr/>
        </p:nvGrpSpPr>
        <p:grpSpPr>
          <a:xfrm>
            <a:off x="609480" y="777960"/>
            <a:ext cx="8036280" cy="4404600"/>
            <a:chOff x="609480" y="777960"/>
            <a:chExt cx="8036280" cy="4404600"/>
          </a:xfrm>
        </p:grpSpPr>
        <p:sp>
          <p:nvSpPr>
            <p:cNvPr id="7340" name=""/>
            <p:cNvSpPr/>
            <p:nvPr/>
          </p:nvSpPr>
          <p:spPr>
            <a:xfrm>
              <a:off x="3334680" y="4375080"/>
              <a:ext cx="201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4LS139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型译码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3021480" y="4816440"/>
              <a:ext cx="29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外引线排列图；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逻辑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1836360" y="4130640"/>
              <a:ext cx="29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3" name=""/>
            <p:cNvGrpSpPr/>
            <p:nvPr/>
          </p:nvGrpSpPr>
          <p:grpSpPr>
            <a:xfrm>
              <a:off x="609480" y="777960"/>
              <a:ext cx="2910960" cy="3338280"/>
              <a:chOff x="609480" y="777960"/>
              <a:chExt cx="2910960" cy="3338280"/>
            </a:xfrm>
          </p:grpSpPr>
          <p:grpSp>
            <p:nvGrpSpPr>
              <p:cNvPr id="7344" name=""/>
              <p:cNvGrpSpPr/>
              <p:nvPr/>
            </p:nvGrpSpPr>
            <p:grpSpPr>
              <a:xfrm>
                <a:off x="609480" y="862200"/>
                <a:ext cx="677520" cy="3241080"/>
                <a:chOff x="609480" y="862200"/>
                <a:chExt cx="677520" cy="3241080"/>
              </a:xfrm>
            </p:grpSpPr>
            <p:sp>
              <p:nvSpPr>
                <p:cNvPr id="7345" name=""/>
                <p:cNvSpPr/>
                <p:nvPr/>
              </p:nvSpPr>
              <p:spPr>
                <a:xfrm>
                  <a:off x="609480" y="3737160"/>
                  <a:ext cx="677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>
                  <a:off x="664200" y="335304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>
                  <a:off x="664200" y="293256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8" name=""/>
                <p:cNvSpPr/>
                <p:nvPr/>
              </p:nvSpPr>
              <p:spPr>
                <a:xfrm>
                  <a:off x="664200" y="252576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>
                  <a:off x="664200" y="2111040"/>
                  <a:ext cx="42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0" name=""/>
                <p:cNvSpPr/>
                <p:nvPr/>
              </p:nvSpPr>
              <p:spPr>
                <a:xfrm>
                  <a:off x="664920" y="1692000"/>
                  <a:ext cx="44424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1" name=""/>
                <p:cNvSpPr/>
                <p:nvPr/>
              </p:nvSpPr>
              <p:spPr>
                <a:xfrm>
                  <a:off x="664920" y="1278000"/>
                  <a:ext cx="44424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>
                  <a:off x="658440" y="862200"/>
                  <a:ext cx="32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3" name=""/>
              <p:cNvGrpSpPr/>
              <p:nvPr/>
            </p:nvGrpSpPr>
            <p:grpSpPr>
              <a:xfrm>
                <a:off x="1562400" y="842760"/>
                <a:ext cx="140040" cy="3204360"/>
                <a:chOff x="1562400" y="842760"/>
                <a:chExt cx="140040" cy="3204360"/>
              </a:xfrm>
            </p:grpSpPr>
            <p:sp>
              <p:nvSpPr>
                <p:cNvPr id="7354" name=""/>
                <p:cNvSpPr/>
                <p:nvPr/>
              </p:nvSpPr>
              <p:spPr>
                <a:xfrm>
                  <a:off x="1573560" y="37418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>
                  <a:off x="1569600" y="33303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6" name=""/>
                <p:cNvSpPr/>
                <p:nvPr/>
              </p:nvSpPr>
              <p:spPr>
                <a:xfrm>
                  <a:off x="1573560" y="29098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7" name=""/>
                <p:cNvSpPr/>
                <p:nvPr/>
              </p:nvSpPr>
              <p:spPr>
                <a:xfrm>
                  <a:off x="1569600" y="25034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8" name=""/>
                <p:cNvSpPr/>
                <p:nvPr/>
              </p:nvSpPr>
              <p:spPr>
                <a:xfrm>
                  <a:off x="1573560" y="20919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9" name=""/>
                <p:cNvSpPr/>
                <p:nvPr/>
              </p:nvSpPr>
              <p:spPr>
                <a:xfrm>
                  <a:off x="1569600" y="167004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0" name=""/>
                <p:cNvSpPr/>
                <p:nvPr/>
              </p:nvSpPr>
              <p:spPr>
                <a:xfrm>
                  <a:off x="1569600" y="12553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1" name=""/>
                <p:cNvSpPr/>
                <p:nvPr/>
              </p:nvSpPr>
              <p:spPr>
                <a:xfrm>
                  <a:off x="1562400" y="8427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2" name=""/>
              <p:cNvSpPr/>
              <p:nvPr/>
            </p:nvSpPr>
            <p:spPr>
              <a:xfrm>
                <a:off x="2863440" y="331704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928240" y="369972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2869560" y="289512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862000" y="248940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869560" y="207540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862000" y="1656360"/>
                <a:ext cx="46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939760" y="124200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870280" y="825840"/>
                <a:ext cx="650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240280" y="33350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325240" y="37450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247840" y="8589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243160" y="126000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237040" y="16743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243160" y="20962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243160" y="25077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247840" y="291312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rot="5400000">
                <a:off x="1431720" y="2147400"/>
                <a:ext cx="1134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4LS13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1492560" y="777960"/>
                <a:ext cx="1074600" cy="3327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1275480" y="380232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1275480" y="339372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1275480" y="2971800"/>
                <a:ext cx="216720" cy="20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1275480" y="2568240"/>
                <a:ext cx="216720" cy="204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1275480" y="2154960"/>
                <a:ext cx="216720" cy="203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1275480" y="1733400"/>
                <a:ext cx="216720" cy="2030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1275480" y="131868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1275480" y="904320"/>
                <a:ext cx="2167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567520" y="339372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567520" y="380232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567520" y="2568240"/>
                <a:ext cx="218520" cy="204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567520" y="2971800"/>
                <a:ext cx="218520" cy="20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567520" y="2154960"/>
                <a:ext cx="218520" cy="203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567520" y="1733400"/>
                <a:ext cx="218520" cy="2030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567520" y="131868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567520" y="904320"/>
                <a:ext cx="218520" cy="204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6" name=""/>
            <p:cNvGrpSpPr/>
            <p:nvPr/>
          </p:nvGrpSpPr>
          <p:grpSpPr>
            <a:xfrm>
              <a:off x="833400" y="2149560"/>
              <a:ext cx="233280" cy="380880"/>
              <a:chOff x="833400" y="2149560"/>
              <a:chExt cx="233280" cy="380880"/>
            </a:xfrm>
          </p:grpSpPr>
          <p:sp>
            <p:nvSpPr>
              <p:cNvPr id="7397" name=""/>
              <p:cNvSpPr/>
              <p:nvPr/>
            </p:nvSpPr>
            <p:spPr>
              <a:xfrm>
                <a:off x="838080" y="21495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833400" y="25304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9" name=""/>
            <p:cNvSpPr/>
            <p:nvPr/>
          </p:nvSpPr>
          <p:spPr>
            <a:xfrm>
              <a:off x="3048120" y="3743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3011400" y="249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1" name=""/>
            <p:cNvGrpSpPr/>
            <p:nvPr/>
          </p:nvGrpSpPr>
          <p:grpSpPr>
            <a:xfrm>
              <a:off x="838080" y="2944800"/>
              <a:ext cx="233280" cy="423360"/>
              <a:chOff x="838080" y="2944800"/>
              <a:chExt cx="233280" cy="423360"/>
            </a:xfrm>
          </p:grpSpPr>
          <p:sp>
            <p:nvSpPr>
              <p:cNvPr id="7402" name=""/>
              <p:cNvSpPr/>
              <p:nvPr/>
            </p:nvSpPr>
            <p:spPr>
              <a:xfrm>
                <a:off x="842760" y="29448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838080" y="33681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4" name=""/>
            <p:cNvGrpSpPr/>
            <p:nvPr/>
          </p:nvGrpSpPr>
          <p:grpSpPr>
            <a:xfrm>
              <a:off x="3006720" y="2911320"/>
              <a:ext cx="233280" cy="423720"/>
              <a:chOff x="3006720" y="2911320"/>
              <a:chExt cx="233280" cy="423720"/>
            </a:xfrm>
          </p:grpSpPr>
          <p:sp>
            <p:nvSpPr>
              <p:cNvPr id="7405" name=""/>
              <p:cNvSpPr/>
              <p:nvPr/>
            </p:nvSpPr>
            <p:spPr>
              <a:xfrm>
                <a:off x="3011400" y="29113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3006720" y="3335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7" name=""/>
            <p:cNvSpPr/>
            <p:nvPr/>
          </p:nvSpPr>
          <p:spPr>
            <a:xfrm>
              <a:off x="3048120" y="12715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801720" y="890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094080" y="413064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4849200" y="1031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4849200" y="2266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849200" y="3490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6058800" y="2266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6058800" y="3490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7354800" y="10177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8370720" y="108576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7354800" y="188928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8370720" y="195912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7354800" y="27464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8370720" y="281448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7354800" y="3600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8370720" y="366552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3881520" y="934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3813480" y="211284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3807000" y="3336840"/>
              <a:ext cx="527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703760" y="981000"/>
              <a:ext cx="32688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703760" y="2219400"/>
              <a:ext cx="326880" cy="326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703760" y="3443400"/>
              <a:ext cx="32688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5913360" y="2219400"/>
              <a:ext cx="330120" cy="326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5913360" y="3443400"/>
              <a:ext cx="330120" cy="32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7194600" y="987480"/>
              <a:ext cx="449280" cy="65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7643880" y="127620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7713720" y="1311120"/>
              <a:ext cx="54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8255160" y="127620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6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8255160" y="2149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4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7643880" y="2149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4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7194600" y="1859040"/>
              <a:ext cx="449280" cy="64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7713720" y="2185920"/>
              <a:ext cx="54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8255160" y="30067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4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7643880" y="30067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4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7194600" y="2716200"/>
              <a:ext cx="449280" cy="649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7713720" y="3043080"/>
              <a:ext cx="54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8255160" y="3857760"/>
              <a:ext cx="69840" cy="712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7" y="7"/>
                  </a:lnTo>
                  <a:lnTo>
                    <a:pt x="21" y="0"/>
                  </a:lnTo>
                  <a:lnTo>
                    <a:pt x="5" y="7"/>
                  </a:lnTo>
                  <a:lnTo>
                    <a:pt x="0" y="23"/>
                  </a:lnTo>
                  <a:lnTo>
                    <a:pt x="5" y="39"/>
                  </a:lnTo>
                  <a:lnTo>
                    <a:pt x="21" y="46"/>
                  </a:lnTo>
                  <a:lnTo>
                    <a:pt x="37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7643880" y="3857760"/>
              <a:ext cx="69840" cy="712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3"/>
                  </a:moveTo>
                  <a:lnTo>
                    <a:pt x="38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8" y="39"/>
                  </a:lnTo>
                  <a:lnTo>
                    <a:pt x="44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7194600" y="3567240"/>
              <a:ext cx="449280" cy="65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7713720" y="3892680"/>
              <a:ext cx="54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243480" y="3570120"/>
              <a:ext cx="69840" cy="684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21"/>
                  </a:moveTo>
                  <a:lnTo>
                    <a:pt x="38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8" y="37"/>
                  </a:lnTo>
                  <a:lnTo>
                    <a:pt x="45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5030640" y="35701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1"/>
                  </a:moveTo>
                  <a:lnTo>
                    <a:pt x="39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9" y="37"/>
                  </a:lnTo>
                  <a:lnTo>
                    <a:pt x="44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243480" y="2346480"/>
              <a:ext cx="69840" cy="680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21"/>
                  </a:moveTo>
                  <a:lnTo>
                    <a:pt x="38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8" y="37"/>
                  </a:lnTo>
                  <a:lnTo>
                    <a:pt x="45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30640" y="23464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1"/>
                  </a:moveTo>
                  <a:lnTo>
                    <a:pt x="39" y="5"/>
                  </a:lnTo>
                  <a:lnTo>
                    <a:pt x="23" y="0"/>
                  </a:lnTo>
                  <a:lnTo>
                    <a:pt x="7" y="5"/>
                  </a:lnTo>
                  <a:lnTo>
                    <a:pt x="0" y="21"/>
                  </a:lnTo>
                  <a:lnTo>
                    <a:pt x="7" y="37"/>
                  </a:lnTo>
                  <a:lnTo>
                    <a:pt x="23" y="44"/>
                  </a:lnTo>
                  <a:lnTo>
                    <a:pt x="39" y="37"/>
                  </a:lnTo>
                  <a:lnTo>
                    <a:pt x="44" y="2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635360" y="1090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8"/>
                  </a:lnTo>
                  <a:lnTo>
                    <a:pt x="23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 flipH="1">
              <a:off x="4242960" y="1127160"/>
              <a:ext cx="392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70240" y="1090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8"/>
                  </a:lnTo>
                  <a:lnTo>
                    <a:pt x="23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 flipH="1">
              <a:off x="4238640" y="2381400"/>
              <a:ext cx="465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165560" y="234648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 flipH="1">
              <a:off x="4238640" y="3605040"/>
              <a:ext cx="465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165560" y="357012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39" y="7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23" y="46"/>
                  </a:lnTo>
                  <a:lnTo>
                    <a:pt x="39" y="39"/>
                  </a:lnTo>
                  <a:lnTo>
                    <a:pt x="46" y="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5100480" y="3603600"/>
              <a:ext cx="81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5697360" y="1278000"/>
              <a:ext cx="1800" cy="23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5697360" y="1278000"/>
              <a:ext cx="1497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 flipH="1">
              <a:off x="5467320" y="1104840"/>
              <a:ext cx="1727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5467320" y="1104840"/>
              <a:ext cx="144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5467320" y="2967120"/>
              <a:ext cx="1727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 flipH="1">
              <a:off x="6965640" y="153360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6966000" y="1533600"/>
              <a:ext cx="1440" cy="21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6966000" y="368316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 flipH="1">
              <a:off x="6516360" y="4103640"/>
              <a:ext cx="677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 flipV="1">
              <a:off x="6516720" y="3213000"/>
              <a:ext cx="1440" cy="89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6516720" y="3213000"/>
              <a:ext cx="677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 flipH="1">
              <a:off x="6745320" y="3892680"/>
              <a:ext cx="449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 flipV="1">
              <a:off x="6745320" y="2377800"/>
              <a:ext cx="1440" cy="15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6313320" y="2378160"/>
              <a:ext cx="8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 flipH="1" flipV="1">
              <a:off x="5100480" y="2377800"/>
              <a:ext cx="8128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5030640" y="1146240"/>
              <a:ext cx="217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5248440" y="1146240"/>
              <a:ext cx="1440" cy="78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5248440" y="1928880"/>
              <a:ext cx="19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 flipH="1">
              <a:off x="5697000" y="2097000"/>
              <a:ext cx="1497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6966000" y="19000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6966000" y="19000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6966000" y="18892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6966000" y="18892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6939000" y="18892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0" y="7"/>
                  </a:lnTo>
                  <a:lnTo>
                    <a:pt x="18" y="2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6939000" y="18892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0" y="7"/>
                  </a:lnTo>
                  <a:lnTo>
                    <a:pt x="18" y="25"/>
                  </a:lnTo>
                  <a:lnTo>
                    <a:pt x="1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6927840" y="1900080"/>
              <a:ext cx="3816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7" y="0"/>
                  </a:moveTo>
                  <a:lnTo>
                    <a:pt x="0" y="18"/>
                  </a:lnTo>
                  <a:lnTo>
                    <a:pt x="25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6927840" y="1900080"/>
              <a:ext cx="3816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7" y="0"/>
                  </a:moveTo>
                  <a:lnTo>
                    <a:pt x="0" y="18"/>
                  </a:lnTo>
                  <a:lnTo>
                    <a:pt x="25" y="18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6927840" y="1928880"/>
              <a:ext cx="381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7" y="18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6927840" y="1928880"/>
              <a:ext cx="381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7" y="18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6939000" y="19288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18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6939000" y="19288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18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6966000" y="19288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18" y="18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6966000" y="192888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26"/>
                  </a:moveTo>
                  <a:lnTo>
                    <a:pt x="18" y="18"/>
                  </a:lnTo>
                  <a:lnTo>
                    <a:pt x="0" y="0"/>
                  </a:lnTo>
                  <a:lnTo>
                    <a:pt x="0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6966000" y="192888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8" y="18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6966000" y="192888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8" y="18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5467320" y="2354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5467320" y="2354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18" y="0"/>
                  </a:lnTo>
                  <a:lnTo>
                    <a:pt x="0" y="18"/>
                  </a:lnTo>
                  <a:lnTo>
                    <a:pt x="25" y="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5467320" y="23432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5467320" y="23432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7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8" y="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5440320" y="23432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0" y="7"/>
                  </a:lnTo>
                  <a:lnTo>
                    <a:pt x="17" y="2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5440320" y="23432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0" y="7"/>
                  </a:lnTo>
                  <a:lnTo>
                    <a:pt x="17" y="25"/>
                  </a:lnTo>
                  <a:lnTo>
                    <a:pt x="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5429160" y="2354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7" y="0"/>
                  </a:moveTo>
                  <a:lnTo>
                    <a:pt x="0" y="18"/>
                  </a:lnTo>
                  <a:lnTo>
                    <a:pt x="24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5429160" y="2354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7" y="0"/>
                  </a:moveTo>
                  <a:lnTo>
                    <a:pt x="0" y="18"/>
                  </a:lnTo>
                  <a:lnTo>
                    <a:pt x="24" y="18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5429160" y="2381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7" y="17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429160" y="2381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7" y="17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5440320" y="23814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7"/>
                  </a:moveTo>
                  <a:lnTo>
                    <a:pt x="17" y="24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5440320" y="23814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7"/>
                  </a:moveTo>
                  <a:lnTo>
                    <a:pt x="17" y="24"/>
                  </a:lnTo>
                  <a:lnTo>
                    <a:pt x="17" y="0"/>
                  </a:lnTo>
                  <a:lnTo>
                    <a:pt x="0" y="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5467320" y="238140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7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5467320" y="238140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7"/>
                  </a:lnTo>
                  <a:lnTo>
                    <a:pt x="0" y="0"/>
                  </a:lnTo>
                  <a:lnTo>
                    <a:pt x="0" y="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5467320" y="2381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8" y="1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5467320" y="23814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8" y="1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8" y="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6324480" y="3597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8381880" y="108252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381880" y="1981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8381880" y="281952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8381880" y="367344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3849840" y="981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6" name=""/>
          <p:cNvSpPr/>
          <p:nvPr/>
        </p:nvSpPr>
        <p:spPr>
          <a:xfrm>
            <a:off x="914400" y="510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双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/4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线译码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5486400" y="50752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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66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是输入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8" name=""/>
          <p:cNvGrpSpPr/>
          <p:nvPr/>
        </p:nvGrpSpPr>
        <p:grpSpPr>
          <a:xfrm>
            <a:off x="762120" y="5608440"/>
            <a:ext cx="2819160" cy="579600"/>
            <a:chOff x="762120" y="5608440"/>
            <a:chExt cx="2819160" cy="579600"/>
          </a:xfrm>
        </p:grpSpPr>
        <p:sp>
          <p:nvSpPr>
            <p:cNvPr id="7519" name=""/>
            <p:cNvSpPr/>
            <p:nvPr/>
          </p:nvSpPr>
          <p:spPr>
            <a:xfrm>
              <a:off x="762120" y="5608440"/>
              <a:ext cx="2819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~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3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是输出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990720" y="5714640"/>
              <a:ext cx="244440" cy="1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1523880" y="5714640"/>
              <a:ext cx="244440" cy="1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2" name=""/>
          <p:cNvGrpSpPr/>
          <p:nvPr/>
        </p:nvGrpSpPr>
        <p:grpSpPr>
          <a:xfrm>
            <a:off x="5105520" y="5652360"/>
            <a:ext cx="2286000" cy="520560"/>
            <a:chOff x="5105520" y="5652360"/>
            <a:chExt cx="2286000" cy="520560"/>
          </a:xfrm>
        </p:grpSpPr>
        <p:sp>
          <p:nvSpPr>
            <p:cNvPr id="7523" name=""/>
            <p:cNvSpPr/>
            <p:nvPr/>
          </p:nvSpPr>
          <p:spPr>
            <a:xfrm>
              <a:off x="5105520" y="56523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  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S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是使能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5562720" y="57672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6" dur="indefinite" restart="never" nodeType="tmRoot">
          <p:childTnLst>
            <p:seq>
              <p:cTn id="4047" dur="indefinite" nodeType="mainSeq">
                <p:childTnLst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52" dur="500"/>
                                        <p:tgtEl>
                                          <p:spTgt spid="7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57" dur="500"/>
                                        <p:tgtEl>
                                          <p:spTgt spid="7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62" dur="500"/>
                                        <p:tgtEl>
                                          <p:spTgt spid="7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67" dur="500"/>
                                        <p:tgtEl>
                                          <p:spTgt spid="7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5" name=""/>
          <p:cNvSpPr/>
          <p:nvPr/>
        </p:nvSpPr>
        <p:spPr>
          <a:xfrm>
            <a:off x="1299240" y="137304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74LS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139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译码器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6" name=""/>
          <p:cNvGrpSpPr/>
          <p:nvPr/>
        </p:nvGrpSpPr>
        <p:grpSpPr>
          <a:xfrm>
            <a:off x="685800" y="1930320"/>
            <a:ext cx="4316400" cy="3632400"/>
            <a:chOff x="685800" y="1930320"/>
            <a:chExt cx="4316400" cy="3632400"/>
          </a:xfrm>
        </p:grpSpPr>
        <p:sp>
          <p:nvSpPr>
            <p:cNvPr id="7527" name=""/>
            <p:cNvSpPr/>
            <p:nvPr/>
          </p:nvSpPr>
          <p:spPr>
            <a:xfrm>
              <a:off x="735120" y="1930320"/>
              <a:ext cx="4186080" cy="144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735120" y="2463840"/>
              <a:ext cx="4200480" cy="284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735120" y="5562720"/>
              <a:ext cx="4192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735120" y="1959120"/>
              <a:ext cx="0" cy="3581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735120" y="3025800"/>
              <a:ext cx="4186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563920" y="1959120"/>
              <a:ext cx="0" cy="3581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685800" y="19591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135160" y="1930320"/>
              <a:ext cx="28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输 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970560" y="2463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963720" y="254016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1878120" y="246384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1431000" y="24638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4252320" y="25066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952920" y="302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4330800" y="304812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952920" y="3483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1486440" y="3483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2019600" y="3483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952920" y="394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1486440" y="394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2019600" y="394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1486440" y="439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2019600" y="439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952920" y="439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1486440" y="485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2019600" y="485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952920" y="485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316400" y="4930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05600" y="4473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05600" y="4016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305600" y="355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925880" y="1959120"/>
              <a:ext cx="0" cy="35812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1455480" y="29433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1914480" y="29494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4316400" y="2568600"/>
              <a:ext cx="30492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3719160" y="24922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3782880" y="2554200"/>
              <a:ext cx="30492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3173400" y="2506680"/>
              <a:ext cx="561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3249720" y="2568600"/>
              <a:ext cx="304560" cy="144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2699640" y="249228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2763720" y="2554200"/>
              <a:ext cx="304920" cy="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3772440" y="3054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3782880" y="48830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3772440" y="442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3772440" y="3968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3772440" y="351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3315240" y="3054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3325680" y="48830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3315240" y="442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3315240" y="3968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3315240" y="351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2781720" y="3068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2792520" y="48974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2781720" y="444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2781720" y="39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2781720" y="352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3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74LS139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型译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4" name=""/>
          <p:cNvGrpSpPr/>
          <p:nvPr/>
        </p:nvGrpSpPr>
        <p:grpSpPr>
          <a:xfrm>
            <a:off x="5181480" y="1980360"/>
            <a:ext cx="3353040" cy="3492360"/>
            <a:chOff x="5181480" y="1980360"/>
            <a:chExt cx="3353040" cy="3492360"/>
          </a:xfrm>
        </p:grpSpPr>
        <p:grpSp>
          <p:nvGrpSpPr>
            <p:cNvPr id="7585" name=""/>
            <p:cNvGrpSpPr/>
            <p:nvPr/>
          </p:nvGrpSpPr>
          <p:grpSpPr>
            <a:xfrm>
              <a:off x="5181480" y="1980360"/>
              <a:ext cx="2971800" cy="2349360"/>
              <a:chOff x="5181480" y="1980360"/>
              <a:chExt cx="2971800" cy="2349360"/>
            </a:xfrm>
          </p:grpSpPr>
          <p:sp>
            <p:nvSpPr>
              <p:cNvPr id="7586" name=""/>
              <p:cNvSpPr/>
              <p:nvPr/>
            </p:nvSpPr>
            <p:spPr>
              <a:xfrm>
                <a:off x="5334120" y="198036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双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2/4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线译码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5257800" y="2484360"/>
                <a:ext cx="2895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0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、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"/>
                  </a:rPr>
                  <a:t>1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是输入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8" name=""/>
              <p:cNvGrpSpPr/>
              <p:nvPr/>
            </p:nvGrpSpPr>
            <p:grpSpPr>
              <a:xfrm>
                <a:off x="5181480" y="3093840"/>
                <a:ext cx="2819160" cy="579600"/>
                <a:chOff x="5181480" y="3093840"/>
                <a:chExt cx="2819160" cy="579600"/>
              </a:xfrm>
            </p:grpSpPr>
            <p:sp>
              <p:nvSpPr>
                <p:cNvPr id="7589" name=""/>
                <p:cNvSpPr/>
                <p:nvPr/>
              </p:nvSpPr>
              <p:spPr>
                <a:xfrm>
                  <a:off x="5181480" y="3093840"/>
                  <a:ext cx="28191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~</a:t>
                  </a: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 baseline="-25000">
                      <a:solidFill>
                        <a:srgbClr val="000099"/>
                      </a:solidFill>
                      <a:latin typeface=""/>
                    </a:rPr>
                    <a:t>3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是输出端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5410080" y="3200040"/>
                  <a:ext cx="244440" cy="18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5943240" y="3200040"/>
                  <a:ext cx="244440" cy="18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2" name=""/>
              <p:cNvGrpSpPr/>
              <p:nvPr/>
            </p:nvGrpSpPr>
            <p:grpSpPr>
              <a:xfrm>
                <a:off x="5334120" y="3809160"/>
                <a:ext cx="2286000" cy="520560"/>
                <a:chOff x="5334120" y="3809160"/>
                <a:chExt cx="2286000" cy="520560"/>
              </a:xfrm>
            </p:grpSpPr>
            <p:sp>
              <p:nvSpPr>
                <p:cNvPr id="7593" name=""/>
                <p:cNvSpPr/>
                <p:nvPr/>
              </p:nvSpPr>
              <p:spPr>
                <a:xfrm>
                  <a:off x="5334120" y="3809160"/>
                  <a:ext cx="2286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   </a:t>
                  </a:r>
                  <a:r>
                    <a:rPr b="1" i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S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zh-CN" sz="2800" spc="-1" strike="noStrike">
                      <a:solidFill>
                        <a:srgbClr val="000099"/>
                      </a:solidFill>
                      <a:latin typeface=""/>
                    </a:rPr>
                    <a:t>是使能端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5791320" y="3924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95" name=""/>
            <p:cNvGrpSpPr/>
            <p:nvPr/>
          </p:nvGrpSpPr>
          <p:grpSpPr>
            <a:xfrm>
              <a:off x="5257800" y="4419000"/>
              <a:ext cx="3276720" cy="1053720"/>
              <a:chOff x="5257800" y="4419000"/>
              <a:chExt cx="3276720" cy="1053720"/>
            </a:xfrm>
          </p:grpSpPr>
          <p:sp>
            <p:nvSpPr>
              <p:cNvPr id="7596" name=""/>
              <p:cNvSpPr/>
              <p:nvPr/>
            </p:nvSpPr>
            <p:spPr>
              <a:xfrm>
                <a:off x="5257800" y="4419000"/>
                <a:ext cx="32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3300"/>
                    </a:solidFill>
                    <a:latin typeface=""/>
                  </a:rPr>
                  <a:t>S</a:t>
                </a:r>
                <a:r>
                  <a:rPr b="1" lang="en-US" sz="2800" spc="-1" strike="noStrike">
                    <a:solidFill>
                      <a:srgbClr val="cc3300"/>
                    </a:solidFill>
                    <a:latin typeface=""/>
                  </a:rPr>
                  <a:t> = 0</a:t>
                </a:r>
                <a:r>
                  <a:rPr b="1" lang="zh-CN" sz="2800" spc="-1" strike="noStrike">
                    <a:solidFill>
                      <a:srgbClr val="cc3300"/>
                    </a:solidFill>
                    <a:latin typeface=""/>
                  </a:rPr>
                  <a:t>时译码器工作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5257800" y="4952160"/>
                <a:ext cx="274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00"/>
                    </a:solidFill>
                    <a:latin typeface=""/>
                  </a:rPr>
                  <a:t>输出低电平有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5334120" y="4495680"/>
                <a:ext cx="2286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nodeType="clickEffect" fill="hold">
                      <p:stCondLst>
                        <p:cond delay="indefinite"/>
                      </p:stCondLst>
                      <p:childTnLst>
                        <p:par>
                          <p:cTn id="40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74" dur="500"/>
                                        <p:tgtEl>
                                          <p:spTgt spid="7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9. 2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十进制显示译码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762120" y="125424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在数字电路中，常常需要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把运算结果用十进制 数显示出来，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这就要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显示译码器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1" name=""/>
          <p:cNvGrpSpPr/>
          <p:nvPr/>
        </p:nvGrpSpPr>
        <p:grpSpPr>
          <a:xfrm>
            <a:off x="1295280" y="2554200"/>
            <a:ext cx="6705360" cy="3080160"/>
            <a:chOff x="1295280" y="2554200"/>
            <a:chExt cx="6705360" cy="3080160"/>
          </a:xfrm>
        </p:grpSpPr>
        <p:sp>
          <p:nvSpPr>
            <p:cNvPr id="7602" name=""/>
            <p:cNvSpPr/>
            <p:nvPr/>
          </p:nvSpPr>
          <p:spPr>
            <a:xfrm>
              <a:off x="1295280" y="2554200"/>
              <a:ext cx="568440" cy="3080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十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1579320" y="3136320"/>
              <a:ext cx="0" cy="2588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3197160" y="3311640"/>
              <a:ext cx="750600" cy="947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2059200" y="3829320"/>
              <a:ext cx="1066320" cy="388080"/>
            </a:xfrm>
            <a:prstGeom prst="rightArrow">
              <a:avLst>
                <a:gd name="adj1" fmla="val 50000"/>
                <a:gd name="adj2" fmla="val 622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258880" y="3311640"/>
              <a:ext cx="750960" cy="947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驱动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7250040" y="3311640"/>
              <a:ext cx="750600" cy="947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显示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4121280" y="3829320"/>
              <a:ext cx="1066320" cy="388080"/>
            </a:xfrm>
            <a:prstGeom prst="rightArrow">
              <a:avLst>
                <a:gd name="adj1" fmla="val 50000"/>
                <a:gd name="adj2" fmla="val 622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6112440" y="3829320"/>
              <a:ext cx="1066320" cy="388080"/>
            </a:xfrm>
            <a:prstGeom prst="rightArrow">
              <a:avLst>
                <a:gd name="adj1" fmla="val 50000"/>
                <a:gd name="adj2" fmla="val 622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0" name=""/>
          <p:cNvGrpSpPr/>
          <p:nvPr/>
        </p:nvGrpSpPr>
        <p:grpSpPr>
          <a:xfrm>
            <a:off x="838080" y="1066680"/>
            <a:ext cx="5324760" cy="171360"/>
            <a:chOff x="838080" y="1066680"/>
            <a:chExt cx="5324760" cy="171360"/>
          </a:xfrm>
        </p:grpSpPr>
        <p:pic>
          <p:nvPicPr>
            <p:cNvPr id="7611" name="" descr=""/>
            <p:cNvPicPr/>
            <p:nvPr/>
          </p:nvPicPr>
          <p:blipFill>
            <a:blip r:embed="rId1"/>
            <a:stretch/>
          </p:blipFill>
          <p:spPr>
            <a:xfrm>
              <a:off x="1743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2" name="" descr=""/>
            <p:cNvPicPr/>
            <p:nvPr/>
          </p:nvPicPr>
          <p:blipFill>
            <a:blip r:embed="rId2"/>
            <a:stretch/>
          </p:blipFill>
          <p:spPr>
            <a:xfrm>
              <a:off x="1886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3" name="" descr=""/>
            <p:cNvPicPr/>
            <p:nvPr/>
          </p:nvPicPr>
          <p:blipFill>
            <a:blip r:embed="rId3"/>
            <a:stretch/>
          </p:blipFill>
          <p:spPr>
            <a:xfrm>
              <a:off x="2048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4" name="" descr=""/>
            <p:cNvPicPr/>
            <p:nvPr/>
          </p:nvPicPr>
          <p:blipFill>
            <a:blip r:embed="rId4"/>
            <a:stretch/>
          </p:blipFill>
          <p:spPr>
            <a:xfrm>
              <a:off x="2343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5" name="" descr=""/>
            <p:cNvPicPr/>
            <p:nvPr/>
          </p:nvPicPr>
          <p:blipFill>
            <a:blip r:embed="rId5"/>
            <a:stretch/>
          </p:blipFill>
          <p:spPr>
            <a:xfrm>
              <a:off x="2505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6" name="" descr=""/>
            <p:cNvPicPr/>
            <p:nvPr/>
          </p:nvPicPr>
          <p:blipFill>
            <a:blip r:embed="rId6"/>
            <a:stretch/>
          </p:blipFill>
          <p:spPr>
            <a:xfrm>
              <a:off x="2657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7" name="" descr=""/>
            <p:cNvPicPr/>
            <p:nvPr/>
          </p:nvPicPr>
          <p:blipFill>
            <a:blip r:embed="rId7"/>
            <a:stretch/>
          </p:blipFill>
          <p:spPr>
            <a:xfrm>
              <a:off x="2800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8" name="" descr=""/>
            <p:cNvPicPr/>
            <p:nvPr/>
          </p:nvPicPr>
          <p:blipFill>
            <a:blip r:embed="rId8"/>
            <a:stretch/>
          </p:blipFill>
          <p:spPr>
            <a:xfrm>
              <a:off x="2962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9" name="" descr=""/>
            <p:cNvPicPr/>
            <p:nvPr/>
          </p:nvPicPr>
          <p:blipFill>
            <a:blip r:embed="rId9"/>
            <a:stretch/>
          </p:blipFill>
          <p:spPr>
            <a:xfrm>
              <a:off x="3257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0" name="" descr=""/>
            <p:cNvPicPr/>
            <p:nvPr/>
          </p:nvPicPr>
          <p:blipFill>
            <a:blip r:embed="rId10"/>
            <a:stretch/>
          </p:blipFill>
          <p:spPr>
            <a:xfrm>
              <a:off x="3419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1" name="" descr=""/>
            <p:cNvPicPr/>
            <p:nvPr/>
          </p:nvPicPr>
          <p:blipFill>
            <a:blip r:embed="rId11"/>
            <a:stretch/>
          </p:blipFill>
          <p:spPr>
            <a:xfrm>
              <a:off x="3571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2" name="" descr=""/>
            <p:cNvPicPr/>
            <p:nvPr/>
          </p:nvPicPr>
          <p:blipFill>
            <a:blip r:embed="rId12"/>
            <a:stretch/>
          </p:blipFill>
          <p:spPr>
            <a:xfrm>
              <a:off x="3714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3" name="" descr=""/>
            <p:cNvPicPr/>
            <p:nvPr/>
          </p:nvPicPr>
          <p:blipFill>
            <a:blip r:embed="rId13"/>
            <a:stretch/>
          </p:blipFill>
          <p:spPr>
            <a:xfrm>
              <a:off x="2200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4" name="" descr=""/>
            <p:cNvPicPr/>
            <p:nvPr/>
          </p:nvPicPr>
          <p:blipFill>
            <a:blip r:embed="rId14"/>
            <a:stretch/>
          </p:blipFill>
          <p:spPr>
            <a:xfrm>
              <a:off x="3114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5" name="" descr=""/>
            <p:cNvPicPr/>
            <p:nvPr/>
          </p:nvPicPr>
          <p:blipFill>
            <a:blip r:embed="rId15"/>
            <a:stretch/>
          </p:blipFill>
          <p:spPr>
            <a:xfrm>
              <a:off x="38768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6" name="" descr=""/>
            <p:cNvPicPr/>
            <p:nvPr/>
          </p:nvPicPr>
          <p:blipFill>
            <a:blip r:embed="rId16"/>
            <a:stretch/>
          </p:blipFill>
          <p:spPr>
            <a:xfrm>
              <a:off x="40291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7" name="" descr=""/>
            <p:cNvPicPr/>
            <p:nvPr/>
          </p:nvPicPr>
          <p:blipFill>
            <a:blip r:embed="rId17"/>
            <a:stretch/>
          </p:blipFill>
          <p:spPr>
            <a:xfrm>
              <a:off x="41720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8" name="" descr=""/>
            <p:cNvPicPr/>
            <p:nvPr/>
          </p:nvPicPr>
          <p:blipFill>
            <a:blip r:embed="rId18"/>
            <a:stretch/>
          </p:blipFill>
          <p:spPr>
            <a:xfrm>
              <a:off x="43340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9" name="" descr=""/>
            <p:cNvPicPr/>
            <p:nvPr/>
          </p:nvPicPr>
          <p:blipFill>
            <a:blip r:embed="rId19"/>
            <a:stretch/>
          </p:blipFill>
          <p:spPr>
            <a:xfrm>
              <a:off x="44863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0" name="" descr=""/>
            <p:cNvPicPr/>
            <p:nvPr/>
          </p:nvPicPr>
          <p:blipFill>
            <a:blip r:embed="rId20"/>
            <a:stretch/>
          </p:blipFill>
          <p:spPr>
            <a:xfrm>
              <a:off x="46292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1" name="" descr=""/>
            <p:cNvPicPr/>
            <p:nvPr/>
          </p:nvPicPr>
          <p:blipFill>
            <a:blip r:embed="rId21"/>
            <a:stretch/>
          </p:blipFill>
          <p:spPr>
            <a:xfrm>
              <a:off x="47912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2" name="" descr=""/>
            <p:cNvPicPr/>
            <p:nvPr/>
          </p:nvPicPr>
          <p:blipFill>
            <a:blip r:embed="rId22"/>
            <a:stretch/>
          </p:blipFill>
          <p:spPr>
            <a:xfrm>
              <a:off x="50864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3" name="" descr=""/>
            <p:cNvPicPr/>
            <p:nvPr/>
          </p:nvPicPr>
          <p:blipFill>
            <a:blip r:embed="rId23"/>
            <a:stretch/>
          </p:blipFill>
          <p:spPr>
            <a:xfrm>
              <a:off x="52484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4" name="" descr=""/>
            <p:cNvPicPr/>
            <p:nvPr/>
          </p:nvPicPr>
          <p:blipFill>
            <a:blip r:embed="rId24"/>
            <a:stretch/>
          </p:blipFill>
          <p:spPr>
            <a:xfrm>
              <a:off x="54007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5" name="" descr=""/>
            <p:cNvPicPr/>
            <p:nvPr/>
          </p:nvPicPr>
          <p:blipFill>
            <a:blip r:embed="rId25"/>
            <a:stretch/>
          </p:blipFill>
          <p:spPr>
            <a:xfrm>
              <a:off x="55436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6" name="" descr=""/>
            <p:cNvPicPr/>
            <p:nvPr/>
          </p:nvPicPr>
          <p:blipFill>
            <a:blip r:embed="rId26"/>
            <a:stretch/>
          </p:blipFill>
          <p:spPr>
            <a:xfrm>
              <a:off x="5705640" y="1076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7" name="" descr=""/>
            <p:cNvPicPr/>
            <p:nvPr/>
          </p:nvPicPr>
          <p:blipFill>
            <a:blip r:embed="rId27"/>
            <a:stretch/>
          </p:blipFill>
          <p:spPr>
            <a:xfrm>
              <a:off x="600084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8" name="" descr=""/>
            <p:cNvPicPr/>
            <p:nvPr/>
          </p:nvPicPr>
          <p:blipFill>
            <a:blip r:embed="rId28"/>
            <a:stretch/>
          </p:blipFill>
          <p:spPr>
            <a:xfrm>
              <a:off x="49435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9" name="" descr=""/>
            <p:cNvPicPr/>
            <p:nvPr/>
          </p:nvPicPr>
          <p:blipFill>
            <a:blip r:embed="rId29"/>
            <a:stretch/>
          </p:blipFill>
          <p:spPr>
            <a:xfrm>
              <a:off x="5857920" y="1076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40" name=""/>
            <p:cNvGrpSpPr/>
            <p:nvPr/>
          </p:nvGrpSpPr>
          <p:grpSpPr>
            <a:xfrm>
              <a:off x="838080" y="1066680"/>
              <a:ext cx="923760" cy="162000"/>
              <a:chOff x="838080" y="1066680"/>
              <a:chExt cx="923760" cy="162000"/>
            </a:xfrm>
          </p:grpSpPr>
          <p:pic>
            <p:nvPicPr>
              <p:cNvPr id="764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9810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1430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52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14382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020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83808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nodeType="clickEffect" fill="hold">
                      <p:stCondLst>
                        <p:cond delay="indefinite"/>
                      </p:stCondLst>
                      <p:childTnLst>
                        <p:par>
                          <p:cTn id="40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81" dur="500"/>
                                        <p:tgtEl>
                                          <p:spTgt spid="7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2" nodeType="clickEffect" fill="hold">
                      <p:stCondLst>
                        <p:cond delay="indefinite"/>
                      </p:stCondLst>
                      <p:childTnLst>
                        <p:par>
                          <p:cTn id="40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4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086" dur="500"/>
                                        <p:tgtEl>
                                          <p:spTgt spid="7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7" name=""/>
          <p:cNvGrpSpPr/>
          <p:nvPr/>
        </p:nvGrpSpPr>
        <p:grpSpPr>
          <a:xfrm>
            <a:off x="5537880" y="914400"/>
            <a:ext cx="1637640" cy="2425680"/>
            <a:chOff x="5537880" y="914400"/>
            <a:chExt cx="1637640" cy="2425680"/>
          </a:xfrm>
        </p:grpSpPr>
        <p:grpSp>
          <p:nvGrpSpPr>
            <p:cNvPr id="7648" name=""/>
            <p:cNvGrpSpPr/>
            <p:nvPr/>
          </p:nvGrpSpPr>
          <p:grpSpPr>
            <a:xfrm>
              <a:off x="5867280" y="1422360"/>
              <a:ext cx="914400" cy="1447560"/>
              <a:chOff x="5867280" y="1422360"/>
              <a:chExt cx="914400" cy="1447560"/>
            </a:xfrm>
          </p:grpSpPr>
          <p:sp>
            <p:nvSpPr>
              <p:cNvPr id="7649" name=""/>
              <p:cNvSpPr/>
              <p:nvPr/>
            </p:nvSpPr>
            <p:spPr>
              <a:xfrm>
                <a:off x="5943240" y="1422360"/>
                <a:ext cx="7621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5943240" y="2108160"/>
                <a:ext cx="7621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5943240" y="2793960"/>
                <a:ext cx="7621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6705360" y="1498320"/>
                <a:ext cx="763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5867280" y="2184120"/>
                <a:ext cx="759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5867280" y="1498320"/>
                <a:ext cx="759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6705360" y="2184120"/>
                <a:ext cx="763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6" name=""/>
            <p:cNvSpPr/>
            <p:nvPr/>
          </p:nvSpPr>
          <p:spPr>
            <a:xfrm>
              <a:off x="6150960" y="16509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5555520" y="1523880"/>
              <a:ext cx="3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5537880" y="220968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6161400" y="28195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6770520" y="218448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6770880" y="14986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6155280" y="9144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3" name=""/>
          <p:cNvGrpSpPr/>
          <p:nvPr/>
        </p:nvGrpSpPr>
        <p:grpSpPr>
          <a:xfrm>
            <a:off x="1204200" y="457200"/>
            <a:ext cx="6094080" cy="547560"/>
            <a:chOff x="1204200" y="457200"/>
            <a:chExt cx="6094080" cy="547560"/>
          </a:xfrm>
        </p:grpSpPr>
        <p:sp>
          <p:nvSpPr>
            <p:cNvPr id="7664" name=""/>
            <p:cNvSpPr/>
            <p:nvPr/>
          </p:nvSpPr>
          <p:spPr>
            <a:xfrm>
              <a:off x="1204200" y="457200"/>
              <a:ext cx="21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1.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半导体数码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4712760" y="484200"/>
              <a:ext cx="25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由七段发光二极管构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6" name=""/>
          <p:cNvGrpSpPr/>
          <p:nvPr/>
        </p:nvGrpSpPr>
        <p:grpSpPr>
          <a:xfrm>
            <a:off x="838080" y="990720"/>
            <a:ext cx="2142000" cy="520560"/>
            <a:chOff x="838080" y="990720"/>
            <a:chExt cx="2142000" cy="520560"/>
          </a:xfrm>
        </p:grpSpPr>
        <p:sp>
          <p:nvSpPr>
            <p:cNvPr id="7667" name=""/>
            <p:cNvSpPr/>
            <p:nvPr/>
          </p:nvSpPr>
          <p:spPr>
            <a:xfrm>
              <a:off x="838080" y="990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例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1732680" y="990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共阴极接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9" name=""/>
          <p:cNvGrpSpPr/>
          <p:nvPr/>
        </p:nvGrpSpPr>
        <p:grpSpPr>
          <a:xfrm>
            <a:off x="993600" y="1523880"/>
            <a:ext cx="3723120" cy="1114920"/>
            <a:chOff x="993600" y="1523880"/>
            <a:chExt cx="3723120" cy="1114920"/>
          </a:xfrm>
        </p:grpSpPr>
        <p:sp>
          <p:nvSpPr>
            <p:cNvPr id="7670" name=""/>
            <p:cNvSpPr/>
            <p:nvPr/>
          </p:nvSpPr>
          <p:spPr>
            <a:xfrm>
              <a:off x="993600" y="1523880"/>
              <a:ext cx="372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a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b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c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d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e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f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"/>
                </a:rPr>
                <a:t>g</a:t>
              </a: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1007640" y="2057400"/>
              <a:ext cx="370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"/>
                </a:rPr>
                <a:t>0   1   1   0   0   0  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2" name=""/>
          <p:cNvSpPr/>
          <p:nvPr/>
        </p:nvSpPr>
        <p:spPr>
          <a:xfrm>
            <a:off x="1008000" y="251460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"/>
              </a:rPr>
              <a:t>1   1   0   1   1   0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8305920" y="3352680"/>
            <a:ext cx="533160" cy="265356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低电平时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227880" y="3200400"/>
            <a:ext cx="609480" cy="137376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高电平时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5" name=""/>
          <p:cNvGrpSpPr/>
          <p:nvPr/>
        </p:nvGrpSpPr>
        <p:grpSpPr>
          <a:xfrm>
            <a:off x="4901760" y="3290760"/>
            <a:ext cx="3340080" cy="2806560"/>
            <a:chOff x="4901760" y="3290760"/>
            <a:chExt cx="3340080" cy="2806560"/>
          </a:xfrm>
        </p:grpSpPr>
        <p:sp>
          <p:nvSpPr>
            <p:cNvPr id="7676" name=""/>
            <p:cNvSpPr/>
            <p:nvPr/>
          </p:nvSpPr>
          <p:spPr>
            <a:xfrm>
              <a:off x="6034680" y="55767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"/>
                </a:rPr>
                <a:t>共阳极接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5278320" y="3976560"/>
              <a:ext cx="2754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8" name=""/>
            <p:cNvGrpSpPr/>
            <p:nvPr/>
          </p:nvGrpSpPr>
          <p:grpSpPr>
            <a:xfrm>
              <a:off x="5117760" y="3975120"/>
              <a:ext cx="482400" cy="1350720"/>
              <a:chOff x="5117760" y="3975120"/>
              <a:chExt cx="482400" cy="1350720"/>
            </a:xfrm>
          </p:grpSpPr>
          <p:sp>
            <p:nvSpPr>
              <p:cNvPr id="7679" name=""/>
              <p:cNvSpPr/>
              <p:nvPr/>
            </p:nvSpPr>
            <p:spPr>
              <a:xfrm flipV="1">
                <a:off x="5276520" y="397512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0" name=""/>
              <p:cNvGrpSpPr/>
              <p:nvPr/>
            </p:nvGrpSpPr>
            <p:grpSpPr>
              <a:xfrm>
                <a:off x="5133600" y="4433760"/>
                <a:ext cx="288720" cy="304920"/>
                <a:chOff x="5133600" y="4433760"/>
                <a:chExt cx="288720" cy="304920"/>
              </a:xfrm>
            </p:grpSpPr>
            <p:sp>
              <p:nvSpPr>
                <p:cNvPr id="7681" name=""/>
                <p:cNvSpPr/>
                <p:nvPr/>
              </p:nvSpPr>
              <p:spPr>
                <a:xfrm>
                  <a:off x="5133600" y="44337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 flipH="1">
                  <a:off x="5277600" y="443376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5133600" y="443376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4" name=""/>
              <p:cNvSpPr/>
              <p:nvPr/>
            </p:nvSpPr>
            <p:spPr>
              <a:xfrm>
                <a:off x="5117760" y="473868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5" name=""/>
              <p:cNvGrpSpPr/>
              <p:nvPr/>
            </p:nvGrpSpPr>
            <p:grpSpPr>
              <a:xfrm>
                <a:off x="5384160" y="4468680"/>
                <a:ext cx="216000" cy="228600"/>
                <a:chOff x="5384160" y="4468680"/>
                <a:chExt cx="216000" cy="228600"/>
              </a:xfrm>
            </p:grpSpPr>
            <p:sp>
              <p:nvSpPr>
                <p:cNvPr id="7686" name=""/>
                <p:cNvSpPr/>
                <p:nvPr/>
              </p:nvSpPr>
              <p:spPr>
                <a:xfrm flipH="1">
                  <a:off x="5384160" y="446868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 flipH="1">
                  <a:off x="5456160" y="454500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8" name=""/>
              <p:cNvSpPr/>
              <p:nvPr/>
            </p:nvSpPr>
            <p:spPr>
              <a:xfrm>
                <a:off x="5225760" y="519588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9" name=""/>
            <p:cNvGrpSpPr/>
            <p:nvPr/>
          </p:nvGrpSpPr>
          <p:grpSpPr>
            <a:xfrm>
              <a:off x="5136840" y="5246640"/>
              <a:ext cx="3105000" cy="484920"/>
              <a:chOff x="5136840" y="5246640"/>
              <a:chExt cx="3105000" cy="484920"/>
            </a:xfrm>
          </p:grpSpPr>
          <p:sp>
            <p:nvSpPr>
              <p:cNvPr id="7690" name=""/>
              <p:cNvSpPr/>
              <p:nvPr/>
            </p:nvSpPr>
            <p:spPr>
              <a:xfrm>
                <a:off x="5136840" y="52466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5603040" y="52466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6074640" y="525132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7879680" y="52466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6503400" y="527184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6961320" y="5246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7425720" y="5246640"/>
                <a:ext cx="29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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7" name=""/>
            <p:cNvSpPr/>
            <p:nvPr/>
          </p:nvSpPr>
          <p:spPr>
            <a:xfrm flipV="1">
              <a:off x="6671880" y="3747600"/>
              <a:ext cx="0" cy="265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6626160" y="3633840"/>
              <a:ext cx="95040" cy="1141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9" name=""/>
            <p:cNvGrpSpPr/>
            <p:nvPr/>
          </p:nvGrpSpPr>
          <p:grpSpPr>
            <a:xfrm>
              <a:off x="5594040" y="3976560"/>
              <a:ext cx="482400" cy="1350720"/>
              <a:chOff x="5594040" y="3976560"/>
              <a:chExt cx="482400" cy="1350720"/>
            </a:xfrm>
          </p:grpSpPr>
          <p:sp>
            <p:nvSpPr>
              <p:cNvPr id="7700" name=""/>
              <p:cNvSpPr/>
              <p:nvPr/>
            </p:nvSpPr>
            <p:spPr>
              <a:xfrm flipV="1">
                <a:off x="57528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1" name=""/>
              <p:cNvGrpSpPr/>
              <p:nvPr/>
            </p:nvGrpSpPr>
            <p:grpSpPr>
              <a:xfrm>
                <a:off x="5609880" y="4435200"/>
                <a:ext cx="288720" cy="304920"/>
                <a:chOff x="5609880" y="4435200"/>
                <a:chExt cx="288720" cy="304920"/>
              </a:xfrm>
            </p:grpSpPr>
            <p:sp>
              <p:nvSpPr>
                <p:cNvPr id="7702" name=""/>
                <p:cNvSpPr/>
                <p:nvPr/>
              </p:nvSpPr>
              <p:spPr>
                <a:xfrm>
                  <a:off x="56098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 flipH="1">
                  <a:off x="57538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56098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5" name=""/>
              <p:cNvSpPr/>
              <p:nvPr/>
            </p:nvSpPr>
            <p:spPr>
              <a:xfrm>
                <a:off x="55940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6" name=""/>
              <p:cNvGrpSpPr/>
              <p:nvPr/>
            </p:nvGrpSpPr>
            <p:grpSpPr>
              <a:xfrm>
                <a:off x="5860440" y="4470120"/>
                <a:ext cx="216000" cy="228600"/>
                <a:chOff x="5860440" y="4470120"/>
                <a:chExt cx="216000" cy="228600"/>
              </a:xfrm>
            </p:grpSpPr>
            <p:sp>
              <p:nvSpPr>
                <p:cNvPr id="7707" name=""/>
                <p:cNvSpPr/>
                <p:nvPr/>
              </p:nvSpPr>
              <p:spPr>
                <a:xfrm flipH="1">
                  <a:off x="58604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 flipH="1">
                  <a:off x="59324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9" name=""/>
              <p:cNvSpPr/>
              <p:nvPr/>
            </p:nvSpPr>
            <p:spPr>
              <a:xfrm>
                <a:off x="57020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0" name=""/>
            <p:cNvGrpSpPr/>
            <p:nvPr/>
          </p:nvGrpSpPr>
          <p:grpSpPr>
            <a:xfrm>
              <a:off x="6051240" y="3976560"/>
              <a:ext cx="482400" cy="1350720"/>
              <a:chOff x="6051240" y="3976560"/>
              <a:chExt cx="482400" cy="1350720"/>
            </a:xfrm>
          </p:grpSpPr>
          <p:sp>
            <p:nvSpPr>
              <p:cNvPr id="7711" name=""/>
              <p:cNvSpPr/>
              <p:nvPr/>
            </p:nvSpPr>
            <p:spPr>
              <a:xfrm flipV="1">
                <a:off x="62100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2" name=""/>
              <p:cNvGrpSpPr/>
              <p:nvPr/>
            </p:nvGrpSpPr>
            <p:grpSpPr>
              <a:xfrm>
                <a:off x="6067080" y="4435200"/>
                <a:ext cx="288720" cy="304920"/>
                <a:chOff x="6067080" y="4435200"/>
                <a:chExt cx="288720" cy="304920"/>
              </a:xfrm>
            </p:grpSpPr>
            <p:sp>
              <p:nvSpPr>
                <p:cNvPr id="7713" name=""/>
                <p:cNvSpPr/>
                <p:nvPr/>
              </p:nvSpPr>
              <p:spPr>
                <a:xfrm>
                  <a:off x="60670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 flipH="1">
                  <a:off x="62110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60670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6" name=""/>
              <p:cNvSpPr/>
              <p:nvPr/>
            </p:nvSpPr>
            <p:spPr>
              <a:xfrm>
                <a:off x="60512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7" name=""/>
              <p:cNvGrpSpPr/>
              <p:nvPr/>
            </p:nvGrpSpPr>
            <p:grpSpPr>
              <a:xfrm>
                <a:off x="6317640" y="4470120"/>
                <a:ext cx="216000" cy="228600"/>
                <a:chOff x="6317640" y="4470120"/>
                <a:chExt cx="216000" cy="228600"/>
              </a:xfrm>
            </p:grpSpPr>
            <p:sp>
              <p:nvSpPr>
                <p:cNvPr id="7718" name=""/>
                <p:cNvSpPr/>
                <p:nvPr/>
              </p:nvSpPr>
              <p:spPr>
                <a:xfrm flipH="1">
                  <a:off x="63176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 flipH="1">
                  <a:off x="63896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61592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1" name=""/>
            <p:cNvGrpSpPr/>
            <p:nvPr/>
          </p:nvGrpSpPr>
          <p:grpSpPr>
            <a:xfrm>
              <a:off x="6508440" y="3976560"/>
              <a:ext cx="482400" cy="1350720"/>
              <a:chOff x="6508440" y="3976560"/>
              <a:chExt cx="482400" cy="1350720"/>
            </a:xfrm>
          </p:grpSpPr>
          <p:sp>
            <p:nvSpPr>
              <p:cNvPr id="7722" name=""/>
              <p:cNvSpPr/>
              <p:nvPr/>
            </p:nvSpPr>
            <p:spPr>
              <a:xfrm flipV="1">
                <a:off x="66672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3" name=""/>
              <p:cNvGrpSpPr/>
              <p:nvPr/>
            </p:nvGrpSpPr>
            <p:grpSpPr>
              <a:xfrm>
                <a:off x="6524280" y="4435200"/>
                <a:ext cx="288720" cy="304920"/>
                <a:chOff x="6524280" y="4435200"/>
                <a:chExt cx="288720" cy="30492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65242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 flipH="1">
                  <a:off x="66682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>
                  <a:off x="65242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7" name=""/>
              <p:cNvSpPr/>
              <p:nvPr/>
            </p:nvSpPr>
            <p:spPr>
              <a:xfrm>
                <a:off x="65084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8" name=""/>
              <p:cNvGrpSpPr/>
              <p:nvPr/>
            </p:nvGrpSpPr>
            <p:grpSpPr>
              <a:xfrm>
                <a:off x="6774840" y="4470120"/>
                <a:ext cx="216000" cy="228600"/>
                <a:chOff x="6774840" y="4470120"/>
                <a:chExt cx="216000" cy="228600"/>
              </a:xfrm>
            </p:grpSpPr>
            <p:sp>
              <p:nvSpPr>
                <p:cNvPr id="7729" name=""/>
                <p:cNvSpPr/>
                <p:nvPr/>
              </p:nvSpPr>
              <p:spPr>
                <a:xfrm flipH="1">
                  <a:off x="67748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0" name=""/>
                <p:cNvSpPr/>
                <p:nvPr/>
              </p:nvSpPr>
              <p:spPr>
                <a:xfrm flipH="1">
                  <a:off x="68468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1" name=""/>
              <p:cNvSpPr/>
              <p:nvPr/>
            </p:nvSpPr>
            <p:spPr>
              <a:xfrm>
                <a:off x="66164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2" name=""/>
            <p:cNvGrpSpPr/>
            <p:nvPr/>
          </p:nvGrpSpPr>
          <p:grpSpPr>
            <a:xfrm>
              <a:off x="6965640" y="3976560"/>
              <a:ext cx="482400" cy="1350720"/>
              <a:chOff x="6965640" y="3976560"/>
              <a:chExt cx="482400" cy="1350720"/>
            </a:xfrm>
          </p:grpSpPr>
          <p:sp>
            <p:nvSpPr>
              <p:cNvPr id="7733" name=""/>
              <p:cNvSpPr/>
              <p:nvPr/>
            </p:nvSpPr>
            <p:spPr>
              <a:xfrm flipV="1">
                <a:off x="71244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4" name=""/>
              <p:cNvGrpSpPr/>
              <p:nvPr/>
            </p:nvGrpSpPr>
            <p:grpSpPr>
              <a:xfrm>
                <a:off x="6981480" y="4435200"/>
                <a:ext cx="288720" cy="304920"/>
                <a:chOff x="6981480" y="4435200"/>
                <a:chExt cx="288720" cy="304920"/>
              </a:xfrm>
            </p:grpSpPr>
            <p:sp>
              <p:nvSpPr>
                <p:cNvPr id="7735" name=""/>
                <p:cNvSpPr/>
                <p:nvPr/>
              </p:nvSpPr>
              <p:spPr>
                <a:xfrm>
                  <a:off x="69814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 flipH="1">
                  <a:off x="71254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7" name=""/>
                <p:cNvSpPr/>
                <p:nvPr/>
              </p:nvSpPr>
              <p:spPr>
                <a:xfrm>
                  <a:off x="69814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8" name=""/>
              <p:cNvSpPr/>
              <p:nvPr/>
            </p:nvSpPr>
            <p:spPr>
              <a:xfrm>
                <a:off x="69656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9" name=""/>
              <p:cNvGrpSpPr/>
              <p:nvPr/>
            </p:nvGrpSpPr>
            <p:grpSpPr>
              <a:xfrm>
                <a:off x="7232040" y="4470120"/>
                <a:ext cx="216000" cy="228600"/>
                <a:chOff x="7232040" y="4470120"/>
                <a:chExt cx="216000" cy="228600"/>
              </a:xfrm>
            </p:grpSpPr>
            <p:sp>
              <p:nvSpPr>
                <p:cNvPr id="7740" name=""/>
                <p:cNvSpPr/>
                <p:nvPr/>
              </p:nvSpPr>
              <p:spPr>
                <a:xfrm flipH="1">
                  <a:off x="72320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 flipH="1">
                  <a:off x="73040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2" name=""/>
              <p:cNvSpPr/>
              <p:nvPr/>
            </p:nvSpPr>
            <p:spPr>
              <a:xfrm>
                <a:off x="70736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3" name=""/>
            <p:cNvGrpSpPr/>
            <p:nvPr/>
          </p:nvGrpSpPr>
          <p:grpSpPr>
            <a:xfrm>
              <a:off x="7422840" y="3976560"/>
              <a:ext cx="482400" cy="1350720"/>
              <a:chOff x="7422840" y="3976560"/>
              <a:chExt cx="482400" cy="1350720"/>
            </a:xfrm>
          </p:grpSpPr>
          <p:sp>
            <p:nvSpPr>
              <p:cNvPr id="7744" name=""/>
              <p:cNvSpPr/>
              <p:nvPr/>
            </p:nvSpPr>
            <p:spPr>
              <a:xfrm flipV="1">
                <a:off x="7581600" y="3976560"/>
                <a:ext cx="0" cy="1218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5" name=""/>
              <p:cNvGrpSpPr/>
              <p:nvPr/>
            </p:nvGrpSpPr>
            <p:grpSpPr>
              <a:xfrm>
                <a:off x="7438680" y="4435200"/>
                <a:ext cx="288720" cy="304920"/>
                <a:chOff x="7438680" y="4435200"/>
                <a:chExt cx="288720" cy="304920"/>
              </a:xfrm>
            </p:grpSpPr>
            <p:sp>
              <p:nvSpPr>
                <p:cNvPr id="7746" name=""/>
                <p:cNvSpPr/>
                <p:nvPr/>
              </p:nvSpPr>
              <p:spPr>
                <a:xfrm>
                  <a:off x="7438680" y="4435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7" name=""/>
                <p:cNvSpPr/>
                <p:nvPr/>
              </p:nvSpPr>
              <p:spPr>
                <a:xfrm flipH="1">
                  <a:off x="75826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8" name=""/>
                <p:cNvSpPr/>
                <p:nvPr/>
              </p:nvSpPr>
              <p:spPr>
                <a:xfrm>
                  <a:off x="7438680" y="4435200"/>
                  <a:ext cx="144360" cy="304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9" name=""/>
              <p:cNvSpPr/>
              <p:nvPr/>
            </p:nvSpPr>
            <p:spPr>
              <a:xfrm>
                <a:off x="7422840" y="4740120"/>
                <a:ext cx="304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0" name=""/>
              <p:cNvGrpSpPr/>
              <p:nvPr/>
            </p:nvGrpSpPr>
            <p:grpSpPr>
              <a:xfrm>
                <a:off x="7689240" y="4470120"/>
                <a:ext cx="216000" cy="228600"/>
                <a:chOff x="7689240" y="4470120"/>
                <a:chExt cx="216000" cy="228600"/>
              </a:xfrm>
            </p:grpSpPr>
            <p:sp>
              <p:nvSpPr>
                <p:cNvPr id="7751" name=""/>
                <p:cNvSpPr/>
                <p:nvPr/>
              </p:nvSpPr>
              <p:spPr>
                <a:xfrm flipH="1">
                  <a:off x="7689240" y="4470120"/>
                  <a:ext cx="14364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2" name=""/>
                <p:cNvSpPr/>
                <p:nvPr/>
              </p:nvSpPr>
              <p:spPr>
                <a:xfrm flipH="1">
                  <a:off x="7761240" y="4546440"/>
                  <a:ext cx="144000" cy="1522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3" name=""/>
              <p:cNvSpPr/>
              <p:nvPr/>
            </p:nvSpPr>
            <p:spPr>
              <a:xfrm>
                <a:off x="7530840" y="5197320"/>
                <a:ext cx="123840" cy="12996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4" name=""/>
            <p:cNvSpPr/>
            <p:nvPr/>
          </p:nvSpPr>
          <p:spPr>
            <a:xfrm flipV="1">
              <a:off x="8038800" y="3976200"/>
              <a:ext cx="0" cy="1219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5" name=""/>
            <p:cNvGrpSpPr/>
            <p:nvPr/>
          </p:nvGrpSpPr>
          <p:grpSpPr>
            <a:xfrm>
              <a:off x="7895880" y="4435560"/>
              <a:ext cx="289080" cy="304560"/>
              <a:chOff x="7895880" y="4435560"/>
              <a:chExt cx="289080" cy="304560"/>
            </a:xfrm>
          </p:grpSpPr>
          <p:sp>
            <p:nvSpPr>
              <p:cNvPr id="7756" name=""/>
              <p:cNvSpPr/>
              <p:nvPr/>
            </p:nvSpPr>
            <p:spPr>
              <a:xfrm>
                <a:off x="7895880" y="4435560"/>
                <a:ext cx="2890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8039880" y="4435560"/>
                <a:ext cx="144360" cy="304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895880" y="4435560"/>
                <a:ext cx="144360" cy="304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9" name=""/>
            <p:cNvSpPr/>
            <p:nvPr/>
          </p:nvSpPr>
          <p:spPr>
            <a:xfrm>
              <a:off x="7880040" y="4740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0" name=""/>
            <p:cNvGrpSpPr/>
            <p:nvPr/>
          </p:nvGrpSpPr>
          <p:grpSpPr>
            <a:xfrm>
              <a:off x="4901760" y="4495680"/>
              <a:ext cx="216000" cy="228600"/>
              <a:chOff x="4901760" y="4495680"/>
              <a:chExt cx="216000" cy="228600"/>
            </a:xfrm>
          </p:grpSpPr>
          <p:sp>
            <p:nvSpPr>
              <p:cNvPr id="7761" name=""/>
              <p:cNvSpPr/>
              <p:nvPr/>
            </p:nvSpPr>
            <p:spPr>
              <a:xfrm flipH="1">
                <a:off x="4901760" y="4495680"/>
                <a:ext cx="143640" cy="15228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4973760" y="4572000"/>
                <a:ext cx="144000" cy="15228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3" name=""/>
            <p:cNvSpPr/>
            <p:nvPr/>
          </p:nvSpPr>
          <p:spPr>
            <a:xfrm>
              <a:off x="7988040" y="5197320"/>
              <a:ext cx="123840" cy="130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6661080" y="3290760"/>
              <a:ext cx="3808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5" name=""/>
          <p:cNvGrpSpPr/>
          <p:nvPr/>
        </p:nvGrpSpPr>
        <p:grpSpPr>
          <a:xfrm>
            <a:off x="5537880" y="914400"/>
            <a:ext cx="1637640" cy="2425680"/>
            <a:chOff x="5537880" y="914400"/>
            <a:chExt cx="1637640" cy="2425680"/>
          </a:xfrm>
        </p:grpSpPr>
        <p:sp>
          <p:nvSpPr>
            <p:cNvPr id="7766" name=""/>
            <p:cNvSpPr/>
            <p:nvPr/>
          </p:nvSpPr>
          <p:spPr>
            <a:xfrm>
              <a:off x="6161400" y="28195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7" name=""/>
            <p:cNvGrpSpPr/>
            <p:nvPr/>
          </p:nvGrpSpPr>
          <p:grpSpPr>
            <a:xfrm>
              <a:off x="5537880" y="914400"/>
              <a:ext cx="1637640" cy="1955880"/>
              <a:chOff x="5537880" y="914400"/>
              <a:chExt cx="1637640" cy="1955880"/>
            </a:xfrm>
          </p:grpSpPr>
          <p:sp>
            <p:nvSpPr>
              <p:cNvPr id="7768" name=""/>
              <p:cNvSpPr/>
              <p:nvPr/>
            </p:nvSpPr>
            <p:spPr>
              <a:xfrm>
                <a:off x="5943600" y="1422360"/>
                <a:ext cx="762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5943600" y="2108160"/>
                <a:ext cx="762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5943600" y="2793960"/>
                <a:ext cx="762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6705720" y="1498680"/>
                <a:ext cx="75960" cy="609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5867280" y="2184480"/>
                <a:ext cx="763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5867280" y="1498680"/>
                <a:ext cx="763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6705720" y="2184480"/>
                <a:ext cx="75960" cy="609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6150960" y="165096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5555520" y="1523880"/>
                <a:ext cx="31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5537880" y="2209680"/>
                <a:ext cx="39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6770520" y="218448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6770880" y="149868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6155280" y="91440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81" name=""/>
          <p:cNvGrpSpPr/>
          <p:nvPr/>
        </p:nvGrpSpPr>
        <p:grpSpPr>
          <a:xfrm>
            <a:off x="5544000" y="914400"/>
            <a:ext cx="1598040" cy="2425320"/>
            <a:chOff x="5544000" y="914400"/>
            <a:chExt cx="1598040" cy="2425320"/>
          </a:xfrm>
        </p:grpSpPr>
        <p:sp>
          <p:nvSpPr>
            <p:cNvPr id="7782" name=""/>
            <p:cNvSpPr/>
            <p:nvPr/>
          </p:nvSpPr>
          <p:spPr>
            <a:xfrm>
              <a:off x="5943600" y="1422360"/>
              <a:ext cx="7621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5943600" y="2108160"/>
              <a:ext cx="7621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5943600" y="2793960"/>
              <a:ext cx="7621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6705720" y="1498320"/>
              <a:ext cx="75960" cy="609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5867280" y="2184120"/>
              <a:ext cx="76320" cy="609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5867280" y="1498320"/>
              <a:ext cx="76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6705720" y="2184120"/>
              <a:ext cx="7596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6150960" y="16509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5564520" y="15238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5544000" y="220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157800" y="2819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6783480" y="21841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6783120" y="149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6173640" y="91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6" name=""/>
          <p:cNvGrpSpPr/>
          <p:nvPr/>
        </p:nvGrpSpPr>
        <p:grpSpPr>
          <a:xfrm>
            <a:off x="914040" y="3505320"/>
            <a:ext cx="3717000" cy="2516040"/>
            <a:chOff x="914040" y="3505320"/>
            <a:chExt cx="3717000" cy="2516040"/>
          </a:xfrm>
        </p:grpSpPr>
        <p:sp>
          <p:nvSpPr>
            <p:cNvPr id="7797" name=""/>
            <p:cNvSpPr/>
            <p:nvPr/>
          </p:nvSpPr>
          <p:spPr>
            <a:xfrm>
              <a:off x="2086920" y="55008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"/>
                </a:rPr>
                <a:t>共阴极接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8" name=""/>
            <p:cNvGrpSpPr/>
            <p:nvPr/>
          </p:nvGrpSpPr>
          <p:grpSpPr>
            <a:xfrm>
              <a:off x="914040" y="3505320"/>
              <a:ext cx="3717000" cy="1980720"/>
              <a:chOff x="914040" y="3505320"/>
              <a:chExt cx="3717000" cy="1980720"/>
            </a:xfrm>
          </p:grpSpPr>
          <p:grpSp>
            <p:nvGrpSpPr>
              <p:cNvPr id="7799" name=""/>
              <p:cNvGrpSpPr/>
              <p:nvPr/>
            </p:nvGrpSpPr>
            <p:grpSpPr>
              <a:xfrm>
                <a:off x="1206360" y="3505320"/>
                <a:ext cx="3424680" cy="459720"/>
                <a:chOff x="1206360" y="3505320"/>
                <a:chExt cx="3424680" cy="459720"/>
              </a:xfrm>
            </p:grpSpPr>
            <p:sp>
              <p:nvSpPr>
                <p:cNvPr id="7800" name=""/>
                <p:cNvSpPr/>
                <p:nvPr/>
              </p:nvSpPr>
              <p:spPr>
                <a:xfrm>
                  <a:off x="120636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1" name=""/>
                <p:cNvSpPr/>
                <p:nvPr/>
              </p:nvSpPr>
              <p:spPr>
                <a:xfrm>
                  <a:off x="171576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2" name=""/>
                <p:cNvSpPr/>
                <p:nvPr/>
              </p:nvSpPr>
              <p:spPr>
                <a:xfrm>
                  <a:off x="2244600" y="3505320"/>
                  <a:ext cx="32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3" name=""/>
                <p:cNvSpPr/>
                <p:nvPr/>
              </p:nvSpPr>
              <p:spPr>
                <a:xfrm>
                  <a:off x="273672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4" name=""/>
                <p:cNvSpPr/>
                <p:nvPr/>
              </p:nvSpPr>
              <p:spPr>
                <a:xfrm>
                  <a:off x="3255120" y="35053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>
                  <a:off x="3791160" y="350532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6" name=""/>
                <p:cNvSpPr/>
                <p:nvPr/>
              </p:nvSpPr>
              <p:spPr>
                <a:xfrm>
                  <a:off x="4268880" y="3505320"/>
                  <a:ext cx="36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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7" name=""/>
              <p:cNvSpPr/>
              <p:nvPr/>
            </p:nvSpPr>
            <p:spPr>
              <a:xfrm>
                <a:off x="1292400" y="5290920"/>
                <a:ext cx="31334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8" name=""/>
              <p:cNvGrpSpPr/>
              <p:nvPr/>
            </p:nvGrpSpPr>
            <p:grpSpPr>
              <a:xfrm>
                <a:off x="2709720" y="5257800"/>
                <a:ext cx="149400" cy="228240"/>
                <a:chOff x="2709720" y="5257800"/>
                <a:chExt cx="149400" cy="228240"/>
              </a:xfrm>
            </p:grpSpPr>
            <p:sp>
              <p:nvSpPr>
                <p:cNvPr id="7809" name=""/>
                <p:cNvSpPr/>
                <p:nvPr/>
              </p:nvSpPr>
              <p:spPr>
                <a:xfrm>
                  <a:off x="2784240" y="5257800"/>
                  <a:ext cx="0" cy="22824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0" name=""/>
                <p:cNvSpPr/>
                <p:nvPr/>
              </p:nvSpPr>
              <p:spPr>
                <a:xfrm>
                  <a:off x="2709720" y="5486040"/>
                  <a:ext cx="1494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1" name=""/>
              <p:cNvGrpSpPr/>
              <p:nvPr/>
            </p:nvGrpSpPr>
            <p:grpSpPr>
              <a:xfrm>
                <a:off x="1143000" y="3962160"/>
                <a:ext cx="483480" cy="1326600"/>
                <a:chOff x="1143000" y="3962160"/>
                <a:chExt cx="483480" cy="1326600"/>
              </a:xfrm>
            </p:grpSpPr>
            <p:sp>
              <p:nvSpPr>
                <p:cNvPr id="7812" name=""/>
                <p:cNvSpPr/>
                <p:nvPr/>
              </p:nvSpPr>
              <p:spPr>
                <a:xfrm>
                  <a:off x="114300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3" name=""/>
                <p:cNvSpPr/>
                <p:nvPr/>
              </p:nvSpPr>
              <p:spPr>
                <a:xfrm flipH="1">
                  <a:off x="12920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4" name=""/>
                <p:cNvGrpSpPr/>
                <p:nvPr/>
              </p:nvGrpSpPr>
              <p:grpSpPr>
                <a:xfrm>
                  <a:off x="1402560" y="4495320"/>
                  <a:ext cx="223920" cy="227880"/>
                  <a:chOff x="1402560" y="4495320"/>
                  <a:chExt cx="223920" cy="227880"/>
                </a:xfrm>
              </p:grpSpPr>
              <p:sp>
                <p:nvSpPr>
                  <p:cNvPr id="7815" name=""/>
                  <p:cNvSpPr/>
                  <p:nvPr/>
                </p:nvSpPr>
                <p:spPr>
                  <a:xfrm flipH="1">
                    <a:off x="140256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6" name=""/>
                  <p:cNvSpPr/>
                  <p:nvPr/>
                </p:nvSpPr>
                <p:spPr>
                  <a:xfrm flipH="1">
                    <a:off x="147744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7" name=""/>
                <p:cNvSpPr/>
                <p:nvPr/>
              </p:nvSpPr>
              <p:spPr>
                <a:xfrm>
                  <a:off x="129204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8" name=""/>
                <p:cNvSpPr/>
                <p:nvPr/>
              </p:nvSpPr>
              <p:spPr>
                <a:xfrm>
                  <a:off x="114300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9" name=""/>
                <p:cNvSpPr/>
                <p:nvPr/>
              </p:nvSpPr>
              <p:spPr>
                <a:xfrm>
                  <a:off x="123300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0" name=""/>
                <p:cNvSpPr/>
                <p:nvPr/>
              </p:nvSpPr>
              <p:spPr>
                <a:xfrm>
                  <a:off x="114300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1" name=""/>
              <p:cNvGrpSpPr/>
              <p:nvPr/>
            </p:nvGrpSpPr>
            <p:grpSpPr>
              <a:xfrm>
                <a:off x="2635200" y="3962160"/>
                <a:ext cx="483480" cy="1326600"/>
                <a:chOff x="2635200" y="3962160"/>
                <a:chExt cx="483480" cy="1326600"/>
              </a:xfrm>
            </p:grpSpPr>
            <p:sp>
              <p:nvSpPr>
                <p:cNvPr id="7822" name=""/>
                <p:cNvSpPr/>
                <p:nvPr/>
              </p:nvSpPr>
              <p:spPr>
                <a:xfrm>
                  <a:off x="263520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3" name=""/>
                <p:cNvSpPr/>
                <p:nvPr/>
              </p:nvSpPr>
              <p:spPr>
                <a:xfrm flipH="1">
                  <a:off x="27842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4" name=""/>
                <p:cNvGrpSpPr/>
                <p:nvPr/>
              </p:nvGrpSpPr>
              <p:grpSpPr>
                <a:xfrm>
                  <a:off x="2894760" y="4495320"/>
                  <a:ext cx="223920" cy="227880"/>
                  <a:chOff x="2894760" y="4495320"/>
                  <a:chExt cx="223920" cy="227880"/>
                </a:xfrm>
              </p:grpSpPr>
              <p:sp>
                <p:nvSpPr>
                  <p:cNvPr id="7825" name=""/>
                  <p:cNvSpPr/>
                  <p:nvPr/>
                </p:nvSpPr>
                <p:spPr>
                  <a:xfrm flipH="1">
                    <a:off x="289476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6" name=""/>
                  <p:cNvSpPr/>
                  <p:nvPr/>
                </p:nvSpPr>
                <p:spPr>
                  <a:xfrm flipH="1">
                    <a:off x="296964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27" name=""/>
                <p:cNvSpPr/>
                <p:nvPr/>
              </p:nvSpPr>
              <p:spPr>
                <a:xfrm>
                  <a:off x="278424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8" name=""/>
                <p:cNvSpPr/>
                <p:nvPr/>
              </p:nvSpPr>
              <p:spPr>
                <a:xfrm>
                  <a:off x="263520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9" name=""/>
                <p:cNvSpPr/>
                <p:nvPr/>
              </p:nvSpPr>
              <p:spPr>
                <a:xfrm>
                  <a:off x="272520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0" name=""/>
                <p:cNvSpPr/>
                <p:nvPr/>
              </p:nvSpPr>
              <p:spPr>
                <a:xfrm>
                  <a:off x="263520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1" name=""/>
              <p:cNvGrpSpPr/>
              <p:nvPr/>
            </p:nvGrpSpPr>
            <p:grpSpPr>
              <a:xfrm>
                <a:off x="3157560" y="3962160"/>
                <a:ext cx="483480" cy="1326600"/>
                <a:chOff x="3157560" y="3962160"/>
                <a:chExt cx="483480" cy="1326600"/>
              </a:xfrm>
            </p:grpSpPr>
            <p:sp>
              <p:nvSpPr>
                <p:cNvPr id="7832" name=""/>
                <p:cNvSpPr/>
                <p:nvPr/>
              </p:nvSpPr>
              <p:spPr>
                <a:xfrm>
                  <a:off x="315756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 flipH="1">
                  <a:off x="330660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34" name=""/>
                <p:cNvGrpSpPr/>
                <p:nvPr/>
              </p:nvGrpSpPr>
              <p:grpSpPr>
                <a:xfrm>
                  <a:off x="3417120" y="4495320"/>
                  <a:ext cx="223920" cy="227880"/>
                  <a:chOff x="3417120" y="4495320"/>
                  <a:chExt cx="223920" cy="227880"/>
                </a:xfrm>
              </p:grpSpPr>
              <p:sp>
                <p:nvSpPr>
                  <p:cNvPr id="7835" name=""/>
                  <p:cNvSpPr/>
                  <p:nvPr/>
                </p:nvSpPr>
                <p:spPr>
                  <a:xfrm flipH="1">
                    <a:off x="341712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6" name=""/>
                  <p:cNvSpPr/>
                  <p:nvPr/>
                </p:nvSpPr>
                <p:spPr>
                  <a:xfrm flipH="1">
                    <a:off x="349200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37" name=""/>
                <p:cNvSpPr/>
                <p:nvPr/>
              </p:nvSpPr>
              <p:spPr>
                <a:xfrm>
                  <a:off x="330660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8" name=""/>
                <p:cNvSpPr/>
                <p:nvPr/>
              </p:nvSpPr>
              <p:spPr>
                <a:xfrm>
                  <a:off x="315756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9" name=""/>
                <p:cNvSpPr/>
                <p:nvPr/>
              </p:nvSpPr>
              <p:spPr>
                <a:xfrm>
                  <a:off x="324756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0" name=""/>
                <p:cNvSpPr/>
                <p:nvPr/>
              </p:nvSpPr>
              <p:spPr>
                <a:xfrm>
                  <a:off x="315756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1" name=""/>
              <p:cNvGrpSpPr/>
              <p:nvPr/>
            </p:nvGrpSpPr>
            <p:grpSpPr>
              <a:xfrm>
                <a:off x="3679920" y="3962160"/>
                <a:ext cx="483480" cy="1326600"/>
                <a:chOff x="3679920" y="3962160"/>
                <a:chExt cx="483480" cy="1326600"/>
              </a:xfrm>
            </p:grpSpPr>
            <p:sp>
              <p:nvSpPr>
                <p:cNvPr id="7842" name=""/>
                <p:cNvSpPr/>
                <p:nvPr/>
              </p:nvSpPr>
              <p:spPr>
                <a:xfrm>
                  <a:off x="367992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3" name=""/>
                <p:cNvSpPr/>
                <p:nvPr/>
              </p:nvSpPr>
              <p:spPr>
                <a:xfrm flipH="1">
                  <a:off x="382896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44" name=""/>
                <p:cNvGrpSpPr/>
                <p:nvPr/>
              </p:nvGrpSpPr>
              <p:grpSpPr>
                <a:xfrm>
                  <a:off x="3939480" y="4495320"/>
                  <a:ext cx="223920" cy="227880"/>
                  <a:chOff x="3939480" y="4495320"/>
                  <a:chExt cx="223920" cy="227880"/>
                </a:xfrm>
              </p:grpSpPr>
              <p:sp>
                <p:nvSpPr>
                  <p:cNvPr id="7845" name=""/>
                  <p:cNvSpPr/>
                  <p:nvPr/>
                </p:nvSpPr>
                <p:spPr>
                  <a:xfrm flipH="1">
                    <a:off x="393948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6" name=""/>
                  <p:cNvSpPr/>
                  <p:nvPr/>
                </p:nvSpPr>
                <p:spPr>
                  <a:xfrm flipH="1">
                    <a:off x="401436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47" name=""/>
                <p:cNvSpPr/>
                <p:nvPr/>
              </p:nvSpPr>
              <p:spPr>
                <a:xfrm>
                  <a:off x="382896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8" name=""/>
                <p:cNvSpPr/>
                <p:nvPr/>
              </p:nvSpPr>
              <p:spPr>
                <a:xfrm>
                  <a:off x="367992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9" name=""/>
                <p:cNvSpPr/>
                <p:nvPr/>
              </p:nvSpPr>
              <p:spPr>
                <a:xfrm>
                  <a:off x="376992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0" name=""/>
                <p:cNvSpPr/>
                <p:nvPr/>
              </p:nvSpPr>
              <p:spPr>
                <a:xfrm>
                  <a:off x="367992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51" name=""/>
              <p:cNvSpPr/>
              <p:nvPr/>
            </p:nvSpPr>
            <p:spPr>
              <a:xfrm>
                <a:off x="4276800" y="4451400"/>
                <a:ext cx="2984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425480" y="4451400"/>
                <a:ext cx="149400" cy="3042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4425840" y="4070160"/>
                <a:ext cx="0" cy="12189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4276800" y="4451400"/>
                <a:ext cx="149040" cy="3042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4367160" y="3962160"/>
                <a:ext cx="111240" cy="11556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4276800" y="4776840"/>
                <a:ext cx="29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7" name=""/>
              <p:cNvGrpSpPr/>
              <p:nvPr/>
            </p:nvGrpSpPr>
            <p:grpSpPr>
              <a:xfrm>
                <a:off x="2112840" y="3962160"/>
                <a:ext cx="483480" cy="1326600"/>
                <a:chOff x="2112840" y="3962160"/>
                <a:chExt cx="483480" cy="1326600"/>
              </a:xfrm>
            </p:grpSpPr>
            <p:sp>
              <p:nvSpPr>
                <p:cNvPr id="7858" name=""/>
                <p:cNvSpPr/>
                <p:nvPr/>
              </p:nvSpPr>
              <p:spPr>
                <a:xfrm>
                  <a:off x="211284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9" name=""/>
                <p:cNvSpPr/>
                <p:nvPr/>
              </p:nvSpPr>
              <p:spPr>
                <a:xfrm flipH="1">
                  <a:off x="226188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0" name=""/>
                <p:cNvGrpSpPr/>
                <p:nvPr/>
              </p:nvGrpSpPr>
              <p:grpSpPr>
                <a:xfrm>
                  <a:off x="2372400" y="4495320"/>
                  <a:ext cx="223920" cy="227880"/>
                  <a:chOff x="2372400" y="4495320"/>
                  <a:chExt cx="223920" cy="227880"/>
                </a:xfrm>
              </p:grpSpPr>
              <p:sp>
                <p:nvSpPr>
                  <p:cNvPr id="7861" name=""/>
                  <p:cNvSpPr/>
                  <p:nvPr/>
                </p:nvSpPr>
                <p:spPr>
                  <a:xfrm flipH="1">
                    <a:off x="237240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2" name=""/>
                  <p:cNvSpPr/>
                  <p:nvPr/>
                </p:nvSpPr>
                <p:spPr>
                  <a:xfrm flipH="1">
                    <a:off x="244728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63" name=""/>
                <p:cNvSpPr/>
                <p:nvPr/>
              </p:nvSpPr>
              <p:spPr>
                <a:xfrm>
                  <a:off x="226188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>
                  <a:off x="21128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5" name=""/>
                <p:cNvSpPr/>
                <p:nvPr/>
              </p:nvSpPr>
              <p:spPr>
                <a:xfrm>
                  <a:off x="220284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6" name=""/>
                <p:cNvSpPr/>
                <p:nvPr/>
              </p:nvSpPr>
              <p:spPr>
                <a:xfrm>
                  <a:off x="211284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7" name=""/>
              <p:cNvGrpSpPr/>
              <p:nvPr/>
            </p:nvGrpSpPr>
            <p:grpSpPr>
              <a:xfrm>
                <a:off x="1590840" y="3962160"/>
                <a:ext cx="483480" cy="1326600"/>
                <a:chOff x="1590840" y="3962160"/>
                <a:chExt cx="483480" cy="1326600"/>
              </a:xfrm>
            </p:grpSpPr>
            <p:sp>
              <p:nvSpPr>
                <p:cNvPr id="7868" name=""/>
                <p:cNvSpPr/>
                <p:nvPr/>
              </p:nvSpPr>
              <p:spPr>
                <a:xfrm>
                  <a:off x="1590840" y="4450680"/>
                  <a:ext cx="29844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9" name=""/>
                <p:cNvSpPr/>
                <p:nvPr/>
              </p:nvSpPr>
              <p:spPr>
                <a:xfrm flipH="1">
                  <a:off x="173988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0" name=""/>
                <p:cNvGrpSpPr/>
                <p:nvPr/>
              </p:nvGrpSpPr>
              <p:grpSpPr>
                <a:xfrm>
                  <a:off x="1850400" y="4495320"/>
                  <a:ext cx="223920" cy="227880"/>
                  <a:chOff x="1850400" y="4495320"/>
                  <a:chExt cx="223920" cy="227880"/>
                </a:xfrm>
              </p:grpSpPr>
              <p:sp>
                <p:nvSpPr>
                  <p:cNvPr id="7871" name=""/>
                  <p:cNvSpPr/>
                  <p:nvPr/>
                </p:nvSpPr>
                <p:spPr>
                  <a:xfrm flipH="1">
                    <a:off x="1850400" y="4495320"/>
                    <a:ext cx="149400" cy="15228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2" name=""/>
                  <p:cNvSpPr/>
                  <p:nvPr/>
                </p:nvSpPr>
                <p:spPr>
                  <a:xfrm flipH="1">
                    <a:off x="1925280" y="4571280"/>
                    <a:ext cx="149040" cy="151920"/>
                  </a:xfrm>
                  <a:prstGeom prst="line">
                    <a:avLst/>
                  </a:prstGeom>
                  <a:ln w="19080">
                    <a:solidFill>
                      <a:srgbClr val="33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3" name=""/>
                <p:cNvSpPr/>
                <p:nvPr/>
              </p:nvSpPr>
              <p:spPr>
                <a:xfrm>
                  <a:off x="1739880" y="4069800"/>
                  <a:ext cx="0" cy="12189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4" name=""/>
                <p:cNvSpPr/>
                <p:nvPr/>
              </p:nvSpPr>
              <p:spPr>
                <a:xfrm>
                  <a:off x="1590840" y="4450680"/>
                  <a:ext cx="149040" cy="3045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5" name=""/>
                <p:cNvSpPr/>
                <p:nvPr/>
              </p:nvSpPr>
              <p:spPr>
                <a:xfrm>
                  <a:off x="1680840" y="3962160"/>
                  <a:ext cx="111960" cy="1155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>
                  <a:off x="1590840" y="4776120"/>
                  <a:ext cx="29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7" name=""/>
              <p:cNvGrpSpPr/>
              <p:nvPr/>
            </p:nvGrpSpPr>
            <p:grpSpPr>
              <a:xfrm>
                <a:off x="914040" y="4481280"/>
                <a:ext cx="223920" cy="227880"/>
                <a:chOff x="914040" y="4481280"/>
                <a:chExt cx="223920" cy="227880"/>
              </a:xfrm>
            </p:grpSpPr>
            <p:sp>
              <p:nvSpPr>
                <p:cNvPr id="7878" name=""/>
                <p:cNvSpPr/>
                <p:nvPr/>
              </p:nvSpPr>
              <p:spPr>
                <a:xfrm flipH="1">
                  <a:off x="914040" y="4481280"/>
                  <a:ext cx="149400" cy="152280"/>
                </a:xfrm>
                <a:prstGeom prst="line">
                  <a:avLst/>
                </a:prstGeom>
                <a:ln w="1908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9" name=""/>
                <p:cNvSpPr/>
                <p:nvPr/>
              </p:nvSpPr>
              <p:spPr>
                <a:xfrm flipH="1">
                  <a:off x="988920" y="4557240"/>
                  <a:ext cx="149040" cy="151920"/>
                </a:xfrm>
                <a:prstGeom prst="line">
                  <a:avLst/>
                </a:prstGeom>
                <a:ln w="1908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7" dur="indefinite" restart="never" nodeType="tmRoot">
          <p:childTnLst>
            <p:seq>
              <p:cTn id="4088" dur="indefinite" nodeType="mainSeq">
                <p:childTnLst>
                  <p:par>
                    <p:cTn id="4089" nodeType="clickEffect" fill="hold">
                      <p:stCondLst>
                        <p:cond delay="indefinite"/>
                      </p:stCondLst>
                      <p:childTnLst>
                        <p:par>
                          <p:cTn id="40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093" dur="500"/>
                                        <p:tgtEl>
                                          <p:spTgt spid="7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nodeType="clickEffect" fill="hold">
                      <p:stCondLst>
                        <p:cond delay="indefinite"/>
                      </p:stCondLst>
                      <p:childTnLst>
                        <p:par>
                          <p:cTn id="40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098" dur="500"/>
                                        <p:tgtEl>
                                          <p:spTgt spid="7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03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nodeType="clickEffect" fill="hold">
                      <p:stCondLst>
                        <p:cond delay="indefinite"/>
                      </p:stCondLst>
                      <p:childTnLst>
                        <p:par>
                          <p:cTn id="4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108" dur="500"/>
                                        <p:tgtEl>
                                          <p:spTgt spid="7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nodeType="clickEffect" fill="hold">
                      <p:stCondLst>
                        <p:cond delay="indefinite"/>
                      </p:stCondLst>
                      <p:childTnLst>
                        <p:par>
                          <p:cTn id="4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13" dur="500"/>
                                        <p:tgtEl>
                                          <p:spTgt spid="7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nodeType="clickEffect" fill="hold">
                      <p:stCondLst>
                        <p:cond delay="indefinite"/>
                      </p:stCondLst>
                      <p:childTnLst>
                        <p:par>
                          <p:cTn id="4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18" dur="500"/>
                                        <p:tgtEl>
                                          <p:spTgt spid="7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9" nodeType="clickEffect" fill="hold">
                      <p:stCondLst>
                        <p:cond delay="indefinite"/>
                      </p:stCondLst>
                      <p:childTnLst>
                        <p:par>
                          <p:cTn id="4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123" dur="500"/>
                                        <p:tgtEl>
                                          <p:spTgt spid="7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4" nodeType="clickEffect" fill="hold">
                      <p:stCondLst>
                        <p:cond delay="indefinite"/>
                      </p:stCondLst>
                      <p:childTnLst>
                        <p:par>
                          <p:cTn id="4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6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12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nodeType="clickEffect" fill="hold">
                      <p:stCondLst>
                        <p:cond delay="indefinite"/>
                      </p:stCondLst>
                      <p:childTnLst>
                        <p:par>
                          <p:cTn id="4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133" dur="500"/>
                                        <p:tgtEl>
                                          <p:spTgt spid="7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0" name=""/>
          <p:cNvSpPr/>
          <p:nvPr/>
        </p:nvSpPr>
        <p:spPr>
          <a:xfrm>
            <a:off x="914400" y="533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七段译码显示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1" name=""/>
          <p:cNvGrpSpPr/>
          <p:nvPr/>
        </p:nvGrpSpPr>
        <p:grpSpPr>
          <a:xfrm>
            <a:off x="914400" y="1066680"/>
            <a:ext cx="3352320" cy="171360"/>
            <a:chOff x="914400" y="1066680"/>
            <a:chExt cx="3352320" cy="171360"/>
          </a:xfrm>
        </p:grpSpPr>
        <p:pic>
          <p:nvPicPr>
            <p:cNvPr id="7882" name="" descr=""/>
            <p:cNvPicPr/>
            <p:nvPr/>
          </p:nvPicPr>
          <p:blipFill>
            <a:blip r:embed="rId1"/>
            <a:stretch/>
          </p:blipFill>
          <p:spPr>
            <a:xfrm>
              <a:off x="18190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3" name="" descr=""/>
            <p:cNvPicPr/>
            <p:nvPr/>
          </p:nvPicPr>
          <p:blipFill>
            <a:blip r:embed="rId2"/>
            <a:stretch/>
          </p:blipFill>
          <p:spPr>
            <a:xfrm>
              <a:off x="19620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4" name="" descr=""/>
            <p:cNvPicPr/>
            <p:nvPr/>
          </p:nvPicPr>
          <p:blipFill>
            <a:blip r:embed="rId3"/>
            <a:stretch/>
          </p:blipFill>
          <p:spPr>
            <a:xfrm>
              <a:off x="21240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5" name="" descr=""/>
            <p:cNvPicPr/>
            <p:nvPr/>
          </p:nvPicPr>
          <p:blipFill>
            <a:blip r:embed="rId4"/>
            <a:stretch/>
          </p:blipFill>
          <p:spPr>
            <a:xfrm>
              <a:off x="24192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6" name="" descr=""/>
            <p:cNvPicPr/>
            <p:nvPr/>
          </p:nvPicPr>
          <p:blipFill>
            <a:blip r:embed="rId5"/>
            <a:stretch/>
          </p:blipFill>
          <p:spPr>
            <a:xfrm>
              <a:off x="25812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7" name="" descr=""/>
            <p:cNvPicPr/>
            <p:nvPr/>
          </p:nvPicPr>
          <p:blipFill>
            <a:blip r:embed="rId6"/>
            <a:stretch/>
          </p:blipFill>
          <p:spPr>
            <a:xfrm>
              <a:off x="27334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8" name="" descr=""/>
            <p:cNvPicPr/>
            <p:nvPr/>
          </p:nvPicPr>
          <p:blipFill>
            <a:blip r:embed="rId7"/>
            <a:stretch/>
          </p:blipFill>
          <p:spPr>
            <a:xfrm>
              <a:off x="28764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9" name="" descr=""/>
            <p:cNvPicPr/>
            <p:nvPr/>
          </p:nvPicPr>
          <p:blipFill>
            <a:blip r:embed="rId8"/>
            <a:stretch/>
          </p:blipFill>
          <p:spPr>
            <a:xfrm>
              <a:off x="30384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0" name="" descr=""/>
            <p:cNvPicPr/>
            <p:nvPr/>
          </p:nvPicPr>
          <p:blipFill>
            <a:blip r:embed="rId9"/>
            <a:stretch/>
          </p:blipFill>
          <p:spPr>
            <a:xfrm>
              <a:off x="33336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1" name="" descr=""/>
            <p:cNvPicPr/>
            <p:nvPr/>
          </p:nvPicPr>
          <p:blipFill>
            <a:blip r:embed="rId10"/>
            <a:stretch/>
          </p:blipFill>
          <p:spPr>
            <a:xfrm>
              <a:off x="34956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2" name="" descr=""/>
            <p:cNvPicPr/>
            <p:nvPr/>
          </p:nvPicPr>
          <p:blipFill>
            <a:blip r:embed="rId11"/>
            <a:stretch/>
          </p:blipFill>
          <p:spPr>
            <a:xfrm>
              <a:off x="36478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3" name="" descr=""/>
            <p:cNvPicPr/>
            <p:nvPr/>
          </p:nvPicPr>
          <p:blipFill>
            <a:blip r:embed="rId12"/>
            <a:stretch/>
          </p:blipFill>
          <p:spPr>
            <a:xfrm>
              <a:off x="379080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4" name="" descr=""/>
            <p:cNvPicPr/>
            <p:nvPr/>
          </p:nvPicPr>
          <p:blipFill>
            <a:blip r:embed="rId13"/>
            <a:stretch/>
          </p:blipFill>
          <p:spPr>
            <a:xfrm>
              <a:off x="22762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5" name="" descr=""/>
            <p:cNvPicPr/>
            <p:nvPr/>
          </p:nvPicPr>
          <p:blipFill>
            <a:blip r:embed="rId14"/>
            <a:stretch/>
          </p:blipFill>
          <p:spPr>
            <a:xfrm>
              <a:off x="31906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6" name="" descr=""/>
            <p:cNvPicPr/>
            <p:nvPr/>
          </p:nvPicPr>
          <p:blipFill>
            <a:blip r:embed="rId15"/>
            <a:stretch/>
          </p:blipFill>
          <p:spPr>
            <a:xfrm>
              <a:off x="3952800" y="107604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7" name="" descr=""/>
            <p:cNvPicPr/>
            <p:nvPr/>
          </p:nvPicPr>
          <p:blipFill>
            <a:blip r:embed="rId16"/>
            <a:stretch/>
          </p:blipFill>
          <p:spPr>
            <a:xfrm>
              <a:off x="4105080" y="1076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8" name=""/>
            <p:cNvGrpSpPr/>
            <p:nvPr/>
          </p:nvGrpSpPr>
          <p:grpSpPr>
            <a:xfrm>
              <a:off x="914400" y="1066680"/>
              <a:ext cx="923760" cy="162000"/>
              <a:chOff x="914400" y="1066680"/>
              <a:chExt cx="923760" cy="162000"/>
            </a:xfrm>
          </p:grpSpPr>
          <p:pic>
            <p:nvPicPr>
              <p:cNvPr id="789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0573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193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716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1452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76520" y="10666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914400" y="106668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05" name=""/>
          <p:cNvGrpSpPr/>
          <p:nvPr/>
        </p:nvGrpSpPr>
        <p:grpSpPr>
          <a:xfrm>
            <a:off x="990720" y="1828800"/>
            <a:ext cx="7467480" cy="3487680"/>
            <a:chOff x="990720" y="1828800"/>
            <a:chExt cx="7467480" cy="3487680"/>
          </a:xfrm>
        </p:grpSpPr>
        <p:sp>
          <p:nvSpPr>
            <p:cNvPr id="7906" name=""/>
            <p:cNvSpPr/>
            <p:nvPr/>
          </p:nvSpPr>
          <p:spPr>
            <a:xfrm>
              <a:off x="3886200" y="2355840"/>
              <a:ext cx="121932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200400" y="2889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200400" y="32702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200400" y="3651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200400" y="4032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2666880" y="37274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669040" y="3346560"/>
              <a:ext cx="557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666880" y="288936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2666880" y="25084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2590920" y="2738520"/>
              <a:ext cx="75960" cy="14479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5105520" y="44150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5105520" y="4110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5105520" y="3805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5105520" y="3500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5105520" y="3195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5105520" y="2890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5105520" y="25862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3" name=""/>
            <p:cNvGrpSpPr/>
            <p:nvPr/>
          </p:nvGrpSpPr>
          <p:grpSpPr>
            <a:xfrm>
              <a:off x="5776200" y="2129040"/>
              <a:ext cx="409680" cy="2501640"/>
              <a:chOff x="5776200" y="2129040"/>
              <a:chExt cx="409680" cy="2501640"/>
            </a:xfrm>
          </p:grpSpPr>
          <p:sp>
            <p:nvSpPr>
              <p:cNvPr id="7924" name=""/>
              <p:cNvSpPr/>
              <p:nvPr/>
            </p:nvSpPr>
            <p:spPr>
              <a:xfrm>
                <a:off x="5791320" y="212904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5776920" y="4110120"/>
                <a:ext cx="39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5784480" y="3805200"/>
                <a:ext cx="33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00"/>
                    </a:solidFill>
                    <a:latin typeface="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5791320" y="342432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00"/>
                    </a:solidFill>
                    <a:latin typeface="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5776920" y="3195720"/>
                <a:ext cx="39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5784120" y="281448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00"/>
                    </a:solidFill>
                    <a:latin typeface="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5776200" y="2608200"/>
                <a:ext cx="39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1" name=""/>
            <p:cNvSpPr/>
            <p:nvPr/>
          </p:nvSpPr>
          <p:spPr>
            <a:xfrm>
              <a:off x="6248520" y="2509920"/>
              <a:ext cx="75960" cy="20574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7238880" y="2509920"/>
              <a:ext cx="1219320" cy="1905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3" name=""/>
            <p:cNvGrpSpPr/>
            <p:nvPr/>
          </p:nvGrpSpPr>
          <p:grpSpPr>
            <a:xfrm>
              <a:off x="7391520" y="2738520"/>
              <a:ext cx="914400" cy="1447920"/>
              <a:chOff x="7391520" y="2738520"/>
              <a:chExt cx="914400" cy="1447920"/>
            </a:xfrm>
          </p:grpSpPr>
          <p:sp>
            <p:nvSpPr>
              <p:cNvPr id="7934" name=""/>
              <p:cNvSpPr/>
              <p:nvPr/>
            </p:nvSpPr>
            <p:spPr>
              <a:xfrm>
                <a:off x="7467840" y="2738520"/>
                <a:ext cx="7621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7467840" y="3424320"/>
                <a:ext cx="7621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7467840" y="4110120"/>
                <a:ext cx="7621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8229960" y="2814840"/>
                <a:ext cx="7596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7391520" y="3500640"/>
                <a:ext cx="7632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7391520" y="2814840"/>
                <a:ext cx="7632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8229960" y="3500640"/>
                <a:ext cx="75960" cy="60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1" name=""/>
            <p:cNvSpPr/>
            <p:nvPr/>
          </p:nvSpPr>
          <p:spPr>
            <a:xfrm>
              <a:off x="4114800" y="266220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译码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990720" y="1828800"/>
              <a:ext cx="609480" cy="22269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 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十进制代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1219320" y="2438640"/>
              <a:ext cx="0" cy="3045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1828800" y="3310200"/>
              <a:ext cx="685800" cy="342720"/>
            </a:xfrm>
            <a:prstGeom prst="rightArrow">
              <a:avLst>
                <a:gd name="adj1" fmla="val 50000"/>
                <a:gd name="adj2" fmla="val 49795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006600"/>
                </a:gs>
              </a:gsLst>
              <a:lin ang="0"/>
            </a:gra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3847320" y="4795920"/>
              <a:ext cx="12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共阴极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6400800" y="3272040"/>
              <a:ext cx="685800" cy="342720"/>
            </a:xfrm>
            <a:prstGeom prst="rightArrow">
              <a:avLst>
                <a:gd name="adj1" fmla="val 50000"/>
                <a:gd name="adj2" fmla="val 49795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006600"/>
                </a:gs>
              </a:gsLst>
              <a:lin ang="0"/>
            </a:gra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7" name=""/>
          <p:cNvGrpSpPr/>
          <p:nvPr/>
        </p:nvGrpSpPr>
        <p:grpSpPr>
          <a:xfrm>
            <a:off x="3493080" y="2438280"/>
            <a:ext cx="386640" cy="1663560"/>
            <a:chOff x="3493080" y="2438280"/>
            <a:chExt cx="386640" cy="1663560"/>
          </a:xfrm>
        </p:grpSpPr>
        <p:sp>
          <p:nvSpPr>
            <p:cNvPr id="7948" name=""/>
            <p:cNvSpPr/>
            <p:nvPr/>
          </p:nvSpPr>
          <p:spPr>
            <a:xfrm>
              <a:off x="3496320" y="2438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496320" y="284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496320" y="3200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3493080" y="3581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2" name=""/>
          <p:cNvGrpSpPr/>
          <p:nvPr/>
        </p:nvGrpSpPr>
        <p:grpSpPr>
          <a:xfrm>
            <a:off x="5397840" y="2209680"/>
            <a:ext cx="383400" cy="2322360"/>
            <a:chOff x="5397840" y="2209680"/>
            <a:chExt cx="383400" cy="2322360"/>
          </a:xfrm>
        </p:grpSpPr>
        <p:sp>
          <p:nvSpPr>
            <p:cNvPr id="7953" name=""/>
            <p:cNvSpPr/>
            <p:nvPr/>
          </p:nvSpPr>
          <p:spPr>
            <a:xfrm>
              <a:off x="5397840" y="3402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4" name=""/>
            <p:cNvGrpSpPr/>
            <p:nvPr/>
          </p:nvGrpSpPr>
          <p:grpSpPr>
            <a:xfrm>
              <a:off x="5397840" y="2209680"/>
              <a:ext cx="383400" cy="798480"/>
              <a:chOff x="5397840" y="2209680"/>
              <a:chExt cx="383400" cy="798480"/>
            </a:xfrm>
          </p:grpSpPr>
          <p:sp>
            <p:nvSpPr>
              <p:cNvPr id="7955" name=""/>
              <p:cNvSpPr/>
              <p:nvPr/>
            </p:nvSpPr>
            <p:spPr>
              <a:xfrm>
                <a:off x="5397840" y="2209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5397840" y="2487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7" name=""/>
            <p:cNvGrpSpPr/>
            <p:nvPr/>
          </p:nvGrpSpPr>
          <p:grpSpPr>
            <a:xfrm>
              <a:off x="5397840" y="2784600"/>
              <a:ext cx="383400" cy="798120"/>
              <a:chOff x="5397840" y="2784600"/>
              <a:chExt cx="383400" cy="798120"/>
            </a:xfrm>
          </p:grpSpPr>
          <p:sp>
            <p:nvSpPr>
              <p:cNvPr id="7958" name=""/>
              <p:cNvSpPr/>
              <p:nvPr/>
            </p:nvSpPr>
            <p:spPr>
              <a:xfrm>
                <a:off x="5397840" y="2784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5397840" y="306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0" name=""/>
            <p:cNvGrpSpPr/>
            <p:nvPr/>
          </p:nvGrpSpPr>
          <p:grpSpPr>
            <a:xfrm>
              <a:off x="5397840" y="3733920"/>
              <a:ext cx="383400" cy="798120"/>
              <a:chOff x="5397840" y="3733920"/>
              <a:chExt cx="383400" cy="798120"/>
            </a:xfrm>
          </p:grpSpPr>
          <p:sp>
            <p:nvSpPr>
              <p:cNvPr id="7961" name=""/>
              <p:cNvSpPr/>
              <p:nvPr/>
            </p:nvSpPr>
            <p:spPr>
              <a:xfrm>
                <a:off x="5397840" y="3733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5397840" y="4011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63" name=""/>
          <p:cNvGrpSpPr/>
          <p:nvPr/>
        </p:nvGrpSpPr>
        <p:grpSpPr>
          <a:xfrm>
            <a:off x="1889280" y="2765520"/>
            <a:ext cx="5254200" cy="588600"/>
            <a:chOff x="1889280" y="2765520"/>
            <a:chExt cx="5254200" cy="588600"/>
          </a:xfrm>
        </p:grpSpPr>
        <p:sp>
          <p:nvSpPr>
            <p:cNvPr id="7964" name=""/>
            <p:cNvSpPr/>
            <p:nvPr/>
          </p:nvSpPr>
          <p:spPr>
            <a:xfrm>
              <a:off x="6461280" y="276552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"/>
                </a:rPr>
                <a:t>7</a:t>
              </a: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1889280" y="2833560"/>
              <a:ext cx="6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6" name=""/>
          <p:cNvGrpSpPr/>
          <p:nvPr/>
        </p:nvGrpSpPr>
        <p:grpSpPr>
          <a:xfrm>
            <a:off x="7467480" y="2743200"/>
            <a:ext cx="914400" cy="1447920"/>
            <a:chOff x="7467480" y="2743200"/>
            <a:chExt cx="914400" cy="1447920"/>
          </a:xfrm>
        </p:grpSpPr>
        <p:sp>
          <p:nvSpPr>
            <p:cNvPr id="7967" name=""/>
            <p:cNvSpPr/>
            <p:nvPr/>
          </p:nvSpPr>
          <p:spPr>
            <a:xfrm>
              <a:off x="7543800" y="2743200"/>
              <a:ext cx="7617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7543800" y="3429000"/>
              <a:ext cx="7617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7543800" y="4114800"/>
              <a:ext cx="7617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8305560" y="281952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7467480" y="3505320"/>
              <a:ext cx="763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7467480" y="281952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8305560" y="3505320"/>
              <a:ext cx="763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4" dur="indefinite" restart="never" nodeType="tmRoot">
          <p:childTnLst>
            <p:seq>
              <p:cTn id="4135" dur="indefinite" nodeType="mainSeq">
                <p:childTnLst>
                  <p:par>
                    <p:cTn id="4136" nodeType="clickEffect" fill="hold">
                      <p:stCondLst>
                        <p:cond delay="indefinite"/>
                      </p:stCondLst>
                      <p:childTnLst>
                        <p:par>
                          <p:cTn id="4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8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4140" dur="500"/>
                                        <p:tgtEl>
                                          <p:spTgt spid="7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nodeType="clickEffect" fill="hold">
                      <p:stCondLst>
                        <p:cond delay="indefinite"/>
                      </p:stCondLst>
                      <p:childTnLst>
                        <p:par>
                          <p:cTn id="4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45" dur="500"/>
                                        <p:tgtEl>
                                          <p:spTgt spid="7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150" dur="500"/>
                                        <p:tgtEl>
                                          <p:spTgt spid="7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155" dur="500"/>
                                        <p:tgtEl>
                                          <p:spTgt spid="7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14" presetSubtype="10"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base">
                                        <p:cTn id="4160" dur="500"/>
                                        <p:tgtEl>
                                          <p:spTgt spid="7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"/>
          <p:cNvSpPr/>
          <p:nvPr/>
        </p:nvSpPr>
        <p:spPr>
          <a:xfrm>
            <a:off x="274320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七段显示译码器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5" name=""/>
          <p:cNvGrpSpPr/>
          <p:nvPr/>
        </p:nvGrpSpPr>
        <p:grpSpPr>
          <a:xfrm>
            <a:off x="437040" y="1843200"/>
            <a:ext cx="1615320" cy="2425320"/>
            <a:chOff x="437040" y="1843200"/>
            <a:chExt cx="1615320" cy="2425320"/>
          </a:xfrm>
        </p:grpSpPr>
        <p:grpSp>
          <p:nvGrpSpPr>
            <p:cNvPr id="7976" name=""/>
            <p:cNvGrpSpPr/>
            <p:nvPr/>
          </p:nvGrpSpPr>
          <p:grpSpPr>
            <a:xfrm>
              <a:off x="760680" y="2351160"/>
              <a:ext cx="914400" cy="1447560"/>
              <a:chOff x="760680" y="2351160"/>
              <a:chExt cx="914400" cy="1447560"/>
            </a:xfrm>
          </p:grpSpPr>
          <p:sp>
            <p:nvSpPr>
              <p:cNvPr id="7977" name=""/>
              <p:cNvSpPr/>
              <p:nvPr/>
            </p:nvSpPr>
            <p:spPr>
              <a:xfrm>
                <a:off x="836640" y="2351160"/>
                <a:ext cx="7621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836640" y="3036960"/>
                <a:ext cx="7621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836640" y="3722760"/>
                <a:ext cx="7621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1598760" y="2427120"/>
                <a:ext cx="763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760680" y="3112920"/>
                <a:ext cx="759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760680" y="2427120"/>
                <a:ext cx="759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1598760" y="3112920"/>
                <a:ext cx="763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4" name=""/>
            <p:cNvSpPr/>
            <p:nvPr/>
          </p:nvSpPr>
          <p:spPr>
            <a:xfrm>
              <a:off x="1051200" y="25797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451080" y="2452680"/>
              <a:ext cx="31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437040" y="3138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1051200" y="37479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1669320" y="311292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1659960" y="2427120"/>
              <a:ext cx="39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1051200" y="184320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91" name="" descr=""/>
          <p:cNvPicPr/>
          <p:nvPr/>
        </p:nvPicPr>
        <p:blipFill>
          <a:blip r:embed="rId1"/>
          <a:stretch/>
        </p:blipFill>
        <p:spPr>
          <a:xfrm>
            <a:off x="228600" y="523080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7992" name=""/>
          <p:cNvSpPr/>
          <p:nvPr/>
        </p:nvSpPr>
        <p:spPr>
          <a:xfrm>
            <a:off x="1981080" y="4495680"/>
            <a:ext cx="6019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3" name=""/>
          <p:cNvGrpSpPr/>
          <p:nvPr/>
        </p:nvGrpSpPr>
        <p:grpSpPr>
          <a:xfrm>
            <a:off x="762120" y="2362320"/>
            <a:ext cx="914400" cy="1447200"/>
            <a:chOff x="762120" y="2362320"/>
            <a:chExt cx="914400" cy="1447200"/>
          </a:xfrm>
        </p:grpSpPr>
        <p:sp>
          <p:nvSpPr>
            <p:cNvPr id="7994" name=""/>
            <p:cNvSpPr/>
            <p:nvPr/>
          </p:nvSpPr>
          <p:spPr>
            <a:xfrm>
              <a:off x="838440" y="2362320"/>
              <a:ext cx="7621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838440" y="3047760"/>
              <a:ext cx="7621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838440" y="3733560"/>
              <a:ext cx="7621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762120" y="2438280"/>
              <a:ext cx="76320" cy="609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1600560" y="3124080"/>
              <a:ext cx="75960" cy="609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9" name=""/>
          <p:cNvGrpSpPr/>
          <p:nvPr/>
        </p:nvGrpSpPr>
        <p:grpSpPr>
          <a:xfrm>
            <a:off x="762120" y="2438280"/>
            <a:ext cx="914400" cy="1295280"/>
            <a:chOff x="762120" y="2438280"/>
            <a:chExt cx="914400" cy="1295280"/>
          </a:xfrm>
        </p:grpSpPr>
        <p:sp>
          <p:nvSpPr>
            <p:cNvPr id="8000" name=""/>
            <p:cNvSpPr/>
            <p:nvPr/>
          </p:nvSpPr>
          <p:spPr>
            <a:xfrm>
              <a:off x="838440" y="3047760"/>
              <a:ext cx="7621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1600560" y="2438280"/>
              <a:ext cx="75960" cy="609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762120" y="2438280"/>
              <a:ext cx="76320" cy="609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1600560" y="3124080"/>
              <a:ext cx="75960" cy="609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4" name=""/>
          <p:cNvSpPr/>
          <p:nvPr/>
        </p:nvSpPr>
        <p:spPr>
          <a:xfrm>
            <a:off x="2057400" y="4114800"/>
            <a:ext cx="6019920" cy="1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5" name=""/>
          <p:cNvGrpSpPr/>
          <p:nvPr/>
        </p:nvGrpSpPr>
        <p:grpSpPr>
          <a:xfrm>
            <a:off x="1826640" y="1143000"/>
            <a:ext cx="6783840" cy="5092560"/>
            <a:chOff x="1826640" y="1143000"/>
            <a:chExt cx="6783840" cy="5092560"/>
          </a:xfrm>
        </p:grpSpPr>
        <p:sp>
          <p:nvSpPr>
            <p:cNvPr id="8006" name=""/>
            <p:cNvSpPr/>
            <p:nvPr/>
          </p:nvSpPr>
          <p:spPr>
            <a:xfrm>
              <a:off x="1905120" y="2124360"/>
              <a:ext cx="6476760" cy="93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962520" y="1143000"/>
              <a:ext cx="0" cy="5029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7391520" y="1143000"/>
              <a:ext cx="0" cy="50292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1981080" y="1617840"/>
              <a:ext cx="198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3  </a:t>
              </a: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2  </a:t>
              </a: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1  </a:t>
              </a:r>
              <a:r>
                <a:rPr b="1" i="1" lang="en-US" sz="2400" spc="-1" strike="noStrike">
                  <a:solidFill>
                    <a:srgbClr val="333300"/>
                  </a:solidFill>
                  <a:latin typeface=""/>
                </a:rPr>
                <a:t>Q</a:t>
              </a:r>
              <a:r>
                <a:rPr b="1" lang="en-US" sz="24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4044600" y="1648080"/>
              <a:ext cx="33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b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c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e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  f   g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1826640" y="213372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   0   0   0       1   1   1   1   1   1   0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1826640" y="25146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   0   0   1       0   1   1   0   0   0   0   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1826640" y="289584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"/>
                </a:rPr>
                <a:t>0   0   1   0       1   1   0   1   1   0   1      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1826640" y="327672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"/>
                </a:rPr>
                <a:t>0   0   1   1       1   1   1   1   0   0   1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1826640" y="36576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   1   0   0       0   1   1   0   0   1   1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1826640" y="403884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1   0   1       1   0   1   1   0   1   1      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1826640" y="449604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99"/>
                  </a:solidFill>
                  <a:latin typeface=""/>
                </a:rPr>
                <a:t>0   1   1   0       1   0   1   1   1   1   1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1826640" y="487692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   1   1   1       1   1   1   0   0   0   0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1826640" y="52578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"/>
                </a:rPr>
                <a:t>1   0   0   0       1   1   1   1   1   1   1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1826640" y="5715000"/>
              <a:ext cx="642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1   0   0   1       1   1   1   1   0   1   1    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2579760" y="114300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输  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5162400" y="1143000"/>
              <a:ext cx="116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输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7467480" y="1219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显示数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1981080" y="1600200"/>
              <a:ext cx="541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1981080" y="11430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1828800" y="61722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1" dur="indefinite" restart="never" nodeType="tmRoot">
          <p:childTnLst>
            <p:seq>
              <p:cTn id="4162" dur="indefinite" nodeType="mainSeq">
                <p:childTnLst>
                  <p:par>
                    <p:cTn id="4163" nodeType="clickEffect" fill="hold">
                      <p:stCondLst>
                        <p:cond delay="indefinite"/>
                      </p:stCondLst>
                      <p:childTnLst>
                        <p:par>
                          <p:cTn id="4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67" dur="500"/>
                                        <p:tgtEl>
                                          <p:spTgt spid="7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nodeType="clickEffect" fill="hold">
                      <p:stCondLst>
                        <p:cond delay="indefinite"/>
                      </p:stCondLst>
                      <p:childTnLst>
                        <p:par>
                          <p:cTn id="4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72" dur="500"/>
                                        <p:tgtEl>
                                          <p:spTgt spid="7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3" nodeType="clickEffect" fill="hold">
                      <p:stCondLst>
                        <p:cond delay="indefinite"/>
                      </p:stCondLst>
                      <p:childTnLst>
                        <p:par>
                          <p:cTn id="4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77" dur="500"/>
                                        <p:tgtEl>
                                          <p:spTgt spid="8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nodeType="clickEffect" fill="hold">
                      <p:stCondLst>
                        <p:cond delay="indefinite"/>
                      </p:stCondLst>
                      <p:childTnLst>
                        <p:par>
                          <p:cTn id="4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82" dur="500"/>
                                        <p:tgtEl>
                                          <p:spTgt spid="7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7" name=""/>
          <p:cNvGrpSpPr/>
          <p:nvPr/>
        </p:nvGrpSpPr>
        <p:grpSpPr>
          <a:xfrm>
            <a:off x="684360" y="561960"/>
            <a:ext cx="7839000" cy="5076000"/>
            <a:chOff x="684360" y="561960"/>
            <a:chExt cx="7839000" cy="5076000"/>
          </a:xfrm>
        </p:grpSpPr>
        <p:grpSp>
          <p:nvGrpSpPr>
            <p:cNvPr id="8028" name=""/>
            <p:cNvGrpSpPr/>
            <p:nvPr/>
          </p:nvGrpSpPr>
          <p:grpSpPr>
            <a:xfrm>
              <a:off x="684360" y="561960"/>
              <a:ext cx="7839000" cy="5076000"/>
              <a:chOff x="684360" y="561960"/>
              <a:chExt cx="7839000" cy="5076000"/>
            </a:xfrm>
          </p:grpSpPr>
          <p:sp>
            <p:nvSpPr>
              <p:cNvPr id="8029" name=""/>
              <p:cNvSpPr/>
              <p:nvPr/>
            </p:nvSpPr>
            <p:spPr>
              <a:xfrm>
                <a:off x="7496640" y="4197600"/>
                <a:ext cx="829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BS20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0" name=""/>
              <p:cNvGrpSpPr/>
              <p:nvPr/>
            </p:nvGrpSpPr>
            <p:grpSpPr>
              <a:xfrm>
                <a:off x="4500360" y="2098440"/>
                <a:ext cx="340560" cy="1810800"/>
                <a:chOff x="4500360" y="2098440"/>
                <a:chExt cx="340560" cy="1810800"/>
              </a:xfrm>
            </p:grpSpPr>
            <p:sp>
              <p:nvSpPr>
                <p:cNvPr id="8031" name=""/>
                <p:cNvSpPr/>
                <p:nvPr/>
              </p:nvSpPr>
              <p:spPr>
                <a:xfrm>
                  <a:off x="4500360" y="3423240"/>
                  <a:ext cx="3405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500360" y="2963880"/>
                  <a:ext cx="3405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500360" y="2540880"/>
                  <a:ext cx="3405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500360" y="2098440"/>
                  <a:ext cx="3405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5" name=""/>
              <p:cNvSpPr/>
              <p:nvPr/>
            </p:nvSpPr>
            <p:spPr>
              <a:xfrm>
                <a:off x="5464080" y="2932920"/>
                <a:ext cx="812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宋体"/>
                  </a:rPr>
                  <a:t> 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74LS24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670000" y="561960"/>
                <a:ext cx="54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5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7" name=""/>
              <p:cNvGrpSpPr/>
              <p:nvPr/>
            </p:nvGrpSpPr>
            <p:grpSpPr>
              <a:xfrm>
                <a:off x="4075200" y="1984320"/>
                <a:ext cx="190080" cy="1842840"/>
                <a:chOff x="4075200" y="1984320"/>
                <a:chExt cx="190080" cy="1842840"/>
              </a:xfrm>
            </p:grpSpPr>
            <p:sp>
              <p:nvSpPr>
                <p:cNvPr id="8038" name=""/>
                <p:cNvSpPr/>
                <p:nvPr/>
              </p:nvSpPr>
              <p:spPr>
                <a:xfrm>
                  <a:off x="4078440" y="198432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来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078440" y="231696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自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078440" y="271188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078440" y="309096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 rot="60000">
                  <a:off x="4078440" y="345924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3" name=""/>
              <p:cNvSpPr/>
              <p:nvPr/>
            </p:nvSpPr>
            <p:spPr>
              <a:xfrm>
                <a:off x="5201640" y="5208840"/>
                <a:ext cx="2576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宋体"/>
                  </a:rPr>
                  <a:t>七段译码器和数码管的连接图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406920" y="4671720"/>
                <a:ext cx="1027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10Ω×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60400" y="1505520"/>
                <a:ext cx="1139040" cy="312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7347600" y="1482120"/>
                <a:ext cx="1175760" cy="3146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574240" y="1194480"/>
                <a:ext cx="23565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7929000" y="1194480"/>
                <a:ext cx="468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 flipV="1">
                <a:off x="5928120" y="1049400"/>
                <a:ext cx="180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 flipV="1">
                <a:off x="6244560" y="1278360"/>
                <a:ext cx="1440" cy="12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6499440" y="1676880"/>
                <a:ext cx="69120" cy="687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22"/>
                    </a:moveTo>
                    <a:lnTo>
                      <a:pt x="36" y="6"/>
                    </a:lnTo>
                    <a:lnTo>
                      <a:pt x="22" y="0"/>
                    </a:lnTo>
                    <a:lnTo>
                      <a:pt x="5" y="6"/>
                    </a:lnTo>
                    <a:lnTo>
                      <a:pt x="0" y="22"/>
                    </a:lnTo>
                    <a:lnTo>
                      <a:pt x="5" y="36"/>
                    </a:lnTo>
                    <a:lnTo>
                      <a:pt x="22" y="43"/>
                    </a:lnTo>
                    <a:lnTo>
                      <a:pt x="36" y="36"/>
                    </a:lnTo>
                    <a:lnTo>
                      <a:pt x="43" y="2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6568920" y="171288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6781320" y="1671480"/>
                <a:ext cx="264600" cy="93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7046280" y="171288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7046280" y="215424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6568920" y="215424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6499440" y="2121120"/>
                <a:ext cx="69120" cy="6732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21"/>
                    </a:moveTo>
                    <a:lnTo>
                      <a:pt x="36" y="5"/>
                    </a:lnTo>
                    <a:lnTo>
                      <a:pt x="22" y="0"/>
                    </a:lnTo>
                    <a:lnTo>
                      <a:pt x="5" y="5"/>
                    </a:lnTo>
                    <a:lnTo>
                      <a:pt x="0" y="21"/>
                    </a:lnTo>
                    <a:lnTo>
                      <a:pt x="5" y="36"/>
                    </a:lnTo>
                    <a:lnTo>
                      <a:pt x="22" y="43"/>
                    </a:lnTo>
                    <a:lnTo>
                      <a:pt x="36" y="36"/>
                    </a:lnTo>
                    <a:lnTo>
                      <a:pt x="43" y="2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6781320" y="2118240"/>
                <a:ext cx="264600" cy="8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7046280" y="260208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6568920" y="260208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6499440" y="2569320"/>
                <a:ext cx="69120" cy="6732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21"/>
                    </a:moveTo>
                    <a:lnTo>
                      <a:pt x="36" y="7"/>
                    </a:lnTo>
                    <a:lnTo>
                      <a:pt x="22" y="0"/>
                    </a:lnTo>
                    <a:lnTo>
                      <a:pt x="5" y="7"/>
                    </a:lnTo>
                    <a:lnTo>
                      <a:pt x="0" y="21"/>
                    </a:lnTo>
                    <a:lnTo>
                      <a:pt x="5" y="37"/>
                    </a:lnTo>
                    <a:lnTo>
                      <a:pt x="22" y="43"/>
                    </a:lnTo>
                    <a:lnTo>
                      <a:pt x="36" y="37"/>
                    </a:lnTo>
                    <a:lnTo>
                      <a:pt x="43" y="2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781320" y="2565720"/>
                <a:ext cx="264600" cy="8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7046280" y="305640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6568920" y="305640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6499440" y="3020400"/>
                <a:ext cx="69120" cy="687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22"/>
                    </a:moveTo>
                    <a:lnTo>
                      <a:pt x="36" y="6"/>
                    </a:lnTo>
                    <a:lnTo>
                      <a:pt x="22" y="0"/>
                    </a:lnTo>
                    <a:lnTo>
                      <a:pt x="5" y="6"/>
                    </a:lnTo>
                    <a:lnTo>
                      <a:pt x="0" y="22"/>
                    </a:lnTo>
                    <a:lnTo>
                      <a:pt x="5" y="36"/>
                    </a:lnTo>
                    <a:lnTo>
                      <a:pt x="22" y="43"/>
                    </a:lnTo>
                    <a:lnTo>
                      <a:pt x="36" y="36"/>
                    </a:lnTo>
                    <a:lnTo>
                      <a:pt x="43" y="2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6781320" y="3018600"/>
                <a:ext cx="264600" cy="8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7046280" y="351288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6568920" y="351288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6499440" y="3477960"/>
                <a:ext cx="69120" cy="687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21"/>
                    </a:moveTo>
                    <a:lnTo>
                      <a:pt x="36" y="7"/>
                    </a:lnTo>
                    <a:lnTo>
                      <a:pt x="22" y="0"/>
                    </a:lnTo>
                    <a:lnTo>
                      <a:pt x="5" y="7"/>
                    </a:lnTo>
                    <a:lnTo>
                      <a:pt x="0" y="21"/>
                    </a:lnTo>
                    <a:lnTo>
                      <a:pt x="5" y="37"/>
                    </a:lnTo>
                    <a:lnTo>
                      <a:pt x="22" y="43"/>
                    </a:lnTo>
                    <a:lnTo>
                      <a:pt x="36" y="37"/>
                    </a:lnTo>
                    <a:lnTo>
                      <a:pt x="43" y="2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6781320" y="3474720"/>
                <a:ext cx="264600" cy="93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7046280" y="396396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6568920" y="396396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6499440" y="3927600"/>
                <a:ext cx="69120" cy="70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22"/>
                    </a:moveTo>
                    <a:lnTo>
                      <a:pt x="36" y="8"/>
                    </a:lnTo>
                    <a:lnTo>
                      <a:pt x="22" y="0"/>
                    </a:lnTo>
                    <a:lnTo>
                      <a:pt x="5" y="8"/>
                    </a:lnTo>
                    <a:lnTo>
                      <a:pt x="0" y="22"/>
                    </a:lnTo>
                    <a:lnTo>
                      <a:pt x="5" y="36"/>
                    </a:lnTo>
                    <a:lnTo>
                      <a:pt x="22" y="44"/>
                    </a:lnTo>
                    <a:lnTo>
                      <a:pt x="36" y="36"/>
                    </a:lnTo>
                    <a:lnTo>
                      <a:pt x="43" y="2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6781320" y="3925800"/>
                <a:ext cx="264600" cy="8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7046280" y="4397040"/>
                <a:ext cx="301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6568920" y="4397040"/>
                <a:ext cx="212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6499440" y="4362120"/>
                <a:ext cx="69120" cy="687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22"/>
                    </a:moveTo>
                    <a:lnTo>
                      <a:pt x="36" y="7"/>
                    </a:lnTo>
                    <a:lnTo>
                      <a:pt x="22" y="0"/>
                    </a:lnTo>
                    <a:lnTo>
                      <a:pt x="5" y="7"/>
                    </a:lnTo>
                    <a:lnTo>
                      <a:pt x="0" y="22"/>
                    </a:lnTo>
                    <a:lnTo>
                      <a:pt x="5" y="38"/>
                    </a:lnTo>
                    <a:lnTo>
                      <a:pt x="22" y="44"/>
                    </a:lnTo>
                    <a:lnTo>
                      <a:pt x="36" y="38"/>
                    </a:lnTo>
                    <a:lnTo>
                      <a:pt x="43" y="2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6781320" y="4358880"/>
                <a:ext cx="264600" cy="88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79" name=""/>
              <p:cNvGrpSpPr/>
              <p:nvPr/>
            </p:nvGrpSpPr>
            <p:grpSpPr>
              <a:xfrm>
                <a:off x="5823000" y="4628880"/>
                <a:ext cx="215280" cy="228240"/>
                <a:chOff x="5823000" y="4628880"/>
                <a:chExt cx="215280" cy="228240"/>
              </a:xfrm>
            </p:grpSpPr>
            <p:sp>
              <p:nvSpPr>
                <p:cNvPr id="8080" name=""/>
                <p:cNvSpPr/>
                <p:nvPr/>
              </p:nvSpPr>
              <p:spPr>
                <a:xfrm>
                  <a:off x="5928120" y="4628880"/>
                  <a:ext cx="1440" cy="22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 flipH="1">
                  <a:off x="5823000" y="4855680"/>
                  <a:ext cx="21528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2" name=""/>
              <p:cNvSpPr/>
              <p:nvPr/>
            </p:nvSpPr>
            <p:spPr>
              <a:xfrm>
                <a:off x="7643880" y="3729960"/>
                <a:ext cx="4082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 flipV="1">
                <a:off x="8088840" y="3130560"/>
                <a:ext cx="78840" cy="487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 flipV="1">
                <a:off x="7606440" y="3130560"/>
                <a:ext cx="80640" cy="487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7706880" y="3064680"/>
                <a:ext cx="40968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7817040" y="2378160"/>
                <a:ext cx="4082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 flipV="1">
                <a:off x="7715160" y="2444040"/>
                <a:ext cx="82080" cy="49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 flipV="1">
                <a:off x="8197560" y="2444040"/>
                <a:ext cx="80640" cy="49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 flipH="1">
                <a:off x="4956840" y="3733200"/>
                <a:ext cx="4032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4892760" y="3701880"/>
                <a:ext cx="64080" cy="6408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20"/>
                    </a:moveTo>
                    <a:lnTo>
                      <a:pt x="35" y="5"/>
                    </a:lnTo>
                    <a:lnTo>
                      <a:pt x="20" y="0"/>
                    </a:lnTo>
                    <a:lnTo>
                      <a:pt x="6" y="5"/>
                    </a:lnTo>
                    <a:lnTo>
                      <a:pt x="0" y="20"/>
                    </a:lnTo>
                    <a:lnTo>
                      <a:pt x="6" y="34"/>
                    </a:lnTo>
                    <a:lnTo>
                      <a:pt x="20" y="41"/>
                    </a:lnTo>
                    <a:lnTo>
                      <a:pt x="35" y="34"/>
                    </a:lnTo>
                    <a:lnTo>
                      <a:pt x="40" y="2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 flipH="1">
                <a:off x="4956840" y="3278520"/>
                <a:ext cx="4032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4892760" y="32457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21"/>
                    </a:moveTo>
                    <a:lnTo>
                      <a:pt x="35" y="7"/>
                    </a:lnTo>
                    <a:lnTo>
                      <a:pt x="20" y="0"/>
                    </a:lnTo>
                    <a:lnTo>
                      <a:pt x="6" y="7"/>
                    </a:lnTo>
                    <a:lnTo>
                      <a:pt x="0" y="21"/>
                    </a:lnTo>
                    <a:lnTo>
                      <a:pt x="6" y="36"/>
                    </a:lnTo>
                    <a:lnTo>
                      <a:pt x="20" y="41"/>
                    </a:lnTo>
                    <a:lnTo>
                      <a:pt x="35" y="36"/>
                    </a:lnTo>
                    <a:lnTo>
                      <a:pt x="40" y="2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 flipH="1">
                <a:off x="4956840" y="2855520"/>
                <a:ext cx="403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4892760" y="2819160"/>
                <a:ext cx="64080" cy="655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22"/>
                    </a:moveTo>
                    <a:lnTo>
                      <a:pt x="35" y="7"/>
                    </a:lnTo>
                    <a:lnTo>
                      <a:pt x="20" y="0"/>
                    </a:lnTo>
                    <a:lnTo>
                      <a:pt x="6" y="7"/>
                    </a:lnTo>
                    <a:lnTo>
                      <a:pt x="0" y="22"/>
                    </a:lnTo>
                    <a:lnTo>
                      <a:pt x="6" y="36"/>
                    </a:lnTo>
                    <a:lnTo>
                      <a:pt x="20" y="41"/>
                    </a:lnTo>
                    <a:lnTo>
                      <a:pt x="35" y="36"/>
                    </a:lnTo>
                    <a:lnTo>
                      <a:pt x="40" y="2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 flipH="1">
                <a:off x="4956840" y="2409480"/>
                <a:ext cx="403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4892760" y="23781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19"/>
                    </a:moveTo>
                    <a:lnTo>
                      <a:pt x="35" y="5"/>
                    </a:lnTo>
                    <a:lnTo>
                      <a:pt x="20" y="0"/>
                    </a:lnTo>
                    <a:lnTo>
                      <a:pt x="6" y="5"/>
                    </a:lnTo>
                    <a:lnTo>
                      <a:pt x="0" y="19"/>
                    </a:lnTo>
                    <a:lnTo>
                      <a:pt x="6" y="34"/>
                    </a:lnTo>
                    <a:lnTo>
                      <a:pt x="20" y="41"/>
                    </a:lnTo>
                    <a:lnTo>
                      <a:pt x="35" y="34"/>
                    </a:lnTo>
                    <a:lnTo>
                      <a:pt x="40" y="1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510160" y="1408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30"/>
                    </a:moveTo>
                    <a:lnTo>
                      <a:pt x="52" y="9"/>
                    </a:lnTo>
                    <a:lnTo>
                      <a:pt x="31" y="0"/>
                    </a:lnTo>
                    <a:lnTo>
                      <a:pt x="9" y="9"/>
                    </a:lnTo>
                    <a:lnTo>
                      <a:pt x="0" y="30"/>
                    </a:lnTo>
                    <a:lnTo>
                      <a:pt x="9" y="52"/>
                    </a:lnTo>
                    <a:lnTo>
                      <a:pt x="31" y="61"/>
                    </a:lnTo>
                    <a:lnTo>
                      <a:pt x="52" y="52"/>
                    </a:lnTo>
                    <a:lnTo>
                      <a:pt x="61" y="3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880600" y="1408320"/>
                <a:ext cx="9720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30"/>
                    </a:moveTo>
                    <a:lnTo>
                      <a:pt x="52" y="9"/>
                    </a:lnTo>
                    <a:lnTo>
                      <a:pt x="30" y="0"/>
                    </a:lnTo>
                    <a:lnTo>
                      <a:pt x="9" y="9"/>
                    </a:lnTo>
                    <a:lnTo>
                      <a:pt x="0" y="30"/>
                    </a:lnTo>
                    <a:lnTo>
                      <a:pt x="9" y="52"/>
                    </a:lnTo>
                    <a:lnTo>
                      <a:pt x="30" y="61"/>
                    </a:lnTo>
                    <a:lnTo>
                      <a:pt x="52" y="52"/>
                    </a:lnTo>
                    <a:lnTo>
                      <a:pt x="61" y="3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6196680" y="1408320"/>
                <a:ext cx="986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30"/>
                    </a:moveTo>
                    <a:lnTo>
                      <a:pt x="52" y="9"/>
                    </a:lnTo>
                    <a:lnTo>
                      <a:pt x="30" y="0"/>
                    </a:lnTo>
                    <a:lnTo>
                      <a:pt x="9" y="9"/>
                    </a:lnTo>
                    <a:lnTo>
                      <a:pt x="0" y="30"/>
                    </a:lnTo>
                    <a:lnTo>
                      <a:pt x="9" y="52"/>
                    </a:lnTo>
                    <a:lnTo>
                      <a:pt x="30" y="61"/>
                    </a:lnTo>
                    <a:lnTo>
                      <a:pt x="52" y="52"/>
                    </a:lnTo>
                    <a:lnTo>
                      <a:pt x="61" y="3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880600" y="950400"/>
                <a:ext cx="9720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52" y="9"/>
                    </a:lnTo>
                    <a:lnTo>
                      <a:pt x="30" y="0"/>
                    </a:lnTo>
                    <a:lnTo>
                      <a:pt x="9" y="9"/>
                    </a:lnTo>
                    <a:lnTo>
                      <a:pt x="0" y="31"/>
                    </a:lnTo>
                    <a:lnTo>
                      <a:pt x="9" y="53"/>
                    </a:lnTo>
                    <a:lnTo>
                      <a:pt x="30" y="62"/>
                    </a:lnTo>
                    <a:lnTo>
                      <a:pt x="52" y="53"/>
                    </a:lnTo>
                    <a:lnTo>
                      <a:pt x="61" y="3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 flipV="1">
                <a:off x="5554440" y="1194480"/>
                <a:ext cx="0" cy="23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2" name=""/>
              <p:cNvGrpSpPr/>
              <p:nvPr/>
            </p:nvGrpSpPr>
            <p:grpSpPr>
              <a:xfrm>
                <a:off x="6546240" y="1389960"/>
                <a:ext cx="146520" cy="305280"/>
                <a:chOff x="6546240" y="1389960"/>
                <a:chExt cx="146520" cy="305280"/>
              </a:xfrm>
            </p:grpSpPr>
            <p:sp>
              <p:nvSpPr>
                <p:cNvPr id="8103" name=""/>
                <p:cNvSpPr/>
                <p:nvPr/>
              </p:nvSpPr>
              <p:spPr>
                <a:xfrm>
                  <a:off x="6546240" y="13899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 flipH="1">
                  <a:off x="6556320" y="146880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5" name=""/>
              <p:cNvGrpSpPr/>
              <p:nvPr/>
            </p:nvGrpSpPr>
            <p:grpSpPr>
              <a:xfrm>
                <a:off x="6529680" y="1829880"/>
                <a:ext cx="153360" cy="305280"/>
                <a:chOff x="6529680" y="1829880"/>
                <a:chExt cx="153360" cy="305280"/>
              </a:xfrm>
            </p:grpSpPr>
            <p:sp>
              <p:nvSpPr>
                <p:cNvPr id="8106" name=""/>
                <p:cNvSpPr/>
                <p:nvPr/>
              </p:nvSpPr>
              <p:spPr>
                <a:xfrm>
                  <a:off x="6529680" y="18298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 flipH="1">
                  <a:off x="6546600" y="186120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8" name=""/>
              <p:cNvGrpSpPr/>
              <p:nvPr/>
            </p:nvGrpSpPr>
            <p:grpSpPr>
              <a:xfrm>
                <a:off x="6533640" y="2244600"/>
                <a:ext cx="149760" cy="305280"/>
                <a:chOff x="6533640" y="2244600"/>
                <a:chExt cx="149760" cy="305280"/>
              </a:xfrm>
            </p:grpSpPr>
            <p:sp>
              <p:nvSpPr>
                <p:cNvPr id="8109" name=""/>
                <p:cNvSpPr/>
                <p:nvPr/>
              </p:nvSpPr>
              <p:spPr>
                <a:xfrm>
                  <a:off x="6533640" y="2244600"/>
                  <a:ext cx="1134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 flipH="1">
                  <a:off x="6547320" y="2334960"/>
                  <a:ext cx="13608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1" name=""/>
              <p:cNvGrpSpPr/>
              <p:nvPr/>
            </p:nvGrpSpPr>
            <p:grpSpPr>
              <a:xfrm>
                <a:off x="6526440" y="2695680"/>
                <a:ext cx="156600" cy="305280"/>
                <a:chOff x="6526440" y="2695680"/>
                <a:chExt cx="156600" cy="305280"/>
              </a:xfrm>
            </p:grpSpPr>
            <p:sp>
              <p:nvSpPr>
                <p:cNvPr id="8112" name=""/>
                <p:cNvSpPr/>
                <p:nvPr/>
              </p:nvSpPr>
              <p:spPr>
                <a:xfrm>
                  <a:off x="6526440" y="26956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 flipH="1">
                  <a:off x="6546600" y="273024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4" name=""/>
              <p:cNvGrpSpPr/>
              <p:nvPr/>
            </p:nvGrpSpPr>
            <p:grpSpPr>
              <a:xfrm>
                <a:off x="6526800" y="3169800"/>
                <a:ext cx="156240" cy="305280"/>
                <a:chOff x="6526800" y="3169800"/>
                <a:chExt cx="156240" cy="305280"/>
              </a:xfrm>
            </p:grpSpPr>
            <p:sp>
              <p:nvSpPr>
                <p:cNvPr id="8115" name=""/>
                <p:cNvSpPr/>
                <p:nvPr/>
              </p:nvSpPr>
              <p:spPr>
                <a:xfrm>
                  <a:off x="6526800" y="3169800"/>
                  <a:ext cx="1134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 flipH="1">
                  <a:off x="6546600" y="330120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7" name=""/>
              <p:cNvGrpSpPr/>
              <p:nvPr/>
            </p:nvGrpSpPr>
            <p:grpSpPr>
              <a:xfrm>
                <a:off x="6526440" y="3607920"/>
                <a:ext cx="156600" cy="305280"/>
                <a:chOff x="6526440" y="3607920"/>
                <a:chExt cx="156600" cy="305280"/>
              </a:xfrm>
            </p:grpSpPr>
            <p:sp>
              <p:nvSpPr>
                <p:cNvPr id="8118" name=""/>
                <p:cNvSpPr/>
                <p:nvPr/>
              </p:nvSpPr>
              <p:spPr>
                <a:xfrm>
                  <a:off x="6526440" y="3607920"/>
                  <a:ext cx="86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 flipH="1">
                  <a:off x="6546600" y="364932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0" name=""/>
              <p:cNvGrpSpPr/>
              <p:nvPr/>
            </p:nvGrpSpPr>
            <p:grpSpPr>
              <a:xfrm>
                <a:off x="6526440" y="4039560"/>
                <a:ext cx="156600" cy="305280"/>
                <a:chOff x="6526440" y="4039560"/>
                <a:chExt cx="156600" cy="305280"/>
              </a:xfrm>
            </p:grpSpPr>
            <p:sp>
              <p:nvSpPr>
                <p:cNvPr id="8121" name=""/>
                <p:cNvSpPr/>
                <p:nvPr/>
              </p:nvSpPr>
              <p:spPr>
                <a:xfrm>
                  <a:off x="6526440" y="40395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 flipH="1">
                  <a:off x="6546600" y="4156200"/>
                  <a:ext cx="136440" cy="144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3" name=""/>
              <p:cNvGrpSpPr/>
              <p:nvPr/>
            </p:nvGrpSpPr>
            <p:grpSpPr>
              <a:xfrm>
                <a:off x="5361480" y="1589400"/>
                <a:ext cx="438120" cy="305280"/>
                <a:chOff x="5361480" y="1589400"/>
                <a:chExt cx="438120" cy="305280"/>
              </a:xfrm>
            </p:grpSpPr>
            <p:sp>
              <p:nvSpPr>
                <p:cNvPr id="8124" name=""/>
                <p:cNvSpPr/>
                <p:nvPr/>
              </p:nvSpPr>
              <p:spPr>
                <a:xfrm>
                  <a:off x="5361480" y="1589400"/>
                  <a:ext cx="4381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B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5361840" y="1589400"/>
                  <a:ext cx="39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6" name=""/>
              <p:cNvGrpSpPr/>
              <p:nvPr/>
            </p:nvGrpSpPr>
            <p:grpSpPr>
              <a:xfrm>
                <a:off x="5913720" y="1577880"/>
                <a:ext cx="333000" cy="305280"/>
                <a:chOff x="5913720" y="1577880"/>
                <a:chExt cx="333000" cy="305280"/>
              </a:xfrm>
            </p:grpSpPr>
            <p:sp>
              <p:nvSpPr>
                <p:cNvPr id="8127" name=""/>
                <p:cNvSpPr/>
                <p:nvPr/>
              </p:nvSpPr>
              <p:spPr>
                <a:xfrm>
                  <a:off x="5913720" y="1577880"/>
                  <a:ext cx="3330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I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5915160" y="1589400"/>
                  <a:ext cx="23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9" name=""/>
              <p:cNvGrpSpPr/>
              <p:nvPr/>
            </p:nvGrpSpPr>
            <p:grpSpPr>
              <a:xfrm>
                <a:off x="5045760" y="1115280"/>
                <a:ext cx="453960" cy="305280"/>
                <a:chOff x="5045760" y="1115280"/>
                <a:chExt cx="453960" cy="305280"/>
              </a:xfrm>
            </p:grpSpPr>
            <p:sp>
              <p:nvSpPr>
                <p:cNvPr id="8130" name=""/>
                <p:cNvSpPr/>
                <p:nvPr/>
              </p:nvSpPr>
              <p:spPr>
                <a:xfrm>
                  <a:off x="5045760" y="1115280"/>
                  <a:ext cx="4539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5045760" y="1115280"/>
                  <a:ext cx="316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32" name=""/>
              <p:cNvSpPr/>
              <p:nvPr/>
            </p:nvSpPr>
            <p:spPr>
              <a:xfrm>
                <a:off x="851400" y="109548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1645920" y="11152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851400" y="154152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1655640" y="15580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843120" y="1989720"/>
                <a:ext cx="311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L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1654200" y="20091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846720" y="2415960"/>
                <a:ext cx="268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B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1659240" y="24357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771120" y="2876760"/>
                <a:ext cx="43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RB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1654200" y="28951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851400" y="332172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1655640" y="33397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851400" y="3743280"/>
                <a:ext cx="2444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1654200" y="37594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684360" y="41976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G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1655640" y="4215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2426400" y="4215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2355480" y="333972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2346120" y="37594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2346120" y="289512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2346120" y="24357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2344680" y="200916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2346120" y="15580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2346120" y="111528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3009240" y="1115280"/>
                <a:ext cx="57852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</a:rPr>
                  <a:t>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 rot="16200000">
                <a:off x="2107080" y="3457440"/>
                <a:ext cx="36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922320" y="4829760"/>
                <a:ext cx="2074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74LS247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型译码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1298520" y="5241600"/>
                <a:ext cx="1585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器的外引线排列图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1545120" y="1036080"/>
                <a:ext cx="1130760" cy="3586320"/>
              </a:xfrm>
              <a:custGeom>
                <a:avLst/>
                <a:gdLst/>
                <a:ahLst/>
                <a:rect l="l" t="t" r="r" b="b"/>
                <a:pathLst>
                  <a:path w="640" h="2028">
                    <a:moveTo>
                      <a:pt x="399" y="0"/>
                    </a:moveTo>
                    <a:lnTo>
                      <a:pt x="640" y="0"/>
                    </a:lnTo>
                    <a:lnTo>
                      <a:pt x="640" y="2028"/>
                    </a:lnTo>
                    <a:lnTo>
                      <a:pt x="0" y="2028"/>
                    </a:ln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1294560" y="1177920"/>
                <a:ext cx="250200" cy="226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1294560" y="1623960"/>
                <a:ext cx="2502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1294560" y="2071800"/>
                <a:ext cx="2502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1294560" y="2500200"/>
                <a:ext cx="2502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1294560" y="2957400"/>
                <a:ext cx="2502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1294560" y="3404160"/>
                <a:ext cx="250200" cy="22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1294560" y="3825360"/>
                <a:ext cx="2502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1294560" y="4279680"/>
                <a:ext cx="2502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2676240" y="4279680"/>
                <a:ext cx="2484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2676240" y="3404160"/>
                <a:ext cx="248400" cy="22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2676240" y="3825360"/>
                <a:ext cx="2484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2676240" y="2957400"/>
                <a:ext cx="2484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2676240" y="2500200"/>
                <a:ext cx="2484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2676240" y="2071800"/>
                <a:ext cx="2484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2676240" y="1623960"/>
                <a:ext cx="248400" cy="228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2676240" y="1177920"/>
                <a:ext cx="248400" cy="226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1971720" y="1036080"/>
                <a:ext cx="277920" cy="141840"/>
              </a:xfrm>
              <a:custGeom>
                <a:avLst/>
                <a:gdLst/>
                <a:ahLst/>
                <a:rect l="l" t="t" r="r" b="b"/>
                <a:pathLst>
                  <a:path w="158" h="80">
                    <a:moveTo>
                      <a:pt x="0" y="0"/>
                    </a:moveTo>
                    <a:lnTo>
                      <a:pt x="10" y="40"/>
                    </a:lnTo>
                    <a:lnTo>
                      <a:pt x="40" y="70"/>
                    </a:lnTo>
                    <a:lnTo>
                      <a:pt x="80" y="80"/>
                    </a:lnTo>
                    <a:lnTo>
                      <a:pt x="118" y="70"/>
                    </a:lnTo>
                    <a:lnTo>
                      <a:pt x="148" y="40"/>
                    </a:lnTo>
                    <a:lnTo>
                      <a:pt x="1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8" name=""/>
              <p:cNvGrpSpPr/>
              <p:nvPr/>
            </p:nvGrpSpPr>
            <p:grpSpPr>
              <a:xfrm>
                <a:off x="3055680" y="1548360"/>
                <a:ext cx="165960" cy="2954160"/>
                <a:chOff x="3055680" y="1548360"/>
                <a:chExt cx="165960" cy="2954160"/>
              </a:xfrm>
            </p:grpSpPr>
            <p:grpSp>
              <p:nvGrpSpPr>
                <p:cNvPr id="8179" name=""/>
                <p:cNvGrpSpPr/>
                <p:nvPr/>
              </p:nvGrpSpPr>
              <p:grpSpPr>
                <a:xfrm>
                  <a:off x="3075120" y="1548360"/>
                  <a:ext cx="146520" cy="305280"/>
                  <a:chOff x="3075120" y="1548360"/>
                  <a:chExt cx="146520" cy="305280"/>
                </a:xfrm>
              </p:grpSpPr>
              <p:sp>
                <p:nvSpPr>
                  <p:cNvPr id="8180" name=""/>
                  <p:cNvSpPr/>
                  <p:nvPr/>
                </p:nvSpPr>
                <p:spPr>
                  <a:xfrm>
                    <a:off x="3075120" y="154836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1" name=""/>
                  <p:cNvSpPr/>
                  <p:nvPr/>
                </p:nvSpPr>
                <p:spPr>
                  <a:xfrm flipH="1">
                    <a:off x="3085200" y="1627200"/>
                    <a:ext cx="13644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2" name=""/>
                <p:cNvGrpSpPr/>
                <p:nvPr/>
              </p:nvGrpSpPr>
              <p:grpSpPr>
                <a:xfrm>
                  <a:off x="3058560" y="1987560"/>
                  <a:ext cx="153000" cy="305280"/>
                  <a:chOff x="3058560" y="1987560"/>
                  <a:chExt cx="153000" cy="305280"/>
                </a:xfrm>
              </p:grpSpPr>
              <p:sp>
                <p:nvSpPr>
                  <p:cNvPr id="8183" name=""/>
                  <p:cNvSpPr/>
                  <p:nvPr/>
                </p:nvSpPr>
                <p:spPr>
                  <a:xfrm>
                    <a:off x="3058560" y="198756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4" name=""/>
                  <p:cNvSpPr/>
                  <p:nvPr/>
                </p:nvSpPr>
                <p:spPr>
                  <a:xfrm flipH="1">
                    <a:off x="3075840" y="2018880"/>
                    <a:ext cx="13572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5" name=""/>
                <p:cNvGrpSpPr/>
                <p:nvPr/>
              </p:nvGrpSpPr>
              <p:grpSpPr>
                <a:xfrm>
                  <a:off x="3062880" y="2400840"/>
                  <a:ext cx="148680" cy="305280"/>
                  <a:chOff x="3062880" y="2400840"/>
                  <a:chExt cx="148680" cy="305280"/>
                </a:xfrm>
              </p:grpSpPr>
              <p:sp>
                <p:nvSpPr>
                  <p:cNvPr id="8186" name=""/>
                  <p:cNvSpPr/>
                  <p:nvPr/>
                </p:nvSpPr>
                <p:spPr>
                  <a:xfrm>
                    <a:off x="3062880" y="2400840"/>
                    <a:ext cx="11340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7" name=""/>
                  <p:cNvSpPr/>
                  <p:nvPr/>
                </p:nvSpPr>
                <p:spPr>
                  <a:xfrm flipH="1">
                    <a:off x="3075840" y="2493000"/>
                    <a:ext cx="13572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8" name=""/>
                <p:cNvGrpSpPr/>
                <p:nvPr/>
              </p:nvGrpSpPr>
              <p:grpSpPr>
                <a:xfrm>
                  <a:off x="3056400" y="2853720"/>
                  <a:ext cx="155880" cy="305280"/>
                  <a:chOff x="3056400" y="2853720"/>
                  <a:chExt cx="155880" cy="305280"/>
                </a:xfrm>
              </p:grpSpPr>
              <p:sp>
                <p:nvSpPr>
                  <p:cNvPr id="8189" name=""/>
                  <p:cNvSpPr/>
                  <p:nvPr/>
                </p:nvSpPr>
                <p:spPr>
                  <a:xfrm>
                    <a:off x="3056400" y="285372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0" name=""/>
                  <p:cNvSpPr/>
                  <p:nvPr/>
                </p:nvSpPr>
                <p:spPr>
                  <a:xfrm flipH="1">
                    <a:off x="3076200" y="2888280"/>
                    <a:ext cx="13608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1" name=""/>
                <p:cNvGrpSpPr/>
                <p:nvPr/>
              </p:nvGrpSpPr>
              <p:grpSpPr>
                <a:xfrm>
                  <a:off x="3056760" y="3328200"/>
                  <a:ext cx="155520" cy="305280"/>
                  <a:chOff x="3056760" y="3328200"/>
                  <a:chExt cx="155520" cy="305280"/>
                </a:xfrm>
              </p:grpSpPr>
              <p:sp>
                <p:nvSpPr>
                  <p:cNvPr id="8192" name=""/>
                  <p:cNvSpPr/>
                  <p:nvPr/>
                </p:nvSpPr>
                <p:spPr>
                  <a:xfrm>
                    <a:off x="3056760" y="3328200"/>
                    <a:ext cx="11340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3" name=""/>
                  <p:cNvSpPr/>
                  <p:nvPr/>
                </p:nvSpPr>
                <p:spPr>
                  <a:xfrm flipH="1">
                    <a:off x="3076200" y="3459600"/>
                    <a:ext cx="13608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4" name=""/>
                <p:cNvGrpSpPr/>
                <p:nvPr/>
              </p:nvGrpSpPr>
              <p:grpSpPr>
                <a:xfrm>
                  <a:off x="3055680" y="3764160"/>
                  <a:ext cx="156600" cy="305280"/>
                  <a:chOff x="3055680" y="3764160"/>
                  <a:chExt cx="156600" cy="305280"/>
                </a:xfrm>
              </p:grpSpPr>
              <p:sp>
                <p:nvSpPr>
                  <p:cNvPr id="8195" name=""/>
                  <p:cNvSpPr/>
                  <p:nvPr/>
                </p:nvSpPr>
                <p:spPr>
                  <a:xfrm>
                    <a:off x="3055680" y="3764160"/>
                    <a:ext cx="8604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6" name=""/>
                  <p:cNvSpPr/>
                  <p:nvPr/>
                </p:nvSpPr>
                <p:spPr>
                  <a:xfrm flipH="1">
                    <a:off x="3076200" y="3807000"/>
                    <a:ext cx="13608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7" name=""/>
                <p:cNvGrpSpPr/>
                <p:nvPr/>
              </p:nvGrpSpPr>
              <p:grpSpPr>
                <a:xfrm>
                  <a:off x="3056400" y="4197240"/>
                  <a:ext cx="155880" cy="305280"/>
                  <a:chOff x="3056400" y="4197240"/>
                  <a:chExt cx="155880" cy="305280"/>
                </a:xfrm>
              </p:grpSpPr>
              <p:sp>
                <p:nvSpPr>
                  <p:cNvPr id="8198" name=""/>
                  <p:cNvSpPr/>
                  <p:nvPr/>
                </p:nvSpPr>
                <p:spPr>
                  <a:xfrm>
                    <a:off x="3056400" y="419724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9" name=""/>
                  <p:cNvSpPr/>
                  <p:nvPr/>
                </p:nvSpPr>
                <p:spPr>
                  <a:xfrm flipH="1">
                    <a:off x="3076200" y="4313880"/>
                    <a:ext cx="136080" cy="144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00" name=""/>
              <p:cNvSpPr/>
              <p:nvPr/>
            </p:nvSpPr>
            <p:spPr>
              <a:xfrm>
                <a:off x="843480" y="1984320"/>
                <a:ext cx="316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843480" y="2417400"/>
                <a:ext cx="316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803880" y="2854080"/>
                <a:ext cx="3952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 rot="5400000">
              <a:off x="1545840" y="2780280"/>
              <a:ext cx="113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74LS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 10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数据分配器和数据选择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996200" y="990720"/>
            <a:ext cx="50637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数字电路中，当需要进行远距离多路数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传输时，为了减少传输线的数目，发送端常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一条公共传输线，用多路选择器分时发送数据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接收端，接收端利用多路分配器分时将数据分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给各路接收端，其原理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H="1">
            <a:off x="6750000" y="29512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3429000" y="321156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2819520" y="321156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3352680" y="312408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2819520" y="32194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 flipH="1">
            <a:off x="6750000" y="287496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3429000" y="3135240"/>
            <a:ext cx="18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2819520" y="313524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2819520" y="3143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3809880" y="5638680"/>
            <a:ext cx="1067040" cy="533520"/>
          </a:xfrm>
          <a:prstGeom prst="wedgeRoundRectCallout">
            <a:avLst>
              <a:gd name="adj1" fmla="val -109375"/>
              <a:gd name="adj2" fmla="val -29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"/>
              </a:rPr>
              <a:t>使能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>
            <a:off x="1087560" y="5638680"/>
            <a:ext cx="109512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多路选择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>
            <a:off x="6954840" y="5638680"/>
            <a:ext cx="109512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多路分配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8" name=""/>
          <p:cNvGrpSpPr/>
          <p:nvPr/>
        </p:nvGrpSpPr>
        <p:grpSpPr>
          <a:xfrm>
            <a:off x="2209680" y="3543480"/>
            <a:ext cx="2743200" cy="952200"/>
            <a:chOff x="2209680" y="3543480"/>
            <a:chExt cx="2743200" cy="952200"/>
          </a:xfrm>
        </p:grpSpPr>
        <p:sp>
          <p:nvSpPr>
            <p:cNvPr id="8219" name=""/>
            <p:cNvSpPr/>
            <p:nvPr/>
          </p:nvSpPr>
          <p:spPr>
            <a:xfrm>
              <a:off x="2209680" y="3543480"/>
              <a:ext cx="121932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0" name=""/>
            <p:cNvGrpSpPr/>
            <p:nvPr/>
          </p:nvGrpSpPr>
          <p:grpSpPr>
            <a:xfrm>
              <a:off x="3733920" y="3581280"/>
              <a:ext cx="1218960" cy="914400"/>
              <a:chOff x="3733920" y="3581280"/>
              <a:chExt cx="1218960" cy="914400"/>
            </a:xfrm>
          </p:grpSpPr>
          <p:sp>
            <p:nvSpPr>
              <p:cNvPr id="8221" name=""/>
              <p:cNvSpPr/>
              <p:nvPr/>
            </p:nvSpPr>
            <p:spPr>
              <a:xfrm>
                <a:off x="3733920" y="3581280"/>
                <a:ext cx="1143000" cy="914400"/>
              </a:xfrm>
              <a:prstGeom prst="wedgeRoundRectCallout">
                <a:avLst>
                  <a:gd name="adj1" fmla="val -95000"/>
                  <a:gd name="adj2" fmla="val -39407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3733920" y="3581280"/>
                <a:ext cx="1218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数据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择控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3" name=""/>
          <p:cNvGrpSpPr/>
          <p:nvPr/>
        </p:nvGrpSpPr>
        <p:grpSpPr>
          <a:xfrm>
            <a:off x="5410080" y="3200400"/>
            <a:ext cx="2743200" cy="838080"/>
            <a:chOff x="5410080" y="3200400"/>
            <a:chExt cx="2743200" cy="838080"/>
          </a:xfrm>
        </p:grpSpPr>
        <p:sp>
          <p:nvSpPr>
            <p:cNvPr id="8224" name=""/>
            <p:cNvSpPr/>
            <p:nvPr/>
          </p:nvSpPr>
          <p:spPr>
            <a:xfrm>
              <a:off x="5410080" y="3543480"/>
              <a:ext cx="121932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5" name=""/>
            <p:cNvGrpSpPr/>
            <p:nvPr/>
          </p:nvGrpSpPr>
          <p:grpSpPr>
            <a:xfrm>
              <a:off x="6934320" y="3200400"/>
              <a:ext cx="1218960" cy="838080"/>
              <a:chOff x="6934320" y="3200400"/>
              <a:chExt cx="1218960" cy="838080"/>
            </a:xfrm>
          </p:grpSpPr>
          <p:sp>
            <p:nvSpPr>
              <p:cNvPr id="8226" name=""/>
              <p:cNvSpPr/>
              <p:nvPr/>
            </p:nvSpPr>
            <p:spPr>
              <a:xfrm>
                <a:off x="6934320" y="3200400"/>
                <a:ext cx="1143000" cy="838080"/>
              </a:xfrm>
              <a:prstGeom prst="wedgeRoundRectCallout">
                <a:avLst>
                  <a:gd name="adj1" fmla="val -99305"/>
                  <a:gd name="adj2" fmla="val 1324"/>
                  <a:gd name="adj3" fmla="val 1666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934320" y="3200400"/>
                <a:ext cx="1218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数据分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配控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8" name=""/>
          <p:cNvGrpSpPr/>
          <p:nvPr/>
        </p:nvGrpSpPr>
        <p:grpSpPr>
          <a:xfrm>
            <a:off x="613800" y="3392640"/>
            <a:ext cx="7777800" cy="2809080"/>
            <a:chOff x="613800" y="3392640"/>
            <a:chExt cx="7777800" cy="2809080"/>
          </a:xfrm>
        </p:grpSpPr>
        <p:grpSp>
          <p:nvGrpSpPr>
            <p:cNvPr id="8229" name=""/>
            <p:cNvGrpSpPr/>
            <p:nvPr/>
          </p:nvGrpSpPr>
          <p:grpSpPr>
            <a:xfrm>
              <a:off x="613800" y="3392640"/>
              <a:ext cx="7777800" cy="2809080"/>
              <a:chOff x="613800" y="3392640"/>
              <a:chExt cx="7777800" cy="2809080"/>
            </a:xfrm>
          </p:grpSpPr>
          <p:sp>
            <p:nvSpPr>
              <p:cNvPr id="8230" name=""/>
              <p:cNvSpPr/>
              <p:nvPr/>
            </p:nvSpPr>
            <p:spPr>
              <a:xfrm>
                <a:off x="613800" y="4067640"/>
                <a:ext cx="606960" cy="15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发送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784640" y="4143960"/>
                <a:ext cx="606960" cy="15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接收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2" name=""/>
              <p:cNvGrpSpPr/>
              <p:nvPr/>
            </p:nvGrpSpPr>
            <p:grpSpPr>
              <a:xfrm>
                <a:off x="4800240" y="4495680"/>
                <a:ext cx="1454400" cy="455400"/>
                <a:chOff x="4800240" y="4495680"/>
                <a:chExt cx="1454400" cy="455400"/>
              </a:xfrm>
            </p:grpSpPr>
            <p:sp>
              <p:nvSpPr>
                <p:cNvPr id="8233" name=""/>
                <p:cNvSpPr/>
                <p:nvPr/>
              </p:nvSpPr>
              <p:spPr>
                <a:xfrm flipH="1">
                  <a:off x="5672880" y="4821120"/>
                  <a:ext cx="144360" cy="1299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4" name=""/>
                <p:cNvSpPr/>
                <p:nvPr/>
              </p:nvSpPr>
              <p:spPr>
                <a:xfrm flipH="1">
                  <a:off x="4800240" y="4886280"/>
                  <a:ext cx="87300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5" name=""/>
                <p:cNvSpPr/>
                <p:nvPr/>
              </p:nvSpPr>
              <p:spPr>
                <a:xfrm flipV="1">
                  <a:off x="5817960" y="4495680"/>
                  <a:ext cx="436680" cy="32544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6" name=""/>
              <p:cNvSpPr/>
              <p:nvPr/>
            </p:nvSpPr>
            <p:spPr>
              <a:xfrm flipH="1">
                <a:off x="4952160" y="441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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2209680" y="4282920"/>
                <a:ext cx="1143000" cy="127980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8" name=""/>
              <p:cNvGrpSpPr/>
              <p:nvPr/>
            </p:nvGrpSpPr>
            <p:grpSpPr>
              <a:xfrm>
                <a:off x="1600200" y="4419720"/>
                <a:ext cx="1069560" cy="990000"/>
                <a:chOff x="1600200" y="4419720"/>
                <a:chExt cx="1069560" cy="990000"/>
              </a:xfrm>
            </p:grpSpPr>
            <p:sp>
              <p:nvSpPr>
                <p:cNvPr id="8239" name=""/>
                <p:cNvSpPr/>
                <p:nvPr/>
              </p:nvSpPr>
              <p:spPr>
                <a:xfrm>
                  <a:off x="1701000" y="447768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0" name=""/>
                <p:cNvSpPr/>
                <p:nvPr/>
              </p:nvSpPr>
              <p:spPr>
                <a:xfrm>
                  <a:off x="1701000" y="476928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1" name=""/>
                <p:cNvSpPr/>
                <p:nvPr/>
              </p:nvSpPr>
              <p:spPr>
                <a:xfrm>
                  <a:off x="1701000" y="506052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2" name=""/>
                <p:cNvSpPr/>
                <p:nvPr/>
              </p:nvSpPr>
              <p:spPr>
                <a:xfrm>
                  <a:off x="1701000" y="535176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3" name=""/>
                <p:cNvSpPr/>
                <p:nvPr/>
              </p:nvSpPr>
              <p:spPr>
                <a:xfrm>
                  <a:off x="1600200" y="4419720"/>
                  <a:ext cx="100800" cy="11484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4" name=""/>
                <p:cNvSpPr/>
                <p:nvPr/>
              </p:nvSpPr>
              <p:spPr>
                <a:xfrm>
                  <a:off x="1600200" y="4710960"/>
                  <a:ext cx="10080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5" name=""/>
                <p:cNvSpPr/>
                <p:nvPr/>
              </p:nvSpPr>
              <p:spPr>
                <a:xfrm>
                  <a:off x="1600200" y="5003280"/>
                  <a:ext cx="100800" cy="11520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6" name=""/>
                <p:cNvSpPr/>
                <p:nvPr/>
              </p:nvSpPr>
              <p:spPr>
                <a:xfrm>
                  <a:off x="1600200" y="5293440"/>
                  <a:ext cx="10080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7" name=""/>
                <p:cNvSpPr/>
                <p:nvPr/>
              </p:nvSpPr>
              <p:spPr>
                <a:xfrm>
                  <a:off x="2567520" y="4419720"/>
                  <a:ext cx="102240" cy="11484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8" name=""/>
                <p:cNvSpPr/>
                <p:nvPr/>
              </p:nvSpPr>
              <p:spPr>
                <a:xfrm>
                  <a:off x="2567520" y="5293440"/>
                  <a:ext cx="10224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9" name=""/>
                <p:cNvSpPr/>
                <p:nvPr/>
              </p:nvSpPr>
              <p:spPr>
                <a:xfrm>
                  <a:off x="2567520" y="5003280"/>
                  <a:ext cx="102240" cy="11520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0" name=""/>
                <p:cNvSpPr/>
                <p:nvPr/>
              </p:nvSpPr>
              <p:spPr>
                <a:xfrm>
                  <a:off x="2567520" y="4710960"/>
                  <a:ext cx="10224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1" name=""/>
              <p:cNvGrpSpPr/>
              <p:nvPr/>
            </p:nvGrpSpPr>
            <p:grpSpPr>
              <a:xfrm>
                <a:off x="2743200" y="5562720"/>
                <a:ext cx="144360" cy="387360"/>
                <a:chOff x="2743200" y="5562720"/>
                <a:chExt cx="144360" cy="387360"/>
              </a:xfrm>
            </p:grpSpPr>
            <p:sp>
              <p:nvSpPr>
                <p:cNvPr id="8252" name=""/>
                <p:cNvSpPr/>
                <p:nvPr/>
              </p:nvSpPr>
              <p:spPr>
                <a:xfrm>
                  <a:off x="2814480" y="5562720"/>
                  <a:ext cx="0" cy="25740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3" name=""/>
                <p:cNvSpPr/>
                <p:nvPr/>
              </p:nvSpPr>
              <p:spPr>
                <a:xfrm>
                  <a:off x="2743200" y="5820120"/>
                  <a:ext cx="144360" cy="1299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4" name=""/>
              <p:cNvGrpSpPr/>
              <p:nvPr/>
            </p:nvGrpSpPr>
            <p:grpSpPr>
              <a:xfrm>
                <a:off x="2666520" y="4495320"/>
                <a:ext cx="1454400" cy="457560"/>
                <a:chOff x="2666520" y="4495320"/>
                <a:chExt cx="1454400" cy="457560"/>
              </a:xfrm>
            </p:grpSpPr>
            <p:sp>
              <p:nvSpPr>
                <p:cNvPr id="8255" name=""/>
                <p:cNvSpPr/>
                <p:nvPr/>
              </p:nvSpPr>
              <p:spPr>
                <a:xfrm>
                  <a:off x="3103560" y="4822920"/>
                  <a:ext cx="145800" cy="1299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6" name=""/>
                <p:cNvSpPr/>
                <p:nvPr/>
              </p:nvSpPr>
              <p:spPr>
                <a:xfrm>
                  <a:off x="3249360" y="4887720"/>
                  <a:ext cx="8715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7" name=""/>
                <p:cNvSpPr/>
                <p:nvPr/>
              </p:nvSpPr>
              <p:spPr>
                <a:xfrm flipH="1" flipV="1">
                  <a:off x="2666520" y="4495320"/>
                  <a:ext cx="436680" cy="32724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8" name=""/>
              <p:cNvSpPr/>
              <p:nvPr/>
            </p:nvSpPr>
            <p:spPr>
              <a:xfrm>
                <a:off x="350532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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1066680" y="5105520"/>
                <a:ext cx="582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1066680" y="4778280"/>
                <a:ext cx="582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1076400" y="450360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1076400" y="417816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2902680" y="563868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3366"/>
                    </a:solidFill>
                    <a:latin typeface="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4" name=""/>
              <p:cNvGrpSpPr/>
              <p:nvPr/>
            </p:nvGrpSpPr>
            <p:grpSpPr>
              <a:xfrm>
                <a:off x="2294640" y="3392640"/>
                <a:ext cx="995040" cy="893160"/>
                <a:chOff x="2294640" y="3392640"/>
                <a:chExt cx="995040" cy="893160"/>
              </a:xfrm>
            </p:grpSpPr>
            <p:sp>
              <p:nvSpPr>
                <p:cNvPr id="8265" name=""/>
                <p:cNvSpPr/>
                <p:nvPr/>
              </p:nvSpPr>
              <p:spPr>
                <a:xfrm>
                  <a:off x="2528640" y="4022640"/>
                  <a:ext cx="0" cy="2631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6" name=""/>
                <p:cNvSpPr/>
                <p:nvPr/>
              </p:nvSpPr>
              <p:spPr>
                <a:xfrm>
                  <a:off x="3038400" y="4022640"/>
                  <a:ext cx="0" cy="26316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7" name=""/>
                <p:cNvSpPr/>
                <p:nvPr/>
              </p:nvSpPr>
              <p:spPr>
                <a:xfrm>
                  <a:off x="2455560" y="3890880"/>
                  <a:ext cx="145800" cy="13140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8" name=""/>
                <p:cNvSpPr/>
                <p:nvPr/>
              </p:nvSpPr>
              <p:spPr>
                <a:xfrm>
                  <a:off x="2965320" y="3890880"/>
                  <a:ext cx="145440" cy="13140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9" name=""/>
                <p:cNvSpPr/>
                <p:nvPr/>
              </p:nvSpPr>
              <p:spPr>
                <a:xfrm>
                  <a:off x="2769120" y="340524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0" name=""/>
                <p:cNvSpPr/>
                <p:nvPr/>
              </p:nvSpPr>
              <p:spPr>
                <a:xfrm>
                  <a:off x="2294640" y="339264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1" name=""/>
              <p:cNvSpPr/>
              <p:nvPr/>
            </p:nvSpPr>
            <p:spPr>
              <a:xfrm>
                <a:off x="4114800" y="4876920"/>
                <a:ext cx="76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3996720" y="49528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"/>
                  </a:rPr>
                  <a:t>传输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5410080" y="4343400"/>
                <a:ext cx="1143000" cy="127944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4" name=""/>
              <p:cNvGrpSpPr/>
              <p:nvPr/>
            </p:nvGrpSpPr>
            <p:grpSpPr>
              <a:xfrm>
                <a:off x="6286680" y="4454640"/>
                <a:ext cx="1069560" cy="990000"/>
                <a:chOff x="6286680" y="4454640"/>
                <a:chExt cx="1069560" cy="990000"/>
              </a:xfrm>
            </p:grpSpPr>
            <p:sp>
              <p:nvSpPr>
                <p:cNvPr id="8275" name=""/>
                <p:cNvSpPr/>
                <p:nvPr/>
              </p:nvSpPr>
              <p:spPr>
                <a:xfrm>
                  <a:off x="6387480" y="451260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6" name=""/>
                <p:cNvSpPr/>
                <p:nvPr/>
              </p:nvSpPr>
              <p:spPr>
                <a:xfrm>
                  <a:off x="6387480" y="480420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7" name=""/>
                <p:cNvSpPr/>
                <p:nvPr/>
              </p:nvSpPr>
              <p:spPr>
                <a:xfrm>
                  <a:off x="6387480" y="509544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8" name=""/>
                <p:cNvSpPr/>
                <p:nvPr/>
              </p:nvSpPr>
              <p:spPr>
                <a:xfrm>
                  <a:off x="6387480" y="5386680"/>
                  <a:ext cx="866160" cy="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9" name=""/>
                <p:cNvSpPr/>
                <p:nvPr/>
              </p:nvSpPr>
              <p:spPr>
                <a:xfrm>
                  <a:off x="6286680" y="4454640"/>
                  <a:ext cx="100800" cy="11484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0" name=""/>
                <p:cNvSpPr/>
                <p:nvPr/>
              </p:nvSpPr>
              <p:spPr>
                <a:xfrm>
                  <a:off x="6286680" y="4745880"/>
                  <a:ext cx="10080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1" name=""/>
                <p:cNvSpPr/>
                <p:nvPr/>
              </p:nvSpPr>
              <p:spPr>
                <a:xfrm>
                  <a:off x="6286680" y="5038200"/>
                  <a:ext cx="100800" cy="11520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2" name=""/>
                <p:cNvSpPr/>
                <p:nvPr/>
              </p:nvSpPr>
              <p:spPr>
                <a:xfrm>
                  <a:off x="6286680" y="5328360"/>
                  <a:ext cx="10080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3" name=""/>
                <p:cNvSpPr/>
                <p:nvPr/>
              </p:nvSpPr>
              <p:spPr>
                <a:xfrm>
                  <a:off x="7254000" y="4454640"/>
                  <a:ext cx="102240" cy="11484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4" name=""/>
                <p:cNvSpPr/>
                <p:nvPr/>
              </p:nvSpPr>
              <p:spPr>
                <a:xfrm>
                  <a:off x="7254000" y="5328360"/>
                  <a:ext cx="10224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5" name=""/>
                <p:cNvSpPr/>
                <p:nvPr/>
              </p:nvSpPr>
              <p:spPr>
                <a:xfrm>
                  <a:off x="7254000" y="5038200"/>
                  <a:ext cx="102240" cy="11520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6" name=""/>
                <p:cNvSpPr/>
                <p:nvPr/>
              </p:nvSpPr>
              <p:spPr>
                <a:xfrm>
                  <a:off x="7254000" y="4745880"/>
                  <a:ext cx="102240" cy="11628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7" name=""/>
              <p:cNvGrpSpPr/>
              <p:nvPr/>
            </p:nvGrpSpPr>
            <p:grpSpPr>
              <a:xfrm>
                <a:off x="5495040" y="3429000"/>
                <a:ext cx="995040" cy="893880"/>
                <a:chOff x="5495040" y="3429000"/>
                <a:chExt cx="995040" cy="893880"/>
              </a:xfrm>
            </p:grpSpPr>
            <p:sp>
              <p:nvSpPr>
                <p:cNvPr id="8288" name=""/>
                <p:cNvSpPr/>
                <p:nvPr/>
              </p:nvSpPr>
              <p:spPr>
                <a:xfrm>
                  <a:off x="5729040" y="4059360"/>
                  <a:ext cx="0" cy="26352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9" name=""/>
                <p:cNvSpPr/>
                <p:nvPr/>
              </p:nvSpPr>
              <p:spPr>
                <a:xfrm>
                  <a:off x="6238800" y="4059360"/>
                  <a:ext cx="0" cy="26352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0" name=""/>
                <p:cNvSpPr/>
                <p:nvPr/>
              </p:nvSpPr>
              <p:spPr>
                <a:xfrm>
                  <a:off x="5655960" y="3927600"/>
                  <a:ext cx="145800" cy="1317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1" name=""/>
                <p:cNvSpPr/>
                <p:nvPr/>
              </p:nvSpPr>
              <p:spPr>
                <a:xfrm>
                  <a:off x="6165720" y="3927600"/>
                  <a:ext cx="145440" cy="1317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2" name=""/>
                <p:cNvSpPr/>
                <p:nvPr/>
              </p:nvSpPr>
              <p:spPr>
                <a:xfrm>
                  <a:off x="5969520" y="344196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3" name=""/>
                <p:cNvSpPr/>
                <p:nvPr/>
              </p:nvSpPr>
              <p:spPr>
                <a:xfrm>
                  <a:off x="5495040" y="342900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94" name=""/>
              <p:cNvSpPr/>
              <p:nvPr/>
            </p:nvSpPr>
            <p:spPr>
              <a:xfrm>
                <a:off x="7315200" y="5181480"/>
                <a:ext cx="58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7315200" y="4876920"/>
                <a:ext cx="58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7324920" y="457200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7324920" y="426708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"/>
                  </a:rPr>
                  <a:t>D</a:t>
                </a:r>
                <a:r>
                  <a:rPr b="1" lang="en-US" sz="2400" spc="-1" strike="noStrike" baseline="-25000">
                    <a:solidFill>
                      <a:srgbClr val="3333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8" name=""/>
              <p:cNvGrpSpPr/>
              <p:nvPr/>
            </p:nvGrpSpPr>
            <p:grpSpPr>
              <a:xfrm>
                <a:off x="5867280" y="5638680"/>
                <a:ext cx="144360" cy="387360"/>
                <a:chOff x="5867280" y="5638680"/>
                <a:chExt cx="144360" cy="387360"/>
              </a:xfrm>
            </p:grpSpPr>
            <p:sp>
              <p:nvSpPr>
                <p:cNvPr id="8299" name=""/>
                <p:cNvSpPr/>
                <p:nvPr/>
              </p:nvSpPr>
              <p:spPr>
                <a:xfrm>
                  <a:off x="5938560" y="5638680"/>
                  <a:ext cx="0" cy="25740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0" name=""/>
                <p:cNvSpPr/>
                <p:nvPr/>
              </p:nvSpPr>
              <p:spPr>
                <a:xfrm>
                  <a:off x="5867280" y="5896080"/>
                  <a:ext cx="144360" cy="12996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01" name=""/>
              <p:cNvSpPr/>
              <p:nvPr/>
            </p:nvSpPr>
            <p:spPr>
              <a:xfrm>
                <a:off x="5493600" y="5638680"/>
                <a:ext cx="36828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3366"/>
                    </a:solidFill>
                    <a:latin typeface="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2" name=""/>
            <p:cNvSpPr/>
            <p:nvPr/>
          </p:nvSpPr>
          <p:spPr>
            <a:xfrm>
              <a:off x="2971800" y="57150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5562720" y="5791320"/>
              <a:ext cx="3045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3" dur="indefinite" restart="never" nodeType="tmRoot">
          <p:childTnLst>
            <p:seq>
              <p:cTn id="4184" dur="indefinite" nodeType="mainSeq">
                <p:childTnLst>
                  <p:par>
                    <p:cTn id="4185" nodeType="clickEffect" fill="hold">
                      <p:stCondLst>
                        <p:cond delay="indefinite"/>
                      </p:stCondLst>
                      <p:childTnLst>
                        <p:par>
                          <p:cTn id="4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89" dur="500"/>
                                        <p:tgtEl>
                                          <p:spTgt spid="8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nodeType="clickEffect" fill="hold">
                      <p:stCondLst>
                        <p:cond delay="indefinite"/>
                      </p:stCondLst>
                      <p:childTnLst>
                        <p:par>
                          <p:cTn id="4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94" dur="500"/>
                                        <p:tgtEl>
                                          <p:spTgt spid="8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nodeType="clickEffect" fill="hold">
                      <p:stCondLst>
                        <p:cond delay="indefinite"/>
                      </p:stCondLst>
                      <p:childTnLst>
                        <p:par>
                          <p:cTn id="4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199" dur="500"/>
                                        <p:tgtEl>
                                          <p:spTgt spid="8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0" nodeType="clickEffect" fill="hold">
                      <p:stCondLst>
                        <p:cond delay="indefinite"/>
                      </p:stCondLst>
                      <p:childTnLst>
                        <p:par>
                          <p:cTn id="4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2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204" dur="500"/>
                                        <p:tgtEl>
                                          <p:spTgt spid="8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5" nodeType="clickEffect" fill="hold">
                      <p:stCondLst>
                        <p:cond delay="indefinite"/>
                      </p:stCondLst>
                      <p:childTnLst>
                        <p:par>
                          <p:cTn id="4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7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209" dur="500"/>
                                        <p:tgtEl>
                                          <p:spTgt spid="8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nodeType="clickEffect" fill="hold">
                      <p:stCondLst>
                        <p:cond delay="indefinite"/>
                      </p:stCondLst>
                      <p:childTnLst>
                        <p:par>
                          <p:cTn id="42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214" dur="500"/>
                                        <p:tgtEl>
                                          <p:spTgt spid="8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nodeType="clickEffect" fill="hold">
                      <p:stCondLst>
                        <p:cond delay="indefinite"/>
                      </p:stCondLst>
                      <p:childTnLst>
                        <p:par>
                          <p:cTn id="4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219" dur="500"/>
                                        <p:tgtEl>
                                          <p:spTgt spid="8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4" name="PlaceHolder 1"/>
          <p:cNvSpPr>
            <a:spLocks noGrp="1"/>
          </p:cNvSpPr>
          <p:nvPr>
            <p:ph type="subTitle"/>
          </p:nvPr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10. 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据选择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09480" y="1219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多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数据中选择其中所需要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一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数据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2082600" y="1752480"/>
            <a:ext cx="9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四选一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7" name=""/>
          <p:cNvGrpSpPr/>
          <p:nvPr/>
        </p:nvGrpSpPr>
        <p:grpSpPr>
          <a:xfrm>
            <a:off x="914400" y="3657600"/>
            <a:ext cx="990720" cy="1468440"/>
            <a:chOff x="914400" y="3657600"/>
            <a:chExt cx="990720" cy="1468440"/>
          </a:xfrm>
        </p:grpSpPr>
        <p:sp>
          <p:nvSpPr>
            <p:cNvPr id="8308" name=""/>
            <p:cNvSpPr/>
            <p:nvPr/>
          </p:nvSpPr>
          <p:spPr>
            <a:xfrm>
              <a:off x="1822680" y="3902040"/>
              <a:ext cx="82440" cy="1224000"/>
            </a:xfrm>
            <a:custGeom>
              <a:avLst/>
              <a:gdLst>
                <a:gd name="textAreaLeft" fmla="*/ 52560 w 82440"/>
                <a:gd name="textAreaRight" fmla="*/ 82800 w 82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914400" y="3657600"/>
              <a:ext cx="660600" cy="947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输入数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0" name=""/>
          <p:cNvSpPr/>
          <p:nvPr/>
        </p:nvSpPr>
        <p:spPr>
          <a:xfrm>
            <a:off x="6629400" y="3749040"/>
            <a:ext cx="1825560" cy="561600"/>
          </a:xfrm>
          <a:prstGeom prst="wedgeRoundRectCallout">
            <a:avLst>
              <a:gd name="adj1" fmla="val -85800"/>
              <a:gd name="adj2" fmla="val 7837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输出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5257800" y="5425200"/>
            <a:ext cx="1447920" cy="561600"/>
          </a:xfrm>
          <a:prstGeom prst="wedgeRoundRectCallout">
            <a:avLst>
              <a:gd name="adj1" fmla="val -112041"/>
              <a:gd name="adj2" fmla="val 8542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使能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2" name="" descr=""/>
          <p:cNvPicPr/>
          <p:nvPr/>
        </p:nvPicPr>
        <p:blipFill>
          <a:blip r:embed="rId3"/>
          <a:stretch/>
        </p:blipFill>
        <p:spPr>
          <a:xfrm>
            <a:off x="7086600" y="4724280"/>
            <a:ext cx="1147680" cy="1295640"/>
          </a:xfrm>
          <a:prstGeom prst="rect">
            <a:avLst/>
          </a:prstGeom>
          <a:ln w="0">
            <a:noFill/>
          </a:ln>
        </p:spPr>
      </p:pic>
      <p:grpSp>
        <p:nvGrpSpPr>
          <p:cNvPr id="8313" name=""/>
          <p:cNvGrpSpPr/>
          <p:nvPr/>
        </p:nvGrpSpPr>
        <p:grpSpPr>
          <a:xfrm>
            <a:off x="1905120" y="2362320"/>
            <a:ext cx="4267080" cy="4146120"/>
            <a:chOff x="1905120" y="2362320"/>
            <a:chExt cx="4267080" cy="4146120"/>
          </a:xfrm>
        </p:grpSpPr>
        <p:sp>
          <p:nvSpPr>
            <p:cNvPr id="8314" name=""/>
            <p:cNvSpPr/>
            <p:nvPr/>
          </p:nvSpPr>
          <p:spPr>
            <a:xfrm>
              <a:off x="1905120" y="47401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1905120" y="439056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1916640" y="404316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1916640" y="3695400"/>
              <a:ext cx="538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D</a:t>
              </a:r>
              <a:r>
                <a:rPr b="1" lang="en-US" sz="2800" spc="-1" strike="noStrike" baseline="-25000">
                  <a:solidFill>
                    <a:srgbClr val="333300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8" name=""/>
            <p:cNvGrpSpPr/>
            <p:nvPr/>
          </p:nvGrpSpPr>
          <p:grpSpPr>
            <a:xfrm>
              <a:off x="2438280" y="2362320"/>
              <a:ext cx="3733920" cy="4146120"/>
              <a:chOff x="2438280" y="2362320"/>
              <a:chExt cx="3733920" cy="4146120"/>
            </a:xfrm>
          </p:grpSpPr>
          <p:sp>
            <p:nvSpPr>
              <p:cNvPr id="8319" name=""/>
              <p:cNvSpPr/>
              <p:nvPr/>
            </p:nvSpPr>
            <p:spPr>
              <a:xfrm>
                <a:off x="3505320" y="3557160"/>
                <a:ext cx="1447560" cy="18046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2590920" y="397332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2590920" y="432072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2590920" y="466848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2590920" y="5016240"/>
                <a:ext cx="12952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4038480" y="3071520"/>
                <a:ext cx="0" cy="4852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4572000" y="3071520"/>
                <a:ext cx="0" cy="4852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2438280" y="3904920"/>
                <a:ext cx="15264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2438280" y="4250880"/>
                <a:ext cx="15264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2438280" y="4598640"/>
                <a:ext cx="15264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2438280" y="4946400"/>
                <a:ext cx="152640" cy="1375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3886200" y="3904920"/>
                <a:ext cx="15228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4495680" y="4390560"/>
                <a:ext cx="15264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4648320" y="4460400"/>
                <a:ext cx="9144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3886200" y="4946400"/>
                <a:ext cx="152280" cy="1375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3886200" y="4598640"/>
                <a:ext cx="15228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3886200" y="4250880"/>
                <a:ext cx="15228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3962520" y="2931840"/>
                <a:ext cx="15228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495680" y="2931840"/>
                <a:ext cx="152640" cy="13932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4267080" y="5362200"/>
                <a:ext cx="0" cy="487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4191120" y="5849640"/>
                <a:ext cx="152280" cy="137880"/>
              </a:xfrm>
              <a:prstGeom prst="ellipse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 flipH="1" flipV="1">
                <a:off x="4038480" y="4043160"/>
                <a:ext cx="457200" cy="34704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5562720" y="4252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4045680" y="598788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4312440" y="237600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3742560" y="236232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4156200" y="6059160"/>
                <a:ext cx="2156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6" name=""/>
          <p:cNvGrpSpPr/>
          <p:nvPr/>
        </p:nvGrpSpPr>
        <p:grpSpPr>
          <a:xfrm>
            <a:off x="3657600" y="2514600"/>
            <a:ext cx="3578400" cy="957600"/>
            <a:chOff x="3657600" y="2514600"/>
            <a:chExt cx="3578400" cy="957600"/>
          </a:xfrm>
        </p:grpSpPr>
        <p:sp>
          <p:nvSpPr>
            <p:cNvPr id="8347" name=""/>
            <p:cNvSpPr/>
            <p:nvPr/>
          </p:nvSpPr>
          <p:spPr>
            <a:xfrm>
              <a:off x="5410080" y="2910600"/>
              <a:ext cx="1825920" cy="561600"/>
            </a:xfrm>
            <a:prstGeom prst="wedgeRoundRectCallout">
              <a:avLst>
                <a:gd name="adj1" fmla="val -83212"/>
                <a:gd name="adj2" fmla="val -52240"/>
                <a:gd name="adj3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控制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3657600" y="2514600"/>
              <a:ext cx="1295280" cy="380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0" dur="indefinite" restart="never" nodeType="tmRoot">
          <p:childTnLst>
            <p:seq>
              <p:cTn id="4221" dur="indefinite" nodeType="mainSeq">
                <p:childTnLst>
                  <p:par>
                    <p:cTn id="4222" nodeType="clickEffect" fill="hold">
                      <p:stCondLst>
                        <p:cond delay="indefinite"/>
                      </p:stCondLst>
                      <p:childTnLst>
                        <p:par>
                          <p:cTn id="4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226" dur="500"/>
                                        <p:tgtEl>
                                          <p:spTgt spid="8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nodeType="clickEffect" fill="hold">
                      <p:stCondLst>
                        <p:cond delay="indefinite"/>
                      </p:stCondLst>
                      <p:childTnLst>
                        <p:par>
                          <p:cTn id="42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231" dur="500"/>
                                        <p:tgtEl>
                                          <p:spTgt spid="8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nodeType="clickEffect" fill="hold">
                      <p:stCondLst>
                        <p:cond delay="indefinite"/>
                      </p:stCondLst>
                      <p:childTnLst>
                        <p:par>
                          <p:cTn id="4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4236" dur="500"/>
                                        <p:tgtEl>
                                          <p:spTgt spid="8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7" nodeType="clickEffect" fill="hold">
                      <p:stCondLst>
                        <p:cond delay="indefinite"/>
                      </p:stCondLst>
                      <p:childTnLst>
                        <p:par>
                          <p:cTn id="4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241" dur="500"/>
                                        <p:tgtEl>
                                          <p:spTgt spid="8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2" nodeType="clickEffect" fill="hold">
                      <p:stCondLst>
                        <p:cond delay="indefinite"/>
                      </p:stCondLst>
                      <p:childTnLst>
                        <p:par>
                          <p:cTn id="4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4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246" dur="500"/>
                                        <p:tgtEl>
                                          <p:spTgt spid="8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7" nodeType="clickEffect" fill="hold">
                      <p:stCondLst>
                        <p:cond delay="indefinite"/>
                      </p:stCondLst>
                      <p:childTnLst>
                        <p:par>
                          <p:cTn id="4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251" dur="500"/>
                                        <p:tgtEl>
                                          <p:spTgt spid="8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nodeType="clickEffect" fill="hold">
                      <p:stCondLst>
                        <p:cond delay="indefinite"/>
                      </p:stCondLst>
                      <p:childTnLst>
                        <p:par>
                          <p:cTn id="42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256" dur="500"/>
                                        <p:tgtEl>
                                          <p:spTgt spid="8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与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4080" y="128592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6560" y="45100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78240" y="5715000"/>
            <a:ext cx="61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全为高电平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34600" y="5181480"/>
            <a:ext cx="57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不全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128600" y="2505240"/>
            <a:ext cx="609840" cy="1755000"/>
            <a:chOff x="1128600" y="2505240"/>
            <a:chExt cx="609840" cy="1755000"/>
          </a:xfrm>
        </p:grpSpPr>
        <p:sp>
          <p:nvSpPr>
            <p:cNvPr id="446" name=""/>
            <p:cNvSpPr/>
            <p:nvPr/>
          </p:nvSpPr>
          <p:spPr>
            <a:xfrm>
              <a:off x="1128600" y="3191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28600" y="2505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28600" y="3800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195280" y="1819440"/>
            <a:ext cx="1067040" cy="2286000"/>
            <a:chOff x="2195280" y="1819440"/>
            <a:chExt cx="1067040" cy="2286000"/>
          </a:xfrm>
        </p:grpSpPr>
        <p:sp>
          <p:nvSpPr>
            <p:cNvPr id="450" name=""/>
            <p:cNvSpPr/>
            <p:nvPr/>
          </p:nvSpPr>
          <p:spPr>
            <a:xfrm>
              <a:off x="3262320" y="1819440"/>
              <a:ext cx="0" cy="228600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195280" y="281016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195280" y="341964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195280" y="410544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128600" y="2428920"/>
            <a:ext cx="609480" cy="1831320"/>
            <a:chOff x="1128600" y="2428920"/>
            <a:chExt cx="609480" cy="18313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1128600" y="2428920"/>
              <a:ext cx="45720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"/>
            <p:cNvGrpSpPr/>
            <p:nvPr/>
          </p:nvGrpSpPr>
          <p:grpSpPr>
            <a:xfrm>
              <a:off x="1128600" y="2505240"/>
              <a:ext cx="609480" cy="1755000"/>
              <a:chOff x="1128600" y="2505240"/>
              <a:chExt cx="609480" cy="1755000"/>
            </a:xfrm>
          </p:grpSpPr>
          <p:sp>
            <p:nvSpPr>
              <p:cNvPr id="457" name=""/>
              <p:cNvSpPr/>
              <p:nvPr/>
            </p:nvSpPr>
            <p:spPr>
              <a:xfrm>
                <a:off x="1128600" y="31910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28600" y="25052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28600" y="3800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585800" y="1362240"/>
            <a:ext cx="2948040" cy="2898000"/>
            <a:chOff x="1585800" y="1362240"/>
            <a:chExt cx="2948040" cy="2898000"/>
          </a:xfrm>
        </p:grpSpPr>
        <p:sp>
          <p:nvSpPr>
            <p:cNvPr id="461" name=""/>
            <p:cNvSpPr/>
            <p:nvPr/>
          </p:nvSpPr>
          <p:spPr>
            <a:xfrm>
              <a:off x="3295440" y="1768680"/>
              <a:ext cx="0" cy="2491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03360" y="2516400"/>
              <a:ext cx="0" cy="1558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62320" y="1362240"/>
              <a:ext cx="12715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5760" y="197172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23880" y="227664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23880" y="357192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62120" y="250524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5800" y="3191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11560" y="2017800"/>
              <a:ext cx="168120" cy="49860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95480" y="2505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97240" y="276696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38280" y="2809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76400" y="273204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8840" y="166680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47920" y="28861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85800" y="38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043000" y="3893760"/>
              <a:ext cx="1290600" cy="306720"/>
              <a:chOff x="2043000" y="3893760"/>
              <a:chExt cx="1290600" cy="306720"/>
            </a:xfrm>
          </p:grpSpPr>
          <p:sp>
            <p:nvSpPr>
              <p:cNvPr id="478" name=""/>
              <p:cNvSpPr/>
              <p:nvPr/>
            </p:nvSpPr>
            <p:spPr>
              <a:xfrm>
                <a:off x="2147760" y="4054680"/>
                <a:ext cx="1185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3000" y="399564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2500200" y="3893760"/>
                <a:ext cx="306360" cy="306720"/>
                <a:chOff x="2500200" y="3893760"/>
                <a:chExt cx="306360" cy="306720"/>
              </a:xfrm>
            </p:grpSpPr>
            <p:sp>
              <p:nvSpPr>
                <p:cNvPr id="481" name=""/>
                <p:cNvSpPr/>
                <p:nvPr/>
              </p:nvSpPr>
              <p:spPr>
                <a:xfrm flipV="1">
                  <a:off x="2500200" y="389376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2501640" y="389556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501640" y="4048200"/>
                  <a:ext cx="304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806560" y="3895560"/>
                  <a:ext cx="0" cy="29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2043000" y="3266640"/>
              <a:ext cx="1290600" cy="306720"/>
              <a:chOff x="2043000" y="3266640"/>
              <a:chExt cx="1290600" cy="306720"/>
            </a:xfrm>
          </p:grpSpPr>
          <p:sp>
            <p:nvSpPr>
              <p:cNvPr id="486" name=""/>
              <p:cNvSpPr/>
              <p:nvPr/>
            </p:nvSpPr>
            <p:spPr>
              <a:xfrm>
                <a:off x="2147760" y="3427560"/>
                <a:ext cx="1185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43000" y="336852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2500200" y="3266640"/>
                <a:ext cx="306360" cy="306720"/>
                <a:chOff x="2500200" y="3266640"/>
                <a:chExt cx="306360" cy="306720"/>
              </a:xfrm>
            </p:grpSpPr>
            <p:sp>
              <p:nvSpPr>
                <p:cNvPr id="489" name=""/>
                <p:cNvSpPr/>
                <p:nvPr/>
              </p:nvSpPr>
              <p:spPr>
                <a:xfrm flipV="1">
                  <a:off x="2500200" y="32666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2501640" y="326844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01640" y="3421080"/>
                  <a:ext cx="304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806560" y="3268440"/>
                  <a:ext cx="0" cy="29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043000" y="2657160"/>
              <a:ext cx="1290600" cy="306720"/>
              <a:chOff x="2043000" y="2657160"/>
              <a:chExt cx="1290600" cy="306720"/>
            </a:xfrm>
          </p:grpSpPr>
          <p:sp>
            <p:nvSpPr>
              <p:cNvPr id="494" name=""/>
              <p:cNvSpPr/>
              <p:nvPr/>
            </p:nvSpPr>
            <p:spPr>
              <a:xfrm>
                <a:off x="2147760" y="2818080"/>
                <a:ext cx="1185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43000" y="275904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2500200" y="2657160"/>
                <a:ext cx="306360" cy="306720"/>
                <a:chOff x="2500200" y="2657160"/>
                <a:chExt cx="306360" cy="306720"/>
              </a:xfrm>
            </p:grpSpPr>
            <p:sp>
              <p:nvSpPr>
                <p:cNvPr id="497" name=""/>
                <p:cNvSpPr/>
                <p:nvPr/>
              </p:nvSpPr>
              <p:spPr>
                <a:xfrm flipV="1">
                  <a:off x="2500200" y="265716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2501640" y="265896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01640" y="2811600"/>
                  <a:ext cx="3049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806560" y="2658960"/>
                  <a:ext cx="0" cy="29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1" name=""/>
          <p:cNvGrpSpPr/>
          <p:nvPr/>
        </p:nvGrpSpPr>
        <p:grpSpPr>
          <a:xfrm>
            <a:off x="1128600" y="2428920"/>
            <a:ext cx="609480" cy="1831320"/>
            <a:chOff x="1128600" y="2428920"/>
            <a:chExt cx="609480" cy="1831320"/>
          </a:xfrm>
        </p:grpSpPr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1128600" y="2428920"/>
              <a:ext cx="45720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"/>
            <p:cNvGrpSpPr/>
            <p:nvPr/>
          </p:nvGrpSpPr>
          <p:grpSpPr>
            <a:xfrm>
              <a:off x="1128600" y="2505240"/>
              <a:ext cx="609480" cy="1755000"/>
              <a:chOff x="1128600" y="2505240"/>
              <a:chExt cx="609480" cy="1755000"/>
            </a:xfrm>
          </p:grpSpPr>
          <p:sp>
            <p:nvSpPr>
              <p:cNvPr id="504" name=""/>
              <p:cNvSpPr/>
              <p:nvPr/>
            </p:nvSpPr>
            <p:spPr>
              <a:xfrm>
                <a:off x="1128600" y="31910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128600" y="25052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28600" y="3800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3795840" y="2886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181480" y="1981080"/>
            <a:ext cx="2743200" cy="520560"/>
            <a:chOff x="5181480" y="1981080"/>
            <a:chExt cx="2743200" cy="520560"/>
          </a:xfrm>
        </p:grpSpPr>
        <p:grpSp>
          <p:nvGrpSpPr>
            <p:cNvPr id="509" name=""/>
            <p:cNvGrpSpPr/>
            <p:nvPr/>
          </p:nvGrpSpPr>
          <p:grpSpPr>
            <a:xfrm>
              <a:off x="5181480" y="1981080"/>
              <a:ext cx="2057400" cy="520560"/>
              <a:chOff x="5181480" y="1981080"/>
              <a:chExt cx="2057400" cy="520560"/>
            </a:xfrm>
          </p:grpSpPr>
          <p:sp>
            <p:nvSpPr>
              <p:cNvPr id="510" name=""/>
              <p:cNvSpPr/>
              <p:nvPr/>
            </p:nvSpPr>
            <p:spPr>
              <a:xfrm>
                <a:off x="51814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4360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816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746748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181480" y="2362320"/>
            <a:ext cx="2743200" cy="520560"/>
            <a:chOff x="5181480" y="2362320"/>
            <a:chExt cx="2743200" cy="520560"/>
          </a:xfrm>
        </p:grpSpPr>
        <p:grpSp>
          <p:nvGrpSpPr>
            <p:cNvPr id="515" name=""/>
            <p:cNvGrpSpPr/>
            <p:nvPr/>
          </p:nvGrpSpPr>
          <p:grpSpPr>
            <a:xfrm>
              <a:off x="5181480" y="2362320"/>
              <a:ext cx="2057400" cy="520560"/>
              <a:chOff x="5181480" y="2362320"/>
              <a:chExt cx="2057400" cy="520560"/>
            </a:xfrm>
          </p:grpSpPr>
          <p:sp>
            <p:nvSpPr>
              <p:cNvPr id="516" name=""/>
              <p:cNvSpPr/>
              <p:nvPr/>
            </p:nvSpPr>
            <p:spPr>
              <a:xfrm>
                <a:off x="51814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4360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816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746748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181480" y="2743200"/>
            <a:ext cx="2743200" cy="2044440"/>
            <a:chOff x="5181480" y="2743200"/>
            <a:chExt cx="2743200" cy="2044440"/>
          </a:xfrm>
        </p:grpSpPr>
        <p:grpSp>
          <p:nvGrpSpPr>
            <p:cNvPr id="521" name=""/>
            <p:cNvGrpSpPr/>
            <p:nvPr/>
          </p:nvGrpSpPr>
          <p:grpSpPr>
            <a:xfrm>
              <a:off x="5181480" y="3886200"/>
              <a:ext cx="2743200" cy="520560"/>
              <a:chOff x="5181480" y="3886200"/>
              <a:chExt cx="2743200" cy="5205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5181480" y="3886200"/>
                <a:ext cx="2057400" cy="520560"/>
                <a:chOff x="5181480" y="3886200"/>
                <a:chExt cx="2057400" cy="5205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51814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4360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7816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7467480" y="3886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181480" y="4267080"/>
              <a:ext cx="2743200" cy="520560"/>
              <a:chOff x="5181480" y="4267080"/>
              <a:chExt cx="2743200" cy="52056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5181480" y="4267080"/>
                <a:ext cx="2057400" cy="520560"/>
                <a:chOff x="5181480" y="4267080"/>
                <a:chExt cx="2057400" cy="5205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1814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9436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7816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7467480" y="426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181480" y="3505320"/>
              <a:ext cx="2743200" cy="520560"/>
              <a:chOff x="5181480" y="3505320"/>
              <a:chExt cx="2743200" cy="5205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5181480" y="3505320"/>
                <a:ext cx="2057400" cy="520560"/>
                <a:chOff x="5181480" y="3505320"/>
                <a:chExt cx="2057400" cy="5205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1814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94360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7816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7467480" y="3505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181480" y="3124080"/>
              <a:ext cx="2743200" cy="520560"/>
              <a:chOff x="5181480" y="3124080"/>
              <a:chExt cx="2743200" cy="52056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5181480" y="3124080"/>
                <a:ext cx="2057400" cy="520560"/>
                <a:chOff x="5181480" y="3124080"/>
                <a:chExt cx="2057400" cy="5205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51814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94360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7816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7467480" y="3124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181480" y="2743200"/>
              <a:ext cx="2743200" cy="520560"/>
              <a:chOff x="5181480" y="2743200"/>
              <a:chExt cx="2743200" cy="5205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5181480" y="2743200"/>
                <a:ext cx="2057400" cy="520560"/>
                <a:chOff x="5181480" y="2743200"/>
                <a:chExt cx="2057400" cy="5205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51814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94360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7816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746748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5181480" y="4648320"/>
            <a:ext cx="2743200" cy="520560"/>
            <a:chOff x="5181480" y="4648320"/>
            <a:chExt cx="2743200" cy="520560"/>
          </a:xfrm>
        </p:grpSpPr>
        <p:grpSp>
          <p:nvGrpSpPr>
            <p:cNvPr id="552" name=""/>
            <p:cNvGrpSpPr/>
            <p:nvPr/>
          </p:nvGrpSpPr>
          <p:grpSpPr>
            <a:xfrm>
              <a:off x="5181480" y="4648320"/>
              <a:ext cx="2057400" cy="520560"/>
              <a:chOff x="5181480" y="4648320"/>
              <a:chExt cx="2057400" cy="520560"/>
            </a:xfrm>
          </p:grpSpPr>
          <p:sp>
            <p:nvSpPr>
              <p:cNvPr id="553" name=""/>
              <p:cNvSpPr/>
              <p:nvPr/>
            </p:nvSpPr>
            <p:spPr>
              <a:xfrm>
                <a:off x="51814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94360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816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46748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876920" y="914400"/>
            <a:ext cx="3047760" cy="4191120"/>
            <a:chOff x="4876920" y="914400"/>
            <a:chExt cx="3047760" cy="4191120"/>
          </a:xfrm>
        </p:grpSpPr>
        <p:sp>
          <p:nvSpPr>
            <p:cNvPr id="558" name=""/>
            <p:cNvSpPr/>
            <p:nvPr/>
          </p:nvSpPr>
          <p:spPr>
            <a:xfrm>
              <a:off x="5181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4360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67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5308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00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05520" y="198108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76920" y="51055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152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144792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32760" y="91440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与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2118960" y="1743120"/>
            <a:ext cx="1143360" cy="1676520"/>
            <a:chOff x="2118960" y="1743120"/>
            <a:chExt cx="1143360" cy="1676520"/>
          </a:xfrm>
        </p:grpSpPr>
        <p:sp>
          <p:nvSpPr>
            <p:cNvPr id="570" name=""/>
            <p:cNvSpPr/>
            <p:nvPr/>
          </p:nvSpPr>
          <p:spPr>
            <a:xfrm>
              <a:off x="3262320" y="1743120"/>
              <a:ext cx="0" cy="16765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18960" y="28098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18960" y="341964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195280" y="1819440"/>
            <a:ext cx="1067040" cy="2286000"/>
            <a:chOff x="2195280" y="1819440"/>
            <a:chExt cx="1067040" cy="2286000"/>
          </a:xfrm>
        </p:grpSpPr>
        <p:sp>
          <p:nvSpPr>
            <p:cNvPr id="574" name=""/>
            <p:cNvSpPr/>
            <p:nvPr/>
          </p:nvSpPr>
          <p:spPr>
            <a:xfrm>
              <a:off x="3262320" y="1819440"/>
              <a:ext cx="0" cy="228600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95280" y="281016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95280" y="341964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195280" y="410544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795840" y="2886120"/>
            <a:ext cx="609480" cy="459720"/>
            <a:chOff x="3795840" y="2886120"/>
            <a:chExt cx="609480" cy="459720"/>
          </a:xfrm>
        </p:grpSpPr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3871800" y="2962440"/>
              <a:ext cx="456840" cy="32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795840" y="2886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95840" y="2886120"/>
            <a:ext cx="609480" cy="459720"/>
            <a:chOff x="3795840" y="2886120"/>
            <a:chExt cx="609480" cy="459720"/>
          </a:xfrm>
        </p:grpSpPr>
        <p:pic>
          <p:nvPicPr>
            <p:cNvPr id="582" name="" descr=""/>
            <p:cNvPicPr/>
            <p:nvPr/>
          </p:nvPicPr>
          <p:blipFill>
            <a:blip r:embed="rId4"/>
            <a:stretch/>
          </p:blipFill>
          <p:spPr>
            <a:xfrm>
              <a:off x="3871800" y="2962440"/>
              <a:ext cx="456840" cy="32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3795840" y="2886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2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4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6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7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4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9" name=""/>
          <p:cNvSpPr/>
          <p:nvPr/>
        </p:nvSpPr>
        <p:spPr>
          <a:xfrm>
            <a:off x="205740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3124080" y="457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 flipV="1">
            <a:off x="2971800" y="2362320"/>
            <a:ext cx="0" cy="358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2590920" y="83808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590920" y="175248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4952880" y="4724280"/>
            <a:ext cx="685800" cy="8384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5029200" y="4789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981080" y="14479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205740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2438280" y="1676520"/>
            <a:ext cx="15264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3048120" y="14479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31240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>
            <a:off x="3505320" y="167652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1981080" y="5335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2438280" y="762120"/>
            <a:ext cx="15264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3048120" y="533520"/>
            <a:ext cx="457200" cy="6094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>
            <a:off x="3505320" y="76212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>
            <a:off x="1981080" y="5638680"/>
            <a:ext cx="457200" cy="6098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>
            <a:off x="20574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>
            <a:off x="2438280" y="5867280"/>
            <a:ext cx="15264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>
            <a:off x="1447920" y="83808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>
            <a:off x="1447920" y="175248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>
            <a:off x="4952880" y="3733920"/>
            <a:ext cx="685800" cy="8380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>
            <a:off x="5029200" y="3798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>
            <a:off x="4952880" y="2743200"/>
            <a:ext cx="685800" cy="8380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>
            <a:off x="5029200" y="2808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>
            <a:off x="4952880" y="1752480"/>
            <a:ext cx="685800" cy="8384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5029200" y="1817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1447920" y="2209680"/>
            <a:ext cx="3504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3657600" y="83808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4495680" y="838080"/>
            <a:ext cx="0" cy="30481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4495680" y="190512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4495680" y="38862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1523880" y="4191120"/>
            <a:ext cx="3429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3" name=""/>
          <p:cNvSpPr/>
          <p:nvPr/>
        </p:nvSpPr>
        <p:spPr>
          <a:xfrm>
            <a:off x="3657600" y="1752480"/>
            <a:ext cx="3049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>
            <a:off x="3962520" y="1752480"/>
            <a:ext cx="0" cy="13716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3962520" y="2057400"/>
            <a:ext cx="9903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>
            <a:off x="1523880" y="3276720"/>
            <a:ext cx="3429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2819520" y="83808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>
            <a:off x="2819520" y="1295280"/>
            <a:ext cx="1371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4191120" y="1295280"/>
            <a:ext cx="0" cy="3581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4191120" y="2971800"/>
            <a:ext cx="76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4191120" y="4876920"/>
            <a:ext cx="76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2819520" y="1752480"/>
            <a:ext cx="0" cy="8384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>
            <a:off x="2819520" y="2590920"/>
            <a:ext cx="76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3581280" y="2590920"/>
            <a:ext cx="0" cy="2438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3581280" y="4038480"/>
            <a:ext cx="1371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3581280" y="5029200"/>
            <a:ext cx="1371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8" name=""/>
          <p:cNvSpPr/>
          <p:nvPr/>
        </p:nvSpPr>
        <p:spPr>
          <a:xfrm>
            <a:off x="1523880" y="5181480"/>
            <a:ext cx="34290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9" name=""/>
          <p:cNvSpPr/>
          <p:nvPr/>
        </p:nvSpPr>
        <p:spPr>
          <a:xfrm>
            <a:off x="2590920" y="59436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"/>
          <p:cNvSpPr/>
          <p:nvPr/>
        </p:nvSpPr>
        <p:spPr>
          <a:xfrm>
            <a:off x="2971800" y="236232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2971800" y="434340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2971800" y="342900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2971800" y="533412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4" name=""/>
          <p:cNvSpPr/>
          <p:nvPr/>
        </p:nvSpPr>
        <p:spPr>
          <a:xfrm>
            <a:off x="1371600" y="7984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5" name=""/>
          <p:cNvSpPr/>
          <p:nvPr/>
        </p:nvSpPr>
        <p:spPr>
          <a:xfrm flipH="1">
            <a:off x="1523880" y="59436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6781680" y="3048120"/>
            <a:ext cx="685800" cy="99036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7" name=""/>
          <p:cNvSpPr/>
          <p:nvPr/>
        </p:nvSpPr>
        <p:spPr>
          <a:xfrm flipV="1">
            <a:off x="6248520" y="3657600"/>
            <a:ext cx="0" cy="4572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8" name=""/>
          <p:cNvSpPr/>
          <p:nvPr/>
        </p:nvSpPr>
        <p:spPr>
          <a:xfrm>
            <a:off x="5638680" y="2209680"/>
            <a:ext cx="838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"/>
          <p:cNvSpPr/>
          <p:nvPr/>
        </p:nvSpPr>
        <p:spPr>
          <a:xfrm>
            <a:off x="6477120" y="2209680"/>
            <a:ext cx="0" cy="9907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0" name=""/>
          <p:cNvSpPr/>
          <p:nvPr/>
        </p:nvSpPr>
        <p:spPr>
          <a:xfrm>
            <a:off x="6477120" y="3200400"/>
            <a:ext cx="3045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1" name=""/>
          <p:cNvSpPr/>
          <p:nvPr/>
        </p:nvSpPr>
        <p:spPr>
          <a:xfrm>
            <a:off x="5638680" y="3124080"/>
            <a:ext cx="609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"/>
          <p:cNvSpPr/>
          <p:nvPr/>
        </p:nvSpPr>
        <p:spPr>
          <a:xfrm>
            <a:off x="6248520" y="3124080"/>
            <a:ext cx="0" cy="3049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3" name=""/>
          <p:cNvSpPr/>
          <p:nvPr/>
        </p:nvSpPr>
        <p:spPr>
          <a:xfrm>
            <a:off x="6248520" y="342900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5638680" y="4114800"/>
            <a:ext cx="609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"/>
          <p:cNvSpPr/>
          <p:nvPr/>
        </p:nvSpPr>
        <p:spPr>
          <a:xfrm>
            <a:off x="6248520" y="3657600"/>
            <a:ext cx="533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5638680" y="5181480"/>
            <a:ext cx="838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 flipV="1">
            <a:off x="6477120" y="3886200"/>
            <a:ext cx="0" cy="1295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6477120" y="3886200"/>
            <a:ext cx="3045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7467480" y="350532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>
            <a:off x="685800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H="1">
            <a:off x="6933960" y="3429000"/>
            <a:ext cx="228600" cy="1522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777240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914400" y="48769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914400" y="39625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925920" y="3048120"/>
            <a:ext cx="53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914400" y="1981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924840" y="6094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762120" y="1447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9" name=""/>
          <p:cNvGrpSpPr/>
          <p:nvPr/>
        </p:nvGrpSpPr>
        <p:grpSpPr>
          <a:xfrm>
            <a:off x="997560" y="5715000"/>
            <a:ext cx="368280" cy="520560"/>
            <a:chOff x="997560" y="5715000"/>
            <a:chExt cx="368280" cy="520560"/>
          </a:xfrm>
        </p:grpSpPr>
        <p:sp>
          <p:nvSpPr>
            <p:cNvPr id="8430" name=""/>
            <p:cNvSpPr/>
            <p:nvPr/>
          </p:nvSpPr>
          <p:spPr>
            <a:xfrm>
              <a:off x="997560" y="57150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1066680" y="579132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2" name=""/>
          <p:cNvSpPr/>
          <p:nvPr/>
        </p:nvSpPr>
        <p:spPr>
          <a:xfrm>
            <a:off x="1523880" y="541008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2503800" y="541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772400" y="350532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5" name=""/>
          <p:cNvGrpSpPr/>
          <p:nvPr/>
        </p:nvGrpSpPr>
        <p:grpSpPr>
          <a:xfrm>
            <a:off x="5780520" y="1752480"/>
            <a:ext cx="383400" cy="3568320"/>
            <a:chOff x="5780520" y="1752480"/>
            <a:chExt cx="383400" cy="3568320"/>
          </a:xfrm>
        </p:grpSpPr>
        <p:sp>
          <p:nvSpPr>
            <p:cNvPr id="8436" name=""/>
            <p:cNvSpPr/>
            <p:nvPr/>
          </p:nvSpPr>
          <p:spPr>
            <a:xfrm>
              <a:off x="5780520" y="480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5780520" y="3733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5780520" y="2742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5780520" y="175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0" name=""/>
          <p:cNvSpPr/>
          <p:nvPr/>
        </p:nvSpPr>
        <p:spPr>
          <a:xfrm>
            <a:off x="5867280" y="838080"/>
            <a:ext cx="2210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与”门被封锁，选择器不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>
            <a:off x="3279960" y="571500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74LS153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型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选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1371600" y="17128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1371600" y="21700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4" name=""/>
          <p:cNvSpPr/>
          <p:nvPr/>
        </p:nvSpPr>
        <p:spPr>
          <a:xfrm>
            <a:off x="1409760" y="323856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>
            <a:off x="1409760" y="414828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1409760" y="5124600"/>
            <a:ext cx="93600" cy="1155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1409760" y="5880240"/>
            <a:ext cx="9360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>
            <a:off x="7924680" y="3446640"/>
            <a:ext cx="93960" cy="936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7" dur="indefinite" restart="never" nodeType="tmRoot">
          <p:childTnLst>
            <p:seq>
              <p:cTn id="4258" dur="indefinite" nodeType="mainSeq">
                <p:childTnLst>
                  <p:par>
                    <p:cTn id="4259" nodeType="clickEffect" fill="hold">
                      <p:stCondLst>
                        <p:cond delay="indefinite"/>
                      </p:stCondLst>
                      <p:childTnLst>
                        <p:par>
                          <p:cTn id="42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4263" dur="500"/>
                                        <p:tgtEl>
                                          <p:spTgt spid="8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nodeType="clickEffect" fill="hold">
                      <p:stCondLst>
                        <p:cond delay="indefinite"/>
                      </p:stCondLst>
                      <p:childTnLst>
                        <p:par>
                          <p:cTn id="42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268" dur="500"/>
                                        <p:tgtEl>
                                          <p:spTgt spid="8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9" nodeType="clickEffect" fill="hold">
                      <p:stCondLst>
                        <p:cond delay="indefinite"/>
                      </p:stCondLst>
                      <p:childTnLst>
                        <p:par>
                          <p:cTn id="4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4273" dur="500"/>
                                        <p:tgtEl>
                                          <p:spTgt spid="8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278" dur="500"/>
                                        <p:tgtEl>
                                          <p:spTgt spid="8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nodeType="clickEffect" fill="hold">
                      <p:stCondLst>
                        <p:cond delay="indefinite"/>
                      </p:stCondLst>
                      <p:childTnLst>
                        <p:par>
                          <p:cTn id="4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4283" dur="500"/>
                                        <p:tgtEl>
                                          <p:spTgt spid="8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"/>
          <p:cNvSpPr/>
          <p:nvPr/>
        </p:nvSpPr>
        <p:spPr>
          <a:xfrm>
            <a:off x="2300400" y="3049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3313080" y="30492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 flipV="1">
            <a:off x="3168720" y="2114280"/>
            <a:ext cx="0" cy="34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2" name=""/>
          <p:cNvSpPr/>
          <p:nvPr/>
        </p:nvSpPr>
        <p:spPr>
          <a:xfrm>
            <a:off x="2806560" y="666720"/>
            <a:ext cx="435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3" name=""/>
          <p:cNvSpPr/>
          <p:nvPr/>
        </p:nvSpPr>
        <p:spPr>
          <a:xfrm>
            <a:off x="2806560" y="1535040"/>
            <a:ext cx="435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>
            <a:off x="5049720" y="4357800"/>
            <a:ext cx="650880" cy="7952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5122800" y="4419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2228760" y="124632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2300400" y="11732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2662200" y="146196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3241800" y="124632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3313080" y="11732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675240" y="146196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2228760" y="37800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>
            <a:off x="2662200" y="59364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>
            <a:off x="3241800" y="37800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3675240" y="593640"/>
            <a:ext cx="144360" cy="14616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>
            <a:off x="2228760" y="5226120"/>
            <a:ext cx="433440" cy="5778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2300400" y="51530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2662200" y="5442120"/>
            <a:ext cx="144360" cy="14580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>
            <a:off x="1722600" y="666720"/>
            <a:ext cx="506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>
            <a:off x="1722600" y="1535040"/>
            <a:ext cx="5061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5049720" y="3416400"/>
            <a:ext cx="650880" cy="79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5122800" y="34783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5049720" y="2476440"/>
            <a:ext cx="650880" cy="7952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122800" y="25369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>
            <a:off x="5049720" y="1535040"/>
            <a:ext cx="650880" cy="7952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5122800" y="15969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1722600" y="1968480"/>
            <a:ext cx="3327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>
            <a:off x="3819600" y="666720"/>
            <a:ext cx="7966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>
            <a:off x="4616280" y="666720"/>
            <a:ext cx="0" cy="28940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4616280" y="1679400"/>
            <a:ext cx="433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4616280" y="3560760"/>
            <a:ext cx="4334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>
            <a:off x="1793880" y="3851280"/>
            <a:ext cx="3255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3819600" y="1535040"/>
            <a:ext cx="2905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4110120" y="1535040"/>
            <a:ext cx="0" cy="13017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4110120" y="1824120"/>
            <a:ext cx="93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>
            <a:off x="4110120" y="2836800"/>
            <a:ext cx="93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>
            <a:off x="1793880" y="2982960"/>
            <a:ext cx="3255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3024360" y="666720"/>
            <a:ext cx="0" cy="4334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>
            <a:off x="3024360" y="1100160"/>
            <a:ext cx="1301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4325760" y="1100160"/>
            <a:ext cx="0" cy="3402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>
            <a:off x="4325760" y="2692440"/>
            <a:ext cx="723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4325760" y="4502160"/>
            <a:ext cx="723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3024360" y="1535040"/>
            <a:ext cx="0" cy="7952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3024360" y="2330280"/>
            <a:ext cx="723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3747960" y="2330280"/>
            <a:ext cx="0" cy="23162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747960" y="3705120"/>
            <a:ext cx="130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3747960" y="4646520"/>
            <a:ext cx="13017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1793880" y="4791240"/>
            <a:ext cx="32558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806560" y="5514840"/>
            <a:ext cx="362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3168720" y="211464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3168720" y="399564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3168720" y="312732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3" name=""/>
          <p:cNvSpPr/>
          <p:nvPr/>
        </p:nvSpPr>
        <p:spPr>
          <a:xfrm>
            <a:off x="3168720" y="493560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4" name=""/>
          <p:cNvSpPr/>
          <p:nvPr/>
        </p:nvSpPr>
        <p:spPr>
          <a:xfrm>
            <a:off x="1649520" y="62856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 flipH="1">
            <a:off x="1793880" y="5514840"/>
            <a:ext cx="434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6" name=""/>
          <p:cNvSpPr/>
          <p:nvPr/>
        </p:nvSpPr>
        <p:spPr>
          <a:xfrm>
            <a:off x="6786720" y="2765520"/>
            <a:ext cx="650880" cy="9396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7" name=""/>
          <p:cNvSpPr/>
          <p:nvPr/>
        </p:nvSpPr>
        <p:spPr>
          <a:xfrm flipV="1">
            <a:off x="6280200" y="3344760"/>
            <a:ext cx="0" cy="4334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8" name=""/>
          <p:cNvSpPr/>
          <p:nvPr/>
        </p:nvSpPr>
        <p:spPr>
          <a:xfrm>
            <a:off x="5700600" y="1968480"/>
            <a:ext cx="7970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9" name=""/>
          <p:cNvSpPr/>
          <p:nvPr/>
        </p:nvSpPr>
        <p:spPr>
          <a:xfrm>
            <a:off x="6497640" y="1968480"/>
            <a:ext cx="0" cy="9414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0" name=""/>
          <p:cNvSpPr/>
          <p:nvPr/>
        </p:nvSpPr>
        <p:spPr>
          <a:xfrm>
            <a:off x="6497640" y="2909880"/>
            <a:ext cx="289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1" name=""/>
          <p:cNvSpPr/>
          <p:nvPr/>
        </p:nvSpPr>
        <p:spPr>
          <a:xfrm>
            <a:off x="5700600" y="2836800"/>
            <a:ext cx="57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2" name=""/>
          <p:cNvSpPr/>
          <p:nvPr/>
        </p:nvSpPr>
        <p:spPr>
          <a:xfrm>
            <a:off x="6280200" y="2836800"/>
            <a:ext cx="0" cy="2905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3" name=""/>
          <p:cNvSpPr/>
          <p:nvPr/>
        </p:nvSpPr>
        <p:spPr>
          <a:xfrm>
            <a:off x="6280200" y="3127320"/>
            <a:ext cx="5065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4" name=""/>
          <p:cNvSpPr/>
          <p:nvPr/>
        </p:nvSpPr>
        <p:spPr>
          <a:xfrm>
            <a:off x="5700600" y="3778200"/>
            <a:ext cx="5796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5" name=""/>
          <p:cNvSpPr/>
          <p:nvPr/>
        </p:nvSpPr>
        <p:spPr>
          <a:xfrm>
            <a:off x="6280200" y="3344760"/>
            <a:ext cx="5065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>
            <a:off x="5700600" y="4791240"/>
            <a:ext cx="7970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 flipV="1">
            <a:off x="6497640" y="3560760"/>
            <a:ext cx="0" cy="12304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6497640" y="3560760"/>
            <a:ext cx="289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>
            <a:off x="7437600" y="3198960"/>
            <a:ext cx="434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6858000" y="283680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6931080" y="3127320"/>
            <a:ext cx="217440" cy="1443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7726320" y="2692440"/>
            <a:ext cx="5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216080" y="4502160"/>
            <a:ext cx="57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216080" y="3633840"/>
            <a:ext cx="57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>
            <a:off x="1227600" y="2765520"/>
            <a:ext cx="53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>
            <a:off x="1216080" y="1752480"/>
            <a:ext cx="57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333300"/>
                </a:solidFill>
                <a:latin typeface="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226520" y="4492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>
            <a:off x="1143000" y="1246320"/>
            <a:ext cx="65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9" name=""/>
          <p:cNvGrpSpPr/>
          <p:nvPr/>
        </p:nvGrpSpPr>
        <p:grpSpPr>
          <a:xfrm>
            <a:off x="1294560" y="5297400"/>
            <a:ext cx="368280" cy="520560"/>
            <a:chOff x="1294560" y="5297400"/>
            <a:chExt cx="368280" cy="520560"/>
          </a:xfrm>
        </p:grpSpPr>
        <p:sp>
          <p:nvSpPr>
            <p:cNvPr id="8530" name=""/>
            <p:cNvSpPr/>
            <p:nvPr/>
          </p:nvSpPr>
          <p:spPr>
            <a:xfrm>
              <a:off x="1294560" y="52974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1359360" y="5369760"/>
              <a:ext cx="216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2" name=""/>
          <p:cNvSpPr/>
          <p:nvPr/>
        </p:nvSpPr>
        <p:spPr>
          <a:xfrm>
            <a:off x="1793880" y="500868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2724480" y="5008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4" name=""/>
          <p:cNvGrpSpPr/>
          <p:nvPr/>
        </p:nvGrpSpPr>
        <p:grpSpPr>
          <a:xfrm>
            <a:off x="5834160" y="1461960"/>
            <a:ext cx="507600" cy="3453480"/>
            <a:chOff x="5834160" y="1461960"/>
            <a:chExt cx="507600" cy="3453480"/>
          </a:xfrm>
        </p:grpSpPr>
        <p:sp>
          <p:nvSpPr>
            <p:cNvPr id="8535" name=""/>
            <p:cNvSpPr/>
            <p:nvPr/>
          </p:nvSpPr>
          <p:spPr>
            <a:xfrm>
              <a:off x="5854680" y="440532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?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5834160" y="3343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5834160" y="240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5834160" y="146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9" name=""/>
          <p:cNvSpPr/>
          <p:nvPr/>
        </p:nvSpPr>
        <p:spPr>
          <a:xfrm>
            <a:off x="6280200" y="4935600"/>
            <a:ext cx="18082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与”门打开，选择器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649520" y="149688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649520" y="193212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1685880" y="294624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1685880" y="380988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1685880" y="4737240"/>
            <a:ext cx="88920" cy="1094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1685880" y="545472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7872480" y="3143160"/>
            <a:ext cx="88920" cy="8892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6005520" y="304920"/>
            <a:ext cx="26049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由控制端决定选择哪一路数据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4110120" y="5297400"/>
            <a:ext cx="868320" cy="362160"/>
          </a:xfrm>
          <a:prstGeom prst="wedgeRoundRectCallout">
            <a:avLst>
              <a:gd name="adj1" fmla="val 75000"/>
              <a:gd name="adj2" fmla="val -150000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选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7796160" y="3127320"/>
            <a:ext cx="487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?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0" name=""/>
          <p:cNvGrpSpPr/>
          <p:nvPr/>
        </p:nvGrpSpPr>
        <p:grpSpPr>
          <a:xfrm>
            <a:off x="1711800" y="155520"/>
            <a:ext cx="2481840" cy="1483200"/>
            <a:chOff x="1711800" y="155520"/>
            <a:chExt cx="2481840" cy="1483200"/>
          </a:xfrm>
        </p:grpSpPr>
        <p:grpSp>
          <p:nvGrpSpPr>
            <p:cNvPr id="8551" name=""/>
            <p:cNvGrpSpPr/>
            <p:nvPr/>
          </p:nvGrpSpPr>
          <p:grpSpPr>
            <a:xfrm>
              <a:off x="1711800" y="155520"/>
              <a:ext cx="2481840" cy="1483200"/>
              <a:chOff x="1711800" y="155520"/>
              <a:chExt cx="2481840" cy="1483200"/>
            </a:xfrm>
          </p:grpSpPr>
          <p:grpSp>
            <p:nvGrpSpPr>
              <p:cNvPr id="8552" name=""/>
              <p:cNvGrpSpPr/>
              <p:nvPr/>
            </p:nvGrpSpPr>
            <p:grpSpPr>
              <a:xfrm>
                <a:off x="1711800" y="177840"/>
                <a:ext cx="383400" cy="1388160"/>
                <a:chOff x="1711800" y="177840"/>
                <a:chExt cx="383400" cy="1388160"/>
              </a:xfrm>
            </p:grpSpPr>
            <p:sp>
              <p:nvSpPr>
                <p:cNvPr id="8553" name=""/>
                <p:cNvSpPr/>
                <p:nvPr/>
              </p:nvSpPr>
              <p:spPr>
                <a:xfrm>
                  <a:off x="1711800" y="17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4" name=""/>
                <p:cNvSpPr/>
                <p:nvPr/>
              </p:nvSpPr>
              <p:spPr>
                <a:xfrm>
                  <a:off x="1711800" y="10454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5" name=""/>
              <p:cNvSpPr/>
              <p:nvPr/>
            </p:nvSpPr>
            <p:spPr>
              <a:xfrm>
                <a:off x="2796480" y="1778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2796480" y="1045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3966120" y="15552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3810240" y="1118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9" name=""/>
            <p:cNvSpPr/>
            <p:nvPr/>
          </p:nvSpPr>
          <p:spPr>
            <a:xfrm>
              <a:off x="3799440" y="22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0" name=""/>
          <p:cNvSpPr/>
          <p:nvPr/>
        </p:nvSpPr>
        <p:spPr>
          <a:xfrm>
            <a:off x="2136960" y="588168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74LS153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型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选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4800600" y="533520"/>
            <a:ext cx="690480" cy="37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4" dur="indefinite" restart="never" nodeType="tmRoot">
          <p:childTnLst>
            <p:seq>
              <p:cTn id="4285" dur="indefinite" nodeType="mainSeq">
                <p:childTnLst>
                  <p:par>
                    <p:cTn id="4286" nodeType="clickEffect" fill="hold">
                      <p:stCondLst>
                        <p:cond delay="indefinite"/>
                      </p:stCondLst>
                      <p:childTnLst>
                        <p:par>
                          <p:cTn id="4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8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4290" dur="500"/>
                                        <p:tgtEl>
                                          <p:spTgt spid="8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nodeType="clickEffect" fill="hold">
                      <p:stCondLst>
                        <p:cond delay="indefinite"/>
                      </p:stCondLst>
                      <p:childTnLst>
                        <p:par>
                          <p:cTn id="4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295" dur="500"/>
                                        <p:tgtEl>
                                          <p:spTgt spid="8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4300" dur="500"/>
                                        <p:tgtEl>
                                          <p:spTgt spid="8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nodeType="clickEffect" fill="hold">
                      <p:stCondLst>
                        <p:cond delay="indefinite"/>
                      </p:stCondLst>
                      <p:childTnLst>
                        <p:par>
                          <p:cTn id="4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305" dur="500"/>
                                        <p:tgtEl>
                                          <p:spTgt spid="8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310" dur="500"/>
                                        <p:tgtEl>
                                          <p:spTgt spid="8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315" dur="500"/>
                                        <p:tgtEl>
                                          <p:spTgt spid="8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320" dur="500"/>
                                        <p:tgtEl>
                                          <p:spTgt spid="8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25" dur="500"/>
                                        <p:tgtEl>
                                          <p:spTgt spid="8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7" nodeType="afterEffect" fill="hold" presetClass="entr" presetID="1"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2" name=""/>
          <p:cNvSpPr/>
          <p:nvPr/>
        </p:nvSpPr>
        <p:spPr>
          <a:xfrm>
            <a:off x="1905120" y="129528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1478520" y="304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由逻辑图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44680"/>
          </a:xfrm>
          <a:prstGeom prst="rect">
            <a:avLst/>
          </a:prstGeom>
          <a:ln w="0">
            <a:noFill/>
          </a:ln>
        </p:spPr>
      </p:pic>
      <p:grpSp>
        <p:nvGrpSpPr>
          <p:cNvPr id="8565" name=""/>
          <p:cNvGrpSpPr/>
          <p:nvPr/>
        </p:nvGrpSpPr>
        <p:grpSpPr>
          <a:xfrm>
            <a:off x="762120" y="1309680"/>
            <a:ext cx="3733200" cy="3796920"/>
            <a:chOff x="762120" y="1309680"/>
            <a:chExt cx="3733200" cy="3796920"/>
          </a:xfrm>
        </p:grpSpPr>
        <p:sp>
          <p:nvSpPr>
            <p:cNvPr id="8566" name=""/>
            <p:cNvSpPr/>
            <p:nvPr/>
          </p:nvSpPr>
          <p:spPr>
            <a:xfrm>
              <a:off x="1270440" y="1309680"/>
              <a:ext cx="250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74LS153</a:t>
              </a: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功能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838080" y="2363760"/>
              <a:ext cx="3657240" cy="126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1752480" y="1868400"/>
              <a:ext cx="0" cy="31748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3581280" y="1842840"/>
              <a:ext cx="0" cy="32004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762120" y="186840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使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2196360" y="191592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   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3726720" y="187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1073520" y="23637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 flipV="1">
              <a:off x="1142640" y="2434680"/>
              <a:ext cx="228240" cy="17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742840" y="2376360"/>
              <a:ext cx="761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1991160" y="23637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744000" y="2392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1055880" y="285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722760" y="29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1055880" y="328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2046240" y="32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2808360" y="3290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055880" y="370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2046240" y="370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808360" y="3738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2046240" y="4133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2808360" y="41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1055880" y="4133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2046240" y="45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808360" y="4586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1055880" y="45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733560" y="458604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42920" y="412884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3366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742920" y="37479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742920" y="33192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09160" y="27842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2772720" y="2817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838080" y="1842840"/>
              <a:ext cx="3657240" cy="12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838080" y="2909880"/>
              <a:ext cx="3657240" cy="126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838080" y="5043240"/>
              <a:ext cx="3657240" cy="12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01" name="" descr=""/>
          <p:cNvPicPr/>
          <p:nvPr/>
        </p:nvPicPr>
        <p:blipFill>
          <a:blip r:embed="rId2"/>
          <a:stretch/>
        </p:blipFill>
        <p:spPr>
          <a:xfrm>
            <a:off x="762120" y="5089680"/>
            <a:ext cx="7772400" cy="549000"/>
          </a:xfrm>
          <a:prstGeom prst="rect">
            <a:avLst/>
          </a:prstGeom>
          <a:ln w="0">
            <a:noFill/>
          </a:ln>
        </p:spPr>
      </p:pic>
      <p:sp>
        <p:nvSpPr>
          <p:cNvPr id="8602" name=""/>
          <p:cNvSpPr/>
          <p:nvPr/>
        </p:nvSpPr>
        <p:spPr>
          <a:xfrm>
            <a:off x="685800" y="5530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多路选择器广泛应用于多路模拟量的采集及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A/D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转换器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3" name=""/>
          <p:cNvGrpSpPr/>
          <p:nvPr/>
        </p:nvGrpSpPr>
        <p:grpSpPr>
          <a:xfrm>
            <a:off x="4836960" y="1676520"/>
            <a:ext cx="3814920" cy="3619080"/>
            <a:chOff x="4836960" y="1676520"/>
            <a:chExt cx="3814920" cy="3619080"/>
          </a:xfrm>
        </p:grpSpPr>
        <p:sp>
          <p:nvSpPr>
            <p:cNvPr id="8604" name=""/>
            <p:cNvSpPr/>
            <p:nvPr/>
          </p:nvSpPr>
          <p:spPr>
            <a:xfrm>
              <a:off x="4836960" y="441972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5135400" y="44956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5362560" y="44197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5719680" y="4419720"/>
              <a:ext cx="658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6231600" y="44197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6672240" y="4419720"/>
              <a:ext cx="658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7109280" y="44197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548120" y="441972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81255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4842000" y="2362320"/>
              <a:ext cx="38098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842080" y="2743200"/>
              <a:ext cx="15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74LS1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5933880" y="3200400"/>
              <a:ext cx="159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双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选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6212520" y="16765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6669720" y="167652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71280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75852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8040240" y="167652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5840280" y="1676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370480" y="167652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4842000" y="16765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4" name=""/>
            <p:cNvGrpSpPr/>
            <p:nvPr/>
          </p:nvGrpSpPr>
          <p:grpSpPr>
            <a:xfrm>
              <a:off x="5491080" y="2133720"/>
              <a:ext cx="270000" cy="228600"/>
              <a:chOff x="5491080" y="2133720"/>
              <a:chExt cx="270000" cy="228600"/>
            </a:xfrm>
          </p:grpSpPr>
          <p:sp>
            <p:nvSpPr>
              <p:cNvPr id="8625" name=""/>
              <p:cNvSpPr/>
              <p:nvPr/>
            </p:nvSpPr>
            <p:spPr>
              <a:xfrm>
                <a:off x="54910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54910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57610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8" name=""/>
            <p:cNvSpPr/>
            <p:nvPr/>
          </p:nvSpPr>
          <p:spPr>
            <a:xfrm>
              <a:off x="53575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9" name=""/>
            <p:cNvGrpSpPr/>
            <p:nvPr/>
          </p:nvGrpSpPr>
          <p:grpSpPr>
            <a:xfrm>
              <a:off x="5948280" y="2133720"/>
              <a:ext cx="270000" cy="228600"/>
              <a:chOff x="5948280" y="2133720"/>
              <a:chExt cx="270000" cy="228600"/>
            </a:xfrm>
          </p:grpSpPr>
          <p:sp>
            <p:nvSpPr>
              <p:cNvPr id="8630" name=""/>
              <p:cNvSpPr/>
              <p:nvPr/>
            </p:nvSpPr>
            <p:spPr>
              <a:xfrm>
                <a:off x="59482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59482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62182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3" name=""/>
            <p:cNvSpPr/>
            <p:nvPr/>
          </p:nvSpPr>
          <p:spPr>
            <a:xfrm>
              <a:off x="58147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4" name=""/>
            <p:cNvGrpSpPr/>
            <p:nvPr/>
          </p:nvGrpSpPr>
          <p:grpSpPr>
            <a:xfrm>
              <a:off x="6405480" y="2133720"/>
              <a:ext cx="270000" cy="228600"/>
              <a:chOff x="6405480" y="2133720"/>
              <a:chExt cx="270000" cy="228600"/>
            </a:xfrm>
          </p:grpSpPr>
          <p:sp>
            <p:nvSpPr>
              <p:cNvPr id="8635" name=""/>
              <p:cNvSpPr/>
              <p:nvPr/>
            </p:nvSpPr>
            <p:spPr>
              <a:xfrm>
                <a:off x="64054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64054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66754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8" name=""/>
            <p:cNvSpPr/>
            <p:nvPr/>
          </p:nvSpPr>
          <p:spPr>
            <a:xfrm>
              <a:off x="62719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9" name=""/>
            <p:cNvGrpSpPr/>
            <p:nvPr/>
          </p:nvGrpSpPr>
          <p:grpSpPr>
            <a:xfrm>
              <a:off x="6862680" y="2133720"/>
              <a:ext cx="270000" cy="228600"/>
              <a:chOff x="6862680" y="2133720"/>
              <a:chExt cx="270000" cy="228600"/>
            </a:xfrm>
          </p:grpSpPr>
          <p:sp>
            <p:nvSpPr>
              <p:cNvPr id="8640" name=""/>
              <p:cNvSpPr/>
              <p:nvPr/>
            </p:nvSpPr>
            <p:spPr>
              <a:xfrm>
                <a:off x="68626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68626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71326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3" name=""/>
            <p:cNvSpPr/>
            <p:nvPr/>
          </p:nvSpPr>
          <p:spPr>
            <a:xfrm>
              <a:off x="67291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4" name=""/>
            <p:cNvGrpSpPr/>
            <p:nvPr/>
          </p:nvGrpSpPr>
          <p:grpSpPr>
            <a:xfrm>
              <a:off x="7319880" y="2133720"/>
              <a:ext cx="270000" cy="228600"/>
              <a:chOff x="7319880" y="2133720"/>
              <a:chExt cx="270000" cy="228600"/>
            </a:xfrm>
          </p:grpSpPr>
          <p:sp>
            <p:nvSpPr>
              <p:cNvPr id="8645" name=""/>
              <p:cNvSpPr/>
              <p:nvPr/>
            </p:nvSpPr>
            <p:spPr>
              <a:xfrm>
                <a:off x="73198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73198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75898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8" name=""/>
            <p:cNvSpPr/>
            <p:nvPr/>
          </p:nvSpPr>
          <p:spPr>
            <a:xfrm>
              <a:off x="71863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9" name=""/>
            <p:cNvGrpSpPr/>
            <p:nvPr/>
          </p:nvGrpSpPr>
          <p:grpSpPr>
            <a:xfrm>
              <a:off x="7777080" y="2133720"/>
              <a:ext cx="270000" cy="228600"/>
              <a:chOff x="7777080" y="2133720"/>
              <a:chExt cx="270000" cy="228600"/>
            </a:xfrm>
          </p:grpSpPr>
          <p:sp>
            <p:nvSpPr>
              <p:cNvPr id="8650" name=""/>
              <p:cNvSpPr/>
              <p:nvPr/>
            </p:nvSpPr>
            <p:spPr>
              <a:xfrm>
                <a:off x="77770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77770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470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3" name=""/>
            <p:cNvSpPr/>
            <p:nvPr/>
          </p:nvSpPr>
          <p:spPr>
            <a:xfrm>
              <a:off x="76435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4" name=""/>
            <p:cNvGrpSpPr/>
            <p:nvPr/>
          </p:nvGrpSpPr>
          <p:grpSpPr>
            <a:xfrm>
              <a:off x="8234280" y="2133720"/>
              <a:ext cx="270000" cy="228600"/>
              <a:chOff x="8234280" y="2133720"/>
              <a:chExt cx="270000" cy="228600"/>
            </a:xfrm>
          </p:grpSpPr>
          <p:sp>
            <p:nvSpPr>
              <p:cNvPr id="8655" name=""/>
              <p:cNvSpPr/>
              <p:nvPr/>
            </p:nvSpPr>
            <p:spPr>
              <a:xfrm>
                <a:off x="82342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2342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5042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8" name=""/>
            <p:cNvSpPr/>
            <p:nvPr/>
          </p:nvSpPr>
          <p:spPr>
            <a:xfrm>
              <a:off x="8174160" y="2057400"/>
              <a:ext cx="32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9" name=""/>
            <p:cNvGrpSpPr/>
            <p:nvPr/>
          </p:nvGrpSpPr>
          <p:grpSpPr>
            <a:xfrm>
              <a:off x="5033880" y="2133720"/>
              <a:ext cx="270000" cy="228600"/>
              <a:chOff x="5033880" y="2133720"/>
              <a:chExt cx="270000" cy="228600"/>
            </a:xfrm>
          </p:grpSpPr>
          <p:sp>
            <p:nvSpPr>
              <p:cNvPr id="8660" name=""/>
              <p:cNvSpPr/>
              <p:nvPr/>
            </p:nvSpPr>
            <p:spPr>
              <a:xfrm>
                <a:off x="50338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5033880" y="2133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5303880" y="2133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3" name=""/>
            <p:cNvSpPr/>
            <p:nvPr/>
          </p:nvSpPr>
          <p:spPr>
            <a:xfrm>
              <a:off x="4900320" y="205740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49863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5" name=""/>
            <p:cNvGrpSpPr/>
            <p:nvPr/>
          </p:nvGrpSpPr>
          <p:grpSpPr>
            <a:xfrm>
              <a:off x="4994280" y="4191120"/>
              <a:ext cx="270000" cy="228600"/>
              <a:chOff x="4994280" y="4191120"/>
              <a:chExt cx="270000" cy="228600"/>
            </a:xfrm>
          </p:grpSpPr>
          <p:sp>
            <p:nvSpPr>
              <p:cNvPr id="8666" name=""/>
              <p:cNvSpPr/>
              <p:nvPr/>
            </p:nvSpPr>
            <p:spPr>
              <a:xfrm>
                <a:off x="49942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49942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52642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9" name=""/>
            <p:cNvSpPr/>
            <p:nvPr/>
          </p:nvSpPr>
          <p:spPr>
            <a:xfrm>
              <a:off x="59007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0" name=""/>
            <p:cNvGrpSpPr/>
            <p:nvPr/>
          </p:nvGrpSpPr>
          <p:grpSpPr>
            <a:xfrm>
              <a:off x="5908680" y="4191120"/>
              <a:ext cx="270000" cy="228600"/>
              <a:chOff x="5908680" y="4191120"/>
              <a:chExt cx="270000" cy="228600"/>
            </a:xfrm>
          </p:grpSpPr>
          <p:sp>
            <p:nvSpPr>
              <p:cNvPr id="8671" name=""/>
              <p:cNvSpPr/>
              <p:nvPr/>
            </p:nvSpPr>
            <p:spPr>
              <a:xfrm>
                <a:off x="59086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59086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61786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4" name=""/>
            <p:cNvSpPr/>
            <p:nvPr/>
          </p:nvSpPr>
          <p:spPr>
            <a:xfrm>
              <a:off x="54435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5" name=""/>
            <p:cNvGrpSpPr/>
            <p:nvPr/>
          </p:nvGrpSpPr>
          <p:grpSpPr>
            <a:xfrm>
              <a:off x="5451480" y="4191120"/>
              <a:ext cx="270000" cy="228600"/>
              <a:chOff x="5451480" y="4191120"/>
              <a:chExt cx="270000" cy="228600"/>
            </a:xfrm>
          </p:grpSpPr>
          <p:sp>
            <p:nvSpPr>
              <p:cNvPr id="8676" name=""/>
              <p:cNvSpPr/>
              <p:nvPr/>
            </p:nvSpPr>
            <p:spPr>
              <a:xfrm>
                <a:off x="54514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54514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57214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9" name=""/>
            <p:cNvSpPr/>
            <p:nvPr/>
          </p:nvSpPr>
          <p:spPr>
            <a:xfrm>
              <a:off x="63579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0" name=""/>
            <p:cNvGrpSpPr/>
            <p:nvPr/>
          </p:nvGrpSpPr>
          <p:grpSpPr>
            <a:xfrm>
              <a:off x="6365880" y="4191120"/>
              <a:ext cx="270000" cy="228600"/>
              <a:chOff x="6365880" y="4191120"/>
              <a:chExt cx="270000" cy="228600"/>
            </a:xfrm>
          </p:grpSpPr>
          <p:sp>
            <p:nvSpPr>
              <p:cNvPr id="8681" name=""/>
              <p:cNvSpPr/>
              <p:nvPr/>
            </p:nvSpPr>
            <p:spPr>
              <a:xfrm>
                <a:off x="63658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63658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66358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4" name=""/>
            <p:cNvSpPr/>
            <p:nvPr/>
          </p:nvSpPr>
          <p:spPr>
            <a:xfrm>
              <a:off x="68151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5" name=""/>
            <p:cNvGrpSpPr/>
            <p:nvPr/>
          </p:nvGrpSpPr>
          <p:grpSpPr>
            <a:xfrm>
              <a:off x="6823080" y="4191120"/>
              <a:ext cx="270000" cy="228600"/>
              <a:chOff x="6823080" y="4191120"/>
              <a:chExt cx="270000" cy="228600"/>
            </a:xfrm>
          </p:grpSpPr>
          <p:sp>
            <p:nvSpPr>
              <p:cNvPr id="8686" name=""/>
              <p:cNvSpPr/>
              <p:nvPr/>
            </p:nvSpPr>
            <p:spPr>
              <a:xfrm>
                <a:off x="68230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68230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70930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72723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0" name=""/>
            <p:cNvGrpSpPr/>
            <p:nvPr/>
          </p:nvGrpSpPr>
          <p:grpSpPr>
            <a:xfrm>
              <a:off x="7280280" y="4191120"/>
              <a:ext cx="270000" cy="228600"/>
              <a:chOff x="7280280" y="4191120"/>
              <a:chExt cx="270000" cy="228600"/>
            </a:xfrm>
          </p:grpSpPr>
          <p:sp>
            <p:nvSpPr>
              <p:cNvPr id="8691" name=""/>
              <p:cNvSpPr/>
              <p:nvPr/>
            </p:nvSpPr>
            <p:spPr>
              <a:xfrm>
                <a:off x="72802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72802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75502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4" name=""/>
            <p:cNvSpPr/>
            <p:nvPr/>
          </p:nvSpPr>
          <p:spPr>
            <a:xfrm>
              <a:off x="77295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5" name=""/>
            <p:cNvGrpSpPr/>
            <p:nvPr/>
          </p:nvGrpSpPr>
          <p:grpSpPr>
            <a:xfrm>
              <a:off x="7737480" y="4191120"/>
              <a:ext cx="270000" cy="228600"/>
              <a:chOff x="7737480" y="4191120"/>
              <a:chExt cx="270000" cy="228600"/>
            </a:xfrm>
          </p:grpSpPr>
          <p:sp>
            <p:nvSpPr>
              <p:cNvPr id="8696" name=""/>
              <p:cNvSpPr/>
              <p:nvPr/>
            </p:nvSpPr>
            <p:spPr>
              <a:xfrm>
                <a:off x="77374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77374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074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9" name=""/>
            <p:cNvSpPr/>
            <p:nvPr/>
          </p:nvSpPr>
          <p:spPr>
            <a:xfrm>
              <a:off x="8186760" y="411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0" name=""/>
            <p:cNvGrpSpPr/>
            <p:nvPr/>
          </p:nvGrpSpPr>
          <p:grpSpPr>
            <a:xfrm>
              <a:off x="8194680" y="4191120"/>
              <a:ext cx="270000" cy="228600"/>
              <a:chOff x="8194680" y="4191120"/>
              <a:chExt cx="270000" cy="228600"/>
            </a:xfrm>
          </p:grpSpPr>
          <p:sp>
            <p:nvSpPr>
              <p:cNvPr id="8701" name=""/>
              <p:cNvSpPr/>
              <p:nvPr/>
            </p:nvSpPr>
            <p:spPr>
              <a:xfrm>
                <a:off x="81946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194680" y="441972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464680" y="4191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4" name=""/>
            <p:cNvSpPr/>
            <p:nvPr/>
          </p:nvSpPr>
          <p:spPr>
            <a:xfrm>
              <a:off x="5638680" y="17524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9" dur="indefinite" restart="never" nodeType="tmRoot">
          <p:childTnLst>
            <p:seq>
              <p:cTn id="4330" dur="indefinite" nodeType="mainSeq">
                <p:childTnLst>
                  <p:par>
                    <p:cTn id="4331" nodeType="clickEffect" fill="hold">
                      <p:stCondLst>
                        <p:cond delay="indefinite"/>
                      </p:stCondLst>
                      <p:childTnLst>
                        <p:par>
                          <p:cTn id="43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35" dur="500"/>
                                        <p:tgtEl>
                                          <p:spTgt spid="8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6" nodeType="clickEffect" fill="hold">
                      <p:stCondLst>
                        <p:cond delay="indefinite"/>
                      </p:stCondLst>
                      <p:childTnLst>
                        <p:par>
                          <p:cTn id="4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40" dur="500"/>
                                        <p:tgtEl>
                                          <p:spTgt spid="8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nodeType="clickEffect" fill="hold">
                      <p:stCondLst>
                        <p:cond delay="indefinite"/>
                      </p:stCondLst>
                      <p:childTnLst>
                        <p:par>
                          <p:cTn id="43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45" dur="500"/>
                                        <p:tgtEl>
                                          <p:spTgt spid="8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6" nodeType="clickEffect" fill="hold">
                      <p:stCondLst>
                        <p:cond delay="indefinite"/>
                      </p:stCondLst>
                      <p:childTnLst>
                        <p:par>
                          <p:cTn id="4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50" dur="500"/>
                                        <p:tgtEl>
                                          <p:spTgt spid="8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1" nodeType="clickEffect" fill="hold">
                      <p:stCondLst>
                        <p:cond delay="indefinite"/>
                      </p:stCondLst>
                      <p:childTnLst>
                        <p:par>
                          <p:cTn id="4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55" dur="500"/>
                                        <p:tgtEl>
                                          <p:spTgt spid="8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5" name=""/>
          <p:cNvSpPr/>
          <p:nvPr/>
        </p:nvSpPr>
        <p:spPr>
          <a:xfrm>
            <a:off x="1573920" y="45720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片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74LS15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多路选择器选择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路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6" name="" descr=""/>
          <p:cNvPicPr/>
          <p:nvPr/>
        </p:nvPicPr>
        <p:blipFill>
          <a:blip r:embed="rId1"/>
          <a:stretch/>
        </p:blipFill>
        <p:spPr>
          <a:xfrm>
            <a:off x="1044720" y="4572000"/>
            <a:ext cx="4267080" cy="533520"/>
          </a:xfrm>
          <a:prstGeom prst="rect">
            <a:avLst/>
          </a:prstGeom>
          <a:ln w="0">
            <a:noFill/>
          </a:ln>
        </p:spPr>
      </p:pic>
      <p:pic>
        <p:nvPicPr>
          <p:cNvPr id="8707" name="" descr=""/>
          <p:cNvPicPr/>
          <p:nvPr/>
        </p:nvPicPr>
        <p:blipFill>
          <a:blip r:embed="rId2"/>
          <a:stretch/>
        </p:blipFill>
        <p:spPr>
          <a:xfrm>
            <a:off x="1120680" y="5181480"/>
            <a:ext cx="4162680" cy="505080"/>
          </a:xfrm>
          <a:prstGeom prst="rect">
            <a:avLst/>
          </a:prstGeom>
          <a:ln w="0">
            <a:noFill/>
          </a:ln>
        </p:spPr>
      </p:pic>
      <p:sp>
        <p:nvSpPr>
          <p:cNvPr id="8708" name=""/>
          <p:cNvSpPr/>
          <p:nvPr/>
        </p:nvSpPr>
        <p:spPr>
          <a:xfrm>
            <a:off x="1619280" y="5715000"/>
            <a:ext cx="56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01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输出选中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路的数据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>
            <a:off x="1959120" y="1143000"/>
            <a:ext cx="0" cy="1752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1959120" y="1143000"/>
            <a:ext cx="13716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1" name=""/>
          <p:cNvGrpSpPr/>
          <p:nvPr/>
        </p:nvGrpSpPr>
        <p:grpSpPr>
          <a:xfrm>
            <a:off x="2563920" y="1143000"/>
            <a:ext cx="4271760" cy="2948400"/>
            <a:chOff x="2563920" y="1143000"/>
            <a:chExt cx="4271760" cy="2948400"/>
          </a:xfrm>
        </p:grpSpPr>
        <p:sp>
          <p:nvSpPr>
            <p:cNvPr id="8712" name=""/>
            <p:cNvSpPr/>
            <p:nvPr/>
          </p:nvSpPr>
          <p:spPr>
            <a:xfrm>
              <a:off x="2568600" y="1828800"/>
              <a:ext cx="380988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441960" y="2057400"/>
              <a:ext cx="15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74LS1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660480" y="2514600"/>
              <a:ext cx="159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双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选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3939120" y="114300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96320" y="114300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854600" y="1143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5311800" y="1143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5766840" y="114300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535200" y="1143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097080" y="114300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3406680" y="1208160"/>
              <a:ext cx="152640" cy="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2568600" y="1143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4" name=""/>
            <p:cNvGrpSpPr/>
            <p:nvPr/>
          </p:nvGrpSpPr>
          <p:grpSpPr>
            <a:xfrm>
              <a:off x="3218040" y="1600200"/>
              <a:ext cx="269640" cy="228600"/>
              <a:chOff x="3218040" y="1600200"/>
              <a:chExt cx="269640" cy="228600"/>
            </a:xfrm>
          </p:grpSpPr>
          <p:sp>
            <p:nvSpPr>
              <p:cNvPr id="8725" name=""/>
              <p:cNvSpPr/>
              <p:nvPr/>
            </p:nvSpPr>
            <p:spPr>
              <a:xfrm>
                <a:off x="32180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32180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34876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8" name=""/>
            <p:cNvSpPr/>
            <p:nvPr/>
          </p:nvSpPr>
          <p:spPr>
            <a:xfrm>
              <a:off x="30844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3675240" y="1600200"/>
              <a:ext cx="269640" cy="228600"/>
              <a:chOff x="3675240" y="1600200"/>
              <a:chExt cx="269640" cy="228600"/>
            </a:xfrm>
          </p:grpSpPr>
          <p:sp>
            <p:nvSpPr>
              <p:cNvPr id="8730" name=""/>
              <p:cNvSpPr/>
              <p:nvPr/>
            </p:nvSpPr>
            <p:spPr>
              <a:xfrm>
                <a:off x="36752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36752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39448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3" name=""/>
            <p:cNvSpPr/>
            <p:nvPr/>
          </p:nvSpPr>
          <p:spPr>
            <a:xfrm>
              <a:off x="35416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4" name=""/>
            <p:cNvGrpSpPr/>
            <p:nvPr/>
          </p:nvGrpSpPr>
          <p:grpSpPr>
            <a:xfrm>
              <a:off x="4132440" y="1600200"/>
              <a:ext cx="269640" cy="228600"/>
              <a:chOff x="4132440" y="1600200"/>
              <a:chExt cx="269640" cy="228600"/>
            </a:xfrm>
          </p:grpSpPr>
          <p:sp>
            <p:nvSpPr>
              <p:cNvPr id="8735" name=""/>
              <p:cNvSpPr/>
              <p:nvPr/>
            </p:nvSpPr>
            <p:spPr>
              <a:xfrm>
                <a:off x="41324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41324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>
                <a:off x="44020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8" name=""/>
            <p:cNvSpPr/>
            <p:nvPr/>
          </p:nvSpPr>
          <p:spPr>
            <a:xfrm>
              <a:off x="39988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9" name=""/>
            <p:cNvGrpSpPr/>
            <p:nvPr/>
          </p:nvGrpSpPr>
          <p:grpSpPr>
            <a:xfrm>
              <a:off x="4589640" y="1600200"/>
              <a:ext cx="269640" cy="228600"/>
              <a:chOff x="4589640" y="1600200"/>
              <a:chExt cx="269640" cy="228600"/>
            </a:xfrm>
          </p:grpSpPr>
          <p:sp>
            <p:nvSpPr>
              <p:cNvPr id="8740" name=""/>
              <p:cNvSpPr/>
              <p:nvPr/>
            </p:nvSpPr>
            <p:spPr>
              <a:xfrm>
                <a:off x="45896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45896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48592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3" name=""/>
            <p:cNvSpPr/>
            <p:nvPr/>
          </p:nvSpPr>
          <p:spPr>
            <a:xfrm>
              <a:off x="44560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4" name=""/>
            <p:cNvGrpSpPr/>
            <p:nvPr/>
          </p:nvGrpSpPr>
          <p:grpSpPr>
            <a:xfrm>
              <a:off x="5046840" y="1600200"/>
              <a:ext cx="269640" cy="228600"/>
              <a:chOff x="5046840" y="1600200"/>
              <a:chExt cx="269640" cy="228600"/>
            </a:xfrm>
          </p:grpSpPr>
          <p:sp>
            <p:nvSpPr>
              <p:cNvPr id="8745" name=""/>
              <p:cNvSpPr/>
              <p:nvPr/>
            </p:nvSpPr>
            <p:spPr>
              <a:xfrm>
                <a:off x="50468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50468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53164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8" name=""/>
            <p:cNvSpPr/>
            <p:nvPr/>
          </p:nvSpPr>
          <p:spPr>
            <a:xfrm>
              <a:off x="49132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9" name=""/>
            <p:cNvGrpSpPr/>
            <p:nvPr/>
          </p:nvGrpSpPr>
          <p:grpSpPr>
            <a:xfrm>
              <a:off x="5504040" y="1600200"/>
              <a:ext cx="269640" cy="228600"/>
              <a:chOff x="5504040" y="1600200"/>
              <a:chExt cx="269640" cy="228600"/>
            </a:xfrm>
          </p:grpSpPr>
          <p:sp>
            <p:nvSpPr>
              <p:cNvPr id="8750" name=""/>
              <p:cNvSpPr/>
              <p:nvPr/>
            </p:nvSpPr>
            <p:spPr>
              <a:xfrm>
                <a:off x="55040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55040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57736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3" name=""/>
            <p:cNvSpPr/>
            <p:nvPr/>
          </p:nvSpPr>
          <p:spPr>
            <a:xfrm>
              <a:off x="53704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4" name=""/>
            <p:cNvGrpSpPr/>
            <p:nvPr/>
          </p:nvGrpSpPr>
          <p:grpSpPr>
            <a:xfrm>
              <a:off x="5961240" y="1600200"/>
              <a:ext cx="269640" cy="228600"/>
              <a:chOff x="5961240" y="1600200"/>
              <a:chExt cx="269640" cy="228600"/>
            </a:xfrm>
          </p:grpSpPr>
          <p:sp>
            <p:nvSpPr>
              <p:cNvPr id="8755" name=""/>
              <p:cNvSpPr/>
              <p:nvPr/>
            </p:nvSpPr>
            <p:spPr>
              <a:xfrm>
                <a:off x="59612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59612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62308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8" name=""/>
            <p:cNvSpPr/>
            <p:nvPr/>
          </p:nvSpPr>
          <p:spPr>
            <a:xfrm>
              <a:off x="5900760" y="1523880"/>
              <a:ext cx="32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9" name=""/>
            <p:cNvGrpSpPr/>
            <p:nvPr/>
          </p:nvGrpSpPr>
          <p:grpSpPr>
            <a:xfrm>
              <a:off x="2760840" y="1600200"/>
              <a:ext cx="269640" cy="228600"/>
              <a:chOff x="2760840" y="1600200"/>
              <a:chExt cx="269640" cy="228600"/>
            </a:xfrm>
          </p:grpSpPr>
          <p:sp>
            <p:nvSpPr>
              <p:cNvPr id="8760" name=""/>
              <p:cNvSpPr/>
              <p:nvPr/>
            </p:nvSpPr>
            <p:spPr>
              <a:xfrm>
                <a:off x="276084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2760840" y="1600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030480" y="1600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3" name=""/>
            <p:cNvSpPr/>
            <p:nvPr/>
          </p:nvSpPr>
          <p:spPr>
            <a:xfrm>
              <a:off x="2627280" y="1523880"/>
              <a:ext cx="47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2563920" y="3581280"/>
              <a:ext cx="5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2873520" y="36576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3110040" y="358128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3483000" y="3581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015440" y="358128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4473720" y="3581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4929840" y="3581280"/>
              <a:ext cx="66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385960" y="358128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5909400" y="3581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27133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4" name=""/>
            <p:cNvGrpSpPr/>
            <p:nvPr/>
          </p:nvGrpSpPr>
          <p:grpSpPr>
            <a:xfrm>
              <a:off x="2720880" y="3352680"/>
              <a:ext cx="270000" cy="228600"/>
              <a:chOff x="2720880" y="3352680"/>
              <a:chExt cx="270000" cy="228600"/>
            </a:xfrm>
          </p:grpSpPr>
          <p:sp>
            <p:nvSpPr>
              <p:cNvPr id="8775" name=""/>
              <p:cNvSpPr/>
              <p:nvPr/>
            </p:nvSpPr>
            <p:spPr>
              <a:xfrm>
                <a:off x="2720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27208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2990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8" name=""/>
            <p:cNvSpPr/>
            <p:nvPr/>
          </p:nvSpPr>
          <p:spPr>
            <a:xfrm>
              <a:off x="36277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9" name=""/>
            <p:cNvGrpSpPr/>
            <p:nvPr/>
          </p:nvGrpSpPr>
          <p:grpSpPr>
            <a:xfrm>
              <a:off x="3635280" y="3352680"/>
              <a:ext cx="270000" cy="228600"/>
              <a:chOff x="3635280" y="3352680"/>
              <a:chExt cx="270000" cy="228600"/>
            </a:xfrm>
          </p:grpSpPr>
          <p:sp>
            <p:nvSpPr>
              <p:cNvPr id="8780" name=""/>
              <p:cNvSpPr/>
              <p:nvPr/>
            </p:nvSpPr>
            <p:spPr>
              <a:xfrm>
                <a:off x="3635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352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905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3" name=""/>
            <p:cNvSpPr/>
            <p:nvPr/>
          </p:nvSpPr>
          <p:spPr>
            <a:xfrm>
              <a:off x="31705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4" name=""/>
            <p:cNvGrpSpPr/>
            <p:nvPr/>
          </p:nvGrpSpPr>
          <p:grpSpPr>
            <a:xfrm>
              <a:off x="3178080" y="3352680"/>
              <a:ext cx="270000" cy="228600"/>
              <a:chOff x="3178080" y="3352680"/>
              <a:chExt cx="270000" cy="228600"/>
            </a:xfrm>
          </p:grpSpPr>
          <p:sp>
            <p:nvSpPr>
              <p:cNvPr id="8785" name=""/>
              <p:cNvSpPr/>
              <p:nvPr/>
            </p:nvSpPr>
            <p:spPr>
              <a:xfrm>
                <a:off x="3178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1780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448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8" name=""/>
            <p:cNvSpPr/>
            <p:nvPr/>
          </p:nvSpPr>
          <p:spPr>
            <a:xfrm>
              <a:off x="40849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9" name=""/>
            <p:cNvGrpSpPr/>
            <p:nvPr/>
          </p:nvGrpSpPr>
          <p:grpSpPr>
            <a:xfrm>
              <a:off x="4092480" y="3352680"/>
              <a:ext cx="270000" cy="228600"/>
              <a:chOff x="4092480" y="3352680"/>
              <a:chExt cx="270000" cy="228600"/>
            </a:xfrm>
          </p:grpSpPr>
          <p:sp>
            <p:nvSpPr>
              <p:cNvPr id="8790" name=""/>
              <p:cNvSpPr/>
              <p:nvPr/>
            </p:nvSpPr>
            <p:spPr>
              <a:xfrm>
                <a:off x="40924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40924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43624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3" name=""/>
            <p:cNvSpPr/>
            <p:nvPr/>
          </p:nvSpPr>
          <p:spPr>
            <a:xfrm>
              <a:off x="45421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4" name=""/>
            <p:cNvGrpSpPr/>
            <p:nvPr/>
          </p:nvGrpSpPr>
          <p:grpSpPr>
            <a:xfrm>
              <a:off x="4549680" y="3352680"/>
              <a:ext cx="270000" cy="228600"/>
              <a:chOff x="4549680" y="3352680"/>
              <a:chExt cx="270000" cy="228600"/>
            </a:xfrm>
          </p:grpSpPr>
          <p:sp>
            <p:nvSpPr>
              <p:cNvPr id="8795" name=""/>
              <p:cNvSpPr/>
              <p:nvPr/>
            </p:nvSpPr>
            <p:spPr>
              <a:xfrm>
                <a:off x="45496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5496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8196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8" name=""/>
            <p:cNvSpPr/>
            <p:nvPr/>
          </p:nvSpPr>
          <p:spPr>
            <a:xfrm>
              <a:off x="49993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9" name=""/>
            <p:cNvGrpSpPr/>
            <p:nvPr/>
          </p:nvGrpSpPr>
          <p:grpSpPr>
            <a:xfrm>
              <a:off x="5006880" y="3352680"/>
              <a:ext cx="270000" cy="228600"/>
              <a:chOff x="5006880" y="3352680"/>
              <a:chExt cx="270000" cy="228600"/>
            </a:xfrm>
          </p:grpSpPr>
          <p:sp>
            <p:nvSpPr>
              <p:cNvPr id="8800" name=""/>
              <p:cNvSpPr/>
              <p:nvPr/>
            </p:nvSpPr>
            <p:spPr>
              <a:xfrm>
                <a:off x="5006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0068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2768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3" name=""/>
            <p:cNvSpPr/>
            <p:nvPr/>
          </p:nvSpPr>
          <p:spPr>
            <a:xfrm>
              <a:off x="54565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4" name=""/>
            <p:cNvGrpSpPr/>
            <p:nvPr/>
          </p:nvGrpSpPr>
          <p:grpSpPr>
            <a:xfrm>
              <a:off x="5464080" y="3352680"/>
              <a:ext cx="270000" cy="228600"/>
              <a:chOff x="5464080" y="3352680"/>
              <a:chExt cx="270000" cy="228600"/>
            </a:xfrm>
          </p:grpSpPr>
          <p:sp>
            <p:nvSpPr>
              <p:cNvPr id="8805" name=""/>
              <p:cNvSpPr/>
              <p:nvPr/>
            </p:nvSpPr>
            <p:spPr>
              <a:xfrm>
                <a:off x="5464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4640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7340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8" name=""/>
            <p:cNvSpPr/>
            <p:nvPr/>
          </p:nvSpPr>
          <p:spPr>
            <a:xfrm>
              <a:off x="5913720" y="3276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9" name=""/>
            <p:cNvGrpSpPr/>
            <p:nvPr/>
          </p:nvGrpSpPr>
          <p:grpSpPr>
            <a:xfrm>
              <a:off x="5921280" y="3352680"/>
              <a:ext cx="270000" cy="228600"/>
              <a:chOff x="5921280" y="3352680"/>
              <a:chExt cx="270000" cy="228600"/>
            </a:xfrm>
          </p:grpSpPr>
          <p:sp>
            <p:nvSpPr>
              <p:cNvPr id="8810" name=""/>
              <p:cNvSpPr/>
              <p:nvPr/>
            </p:nvSpPr>
            <p:spPr>
              <a:xfrm>
                <a:off x="5921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921280" y="3581280"/>
                <a:ext cx="27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6191280" y="335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3" name=""/>
            <p:cNvSpPr/>
            <p:nvPr/>
          </p:nvSpPr>
          <p:spPr>
            <a:xfrm>
              <a:off x="3330720" y="1143000"/>
              <a:ext cx="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3787920" y="1143000"/>
              <a:ext cx="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3787920" y="1143000"/>
              <a:ext cx="3047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6" name=""/>
          <p:cNvSpPr/>
          <p:nvPr/>
        </p:nvSpPr>
        <p:spPr>
          <a:xfrm>
            <a:off x="6692040" y="49528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6234840" y="49528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>
            <a:off x="5777640" y="49528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2873520" y="3581280"/>
            <a:ext cx="0" cy="838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>
            <a:off x="1959120" y="4419720"/>
            <a:ext cx="4114800" cy="111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3330720" y="3581280"/>
            <a:ext cx="0" cy="609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6835680" y="1143000"/>
            <a:ext cx="0" cy="3809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6413400" y="4952880"/>
            <a:ext cx="76320" cy="763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>
            <a:off x="6794640" y="4952880"/>
            <a:ext cx="75960" cy="763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6021360" y="4952880"/>
            <a:ext cx="76320" cy="763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330720" y="4191120"/>
            <a:ext cx="3124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>
            <a:off x="6454800" y="4191120"/>
            <a:ext cx="0" cy="7617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>
            <a:off x="6073920" y="4419720"/>
            <a:ext cx="0" cy="5331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9" name=""/>
          <p:cNvGrpSpPr/>
          <p:nvPr/>
        </p:nvGrpSpPr>
        <p:grpSpPr>
          <a:xfrm>
            <a:off x="1654200" y="2895480"/>
            <a:ext cx="533520" cy="609480"/>
            <a:chOff x="1654200" y="2895480"/>
            <a:chExt cx="533520" cy="609480"/>
          </a:xfrm>
        </p:grpSpPr>
        <p:sp>
          <p:nvSpPr>
            <p:cNvPr id="8830" name=""/>
            <p:cNvSpPr/>
            <p:nvPr/>
          </p:nvSpPr>
          <p:spPr>
            <a:xfrm>
              <a:off x="1654200" y="3047760"/>
              <a:ext cx="533520" cy="4572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1806480" y="297144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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1882800" y="28954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3" name=""/>
          <p:cNvSpPr/>
          <p:nvPr/>
        </p:nvSpPr>
        <p:spPr>
          <a:xfrm>
            <a:off x="1959120" y="350532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6" dur="indefinite" restart="never" nodeType="tmRoot">
          <p:childTnLst>
            <p:seq>
              <p:cTn id="4357" dur="indefinite" nodeType="mainSeq">
                <p:childTnLst>
                  <p:par>
                    <p:cTn id="4358" nodeType="clickEffect" fill="hold">
                      <p:stCondLst>
                        <p:cond delay="indefinite"/>
                      </p:stCondLst>
                      <p:childTnLst>
                        <p:par>
                          <p:cTn id="43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62" dur="500"/>
                                        <p:tgtEl>
                                          <p:spTgt spid="8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nodeType="clickEffect" fill="hold">
                      <p:stCondLst>
                        <p:cond delay="indefinite"/>
                      </p:stCondLst>
                      <p:childTnLst>
                        <p:par>
                          <p:cTn id="4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67" dur="500"/>
                                        <p:tgtEl>
                                          <p:spTgt spid="8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8" nodeType="clickEffect" fill="hold">
                      <p:stCondLst>
                        <p:cond delay="indefinite"/>
                      </p:stCondLst>
                      <p:childTnLst>
                        <p:par>
                          <p:cTn id="4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72" dur="500"/>
                                        <p:tgtEl>
                                          <p:spTgt spid="8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4" name=""/>
          <p:cNvGrpSpPr/>
          <p:nvPr/>
        </p:nvGrpSpPr>
        <p:grpSpPr>
          <a:xfrm>
            <a:off x="914400" y="914400"/>
            <a:ext cx="7921080" cy="5410080"/>
            <a:chOff x="914400" y="914400"/>
            <a:chExt cx="7921080" cy="5410080"/>
          </a:xfrm>
        </p:grpSpPr>
        <p:sp>
          <p:nvSpPr>
            <p:cNvPr id="8835" name=""/>
            <p:cNvSpPr/>
            <p:nvPr/>
          </p:nvSpPr>
          <p:spPr>
            <a:xfrm>
              <a:off x="5460840" y="4597560"/>
              <a:ext cx="563760" cy="564840"/>
            </a:xfrm>
            <a:prstGeom prst="rect">
              <a:avLst/>
            </a:prstGeom>
            <a:solidFill>
              <a:srgbClr val="ffe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7392960" y="914400"/>
              <a:ext cx="568080" cy="800280"/>
            </a:xfrm>
            <a:prstGeom prst="rect">
              <a:avLst/>
            </a:prstGeom>
            <a:solidFill>
              <a:srgbClr val="ecf8f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5992560" y="1866960"/>
              <a:ext cx="2225880" cy="1095480"/>
            </a:xfrm>
            <a:prstGeom prst="rect">
              <a:avLst/>
            </a:prstGeom>
            <a:solidFill>
              <a:srgbClr val="fcfe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2703240" y="1866960"/>
              <a:ext cx="2222640" cy="1095480"/>
            </a:xfrm>
            <a:prstGeom prst="rect">
              <a:avLst/>
            </a:prstGeom>
            <a:solidFill>
              <a:srgbClr val="fcfe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4007520" y="5897520"/>
              <a:ext cx="207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数据选择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720240" y="2235240"/>
              <a:ext cx="35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5499720" y="4721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2355840" y="1827360"/>
              <a:ext cx="350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2371680" y="208116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2371320" y="2338560"/>
              <a:ext cx="27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5533920" y="229536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5533920" y="201312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533920" y="1731960"/>
              <a:ext cx="291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7001640" y="2235240"/>
              <a:ext cx="35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7534080" y="977760"/>
              <a:ext cx="24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≥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8618400" y="10159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553200" y="295416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3843720" y="2978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4392720" y="2978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4681800" y="2978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6738120" y="3011400"/>
              <a:ext cx="33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7134120" y="3017880"/>
              <a:ext cx="334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7731360" y="3032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8012520" y="3032280"/>
              <a:ext cx="259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7480800" y="30243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6640920" y="5497560"/>
              <a:ext cx="397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7067880" y="5502240"/>
              <a:ext cx="397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7397280" y="551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7743960" y="551016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8042400" y="551016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4078800" y="293040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4605480" y="55213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4313160" y="55213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999960" y="54738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722760" y="5521320"/>
              <a:ext cx="308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 flipH="1">
              <a:off x="3372480" y="5521320"/>
              <a:ext cx="466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6431760" y="301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129840" y="3011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933480" y="323676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914400" y="35845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928440" y="3914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971280" y="46465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839040" y="135396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6642720" y="1374840"/>
              <a:ext cx="320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 flipH="1">
              <a:off x="1883880" y="2143080"/>
              <a:ext cx="819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 flipH="1">
              <a:off x="2165400" y="2416320"/>
              <a:ext cx="537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 flipH="1">
              <a:off x="2447640" y="2690640"/>
              <a:ext cx="25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 flipH="1">
              <a:off x="5735520" y="2690640"/>
              <a:ext cx="25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 flipH="1">
              <a:off x="5173200" y="2143080"/>
              <a:ext cx="819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 flipH="1">
              <a:off x="5457600" y="2416320"/>
              <a:ext cx="5349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7961040" y="1273320"/>
              <a:ext cx="49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8458200" y="1222200"/>
              <a:ext cx="99720" cy="1018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6"/>
                  </a:moveTo>
                  <a:lnTo>
                    <a:pt x="44" y="9"/>
                  </a:lnTo>
                  <a:lnTo>
                    <a:pt x="26" y="0"/>
                  </a:lnTo>
                  <a:lnTo>
                    <a:pt x="7" y="9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6" y="52"/>
                  </a:lnTo>
                  <a:lnTo>
                    <a:pt x="44" y="45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 flipH="1">
              <a:off x="3814560" y="1041480"/>
              <a:ext cx="3578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3814560" y="1041480"/>
              <a:ext cx="1800" cy="82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5173560" y="2143080"/>
              <a:ext cx="1440" cy="139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 flipH="1">
              <a:off x="1369800" y="3540240"/>
              <a:ext cx="3803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5457600" y="2416320"/>
              <a:ext cx="1800" cy="14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 flipH="1">
              <a:off x="1369440" y="3841920"/>
              <a:ext cx="4087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5735520" y="2690640"/>
              <a:ext cx="144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 flipH="1">
              <a:off x="1369440" y="4095720"/>
              <a:ext cx="4365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53988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489120" y="5419800"/>
              <a:ext cx="9864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814560" y="2962440"/>
              <a:ext cx="180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765600" y="5419800"/>
              <a:ext cx="982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8" y="7"/>
                  </a:lnTo>
                  <a:lnTo>
                    <a:pt x="0" y="25"/>
                  </a:lnTo>
                  <a:lnTo>
                    <a:pt x="8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4363920" y="2962440"/>
              <a:ext cx="14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464796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684828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7142040" y="2962440"/>
              <a:ext cx="32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7745400" y="2962440"/>
              <a:ext cx="144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8026200" y="2962440"/>
              <a:ext cx="1800" cy="24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4313160" y="5419800"/>
              <a:ext cx="982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3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3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4601880" y="5419800"/>
              <a:ext cx="9864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5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6797520" y="541980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3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3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7091280" y="5419800"/>
              <a:ext cx="101520" cy="1015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25"/>
                  </a:moveTo>
                  <a:lnTo>
                    <a:pt x="45" y="7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6" y="51"/>
                  </a:lnTo>
                  <a:lnTo>
                    <a:pt x="45" y="44"/>
                  </a:lnTo>
                  <a:lnTo>
                    <a:pt x="52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7694640" y="5419800"/>
              <a:ext cx="10152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6" y="7"/>
                  </a:lnTo>
                  <a:lnTo>
                    <a:pt x="0" y="25"/>
                  </a:lnTo>
                  <a:lnTo>
                    <a:pt x="6" y="44"/>
                  </a:lnTo>
                  <a:lnTo>
                    <a:pt x="25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5357520" y="4830840"/>
              <a:ext cx="103320" cy="10152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26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8" y="7"/>
                  </a:lnTo>
                  <a:lnTo>
                    <a:pt x="0" y="26"/>
                  </a:lnTo>
                  <a:lnTo>
                    <a:pt x="8" y="43"/>
                  </a:lnTo>
                  <a:lnTo>
                    <a:pt x="25" y="52"/>
                  </a:lnTo>
                  <a:lnTo>
                    <a:pt x="44" y="43"/>
                  </a:lnTo>
                  <a:lnTo>
                    <a:pt x="53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7975440" y="541980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9" y="7"/>
                  </a:lnTo>
                  <a:lnTo>
                    <a:pt x="0" y="25"/>
                  </a:lnTo>
                  <a:lnTo>
                    <a:pt x="9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6257880" y="2962440"/>
              <a:ext cx="104760" cy="98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26"/>
                  </a:moveTo>
                  <a:lnTo>
                    <a:pt x="44" y="7"/>
                  </a:lnTo>
                  <a:lnTo>
                    <a:pt x="26" y="0"/>
                  </a:lnTo>
                  <a:lnTo>
                    <a:pt x="9" y="7"/>
                  </a:lnTo>
                  <a:lnTo>
                    <a:pt x="0" y="26"/>
                  </a:lnTo>
                  <a:lnTo>
                    <a:pt x="9" y="44"/>
                  </a:lnTo>
                  <a:lnTo>
                    <a:pt x="26" y="51"/>
                  </a:lnTo>
                  <a:lnTo>
                    <a:pt x="44" y="44"/>
                  </a:lnTo>
                  <a:lnTo>
                    <a:pt x="53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6308640" y="3060720"/>
              <a:ext cx="1440" cy="18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 flipH="1">
              <a:off x="6024240" y="4883040"/>
              <a:ext cx="28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 flipH="1">
              <a:off x="1369440" y="4883040"/>
              <a:ext cx="3987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1269720" y="483084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6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7" y="7"/>
                  </a:lnTo>
                  <a:lnTo>
                    <a:pt x="0" y="26"/>
                  </a:lnTo>
                  <a:lnTo>
                    <a:pt x="7" y="43"/>
                  </a:lnTo>
                  <a:lnTo>
                    <a:pt x="25" y="52"/>
                  </a:lnTo>
                  <a:lnTo>
                    <a:pt x="44" y="43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1269720" y="4044960"/>
              <a:ext cx="100080" cy="1015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6"/>
                  </a:moveTo>
                  <a:lnTo>
                    <a:pt x="44" y="9"/>
                  </a:lnTo>
                  <a:lnTo>
                    <a:pt x="25" y="0"/>
                  </a:lnTo>
                  <a:lnTo>
                    <a:pt x="7" y="9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5" y="51"/>
                  </a:lnTo>
                  <a:lnTo>
                    <a:pt x="44" y="45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1269720" y="3790800"/>
              <a:ext cx="100080" cy="10476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1" y="26"/>
                  </a:moveTo>
                  <a:lnTo>
                    <a:pt x="44" y="9"/>
                  </a:lnTo>
                  <a:lnTo>
                    <a:pt x="25" y="0"/>
                  </a:lnTo>
                  <a:lnTo>
                    <a:pt x="7" y="9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5" y="53"/>
                  </a:lnTo>
                  <a:lnTo>
                    <a:pt x="44" y="45"/>
                  </a:lnTo>
                  <a:lnTo>
                    <a:pt x="51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1269720" y="3490920"/>
              <a:ext cx="100080" cy="982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25"/>
                  </a:moveTo>
                  <a:lnTo>
                    <a:pt x="44" y="7"/>
                  </a:lnTo>
                  <a:lnTo>
                    <a:pt x="25" y="0"/>
                  </a:lnTo>
                  <a:lnTo>
                    <a:pt x="7" y="7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25" y="51"/>
                  </a:lnTo>
                  <a:lnTo>
                    <a:pt x="44" y="44"/>
                  </a:lnTo>
                  <a:lnTo>
                    <a:pt x="51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1884240" y="2143080"/>
              <a:ext cx="1440" cy="139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2165400" y="2416320"/>
              <a:ext cx="1440" cy="14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2447640" y="2690640"/>
              <a:ext cx="180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2973240" y="3060720"/>
              <a:ext cx="1440" cy="18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2919240" y="2962440"/>
              <a:ext cx="104760" cy="98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26"/>
                  </a:moveTo>
                  <a:lnTo>
                    <a:pt x="44" y="7"/>
                  </a:lnTo>
                  <a:lnTo>
                    <a:pt x="27" y="0"/>
                  </a:lnTo>
                  <a:lnTo>
                    <a:pt x="8" y="7"/>
                  </a:lnTo>
                  <a:lnTo>
                    <a:pt x="0" y="26"/>
                  </a:lnTo>
                  <a:lnTo>
                    <a:pt x="8" y="44"/>
                  </a:lnTo>
                  <a:lnTo>
                    <a:pt x="27" y="51"/>
                  </a:lnTo>
                  <a:lnTo>
                    <a:pt x="44" y="44"/>
                  </a:lnTo>
                  <a:lnTo>
                    <a:pt x="53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 flipH="1">
              <a:off x="7148160" y="1609560"/>
              <a:ext cx="24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7148520" y="1609560"/>
              <a:ext cx="2880" cy="2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957240" y="4643280"/>
              <a:ext cx="309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3090600" y="3046320"/>
              <a:ext cx="2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6394320" y="304632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0" name=""/>
          <p:cNvSpPr/>
          <p:nvPr/>
        </p:nvSpPr>
        <p:spPr>
          <a:xfrm>
            <a:off x="228600" y="1522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片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74LS15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据选择器构成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功能的数据选择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1" name="" descr=""/>
          <p:cNvPicPr/>
          <p:nvPr/>
        </p:nvPicPr>
        <p:blipFill>
          <a:blip r:embed="rId1"/>
          <a:stretch/>
        </p:blipFill>
        <p:spPr>
          <a:xfrm>
            <a:off x="291960" y="5232240"/>
            <a:ext cx="3048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3" dur="indefinite" restart="never" nodeType="tmRoot">
          <p:childTnLst>
            <p:seq>
              <p:cTn id="4374" dur="indefinite" nodeType="mainSeq">
                <p:childTnLst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79" dur="500"/>
                                        <p:tgtEl>
                                          <p:spTgt spid="8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nodeType="clickEffect" fill="hold">
                      <p:stCondLst>
                        <p:cond delay="indefinite"/>
                      </p:stCondLst>
                      <p:childTnLst>
                        <p:par>
                          <p:cTn id="43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84" dur="500"/>
                                        <p:tgtEl>
                                          <p:spTgt spid="8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2" name=""/>
          <p:cNvSpPr/>
          <p:nvPr/>
        </p:nvSpPr>
        <p:spPr>
          <a:xfrm>
            <a:off x="2641680" y="45720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74LS151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3" name=""/>
          <p:cNvGrpSpPr/>
          <p:nvPr/>
        </p:nvGrpSpPr>
        <p:grpSpPr>
          <a:xfrm>
            <a:off x="2205000" y="1055520"/>
            <a:ext cx="3738600" cy="5093280"/>
            <a:chOff x="2205000" y="1055520"/>
            <a:chExt cx="3738600" cy="5093280"/>
          </a:xfrm>
        </p:grpSpPr>
        <p:sp>
          <p:nvSpPr>
            <p:cNvPr id="8934" name=""/>
            <p:cNvSpPr/>
            <p:nvPr/>
          </p:nvSpPr>
          <p:spPr>
            <a:xfrm>
              <a:off x="2205000" y="10666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2357280" y="1055520"/>
              <a:ext cx="34336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2357280" y="6095880"/>
              <a:ext cx="358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12408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 flipV="1">
              <a:off x="2357280" y="2057040"/>
              <a:ext cx="343368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495288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568320" y="106668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   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5098320" y="1066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2580120" y="15987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2604960" y="1660680"/>
              <a:ext cx="2872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4419360" y="1523880"/>
              <a:ext cx="71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21696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5191920" y="1600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2562480" y="207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5170680" y="2133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2562480" y="251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2562480" y="29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2562480" y="339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2578320" y="3828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5181480" y="38862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5191200" y="34290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5191200" y="29718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5191200" y="259092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382032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2578320" y="4265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5181480" y="43434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2572200" y="468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5235480" y="474336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2572200" y="5132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5257800" y="51814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2595960" y="551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5257800" y="56386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6" name=""/>
            <p:cNvGrpSpPr/>
            <p:nvPr/>
          </p:nvGrpSpPr>
          <p:grpSpPr>
            <a:xfrm>
              <a:off x="3228840" y="2008080"/>
              <a:ext cx="1716120" cy="4039920"/>
              <a:chOff x="3228840" y="2008080"/>
              <a:chExt cx="1716120" cy="4039920"/>
            </a:xfrm>
          </p:grpSpPr>
          <p:sp>
            <p:nvSpPr>
              <p:cNvPr id="8967" name=""/>
              <p:cNvSpPr/>
              <p:nvPr/>
            </p:nvSpPr>
            <p:spPr>
              <a:xfrm>
                <a:off x="326556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447696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326556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447696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326556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447696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3228840" y="203004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4441320" y="203652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3836520" y="200808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3898800" y="2501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3902760" y="2946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326556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447516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0" name=""/>
              <p:cNvSpPr/>
              <p:nvPr/>
            </p:nvSpPr>
            <p:spPr>
              <a:xfrm>
                <a:off x="3898800" y="3389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>
                <a:off x="3918600" y="3862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326556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447516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3918600" y="4298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3265560" y="467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447516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391860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3265560" y="5125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447516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391860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3284640" y="5513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446976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390708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4" name=""/>
            <p:cNvSpPr/>
            <p:nvPr/>
          </p:nvSpPr>
          <p:spPr>
            <a:xfrm>
              <a:off x="2361960" y="16002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5" dur="indefinite" restart="never" nodeType="tmRoot">
          <p:childTnLst>
            <p:seq>
              <p:cTn id="4386" dur="indefinite" nodeType="mainSeq">
                <p:childTnLst>
                  <p:par>
                    <p:cTn id="4387" nodeType="clickEffect" fill="hold">
                      <p:stCondLst>
                        <p:cond delay="indefinite"/>
                      </p:stCondLst>
                      <p:childTnLst>
                        <p:par>
                          <p:cTn id="43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91" dur="500"/>
                                        <p:tgtEl>
                                          <p:spTgt spid="8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838080" y="838080"/>
            <a:ext cx="807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4LS15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型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选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数据选择器实现逻辑函数式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  <a:ea typeface="楷体_GB2312"/>
              </a:rPr>
              <a:t>Y=AB+BC+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1770480" y="1905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解：将逻辑函数式用最小项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8" name="" descr=""/>
          <p:cNvPicPr/>
          <p:nvPr/>
        </p:nvPicPr>
        <p:blipFill>
          <a:blip r:embed="rId1"/>
          <a:stretch/>
        </p:blipFill>
        <p:spPr>
          <a:xfrm>
            <a:off x="1136520" y="2587680"/>
            <a:ext cx="6183360" cy="1069920"/>
          </a:xfrm>
          <a:prstGeom prst="rect">
            <a:avLst/>
          </a:prstGeom>
          <a:ln w="0">
            <a:noFill/>
          </a:ln>
        </p:spPr>
      </p:pic>
      <p:sp>
        <p:nvSpPr>
          <p:cNvPr id="8999" name=""/>
          <p:cNvSpPr/>
          <p:nvPr/>
        </p:nvSpPr>
        <p:spPr>
          <a:xfrm>
            <a:off x="609480" y="3581280"/>
            <a:ext cx="777240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输入变量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别对应地接到数据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择器的选择端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1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、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"/>
                <a:ea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由状态表可知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将数据输入端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  <a:ea typeface="Arial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3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5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、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6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、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  <a:ea typeface="Arial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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接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  <a:ea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  <a:ea typeface="Arial"/>
              </a:rPr>
              <a:t>1”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其余输入端接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  <a:ea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  <a:ea typeface="Arial"/>
              </a:rPr>
              <a:t>0”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  <a:ea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即可实现输出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  <a:ea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，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0" name=""/>
          <p:cNvGrpSpPr/>
          <p:nvPr/>
        </p:nvGrpSpPr>
        <p:grpSpPr>
          <a:xfrm>
            <a:off x="762120" y="5867280"/>
            <a:ext cx="7324200" cy="171720"/>
            <a:chOff x="762120" y="5867280"/>
            <a:chExt cx="7324200" cy="171720"/>
          </a:xfrm>
        </p:grpSpPr>
        <p:grpSp>
          <p:nvGrpSpPr>
            <p:cNvPr id="9001" name=""/>
            <p:cNvGrpSpPr/>
            <p:nvPr/>
          </p:nvGrpSpPr>
          <p:grpSpPr>
            <a:xfrm>
              <a:off x="762120" y="5867280"/>
              <a:ext cx="3666600" cy="171720"/>
              <a:chOff x="762120" y="5867280"/>
              <a:chExt cx="3666600" cy="171720"/>
            </a:xfrm>
          </p:grpSpPr>
          <p:pic>
            <p:nvPicPr>
              <p:cNvPr id="90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097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717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69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89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812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241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861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813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3433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956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385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240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0384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005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9528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18" name=""/>
              <p:cNvGrpSpPr/>
              <p:nvPr/>
            </p:nvGrpSpPr>
            <p:grpSpPr>
              <a:xfrm>
                <a:off x="762120" y="5867280"/>
                <a:ext cx="923760" cy="162000"/>
                <a:chOff x="762120" y="5867280"/>
                <a:chExt cx="923760" cy="162000"/>
              </a:xfrm>
            </p:grpSpPr>
            <p:pic>
              <p:nvPicPr>
                <p:cNvPr id="901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9050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0670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2193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3622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5242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621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2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14800" y="586728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67080" y="5867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27" name=""/>
            <p:cNvGrpSpPr/>
            <p:nvPr/>
          </p:nvGrpSpPr>
          <p:grpSpPr>
            <a:xfrm>
              <a:off x="4419720" y="5867280"/>
              <a:ext cx="3666600" cy="171720"/>
              <a:chOff x="4419720" y="5867280"/>
              <a:chExt cx="3666600" cy="171720"/>
            </a:xfrm>
          </p:grpSpPr>
          <p:pic>
            <p:nvPicPr>
              <p:cNvPr id="902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3244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673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6293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9245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0865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2388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3817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5437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8389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0009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71532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29612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0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7816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1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6960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2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458120" y="587700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3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610400" y="58770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44" name=""/>
              <p:cNvGrpSpPr/>
              <p:nvPr/>
            </p:nvGrpSpPr>
            <p:grpSpPr>
              <a:xfrm>
                <a:off x="4419720" y="5867280"/>
                <a:ext cx="923760" cy="162000"/>
                <a:chOff x="4419720" y="5867280"/>
                <a:chExt cx="923760" cy="162000"/>
              </a:xfrm>
            </p:grpSpPr>
            <p:pic>
              <p:nvPicPr>
                <p:cNvPr id="9045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45626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6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7246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7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8769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8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501984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9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181840" y="5867280"/>
                  <a:ext cx="16164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0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19720" y="5867280"/>
                  <a:ext cx="162000" cy="16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5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772400" y="5867280"/>
                <a:ext cx="1612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924680" y="586728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2" dur="indefinite" restart="never" nodeType="tmRoot">
          <p:childTnLst>
            <p:seq>
              <p:cTn id="4393" dur="indefinite" nodeType="mainSeq">
                <p:childTnLst>
                  <p:par>
                    <p:cTn id="4394" nodeType="clickEffect" fill="hold">
                      <p:stCondLst>
                        <p:cond delay="indefinite"/>
                      </p:stCondLst>
                      <p:childTnLst>
                        <p:par>
                          <p:cTn id="43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398" dur="500"/>
                                        <p:tgtEl>
                                          <p:spTgt spid="8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nodeType="clickEffect" fill="hold">
                      <p:stCondLst>
                        <p:cond delay="indefinite"/>
                      </p:stCondLst>
                      <p:childTnLst>
                        <p:par>
                          <p:cTn id="4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03" dur="500"/>
                                        <p:tgtEl>
                                          <p:spTgt spid="8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nodeType="clickEffect" fill="hold">
                      <p:stCondLst>
                        <p:cond delay="indefinite"/>
                      </p:stCondLst>
                      <p:childTnLst>
                        <p:par>
                          <p:cTn id="4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08" dur="500"/>
                                        <p:tgtEl>
                                          <p:spTgt spid="8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3" name=""/>
          <p:cNvSpPr/>
          <p:nvPr/>
        </p:nvSpPr>
        <p:spPr>
          <a:xfrm>
            <a:off x="4343400" y="507960"/>
            <a:ext cx="45720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输入变量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别对应地接到数据选择器的选择端 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1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、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由状态表可知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  <a:ea typeface="Arial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将数据输入端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  <a:ea typeface="Arial"/>
              </a:rPr>
              <a:t>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3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5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、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6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、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  <a:ea typeface="Arial"/>
              </a:rPr>
              <a:t>7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  <a:ea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  <a:ea typeface="Arial"/>
              </a:rPr>
              <a:t>接“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  <a:ea typeface="Arial"/>
              </a:rPr>
              <a:t>1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其余输入端接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  <a:ea typeface="Arial"/>
              </a:rPr>
              <a:t>0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即可实现输出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  <a:ea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  <a:ea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Arial"/>
              </a:rPr>
              <a:t>如图所示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r>
              <a:rPr b="1" lang="zh-CN" sz="2800" spc="-1" strike="noStrike">
                <a:solidFill>
                  <a:srgbClr val="ffffcc"/>
                </a:solidFill>
                <a:latin typeface="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>
            <a:off x="969840" y="45720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74LS15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5" name=""/>
          <p:cNvGrpSpPr/>
          <p:nvPr/>
        </p:nvGrpSpPr>
        <p:grpSpPr>
          <a:xfrm>
            <a:off x="533520" y="1055520"/>
            <a:ext cx="3738600" cy="5093280"/>
            <a:chOff x="533520" y="1055520"/>
            <a:chExt cx="3738600" cy="5093280"/>
          </a:xfrm>
        </p:grpSpPr>
        <p:sp>
          <p:nvSpPr>
            <p:cNvPr id="9056" name=""/>
            <p:cNvSpPr/>
            <p:nvPr/>
          </p:nvSpPr>
          <p:spPr>
            <a:xfrm>
              <a:off x="533520" y="10666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685800" y="1055520"/>
              <a:ext cx="34336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685800" y="6095880"/>
              <a:ext cx="358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145260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 flipV="1">
              <a:off x="685800" y="2057040"/>
              <a:ext cx="343368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3281400" y="1066680"/>
              <a:ext cx="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1896840" y="106668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选   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3426840" y="1066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908640" y="15987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933480" y="1660680"/>
              <a:ext cx="2872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2747880" y="1523880"/>
              <a:ext cx="71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154548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3520440" y="1600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891000" y="207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3499200" y="2133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891000" y="251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891000" y="29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891000" y="339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906840" y="3828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3510000" y="38862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3519720" y="34290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3519720" y="297180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3519720" y="259092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2148840" y="1523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906840" y="4265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3510000" y="434340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900720" y="468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3564000" y="4743360"/>
              <a:ext cx="57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900720" y="5132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3586320" y="51814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924480" y="551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3586320" y="5638680"/>
              <a:ext cx="57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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8" name=""/>
            <p:cNvGrpSpPr/>
            <p:nvPr/>
          </p:nvGrpSpPr>
          <p:grpSpPr>
            <a:xfrm>
              <a:off x="1557360" y="2008080"/>
              <a:ext cx="1716120" cy="4039920"/>
              <a:chOff x="1557360" y="2008080"/>
              <a:chExt cx="1716120" cy="4039920"/>
            </a:xfrm>
          </p:grpSpPr>
          <p:sp>
            <p:nvSpPr>
              <p:cNvPr id="9089" name=""/>
              <p:cNvSpPr/>
              <p:nvPr/>
            </p:nvSpPr>
            <p:spPr>
              <a:xfrm>
                <a:off x="159408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2805480" y="252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159408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2805480" y="2963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159408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2805480" y="3836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1557360" y="203004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2769840" y="203652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2165040" y="200808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2227320" y="2501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2231280" y="2946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159408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2803680" y="3411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2227320" y="3389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2247120" y="3862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159408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2803680" y="427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2247120" y="4298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1594080" y="467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280368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2247120" y="4689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1594080" y="5125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280368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2247120" y="5140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1613160" y="5513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279828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2235600" y="5527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6" name=""/>
            <p:cNvSpPr/>
            <p:nvPr/>
          </p:nvSpPr>
          <p:spPr>
            <a:xfrm>
              <a:off x="690480" y="16002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7" name=""/>
          <p:cNvGrpSpPr/>
          <p:nvPr/>
        </p:nvGrpSpPr>
        <p:grpSpPr>
          <a:xfrm>
            <a:off x="4122000" y="3505320"/>
            <a:ext cx="4352040" cy="2730240"/>
            <a:chOff x="4122000" y="3505320"/>
            <a:chExt cx="4352040" cy="2730240"/>
          </a:xfrm>
        </p:grpSpPr>
        <p:sp>
          <p:nvSpPr>
            <p:cNvPr id="9118" name=""/>
            <p:cNvSpPr/>
            <p:nvPr/>
          </p:nvSpPr>
          <p:spPr>
            <a:xfrm>
              <a:off x="4938840" y="4190760"/>
              <a:ext cx="3535200" cy="1180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5563440" y="434160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4LS15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4122000" y="4089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4123440" y="44956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4125240" y="4952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5181840" y="5371920"/>
              <a:ext cx="122040" cy="134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5121360" y="5776920"/>
              <a:ext cx="2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5608800" y="5371920"/>
              <a:ext cx="0" cy="60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5975640" y="537192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7072560" y="537192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743760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780444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816948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6705720" y="5371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6340680" y="537192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5608800" y="5641920"/>
              <a:ext cx="146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6705720" y="5911560"/>
              <a:ext cx="164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8352000" y="5776920"/>
              <a:ext cx="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662940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5034960" y="495288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5105520" y="4991040"/>
              <a:ext cx="182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5248440" y="489888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561852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599940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638028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676152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713772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7518600" y="487656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7910640" y="4922640"/>
              <a:ext cx="48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5647680" y="571500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5243760" y="54864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4587840" y="5103720"/>
              <a:ext cx="35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4502160" y="506880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1" name=""/>
            <p:cNvGrpSpPr/>
            <p:nvPr/>
          </p:nvGrpSpPr>
          <p:grpSpPr>
            <a:xfrm>
              <a:off x="4496040" y="4724280"/>
              <a:ext cx="442800" cy="93240"/>
              <a:chOff x="4496040" y="4724280"/>
              <a:chExt cx="442800" cy="93240"/>
            </a:xfrm>
          </p:grpSpPr>
          <p:sp>
            <p:nvSpPr>
              <p:cNvPr id="9152" name=""/>
              <p:cNvSpPr/>
              <p:nvPr/>
            </p:nvSpPr>
            <p:spPr>
              <a:xfrm>
                <a:off x="4587840" y="4774320"/>
                <a:ext cx="35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4496040" y="4724280"/>
                <a:ext cx="93600" cy="93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4" name=""/>
            <p:cNvGrpSpPr/>
            <p:nvPr/>
          </p:nvGrpSpPr>
          <p:grpSpPr>
            <a:xfrm>
              <a:off x="4496040" y="4343400"/>
              <a:ext cx="442800" cy="93240"/>
              <a:chOff x="4496040" y="4343400"/>
              <a:chExt cx="442800" cy="93240"/>
            </a:xfrm>
          </p:grpSpPr>
          <p:sp>
            <p:nvSpPr>
              <p:cNvPr id="9155" name=""/>
              <p:cNvSpPr/>
              <p:nvPr/>
            </p:nvSpPr>
            <p:spPr>
              <a:xfrm>
                <a:off x="4587840" y="4407840"/>
                <a:ext cx="35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4496040" y="4343400"/>
                <a:ext cx="93600" cy="93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7" name=""/>
            <p:cNvSpPr/>
            <p:nvPr/>
          </p:nvSpPr>
          <p:spPr>
            <a:xfrm>
              <a:off x="5562720" y="594360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6669360" y="384948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 flipV="1">
              <a:off x="6705720" y="39621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9" dur="indefinite" restart="never" nodeType="tmRoot">
          <p:childTnLst>
            <p:seq>
              <p:cTn id="4410" dur="indefinite" nodeType="mainSeq">
                <p:childTnLst>
                  <p:par>
                    <p:cTn id="4411" nodeType="clickEffect" fill="hold">
                      <p:stCondLst>
                        <p:cond delay="indefinite"/>
                      </p:stCondLst>
                      <p:childTnLst>
                        <p:par>
                          <p:cTn id="44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15" dur="500"/>
                                        <p:tgtEl>
                                          <p:spTgt spid="9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nodeType="clickEffect" fill="hold">
                      <p:stCondLst>
                        <p:cond delay="indefinite"/>
                      </p:stCondLst>
                      <p:childTnLst>
                        <p:par>
                          <p:cTn id="44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20" dur="500"/>
                                        <p:tgtEl>
                                          <p:spTgt spid="9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0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10. 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据分配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>
            <a:off x="228600" y="2286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838080" y="1219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将一个数据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分时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分送到多个输出端输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1066680" y="2895480"/>
            <a:ext cx="660600" cy="9471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数据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4" name=""/>
          <p:cNvGrpSpPr/>
          <p:nvPr/>
        </p:nvGrpSpPr>
        <p:grpSpPr>
          <a:xfrm>
            <a:off x="2743200" y="1828800"/>
            <a:ext cx="3242880" cy="649080"/>
            <a:chOff x="2743200" y="1828800"/>
            <a:chExt cx="3242880" cy="649080"/>
          </a:xfrm>
        </p:grpSpPr>
        <p:sp>
          <p:nvSpPr>
            <p:cNvPr id="9165" name=""/>
            <p:cNvSpPr/>
            <p:nvPr/>
          </p:nvSpPr>
          <p:spPr>
            <a:xfrm>
              <a:off x="2743200" y="1828800"/>
              <a:ext cx="1219320" cy="533520"/>
            </a:xfrm>
            <a:prstGeom prst="ellipse">
              <a:avLst/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3962520" y="2133720"/>
              <a:ext cx="609480" cy="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4951800" y="1957320"/>
              <a:ext cx="1034280" cy="5205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控制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8" name=""/>
          <p:cNvSpPr/>
          <p:nvPr/>
        </p:nvSpPr>
        <p:spPr>
          <a:xfrm>
            <a:off x="1447920" y="5181480"/>
            <a:ext cx="1447560" cy="533520"/>
          </a:xfrm>
          <a:prstGeom prst="wedgeRoundRectCallout">
            <a:avLst>
              <a:gd name="adj1" fmla="val 77958"/>
              <a:gd name="adj2" fmla="val 30652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使能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 flipH="1">
            <a:off x="2666880" y="2886120"/>
            <a:ext cx="1447920" cy="180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 flipH="1">
            <a:off x="3733920" y="3303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 flipH="1">
            <a:off x="3733920" y="36496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 flipH="1">
            <a:off x="3733920" y="39974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 flipH="1">
            <a:off x="3733920" y="43448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>
            <a:off x="3581280" y="240048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>
            <a:off x="3048120" y="240048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 flipH="1">
            <a:off x="5028480" y="3233880"/>
            <a:ext cx="152280" cy="137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5028480" y="3581280"/>
            <a:ext cx="15228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 flipH="1">
            <a:off x="5028480" y="3929040"/>
            <a:ext cx="15228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 flipH="1">
            <a:off x="5028480" y="4275000"/>
            <a:ext cx="15228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 flipH="1">
            <a:off x="3581280" y="3233880"/>
            <a:ext cx="152640" cy="137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H="1">
            <a:off x="2971080" y="3719520"/>
            <a:ext cx="15228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H="1">
            <a:off x="2057400" y="37893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 flipH="1">
            <a:off x="3581280" y="4275000"/>
            <a:ext cx="15264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 flipH="1">
            <a:off x="3581280" y="3929040"/>
            <a:ext cx="15264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 flipH="1">
            <a:off x="3581280" y="3581280"/>
            <a:ext cx="152640" cy="138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 flipH="1">
            <a:off x="3504600" y="2260440"/>
            <a:ext cx="152280" cy="140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2971080" y="2260440"/>
            <a:ext cx="152280" cy="140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352680" y="469260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 flipH="1">
            <a:off x="3276000" y="5178600"/>
            <a:ext cx="15228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 flipV="1">
            <a:off x="3124080" y="3371760"/>
            <a:ext cx="457200" cy="34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 flipH="1">
            <a:off x="1675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 flipH="1">
            <a:off x="5181480" y="4067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 flipH="1">
            <a:off x="5181480" y="37195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 flipH="1">
            <a:off x="5166000" y="3371760"/>
            <a:ext cx="497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 flipH="1">
            <a:off x="5166000" y="3024360"/>
            <a:ext cx="497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 flipH="1">
            <a:off x="3206880" y="5318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7" name=""/>
          <p:cNvGrpSpPr/>
          <p:nvPr/>
        </p:nvGrpSpPr>
        <p:grpSpPr>
          <a:xfrm>
            <a:off x="2819160" y="1828800"/>
            <a:ext cx="1065600" cy="579600"/>
            <a:chOff x="2819160" y="1828800"/>
            <a:chExt cx="1065600" cy="579600"/>
          </a:xfrm>
        </p:grpSpPr>
        <p:sp>
          <p:nvSpPr>
            <p:cNvPr id="9198" name=""/>
            <p:cNvSpPr/>
            <p:nvPr/>
          </p:nvSpPr>
          <p:spPr>
            <a:xfrm flipH="1">
              <a:off x="2818800" y="18288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9" name=""/>
            <p:cNvSpPr/>
            <p:nvPr/>
          </p:nvSpPr>
          <p:spPr>
            <a:xfrm flipH="1">
              <a:off x="3364200" y="18288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0" name=""/>
          <p:cNvSpPr/>
          <p:nvPr/>
        </p:nvSpPr>
        <p:spPr>
          <a:xfrm>
            <a:off x="6166800" y="3557520"/>
            <a:ext cx="12474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数据输出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4331520" y="5271120"/>
            <a:ext cx="18874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确定芯片是否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2" name=""/>
          <p:cNvGrpSpPr/>
          <p:nvPr/>
        </p:nvGrpSpPr>
        <p:grpSpPr>
          <a:xfrm>
            <a:off x="990720" y="990720"/>
            <a:ext cx="3666600" cy="171000"/>
            <a:chOff x="990720" y="990720"/>
            <a:chExt cx="3666600" cy="171000"/>
          </a:xfrm>
        </p:grpSpPr>
        <p:pic>
          <p:nvPicPr>
            <p:cNvPr id="9203" name="" descr=""/>
            <p:cNvPicPr/>
            <p:nvPr/>
          </p:nvPicPr>
          <p:blipFill>
            <a:blip r:embed="rId1"/>
            <a:stretch/>
          </p:blipFill>
          <p:spPr>
            <a:xfrm>
              <a:off x="18954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4" name="" descr=""/>
            <p:cNvPicPr/>
            <p:nvPr/>
          </p:nvPicPr>
          <p:blipFill>
            <a:blip r:embed="rId2"/>
            <a:stretch/>
          </p:blipFill>
          <p:spPr>
            <a:xfrm>
              <a:off x="20383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5" name="" descr=""/>
            <p:cNvPicPr/>
            <p:nvPr/>
          </p:nvPicPr>
          <p:blipFill>
            <a:blip r:embed="rId3"/>
            <a:stretch/>
          </p:blipFill>
          <p:spPr>
            <a:xfrm>
              <a:off x="22003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6" name="" descr=""/>
            <p:cNvPicPr/>
            <p:nvPr/>
          </p:nvPicPr>
          <p:blipFill>
            <a:blip r:embed="rId4"/>
            <a:stretch/>
          </p:blipFill>
          <p:spPr>
            <a:xfrm>
              <a:off x="24955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7" name="" descr=""/>
            <p:cNvPicPr/>
            <p:nvPr/>
          </p:nvPicPr>
          <p:blipFill>
            <a:blip r:embed="rId5"/>
            <a:stretch/>
          </p:blipFill>
          <p:spPr>
            <a:xfrm>
              <a:off x="26575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8" name="" descr=""/>
            <p:cNvPicPr/>
            <p:nvPr/>
          </p:nvPicPr>
          <p:blipFill>
            <a:blip r:embed="rId6"/>
            <a:stretch/>
          </p:blipFill>
          <p:spPr>
            <a:xfrm>
              <a:off x="28098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9" name="" descr=""/>
            <p:cNvPicPr/>
            <p:nvPr/>
          </p:nvPicPr>
          <p:blipFill>
            <a:blip r:embed="rId7"/>
            <a:stretch/>
          </p:blipFill>
          <p:spPr>
            <a:xfrm>
              <a:off x="29527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0" name="" descr=""/>
            <p:cNvPicPr/>
            <p:nvPr/>
          </p:nvPicPr>
          <p:blipFill>
            <a:blip r:embed="rId8"/>
            <a:stretch/>
          </p:blipFill>
          <p:spPr>
            <a:xfrm>
              <a:off x="31147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1" name="" descr=""/>
            <p:cNvPicPr/>
            <p:nvPr/>
          </p:nvPicPr>
          <p:blipFill>
            <a:blip r:embed="rId9"/>
            <a:stretch/>
          </p:blipFill>
          <p:spPr>
            <a:xfrm>
              <a:off x="34099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2" name="" descr=""/>
            <p:cNvPicPr/>
            <p:nvPr/>
          </p:nvPicPr>
          <p:blipFill>
            <a:blip r:embed="rId10"/>
            <a:stretch/>
          </p:blipFill>
          <p:spPr>
            <a:xfrm>
              <a:off x="35719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3" name="" descr=""/>
            <p:cNvPicPr/>
            <p:nvPr/>
          </p:nvPicPr>
          <p:blipFill>
            <a:blip r:embed="rId11"/>
            <a:stretch/>
          </p:blipFill>
          <p:spPr>
            <a:xfrm>
              <a:off x="37242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4" name="" descr=""/>
            <p:cNvPicPr/>
            <p:nvPr/>
          </p:nvPicPr>
          <p:blipFill>
            <a:blip r:embed="rId12"/>
            <a:stretch/>
          </p:blipFill>
          <p:spPr>
            <a:xfrm>
              <a:off x="386712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5" name="" descr=""/>
            <p:cNvPicPr/>
            <p:nvPr/>
          </p:nvPicPr>
          <p:blipFill>
            <a:blip r:embed="rId13"/>
            <a:stretch/>
          </p:blipFill>
          <p:spPr>
            <a:xfrm>
              <a:off x="23526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6" name="" descr=""/>
            <p:cNvPicPr/>
            <p:nvPr/>
          </p:nvPicPr>
          <p:blipFill>
            <a:blip r:embed="rId14"/>
            <a:stretch/>
          </p:blipFill>
          <p:spPr>
            <a:xfrm>
              <a:off x="32670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7" name="" descr=""/>
            <p:cNvPicPr/>
            <p:nvPr/>
          </p:nvPicPr>
          <p:blipFill>
            <a:blip r:embed="rId15"/>
            <a:stretch/>
          </p:blipFill>
          <p:spPr>
            <a:xfrm>
              <a:off x="4029120" y="10000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8" name="" descr=""/>
            <p:cNvPicPr/>
            <p:nvPr/>
          </p:nvPicPr>
          <p:blipFill>
            <a:blip r:embed="rId16"/>
            <a:stretch/>
          </p:blipFill>
          <p:spPr>
            <a:xfrm>
              <a:off x="4181400" y="10000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19" name=""/>
            <p:cNvGrpSpPr/>
            <p:nvPr/>
          </p:nvGrpSpPr>
          <p:grpSpPr>
            <a:xfrm>
              <a:off x="990720" y="990720"/>
              <a:ext cx="923760" cy="161640"/>
              <a:chOff x="990720" y="990720"/>
              <a:chExt cx="923760" cy="161640"/>
            </a:xfrm>
          </p:grpSpPr>
          <p:pic>
            <p:nvPicPr>
              <p:cNvPr id="922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364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956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792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9084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5284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99072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26" name="" descr=""/>
            <p:cNvPicPr/>
            <p:nvPr/>
          </p:nvPicPr>
          <p:blipFill>
            <a:blip r:embed="rId23"/>
            <a:stretch/>
          </p:blipFill>
          <p:spPr>
            <a:xfrm>
              <a:off x="4343400" y="99072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7" name="" descr=""/>
            <p:cNvPicPr/>
            <p:nvPr/>
          </p:nvPicPr>
          <p:blipFill>
            <a:blip r:embed="rId24"/>
            <a:stretch/>
          </p:blipFill>
          <p:spPr>
            <a:xfrm>
              <a:off x="449568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8" name=""/>
          <p:cNvGrpSpPr/>
          <p:nvPr/>
        </p:nvGrpSpPr>
        <p:grpSpPr>
          <a:xfrm>
            <a:off x="6553080" y="1752480"/>
            <a:ext cx="1905120" cy="1447920"/>
            <a:chOff x="6553080" y="1752480"/>
            <a:chExt cx="1905120" cy="1447920"/>
          </a:xfrm>
        </p:grpSpPr>
        <p:sp>
          <p:nvSpPr>
            <p:cNvPr id="9229" name=""/>
            <p:cNvSpPr/>
            <p:nvPr/>
          </p:nvSpPr>
          <p:spPr>
            <a:xfrm>
              <a:off x="6553080" y="1752480"/>
              <a:ext cx="1752840" cy="1447920"/>
            </a:xfrm>
            <a:prstGeom prst="wedgeRoundRectCallout">
              <a:avLst>
                <a:gd name="adj1" fmla="val -66939"/>
                <a:gd name="adj2" fmla="val -5152"/>
                <a:gd name="adj3" fmla="val 16667"/>
              </a:avLst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6553080" y="1965600"/>
              <a:ext cx="190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确定将信号送到哪个输出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1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1" dur="indefinite" restart="never" nodeType="tmRoot">
          <p:childTnLst>
            <p:seq>
              <p:cTn id="4422" dur="indefinite" nodeType="mainSeq">
                <p:childTnLst>
                  <p:par>
                    <p:cTn id="4423" nodeType="clickEffect" fill="hold">
                      <p:stCondLst>
                        <p:cond delay="indefinite"/>
                      </p:stCondLst>
                      <p:childTnLst>
                        <p:par>
                          <p:cTn id="4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4427" dur="500"/>
                                        <p:tgtEl>
                                          <p:spTgt spid="9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nodeType="clickEffect" fill="hold">
                      <p:stCondLst>
                        <p:cond delay="indefinite"/>
                      </p:stCondLst>
                      <p:childTnLst>
                        <p:par>
                          <p:cTn id="44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432" dur="500"/>
                                        <p:tgtEl>
                                          <p:spTgt spid="9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nodeType="clickEffect" fill="hold">
                      <p:stCondLst>
                        <p:cond delay="indefinite"/>
                      </p:stCondLst>
                      <p:childTnLst>
                        <p:par>
                          <p:cTn id="44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37" dur="500"/>
                                        <p:tgtEl>
                                          <p:spTgt spid="9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8" nodeType="clickEffect" fill="hold">
                      <p:stCondLst>
                        <p:cond delay="indefinite"/>
                      </p:stCondLst>
                      <p:childTnLst>
                        <p:par>
                          <p:cTn id="44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4442" dur="500"/>
                                        <p:tgtEl>
                                          <p:spTgt spid="9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nodeType="clickEffect" fill="hold">
                      <p:stCondLst>
                        <p:cond delay="indefinite"/>
                      </p:stCondLst>
                      <p:childTnLst>
                        <p:par>
                          <p:cTn id="4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4447" dur="500"/>
                                        <p:tgtEl>
                                          <p:spTgt spid="9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8" nodeType="clickEffect" fill="hold">
                      <p:stCondLst>
                        <p:cond delay="indefinite"/>
                      </p:stCondLst>
                      <p:childTnLst>
                        <p:par>
                          <p:cTn id="4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0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4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4452" dur="500"/>
                                        <p:tgtEl>
                                          <p:spTgt spid="9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2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数据分配器的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4572000" y="236232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3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2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1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4" name=""/>
          <p:cNvGrpSpPr/>
          <p:nvPr/>
        </p:nvGrpSpPr>
        <p:grpSpPr>
          <a:xfrm>
            <a:off x="1752480" y="1828800"/>
            <a:ext cx="5181840" cy="3581280"/>
            <a:chOff x="1752480" y="1828800"/>
            <a:chExt cx="5181840" cy="3581280"/>
          </a:xfrm>
        </p:grpSpPr>
        <p:sp>
          <p:nvSpPr>
            <p:cNvPr id="9235" name=""/>
            <p:cNvSpPr/>
            <p:nvPr/>
          </p:nvSpPr>
          <p:spPr>
            <a:xfrm>
              <a:off x="1828800" y="182880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1828800" y="236196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1828800" y="541008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2743200" y="18288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1828800" y="289548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4419720" y="18288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1752480" y="18288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使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3187440" y="182880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控   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5236560" y="1828800"/>
              <a:ext cx="12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       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2064600" y="23619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2057400" y="243828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3657600" y="236196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2982240" y="2361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20466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63752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204660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303732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379944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204660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303732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379944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303732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379944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204660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303732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379944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204660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64832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63752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63752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463752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3025800" y="2889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3693960" y="28699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517104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51814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5191200" y="42670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517104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517104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578052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579132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578052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5801040" y="38098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578052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631404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63244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6314040" y="426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631404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6334200" y="33526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与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86400" y="1905120"/>
            <a:ext cx="3353040" cy="522000"/>
            <a:chOff x="986400" y="1905120"/>
            <a:chExt cx="3353040" cy="522000"/>
          </a:xfrm>
        </p:grpSpPr>
        <p:sp>
          <p:nvSpPr>
            <p:cNvPr id="586" name=""/>
            <p:cNvSpPr/>
            <p:nvPr/>
          </p:nvSpPr>
          <p:spPr>
            <a:xfrm>
              <a:off x="986400" y="1906560"/>
              <a:ext cx="196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3)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逻辑关系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16520" y="190512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与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066680" y="2629080"/>
            <a:ext cx="3733920" cy="126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即：有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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38080" y="1273320"/>
            <a:ext cx="4062960" cy="581400"/>
            <a:chOff x="838080" y="1273320"/>
            <a:chExt cx="4062960" cy="581400"/>
          </a:xfrm>
        </p:grpSpPr>
        <p:sp>
          <p:nvSpPr>
            <p:cNvPr id="590" name=""/>
            <p:cNvSpPr/>
            <p:nvPr/>
          </p:nvSpPr>
          <p:spPr>
            <a:xfrm>
              <a:off x="3079080" y="1273320"/>
              <a:ext cx="182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A  B 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12970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表达式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62520" y="1523880"/>
              <a:ext cx="7596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19720" y="1523880"/>
              <a:ext cx="7596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14400" y="4145040"/>
            <a:ext cx="3581280" cy="1828800"/>
            <a:chOff x="914400" y="4145040"/>
            <a:chExt cx="3581280" cy="1828800"/>
          </a:xfrm>
        </p:grpSpPr>
        <p:sp>
          <p:nvSpPr>
            <p:cNvPr id="595" name=""/>
            <p:cNvSpPr/>
            <p:nvPr/>
          </p:nvSpPr>
          <p:spPr>
            <a:xfrm>
              <a:off x="914400" y="4145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1295280" y="4648320"/>
              <a:ext cx="3200400" cy="1325520"/>
              <a:chOff x="1295280" y="4648320"/>
              <a:chExt cx="3200400" cy="1325520"/>
            </a:xfrm>
          </p:grpSpPr>
          <p:sp>
            <p:nvSpPr>
              <p:cNvPr id="597" name=""/>
              <p:cNvSpPr/>
              <p:nvPr/>
            </p:nvSpPr>
            <p:spPr>
              <a:xfrm>
                <a:off x="2438280" y="4830840"/>
                <a:ext cx="838440" cy="1143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76520" y="53341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676520" y="56689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76720" y="54403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90920" y="4800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29528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95280" y="5029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962520" y="5211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76520" y="502920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95280" y="5410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952880" y="1523880"/>
            <a:ext cx="3047760" cy="4254480"/>
            <a:chOff x="4952880" y="1523880"/>
            <a:chExt cx="3047760" cy="4254480"/>
          </a:xfrm>
        </p:grpSpPr>
        <p:grpSp>
          <p:nvGrpSpPr>
            <p:cNvPr id="608" name=""/>
            <p:cNvGrpSpPr/>
            <p:nvPr/>
          </p:nvGrpSpPr>
          <p:grpSpPr>
            <a:xfrm>
              <a:off x="5257440" y="2590560"/>
              <a:ext cx="2743200" cy="520560"/>
              <a:chOff x="5257440" y="2590560"/>
              <a:chExt cx="2743200" cy="5205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5257440" y="2590560"/>
                <a:ext cx="2057400" cy="520560"/>
                <a:chOff x="5257440" y="2590560"/>
                <a:chExt cx="2057400" cy="5205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257440" y="2590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019560" y="2590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857640" y="2590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7543440" y="25905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257440" y="2971800"/>
              <a:ext cx="2743200" cy="520560"/>
              <a:chOff x="5257440" y="2971800"/>
              <a:chExt cx="2743200" cy="520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5257440" y="2971800"/>
                <a:ext cx="2057400" cy="520560"/>
                <a:chOff x="5257440" y="2971800"/>
                <a:chExt cx="2057400" cy="520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5257440" y="2971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019560" y="2971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857640" y="2971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7543440" y="2971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257440" y="3352680"/>
              <a:ext cx="2743200" cy="2044440"/>
              <a:chOff x="5257440" y="3352680"/>
              <a:chExt cx="2743200" cy="204444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257440" y="4495680"/>
                <a:ext cx="2743200" cy="520560"/>
                <a:chOff x="5257440" y="4495680"/>
                <a:chExt cx="2743200" cy="52056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5257440" y="4495680"/>
                  <a:ext cx="2057400" cy="520560"/>
                  <a:chOff x="5257440" y="4495680"/>
                  <a:chExt cx="2057400" cy="5205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5257440" y="4495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6019560" y="4495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857640" y="4495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6" name=""/>
                <p:cNvSpPr/>
                <p:nvPr/>
              </p:nvSpPr>
              <p:spPr>
                <a:xfrm>
                  <a:off x="7543440" y="44956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5257440" y="4876560"/>
                <a:ext cx="2743200" cy="520560"/>
                <a:chOff x="5257440" y="4876560"/>
                <a:chExt cx="2743200" cy="52056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5257440" y="4876560"/>
                  <a:ext cx="2057400" cy="520560"/>
                  <a:chOff x="5257440" y="4876560"/>
                  <a:chExt cx="2057400" cy="5205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5257440" y="4876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6019560" y="4876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6857640" y="4876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7543440" y="4876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257440" y="4114800"/>
                <a:ext cx="2743200" cy="520560"/>
                <a:chOff x="5257440" y="4114800"/>
                <a:chExt cx="2743200" cy="52056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5257440" y="4114800"/>
                  <a:ext cx="2057400" cy="520560"/>
                  <a:chOff x="5257440" y="4114800"/>
                  <a:chExt cx="2057400" cy="52056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5257440" y="41148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019560" y="41148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857640" y="41148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8" name=""/>
                <p:cNvSpPr/>
                <p:nvPr/>
              </p:nvSpPr>
              <p:spPr>
                <a:xfrm>
                  <a:off x="7543440" y="4114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5257440" y="3733560"/>
                <a:ext cx="2743200" cy="520560"/>
                <a:chOff x="5257440" y="3733560"/>
                <a:chExt cx="2743200" cy="52056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5257440" y="3733560"/>
                  <a:ext cx="2057400" cy="520560"/>
                  <a:chOff x="5257440" y="3733560"/>
                  <a:chExt cx="2057400" cy="52056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5257440" y="3733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019560" y="3733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857640" y="37335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7543440" y="3733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257440" y="3352680"/>
                <a:ext cx="2743200" cy="520560"/>
                <a:chOff x="5257440" y="3352680"/>
                <a:chExt cx="2743200" cy="52056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5257440" y="3352680"/>
                  <a:ext cx="2057400" cy="520560"/>
                  <a:chOff x="5257440" y="3352680"/>
                  <a:chExt cx="2057400" cy="5205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5257440" y="3352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019560" y="3352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857640" y="33526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7543440" y="33526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1" name=""/>
            <p:cNvGrpSpPr/>
            <p:nvPr/>
          </p:nvGrpSpPr>
          <p:grpSpPr>
            <a:xfrm>
              <a:off x="5257440" y="5257800"/>
              <a:ext cx="2743200" cy="520560"/>
              <a:chOff x="5257440" y="5257800"/>
              <a:chExt cx="2743200" cy="52056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5257440" y="5257800"/>
                <a:ext cx="2057400" cy="520560"/>
                <a:chOff x="5257440" y="5257800"/>
                <a:chExt cx="2057400" cy="5205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5257440" y="5257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019560" y="5257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57640" y="52578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7543440" y="5257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52880" y="1523880"/>
              <a:ext cx="3047760" cy="4191120"/>
              <a:chOff x="4952880" y="1523880"/>
              <a:chExt cx="3047760" cy="4191120"/>
            </a:xfrm>
          </p:grpSpPr>
          <p:sp>
            <p:nvSpPr>
              <p:cNvPr id="658" name=""/>
              <p:cNvSpPr/>
              <p:nvPr/>
            </p:nvSpPr>
            <p:spPr>
              <a:xfrm>
                <a:off x="525744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1956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54344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040" y="20574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90960" y="20574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181480" y="259056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52880" y="5715000"/>
                <a:ext cx="297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467480" y="205740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85764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181480" y="205740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08720" y="1523880"/>
                <a:ext cx="216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与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51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1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3" name=""/>
          <p:cNvSpPr/>
          <p:nvPr/>
        </p:nvSpPr>
        <p:spPr>
          <a:xfrm>
            <a:off x="1512360" y="1327320"/>
            <a:ext cx="4034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. 11. 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交通信号灯故障检测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4" name=""/>
          <p:cNvGrpSpPr/>
          <p:nvPr/>
        </p:nvGrpSpPr>
        <p:grpSpPr>
          <a:xfrm>
            <a:off x="685800" y="1920960"/>
            <a:ext cx="7744680" cy="1508040"/>
            <a:chOff x="685800" y="1920960"/>
            <a:chExt cx="7744680" cy="1508040"/>
          </a:xfrm>
        </p:grpSpPr>
        <p:sp>
          <p:nvSpPr>
            <p:cNvPr id="9285" name=""/>
            <p:cNvSpPr/>
            <p:nvPr/>
          </p:nvSpPr>
          <p:spPr>
            <a:xfrm>
              <a:off x="1846440" y="1920960"/>
              <a:ext cx="54777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交通信号灯在正常情况下，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红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亮—停车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685800" y="2354400"/>
              <a:ext cx="77446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黄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亮 — 准备，</a:t>
              </a: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</a:rPr>
                <a:t>绿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亮 — 通行。正常时，只有一个灯亮。如果灯全不亮或全亮或两个灯同时亮，都是故障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7" name=""/>
          <p:cNvSpPr/>
          <p:nvPr/>
        </p:nvSpPr>
        <p:spPr>
          <a:xfrm>
            <a:off x="2306520" y="4527720"/>
            <a:ext cx="45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灯亮 —“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灯灭 —“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2306520" y="5060880"/>
            <a:ext cx="45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故障 —“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正常 —“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表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9" name=""/>
          <p:cNvGrpSpPr/>
          <p:nvPr/>
        </p:nvGrpSpPr>
        <p:grpSpPr>
          <a:xfrm>
            <a:off x="685800" y="3984480"/>
            <a:ext cx="4576680" cy="530280"/>
            <a:chOff x="685800" y="3984480"/>
            <a:chExt cx="4576680" cy="530280"/>
          </a:xfrm>
        </p:grpSpPr>
        <p:sp>
          <p:nvSpPr>
            <p:cNvPr id="9290" name=""/>
            <p:cNvSpPr/>
            <p:nvPr/>
          </p:nvSpPr>
          <p:spPr>
            <a:xfrm>
              <a:off x="685800" y="3984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2307960" y="399420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入信号三个，输出信号一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2" name="PlaceHolder 1"/>
          <p:cNvSpPr>
            <a:spLocks noGrp="1"/>
          </p:cNvSpPr>
          <p:nvPr>
            <p:ph type="title"/>
          </p:nvPr>
        </p:nvSpPr>
        <p:spPr>
          <a:xfrm>
            <a:off x="2484360" y="44748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0. 11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应用举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3" dur="indefinite" restart="never" nodeType="tmRoot">
          <p:childTnLst>
            <p:seq>
              <p:cTn id="4454" dur="indefinite" nodeType="mainSeq">
                <p:childTnLst>
                  <p:par>
                    <p:cTn id="4455" nodeType="clickEffect" fill="hold">
                      <p:stCondLst>
                        <p:cond delay="indefinite"/>
                      </p:stCondLst>
                      <p:childTnLst>
                        <p:par>
                          <p:cTn id="44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59" dur="500"/>
                                        <p:tgtEl>
                                          <p:spTgt spid="9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0" nodeType="clickEffect" fill="hold">
                      <p:stCondLst>
                        <p:cond delay="indefinite"/>
                      </p:stCondLst>
                      <p:childTnLst>
                        <p:par>
                          <p:cTn id="44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64" dur="500"/>
                                        <p:tgtEl>
                                          <p:spTgt spid="9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nodeType="clickEffect" fill="hold">
                      <p:stCondLst>
                        <p:cond delay="indefinite"/>
                      </p:stCondLst>
                      <p:childTnLst>
                        <p:par>
                          <p:cTn id="44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69" dur="500"/>
                                        <p:tgtEl>
                                          <p:spTgt spid="9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nodeType="clickEffect" fill="hold">
                      <p:stCondLst>
                        <p:cond delay="indefinite"/>
                      </p:stCondLst>
                      <p:childTnLst>
                        <p:par>
                          <p:cTn id="4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74" dur="500"/>
                                        <p:tgtEl>
                                          <p:spTgt spid="9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5" nodeType="clickEffect" fill="hold">
                      <p:stCondLst>
                        <p:cond delay="indefinite"/>
                      </p:stCondLst>
                      <p:childTnLst>
                        <p:par>
                          <p:cTn id="44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79" dur="500"/>
                                        <p:tgtEl>
                                          <p:spTgt spid="9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3" name=""/>
          <p:cNvSpPr/>
          <p:nvPr/>
        </p:nvSpPr>
        <p:spPr>
          <a:xfrm>
            <a:off x="975960" y="83808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4" name=""/>
          <p:cNvSpPr/>
          <p:nvPr/>
        </p:nvSpPr>
        <p:spPr>
          <a:xfrm>
            <a:off x="609480" y="1295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5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2670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9296" name=""/>
          <p:cNvGrpSpPr/>
          <p:nvPr/>
        </p:nvGrpSpPr>
        <p:grpSpPr>
          <a:xfrm>
            <a:off x="945000" y="2971800"/>
            <a:ext cx="4182480" cy="1143000"/>
            <a:chOff x="945000" y="2971800"/>
            <a:chExt cx="4182480" cy="1143000"/>
          </a:xfrm>
        </p:grpSpPr>
        <p:sp>
          <p:nvSpPr>
            <p:cNvPr id="9297" name=""/>
            <p:cNvSpPr/>
            <p:nvPr/>
          </p:nvSpPr>
          <p:spPr>
            <a:xfrm>
              <a:off x="945000" y="2971800"/>
              <a:ext cx="18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3)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化简可得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98" name="" descr="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413676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9" name=""/>
          <p:cNvGrpSpPr/>
          <p:nvPr/>
        </p:nvGrpSpPr>
        <p:grpSpPr>
          <a:xfrm>
            <a:off x="987480" y="4038480"/>
            <a:ext cx="4484520" cy="1905120"/>
            <a:chOff x="987480" y="4038480"/>
            <a:chExt cx="4484520" cy="1905120"/>
          </a:xfrm>
        </p:grpSpPr>
        <p:sp>
          <p:nvSpPr>
            <p:cNvPr id="9300" name=""/>
            <p:cNvSpPr/>
            <p:nvPr/>
          </p:nvSpPr>
          <p:spPr>
            <a:xfrm>
              <a:off x="1421640" y="4038480"/>
              <a:ext cx="341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为减少所用门数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将上式变换为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01" name="" descr=""/>
            <p:cNvPicPr/>
            <p:nvPr/>
          </p:nvPicPr>
          <p:blipFill>
            <a:blip r:embed="rId3"/>
            <a:stretch/>
          </p:blipFill>
          <p:spPr>
            <a:xfrm>
              <a:off x="987480" y="4572000"/>
              <a:ext cx="44845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02" name="" descr=""/>
          <p:cNvPicPr/>
          <p:nvPr/>
        </p:nvPicPr>
        <p:blipFill>
          <a:blip r:embed="rId4"/>
          <a:stretch/>
        </p:blipFill>
        <p:spPr>
          <a:xfrm>
            <a:off x="7086600" y="4724280"/>
            <a:ext cx="1147680" cy="1295640"/>
          </a:xfrm>
          <a:prstGeom prst="rect">
            <a:avLst/>
          </a:prstGeom>
          <a:ln w="0">
            <a:noFill/>
          </a:ln>
        </p:spPr>
      </p:pic>
      <p:grpSp>
        <p:nvGrpSpPr>
          <p:cNvPr id="9303" name=""/>
          <p:cNvGrpSpPr/>
          <p:nvPr/>
        </p:nvGrpSpPr>
        <p:grpSpPr>
          <a:xfrm>
            <a:off x="5010840" y="1066680"/>
            <a:ext cx="3218760" cy="3445560"/>
            <a:chOff x="5010840" y="1066680"/>
            <a:chExt cx="3218760" cy="3445560"/>
          </a:xfrm>
        </p:grpSpPr>
        <p:grpSp>
          <p:nvGrpSpPr>
            <p:cNvPr id="9304" name=""/>
            <p:cNvGrpSpPr/>
            <p:nvPr/>
          </p:nvGrpSpPr>
          <p:grpSpPr>
            <a:xfrm>
              <a:off x="5010840" y="1066680"/>
              <a:ext cx="3218760" cy="3445560"/>
              <a:chOff x="5010840" y="1066680"/>
              <a:chExt cx="3218760" cy="3445560"/>
            </a:xfrm>
          </p:grpSpPr>
          <p:sp>
            <p:nvSpPr>
              <p:cNvPr id="9305" name=""/>
              <p:cNvSpPr/>
              <p:nvPr/>
            </p:nvSpPr>
            <p:spPr>
              <a:xfrm>
                <a:off x="5010840" y="15321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0    0       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6" name=""/>
              <p:cNvGrpSpPr/>
              <p:nvPr/>
            </p:nvGrpSpPr>
            <p:grpSpPr>
              <a:xfrm>
                <a:off x="5423760" y="1066680"/>
                <a:ext cx="2805840" cy="3445560"/>
                <a:chOff x="5423760" y="1066680"/>
                <a:chExt cx="2805840" cy="3445560"/>
              </a:xfrm>
            </p:grpSpPr>
            <p:sp>
              <p:nvSpPr>
                <p:cNvPr id="9307" name=""/>
                <p:cNvSpPr/>
                <p:nvPr/>
              </p:nvSpPr>
              <p:spPr>
                <a:xfrm>
                  <a:off x="5639040" y="10666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8" name=""/>
                <p:cNvSpPr/>
                <p:nvPr/>
              </p:nvSpPr>
              <p:spPr>
                <a:xfrm>
                  <a:off x="5639040" y="148824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9" name=""/>
                <p:cNvSpPr/>
                <p:nvPr/>
              </p:nvSpPr>
              <p:spPr>
                <a:xfrm>
                  <a:off x="7467840" y="1066680"/>
                  <a:ext cx="0" cy="330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0" name=""/>
                <p:cNvSpPr/>
                <p:nvPr/>
              </p:nvSpPr>
              <p:spPr>
                <a:xfrm>
                  <a:off x="5423760" y="1066680"/>
                  <a:ext cx="270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R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G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1" name=""/>
                <p:cNvSpPr/>
                <p:nvPr/>
              </p:nvSpPr>
              <p:spPr>
                <a:xfrm>
                  <a:off x="5556600" y="18835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0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2" name=""/>
                <p:cNvSpPr/>
                <p:nvPr/>
              </p:nvSpPr>
              <p:spPr>
                <a:xfrm>
                  <a:off x="5556600" y="22348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3" name=""/>
                <p:cNvSpPr/>
                <p:nvPr/>
              </p:nvSpPr>
              <p:spPr>
                <a:xfrm>
                  <a:off x="5556600" y="25862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4" name=""/>
                <p:cNvSpPr/>
                <p:nvPr/>
              </p:nvSpPr>
              <p:spPr>
                <a:xfrm>
                  <a:off x="5556600" y="293760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5" name=""/>
                <p:cNvSpPr/>
                <p:nvPr/>
              </p:nvSpPr>
              <p:spPr>
                <a:xfrm>
                  <a:off x="5556600" y="32907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6" name=""/>
                <p:cNvSpPr/>
                <p:nvPr/>
              </p:nvSpPr>
              <p:spPr>
                <a:xfrm>
                  <a:off x="5556600" y="36417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7" name=""/>
                <p:cNvSpPr/>
                <p:nvPr/>
              </p:nvSpPr>
              <p:spPr>
                <a:xfrm>
                  <a:off x="5556600" y="39916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18" name=""/>
            <p:cNvSpPr/>
            <p:nvPr/>
          </p:nvSpPr>
          <p:spPr>
            <a:xfrm>
              <a:off x="5715000" y="44197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0" dur="indefinite" restart="never" nodeType="tmRoot">
          <p:childTnLst>
            <p:seq>
              <p:cTn id="4481" dur="indefinite" nodeType="mainSeq">
                <p:childTnLst>
                  <p:par>
                    <p:cTn id="4482" nodeType="clickEffect" fill="hold">
                      <p:stCondLst>
                        <p:cond delay="indefinite"/>
                      </p:stCondLst>
                      <p:childTnLst>
                        <p:par>
                          <p:cTn id="4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86" dur="500"/>
                                        <p:tgtEl>
                                          <p:spTgt spid="9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nodeType="clickEffect" fill="hold">
                      <p:stCondLst>
                        <p:cond delay="indefinite"/>
                      </p:stCondLst>
                      <p:childTnLst>
                        <p:par>
                          <p:cTn id="4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91" dur="500"/>
                                        <p:tgtEl>
                                          <p:spTgt spid="9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nodeType="clickEffect" fill="hold">
                      <p:stCondLst>
                        <p:cond delay="indefinite"/>
                      </p:stCondLst>
                      <p:childTnLst>
                        <p:par>
                          <p:cTn id="44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96" dur="500"/>
                                        <p:tgtEl>
                                          <p:spTgt spid="9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nodeType="clickEffect" fill="hold">
                      <p:stCondLst>
                        <p:cond delay="indefinite"/>
                      </p:stCondLst>
                      <p:childTnLst>
                        <p:par>
                          <p:cTn id="4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01" dur="500"/>
                                        <p:tgtEl>
                                          <p:spTgt spid="9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2" nodeType="clickEffect" fill="hold">
                      <p:stCondLst>
                        <p:cond delay="indefinite"/>
                      </p:stCondLst>
                      <p:childTnLst>
                        <p:par>
                          <p:cTn id="45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06" dur="500"/>
                                        <p:tgtEl>
                                          <p:spTgt spid="9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nodeType="clickEffect" fill="hold">
                      <p:stCondLst>
                        <p:cond delay="indefinite"/>
                      </p:stCondLst>
                      <p:childTnLst>
                        <p:par>
                          <p:cTn id="4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11" dur="500"/>
                                        <p:tgtEl>
                                          <p:spTgt spid="9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9" name=""/>
          <p:cNvSpPr/>
          <p:nvPr/>
        </p:nvSpPr>
        <p:spPr>
          <a:xfrm>
            <a:off x="838440" y="700200"/>
            <a:ext cx="17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画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0" name=""/>
          <p:cNvGrpSpPr/>
          <p:nvPr/>
        </p:nvGrpSpPr>
        <p:grpSpPr>
          <a:xfrm>
            <a:off x="1066680" y="1143000"/>
            <a:ext cx="6782040" cy="3047760"/>
            <a:chOff x="1066680" y="1143000"/>
            <a:chExt cx="6782040" cy="3047760"/>
          </a:xfrm>
        </p:grpSpPr>
        <p:sp>
          <p:nvSpPr>
            <p:cNvPr id="9321" name=""/>
            <p:cNvSpPr/>
            <p:nvPr/>
          </p:nvSpPr>
          <p:spPr>
            <a:xfrm>
              <a:off x="6019920" y="2133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1066680" y="3657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1066680" y="2057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1066680" y="1143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7162920" y="3657600"/>
              <a:ext cx="1522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6" name=""/>
            <p:cNvGrpSpPr/>
            <p:nvPr/>
          </p:nvGrpSpPr>
          <p:grpSpPr>
            <a:xfrm>
              <a:off x="1600200" y="1295280"/>
              <a:ext cx="4571280" cy="2895480"/>
              <a:chOff x="1600200" y="1295280"/>
              <a:chExt cx="4571280" cy="2895480"/>
            </a:xfrm>
          </p:grpSpPr>
          <p:sp>
            <p:nvSpPr>
              <p:cNvPr id="9327" name=""/>
              <p:cNvSpPr/>
              <p:nvPr/>
            </p:nvSpPr>
            <p:spPr>
              <a:xfrm>
                <a:off x="1873080" y="2819520"/>
                <a:ext cx="4093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3033000" y="3276720"/>
                <a:ext cx="4777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9" name=""/>
              <p:cNvGrpSpPr/>
              <p:nvPr/>
            </p:nvGrpSpPr>
            <p:grpSpPr>
              <a:xfrm>
                <a:off x="3510720" y="1295280"/>
                <a:ext cx="545760" cy="838080"/>
                <a:chOff x="3510720" y="1295280"/>
                <a:chExt cx="545760" cy="838080"/>
              </a:xfrm>
            </p:grpSpPr>
            <p:sp>
              <p:nvSpPr>
                <p:cNvPr id="9330" name=""/>
                <p:cNvSpPr/>
                <p:nvPr/>
              </p:nvSpPr>
              <p:spPr>
                <a:xfrm>
                  <a:off x="3510720" y="1295280"/>
                  <a:ext cx="545760" cy="838080"/>
                </a:xfrm>
                <a:prstGeom prst="rect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1" name=""/>
                <p:cNvSpPr/>
                <p:nvPr/>
              </p:nvSpPr>
              <p:spPr>
                <a:xfrm>
                  <a:off x="3578400" y="1295280"/>
                  <a:ext cx="40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32" name=""/>
              <p:cNvSpPr/>
              <p:nvPr/>
            </p:nvSpPr>
            <p:spPr>
              <a:xfrm>
                <a:off x="1600200" y="1447920"/>
                <a:ext cx="19105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1600200" y="2362320"/>
                <a:ext cx="6822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3237840" y="1905120"/>
                <a:ext cx="2728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3237840" y="1905120"/>
                <a:ext cx="0" cy="9903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2828160" y="3809880"/>
                <a:ext cx="17737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2828160" y="2590920"/>
                <a:ext cx="4093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 flipV="1">
                <a:off x="2077920" y="2362320"/>
                <a:ext cx="0" cy="12189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2077920" y="3581280"/>
                <a:ext cx="2044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0" name=""/>
              <p:cNvGrpSpPr/>
              <p:nvPr/>
            </p:nvGrpSpPr>
            <p:grpSpPr>
              <a:xfrm>
                <a:off x="3510720" y="2590920"/>
                <a:ext cx="681480" cy="838080"/>
                <a:chOff x="3510720" y="2590920"/>
                <a:chExt cx="681480" cy="838080"/>
              </a:xfrm>
            </p:grpSpPr>
            <p:sp>
              <p:nvSpPr>
                <p:cNvPr id="9341" name=""/>
                <p:cNvSpPr/>
                <p:nvPr/>
              </p:nvSpPr>
              <p:spPr>
                <a:xfrm>
                  <a:off x="3510720" y="2590920"/>
                  <a:ext cx="545400" cy="838080"/>
                </a:xfrm>
                <a:prstGeom prst="rect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2" name=""/>
                <p:cNvSpPr/>
                <p:nvPr/>
              </p:nvSpPr>
              <p:spPr>
                <a:xfrm>
                  <a:off x="3578760" y="2590920"/>
                  <a:ext cx="61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3" name=""/>
                <p:cNvSpPr/>
                <p:nvPr/>
              </p:nvSpPr>
              <p:spPr>
                <a:xfrm>
                  <a:off x="4056120" y="2895480"/>
                  <a:ext cx="136080" cy="151920"/>
                </a:xfrm>
                <a:prstGeom prst="ellips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4" name=""/>
                <p:cNvSpPr/>
                <p:nvPr/>
              </p:nvSpPr>
              <p:spPr>
                <a:xfrm flipH="1">
                  <a:off x="3714840" y="2895480"/>
                  <a:ext cx="13644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5" name=""/>
              <p:cNvGrpSpPr/>
              <p:nvPr/>
            </p:nvGrpSpPr>
            <p:grpSpPr>
              <a:xfrm>
                <a:off x="2282400" y="2133720"/>
                <a:ext cx="681480" cy="838080"/>
                <a:chOff x="2282400" y="2133720"/>
                <a:chExt cx="681480" cy="838080"/>
              </a:xfrm>
            </p:grpSpPr>
            <p:sp>
              <p:nvSpPr>
                <p:cNvPr id="9346" name=""/>
                <p:cNvSpPr/>
                <p:nvPr/>
              </p:nvSpPr>
              <p:spPr>
                <a:xfrm>
                  <a:off x="2282400" y="2133720"/>
                  <a:ext cx="545400" cy="838080"/>
                </a:xfrm>
                <a:prstGeom prst="rect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7" name=""/>
                <p:cNvSpPr/>
                <p:nvPr/>
              </p:nvSpPr>
              <p:spPr>
                <a:xfrm>
                  <a:off x="2350080" y="2133720"/>
                  <a:ext cx="61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 flipH="1">
                  <a:off x="2486880" y="2438280"/>
                  <a:ext cx="136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9" name=""/>
              <p:cNvGrpSpPr/>
              <p:nvPr/>
            </p:nvGrpSpPr>
            <p:grpSpPr>
              <a:xfrm>
                <a:off x="2282400" y="3352680"/>
                <a:ext cx="545760" cy="838080"/>
                <a:chOff x="2282400" y="3352680"/>
                <a:chExt cx="545760" cy="838080"/>
              </a:xfrm>
            </p:grpSpPr>
            <p:sp>
              <p:nvSpPr>
                <p:cNvPr id="9350" name=""/>
                <p:cNvSpPr/>
                <p:nvPr/>
              </p:nvSpPr>
              <p:spPr>
                <a:xfrm>
                  <a:off x="2282400" y="3352680"/>
                  <a:ext cx="545760" cy="838080"/>
                </a:xfrm>
                <a:prstGeom prst="rect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1" name=""/>
                <p:cNvSpPr/>
                <p:nvPr/>
              </p:nvSpPr>
              <p:spPr>
                <a:xfrm>
                  <a:off x="2350080" y="3352680"/>
                  <a:ext cx="40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52" name=""/>
              <p:cNvSpPr/>
              <p:nvPr/>
            </p:nvSpPr>
            <p:spPr>
              <a:xfrm>
                <a:off x="1600200" y="3962520"/>
                <a:ext cx="6822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 flipV="1">
                <a:off x="1873080" y="2819160"/>
                <a:ext cx="0" cy="11430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3237840" y="2895480"/>
                <a:ext cx="2728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3033000" y="1447920"/>
                <a:ext cx="0" cy="182880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6" name=""/>
              <p:cNvGrpSpPr/>
              <p:nvPr/>
            </p:nvGrpSpPr>
            <p:grpSpPr>
              <a:xfrm>
                <a:off x="4602240" y="3124080"/>
                <a:ext cx="681840" cy="838080"/>
                <a:chOff x="4602240" y="3124080"/>
                <a:chExt cx="681840" cy="838080"/>
              </a:xfrm>
            </p:grpSpPr>
            <p:sp>
              <p:nvSpPr>
                <p:cNvPr id="9357" name=""/>
                <p:cNvSpPr/>
                <p:nvPr/>
              </p:nvSpPr>
              <p:spPr>
                <a:xfrm>
                  <a:off x="4602240" y="3124080"/>
                  <a:ext cx="545760" cy="838080"/>
                </a:xfrm>
                <a:prstGeom prst="rect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8" name=""/>
                <p:cNvSpPr/>
                <p:nvPr/>
              </p:nvSpPr>
              <p:spPr>
                <a:xfrm>
                  <a:off x="4669920" y="3124080"/>
                  <a:ext cx="61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9" name=""/>
                <p:cNvSpPr/>
                <p:nvPr/>
              </p:nvSpPr>
              <p:spPr>
                <a:xfrm flipH="1">
                  <a:off x="4806720" y="3428640"/>
                  <a:ext cx="136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0" name=""/>
              <p:cNvSpPr/>
              <p:nvPr/>
            </p:nvSpPr>
            <p:spPr>
              <a:xfrm>
                <a:off x="4192920" y="2971800"/>
                <a:ext cx="2044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 flipV="1">
                <a:off x="4397760" y="2971440"/>
                <a:ext cx="0" cy="30492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4397760" y="3276720"/>
                <a:ext cx="2044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3" name=""/>
              <p:cNvGrpSpPr/>
              <p:nvPr/>
            </p:nvGrpSpPr>
            <p:grpSpPr>
              <a:xfrm>
                <a:off x="5489640" y="2286000"/>
                <a:ext cx="681840" cy="838080"/>
                <a:chOff x="5489640" y="2286000"/>
                <a:chExt cx="681840" cy="838080"/>
              </a:xfrm>
            </p:grpSpPr>
            <p:sp>
              <p:nvSpPr>
                <p:cNvPr id="9364" name=""/>
                <p:cNvSpPr/>
                <p:nvPr/>
              </p:nvSpPr>
              <p:spPr>
                <a:xfrm>
                  <a:off x="5489640" y="2286000"/>
                  <a:ext cx="545760" cy="838080"/>
                </a:xfrm>
                <a:prstGeom prst="rect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5" name=""/>
                <p:cNvSpPr/>
                <p:nvPr/>
              </p:nvSpPr>
              <p:spPr>
                <a:xfrm>
                  <a:off x="5557320" y="2286000"/>
                  <a:ext cx="61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00"/>
                      </a:solidFill>
                      <a:latin typeface=""/>
                    </a:rPr>
                    <a:t>&gt;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6" name=""/>
                <p:cNvSpPr/>
                <p:nvPr/>
              </p:nvSpPr>
              <p:spPr>
                <a:xfrm flipH="1">
                  <a:off x="5694120" y="2590560"/>
                  <a:ext cx="136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7" name=""/>
              <p:cNvSpPr/>
              <p:nvPr/>
            </p:nvSpPr>
            <p:spPr>
              <a:xfrm>
                <a:off x="5148360" y="3581280"/>
                <a:ext cx="2044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5353200" y="2971800"/>
                <a:ext cx="0" cy="6094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5353200" y="2971800"/>
                <a:ext cx="1360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4056480" y="1676520"/>
                <a:ext cx="12963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5353200" y="1676520"/>
                <a:ext cx="0" cy="76176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5353200" y="2438280"/>
                <a:ext cx="13608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3" name=""/>
            <p:cNvSpPr/>
            <p:nvPr/>
          </p:nvSpPr>
          <p:spPr>
            <a:xfrm>
              <a:off x="6019920" y="266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6324480" y="2590920"/>
              <a:ext cx="30492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6629400" y="266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6934320" y="24382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7" name=""/>
            <p:cNvSpPr/>
            <p:nvPr/>
          </p:nvSpPr>
          <p:spPr>
            <a:xfrm flipV="1">
              <a:off x="6934320" y="243828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6934320" y="2743200"/>
              <a:ext cx="304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723888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716292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1" name=""/>
            <p:cNvGrpSpPr/>
            <p:nvPr/>
          </p:nvGrpSpPr>
          <p:grpSpPr>
            <a:xfrm>
              <a:off x="6858000" y="1752480"/>
              <a:ext cx="609480" cy="457200"/>
              <a:chOff x="6858000" y="1752480"/>
              <a:chExt cx="609480" cy="457200"/>
            </a:xfrm>
          </p:grpSpPr>
          <p:sp>
            <p:nvSpPr>
              <p:cNvPr id="9382" name=""/>
              <p:cNvSpPr/>
              <p:nvPr/>
            </p:nvSpPr>
            <p:spPr>
              <a:xfrm>
                <a:off x="6925320" y="1752480"/>
                <a:ext cx="4060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3" name=""/>
              <p:cNvSpPr/>
              <p:nvPr/>
            </p:nvSpPr>
            <p:spPr>
              <a:xfrm>
                <a:off x="6858000" y="181764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"/>
                  </a:rPr>
                  <a:t>K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4" name=""/>
            <p:cNvSpPr/>
            <p:nvPr/>
          </p:nvSpPr>
          <p:spPr>
            <a:xfrm>
              <a:off x="7162920" y="1371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5" name=""/>
            <p:cNvGrpSpPr/>
            <p:nvPr/>
          </p:nvGrpSpPr>
          <p:grpSpPr>
            <a:xfrm>
              <a:off x="6553080" y="1523880"/>
              <a:ext cx="228600" cy="761760"/>
              <a:chOff x="6553080" y="1523880"/>
              <a:chExt cx="228600" cy="761760"/>
            </a:xfrm>
          </p:grpSpPr>
          <p:grpSp>
            <p:nvGrpSpPr>
              <p:cNvPr id="9386" name=""/>
              <p:cNvGrpSpPr/>
              <p:nvPr/>
            </p:nvGrpSpPr>
            <p:grpSpPr>
              <a:xfrm>
                <a:off x="6553080" y="1752480"/>
                <a:ext cx="228600" cy="228600"/>
                <a:chOff x="6553080" y="1752480"/>
                <a:chExt cx="228600" cy="228600"/>
              </a:xfrm>
            </p:grpSpPr>
            <p:sp>
              <p:nvSpPr>
                <p:cNvPr id="9387" name=""/>
                <p:cNvSpPr/>
                <p:nvPr/>
              </p:nvSpPr>
              <p:spPr>
                <a:xfrm>
                  <a:off x="6553080" y="1752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8" name=""/>
                <p:cNvSpPr/>
                <p:nvPr/>
              </p:nvSpPr>
              <p:spPr>
                <a:xfrm>
                  <a:off x="6553080" y="175248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9" name=""/>
              <p:cNvSpPr/>
              <p:nvPr/>
            </p:nvSpPr>
            <p:spPr>
              <a:xfrm>
                <a:off x="6669000" y="152388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90" name=""/>
            <p:cNvSpPr/>
            <p:nvPr/>
          </p:nvSpPr>
          <p:spPr>
            <a:xfrm>
              <a:off x="6665760" y="1523880"/>
              <a:ext cx="10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6669000" y="228600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7122960" y="1295280"/>
              <a:ext cx="9396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1486080" y="140652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1487520" y="2324160"/>
              <a:ext cx="93600" cy="9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1487520" y="3906720"/>
              <a:ext cx="93600" cy="9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7696080" y="1523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7" name=""/>
            <p:cNvSpPr/>
            <p:nvPr/>
          </p:nvSpPr>
          <p:spPr>
            <a:xfrm flipH="1">
              <a:off x="7696080" y="2133720"/>
              <a:ext cx="1526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769608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7583400" y="2895480"/>
              <a:ext cx="228600" cy="22860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7696080" y="3124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1" name=""/>
            <p:cNvSpPr/>
            <p:nvPr/>
          </p:nvSpPr>
          <p:spPr>
            <a:xfrm>
              <a:off x="7238880" y="3352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7332840" y="1981080"/>
              <a:ext cx="49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"/>
                </a:rPr>
                <a:t>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3" name=""/>
          <p:cNvSpPr/>
          <p:nvPr/>
        </p:nvSpPr>
        <p:spPr>
          <a:xfrm>
            <a:off x="838080" y="4495680"/>
            <a:ext cx="7772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发生故障时，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晶体管导通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继电器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KA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通电，其触点闭合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故障指示灯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2" dur="indefinite" restart="never" nodeType="tmRoot">
          <p:childTnLst>
            <p:seq>
              <p:cTn id="4513" dur="indefinite" nodeType="mainSeq">
                <p:childTnLst>
                  <p:par>
                    <p:cTn id="4514" nodeType="clickEffect" fill="hold">
                      <p:stCondLst>
                        <p:cond delay="indefinite"/>
                      </p:stCondLst>
                      <p:childTnLst>
                        <p:par>
                          <p:cTn id="4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18" dur="500"/>
                                        <p:tgtEl>
                                          <p:spTgt spid="9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4" name=""/>
          <p:cNvSpPr/>
          <p:nvPr/>
        </p:nvSpPr>
        <p:spPr>
          <a:xfrm>
            <a:off x="1362960" y="5772240"/>
            <a:ext cx="675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工作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111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609480" y="6850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. 11. 2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故障报警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6" name=""/>
          <p:cNvGrpSpPr/>
          <p:nvPr/>
        </p:nvGrpSpPr>
        <p:grpSpPr>
          <a:xfrm>
            <a:off x="414720" y="457200"/>
            <a:ext cx="8367840" cy="5183280"/>
            <a:chOff x="414720" y="457200"/>
            <a:chExt cx="8367840" cy="5183280"/>
          </a:xfrm>
        </p:grpSpPr>
        <p:sp>
          <p:nvSpPr>
            <p:cNvPr id="9407" name=""/>
            <p:cNvSpPr/>
            <p:nvPr/>
          </p:nvSpPr>
          <p:spPr>
            <a:xfrm>
              <a:off x="1792080" y="2746440"/>
              <a:ext cx="48708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1992240" y="2656080"/>
              <a:ext cx="741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1866600" y="27129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0" name=""/>
            <p:cNvGrpSpPr/>
            <p:nvPr/>
          </p:nvGrpSpPr>
          <p:grpSpPr>
            <a:xfrm>
              <a:off x="1782720" y="1941480"/>
              <a:ext cx="478800" cy="581400"/>
              <a:chOff x="1782720" y="1941480"/>
              <a:chExt cx="478800" cy="581400"/>
            </a:xfrm>
          </p:grpSpPr>
          <p:sp>
            <p:nvSpPr>
              <p:cNvPr id="9411" name=""/>
              <p:cNvSpPr/>
              <p:nvPr/>
            </p:nvSpPr>
            <p:spPr>
              <a:xfrm>
                <a:off x="1871280" y="2101680"/>
                <a:ext cx="27540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1782720" y="1941480"/>
                <a:ext cx="47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3" name=""/>
            <p:cNvSpPr/>
            <p:nvPr/>
          </p:nvSpPr>
          <p:spPr>
            <a:xfrm>
              <a:off x="2019240" y="1798560"/>
              <a:ext cx="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2019240" y="237492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5" name=""/>
            <p:cNvGrpSpPr/>
            <p:nvPr/>
          </p:nvGrpSpPr>
          <p:grpSpPr>
            <a:xfrm>
              <a:off x="873000" y="3772080"/>
              <a:ext cx="804240" cy="509400"/>
              <a:chOff x="873000" y="3772080"/>
              <a:chExt cx="804240" cy="509400"/>
            </a:xfrm>
          </p:grpSpPr>
          <p:sp>
            <p:nvSpPr>
              <p:cNvPr id="9416" name=""/>
              <p:cNvSpPr/>
              <p:nvPr/>
            </p:nvSpPr>
            <p:spPr>
              <a:xfrm>
                <a:off x="1246320" y="3772080"/>
                <a:ext cx="342360" cy="509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1257480" y="379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1602360" y="3991320"/>
                <a:ext cx="74880" cy="80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947880" y="4014000"/>
                <a:ext cx="29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873000" y="3980160"/>
                <a:ext cx="60480" cy="63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1" name=""/>
            <p:cNvSpPr/>
            <p:nvPr/>
          </p:nvSpPr>
          <p:spPr>
            <a:xfrm>
              <a:off x="2435040" y="2735280"/>
              <a:ext cx="48528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2633400" y="2644920"/>
              <a:ext cx="741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2511360" y="2700360"/>
              <a:ext cx="28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2662200" y="1797120"/>
              <a:ext cx="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2662200" y="236376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3133440" y="2735280"/>
              <a:ext cx="48564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3331800" y="2644920"/>
              <a:ext cx="7452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3211200" y="2700360"/>
              <a:ext cx="28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3360600" y="1797120"/>
              <a:ext cx="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3360600" y="236376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3784320" y="2724120"/>
              <a:ext cx="48708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3984480" y="2633760"/>
              <a:ext cx="74160" cy="77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3862080" y="2691000"/>
              <a:ext cx="2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4011480" y="182412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4011480" y="2352600"/>
              <a:ext cx="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6" name=""/>
            <p:cNvGrpSpPr/>
            <p:nvPr/>
          </p:nvGrpSpPr>
          <p:grpSpPr>
            <a:xfrm>
              <a:off x="873000" y="3094200"/>
              <a:ext cx="804240" cy="509400"/>
              <a:chOff x="873000" y="3094200"/>
              <a:chExt cx="804240" cy="509400"/>
            </a:xfrm>
          </p:grpSpPr>
          <p:sp>
            <p:nvSpPr>
              <p:cNvPr id="9437" name=""/>
              <p:cNvSpPr/>
              <p:nvPr/>
            </p:nvSpPr>
            <p:spPr>
              <a:xfrm>
                <a:off x="1246320" y="3094200"/>
                <a:ext cx="342360" cy="509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1257480" y="31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1602360" y="3313440"/>
                <a:ext cx="74880" cy="80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947880" y="3336120"/>
                <a:ext cx="29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873000" y="3302280"/>
                <a:ext cx="60480" cy="63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2" name=""/>
            <p:cNvGrpSpPr/>
            <p:nvPr/>
          </p:nvGrpSpPr>
          <p:grpSpPr>
            <a:xfrm>
              <a:off x="873000" y="4451400"/>
              <a:ext cx="804240" cy="509760"/>
              <a:chOff x="873000" y="4451400"/>
              <a:chExt cx="804240" cy="509760"/>
            </a:xfrm>
          </p:grpSpPr>
          <p:sp>
            <p:nvSpPr>
              <p:cNvPr id="9443" name=""/>
              <p:cNvSpPr/>
              <p:nvPr/>
            </p:nvSpPr>
            <p:spPr>
              <a:xfrm>
                <a:off x="1246320" y="4451400"/>
                <a:ext cx="342360" cy="509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1257480" y="4470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1602360" y="4671000"/>
                <a:ext cx="74880" cy="80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947880" y="4693680"/>
                <a:ext cx="29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873000" y="4659840"/>
                <a:ext cx="60480" cy="63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8" name=""/>
            <p:cNvGrpSpPr/>
            <p:nvPr/>
          </p:nvGrpSpPr>
          <p:grpSpPr>
            <a:xfrm>
              <a:off x="873000" y="5130720"/>
              <a:ext cx="804240" cy="509760"/>
              <a:chOff x="873000" y="5130720"/>
              <a:chExt cx="804240" cy="509760"/>
            </a:xfrm>
          </p:grpSpPr>
          <p:sp>
            <p:nvSpPr>
              <p:cNvPr id="9449" name=""/>
              <p:cNvSpPr/>
              <p:nvPr/>
            </p:nvSpPr>
            <p:spPr>
              <a:xfrm>
                <a:off x="1246320" y="5130720"/>
                <a:ext cx="342360" cy="509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1257480" y="5150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1602360" y="5350320"/>
                <a:ext cx="74880" cy="80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947880" y="5373000"/>
                <a:ext cx="29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873000" y="5339160"/>
                <a:ext cx="60480" cy="63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4" name=""/>
            <p:cNvSpPr/>
            <p:nvPr/>
          </p:nvSpPr>
          <p:spPr>
            <a:xfrm>
              <a:off x="4852800" y="4008600"/>
              <a:ext cx="407520" cy="776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5" name=""/>
            <p:cNvGrpSpPr/>
            <p:nvPr/>
          </p:nvGrpSpPr>
          <p:grpSpPr>
            <a:xfrm>
              <a:off x="4828320" y="3998880"/>
              <a:ext cx="506880" cy="459720"/>
              <a:chOff x="4828320" y="3998880"/>
              <a:chExt cx="506880" cy="459720"/>
            </a:xfrm>
          </p:grpSpPr>
          <p:sp>
            <p:nvSpPr>
              <p:cNvPr id="9456" name=""/>
              <p:cNvSpPr/>
              <p:nvPr/>
            </p:nvSpPr>
            <p:spPr>
              <a:xfrm>
                <a:off x="4828320" y="3998880"/>
                <a:ext cx="50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 flipV="1">
                <a:off x="4957920" y="4264920"/>
                <a:ext cx="154800" cy="9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8" name=""/>
            <p:cNvSpPr/>
            <p:nvPr/>
          </p:nvSpPr>
          <p:spPr>
            <a:xfrm>
              <a:off x="5599080" y="4168800"/>
              <a:ext cx="342360" cy="509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5609880" y="41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5956200" y="4388040"/>
              <a:ext cx="74160" cy="80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5300640" y="4411800"/>
              <a:ext cx="29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7705440" y="2865600"/>
              <a:ext cx="60120" cy="63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1677960" y="3360960"/>
              <a:ext cx="3171240" cy="752400"/>
            </a:xfrm>
            <a:custGeom>
              <a:avLst/>
              <a:gdLst/>
              <a:ahLst/>
              <a:rect l="l" t="t" r="r" b="b"/>
              <a:pathLst>
                <a:path w="2362" h="535">
                  <a:moveTo>
                    <a:pt x="0" y="0"/>
                  </a:moveTo>
                  <a:lnTo>
                    <a:pt x="1999" y="0"/>
                  </a:lnTo>
                  <a:lnTo>
                    <a:pt x="1999" y="535"/>
                  </a:lnTo>
                  <a:lnTo>
                    <a:pt x="2362" y="5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1666800" y="4646520"/>
              <a:ext cx="3171240" cy="739800"/>
            </a:xfrm>
            <a:custGeom>
              <a:avLst/>
              <a:gdLst/>
              <a:ahLst/>
              <a:rect l="l" t="t" r="r" b="b"/>
              <a:pathLst>
                <a:path w="2370" h="469">
                  <a:moveTo>
                    <a:pt x="0" y="469"/>
                  </a:moveTo>
                  <a:lnTo>
                    <a:pt x="1991" y="469"/>
                  </a:lnTo>
                  <a:lnTo>
                    <a:pt x="1991" y="0"/>
                  </a:lnTo>
                  <a:lnTo>
                    <a:pt x="237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1666800" y="4030560"/>
              <a:ext cx="3182400" cy="277920"/>
            </a:xfrm>
            <a:custGeom>
              <a:avLst/>
              <a:gdLst/>
              <a:ahLst/>
              <a:rect l="l" t="t" r="r" b="b"/>
              <a:pathLst>
                <a:path w="2370" h="140">
                  <a:moveTo>
                    <a:pt x="0" y="0"/>
                  </a:moveTo>
                  <a:lnTo>
                    <a:pt x="1818" y="0"/>
                  </a:lnTo>
                  <a:lnTo>
                    <a:pt x="1818" y="140"/>
                  </a:lnTo>
                  <a:lnTo>
                    <a:pt x="2370" y="1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1666800" y="4460760"/>
              <a:ext cx="3182400" cy="254160"/>
            </a:xfrm>
            <a:custGeom>
              <a:avLst/>
              <a:gdLst/>
              <a:ahLst/>
              <a:rect l="l" t="t" r="r" b="b"/>
              <a:pathLst>
                <a:path w="2370" h="157">
                  <a:moveTo>
                    <a:pt x="0" y="157"/>
                  </a:moveTo>
                  <a:lnTo>
                    <a:pt x="1802" y="157"/>
                  </a:lnTo>
                  <a:lnTo>
                    <a:pt x="1802" y="17"/>
                  </a:lnTo>
                  <a:lnTo>
                    <a:pt x="1810" y="0"/>
                  </a:lnTo>
                  <a:lnTo>
                    <a:pt x="2370" y="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67" name=""/>
            <p:cNvGrpSpPr/>
            <p:nvPr/>
          </p:nvGrpSpPr>
          <p:grpSpPr>
            <a:xfrm>
              <a:off x="6111720" y="1809720"/>
              <a:ext cx="259560" cy="522000"/>
              <a:chOff x="6111720" y="1809720"/>
              <a:chExt cx="259560" cy="522000"/>
            </a:xfrm>
          </p:grpSpPr>
          <p:sp>
            <p:nvSpPr>
              <p:cNvPr id="9468" name=""/>
              <p:cNvSpPr/>
              <p:nvPr/>
            </p:nvSpPr>
            <p:spPr>
              <a:xfrm>
                <a:off x="6111720" y="1823760"/>
                <a:ext cx="0" cy="43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 flipV="1">
                <a:off x="6111720" y="1809720"/>
                <a:ext cx="189000" cy="209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6134760" y="2111040"/>
                <a:ext cx="236520" cy="220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1" name=""/>
            <p:cNvSpPr/>
            <p:nvPr/>
          </p:nvSpPr>
          <p:spPr>
            <a:xfrm>
              <a:off x="5429160" y="2060640"/>
              <a:ext cx="653760" cy="2338200"/>
            </a:xfrm>
            <a:custGeom>
              <a:avLst/>
              <a:gdLst/>
              <a:ahLst/>
              <a:rect l="l" t="t" r="r" b="b"/>
              <a:pathLst>
                <a:path w="132" h="1465">
                  <a:moveTo>
                    <a:pt x="0" y="1465"/>
                  </a:moveTo>
                  <a:lnTo>
                    <a:pt x="0" y="0"/>
                  </a:lnTo>
                  <a:lnTo>
                    <a:pt x="1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2" name=""/>
            <p:cNvGrpSpPr/>
            <p:nvPr/>
          </p:nvGrpSpPr>
          <p:grpSpPr>
            <a:xfrm>
              <a:off x="6932520" y="4200480"/>
              <a:ext cx="259560" cy="522000"/>
              <a:chOff x="6932520" y="4200480"/>
              <a:chExt cx="259560" cy="522000"/>
            </a:xfrm>
          </p:grpSpPr>
          <p:sp>
            <p:nvSpPr>
              <p:cNvPr id="9473" name=""/>
              <p:cNvSpPr/>
              <p:nvPr/>
            </p:nvSpPr>
            <p:spPr>
              <a:xfrm>
                <a:off x="6932520" y="4214520"/>
                <a:ext cx="0" cy="430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 flipV="1">
                <a:off x="6932520" y="4200480"/>
                <a:ext cx="189000" cy="209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6955560" y="4501800"/>
                <a:ext cx="236520" cy="2206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6" name=""/>
            <p:cNvSpPr/>
            <p:nvPr/>
          </p:nvSpPr>
          <p:spPr>
            <a:xfrm>
              <a:off x="6030720" y="4438800"/>
              <a:ext cx="88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7142040" y="2622600"/>
              <a:ext cx="12240" cy="15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6852960" y="3327480"/>
              <a:ext cx="561600" cy="417600"/>
            </a:xfrm>
            <a:prstGeom prst="rect">
              <a:avLst/>
            </a:prstGeom>
            <a:solidFill>
              <a:srgbClr val="ffffd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6840360" y="3390840"/>
              <a:ext cx="603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K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0" name=""/>
            <p:cNvGrpSpPr/>
            <p:nvPr/>
          </p:nvGrpSpPr>
          <p:grpSpPr>
            <a:xfrm>
              <a:off x="6474960" y="3390120"/>
              <a:ext cx="280800" cy="226800"/>
              <a:chOff x="6474960" y="3390120"/>
              <a:chExt cx="280800" cy="226800"/>
            </a:xfrm>
          </p:grpSpPr>
          <p:sp>
            <p:nvSpPr>
              <p:cNvPr id="9481" name=""/>
              <p:cNvSpPr/>
              <p:nvPr/>
            </p:nvSpPr>
            <p:spPr>
              <a:xfrm rot="21540000">
                <a:off x="6487920" y="3404880"/>
                <a:ext cx="257760" cy="209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 flipV="1">
                <a:off x="6474960" y="3390120"/>
                <a:ext cx="28080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3" name=""/>
            <p:cNvSpPr/>
            <p:nvPr/>
          </p:nvSpPr>
          <p:spPr>
            <a:xfrm>
              <a:off x="6618240" y="3027240"/>
              <a:ext cx="534600" cy="874800"/>
            </a:xfrm>
            <a:custGeom>
              <a:avLst/>
              <a:gdLst/>
              <a:ahLst/>
              <a:rect l="l" t="t" r="r" b="b"/>
              <a:pathLst>
                <a:path w="337" h="551">
                  <a:moveTo>
                    <a:pt x="329" y="0"/>
                  </a:moveTo>
                  <a:lnTo>
                    <a:pt x="8" y="0"/>
                  </a:lnTo>
                  <a:lnTo>
                    <a:pt x="0" y="551"/>
                  </a:lnTo>
                  <a:lnTo>
                    <a:pt x="337" y="55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6265800" y="4361040"/>
              <a:ext cx="391680" cy="14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5400720" y="21067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 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5570280" y="1971720"/>
              <a:ext cx="391680" cy="14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6318000" y="1355760"/>
              <a:ext cx="142560" cy="444600"/>
            </a:xfrm>
            <a:custGeom>
              <a:avLst/>
              <a:gdLst/>
              <a:ahLst/>
              <a:rect l="l" t="t" r="r" b="b"/>
              <a:pathLst>
                <a:path w="90" h="280">
                  <a:moveTo>
                    <a:pt x="0" y="280"/>
                  </a:moveTo>
                  <a:lnTo>
                    <a:pt x="0" y="0"/>
                  </a:lnTo>
                  <a:lnTo>
                    <a:pt x="9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6318000" y="858960"/>
              <a:ext cx="156960" cy="339480"/>
            </a:xfrm>
            <a:custGeom>
              <a:avLst/>
              <a:gdLst/>
              <a:ahLst/>
              <a:rect l="l" t="t" r="r" b="b"/>
              <a:pathLst>
                <a:path w="107" h="214">
                  <a:moveTo>
                    <a:pt x="0" y="0"/>
                  </a:moveTo>
                  <a:lnTo>
                    <a:pt x="0" y="214"/>
                  </a:lnTo>
                  <a:lnTo>
                    <a:pt x="107" y="2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6448320" y="1146240"/>
              <a:ext cx="19332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6284880" y="782640"/>
              <a:ext cx="59760" cy="63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1" name=""/>
            <p:cNvGrpSpPr/>
            <p:nvPr/>
          </p:nvGrpSpPr>
          <p:grpSpPr>
            <a:xfrm>
              <a:off x="6238800" y="2335320"/>
              <a:ext cx="221760" cy="509400"/>
              <a:chOff x="6238800" y="2335320"/>
              <a:chExt cx="221760" cy="509400"/>
            </a:xfrm>
          </p:grpSpPr>
          <p:sp>
            <p:nvSpPr>
              <p:cNvPr id="9492" name=""/>
              <p:cNvSpPr/>
              <p:nvPr/>
            </p:nvSpPr>
            <p:spPr>
              <a:xfrm>
                <a:off x="6355800" y="2335320"/>
                <a:ext cx="0" cy="50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6238800" y="2844720"/>
                <a:ext cx="22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4" name=""/>
            <p:cNvGrpSpPr/>
            <p:nvPr/>
          </p:nvGrpSpPr>
          <p:grpSpPr>
            <a:xfrm>
              <a:off x="7045200" y="4708440"/>
              <a:ext cx="221760" cy="509400"/>
              <a:chOff x="7045200" y="4708440"/>
              <a:chExt cx="221760" cy="509400"/>
            </a:xfrm>
          </p:grpSpPr>
          <p:sp>
            <p:nvSpPr>
              <p:cNvPr id="9495" name=""/>
              <p:cNvSpPr/>
              <p:nvPr/>
            </p:nvSpPr>
            <p:spPr>
              <a:xfrm>
                <a:off x="7162200" y="4708440"/>
                <a:ext cx="0" cy="50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7045200" y="5217840"/>
                <a:ext cx="22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7" name=""/>
            <p:cNvSpPr/>
            <p:nvPr/>
          </p:nvSpPr>
          <p:spPr>
            <a:xfrm>
              <a:off x="8026200" y="4168800"/>
              <a:ext cx="391680" cy="392040"/>
            </a:xfrm>
            <a:prstGeom prst="ellipse">
              <a:avLst/>
            </a:prstGeom>
            <a:solidFill>
              <a:srgbClr val="ffffd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7989120" y="41306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7738920" y="2928960"/>
              <a:ext cx="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7738920" y="3778200"/>
              <a:ext cx="286920" cy="587520"/>
            </a:xfrm>
            <a:custGeom>
              <a:avLst/>
              <a:gdLst/>
              <a:ahLst/>
              <a:rect l="l" t="t" r="r" b="b"/>
              <a:pathLst>
                <a:path w="181" h="370">
                  <a:moveTo>
                    <a:pt x="0" y="0"/>
                  </a:moveTo>
                  <a:lnTo>
                    <a:pt x="0" y="370"/>
                  </a:lnTo>
                  <a:lnTo>
                    <a:pt x="181" y="3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7529400" y="3438720"/>
              <a:ext cx="209160" cy="33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8431200" y="2941560"/>
              <a:ext cx="283680" cy="1409760"/>
            </a:xfrm>
            <a:custGeom>
              <a:avLst/>
              <a:gdLst/>
              <a:ahLst/>
              <a:rect l="l" t="t" r="r" b="b"/>
              <a:pathLst>
                <a:path w="179" h="888">
                  <a:moveTo>
                    <a:pt x="179" y="0"/>
                  </a:moveTo>
                  <a:lnTo>
                    <a:pt x="179" y="888"/>
                  </a:lnTo>
                  <a:lnTo>
                    <a:pt x="0" y="8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7107120" y="2559240"/>
              <a:ext cx="59760" cy="63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8683560" y="2878200"/>
              <a:ext cx="59760" cy="63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6669360" y="1066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6259320" y="457200"/>
              <a:ext cx="9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+12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6570360" y="2151000"/>
              <a:ext cx="9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+12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7690320" y="247176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~220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6026400" y="328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7722720" y="333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7140600" y="4202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6303960" y="1798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2019240" y="3105360"/>
              <a:ext cx="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2673000" y="3105360"/>
              <a:ext cx="0" cy="9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354120" y="3117960"/>
              <a:ext cx="0" cy="159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006800" y="3092400"/>
              <a:ext cx="0" cy="229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2019240" y="1798560"/>
              <a:ext cx="2495160" cy="354240"/>
            </a:xfrm>
            <a:custGeom>
              <a:avLst/>
              <a:gdLst/>
              <a:ahLst/>
              <a:rect l="l" t="t" r="r" b="b"/>
              <a:pathLst>
                <a:path w="1572" h="223">
                  <a:moveTo>
                    <a:pt x="0" y="0"/>
                  </a:moveTo>
                  <a:lnTo>
                    <a:pt x="1572" y="0"/>
                  </a:lnTo>
                  <a:lnTo>
                    <a:pt x="1572" y="2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410000" y="2165400"/>
              <a:ext cx="19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1266120" y="195588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H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6093000" y="445788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1 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52160" y="2749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26960" y="342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414720" y="4121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43056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5" name=""/>
            <p:cNvGrpSpPr/>
            <p:nvPr/>
          </p:nvGrpSpPr>
          <p:grpSpPr>
            <a:xfrm>
              <a:off x="873000" y="2870280"/>
              <a:ext cx="345600" cy="2523600"/>
              <a:chOff x="873000" y="2870280"/>
              <a:chExt cx="345600" cy="2523600"/>
            </a:xfrm>
          </p:grpSpPr>
          <p:sp>
            <p:nvSpPr>
              <p:cNvPr id="9526" name=""/>
              <p:cNvSpPr/>
              <p:nvPr/>
            </p:nvSpPr>
            <p:spPr>
              <a:xfrm>
                <a:off x="873000" y="287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85600" y="35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7300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85600" y="493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0" name=""/>
            <p:cNvSpPr/>
            <p:nvPr/>
          </p:nvSpPr>
          <p:spPr>
            <a:xfrm>
              <a:off x="4465440" y="361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1" name=""/>
            <p:cNvSpPr/>
            <p:nvPr/>
          </p:nvSpPr>
          <p:spPr>
            <a:xfrm>
              <a:off x="5287680" y="4554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5941800" y="391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2061720" y="228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2688840" y="2268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3368160" y="2268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4008240" y="2268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7" name=""/>
            <p:cNvSpPr/>
            <p:nvPr/>
          </p:nvSpPr>
          <p:spPr>
            <a:xfrm flipV="1">
              <a:off x="7740360" y="3379320"/>
              <a:ext cx="1440" cy="405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8" name=""/>
            <p:cNvGrpSpPr/>
            <p:nvPr/>
          </p:nvGrpSpPr>
          <p:grpSpPr>
            <a:xfrm>
              <a:off x="2422440" y="1922400"/>
              <a:ext cx="478800" cy="581400"/>
              <a:chOff x="2422440" y="1922400"/>
              <a:chExt cx="478800" cy="581400"/>
            </a:xfrm>
          </p:grpSpPr>
          <p:sp>
            <p:nvSpPr>
              <p:cNvPr id="9539" name=""/>
              <p:cNvSpPr/>
              <p:nvPr/>
            </p:nvSpPr>
            <p:spPr>
              <a:xfrm>
                <a:off x="2511000" y="2082600"/>
                <a:ext cx="27540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2422440" y="1922400"/>
                <a:ext cx="47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1" name=""/>
            <p:cNvGrpSpPr/>
            <p:nvPr/>
          </p:nvGrpSpPr>
          <p:grpSpPr>
            <a:xfrm>
              <a:off x="3127320" y="1922400"/>
              <a:ext cx="478800" cy="581400"/>
              <a:chOff x="3127320" y="1922400"/>
              <a:chExt cx="478800" cy="581400"/>
            </a:xfrm>
          </p:grpSpPr>
          <p:sp>
            <p:nvSpPr>
              <p:cNvPr id="9542" name=""/>
              <p:cNvSpPr/>
              <p:nvPr/>
            </p:nvSpPr>
            <p:spPr>
              <a:xfrm>
                <a:off x="3215880" y="2082600"/>
                <a:ext cx="27540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3127320" y="1922400"/>
                <a:ext cx="47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4" name=""/>
            <p:cNvGrpSpPr/>
            <p:nvPr/>
          </p:nvGrpSpPr>
          <p:grpSpPr>
            <a:xfrm>
              <a:off x="3779640" y="1922400"/>
              <a:ext cx="479160" cy="581400"/>
              <a:chOff x="3779640" y="1922400"/>
              <a:chExt cx="479160" cy="581400"/>
            </a:xfrm>
          </p:grpSpPr>
          <p:sp>
            <p:nvSpPr>
              <p:cNvPr id="9545" name=""/>
              <p:cNvSpPr/>
              <p:nvPr/>
            </p:nvSpPr>
            <p:spPr>
              <a:xfrm>
                <a:off x="3868200" y="2082600"/>
                <a:ext cx="275760" cy="276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3779640" y="1922400"/>
                <a:ext cx="479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9" dur="indefinite" restart="never" nodeType="tmRoot">
          <p:childTnLst>
            <p:seq>
              <p:cTn id="4520" dur="indefinite" nodeType="mainSeq">
                <p:childTnLst>
                  <p:par>
                    <p:cTn id="4521" nodeType="clickEffect" fill="hold">
                      <p:stCondLst>
                        <p:cond delay="indefinite"/>
                      </p:stCondLst>
                      <p:childTnLst>
                        <p:par>
                          <p:cTn id="4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25" dur="500"/>
                                        <p:tgtEl>
                                          <p:spTgt spid="9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nodeType="clickEffect" fill="hold">
                      <p:stCondLst>
                        <p:cond delay="indefinite"/>
                      </p:stCondLst>
                      <p:childTnLst>
                        <p:par>
                          <p:cTn id="45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30" dur="500"/>
                                        <p:tgtEl>
                                          <p:spTgt spid="9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nodeType="clickEffect" fill="hold">
                      <p:stCondLst>
                        <p:cond delay="indefinite"/>
                      </p:stCondLst>
                      <p:childTnLst>
                        <p:par>
                          <p:cTn id="45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35" dur="500"/>
                                        <p:tgtEl>
                                          <p:spTgt spid="9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7" name=""/>
          <p:cNvSpPr/>
          <p:nvPr/>
        </p:nvSpPr>
        <p:spPr>
          <a:xfrm>
            <a:off x="1213920" y="533520"/>
            <a:ext cx="342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. 11. 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地控制一灯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8" name=""/>
          <p:cNvGrpSpPr/>
          <p:nvPr/>
        </p:nvGrpSpPr>
        <p:grpSpPr>
          <a:xfrm>
            <a:off x="1119240" y="1224000"/>
            <a:ext cx="6949440" cy="3365280"/>
            <a:chOff x="1119240" y="1224000"/>
            <a:chExt cx="6949440" cy="3365280"/>
          </a:xfrm>
        </p:grpSpPr>
        <p:sp>
          <p:nvSpPr>
            <p:cNvPr id="9549" name=""/>
            <p:cNvSpPr/>
            <p:nvPr/>
          </p:nvSpPr>
          <p:spPr>
            <a:xfrm>
              <a:off x="3760200" y="2144520"/>
              <a:ext cx="494280" cy="713160"/>
            </a:xfrm>
            <a:prstGeom prst="rect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3760200" y="3400920"/>
              <a:ext cx="494280" cy="713160"/>
            </a:xfrm>
            <a:prstGeom prst="rect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2719080" y="3680640"/>
              <a:ext cx="485280" cy="538200"/>
            </a:xfrm>
            <a:prstGeom prst="rect">
              <a:avLst/>
            </a:prstGeom>
            <a:solidFill>
              <a:srgbClr val="fafea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2719080" y="2101680"/>
              <a:ext cx="485280" cy="533160"/>
            </a:xfrm>
            <a:prstGeom prst="rect">
              <a:avLst/>
            </a:prstGeom>
            <a:solidFill>
              <a:srgbClr val="fafea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4804200" y="2772000"/>
              <a:ext cx="494280" cy="711720"/>
            </a:xfrm>
            <a:prstGeom prst="rect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2968200" y="3755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3930480" y="344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6536880" y="2212200"/>
              <a:ext cx="41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2968200" y="2176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3930480" y="217836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965480" y="27964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6472080" y="2239920"/>
              <a:ext cx="470880" cy="30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3215520" y="3899160"/>
              <a:ext cx="103320" cy="9936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4"/>
                  </a:moveTo>
                  <a:lnTo>
                    <a:pt x="59" y="10"/>
                  </a:lnTo>
                  <a:lnTo>
                    <a:pt x="35" y="0"/>
                  </a:lnTo>
                  <a:lnTo>
                    <a:pt x="9" y="10"/>
                  </a:lnTo>
                  <a:lnTo>
                    <a:pt x="0" y="34"/>
                  </a:lnTo>
                  <a:lnTo>
                    <a:pt x="9" y="60"/>
                  </a:lnTo>
                  <a:lnTo>
                    <a:pt x="35" y="69"/>
                  </a:lnTo>
                  <a:lnTo>
                    <a:pt x="59" y="60"/>
                  </a:lnTo>
                  <a:lnTo>
                    <a:pt x="69" y="3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3319200" y="3948120"/>
              <a:ext cx="437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245120" y="3747960"/>
              <a:ext cx="105120" cy="9972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6"/>
                  </a:moveTo>
                  <a:lnTo>
                    <a:pt x="60" y="11"/>
                  </a:lnTo>
                  <a:lnTo>
                    <a:pt x="36" y="0"/>
                  </a:lnTo>
                  <a:lnTo>
                    <a:pt x="11" y="11"/>
                  </a:lnTo>
                  <a:lnTo>
                    <a:pt x="0" y="36"/>
                  </a:lnTo>
                  <a:lnTo>
                    <a:pt x="11" y="60"/>
                  </a:lnTo>
                  <a:lnTo>
                    <a:pt x="36" y="69"/>
                  </a:lnTo>
                  <a:lnTo>
                    <a:pt x="60" y="60"/>
                  </a:lnTo>
                  <a:lnTo>
                    <a:pt x="71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3319200" y="2367360"/>
              <a:ext cx="43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3215520" y="2316960"/>
              <a:ext cx="103320" cy="1026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35"/>
                  </a:moveTo>
                  <a:lnTo>
                    <a:pt x="59" y="11"/>
                  </a:lnTo>
                  <a:lnTo>
                    <a:pt x="35" y="0"/>
                  </a:lnTo>
                  <a:lnTo>
                    <a:pt x="9" y="11"/>
                  </a:lnTo>
                  <a:lnTo>
                    <a:pt x="0" y="35"/>
                  </a:lnTo>
                  <a:lnTo>
                    <a:pt x="9" y="60"/>
                  </a:lnTo>
                  <a:lnTo>
                    <a:pt x="35" y="71"/>
                  </a:lnTo>
                  <a:lnTo>
                    <a:pt x="59" y="60"/>
                  </a:lnTo>
                  <a:lnTo>
                    <a:pt x="69" y="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4258080" y="2450880"/>
              <a:ext cx="106560" cy="10260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5"/>
                  </a:moveTo>
                  <a:lnTo>
                    <a:pt x="60" y="11"/>
                  </a:lnTo>
                  <a:lnTo>
                    <a:pt x="36" y="0"/>
                  </a:lnTo>
                  <a:lnTo>
                    <a:pt x="11" y="11"/>
                  </a:lnTo>
                  <a:lnTo>
                    <a:pt x="0" y="35"/>
                  </a:lnTo>
                  <a:lnTo>
                    <a:pt x="11" y="60"/>
                  </a:lnTo>
                  <a:lnTo>
                    <a:pt x="36" y="71"/>
                  </a:lnTo>
                  <a:lnTo>
                    <a:pt x="60" y="60"/>
                  </a:lnTo>
                  <a:lnTo>
                    <a:pt x="71" y="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5306760" y="3094560"/>
              <a:ext cx="105120" cy="102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6"/>
                  </a:moveTo>
                  <a:lnTo>
                    <a:pt x="60" y="11"/>
                  </a:lnTo>
                  <a:lnTo>
                    <a:pt x="35" y="0"/>
                  </a:lnTo>
                  <a:lnTo>
                    <a:pt x="11" y="11"/>
                  </a:lnTo>
                  <a:lnTo>
                    <a:pt x="0" y="36"/>
                  </a:lnTo>
                  <a:lnTo>
                    <a:pt x="11" y="60"/>
                  </a:lnTo>
                  <a:lnTo>
                    <a:pt x="35" y="71"/>
                  </a:lnTo>
                  <a:lnTo>
                    <a:pt x="60" y="60"/>
                  </a:lnTo>
                  <a:lnTo>
                    <a:pt x="71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5426640" y="3147120"/>
              <a:ext cx="353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9" name=""/>
            <p:cNvSpPr/>
            <p:nvPr/>
          </p:nvSpPr>
          <p:spPr>
            <a:xfrm flipV="1">
              <a:off x="6421680" y="3002760"/>
              <a:ext cx="144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0" name=""/>
            <p:cNvSpPr/>
            <p:nvPr/>
          </p:nvSpPr>
          <p:spPr>
            <a:xfrm flipV="1">
              <a:off x="6421680" y="2931840"/>
              <a:ext cx="25272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1" name=""/>
            <p:cNvSpPr/>
            <p:nvPr/>
          </p:nvSpPr>
          <p:spPr>
            <a:xfrm flipV="1">
              <a:off x="6674760" y="2533320"/>
              <a:ext cx="1440" cy="41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6421680" y="3217680"/>
              <a:ext cx="25272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6421680" y="3147120"/>
              <a:ext cx="14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6553800" y="3277800"/>
              <a:ext cx="120600" cy="7956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14" y="0"/>
                  </a:moveTo>
                  <a:lnTo>
                    <a:pt x="81" y="55"/>
                  </a:lnTo>
                  <a:lnTo>
                    <a:pt x="0" y="2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6553800" y="3277800"/>
              <a:ext cx="120600" cy="7956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14" y="0"/>
                  </a:moveTo>
                  <a:lnTo>
                    <a:pt x="81" y="55"/>
                  </a:lnTo>
                  <a:lnTo>
                    <a:pt x="0" y="26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5886000" y="3211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5369760" y="27842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6369120" y="1224000"/>
              <a:ext cx="65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6770160" y="3025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1184760" y="1306800"/>
              <a:ext cx="54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2100240" y="19756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1685520" y="1798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2139120" y="35791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1726200" y="4223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1685520" y="33267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1666800" y="2672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7300440" y="2169360"/>
              <a:ext cx="4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7135200" y="1306800"/>
              <a:ext cx="93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～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6674760" y="3357720"/>
              <a:ext cx="1440" cy="57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 flipH="1">
              <a:off x="6567840" y="3931200"/>
              <a:ext cx="25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5779800" y="3085560"/>
              <a:ext cx="379800" cy="151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6148800" y="3147120"/>
              <a:ext cx="272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3" name=""/>
            <p:cNvSpPr/>
            <p:nvPr/>
          </p:nvSpPr>
          <p:spPr>
            <a:xfrm flipH="1">
              <a:off x="3491640" y="2621160"/>
              <a:ext cx="264960" cy="1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4" name=""/>
            <p:cNvSpPr/>
            <p:nvPr/>
          </p:nvSpPr>
          <p:spPr>
            <a:xfrm flipH="1">
              <a:off x="2464920" y="2621160"/>
              <a:ext cx="1050480" cy="7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2464920" y="3417480"/>
              <a:ext cx="1080" cy="53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2210040" y="3948120"/>
              <a:ext cx="508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7" name=""/>
            <p:cNvSpPr/>
            <p:nvPr/>
          </p:nvSpPr>
          <p:spPr>
            <a:xfrm flipH="1">
              <a:off x="2217600" y="2367360"/>
              <a:ext cx="500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2468160" y="2367360"/>
              <a:ext cx="1080" cy="52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2468160" y="2891880"/>
              <a:ext cx="1028160" cy="78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3491640" y="3680640"/>
              <a:ext cx="26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1" name=""/>
            <p:cNvGrpSpPr/>
            <p:nvPr/>
          </p:nvGrpSpPr>
          <p:grpSpPr>
            <a:xfrm>
              <a:off x="4365000" y="2507400"/>
              <a:ext cx="453240" cy="441000"/>
              <a:chOff x="4365000" y="2507400"/>
              <a:chExt cx="453240" cy="441000"/>
            </a:xfrm>
          </p:grpSpPr>
          <p:sp>
            <p:nvSpPr>
              <p:cNvPr id="9602" name=""/>
              <p:cNvSpPr/>
              <p:nvPr/>
            </p:nvSpPr>
            <p:spPr>
              <a:xfrm>
                <a:off x="4365000" y="2508480"/>
                <a:ext cx="138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497840" y="2507400"/>
                <a:ext cx="1080" cy="44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517280" y="2930760"/>
                <a:ext cx="300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5" name=""/>
            <p:cNvSpPr/>
            <p:nvPr/>
          </p:nvSpPr>
          <p:spPr>
            <a:xfrm flipH="1">
              <a:off x="6149880" y="2725920"/>
              <a:ext cx="5245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6" name=""/>
            <p:cNvSpPr/>
            <p:nvPr/>
          </p:nvSpPr>
          <p:spPr>
            <a:xfrm flipV="1">
              <a:off x="6150240" y="2058120"/>
              <a:ext cx="1440" cy="66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6150240" y="2058480"/>
              <a:ext cx="51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 flipV="1">
              <a:off x="6674760" y="1712520"/>
              <a:ext cx="1440" cy="52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 flipV="1">
              <a:off x="7196040" y="1724400"/>
              <a:ext cx="1440" cy="46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7196040" y="2190600"/>
              <a:ext cx="1440" cy="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7196040" y="2796480"/>
              <a:ext cx="2088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 flipV="1">
              <a:off x="7872840" y="1724400"/>
              <a:ext cx="0" cy="10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3" name=""/>
            <p:cNvSpPr/>
            <p:nvPr/>
          </p:nvSpPr>
          <p:spPr>
            <a:xfrm flipH="1" flipV="1">
              <a:off x="7048080" y="2249280"/>
              <a:ext cx="147240" cy="24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4" name=""/>
            <p:cNvSpPr/>
            <p:nvPr/>
          </p:nvSpPr>
          <p:spPr>
            <a:xfrm flipV="1">
              <a:off x="7196040" y="2494800"/>
              <a:ext cx="144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5" name=""/>
            <p:cNvGrpSpPr/>
            <p:nvPr/>
          </p:nvGrpSpPr>
          <p:grpSpPr>
            <a:xfrm>
              <a:off x="6026040" y="2344320"/>
              <a:ext cx="252360" cy="196560"/>
              <a:chOff x="6026040" y="2344320"/>
              <a:chExt cx="252360" cy="196560"/>
            </a:xfrm>
          </p:grpSpPr>
          <p:sp>
            <p:nvSpPr>
              <p:cNvPr id="9616" name=""/>
              <p:cNvSpPr/>
              <p:nvPr/>
            </p:nvSpPr>
            <p:spPr>
              <a:xfrm>
                <a:off x="6031800" y="2344320"/>
                <a:ext cx="240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6026040" y="2344320"/>
                <a:ext cx="252360" cy="196560"/>
              </a:xfrm>
              <a:custGeom>
                <a:avLst/>
                <a:gdLst/>
                <a:ahLst/>
                <a:rect l="l" t="t" r="r" b="b"/>
                <a:pathLst>
                  <a:path w="127" h="102">
                    <a:moveTo>
                      <a:pt x="0" y="102"/>
                    </a:moveTo>
                    <a:lnTo>
                      <a:pt x="127" y="102"/>
                    </a:lnTo>
                    <a:lnTo>
                      <a:pt x="64" y="0"/>
                    </a:lnTo>
                    <a:lnTo>
                      <a:pt x="0" y="10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8" name=""/>
            <p:cNvSpPr/>
            <p:nvPr/>
          </p:nvSpPr>
          <p:spPr>
            <a:xfrm>
              <a:off x="2133360" y="3911400"/>
              <a:ext cx="766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6"/>
                  </a:lnTo>
                  <a:lnTo>
                    <a:pt x="8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1811160" y="3697560"/>
              <a:ext cx="156960" cy="12132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83" y="83"/>
                  </a:moveTo>
                  <a:lnTo>
                    <a:pt x="0" y="0"/>
                  </a:lnTo>
                  <a:lnTo>
                    <a:pt x="105" y="51"/>
                  </a:lnTo>
                  <a:lnTo>
                    <a:pt x="83" y="83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1811160" y="3697560"/>
              <a:ext cx="156960" cy="12132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83" y="83"/>
                  </a:moveTo>
                  <a:lnTo>
                    <a:pt x="0" y="0"/>
                  </a:lnTo>
                  <a:lnTo>
                    <a:pt x="105" y="51"/>
                  </a:lnTo>
                  <a:lnTo>
                    <a:pt x="83" y="83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1951200" y="3797640"/>
              <a:ext cx="188280" cy="1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 flipV="1">
              <a:off x="1951200" y="2390760"/>
              <a:ext cx="188280" cy="1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2133360" y="2329200"/>
              <a:ext cx="76680" cy="770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6"/>
                  </a:lnTo>
                  <a:lnTo>
                    <a:pt x="8" y="45"/>
                  </a:lnTo>
                  <a:lnTo>
                    <a:pt x="26" y="53"/>
                  </a:lnTo>
                  <a:lnTo>
                    <a:pt x="44" y="45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1811160" y="2499840"/>
              <a:ext cx="156960" cy="1166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83" y="0"/>
                  </a:moveTo>
                  <a:lnTo>
                    <a:pt x="0" y="81"/>
                  </a:lnTo>
                  <a:lnTo>
                    <a:pt x="105" y="3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1811160" y="2499840"/>
              <a:ext cx="156960" cy="1166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83" y="0"/>
                  </a:moveTo>
                  <a:lnTo>
                    <a:pt x="0" y="81"/>
                  </a:lnTo>
                  <a:lnTo>
                    <a:pt x="105" y="31"/>
                  </a:lnTo>
                  <a:lnTo>
                    <a:pt x="83" y="0"/>
                  </a:lnTo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1726560" y="2579760"/>
              <a:ext cx="784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6" y="52"/>
                  </a:lnTo>
                  <a:lnTo>
                    <a:pt x="44" y="45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1726560" y="3660480"/>
              <a:ext cx="784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5"/>
                  </a:lnTo>
                  <a:lnTo>
                    <a:pt x="26" y="52"/>
                  </a:lnTo>
                  <a:lnTo>
                    <a:pt x="44" y="45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8" name=""/>
            <p:cNvSpPr/>
            <p:nvPr/>
          </p:nvSpPr>
          <p:spPr>
            <a:xfrm flipH="1">
              <a:off x="1145520" y="3697560"/>
              <a:ext cx="580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 flipV="1">
              <a:off x="1145880" y="1620360"/>
              <a:ext cx="1080" cy="207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1145880" y="2122920"/>
              <a:ext cx="615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 flipH="1">
              <a:off x="1423080" y="2616840"/>
              <a:ext cx="302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1423440" y="2616840"/>
              <a:ext cx="1440" cy="185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3" name=""/>
            <p:cNvSpPr/>
            <p:nvPr/>
          </p:nvSpPr>
          <p:spPr>
            <a:xfrm flipH="1">
              <a:off x="1296360" y="4467600"/>
              <a:ext cx="25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1423440" y="4208040"/>
              <a:ext cx="309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1733040" y="4169520"/>
              <a:ext cx="7812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5" y="7"/>
                  </a:lnTo>
                  <a:lnTo>
                    <a:pt x="26" y="0"/>
                  </a:lnTo>
                  <a:lnTo>
                    <a:pt x="8" y="7"/>
                  </a:lnTo>
                  <a:lnTo>
                    <a:pt x="0" y="26"/>
                  </a:lnTo>
                  <a:lnTo>
                    <a:pt x="8" y="44"/>
                  </a:lnTo>
                  <a:lnTo>
                    <a:pt x="26" y="52"/>
                  </a:lnTo>
                  <a:lnTo>
                    <a:pt x="45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1761120" y="2084760"/>
              <a:ext cx="784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7" name=""/>
            <p:cNvGrpSpPr/>
            <p:nvPr/>
          </p:nvGrpSpPr>
          <p:grpSpPr>
            <a:xfrm>
              <a:off x="7387560" y="2625840"/>
              <a:ext cx="313560" cy="303840"/>
              <a:chOff x="7387560" y="2625840"/>
              <a:chExt cx="313560" cy="303840"/>
            </a:xfrm>
          </p:grpSpPr>
          <p:sp>
            <p:nvSpPr>
              <p:cNvPr id="9638" name=""/>
              <p:cNvSpPr/>
              <p:nvPr/>
            </p:nvSpPr>
            <p:spPr>
              <a:xfrm>
                <a:off x="7387560" y="2625840"/>
                <a:ext cx="313560" cy="303840"/>
              </a:xfrm>
              <a:custGeom>
                <a:avLst/>
                <a:gdLst/>
                <a:ahLst/>
                <a:rect l="l" t="t" r="r" b="b"/>
                <a:pathLst>
                  <a:path w="146" h="145">
                    <a:moveTo>
                      <a:pt x="146" y="72"/>
                    </a:moveTo>
                    <a:lnTo>
                      <a:pt x="136" y="35"/>
                    </a:lnTo>
                    <a:lnTo>
                      <a:pt x="110" y="9"/>
                    </a:lnTo>
                    <a:lnTo>
                      <a:pt x="74" y="0"/>
                    </a:lnTo>
                    <a:lnTo>
                      <a:pt x="37" y="9"/>
                    </a:lnTo>
                    <a:lnTo>
                      <a:pt x="11" y="35"/>
                    </a:lnTo>
                    <a:lnTo>
                      <a:pt x="0" y="72"/>
                    </a:lnTo>
                    <a:lnTo>
                      <a:pt x="11" y="109"/>
                    </a:lnTo>
                    <a:lnTo>
                      <a:pt x="37" y="135"/>
                    </a:lnTo>
                    <a:lnTo>
                      <a:pt x="74" y="145"/>
                    </a:lnTo>
                    <a:lnTo>
                      <a:pt x="110" y="135"/>
                    </a:lnTo>
                    <a:lnTo>
                      <a:pt x="136" y="109"/>
                    </a:lnTo>
                    <a:lnTo>
                      <a:pt x="146" y="72"/>
                    </a:lnTo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 flipH="1">
                <a:off x="7454160" y="2655000"/>
                <a:ext cx="182160" cy="24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 flipH="1" flipV="1">
                <a:off x="7440840" y="2662920"/>
                <a:ext cx="210240" cy="22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1" name=""/>
            <p:cNvSpPr/>
            <p:nvPr/>
          </p:nvSpPr>
          <p:spPr>
            <a:xfrm>
              <a:off x="7674840" y="2796480"/>
              <a:ext cx="210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1119240" y="1549800"/>
              <a:ext cx="7812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6638760" y="1643760"/>
              <a:ext cx="766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7172640" y="1649520"/>
              <a:ext cx="784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7824240" y="1655640"/>
              <a:ext cx="78480" cy="752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6"/>
                  </a:moveTo>
                  <a:lnTo>
                    <a:pt x="44" y="8"/>
                  </a:lnTo>
                  <a:lnTo>
                    <a:pt x="26" y="0"/>
                  </a:lnTo>
                  <a:lnTo>
                    <a:pt x="7" y="8"/>
                  </a:lnTo>
                  <a:lnTo>
                    <a:pt x="0" y="26"/>
                  </a:lnTo>
                  <a:lnTo>
                    <a:pt x="7" y="44"/>
                  </a:lnTo>
                  <a:lnTo>
                    <a:pt x="26" y="52"/>
                  </a:lnTo>
                  <a:lnTo>
                    <a:pt x="44" y="44"/>
                  </a:lnTo>
                  <a:lnTo>
                    <a:pt x="52" y="2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 flipV="1">
              <a:off x="4345920" y="3804840"/>
              <a:ext cx="1393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 flipV="1">
              <a:off x="4479120" y="3366720"/>
              <a:ext cx="144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 flipV="1">
              <a:off x="4484160" y="3368520"/>
              <a:ext cx="300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9" name=""/>
          <p:cNvSpPr/>
          <p:nvPr/>
        </p:nvSpPr>
        <p:spPr>
          <a:xfrm>
            <a:off x="111888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逻辑表达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0" name="" descr=""/>
          <p:cNvPicPr/>
          <p:nvPr/>
        </p:nvPicPr>
        <p:blipFill>
          <a:blip r:embed="rId1"/>
          <a:stretch/>
        </p:blipFill>
        <p:spPr>
          <a:xfrm>
            <a:off x="777960" y="536580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9651" name=""/>
          <p:cNvSpPr/>
          <p:nvPr/>
        </p:nvSpPr>
        <p:spPr>
          <a:xfrm>
            <a:off x="3889080" y="4802040"/>
            <a:ext cx="4272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取值不同时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灯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取值相同时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灯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6" dur="indefinite" restart="never" nodeType="tmRoot">
          <p:childTnLst>
            <p:seq>
              <p:cTn id="4537" dur="indefinite" nodeType="mainSeq">
                <p:childTnLst>
                  <p:par>
                    <p:cTn id="4538" nodeType="clickEffect" fill="hold">
                      <p:stCondLst>
                        <p:cond delay="indefinite"/>
                      </p:stCondLst>
                      <p:childTnLst>
                        <p:par>
                          <p:cTn id="4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42" dur="500"/>
                                        <p:tgtEl>
                                          <p:spTgt spid="9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3" nodeType="clickEffect" fill="hold">
                      <p:stCondLst>
                        <p:cond delay="indefinite"/>
                      </p:stCondLst>
                      <p:childTnLst>
                        <p:par>
                          <p:cTn id="45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47" dur="500"/>
                                        <p:tgtEl>
                                          <p:spTgt spid="9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8" nodeType="clickEffect" fill="hold">
                      <p:stCondLst>
                        <p:cond delay="indefinite"/>
                      </p:stCondLst>
                      <p:childTnLst>
                        <p:par>
                          <p:cTn id="4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52" dur="500"/>
                                        <p:tgtEl>
                                          <p:spTgt spid="9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2" name=""/>
          <p:cNvSpPr/>
          <p:nvPr/>
        </p:nvSpPr>
        <p:spPr>
          <a:xfrm>
            <a:off x="304920" y="3809880"/>
            <a:ext cx="441936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当水箱无水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断开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~ G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输入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低电平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发光二极管微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注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输出低电平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输出高电平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导通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电机停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并发出报警声响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>
            <a:off x="347760" y="3402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. 11. 4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水位检测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4" name=""/>
          <p:cNvGrpSpPr/>
          <p:nvPr/>
        </p:nvGrpSpPr>
        <p:grpSpPr>
          <a:xfrm>
            <a:off x="504720" y="254160"/>
            <a:ext cx="8497440" cy="5875200"/>
            <a:chOff x="504720" y="254160"/>
            <a:chExt cx="8497440" cy="5875200"/>
          </a:xfrm>
        </p:grpSpPr>
        <p:grpSp>
          <p:nvGrpSpPr>
            <p:cNvPr id="9655" name=""/>
            <p:cNvGrpSpPr/>
            <p:nvPr/>
          </p:nvGrpSpPr>
          <p:grpSpPr>
            <a:xfrm>
              <a:off x="6422400" y="1442160"/>
              <a:ext cx="274320" cy="209160"/>
              <a:chOff x="6422400" y="1442160"/>
              <a:chExt cx="274320" cy="209160"/>
            </a:xfrm>
          </p:grpSpPr>
          <p:sp>
            <p:nvSpPr>
              <p:cNvPr id="9656" name=""/>
              <p:cNvSpPr/>
              <p:nvPr/>
            </p:nvSpPr>
            <p:spPr>
              <a:xfrm rot="21540000">
                <a:off x="6436080" y="1444320"/>
                <a:ext cx="25236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d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 flipV="1">
                <a:off x="6422400" y="1442160"/>
                <a:ext cx="274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8" name=""/>
            <p:cNvGrpSpPr/>
            <p:nvPr/>
          </p:nvGrpSpPr>
          <p:grpSpPr>
            <a:xfrm>
              <a:off x="4715280" y="1460520"/>
              <a:ext cx="274320" cy="209520"/>
              <a:chOff x="4715280" y="1460520"/>
              <a:chExt cx="274320" cy="209520"/>
            </a:xfrm>
          </p:grpSpPr>
          <p:sp>
            <p:nvSpPr>
              <p:cNvPr id="9659" name=""/>
              <p:cNvSpPr/>
              <p:nvPr/>
            </p:nvSpPr>
            <p:spPr>
              <a:xfrm rot="21540000">
                <a:off x="4728960" y="1462680"/>
                <a:ext cx="25236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d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 flipV="1">
                <a:off x="4715280" y="1460520"/>
                <a:ext cx="274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1" name=""/>
            <p:cNvSpPr/>
            <p:nvPr/>
          </p:nvSpPr>
          <p:spPr>
            <a:xfrm>
              <a:off x="561960" y="3304440"/>
              <a:ext cx="600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 rot="21540000">
              <a:off x="3179880" y="1479600"/>
              <a:ext cx="252720" cy="204480"/>
            </a:xfrm>
            <a:prstGeom prst="triangle">
              <a:avLst>
                <a:gd name="adj" fmla="val 50000"/>
              </a:avLst>
            </a:prstGeom>
            <a:solidFill>
              <a:srgbClr val="ffffd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 flipV="1">
              <a:off x="3152520" y="1466640"/>
              <a:ext cx="27432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2441160" y="2309400"/>
              <a:ext cx="371880" cy="61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2434680" y="2233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2827080" y="2563560"/>
              <a:ext cx="72720" cy="78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2146320" y="2615040"/>
              <a:ext cx="29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3307680" y="1227240"/>
              <a:ext cx="0" cy="20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9" name=""/>
            <p:cNvSpPr/>
            <p:nvPr/>
          </p:nvSpPr>
          <p:spPr>
            <a:xfrm rot="16200000">
              <a:off x="3142440" y="256536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2426040" y="25358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2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2134080" y="2617920"/>
              <a:ext cx="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 rot="16200000">
              <a:off x="1956240" y="284616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3974400" y="2295360"/>
              <a:ext cx="372240" cy="617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3967920" y="2236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360320" y="2566800"/>
              <a:ext cx="72720" cy="78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3693600" y="2617920"/>
              <a:ext cx="29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869000" y="1230480"/>
              <a:ext cx="0" cy="20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8" name=""/>
            <p:cNvSpPr/>
            <p:nvPr/>
          </p:nvSpPr>
          <p:spPr>
            <a:xfrm rot="16200000">
              <a:off x="4703400" y="256860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3945600" y="25390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3667320" y="2620800"/>
              <a:ext cx="0" cy="66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 rot="16200000">
              <a:off x="3489840" y="284904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5253120" y="2619360"/>
              <a:ext cx="29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6568200" y="799560"/>
              <a:ext cx="0" cy="24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 rot="16200000">
              <a:off x="6374880" y="285408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5994360" y="1969920"/>
              <a:ext cx="573480" cy="6386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70" y="0"/>
                  </a:moveTo>
                  <a:lnTo>
                    <a:pt x="148" y="0"/>
                  </a:lnTo>
                  <a:lnTo>
                    <a:pt x="148" y="412"/>
                  </a:lnTo>
                  <a:lnTo>
                    <a:pt x="0" y="4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5533920" y="2295360"/>
              <a:ext cx="372240" cy="618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5526720" y="2238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5919840" y="2568600"/>
              <a:ext cx="73080" cy="7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5518080" y="25264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4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5240880" y="2622600"/>
              <a:ext cx="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 rot="16200000">
              <a:off x="5063400" y="2850840"/>
              <a:ext cx="351720" cy="13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5250240" y="5293440"/>
              <a:ext cx="372240" cy="72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5219280" y="5247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5622480" y="5577120"/>
              <a:ext cx="88200" cy="91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5196600" y="560520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4966560" y="3528000"/>
              <a:ext cx="125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7203960" y="5397120"/>
              <a:ext cx="0" cy="41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 flipV="1">
              <a:off x="7216920" y="5371200"/>
              <a:ext cx="215280" cy="17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7244280" y="5702400"/>
              <a:ext cx="250200" cy="19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7475040" y="5880960"/>
              <a:ext cx="0" cy="22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7346160" y="6129360"/>
              <a:ext cx="24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6428880" y="450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7429320" y="5370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4" name=""/>
            <p:cNvGrpSpPr/>
            <p:nvPr/>
          </p:nvGrpSpPr>
          <p:grpSpPr>
            <a:xfrm>
              <a:off x="6770880" y="3731040"/>
              <a:ext cx="985320" cy="1627200"/>
              <a:chOff x="6770880" y="3731040"/>
              <a:chExt cx="985320" cy="1627200"/>
            </a:xfrm>
          </p:grpSpPr>
          <p:sp>
            <p:nvSpPr>
              <p:cNvPr id="9705" name=""/>
              <p:cNvSpPr/>
              <p:nvPr/>
            </p:nvSpPr>
            <p:spPr>
              <a:xfrm>
                <a:off x="7435800" y="3828240"/>
                <a:ext cx="12240" cy="153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06" name=""/>
              <p:cNvGrpSpPr/>
              <p:nvPr/>
            </p:nvGrpSpPr>
            <p:grpSpPr>
              <a:xfrm>
                <a:off x="7153920" y="4513680"/>
                <a:ext cx="602280" cy="398880"/>
                <a:chOff x="7153920" y="4513680"/>
                <a:chExt cx="602280" cy="398880"/>
              </a:xfrm>
            </p:grpSpPr>
            <p:sp>
              <p:nvSpPr>
                <p:cNvPr id="9707" name=""/>
                <p:cNvSpPr/>
                <p:nvPr/>
              </p:nvSpPr>
              <p:spPr>
                <a:xfrm>
                  <a:off x="7153920" y="4516200"/>
                  <a:ext cx="548280" cy="365760"/>
                </a:xfrm>
                <a:prstGeom prst="rect">
                  <a:avLst/>
                </a:prstGeom>
                <a:solidFill>
                  <a:srgbClr val="ffffd1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8" name=""/>
                <p:cNvSpPr/>
                <p:nvPr/>
              </p:nvSpPr>
              <p:spPr>
                <a:xfrm>
                  <a:off x="7161480" y="4513680"/>
                  <a:ext cx="59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幼圆"/>
                    </a:rPr>
                    <a:t>K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9" name=""/>
              <p:cNvGrpSpPr/>
              <p:nvPr/>
            </p:nvGrpSpPr>
            <p:grpSpPr>
              <a:xfrm>
                <a:off x="6770880" y="4605840"/>
                <a:ext cx="305280" cy="221400"/>
                <a:chOff x="6770880" y="4605840"/>
                <a:chExt cx="305280" cy="221400"/>
              </a:xfrm>
            </p:grpSpPr>
            <p:sp>
              <p:nvSpPr>
                <p:cNvPr id="9710" name=""/>
                <p:cNvSpPr/>
                <p:nvPr/>
              </p:nvSpPr>
              <p:spPr>
                <a:xfrm rot="21540000">
                  <a:off x="6784560" y="4620600"/>
                  <a:ext cx="280080" cy="2041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1" name=""/>
                <p:cNvSpPr/>
                <p:nvPr/>
              </p:nvSpPr>
              <p:spPr>
                <a:xfrm flipV="1">
                  <a:off x="6770880" y="4605840"/>
                  <a:ext cx="305280" cy="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2" name=""/>
              <p:cNvSpPr/>
              <p:nvPr/>
            </p:nvSpPr>
            <p:spPr>
              <a:xfrm>
                <a:off x="6924240" y="4223880"/>
                <a:ext cx="522000" cy="853920"/>
              </a:xfrm>
              <a:custGeom>
                <a:avLst/>
                <a:gdLst/>
                <a:ahLst/>
                <a:rect l="l" t="t" r="r" b="b"/>
                <a:pathLst>
                  <a:path w="337" h="551">
                    <a:moveTo>
                      <a:pt x="329" y="0"/>
                    </a:moveTo>
                    <a:lnTo>
                      <a:pt x="8" y="0"/>
                    </a:lnTo>
                    <a:lnTo>
                      <a:pt x="0" y="551"/>
                    </a:lnTo>
                    <a:lnTo>
                      <a:pt x="337" y="55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7406280" y="3731040"/>
                <a:ext cx="69840" cy="77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4" name=""/>
            <p:cNvSpPr/>
            <p:nvPr/>
          </p:nvSpPr>
          <p:spPr>
            <a:xfrm>
              <a:off x="7465680" y="354204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+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8031600" y="1314360"/>
              <a:ext cx="153360" cy="331560"/>
            </a:xfrm>
            <a:custGeom>
              <a:avLst/>
              <a:gdLst/>
              <a:ahLst/>
              <a:rect l="l" t="t" r="r" b="b"/>
              <a:pathLst>
                <a:path w="107" h="214">
                  <a:moveTo>
                    <a:pt x="0" y="0"/>
                  </a:moveTo>
                  <a:lnTo>
                    <a:pt x="0" y="214"/>
                  </a:lnTo>
                  <a:lnTo>
                    <a:pt x="107" y="2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8158680" y="1594800"/>
              <a:ext cx="189000" cy="294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17" name=""/>
            <p:cNvGrpSpPr/>
            <p:nvPr/>
          </p:nvGrpSpPr>
          <p:grpSpPr>
            <a:xfrm>
              <a:off x="7830000" y="2242440"/>
              <a:ext cx="253800" cy="509400"/>
              <a:chOff x="7830000" y="2242440"/>
              <a:chExt cx="253800" cy="509400"/>
            </a:xfrm>
          </p:grpSpPr>
          <p:sp>
            <p:nvSpPr>
              <p:cNvPr id="9718" name=""/>
              <p:cNvSpPr/>
              <p:nvPr/>
            </p:nvSpPr>
            <p:spPr>
              <a:xfrm>
                <a:off x="7830000" y="2256480"/>
                <a:ext cx="0" cy="41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 flipV="1">
                <a:off x="7830000" y="2242440"/>
                <a:ext cx="185040" cy="20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852320" y="2536560"/>
                <a:ext cx="231480" cy="21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1" name=""/>
            <p:cNvSpPr/>
            <p:nvPr/>
          </p:nvSpPr>
          <p:spPr>
            <a:xfrm>
              <a:off x="8031600" y="1799280"/>
              <a:ext cx="139320" cy="433800"/>
            </a:xfrm>
            <a:custGeom>
              <a:avLst/>
              <a:gdLst/>
              <a:ahLst/>
              <a:rect l="l" t="t" r="r" b="b"/>
              <a:pathLst>
                <a:path w="90" h="280">
                  <a:moveTo>
                    <a:pt x="0" y="280"/>
                  </a:moveTo>
                  <a:lnTo>
                    <a:pt x="0" y="0"/>
                  </a:lnTo>
                  <a:lnTo>
                    <a:pt x="9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7999200" y="1211760"/>
              <a:ext cx="69480" cy="88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3" name=""/>
            <p:cNvGrpSpPr/>
            <p:nvPr/>
          </p:nvGrpSpPr>
          <p:grpSpPr>
            <a:xfrm>
              <a:off x="7943040" y="2760480"/>
              <a:ext cx="227160" cy="395280"/>
              <a:chOff x="7943040" y="2760480"/>
              <a:chExt cx="227160" cy="395280"/>
            </a:xfrm>
          </p:grpSpPr>
          <p:sp>
            <p:nvSpPr>
              <p:cNvPr id="9724" name=""/>
              <p:cNvSpPr/>
              <p:nvPr/>
            </p:nvSpPr>
            <p:spPr>
              <a:xfrm>
                <a:off x="8062920" y="2760480"/>
                <a:ext cx="0" cy="3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943040" y="3155760"/>
                <a:ext cx="22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6" name=""/>
            <p:cNvSpPr/>
            <p:nvPr/>
          </p:nvSpPr>
          <p:spPr>
            <a:xfrm>
              <a:off x="8367840" y="15174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8047080" y="1002600"/>
              <a:ext cx="9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+12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8013240" y="2232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7659360" y="2490840"/>
              <a:ext cx="16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6315480" y="3588120"/>
              <a:ext cx="0" cy="20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7239240" y="2418120"/>
              <a:ext cx="382680" cy="13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6225480" y="2468880"/>
              <a:ext cx="0" cy="10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966560" y="3528000"/>
              <a:ext cx="0" cy="21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4994640" y="5651280"/>
              <a:ext cx="28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881280" y="254160"/>
              <a:ext cx="292680" cy="122472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6" name=""/>
            <p:cNvSpPr/>
            <p:nvPr/>
          </p:nvSpPr>
          <p:spPr>
            <a:xfrm flipV="1">
              <a:off x="893880" y="1224000"/>
              <a:ext cx="5664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879840" y="942120"/>
              <a:ext cx="1258920" cy="1683360"/>
            </a:xfrm>
            <a:custGeom>
              <a:avLst/>
              <a:gdLst/>
              <a:ahLst/>
              <a:rect l="l" t="t" r="r" b="b"/>
              <a:pathLst>
                <a:path w="790" h="1037">
                  <a:moveTo>
                    <a:pt x="790" y="1037"/>
                  </a:moveTo>
                  <a:lnTo>
                    <a:pt x="790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879840" y="700560"/>
              <a:ext cx="2793960" cy="1900080"/>
            </a:xfrm>
            <a:custGeom>
              <a:avLst/>
              <a:gdLst/>
              <a:ahLst/>
              <a:rect l="l" t="t" r="r" b="b"/>
              <a:pathLst>
                <a:path w="1794" h="1193">
                  <a:moveTo>
                    <a:pt x="1794" y="1193"/>
                  </a:moveTo>
                  <a:lnTo>
                    <a:pt x="179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881280" y="484920"/>
              <a:ext cx="4362480" cy="2115720"/>
            </a:xfrm>
            <a:custGeom>
              <a:avLst/>
              <a:gdLst/>
              <a:ahLst/>
              <a:rect l="l" t="t" r="r" b="b"/>
              <a:pathLst>
                <a:path w="1794" h="1193">
                  <a:moveTo>
                    <a:pt x="1794" y="1193"/>
                  </a:moveTo>
                  <a:lnTo>
                    <a:pt x="179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0" name=""/>
            <p:cNvGrpSpPr/>
            <p:nvPr/>
          </p:nvGrpSpPr>
          <p:grpSpPr>
            <a:xfrm>
              <a:off x="1663920" y="1473120"/>
              <a:ext cx="305280" cy="221400"/>
              <a:chOff x="1663920" y="1473120"/>
              <a:chExt cx="305280" cy="221400"/>
            </a:xfrm>
          </p:grpSpPr>
          <p:sp>
            <p:nvSpPr>
              <p:cNvPr id="9741" name=""/>
              <p:cNvSpPr/>
              <p:nvPr/>
            </p:nvSpPr>
            <p:spPr>
              <a:xfrm rot="21540000">
                <a:off x="1677600" y="1487880"/>
                <a:ext cx="280080" cy="204120"/>
              </a:xfrm>
              <a:prstGeom prst="triangle">
                <a:avLst>
                  <a:gd name="adj" fmla="val 50000"/>
                </a:avLst>
              </a:prstGeom>
              <a:solidFill>
                <a:srgbClr val="ffffd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 flipV="1">
                <a:off x="1663920" y="1473120"/>
                <a:ext cx="30528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3" name=""/>
            <p:cNvSpPr/>
            <p:nvPr/>
          </p:nvSpPr>
          <p:spPr>
            <a:xfrm>
              <a:off x="867240" y="2337480"/>
              <a:ext cx="371880" cy="61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861120" y="2239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1253520" y="2597760"/>
              <a:ext cx="72720" cy="78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586800" y="2620800"/>
              <a:ext cx="29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1817640" y="1233720"/>
              <a:ext cx="0" cy="20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8" name=""/>
            <p:cNvSpPr/>
            <p:nvPr/>
          </p:nvSpPr>
          <p:spPr>
            <a:xfrm rot="16200000">
              <a:off x="1652400" y="257184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1314000" y="1999440"/>
              <a:ext cx="477360" cy="6386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70" y="0"/>
                  </a:moveTo>
                  <a:lnTo>
                    <a:pt x="148" y="0"/>
                  </a:lnTo>
                  <a:lnTo>
                    <a:pt x="148" y="412"/>
                  </a:lnTo>
                  <a:lnTo>
                    <a:pt x="0" y="4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0" name=""/>
            <p:cNvSpPr/>
            <p:nvPr/>
          </p:nvSpPr>
          <p:spPr>
            <a:xfrm rot="16200000">
              <a:off x="1323720" y="225252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851760" y="25700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574560" y="2624040"/>
              <a:ext cx="0" cy="66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3" name=""/>
            <p:cNvSpPr/>
            <p:nvPr/>
          </p:nvSpPr>
          <p:spPr>
            <a:xfrm rot="16200000">
              <a:off x="396720" y="285228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6535440" y="763920"/>
              <a:ext cx="69480" cy="6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6526440" y="622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+6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574560" y="1108080"/>
              <a:ext cx="599760" cy="1504800"/>
            </a:xfrm>
            <a:custGeom>
              <a:avLst/>
              <a:gdLst/>
              <a:ahLst/>
              <a:rect l="l" t="t" r="r" b="b"/>
              <a:pathLst>
                <a:path w="387" h="971">
                  <a:moveTo>
                    <a:pt x="0" y="971"/>
                  </a:moveTo>
                  <a:lnTo>
                    <a:pt x="0" y="0"/>
                  </a:lnTo>
                  <a:lnTo>
                    <a:pt x="387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512640" y="1066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1201680" y="863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534960" y="773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533520" y="49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539640" y="26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5724720" y="5639040"/>
              <a:ext cx="150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6975720" y="2500200"/>
              <a:ext cx="24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4" name=""/>
            <p:cNvGrpSpPr/>
            <p:nvPr/>
          </p:nvGrpSpPr>
          <p:grpSpPr>
            <a:xfrm>
              <a:off x="7823880" y="4155480"/>
              <a:ext cx="1096920" cy="967320"/>
              <a:chOff x="7823880" y="4155480"/>
              <a:chExt cx="1096920" cy="967320"/>
            </a:xfrm>
          </p:grpSpPr>
          <p:sp>
            <p:nvSpPr>
              <p:cNvPr id="9765" name=""/>
              <p:cNvSpPr/>
              <p:nvPr/>
            </p:nvSpPr>
            <p:spPr>
              <a:xfrm>
                <a:off x="7823880" y="4836600"/>
                <a:ext cx="675360" cy="286200"/>
              </a:xfrm>
              <a:custGeom>
                <a:avLst/>
                <a:gdLst/>
                <a:ahLst/>
                <a:rect l="l" t="t" r="r" b="b"/>
                <a:pathLst>
                  <a:path w="181" h="370">
                    <a:moveTo>
                      <a:pt x="0" y="0"/>
                    </a:moveTo>
                    <a:lnTo>
                      <a:pt x="0" y="370"/>
                    </a:lnTo>
                    <a:lnTo>
                      <a:pt x="181" y="36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8130600" y="4299480"/>
                <a:ext cx="790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电动机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控制电路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 flipH="1">
                <a:off x="7828200" y="4501800"/>
                <a:ext cx="204480" cy="3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 flipH="1">
                <a:off x="7823880" y="4552920"/>
                <a:ext cx="1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 flipV="1">
                <a:off x="7826400" y="4155120"/>
                <a:ext cx="675720" cy="358200"/>
              </a:xfrm>
              <a:custGeom>
                <a:avLst/>
                <a:gdLst/>
                <a:ahLst/>
                <a:rect l="l" t="t" r="r" b="b"/>
                <a:pathLst>
                  <a:path w="181" h="370">
                    <a:moveTo>
                      <a:pt x="0" y="0"/>
                    </a:moveTo>
                    <a:lnTo>
                      <a:pt x="0" y="370"/>
                    </a:lnTo>
                    <a:lnTo>
                      <a:pt x="181" y="36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0" name=""/>
            <p:cNvSpPr/>
            <p:nvPr/>
          </p:nvSpPr>
          <p:spPr>
            <a:xfrm>
              <a:off x="6566400" y="5554080"/>
              <a:ext cx="382680" cy="13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324480" y="3574080"/>
              <a:ext cx="65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975720" y="2500200"/>
              <a:ext cx="0" cy="10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2887560" y="1979280"/>
              <a:ext cx="418680" cy="6386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70" y="0"/>
                  </a:moveTo>
                  <a:lnTo>
                    <a:pt x="148" y="0"/>
                  </a:lnTo>
                  <a:lnTo>
                    <a:pt x="148" y="412"/>
                  </a:lnTo>
                  <a:lnTo>
                    <a:pt x="0" y="4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4" name=""/>
            <p:cNvGrpSpPr/>
            <p:nvPr/>
          </p:nvGrpSpPr>
          <p:grpSpPr>
            <a:xfrm>
              <a:off x="1985760" y="1296000"/>
              <a:ext cx="239400" cy="365400"/>
              <a:chOff x="1985760" y="1296000"/>
              <a:chExt cx="239400" cy="365400"/>
            </a:xfrm>
          </p:grpSpPr>
          <p:sp>
            <p:nvSpPr>
              <p:cNvPr id="9775" name=""/>
              <p:cNvSpPr/>
              <p:nvPr/>
            </p:nvSpPr>
            <p:spPr>
              <a:xfrm flipV="1">
                <a:off x="2073240" y="1344960"/>
                <a:ext cx="151920" cy="316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 flipV="1">
                <a:off x="1985760" y="1296000"/>
                <a:ext cx="163800" cy="34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7" name=""/>
            <p:cNvGrpSpPr/>
            <p:nvPr/>
          </p:nvGrpSpPr>
          <p:grpSpPr>
            <a:xfrm>
              <a:off x="3441240" y="1286280"/>
              <a:ext cx="239400" cy="365040"/>
              <a:chOff x="3441240" y="1286280"/>
              <a:chExt cx="239400" cy="365040"/>
            </a:xfrm>
          </p:grpSpPr>
          <p:sp>
            <p:nvSpPr>
              <p:cNvPr id="9778" name=""/>
              <p:cNvSpPr/>
              <p:nvPr/>
            </p:nvSpPr>
            <p:spPr>
              <a:xfrm flipV="1">
                <a:off x="3528720" y="1335240"/>
                <a:ext cx="151920" cy="316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 flipV="1">
                <a:off x="3441240" y="1286280"/>
                <a:ext cx="163800" cy="34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0" name=""/>
            <p:cNvGrpSpPr/>
            <p:nvPr/>
          </p:nvGrpSpPr>
          <p:grpSpPr>
            <a:xfrm>
              <a:off x="5013360" y="1296000"/>
              <a:ext cx="239400" cy="365400"/>
              <a:chOff x="5013360" y="1296000"/>
              <a:chExt cx="239400" cy="365400"/>
            </a:xfrm>
          </p:grpSpPr>
          <p:sp>
            <p:nvSpPr>
              <p:cNvPr id="9781" name=""/>
              <p:cNvSpPr/>
              <p:nvPr/>
            </p:nvSpPr>
            <p:spPr>
              <a:xfrm flipV="1">
                <a:off x="5100840" y="1344960"/>
                <a:ext cx="151920" cy="316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 flipV="1">
                <a:off x="5013360" y="1296000"/>
                <a:ext cx="163800" cy="34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3" name=""/>
            <p:cNvSpPr/>
            <p:nvPr/>
          </p:nvSpPr>
          <p:spPr>
            <a:xfrm>
              <a:off x="4436280" y="1979280"/>
              <a:ext cx="418680" cy="6386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70" y="0"/>
                  </a:moveTo>
                  <a:lnTo>
                    <a:pt x="148" y="0"/>
                  </a:lnTo>
                  <a:lnTo>
                    <a:pt x="148" y="412"/>
                  </a:lnTo>
                  <a:lnTo>
                    <a:pt x="0" y="4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4" name=""/>
            <p:cNvGrpSpPr/>
            <p:nvPr/>
          </p:nvGrpSpPr>
          <p:grpSpPr>
            <a:xfrm>
              <a:off x="6762240" y="1296000"/>
              <a:ext cx="239400" cy="365400"/>
              <a:chOff x="6762240" y="1296000"/>
              <a:chExt cx="239400" cy="365400"/>
            </a:xfrm>
          </p:grpSpPr>
          <p:sp>
            <p:nvSpPr>
              <p:cNvPr id="9785" name=""/>
              <p:cNvSpPr/>
              <p:nvPr/>
            </p:nvSpPr>
            <p:spPr>
              <a:xfrm flipV="1">
                <a:off x="6849720" y="1344960"/>
                <a:ext cx="151920" cy="316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 flipV="1">
                <a:off x="6762240" y="1296000"/>
                <a:ext cx="163800" cy="34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7" name=""/>
            <p:cNvSpPr/>
            <p:nvPr/>
          </p:nvSpPr>
          <p:spPr>
            <a:xfrm rot="16200000">
              <a:off x="2872800" y="222156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 rot="16200000">
              <a:off x="4430520" y="222156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9" name=""/>
            <p:cNvSpPr/>
            <p:nvPr/>
          </p:nvSpPr>
          <p:spPr>
            <a:xfrm rot="16200000">
              <a:off x="6044760" y="2221560"/>
              <a:ext cx="351720" cy="13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1689120" y="273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检测杆铜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3" dur="indefinite" restart="never" nodeType="tmRoot">
          <p:childTnLst>
            <p:seq>
              <p:cTn id="4554" dur="indefinite" nodeType="mainSeq">
                <p:childTnLst>
                  <p:par>
                    <p:cTn id="4555" nodeType="clickEffect" fill="hold">
                      <p:stCondLst>
                        <p:cond delay="indefinite"/>
                      </p:stCondLst>
                      <p:childTnLst>
                        <p:par>
                          <p:cTn id="4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559" dur="500"/>
                                        <p:tgtEl>
                                          <p:spTgt spid="9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或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8480" y="114300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38080" y="1676520"/>
            <a:ext cx="609840" cy="1755000"/>
            <a:chOff x="838080" y="1676520"/>
            <a:chExt cx="609840" cy="1755000"/>
          </a:xfrm>
        </p:grpSpPr>
        <p:sp>
          <p:nvSpPr>
            <p:cNvPr id="672" name=""/>
            <p:cNvSpPr/>
            <p:nvPr/>
          </p:nvSpPr>
          <p:spPr>
            <a:xfrm>
              <a:off x="838080" y="2362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80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8080" y="29718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838080" y="1600200"/>
            <a:ext cx="609480" cy="1831320"/>
            <a:chOff x="838080" y="1600200"/>
            <a:chExt cx="609480" cy="1831320"/>
          </a:xfrm>
        </p:grpSpPr>
        <p:pic>
          <p:nvPicPr>
            <p:cNvPr id="676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45720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7" name=""/>
            <p:cNvGrpSpPr/>
            <p:nvPr/>
          </p:nvGrpSpPr>
          <p:grpSpPr>
            <a:xfrm>
              <a:off x="838080" y="1676520"/>
              <a:ext cx="609480" cy="1755000"/>
              <a:chOff x="838080" y="1676520"/>
              <a:chExt cx="609480" cy="1755000"/>
            </a:xfrm>
          </p:grpSpPr>
          <p:sp>
            <p:nvSpPr>
              <p:cNvPr id="678" name=""/>
              <p:cNvSpPr/>
              <p:nvPr/>
            </p:nvSpPr>
            <p:spPr>
              <a:xfrm>
                <a:off x="838080" y="2362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3808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0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38080" y="2971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914400" y="1600200"/>
            <a:ext cx="609480" cy="1831320"/>
            <a:chOff x="914400" y="1600200"/>
            <a:chExt cx="609480" cy="1831320"/>
          </a:xfrm>
        </p:grpSpPr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45720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914400" y="1676520"/>
              <a:ext cx="609480" cy="1755000"/>
              <a:chOff x="914400" y="1676520"/>
              <a:chExt cx="609480" cy="1755000"/>
            </a:xfrm>
          </p:grpSpPr>
          <p:sp>
            <p:nvSpPr>
              <p:cNvPr id="684" name=""/>
              <p:cNvSpPr/>
              <p:nvPr/>
            </p:nvSpPr>
            <p:spPr>
              <a:xfrm>
                <a:off x="914400" y="2362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1440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14400" y="2971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/>
          <p:cNvSpPr/>
          <p:nvPr/>
        </p:nvSpPr>
        <p:spPr>
          <a:xfrm>
            <a:off x="350532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181480" y="1981080"/>
            <a:ext cx="2743200" cy="520560"/>
            <a:chOff x="5181480" y="1981080"/>
            <a:chExt cx="2743200" cy="520560"/>
          </a:xfrm>
        </p:grpSpPr>
        <p:grpSp>
          <p:nvGrpSpPr>
            <p:cNvPr id="689" name=""/>
            <p:cNvGrpSpPr/>
            <p:nvPr/>
          </p:nvGrpSpPr>
          <p:grpSpPr>
            <a:xfrm>
              <a:off x="5181480" y="1981080"/>
              <a:ext cx="2057400" cy="520560"/>
              <a:chOff x="5181480" y="1981080"/>
              <a:chExt cx="2057400" cy="520560"/>
            </a:xfrm>
          </p:grpSpPr>
          <p:sp>
            <p:nvSpPr>
              <p:cNvPr id="690" name=""/>
              <p:cNvSpPr/>
              <p:nvPr/>
            </p:nvSpPr>
            <p:spPr>
              <a:xfrm>
                <a:off x="51814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4360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816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746748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181480" y="2362320"/>
            <a:ext cx="2743200" cy="520560"/>
            <a:chOff x="5181480" y="2362320"/>
            <a:chExt cx="2743200" cy="520560"/>
          </a:xfrm>
        </p:grpSpPr>
        <p:grpSp>
          <p:nvGrpSpPr>
            <p:cNvPr id="695" name=""/>
            <p:cNvGrpSpPr/>
            <p:nvPr/>
          </p:nvGrpSpPr>
          <p:grpSpPr>
            <a:xfrm>
              <a:off x="5181480" y="2362320"/>
              <a:ext cx="2057400" cy="520560"/>
              <a:chOff x="5181480" y="2362320"/>
              <a:chExt cx="2057400" cy="520560"/>
            </a:xfrm>
          </p:grpSpPr>
          <p:sp>
            <p:nvSpPr>
              <p:cNvPr id="696" name=""/>
              <p:cNvSpPr/>
              <p:nvPr/>
            </p:nvSpPr>
            <p:spPr>
              <a:xfrm>
                <a:off x="51814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4360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7816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746748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81480" y="2743200"/>
            <a:ext cx="2743200" cy="2044440"/>
            <a:chOff x="5181480" y="2743200"/>
            <a:chExt cx="2743200" cy="2044440"/>
          </a:xfrm>
        </p:grpSpPr>
        <p:grpSp>
          <p:nvGrpSpPr>
            <p:cNvPr id="701" name=""/>
            <p:cNvGrpSpPr/>
            <p:nvPr/>
          </p:nvGrpSpPr>
          <p:grpSpPr>
            <a:xfrm>
              <a:off x="5181480" y="3886200"/>
              <a:ext cx="2743200" cy="520560"/>
              <a:chOff x="5181480" y="3886200"/>
              <a:chExt cx="2743200" cy="52056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5181480" y="3886200"/>
                <a:ext cx="2057400" cy="520560"/>
                <a:chOff x="5181480" y="3886200"/>
                <a:chExt cx="2057400" cy="5205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1814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4360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8168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7467480" y="3886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181480" y="4267080"/>
              <a:ext cx="2743200" cy="520560"/>
              <a:chOff x="5181480" y="4267080"/>
              <a:chExt cx="2743200" cy="52056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5181480" y="4267080"/>
                <a:ext cx="2057400" cy="520560"/>
                <a:chOff x="5181480" y="4267080"/>
                <a:chExt cx="2057400" cy="5205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1814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9436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78168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7467480" y="426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181480" y="3505320"/>
              <a:ext cx="2743200" cy="520560"/>
              <a:chOff x="5181480" y="3505320"/>
              <a:chExt cx="2743200" cy="52056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5181480" y="3505320"/>
                <a:ext cx="2057400" cy="520560"/>
                <a:chOff x="5181480" y="3505320"/>
                <a:chExt cx="2057400" cy="5205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1814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94360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781680" y="3505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7467480" y="3505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181480" y="3124080"/>
              <a:ext cx="2743200" cy="520560"/>
              <a:chOff x="5181480" y="3124080"/>
              <a:chExt cx="2743200" cy="52056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181480" y="3124080"/>
                <a:ext cx="2057400" cy="520560"/>
                <a:chOff x="5181480" y="3124080"/>
                <a:chExt cx="2057400" cy="5205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1814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94360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78168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7467480" y="3124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181480" y="2743200"/>
              <a:ext cx="2743200" cy="520560"/>
              <a:chOff x="5181480" y="2743200"/>
              <a:chExt cx="2743200" cy="5205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5181480" y="2743200"/>
                <a:ext cx="2057400" cy="520560"/>
                <a:chOff x="5181480" y="2743200"/>
                <a:chExt cx="2057400" cy="5205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51814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94360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7816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746748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1" name=""/>
          <p:cNvGrpSpPr/>
          <p:nvPr/>
        </p:nvGrpSpPr>
        <p:grpSpPr>
          <a:xfrm>
            <a:off x="5181480" y="4648320"/>
            <a:ext cx="2743200" cy="520560"/>
            <a:chOff x="5181480" y="4648320"/>
            <a:chExt cx="2743200" cy="520560"/>
          </a:xfrm>
        </p:grpSpPr>
        <p:grpSp>
          <p:nvGrpSpPr>
            <p:cNvPr id="732" name=""/>
            <p:cNvGrpSpPr/>
            <p:nvPr/>
          </p:nvGrpSpPr>
          <p:grpSpPr>
            <a:xfrm>
              <a:off x="5181480" y="4648320"/>
              <a:ext cx="2057400" cy="520560"/>
              <a:chOff x="5181480" y="4648320"/>
              <a:chExt cx="2057400" cy="520560"/>
            </a:xfrm>
          </p:grpSpPr>
          <p:sp>
            <p:nvSpPr>
              <p:cNvPr id="733" name=""/>
              <p:cNvSpPr/>
              <p:nvPr/>
            </p:nvSpPr>
            <p:spPr>
              <a:xfrm>
                <a:off x="51814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94360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81680" y="4648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746748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876920" y="914400"/>
            <a:ext cx="3047760" cy="4191120"/>
            <a:chOff x="4876920" y="914400"/>
            <a:chExt cx="3047760" cy="4191120"/>
          </a:xfrm>
        </p:grpSpPr>
        <p:sp>
          <p:nvSpPr>
            <p:cNvPr id="738" name=""/>
            <p:cNvSpPr/>
            <p:nvPr/>
          </p:nvSpPr>
          <p:spPr>
            <a:xfrm>
              <a:off x="5181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4360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674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5308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1500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05520" y="198108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76920" y="51055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91520" y="14479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81680" y="1447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05520" y="144792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32760" y="91440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或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505320" y="3352680"/>
            <a:ext cx="609480" cy="459720"/>
            <a:chOff x="3505320" y="3352680"/>
            <a:chExt cx="609480" cy="459720"/>
          </a:xfrm>
        </p:grpSpPr>
        <p:pic>
          <p:nvPicPr>
            <p:cNvPr id="750" name="" descr=""/>
            <p:cNvPicPr/>
            <p:nvPr/>
          </p:nvPicPr>
          <p:blipFill>
            <a:blip r:embed="rId3"/>
            <a:stretch/>
          </p:blipFill>
          <p:spPr>
            <a:xfrm>
              <a:off x="3581280" y="3429000"/>
              <a:ext cx="456840" cy="32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50532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505320" y="3352680"/>
            <a:ext cx="609480" cy="459720"/>
            <a:chOff x="3505320" y="3352680"/>
            <a:chExt cx="609480" cy="459720"/>
          </a:xfrm>
        </p:grpSpPr>
        <p:pic>
          <p:nvPicPr>
            <p:cNvPr id="753" name="" descr=""/>
            <p:cNvPicPr/>
            <p:nvPr/>
          </p:nvPicPr>
          <p:blipFill>
            <a:blip r:embed="rId4"/>
            <a:stretch/>
          </p:blipFill>
          <p:spPr>
            <a:xfrm>
              <a:off x="3581280" y="3429000"/>
              <a:ext cx="456840" cy="32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350532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3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295280" y="1447920"/>
            <a:ext cx="2743200" cy="3421440"/>
            <a:chOff x="1295280" y="1447920"/>
            <a:chExt cx="2743200" cy="3421440"/>
          </a:xfrm>
        </p:grpSpPr>
        <p:sp>
          <p:nvSpPr>
            <p:cNvPr id="756" name=""/>
            <p:cNvSpPr/>
            <p:nvPr/>
          </p:nvSpPr>
          <p:spPr>
            <a:xfrm>
              <a:off x="3047760" y="4038480"/>
              <a:ext cx="0" cy="2487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47760" y="1981080"/>
              <a:ext cx="0" cy="15584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47760" y="4190760"/>
              <a:ext cx="914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-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2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24080" y="358128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33360" y="14479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33360" y="281916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71240" y="167616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952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71440" y="3539880"/>
              <a:ext cx="168480" cy="49824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81280" y="3047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7760" y="32335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04960" y="3162240"/>
              <a:ext cx="115920" cy="115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84400" y="4267080"/>
              <a:ext cx="115920" cy="115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57040" y="213336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"/>
                </a:rPr>
                <a:t>D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95280" y="2971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1752480" y="3049200"/>
              <a:ext cx="1311120" cy="340920"/>
              <a:chOff x="1752480" y="3049200"/>
              <a:chExt cx="1311120" cy="340920"/>
            </a:xfrm>
          </p:grpSpPr>
          <p:sp>
            <p:nvSpPr>
              <p:cNvPr id="772" name=""/>
              <p:cNvSpPr/>
              <p:nvPr/>
            </p:nvSpPr>
            <p:spPr>
              <a:xfrm>
                <a:off x="3012840" y="3199680"/>
                <a:ext cx="50760" cy="50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57240" y="3225240"/>
                <a:ext cx="1185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52480" y="316656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2212200" y="3049200"/>
                <a:ext cx="343080" cy="340920"/>
                <a:chOff x="2212200" y="3049200"/>
                <a:chExt cx="343080" cy="340920"/>
              </a:xfrm>
            </p:grpSpPr>
            <p:sp>
              <p:nvSpPr>
                <p:cNvPr id="776" name=""/>
                <p:cNvSpPr/>
                <p:nvPr/>
              </p:nvSpPr>
              <p:spPr>
                <a:xfrm rot="5400000">
                  <a:off x="2236680" y="3067200"/>
                  <a:ext cx="255960" cy="304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55280" y="3049200"/>
                  <a:ext cx="0" cy="34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"/>
            <p:cNvGrpSpPr/>
            <p:nvPr/>
          </p:nvGrpSpPr>
          <p:grpSpPr>
            <a:xfrm>
              <a:off x="1752480" y="2438280"/>
              <a:ext cx="1290600" cy="340560"/>
              <a:chOff x="1752480" y="2438280"/>
              <a:chExt cx="1290600" cy="340560"/>
            </a:xfrm>
          </p:grpSpPr>
          <p:sp>
            <p:nvSpPr>
              <p:cNvPr id="779" name=""/>
              <p:cNvSpPr/>
              <p:nvPr/>
            </p:nvSpPr>
            <p:spPr>
              <a:xfrm>
                <a:off x="1857240" y="2613960"/>
                <a:ext cx="1185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52480" y="255528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2212200" y="2438280"/>
                <a:ext cx="343080" cy="340560"/>
                <a:chOff x="2212200" y="2438280"/>
                <a:chExt cx="343080" cy="340560"/>
              </a:xfrm>
            </p:grpSpPr>
            <p:sp>
              <p:nvSpPr>
                <p:cNvPr id="782" name=""/>
                <p:cNvSpPr/>
                <p:nvPr/>
              </p:nvSpPr>
              <p:spPr>
                <a:xfrm rot="5400000">
                  <a:off x="2236680" y="2455920"/>
                  <a:ext cx="255600" cy="304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555280" y="2438280"/>
                  <a:ext cx="0" cy="340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4" name=""/>
            <p:cNvGrpSpPr/>
            <p:nvPr/>
          </p:nvGrpSpPr>
          <p:grpSpPr>
            <a:xfrm>
              <a:off x="1752480" y="1793520"/>
              <a:ext cx="1290600" cy="340560"/>
              <a:chOff x="1752480" y="1793520"/>
              <a:chExt cx="1290600" cy="340560"/>
            </a:xfrm>
          </p:grpSpPr>
          <p:sp>
            <p:nvSpPr>
              <p:cNvPr id="785" name=""/>
              <p:cNvSpPr/>
              <p:nvPr/>
            </p:nvSpPr>
            <p:spPr>
              <a:xfrm>
                <a:off x="1857240" y="1969200"/>
                <a:ext cx="1185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52480" y="19105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2212200" y="1793520"/>
                <a:ext cx="343080" cy="340560"/>
                <a:chOff x="2212200" y="1793520"/>
                <a:chExt cx="343080" cy="340560"/>
              </a:xfrm>
            </p:grpSpPr>
            <p:sp>
              <p:nvSpPr>
                <p:cNvPr id="788" name=""/>
                <p:cNvSpPr/>
                <p:nvPr/>
              </p:nvSpPr>
              <p:spPr>
                <a:xfrm rot="5400000">
                  <a:off x="2236680" y="1811160"/>
                  <a:ext cx="255600" cy="304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555280" y="1793520"/>
                  <a:ext cx="0" cy="340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90" name=""/>
          <p:cNvGrpSpPr/>
          <p:nvPr/>
        </p:nvGrpSpPr>
        <p:grpSpPr>
          <a:xfrm>
            <a:off x="1828800" y="1981080"/>
            <a:ext cx="1143000" cy="2362320"/>
            <a:chOff x="1828800" y="1981080"/>
            <a:chExt cx="1143000" cy="2362320"/>
          </a:xfrm>
        </p:grpSpPr>
        <p:sp>
          <p:nvSpPr>
            <p:cNvPr id="791" name=""/>
            <p:cNvSpPr/>
            <p:nvPr/>
          </p:nvSpPr>
          <p:spPr>
            <a:xfrm>
              <a:off x="1828800" y="198108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28800" y="259092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28800" y="3200400"/>
              <a:ext cx="10666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71800" y="1981080"/>
              <a:ext cx="0" cy="23623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905120" y="3276720"/>
            <a:ext cx="990360" cy="990360"/>
            <a:chOff x="1905120" y="3276720"/>
            <a:chExt cx="990360" cy="990360"/>
          </a:xfrm>
        </p:grpSpPr>
        <p:sp>
          <p:nvSpPr>
            <p:cNvPr id="796" name=""/>
            <p:cNvSpPr/>
            <p:nvPr/>
          </p:nvSpPr>
          <p:spPr>
            <a:xfrm>
              <a:off x="1905120" y="327672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5480" y="327672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1828800" y="1981080"/>
            <a:ext cx="1143000" cy="2362320"/>
            <a:chOff x="1828800" y="1981080"/>
            <a:chExt cx="1143000" cy="2362320"/>
          </a:xfrm>
        </p:grpSpPr>
        <p:sp>
          <p:nvSpPr>
            <p:cNvPr id="799" name=""/>
            <p:cNvSpPr/>
            <p:nvPr/>
          </p:nvSpPr>
          <p:spPr>
            <a:xfrm>
              <a:off x="1828800" y="198108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259092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28800" y="3200400"/>
              <a:ext cx="10666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1800" y="1981080"/>
              <a:ext cx="0" cy="23623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902160" y="45957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78240" y="5715000"/>
            <a:ext cx="61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全为低电平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755360" y="51814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入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18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有一个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输出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3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54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56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5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8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59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59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0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0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1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785880" y="4572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极管“或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986400" y="1905120"/>
            <a:ext cx="3353040" cy="522000"/>
            <a:chOff x="986400" y="1905120"/>
            <a:chExt cx="3353040" cy="522000"/>
          </a:xfrm>
        </p:grpSpPr>
        <p:sp>
          <p:nvSpPr>
            <p:cNvPr id="808" name=""/>
            <p:cNvSpPr/>
            <p:nvPr/>
          </p:nvSpPr>
          <p:spPr>
            <a:xfrm>
              <a:off x="986400" y="190656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3)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逻辑关系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16520" y="190512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或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066680" y="2629080"/>
            <a:ext cx="3733920" cy="126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即：有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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709560" y="1273320"/>
            <a:ext cx="4114440" cy="581400"/>
            <a:chOff x="709560" y="1273320"/>
            <a:chExt cx="4114440" cy="581400"/>
          </a:xfrm>
        </p:grpSpPr>
        <p:sp>
          <p:nvSpPr>
            <p:cNvPr id="812" name=""/>
            <p:cNvSpPr/>
            <p:nvPr/>
          </p:nvSpPr>
          <p:spPr>
            <a:xfrm>
              <a:off x="2956320" y="1273320"/>
              <a:ext cx="186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A+B+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9560" y="12970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表达式：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14400" y="4145040"/>
            <a:ext cx="3581280" cy="1828800"/>
            <a:chOff x="914400" y="4145040"/>
            <a:chExt cx="3581280" cy="1828800"/>
          </a:xfrm>
        </p:grpSpPr>
        <p:sp>
          <p:nvSpPr>
            <p:cNvPr id="815" name=""/>
            <p:cNvSpPr/>
            <p:nvPr/>
          </p:nvSpPr>
          <p:spPr>
            <a:xfrm>
              <a:off x="914400" y="4145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38280" y="4830840"/>
              <a:ext cx="838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76520" y="5334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76520" y="56689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76720" y="5440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95280" y="46483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219320" y="5029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62520" y="5211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6520" y="50292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19320" y="5410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2514600" y="4724280"/>
              <a:ext cx="914400" cy="581400"/>
              <a:chOff x="2514600" y="4724280"/>
              <a:chExt cx="914400" cy="581400"/>
            </a:xfrm>
          </p:grpSpPr>
          <p:sp>
            <p:nvSpPr>
              <p:cNvPr id="826" name=""/>
              <p:cNvSpPr/>
              <p:nvPr/>
            </p:nvSpPr>
            <p:spPr>
              <a:xfrm>
                <a:off x="2514600" y="472428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"/>
                  </a:rPr>
                  <a:t>&gt;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2666520" y="5105520"/>
                <a:ext cx="22860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8" name=""/>
          <p:cNvGrpSpPr/>
          <p:nvPr/>
        </p:nvGrpSpPr>
        <p:grpSpPr>
          <a:xfrm>
            <a:off x="838080" y="990720"/>
            <a:ext cx="4886280" cy="171360"/>
            <a:chOff x="838080" y="990720"/>
            <a:chExt cx="4886280" cy="171360"/>
          </a:xfrm>
        </p:grpSpPr>
        <p:pic>
          <p:nvPicPr>
            <p:cNvPr id="829" name="" descr=""/>
            <p:cNvPicPr/>
            <p:nvPr/>
          </p:nvPicPr>
          <p:blipFill>
            <a:blip r:embed="rId2"/>
            <a:stretch/>
          </p:blipFill>
          <p:spPr>
            <a:xfrm>
              <a:off x="1743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3"/>
            <a:stretch/>
          </p:blipFill>
          <p:spPr>
            <a:xfrm>
              <a:off x="1886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4"/>
            <a:stretch/>
          </p:blipFill>
          <p:spPr>
            <a:xfrm>
              <a:off x="2048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5"/>
            <a:stretch/>
          </p:blipFill>
          <p:spPr>
            <a:xfrm>
              <a:off x="2343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6"/>
            <a:stretch/>
          </p:blipFill>
          <p:spPr>
            <a:xfrm>
              <a:off x="2505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7"/>
            <a:stretch/>
          </p:blipFill>
          <p:spPr>
            <a:xfrm>
              <a:off x="2657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8"/>
            <a:stretch/>
          </p:blipFill>
          <p:spPr>
            <a:xfrm>
              <a:off x="2800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9"/>
            <a:stretch/>
          </p:blipFill>
          <p:spPr>
            <a:xfrm>
              <a:off x="29624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0"/>
            <a:stretch/>
          </p:blipFill>
          <p:spPr>
            <a:xfrm>
              <a:off x="3257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1"/>
            <a:stretch/>
          </p:blipFill>
          <p:spPr>
            <a:xfrm>
              <a:off x="3419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2"/>
            <a:stretch/>
          </p:blipFill>
          <p:spPr>
            <a:xfrm>
              <a:off x="3571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13"/>
            <a:stretch/>
          </p:blipFill>
          <p:spPr>
            <a:xfrm>
              <a:off x="3714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14"/>
            <a:stretch/>
          </p:blipFill>
          <p:spPr>
            <a:xfrm>
              <a:off x="2200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15"/>
            <a:stretch/>
          </p:blipFill>
          <p:spPr>
            <a:xfrm>
              <a:off x="3114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16"/>
            <a:stretch/>
          </p:blipFill>
          <p:spPr>
            <a:xfrm>
              <a:off x="3876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17"/>
            <a:stretch/>
          </p:blipFill>
          <p:spPr>
            <a:xfrm>
              <a:off x="4029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18"/>
            <a:stretch/>
          </p:blipFill>
          <p:spPr>
            <a:xfrm>
              <a:off x="4172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19"/>
            <a:stretch/>
          </p:blipFill>
          <p:spPr>
            <a:xfrm>
              <a:off x="4334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20"/>
            <a:stretch/>
          </p:blipFill>
          <p:spPr>
            <a:xfrm>
              <a:off x="4486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1"/>
            <a:stretch/>
          </p:blipFill>
          <p:spPr>
            <a:xfrm>
              <a:off x="4629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22"/>
            <a:stretch/>
          </p:blipFill>
          <p:spPr>
            <a:xfrm>
              <a:off x="4791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23"/>
            <a:stretch/>
          </p:blipFill>
          <p:spPr>
            <a:xfrm>
              <a:off x="4943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1" name=""/>
            <p:cNvGrpSpPr/>
            <p:nvPr/>
          </p:nvGrpSpPr>
          <p:grpSpPr>
            <a:xfrm>
              <a:off x="838080" y="990720"/>
              <a:ext cx="923760" cy="161640"/>
              <a:chOff x="838080" y="990720"/>
              <a:chExt cx="923760" cy="161640"/>
            </a:xfrm>
          </p:grpSpPr>
          <p:pic>
            <p:nvPicPr>
              <p:cNvPr id="85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9810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1430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295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4382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6002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38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58" name="" descr=""/>
            <p:cNvPicPr/>
            <p:nvPr/>
          </p:nvPicPr>
          <p:blipFill>
            <a:blip r:embed="rId30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31"/>
            <a:stretch/>
          </p:blipFill>
          <p:spPr>
            <a:xfrm>
              <a:off x="5248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32"/>
            <a:stretch/>
          </p:blipFill>
          <p:spPr>
            <a:xfrm>
              <a:off x="5410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33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2" name=""/>
          <p:cNvGrpSpPr/>
          <p:nvPr/>
        </p:nvGrpSpPr>
        <p:grpSpPr>
          <a:xfrm>
            <a:off x="5264280" y="1371600"/>
            <a:ext cx="3047760" cy="4254480"/>
            <a:chOff x="5264280" y="1371600"/>
            <a:chExt cx="3047760" cy="4254480"/>
          </a:xfrm>
        </p:grpSpPr>
        <p:grpSp>
          <p:nvGrpSpPr>
            <p:cNvPr id="863" name=""/>
            <p:cNvGrpSpPr/>
            <p:nvPr/>
          </p:nvGrpSpPr>
          <p:grpSpPr>
            <a:xfrm>
              <a:off x="5568840" y="2438280"/>
              <a:ext cx="2743200" cy="520560"/>
              <a:chOff x="5568840" y="2438280"/>
              <a:chExt cx="2743200" cy="520560"/>
            </a:xfrm>
          </p:grpSpPr>
          <p:grpSp>
            <p:nvGrpSpPr>
              <p:cNvPr id="864" name=""/>
              <p:cNvGrpSpPr/>
              <p:nvPr/>
            </p:nvGrpSpPr>
            <p:grpSpPr>
              <a:xfrm>
                <a:off x="5568840" y="2438280"/>
                <a:ext cx="2057400" cy="520560"/>
                <a:chOff x="5568840" y="2438280"/>
                <a:chExt cx="2057400" cy="52056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5568840" y="2438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330960" y="2438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169040" y="2438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"/>
              <p:cNvSpPr/>
              <p:nvPr/>
            </p:nvSpPr>
            <p:spPr>
              <a:xfrm>
                <a:off x="7854840" y="2438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5568840" y="2819520"/>
              <a:ext cx="2743200" cy="520560"/>
              <a:chOff x="5568840" y="2819520"/>
              <a:chExt cx="2743200" cy="52056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5568840" y="2819520"/>
                <a:ext cx="2057400" cy="520560"/>
                <a:chOff x="5568840" y="2819520"/>
                <a:chExt cx="2057400" cy="5205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568840" y="2819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330960" y="2819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169040" y="2819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7854840" y="2819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5568840" y="3200400"/>
              <a:ext cx="2743200" cy="2044440"/>
              <a:chOff x="5568840" y="3200400"/>
              <a:chExt cx="2743200" cy="204444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5568840" y="4343400"/>
                <a:ext cx="2743200" cy="520560"/>
                <a:chOff x="5568840" y="4343400"/>
                <a:chExt cx="2743200" cy="52056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5568840" y="4343400"/>
                  <a:ext cx="2057400" cy="520560"/>
                  <a:chOff x="5568840" y="4343400"/>
                  <a:chExt cx="2057400" cy="52056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5568840" y="4343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330960" y="4343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7169040" y="4343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1" name=""/>
                <p:cNvSpPr/>
                <p:nvPr/>
              </p:nvSpPr>
              <p:spPr>
                <a:xfrm>
                  <a:off x="7854840" y="43434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5568840" y="4724280"/>
                <a:ext cx="2743200" cy="520560"/>
                <a:chOff x="5568840" y="4724280"/>
                <a:chExt cx="2743200" cy="520560"/>
              </a:xfrm>
            </p:grpSpPr>
            <p:grpSp>
              <p:nvGrpSpPr>
                <p:cNvPr id="883" name=""/>
                <p:cNvGrpSpPr/>
                <p:nvPr/>
              </p:nvGrpSpPr>
              <p:grpSpPr>
                <a:xfrm>
                  <a:off x="5568840" y="4724280"/>
                  <a:ext cx="2057400" cy="520560"/>
                  <a:chOff x="5568840" y="4724280"/>
                  <a:chExt cx="2057400" cy="52056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5568840" y="4724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330960" y="4724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7169040" y="4724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7854840" y="4724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5568840" y="3962520"/>
                <a:ext cx="2743200" cy="520560"/>
                <a:chOff x="5568840" y="3962520"/>
                <a:chExt cx="2743200" cy="520560"/>
              </a:xfrm>
            </p:grpSpPr>
            <p:grpSp>
              <p:nvGrpSpPr>
                <p:cNvPr id="889" name=""/>
                <p:cNvGrpSpPr/>
                <p:nvPr/>
              </p:nvGrpSpPr>
              <p:grpSpPr>
                <a:xfrm>
                  <a:off x="5568840" y="3962520"/>
                  <a:ext cx="2057400" cy="520560"/>
                  <a:chOff x="5568840" y="3962520"/>
                  <a:chExt cx="2057400" cy="52056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5568840" y="3962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330960" y="3962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7169040" y="3962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3" name=""/>
                <p:cNvSpPr/>
                <p:nvPr/>
              </p:nvSpPr>
              <p:spPr>
                <a:xfrm>
                  <a:off x="7854840" y="3962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5568840" y="3581280"/>
                <a:ext cx="2743200" cy="520560"/>
                <a:chOff x="5568840" y="3581280"/>
                <a:chExt cx="2743200" cy="5205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5568840" y="3581280"/>
                  <a:ext cx="2057400" cy="520560"/>
                  <a:chOff x="5568840" y="3581280"/>
                  <a:chExt cx="2057400" cy="5205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556884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33096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716904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9" name=""/>
                <p:cNvSpPr/>
                <p:nvPr/>
              </p:nvSpPr>
              <p:spPr>
                <a:xfrm>
                  <a:off x="785484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568840" y="3200400"/>
                <a:ext cx="2743200" cy="520560"/>
                <a:chOff x="5568840" y="3200400"/>
                <a:chExt cx="2743200" cy="520560"/>
              </a:xfrm>
            </p:grpSpPr>
            <p:grpSp>
              <p:nvGrpSpPr>
                <p:cNvPr id="901" name=""/>
                <p:cNvGrpSpPr/>
                <p:nvPr/>
              </p:nvGrpSpPr>
              <p:grpSpPr>
                <a:xfrm>
                  <a:off x="5568840" y="3200400"/>
                  <a:ext cx="2057400" cy="520560"/>
                  <a:chOff x="5568840" y="3200400"/>
                  <a:chExt cx="2057400" cy="5205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5568840" y="3200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330960" y="3200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7169040" y="32004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>
                  <a:off x="7854840" y="32004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5568840" y="5105520"/>
              <a:ext cx="2743200" cy="520560"/>
              <a:chOff x="5568840" y="5105520"/>
              <a:chExt cx="2743200" cy="520560"/>
            </a:xfrm>
          </p:grpSpPr>
          <p:grpSp>
            <p:nvGrpSpPr>
              <p:cNvPr id="907" name=""/>
              <p:cNvGrpSpPr/>
              <p:nvPr/>
            </p:nvGrpSpPr>
            <p:grpSpPr>
              <a:xfrm>
                <a:off x="5568840" y="5105520"/>
                <a:ext cx="2057400" cy="520560"/>
                <a:chOff x="5568840" y="5105520"/>
                <a:chExt cx="2057400" cy="5205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568840" y="5105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330960" y="5105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169040" y="51055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7854840" y="5105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64280" y="1371600"/>
              <a:ext cx="3047760" cy="4191120"/>
              <a:chOff x="5264280" y="1371600"/>
              <a:chExt cx="3047760" cy="4191120"/>
            </a:xfrm>
          </p:grpSpPr>
          <p:sp>
            <p:nvSpPr>
              <p:cNvPr id="913" name=""/>
              <p:cNvSpPr/>
              <p:nvPr/>
            </p:nvSpPr>
            <p:spPr>
              <a:xfrm>
                <a:off x="556884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3096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5484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940440" y="190512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102360" y="190512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492880" y="243828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64280" y="5562720"/>
                <a:ext cx="297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78880" y="190512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169040" y="1905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492880" y="190512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20120" y="1371600"/>
                <a:ext cx="216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或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1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62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3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晶体管“非” 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143000" y="1573920"/>
            <a:ext cx="3057840" cy="3405600"/>
            <a:chOff x="1143000" y="1573920"/>
            <a:chExt cx="3057840" cy="3405600"/>
          </a:xfrm>
        </p:grpSpPr>
        <p:sp>
          <p:nvSpPr>
            <p:cNvPr id="926" name=""/>
            <p:cNvSpPr/>
            <p:nvPr/>
          </p:nvSpPr>
          <p:spPr>
            <a:xfrm>
              <a:off x="3228840" y="157392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+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34880" y="4469400"/>
              <a:ext cx="72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-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143000" y="312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59760" y="286920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2080" y="3707640"/>
              <a:ext cx="48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1523880" y="1828800"/>
              <a:ext cx="2438280" cy="2822040"/>
              <a:chOff x="1523880" y="1828800"/>
              <a:chExt cx="2438280" cy="2822040"/>
            </a:xfrm>
          </p:grpSpPr>
          <p:sp>
            <p:nvSpPr>
              <p:cNvPr id="932" name=""/>
              <p:cNvSpPr/>
              <p:nvPr/>
            </p:nvSpPr>
            <p:spPr>
              <a:xfrm rot="5400000">
                <a:off x="3144600" y="1831680"/>
                <a:ext cx="107640" cy="10152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98600" y="1936440"/>
                <a:ext cx="0" cy="245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5400000">
                <a:off x="2998440" y="2309400"/>
                <a:ext cx="399960" cy="1522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198600" y="2585880"/>
                <a:ext cx="0" cy="613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3880" y="3379320"/>
                <a:ext cx="108000" cy="10152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631880" y="3430440"/>
                <a:ext cx="2458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881000" y="3354120"/>
                <a:ext cx="399960" cy="15192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280960" y="3430440"/>
                <a:ext cx="6145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6200000">
                <a:off x="2610720" y="4464000"/>
                <a:ext cx="109080" cy="1018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2665440" y="4217760"/>
                <a:ext cx="0" cy="242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6200000">
                <a:off x="2465280" y="3938040"/>
                <a:ext cx="399600" cy="15228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666880" y="3428280"/>
                <a:ext cx="0" cy="385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24080" y="4649400"/>
                <a:ext cx="152280" cy="14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96920" y="3201840"/>
                <a:ext cx="0" cy="4568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2896920" y="3201840"/>
                <a:ext cx="304920" cy="1519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201840" y="3659040"/>
                <a:ext cx="0" cy="9900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896920" y="3506400"/>
                <a:ext cx="304920" cy="1522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0800000">
                <a:off x="3859200" y="2896560"/>
                <a:ext cx="102960" cy="7596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3201840" y="2933280"/>
                <a:ext cx="6588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3298680" y="2107440"/>
              <a:ext cx="47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20320" y="28947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38840" y="3123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779440" y="3199320"/>
            <a:ext cx="1503360" cy="459720"/>
            <a:chOff x="5779440" y="3199320"/>
            <a:chExt cx="1503360" cy="459720"/>
          </a:xfrm>
        </p:grpSpPr>
        <p:sp>
          <p:nvSpPr>
            <p:cNvPr id="955" name=""/>
            <p:cNvSpPr/>
            <p:nvPr/>
          </p:nvSpPr>
          <p:spPr>
            <a:xfrm>
              <a:off x="5779440" y="31993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69800" y="31993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962520" y="2057400"/>
            <a:ext cx="914400" cy="685800"/>
            <a:chOff x="3962520" y="2057400"/>
            <a:chExt cx="914400" cy="685800"/>
          </a:xfrm>
        </p:grpSpPr>
        <p:sp>
          <p:nvSpPr>
            <p:cNvPr id="958" name=""/>
            <p:cNvSpPr/>
            <p:nvPr/>
          </p:nvSpPr>
          <p:spPr>
            <a:xfrm>
              <a:off x="3962520" y="2057400"/>
              <a:ext cx="914400" cy="685800"/>
            </a:xfrm>
            <a:prstGeom prst="wedgeEllipseCallout">
              <a:avLst>
                <a:gd name="adj1" fmla="val -135416"/>
                <a:gd name="adj2" fmla="val 158796"/>
              </a:avLst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6376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962520" y="2057400"/>
            <a:ext cx="914400" cy="685800"/>
            <a:chOff x="3962520" y="2057400"/>
            <a:chExt cx="914400" cy="685800"/>
          </a:xfrm>
        </p:grpSpPr>
        <p:sp>
          <p:nvSpPr>
            <p:cNvPr id="961" name=""/>
            <p:cNvSpPr/>
            <p:nvPr/>
          </p:nvSpPr>
          <p:spPr>
            <a:xfrm>
              <a:off x="3962520" y="2057400"/>
              <a:ext cx="914400" cy="685800"/>
            </a:xfrm>
            <a:prstGeom prst="wedgeEllipseCallout">
              <a:avLst>
                <a:gd name="adj1" fmla="val -135416"/>
                <a:gd name="adj2" fmla="val 158796"/>
              </a:avLst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63760" y="21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"/>
                </a:rPr>
                <a:t>饱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185840" y="5181480"/>
            <a:ext cx="2887200" cy="581400"/>
            <a:chOff x="1185840" y="5181480"/>
            <a:chExt cx="2887200" cy="581400"/>
          </a:xfrm>
        </p:grpSpPr>
        <p:sp>
          <p:nvSpPr>
            <p:cNvPr id="964" name=""/>
            <p:cNvSpPr/>
            <p:nvPr/>
          </p:nvSpPr>
          <p:spPr>
            <a:xfrm>
              <a:off x="1185840" y="5181480"/>
              <a:ext cx="288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(2)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表达式：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zh-CN" sz="32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57240" y="525924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617400" y="32756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5934600" y="2818440"/>
            <a:ext cx="1345320" cy="459720"/>
            <a:chOff x="5934600" y="2818440"/>
            <a:chExt cx="1345320" cy="459720"/>
          </a:xfrm>
        </p:grpSpPr>
        <p:sp>
          <p:nvSpPr>
            <p:cNvPr id="968" name=""/>
            <p:cNvSpPr/>
            <p:nvPr/>
          </p:nvSpPr>
          <p:spPr>
            <a:xfrm>
              <a:off x="6925320" y="281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34600" y="281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4277520" y="289476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480" y="1157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4191120" y="2971800"/>
            <a:ext cx="914400" cy="459720"/>
            <a:chOff x="4191120" y="2971800"/>
            <a:chExt cx="914400" cy="459720"/>
          </a:xfrm>
        </p:grpSpPr>
        <p:pic>
          <p:nvPicPr>
            <p:cNvPr id="973" name="" descr=""/>
            <p:cNvPicPr/>
            <p:nvPr/>
          </p:nvPicPr>
          <p:blipFill>
            <a:blip r:embed="rId1"/>
            <a:stretch/>
          </p:blipFill>
          <p:spPr>
            <a:xfrm>
              <a:off x="4267440" y="2971800"/>
              <a:ext cx="60948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419112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33520" y="3276720"/>
            <a:ext cx="914400" cy="459720"/>
            <a:chOff x="533520" y="3276720"/>
            <a:chExt cx="914400" cy="459720"/>
          </a:xfrm>
        </p:grpSpPr>
        <p:pic>
          <p:nvPicPr>
            <p:cNvPr id="976" name="" descr=""/>
            <p:cNvPicPr/>
            <p:nvPr/>
          </p:nvPicPr>
          <p:blipFill>
            <a:blip r:embed="rId2"/>
            <a:stretch/>
          </p:blipFill>
          <p:spPr>
            <a:xfrm>
              <a:off x="609840" y="3276720"/>
              <a:ext cx="60948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533520" y="3276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562720" y="1828080"/>
            <a:ext cx="2272680" cy="1829520"/>
            <a:chOff x="5562720" y="1828080"/>
            <a:chExt cx="2272680" cy="1829520"/>
          </a:xfrm>
        </p:grpSpPr>
        <p:grpSp>
          <p:nvGrpSpPr>
            <p:cNvPr id="979" name=""/>
            <p:cNvGrpSpPr/>
            <p:nvPr/>
          </p:nvGrpSpPr>
          <p:grpSpPr>
            <a:xfrm>
              <a:off x="5562720" y="2361240"/>
              <a:ext cx="2209680" cy="1296360"/>
              <a:chOff x="5562720" y="2361240"/>
              <a:chExt cx="2209680" cy="1296360"/>
            </a:xfrm>
          </p:grpSpPr>
          <p:sp>
            <p:nvSpPr>
              <p:cNvPr id="980" name=""/>
              <p:cNvSpPr/>
              <p:nvPr/>
            </p:nvSpPr>
            <p:spPr>
              <a:xfrm>
                <a:off x="5950800" y="236124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934320" y="2361240"/>
                <a:ext cx="29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5562720" y="2362320"/>
                <a:ext cx="2209680" cy="1295280"/>
                <a:chOff x="5562720" y="2362320"/>
                <a:chExt cx="2209680" cy="129528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5638680" y="23623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553080" y="2362320"/>
                  <a:ext cx="0" cy="129528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638680" y="28195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62720" y="3657600"/>
                  <a:ext cx="213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7" name=""/>
            <p:cNvSpPr/>
            <p:nvPr/>
          </p:nvSpPr>
          <p:spPr>
            <a:xfrm>
              <a:off x="5666040" y="18280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非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717080" y="4114080"/>
            <a:ext cx="2818800" cy="1600920"/>
            <a:chOff x="4717080" y="4114080"/>
            <a:chExt cx="2818800" cy="1600920"/>
          </a:xfrm>
        </p:grpSpPr>
        <p:sp>
          <p:nvSpPr>
            <p:cNvPr id="989" name=""/>
            <p:cNvSpPr/>
            <p:nvPr/>
          </p:nvSpPr>
          <p:spPr>
            <a:xfrm>
              <a:off x="5169240" y="4114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83400" y="4876920"/>
              <a:ext cx="685800" cy="838080"/>
            </a:xfrm>
            <a:prstGeom prst="rect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97600" y="5257800"/>
              <a:ext cx="68580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26680" y="487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717080" y="499824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55000" y="5029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86560" y="5259240"/>
              <a:ext cx="609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469200" y="518328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4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5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5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66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6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7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7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68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8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9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9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0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2610000" y="27874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998280" y="1062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与非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3800" y="5638680"/>
            <a:ext cx="4800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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全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866880" y="1482840"/>
            <a:ext cx="2509200" cy="1742400"/>
            <a:chOff x="866880" y="1482840"/>
            <a:chExt cx="2509200" cy="1742400"/>
          </a:xfrm>
        </p:grpSpPr>
        <p:sp>
          <p:nvSpPr>
            <p:cNvPr id="1001" name=""/>
            <p:cNvSpPr/>
            <p:nvPr/>
          </p:nvSpPr>
          <p:spPr>
            <a:xfrm>
              <a:off x="1260360" y="270468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与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51920" y="1645200"/>
              <a:ext cx="745920" cy="101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3680" y="209376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73680" y="239220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97840" y="218880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87640" y="16200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4560" y="1482840"/>
              <a:ext cx="33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66880" y="182232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73680" y="182232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66880" y="21618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290600" y="3422520"/>
            <a:ext cx="2971800" cy="1765440"/>
            <a:chOff x="1290600" y="3422520"/>
            <a:chExt cx="2971800" cy="1765440"/>
          </a:xfrm>
        </p:grpSpPr>
        <p:grpSp>
          <p:nvGrpSpPr>
            <p:cNvPr id="1012" name=""/>
            <p:cNvGrpSpPr/>
            <p:nvPr/>
          </p:nvGrpSpPr>
          <p:grpSpPr>
            <a:xfrm>
              <a:off x="1290600" y="3422520"/>
              <a:ext cx="2971800" cy="1231560"/>
              <a:chOff x="1290600" y="3422520"/>
              <a:chExt cx="2971800" cy="1231560"/>
            </a:xfrm>
          </p:grpSpPr>
          <p:sp>
            <p:nvSpPr>
              <p:cNvPr id="1013" name=""/>
              <p:cNvSpPr/>
              <p:nvPr/>
            </p:nvSpPr>
            <p:spPr>
              <a:xfrm>
                <a:off x="3767040" y="391752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422440" y="3592080"/>
                <a:ext cx="777960" cy="1062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714320" y="4059000"/>
                <a:ext cx="70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4320" y="4370040"/>
                <a:ext cx="70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06600" y="41302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563560" y="356364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361880" y="3422520"/>
                <a:ext cx="35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290600" y="377640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14320" y="3776400"/>
                <a:ext cx="70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290600" y="413028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00400" y="4059000"/>
                <a:ext cx="108000" cy="108000"/>
              </a:xfrm>
              <a:prstGeom prst="ellipse">
                <a:avLst/>
              </a:prstGeom>
              <a:noFill/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2092680" y="466740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与非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524560" y="1219320"/>
            <a:ext cx="2971800" cy="4254120"/>
            <a:chOff x="5524560" y="1219320"/>
            <a:chExt cx="2971800" cy="4254120"/>
          </a:xfrm>
        </p:grpSpPr>
        <p:grpSp>
          <p:nvGrpSpPr>
            <p:cNvPr id="1026" name=""/>
            <p:cNvGrpSpPr/>
            <p:nvPr/>
          </p:nvGrpSpPr>
          <p:grpSpPr>
            <a:xfrm>
              <a:off x="5657760" y="2286000"/>
              <a:ext cx="2743200" cy="520560"/>
              <a:chOff x="5657760" y="2286000"/>
              <a:chExt cx="2743200" cy="52056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5657760" y="2286000"/>
                <a:ext cx="2057400" cy="520560"/>
                <a:chOff x="5657760" y="2286000"/>
                <a:chExt cx="2057400" cy="52056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657760" y="2286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419880" y="2286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257960" y="2286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7943760" y="2286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5657760" y="2666880"/>
              <a:ext cx="2743200" cy="520560"/>
              <a:chOff x="5657760" y="2666880"/>
              <a:chExt cx="2743200" cy="52056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5657760" y="2666880"/>
                <a:ext cx="2057400" cy="520560"/>
                <a:chOff x="5657760" y="2666880"/>
                <a:chExt cx="2057400" cy="52056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5657760" y="2666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419880" y="2666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257960" y="2666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" name=""/>
              <p:cNvSpPr/>
              <p:nvPr/>
            </p:nvSpPr>
            <p:spPr>
              <a:xfrm>
                <a:off x="7943760" y="2666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657760" y="3048120"/>
              <a:ext cx="2743200" cy="2044440"/>
              <a:chOff x="5657760" y="3048120"/>
              <a:chExt cx="2743200" cy="204444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5657760" y="4191120"/>
                <a:ext cx="2743200" cy="520560"/>
                <a:chOff x="5657760" y="4191120"/>
                <a:chExt cx="2743200" cy="520560"/>
              </a:xfrm>
            </p:grpSpPr>
            <p:grpSp>
              <p:nvGrpSpPr>
                <p:cNvPr id="1040" name=""/>
                <p:cNvGrpSpPr/>
                <p:nvPr/>
              </p:nvGrpSpPr>
              <p:grpSpPr>
                <a:xfrm>
                  <a:off x="5657760" y="4191120"/>
                  <a:ext cx="2057400" cy="520560"/>
                  <a:chOff x="5657760" y="4191120"/>
                  <a:chExt cx="2057400" cy="52056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5657760" y="4191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419880" y="4191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257960" y="4191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4" name=""/>
                <p:cNvSpPr/>
                <p:nvPr/>
              </p:nvSpPr>
              <p:spPr>
                <a:xfrm>
                  <a:off x="7943760" y="41911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5657760" y="4572000"/>
                <a:ext cx="2743200" cy="520560"/>
                <a:chOff x="5657760" y="4572000"/>
                <a:chExt cx="2743200" cy="520560"/>
              </a:xfrm>
            </p:grpSpPr>
            <p:grpSp>
              <p:nvGrpSpPr>
                <p:cNvPr id="1046" name=""/>
                <p:cNvGrpSpPr/>
                <p:nvPr/>
              </p:nvGrpSpPr>
              <p:grpSpPr>
                <a:xfrm>
                  <a:off x="5657760" y="4572000"/>
                  <a:ext cx="2057400" cy="520560"/>
                  <a:chOff x="5657760" y="4572000"/>
                  <a:chExt cx="2057400" cy="52056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5657760" y="4572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419880" y="4572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257960" y="4572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7943760" y="4572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657760" y="3810240"/>
                <a:ext cx="2743200" cy="520560"/>
                <a:chOff x="5657760" y="3810240"/>
                <a:chExt cx="2743200" cy="520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5657760" y="3810240"/>
                  <a:ext cx="2057400" cy="520560"/>
                  <a:chOff x="5657760" y="3810240"/>
                  <a:chExt cx="2057400" cy="52056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5657760" y="381024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419880" y="381024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7257960" y="381024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6" name=""/>
                <p:cNvSpPr/>
                <p:nvPr/>
              </p:nvSpPr>
              <p:spPr>
                <a:xfrm>
                  <a:off x="7943760" y="3810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5657760" y="3429000"/>
                <a:ext cx="2743200" cy="520560"/>
                <a:chOff x="5657760" y="3429000"/>
                <a:chExt cx="2743200" cy="520560"/>
              </a:xfrm>
            </p:grpSpPr>
            <p:grpSp>
              <p:nvGrpSpPr>
                <p:cNvPr id="1058" name=""/>
                <p:cNvGrpSpPr/>
                <p:nvPr/>
              </p:nvGrpSpPr>
              <p:grpSpPr>
                <a:xfrm>
                  <a:off x="5657760" y="3429000"/>
                  <a:ext cx="2057400" cy="520560"/>
                  <a:chOff x="5657760" y="3429000"/>
                  <a:chExt cx="2057400" cy="5205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5657760" y="342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419880" y="342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7257960" y="342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2" name=""/>
                <p:cNvSpPr/>
                <p:nvPr/>
              </p:nvSpPr>
              <p:spPr>
                <a:xfrm>
                  <a:off x="7943760" y="3429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5657760" y="3048120"/>
                <a:ext cx="2743200" cy="520560"/>
                <a:chOff x="5657760" y="3048120"/>
                <a:chExt cx="2743200" cy="52056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5657760" y="3048120"/>
                  <a:ext cx="2057400" cy="520560"/>
                  <a:chOff x="5657760" y="3048120"/>
                  <a:chExt cx="2057400" cy="52056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5657760" y="304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419880" y="304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257960" y="304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8" name=""/>
                <p:cNvSpPr/>
                <p:nvPr/>
              </p:nvSpPr>
              <p:spPr>
                <a:xfrm>
                  <a:off x="7943760" y="30481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9" name=""/>
            <p:cNvGrpSpPr/>
            <p:nvPr/>
          </p:nvGrpSpPr>
          <p:grpSpPr>
            <a:xfrm>
              <a:off x="5657760" y="4952880"/>
              <a:ext cx="2743200" cy="520560"/>
              <a:chOff x="5657760" y="4952880"/>
              <a:chExt cx="2743200" cy="52056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5657760" y="4952880"/>
                <a:ext cx="2057400" cy="520560"/>
                <a:chOff x="5657760" y="4952880"/>
                <a:chExt cx="2057400" cy="520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657760" y="4952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419880" y="4952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257960" y="4952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7943760" y="4952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565776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1988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94376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29360" y="175248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91280" y="175248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1800" y="228600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524560" y="54100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67800" y="175248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5796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581800" y="175248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80680" y="1219320"/>
              <a:ext cx="23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与非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676440" y="5097600"/>
            <a:ext cx="4114800" cy="581400"/>
            <a:chOff x="676440" y="5097600"/>
            <a:chExt cx="4114800" cy="581400"/>
          </a:xfrm>
        </p:grpSpPr>
        <p:grpSp>
          <p:nvGrpSpPr>
            <p:cNvPr id="1087" name=""/>
            <p:cNvGrpSpPr/>
            <p:nvPr/>
          </p:nvGrpSpPr>
          <p:grpSpPr>
            <a:xfrm>
              <a:off x="676440" y="5097600"/>
              <a:ext cx="4062960" cy="581400"/>
              <a:chOff x="676440" y="5097600"/>
              <a:chExt cx="4062960" cy="581400"/>
            </a:xfrm>
          </p:grpSpPr>
          <p:sp>
            <p:nvSpPr>
              <p:cNvPr id="1088" name=""/>
              <p:cNvSpPr/>
              <p:nvPr/>
            </p:nvSpPr>
            <p:spPr>
              <a:xfrm>
                <a:off x="2917440" y="5097600"/>
                <a:ext cx="182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"/>
                  </a:rPr>
                  <a:t>Y=A  B 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6440" y="512136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逻辑表达式：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800880" y="534816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258080" y="534816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2" name=""/>
            <p:cNvSpPr/>
            <p:nvPr/>
          </p:nvSpPr>
          <p:spPr>
            <a:xfrm>
              <a:off x="3571920" y="517356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351240" y="1761120"/>
            <a:ext cx="1620720" cy="791640"/>
            <a:chOff x="3351240" y="1761120"/>
            <a:chExt cx="1620720" cy="791640"/>
          </a:xfrm>
        </p:grpSpPr>
        <p:sp>
          <p:nvSpPr>
            <p:cNvPr id="1094" name=""/>
            <p:cNvSpPr/>
            <p:nvPr/>
          </p:nvSpPr>
          <p:spPr>
            <a:xfrm>
              <a:off x="3351240" y="1778040"/>
              <a:ext cx="635040" cy="774720"/>
            </a:xfrm>
            <a:prstGeom prst="rect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70760" y="176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19520" y="1930320"/>
              <a:ext cx="3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93920" y="2189160"/>
              <a:ext cx="56376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86280" y="2119320"/>
              <a:ext cx="106200" cy="10620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3265200" y="2624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5800" y="519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2.3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基本逻辑门电路的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0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1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1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72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72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3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3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4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4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2766960" y="275904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98280" y="1062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或非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447920" y="3394080"/>
            <a:ext cx="2971800" cy="1765080"/>
            <a:chOff x="1447920" y="3394080"/>
            <a:chExt cx="2971800" cy="1765080"/>
          </a:xfrm>
        </p:grpSpPr>
        <p:grpSp>
          <p:nvGrpSpPr>
            <p:cNvPr id="1104" name=""/>
            <p:cNvGrpSpPr/>
            <p:nvPr/>
          </p:nvGrpSpPr>
          <p:grpSpPr>
            <a:xfrm>
              <a:off x="1447920" y="3394080"/>
              <a:ext cx="2971800" cy="1231560"/>
              <a:chOff x="1447920" y="3394080"/>
              <a:chExt cx="2971800" cy="1231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3924360" y="388908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579760" y="3563640"/>
                <a:ext cx="777960" cy="1062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71640" y="4030560"/>
                <a:ext cx="70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71640" y="4341600"/>
                <a:ext cx="70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63920" y="41018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20880" y="353520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19200" y="3394080"/>
                <a:ext cx="35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447920" y="374796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71640" y="3747960"/>
                <a:ext cx="70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447920" y="410184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357720" y="4030560"/>
                <a:ext cx="108000" cy="108000"/>
              </a:xfrm>
              <a:prstGeom prst="ellipse">
                <a:avLst/>
              </a:prstGeom>
              <a:noFill/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2250000" y="4638600"/>
              <a:ext cx="12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或非”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3508200" y="1732320"/>
            <a:ext cx="1620720" cy="791640"/>
            <a:chOff x="3508200" y="1732320"/>
            <a:chExt cx="1620720" cy="791640"/>
          </a:xfrm>
        </p:grpSpPr>
        <p:sp>
          <p:nvSpPr>
            <p:cNvPr id="1118" name=""/>
            <p:cNvSpPr/>
            <p:nvPr/>
          </p:nvSpPr>
          <p:spPr>
            <a:xfrm>
              <a:off x="3508200" y="1749240"/>
              <a:ext cx="635040" cy="774720"/>
            </a:xfrm>
            <a:prstGeom prst="rect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27720" y="173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776480" y="1901520"/>
              <a:ext cx="3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50880" y="2160360"/>
              <a:ext cx="56376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143240" y="2090520"/>
              <a:ext cx="106200" cy="10620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85800" y="519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2.3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基本逻辑门电路的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3840" y="1454040"/>
            <a:ext cx="2509200" cy="1742400"/>
            <a:chOff x="1023840" y="1454040"/>
            <a:chExt cx="2509200" cy="1742400"/>
          </a:xfrm>
        </p:grpSpPr>
        <p:grpSp>
          <p:nvGrpSpPr>
            <p:cNvPr id="1125" name=""/>
            <p:cNvGrpSpPr/>
            <p:nvPr/>
          </p:nvGrpSpPr>
          <p:grpSpPr>
            <a:xfrm>
              <a:off x="1023840" y="1454040"/>
              <a:ext cx="2509200" cy="1742400"/>
              <a:chOff x="1023840" y="1454040"/>
              <a:chExt cx="2509200" cy="1742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1417320" y="2675880"/>
                <a:ext cx="100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或”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108880" y="1616400"/>
                <a:ext cx="745920" cy="101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430640" y="2064960"/>
                <a:ext cx="67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430640" y="2363400"/>
                <a:ext cx="67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854800" y="2160000"/>
                <a:ext cx="67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244600" y="1591200"/>
                <a:ext cx="474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091520" y="1454040"/>
                <a:ext cx="33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023840" y="1793520"/>
                <a:ext cx="47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430640" y="1793520"/>
                <a:ext cx="67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023840" y="2133000"/>
                <a:ext cx="47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2176200" y="1590480"/>
              <a:ext cx="914400" cy="520560"/>
              <a:chOff x="2176200" y="1590480"/>
              <a:chExt cx="914400" cy="520560"/>
            </a:xfrm>
          </p:grpSpPr>
          <p:sp>
            <p:nvSpPr>
              <p:cNvPr id="1137" name=""/>
              <p:cNvSpPr/>
              <p:nvPr/>
            </p:nvSpPr>
            <p:spPr>
              <a:xfrm>
                <a:off x="2176200" y="15904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gt;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2271240" y="1928880"/>
                <a:ext cx="22860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9" name=""/>
          <p:cNvSpPr/>
          <p:nvPr/>
        </p:nvSpPr>
        <p:spPr>
          <a:xfrm>
            <a:off x="838080" y="5630760"/>
            <a:ext cx="4800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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全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5462640" y="1281240"/>
            <a:ext cx="2971800" cy="4268520"/>
            <a:chOff x="5462640" y="1281240"/>
            <a:chExt cx="2971800" cy="4268520"/>
          </a:xfrm>
        </p:grpSpPr>
        <p:grpSp>
          <p:nvGrpSpPr>
            <p:cNvPr id="1141" name=""/>
            <p:cNvGrpSpPr/>
            <p:nvPr/>
          </p:nvGrpSpPr>
          <p:grpSpPr>
            <a:xfrm>
              <a:off x="5581800" y="2362320"/>
              <a:ext cx="2743200" cy="520560"/>
              <a:chOff x="5581800" y="2362320"/>
              <a:chExt cx="2743200" cy="520560"/>
            </a:xfrm>
          </p:grpSpPr>
          <p:grpSp>
            <p:nvGrpSpPr>
              <p:cNvPr id="1142" name=""/>
              <p:cNvGrpSpPr/>
              <p:nvPr/>
            </p:nvGrpSpPr>
            <p:grpSpPr>
              <a:xfrm>
                <a:off x="5581800" y="2362320"/>
                <a:ext cx="2057400" cy="520560"/>
                <a:chOff x="5581800" y="2362320"/>
                <a:chExt cx="2057400" cy="520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581800" y="2362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343920" y="2362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182000" y="2362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786780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5581800" y="2743200"/>
              <a:ext cx="2743200" cy="520560"/>
              <a:chOff x="5581800" y="2743200"/>
              <a:chExt cx="2743200" cy="52056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581800" y="2743200"/>
                <a:ext cx="2057400" cy="520560"/>
                <a:chOff x="5581800" y="2743200"/>
                <a:chExt cx="2057400" cy="520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58180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34392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18200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2" name=""/>
              <p:cNvSpPr/>
              <p:nvPr/>
            </p:nvSpPr>
            <p:spPr>
              <a:xfrm>
                <a:off x="786780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5581800" y="3124080"/>
              <a:ext cx="2743200" cy="2044440"/>
              <a:chOff x="5581800" y="3124080"/>
              <a:chExt cx="2743200" cy="20444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5581800" y="4267080"/>
                <a:ext cx="2743200" cy="520560"/>
                <a:chOff x="5581800" y="4267080"/>
                <a:chExt cx="2743200" cy="520560"/>
              </a:xfrm>
            </p:grpSpPr>
            <p:grpSp>
              <p:nvGrpSpPr>
                <p:cNvPr id="1155" name=""/>
                <p:cNvGrpSpPr/>
                <p:nvPr/>
              </p:nvGrpSpPr>
              <p:grpSpPr>
                <a:xfrm>
                  <a:off x="5581800" y="4267080"/>
                  <a:ext cx="2057400" cy="520560"/>
                  <a:chOff x="5581800" y="4267080"/>
                  <a:chExt cx="2057400" cy="52056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558180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34392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182000" y="4267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8678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581800" y="4647960"/>
                <a:ext cx="2743200" cy="520560"/>
                <a:chOff x="5581800" y="4647960"/>
                <a:chExt cx="2743200" cy="52056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5581800" y="4647960"/>
                  <a:ext cx="2057400" cy="520560"/>
                  <a:chOff x="5581800" y="4647960"/>
                  <a:chExt cx="2057400" cy="52056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558180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634392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7182000" y="4647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5" name=""/>
                <p:cNvSpPr/>
                <p:nvPr/>
              </p:nvSpPr>
              <p:spPr>
                <a:xfrm>
                  <a:off x="7867800" y="4647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581800" y="3886200"/>
                <a:ext cx="2743200" cy="520560"/>
                <a:chOff x="5581800" y="3886200"/>
                <a:chExt cx="2743200" cy="520560"/>
              </a:xfrm>
            </p:grpSpPr>
            <p:grpSp>
              <p:nvGrpSpPr>
                <p:cNvPr id="1167" name=""/>
                <p:cNvGrpSpPr/>
                <p:nvPr/>
              </p:nvGrpSpPr>
              <p:grpSpPr>
                <a:xfrm>
                  <a:off x="5581800" y="3886200"/>
                  <a:ext cx="2057400" cy="520560"/>
                  <a:chOff x="5581800" y="3886200"/>
                  <a:chExt cx="2057400" cy="52056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>
                    <a:off x="558180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634392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7182000" y="3886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1" name=""/>
                <p:cNvSpPr/>
                <p:nvPr/>
              </p:nvSpPr>
              <p:spPr>
                <a:xfrm>
                  <a:off x="7867800" y="388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581800" y="3504960"/>
                <a:ext cx="2743200" cy="520560"/>
                <a:chOff x="5581800" y="3504960"/>
                <a:chExt cx="2743200" cy="52056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5581800" y="3504960"/>
                  <a:ext cx="2057400" cy="520560"/>
                  <a:chOff x="5581800" y="3504960"/>
                  <a:chExt cx="2057400" cy="52056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558180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634392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182000" y="35049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7" name=""/>
                <p:cNvSpPr/>
                <p:nvPr/>
              </p:nvSpPr>
              <p:spPr>
                <a:xfrm>
                  <a:off x="7867800" y="35049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5581800" y="3124080"/>
                <a:ext cx="2743200" cy="520560"/>
                <a:chOff x="5581800" y="3124080"/>
                <a:chExt cx="2743200" cy="520560"/>
              </a:xfrm>
            </p:grpSpPr>
            <p:grpSp>
              <p:nvGrpSpPr>
                <p:cNvPr id="1179" name=""/>
                <p:cNvGrpSpPr/>
                <p:nvPr/>
              </p:nvGrpSpPr>
              <p:grpSpPr>
                <a:xfrm>
                  <a:off x="5581800" y="3124080"/>
                  <a:ext cx="2057400" cy="520560"/>
                  <a:chOff x="5581800" y="3124080"/>
                  <a:chExt cx="2057400" cy="52056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558180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34392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182000" y="3124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3" name=""/>
                <p:cNvSpPr/>
                <p:nvPr/>
              </p:nvSpPr>
              <p:spPr>
                <a:xfrm>
                  <a:off x="7867800" y="3124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4" name=""/>
            <p:cNvGrpSpPr/>
            <p:nvPr/>
          </p:nvGrpSpPr>
          <p:grpSpPr>
            <a:xfrm>
              <a:off x="5581800" y="5029200"/>
              <a:ext cx="2743200" cy="520560"/>
              <a:chOff x="5581800" y="5029200"/>
              <a:chExt cx="2743200" cy="520560"/>
            </a:xfrm>
          </p:grpSpPr>
          <p:grpSp>
            <p:nvGrpSpPr>
              <p:cNvPr id="1185" name=""/>
              <p:cNvGrpSpPr/>
              <p:nvPr/>
            </p:nvGrpSpPr>
            <p:grpSpPr>
              <a:xfrm>
                <a:off x="5581800" y="5029200"/>
                <a:ext cx="2057400" cy="520560"/>
                <a:chOff x="5581800" y="5029200"/>
                <a:chExt cx="2057400" cy="52056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558180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34392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7182000" y="5029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9" name=""/>
              <p:cNvSpPr/>
              <p:nvPr/>
            </p:nvSpPr>
            <p:spPr>
              <a:xfrm>
                <a:off x="7867800" y="5029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558180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4356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86780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953400" y="182880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4960" y="182880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05480" y="236232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62640" y="5486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791480" y="182880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8200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05480" y="18288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90240" y="1281240"/>
              <a:ext cx="23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或非” 门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66680" y="5040360"/>
            <a:ext cx="4114440" cy="581400"/>
            <a:chOff x="1066680" y="5040360"/>
            <a:chExt cx="4114440" cy="581400"/>
          </a:xfrm>
        </p:grpSpPr>
        <p:sp>
          <p:nvSpPr>
            <p:cNvPr id="1202" name=""/>
            <p:cNvSpPr/>
            <p:nvPr/>
          </p:nvSpPr>
          <p:spPr>
            <a:xfrm>
              <a:off x="3886200" y="511632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1066680" y="5040360"/>
              <a:ext cx="4114440" cy="581400"/>
              <a:chOff x="1066680" y="5040360"/>
              <a:chExt cx="4114440" cy="581400"/>
            </a:xfrm>
          </p:grpSpPr>
          <p:sp>
            <p:nvSpPr>
              <p:cNvPr id="1204" name=""/>
              <p:cNvSpPr/>
              <p:nvPr/>
            </p:nvSpPr>
            <p:spPr>
              <a:xfrm>
                <a:off x="3313440" y="5040360"/>
                <a:ext cx="1867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"/>
                  </a:rPr>
                  <a:t>Y=A+B+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066680" y="506412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逻辑表达式：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7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5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6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76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7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7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8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8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0480" y="182880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掌握基本门电路的逻辑功能、逻辑符号、真值表和逻辑表达式。了解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TTL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门电路、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CMOS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门电路的特点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0480" y="3733920"/>
            <a:ext cx="655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会分析和设计简单的组合逻辑电路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480" y="4267080"/>
            <a:ext cx="8229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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理解加法器、编码器、译码器等常用组合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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路的工作原理和功能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5338800"/>
            <a:ext cx="5715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5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学会数字集成电路的使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02320" y="1143000"/>
            <a:ext cx="1400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本章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5880" y="3276720"/>
            <a:ext cx="51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会用逻辑代数的基本运算法则化简逻辑函数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335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门电路和组合逻辑电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533520" y="457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例：根据输入波形画出输出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075320" y="23623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76760" y="33526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554120" y="2285640"/>
            <a:ext cx="5455080" cy="1409760"/>
            <a:chOff x="1554120" y="2285640"/>
            <a:chExt cx="5455080" cy="1409760"/>
          </a:xfrm>
        </p:grpSpPr>
        <p:sp>
          <p:nvSpPr>
            <p:cNvPr id="1210" name=""/>
            <p:cNvSpPr/>
            <p:nvPr/>
          </p:nvSpPr>
          <p:spPr>
            <a:xfrm>
              <a:off x="6018120" y="31921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1554120" y="2285640"/>
              <a:ext cx="5455080" cy="1408320"/>
              <a:chOff x="1554120" y="2285640"/>
              <a:chExt cx="5455080" cy="1408320"/>
            </a:xfrm>
          </p:grpSpPr>
          <p:grpSp>
            <p:nvGrpSpPr>
              <p:cNvPr id="1212" name=""/>
              <p:cNvGrpSpPr/>
              <p:nvPr/>
            </p:nvGrpSpPr>
            <p:grpSpPr>
              <a:xfrm>
                <a:off x="1554120" y="2285640"/>
                <a:ext cx="5455080" cy="502920"/>
                <a:chOff x="1554120" y="2285640"/>
                <a:chExt cx="5455080" cy="502920"/>
              </a:xfrm>
            </p:grpSpPr>
            <p:grpSp>
              <p:nvGrpSpPr>
                <p:cNvPr id="1213" name=""/>
                <p:cNvGrpSpPr/>
                <p:nvPr/>
              </p:nvGrpSpPr>
              <p:grpSpPr>
                <a:xfrm>
                  <a:off x="1554120" y="2285640"/>
                  <a:ext cx="991080" cy="502560"/>
                  <a:chOff x="1554120" y="2285640"/>
                  <a:chExt cx="991080" cy="50256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1554120" y="2788200"/>
                    <a:ext cx="495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flipV="1">
                    <a:off x="2049120" y="228564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049120" y="2286000"/>
                    <a:ext cx="495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545200" y="22860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8" name=""/>
                <p:cNvGrpSpPr/>
                <p:nvPr/>
              </p:nvGrpSpPr>
              <p:grpSpPr>
                <a:xfrm>
                  <a:off x="2545560" y="2285640"/>
                  <a:ext cx="991080" cy="502560"/>
                  <a:chOff x="2545560" y="2285640"/>
                  <a:chExt cx="991080" cy="50256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2545560" y="2788200"/>
                    <a:ext cx="495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 flipV="1">
                    <a:off x="3040560" y="228564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040560" y="2286000"/>
                    <a:ext cx="495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536640" y="22860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3" name=""/>
                <p:cNvGrpSpPr/>
                <p:nvPr/>
              </p:nvGrpSpPr>
              <p:grpSpPr>
                <a:xfrm>
                  <a:off x="3537360" y="2285640"/>
                  <a:ext cx="991800" cy="502560"/>
                  <a:chOff x="3537360" y="2285640"/>
                  <a:chExt cx="991800" cy="50256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3537360" y="2788200"/>
                    <a:ext cx="495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V="1">
                    <a:off x="4032720" y="228564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4032720" y="2286000"/>
                    <a:ext cx="49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4529160" y="22860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4529520" y="2285640"/>
                  <a:ext cx="991080" cy="502560"/>
                  <a:chOff x="4529520" y="2285640"/>
                  <a:chExt cx="991080" cy="5025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529520" y="2788200"/>
                    <a:ext cx="495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5024520" y="228564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5024520" y="2286000"/>
                    <a:ext cx="495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5520600" y="22860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6513120" y="2788560"/>
                  <a:ext cx="49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4" name=""/>
                <p:cNvGrpSpPr/>
                <p:nvPr/>
              </p:nvGrpSpPr>
              <p:grpSpPr>
                <a:xfrm>
                  <a:off x="5521320" y="2285640"/>
                  <a:ext cx="991080" cy="502560"/>
                  <a:chOff x="5521320" y="2285640"/>
                  <a:chExt cx="991080" cy="50256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521320" y="2788200"/>
                    <a:ext cx="495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V="1">
                    <a:off x="6016320" y="228564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6016320" y="2286000"/>
                    <a:ext cx="495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6512400" y="22860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1554120" y="3191400"/>
                <a:ext cx="5454720" cy="502560"/>
                <a:chOff x="1554120" y="3191400"/>
                <a:chExt cx="5454720" cy="502560"/>
              </a:xfrm>
            </p:grpSpPr>
            <p:grpSp>
              <p:nvGrpSpPr>
                <p:cNvPr id="1240" name=""/>
                <p:cNvGrpSpPr/>
                <p:nvPr/>
              </p:nvGrpSpPr>
              <p:grpSpPr>
                <a:xfrm>
                  <a:off x="1554120" y="3191400"/>
                  <a:ext cx="2478960" cy="502560"/>
                  <a:chOff x="1554120" y="3191400"/>
                  <a:chExt cx="2478960" cy="50256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1554120" y="3693960"/>
                    <a:ext cx="495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V="1">
                    <a:off x="2049480" y="31914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049480" y="3191760"/>
                    <a:ext cx="99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041640" y="3693960"/>
                    <a:ext cx="991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V="1">
                    <a:off x="3041640" y="31914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6" name=""/>
                <p:cNvSpPr/>
                <p:nvPr/>
              </p:nvSpPr>
              <p:spPr>
                <a:xfrm>
                  <a:off x="6017400" y="3191760"/>
                  <a:ext cx="99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7" name=""/>
                <p:cNvGrpSpPr/>
                <p:nvPr/>
              </p:nvGrpSpPr>
              <p:grpSpPr>
                <a:xfrm>
                  <a:off x="4033440" y="3191400"/>
                  <a:ext cx="1983600" cy="502560"/>
                  <a:chOff x="4033440" y="3191400"/>
                  <a:chExt cx="1983600" cy="502560"/>
                </a:xfrm>
              </p:grpSpPr>
              <p:sp>
                <p:nvSpPr>
                  <p:cNvPr id="1248" name=""/>
                  <p:cNvSpPr/>
                  <p:nvPr/>
                </p:nvSpPr>
                <p:spPr>
                  <a:xfrm flipV="1">
                    <a:off x="4033440" y="31914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033440" y="3191760"/>
                    <a:ext cx="99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5025600" y="3693960"/>
                    <a:ext cx="991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5025600" y="319140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52" name=""/>
          <p:cNvGrpSpPr/>
          <p:nvPr/>
        </p:nvGrpSpPr>
        <p:grpSpPr>
          <a:xfrm>
            <a:off x="1002600" y="3995280"/>
            <a:ext cx="6006960" cy="699120"/>
            <a:chOff x="1002600" y="3995280"/>
            <a:chExt cx="6006960" cy="699120"/>
          </a:xfrm>
        </p:grpSpPr>
        <p:grpSp>
          <p:nvGrpSpPr>
            <p:cNvPr id="1253" name=""/>
            <p:cNvGrpSpPr/>
            <p:nvPr/>
          </p:nvGrpSpPr>
          <p:grpSpPr>
            <a:xfrm>
              <a:off x="2049480" y="3995640"/>
              <a:ext cx="496440" cy="502920"/>
              <a:chOff x="2049480" y="3995640"/>
              <a:chExt cx="496440" cy="502920"/>
            </a:xfrm>
          </p:grpSpPr>
          <p:sp>
            <p:nvSpPr>
              <p:cNvPr id="1254" name=""/>
              <p:cNvSpPr/>
              <p:nvPr/>
            </p:nvSpPr>
            <p:spPr>
              <a:xfrm>
                <a:off x="2049480" y="3995640"/>
                <a:ext cx="0" cy="502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049480" y="3995640"/>
                <a:ext cx="4964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546280" y="3995280"/>
              <a:ext cx="1487160" cy="503280"/>
              <a:chOff x="2546280" y="3995280"/>
              <a:chExt cx="1487160" cy="503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2546280" y="4498560"/>
                <a:ext cx="14871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2546280" y="3995280"/>
                <a:ext cx="0" cy="502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1554120" y="4498920"/>
              <a:ext cx="495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02600" y="411480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4033800" y="3995280"/>
              <a:ext cx="2975760" cy="503280"/>
              <a:chOff x="4033800" y="3995280"/>
              <a:chExt cx="2975760" cy="503280"/>
            </a:xfrm>
          </p:grpSpPr>
          <p:sp>
            <p:nvSpPr>
              <p:cNvPr id="1262" name=""/>
              <p:cNvSpPr/>
              <p:nvPr/>
            </p:nvSpPr>
            <p:spPr>
              <a:xfrm>
                <a:off x="6018120" y="3995640"/>
                <a:ext cx="0" cy="502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3" name=""/>
              <p:cNvGrpSpPr/>
              <p:nvPr/>
            </p:nvGrpSpPr>
            <p:grpSpPr>
              <a:xfrm>
                <a:off x="4033800" y="3995280"/>
                <a:ext cx="2975760" cy="502920"/>
                <a:chOff x="4033800" y="3995280"/>
                <a:chExt cx="2975760" cy="50292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6513480" y="3995640"/>
                  <a:ext cx="0" cy="502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017760" y="3995640"/>
                  <a:ext cx="4953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4033800" y="3995280"/>
                  <a:ext cx="1983600" cy="502560"/>
                  <a:chOff x="4033800" y="3995280"/>
                  <a:chExt cx="1983600" cy="5025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4033800" y="399564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4529880" y="4497840"/>
                    <a:ext cx="148752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V="1">
                    <a:off x="4529880" y="3995280"/>
                    <a:ext cx="0" cy="5022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4033800" y="3995640"/>
                    <a:ext cx="49608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1" name=""/>
                <p:cNvSpPr/>
                <p:nvPr/>
              </p:nvSpPr>
              <p:spPr>
                <a:xfrm>
                  <a:off x="6513480" y="4498200"/>
                  <a:ext cx="4960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2" name=""/>
          <p:cNvGrpSpPr/>
          <p:nvPr/>
        </p:nvGrpSpPr>
        <p:grpSpPr>
          <a:xfrm>
            <a:off x="2049480" y="2789280"/>
            <a:ext cx="3968280" cy="2514240"/>
            <a:chOff x="2049480" y="2789280"/>
            <a:chExt cx="3968280" cy="2514240"/>
          </a:xfrm>
        </p:grpSpPr>
        <p:sp>
          <p:nvSpPr>
            <p:cNvPr id="1273" name=""/>
            <p:cNvSpPr/>
            <p:nvPr/>
          </p:nvSpPr>
          <p:spPr>
            <a:xfrm>
              <a:off x="204948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3344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3736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2168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17760" y="2789280"/>
              <a:ext cx="0" cy="2514240"/>
            </a:xfrm>
            <a:prstGeom prst="line">
              <a:avLst/>
            </a:prstGeom>
            <a:ln w="2844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1066680" y="5410080"/>
            <a:ext cx="4876920" cy="58140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2049480" y="2789280"/>
            <a:ext cx="4467240" cy="1739880"/>
            <a:chOff x="2049480" y="2789280"/>
            <a:chExt cx="4467240" cy="1739880"/>
          </a:xfrm>
        </p:grpSpPr>
        <p:grpSp>
          <p:nvGrpSpPr>
            <p:cNvPr id="1280" name=""/>
            <p:cNvGrpSpPr/>
            <p:nvPr/>
          </p:nvGrpSpPr>
          <p:grpSpPr>
            <a:xfrm>
              <a:off x="2049480" y="2789280"/>
              <a:ext cx="2480760" cy="1709280"/>
              <a:chOff x="2049480" y="2789280"/>
              <a:chExt cx="2480760" cy="1709280"/>
            </a:xfrm>
          </p:grpSpPr>
          <p:sp>
            <p:nvSpPr>
              <p:cNvPr id="1281" name=""/>
              <p:cNvSpPr/>
              <p:nvPr/>
            </p:nvSpPr>
            <p:spPr>
              <a:xfrm>
                <a:off x="204948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54556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03380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530240" y="2789280"/>
                <a:ext cx="0" cy="170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6019920" y="2819520"/>
              <a:ext cx="0" cy="1709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516720" y="2819520"/>
              <a:ext cx="0" cy="1709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1066680" y="5410080"/>
            <a:ext cx="4876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有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全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出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90920" y="1066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71600" y="1066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1447920" y="1066680"/>
            <a:ext cx="2758680" cy="1067040"/>
            <a:chOff x="1447920" y="1066680"/>
            <a:chExt cx="2758680" cy="1067040"/>
          </a:xfrm>
        </p:grpSpPr>
        <p:sp>
          <p:nvSpPr>
            <p:cNvPr id="1291" name=""/>
            <p:cNvSpPr/>
            <p:nvPr/>
          </p:nvSpPr>
          <p:spPr>
            <a:xfrm>
              <a:off x="2413440" y="1066680"/>
              <a:ext cx="75888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723680" y="1422000"/>
              <a:ext cx="68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723680" y="1848960"/>
              <a:ext cx="68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72320" y="1635480"/>
              <a:ext cx="68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447920" y="1564200"/>
              <a:ext cx="27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654720" y="1350720"/>
              <a:ext cx="551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498920" y="952560"/>
            <a:ext cx="2892600" cy="1135080"/>
            <a:chOff x="4498920" y="952560"/>
            <a:chExt cx="2892600" cy="1135080"/>
          </a:xfrm>
        </p:grpSpPr>
        <p:grpSp>
          <p:nvGrpSpPr>
            <p:cNvPr id="1298" name=""/>
            <p:cNvGrpSpPr/>
            <p:nvPr/>
          </p:nvGrpSpPr>
          <p:grpSpPr>
            <a:xfrm>
              <a:off x="5538960" y="952560"/>
              <a:ext cx="914400" cy="581400"/>
              <a:chOff x="5538960" y="952560"/>
              <a:chExt cx="914400" cy="581400"/>
            </a:xfrm>
          </p:grpSpPr>
          <p:sp>
            <p:nvSpPr>
              <p:cNvPr id="1299" name=""/>
              <p:cNvSpPr/>
              <p:nvPr/>
            </p:nvSpPr>
            <p:spPr>
              <a:xfrm>
                <a:off x="5538960" y="95256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"/>
                  </a:rPr>
                  <a:t>&gt;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5690880" y="1333440"/>
                <a:ext cx="228600" cy="75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4498920" y="1020600"/>
              <a:ext cx="2892600" cy="1067040"/>
              <a:chOff x="4498920" y="1020600"/>
              <a:chExt cx="2892600" cy="1067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5533560" y="1020600"/>
                <a:ext cx="758520" cy="10670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498920" y="1063440"/>
                <a:ext cx="34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843440" y="1802880"/>
                <a:ext cx="68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292080" y="1589400"/>
                <a:ext cx="68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498920" y="1561320"/>
                <a:ext cx="48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843440" y="1347840"/>
                <a:ext cx="68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07320" y="1299600"/>
                <a:ext cx="484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1002600" y="4800600"/>
            <a:ext cx="6007680" cy="579600"/>
            <a:chOff x="1002600" y="4800600"/>
            <a:chExt cx="6007680" cy="579600"/>
          </a:xfrm>
        </p:grpSpPr>
        <p:sp>
          <p:nvSpPr>
            <p:cNvPr id="1310" name=""/>
            <p:cNvSpPr/>
            <p:nvPr/>
          </p:nvSpPr>
          <p:spPr>
            <a:xfrm>
              <a:off x="1002600" y="4800600"/>
              <a:ext cx="49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Y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033800" y="480060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018120" y="480060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54120" y="5303880"/>
              <a:ext cx="495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49480" y="480060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49480" y="4800600"/>
              <a:ext cx="1488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38440" y="480060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538440" y="5303880"/>
              <a:ext cx="495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33800" y="4800600"/>
              <a:ext cx="1488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522760" y="480060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22760" y="5303880"/>
              <a:ext cx="495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8120" y="4800600"/>
              <a:ext cx="992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79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0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80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81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1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820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1602000" y="1751760"/>
            <a:ext cx="5445720" cy="2304360"/>
            <a:chOff x="1602000" y="1751760"/>
            <a:chExt cx="5445720" cy="2304360"/>
          </a:xfrm>
        </p:grpSpPr>
        <p:sp>
          <p:nvSpPr>
            <p:cNvPr id="1323" name=""/>
            <p:cNvSpPr/>
            <p:nvPr/>
          </p:nvSpPr>
          <p:spPr>
            <a:xfrm>
              <a:off x="2801880" y="1860480"/>
              <a:ext cx="59364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43000" y="206064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43000" y="2523960"/>
              <a:ext cx="7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609920" y="1751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02000" y="2208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14600" y="305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850120" y="1942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90960" y="2989440"/>
              <a:ext cx="50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396040" y="2498760"/>
              <a:ext cx="609120" cy="914400"/>
              <a:chOff x="5396040" y="2498760"/>
              <a:chExt cx="609120" cy="914400"/>
            </a:xfrm>
          </p:grpSpPr>
          <p:sp>
            <p:nvSpPr>
              <p:cNvPr id="1332" name=""/>
              <p:cNvSpPr/>
              <p:nvPr/>
            </p:nvSpPr>
            <p:spPr>
              <a:xfrm>
                <a:off x="5396040" y="2498760"/>
                <a:ext cx="609120" cy="914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41840" y="2706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3397320" y="2324160"/>
              <a:ext cx="910800" cy="374760"/>
              <a:chOff x="3397320" y="2324160"/>
              <a:chExt cx="910800" cy="374760"/>
            </a:xfrm>
          </p:grpSpPr>
          <p:sp>
            <p:nvSpPr>
              <p:cNvPr id="1335" name=""/>
              <p:cNvSpPr/>
              <p:nvPr/>
            </p:nvSpPr>
            <p:spPr>
              <a:xfrm>
                <a:off x="3397320" y="2324160"/>
                <a:ext cx="55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933720" y="2698920"/>
                <a:ext cx="37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948120" y="2330280"/>
                <a:ext cx="0" cy="36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2811600" y="3141720"/>
              <a:ext cx="59364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40760" y="316008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66760" y="33703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66760" y="3833640"/>
              <a:ext cx="74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613520" y="3504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4290840" y="2508120"/>
              <a:ext cx="601560" cy="914400"/>
              <a:chOff x="4290840" y="2508120"/>
              <a:chExt cx="601560" cy="91440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4330800" y="2535840"/>
                <a:ext cx="561600" cy="520560"/>
                <a:chOff x="4330800" y="2535840"/>
                <a:chExt cx="561600" cy="520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4330800" y="2535840"/>
                  <a:ext cx="56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&gt;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V="1">
                  <a:off x="4443480" y="2866320"/>
                  <a:ext cx="17460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4290840" y="2508120"/>
                <a:ext cx="593640" cy="914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3392640" y="3231720"/>
              <a:ext cx="910800" cy="381240"/>
              <a:chOff x="3392640" y="3231720"/>
              <a:chExt cx="910800" cy="381240"/>
            </a:xfrm>
          </p:grpSpPr>
          <p:sp>
            <p:nvSpPr>
              <p:cNvPr id="1349" name=""/>
              <p:cNvSpPr/>
              <p:nvPr/>
            </p:nvSpPr>
            <p:spPr>
              <a:xfrm>
                <a:off x="3392640" y="3612960"/>
                <a:ext cx="55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929040" y="3231720"/>
                <a:ext cx="37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943440" y="3231720"/>
                <a:ext cx="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005520" y="2760120"/>
              <a:ext cx="1042200" cy="520560"/>
              <a:chOff x="6005520" y="2760120"/>
              <a:chExt cx="1042200" cy="520560"/>
            </a:xfrm>
          </p:grpSpPr>
          <p:sp>
            <p:nvSpPr>
              <p:cNvPr id="1353" name=""/>
              <p:cNvSpPr/>
              <p:nvPr/>
            </p:nvSpPr>
            <p:spPr>
              <a:xfrm>
                <a:off x="6650640" y="27601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143760" y="29988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05520" y="2922480"/>
                <a:ext cx="136440" cy="13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6" name=""/>
          <p:cNvSpPr/>
          <p:nvPr/>
        </p:nvSpPr>
        <p:spPr>
          <a:xfrm>
            <a:off x="1070280" y="1157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与或非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519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2.3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基本逻辑门电路的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3156480" y="4343400"/>
            <a:ext cx="2177640" cy="581400"/>
            <a:chOff x="3156480" y="4343400"/>
            <a:chExt cx="2177640" cy="581400"/>
          </a:xfrm>
        </p:grpSpPr>
        <p:sp>
          <p:nvSpPr>
            <p:cNvPr id="1359" name=""/>
            <p:cNvSpPr/>
            <p:nvPr/>
          </p:nvSpPr>
          <p:spPr>
            <a:xfrm>
              <a:off x="3733920" y="440532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156480" y="4343400"/>
              <a:ext cx="214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A.B+C.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914400" y="4367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表达式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5717520" y="4560840"/>
            <a:ext cx="2810880" cy="1461240"/>
            <a:chOff x="5717520" y="4560840"/>
            <a:chExt cx="2810880" cy="1461240"/>
          </a:xfrm>
        </p:grpSpPr>
        <p:sp>
          <p:nvSpPr>
            <p:cNvPr id="1363" name=""/>
            <p:cNvSpPr/>
            <p:nvPr/>
          </p:nvSpPr>
          <p:spPr>
            <a:xfrm rot="5400000">
              <a:off x="6455520" y="4845960"/>
              <a:ext cx="1250640" cy="901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616440" y="5326200"/>
              <a:ext cx="50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931080" y="4626720"/>
              <a:ext cx="813240" cy="520560"/>
              <a:chOff x="6931080" y="4626720"/>
              <a:chExt cx="813240" cy="520560"/>
            </a:xfrm>
          </p:grpSpPr>
          <p:sp>
            <p:nvSpPr>
              <p:cNvPr id="1366" name=""/>
              <p:cNvSpPr/>
              <p:nvPr/>
            </p:nvSpPr>
            <p:spPr>
              <a:xfrm>
                <a:off x="6931080" y="4626720"/>
                <a:ext cx="81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&gt;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7170480" y="4932000"/>
                <a:ext cx="195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>
              <a:off x="6702480" y="4685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132600" y="485856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083720" y="4668480"/>
              <a:ext cx="1080" cy="12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09680" y="5314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145920" y="517752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6154920" y="547416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6168600" y="575316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7534800" y="5097960"/>
              <a:ext cx="993600" cy="520560"/>
              <a:chOff x="7534800" y="5097960"/>
              <a:chExt cx="993600" cy="520560"/>
            </a:xfrm>
          </p:grpSpPr>
          <p:sp>
            <p:nvSpPr>
              <p:cNvPr id="1376" name=""/>
              <p:cNvSpPr/>
              <p:nvPr/>
            </p:nvSpPr>
            <p:spPr>
              <a:xfrm>
                <a:off x="8131320" y="50979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665120" y="5337720"/>
                <a:ext cx="47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34800" y="5265720"/>
                <a:ext cx="128520" cy="128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9" name=""/>
            <p:cNvSpPr/>
            <p:nvPr/>
          </p:nvSpPr>
          <p:spPr>
            <a:xfrm>
              <a:off x="5743800" y="4560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34800" y="4884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25800" y="5176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17520" y="5501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309000" y="40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27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3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37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4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4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5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743200" y="53316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0.3 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TTL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门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619360" y="1720080"/>
            <a:ext cx="32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极管—三极管逻辑门电路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2790720"/>
            <a:ext cx="7848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"/>
              </a:rPr>
              <a:t>TTL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门电路是双极型集成电路，与分立元件相比，</a:t>
            </a:r>
            <a:r>
              <a:rPr b="1" lang="zh-CN" sz="3200" spc="-1" strike="noStrike">
                <a:solidFill>
                  <a:srgbClr val="cc0000"/>
                </a:solidFill>
                <a:latin typeface=""/>
              </a:rPr>
              <a:t>具有速度快、可靠性高和微型化等优点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目前分立元件电路已被集成电路替代。下面介绍集成 “与非”门电路的工作原理、特性和参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905040" y="1219320"/>
            <a:ext cx="7172280" cy="171000"/>
            <a:chOff x="905040" y="1219320"/>
            <a:chExt cx="7172280" cy="171000"/>
          </a:xfrm>
        </p:grpSpPr>
        <p:pic>
          <p:nvPicPr>
            <p:cNvPr id="1388" name="" descr=""/>
            <p:cNvPicPr/>
            <p:nvPr/>
          </p:nvPicPr>
          <p:blipFill>
            <a:blip r:embed="rId1"/>
            <a:stretch/>
          </p:blipFill>
          <p:spPr>
            <a:xfrm>
              <a:off x="18097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2"/>
            <a:stretch/>
          </p:blipFill>
          <p:spPr>
            <a:xfrm>
              <a:off x="1952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3"/>
            <a:stretch/>
          </p:blipFill>
          <p:spPr>
            <a:xfrm>
              <a:off x="2114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4"/>
            <a:stretch/>
          </p:blipFill>
          <p:spPr>
            <a:xfrm>
              <a:off x="2409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5"/>
            <a:stretch/>
          </p:blipFill>
          <p:spPr>
            <a:xfrm>
              <a:off x="2571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6"/>
            <a:stretch/>
          </p:blipFill>
          <p:spPr>
            <a:xfrm>
              <a:off x="27241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7"/>
            <a:stretch/>
          </p:blipFill>
          <p:spPr>
            <a:xfrm>
              <a:off x="2867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8"/>
            <a:stretch/>
          </p:blipFill>
          <p:spPr>
            <a:xfrm>
              <a:off x="3029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9"/>
            <a:stretch/>
          </p:blipFill>
          <p:spPr>
            <a:xfrm>
              <a:off x="3324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10"/>
            <a:stretch/>
          </p:blipFill>
          <p:spPr>
            <a:xfrm>
              <a:off x="3486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11"/>
            <a:stretch/>
          </p:blipFill>
          <p:spPr>
            <a:xfrm>
              <a:off x="36385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12"/>
            <a:stretch/>
          </p:blipFill>
          <p:spPr>
            <a:xfrm>
              <a:off x="3781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13"/>
            <a:stretch/>
          </p:blipFill>
          <p:spPr>
            <a:xfrm>
              <a:off x="22669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14"/>
            <a:stretch/>
          </p:blipFill>
          <p:spPr>
            <a:xfrm>
              <a:off x="31813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15"/>
            <a:stretch/>
          </p:blipFill>
          <p:spPr>
            <a:xfrm>
              <a:off x="3943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16"/>
            <a:stretch/>
          </p:blipFill>
          <p:spPr>
            <a:xfrm>
              <a:off x="40957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17"/>
            <a:stretch/>
          </p:blipFill>
          <p:spPr>
            <a:xfrm>
              <a:off x="4238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18"/>
            <a:stretch/>
          </p:blipFill>
          <p:spPr>
            <a:xfrm>
              <a:off x="4400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" descr=""/>
            <p:cNvPicPr/>
            <p:nvPr/>
          </p:nvPicPr>
          <p:blipFill>
            <a:blip r:embed="rId19"/>
            <a:stretch/>
          </p:blipFill>
          <p:spPr>
            <a:xfrm>
              <a:off x="45529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20"/>
            <a:stretch/>
          </p:blipFill>
          <p:spPr>
            <a:xfrm>
              <a:off x="4695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21"/>
            <a:stretch/>
          </p:blipFill>
          <p:spPr>
            <a:xfrm>
              <a:off x="4857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22"/>
            <a:stretch/>
          </p:blipFill>
          <p:spPr>
            <a:xfrm>
              <a:off x="5153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23"/>
            <a:stretch/>
          </p:blipFill>
          <p:spPr>
            <a:xfrm>
              <a:off x="53150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24"/>
            <a:stretch/>
          </p:blipFill>
          <p:spPr>
            <a:xfrm>
              <a:off x="54673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5"/>
            <a:stretch/>
          </p:blipFill>
          <p:spPr>
            <a:xfrm>
              <a:off x="5610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26"/>
            <a:stretch/>
          </p:blipFill>
          <p:spPr>
            <a:xfrm>
              <a:off x="57722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27"/>
            <a:stretch/>
          </p:blipFill>
          <p:spPr>
            <a:xfrm>
              <a:off x="6067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28"/>
            <a:stretch/>
          </p:blipFill>
          <p:spPr>
            <a:xfrm>
              <a:off x="62294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29"/>
            <a:stretch/>
          </p:blipFill>
          <p:spPr>
            <a:xfrm>
              <a:off x="63817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30"/>
            <a:stretch/>
          </p:blipFill>
          <p:spPr>
            <a:xfrm>
              <a:off x="6524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31"/>
            <a:stretch/>
          </p:blipFill>
          <p:spPr>
            <a:xfrm>
              <a:off x="50101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32"/>
            <a:stretch/>
          </p:blipFill>
          <p:spPr>
            <a:xfrm>
              <a:off x="59245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33"/>
            <a:stretch/>
          </p:blipFill>
          <p:spPr>
            <a:xfrm>
              <a:off x="66866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34"/>
            <a:stretch/>
          </p:blipFill>
          <p:spPr>
            <a:xfrm>
              <a:off x="68389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" descr=""/>
            <p:cNvPicPr/>
            <p:nvPr/>
          </p:nvPicPr>
          <p:blipFill>
            <a:blip r:embed="rId35"/>
            <a:stretch/>
          </p:blipFill>
          <p:spPr>
            <a:xfrm>
              <a:off x="6981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36"/>
            <a:stretch/>
          </p:blipFill>
          <p:spPr>
            <a:xfrm>
              <a:off x="714384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37"/>
            <a:stretch/>
          </p:blipFill>
          <p:spPr>
            <a:xfrm>
              <a:off x="7296120" y="1228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5" name=""/>
            <p:cNvGrpSpPr/>
            <p:nvPr/>
          </p:nvGrpSpPr>
          <p:grpSpPr>
            <a:xfrm>
              <a:off x="905040" y="1219320"/>
              <a:ext cx="923760" cy="161640"/>
              <a:chOff x="905040" y="1219320"/>
              <a:chExt cx="923760" cy="161640"/>
            </a:xfrm>
          </p:grpSpPr>
          <p:pic>
            <p:nvPicPr>
              <p:cNvPr id="142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04796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209960" y="1219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36224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50516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1667160" y="1219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1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905040" y="1219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32" name="" descr=""/>
            <p:cNvPicPr/>
            <p:nvPr/>
          </p:nvPicPr>
          <p:blipFill>
            <a:blip r:embed="rId44"/>
            <a:stretch/>
          </p:blipFill>
          <p:spPr>
            <a:xfrm>
              <a:off x="7458120" y="1219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" descr=""/>
            <p:cNvPicPr/>
            <p:nvPr/>
          </p:nvPicPr>
          <p:blipFill>
            <a:blip r:embed="rId45"/>
            <a:stretch/>
          </p:blipFill>
          <p:spPr>
            <a:xfrm>
              <a:off x="7601040" y="12193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46"/>
            <a:stretch/>
          </p:blipFill>
          <p:spPr>
            <a:xfrm>
              <a:off x="7763040" y="12193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47"/>
            <a:stretch/>
          </p:blipFill>
          <p:spPr>
            <a:xfrm>
              <a:off x="7915320" y="121932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57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62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"/>
          <p:cNvGrpSpPr/>
          <p:nvPr/>
        </p:nvGrpSpPr>
        <p:grpSpPr>
          <a:xfrm>
            <a:off x="914400" y="1096920"/>
            <a:ext cx="7696080" cy="4770360"/>
            <a:chOff x="914400" y="1096920"/>
            <a:chExt cx="7696080" cy="4770360"/>
          </a:xfrm>
        </p:grpSpPr>
        <p:sp>
          <p:nvSpPr>
            <p:cNvPr id="1437" name=""/>
            <p:cNvSpPr/>
            <p:nvPr/>
          </p:nvSpPr>
          <p:spPr>
            <a:xfrm>
              <a:off x="7300800" y="12193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37080" y="403848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0160" y="3459240"/>
              <a:ext cx="5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962520" y="4724280"/>
              <a:ext cx="91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91320" y="4648320"/>
              <a:ext cx="8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914400" y="3378240"/>
              <a:ext cx="5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921600" y="38098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924840" y="4191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53160" y="1706400"/>
              <a:ext cx="94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419720" y="1828800"/>
              <a:ext cx="55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276720" y="182880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965480" y="251460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60760" y="281952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06600" y="312408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486560" y="1096920"/>
              <a:ext cx="11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286000" y="2438280"/>
              <a:ext cx="101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8080" y="586728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75480" y="45813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20040" y="33242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27920" y="3886200"/>
              <a:ext cx="0" cy="70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6127920" y="3987720"/>
              <a:ext cx="4838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127920" y="4392720"/>
              <a:ext cx="5792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3149640" y="1293840"/>
              <a:ext cx="417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425920" y="2400480"/>
              <a:ext cx="113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1" name=""/>
            <p:cNvGrpSpPr/>
            <p:nvPr/>
          </p:nvGrpSpPr>
          <p:grpSpPr>
            <a:xfrm>
              <a:off x="2376000" y="2971440"/>
              <a:ext cx="1128960" cy="428760"/>
              <a:chOff x="2376000" y="2971440"/>
              <a:chExt cx="1128960" cy="4287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2488680" y="2971800"/>
                <a:ext cx="101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3279600" y="2971440"/>
                <a:ext cx="22536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2829600" y="2973240"/>
                <a:ext cx="225720" cy="42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2602080" y="2971800"/>
                <a:ext cx="22536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2376000" y="2971800"/>
                <a:ext cx="22572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3494160" y="2886120"/>
              <a:ext cx="1040760" cy="901440"/>
              <a:chOff x="3494160" y="2886120"/>
              <a:chExt cx="1040760" cy="901440"/>
            </a:xfrm>
          </p:grpSpPr>
          <p:sp>
            <p:nvSpPr>
              <p:cNvPr id="1468" name=""/>
              <p:cNvSpPr/>
              <p:nvPr/>
            </p:nvSpPr>
            <p:spPr>
              <a:xfrm>
                <a:off x="3956400" y="2886120"/>
                <a:ext cx="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3956400" y="3015000"/>
                <a:ext cx="462960" cy="25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956400" y="3529440"/>
                <a:ext cx="578520" cy="25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94160" y="3401280"/>
                <a:ext cx="46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6026040" y="2619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35400" y="2743200"/>
              <a:ext cx="54612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06960" y="3135240"/>
              <a:ext cx="63180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540400" y="304488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87720" y="182880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82760" y="129528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1324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4413240" y="2362320"/>
              <a:ext cx="6480" cy="68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508640" y="3753000"/>
              <a:ext cx="0" cy="92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38760" y="3048120"/>
              <a:ext cx="0" cy="154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80080" y="1295280"/>
              <a:ext cx="0" cy="4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80080" y="2157480"/>
              <a:ext cx="0" cy="60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486320" y="563868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65840" y="22860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4965840" y="2395440"/>
              <a:ext cx="50472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65840" y="2830680"/>
              <a:ext cx="63000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8760" y="3657600"/>
              <a:ext cx="7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96200" y="358128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395440" y="33717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1523880" y="3733920"/>
              <a:ext cx="8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651040" y="3362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1523880" y="4038480"/>
              <a:ext cx="113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849400" y="336240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1523880" y="4343400"/>
              <a:ext cx="13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036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371600" y="365760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71600" y="39625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371600" y="426708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30600" y="4303800"/>
              <a:ext cx="16002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95680" y="4267080"/>
              <a:ext cx="50760" cy="50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19720" y="2743200"/>
              <a:ext cx="5331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3173400" y="2285640"/>
              <a:ext cx="0" cy="685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343400" y="190512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19720" y="464832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4505400" y="5105160"/>
              <a:ext cx="0" cy="533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56320" y="457200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749920" y="502920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496200" y="171288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733920" y="1173240"/>
            <a:ext cx="1066680" cy="5333760"/>
            <a:chOff x="3733920" y="1173240"/>
            <a:chExt cx="1066680" cy="5333760"/>
          </a:xfrm>
        </p:grpSpPr>
        <p:sp>
          <p:nvSpPr>
            <p:cNvPr id="1511" name=""/>
            <p:cNvSpPr/>
            <p:nvPr/>
          </p:nvSpPr>
          <p:spPr>
            <a:xfrm>
              <a:off x="3733920" y="1173240"/>
              <a:ext cx="0" cy="5333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00600" y="1173240"/>
              <a:ext cx="0" cy="53337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2427120" y="5785560"/>
            <a:ext cx="3716640" cy="525600"/>
            <a:chOff x="2427120" y="5785560"/>
            <a:chExt cx="3716640" cy="525600"/>
          </a:xfrm>
        </p:grpSpPr>
        <p:sp>
          <p:nvSpPr>
            <p:cNvPr id="1514" name=""/>
            <p:cNvSpPr/>
            <p:nvPr/>
          </p:nvSpPr>
          <p:spPr>
            <a:xfrm>
              <a:off x="2427120" y="5785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入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876480" y="579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中间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22960" y="579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83772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3.1   TTL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与非”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38080" y="12952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05120" y="2666880"/>
            <a:ext cx="1981080" cy="1752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838080" y="990720"/>
            <a:ext cx="4886280" cy="171360"/>
            <a:chOff x="838080" y="990720"/>
            <a:chExt cx="4886280" cy="171360"/>
          </a:xfrm>
        </p:grpSpPr>
        <p:pic>
          <p:nvPicPr>
            <p:cNvPr id="1521" name="" descr=""/>
            <p:cNvPicPr/>
            <p:nvPr/>
          </p:nvPicPr>
          <p:blipFill>
            <a:blip r:embed="rId1"/>
            <a:stretch/>
          </p:blipFill>
          <p:spPr>
            <a:xfrm>
              <a:off x="1743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2"/>
            <a:stretch/>
          </p:blipFill>
          <p:spPr>
            <a:xfrm>
              <a:off x="1886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3"/>
            <a:stretch/>
          </p:blipFill>
          <p:spPr>
            <a:xfrm>
              <a:off x="2048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4"/>
            <a:stretch/>
          </p:blipFill>
          <p:spPr>
            <a:xfrm>
              <a:off x="2343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5"/>
            <a:stretch/>
          </p:blipFill>
          <p:spPr>
            <a:xfrm>
              <a:off x="2505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6"/>
            <a:stretch/>
          </p:blipFill>
          <p:spPr>
            <a:xfrm>
              <a:off x="2657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7"/>
            <a:stretch/>
          </p:blipFill>
          <p:spPr>
            <a:xfrm>
              <a:off x="2800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8"/>
            <a:stretch/>
          </p:blipFill>
          <p:spPr>
            <a:xfrm>
              <a:off x="29624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9"/>
            <a:stretch/>
          </p:blipFill>
          <p:spPr>
            <a:xfrm>
              <a:off x="3257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10"/>
            <a:stretch/>
          </p:blipFill>
          <p:spPr>
            <a:xfrm>
              <a:off x="3419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11"/>
            <a:stretch/>
          </p:blipFill>
          <p:spPr>
            <a:xfrm>
              <a:off x="3571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12"/>
            <a:stretch/>
          </p:blipFill>
          <p:spPr>
            <a:xfrm>
              <a:off x="3714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13"/>
            <a:stretch/>
          </p:blipFill>
          <p:spPr>
            <a:xfrm>
              <a:off x="2200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14"/>
            <a:stretch/>
          </p:blipFill>
          <p:spPr>
            <a:xfrm>
              <a:off x="3114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15"/>
            <a:stretch/>
          </p:blipFill>
          <p:spPr>
            <a:xfrm>
              <a:off x="3876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16"/>
            <a:stretch/>
          </p:blipFill>
          <p:spPr>
            <a:xfrm>
              <a:off x="4029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17"/>
            <a:stretch/>
          </p:blipFill>
          <p:spPr>
            <a:xfrm>
              <a:off x="4172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18"/>
            <a:stretch/>
          </p:blipFill>
          <p:spPr>
            <a:xfrm>
              <a:off x="4334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19"/>
            <a:stretch/>
          </p:blipFill>
          <p:spPr>
            <a:xfrm>
              <a:off x="4486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20"/>
            <a:stretch/>
          </p:blipFill>
          <p:spPr>
            <a:xfrm>
              <a:off x="4629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21"/>
            <a:stretch/>
          </p:blipFill>
          <p:spPr>
            <a:xfrm>
              <a:off x="4791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22"/>
            <a:stretch/>
          </p:blipFill>
          <p:spPr>
            <a:xfrm>
              <a:off x="4943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3" name=""/>
            <p:cNvGrpSpPr/>
            <p:nvPr/>
          </p:nvGrpSpPr>
          <p:grpSpPr>
            <a:xfrm>
              <a:off x="838080" y="990720"/>
              <a:ext cx="923760" cy="161640"/>
              <a:chOff x="838080" y="990720"/>
              <a:chExt cx="923760" cy="161640"/>
            </a:xfrm>
          </p:grpSpPr>
          <p:pic>
            <p:nvPicPr>
              <p:cNvPr id="154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9810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1430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295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4382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6002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38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50" name="" descr=""/>
            <p:cNvPicPr/>
            <p:nvPr/>
          </p:nvPicPr>
          <p:blipFill>
            <a:blip r:embed="rId29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30"/>
            <a:stretch/>
          </p:blipFill>
          <p:spPr>
            <a:xfrm>
              <a:off x="5248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31"/>
            <a:stretch/>
          </p:blipFill>
          <p:spPr>
            <a:xfrm>
              <a:off x="5410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2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"/>
          <p:cNvGrpSpPr/>
          <p:nvPr/>
        </p:nvGrpSpPr>
        <p:grpSpPr>
          <a:xfrm>
            <a:off x="5273640" y="3824280"/>
            <a:ext cx="2599560" cy="2119320"/>
            <a:chOff x="5273640" y="3824280"/>
            <a:chExt cx="2599560" cy="2119320"/>
          </a:xfrm>
        </p:grpSpPr>
        <p:grpSp>
          <p:nvGrpSpPr>
            <p:cNvPr id="1555" name=""/>
            <p:cNvGrpSpPr/>
            <p:nvPr/>
          </p:nvGrpSpPr>
          <p:grpSpPr>
            <a:xfrm>
              <a:off x="5273640" y="3824280"/>
              <a:ext cx="2581200" cy="2119320"/>
              <a:chOff x="5273640" y="3824280"/>
              <a:chExt cx="2581200" cy="2119320"/>
            </a:xfrm>
          </p:grpSpPr>
          <p:pic>
            <p:nvPicPr>
              <p:cNvPr id="155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73640" y="3886200"/>
                <a:ext cx="2581200" cy="20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7" name=""/>
              <p:cNvSpPr/>
              <p:nvPr/>
            </p:nvSpPr>
            <p:spPr>
              <a:xfrm flipV="1">
                <a:off x="6651360" y="4277880"/>
                <a:ext cx="0" cy="89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351760" y="4419360"/>
                <a:ext cx="468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359680" y="4887720"/>
                <a:ext cx="468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340240" y="3976560"/>
                <a:ext cx="603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444720" y="38242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239160" y="52578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等效电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5832360" y="4986360"/>
                <a:ext cx="851040" cy="347400"/>
                <a:chOff x="5832360" y="4986360"/>
                <a:chExt cx="851040" cy="34740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5932440" y="517212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832360" y="5119560"/>
                  <a:ext cx="76320" cy="954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6" name=""/>
                <p:cNvGrpSpPr/>
                <p:nvPr/>
              </p:nvGrpSpPr>
              <p:grpSpPr>
                <a:xfrm>
                  <a:off x="6134040" y="4986360"/>
                  <a:ext cx="232920" cy="347400"/>
                  <a:chOff x="6134040" y="4986360"/>
                  <a:chExt cx="232920" cy="34740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>
                    <a:off x="6137280" y="51814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flipH="1">
                    <a:off x="6136920" y="49942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6361200" y="498636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6134040" y="49942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1" name=""/>
              <p:cNvGrpSpPr/>
              <p:nvPr/>
            </p:nvGrpSpPr>
            <p:grpSpPr>
              <a:xfrm>
                <a:off x="5797440" y="4529160"/>
                <a:ext cx="851040" cy="347400"/>
                <a:chOff x="5797440" y="4529160"/>
                <a:chExt cx="851040" cy="347400"/>
              </a:xfrm>
            </p:grpSpPr>
            <p:sp>
              <p:nvSpPr>
                <p:cNvPr id="1572" name=""/>
                <p:cNvSpPr/>
                <p:nvPr/>
              </p:nvSpPr>
              <p:spPr>
                <a:xfrm>
                  <a:off x="5897520" y="471492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5797440" y="4662360"/>
                  <a:ext cx="76320" cy="954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4" name=""/>
                <p:cNvGrpSpPr/>
                <p:nvPr/>
              </p:nvGrpSpPr>
              <p:grpSpPr>
                <a:xfrm>
                  <a:off x="6099120" y="4529160"/>
                  <a:ext cx="232920" cy="347400"/>
                  <a:chOff x="6099120" y="4529160"/>
                  <a:chExt cx="232920" cy="34740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6102360" y="47242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6102000" y="453708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326280" y="452916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6099120" y="45370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9" name=""/>
              <p:cNvGrpSpPr/>
              <p:nvPr/>
            </p:nvGrpSpPr>
            <p:grpSpPr>
              <a:xfrm>
                <a:off x="5797440" y="4114800"/>
                <a:ext cx="851040" cy="347400"/>
                <a:chOff x="5797440" y="4114800"/>
                <a:chExt cx="851040" cy="34740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5897520" y="430056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797440" y="4248000"/>
                  <a:ext cx="76320" cy="954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6099120" y="4114800"/>
                  <a:ext cx="232920" cy="347400"/>
                  <a:chOff x="6099120" y="4114800"/>
                  <a:chExt cx="232920" cy="34740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6102360" y="43099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>
                    <a:off x="6102000" y="41227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>
                    <a:off x="6326280" y="411480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6099120" y="4122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7" name=""/>
              <p:cNvGrpSpPr/>
              <p:nvPr/>
            </p:nvGrpSpPr>
            <p:grpSpPr>
              <a:xfrm>
                <a:off x="6622920" y="4114800"/>
                <a:ext cx="851040" cy="347400"/>
                <a:chOff x="6622920" y="4114800"/>
                <a:chExt cx="851040" cy="347400"/>
              </a:xfrm>
            </p:grpSpPr>
            <p:sp>
              <p:nvSpPr>
                <p:cNvPr id="1588" name=""/>
                <p:cNvSpPr/>
                <p:nvPr/>
              </p:nvSpPr>
              <p:spPr>
                <a:xfrm flipH="1">
                  <a:off x="6622920" y="4300560"/>
                  <a:ext cx="750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7397640" y="4248000"/>
                  <a:ext cx="76320" cy="954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0" name=""/>
                <p:cNvGrpSpPr/>
                <p:nvPr/>
              </p:nvGrpSpPr>
              <p:grpSpPr>
                <a:xfrm>
                  <a:off x="6939360" y="4114800"/>
                  <a:ext cx="232920" cy="347400"/>
                  <a:chOff x="6939360" y="4114800"/>
                  <a:chExt cx="232920" cy="34740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 flipH="1">
                    <a:off x="6940440" y="43099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6940800" y="4122720"/>
                    <a:ext cx="22860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6939360" y="4114800"/>
                    <a:ext cx="5760" cy="34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7172280" y="4122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95" name=""/>
            <p:cNvSpPr/>
            <p:nvPr/>
          </p:nvSpPr>
          <p:spPr>
            <a:xfrm>
              <a:off x="7498800" y="40528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914400" y="5007960"/>
            <a:ext cx="1598760" cy="496440"/>
          </a:xfrm>
          <a:prstGeom prst="wedgeRoundRectCallout">
            <a:avLst>
              <a:gd name="adj1" fmla="val 69560"/>
              <a:gd name="adj2" fmla="val -290865"/>
              <a:gd name="adj3" fmla="val 16667"/>
            </a:avLst>
          </a:prstGeom>
          <a:blipFill rotWithShape="0">
            <a:blip r:embed="rId34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多发射极三极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86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87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7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3" presetSubtype="288"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890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4" presetSubtype="10"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base">
                                        <p:cTn id="895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7" name=""/>
          <p:cNvGrpSpPr/>
          <p:nvPr/>
        </p:nvGrpSpPr>
        <p:grpSpPr>
          <a:xfrm>
            <a:off x="1184400" y="1154160"/>
            <a:ext cx="7696080" cy="4770360"/>
            <a:chOff x="1184400" y="1154160"/>
            <a:chExt cx="7696080" cy="4770360"/>
          </a:xfrm>
        </p:grpSpPr>
        <p:sp>
          <p:nvSpPr>
            <p:cNvPr id="1598" name=""/>
            <p:cNvSpPr/>
            <p:nvPr/>
          </p:nvSpPr>
          <p:spPr>
            <a:xfrm>
              <a:off x="7570800" y="127656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07080" y="409572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50160" y="3516480"/>
              <a:ext cx="5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232520" y="4781520"/>
              <a:ext cx="91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061320" y="4705560"/>
              <a:ext cx="8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184400" y="3435480"/>
              <a:ext cx="5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91600" y="38671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194840" y="4248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904080" y="1763640"/>
              <a:ext cx="94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689720" y="1886040"/>
              <a:ext cx="55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546720" y="188604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235480" y="257184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530760" y="287676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76600" y="318132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756560" y="1154160"/>
              <a:ext cx="11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556000" y="2495520"/>
              <a:ext cx="101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18080" y="592452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899400" y="4610160"/>
              <a:ext cx="0" cy="11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99400" y="3422880"/>
              <a:ext cx="0" cy="63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97920" y="3943440"/>
              <a:ext cx="0" cy="70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6397920" y="4044960"/>
              <a:ext cx="4838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83520" y="4449960"/>
              <a:ext cx="55080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3419640" y="1351080"/>
              <a:ext cx="417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77200" y="2467080"/>
              <a:ext cx="11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2" name=""/>
            <p:cNvGrpSpPr/>
            <p:nvPr/>
          </p:nvGrpSpPr>
          <p:grpSpPr>
            <a:xfrm>
              <a:off x="2646000" y="3028680"/>
              <a:ext cx="1128960" cy="428760"/>
              <a:chOff x="2646000" y="3028680"/>
              <a:chExt cx="1128960" cy="428760"/>
            </a:xfrm>
          </p:grpSpPr>
          <p:sp>
            <p:nvSpPr>
              <p:cNvPr id="1623" name=""/>
              <p:cNvSpPr/>
              <p:nvPr/>
            </p:nvSpPr>
            <p:spPr>
              <a:xfrm flipH="1">
                <a:off x="2758680" y="3029040"/>
                <a:ext cx="101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3549600" y="3028680"/>
                <a:ext cx="22536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>
                <a:off x="3099600" y="3030480"/>
                <a:ext cx="225720" cy="42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2872080" y="3029040"/>
                <a:ext cx="22536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>
                <a:off x="2646000" y="3029040"/>
                <a:ext cx="22572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3768840" y="2938680"/>
              <a:ext cx="1040760" cy="901080"/>
              <a:chOff x="3768840" y="2938680"/>
              <a:chExt cx="1040760" cy="901080"/>
            </a:xfrm>
          </p:grpSpPr>
          <p:sp>
            <p:nvSpPr>
              <p:cNvPr id="1629" name=""/>
              <p:cNvSpPr/>
              <p:nvPr/>
            </p:nvSpPr>
            <p:spPr>
              <a:xfrm>
                <a:off x="4231080" y="2938680"/>
                <a:ext cx="0" cy="90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4231080" y="3067560"/>
                <a:ext cx="462960" cy="25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231080" y="3582000"/>
                <a:ext cx="578520" cy="25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768840" y="3453480"/>
                <a:ext cx="46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6276960" y="26481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276600" y="2800440"/>
              <a:ext cx="54612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91360" y="3221280"/>
              <a:ext cx="63180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826240" y="309888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57720" y="188604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452760" y="135252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3240" y="135252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4683240" y="2419560"/>
              <a:ext cx="6480" cy="68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778640" y="3791160"/>
              <a:ext cx="0" cy="9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08760" y="3105360"/>
              <a:ext cx="0" cy="154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831000" y="1352520"/>
              <a:ext cx="0" cy="4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831000" y="2205000"/>
              <a:ext cx="0" cy="60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765680" y="5710320"/>
              <a:ext cx="215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235840" y="2343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5235840" y="2452680"/>
              <a:ext cx="50472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221440" y="2887920"/>
              <a:ext cx="63036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08760" y="3714840"/>
              <a:ext cx="7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66200" y="363852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660760" y="34099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1793520" y="3791160"/>
              <a:ext cx="9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30760" y="3424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07920" y="4095720"/>
              <a:ext cx="11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19400" y="34243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1808280" y="4400640"/>
              <a:ext cx="13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773600" y="5695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41600" y="371484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41600" y="401976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41600" y="432432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653000" y="276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800600" y="4361040"/>
              <a:ext cx="16002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89720" y="2800440"/>
              <a:ext cx="5331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3443400" y="2342880"/>
              <a:ext cx="0" cy="6858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613400" y="196236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689720" y="470556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4775400" y="5162400"/>
              <a:ext cx="0" cy="533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926320" y="462924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19920" y="508644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747120" y="177012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1" name=""/>
          <p:cNvSpPr/>
          <p:nvPr/>
        </p:nvSpPr>
        <p:spPr>
          <a:xfrm>
            <a:off x="1076760" y="799560"/>
            <a:ext cx="42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入全为高电平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(3.6V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5800" y="30492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2122200" y="1600200"/>
            <a:ext cx="1218600" cy="2743200"/>
            <a:chOff x="2122200" y="1600200"/>
            <a:chExt cx="1218600" cy="2743200"/>
          </a:xfrm>
        </p:grpSpPr>
        <p:sp>
          <p:nvSpPr>
            <p:cNvPr id="1674" name=""/>
            <p:cNvSpPr/>
            <p:nvPr/>
          </p:nvSpPr>
          <p:spPr>
            <a:xfrm>
              <a:off x="3265200" y="1600200"/>
              <a:ext cx="0" cy="12952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188880" y="3429000"/>
              <a:ext cx="0" cy="91440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3188520" y="3048120"/>
              <a:ext cx="152280" cy="3808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2122560" y="4343400"/>
              <a:ext cx="1066320" cy="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60280" y="3429000"/>
              <a:ext cx="0" cy="68580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2959920" y="3048120"/>
              <a:ext cx="152280" cy="3808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2122200" y="4038480"/>
              <a:ext cx="837720" cy="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2122200" y="3048120"/>
              <a:ext cx="761760" cy="761760"/>
              <a:chOff x="2122200" y="3048120"/>
              <a:chExt cx="761760" cy="761760"/>
            </a:xfrm>
          </p:grpSpPr>
          <p:sp>
            <p:nvSpPr>
              <p:cNvPr id="1682" name=""/>
              <p:cNvSpPr/>
              <p:nvPr/>
            </p:nvSpPr>
            <p:spPr>
              <a:xfrm>
                <a:off x="2732040" y="3429000"/>
                <a:ext cx="0" cy="380880"/>
              </a:xfrm>
              <a:prstGeom prst="line">
                <a:avLst/>
              </a:prstGeom>
              <a:ln w="28440">
                <a:solidFill>
                  <a:srgbClr val="cc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2731680" y="3048120"/>
                <a:ext cx="152280" cy="380880"/>
              </a:xfrm>
              <a:prstGeom prst="line">
                <a:avLst/>
              </a:prstGeom>
              <a:ln w="28440">
                <a:solidFill>
                  <a:srgbClr val="cc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2122200" y="3809880"/>
                <a:ext cx="609480" cy="0"/>
              </a:xfrm>
              <a:prstGeom prst="line">
                <a:avLst/>
              </a:prstGeom>
              <a:ln w="2844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5" name=""/>
          <p:cNvSpPr/>
          <p:nvPr/>
        </p:nvSpPr>
        <p:spPr>
          <a:xfrm>
            <a:off x="1552680" y="1981080"/>
            <a:ext cx="1117440" cy="609840"/>
          </a:xfrm>
          <a:prstGeom prst="wedgeEllipseCallout">
            <a:avLst>
              <a:gd name="adj1" fmla="val 117046"/>
              <a:gd name="adj2" fmla="val 9635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"/>
              </a:rPr>
              <a:t>4.3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941720" y="560844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饱和导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247760" y="1828800"/>
            <a:ext cx="1560600" cy="808200"/>
          </a:xfrm>
          <a:prstGeom prst="wedgeEllipseCallout">
            <a:avLst>
              <a:gd name="adj1" fmla="val 85810"/>
              <a:gd name="adj2" fmla="val 75736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钳位</a:t>
            </a: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2.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760320" y="2709000"/>
            <a:ext cx="1513080" cy="685800"/>
          </a:xfrm>
          <a:prstGeom prst="wedgeEllipseCallout">
            <a:avLst>
              <a:gd name="adj1" fmla="val 91342"/>
              <a:gd name="adj2" fmla="val -3055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结反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999120" y="2438280"/>
            <a:ext cx="990720" cy="609840"/>
          </a:xfrm>
          <a:prstGeom prst="wedgeEllipseCallout">
            <a:avLst>
              <a:gd name="adj1" fmla="val -112981"/>
              <a:gd name="adj2" fmla="val 70050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截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7123680" y="3763080"/>
            <a:ext cx="1157760" cy="871200"/>
            <a:chOff x="7123680" y="3763080"/>
            <a:chExt cx="1157760" cy="871200"/>
          </a:xfrm>
        </p:grpSpPr>
        <p:sp>
          <p:nvSpPr>
            <p:cNvPr id="1691" name=""/>
            <p:cNvSpPr/>
            <p:nvPr/>
          </p:nvSpPr>
          <p:spPr>
            <a:xfrm>
              <a:off x="7369920" y="376308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23680" y="411372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(0.3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3" name=""/>
          <p:cNvSpPr/>
          <p:nvPr/>
        </p:nvSpPr>
        <p:spPr>
          <a:xfrm flipH="1">
            <a:off x="6999120" y="3610080"/>
            <a:ext cx="69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980400" y="362916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2316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负载电流（灌电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055520" y="4952160"/>
            <a:ext cx="274320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入全高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,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出为低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20912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7227720" y="2031120"/>
            <a:ext cx="1901160" cy="1896120"/>
            <a:chOff x="7227720" y="2031120"/>
            <a:chExt cx="1901160" cy="1896120"/>
          </a:xfrm>
        </p:grpSpPr>
        <p:sp>
          <p:nvSpPr>
            <p:cNvPr id="1699" name=""/>
            <p:cNvSpPr/>
            <p:nvPr/>
          </p:nvSpPr>
          <p:spPr>
            <a:xfrm>
              <a:off x="7860960" y="3429000"/>
              <a:ext cx="914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241840" y="2590920"/>
              <a:ext cx="15264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318160" y="2971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318160" y="213372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8413560" y="3441600"/>
              <a:ext cx="408960" cy="239760"/>
              <a:chOff x="8413560" y="3441600"/>
              <a:chExt cx="408960" cy="239760"/>
            </a:xfrm>
          </p:grpSpPr>
          <p:sp>
            <p:nvSpPr>
              <p:cNvPr id="1704" name=""/>
              <p:cNvSpPr/>
              <p:nvPr/>
            </p:nvSpPr>
            <p:spPr>
              <a:xfrm>
                <a:off x="8413560" y="3441600"/>
                <a:ext cx="204480" cy="239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618040" y="3681360"/>
                <a:ext cx="2044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7227720" y="3429000"/>
              <a:ext cx="1080720" cy="304920"/>
              <a:chOff x="7227720" y="3429000"/>
              <a:chExt cx="1080720" cy="304920"/>
            </a:xfrm>
          </p:grpSpPr>
          <p:sp>
            <p:nvSpPr>
              <p:cNvPr id="1707" name=""/>
              <p:cNvSpPr/>
              <p:nvPr/>
            </p:nvSpPr>
            <p:spPr>
              <a:xfrm flipH="1">
                <a:off x="7732440" y="3429000"/>
                <a:ext cx="304560" cy="304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7875360" y="3429000"/>
                <a:ext cx="304560" cy="304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8003520" y="3429000"/>
                <a:ext cx="304920" cy="304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227720" y="3719520"/>
                <a:ext cx="533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8145360" y="34171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幼圆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379000" y="24883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幼圆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  <a:ea typeface="幼圆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399160" y="203112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  <a:ea typeface="华文新魏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"/>
          <p:cNvSpPr/>
          <p:nvPr/>
        </p:nvSpPr>
        <p:spPr>
          <a:xfrm flipH="1">
            <a:off x="7670520" y="3338640"/>
            <a:ext cx="2538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91064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8186760" y="22237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7" name=""/>
          <p:cNvGrpSpPr/>
          <p:nvPr/>
        </p:nvGrpSpPr>
        <p:grpSpPr>
          <a:xfrm>
            <a:off x="5826240" y="2647800"/>
            <a:ext cx="1320480" cy="790560"/>
            <a:chOff x="5826240" y="2647800"/>
            <a:chExt cx="1320480" cy="790560"/>
          </a:xfrm>
        </p:grpSpPr>
        <p:sp>
          <p:nvSpPr>
            <p:cNvPr id="1718" name=""/>
            <p:cNvSpPr/>
            <p:nvPr/>
          </p:nvSpPr>
          <p:spPr>
            <a:xfrm>
              <a:off x="6530400" y="287640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76960" y="264780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6276960" y="2800440"/>
              <a:ext cx="545760" cy="17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291000" y="3220920"/>
              <a:ext cx="631440" cy="21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826240" y="3098880"/>
              <a:ext cx="458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90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0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91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91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2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2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32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93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42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3" presetSubtype="5"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952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95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6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96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7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97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78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0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82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"/>
          <p:cNvGrpSpPr/>
          <p:nvPr/>
        </p:nvGrpSpPr>
        <p:grpSpPr>
          <a:xfrm>
            <a:off x="1752480" y="1371600"/>
            <a:ext cx="6858000" cy="4267080"/>
            <a:chOff x="1752480" y="1371600"/>
            <a:chExt cx="6858000" cy="4267080"/>
          </a:xfrm>
        </p:grpSpPr>
        <p:sp>
          <p:nvSpPr>
            <p:cNvPr id="1724" name=""/>
            <p:cNvSpPr/>
            <p:nvPr/>
          </p:nvSpPr>
          <p:spPr>
            <a:xfrm>
              <a:off x="7443720" y="1481040"/>
              <a:ext cx="135000" cy="136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586200" y="400356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93200" y="348444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468680" y="4616280"/>
              <a:ext cx="81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99120" y="4546440"/>
              <a:ext cx="7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752480" y="3411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759680" y="37987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762920" y="4138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50080" y="1916280"/>
              <a:ext cx="84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876920" y="2025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09880" y="2057400"/>
              <a:ext cx="56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64000" y="263988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18160" y="291312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687560" y="318456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08960" y="137160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975040" y="2571840"/>
              <a:ext cx="90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811760" y="56386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937200" y="4479840"/>
              <a:ext cx="0" cy="95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845400" y="3389400"/>
              <a:ext cx="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97560" y="3867120"/>
              <a:ext cx="0" cy="63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397560" y="3957480"/>
              <a:ext cx="43200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97560" y="4319640"/>
              <a:ext cx="53964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3744720" y="1547640"/>
              <a:ext cx="371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56400" y="2571840"/>
              <a:ext cx="101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3056040" y="3047760"/>
              <a:ext cx="1004040" cy="384120"/>
              <a:chOff x="3056040" y="3047760"/>
              <a:chExt cx="1004040" cy="384120"/>
            </a:xfrm>
          </p:grpSpPr>
          <p:sp>
            <p:nvSpPr>
              <p:cNvPr id="1749" name=""/>
              <p:cNvSpPr/>
              <p:nvPr/>
            </p:nvSpPr>
            <p:spPr>
              <a:xfrm flipH="1">
                <a:off x="3156120" y="3048120"/>
                <a:ext cx="90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 flipV="1">
                <a:off x="3859560" y="3047760"/>
                <a:ext cx="2005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3459600" y="3049560"/>
                <a:ext cx="20088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3256560" y="3048120"/>
                <a:ext cx="2005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3056040" y="3048120"/>
                <a:ext cx="20088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4068720" y="2979720"/>
              <a:ext cx="926640" cy="807840"/>
              <a:chOff x="4068720" y="2979720"/>
              <a:chExt cx="926640" cy="807840"/>
            </a:xfrm>
          </p:grpSpPr>
          <p:sp>
            <p:nvSpPr>
              <p:cNvPr id="1755" name=""/>
              <p:cNvSpPr/>
              <p:nvPr/>
            </p:nvSpPr>
            <p:spPr>
              <a:xfrm>
                <a:off x="4480200" y="2979720"/>
                <a:ext cx="0" cy="80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4480200" y="3095280"/>
                <a:ext cx="411840" cy="2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80200" y="3556440"/>
                <a:ext cx="515160" cy="23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68720" y="3441240"/>
                <a:ext cx="41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6291360" y="270828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6291000" y="2844720"/>
              <a:ext cx="48564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1360" y="3195720"/>
              <a:ext cx="56196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40280" y="3097080"/>
              <a:ext cx="4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689280" y="202572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73520" y="154944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70440" y="154944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870440" y="2503440"/>
              <a:ext cx="6480" cy="6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54680" y="37306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51600" y="3116160"/>
              <a:ext cx="0" cy="138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784920" y="1549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784920" y="23115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43520" y="543384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362560" y="2435400"/>
              <a:ext cx="0" cy="68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362560" y="2533680"/>
              <a:ext cx="449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62560" y="2922480"/>
              <a:ext cx="56196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853320" y="366228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527960" y="3594240"/>
              <a:ext cx="1350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2295000" y="3389400"/>
              <a:ext cx="1180800" cy="884880"/>
              <a:chOff x="2295000" y="3389400"/>
              <a:chExt cx="1180800" cy="8848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2295000" y="3389400"/>
                <a:ext cx="758880" cy="340200"/>
                <a:chOff x="2295000" y="3389400"/>
                <a:chExt cx="758880" cy="34020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3053880" y="3389400"/>
                  <a:ext cx="0" cy="34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2295000" y="3729600"/>
                  <a:ext cx="75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2295360" y="3389400"/>
                <a:ext cx="1011600" cy="612360"/>
                <a:chOff x="2295360" y="3389400"/>
                <a:chExt cx="1011600" cy="61236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3306960" y="3389400"/>
                  <a:ext cx="0" cy="61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H="1">
                  <a:off x="2295360" y="4001760"/>
                  <a:ext cx="1011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2295000" y="3389400"/>
                <a:ext cx="1180800" cy="884880"/>
                <a:chOff x="2295000" y="3389400"/>
                <a:chExt cx="1180800" cy="88488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3475800" y="3389400"/>
                  <a:ext cx="0" cy="88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>
                  <a:off x="2295000" y="4274280"/>
                  <a:ext cx="118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7" name=""/>
            <p:cNvSpPr/>
            <p:nvPr/>
          </p:nvSpPr>
          <p:spPr>
            <a:xfrm>
              <a:off x="4951440" y="543384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60720" y="3662280"/>
              <a:ext cx="1332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60720" y="3935520"/>
              <a:ext cx="133200" cy="135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60720" y="4206960"/>
              <a:ext cx="13320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843440" y="280980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975200" y="4240080"/>
              <a:ext cx="14256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943520" y="4206960"/>
              <a:ext cx="46080" cy="46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920" y="2844720"/>
              <a:ext cx="4744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3765600" y="2435400"/>
              <a:ext cx="0" cy="612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08520" y="209376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876920" y="454824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4952880" y="4957920"/>
              <a:ext cx="0" cy="475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978520" y="447984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060960" y="4889520"/>
              <a:ext cx="0" cy="5443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708600" y="1922400"/>
              <a:ext cx="14292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514760" y="2575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7621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905120" y="1981080"/>
            <a:ext cx="1117440" cy="609840"/>
          </a:xfrm>
          <a:prstGeom prst="wedgeEllipseCallout">
            <a:avLst>
              <a:gd name="adj1" fmla="val 117046"/>
              <a:gd name="adj2" fmla="val 9635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"/>
              </a:rPr>
              <a:t>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334120" y="5532480"/>
            <a:ext cx="21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截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934320" y="24382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负载电流（拉电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002320" y="913680"/>
            <a:ext cx="28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入端有任一低电平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(0.3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816480" y="3605040"/>
            <a:ext cx="1157760" cy="1377360"/>
            <a:chOff x="816480" y="3605040"/>
            <a:chExt cx="1157760" cy="1377360"/>
          </a:xfrm>
        </p:grpSpPr>
        <p:sp>
          <p:nvSpPr>
            <p:cNvPr id="1809" name=""/>
            <p:cNvSpPr/>
            <p:nvPr/>
          </p:nvSpPr>
          <p:spPr>
            <a:xfrm>
              <a:off x="816480" y="446184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(0.3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676520" y="3605040"/>
              <a:ext cx="109440" cy="533520"/>
            </a:xfrm>
            <a:custGeom>
              <a:avLst/>
              <a:gdLst>
                <a:gd name="textAreaLeft" fmla="*/ 69840 w 109440"/>
                <a:gd name="textAreaRight" fmla="*/ 109800 w 1094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81720" y="363384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65880" y="412452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2361960" y="1600200"/>
            <a:ext cx="1371960" cy="2743200"/>
            <a:chOff x="2361960" y="1600200"/>
            <a:chExt cx="1371960" cy="2743200"/>
          </a:xfrm>
        </p:grpSpPr>
        <p:sp>
          <p:nvSpPr>
            <p:cNvPr id="1814" name=""/>
            <p:cNvSpPr/>
            <p:nvPr/>
          </p:nvSpPr>
          <p:spPr>
            <a:xfrm>
              <a:off x="3733920" y="1600200"/>
              <a:ext cx="0" cy="144792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3428640" y="3048120"/>
              <a:ext cx="304920" cy="6094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429000" y="3657600"/>
              <a:ext cx="0" cy="68580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2361960" y="4343400"/>
              <a:ext cx="1066680" cy="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6934320" y="1676520"/>
            <a:ext cx="0" cy="190476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934320" y="3581280"/>
            <a:ext cx="53316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219320" y="4952880"/>
            <a:ext cx="24382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入有低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输出为高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62120" y="1828800"/>
            <a:ext cx="251460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流过 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结的电流为正向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4952880" y="1600200"/>
            <a:ext cx="2286000" cy="2133360"/>
            <a:chOff x="4952880" y="1600200"/>
            <a:chExt cx="2286000" cy="2133360"/>
          </a:xfrm>
        </p:grpSpPr>
        <p:sp>
          <p:nvSpPr>
            <p:cNvPr id="1823" name=""/>
            <p:cNvSpPr/>
            <p:nvPr/>
          </p:nvSpPr>
          <p:spPr>
            <a:xfrm>
              <a:off x="6705360" y="34290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952880" y="160020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81480" y="2743200"/>
              <a:ext cx="60948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05360" y="373356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05360" y="167616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790960" y="304776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5790600" y="251460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05360" y="266688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432180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4068720" y="2979720"/>
            <a:ext cx="2868480" cy="1521000"/>
            <a:chOff x="4068720" y="2979720"/>
            <a:chExt cx="2868480" cy="1521000"/>
          </a:xfrm>
        </p:grpSpPr>
        <p:sp>
          <p:nvSpPr>
            <p:cNvPr id="1834" name=""/>
            <p:cNvSpPr/>
            <p:nvPr/>
          </p:nvSpPr>
          <p:spPr>
            <a:xfrm>
              <a:off x="6397560" y="3867120"/>
              <a:ext cx="0" cy="633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97560" y="3957480"/>
              <a:ext cx="43200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97560" y="4319640"/>
              <a:ext cx="53964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7" name=""/>
            <p:cNvGrpSpPr/>
            <p:nvPr/>
          </p:nvGrpSpPr>
          <p:grpSpPr>
            <a:xfrm>
              <a:off x="4068720" y="2979720"/>
              <a:ext cx="926640" cy="807840"/>
              <a:chOff x="4068720" y="2979720"/>
              <a:chExt cx="926640" cy="807840"/>
            </a:xfrm>
          </p:grpSpPr>
          <p:sp>
            <p:nvSpPr>
              <p:cNvPr id="1838" name=""/>
              <p:cNvSpPr/>
              <p:nvPr/>
            </p:nvSpPr>
            <p:spPr>
              <a:xfrm>
                <a:off x="4480200" y="2979720"/>
                <a:ext cx="0" cy="80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4480200" y="3095280"/>
                <a:ext cx="411840" cy="230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80200" y="3556440"/>
                <a:ext cx="515160" cy="231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068720" y="3441240"/>
                <a:ext cx="411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2" name=""/>
            <p:cNvSpPr/>
            <p:nvPr/>
          </p:nvSpPr>
          <p:spPr>
            <a:xfrm>
              <a:off x="6095880" y="424008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6172200" y="3405600"/>
            <a:ext cx="2286000" cy="1262880"/>
            <a:chOff x="6172200" y="3405600"/>
            <a:chExt cx="2286000" cy="1262880"/>
          </a:xfrm>
        </p:grpSpPr>
        <p:sp>
          <p:nvSpPr>
            <p:cNvPr id="1844" name=""/>
            <p:cNvSpPr/>
            <p:nvPr/>
          </p:nvSpPr>
          <p:spPr>
            <a:xfrm>
              <a:off x="6172200" y="34056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V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 5-0.7-0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3960" y="3989880"/>
              <a:ext cx="1434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=3.6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89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99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99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004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09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14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01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2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02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3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3" presetSubtype="5"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037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42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04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6" name=""/>
          <p:cNvGrpSpPr/>
          <p:nvPr/>
        </p:nvGrpSpPr>
        <p:grpSpPr>
          <a:xfrm>
            <a:off x="3886200" y="2743200"/>
            <a:ext cx="3047760" cy="2362320"/>
            <a:chOff x="3886200" y="2743200"/>
            <a:chExt cx="3047760" cy="2362320"/>
          </a:xfrm>
        </p:grpSpPr>
        <p:sp>
          <p:nvSpPr>
            <p:cNvPr id="1847" name=""/>
            <p:cNvSpPr/>
            <p:nvPr/>
          </p:nvSpPr>
          <p:spPr>
            <a:xfrm>
              <a:off x="3886200" y="2743200"/>
              <a:ext cx="98280" cy="2362320"/>
            </a:xfrm>
            <a:custGeom>
              <a:avLst/>
              <a:gdLst>
                <a:gd name="textAreaLeft" fmla="*/ 0 w 98280"/>
                <a:gd name="textAreaRight" fmla="*/ 35280 w 98280"/>
                <a:gd name="textAreaTop" fmla="*/ 79200 h 2362320"/>
                <a:gd name="textAreaBottom" fmla="*/ 228312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62"/>
                    <a:pt x="10800" y="2323"/>
                  </a:cubicBezTo>
                  <a:lnTo>
                    <a:pt x="10800" y="8477"/>
                  </a:lnTo>
                  <a:cubicBezTo>
                    <a:pt x="10800" y="9639"/>
                    <a:pt x="16200" y="10800"/>
                    <a:pt x="21600" y="10800"/>
                  </a:cubicBezTo>
                  <a:cubicBezTo>
                    <a:pt x="16200" y="10800"/>
                    <a:pt x="10800" y="11962"/>
                    <a:pt x="10800" y="13123"/>
                  </a:cubicBezTo>
                  <a:lnTo>
                    <a:pt x="10800" y="19277"/>
                  </a:lnTo>
                  <a:cubicBezTo>
                    <a:pt x="10800" y="2043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181040" y="3657600"/>
              <a:ext cx="275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有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出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3809880" y="5229360"/>
            <a:ext cx="2391120" cy="520560"/>
            <a:chOff x="3809880" y="5229360"/>
            <a:chExt cx="2391120" cy="520560"/>
          </a:xfrm>
        </p:grpSpPr>
        <p:sp>
          <p:nvSpPr>
            <p:cNvPr id="1850" name=""/>
            <p:cNvSpPr/>
            <p:nvPr/>
          </p:nvSpPr>
          <p:spPr>
            <a:xfrm flipH="1">
              <a:off x="3809880" y="545796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298400" y="5229360"/>
              <a:ext cx="190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全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出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6172200" y="388620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248520" y="44337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与非”逻辑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838080" y="1447920"/>
            <a:ext cx="3047760" cy="4254120"/>
            <a:chOff x="838080" y="1447920"/>
            <a:chExt cx="3047760" cy="4254120"/>
          </a:xfrm>
        </p:grpSpPr>
        <p:grpSp>
          <p:nvGrpSpPr>
            <p:cNvPr id="1855" name=""/>
            <p:cNvGrpSpPr/>
            <p:nvPr/>
          </p:nvGrpSpPr>
          <p:grpSpPr>
            <a:xfrm>
              <a:off x="1142640" y="2514240"/>
              <a:ext cx="2743200" cy="520560"/>
              <a:chOff x="1142640" y="2514240"/>
              <a:chExt cx="2743200" cy="520560"/>
            </a:xfrm>
          </p:grpSpPr>
          <p:grpSp>
            <p:nvGrpSpPr>
              <p:cNvPr id="1856" name=""/>
              <p:cNvGrpSpPr/>
              <p:nvPr/>
            </p:nvGrpSpPr>
            <p:grpSpPr>
              <a:xfrm>
                <a:off x="1142640" y="2514240"/>
                <a:ext cx="2057400" cy="520560"/>
                <a:chOff x="1142640" y="2514240"/>
                <a:chExt cx="2057400" cy="52056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142640" y="2514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904760" y="2514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2742840" y="25142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3428640" y="2514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142640" y="2895480"/>
              <a:ext cx="2743200" cy="520560"/>
              <a:chOff x="1142640" y="2895480"/>
              <a:chExt cx="2743200" cy="52056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1142640" y="2895480"/>
                <a:ext cx="2057400" cy="520560"/>
                <a:chOff x="1142640" y="2895480"/>
                <a:chExt cx="2057400" cy="52056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1142640" y="28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904760" y="28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2742840" y="28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6" name=""/>
              <p:cNvSpPr/>
              <p:nvPr/>
            </p:nvSpPr>
            <p:spPr>
              <a:xfrm>
                <a:off x="3428640" y="28954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1142640" y="3276360"/>
              <a:ext cx="2743200" cy="2044080"/>
              <a:chOff x="1142640" y="3276360"/>
              <a:chExt cx="2743200" cy="2044080"/>
            </a:xfrm>
          </p:grpSpPr>
          <p:grpSp>
            <p:nvGrpSpPr>
              <p:cNvPr id="1868" name=""/>
              <p:cNvGrpSpPr/>
              <p:nvPr/>
            </p:nvGrpSpPr>
            <p:grpSpPr>
              <a:xfrm>
                <a:off x="1142640" y="4419000"/>
                <a:ext cx="2743200" cy="520560"/>
                <a:chOff x="1142640" y="4419000"/>
                <a:chExt cx="2743200" cy="520560"/>
              </a:xfrm>
            </p:grpSpPr>
            <p:grpSp>
              <p:nvGrpSpPr>
                <p:cNvPr id="1869" name=""/>
                <p:cNvGrpSpPr/>
                <p:nvPr/>
              </p:nvGrpSpPr>
              <p:grpSpPr>
                <a:xfrm>
                  <a:off x="1142640" y="4419000"/>
                  <a:ext cx="2057400" cy="520560"/>
                  <a:chOff x="1142640" y="4419000"/>
                  <a:chExt cx="2057400" cy="520560"/>
                </a:xfrm>
              </p:grpSpPr>
              <p:sp>
                <p:nvSpPr>
                  <p:cNvPr id="1870" name=""/>
                  <p:cNvSpPr/>
                  <p:nvPr/>
                </p:nvSpPr>
                <p:spPr>
                  <a:xfrm>
                    <a:off x="1142640" y="441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1904760" y="441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2742840" y="44190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3" name=""/>
                <p:cNvSpPr/>
                <p:nvPr/>
              </p:nvSpPr>
              <p:spPr>
                <a:xfrm>
                  <a:off x="3428640" y="4419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1142640" y="4799880"/>
                <a:ext cx="2743200" cy="520560"/>
                <a:chOff x="1142640" y="4799880"/>
                <a:chExt cx="2743200" cy="520560"/>
              </a:xfrm>
            </p:grpSpPr>
            <p:grpSp>
              <p:nvGrpSpPr>
                <p:cNvPr id="1875" name=""/>
                <p:cNvGrpSpPr/>
                <p:nvPr/>
              </p:nvGrpSpPr>
              <p:grpSpPr>
                <a:xfrm>
                  <a:off x="1142640" y="4799880"/>
                  <a:ext cx="2057400" cy="520560"/>
                  <a:chOff x="1142640" y="4799880"/>
                  <a:chExt cx="2057400" cy="52056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1142640" y="4799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1904760" y="4799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2742840" y="4799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9" name=""/>
                <p:cNvSpPr/>
                <p:nvPr/>
              </p:nvSpPr>
              <p:spPr>
                <a:xfrm>
                  <a:off x="3428640" y="4799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1142640" y="4038120"/>
                <a:ext cx="2743200" cy="520560"/>
                <a:chOff x="1142640" y="4038120"/>
                <a:chExt cx="2743200" cy="52056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1142640" y="4038120"/>
                  <a:ext cx="2057400" cy="520560"/>
                  <a:chOff x="1142640" y="4038120"/>
                  <a:chExt cx="2057400" cy="52056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>
                    <a:off x="1142640" y="403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1904760" y="403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742840" y="40381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5" name=""/>
                <p:cNvSpPr/>
                <p:nvPr/>
              </p:nvSpPr>
              <p:spPr>
                <a:xfrm>
                  <a:off x="3428640" y="40381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1142640" y="3656880"/>
                <a:ext cx="2743200" cy="520560"/>
                <a:chOff x="1142640" y="3656880"/>
                <a:chExt cx="2743200" cy="520560"/>
              </a:xfrm>
            </p:grpSpPr>
            <p:grpSp>
              <p:nvGrpSpPr>
                <p:cNvPr id="1887" name=""/>
                <p:cNvGrpSpPr/>
                <p:nvPr/>
              </p:nvGrpSpPr>
              <p:grpSpPr>
                <a:xfrm>
                  <a:off x="1142640" y="3656880"/>
                  <a:ext cx="2057400" cy="520560"/>
                  <a:chOff x="1142640" y="3656880"/>
                  <a:chExt cx="2057400" cy="520560"/>
                </a:xfrm>
              </p:grpSpPr>
              <p:sp>
                <p:nvSpPr>
                  <p:cNvPr id="1888" name=""/>
                  <p:cNvSpPr/>
                  <p:nvPr/>
                </p:nvSpPr>
                <p:spPr>
                  <a:xfrm>
                    <a:off x="1142640" y="3656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1904760" y="3656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2742840" y="36568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1" name=""/>
                <p:cNvSpPr/>
                <p:nvPr/>
              </p:nvSpPr>
              <p:spPr>
                <a:xfrm>
                  <a:off x="3428640" y="36568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1142640" y="3276360"/>
                <a:ext cx="2743200" cy="520560"/>
                <a:chOff x="1142640" y="3276360"/>
                <a:chExt cx="2743200" cy="520560"/>
              </a:xfrm>
            </p:grpSpPr>
            <p:grpSp>
              <p:nvGrpSpPr>
                <p:cNvPr id="1893" name=""/>
                <p:cNvGrpSpPr/>
                <p:nvPr/>
              </p:nvGrpSpPr>
              <p:grpSpPr>
                <a:xfrm>
                  <a:off x="1142640" y="3276360"/>
                  <a:ext cx="2057400" cy="520560"/>
                  <a:chOff x="1142640" y="3276360"/>
                  <a:chExt cx="2057400" cy="520560"/>
                </a:xfrm>
              </p:grpSpPr>
              <p:sp>
                <p:nvSpPr>
                  <p:cNvPr id="1894" name=""/>
                  <p:cNvSpPr/>
                  <p:nvPr/>
                </p:nvSpPr>
                <p:spPr>
                  <a:xfrm>
                    <a:off x="1142640" y="32763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1904760" y="32763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2742840" y="32763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18"/>
                        </a:solidFill>
                        <a:latin typeface="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7" name=""/>
                <p:cNvSpPr/>
                <p:nvPr/>
              </p:nvSpPr>
              <p:spPr>
                <a:xfrm>
                  <a:off x="3428640" y="32763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8" name=""/>
            <p:cNvGrpSpPr/>
            <p:nvPr/>
          </p:nvGrpSpPr>
          <p:grpSpPr>
            <a:xfrm>
              <a:off x="1142640" y="5181480"/>
              <a:ext cx="2743200" cy="520560"/>
              <a:chOff x="1142640" y="5181480"/>
              <a:chExt cx="2743200" cy="520560"/>
            </a:xfrm>
          </p:grpSpPr>
          <p:grpSp>
            <p:nvGrpSpPr>
              <p:cNvPr id="1899" name=""/>
              <p:cNvGrpSpPr/>
              <p:nvPr/>
            </p:nvGrpSpPr>
            <p:grpSpPr>
              <a:xfrm>
                <a:off x="1142640" y="5181480"/>
                <a:ext cx="2057400" cy="520560"/>
                <a:chOff x="1142640" y="5181480"/>
                <a:chExt cx="2057400" cy="520560"/>
              </a:xfrm>
            </p:grpSpPr>
            <p:sp>
              <p:nvSpPr>
                <p:cNvPr id="1900" name=""/>
                <p:cNvSpPr/>
                <p:nvPr/>
              </p:nvSpPr>
              <p:spPr>
                <a:xfrm>
                  <a:off x="1142640" y="5181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904760" y="5181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2742840" y="5181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3428640" y="51814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838080" y="1447920"/>
              <a:ext cx="3047760" cy="4190760"/>
              <a:chOff x="838080" y="1447920"/>
              <a:chExt cx="3047760" cy="4190760"/>
            </a:xfrm>
          </p:grpSpPr>
          <p:sp>
            <p:nvSpPr>
              <p:cNvPr id="1905" name=""/>
              <p:cNvSpPr/>
              <p:nvPr/>
            </p:nvSpPr>
            <p:spPr>
              <a:xfrm>
                <a:off x="11426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90476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286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514240" y="1981080"/>
                <a:ext cx="0" cy="36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676160" y="1981080"/>
                <a:ext cx="0" cy="36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066680" y="251424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38080" y="5638680"/>
                <a:ext cx="297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352680" y="1981080"/>
                <a:ext cx="0" cy="36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74284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066680" y="1981080"/>
                <a:ext cx="28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465560" y="1447920"/>
                <a:ext cx="238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与非” 门逻辑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6" name=""/>
          <p:cNvGrpSpPr/>
          <p:nvPr/>
        </p:nvGrpSpPr>
        <p:grpSpPr>
          <a:xfrm>
            <a:off x="914400" y="685800"/>
            <a:ext cx="4114800" cy="581400"/>
            <a:chOff x="914400" y="685800"/>
            <a:chExt cx="4114800" cy="581400"/>
          </a:xfrm>
        </p:grpSpPr>
        <p:grpSp>
          <p:nvGrpSpPr>
            <p:cNvPr id="1917" name=""/>
            <p:cNvGrpSpPr/>
            <p:nvPr/>
          </p:nvGrpSpPr>
          <p:grpSpPr>
            <a:xfrm>
              <a:off x="914400" y="685800"/>
              <a:ext cx="4062960" cy="581400"/>
              <a:chOff x="914400" y="685800"/>
              <a:chExt cx="4062960" cy="581400"/>
            </a:xfrm>
          </p:grpSpPr>
          <p:sp>
            <p:nvSpPr>
              <p:cNvPr id="1918" name=""/>
              <p:cNvSpPr/>
              <p:nvPr/>
            </p:nvSpPr>
            <p:spPr>
              <a:xfrm>
                <a:off x="3155400" y="685800"/>
                <a:ext cx="182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99"/>
                    </a:solidFill>
                    <a:latin typeface=""/>
                  </a:rPr>
                  <a:t>Y=A  B 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914400" y="70956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逻辑表达式：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038840" y="93636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496040" y="936360"/>
                <a:ext cx="75960" cy="763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809880" y="76176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4800600" y="1523880"/>
            <a:ext cx="3200400" cy="1325520"/>
            <a:chOff x="4800600" y="1523880"/>
            <a:chExt cx="3200400" cy="1325520"/>
          </a:xfrm>
        </p:grpSpPr>
        <p:sp>
          <p:nvSpPr>
            <p:cNvPr id="1924" name=""/>
            <p:cNvSpPr/>
            <p:nvPr/>
          </p:nvSpPr>
          <p:spPr>
            <a:xfrm>
              <a:off x="7467480" y="2057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19920" y="1706400"/>
              <a:ext cx="83808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257800" y="22096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257800" y="2544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973920" y="2286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17220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00600" y="1523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800600" y="1905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257800" y="19051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2286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858000" y="2209680"/>
              <a:ext cx="115920" cy="115920"/>
            </a:xfrm>
            <a:prstGeom prst="ellipse">
              <a:avLst/>
            </a:prstGeom>
            <a:noFill/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5680440" y="297180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与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54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64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068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073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77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8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8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1828800" y="5029200"/>
            <a:ext cx="560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74LS0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74LS2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管脚排列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609480" y="1155600"/>
            <a:ext cx="3813120" cy="3859920"/>
            <a:chOff x="609480" y="1155600"/>
            <a:chExt cx="3813120" cy="3859920"/>
          </a:xfrm>
        </p:grpSpPr>
        <p:sp>
          <p:nvSpPr>
            <p:cNvPr id="1938" name=""/>
            <p:cNvSpPr/>
            <p:nvPr/>
          </p:nvSpPr>
          <p:spPr>
            <a:xfrm>
              <a:off x="609480" y="1776240"/>
              <a:ext cx="3813120" cy="2330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81360" y="2316240"/>
              <a:ext cx="282240" cy="47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54440" y="23162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60320" y="1940040"/>
              <a:ext cx="3527640" cy="2019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81360" y="3106800"/>
              <a:ext cx="282240" cy="458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54440" y="3087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81360" y="1628640"/>
              <a:ext cx="28224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40040" y="1644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73480" y="1628640"/>
              <a:ext cx="28548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432160" y="1644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867040" y="1628640"/>
              <a:ext cx="28404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926080" y="1644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376440" y="1628640"/>
              <a:ext cx="26676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64640" y="164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68560" y="1628640"/>
              <a:ext cx="27000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56760" y="164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893880" y="1628640"/>
              <a:ext cx="28404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952560" y="1644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387440" y="1628640"/>
              <a:ext cx="284040" cy="31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44680" y="1644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881360" y="3959280"/>
              <a:ext cx="2822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8540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373480" y="3959280"/>
              <a:ext cx="28548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47752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867040" y="395928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97252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376440" y="3959280"/>
              <a:ext cx="26676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6464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68560" y="3959280"/>
              <a:ext cx="27000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95676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93880" y="395928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9792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387440" y="395928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92200" y="397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376440" y="2316240"/>
              <a:ext cx="266760" cy="47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35120" y="23162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376440" y="3106800"/>
              <a:ext cx="266760" cy="458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35120" y="3087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239920" y="2563920"/>
              <a:ext cx="133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163600" y="1940040"/>
              <a:ext cx="358920" cy="62388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0" y="313"/>
                  </a:moveTo>
                  <a:lnTo>
                    <a:pt x="193" y="313"/>
                  </a:lnTo>
                  <a:lnTo>
                    <a:pt x="19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671480" y="1940040"/>
              <a:ext cx="358920" cy="460440"/>
            </a:xfrm>
            <a:custGeom>
              <a:avLst/>
              <a:gdLst/>
              <a:ahLst/>
              <a:rect l="l" t="t" r="r" b="b"/>
              <a:pathLst>
                <a:path w="193" h="231">
                  <a:moveTo>
                    <a:pt x="113" y="231"/>
                  </a:moveTo>
                  <a:lnTo>
                    <a:pt x="0" y="231"/>
                  </a:lnTo>
                  <a:lnTo>
                    <a:pt x="0" y="115"/>
                  </a:lnTo>
                  <a:lnTo>
                    <a:pt x="193" y="115"/>
                  </a:lnTo>
                  <a:lnTo>
                    <a:pt x="19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536840" y="1940040"/>
              <a:ext cx="344520" cy="771480"/>
            </a:xfrm>
            <a:custGeom>
              <a:avLst/>
              <a:gdLst/>
              <a:ahLst/>
              <a:rect l="l" t="t" r="r" b="b"/>
              <a:pathLst>
                <a:path w="185" h="387">
                  <a:moveTo>
                    <a:pt x="185" y="387"/>
                  </a:moveTo>
                  <a:lnTo>
                    <a:pt x="0" y="3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030400" y="3335400"/>
              <a:ext cx="343080" cy="623880"/>
            </a:xfrm>
            <a:custGeom>
              <a:avLst/>
              <a:gdLst/>
              <a:ahLst/>
              <a:rect l="l" t="t" r="r" b="b"/>
              <a:pathLst>
                <a:path w="185" h="313">
                  <a:moveTo>
                    <a:pt x="72" y="0"/>
                  </a:moveTo>
                  <a:lnTo>
                    <a:pt x="185" y="0"/>
                  </a:lnTo>
                  <a:lnTo>
                    <a:pt x="185" y="189"/>
                  </a:lnTo>
                  <a:lnTo>
                    <a:pt x="0" y="189"/>
                  </a:lnTo>
                  <a:lnTo>
                    <a:pt x="0" y="3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536840" y="3483000"/>
              <a:ext cx="344520" cy="476280"/>
            </a:xfrm>
            <a:custGeom>
              <a:avLst/>
              <a:gdLst/>
              <a:ahLst/>
              <a:rect l="l" t="t" r="r" b="b"/>
              <a:pathLst>
                <a:path w="185" h="239">
                  <a:moveTo>
                    <a:pt x="185" y="0"/>
                  </a:move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042920" y="3170160"/>
              <a:ext cx="838440" cy="789120"/>
            </a:xfrm>
            <a:custGeom>
              <a:avLst/>
              <a:gdLst/>
              <a:ahLst/>
              <a:rect l="l" t="t" r="r" b="b"/>
              <a:pathLst>
                <a:path w="451" h="396">
                  <a:moveTo>
                    <a:pt x="451" y="0"/>
                  </a:moveTo>
                  <a:lnTo>
                    <a:pt x="0" y="0"/>
                  </a:lnTo>
                  <a:lnTo>
                    <a:pt x="0" y="3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522520" y="3170160"/>
              <a:ext cx="853920" cy="789120"/>
            </a:xfrm>
            <a:custGeom>
              <a:avLst/>
              <a:gdLst/>
              <a:ahLst/>
              <a:rect l="l" t="t" r="r" b="b"/>
              <a:pathLst>
                <a:path w="459" h="396">
                  <a:moveTo>
                    <a:pt x="0" y="396"/>
                  </a:moveTo>
                  <a:lnTo>
                    <a:pt x="0" y="0"/>
                  </a:lnTo>
                  <a:lnTo>
                    <a:pt x="45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17880" y="3483000"/>
              <a:ext cx="358560" cy="476280"/>
            </a:xfrm>
            <a:custGeom>
              <a:avLst/>
              <a:gdLst/>
              <a:ahLst/>
              <a:rect l="l" t="t" r="r" b="b"/>
              <a:pathLst>
                <a:path w="193" h="239">
                  <a:moveTo>
                    <a:pt x="193" y="0"/>
                  </a:move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510000" y="3335400"/>
              <a:ext cx="358560" cy="62388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72" y="0"/>
                  </a:moveTo>
                  <a:lnTo>
                    <a:pt x="193" y="0"/>
                  </a:lnTo>
                  <a:lnTo>
                    <a:pt x="193" y="189"/>
                  </a:lnTo>
                  <a:lnTo>
                    <a:pt x="0" y="189"/>
                  </a:lnTo>
                  <a:lnTo>
                    <a:pt x="0" y="3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151080" y="1940040"/>
              <a:ext cx="358920" cy="460440"/>
            </a:xfrm>
            <a:custGeom>
              <a:avLst/>
              <a:gdLst/>
              <a:ahLst/>
              <a:rect l="l" t="t" r="r" b="b"/>
              <a:pathLst>
                <a:path w="193" h="231">
                  <a:moveTo>
                    <a:pt x="121" y="231"/>
                  </a:moveTo>
                  <a:lnTo>
                    <a:pt x="0" y="231"/>
                  </a:lnTo>
                  <a:lnTo>
                    <a:pt x="0" y="115"/>
                  </a:lnTo>
                  <a:lnTo>
                    <a:pt x="193" y="115"/>
                  </a:lnTo>
                  <a:lnTo>
                    <a:pt x="19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17880" y="1940040"/>
              <a:ext cx="358560" cy="771480"/>
            </a:xfrm>
            <a:custGeom>
              <a:avLst/>
              <a:gdLst/>
              <a:ahLst/>
              <a:rect l="l" t="t" r="r" b="b"/>
              <a:pathLst>
                <a:path w="193" h="387">
                  <a:moveTo>
                    <a:pt x="193" y="387"/>
                  </a:moveTo>
                  <a:lnTo>
                    <a:pt x="0" y="3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643200" y="1940040"/>
              <a:ext cx="358920" cy="62388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0" y="313"/>
                  </a:moveTo>
                  <a:lnTo>
                    <a:pt x="193" y="313"/>
                  </a:lnTo>
                  <a:lnTo>
                    <a:pt x="19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63600" y="2530440"/>
              <a:ext cx="76320" cy="651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17"/>
                  </a:moveTo>
                  <a:lnTo>
                    <a:pt x="8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643200" y="2530440"/>
              <a:ext cx="76320" cy="651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17"/>
                  </a:moveTo>
                  <a:lnTo>
                    <a:pt x="17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33" y="33"/>
                  </a:lnTo>
                  <a:lnTo>
                    <a:pt x="17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643200" y="3301920"/>
              <a:ext cx="76320" cy="651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17"/>
                  </a:moveTo>
                  <a:lnTo>
                    <a:pt x="17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33" y="33"/>
                  </a:lnTo>
                  <a:lnTo>
                    <a:pt x="17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163600" y="3301920"/>
              <a:ext cx="76320" cy="651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17"/>
                  </a:moveTo>
                  <a:lnTo>
                    <a:pt x="8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9280" y="1155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007640" y="1397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413720" y="122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539720" y="1227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909080" y="122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031120" y="1227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401200" y="122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524320" y="12272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893320" y="122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020040" y="1227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387600" y="122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511440" y="1227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6640" y="122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19400" y="1227240"/>
              <a:ext cx="27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347120" y="4321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471680" y="4321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55000" y="4321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977040" y="4321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840680" y="4321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965600" y="43210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826360" y="4321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952720" y="4321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33520" y="4321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457360" y="4321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21720" y="4321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445920" y="43210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724560" y="43210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33160" y="4710240"/>
              <a:ext cx="29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312280" y="2732040"/>
              <a:ext cx="82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4LS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4719600" y="1219320"/>
            <a:ext cx="3814920" cy="3740400"/>
            <a:chOff x="4719600" y="1219320"/>
            <a:chExt cx="3814920" cy="3740400"/>
          </a:xfrm>
        </p:grpSpPr>
        <p:sp>
          <p:nvSpPr>
            <p:cNvPr id="2023" name=""/>
            <p:cNvSpPr/>
            <p:nvPr/>
          </p:nvSpPr>
          <p:spPr>
            <a:xfrm>
              <a:off x="4719600" y="1785960"/>
              <a:ext cx="3814920" cy="23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856040" y="1949400"/>
              <a:ext cx="3527640" cy="202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92920" y="1638360"/>
              <a:ext cx="2696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018480" y="1654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85040" y="163836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510600" y="1654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80400" y="1638360"/>
              <a:ext cx="28080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005960" y="1654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472520" y="163836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544520" y="165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66080" y="1638360"/>
              <a:ext cx="28260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038440" y="165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989600" y="1638360"/>
              <a:ext cx="2858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29200" y="1654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499000" y="1638360"/>
              <a:ext cx="26676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524560" y="1654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992920" y="3971880"/>
              <a:ext cx="2696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08112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85040" y="397188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7324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980400" y="3971880"/>
              <a:ext cx="28080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06824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472520" y="3971880"/>
              <a:ext cx="2840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56036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966080" y="3971880"/>
              <a:ext cx="28260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05572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989600" y="3971880"/>
              <a:ext cx="28584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9364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499000" y="3971880"/>
              <a:ext cx="266760" cy="3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587200" y="398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472520" y="2327400"/>
              <a:ext cx="284040" cy="47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30840" y="2327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472520" y="3117960"/>
              <a:ext cx="284040" cy="458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530840" y="31003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607160" y="3346560"/>
              <a:ext cx="358920" cy="62532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81" y="0"/>
                  </a:moveTo>
                  <a:lnTo>
                    <a:pt x="193" y="0"/>
                  </a:lnTo>
                  <a:lnTo>
                    <a:pt x="193" y="189"/>
                  </a:lnTo>
                  <a:lnTo>
                    <a:pt x="0" y="189"/>
                  </a:lnTo>
                  <a:lnTo>
                    <a:pt x="0" y="3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261200" y="1949400"/>
              <a:ext cx="345960" cy="46188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13" y="231"/>
                  </a:moveTo>
                  <a:lnTo>
                    <a:pt x="0" y="231"/>
                  </a:lnTo>
                  <a:lnTo>
                    <a:pt x="0" y="115"/>
                  </a:lnTo>
                  <a:lnTo>
                    <a:pt x="185" y="115"/>
                  </a:lnTo>
                  <a:lnTo>
                    <a:pt x="18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756560" y="1949400"/>
              <a:ext cx="344520" cy="625680"/>
            </a:xfrm>
            <a:custGeom>
              <a:avLst/>
              <a:gdLst/>
              <a:ahLst/>
              <a:rect l="l" t="t" r="r" b="b"/>
              <a:pathLst>
                <a:path w="185" h="313">
                  <a:moveTo>
                    <a:pt x="0" y="313"/>
                  </a:moveTo>
                  <a:lnTo>
                    <a:pt x="185" y="313"/>
                  </a:lnTo>
                  <a:lnTo>
                    <a:pt x="18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756560" y="2540160"/>
              <a:ext cx="60120" cy="66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17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32" y="17"/>
                  </a:lnTo>
                  <a:lnTo>
                    <a:pt x="24" y="33"/>
                  </a:lnTo>
                  <a:lnTo>
                    <a:pt x="8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756560" y="3313080"/>
              <a:ext cx="60120" cy="66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17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32" y="17"/>
                  </a:lnTo>
                  <a:lnTo>
                    <a:pt x="24" y="33"/>
                  </a:lnTo>
                  <a:lnTo>
                    <a:pt x="8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922640" y="1219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090760" y="14428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481000" y="125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03400" y="1255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987160" y="125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111720" y="1255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79280" y="125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605640" y="1255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980400" y="125568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466760" y="125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591320" y="1255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974000" y="125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101080" y="1255680"/>
              <a:ext cx="31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444280" y="4332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67400" y="4332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950720" y="4332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073480" y="4332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942160" y="433224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925320" y="4332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048080" y="4332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428520" y="4332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56320" y="4332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31840" y="4332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556400" y="4332240"/>
              <a:ext cx="32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820640" y="433224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34000" y="1949400"/>
              <a:ext cx="1838520" cy="773280"/>
            </a:xfrm>
            <a:custGeom>
              <a:avLst/>
              <a:gdLst/>
              <a:ahLst/>
              <a:rect l="l" t="t" r="r" b="b"/>
              <a:pathLst>
                <a:path w="989" h="387">
                  <a:moveTo>
                    <a:pt x="989" y="387"/>
                  </a:moveTo>
                  <a:lnTo>
                    <a:pt x="0" y="3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126120" y="1949400"/>
              <a:ext cx="1346400" cy="692280"/>
            </a:xfrm>
            <a:custGeom>
              <a:avLst/>
              <a:gdLst/>
              <a:ahLst/>
              <a:rect l="l" t="t" r="r" b="b"/>
              <a:pathLst>
                <a:path w="724" h="346">
                  <a:moveTo>
                    <a:pt x="0" y="0"/>
                  </a:moveTo>
                  <a:lnTo>
                    <a:pt x="0" y="346"/>
                  </a:lnTo>
                  <a:lnTo>
                    <a:pt x="724" y="34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21480" y="1949400"/>
              <a:ext cx="851040" cy="544680"/>
            </a:xfrm>
            <a:custGeom>
              <a:avLst/>
              <a:gdLst/>
              <a:ahLst/>
              <a:rect l="l" t="t" r="r" b="b"/>
              <a:pathLst>
                <a:path w="458" h="272">
                  <a:moveTo>
                    <a:pt x="0" y="0"/>
                  </a:moveTo>
                  <a:lnTo>
                    <a:pt x="0" y="272"/>
                  </a:lnTo>
                  <a:lnTo>
                    <a:pt x="458" y="2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113600" y="3494160"/>
              <a:ext cx="358920" cy="477720"/>
            </a:xfrm>
            <a:custGeom>
              <a:avLst/>
              <a:gdLst/>
              <a:ahLst/>
              <a:rect l="l" t="t" r="r" b="b"/>
              <a:pathLst>
                <a:path w="193" h="239">
                  <a:moveTo>
                    <a:pt x="193" y="0"/>
                  </a:move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621480" y="3429000"/>
              <a:ext cx="851040" cy="542880"/>
            </a:xfrm>
            <a:custGeom>
              <a:avLst/>
              <a:gdLst/>
              <a:ahLst/>
              <a:rect l="l" t="t" r="r" b="b"/>
              <a:pathLst>
                <a:path w="458" h="272">
                  <a:moveTo>
                    <a:pt x="458" y="0"/>
                  </a:moveTo>
                  <a:lnTo>
                    <a:pt x="0" y="0"/>
                  </a:lnTo>
                  <a:lnTo>
                    <a:pt x="0" y="2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0" y="3265560"/>
              <a:ext cx="1838520" cy="706320"/>
            </a:xfrm>
            <a:custGeom>
              <a:avLst/>
              <a:gdLst/>
              <a:ahLst/>
              <a:rect l="l" t="t" r="r" b="b"/>
              <a:pathLst>
                <a:path w="989" h="354">
                  <a:moveTo>
                    <a:pt x="0" y="354"/>
                  </a:moveTo>
                  <a:lnTo>
                    <a:pt x="0" y="0"/>
                  </a:lnTo>
                  <a:lnTo>
                    <a:pt x="98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140440" y="3181320"/>
              <a:ext cx="2332080" cy="790560"/>
            </a:xfrm>
            <a:custGeom>
              <a:avLst/>
              <a:gdLst/>
              <a:ahLst/>
              <a:rect l="l" t="t" r="r" b="b"/>
              <a:pathLst>
                <a:path w="1254" h="396">
                  <a:moveTo>
                    <a:pt x="1254" y="0"/>
                  </a:moveTo>
                  <a:lnTo>
                    <a:pt x="0" y="0"/>
                  </a:lnTo>
                  <a:lnTo>
                    <a:pt x="0" y="3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260400" y="2755800"/>
              <a:ext cx="82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4LS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65680" y="465444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94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99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762120" y="914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电压传输特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066680" y="1371600"/>
            <a:ext cx="563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出电压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"/>
              </a:rPr>
              <a:t>O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与输入电压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8" name=""/>
          <p:cNvGrpSpPr/>
          <p:nvPr/>
        </p:nvGrpSpPr>
        <p:grpSpPr>
          <a:xfrm>
            <a:off x="5778360" y="3191040"/>
            <a:ext cx="790560" cy="1130040"/>
            <a:chOff x="5778360" y="3191040"/>
            <a:chExt cx="790560" cy="1130040"/>
          </a:xfrm>
        </p:grpSpPr>
        <p:sp>
          <p:nvSpPr>
            <p:cNvPr id="2099" name=""/>
            <p:cNvSpPr/>
            <p:nvPr/>
          </p:nvSpPr>
          <p:spPr>
            <a:xfrm>
              <a:off x="5778360" y="3191040"/>
              <a:ext cx="38088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70400" y="38005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6159600" y="4162320"/>
            <a:ext cx="1844280" cy="1003320"/>
            <a:chOff x="6159600" y="4162320"/>
            <a:chExt cx="1844280" cy="1003320"/>
          </a:xfrm>
        </p:grpSpPr>
        <p:grpSp>
          <p:nvGrpSpPr>
            <p:cNvPr id="2102" name=""/>
            <p:cNvGrpSpPr/>
            <p:nvPr/>
          </p:nvGrpSpPr>
          <p:grpSpPr>
            <a:xfrm>
              <a:off x="6159600" y="4162320"/>
              <a:ext cx="1676160" cy="1003320"/>
              <a:chOff x="6159600" y="4162320"/>
              <a:chExt cx="1676160" cy="1003320"/>
            </a:xfrm>
          </p:grpSpPr>
          <p:sp>
            <p:nvSpPr>
              <p:cNvPr id="2103" name=""/>
              <p:cNvSpPr/>
              <p:nvPr/>
            </p:nvSpPr>
            <p:spPr>
              <a:xfrm>
                <a:off x="6159600" y="4162320"/>
                <a:ext cx="228600" cy="1003320"/>
              </a:xfrm>
              <a:custGeom>
                <a:avLst/>
                <a:gdLst/>
                <a:ahLst/>
                <a:rect l="l" t="t" r="r" b="b"/>
                <a:pathLst>
                  <a:path w="144" h="632">
                    <a:moveTo>
                      <a:pt x="0" y="0"/>
                    </a:moveTo>
                    <a:cubicBezTo>
                      <a:pt x="12" y="212"/>
                      <a:pt x="24" y="424"/>
                      <a:pt x="48" y="528"/>
                    </a:cubicBezTo>
                    <a:cubicBezTo>
                      <a:pt x="72" y="632"/>
                      <a:pt x="108" y="628"/>
                      <a:pt x="144" y="6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388200" y="5152680"/>
                <a:ext cx="1447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>
              <a:off x="6245640" y="461952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631280" y="46195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.  TTL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与非”门特性及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506920" y="5653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压传输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209680" y="5715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测试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4871160" y="2900520"/>
            <a:ext cx="1316160" cy="545760"/>
            <a:chOff x="4871160" y="2900520"/>
            <a:chExt cx="1316160" cy="545760"/>
          </a:xfrm>
        </p:grpSpPr>
        <p:sp>
          <p:nvSpPr>
            <p:cNvPr id="2111" name=""/>
            <p:cNvSpPr/>
            <p:nvPr/>
          </p:nvSpPr>
          <p:spPr>
            <a:xfrm>
              <a:off x="5243400" y="3205080"/>
              <a:ext cx="533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871160" y="29005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87000" y="29257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4842000" y="2147760"/>
            <a:ext cx="4152960" cy="3685320"/>
            <a:chOff x="4842000" y="2147760"/>
            <a:chExt cx="4152960" cy="3685320"/>
          </a:xfrm>
        </p:grpSpPr>
        <p:grpSp>
          <p:nvGrpSpPr>
            <p:cNvPr id="2115" name=""/>
            <p:cNvGrpSpPr/>
            <p:nvPr/>
          </p:nvGrpSpPr>
          <p:grpSpPr>
            <a:xfrm>
              <a:off x="5243760" y="2832120"/>
              <a:ext cx="2728440" cy="2598120"/>
              <a:chOff x="5243760" y="2832120"/>
              <a:chExt cx="2728440" cy="2598120"/>
            </a:xfrm>
          </p:grpSpPr>
          <p:sp>
            <p:nvSpPr>
              <p:cNvPr id="2116" name=""/>
              <p:cNvSpPr/>
              <p:nvPr/>
            </p:nvSpPr>
            <p:spPr>
              <a:xfrm>
                <a:off x="5243760" y="4824360"/>
                <a:ext cx="9684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243760" y="4131360"/>
                <a:ext cx="9684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243760" y="3438360"/>
                <a:ext cx="9684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243760" y="2832120"/>
                <a:ext cx="9684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6120720" y="5343480"/>
                <a:ext cx="0" cy="8676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7095240" y="5343480"/>
                <a:ext cx="0" cy="8676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7972200" y="5343480"/>
                <a:ext cx="0" cy="8676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4842000" y="2516040"/>
              <a:ext cx="3306240" cy="3287160"/>
              <a:chOff x="4842000" y="2516040"/>
              <a:chExt cx="3306240" cy="3287160"/>
            </a:xfrm>
          </p:grpSpPr>
          <p:sp>
            <p:nvSpPr>
              <p:cNvPr id="2124" name=""/>
              <p:cNvSpPr/>
              <p:nvPr/>
            </p:nvSpPr>
            <p:spPr>
              <a:xfrm>
                <a:off x="4853520" y="516168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913360" y="5282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887880" y="5282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764840" y="5282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842000" y="4505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842000" y="3813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4842000" y="3122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4842000" y="2516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18"/>
                    </a:solidFill>
                    <a:latin typeface="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5243760" y="2243160"/>
              <a:ext cx="3158640" cy="3104640"/>
              <a:chOff x="5243760" y="2243160"/>
              <a:chExt cx="3158640" cy="3104640"/>
            </a:xfrm>
          </p:grpSpPr>
          <p:sp>
            <p:nvSpPr>
              <p:cNvPr id="2133" name=""/>
              <p:cNvSpPr/>
              <p:nvPr/>
            </p:nvSpPr>
            <p:spPr>
              <a:xfrm flipV="1">
                <a:off x="5243760" y="2243160"/>
                <a:ext cx="0" cy="3104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243760" y="5347800"/>
                <a:ext cx="31586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5" name=""/>
            <p:cNvSpPr/>
            <p:nvPr/>
          </p:nvSpPr>
          <p:spPr>
            <a:xfrm>
              <a:off x="7942680" y="5322960"/>
              <a:ext cx="105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   </a:t>
              </a: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i 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284800" y="214776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838080" y="2016000"/>
            <a:ext cx="3905280" cy="3775320"/>
            <a:chOff x="838080" y="2016000"/>
            <a:chExt cx="3905280" cy="3775320"/>
          </a:xfrm>
        </p:grpSpPr>
        <p:sp>
          <p:nvSpPr>
            <p:cNvPr id="2138" name=""/>
            <p:cNvSpPr/>
            <p:nvPr/>
          </p:nvSpPr>
          <p:spPr>
            <a:xfrm>
              <a:off x="2800440" y="3124080"/>
              <a:ext cx="799920" cy="127800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619440" y="3676680"/>
              <a:ext cx="152640" cy="17136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952720" y="304812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495520" y="335268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495520" y="377172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495520" y="4133880"/>
              <a:ext cx="304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753000" y="3753000"/>
              <a:ext cx="685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502000" y="3352680"/>
              <a:ext cx="0" cy="8002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38080" y="3429000"/>
              <a:ext cx="209520" cy="68724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1047600" y="3773520"/>
              <a:ext cx="1454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181320" y="4400640"/>
              <a:ext cx="0" cy="13906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933480" y="4114800"/>
              <a:ext cx="0" cy="12571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923760" y="5343120"/>
              <a:ext cx="3511800" cy="9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933480" y="2562120"/>
              <a:ext cx="0" cy="857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3181320" y="2285640"/>
              <a:ext cx="0" cy="8190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116160" y="2149560"/>
              <a:ext cx="115920" cy="11592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933480" y="2571840"/>
              <a:ext cx="22669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219480" y="2016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42960" y="4286160"/>
              <a:ext cx="514440" cy="51444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085760" y="4302000"/>
              <a:ext cx="55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  <a:ea typeface="楷体_GB2312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172040" y="4267080"/>
              <a:ext cx="514440" cy="51444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676680" y="4302000"/>
              <a:ext cx="65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  <a:ea typeface="楷体_GB2312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1790640" y="3792240"/>
              <a:ext cx="0" cy="4935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790640" y="4800600"/>
              <a:ext cx="0" cy="5526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425840" y="4800600"/>
              <a:ext cx="0" cy="5526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416480" y="3773520"/>
              <a:ext cx="0" cy="4842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479680" y="3728880"/>
              <a:ext cx="50760" cy="511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81120" y="4270320"/>
              <a:ext cx="5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91120" y="4270320"/>
              <a:ext cx="55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143160" y="5330880"/>
              <a:ext cx="50760" cy="50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070080" y="5788080"/>
              <a:ext cx="2286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06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1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14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18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9" name=""/>
          <p:cNvGrpSpPr/>
          <p:nvPr/>
        </p:nvGrpSpPr>
        <p:grpSpPr>
          <a:xfrm>
            <a:off x="1119960" y="2666880"/>
            <a:ext cx="1315800" cy="546120"/>
            <a:chOff x="1119960" y="2666880"/>
            <a:chExt cx="1315800" cy="546120"/>
          </a:xfrm>
        </p:grpSpPr>
        <p:sp>
          <p:nvSpPr>
            <p:cNvPr id="2170" name=""/>
            <p:cNvSpPr/>
            <p:nvPr/>
          </p:nvSpPr>
          <p:spPr>
            <a:xfrm>
              <a:off x="1492200" y="2971800"/>
              <a:ext cx="532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119960" y="266688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035440" y="269244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3" name=""/>
          <p:cNvSpPr/>
          <p:nvPr/>
        </p:nvSpPr>
        <p:spPr>
          <a:xfrm>
            <a:off x="2025720" y="2971800"/>
            <a:ext cx="38088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417760" y="3581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2406600" y="3929040"/>
            <a:ext cx="1676160" cy="1003320"/>
            <a:chOff x="2406600" y="3929040"/>
            <a:chExt cx="1676160" cy="1003320"/>
          </a:xfrm>
        </p:grpSpPr>
        <p:sp>
          <p:nvSpPr>
            <p:cNvPr id="2176" name=""/>
            <p:cNvSpPr/>
            <p:nvPr/>
          </p:nvSpPr>
          <p:spPr>
            <a:xfrm>
              <a:off x="2406600" y="3929040"/>
              <a:ext cx="228600" cy="1003320"/>
            </a:xfrm>
            <a:custGeom>
              <a:avLst/>
              <a:gdLst/>
              <a:ahLst/>
              <a:rect l="l" t="t" r="r" b="b"/>
              <a:pathLst>
                <a:path w="144" h="632">
                  <a:moveTo>
                    <a:pt x="0" y="0"/>
                  </a:moveTo>
                  <a:cubicBezTo>
                    <a:pt x="12" y="212"/>
                    <a:pt x="24" y="424"/>
                    <a:pt x="48" y="528"/>
                  </a:cubicBezTo>
                  <a:cubicBezTo>
                    <a:pt x="72" y="632"/>
                    <a:pt x="108" y="628"/>
                    <a:pt x="144" y="6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635200" y="4919400"/>
              <a:ext cx="1447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8" name=""/>
          <p:cNvSpPr/>
          <p:nvPr/>
        </p:nvSpPr>
        <p:spPr>
          <a:xfrm>
            <a:off x="2492640" y="44290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49840" y="445788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 type="subTitle"/>
          </p:nvPr>
        </p:nvSpPr>
        <p:spPr>
          <a:xfrm>
            <a:off x="990720" y="47124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TTL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非”门的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981080" y="5500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电压传输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191120" y="2529000"/>
            <a:ext cx="2361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典型值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3.6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4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为合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174720" y="4510080"/>
            <a:ext cx="194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典型值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0.3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0.4V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为合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465200" y="2971800"/>
            <a:ext cx="6098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558880" y="4915080"/>
            <a:ext cx="1524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830680" y="1598040"/>
            <a:ext cx="2511000" cy="625680"/>
          </a:xfrm>
          <a:prstGeom prst="wedgeRoundRectCallout">
            <a:avLst>
              <a:gd name="adj1" fmla="val -85291"/>
              <a:gd name="adj2" fmla="val 154310"/>
              <a:gd name="adj3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出高电平电压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663440" y="3717000"/>
            <a:ext cx="2466360" cy="625680"/>
          </a:xfrm>
          <a:prstGeom prst="wedgeRoundRectCallout">
            <a:avLst>
              <a:gd name="adj1" fmla="val -72282"/>
              <a:gd name="adj2" fmla="val 126134"/>
              <a:gd name="adj3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输出低电平电压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928160" y="1004760"/>
            <a:ext cx="472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出高电平电压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OH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和输出低电平电压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530000" y="1843200"/>
            <a:ext cx="85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U</a:t>
            </a:r>
            <a:r>
              <a:rPr b="1" lang="en-US" sz="2400" spc="-1" strike="noStrike" baseline="-25000">
                <a:solidFill>
                  <a:srgbClr val="000018"/>
                </a:solidFill>
                <a:latin typeface=""/>
              </a:rPr>
              <a:t>O</a:t>
            </a:r>
            <a:r>
              <a:rPr b="1" lang="en-US" sz="2400" spc="-1" strike="noStrike">
                <a:solidFill>
                  <a:srgbClr val="000018"/>
                </a:solidFill>
                <a:latin typeface=""/>
              </a:rPr>
              <a:t>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1457280" y="2584440"/>
            <a:ext cx="2728440" cy="2598120"/>
            <a:chOff x="1457280" y="2584440"/>
            <a:chExt cx="2728440" cy="2598120"/>
          </a:xfrm>
        </p:grpSpPr>
        <p:sp>
          <p:nvSpPr>
            <p:cNvPr id="2191" name=""/>
            <p:cNvSpPr/>
            <p:nvPr/>
          </p:nvSpPr>
          <p:spPr>
            <a:xfrm>
              <a:off x="1457280" y="4576680"/>
              <a:ext cx="968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457280" y="3883680"/>
              <a:ext cx="968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457280" y="3190680"/>
              <a:ext cx="968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457280" y="2584440"/>
              <a:ext cx="968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2334240" y="5095800"/>
              <a:ext cx="0" cy="8676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3308760" y="5095800"/>
              <a:ext cx="0" cy="8676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185720" y="5095800"/>
              <a:ext cx="0" cy="8676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1055520" y="2268360"/>
            <a:ext cx="3306240" cy="3287160"/>
            <a:chOff x="1055520" y="2268360"/>
            <a:chExt cx="3306240" cy="3287160"/>
          </a:xfrm>
        </p:grpSpPr>
        <p:sp>
          <p:nvSpPr>
            <p:cNvPr id="2199" name=""/>
            <p:cNvSpPr/>
            <p:nvPr/>
          </p:nvSpPr>
          <p:spPr>
            <a:xfrm>
              <a:off x="1067040" y="49140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126880" y="503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101400" y="503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978360" y="503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055520" y="4257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55520" y="356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55520" y="2874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055520" y="2268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1457280" y="1995480"/>
            <a:ext cx="3700080" cy="3119040"/>
            <a:chOff x="1457280" y="1995480"/>
            <a:chExt cx="3700080" cy="3119040"/>
          </a:xfrm>
        </p:grpSpPr>
        <p:sp>
          <p:nvSpPr>
            <p:cNvPr id="2208" name=""/>
            <p:cNvSpPr/>
            <p:nvPr/>
          </p:nvSpPr>
          <p:spPr>
            <a:xfrm flipV="1">
              <a:off x="1457280" y="1995480"/>
              <a:ext cx="0" cy="31190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457280" y="5114520"/>
              <a:ext cx="370008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0" name=""/>
          <p:cNvSpPr/>
          <p:nvPr/>
        </p:nvSpPr>
        <p:spPr>
          <a:xfrm>
            <a:off x="4829400" y="5059440"/>
            <a:ext cx="114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   </a:t>
            </a: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"/>
              </a:rPr>
              <a:t>i </a:t>
            </a:r>
            <a:r>
              <a:rPr b="1" lang="en-US" sz="2400" spc="-1" strike="noStrike">
                <a:solidFill>
                  <a:srgbClr val="000018"/>
                </a:solidFill>
                <a:latin typeface=""/>
              </a:rPr>
              <a:t>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25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130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35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40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145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5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55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71080" y="28195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模拟信号：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随时间连续变化的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1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脉冲信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91480" y="1629720"/>
            <a:ext cx="4584960" cy="1130040"/>
            <a:chOff x="1491480" y="1629720"/>
            <a:chExt cx="4584960" cy="1130040"/>
          </a:xfrm>
        </p:grpSpPr>
        <p:grpSp>
          <p:nvGrpSpPr>
            <p:cNvPr id="63" name=""/>
            <p:cNvGrpSpPr/>
            <p:nvPr/>
          </p:nvGrpSpPr>
          <p:grpSpPr>
            <a:xfrm>
              <a:off x="4419720" y="1629720"/>
              <a:ext cx="1656720" cy="1130040"/>
              <a:chOff x="4419720" y="1629720"/>
              <a:chExt cx="1656720" cy="1130040"/>
            </a:xfrm>
          </p:grpSpPr>
          <p:sp>
            <p:nvSpPr>
              <p:cNvPr id="64" name=""/>
              <p:cNvSpPr/>
              <p:nvPr/>
            </p:nvSpPr>
            <p:spPr>
              <a:xfrm>
                <a:off x="4419720" y="1752480"/>
                <a:ext cx="228600" cy="9903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5560 h 990360"/>
                  <a:gd name="textAreaBottom" fmla="*/ 96480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5840" y="1629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"/>
                  </a:rPr>
                  <a:t>模拟信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42160" y="22392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18"/>
                    </a:solidFill>
                    <a:latin typeface=""/>
                  </a:rPr>
                  <a:t>数字信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491480" y="191124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电子电路中的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模拟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3429000"/>
            <a:ext cx="5986440" cy="1447920"/>
            <a:chOff x="914400" y="3429000"/>
            <a:chExt cx="5986440" cy="1447920"/>
          </a:xfrm>
        </p:grpSpPr>
        <p:sp>
          <p:nvSpPr>
            <p:cNvPr id="70" name=""/>
            <p:cNvSpPr/>
            <p:nvPr/>
          </p:nvSpPr>
          <p:spPr>
            <a:xfrm>
              <a:off x="914400" y="3505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正弦波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76720" y="3429000"/>
              <a:ext cx="3624120" cy="1447920"/>
              <a:chOff x="3276720" y="3429000"/>
              <a:chExt cx="3624120" cy="14479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3284640" y="3783240"/>
                <a:ext cx="2630160" cy="1093680"/>
                <a:chOff x="3284640" y="3783240"/>
                <a:chExt cx="2630160" cy="1093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284640" y="3783240"/>
                  <a:ext cx="879480" cy="549360"/>
                </a:xfrm>
                <a:custGeom>
                  <a:avLst/>
                  <a:gdLst/>
                  <a:ahLst/>
                  <a:rect l="l" t="t" r="r" b="b"/>
                  <a:pathLst>
                    <a:path w="666" h="418">
                      <a:moveTo>
                        <a:pt x="0" y="418"/>
                      </a:moveTo>
                      <a:cubicBezTo>
                        <a:pt x="16" y="390"/>
                        <a:pt x="62" y="301"/>
                        <a:pt x="96" y="247"/>
                      </a:cubicBezTo>
                      <a:cubicBezTo>
                        <a:pt x="130" y="193"/>
                        <a:pt x="164" y="132"/>
                        <a:pt x="204" y="91"/>
                      </a:cubicBezTo>
                      <a:cubicBezTo>
                        <a:pt x="244" y="50"/>
                        <a:pt x="294" y="2"/>
                        <a:pt x="336" y="1"/>
                      </a:cubicBezTo>
                      <a:cubicBezTo>
                        <a:pt x="378" y="0"/>
                        <a:pt x="414" y="39"/>
                        <a:pt x="456" y="85"/>
                      </a:cubicBezTo>
                      <a:cubicBezTo>
                        <a:pt x="498" y="131"/>
                        <a:pt x="552" y="220"/>
                        <a:pt x="587" y="275"/>
                      </a:cubicBezTo>
                      <a:cubicBezTo>
                        <a:pt x="622" y="330"/>
                        <a:pt x="650" y="386"/>
                        <a:pt x="666" y="415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4164120" y="4327560"/>
                  <a:ext cx="879120" cy="549360"/>
                </a:xfrm>
                <a:custGeom>
                  <a:avLst/>
                  <a:gdLst/>
                  <a:ahLst/>
                  <a:rect l="l" t="t" r="r" b="b"/>
                  <a:pathLst>
                    <a:path w="666" h="418">
                      <a:moveTo>
                        <a:pt x="0" y="418"/>
                      </a:moveTo>
                      <a:cubicBezTo>
                        <a:pt x="16" y="390"/>
                        <a:pt x="62" y="301"/>
                        <a:pt x="96" y="247"/>
                      </a:cubicBezTo>
                      <a:cubicBezTo>
                        <a:pt x="130" y="193"/>
                        <a:pt x="164" y="132"/>
                        <a:pt x="204" y="91"/>
                      </a:cubicBezTo>
                      <a:cubicBezTo>
                        <a:pt x="244" y="50"/>
                        <a:pt x="294" y="2"/>
                        <a:pt x="336" y="1"/>
                      </a:cubicBezTo>
                      <a:cubicBezTo>
                        <a:pt x="378" y="0"/>
                        <a:pt x="414" y="39"/>
                        <a:pt x="456" y="85"/>
                      </a:cubicBezTo>
                      <a:cubicBezTo>
                        <a:pt x="498" y="131"/>
                        <a:pt x="552" y="220"/>
                        <a:pt x="587" y="275"/>
                      </a:cubicBezTo>
                      <a:cubicBezTo>
                        <a:pt x="622" y="330"/>
                        <a:pt x="650" y="386"/>
                        <a:pt x="666" y="415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035320" y="3783240"/>
                  <a:ext cx="879480" cy="549360"/>
                </a:xfrm>
                <a:custGeom>
                  <a:avLst/>
                  <a:gdLst/>
                  <a:ahLst/>
                  <a:rect l="l" t="t" r="r" b="b"/>
                  <a:pathLst>
                    <a:path w="666" h="418">
                      <a:moveTo>
                        <a:pt x="0" y="418"/>
                      </a:moveTo>
                      <a:cubicBezTo>
                        <a:pt x="16" y="390"/>
                        <a:pt x="62" y="301"/>
                        <a:pt x="96" y="247"/>
                      </a:cubicBezTo>
                      <a:cubicBezTo>
                        <a:pt x="130" y="193"/>
                        <a:pt x="164" y="132"/>
                        <a:pt x="204" y="91"/>
                      </a:cubicBezTo>
                      <a:cubicBezTo>
                        <a:pt x="244" y="50"/>
                        <a:pt x="294" y="2"/>
                        <a:pt x="336" y="1"/>
                      </a:cubicBezTo>
                      <a:cubicBezTo>
                        <a:pt x="378" y="0"/>
                        <a:pt x="414" y="39"/>
                        <a:pt x="456" y="85"/>
                      </a:cubicBezTo>
                      <a:cubicBezTo>
                        <a:pt x="498" y="131"/>
                        <a:pt x="552" y="220"/>
                        <a:pt x="587" y="275"/>
                      </a:cubicBezTo>
                      <a:cubicBezTo>
                        <a:pt x="622" y="330"/>
                        <a:pt x="650" y="386"/>
                        <a:pt x="666" y="415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V="1">
                <a:off x="3276720" y="4343040"/>
                <a:ext cx="30560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332760" y="4038840"/>
                <a:ext cx="56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  <a:ea typeface="楷体_GB2312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284640" y="342900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275480" y="4723920"/>
            <a:ext cx="5259600" cy="1374480"/>
            <a:chOff x="1275480" y="4723920"/>
            <a:chExt cx="5259600" cy="1374480"/>
          </a:xfrm>
        </p:grpSpPr>
        <p:sp>
          <p:nvSpPr>
            <p:cNvPr id="80" name=""/>
            <p:cNvSpPr/>
            <p:nvPr/>
          </p:nvSpPr>
          <p:spPr>
            <a:xfrm>
              <a:off x="1275480" y="4800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三角波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276720" y="4723920"/>
              <a:ext cx="3258360" cy="1374480"/>
              <a:chOff x="3276720" y="4723920"/>
              <a:chExt cx="3258360" cy="13744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3276720" y="5333760"/>
                <a:ext cx="2590200" cy="525600"/>
                <a:chOff x="3276720" y="5333760"/>
                <a:chExt cx="2590200" cy="52560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3276720" y="5333760"/>
                  <a:ext cx="863280" cy="525600"/>
                  <a:chOff x="3276720" y="5333760"/>
                  <a:chExt cx="863280" cy="5256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V="1">
                    <a:off x="3276720" y="5333760"/>
                    <a:ext cx="45432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731040" y="5333760"/>
                    <a:ext cx="40896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4140360" y="5333760"/>
                  <a:ext cx="862920" cy="525600"/>
                  <a:chOff x="4140360" y="5333760"/>
                  <a:chExt cx="862920" cy="5256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V="1">
                    <a:off x="4140360" y="5333760"/>
                    <a:ext cx="45432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594680" y="5333760"/>
                    <a:ext cx="40860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5003640" y="5333760"/>
                  <a:ext cx="863280" cy="525600"/>
                  <a:chOff x="5003640" y="5333760"/>
                  <a:chExt cx="863280" cy="5256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V="1">
                    <a:off x="5003640" y="5333760"/>
                    <a:ext cx="45432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5457960" y="5333760"/>
                    <a:ext cx="408960" cy="525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 flipV="1">
                <a:off x="3276720" y="4723920"/>
                <a:ext cx="0" cy="116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29440" y="563868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  <a:ea typeface="楷体_GB2312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76720" y="5867280"/>
                <a:ext cx="29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"/>
          <p:cNvSpPr/>
          <p:nvPr/>
        </p:nvSpPr>
        <p:spPr>
          <a:xfrm>
            <a:off x="1283400" y="20034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296080" y="19591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319480" y="2257560"/>
            <a:ext cx="455400" cy="1050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2773440" y="3290760"/>
            <a:ext cx="1488960" cy="1144440"/>
            <a:chOff x="2773440" y="3290760"/>
            <a:chExt cx="1488960" cy="1144440"/>
          </a:xfrm>
        </p:grpSpPr>
        <p:sp>
          <p:nvSpPr>
            <p:cNvPr id="2215" name=""/>
            <p:cNvSpPr/>
            <p:nvPr/>
          </p:nvSpPr>
          <p:spPr>
            <a:xfrm>
              <a:off x="2773440" y="3290760"/>
              <a:ext cx="203040" cy="1144440"/>
            </a:xfrm>
            <a:custGeom>
              <a:avLst/>
              <a:gdLst/>
              <a:ahLst/>
              <a:rect l="l" t="t" r="r" b="b"/>
              <a:pathLst>
                <a:path w="144" h="632">
                  <a:moveTo>
                    <a:pt x="0" y="0"/>
                  </a:moveTo>
                  <a:cubicBezTo>
                    <a:pt x="12" y="212"/>
                    <a:pt x="24" y="424"/>
                    <a:pt x="48" y="528"/>
                  </a:cubicBezTo>
                  <a:cubicBezTo>
                    <a:pt x="72" y="632"/>
                    <a:pt x="108" y="628"/>
                    <a:pt x="144" y="6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976480" y="4420440"/>
              <a:ext cx="1285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7" name=""/>
          <p:cNvSpPr/>
          <p:nvPr/>
        </p:nvSpPr>
        <p:spPr>
          <a:xfrm>
            <a:off x="2880000" y="37958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057920" y="388764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838160" y="4560840"/>
            <a:ext cx="567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2347920" y="2424240"/>
            <a:ext cx="0" cy="2062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1828800" y="4571640"/>
            <a:ext cx="528480" cy="609480"/>
            <a:chOff x="1828800" y="4571640"/>
            <a:chExt cx="528480" cy="609480"/>
          </a:xfrm>
        </p:grpSpPr>
        <p:sp>
          <p:nvSpPr>
            <p:cNvPr id="2222" name=""/>
            <p:cNvSpPr/>
            <p:nvPr/>
          </p:nvSpPr>
          <p:spPr>
            <a:xfrm flipH="1">
              <a:off x="1828800" y="5126040"/>
              <a:ext cx="5284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2357280" y="457164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1828800" y="457164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5257800" y="762120"/>
            <a:ext cx="3200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低电平噪声容限电压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</a:rPr>
              <a:t>NL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保证输出高电平电压不低于额定值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90%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的条件下所允许叠加在输入低电平电压上的最大噪声（或干扰）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</a:rPr>
              <a:t>NL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=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</a:rPr>
              <a:t>OFF 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–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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057400" y="5562720"/>
            <a:ext cx="2438280" cy="533160"/>
          </a:xfrm>
          <a:prstGeom prst="wedgeEllipseCallout">
            <a:avLst>
              <a:gd name="adj1" fmla="val -41990"/>
              <a:gd name="adj2" fmla="val -12797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"/>
              </a:rPr>
              <a:t>允许叠加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702800" y="6094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定量说明门电路抗干扰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619280" y="226044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928960" y="4422600"/>
            <a:ext cx="1409760" cy="12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305080" y="2286000"/>
            <a:ext cx="115920" cy="228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539440" y="4722480"/>
            <a:ext cx="783720" cy="550440"/>
          </a:xfrm>
          <a:prstGeom prst="wedgeRoundRectCallout">
            <a:avLst>
              <a:gd name="adj1" fmla="val -79013"/>
              <a:gd name="adj2" fmla="val -7973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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495680" y="4876920"/>
            <a:ext cx="4114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OFF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是保证输出为额定高电平的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所对应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最大输入低电平电压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676520" y="245736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292560" y="1583640"/>
            <a:ext cx="1352160" cy="625680"/>
          </a:xfrm>
          <a:prstGeom prst="wedgeRoundRectCallout">
            <a:avLst>
              <a:gd name="adj1" fmla="val -118083"/>
              <a:gd name="adj2" fmla="val 9468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0.9</a:t>
            </a:r>
            <a:r>
              <a:rPr b="1" i="1" lang="en-US" sz="2800" spc="-1" strike="noStrike">
                <a:solidFill>
                  <a:srgbClr val="3333cc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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048120" y="2501640"/>
            <a:ext cx="1358640" cy="1340280"/>
          </a:xfrm>
          <a:prstGeom prst="wedgeRoundRectCallout">
            <a:avLst>
              <a:gd name="adj1" fmla="val -129310"/>
              <a:gd name="adj2" fmla="val 99351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低电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电压</a:t>
            </a:r>
            <a:r>
              <a:rPr b="1" i="1" lang="zh-CN" sz="24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1284840" y="1295280"/>
            <a:ext cx="4349160" cy="3803760"/>
            <a:chOff x="1284840" y="1295280"/>
            <a:chExt cx="4349160" cy="3803760"/>
          </a:xfrm>
        </p:grpSpPr>
        <p:sp>
          <p:nvSpPr>
            <p:cNvPr id="2237" name=""/>
            <p:cNvSpPr/>
            <p:nvPr/>
          </p:nvSpPr>
          <p:spPr>
            <a:xfrm>
              <a:off x="1627200" y="4046400"/>
              <a:ext cx="824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627200" y="3368520"/>
              <a:ext cx="824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627200" y="2689200"/>
              <a:ext cx="824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27200" y="1995480"/>
              <a:ext cx="8244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371680" y="4556160"/>
              <a:ext cx="0" cy="8424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3200400" y="4556160"/>
              <a:ext cx="0" cy="8424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3944880" y="4556160"/>
              <a:ext cx="0" cy="8424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96000" y="43783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199240" y="4498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22920" y="4498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767760" y="4498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8484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84840" y="3057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84840" y="2378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84840" y="1728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1627200" y="1295280"/>
              <a:ext cx="0" cy="3278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627200" y="4573440"/>
              <a:ext cx="347832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488120" y="4519440"/>
              <a:ext cx="114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800" spc="-1" strike="noStrike" baseline="-25000">
                  <a:solidFill>
                    <a:srgbClr val="000018"/>
                  </a:solidFill>
                  <a:latin typeface=""/>
                </a:rPr>
                <a:t>i 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682640" y="130032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62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167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172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76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8" presetSubtype="9"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base">
                                        <p:cTn id="1181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186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91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6"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base">
                                        <p:cTn id="1196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201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206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211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/>
          <p:nvPr/>
        </p:nvSpPr>
        <p:spPr>
          <a:xfrm>
            <a:off x="3888720" y="1506960"/>
            <a:ext cx="1269360" cy="1547280"/>
          </a:xfrm>
          <a:prstGeom prst="wedgeRoundRectCallout">
            <a:avLst>
              <a:gd name="adj1" fmla="val -1208"/>
              <a:gd name="adj2" fmla="val 140694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高电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电压</a:t>
            </a:r>
            <a:r>
              <a:rPr b="1" i="1" lang="zh-CN" sz="2800" spc="-1" strike="noStrike">
                <a:solidFill>
                  <a:srgbClr val="ff0000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"/>
              </a:rPr>
              <a:t>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946440" y="1905120"/>
            <a:ext cx="1570320" cy="547200"/>
            <a:chOff x="946440" y="1905120"/>
            <a:chExt cx="1570320" cy="547200"/>
          </a:xfrm>
        </p:grpSpPr>
        <p:sp>
          <p:nvSpPr>
            <p:cNvPr id="2258" name=""/>
            <p:cNvSpPr/>
            <p:nvPr/>
          </p:nvSpPr>
          <p:spPr>
            <a:xfrm>
              <a:off x="1425240" y="2251080"/>
              <a:ext cx="681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946440" y="19051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116440" y="193176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2101680" y="2209680"/>
            <a:ext cx="489240" cy="1127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2787480" y="4549680"/>
            <a:ext cx="1710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715000" y="668160"/>
            <a:ext cx="28195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高电平噪声容限电压</a:t>
            </a:r>
            <a:r>
              <a:rPr b="1" i="1" lang="en-US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"/>
              </a:rPr>
              <a:t>NH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保证输出低电平电压的条件下所允许叠加在输入高 电平电压上的最大噪声（或干扰）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"/>
              </a:rPr>
              <a:t>NH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=</a:t>
            </a:r>
            <a:r>
              <a:rPr b="1" i="1" lang="en-US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"/>
              </a:rPr>
              <a:t>IH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–</a:t>
            </a:r>
            <a:r>
              <a:rPr b="1" i="1" lang="en-US" sz="32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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558880" y="3201840"/>
            <a:ext cx="2438640" cy="533520"/>
          </a:xfrm>
          <a:prstGeom prst="wedgeEllipseCallout">
            <a:avLst>
              <a:gd name="adj1" fmla="val -1888"/>
              <a:gd name="adj2" fmla="val 113393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"/>
              </a:rPr>
              <a:t>允许叠加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626480" y="533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定量说明门电路抗干扰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415880" y="224640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962520" y="4952880"/>
            <a:ext cx="4114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"/>
              </a:rPr>
              <a:t>ON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是保证输出为额定低电平时所对应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最小输入高电平电压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2787480" y="4040280"/>
            <a:ext cx="1752480" cy="533160"/>
            <a:chOff x="2787480" y="4040280"/>
            <a:chExt cx="1752480" cy="533160"/>
          </a:xfrm>
        </p:grpSpPr>
        <p:sp>
          <p:nvSpPr>
            <p:cNvPr id="2269" name=""/>
            <p:cNvSpPr/>
            <p:nvPr/>
          </p:nvSpPr>
          <p:spPr>
            <a:xfrm flipH="1">
              <a:off x="2787480" y="4088520"/>
              <a:ext cx="175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539960" y="4040280"/>
              <a:ext cx="0" cy="53316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87480" y="4040280"/>
              <a:ext cx="0" cy="53316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558880" y="3281400"/>
            <a:ext cx="2247840" cy="1139400"/>
            <a:chOff x="2558880" y="3281400"/>
            <a:chExt cx="2247840" cy="1139400"/>
          </a:xfrm>
        </p:grpSpPr>
        <p:grpSp>
          <p:nvGrpSpPr>
            <p:cNvPr id="2273" name=""/>
            <p:cNvGrpSpPr/>
            <p:nvPr/>
          </p:nvGrpSpPr>
          <p:grpSpPr>
            <a:xfrm>
              <a:off x="2558880" y="3281400"/>
              <a:ext cx="2142360" cy="1139400"/>
              <a:chOff x="2558880" y="3281400"/>
              <a:chExt cx="2142360" cy="1139400"/>
            </a:xfrm>
          </p:grpSpPr>
          <p:sp>
            <p:nvSpPr>
              <p:cNvPr id="2274" name=""/>
              <p:cNvSpPr/>
              <p:nvPr/>
            </p:nvSpPr>
            <p:spPr>
              <a:xfrm>
                <a:off x="2558880" y="3281400"/>
                <a:ext cx="291960" cy="1139400"/>
              </a:xfrm>
              <a:custGeom>
                <a:avLst/>
                <a:gdLst/>
                <a:ahLst/>
                <a:rect l="l" t="t" r="r" b="b"/>
                <a:pathLst>
                  <a:path w="144" h="632">
                    <a:moveTo>
                      <a:pt x="0" y="0"/>
                    </a:moveTo>
                    <a:cubicBezTo>
                      <a:pt x="12" y="212"/>
                      <a:pt x="24" y="424"/>
                      <a:pt x="48" y="528"/>
                    </a:cubicBezTo>
                    <a:cubicBezTo>
                      <a:pt x="72" y="632"/>
                      <a:pt x="108" y="628"/>
                      <a:pt x="144" y="624"/>
                    </a:cubicBezTo>
                  </a:path>
                </a:pathLst>
              </a:custGeom>
              <a:noFill/>
              <a:ln w="38160">
                <a:solidFill>
                  <a:srgbClr val="0000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850840" y="4406040"/>
                <a:ext cx="18504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6" name=""/>
            <p:cNvSpPr/>
            <p:nvPr/>
          </p:nvSpPr>
          <p:spPr>
            <a:xfrm>
              <a:off x="2665440" y="380052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434120" y="38005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8" name=""/>
          <p:cNvSpPr/>
          <p:nvPr/>
        </p:nvSpPr>
        <p:spPr>
          <a:xfrm>
            <a:off x="2749680" y="4408560"/>
            <a:ext cx="1981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1055880" y="1371600"/>
            <a:ext cx="4349520" cy="3727440"/>
            <a:chOff x="1055880" y="1371600"/>
            <a:chExt cx="4349520" cy="3727440"/>
          </a:xfrm>
        </p:grpSpPr>
        <p:grpSp>
          <p:nvGrpSpPr>
            <p:cNvPr id="2280" name=""/>
            <p:cNvGrpSpPr/>
            <p:nvPr/>
          </p:nvGrpSpPr>
          <p:grpSpPr>
            <a:xfrm>
              <a:off x="1055880" y="1518840"/>
              <a:ext cx="4349520" cy="3580200"/>
              <a:chOff x="1055880" y="1518840"/>
              <a:chExt cx="4349520" cy="3580200"/>
            </a:xfrm>
          </p:grpSpPr>
          <p:grpSp>
            <p:nvGrpSpPr>
              <p:cNvPr id="2281" name=""/>
              <p:cNvGrpSpPr/>
              <p:nvPr/>
            </p:nvGrpSpPr>
            <p:grpSpPr>
              <a:xfrm>
                <a:off x="1398600" y="2095560"/>
                <a:ext cx="2317320" cy="2544480"/>
                <a:chOff x="1398600" y="2095560"/>
                <a:chExt cx="2317320" cy="2544480"/>
              </a:xfrm>
            </p:grpSpPr>
            <p:sp>
              <p:nvSpPr>
                <p:cNvPr id="2282" name=""/>
                <p:cNvSpPr/>
                <p:nvPr/>
              </p:nvSpPr>
              <p:spPr>
                <a:xfrm>
                  <a:off x="1398600" y="40464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1398600" y="33678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1398600" y="268920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1398600" y="2095560"/>
                  <a:ext cx="8244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V="1">
                  <a:off x="214344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V="1">
                  <a:off x="297108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3715920" y="4555080"/>
                  <a:ext cx="0" cy="8496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9" name=""/>
              <p:cNvGrpSpPr/>
              <p:nvPr/>
            </p:nvGrpSpPr>
            <p:grpSpPr>
              <a:xfrm>
                <a:off x="1055880" y="1785960"/>
                <a:ext cx="2866320" cy="3232800"/>
                <a:chOff x="1055880" y="1785960"/>
                <a:chExt cx="2866320" cy="323280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1067400" y="43779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18"/>
                      </a:solidFill>
                      <a:latin typeface="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196956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279360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3538800" y="4498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055880" y="3733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055880" y="305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1055880" y="23781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1055880" y="1785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18"/>
                      </a:solidFill>
                      <a:latin typeface="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1398600" y="1518840"/>
                <a:ext cx="3142800" cy="3054240"/>
                <a:chOff x="1398600" y="1518840"/>
                <a:chExt cx="3142800" cy="3054240"/>
              </a:xfrm>
            </p:grpSpPr>
            <p:sp>
              <p:nvSpPr>
                <p:cNvPr id="2299" name=""/>
                <p:cNvSpPr/>
                <p:nvPr/>
              </p:nvSpPr>
              <p:spPr>
                <a:xfrm flipV="1">
                  <a:off x="1398600" y="1518840"/>
                  <a:ext cx="0" cy="305388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1398600" y="4573080"/>
                  <a:ext cx="314280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1" name=""/>
              <p:cNvSpPr/>
              <p:nvPr/>
            </p:nvSpPr>
            <p:spPr>
              <a:xfrm>
                <a:off x="4259520" y="4519440"/>
                <a:ext cx="1145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18"/>
                    </a:solidFill>
                    <a:latin typeface=""/>
                  </a:rPr>
                  <a:t>   </a:t>
                </a:r>
                <a:r>
                  <a:rPr b="1" i="1" lang="en-US" sz="2800" spc="-1" strike="noStrike">
                    <a:solidFill>
                      <a:srgbClr val="000018"/>
                    </a:solidFill>
                    <a:latin typeface="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18"/>
                    </a:solidFill>
                    <a:latin typeface=""/>
                  </a:rPr>
                  <a:t>i </a:t>
                </a:r>
                <a:r>
                  <a:rPr b="1" lang="en-US" sz="2400" spc="-1" strike="noStrike">
                    <a:solidFill>
                      <a:srgbClr val="000018"/>
                    </a:solidFill>
                    <a:latin typeface=""/>
                  </a:rPr>
                  <a:t>/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2" name=""/>
            <p:cNvSpPr/>
            <p:nvPr/>
          </p:nvSpPr>
          <p:spPr>
            <a:xfrm>
              <a:off x="1454040" y="1371600"/>
              <a:ext cx="85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18"/>
                  </a:solidFill>
                  <a:latin typeface=""/>
                </a:rPr>
                <a:t>U</a:t>
              </a:r>
              <a:r>
                <a:rPr b="1" lang="en-US" sz="2400" spc="-1" strike="noStrike" baseline="-25000">
                  <a:solidFill>
                    <a:srgbClr val="000018"/>
                  </a:solidFill>
                  <a:latin typeface=""/>
                </a:rPr>
                <a:t>O</a:t>
              </a: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3" name=""/>
          <p:cNvSpPr/>
          <p:nvPr/>
        </p:nvSpPr>
        <p:spPr>
          <a:xfrm>
            <a:off x="2432880" y="4785480"/>
            <a:ext cx="817560" cy="625680"/>
          </a:xfrm>
          <a:prstGeom prst="wedgeRoundRectCallout">
            <a:avLst>
              <a:gd name="adj1" fmla="val -10875"/>
              <a:gd name="adj2" fmla="val -87722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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218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8" presetSubtype="9"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base">
                                        <p:cTn id="1223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228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233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23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243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248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"/>
          <p:cNvSpPr/>
          <p:nvPr/>
        </p:nvSpPr>
        <p:spPr>
          <a:xfrm>
            <a:off x="685800" y="1177920"/>
            <a:ext cx="7696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指一个“与非”门能带同类门的最大数目，它表示带负载的能力。对于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TTL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与非”门 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"/>
              </a:rPr>
              <a:t>O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8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85800" y="220968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入高电平电流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IH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和输入低电平电流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09480" y="2743200"/>
            <a:ext cx="7925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当某一输入端接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高电平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其余输入端接低电 平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流入该输入端的电流，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称为高电平输入电流 </a:t>
            </a:r>
            <a:r>
              <a:rPr b="1" i="1" lang="en-US" sz="2800" spc="-1" strike="noStrike">
                <a:solidFill>
                  <a:srgbClr val="006600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"/>
              </a:rPr>
              <a:t>IH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480" y="4191120"/>
            <a:ext cx="7772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当某一输入端接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低电平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其余输入端接高电平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流出该输入端的电流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称为低电平输入电流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mA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938880" y="669960"/>
            <a:ext cx="155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扇出系数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N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55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60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65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70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5018400" y="685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961000" y="114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85800" y="41911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当某一输入端接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低电平，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其余输入端接高电平时，流出该输入端的电流，称为低电平输入电流 </a:t>
            </a:r>
            <a:r>
              <a:rPr b="1" i="1" lang="en-US" sz="2800" spc="-1" strike="noStrike">
                <a:solidFill>
                  <a:srgbClr val="006600"/>
                </a:solidFill>
                <a:latin typeface=""/>
              </a:rPr>
              <a:t>I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"/>
              </a:rPr>
              <a:t>IL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mA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80880" y="3048120"/>
            <a:ext cx="8382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若要保证输出为高电平，则对电阻值有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R 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IL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&lt; 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3276720" y="152388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1066680" y="914400"/>
            <a:ext cx="7179480" cy="1891440"/>
            <a:chOff x="1066680" y="914400"/>
            <a:chExt cx="7179480" cy="1891440"/>
          </a:xfrm>
        </p:grpSpPr>
        <p:sp>
          <p:nvSpPr>
            <p:cNvPr id="2315" name=""/>
            <p:cNvSpPr/>
            <p:nvPr/>
          </p:nvSpPr>
          <p:spPr>
            <a:xfrm>
              <a:off x="1828800" y="914400"/>
              <a:ext cx="1143000" cy="152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1219320" y="1295280"/>
              <a:ext cx="609480" cy="914400"/>
              <a:chOff x="1219320" y="1295280"/>
              <a:chExt cx="609480" cy="914400"/>
            </a:xfrm>
          </p:grpSpPr>
          <p:sp>
            <p:nvSpPr>
              <p:cNvPr id="2317" name=""/>
              <p:cNvSpPr/>
              <p:nvPr/>
            </p:nvSpPr>
            <p:spPr>
              <a:xfrm>
                <a:off x="121932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219320" y="17524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19320" y="22096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>
              <a:off x="1066680" y="12193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066680" y="16765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97180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24080" y="17524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133720" y="990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67280" y="914400"/>
              <a:ext cx="1143000" cy="152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5257800" y="1295280"/>
              <a:ext cx="609480" cy="914400"/>
              <a:chOff x="5257800" y="1295280"/>
              <a:chExt cx="609480" cy="914400"/>
            </a:xfrm>
          </p:grpSpPr>
          <p:sp>
            <p:nvSpPr>
              <p:cNvPr id="2328" name=""/>
              <p:cNvSpPr/>
              <p:nvPr/>
            </p:nvSpPr>
            <p:spPr>
              <a:xfrm>
                <a:off x="52578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257800" y="17524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257800" y="22096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1" name=""/>
            <p:cNvSpPr/>
            <p:nvPr/>
          </p:nvSpPr>
          <p:spPr>
            <a:xfrm>
              <a:off x="5105520" y="1219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0552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105520" y="2133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10280" y="16765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162920" y="1752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72200" y="990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772400" y="1371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18"/>
                  </a:solidFill>
                  <a:latin typeface="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018400" y="228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832160" y="1767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733920" y="1636560"/>
              <a:ext cx="685800" cy="260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906000" y="193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18"/>
                  </a:solidFill>
                  <a:latin typeface="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19720" y="1752480"/>
              <a:ext cx="914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277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82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87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/>
          <p:nvPr/>
        </p:nvSpPr>
        <p:spPr>
          <a:xfrm>
            <a:off x="685800" y="8380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平均传输延迟时间 </a:t>
            </a:r>
            <a:r>
              <a:rPr b="1" i="1" lang="zh-CN" sz="2800" spc="-1" strike="noStrike">
                <a:solidFill>
                  <a:srgbClr val="000099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"/>
              </a:rPr>
              <a:t>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1523880" y="1676160"/>
            <a:ext cx="3886200" cy="1067040"/>
            <a:chOff x="1523880" y="1676160"/>
            <a:chExt cx="3886200" cy="1067040"/>
          </a:xfrm>
        </p:grpSpPr>
        <p:sp>
          <p:nvSpPr>
            <p:cNvPr id="2345" name=""/>
            <p:cNvSpPr/>
            <p:nvPr/>
          </p:nvSpPr>
          <p:spPr>
            <a:xfrm>
              <a:off x="1523880" y="274320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2209680" y="1676160"/>
              <a:ext cx="38088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590560" y="1676520"/>
              <a:ext cx="1523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14440" y="1676520"/>
              <a:ext cx="38124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495680" y="274320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1599840" y="3353040"/>
            <a:ext cx="3886200" cy="1067040"/>
            <a:chOff x="1599840" y="3353040"/>
            <a:chExt cx="3886200" cy="1067040"/>
          </a:xfrm>
        </p:grpSpPr>
        <p:sp>
          <p:nvSpPr>
            <p:cNvPr id="2351" name=""/>
            <p:cNvSpPr/>
            <p:nvPr/>
          </p:nvSpPr>
          <p:spPr>
            <a:xfrm flipH="1">
              <a:off x="4800240" y="335304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4419360" y="3353400"/>
              <a:ext cx="38088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2895480" y="4419720"/>
              <a:ext cx="1523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 flipV="1">
              <a:off x="2514240" y="3353040"/>
              <a:ext cx="38124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1599840" y="335304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6" name=""/>
          <p:cNvGrpSpPr/>
          <p:nvPr/>
        </p:nvGrpSpPr>
        <p:grpSpPr>
          <a:xfrm>
            <a:off x="1828800" y="2133720"/>
            <a:ext cx="3352680" cy="1828800"/>
            <a:chOff x="1828800" y="2133720"/>
            <a:chExt cx="3352680" cy="1828800"/>
          </a:xfrm>
        </p:grpSpPr>
        <p:sp>
          <p:nvSpPr>
            <p:cNvPr id="2357" name=""/>
            <p:cNvSpPr/>
            <p:nvPr/>
          </p:nvSpPr>
          <p:spPr>
            <a:xfrm>
              <a:off x="1828800" y="2133720"/>
              <a:ext cx="327672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905120" y="3962520"/>
              <a:ext cx="327636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2438280" y="2133720"/>
            <a:ext cx="304920" cy="3200400"/>
            <a:chOff x="2438280" y="2133720"/>
            <a:chExt cx="304920" cy="3200400"/>
          </a:xfrm>
        </p:grpSpPr>
        <p:sp>
          <p:nvSpPr>
            <p:cNvPr id="2360" name=""/>
            <p:cNvSpPr/>
            <p:nvPr/>
          </p:nvSpPr>
          <p:spPr>
            <a:xfrm>
              <a:off x="2438280" y="2133720"/>
              <a:ext cx="0" cy="32004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743200" y="396252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4267080" y="2133720"/>
            <a:ext cx="304920" cy="3200400"/>
            <a:chOff x="4267080" y="2133720"/>
            <a:chExt cx="304920" cy="3200400"/>
          </a:xfrm>
        </p:grpSpPr>
        <p:sp>
          <p:nvSpPr>
            <p:cNvPr id="2363" name=""/>
            <p:cNvSpPr/>
            <p:nvPr/>
          </p:nvSpPr>
          <p:spPr>
            <a:xfrm>
              <a:off x="4267080" y="2133720"/>
              <a:ext cx="0" cy="32004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572000" y="396252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685800" y="1828800"/>
            <a:ext cx="990720" cy="2349360"/>
            <a:chOff x="685800" y="1828800"/>
            <a:chExt cx="990720" cy="2349360"/>
          </a:xfrm>
        </p:grpSpPr>
        <p:sp>
          <p:nvSpPr>
            <p:cNvPr id="2366" name=""/>
            <p:cNvSpPr/>
            <p:nvPr/>
          </p:nvSpPr>
          <p:spPr>
            <a:xfrm>
              <a:off x="685800" y="1828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5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56720" y="365760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"/>
                </a:rPr>
                <a:t>5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2057400" y="5181480"/>
            <a:ext cx="1066680" cy="0"/>
            <a:chOff x="2057400" y="5181480"/>
            <a:chExt cx="1066680" cy="0"/>
          </a:xfrm>
        </p:grpSpPr>
        <p:sp>
          <p:nvSpPr>
            <p:cNvPr id="2369" name=""/>
            <p:cNvSpPr/>
            <p:nvPr/>
          </p:nvSpPr>
          <p:spPr>
            <a:xfrm>
              <a:off x="20574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27432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3886200" y="5181480"/>
            <a:ext cx="1066680" cy="0"/>
            <a:chOff x="3886200" y="5181480"/>
            <a:chExt cx="1066680" cy="0"/>
          </a:xfrm>
        </p:grpSpPr>
        <p:sp>
          <p:nvSpPr>
            <p:cNvPr id="2372" name=""/>
            <p:cNvSpPr/>
            <p:nvPr/>
          </p:nvSpPr>
          <p:spPr>
            <a:xfrm>
              <a:off x="38862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4572000" y="51814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4" name=""/>
          <p:cNvSpPr/>
          <p:nvPr/>
        </p:nvSpPr>
        <p:spPr>
          <a:xfrm>
            <a:off x="2209680" y="51814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"/>
              </a:rPr>
              <a:t>p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114800" y="51814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18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18"/>
                </a:solidFill>
                <a:latin typeface=""/>
              </a:rPr>
              <a:t>p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6" name="" descr=""/>
          <p:cNvPicPr/>
          <p:nvPr/>
        </p:nvPicPr>
        <p:blipFill>
          <a:blip r:embed="rId1"/>
          <a:stretch/>
        </p:blipFill>
        <p:spPr>
          <a:xfrm>
            <a:off x="5283360" y="698400"/>
            <a:ext cx="2387520" cy="1148040"/>
          </a:xfrm>
          <a:prstGeom prst="rect">
            <a:avLst/>
          </a:prstGeom>
          <a:ln w="0">
            <a:noFill/>
          </a:ln>
        </p:spPr>
      </p:pic>
      <p:sp>
        <p:nvSpPr>
          <p:cNvPr id="2377" name=""/>
          <p:cNvSpPr/>
          <p:nvPr/>
        </p:nvSpPr>
        <p:spPr>
          <a:xfrm>
            <a:off x="533520" y="5715000"/>
            <a:ext cx="71625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TL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 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"/>
              </a:rPr>
              <a:t>pd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约在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10ns ~ 40ns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此值愈小愈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562720" y="2104920"/>
            <a:ext cx="2286000" cy="57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输入波形</a:t>
            </a:r>
            <a:r>
              <a:rPr b="1" i="1" lang="zh-CN" sz="2800" spc="-1" strike="noStrike">
                <a:solidFill>
                  <a:srgbClr val="3333cc"/>
                </a:solidFill>
                <a:latin typeface=""/>
              </a:rPr>
              <a:t>u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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562720" y="3809880"/>
            <a:ext cx="2286000" cy="56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输出波形</a:t>
            </a:r>
            <a:r>
              <a:rPr b="1" i="1" lang="zh-CN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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94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1"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02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10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3" presetSubtype="10"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314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31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4" presetSubtype="16"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1323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4" presetSubtype="32"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327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33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4" presetSubtype="16"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1336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4" presetSubtype="32"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340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45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50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3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态输出“与非”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533520" y="2523240"/>
            <a:ext cx="2434680" cy="3006720"/>
            <a:chOff x="533520" y="2523240"/>
            <a:chExt cx="2434680" cy="3006720"/>
          </a:xfrm>
        </p:grpSpPr>
        <p:sp>
          <p:nvSpPr>
            <p:cNvPr id="2382" name=""/>
            <p:cNvSpPr/>
            <p:nvPr/>
          </p:nvSpPr>
          <p:spPr>
            <a:xfrm>
              <a:off x="533520" y="2523240"/>
              <a:ext cx="2434680" cy="300672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当控制端为高电平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时，实现正常的“与非”逻辑关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=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•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624680" y="5262480"/>
              <a:ext cx="672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>
            <a:off x="3818520" y="464328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5" name=""/>
          <p:cNvGrpSpPr/>
          <p:nvPr/>
        </p:nvGrpSpPr>
        <p:grpSpPr>
          <a:xfrm>
            <a:off x="3505320" y="2357280"/>
            <a:ext cx="1904400" cy="3232080"/>
            <a:chOff x="3505320" y="2357280"/>
            <a:chExt cx="1904400" cy="3232080"/>
          </a:xfrm>
        </p:grpSpPr>
        <p:sp>
          <p:nvSpPr>
            <p:cNvPr id="2386" name=""/>
            <p:cNvSpPr/>
            <p:nvPr/>
          </p:nvSpPr>
          <p:spPr>
            <a:xfrm>
              <a:off x="3505320" y="50688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控制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7" name=""/>
            <p:cNvGrpSpPr/>
            <p:nvPr/>
          </p:nvGrpSpPr>
          <p:grpSpPr>
            <a:xfrm>
              <a:off x="3754800" y="2357280"/>
              <a:ext cx="1654920" cy="2440800"/>
              <a:chOff x="3754800" y="2357280"/>
              <a:chExt cx="1654920" cy="2440800"/>
            </a:xfrm>
          </p:grpSpPr>
          <p:sp>
            <p:nvSpPr>
              <p:cNvPr id="2388" name=""/>
              <p:cNvSpPr/>
              <p:nvPr/>
            </p:nvSpPr>
            <p:spPr>
              <a:xfrm>
                <a:off x="4097880" y="4109760"/>
                <a:ext cx="655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9" name=""/>
              <p:cNvGrpSpPr/>
              <p:nvPr/>
            </p:nvGrpSpPr>
            <p:grpSpPr>
              <a:xfrm>
                <a:off x="4753800" y="2662200"/>
                <a:ext cx="655920" cy="457200"/>
                <a:chOff x="4753800" y="2662200"/>
                <a:chExt cx="655920" cy="457200"/>
              </a:xfrm>
            </p:grpSpPr>
            <p:grpSp>
              <p:nvGrpSpPr>
                <p:cNvPr id="2390" name=""/>
                <p:cNvGrpSpPr/>
                <p:nvPr/>
              </p:nvGrpSpPr>
              <p:grpSpPr>
                <a:xfrm>
                  <a:off x="4899240" y="2662200"/>
                  <a:ext cx="291600" cy="457200"/>
                  <a:chOff x="4899240" y="2662200"/>
                  <a:chExt cx="291600" cy="457200"/>
                </a:xfrm>
              </p:grpSpPr>
              <p:sp>
                <p:nvSpPr>
                  <p:cNvPr id="2391" name=""/>
                  <p:cNvSpPr/>
                  <p:nvPr/>
                </p:nvSpPr>
                <p:spPr>
                  <a:xfrm>
                    <a:off x="4899240" y="266220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 flipV="1">
                    <a:off x="4899240" y="2727360"/>
                    <a:ext cx="291600" cy="19584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5190840" y="2727360"/>
                    <a:ext cx="0" cy="391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4899240" y="2923200"/>
                    <a:ext cx="291600" cy="19584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5" name=""/>
                <p:cNvSpPr/>
                <p:nvPr/>
              </p:nvSpPr>
              <p:spPr>
                <a:xfrm>
                  <a:off x="4753800" y="2923200"/>
                  <a:ext cx="6559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6" name=""/>
              <p:cNvSpPr/>
              <p:nvPr/>
            </p:nvSpPr>
            <p:spPr>
              <a:xfrm>
                <a:off x="4753800" y="2931840"/>
                <a:ext cx="0" cy="1181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750200" y="235728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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754800" y="4338360"/>
                <a:ext cx="34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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9" name=""/>
          <p:cNvSpPr/>
          <p:nvPr/>
        </p:nvSpPr>
        <p:spPr>
          <a:xfrm>
            <a:off x="914400" y="13669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990720" y="1062000"/>
            <a:ext cx="4886280" cy="171360"/>
            <a:chOff x="990720" y="1062000"/>
            <a:chExt cx="4886280" cy="171360"/>
          </a:xfrm>
        </p:grpSpPr>
        <p:pic>
          <p:nvPicPr>
            <p:cNvPr id="2401" name="" descr=""/>
            <p:cNvPicPr/>
            <p:nvPr/>
          </p:nvPicPr>
          <p:blipFill>
            <a:blip r:embed="rId2"/>
            <a:stretch/>
          </p:blipFill>
          <p:spPr>
            <a:xfrm>
              <a:off x="18957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2" name="" descr=""/>
            <p:cNvPicPr/>
            <p:nvPr/>
          </p:nvPicPr>
          <p:blipFill>
            <a:blip r:embed="rId3"/>
            <a:stretch/>
          </p:blipFill>
          <p:spPr>
            <a:xfrm>
              <a:off x="20386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3" name="" descr=""/>
            <p:cNvPicPr/>
            <p:nvPr/>
          </p:nvPicPr>
          <p:blipFill>
            <a:blip r:embed="rId4"/>
            <a:stretch/>
          </p:blipFill>
          <p:spPr>
            <a:xfrm>
              <a:off x="22006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4" name="" descr=""/>
            <p:cNvPicPr/>
            <p:nvPr/>
          </p:nvPicPr>
          <p:blipFill>
            <a:blip r:embed="rId5"/>
            <a:stretch/>
          </p:blipFill>
          <p:spPr>
            <a:xfrm>
              <a:off x="24958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5" name="" descr=""/>
            <p:cNvPicPr/>
            <p:nvPr/>
          </p:nvPicPr>
          <p:blipFill>
            <a:blip r:embed="rId6"/>
            <a:stretch/>
          </p:blipFill>
          <p:spPr>
            <a:xfrm>
              <a:off x="26578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6" name="" descr=""/>
            <p:cNvPicPr/>
            <p:nvPr/>
          </p:nvPicPr>
          <p:blipFill>
            <a:blip r:embed="rId7"/>
            <a:stretch/>
          </p:blipFill>
          <p:spPr>
            <a:xfrm>
              <a:off x="28101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7" name="" descr=""/>
            <p:cNvPicPr/>
            <p:nvPr/>
          </p:nvPicPr>
          <p:blipFill>
            <a:blip r:embed="rId8"/>
            <a:stretch/>
          </p:blipFill>
          <p:spPr>
            <a:xfrm>
              <a:off x="29530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8" name="" descr=""/>
            <p:cNvPicPr/>
            <p:nvPr/>
          </p:nvPicPr>
          <p:blipFill>
            <a:blip r:embed="rId9"/>
            <a:stretch/>
          </p:blipFill>
          <p:spPr>
            <a:xfrm>
              <a:off x="31150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10"/>
            <a:stretch/>
          </p:blipFill>
          <p:spPr>
            <a:xfrm>
              <a:off x="34102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0" name="" descr=""/>
            <p:cNvPicPr/>
            <p:nvPr/>
          </p:nvPicPr>
          <p:blipFill>
            <a:blip r:embed="rId11"/>
            <a:stretch/>
          </p:blipFill>
          <p:spPr>
            <a:xfrm>
              <a:off x="35722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1" name="" descr=""/>
            <p:cNvPicPr/>
            <p:nvPr/>
          </p:nvPicPr>
          <p:blipFill>
            <a:blip r:embed="rId12"/>
            <a:stretch/>
          </p:blipFill>
          <p:spPr>
            <a:xfrm>
              <a:off x="37245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2" name="" descr=""/>
            <p:cNvPicPr/>
            <p:nvPr/>
          </p:nvPicPr>
          <p:blipFill>
            <a:blip r:embed="rId13"/>
            <a:stretch/>
          </p:blipFill>
          <p:spPr>
            <a:xfrm>
              <a:off x="38674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3" name="" descr=""/>
            <p:cNvPicPr/>
            <p:nvPr/>
          </p:nvPicPr>
          <p:blipFill>
            <a:blip r:embed="rId14"/>
            <a:stretch/>
          </p:blipFill>
          <p:spPr>
            <a:xfrm>
              <a:off x="23529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4" name="" descr=""/>
            <p:cNvPicPr/>
            <p:nvPr/>
          </p:nvPicPr>
          <p:blipFill>
            <a:blip r:embed="rId15"/>
            <a:stretch/>
          </p:blipFill>
          <p:spPr>
            <a:xfrm>
              <a:off x="32673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5" name="" descr=""/>
            <p:cNvPicPr/>
            <p:nvPr/>
          </p:nvPicPr>
          <p:blipFill>
            <a:blip r:embed="rId16"/>
            <a:stretch/>
          </p:blipFill>
          <p:spPr>
            <a:xfrm>
              <a:off x="40294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6" name="" descr=""/>
            <p:cNvPicPr/>
            <p:nvPr/>
          </p:nvPicPr>
          <p:blipFill>
            <a:blip r:embed="rId17"/>
            <a:stretch/>
          </p:blipFill>
          <p:spPr>
            <a:xfrm>
              <a:off x="41817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18"/>
            <a:stretch/>
          </p:blipFill>
          <p:spPr>
            <a:xfrm>
              <a:off x="43246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9"/>
            <a:stretch/>
          </p:blipFill>
          <p:spPr>
            <a:xfrm>
              <a:off x="44866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20"/>
            <a:stretch/>
          </p:blipFill>
          <p:spPr>
            <a:xfrm>
              <a:off x="46389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0" name="" descr=""/>
            <p:cNvPicPr/>
            <p:nvPr/>
          </p:nvPicPr>
          <p:blipFill>
            <a:blip r:embed="rId21"/>
            <a:stretch/>
          </p:blipFill>
          <p:spPr>
            <a:xfrm>
              <a:off x="478188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1" name="" descr=""/>
            <p:cNvPicPr/>
            <p:nvPr/>
          </p:nvPicPr>
          <p:blipFill>
            <a:blip r:embed="rId22"/>
            <a:stretch/>
          </p:blipFill>
          <p:spPr>
            <a:xfrm>
              <a:off x="4943880" y="1071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2" name="" descr=""/>
            <p:cNvPicPr/>
            <p:nvPr/>
          </p:nvPicPr>
          <p:blipFill>
            <a:blip r:embed="rId23"/>
            <a:stretch/>
          </p:blipFill>
          <p:spPr>
            <a:xfrm>
              <a:off x="5096160" y="1071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3" name=""/>
            <p:cNvGrpSpPr/>
            <p:nvPr/>
          </p:nvGrpSpPr>
          <p:grpSpPr>
            <a:xfrm>
              <a:off x="990720" y="1062000"/>
              <a:ext cx="923760" cy="161640"/>
              <a:chOff x="990720" y="1062000"/>
              <a:chExt cx="923760" cy="161640"/>
            </a:xfrm>
          </p:grpSpPr>
          <p:pic>
            <p:nvPicPr>
              <p:cNvPr id="242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13364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295640" y="10620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6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44792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7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59084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8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752840" y="106200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106200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30" name="" descr=""/>
            <p:cNvPicPr/>
            <p:nvPr/>
          </p:nvPicPr>
          <p:blipFill>
            <a:blip r:embed="rId30"/>
            <a:stretch/>
          </p:blipFill>
          <p:spPr>
            <a:xfrm>
              <a:off x="5258160" y="1062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31"/>
            <a:stretch/>
          </p:blipFill>
          <p:spPr>
            <a:xfrm>
              <a:off x="5401080" y="10620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2" name="" descr=""/>
            <p:cNvPicPr/>
            <p:nvPr/>
          </p:nvPicPr>
          <p:blipFill>
            <a:blip r:embed="rId32"/>
            <a:stretch/>
          </p:blipFill>
          <p:spPr>
            <a:xfrm>
              <a:off x="5562720" y="10620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3" name="" descr=""/>
            <p:cNvPicPr/>
            <p:nvPr/>
          </p:nvPicPr>
          <p:blipFill>
            <a:blip r:embed="rId33"/>
            <a:stretch/>
          </p:blipFill>
          <p:spPr>
            <a:xfrm>
              <a:off x="5715360" y="106200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4" name=""/>
          <p:cNvGrpSpPr/>
          <p:nvPr/>
        </p:nvGrpSpPr>
        <p:grpSpPr>
          <a:xfrm>
            <a:off x="4750920" y="2357280"/>
            <a:ext cx="659160" cy="762120"/>
            <a:chOff x="4750920" y="2357280"/>
            <a:chExt cx="659160" cy="762120"/>
          </a:xfrm>
        </p:grpSpPr>
        <p:grpSp>
          <p:nvGrpSpPr>
            <p:cNvPr id="2435" name=""/>
            <p:cNvGrpSpPr/>
            <p:nvPr/>
          </p:nvGrpSpPr>
          <p:grpSpPr>
            <a:xfrm>
              <a:off x="4754520" y="2662200"/>
              <a:ext cx="655560" cy="457200"/>
              <a:chOff x="4754520" y="2662200"/>
              <a:chExt cx="655560" cy="457200"/>
            </a:xfrm>
          </p:grpSpPr>
          <p:grpSp>
            <p:nvGrpSpPr>
              <p:cNvPr id="2436" name=""/>
              <p:cNvGrpSpPr/>
              <p:nvPr/>
            </p:nvGrpSpPr>
            <p:grpSpPr>
              <a:xfrm>
                <a:off x="4899960" y="2662200"/>
                <a:ext cx="291240" cy="457200"/>
                <a:chOff x="4899960" y="2662200"/>
                <a:chExt cx="291240" cy="45720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4899960" y="26622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V="1">
                  <a:off x="4899960" y="2727360"/>
                  <a:ext cx="291240" cy="195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5191200" y="2727360"/>
                  <a:ext cx="0" cy="391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899960" y="2923200"/>
                  <a:ext cx="291240" cy="195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1" name=""/>
              <p:cNvSpPr/>
              <p:nvPr/>
            </p:nvSpPr>
            <p:spPr>
              <a:xfrm>
                <a:off x="4754520" y="2923200"/>
                <a:ext cx="655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4750920" y="235728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3048120" y="2052720"/>
            <a:ext cx="838080" cy="533160"/>
          </a:xfrm>
          <a:prstGeom prst="wedgeEllipseCallout">
            <a:avLst>
              <a:gd name="adj1" fmla="val 191097"/>
              <a:gd name="adj2" fmla="val 86606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2666880" y="1442880"/>
            <a:ext cx="6248520" cy="4267440"/>
            <a:chOff x="2666880" y="1442880"/>
            <a:chExt cx="6248520" cy="4267440"/>
          </a:xfrm>
        </p:grpSpPr>
        <p:sp>
          <p:nvSpPr>
            <p:cNvPr id="2445" name=""/>
            <p:cNvSpPr/>
            <p:nvPr/>
          </p:nvSpPr>
          <p:spPr>
            <a:xfrm>
              <a:off x="7815240" y="1552680"/>
              <a:ext cx="12708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08480" y="407520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050320" y="3556080"/>
              <a:ext cx="4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011560" y="4687920"/>
              <a:ext cx="76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4618080"/>
              <a:ext cx="71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666880" y="35002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674080" y="38815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256520" y="1987560"/>
              <a:ext cx="79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396040" y="209700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390920" y="2128680"/>
              <a:ext cx="52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56120" y="271152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43320" y="298440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19280" y="325584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970760" y="1442880"/>
              <a:ext cx="94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603600" y="2643120"/>
              <a:ext cx="84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335560" y="5710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338960" y="4551480"/>
              <a:ext cx="0" cy="95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51840" y="3460680"/>
              <a:ext cx="0" cy="6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829560" y="3967200"/>
              <a:ext cx="0" cy="63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857640" y="4029120"/>
              <a:ext cx="40644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858000" y="4390920"/>
              <a:ext cx="50976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4343400" y="1619280"/>
              <a:ext cx="350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24760" y="261468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8" name=""/>
            <p:cNvGrpSpPr/>
            <p:nvPr/>
          </p:nvGrpSpPr>
          <p:grpSpPr>
            <a:xfrm>
              <a:off x="3679560" y="3119040"/>
              <a:ext cx="947520" cy="384120"/>
              <a:chOff x="3679560" y="3119040"/>
              <a:chExt cx="947520" cy="384120"/>
            </a:xfrm>
          </p:grpSpPr>
          <p:sp>
            <p:nvSpPr>
              <p:cNvPr id="2469" name=""/>
              <p:cNvSpPr/>
              <p:nvPr/>
            </p:nvSpPr>
            <p:spPr>
              <a:xfrm flipH="1">
                <a:off x="3774600" y="3119400"/>
                <a:ext cx="8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flipV="1">
                <a:off x="4437360" y="3119040"/>
                <a:ext cx="18900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4060080" y="3120840"/>
                <a:ext cx="18972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3869280" y="3119400"/>
                <a:ext cx="18900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3679560" y="3119400"/>
                <a:ext cx="18972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4633920" y="3051000"/>
              <a:ext cx="874440" cy="807840"/>
              <a:chOff x="4633920" y="3051000"/>
              <a:chExt cx="874440" cy="807840"/>
            </a:xfrm>
          </p:grpSpPr>
          <p:sp>
            <p:nvSpPr>
              <p:cNvPr id="2475" name=""/>
              <p:cNvSpPr/>
              <p:nvPr/>
            </p:nvSpPr>
            <p:spPr>
              <a:xfrm>
                <a:off x="5022360" y="3051000"/>
                <a:ext cx="0" cy="80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022360" y="3166560"/>
                <a:ext cx="388800" cy="2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022360" y="3627720"/>
                <a:ext cx="486000" cy="23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633920" y="3512520"/>
                <a:ext cx="38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9" name=""/>
            <p:cNvSpPr/>
            <p:nvPr/>
          </p:nvSpPr>
          <p:spPr>
            <a:xfrm>
              <a:off x="6729480" y="277956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6729480" y="2916360"/>
              <a:ext cx="45720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29480" y="3267000"/>
              <a:ext cx="530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303960" y="316872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276800" y="2097000"/>
              <a:ext cx="13500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356000" y="162072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389560" y="162072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5389560" y="2575080"/>
              <a:ext cx="6480" cy="61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468760" y="380196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504120" y="3187800"/>
              <a:ext cx="0" cy="138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194600" y="1620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194600" y="238284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459400" y="5505480"/>
              <a:ext cx="19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854680" y="253512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5854320" y="2604960"/>
              <a:ext cx="4222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854680" y="2994120"/>
              <a:ext cx="52848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259760" y="3733920"/>
              <a:ext cx="63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894800" y="3665520"/>
              <a:ext cx="12672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7" name=""/>
            <p:cNvGrpSpPr/>
            <p:nvPr/>
          </p:nvGrpSpPr>
          <p:grpSpPr>
            <a:xfrm>
              <a:off x="3241800" y="3500280"/>
              <a:ext cx="436320" cy="301680"/>
              <a:chOff x="3241800" y="3500280"/>
              <a:chExt cx="436320" cy="301680"/>
            </a:xfrm>
          </p:grpSpPr>
          <p:sp>
            <p:nvSpPr>
              <p:cNvPr id="2498" name=""/>
              <p:cNvSpPr/>
              <p:nvPr/>
            </p:nvSpPr>
            <p:spPr>
              <a:xfrm>
                <a:off x="3678120" y="3500280"/>
                <a:ext cx="0" cy="30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3241800" y="38019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3206880" y="3463920"/>
              <a:ext cx="676080" cy="572760"/>
              <a:chOff x="3206880" y="3463920"/>
              <a:chExt cx="676080" cy="572760"/>
            </a:xfrm>
          </p:grpSpPr>
          <p:sp>
            <p:nvSpPr>
              <p:cNvPr id="2501" name=""/>
              <p:cNvSpPr/>
              <p:nvPr/>
            </p:nvSpPr>
            <p:spPr>
              <a:xfrm>
                <a:off x="3882960" y="3463920"/>
                <a:ext cx="0" cy="57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3206880" y="4036680"/>
                <a:ext cx="67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5465880" y="550548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097080" y="3728880"/>
              <a:ext cx="127080" cy="136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097080" y="3957480"/>
              <a:ext cx="127080" cy="135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032360" y="4491000"/>
              <a:ext cx="125280" cy="136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364000" y="2881440"/>
              <a:ext cx="651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89640" y="4311720"/>
              <a:ext cx="13428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410080" y="2916360"/>
              <a:ext cx="44784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4348080" y="2506680"/>
              <a:ext cx="0" cy="612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332320" y="2165400"/>
              <a:ext cx="13356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396040" y="4619520"/>
              <a:ext cx="134640" cy="39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5467320" y="5028840"/>
              <a:ext cx="0" cy="4762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434280" y="4551480"/>
              <a:ext cx="134640" cy="390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2040" y="4960800"/>
              <a:ext cx="0" cy="5446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122960" y="1994040"/>
              <a:ext cx="135000" cy="390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103640" y="3463920"/>
              <a:ext cx="0" cy="102708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357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62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9"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1367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5" presetSubtype="5"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base">
                                        <p:cTn id="1372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4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376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381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3.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态输出“与非”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589920" y="457200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0" name=""/>
          <p:cNvGrpSpPr/>
          <p:nvPr/>
        </p:nvGrpSpPr>
        <p:grpSpPr>
          <a:xfrm>
            <a:off x="2438280" y="1371600"/>
            <a:ext cx="6248160" cy="4267080"/>
            <a:chOff x="2438280" y="1371600"/>
            <a:chExt cx="6248160" cy="4267080"/>
          </a:xfrm>
        </p:grpSpPr>
        <p:grpSp>
          <p:nvGrpSpPr>
            <p:cNvPr id="2521" name=""/>
            <p:cNvGrpSpPr/>
            <p:nvPr/>
          </p:nvGrpSpPr>
          <p:grpSpPr>
            <a:xfrm>
              <a:off x="3276720" y="2286000"/>
              <a:ext cx="1904400" cy="3232080"/>
              <a:chOff x="3276720" y="2286000"/>
              <a:chExt cx="1904400" cy="3232080"/>
            </a:xfrm>
          </p:grpSpPr>
          <p:sp>
            <p:nvSpPr>
              <p:cNvPr id="2522" name=""/>
              <p:cNvSpPr/>
              <p:nvPr/>
            </p:nvSpPr>
            <p:spPr>
              <a:xfrm>
                <a:off x="3276720" y="499752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控制端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3" name=""/>
              <p:cNvGrpSpPr/>
              <p:nvPr/>
            </p:nvGrpSpPr>
            <p:grpSpPr>
              <a:xfrm>
                <a:off x="3526200" y="2286000"/>
                <a:ext cx="1654920" cy="2440800"/>
                <a:chOff x="3526200" y="2286000"/>
                <a:chExt cx="1654920" cy="244080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3869280" y="4038480"/>
                  <a:ext cx="6559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5" name=""/>
                <p:cNvGrpSpPr/>
                <p:nvPr/>
              </p:nvGrpSpPr>
              <p:grpSpPr>
                <a:xfrm>
                  <a:off x="4525200" y="2590920"/>
                  <a:ext cx="655920" cy="457200"/>
                  <a:chOff x="4525200" y="2590920"/>
                  <a:chExt cx="655920" cy="457200"/>
                </a:xfrm>
              </p:grpSpPr>
              <p:grpSp>
                <p:nvGrpSpPr>
                  <p:cNvPr id="2526" name=""/>
                  <p:cNvGrpSpPr/>
                  <p:nvPr/>
                </p:nvGrpSpPr>
                <p:grpSpPr>
                  <a:xfrm>
                    <a:off x="4670640" y="2590920"/>
                    <a:ext cx="291600" cy="457200"/>
                    <a:chOff x="4670640" y="2590920"/>
                    <a:chExt cx="291600" cy="457200"/>
                  </a:xfrm>
                </p:grpSpPr>
                <p:sp>
                  <p:nvSpPr>
                    <p:cNvPr id="2527" name=""/>
                    <p:cNvSpPr/>
                    <p:nvPr/>
                  </p:nvSpPr>
                  <p:spPr>
                    <a:xfrm>
                      <a:off x="4670640" y="2590920"/>
                      <a:ext cx="0" cy="45720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8" name=""/>
                    <p:cNvSpPr/>
                    <p:nvPr/>
                  </p:nvSpPr>
                  <p:spPr>
                    <a:xfrm flipV="1">
                      <a:off x="4670640" y="2656080"/>
                      <a:ext cx="291600" cy="1958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9" name=""/>
                    <p:cNvSpPr/>
                    <p:nvPr/>
                  </p:nvSpPr>
                  <p:spPr>
                    <a:xfrm>
                      <a:off x="4962240" y="2656080"/>
                      <a:ext cx="0" cy="391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/>
                    <p:nvPr/>
                  </p:nvSpPr>
                  <p:spPr>
                    <a:xfrm>
                      <a:off x="4670640" y="2851920"/>
                      <a:ext cx="291600" cy="1958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1" name=""/>
                  <p:cNvSpPr/>
                  <p:nvPr/>
                </p:nvSpPr>
                <p:spPr>
                  <a:xfrm>
                    <a:off x="4525200" y="2851920"/>
                    <a:ext cx="6559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2" name=""/>
                <p:cNvSpPr/>
                <p:nvPr/>
              </p:nvSpPr>
              <p:spPr>
                <a:xfrm>
                  <a:off x="4525200" y="2860560"/>
                  <a:ext cx="0" cy="118116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4521600" y="2286000"/>
                  <a:ext cx="56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"/>
                    </a:rPr>
                    <a:t>  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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3526200" y="4267080"/>
                  <a:ext cx="34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5" name=""/>
            <p:cNvGrpSpPr/>
            <p:nvPr/>
          </p:nvGrpSpPr>
          <p:grpSpPr>
            <a:xfrm>
              <a:off x="2438280" y="1371600"/>
              <a:ext cx="6248160" cy="4267080"/>
              <a:chOff x="2438280" y="1371600"/>
              <a:chExt cx="6248160" cy="4267080"/>
            </a:xfrm>
          </p:grpSpPr>
          <p:sp>
            <p:nvSpPr>
              <p:cNvPr id="2536" name=""/>
              <p:cNvSpPr/>
              <p:nvPr/>
            </p:nvSpPr>
            <p:spPr>
              <a:xfrm>
                <a:off x="7587000" y="1481040"/>
                <a:ext cx="127080" cy="13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779520" y="400356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821720" y="3484440"/>
                <a:ext cx="47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782960" y="4616280"/>
                <a:ext cx="76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319440" y="4546440"/>
                <a:ext cx="714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438280" y="3429000"/>
                <a:ext cx="4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445480" y="380988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027200" y="1916280"/>
                <a:ext cx="794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167080" y="2025720"/>
                <a:ext cx="646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4161960" y="2057400"/>
                <a:ext cx="52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627520" y="263988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714360" y="2913120"/>
                <a:ext cx="61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989600" y="3184560"/>
                <a:ext cx="45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742160" y="1371600"/>
                <a:ext cx="94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+5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374640" y="2571840"/>
                <a:ext cx="84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106240" y="5638680"/>
                <a:ext cx="31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109640" y="4479840"/>
                <a:ext cx="0" cy="95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022520" y="3389400"/>
                <a:ext cx="0" cy="61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600960" y="3867120"/>
                <a:ext cx="0" cy="63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H="1">
                <a:off x="6600960" y="3957480"/>
                <a:ext cx="4068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00960" y="4319640"/>
                <a:ext cx="50832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H="1">
                <a:off x="4100040" y="1547640"/>
                <a:ext cx="350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996160" y="2571840"/>
                <a:ext cx="95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9" name=""/>
              <p:cNvGrpSpPr/>
              <p:nvPr/>
            </p:nvGrpSpPr>
            <p:grpSpPr>
              <a:xfrm>
                <a:off x="3450960" y="3047760"/>
                <a:ext cx="946440" cy="384120"/>
                <a:chOff x="3450960" y="3047760"/>
                <a:chExt cx="946440" cy="384120"/>
              </a:xfrm>
            </p:grpSpPr>
            <p:sp>
              <p:nvSpPr>
                <p:cNvPr id="2560" name=""/>
                <p:cNvSpPr/>
                <p:nvPr/>
              </p:nvSpPr>
              <p:spPr>
                <a:xfrm flipH="1">
                  <a:off x="3545280" y="3048120"/>
                  <a:ext cx="852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 flipV="1">
                  <a:off x="4208400" y="3047760"/>
                  <a:ext cx="18900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>
                  <a:off x="3831480" y="3049560"/>
                  <a:ext cx="189360" cy="38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H="1">
                  <a:off x="3639960" y="3048120"/>
                  <a:ext cx="18900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3450960" y="3048120"/>
                  <a:ext cx="189360" cy="3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4405680" y="2979720"/>
                <a:ext cx="873360" cy="807840"/>
                <a:chOff x="4405680" y="2979720"/>
                <a:chExt cx="873360" cy="80784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4793400" y="2979720"/>
                  <a:ext cx="0" cy="8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4793400" y="3095280"/>
                  <a:ext cx="38808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4793400" y="3556440"/>
                  <a:ext cx="485640" cy="231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4405680" y="3441240"/>
                  <a:ext cx="38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0" name=""/>
              <p:cNvSpPr/>
              <p:nvPr/>
            </p:nvSpPr>
            <p:spPr>
              <a:xfrm>
                <a:off x="6500520" y="2708280"/>
                <a:ext cx="0" cy="68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6500520" y="2844720"/>
                <a:ext cx="45792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500520" y="3195720"/>
                <a:ext cx="5295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075720" y="3097080"/>
                <a:ext cx="4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048200" y="202572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127400" y="154944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161320" y="1549440"/>
                <a:ext cx="0" cy="55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H="1">
                <a:off x="5161320" y="2503440"/>
                <a:ext cx="5760" cy="61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240520" y="37306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274800" y="3116160"/>
                <a:ext cx="0" cy="138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966000" y="154944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966000" y="2311560"/>
                <a:ext cx="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230440" y="5433840"/>
                <a:ext cx="190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625360" y="2435400"/>
                <a:ext cx="0" cy="68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>
                <a:off x="5625360" y="2533680"/>
                <a:ext cx="4233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625360" y="2922480"/>
                <a:ext cx="52956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030080" y="3662280"/>
                <a:ext cx="63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666200" y="3594240"/>
                <a:ext cx="12672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8" name=""/>
              <p:cNvGrpSpPr/>
              <p:nvPr/>
            </p:nvGrpSpPr>
            <p:grpSpPr>
              <a:xfrm>
                <a:off x="3012480" y="3429000"/>
                <a:ext cx="437040" cy="301680"/>
                <a:chOff x="3012480" y="3429000"/>
                <a:chExt cx="437040" cy="30168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3449520" y="3429000"/>
                  <a:ext cx="0" cy="301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3012480" y="3730680"/>
                  <a:ext cx="437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2978280" y="3392640"/>
                <a:ext cx="676080" cy="572400"/>
                <a:chOff x="2978280" y="3392640"/>
                <a:chExt cx="676080" cy="57240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3654360" y="3392640"/>
                  <a:ext cx="0" cy="572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H="1">
                  <a:off x="2978280" y="3965040"/>
                  <a:ext cx="67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4" name=""/>
              <p:cNvSpPr/>
              <p:nvPr/>
            </p:nvSpPr>
            <p:spPr>
              <a:xfrm>
                <a:off x="5237640" y="5433840"/>
                <a:ext cx="0" cy="2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869200" y="3657600"/>
                <a:ext cx="12528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869200" y="3886200"/>
                <a:ext cx="125280" cy="135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802680" y="4419720"/>
                <a:ext cx="12528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136120" y="2809800"/>
                <a:ext cx="6408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260320" y="4240080"/>
                <a:ext cx="13435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230440" y="4206960"/>
                <a:ext cx="42840" cy="460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167080" y="2844720"/>
                <a:ext cx="447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4120200" y="2435400"/>
                <a:ext cx="0" cy="612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103000" y="209376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167080" y="454824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5239080" y="4957920"/>
                <a:ext cx="0" cy="4759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206040" y="447984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283440" y="4889520"/>
                <a:ext cx="0" cy="5443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894000" y="1922400"/>
                <a:ext cx="134640" cy="39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266080" y="24382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874320" y="3392640"/>
                <a:ext cx="0" cy="10270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1" name=""/>
          <p:cNvSpPr/>
          <p:nvPr/>
        </p:nvSpPr>
        <p:spPr>
          <a:xfrm>
            <a:off x="762120" y="1219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3962520" y="1600200"/>
            <a:ext cx="1218960" cy="2362320"/>
            <a:chOff x="3962520" y="1600200"/>
            <a:chExt cx="1218960" cy="2362320"/>
          </a:xfrm>
        </p:grpSpPr>
        <p:sp>
          <p:nvSpPr>
            <p:cNvPr id="2613" name=""/>
            <p:cNvSpPr/>
            <p:nvPr/>
          </p:nvSpPr>
          <p:spPr>
            <a:xfrm>
              <a:off x="4190760" y="1676520"/>
              <a:ext cx="0" cy="13716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3962520" y="3048120"/>
              <a:ext cx="228240" cy="4572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62520" y="3505320"/>
              <a:ext cx="0" cy="4572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181480" y="1600200"/>
              <a:ext cx="0" cy="121932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571640" y="2819520"/>
              <a:ext cx="60948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571640" y="2819520"/>
              <a:ext cx="0" cy="11430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9" name=""/>
          <p:cNvSpPr/>
          <p:nvPr/>
        </p:nvSpPr>
        <p:spPr>
          <a:xfrm>
            <a:off x="2819520" y="1981080"/>
            <a:ext cx="838080" cy="533520"/>
          </a:xfrm>
          <a:prstGeom prst="wedgeEllipseCallout">
            <a:avLst>
              <a:gd name="adj1" fmla="val 168370"/>
              <a:gd name="adj2" fmla="val 97319"/>
            </a:avLst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4038480" y="2438280"/>
            <a:ext cx="1621800" cy="612360"/>
            <a:chOff x="4038480" y="2438280"/>
            <a:chExt cx="1621800" cy="612360"/>
          </a:xfrm>
        </p:grpSpPr>
        <p:sp>
          <p:nvSpPr>
            <p:cNvPr id="2621" name=""/>
            <p:cNvSpPr/>
            <p:nvPr/>
          </p:nvSpPr>
          <p:spPr>
            <a:xfrm>
              <a:off x="4038480" y="2590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107680" y="2438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3" name=""/>
          <p:cNvSpPr/>
          <p:nvPr/>
        </p:nvSpPr>
        <p:spPr>
          <a:xfrm>
            <a:off x="228600" y="2617560"/>
            <a:ext cx="2511360" cy="23619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当控制端为低电平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输出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处于开路状态，也称为高阻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838080" y="990720"/>
            <a:ext cx="4886280" cy="171360"/>
            <a:chOff x="838080" y="990720"/>
            <a:chExt cx="4886280" cy="171360"/>
          </a:xfrm>
        </p:grpSpPr>
        <p:pic>
          <p:nvPicPr>
            <p:cNvPr id="2625" name="" descr=""/>
            <p:cNvPicPr/>
            <p:nvPr/>
          </p:nvPicPr>
          <p:blipFill>
            <a:blip r:embed="rId2"/>
            <a:stretch/>
          </p:blipFill>
          <p:spPr>
            <a:xfrm>
              <a:off x="1743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6" name="" descr=""/>
            <p:cNvPicPr/>
            <p:nvPr/>
          </p:nvPicPr>
          <p:blipFill>
            <a:blip r:embed="rId3"/>
            <a:stretch/>
          </p:blipFill>
          <p:spPr>
            <a:xfrm>
              <a:off x="1886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7" name="" descr=""/>
            <p:cNvPicPr/>
            <p:nvPr/>
          </p:nvPicPr>
          <p:blipFill>
            <a:blip r:embed="rId4"/>
            <a:stretch/>
          </p:blipFill>
          <p:spPr>
            <a:xfrm>
              <a:off x="2048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8" name="" descr=""/>
            <p:cNvPicPr/>
            <p:nvPr/>
          </p:nvPicPr>
          <p:blipFill>
            <a:blip r:embed="rId5"/>
            <a:stretch/>
          </p:blipFill>
          <p:spPr>
            <a:xfrm>
              <a:off x="2343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9" name="" descr=""/>
            <p:cNvPicPr/>
            <p:nvPr/>
          </p:nvPicPr>
          <p:blipFill>
            <a:blip r:embed="rId6"/>
            <a:stretch/>
          </p:blipFill>
          <p:spPr>
            <a:xfrm>
              <a:off x="2505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0" name="" descr=""/>
            <p:cNvPicPr/>
            <p:nvPr/>
          </p:nvPicPr>
          <p:blipFill>
            <a:blip r:embed="rId7"/>
            <a:stretch/>
          </p:blipFill>
          <p:spPr>
            <a:xfrm>
              <a:off x="2657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1" name="" descr=""/>
            <p:cNvPicPr/>
            <p:nvPr/>
          </p:nvPicPr>
          <p:blipFill>
            <a:blip r:embed="rId8"/>
            <a:stretch/>
          </p:blipFill>
          <p:spPr>
            <a:xfrm>
              <a:off x="2800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2" name="" descr=""/>
            <p:cNvPicPr/>
            <p:nvPr/>
          </p:nvPicPr>
          <p:blipFill>
            <a:blip r:embed="rId9"/>
            <a:stretch/>
          </p:blipFill>
          <p:spPr>
            <a:xfrm>
              <a:off x="29624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3" name="" descr=""/>
            <p:cNvPicPr/>
            <p:nvPr/>
          </p:nvPicPr>
          <p:blipFill>
            <a:blip r:embed="rId10"/>
            <a:stretch/>
          </p:blipFill>
          <p:spPr>
            <a:xfrm>
              <a:off x="3257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4" name="" descr=""/>
            <p:cNvPicPr/>
            <p:nvPr/>
          </p:nvPicPr>
          <p:blipFill>
            <a:blip r:embed="rId11"/>
            <a:stretch/>
          </p:blipFill>
          <p:spPr>
            <a:xfrm>
              <a:off x="3419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5" name="" descr=""/>
            <p:cNvPicPr/>
            <p:nvPr/>
          </p:nvPicPr>
          <p:blipFill>
            <a:blip r:embed="rId12"/>
            <a:stretch/>
          </p:blipFill>
          <p:spPr>
            <a:xfrm>
              <a:off x="3571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6" name="" descr=""/>
            <p:cNvPicPr/>
            <p:nvPr/>
          </p:nvPicPr>
          <p:blipFill>
            <a:blip r:embed="rId13"/>
            <a:stretch/>
          </p:blipFill>
          <p:spPr>
            <a:xfrm>
              <a:off x="3714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7" name="" descr=""/>
            <p:cNvPicPr/>
            <p:nvPr/>
          </p:nvPicPr>
          <p:blipFill>
            <a:blip r:embed="rId14"/>
            <a:stretch/>
          </p:blipFill>
          <p:spPr>
            <a:xfrm>
              <a:off x="2200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8" name="" descr=""/>
            <p:cNvPicPr/>
            <p:nvPr/>
          </p:nvPicPr>
          <p:blipFill>
            <a:blip r:embed="rId15"/>
            <a:stretch/>
          </p:blipFill>
          <p:spPr>
            <a:xfrm>
              <a:off x="3114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9" name="" descr=""/>
            <p:cNvPicPr/>
            <p:nvPr/>
          </p:nvPicPr>
          <p:blipFill>
            <a:blip r:embed="rId16"/>
            <a:stretch/>
          </p:blipFill>
          <p:spPr>
            <a:xfrm>
              <a:off x="3876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0" name="" descr=""/>
            <p:cNvPicPr/>
            <p:nvPr/>
          </p:nvPicPr>
          <p:blipFill>
            <a:blip r:embed="rId17"/>
            <a:stretch/>
          </p:blipFill>
          <p:spPr>
            <a:xfrm>
              <a:off x="4029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1" name="" descr=""/>
            <p:cNvPicPr/>
            <p:nvPr/>
          </p:nvPicPr>
          <p:blipFill>
            <a:blip r:embed="rId18"/>
            <a:stretch/>
          </p:blipFill>
          <p:spPr>
            <a:xfrm>
              <a:off x="4172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2" name="" descr=""/>
            <p:cNvPicPr/>
            <p:nvPr/>
          </p:nvPicPr>
          <p:blipFill>
            <a:blip r:embed="rId19"/>
            <a:stretch/>
          </p:blipFill>
          <p:spPr>
            <a:xfrm>
              <a:off x="4334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3" name="" descr=""/>
            <p:cNvPicPr/>
            <p:nvPr/>
          </p:nvPicPr>
          <p:blipFill>
            <a:blip r:embed="rId20"/>
            <a:stretch/>
          </p:blipFill>
          <p:spPr>
            <a:xfrm>
              <a:off x="4486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4" name="" descr=""/>
            <p:cNvPicPr/>
            <p:nvPr/>
          </p:nvPicPr>
          <p:blipFill>
            <a:blip r:embed="rId21"/>
            <a:stretch/>
          </p:blipFill>
          <p:spPr>
            <a:xfrm>
              <a:off x="4629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5" name="" descr=""/>
            <p:cNvPicPr/>
            <p:nvPr/>
          </p:nvPicPr>
          <p:blipFill>
            <a:blip r:embed="rId22"/>
            <a:stretch/>
          </p:blipFill>
          <p:spPr>
            <a:xfrm>
              <a:off x="4791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6" name="" descr=""/>
            <p:cNvPicPr/>
            <p:nvPr/>
          </p:nvPicPr>
          <p:blipFill>
            <a:blip r:embed="rId23"/>
            <a:stretch/>
          </p:blipFill>
          <p:spPr>
            <a:xfrm>
              <a:off x="4943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7" name=""/>
            <p:cNvGrpSpPr/>
            <p:nvPr/>
          </p:nvGrpSpPr>
          <p:grpSpPr>
            <a:xfrm>
              <a:off x="838080" y="990720"/>
              <a:ext cx="923760" cy="161640"/>
              <a:chOff x="838080" y="990720"/>
              <a:chExt cx="923760" cy="161640"/>
            </a:xfrm>
          </p:grpSpPr>
          <p:pic>
            <p:nvPicPr>
              <p:cNvPr id="264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9810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1430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2952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4382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2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6002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380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4" name="" descr=""/>
            <p:cNvPicPr/>
            <p:nvPr/>
          </p:nvPicPr>
          <p:blipFill>
            <a:blip r:embed="rId30"/>
            <a:stretch/>
          </p:blipFill>
          <p:spPr>
            <a:xfrm>
              <a:off x="51055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5" name="" descr=""/>
            <p:cNvPicPr/>
            <p:nvPr/>
          </p:nvPicPr>
          <p:blipFill>
            <a:blip r:embed="rId31"/>
            <a:stretch/>
          </p:blipFill>
          <p:spPr>
            <a:xfrm>
              <a:off x="52484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6" name="" descr=""/>
            <p:cNvPicPr/>
            <p:nvPr/>
          </p:nvPicPr>
          <p:blipFill>
            <a:blip r:embed="rId32"/>
            <a:stretch/>
          </p:blipFill>
          <p:spPr>
            <a:xfrm>
              <a:off x="54100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7" name="" descr=""/>
            <p:cNvPicPr/>
            <p:nvPr/>
          </p:nvPicPr>
          <p:blipFill>
            <a:blip r:embed="rId33"/>
            <a:stretch/>
          </p:blipFill>
          <p:spPr>
            <a:xfrm>
              <a:off x="55627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8" name=""/>
          <p:cNvGrpSpPr/>
          <p:nvPr/>
        </p:nvGrpSpPr>
        <p:grpSpPr>
          <a:xfrm>
            <a:off x="4405320" y="2708280"/>
            <a:ext cx="2705040" cy="1792440"/>
            <a:chOff x="4405320" y="2708280"/>
            <a:chExt cx="2705040" cy="1792440"/>
          </a:xfrm>
        </p:grpSpPr>
        <p:grpSp>
          <p:nvGrpSpPr>
            <p:cNvPr id="2659" name=""/>
            <p:cNvGrpSpPr/>
            <p:nvPr/>
          </p:nvGrpSpPr>
          <p:grpSpPr>
            <a:xfrm>
              <a:off x="4405320" y="2979720"/>
              <a:ext cx="874440" cy="807840"/>
              <a:chOff x="4405320" y="2979720"/>
              <a:chExt cx="874440" cy="807840"/>
            </a:xfrm>
          </p:grpSpPr>
          <p:sp>
            <p:nvSpPr>
              <p:cNvPr id="2660" name=""/>
              <p:cNvSpPr/>
              <p:nvPr/>
            </p:nvSpPr>
            <p:spPr>
              <a:xfrm>
                <a:off x="4793760" y="2979720"/>
                <a:ext cx="0" cy="80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4793760" y="3095280"/>
                <a:ext cx="388800" cy="230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4793760" y="3556440"/>
                <a:ext cx="486000" cy="231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4405320" y="3441240"/>
                <a:ext cx="388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4" name=""/>
            <p:cNvSpPr/>
            <p:nvPr/>
          </p:nvSpPr>
          <p:spPr>
            <a:xfrm>
              <a:off x="6500880" y="2708280"/>
              <a:ext cx="0" cy="68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>
              <a:off x="6500880" y="2844720"/>
              <a:ext cx="457200" cy="15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500880" y="3195720"/>
              <a:ext cx="530280" cy="19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172200" y="3097080"/>
              <a:ext cx="328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8" name=""/>
            <p:cNvGrpSpPr/>
            <p:nvPr/>
          </p:nvGrpSpPr>
          <p:grpSpPr>
            <a:xfrm>
              <a:off x="6172200" y="3867120"/>
              <a:ext cx="938160" cy="633600"/>
              <a:chOff x="6172200" y="3867120"/>
              <a:chExt cx="938160" cy="633600"/>
            </a:xfrm>
          </p:grpSpPr>
          <p:sp>
            <p:nvSpPr>
              <p:cNvPr id="2669" name=""/>
              <p:cNvSpPr/>
              <p:nvPr/>
            </p:nvSpPr>
            <p:spPr>
              <a:xfrm>
                <a:off x="6600960" y="3867120"/>
                <a:ext cx="0" cy="633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6600600" y="3957480"/>
                <a:ext cx="406440" cy="18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600960" y="4319640"/>
                <a:ext cx="509400" cy="18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172200" y="424008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1388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" presetSubtype="5"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base">
                                        <p:cTn id="1393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398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0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08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413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3" name=""/>
          <p:cNvGrpSpPr/>
          <p:nvPr/>
        </p:nvGrpSpPr>
        <p:grpSpPr>
          <a:xfrm>
            <a:off x="999360" y="1523880"/>
            <a:ext cx="3420360" cy="2044440"/>
            <a:chOff x="999360" y="1523880"/>
            <a:chExt cx="3420360" cy="2044440"/>
          </a:xfrm>
        </p:grpSpPr>
        <p:sp>
          <p:nvSpPr>
            <p:cNvPr id="2674" name=""/>
            <p:cNvSpPr/>
            <p:nvPr/>
          </p:nvSpPr>
          <p:spPr>
            <a:xfrm>
              <a:off x="2209680" y="1523880"/>
              <a:ext cx="1143000" cy="152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5" name=""/>
            <p:cNvGrpSpPr/>
            <p:nvPr/>
          </p:nvGrpSpPr>
          <p:grpSpPr>
            <a:xfrm>
              <a:off x="1600200" y="1904760"/>
              <a:ext cx="609480" cy="914400"/>
              <a:chOff x="1600200" y="1904760"/>
              <a:chExt cx="609480" cy="914400"/>
            </a:xfrm>
          </p:grpSpPr>
          <p:sp>
            <p:nvSpPr>
              <p:cNvPr id="2676" name=""/>
              <p:cNvSpPr/>
              <p:nvPr/>
            </p:nvSpPr>
            <p:spPr>
              <a:xfrm>
                <a:off x="1600200" y="1904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600200" y="23619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600200" y="2819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9" name=""/>
            <p:cNvSpPr/>
            <p:nvPr/>
          </p:nvSpPr>
          <p:spPr>
            <a:xfrm>
              <a:off x="1447920" y="182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447920" y="2286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447920" y="27432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52680" y="2209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505320" y="2286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514600" y="15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96252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014480" y="25621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00800" y="21049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999360" y="16477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905120" y="30477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0860000">
              <a:off x="2971440" y="21326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09680" y="251460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2" name=""/>
          <p:cNvSpPr/>
          <p:nvPr/>
        </p:nvSpPr>
        <p:spPr>
          <a:xfrm>
            <a:off x="5105520" y="2590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0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高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5095080" y="3124080"/>
            <a:ext cx="2757600" cy="1968480"/>
            <a:chOff x="5095080" y="3124080"/>
            <a:chExt cx="2757600" cy="1968480"/>
          </a:xfrm>
        </p:grpSpPr>
        <p:sp>
          <p:nvSpPr>
            <p:cNvPr id="2694" name=""/>
            <p:cNvSpPr/>
            <p:nvPr/>
          </p:nvSpPr>
          <p:spPr>
            <a:xfrm>
              <a:off x="5181480" y="312408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095080" y="3628800"/>
              <a:ext cx="27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       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096880" y="4086000"/>
              <a:ext cx="26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   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096880" y="4572000"/>
              <a:ext cx="26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r>
                <a:rPr b="1" lang="en-US" sz="2800" spc="-1" strike="noStrike">
                  <a:solidFill>
                    <a:srgbClr val="ff3399"/>
                  </a:solidFill>
                  <a:latin typeface=""/>
                </a:rPr>
                <a:t>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>
            <a:off x="5173560" y="54403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任意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762120" y="533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3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态输出“与非”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4419720" y="1523880"/>
            <a:ext cx="4343400" cy="3659040"/>
            <a:chOff x="4419720" y="1523880"/>
            <a:chExt cx="4343400" cy="3659040"/>
          </a:xfrm>
        </p:grpSpPr>
        <p:sp>
          <p:nvSpPr>
            <p:cNvPr id="2701" name=""/>
            <p:cNvSpPr/>
            <p:nvPr/>
          </p:nvSpPr>
          <p:spPr>
            <a:xfrm flipH="1">
              <a:off x="5095800" y="2610720"/>
              <a:ext cx="2590200" cy="4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103720" y="2057400"/>
              <a:ext cx="2592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3" name=""/>
            <p:cNvGrpSpPr/>
            <p:nvPr/>
          </p:nvGrpSpPr>
          <p:grpSpPr>
            <a:xfrm>
              <a:off x="4419720" y="1523880"/>
              <a:ext cx="4343400" cy="3659040"/>
              <a:chOff x="4419720" y="1523880"/>
              <a:chExt cx="4343400" cy="3659040"/>
            </a:xfrm>
          </p:grpSpPr>
          <p:sp>
            <p:nvSpPr>
              <p:cNvPr id="2704" name=""/>
              <p:cNvSpPr/>
              <p:nvPr/>
            </p:nvSpPr>
            <p:spPr>
              <a:xfrm>
                <a:off x="4419720" y="152388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三态输出“与非”状态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5106240" y="207324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793480" y="207324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569280" y="207324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62920" y="2057400"/>
                <a:ext cx="511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029200" y="5181480"/>
                <a:ext cx="2592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7150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0866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4008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3" name=""/>
          <p:cNvSpPr/>
          <p:nvPr/>
        </p:nvSpPr>
        <p:spPr>
          <a:xfrm>
            <a:off x="2158920" y="3759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能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4" name=""/>
          <p:cNvGrpSpPr/>
          <p:nvPr/>
        </p:nvGrpSpPr>
        <p:grpSpPr>
          <a:xfrm>
            <a:off x="863640" y="4327560"/>
            <a:ext cx="3822840" cy="1488960"/>
            <a:chOff x="863640" y="4327560"/>
            <a:chExt cx="3822840" cy="1488960"/>
          </a:xfrm>
        </p:grpSpPr>
        <p:sp>
          <p:nvSpPr>
            <p:cNvPr id="2715" name=""/>
            <p:cNvSpPr/>
            <p:nvPr/>
          </p:nvSpPr>
          <p:spPr>
            <a:xfrm>
              <a:off x="3322440" y="5181480"/>
              <a:ext cx="854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输出高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63640" y="5067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7" name="" descr=""/>
            <p:cNvPicPr/>
            <p:nvPr/>
          </p:nvPicPr>
          <p:blipFill>
            <a:blip r:embed="rId1"/>
            <a:stretch/>
          </p:blipFill>
          <p:spPr>
            <a:xfrm>
              <a:off x="1282680" y="4525920"/>
              <a:ext cx="99072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8" name="" descr=""/>
            <p:cNvPicPr/>
            <p:nvPr/>
          </p:nvPicPr>
          <p:blipFill>
            <a:blip r:embed="rId2"/>
            <a:stretch/>
          </p:blipFill>
          <p:spPr>
            <a:xfrm>
              <a:off x="1257480" y="5207040"/>
              <a:ext cx="106668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9" name="" descr=""/>
            <p:cNvPicPr/>
            <p:nvPr/>
          </p:nvPicPr>
          <p:blipFill>
            <a:blip r:embed="rId3"/>
            <a:stretch/>
          </p:blipFill>
          <p:spPr>
            <a:xfrm>
              <a:off x="3051360" y="4427640"/>
              <a:ext cx="135576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0" name=""/>
            <p:cNvSpPr/>
            <p:nvPr/>
          </p:nvSpPr>
          <p:spPr>
            <a:xfrm>
              <a:off x="863640" y="43308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2768760" y="4327560"/>
              <a:ext cx="0" cy="14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76240" y="577872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20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425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430" dur="3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435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40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45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49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3" name=""/>
          <p:cNvGrpSpPr/>
          <p:nvPr/>
        </p:nvGrpSpPr>
        <p:grpSpPr>
          <a:xfrm>
            <a:off x="838080" y="533520"/>
            <a:ext cx="2514600" cy="520560"/>
            <a:chOff x="838080" y="533520"/>
            <a:chExt cx="2514600" cy="520560"/>
          </a:xfrm>
        </p:grpSpPr>
        <p:sp>
          <p:nvSpPr>
            <p:cNvPr id="2724" name=""/>
            <p:cNvSpPr/>
            <p:nvPr/>
          </p:nvSpPr>
          <p:spPr>
            <a:xfrm>
              <a:off x="1219320" y="5335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三态门应用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38080" y="609840"/>
              <a:ext cx="480960" cy="38088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6" name=""/>
          <p:cNvSpPr/>
          <p:nvPr/>
        </p:nvSpPr>
        <p:spPr>
          <a:xfrm>
            <a:off x="3429000" y="5335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可实现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总线分时传送几个不同的数据或控制信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7" name=""/>
          <p:cNvGrpSpPr/>
          <p:nvPr/>
        </p:nvGrpSpPr>
        <p:grpSpPr>
          <a:xfrm>
            <a:off x="2133720" y="2819520"/>
            <a:ext cx="761760" cy="3416040"/>
            <a:chOff x="2133720" y="2819520"/>
            <a:chExt cx="761760" cy="3416040"/>
          </a:xfrm>
        </p:grpSpPr>
        <p:sp>
          <p:nvSpPr>
            <p:cNvPr id="2728" name=""/>
            <p:cNvSpPr/>
            <p:nvPr/>
          </p:nvSpPr>
          <p:spPr>
            <a:xfrm>
              <a:off x="2133720" y="28195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142360" y="426708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142360" y="5715000"/>
              <a:ext cx="7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1" name="" descr=""/>
          <p:cNvPicPr/>
          <p:nvPr/>
        </p:nvPicPr>
        <p:blipFill>
          <a:blip r:embed="rId1"/>
          <a:stretch/>
        </p:blipFill>
        <p:spPr>
          <a:xfrm>
            <a:off x="7010280" y="5029200"/>
            <a:ext cx="1600200" cy="998640"/>
          </a:xfrm>
          <a:prstGeom prst="rect">
            <a:avLst/>
          </a:prstGeom>
          <a:ln w="0">
            <a:noFill/>
          </a:ln>
        </p:spPr>
      </p:pic>
      <p:grpSp>
        <p:nvGrpSpPr>
          <p:cNvPr id="2732" name=""/>
          <p:cNvGrpSpPr/>
          <p:nvPr/>
        </p:nvGrpSpPr>
        <p:grpSpPr>
          <a:xfrm>
            <a:off x="914400" y="1295280"/>
            <a:ext cx="5486400" cy="4999320"/>
            <a:chOff x="914400" y="1295280"/>
            <a:chExt cx="5486400" cy="4999320"/>
          </a:xfrm>
        </p:grpSpPr>
        <p:sp>
          <p:nvSpPr>
            <p:cNvPr id="2733" name=""/>
            <p:cNvSpPr/>
            <p:nvPr/>
          </p:nvSpPr>
          <p:spPr>
            <a:xfrm>
              <a:off x="914400" y="1295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如图所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2905920" y="1676520"/>
              <a:ext cx="3494880" cy="4618080"/>
              <a:chOff x="2905920" y="1676520"/>
              <a:chExt cx="3494880" cy="4618080"/>
            </a:xfrm>
          </p:grpSpPr>
          <p:sp>
            <p:nvSpPr>
              <p:cNvPr id="2735" name=""/>
              <p:cNvSpPr/>
              <p:nvPr/>
            </p:nvSpPr>
            <p:spPr>
              <a:xfrm>
                <a:off x="5867280" y="1828800"/>
                <a:ext cx="0" cy="40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791320" y="16765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867280" y="2971800"/>
                <a:ext cx="533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"/>
                  </a:rPr>
                  <a:t>总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8" name=""/>
              <p:cNvGrpSpPr/>
              <p:nvPr/>
            </p:nvGrpSpPr>
            <p:grpSpPr>
              <a:xfrm>
                <a:off x="2905920" y="1905120"/>
                <a:ext cx="2961360" cy="1494000"/>
                <a:chOff x="2905920" y="1905120"/>
                <a:chExt cx="2961360" cy="1494000"/>
              </a:xfrm>
            </p:grpSpPr>
            <p:grpSp>
              <p:nvGrpSpPr>
                <p:cNvPr id="2739" name=""/>
                <p:cNvGrpSpPr/>
                <p:nvPr/>
              </p:nvGrpSpPr>
              <p:grpSpPr>
                <a:xfrm>
                  <a:off x="3429000" y="1981080"/>
                  <a:ext cx="2438280" cy="1295640"/>
                  <a:chOff x="3429000" y="1981080"/>
                  <a:chExt cx="2438280" cy="1295640"/>
                </a:xfrm>
              </p:grpSpPr>
              <p:sp>
                <p:nvSpPr>
                  <p:cNvPr id="2740" name=""/>
                  <p:cNvSpPr/>
                  <p:nvPr/>
                </p:nvSpPr>
                <p:spPr>
                  <a:xfrm>
                    <a:off x="4191120" y="1981080"/>
                    <a:ext cx="914400" cy="12956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1" name=""/>
                  <p:cNvGrpSpPr/>
                  <p:nvPr/>
                </p:nvGrpSpPr>
                <p:grpSpPr>
                  <a:xfrm>
                    <a:off x="3581280" y="2209680"/>
                    <a:ext cx="609480" cy="914400"/>
                    <a:chOff x="3581280" y="2209680"/>
                    <a:chExt cx="609480" cy="914400"/>
                  </a:xfrm>
                </p:grpSpPr>
                <p:sp>
                  <p:nvSpPr>
                    <p:cNvPr id="2742" name=""/>
                    <p:cNvSpPr/>
                    <p:nvPr/>
                  </p:nvSpPr>
                  <p:spPr>
                    <a:xfrm>
                      <a:off x="3581280" y="22096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/>
                    <p:nvPr/>
                  </p:nvSpPr>
                  <p:spPr>
                    <a:xfrm>
                      <a:off x="3581280" y="26668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4" name=""/>
                    <p:cNvSpPr/>
                    <p:nvPr/>
                  </p:nvSpPr>
                  <p:spPr>
                    <a:xfrm>
                      <a:off x="3581280" y="312408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45" name=""/>
                  <p:cNvSpPr/>
                  <p:nvPr/>
                </p:nvSpPr>
                <p:spPr>
                  <a:xfrm>
                    <a:off x="3429000" y="21337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3429000" y="25909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3429000" y="30481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5105520" y="25909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5257800" y="266688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0" name=""/>
                <p:cNvSpPr/>
                <p:nvPr/>
              </p:nvSpPr>
              <p:spPr>
                <a:xfrm>
                  <a:off x="4267080" y="1981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10860000">
                  <a:off x="4799880" y="259020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2905920" y="190512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2907360" y="2362320"/>
                  <a:ext cx="517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2921040" y="2819520"/>
                  <a:ext cx="489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5" name=""/>
              <p:cNvGrpSpPr/>
              <p:nvPr/>
            </p:nvGrpSpPr>
            <p:grpSpPr>
              <a:xfrm>
                <a:off x="2905920" y="3352680"/>
                <a:ext cx="2961360" cy="1494000"/>
                <a:chOff x="2905920" y="3352680"/>
                <a:chExt cx="2961360" cy="1494000"/>
              </a:xfrm>
            </p:grpSpPr>
            <p:grpSp>
              <p:nvGrpSpPr>
                <p:cNvPr id="2756" name=""/>
                <p:cNvGrpSpPr/>
                <p:nvPr/>
              </p:nvGrpSpPr>
              <p:grpSpPr>
                <a:xfrm>
                  <a:off x="3429000" y="3428640"/>
                  <a:ext cx="2438280" cy="1295640"/>
                  <a:chOff x="3429000" y="3428640"/>
                  <a:chExt cx="2438280" cy="1295640"/>
                </a:xfrm>
              </p:grpSpPr>
              <p:sp>
                <p:nvSpPr>
                  <p:cNvPr id="2757" name=""/>
                  <p:cNvSpPr/>
                  <p:nvPr/>
                </p:nvSpPr>
                <p:spPr>
                  <a:xfrm>
                    <a:off x="4191120" y="3428640"/>
                    <a:ext cx="914400" cy="12956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8" name=""/>
                  <p:cNvGrpSpPr/>
                  <p:nvPr/>
                </p:nvGrpSpPr>
                <p:grpSpPr>
                  <a:xfrm>
                    <a:off x="3581280" y="3657240"/>
                    <a:ext cx="609480" cy="914400"/>
                    <a:chOff x="3581280" y="3657240"/>
                    <a:chExt cx="609480" cy="914400"/>
                  </a:xfrm>
                </p:grpSpPr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3581280" y="365724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3581280" y="411444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3581280" y="457164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2" name=""/>
                  <p:cNvSpPr/>
                  <p:nvPr/>
                </p:nvSpPr>
                <p:spPr>
                  <a:xfrm>
                    <a:off x="3429000" y="35812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3429000" y="40384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3429000" y="44956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>
                    <a:off x="5105520" y="40384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5257800" y="411444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7" name=""/>
                <p:cNvSpPr/>
                <p:nvPr/>
              </p:nvSpPr>
              <p:spPr>
                <a:xfrm>
                  <a:off x="4267080" y="34286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10860000">
                  <a:off x="4799880" y="403776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2905920" y="335268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2907360" y="3809880"/>
                  <a:ext cx="517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2921040" y="4267080"/>
                  <a:ext cx="489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2" name=""/>
              <p:cNvGrpSpPr/>
              <p:nvPr/>
            </p:nvGrpSpPr>
            <p:grpSpPr>
              <a:xfrm>
                <a:off x="2905920" y="4800600"/>
                <a:ext cx="2961360" cy="1494000"/>
                <a:chOff x="2905920" y="4800600"/>
                <a:chExt cx="2961360" cy="1494000"/>
              </a:xfrm>
            </p:grpSpPr>
            <p:grpSp>
              <p:nvGrpSpPr>
                <p:cNvPr id="2773" name=""/>
                <p:cNvGrpSpPr/>
                <p:nvPr/>
              </p:nvGrpSpPr>
              <p:grpSpPr>
                <a:xfrm>
                  <a:off x="3429000" y="4876560"/>
                  <a:ext cx="2438280" cy="1295640"/>
                  <a:chOff x="3429000" y="4876560"/>
                  <a:chExt cx="2438280" cy="1295640"/>
                </a:xfrm>
              </p:grpSpPr>
              <p:sp>
                <p:nvSpPr>
                  <p:cNvPr id="2774" name=""/>
                  <p:cNvSpPr/>
                  <p:nvPr/>
                </p:nvSpPr>
                <p:spPr>
                  <a:xfrm>
                    <a:off x="4191120" y="4876560"/>
                    <a:ext cx="914400" cy="129564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75" name=""/>
                  <p:cNvGrpSpPr/>
                  <p:nvPr/>
                </p:nvGrpSpPr>
                <p:grpSpPr>
                  <a:xfrm>
                    <a:off x="3581280" y="5105160"/>
                    <a:ext cx="609480" cy="914400"/>
                    <a:chOff x="3581280" y="5105160"/>
                    <a:chExt cx="609480" cy="914400"/>
                  </a:xfrm>
                </p:grpSpPr>
                <p:sp>
                  <p:nvSpPr>
                    <p:cNvPr id="2776" name=""/>
                    <p:cNvSpPr/>
                    <p:nvPr/>
                  </p:nvSpPr>
                  <p:spPr>
                    <a:xfrm>
                      <a:off x="3581280" y="510516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3581280" y="556236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3581280" y="6019560"/>
                      <a:ext cx="6094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79" name=""/>
                  <p:cNvSpPr/>
                  <p:nvPr/>
                </p:nvSpPr>
                <p:spPr>
                  <a:xfrm>
                    <a:off x="3429000" y="50292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3429000" y="54864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3429000" y="59436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5105520" y="54864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5257800" y="5562360"/>
                    <a:ext cx="6094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4" name=""/>
                <p:cNvSpPr/>
                <p:nvPr/>
              </p:nvSpPr>
              <p:spPr>
                <a:xfrm>
                  <a:off x="4267080" y="487656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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10860000">
                  <a:off x="4799880" y="5485680"/>
                  <a:ext cx="228600" cy="228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2905920" y="480060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2907360" y="5257800"/>
                  <a:ext cx="5176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2921040" y="5715000"/>
                  <a:ext cx="489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E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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89" name=""/>
          <p:cNvGrpSpPr/>
          <p:nvPr/>
        </p:nvGrpSpPr>
        <p:grpSpPr>
          <a:xfrm>
            <a:off x="5029200" y="2209680"/>
            <a:ext cx="990720" cy="3505320"/>
            <a:chOff x="5029200" y="2209680"/>
            <a:chExt cx="990720" cy="3505320"/>
          </a:xfrm>
        </p:grpSpPr>
        <p:sp>
          <p:nvSpPr>
            <p:cNvPr id="2790" name=""/>
            <p:cNvSpPr/>
            <p:nvPr/>
          </p:nvSpPr>
          <p:spPr>
            <a:xfrm>
              <a:off x="5562720" y="5334120"/>
              <a:ext cx="1522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562720" y="3962520"/>
              <a:ext cx="1522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2" name=""/>
            <p:cNvGrpSpPr/>
            <p:nvPr/>
          </p:nvGrpSpPr>
          <p:grpSpPr>
            <a:xfrm>
              <a:off x="5029200" y="2209680"/>
              <a:ext cx="990720" cy="510120"/>
              <a:chOff x="5029200" y="2209680"/>
              <a:chExt cx="990720" cy="510120"/>
            </a:xfrm>
          </p:grpSpPr>
          <p:sp>
            <p:nvSpPr>
              <p:cNvPr id="2793" name=""/>
              <p:cNvSpPr/>
              <p:nvPr/>
            </p:nvSpPr>
            <p:spPr>
              <a:xfrm>
                <a:off x="5170320" y="2286000"/>
                <a:ext cx="566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029200" y="2209680"/>
                <a:ext cx="99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 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453640" y="2438280"/>
                <a:ext cx="46800" cy="50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456" dur="5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461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66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71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"/>
          <p:cNvSpPr/>
          <p:nvPr/>
        </p:nvSpPr>
        <p:spPr>
          <a:xfrm>
            <a:off x="1012680" y="12952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6575400" y="1219320"/>
            <a:ext cx="1654200" cy="1904760"/>
            <a:chOff x="6575400" y="1219320"/>
            <a:chExt cx="1654200" cy="1904760"/>
          </a:xfrm>
        </p:grpSpPr>
        <p:sp>
          <p:nvSpPr>
            <p:cNvPr id="2798" name=""/>
            <p:cNvSpPr/>
            <p:nvPr/>
          </p:nvSpPr>
          <p:spPr>
            <a:xfrm>
              <a:off x="6575400" y="1219320"/>
              <a:ext cx="946080" cy="19047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521480" y="1721880"/>
              <a:ext cx="70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有源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0" name=""/>
          <p:cNvGrpSpPr/>
          <p:nvPr/>
        </p:nvGrpSpPr>
        <p:grpSpPr>
          <a:xfrm>
            <a:off x="1021320" y="4343400"/>
            <a:ext cx="3191760" cy="1739880"/>
            <a:chOff x="1021320" y="4343400"/>
            <a:chExt cx="3191760" cy="1739880"/>
          </a:xfrm>
        </p:grpSpPr>
        <p:sp>
          <p:nvSpPr>
            <p:cNvPr id="2801" name=""/>
            <p:cNvSpPr/>
            <p:nvPr/>
          </p:nvSpPr>
          <p:spPr>
            <a:xfrm>
              <a:off x="2155680" y="4419720"/>
              <a:ext cx="99072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2" name=""/>
            <p:cNvGrpSpPr/>
            <p:nvPr/>
          </p:nvGrpSpPr>
          <p:grpSpPr>
            <a:xfrm>
              <a:off x="1546200" y="4648320"/>
              <a:ext cx="609480" cy="914400"/>
              <a:chOff x="1546200" y="4648320"/>
              <a:chExt cx="609480" cy="914400"/>
            </a:xfrm>
          </p:grpSpPr>
          <p:sp>
            <p:nvSpPr>
              <p:cNvPr id="2803" name=""/>
              <p:cNvSpPr/>
              <p:nvPr/>
            </p:nvSpPr>
            <p:spPr>
              <a:xfrm>
                <a:off x="1546200" y="46483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1546200" y="5105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1546200" y="55627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6" name=""/>
            <p:cNvSpPr/>
            <p:nvPr/>
          </p:nvSpPr>
          <p:spPr>
            <a:xfrm>
              <a:off x="1393920" y="4572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393920" y="50292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39392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3146400" y="4876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298680" y="49528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38428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75588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023840" y="52578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022760" y="48006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021320" y="43434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1851120" y="5562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155680" y="525780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841480" y="4419720"/>
              <a:ext cx="304920" cy="3045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1089000" y="1143000"/>
            <a:ext cx="6512040" cy="4343400"/>
            <a:chOff x="1089000" y="1143000"/>
            <a:chExt cx="6512040" cy="4343400"/>
          </a:xfrm>
        </p:grpSpPr>
        <p:sp>
          <p:nvSpPr>
            <p:cNvPr id="2820" name=""/>
            <p:cNvSpPr/>
            <p:nvPr/>
          </p:nvSpPr>
          <p:spPr>
            <a:xfrm>
              <a:off x="5813280" y="12193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798880" y="3657600"/>
              <a:ext cx="61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032600" y="3124080"/>
              <a:ext cx="5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137120" y="4343400"/>
              <a:ext cx="91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089000" y="2997360"/>
              <a:ext cx="5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96200" y="342900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099440" y="3809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594320" y="1828800"/>
              <a:ext cx="55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375000" y="1828800"/>
              <a:ext cx="566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381200" y="2743200"/>
              <a:ext cx="45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889600" y="1143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+5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841480" y="2743200"/>
              <a:ext cx="101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522680" y="548640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194520" y="419112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091200" y="3276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589720" y="3505320"/>
              <a:ext cx="0" cy="70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>
              <a:off x="5589360" y="3606840"/>
              <a:ext cx="48420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589720" y="4011480"/>
              <a:ext cx="60480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3324240" y="1275120"/>
              <a:ext cx="2489040" cy="4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9" name=""/>
            <p:cNvGrpSpPr/>
            <p:nvPr/>
          </p:nvGrpSpPr>
          <p:grpSpPr>
            <a:xfrm>
              <a:off x="2550600" y="2590920"/>
              <a:ext cx="1128960" cy="428040"/>
              <a:chOff x="2550600" y="2590920"/>
              <a:chExt cx="1128960" cy="428040"/>
            </a:xfrm>
          </p:grpSpPr>
          <p:sp>
            <p:nvSpPr>
              <p:cNvPr id="2840" name=""/>
              <p:cNvSpPr/>
              <p:nvPr/>
            </p:nvSpPr>
            <p:spPr>
              <a:xfrm flipH="1">
                <a:off x="2663280" y="2590920"/>
                <a:ext cx="101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H="1" flipV="1">
                <a:off x="3454200" y="2590920"/>
                <a:ext cx="225360" cy="42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>
                <a:off x="3004200" y="2592360"/>
                <a:ext cx="225720" cy="42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H="1">
                <a:off x="2776680" y="2590920"/>
                <a:ext cx="225360" cy="42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2550600" y="2590920"/>
                <a:ext cx="225720" cy="426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5" name=""/>
            <p:cNvGrpSpPr/>
            <p:nvPr/>
          </p:nvGrpSpPr>
          <p:grpSpPr>
            <a:xfrm>
              <a:off x="3687840" y="2514600"/>
              <a:ext cx="1040760" cy="901440"/>
              <a:chOff x="3687840" y="2514600"/>
              <a:chExt cx="1040760" cy="901440"/>
            </a:xfrm>
          </p:grpSpPr>
          <p:sp>
            <p:nvSpPr>
              <p:cNvPr id="2846" name=""/>
              <p:cNvSpPr/>
              <p:nvPr/>
            </p:nvSpPr>
            <p:spPr>
              <a:xfrm>
                <a:off x="4150080" y="2514600"/>
                <a:ext cx="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H="1">
                <a:off x="4149720" y="2643480"/>
                <a:ext cx="462600" cy="25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50080" y="3157920"/>
                <a:ext cx="578520" cy="25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687840" y="3029760"/>
                <a:ext cx="46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0" name=""/>
            <p:cNvSpPr/>
            <p:nvPr/>
          </p:nvSpPr>
          <p:spPr>
            <a:xfrm>
              <a:off x="3262320" y="182880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57360" y="1295280"/>
              <a:ext cx="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587840" y="1295280"/>
              <a:ext cx="0" cy="61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94320" y="2362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83240" y="3352680"/>
              <a:ext cx="0" cy="9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70280" y="52578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100560" y="3276720"/>
              <a:ext cx="7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7" name=""/>
            <p:cNvGrpSpPr/>
            <p:nvPr/>
          </p:nvGrpSpPr>
          <p:grpSpPr>
            <a:xfrm>
              <a:off x="1698120" y="2971800"/>
              <a:ext cx="1325160" cy="990000"/>
              <a:chOff x="1698120" y="2971800"/>
              <a:chExt cx="1325160" cy="990000"/>
            </a:xfrm>
          </p:grpSpPr>
          <p:grpSp>
            <p:nvGrpSpPr>
              <p:cNvPr id="2858" name=""/>
              <p:cNvGrpSpPr/>
              <p:nvPr/>
            </p:nvGrpSpPr>
            <p:grpSpPr>
              <a:xfrm>
                <a:off x="1698120" y="2971800"/>
                <a:ext cx="851760" cy="380880"/>
                <a:chOff x="1698120" y="2971800"/>
                <a:chExt cx="851760" cy="38088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2549880" y="2971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H="1">
                  <a:off x="1698120" y="3352680"/>
                  <a:ext cx="85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1698480" y="2971800"/>
                <a:ext cx="1135440" cy="685440"/>
                <a:chOff x="1698480" y="2971800"/>
                <a:chExt cx="1135440" cy="68544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2833920" y="297180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H="1">
                  <a:off x="1698480" y="3657240"/>
                  <a:ext cx="1135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1698480" y="2971800"/>
                <a:ext cx="1324800" cy="990000"/>
                <a:chOff x="1698480" y="2971800"/>
                <a:chExt cx="1324800" cy="99000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3023280" y="2971800"/>
                  <a:ext cx="0" cy="99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>
                  <a:off x="1698480" y="3961800"/>
                  <a:ext cx="132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7" name=""/>
            <p:cNvSpPr/>
            <p:nvPr/>
          </p:nvSpPr>
          <p:spPr>
            <a:xfrm>
              <a:off x="467820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546200" y="327672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546200" y="358128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546200" y="388620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70280" y="3886200"/>
              <a:ext cx="50760" cy="50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518000" y="190512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594320" y="4267080"/>
              <a:ext cx="160200" cy="43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4680000" y="472428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70280" y="3922560"/>
              <a:ext cx="914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838920" y="3200400"/>
              <a:ext cx="1508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36840" y="2286000"/>
              <a:ext cx="0" cy="3049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56280" y="2133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842160" y="2133720"/>
              <a:ext cx="160200" cy="43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6923160" y="1371240"/>
              <a:ext cx="0" cy="76212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846840" y="1295280"/>
              <a:ext cx="1508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977160" y="1295280"/>
              <a:ext cx="56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900840" y="2590920"/>
              <a:ext cx="0" cy="609480"/>
            </a:xfrm>
            <a:prstGeom prst="line">
              <a:avLst/>
            </a:prstGeom>
            <a:ln w="38160">
              <a:solidFill>
                <a:srgbClr val="0000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4" name=""/>
          <p:cNvSpPr/>
          <p:nvPr/>
        </p:nvSpPr>
        <p:spPr>
          <a:xfrm>
            <a:off x="838080" y="4572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3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集电极开路“与非”门电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(OC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478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83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88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914400" y="609480"/>
            <a:ext cx="7543800" cy="956160"/>
            <a:chOff x="914400" y="609480"/>
            <a:chExt cx="7543800" cy="956160"/>
          </a:xfrm>
        </p:grpSpPr>
        <p:sp>
          <p:nvSpPr>
            <p:cNvPr id="96" name=""/>
            <p:cNvSpPr/>
            <p:nvPr/>
          </p:nvSpPr>
          <p:spPr>
            <a:xfrm>
              <a:off x="914400" y="609480"/>
              <a:ext cx="457200" cy="38124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1002600"/>
              <a:ext cx="7543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处理模拟信号的电路称为模拟电路</a:t>
              </a:r>
              <a:r>
                <a:rPr b="1" lang="zh-CN" sz="2800" spc="-1" strike="noStrike">
                  <a:solidFill>
                    <a:srgbClr val="3333cc"/>
                  </a:solidFill>
                  <a:latin typeface=""/>
                </a:rPr>
                <a:t>。</a:t>
              </a: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如整流电路、放大电路等，注重研究的是输入和输出信号间的大小及相位关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62120" y="2133360"/>
            <a:ext cx="7696080" cy="712080"/>
            <a:chOff x="762120" y="2133360"/>
            <a:chExt cx="7696080" cy="712080"/>
          </a:xfrm>
        </p:grpSpPr>
        <p:sp>
          <p:nvSpPr>
            <p:cNvPr id="99" name=""/>
            <p:cNvSpPr/>
            <p:nvPr/>
          </p:nvSpPr>
          <p:spPr>
            <a:xfrm>
              <a:off x="914400" y="2133360"/>
              <a:ext cx="380520" cy="38124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" y="2215440"/>
              <a:ext cx="7696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在模拟电路中</a:t>
              </a:r>
              <a:r>
                <a:rPr b="1" lang="zh-CN" sz="3200" spc="-1" strike="noStrike">
                  <a:solidFill>
                    <a:srgbClr val="000099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晶体管三极管通常工作在放大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73320" y="2971800"/>
            <a:ext cx="1887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脉冲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是一种跃变信号，并且持续时间短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447920" cy="903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512720" y="3962160"/>
            <a:ext cx="4362120" cy="1374480"/>
            <a:chOff x="1512720" y="3962160"/>
            <a:chExt cx="4362120" cy="1374480"/>
          </a:xfrm>
        </p:grpSpPr>
        <p:sp>
          <p:nvSpPr>
            <p:cNvPr id="104" name=""/>
            <p:cNvSpPr/>
            <p:nvPr/>
          </p:nvSpPr>
          <p:spPr>
            <a:xfrm>
              <a:off x="1512720" y="4038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尖顶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819520" y="3962160"/>
              <a:ext cx="3055320" cy="1374480"/>
              <a:chOff x="2819520" y="3962160"/>
              <a:chExt cx="3055320" cy="13744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2819520" y="3962160"/>
                <a:ext cx="0" cy="1145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4114440" y="4730400"/>
                <a:ext cx="172440" cy="606240"/>
                <a:chOff x="4114440" y="4730400"/>
                <a:chExt cx="172440" cy="606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114440" y="4730400"/>
                  <a:ext cx="0" cy="6062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114440" y="4730400"/>
                  <a:ext cx="172440" cy="606240"/>
                </a:xfrm>
                <a:custGeom>
                  <a:avLst/>
                  <a:gdLst/>
                  <a:ahLst/>
                  <a:rect l="l" t="t" r="r" b="b"/>
                  <a:pathLst>
                    <a:path w="96" h="432">
                      <a:moveTo>
                        <a:pt x="0" y="432"/>
                      </a:moveTo>
                      <a:cubicBezTo>
                        <a:pt x="40" y="252"/>
                        <a:pt x="80" y="72"/>
                        <a:pt x="96" y="0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 flipV="1">
                <a:off x="2819520" y="4727160"/>
                <a:ext cx="2768400" cy="2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69200" y="457488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427200" y="4106520"/>
                <a:ext cx="221760" cy="622800"/>
                <a:chOff x="3427200" y="4106520"/>
                <a:chExt cx="221760" cy="622800"/>
              </a:xfrm>
            </p:grpSpPr>
            <p:sp>
              <p:nvSpPr>
                <p:cNvPr id="113" name=""/>
                <p:cNvSpPr/>
                <p:nvPr/>
              </p:nvSpPr>
              <p:spPr>
                <a:xfrm flipV="1">
                  <a:off x="3428280" y="4123440"/>
                  <a:ext cx="0" cy="6058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427200" y="4106520"/>
                  <a:ext cx="221760" cy="606240"/>
                </a:xfrm>
                <a:custGeom>
                  <a:avLst/>
                  <a:gdLst/>
                  <a:ahLst/>
                  <a:rect l="l" t="t" r="r" b="b"/>
                  <a:pathLst>
                    <a:path w="140" h="382">
                      <a:moveTo>
                        <a:pt x="0" y="0"/>
                      </a:moveTo>
                      <a:cubicBezTo>
                        <a:pt x="19" y="55"/>
                        <a:pt x="15" y="115"/>
                        <a:pt x="31" y="171"/>
                      </a:cubicBezTo>
                      <a:cubicBezTo>
                        <a:pt x="45" y="222"/>
                        <a:pt x="69" y="263"/>
                        <a:pt x="86" y="312"/>
                      </a:cubicBezTo>
                      <a:cubicBezTo>
                        <a:pt x="94" y="334"/>
                        <a:pt x="116" y="382"/>
                        <a:pt x="140" y="38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749480" y="4117680"/>
                <a:ext cx="222120" cy="622800"/>
                <a:chOff x="4749480" y="4117680"/>
                <a:chExt cx="222120" cy="622800"/>
              </a:xfrm>
            </p:grpSpPr>
            <p:sp>
              <p:nvSpPr>
                <p:cNvPr id="116" name=""/>
                <p:cNvSpPr/>
                <p:nvPr/>
              </p:nvSpPr>
              <p:spPr>
                <a:xfrm flipV="1">
                  <a:off x="4750920" y="4134600"/>
                  <a:ext cx="0" cy="6058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749480" y="4117680"/>
                  <a:ext cx="222120" cy="606240"/>
                </a:xfrm>
                <a:custGeom>
                  <a:avLst/>
                  <a:gdLst/>
                  <a:ahLst/>
                  <a:rect l="l" t="t" r="r" b="b"/>
                  <a:pathLst>
                    <a:path w="140" h="382">
                      <a:moveTo>
                        <a:pt x="0" y="0"/>
                      </a:moveTo>
                      <a:cubicBezTo>
                        <a:pt x="19" y="55"/>
                        <a:pt x="15" y="115"/>
                        <a:pt x="31" y="171"/>
                      </a:cubicBezTo>
                      <a:cubicBezTo>
                        <a:pt x="45" y="222"/>
                        <a:pt x="69" y="263"/>
                        <a:pt x="86" y="312"/>
                      </a:cubicBezTo>
                      <a:cubicBezTo>
                        <a:pt x="94" y="334"/>
                        <a:pt x="116" y="382"/>
                        <a:pt x="140" y="38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1512720" y="5211720"/>
            <a:ext cx="4278600" cy="1191600"/>
            <a:chOff x="1512720" y="5211720"/>
            <a:chExt cx="4278600" cy="1191600"/>
          </a:xfrm>
        </p:grpSpPr>
        <p:sp>
          <p:nvSpPr>
            <p:cNvPr id="119" name=""/>
            <p:cNvSpPr/>
            <p:nvPr/>
          </p:nvSpPr>
          <p:spPr>
            <a:xfrm>
              <a:off x="1512720" y="5257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矩形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819520" y="5211720"/>
              <a:ext cx="2971800" cy="1191600"/>
              <a:chOff x="2819520" y="5211720"/>
              <a:chExt cx="2971800" cy="11916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819520" y="5638680"/>
                <a:ext cx="457200" cy="609840"/>
                <a:chOff x="2819520" y="5638680"/>
                <a:chExt cx="457200" cy="609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819520" y="5638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27672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809880" y="5638680"/>
                <a:ext cx="457200" cy="609840"/>
                <a:chOff x="3809880" y="5638680"/>
                <a:chExt cx="457200" cy="6098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80988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09880" y="5638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6708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2819520" y="5211720"/>
                <a:ext cx="0" cy="103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19520" y="6248520"/>
                <a:ext cx="274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86400" y="59436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18"/>
                    </a:solidFill>
                    <a:latin typeface="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800600" y="5638680"/>
                <a:ext cx="457200" cy="609840"/>
                <a:chOff x="4800600" y="5638680"/>
                <a:chExt cx="45720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0060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00600" y="5638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57800" y="563868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"/>
          <p:cNvSpPr/>
          <p:nvPr/>
        </p:nvSpPr>
        <p:spPr>
          <a:xfrm>
            <a:off x="865080" y="62316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OC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门的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113840" y="1142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输出端可直接驱动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419720" y="1143000"/>
            <a:ext cx="0" cy="51055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8" name=""/>
          <p:cNvGrpSpPr/>
          <p:nvPr/>
        </p:nvGrpSpPr>
        <p:grpSpPr>
          <a:xfrm>
            <a:off x="465840" y="1523880"/>
            <a:ext cx="3644280" cy="4262400"/>
            <a:chOff x="465840" y="1523880"/>
            <a:chExt cx="3644280" cy="4262400"/>
          </a:xfrm>
        </p:grpSpPr>
        <p:sp>
          <p:nvSpPr>
            <p:cNvPr id="2889" name=""/>
            <p:cNvSpPr/>
            <p:nvPr/>
          </p:nvSpPr>
          <p:spPr>
            <a:xfrm>
              <a:off x="838080" y="1752480"/>
              <a:ext cx="914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74320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600200" y="2819520"/>
              <a:ext cx="99072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2" name=""/>
            <p:cNvGrpSpPr/>
            <p:nvPr/>
          </p:nvGrpSpPr>
          <p:grpSpPr>
            <a:xfrm>
              <a:off x="990720" y="3048120"/>
              <a:ext cx="609480" cy="914400"/>
              <a:chOff x="990720" y="3048120"/>
              <a:chExt cx="609480" cy="914400"/>
            </a:xfrm>
          </p:grpSpPr>
          <p:sp>
            <p:nvSpPr>
              <p:cNvPr id="2893" name=""/>
              <p:cNvSpPr/>
              <p:nvPr/>
            </p:nvSpPr>
            <p:spPr>
              <a:xfrm>
                <a:off x="990720" y="30481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990720" y="35053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990720" y="3962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6" name=""/>
            <p:cNvSpPr/>
            <p:nvPr/>
          </p:nvSpPr>
          <p:spPr>
            <a:xfrm>
              <a:off x="838080" y="29718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38080" y="34290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80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90920" y="3276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743200" y="33526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828800" y="2819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68360" y="36576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7280" y="32004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5840" y="27432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286000" y="2819520"/>
              <a:ext cx="304920" cy="3045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6" name=""/>
            <p:cNvGrpSpPr/>
            <p:nvPr/>
          </p:nvGrpSpPr>
          <p:grpSpPr>
            <a:xfrm>
              <a:off x="2895480" y="2057400"/>
              <a:ext cx="380880" cy="990720"/>
              <a:chOff x="2895480" y="2057400"/>
              <a:chExt cx="380880" cy="990720"/>
            </a:xfrm>
          </p:grpSpPr>
          <p:sp>
            <p:nvSpPr>
              <p:cNvPr id="2907" name=""/>
              <p:cNvSpPr/>
              <p:nvPr/>
            </p:nvSpPr>
            <p:spPr>
              <a:xfrm>
                <a:off x="2935080" y="2362320"/>
                <a:ext cx="304920" cy="3808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2895480" y="2362320"/>
                <a:ext cx="3808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087360" y="2057400"/>
                <a:ext cx="0" cy="9907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0" name=""/>
            <p:cNvSpPr/>
            <p:nvPr/>
          </p:nvSpPr>
          <p:spPr>
            <a:xfrm>
              <a:off x="3505320" y="2380320"/>
              <a:ext cx="60480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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3809880" y="2819160"/>
              <a:ext cx="0" cy="53316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084480" y="3048120"/>
              <a:ext cx="7272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3809880" y="1828800"/>
              <a:ext cx="0" cy="533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087720" y="2057400"/>
              <a:ext cx="7272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73392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8954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24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7" name=""/>
            <p:cNvGrpSpPr/>
            <p:nvPr/>
          </p:nvGrpSpPr>
          <p:grpSpPr>
            <a:xfrm>
              <a:off x="1257840" y="4190040"/>
              <a:ext cx="2134440" cy="1596240"/>
              <a:chOff x="1257840" y="4190040"/>
              <a:chExt cx="2134440" cy="1596240"/>
            </a:xfrm>
          </p:grpSpPr>
          <p:sp>
            <p:nvSpPr>
              <p:cNvPr id="2918" name=""/>
              <p:cNvSpPr/>
              <p:nvPr/>
            </p:nvSpPr>
            <p:spPr>
              <a:xfrm>
                <a:off x="1752480" y="4648320"/>
                <a:ext cx="6858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600200" y="4572000"/>
                <a:ext cx="147600" cy="14760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2438280" y="4495680"/>
                <a:ext cx="304920" cy="15264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2743200" y="4648320"/>
                <a:ext cx="45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011400" y="4952880"/>
                <a:ext cx="380880" cy="381240"/>
              </a:xfrm>
              <a:prstGeom prst="flowChartSummingJunction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200400" y="4648320"/>
                <a:ext cx="0" cy="304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200400" y="5334120"/>
                <a:ext cx="0" cy="380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1752480" y="5715000"/>
                <a:ext cx="144792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1600200" y="5638680"/>
                <a:ext cx="147600" cy="14760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381760" y="4190040"/>
                <a:ext cx="52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1257840" y="4875840"/>
                <a:ext cx="87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~2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9" name=""/>
          <p:cNvSpPr/>
          <p:nvPr/>
        </p:nvSpPr>
        <p:spPr>
          <a:xfrm>
            <a:off x="5152680" y="1142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几个输出端可直接相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4959720" y="1827720"/>
            <a:ext cx="3418200" cy="3794400"/>
            <a:chOff x="4959720" y="1827720"/>
            <a:chExt cx="3418200" cy="3794400"/>
          </a:xfrm>
        </p:grpSpPr>
        <p:grpSp>
          <p:nvGrpSpPr>
            <p:cNvPr id="2931" name=""/>
            <p:cNvGrpSpPr/>
            <p:nvPr/>
          </p:nvGrpSpPr>
          <p:grpSpPr>
            <a:xfrm>
              <a:off x="4959720" y="1827720"/>
              <a:ext cx="3418200" cy="3794400"/>
              <a:chOff x="4959720" y="1827720"/>
              <a:chExt cx="3418200" cy="3794400"/>
            </a:xfrm>
          </p:grpSpPr>
          <p:sp>
            <p:nvSpPr>
              <p:cNvPr id="2932" name=""/>
              <p:cNvSpPr/>
              <p:nvPr/>
            </p:nvSpPr>
            <p:spPr>
              <a:xfrm>
                <a:off x="7162560" y="2666880"/>
                <a:ext cx="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772400" y="20574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943600" y="213336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5" name=""/>
              <p:cNvGrpSpPr/>
              <p:nvPr/>
            </p:nvGrpSpPr>
            <p:grpSpPr>
              <a:xfrm>
                <a:off x="5486400" y="2361960"/>
                <a:ext cx="457200" cy="533520"/>
                <a:chOff x="5486400" y="2361960"/>
                <a:chExt cx="457200" cy="533520"/>
              </a:xfrm>
            </p:grpSpPr>
            <p:sp>
              <p:nvSpPr>
                <p:cNvPr id="2936" name=""/>
                <p:cNvSpPr/>
                <p:nvPr/>
              </p:nvSpPr>
              <p:spPr>
                <a:xfrm>
                  <a:off x="5486400" y="2361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5486400" y="2628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548640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9" name=""/>
              <p:cNvSpPr/>
              <p:nvPr/>
            </p:nvSpPr>
            <p:spPr>
              <a:xfrm>
                <a:off x="5370480" y="23032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781680" y="2666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019560" y="21333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034960" y="213336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959720" y="243828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961160" y="274320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373720" y="255564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373720" y="28191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629400" y="259056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712560" y="22096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400800" y="213336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943600" y="335268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1" name=""/>
              <p:cNvGrpSpPr/>
              <p:nvPr/>
            </p:nvGrpSpPr>
            <p:grpSpPr>
              <a:xfrm>
                <a:off x="5486400" y="3581280"/>
                <a:ext cx="457200" cy="533520"/>
                <a:chOff x="5486400" y="3581280"/>
                <a:chExt cx="457200" cy="53352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5486400" y="3581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5486400" y="38480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5486400" y="4114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5" name=""/>
              <p:cNvSpPr/>
              <p:nvPr/>
            </p:nvSpPr>
            <p:spPr>
              <a:xfrm>
                <a:off x="5370480" y="35226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781680" y="3886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019560" y="3352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034960" y="335268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959720" y="365760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961160" y="396216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73720" y="37749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373720" y="40384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712560" y="342900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400800" y="335268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943600" y="4572000"/>
                <a:ext cx="68580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6" name=""/>
              <p:cNvGrpSpPr/>
              <p:nvPr/>
            </p:nvGrpSpPr>
            <p:grpSpPr>
              <a:xfrm>
                <a:off x="5486400" y="4800600"/>
                <a:ext cx="457200" cy="533160"/>
                <a:chOff x="5486400" y="4800600"/>
                <a:chExt cx="457200" cy="53316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5486400" y="48006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5486400" y="5067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5486400" y="5333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0" name=""/>
              <p:cNvSpPr/>
              <p:nvPr/>
            </p:nvSpPr>
            <p:spPr>
              <a:xfrm>
                <a:off x="5370480" y="47419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781680" y="5105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019560" y="4572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034960" y="457200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959720" y="487656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61160" y="518148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373720" y="49942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373720" y="525780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712560" y="464796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400800" y="457200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162560" y="3886200"/>
                <a:ext cx="609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846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7848360" y="3276360"/>
                <a:ext cx="0" cy="533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629400" y="380988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629400" y="502920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772400" y="38098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7839000" y="215388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772400" y="2819160"/>
                <a:ext cx="152280" cy="45720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896600" y="18277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11000" y="2763000"/>
                <a:ext cx="46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0" name=""/>
            <p:cNvSpPr/>
            <p:nvPr/>
          </p:nvSpPr>
          <p:spPr>
            <a:xfrm>
              <a:off x="7646040" y="3885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1" name=""/>
          <p:cNvGrpSpPr/>
          <p:nvPr/>
        </p:nvGrpSpPr>
        <p:grpSpPr>
          <a:xfrm>
            <a:off x="4343400" y="2362320"/>
            <a:ext cx="990720" cy="2744640"/>
            <a:chOff x="4343400" y="2362320"/>
            <a:chExt cx="990720" cy="2744640"/>
          </a:xfrm>
        </p:grpSpPr>
        <p:grpSp>
          <p:nvGrpSpPr>
            <p:cNvPr id="2992" name=""/>
            <p:cNvGrpSpPr/>
            <p:nvPr/>
          </p:nvGrpSpPr>
          <p:grpSpPr>
            <a:xfrm>
              <a:off x="4351320" y="2362320"/>
              <a:ext cx="677880" cy="761760"/>
              <a:chOff x="4351320" y="2362320"/>
              <a:chExt cx="677880" cy="761760"/>
            </a:xfrm>
          </p:grpSpPr>
          <p:sp>
            <p:nvSpPr>
              <p:cNvPr id="2993" name=""/>
              <p:cNvSpPr/>
              <p:nvPr/>
            </p:nvSpPr>
            <p:spPr>
              <a:xfrm>
                <a:off x="4876920" y="2362320"/>
                <a:ext cx="152280" cy="76176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351320" y="25135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“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1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5" name=""/>
            <p:cNvSpPr/>
            <p:nvPr/>
          </p:nvSpPr>
          <p:spPr>
            <a:xfrm>
              <a:off x="4343400" y="3427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343400" y="46472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7" name=""/>
          <p:cNvSpPr/>
          <p:nvPr/>
        </p:nvSpPr>
        <p:spPr>
          <a:xfrm>
            <a:off x="7391520" y="426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7238880" y="2666880"/>
            <a:ext cx="457200" cy="1143000"/>
            <a:chOff x="7238880" y="2666880"/>
            <a:chExt cx="457200" cy="1143000"/>
          </a:xfrm>
        </p:grpSpPr>
        <p:sp>
          <p:nvSpPr>
            <p:cNvPr id="2999" name=""/>
            <p:cNvSpPr/>
            <p:nvPr/>
          </p:nvSpPr>
          <p:spPr>
            <a:xfrm>
              <a:off x="7696080" y="2666880"/>
              <a:ext cx="0" cy="990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>
              <a:off x="7238880" y="380988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/>
          <p:nvPr/>
        </p:nvSpPr>
        <p:spPr>
          <a:xfrm flipV="1">
            <a:off x="7238880" y="281952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6858000" y="3809880"/>
            <a:ext cx="228600" cy="1371600"/>
            <a:chOff x="6858000" y="3809880"/>
            <a:chExt cx="228600" cy="1371600"/>
          </a:xfrm>
        </p:grpSpPr>
        <p:sp>
          <p:nvSpPr>
            <p:cNvPr id="3003" name=""/>
            <p:cNvSpPr/>
            <p:nvPr/>
          </p:nvSpPr>
          <p:spPr>
            <a:xfrm>
              <a:off x="6858000" y="38098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934320" y="50292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5" name=""/>
          <p:cNvSpPr/>
          <p:nvPr/>
        </p:nvSpPr>
        <p:spPr>
          <a:xfrm>
            <a:off x="6781680" y="2208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95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0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505" dur="5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10" dur="5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21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2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531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535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539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44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6" name=""/>
          <p:cNvGrpSpPr/>
          <p:nvPr/>
        </p:nvGrpSpPr>
        <p:grpSpPr>
          <a:xfrm>
            <a:off x="465840" y="532800"/>
            <a:ext cx="3953880" cy="5715720"/>
            <a:chOff x="465840" y="532800"/>
            <a:chExt cx="3953880" cy="5715720"/>
          </a:xfrm>
        </p:grpSpPr>
        <p:sp>
          <p:nvSpPr>
            <p:cNvPr id="3007" name=""/>
            <p:cNvSpPr/>
            <p:nvPr/>
          </p:nvSpPr>
          <p:spPr>
            <a:xfrm>
              <a:off x="1166760" y="5328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OC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门的特点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113840" y="1142280"/>
              <a:ext cx="270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.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输出端可直接驱动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19720" y="1143000"/>
              <a:ext cx="0" cy="510552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0" name=""/>
            <p:cNvGrpSpPr/>
            <p:nvPr/>
          </p:nvGrpSpPr>
          <p:grpSpPr>
            <a:xfrm>
              <a:off x="465840" y="1523880"/>
              <a:ext cx="3644280" cy="4262400"/>
              <a:chOff x="465840" y="1523880"/>
              <a:chExt cx="3644280" cy="4262400"/>
            </a:xfrm>
          </p:grpSpPr>
          <p:sp>
            <p:nvSpPr>
              <p:cNvPr id="3011" name=""/>
              <p:cNvSpPr/>
              <p:nvPr/>
            </p:nvSpPr>
            <p:spPr>
              <a:xfrm>
                <a:off x="838080" y="1752480"/>
                <a:ext cx="9144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如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2743200" y="3352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1600200" y="2819520"/>
                <a:ext cx="99072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4" name=""/>
              <p:cNvGrpSpPr/>
              <p:nvPr/>
            </p:nvGrpSpPr>
            <p:grpSpPr>
              <a:xfrm>
                <a:off x="990720" y="3048120"/>
                <a:ext cx="609480" cy="914400"/>
                <a:chOff x="990720" y="3048120"/>
                <a:chExt cx="609480" cy="914400"/>
              </a:xfrm>
            </p:grpSpPr>
            <p:sp>
              <p:nvSpPr>
                <p:cNvPr id="3015" name=""/>
                <p:cNvSpPr/>
                <p:nvPr/>
              </p:nvSpPr>
              <p:spPr>
                <a:xfrm>
                  <a:off x="990720" y="30481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990720" y="35053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990720" y="39625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8" name=""/>
              <p:cNvSpPr/>
              <p:nvPr/>
            </p:nvSpPr>
            <p:spPr>
              <a:xfrm>
                <a:off x="838080" y="29718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38080" y="34290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38080" y="38862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590920" y="32767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743200" y="33526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1828800" y="2819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68360" y="365760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67280" y="320040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65840" y="274320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286000" y="2819520"/>
                <a:ext cx="304920" cy="3045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8" name=""/>
              <p:cNvGrpSpPr/>
              <p:nvPr/>
            </p:nvGrpSpPr>
            <p:grpSpPr>
              <a:xfrm>
                <a:off x="2895480" y="2057400"/>
                <a:ext cx="380880" cy="990720"/>
                <a:chOff x="2895480" y="2057400"/>
                <a:chExt cx="380880" cy="990720"/>
              </a:xfrm>
            </p:grpSpPr>
            <p:sp>
              <p:nvSpPr>
                <p:cNvPr id="3029" name=""/>
                <p:cNvSpPr/>
                <p:nvPr/>
              </p:nvSpPr>
              <p:spPr>
                <a:xfrm>
                  <a:off x="2935080" y="2362320"/>
                  <a:ext cx="304920" cy="380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2895480" y="23623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3087360" y="2057400"/>
                  <a:ext cx="0" cy="99072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2" name=""/>
              <p:cNvSpPr/>
              <p:nvPr/>
            </p:nvSpPr>
            <p:spPr>
              <a:xfrm>
                <a:off x="3505320" y="2380320"/>
                <a:ext cx="604800" cy="398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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809880" y="2819160"/>
                <a:ext cx="0" cy="53316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084480" y="3048120"/>
                <a:ext cx="72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3809880" y="1828800"/>
                <a:ext cx="0" cy="533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087720" y="2057400"/>
                <a:ext cx="72720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733920" y="16765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2895480" y="152388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+24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9" name=""/>
              <p:cNvGrpSpPr/>
              <p:nvPr/>
            </p:nvGrpSpPr>
            <p:grpSpPr>
              <a:xfrm>
                <a:off x="1257840" y="4190040"/>
                <a:ext cx="2134440" cy="1596240"/>
                <a:chOff x="1257840" y="4190040"/>
                <a:chExt cx="2134440" cy="1596240"/>
              </a:xfrm>
            </p:grpSpPr>
            <p:sp>
              <p:nvSpPr>
                <p:cNvPr id="3040" name=""/>
                <p:cNvSpPr/>
                <p:nvPr/>
              </p:nvSpPr>
              <p:spPr>
                <a:xfrm>
                  <a:off x="1752480" y="46483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1600200" y="4572000"/>
                  <a:ext cx="147600" cy="14760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2438280" y="4495680"/>
                  <a:ext cx="304920" cy="15264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2743200" y="46483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3011400" y="4952880"/>
                  <a:ext cx="380880" cy="381240"/>
                </a:xfrm>
                <a:prstGeom prst="flowChartSummingJunction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3200400" y="46483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3200400" y="533412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>
                  <a:off x="1752480" y="5715000"/>
                  <a:ext cx="144792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1600200" y="5638680"/>
                  <a:ext cx="147600" cy="147600"/>
                </a:xfrm>
                <a:prstGeom prst="ellipse">
                  <a:avLst/>
                </a:prstGeom>
                <a:noFill/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2381760" y="4190040"/>
                  <a:ext cx="52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"/>
                    </a:rPr>
                    <a:t>K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1257840" y="4875840"/>
                  <a:ext cx="875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"/>
                    </a:rPr>
                    <a:t>~2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1" name=""/>
          <p:cNvSpPr/>
          <p:nvPr/>
        </p:nvSpPr>
        <p:spPr>
          <a:xfrm>
            <a:off x="5152680" y="1142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几个输出端可直接相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2" name=""/>
          <p:cNvGrpSpPr/>
          <p:nvPr/>
        </p:nvGrpSpPr>
        <p:grpSpPr>
          <a:xfrm>
            <a:off x="4959720" y="1827720"/>
            <a:ext cx="3418200" cy="3794400"/>
            <a:chOff x="4959720" y="1827720"/>
            <a:chExt cx="3418200" cy="3794400"/>
          </a:xfrm>
        </p:grpSpPr>
        <p:grpSp>
          <p:nvGrpSpPr>
            <p:cNvPr id="3053" name=""/>
            <p:cNvGrpSpPr/>
            <p:nvPr/>
          </p:nvGrpSpPr>
          <p:grpSpPr>
            <a:xfrm>
              <a:off x="4959720" y="1827720"/>
              <a:ext cx="3418200" cy="3794400"/>
              <a:chOff x="4959720" y="1827720"/>
              <a:chExt cx="3418200" cy="3794400"/>
            </a:xfrm>
          </p:grpSpPr>
          <p:sp>
            <p:nvSpPr>
              <p:cNvPr id="3054" name=""/>
              <p:cNvSpPr/>
              <p:nvPr/>
            </p:nvSpPr>
            <p:spPr>
              <a:xfrm>
                <a:off x="7162560" y="2666880"/>
                <a:ext cx="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772400" y="20574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943600" y="213336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7" name=""/>
              <p:cNvGrpSpPr/>
              <p:nvPr/>
            </p:nvGrpSpPr>
            <p:grpSpPr>
              <a:xfrm>
                <a:off x="5486400" y="2361960"/>
                <a:ext cx="457200" cy="533520"/>
                <a:chOff x="5486400" y="2361960"/>
                <a:chExt cx="457200" cy="53352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5486400" y="2361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5486400" y="2628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548640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1" name=""/>
              <p:cNvSpPr/>
              <p:nvPr/>
            </p:nvSpPr>
            <p:spPr>
              <a:xfrm>
                <a:off x="5370480" y="23032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781680" y="2666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019560" y="21333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034960" y="213336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959720" y="243828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961160" y="274320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373720" y="255564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373720" y="28191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629400" y="259056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712560" y="22096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400800" y="213336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943600" y="3352680"/>
                <a:ext cx="68580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3" name=""/>
              <p:cNvGrpSpPr/>
              <p:nvPr/>
            </p:nvGrpSpPr>
            <p:grpSpPr>
              <a:xfrm>
                <a:off x="5486400" y="3581280"/>
                <a:ext cx="457200" cy="533520"/>
                <a:chOff x="5486400" y="3581280"/>
                <a:chExt cx="457200" cy="533520"/>
              </a:xfrm>
            </p:grpSpPr>
            <p:sp>
              <p:nvSpPr>
                <p:cNvPr id="3074" name=""/>
                <p:cNvSpPr/>
                <p:nvPr/>
              </p:nvSpPr>
              <p:spPr>
                <a:xfrm>
                  <a:off x="5486400" y="3581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5486400" y="38480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5486400" y="4114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7" name=""/>
              <p:cNvSpPr/>
              <p:nvPr/>
            </p:nvSpPr>
            <p:spPr>
              <a:xfrm>
                <a:off x="5370480" y="352260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781680" y="3886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19560" y="3352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034960" y="335268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959720" y="365760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961160" y="396216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373720" y="377496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373720" y="40384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712560" y="342900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400800" y="335268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943600" y="4572000"/>
                <a:ext cx="685800" cy="99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8" name=""/>
              <p:cNvGrpSpPr/>
              <p:nvPr/>
            </p:nvGrpSpPr>
            <p:grpSpPr>
              <a:xfrm>
                <a:off x="5486400" y="4800600"/>
                <a:ext cx="457200" cy="533160"/>
                <a:chOff x="5486400" y="4800600"/>
                <a:chExt cx="457200" cy="533160"/>
              </a:xfrm>
            </p:grpSpPr>
            <p:sp>
              <p:nvSpPr>
                <p:cNvPr id="3089" name=""/>
                <p:cNvSpPr/>
                <p:nvPr/>
              </p:nvSpPr>
              <p:spPr>
                <a:xfrm>
                  <a:off x="5486400" y="48006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486400" y="5067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486400" y="5333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2" name=""/>
              <p:cNvSpPr/>
              <p:nvPr/>
            </p:nvSpPr>
            <p:spPr>
              <a:xfrm>
                <a:off x="5370480" y="474192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781680" y="5105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019560" y="4572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034960" y="4572000"/>
                <a:ext cx="424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A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959720" y="4876560"/>
                <a:ext cx="42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61160" y="5181480"/>
                <a:ext cx="420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C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373720" y="499428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373720" y="5257800"/>
                <a:ext cx="11556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712560" y="464796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0000"/>
                    </a:solidFill>
                    <a:latin typeface=""/>
                  </a:rPr>
                  <a:t>Y</a:t>
                </a:r>
                <a:r>
                  <a:rPr b="1" lang="en-US" sz="2000" spc="-1" strike="noStrike" baseline="-25000">
                    <a:solidFill>
                      <a:srgbClr val="cc0000"/>
                    </a:solidFill>
                    <a:latin typeface="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400800" y="4572000"/>
                <a:ext cx="228600" cy="2286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162560" y="3886200"/>
                <a:ext cx="6098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126200" y="3846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7848360" y="3276360"/>
                <a:ext cx="0" cy="533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629400" y="380988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629400" y="5029200"/>
                <a:ext cx="150840" cy="15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772400" y="3809880"/>
                <a:ext cx="115920" cy="115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7839000" y="2153880"/>
                <a:ext cx="0" cy="6858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772400" y="2819160"/>
                <a:ext cx="152280" cy="45720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896600" y="18277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11000" y="2763000"/>
                <a:ext cx="46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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2" name=""/>
            <p:cNvSpPr/>
            <p:nvPr/>
          </p:nvSpPr>
          <p:spPr>
            <a:xfrm>
              <a:off x="7646040" y="3885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3" name=""/>
          <p:cNvGrpSpPr/>
          <p:nvPr/>
        </p:nvGrpSpPr>
        <p:grpSpPr>
          <a:xfrm>
            <a:off x="4343400" y="2362320"/>
            <a:ext cx="990720" cy="2744640"/>
            <a:chOff x="4343400" y="2362320"/>
            <a:chExt cx="990720" cy="2744640"/>
          </a:xfrm>
        </p:grpSpPr>
        <p:grpSp>
          <p:nvGrpSpPr>
            <p:cNvPr id="3114" name=""/>
            <p:cNvGrpSpPr/>
            <p:nvPr/>
          </p:nvGrpSpPr>
          <p:grpSpPr>
            <a:xfrm>
              <a:off x="4351320" y="2362320"/>
              <a:ext cx="677880" cy="761760"/>
              <a:chOff x="4351320" y="2362320"/>
              <a:chExt cx="677880" cy="761760"/>
            </a:xfrm>
          </p:grpSpPr>
          <p:sp>
            <p:nvSpPr>
              <p:cNvPr id="3115" name=""/>
              <p:cNvSpPr/>
              <p:nvPr/>
            </p:nvSpPr>
            <p:spPr>
              <a:xfrm>
                <a:off x="4876920" y="2362320"/>
                <a:ext cx="152280" cy="76176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351320" y="25135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“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"/>
                  </a:rPr>
                  <a:t>1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7" name=""/>
            <p:cNvSpPr/>
            <p:nvPr/>
          </p:nvSpPr>
          <p:spPr>
            <a:xfrm>
              <a:off x="4343400" y="3427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343400" y="46472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7391520" y="426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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5620680" y="563796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线与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1" name=""/>
          <p:cNvGrpSpPr/>
          <p:nvPr/>
        </p:nvGrpSpPr>
        <p:grpSpPr>
          <a:xfrm>
            <a:off x="6858000" y="2590920"/>
            <a:ext cx="228600" cy="2590200"/>
            <a:chOff x="6858000" y="2590920"/>
            <a:chExt cx="228600" cy="2590200"/>
          </a:xfrm>
        </p:grpSpPr>
        <p:sp>
          <p:nvSpPr>
            <p:cNvPr id="3122" name=""/>
            <p:cNvSpPr/>
            <p:nvPr/>
          </p:nvSpPr>
          <p:spPr>
            <a:xfrm>
              <a:off x="6858000" y="2590920"/>
              <a:ext cx="15228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34320" y="3809880"/>
              <a:ext cx="15228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858000" y="4952880"/>
              <a:ext cx="15228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5" name=""/>
          <p:cNvGrpSpPr/>
          <p:nvPr/>
        </p:nvGrpSpPr>
        <p:grpSpPr>
          <a:xfrm>
            <a:off x="4486680" y="2438280"/>
            <a:ext cx="354600" cy="459720"/>
            <a:chOff x="4486680" y="2438280"/>
            <a:chExt cx="354600" cy="459720"/>
          </a:xfrm>
        </p:grpSpPr>
        <p:sp>
          <p:nvSpPr>
            <p:cNvPr id="3126" name=""/>
            <p:cNvSpPr/>
            <p:nvPr/>
          </p:nvSpPr>
          <p:spPr>
            <a:xfrm>
              <a:off x="4572000" y="2438280"/>
              <a:ext cx="152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86680" y="243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51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56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61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66" dur="5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304920" y="1096200"/>
            <a:ext cx="53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4. 1  CMOS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非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9" name=""/>
          <p:cNvGrpSpPr/>
          <p:nvPr/>
        </p:nvGrpSpPr>
        <p:grpSpPr>
          <a:xfrm>
            <a:off x="1240200" y="1671840"/>
            <a:ext cx="3213360" cy="3826440"/>
            <a:chOff x="1240200" y="1671840"/>
            <a:chExt cx="3213360" cy="3826440"/>
          </a:xfrm>
        </p:grpSpPr>
        <p:sp>
          <p:nvSpPr>
            <p:cNvPr id="3130" name=""/>
            <p:cNvSpPr/>
            <p:nvPr/>
          </p:nvSpPr>
          <p:spPr>
            <a:xfrm>
              <a:off x="3303360" y="371952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401560" y="2676600"/>
              <a:ext cx="0" cy="20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401560" y="2676600"/>
              <a:ext cx="28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403360" y="4726080"/>
              <a:ext cx="28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668320" y="2676600"/>
              <a:ext cx="0" cy="815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684160" y="3908520"/>
              <a:ext cx="0" cy="81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858760" y="3870360"/>
              <a:ext cx="0" cy="239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858760" y="4248000"/>
              <a:ext cx="0" cy="23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858760" y="4599000"/>
              <a:ext cx="0" cy="239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896920" y="2587680"/>
              <a:ext cx="0" cy="239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896920" y="2965320"/>
              <a:ext cx="0" cy="238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896920" y="3317760"/>
              <a:ext cx="0" cy="238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896920" y="3076560"/>
              <a:ext cx="417240" cy="11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3315960" y="2046240"/>
              <a:ext cx="0" cy="10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278160" y="1996920"/>
              <a:ext cx="85320" cy="8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896920" y="2700360"/>
              <a:ext cx="418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877840" y="3995640"/>
              <a:ext cx="418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896920" y="3430440"/>
              <a:ext cx="418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877840" y="4713120"/>
              <a:ext cx="418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296880" y="3430440"/>
              <a:ext cx="0" cy="578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2877480" y="4371840"/>
              <a:ext cx="4172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278160" y="437364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3122280" y="508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715760" y="373212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240200" y="3436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幼圆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056480" y="34441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362760" y="28418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  <a:ea typeface="幼圆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383280" y="167184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幼圆"/>
                </a:rPr>
                <a:t>D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314520" y="4160880"/>
              <a:ext cx="60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幼圆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300400" y="5038560"/>
              <a:ext cx="9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沟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369520" y="198108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沟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277360" y="468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339280" y="2287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613240" y="351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36880" y="229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71720" y="467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626840" y="3703680"/>
              <a:ext cx="8568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997080" y="3679920"/>
              <a:ext cx="85320" cy="8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8" name=""/>
          <p:cNvSpPr/>
          <p:nvPr/>
        </p:nvSpPr>
        <p:spPr>
          <a:xfrm>
            <a:off x="2452680" y="399960"/>
            <a:ext cx="46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20.4   CMOS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门电路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9" name=""/>
          <p:cNvGrpSpPr/>
          <p:nvPr/>
        </p:nvGrpSpPr>
        <p:grpSpPr>
          <a:xfrm>
            <a:off x="4157640" y="2895480"/>
            <a:ext cx="2089800" cy="520560"/>
            <a:chOff x="4157640" y="2895480"/>
            <a:chExt cx="2089800" cy="520560"/>
          </a:xfrm>
        </p:grpSpPr>
        <p:sp>
          <p:nvSpPr>
            <p:cNvPr id="3170" name=""/>
            <p:cNvSpPr/>
            <p:nvPr/>
          </p:nvSpPr>
          <p:spPr>
            <a:xfrm>
              <a:off x="4733280" y="2895480"/>
              <a:ext cx="151416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PMOS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157640" y="320040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2" name=""/>
          <p:cNvGrpSpPr/>
          <p:nvPr/>
        </p:nvGrpSpPr>
        <p:grpSpPr>
          <a:xfrm>
            <a:off x="4157640" y="4419720"/>
            <a:ext cx="2218320" cy="520560"/>
            <a:chOff x="4157640" y="4419720"/>
            <a:chExt cx="2218320" cy="520560"/>
          </a:xfrm>
        </p:grpSpPr>
        <p:sp>
          <p:nvSpPr>
            <p:cNvPr id="3173" name=""/>
            <p:cNvSpPr/>
            <p:nvPr/>
          </p:nvSpPr>
          <p:spPr>
            <a:xfrm>
              <a:off x="4796280" y="4419720"/>
              <a:ext cx="157968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NMOS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157640" y="4647960"/>
              <a:ext cx="520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5" name=""/>
          <p:cNvSpPr/>
          <p:nvPr/>
        </p:nvSpPr>
        <p:spPr>
          <a:xfrm>
            <a:off x="6519960" y="3657600"/>
            <a:ext cx="1828800" cy="520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CMOS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rot="5400000">
            <a:off x="5529240" y="3505320"/>
            <a:ext cx="914400" cy="914400"/>
          </a:xfrm>
          <a:custGeom>
            <a:avLst/>
            <a:gdLst/>
            <a:ahLst/>
            <a:rect l="l" t="t" r="r" b="b"/>
            <a:pathLst>
              <a:path w="21600" h="15099">
                <a:moveTo>
                  <a:pt x="0" y="10800"/>
                </a:moveTo>
                <a:lnTo>
                  <a:pt x="4152" y="6500"/>
                </a:lnTo>
                <a:lnTo>
                  <a:pt x="4152" y="9384"/>
                </a:lnTo>
                <a:lnTo>
                  <a:pt x="9384" y="9384"/>
                </a:lnTo>
                <a:lnTo>
                  <a:pt x="9384" y="4152"/>
                </a:lnTo>
                <a:lnTo>
                  <a:pt x="6500" y="4152"/>
                </a:lnTo>
                <a:lnTo>
                  <a:pt x="10800" y="0"/>
                </a:lnTo>
                <a:lnTo>
                  <a:pt x="15099" y="4152"/>
                </a:lnTo>
                <a:lnTo>
                  <a:pt x="12215" y="4152"/>
                </a:lnTo>
                <a:lnTo>
                  <a:pt x="12215" y="9384"/>
                </a:lnTo>
                <a:lnTo>
                  <a:pt x="17447" y="9384"/>
                </a:lnTo>
                <a:lnTo>
                  <a:pt x="17447" y="6500"/>
                </a:lnTo>
                <a:lnTo>
                  <a:pt x="21600" y="10800"/>
                </a:lnTo>
                <a:lnTo>
                  <a:pt x="17447" y="15099"/>
                </a:lnTo>
                <a:lnTo>
                  <a:pt x="17447" y="12215"/>
                </a:lnTo>
                <a:lnTo>
                  <a:pt x="4152" y="12215"/>
                </a:lnTo>
                <a:lnTo>
                  <a:pt x="4152" y="1509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1238400" y="2004840"/>
            <a:ext cx="1066680" cy="457200"/>
          </a:xfrm>
          <a:prstGeom prst="wedgeRoundRectCallout">
            <a:avLst>
              <a:gd name="adj1" fmla="val 95833"/>
              <a:gd name="adj2" fmla="val 188888"/>
              <a:gd name="adj3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负载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162080" y="4976640"/>
            <a:ext cx="1066680" cy="457200"/>
          </a:xfrm>
          <a:prstGeom prst="wedgeRoundRectCallout">
            <a:avLst>
              <a:gd name="adj1" fmla="val 101041"/>
              <a:gd name="adj2" fmla="val -164930"/>
              <a:gd name="adj3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驱动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6372360" y="4395960"/>
            <a:ext cx="23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互补对称管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5114880" y="1635840"/>
            <a:ext cx="3124080" cy="1065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=“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导通，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截止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=“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5072040" y="5060160"/>
            <a:ext cx="3124080" cy="1065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=“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截止，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导通，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Y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=“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1847880" y="5586480"/>
            <a:ext cx="1066680" cy="520560"/>
            <a:chOff x="1847880" y="5586480"/>
            <a:chExt cx="1066680" cy="520560"/>
          </a:xfrm>
        </p:grpSpPr>
        <p:sp>
          <p:nvSpPr>
            <p:cNvPr id="3183" name=""/>
            <p:cNvSpPr/>
            <p:nvPr/>
          </p:nvSpPr>
          <p:spPr>
            <a:xfrm>
              <a:off x="1847880" y="5586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=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457360" y="56628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73" dur="500"/>
                                        <p:tgtEl>
                                          <p:spTgt spid="3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78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83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88" dur="5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93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598" dur="500"/>
                                        <p:tgtEl>
                                          <p:spTgt spid="3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03" dur="500"/>
                                        <p:tgtEl>
                                          <p:spTgt spid="3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08" dur="500"/>
                                        <p:tgtEl>
                                          <p:spTgt spid="3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0" nodeType="afterEffect" fill="hold" presetClass="entr" presetID="3" presetSubtype="10"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612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4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1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20" dur="5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25" dur="500"/>
                                        <p:tgtEl>
                                          <p:spTgt spid="3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"/>
          <p:cNvSpPr/>
          <p:nvPr/>
        </p:nvSpPr>
        <p:spPr>
          <a:xfrm>
            <a:off x="5205240" y="1464120"/>
            <a:ext cx="312264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幼圆"/>
              </a:rPr>
              <a:t>T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幼圆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幼圆"/>
              </a:rPr>
              <a:t>T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幼圆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并联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幼圆"/>
              </a:rPr>
              <a:t>T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幼圆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幼圆"/>
              </a:rPr>
              <a:t>T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幼圆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串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4586400" y="2655360"/>
            <a:ext cx="409896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是高电平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导通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截止；输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低电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4591080" y="4753080"/>
            <a:ext cx="40147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是低电平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截止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导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高电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609480" y="483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 4. 2  CMOS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与非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9" name=""/>
          <p:cNvGrpSpPr/>
          <p:nvPr/>
        </p:nvGrpSpPr>
        <p:grpSpPr>
          <a:xfrm>
            <a:off x="373680" y="1560600"/>
            <a:ext cx="4172040" cy="4192560"/>
            <a:chOff x="373680" y="1560600"/>
            <a:chExt cx="4172040" cy="4192560"/>
          </a:xfrm>
        </p:grpSpPr>
        <p:sp>
          <p:nvSpPr>
            <p:cNvPr id="3190" name=""/>
            <p:cNvSpPr/>
            <p:nvPr/>
          </p:nvSpPr>
          <p:spPr>
            <a:xfrm>
              <a:off x="2877120" y="2319120"/>
              <a:ext cx="0" cy="873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854080" y="4480200"/>
              <a:ext cx="0" cy="87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069360" y="4439520"/>
              <a:ext cx="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069360" y="4836960"/>
              <a:ext cx="0" cy="2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069360" y="5208480"/>
              <a:ext cx="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096000" y="3391200"/>
              <a:ext cx="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075480" y="3723120"/>
              <a:ext cx="0" cy="2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069360" y="4080600"/>
              <a:ext cx="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075480" y="5328360"/>
              <a:ext cx="435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08040" y="4197240"/>
              <a:ext cx="0" cy="36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511080" y="3829320"/>
              <a:ext cx="0" cy="192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384360" y="5753160"/>
              <a:ext cx="28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096000" y="2940120"/>
              <a:ext cx="0" cy="252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075480" y="2262960"/>
              <a:ext cx="0" cy="252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096000" y="3058560"/>
              <a:ext cx="216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61800" y="2395440"/>
              <a:ext cx="4896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531240" y="19324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856960" y="3444120"/>
              <a:ext cx="0" cy="86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312720" y="3046320"/>
              <a:ext cx="0" cy="491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075480" y="2595600"/>
              <a:ext cx="0" cy="250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651040" y="2315880"/>
              <a:ext cx="254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908880" y="3280320"/>
              <a:ext cx="81000" cy="91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154600" y="2144160"/>
              <a:ext cx="1371600" cy="2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492360" y="1794960"/>
              <a:ext cx="97920" cy="105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94160" y="4287960"/>
              <a:ext cx="2082960" cy="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73680" y="5042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幼圆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73680" y="4008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幼圆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582000" y="22842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  <a:ea typeface="幼圆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08880" y="26384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  <a:ea typeface="幼圆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591360" y="4760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幼圆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570840" y="36464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幼圆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610800" y="1560600"/>
              <a:ext cx="93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幼圆"/>
                </a:rPr>
                <a:t>D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983760" y="3054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133000" y="3085200"/>
              <a:ext cx="0" cy="234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731960" y="2979000"/>
              <a:ext cx="0" cy="252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731960" y="2634480"/>
              <a:ext cx="0" cy="252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758600" y="2303640"/>
              <a:ext cx="0" cy="250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59640" y="2144160"/>
              <a:ext cx="0" cy="636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560240" y="2302200"/>
              <a:ext cx="0" cy="915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235880" y="2303640"/>
              <a:ext cx="343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1245240" y="2300040"/>
              <a:ext cx="0" cy="306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20400" y="3328560"/>
              <a:ext cx="181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3102120" y="2696760"/>
              <a:ext cx="44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75440" y="5331600"/>
              <a:ext cx="211140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624760" y="2294280"/>
              <a:ext cx="0" cy="201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096000" y="3523320"/>
              <a:ext cx="236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273480" y="3285000"/>
              <a:ext cx="91800" cy="63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767960" y="2410920"/>
              <a:ext cx="374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725840" y="2757600"/>
              <a:ext cx="449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753920" y="3089880"/>
              <a:ext cx="382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3074040" y="3838680"/>
              <a:ext cx="44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069360" y="4213440"/>
              <a:ext cx="236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055320" y="4554720"/>
              <a:ext cx="282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H="1">
              <a:off x="3041280" y="4957200"/>
              <a:ext cx="44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4" name=""/>
          <p:cNvSpPr/>
          <p:nvPr/>
        </p:nvSpPr>
        <p:spPr>
          <a:xfrm>
            <a:off x="738000" y="11422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882320" y="111384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32" dur="500"/>
                                        <p:tgtEl>
                                          <p:spTgt spid="3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37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42" dur="5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47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52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57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6" name=""/>
          <p:cNvGrpSpPr/>
          <p:nvPr/>
        </p:nvGrpSpPr>
        <p:grpSpPr>
          <a:xfrm>
            <a:off x="457200" y="2133720"/>
            <a:ext cx="4329720" cy="3733200"/>
            <a:chOff x="457200" y="2133720"/>
            <a:chExt cx="4329720" cy="3733200"/>
          </a:xfrm>
        </p:grpSpPr>
        <p:sp>
          <p:nvSpPr>
            <p:cNvPr id="3247" name=""/>
            <p:cNvSpPr/>
            <p:nvPr/>
          </p:nvSpPr>
          <p:spPr>
            <a:xfrm>
              <a:off x="515880" y="3283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038400" y="2536920"/>
              <a:ext cx="0" cy="794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014640" y="4517640"/>
              <a:ext cx="0" cy="80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214440" y="4530600"/>
              <a:ext cx="0" cy="23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214440" y="4846680"/>
              <a:ext cx="0" cy="23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214440" y="5190480"/>
              <a:ext cx="0" cy="23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254040" y="3513600"/>
              <a:ext cx="0" cy="23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233520" y="3821400"/>
              <a:ext cx="0" cy="231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3214440" y="4150800"/>
              <a:ext cx="0" cy="232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254040" y="3636720"/>
              <a:ext cx="207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3233520" y="4660560"/>
              <a:ext cx="237960" cy="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233520" y="4309920"/>
              <a:ext cx="215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233520" y="530100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449520" y="4296960"/>
              <a:ext cx="0" cy="37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665520" y="4921200"/>
              <a:ext cx="0" cy="94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484440" y="5829480"/>
              <a:ext cx="377280" cy="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V="1">
              <a:off x="2100240" y="4443480"/>
              <a:ext cx="224748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1371240" y="2523960"/>
              <a:ext cx="0" cy="28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233520" y="3061440"/>
              <a:ext cx="0" cy="23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233520" y="2475360"/>
              <a:ext cx="0" cy="231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254040" y="3184560"/>
              <a:ext cx="215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233520" y="2596680"/>
              <a:ext cx="431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684240" y="2169720"/>
              <a:ext cx="0" cy="176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017520" y="3564360"/>
              <a:ext cx="0" cy="794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470040" y="3168000"/>
              <a:ext cx="0" cy="488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233520" y="2781000"/>
              <a:ext cx="0" cy="231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019160" y="2523960"/>
              <a:ext cx="203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flipV="1">
              <a:off x="2124000" y="5550480"/>
              <a:ext cx="1537920" cy="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646440" y="2133720"/>
              <a:ext cx="93240" cy="9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587240" y="4530600"/>
              <a:ext cx="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116080" y="4456440"/>
              <a:ext cx="0" cy="18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128680" y="4946400"/>
              <a:ext cx="0" cy="61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1742760" y="5234040"/>
              <a:ext cx="385560" cy="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1742760" y="5141880"/>
              <a:ext cx="0" cy="23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742760" y="4823280"/>
              <a:ext cx="0" cy="23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769760" y="4517640"/>
              <a:ext cx="0" cy="23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1742400" y="4939200"/>
              <a:ext cx="409320" cy="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798560" y="4615560"/>
              <a:ext cx="32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716640" y="2613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幼圆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716640" y="3577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幼圆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054520" y="46339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702240" y="4567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幼圆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1357200" y="5301000"/>
              <a:ext cx="258480" cy="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1004760" y="3564360"/>
              <a:ext cx="2012400" cy="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57200" y="2255760"/>
              <a:ext cx="6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V="1">
              <a:off x="2646000" y="5306040"/>
              <a:ext cx="361800" cy="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646000" y="3566160"/>
              <a:ext cx="0" cy="176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389840" y="4159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409920" y="4432320"/>
              <a:ext cx="77400" cy="4716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3205080" y="4948200"/>
              <a:ext cx="478800" cy="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214440" y="3933360"/>
              <a:ext cx="468000" cy="5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19120" y="2882160"/>
              <a:ext cx="468000" cy="5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333680" y="4390920"/>
              <a:ext cx="93240" cy="9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952200" y="2486160"/>
              <a:ext cx="93240" cy="9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904680" y="3522600"/>
              <a:ext cx="9324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4800600" y="2278080"/>
            <a:ext cx="37116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是高电平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导通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截止，输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低电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4786200" y="4252320"/>
            <a:ext cx="374184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是低电平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截止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幼圆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导通；输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高电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059120" y="456480"/>
            <a:ext cx="41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4. 3  CMOS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或非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850680" y="1242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039280" y="122796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64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69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74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1679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168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"/>
          <p:cNvSpPr/>
          <p:nvPr/>
        </p:nvSpPr>
        <p:spPr>
          <a:xfrm>
            <a:off x="1154880" y="50724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. 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4  CMOS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传输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8" name=""/>
          <p:cNvGrpSpPr/>
          <p:nvPr/>
        </p:nvGrpSpPr>
        <p:grpSpPr>
          <a:xfrm>
            <a:off x="988560" y="1722960"/>
            <a:ext cx="3159000" cy="4029480"/>
            <a:chOff x="988560" y="1722960"/>
            <a:chExt cx="3159000" cy="4029480"/>
          </a:xfrm>
        </p:grpSpPr>
        <p:sp>
          <p:nvSpPr>
            <p:cNvPr id="3309" name=""/>
            <p:cNvSpPr/>
            <p:nvPr/>
          </p:nvSpPr>
          <p:spPr>
            <a:xfrm>
              <a:off x="1856520" y="1867320"/>
              <a:ext cx="800640" cy="522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696320" y="5000760"/>
              <a:ext cx="800280" cy="522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1" name=""/>
            <p:cNvGrpSpPr/>
            <p:nvPr/>
          </p:nvGrpSpPr>
          <p:grpSpPr>
            <a:xfrm>
              <a:off x="988560" y="1867320"/>
              <a:ext cx="3159000" cy="3592440"/>
              <a:chOff x="988560" y="1867320"/>
              <a:chExt cx="3159000" cy="3592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3494520" y="3003480"/>
                <a:ext cx="653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988560" y="3490200"/>
                <a:ext cx="42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1616040" y="4305600"/>
                <a:ext cx="521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5" name=""/>
              <p:cNvGrpSpPr/>
              <p:nvPr/>
            </p:nvGrpSpPr>
            <p:grpSpPr>
              <a:xfrm>
                <a:off x="3417840" y="4129920"/>
                <a:ext cx="194400" cy="333360"/>
                <a:chOff x="3417840" y="4129920"/>
                <a:chExt cx="194400" cy="333360"/>
              </a:xfrm>
            </p:grpSpPr>
            <p:sp>
              <p:nvSpPr>
                <p:cNvPr id="3316" name=""/>
                <p:cNvSpPr/>
                <p:nvPr/>
              </p:nvSpPr>
              <p:spPr>
                <a:xfrm>
                  <a:off x="3513960" y="4129920"/>
                  <a:ext cx="0" cy="33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3417840" y="4463280"/>
                  <a:ext cx="19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8" name=""/>
              <p:cNvSpPr/>
              <p:nvPr/>
            </p:nvSpPr>
            <p:spPr>
              <a:xfrm>
                <a:off x="2496600" y="412992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1535760" y="3781800"/>
                <a:ext cx="64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1412640" y="3694680"/>
                <a:ext cx="121680" cy="13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flipV="1">
                <a:off x="2176560" y="2910960"/>
                <a:ext cx="0" cy="165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2" name=""/>
              <p:cNvGrpSpPr/>
              <p:nvPr/>
            </p:nvGrpSpPr>
            <p:grpSpPr>
              <a:xfrm>
                <a:off x="2091600" y="2909880"/>
                <a:ext cx="799920" cy="19080"/>
                <a:chOff x="2091600" y="2909880"/>
                <a:chExt cx="799920" cy="19080"/>
              </a:xfrm>
            </p:grpSpPr>
            <p:sp>
              <p:nvSpPr>
                <p:cNvPr id="3323" name=""/>
                <p:cNvSpPr/>
                <p:nvPr/>
              </p:nvSpPr>
              <p:spPr>
                <a:xfrm flipH="1">
                  <a:off x="2091600" y="2921760"/>
                  <a:ext cx="208080" cy="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H="1">
                  <a:off x="2700000" y="2909880"/>
                  <a:ext cx="19152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H="1">
                  <a:off x="2396520" y="2914920"/>
                  <a:ext cx="208080" cy="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6" name=""/>
              <p:cNvSpPr/>
              <p:nvPr/>
            </p:nvSpPr>
            <p:spPr>
              <a:xfrm>
                <a:off x="2489040" y="2920680"/>
                <a:ext cx="3600" cy="44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flipH="1">
                <a:off x="2221200" y="2801880"/>
                <a:ext cx="556920" cy="1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V="1">
                <a:off x="2218320" y="2389320"/>
                <a:ext cx="0" cy="4348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9" name=""/>
              <p:cNvGrpSpPr/>
              <p:nvPr/>
            </p:nvGrpSpPr>
            <p:grpSpPr>
              <a:xfrm>
                <a:off x="2496600" y="3259800"/>
                <a:ext cx="1002240" cy="131760"/>
                <a:chOff x="2496600" y="3259800"/>
                <a:chExt cx="1002240" cy="131760"/>
              </a:xfrm>
            </p:grpSpPr>
            <p:sp>
              <p:nvSpPr>
                <p:cNvPr id="3330" name=""/>
                <p:cNvSpPr/>
                <p:nvPr/>
              </p:nvSpPr>
              <p:spPr>
                <a:xfrm>
                  <a:off x="3377160" y="3259800"/>
                  <a:ext cx="121680" cy="131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2496600" y="3346200"/>
                  <a:ext cx="88056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2" name=""/>
              <p:cNvGrpSpPr/>
              <p:nvPr/>
            </p:nvGrpSpPr>
            <p:grpSpPr>
              <a:xfrm>
                <a:off x="2096640" y="4129920"/>
                <a:ext cx="799920" cy="956520"/>
                <a:chOff x="2096640" y="4129920"/>
                <a:chExt cx="799920" cy="956520"/>
              </a:xfrm>
            </p:grpSpPr>
            <p:grpSp>
              <p:nvGrpSpPr>
                <p:cNvPr id="3333" name=""/>
                <p:cNvGrpSpPr/>
                <p:nvPr/>
              </p:nvGrpSpPr>
              <p:grpSpPr>
                <a:xfrm>
                  <a:off x="2096640" y="4561560"/>
                  <a:ext cx="799920" cy="19080"/>
                  <a:chOff x="2096640" y="4561560"/>
                  <a:chExt cx="799920" cy="19080"/>
                </a:xfrm>
              </p:grpSpPr>
              <p:sp>
                <p:nvSpPr>
                  <p:cNvPr id="3334" name=""/>
                  <p:cNvSpPr/>
                  <p:nvPr/>
                </p:nvSpPr>
                <p:spPr>
                  <a:xfrm flipH="1">
                    <a:off x="2096640" y="4573440"/>
                    <a:ext cx="208080" cy="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H="1">
                    <a:off x="2705040" y="4561560"/>
                    <a:ext cx="191520" cy="6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H="1">
                    <a:off x="2401560" y="4566600"/>
                    <a:ext cx="208080" cy="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37" name=""/>
                <p:cNvSpPr/>
                <p:nvPr/>
              </p:nvSpPr>
              <p:spPr>
                <a:xfrm flipH="1">
                  <a:off x="2176200" y="4641840"/>
                  <a:ext cx="556920" cy="19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 flipV="1">
                  <a:off x="2176560" y="4651560"/>
                  <a:ext cx="0" cy="434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2500560" y="4129920"/>
                  <a:ext cx="3600" cy="442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0" name=""/>
              <p:cNvSpPr/>
              <p:nvPr/>
            </p:nvSpPr>
            <p:spPr>
              <a:xfrm>
                <a:off x="3457440" y="3694680"/>
                <a:ext cx="121680" cy="13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817000" y="3781800"/>
                <a:ext cx="6400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V="1">
                <a:off x="2817000" y="2910960"/>
                <a:ext cx="0" cy="165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1616040" y="2911320"/>
                <a:ext cx="521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4" name=""/>
              <p:cNvGrpSpPr/>
              <p:nvPr/>
            </p:nvGrpSpPr>
            <p:grpSpPr>
              <a:xfrm>
                <a:off x="2026080" y="1867320"/>
                <a:ext cx="366480" cy="459720"/>
                <a:chOff x="2026080" y="1867320"/>
                <a:chExt cx="366480" cy="459720"/>
              </a:xfrm>
            </p:grpSpPr>
            <p:sp>
              <p:nvSpPr>
                <p:cNvPr id="3345" name=""/>
                <p:cNvSpPr/>
                <p:nvPr/>
              </p:nvSpPr>
              <p:spPr>
                <a:xfrm>
                  <a:off x="2026080" y="186732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2096280" y="1954080"/>
                  <a:ext cx="23976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7" name=""/>
              <p:cNvSpPr/>
              <p:nvPr/>
            </p:nvSpPr>
            <p:spPr>
              <a:xfrm>
                <a:off x="1946520" y="50000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90640" y="352656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?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9" name=""/>
            <p:cNvSpPr/>
            <p:nvPr/>
          </p:nvSpPr>
          <p:spPr>
            <a:xfrm>
              <a:off x="2551680" y="5292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93600" y="1722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1" name=""/>
          <p:cNvSpPr/>
          <p:nvPr/>
        </p:nvSpPr>
        <p:spPr>
          <a:xfrm>
            <a:off x="915480" y="110880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790880" y="113760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3" name=""/>
          <p:cNvGrpSpPr/>
          <p:nvPr/>
        </p:nvGrpSpPr>
        <p:grpSpPr>
          <a:xfrm>
            <a:off x="4716000" y="1599480"/>
            <a:ext cx="1970640" cy="615240"/>
            <a:chOff x="4716000" y="1599480"/>
            <a:chExt cx="1970640" cy="615240"/>
          </a:xfrm>
        </p:grpSpPr>
        <p:sp>
          <p:nvSpPr>
            <p:cNvPr id="3354" name=""/>
            <p:cNvSpPr/>
            <p:nvPr/>
          </p:nvSpPr>
          <p:spPr>
            <a:xfrm>
              <a:off x="4716000" y="1599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设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5" name="" descr=""/>
            <p:cNvPicPr/>
            <p:nvPr/>
          </p:nvPicPr>
          <p:blipFill>
            <a:blip r:embed="rId1"/>
            <a:stretch/>
          </p:blipFill>
          <p:spPr>
            <a:xfrm>
              <a:off x="5194440" y="1616040"/>
              <a:ext cx="149220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6" name=""/>
          <p:cNvGrpSpPr/>
          <p:nvPr/>
        </p:nvGrpSpPr>
        <p:grpSpPr>
          <a:xfrm>
            <a:off x="2277720" y="2513520"/>
            <a:ext cx="726480" cy="2593440"/>
            <a:chOff x="2277720" y="2513520"/>
            <a:chExt cx="726480" cy="2593440"/>
          </a:xfrm>
        </p:grpSpPr>
        <p:sp>
          <p:nvSpPr>
            <p:cNvPr id="3357" name=""/>
            <p:cNvSpPr/>
            <p:nvPr/>
          </p:nvSpPr>
          <p:spPr>
            <a:xfrm>
              <a:off x="2277720" y="464724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"/>
                </a:rPr>
                <a:t>1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440440" y="2513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9" name=""/>
          <p:cNvSpPr/>
          <p:nvPr/>
        </p:nvSpPr>
        <p:spPr>
          <a:xfrm>
            <a:off x="4724280" y="3065760"/>
            <a:ext cx="37339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可见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?"/>
              </a:rPr>
              <a:t>0~10V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连续变化时，至少有一个管子导通，传输门打开，（相当于开关接通） 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可传输到输出端，即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?"/>
              </a:rPr>
              <a:t>O</a:t>
            </a:r>
            <a:r>
              <a:rPr b="1" lang="en-US" sz="2800" spc="-1" strike="noStrike">
                <a:solidFill>
                  <a:srgbClr val="ff3300"/>
                </a:solidFill>
                <a:latin typeface="?"/>
              </a:rPr>
              <a:t>= 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?"/>
              </a:rPr>
              <a:t>COMS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传输门可以传输模拟信号，也称为</a:t>
            </a:r>
            <a:r>
              <a:rPr b="1" lang="zh-CN" sz="2800" spc="-1" strike="noStrike">
                <a:solidFill>
                  <a:srgbClr val="cc0000"/>
                </a:solidFill>
                <a:latin typeface="?"/>
              </a:rPr>
              <a:t>模拟开关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664560" y="394704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?"/>
              </a:rPr>
              <a:t>0~7V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3429000" y="4809960"/>
            <a:ext cx="838080" cy="609840"/>
          </a:xfrm>
          <a:prstGeom prst="wedgeEllipseCallout">
            <a:avLst>
              <a:gd name="adj1" fmla="val -142046"/>
              <a:gd name="adj2" fmla="val -110416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635040" y="32756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?"/>
              </a:rPr>
              <a:t>3~10V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3414600" y="2414520"/>
            <a:ext cx="838440" cy="609840"/>
          </a:xfrm>
          <a:prstGeom prst="wedgeEllipseCallout">
            <a:avLst>
              <a:gd name="adj1" fmla="val -135416"/>
              <a:gd name="adj2" fmla="val 84634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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91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696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01" dur="500"/>
                                        <p:tgtEl>
                                          <p:spTgt spid="3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06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11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16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721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26" dur="500"/>
                                        <p:tgtEl>
                                          <p:spTgt spid="3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731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36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4" name=""/>
          <p:cNvGrpSpPr/>
          <p:nvPr/>
        </p:nvGrpSpPr>
        <p:grpSpPr>
          <a:xfrm>
            <a:off x="612720" y="1536840"/>
            <a:ext cx="3034080" cy="3583800"/>
            <a:chOff x="612720" y="1536840"/>
            <a:chExt cx="3034080" cy="3583800"/>
          </a:xfrm>
        </p:grpSpPr>
        <p:sp>
          <p:nvSpPr>
            <p:cNvPr id="3365" name=""/>
            <p:cNvSpPr/>
            <p:nvPr/>
          </p:nvSpPr>
          <p:spPr>
            <a:xfrm>
              <a:off x="1447920" y="1690560"/>
              <a:ext cx="762120" cy="4568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295640" y="4433760"/>
              <a:ext cx="761760" cy="4568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7" name=""/>
            <p:cNvGrpSpPr/>
            <p:nvPr/>
          </p:nvGrpSpPr>
          <p:grpSpPr>
            <a:xfrm>
              <a:off x="612720" y="1690560"/>
              <a:ext cx="3034080" cy="3202560"/>
              <a:chOff x="612720" y="1690560"/>
              <a:chExt cx="3034080" cy="3202560"/>
            </a:xfrm>
          </p:grpSpPr>
          <p:sp>
            <p:nvSpPr>
              <p:cNvPr id="3368" name=""/>
              <p:cNvSpPr/>
              <p:nvPr/>
            </p:nvSpPr>
            <p:spPr>
              <a:xfrm>
                <a:off x="2993760" y="2654280"/>
                <a:ext cx="653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12720" y="3076920"/>
                <a:ext cx="42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1219320" y="382392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1" name=""/>
              <p:cNvGrpSpPr/>
              <p:nvPr/>
            </p:nvGrpSpPr>
            <p:grpSpPr>
              <a:xfrm>
                <a:off x="2934000" y="3671280"/>
                <a:ext cx="185400" cy="291960"/>
                <a:chOff x="2934000" y="3671280"/>
                <a:chExt cx="185400" cy="29196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3025800" y="367128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2934000" y="3963240"/>
                  <a:ext cx="185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4" name=""/>
              <p:cNvSpPr/>
              <p:nvPr/>
            </p:nvSpPr>
            <p:spPr>
              <a:xfrm>
                <a:off x="2057400" y="367128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 flipH="1">
                <a:off x="1143000" y="336672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025640" y="329040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V="1">
                <a:off x="1752840" y="260424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8" name=""/>
              <p:cNvGrpSpPr/>
              <p:nvPr/>
            </p:nvGrpSpPr>
            <p:grpSpPr>
              <a:xfrm>
                <a:off x="1671480" y="2602800"/>
                <a:ext cx="761760" cy="17640"/>
                <a:chOff x="1671480" y="2602800"/>
                <a:chExt cx="761760" cy="17640"/>
              </a:xfrm>
            </p:grpSpPr>
            <p:sp>
              <p:nvSpPr>
                <p:cNvPr id="3379" name=""/>
                <p:cNvSpPr/>
                <p:nvPr/>
              </p:nvSpPr>
              <p:spPr>
                <a:xfrm flipH="1">
                  <a:off x="1671480" y="2613240"/>
                  <a:ext cx="198360" cy="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H="1">
                  <a:off x="2250720" y="2602800"/>
                  <a:ext cx="18252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H="1">
                  <a:off x="1962000" y="2607120"/>
                  <a:ext cx="198360" cy="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2" name=""/>
              <p:cNvSpPr/>
              <p:nvPr/>
            </p:nvSpPr>
            <p:spPr>
              <a:xfrm>
                <a:off x="2050200" y="2612520"/>
                <a:ext cx="2520" cy="38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H="1">
                <a:off x="1795320" y="2507760"/>
                <a:ext cx="530280" cy="1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V="1">
                <a:off x="1792440" y="2147040"/>
                <a:ext cx="0" cy="38052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5" name=""/>
              <p:cNvGrpSpPr/>
              <p:nvPr/>
            </p:nvGrpSpPr>
            <p:grpSpPr>
              <a:xfrm>
                <a:off x="2057400" y="2909520"/>
                <a:ext cx="954360" cy="115560"/>
                <a:chOff x="2057400" y="2909520"/>
                <a:chExt cx="954360" cy="1155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2895840" y="2909520"/>
                  <a:ext cx="115920" cy="115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2057400" y="2985120"/>
                  <a:ext cx="838440" cy="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8" name=""/>
              <p:cNvGrpSpPr/>
              <p:nvPr/>
            </p:nvGrpSpPr>
            <p:grpSpPr>
              <a:xfrm>
                <a:off x="1676160" y="3671280"/>
                <a:ext cx="761760" cy="837720"/>
                <a:chOff x="1676160" y="3671280"/>
                <a:chExt cx="761760" cy="837720"/>
              </a:xfrm>
            </p:grpSpPr>
            <p:grpSp>
              <p:nvGrpSpPr>
                <p:cNvPr id="3389" name=""/>
                <p:cNvGrpSpPr/>
                <p:nvPr/>
              </p:nvGrpSpPr>
              <p:grpSpPr>
                <a:xfrm>
                  <a:off x="1676160" y="4048920"/>
                  <a:ext cx="761760" cy="17640"/>
                  <a:chOff x="1676160" y="4048920"/>
                  <a:chExt cx="761760" cy="17640"/>
                </a:xfrm>
              </p:grpSpPr>
              <p:sp>
                <p:nvSpPr>
                  <p:cNvPr id="3390" name=""/>
                  <p:cNvSpPr/>
                  <p:nvPr/>
                </p:nvSpPr>
                <p:spPr>
                  <a:xfrm flipH="1">
                    <a:off x="1676160" y="4059360"/>
                    <a:ext cx="198360" cy="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H="1">
                    <a:off x="2255400" y="4048920"/>
                    <a:ext cx="182520" cy="6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H="1">
                    <a:off x="1966680" y="4053240"/>
                    <a:ext cx="198360" cy="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3" name=""/>
                <p:cNvSpPr/>
                <p:nvPr/>
              </p:nvSpPr>
              <p:spPr>
                <a:xfrm flipH="1">
                  <a:off x="1752480" y="4118760"/>
                  <a:ext cx="530280" cy="1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 flipV="1">
                  <a:off x="1752840" y="412812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2061360" y="3671280"/>
                  <a:ext cx="2520" cy="387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6" name=""/>
              <p:cNvSpPr/>
              <p:nvPr/>
            </p:nvSpPr>
            <p:spPr>
              <a:xfrm>
                <a:off x="2971800" y="3290400"/>
                <a:ext cx="115920" cy="11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2362320" y="336672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2362320" y="260424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219320" y="2604600"/>
                <a:ext cx="49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0" name=""/>
              <p:cNvGrpSpPr/>
              <p:nvPr/>
            </p:nvGrpSpPr>
            <p:grpSpPr>
              <a:xfrm>
                <a:off x="1610640" y="1690560"/>
                <a:ext cx="366480" cy="459720"/>
                <a:chOff x="1610640" y="1690560"/>
                <a:chExt cx="366480" cy="45972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1610640" y="169056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676520" y="176652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3" name=""/>
              <p:cNvSpPr/>
              <p:nvPr/>
            </p:nvSpPr>
            <p:spPr>
              <a:xfrm>
                <a:off x="1534680" y="44334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088440" y="311148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?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5" name=""/>
            <p:cNvSpPr/>
            <p:nvPr/>
          </p:nvSpPr>
          <p:spPr>
            <a:xfrm>
              <a:off x="2093400" y="4660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322000" y="1536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"/>
                </a:rPr>
                <a:t>控制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1820520" y="2070360"/>
            <a:ext cx="726480" cy="2593080"/>
            <a:chOff x="1820520" y="2070360"/>
            <a:chExt cx="726480" cy="2593080"/>
          </a:xfrm>
        </p:grpSpPr>
        <p:sp>
          <p:nvSpPr>
            <p:cNvPr id="3408" name=""/>
            <p:cNvSpPr/>
            <p:nvPr/>
          </p:nvSpPr>
          <p:spPr>
            <a:xfrm>
              <a:off x="1830960" y="420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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820520" y="207036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"/>
                </a:rPr>
                <a:t>1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0" name=""/>
          <p:cNvSpPr/>
          <p:nvPr/>
        </p:nvSpPr>
        <p:spPr>
          <a:xfrm>
            <a:off x="4572000" y="2143080"/>
            <a:ext cx="41148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可见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?"/>
              </a:rPr>
              <a:t>0~10V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连续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化时，两管子均截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传输门关断，（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开关断开） 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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不能传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到输出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406440" y="2908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?"/>
              </a:rPr>
              <a:t>0~10V</a:t>
            </a:r>
            <a:r>
              <a:rPr b="1" lang="zh-CN" sz="2400" spc="-1" strike="noStrike">
                <a:solidFill>
                  <a:srgbClr val="ff3300"/>
                </a:solidFill>
                <a:latin typeface="?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2" name=""/>
          <p:cNvGrpSpPr/>
          <p:nvPr/>
        </p:nvGrpSpPr>
        <p:grpSpPr>
          <a:xfrm>
            <a:off x="2895480" y="2071800"/>
            <a:ext cx="838080" cy="2818800"/>
            <a:chOff x="2895480" y="2071800"/>
            <a:chExt cx="838080" cy="2818800"/>
          </a:xfrm>
        </p:grpSpPr>
        <p:sp>
          <p:nvSpPr>
            <p:cNvPr id="3413" name=""/>
            <p:cNvSpPr/>
            <p:nvPr/>
          </p:nvSpPr>
          <p:spPr>
            <a:xfrm>
              <a:off x="2895480" y="4281120"/>
              <a:ext cx="838080" cy="609480"/>
            </a:xfrm>
            <a:prstGeom prst="wedgeEllipseCallout">
              <a:avLst>
                <a:gd name="adj1" fmla="val -142046"/>
                <a:gd name="adj2" fmla="val -110416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895480" y="2071800"/>
              <a:ext cx="838080" cy="609120"/>
            </a:xfrm>
            <a:prstGeom prst="wedgeEllipseCallout">
              <a:avLst>
                <a:gd name="adj1" fmla="val -135416"/>
                <a:gd name="adj2" fmla="val 84634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"/>
                </a:rPr>
                <a:t>截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5" name=""/>
          <p:cNvGrpSpPr/>
          <p:nvPr/>
        </p:nvGrpSpPr>
        <p:grpSpPr>
          <a:xfrm>
            <a:off x="838080" y="5118840"/>
            <a:ext cx="4893840" cy="1054080"/>
            <a:chOff x="838080" y="5118840"/>
            <a:chExt cx="4893840" cy="1054080"/>
          </a:xfrm>
        </p:grpSpPr>
        <p:sp>
          <p:nvSpPr>
            <p:cNvPr id="3416" name=""/>
            <p:cNvSpPr/>
            <p:nvPr/>
          </p:nvSpPr>
          <p:spPr>
            <a:xfrm>
              <a:off x="838080" y="5118840"/>
              <a:ext cx="12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?"/>
                </a:rPr>
                <a:t>结论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997360" y="5118840"/>
              <a:ext cx="27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en-US" sz="2800" spc="-1" strike="noStrike">
                  <a:solidFill>
                    <a:srgbClr val="000099"/>
                  </a:solidFill>
                  <a:latin typeface="?"/>
                </a:rPr>
                <a:t>=“1”(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en-US" sz="2800" spc="-1" strike="noStrike">
                  <a:solidFill>
                    <a:srgbClr val="000099"/>
                  </a:solidFill>
                  <a:latin typeface="?"/>
                </a:rPr>
                <a:t>=“0”)</a:t>
              </a:r>
              <a:r>
                <a:rPr b="1" lang="zh-CN" sz="2800" spc="-1" strike="noStrike">
                  <a:solidFill>
                    <a:srgbClr val="000000"/>
                  </a:solidFill>
                  <a:latin typeface="?"/>
                </a:rPr>
                <a:t>时传输门开通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58640" y="5652360"/>
              <a:ext cx="256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en-US" sz="2800" spc="-1" strike="noStrike">
                  <a:solidFill>
                    <a:srgbClr val="000099"/>
                  </a:solidFill>
                  <a:latin typeface="?"/>
                </a:rPr>
                <a:t>=“0”(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?"/>
                </a:rPr>
                <a:t>C</a:t>
              </a:r>
              <a:r>
                <a:rPr b="1" lang="en-US" sz="2800" spc="-1" strike="noStrike">
                  <a:solidFill>
                    <a:srgbClr val="000099"/>
                  </a:solidFill>
                  <a:latin typeface="?"/>
                </a:rPr>
                <a:t>=“1”)</a:t>
              </a:r>
              <a:r>
                <a:rPr b="1" lang="zh-CN" sz="2800" spc="-1" strike="noStrike">
                  <a:solidFill>
                    <a:srgbClr val="000000"/>
                  </a:solidFill>
                  <a:latin typeface="?"/>
                </a:rPr>
                <a:t>时传输门关断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200400" y="57294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124080" y="51958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1" name=""/>
          <p:cNvSpPr/>
          <p:nvPr/>
        </p:nvSpPr>
        <p:spPr>
          <a:xfrm>
            <a:off x="1154880" y="50724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. 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4  CMOS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传输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915480" y="110880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3" name=""/>
          <p:cNvGrpSpPr/>
          <p:nvPr/>
        </p:nvGrpSpPr>
        <p:grpSpPr>
          <a:xfrm>
            <a:off x="4716000" y="1137600"/>
            <a:ext cx="1970640" cy="1077120"/>
            <a:chOff x="4716000" y="1137600"/>
            <a:chExt cx="1970640" cy="1077120"/>
          </a:xfrm>
        </p:grpSpPr>
        <p:sp>
          <p:nvSpPr>
            <p:cNvPr id="3424" name=""/>
            <p:cNvSpPr/>
            <p:nvPr/>
          </p:nvSpPr>
          <p:spPr>
            <a:xfrm>
              <a:off x="4790880" y="1137600"/>
              <a:ext cx="170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2.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工作原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5" name=""/>
            <p:cNvGrpSpPr/>
            <p:nvPr/>
          </p:nvGrpSpPr>
          <p:grpSpPr>
            <a:xfrm>
              <a:off x="4716000" y="1599480"/>
              <a:ext cx="1970640" cy="615240"/>
              <a:chOff x="4716000" y="1599480"/>
              <a:chExt cx="1970640" cy="615240"/>
            </a:xfrm>
          </p:grpSpPr>
          <p:sp>
            <p:nvSpPr>
              <p:cNvPr id="3426" name=""/>
              <p:cNvSpPr/>
              <p:nvPr/>
            </p:nvSpPr>
            <p:spPr>
              <a:xfrm>
                <a:off x="4716000" y="15994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"/>
                  </a:rPr>
                  <a:t>设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94440" y="1616040"/>
                <a:ext cx="1492200" cy="59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43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48" dur="500"/>
                                        <p:tgtEl>
                                          <p:spTgt spid="3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53" dur="500"/>
                                        <p:tgtEl>
                                          <p:spTgt spid="3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758" dur="500"/>
                                        <p:tgtEl>
                                          <p:spTgt spid="3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63" dur="500"/>
                                        <p:tgtEl>
                                          <p:spTgt spid="3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68" dur="5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8" name=""/>
          <p:cNvGrpSpPr/>
          <p:nvPr/>
        </p:nvGrpSpPr>
        <p:grpSpPr>
          <a:xfrm>
            <a:off x="1069920" y="1308600"/>
            <a:ext cx="2839320" cy="3416400"/>
            <a:chOff x="1069920" y="1308600"/>
            <a:chExt cx="2839320" cy="3416400"/>
          </a:xfrm>
        </p:grpSpPr>
        <p:grpSp>
          <p:nvGrpSpPr>
            <p:cNvPr id="3429" name=""/>
            <p:cNvGrpSpPr/>
            <p:nvPr/>
          </p:nvGrpSpPr>
          <p:grpSpPr>
            <a:xfrm>
              <a:off x="1069920" y="1308600"/>
              <a:ext cx="2839320" cy="2898000"/>
              <a:chOff x="1069920" y="1308600"/>
              <a:chExt cx="2839320" cy="2898000"/>
            </a:xfrm>
          </p:grpSpPr>
          <p:sp>
            <p:nvSpPr>
              <p:cNvPr id="3430" name=""/>
              <p:cNvSpPr/>
              <p:nvPr/>
            </p:nvSpPr>
            <p:spPr>
              <a:xfrm>
                <a:off x="2057400" y="2376360"/>
                <a:ext cx="762120" cy="83844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2362320" y="2224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1447920" y="283356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2819520" y="2833560"/>
                <a:ext cx="60948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2438640" y="1766880"/>
                <a:ext cx="0" cy="45720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2438640" y="3214440"/>
                <a:ext cx="0" cy="60948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2156400" y="2603880"/>
                <a:ext cx="57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T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069920" y="2467800"/>
                <a:ext cx="427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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404160" y="2502720"/>
                <a:ext cx="50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?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228400" y="3746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228400" y="1308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286000" y="1386000"/>
                <a:ext cx="228600" cy="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2" name=""/>
            <p:cNvSpPr/>
            <p:nvPr/>
          </p:nvSpPr>
          <p:spPr>
            <a:xfrm>
              <a:off x="1968840" y="420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3" name=""/>
          <p:cNvSpPr/>
          <p:nvPr/>
        </p:nvSpPr>
        <p:spPr>
          <a:xfrm>
            <a:off x="6292440" y="579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开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4" name=""/>
          <p:cNvGrpSpPr/>
          <p:nvPr/>
        </p:nvGrpSpPr>
        <p:grpSpPr>
          <a:xfrm>
            <a:off x="4863600" y="684720"/>
            <a:ext cx="2756160" cy="2608920"/>
            <a:chOff x="4863600" y="684720"/>
            <a:chExt cx="2756160" cy="2608920"/>
          </a:xfrm>
        </p:grpSpPr>
        <p:sp>
          <p:nvSpPr>
            <p:cNvPr id="3445" name=""/>
            <p:cNvSpPr/>
            <p:nvPr/>
          </p:nvSpPr>
          <p:spPr>
            <a:xfrm>
              <a:off x="5790960" y="1684440"/>
              <a:ext cx="703440" cy="76968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072120" y="1542960"/>
              <a:ext cx="141120" cy="14148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229000" y="210348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494400" y="2103480"/>
              <a:ext cx="563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6143400" y="1123920"/>
              <a:ext cx="0" cy="4190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6143400" y="2453760"/>
              <a:ext cx="0" cy="560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859720" y="18738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863600" y="17438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54560" y="17438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512320" y="2784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934600" y="684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001920" y="772920"/>
              <a:ext cx="21132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7" name=""/>
            <p:cNvGrpSpPr/>
            <p:nvPr/>
          </p:nvGrpSpPr>
          <p:grpSpPr>
            <a:xfrm>
              <a:off x="5790600" y="2714760"/>
              <a:ext cx="1266840" cy="578880"/>
              <a:chOff x="5790600" y="2714760"/>
              <a:chExt cx="1266840" cy="578880"/>
            </a:xfrm>
          </p:grpSpPr>
          <p:sp>
            <p:nvSpPr>
              <p:cNvPr id="3458" name=""/>
              <p:cNvSpPr/>
              <p:nvPr/>
            </p:nvSpPr>
            <p:spPr>
              <a:xfrm>
                <a:off x="6424200" y="2733480"/>
                <a:ext cx="492120" cy="560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543720" y="271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916680" y="2943720"/>
                <a:ext cx="140760" cy="1396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flipH="1">
                <a:off x="5790600" y="3013560"/>
                <a:ext cx="6332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2" name=""/>
            <p:cNvSpPr/>
            <p:nvPr/>
          </p:nvSpPr>
          <p:spPr>
            <a:xfrm>
              <a:off x="7057800" y="301464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7619760" y="1123920"/>
              <a:ext cx="0" cy="1890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6143400" y="1123920"/>
              <a:ext cx="14763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181480" y="25308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028840" y="1084320"/>
              <a:ext cx="762120" cy="457200"/>
            </a:xfrm>
            <a:prstGeom prst="wedgeRoundRectCallout">
              <a:avLst>
                <a:gd name="adj1" fmla="val 98541"/>
                <a:gd name="adj2" fmla="val 179861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开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4863600" y="3199320"/>
            <a:ext cx="2756160" cy="2608920"/>
            <a:chOff x="4863600" y="3199320"/>
            <a:chExt cx="2756160" cy="2608920"/>
          </a:xfrm>
        </p:grpSpPr>
        <p:sp>
          <p:nvSpPr>
            <p:cNvPr id="3468" name=""/>
            <p:cNvSpPr/>
            <p:nvPr/>
          </p:nvSpPr>
          <p:spPr>
            <a:xfrm>
              <a:off x="5790960" y="4199040"/>
              <a:ext cx="703440" cy="769680"/>
            </a:xfrm>
            <a:prstGeom prst="rect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072120" y="4057560"/>
              <a:ext cx="141120" cy="141480"/>
            </a:xfrm>
            <a:prstGeom prst="ellipse">
              <a:avLst/>
            </a:prstGeom>
            <a:noFill/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229000" y="461808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94400" y="4618080"/>
              <a:ext cx="56340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6143400" y="3638520"/>
              <a:ext cx="0" cy="41904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6143400" y="4968360"/>
              <a:ext cx="0" cy="5605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859720" y="4388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863600" y="42584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054560" y="425844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512320" y="5299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934600" y="3199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001920" y="3287520"/>
              <a:ext cx="21132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5790600" y="5229360"/>
              <a:ext cx="1266840" cy="578880"/>
              <a:chOff x="5790600" y="5229360"/>
              <a:chExt cx="1266840" cy="578880"/>
            </a:xfrm>
          </p:grpSpPr>
          <p:sp>
            <p:nvSpPr>
              <p:cNvPr id="3481" name=""/>
              <p:cNvSpPr/>
              <p:nvPr/>
            </p:nvSpPr>
            <p:spPr>
              <a:xfrm>
                <a:off x="6424200" y="5248080"/>
                <a:ext cx="492120" cy="560160"/>
              </a:xfrm>
              <a:prstGeom prst="rect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543720" y="5229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916680" y="5458320"/>
                <a:ext cx="140760" cy="139680"/>
              </a:xfrm>
              <a:prstGeom prst="ellipse">
                <a:avLst/>
              </a:prstGeom>
              <a:noFill/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5790600" y="5528160"/>
                <a:ext cx="633240" cy="0"/>
              </a:xfrm>
              <a:prstGeom prst="line">
                <a:avLst/>
              </a:prstGeom>
              <a:ln w="3816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5" name=""/>
            <p:cNvSpPr/>
            <p:nvPr/>
          </p:nvSpPr>
          <p:spPr>
            <a:xfrm>
              <a:off x="7057800" y="5529240"/>
              <a:ext cx="5619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7619760" y="3638520"/>
              <a:ext cx="0" cy="189072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143400" y="3638520"/>
              <a:ext cx="1476360" cy="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181480" y="50454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028840" y="3598920"/>
              <a:ext cx="762120" cy="457200"/>
            </a:xfrm>
            <a:prstGeom prst="wedgeRoundRectCallout">
              <a:avLst>
                <a:gd name="adj1" fmla="val 98541"/>
                <a:gd name="adj2" fmla="val 179861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"/>
                </a:rPr>
                <a:t>关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90" name="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1042920" cy="1177920"/>
          </a:xfrm>
          <a:prstGeom prst="rect">
            <a:avLst/>
          </a:prstGeom>
          <a:ln w="0">
            <a:noFill/>
          </a:ln>
        </p:spPr>
      </p:pic>
      <p:sp>
        <p:nvSpPr>
          <p:cNvPr id="3491" name=""/>
          <p:cNvSpPr/>
          <p:nvPr/>
        </p:nvSpPr>
        <p:spPr>
          <a:xfrm>
            <a:off x="1154880" y="45648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0.4. 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4  CMOS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传输门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87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91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"/>
          <p:cNvSpPr/>
          <p:nvPr/>
        </p:nvSpPr>
        <p:spPr>
          <a:xfrm>
            <a:off x="533520" y="533520"/>
            <a:ext cx="533160" cy="457200"/>
          </a:xfrm>
          <a:prstGeom prst="star5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 txBox="1"/>
          <p:nvPr/>
        </p:nvSpPr>
        <p:spPr>
          <a:xfrm>
            <a:off x="1143000" y="60948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MOS</a:t>
            </a:r>
            <a:r>
              <a:rPr b="1" lang="zh-CN" sz="2400" spc="1" strike="noStrike">
                <a:ln w="1908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路优点</a:t>
            </a:r>
            <a:endParaRPr b="1" lang="en-US" sz="2400" spc="1" strike="noStrike">
              <a:ln w="1908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94" name=""/>
          <p:cNvSpPr/>
          <p:nvPr/>
        </p:nvSpPr>
        <p:spPr>
          <a:xfrm>
            <a:off x="533520" y="1371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静态功耗低（每门只有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0.01mW, TTL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每门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0m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533520" y="19051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抗干扰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33520" y="2376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扇出系数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533520" y="29098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允许电源电压范围宽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 3 ~ 18V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563400" y="3619440"/>
            <a:ext cx="2941560" cy="495360"/>
            <a:chOff x="563400" y="3619440"/>
            <a:chExt cx="2941560" cy="495360"/>
          </a:xfrm>
        </p:grpSpPr>
        <p:sp>
          <p:nvSpPr>
            <p:cNvPr id="3499" name=""/>
            <p:cNvSpPr/>
            <p:nvPr/>
          </p:nvSpPr>
          <p:spPr>
            <a:xfrm>
              <a:off x="563400" y="3619440"/>
              <a:ext cx="45720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 txBox="1"/>
            <p:nvPr/>
          </p:nvSpPr>
          <p:spPr>
            <a:xfrm>
              <a:off x="1249200" y="3619440"/>
              <a:ext cx="22557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TTL</a:t>
              </a:r>
              <a:r>
                <a:rPr b="1" lang="zh-CN" sz="24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电路优点</a:t>
              </a:r>
              <a:endParaRPr b="1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501" name=""/>
          <p:cNvSpPr/>
          <p:nvPr/>
        </p:nvSpPr>
        <p:spPr>
          <a:xfrm>
            <a:off x="533520" y="41911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速度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33520" y="4724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抗干扰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5335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带负载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5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逻辑代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85800" y="1842120"/>
            <a:ext cx="79246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代数</a:t>
            </a:r>
            <a:r>
              <a:rPr b="1" lang="zh-CN" sz="2800" spc="-1" strike="noStrike">
                <a:solidFill>
                  <a:srgbClr val="010000"/>
                </a:solidFill>
                <a:latin typeface=""/>
              </a:rPr>
              <a:t>（又称布尔代数），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它是分析设计逻辑电路的数学工具。虽然它和普通代数一样也用字母表示变量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但变量的取值只有“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，“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两种，分别称为逻辑“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和逻辑“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。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这里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和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并不表示数量的大小，而是表示两种相互对立的逻辑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09480" y="4687200"/>
            <a:ext cx="792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代数所表示的是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关系</a:t>
            </a:r>
            <a:r>
              <a:rPr b="1" lang="zh-CN" sz="3200" spc="-1" strike="noStrike">
                <a:solidFill>
                  <a:srgbClr val="00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而不是数量关系。这是它与普通代数的本质区别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3733920" y="281952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286000" y="32767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62120" y="3809880"/>
            <a:ext cx="754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62120" y="42670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5334120" y="328932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7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03" dur="500"/>
                                        <p:tgtEl>
                                          <p:spTgt spid="3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5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07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16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20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25" dur="500"/>
                                        <p:tgtEl>
                                          <p:spTgt spid="3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2120" y="691920"/>
            <a:ext cx="7551720" cy="793440"/>
            <a:chOff x="762120" y="691920"/>
            <a:chExt cx="7551720" cy="793440"/>
          </a:xfrm>
        </p:grpSpPr>
        <p:sp>
          <p:nvSpPr>
            <p:cNvPr id="136" name=""/>
            <p:cNvSpPr/>
            <p:nvPr/>
          </p:nvSpPr>
          <p:spPr>
            <a:xfrm>
              <a:off x="838440" y="879480"/>
              <a:ext cx="7475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处理数字信号的电路称为数字电路</a:t>
              </a: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，它注重研究的是输入、输出信号之间的逻辑关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691920"/>
              <a:ext cx="457200" cy="46512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62120" y="1805040"/>
            <a:ext cx="7467480" cy="759240"/>
            <a:chOff x="762120" y="1805040"/>
            <a:chExt cx="7467480" cy="759240"/>
          </a:xfrm>
        </p:grpSpPr>
        <p:sp>
          <p:nvSpPr>
            <p:cNvPr id="139" name=""/>
            <p:cNvSpPr/>
            <p:nvPr/>
          </p:nvSpPr>
          <p:spPr>
            <a:xfrm>
              <a:off x="857520" y="2001240"/>
              <a:ext cx="73720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18"/>
                  </a:solidFill>
                  <a:latin typeface=""/>
                </a:rPr>
                <a:t>在数字电路中，晶体管一般工作在截止区和饱和区，起开关的作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1805040"/>
              <a:ext cx="45720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98920" y="2833560"/>
            <a:ext cx="6286320" cy="1054080"/>
            <a:chOff x="898920" y="2833560"/>
            <a:chExt cx="6286320" cy="1054080"/>
          </a:xfrm>
        </p:grpSpPr>
        <p:sp>
          <p:nvSpPr>
            <p:cNvPr id="142" name=""/>
            <p:cNvSpPr/>
            <p:nvPr/>
          </p:nvSpPr>
          <p:spPr>
            <a:xfrm>
              <a:off x="898920" y="2986200"/>
              <a:ext cx="1034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脉冲信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0" y="2909880"/>
              <a:ext cx="76320" cy="9144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90640" y="283356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正脉冲：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脉冲跃变后的值比初始值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90640" y="336708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负脉冲：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脉冲跃变后的值比初始值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13616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09680" y="3886200"/>
            <a:ext cx="4938840" cy="1145520"/>
            <a:chOff x="2209680" y="3886200"/>
            <a:chExt cx="4938840" cy="1145520"/>
          </a:xfrm>
        </p:grpSpPr>
        <p:grpSp>
          <p:nvGrpSpPr>
            <p:cNvPr id="148" name=""/>
            <p:cNvGrpSpPr/>
            <p:nvPr/>
          </p:nvGrpSpPr>
          <p:grpSpPr>
            <a:xfrm>
              <a:off x="2209680" y="3886200"/>
              <a:ext cx="1371600" cy="1145520"/>
              <a:chOff x="2209680" y="3886200"/>
              <a:chExt cx="1371600" cy="11455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514600" y="4190760"/>
                <a:ext cx="1066680" cy="685440"/>
                <a:chOff x="2514600" y="4190760"/>
                <a:chExt cx="1066680" cy="6854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514600" y="487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2819520" y="419076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19520" y="4190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3276720" y="419076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76720" y="48762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209680" y="4572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09680" y="3886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+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038480" y="3962520"/>
              <a:ext cx="1676520" cy="1069200"/>
              <a:chOff x="4038480" y="3962520"/>
              <a:chExt cx="1676520" cy="1069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4648320" y="4191120"/>
                <a:ext cx="1066680" cy="685440"/>
                <a:chOff x="4648320" y="4191120"/>
                <a:chExt cx="1066680" cy="685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648320" y="48765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4953240" y="4191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53240" y="41911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5410440" y="4191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410440" y="487656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572000" y="3962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3848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-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327720" y="4267080"/>
              <a:ext cx="82080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正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057400" y="5029200"/>
            <a:ext cx="5167080" cy="1145520"/>
            <a:chOff x="2057400" y="5029200"/>
            <a:chExt cx="5167080" cy="1145520"/>
          </a:xfrm>
        </p:grpSpPr>
        <p:grpSp>
          <p:nvGrpSpPr>
            <p:cNvPr id="168" name=""/>
            <p:cNvGrpSpPr/>
            <p:nvPr/>
          </p:nvGrpSpPr>
          <p:grpSpPr>
            <a:xfrm>
              <a:off x="2057400" y="5029200"/>
              <a:ext cx="1676520" cy="1145520"/>
              <a:chOff x="2057400" y="5029200"/>
              <a:chExt cx="1676520" cy="11455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667240" y="5334120"/>
                <a:ext cx="1066680" cy="685440"/>
                <a:chOff x="2667240" y="5334120"/>
                <a:chExt cx="1066680" cy="68544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3429000" y="533412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29000" y="5334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971800" y="60195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71800" y="533412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2667240" y="533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62320" y="5715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57400" y="5029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+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114800" y="5105520"/>
              <a:ext cx="1599840" cy="1069200"/>
              <a:chOff x="4114800" y="5105520"/>
              <a:chExt cx="1599840" cy="10692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4647960" y="5334120"/>
                <a:ext cx="1066680" cy="685440"/>
                <a:chOff x="4647960" y="5334120"/>
                <a:chExt cx="1066680" cy="685440"/>
              </a:xfrm>
            </p:grpSpPr>
            <p:sp>
              <p:nvSpPr>
                <p:cNvPr id="179" name=""/>
                <p:cNvSpPr/>
                <p:nvPr/>
              </p:nvSpPr>
              <p:spPr>
                <a:xfrm flipH="1">
                  <a:off x="5409720" y="533412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09720" y="5334480"/>
                  <a:ext cx="0" cy="68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4952520" y="6019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952520" y="5334480"/>
                  <a:ext cx="0" cy="68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4647960" y="533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4267440" y="51055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14800" y="5715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-3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6403680" y="5334120"/>
              <a:ext cx="820800" cy="520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负脉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常量与变量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76212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5. 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逻辑代数运算法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685800" y="472428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逻辑代数的基本运算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5" name=""/>
          <p:cNvGrpSpPr/>
          <p:nvPr/>
        </p:nvGrpSpPr>
        <p:grpSpPr>
          <a:xfrm>
            <a:off x="990720" y="1676520"/>
            <a:ext cx="5163840" cy="550800"/>
            <a:chOff x="990720" y="1676520"/>
            <a:chExt cx="5163840" cy="550800"/>
          </a:xfrm>
        </p:grpSpPr>
        <p:sp>
          <p:nvSpPr>
            <p:cNvPr id="3516" name=""/>
            <p:cNvSpPr/>
            <p:nvPr/>
          </p:nvSpPr>
          <p:spPr>
            <a:xfrm>
              <a:off x="990720" y="1676520"/>
              <a:ext cx="209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自等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7" name="" descr=""/>
            <p:cNvPicPr/>
            <p:nvPr/>
          </p:nvPicPr>
          <p:blipFill>
            <a:blip r:embed="rId1"/>
            <a:stretch/>
          </p:blipFill>
          <p:spPr>
            <a:xfrm>
              <a:off x="2532240" y="1676520"/>
              <a:ext cx="362232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8" name=""/>
          <p:cNvGrpSpPr/>
          <p:nvPr/>
        </p:nvGrpSpPr>
        <p:grpSpPr>
          <a:xfrm>
            <a:off x="1066680" y="2286000"/>
            <a:ext cx="4923000" cy="550800"/>
            <a:chOff x="1066680" y="2286000"/>
            <a:chExt cx="4923000" cy="550800"/>
          </a:xfrm>
        </p:grpSpPr>
        <p:sp>
          <p:nvSpPr>
            <p:cNvPr id="3519" name=""/>
            <p:cNvSpPr/>
            <p:nvPr/>
          </p:nvSpPr>
          <p:spPr>
            <a:xfrm>
              <a:off x="1066680" y="2286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-1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0" name="" descr=""/>
            <p:cNvPicPr/>
            <p:nvPr/>
          </p:nvPicPr>
          <p:blipFill>
            <a:blip r:embed="rId2"/>
            <a:stretch/>
          </p:blipFill>
          <p:spPr>
            <a:xfrm>
              <a:off x="2608200" y="2286000"/>
              <a:ext cx="338148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1" name=""/>
          <p:cNvGrpSpPr/>
          <p:nvPr/>
        </p:nvGrpSpPr>
        <p:grpSpPr>
          <a:xfrm>
            <a:off x="990720" y="2895480"/>
            <a:ext cx="5437080" cy="551160"/>
            <a:chOff x="990720" y="2895480"/>
            <a:chExt cx="5437080" cy="551160"/>
          </a:xfrm>
        </p:grpSpPr>
        <p:sp>
          <p:nvSpPr>
            <p:cNvPr id="3522" name=""/>
            <p:cNvSpPr/>
            <p:nvPr/>
          </p:nvSpPr>
          <p:spPr>
            <a:xfrm>
              <a:off x="990720" y="28954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重叠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3" name="" descr=""/>
            <p:cNvPicPr/>
            <p:nvPr/>
          </p:nvPicPr>
          <p:blipFill>
            <a:blip r:embed="rId3"/>
            <a:stretch/>
          </p:blipFill>
          <p:spPr>
            <a:xfrm>
              <a:off x="2562120" y="2895480"/>
              <a:ext cx="3865680" cy="55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4" name=""/>
          <p:cNvGrpSpPr/>
          <p:nvPr/>
        </p:nvGrpSpPr>
        <p:grpSpPr>
          <a:xfrm>
            <a:off x="990720" y="3429000"/>
            <a:ext cx="3276360" cy="704880"/>
            <a:chOff x="990720" y="3429000"/>
            <a:chExt cx="3276360" cy="704880"/>
          </a:xfrm>
        </p:grpSpPr>
        <p:sp>
          <p:nvSpPr>
            <p:cNvPr id="3525" name=""/>
            <p:cNvSpPr/>
            <p:nvPr/>
          </p:nvSpPr>
          <p:spPr>
            <a:xfrm>
              <a:off x="990720" y="35053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还原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6" name="" descr=""/>
            <p:cNvPicPr/>
            <p:nvPr/>
          </p:nvPicPr>
          <p:blipFill>
            <a:blip r:embed="rId4"/>
            <a:stretch/>
          </p:blipFill>
          <p:spPr>
            <a:xfrm>
              <a:off x="2514600" y="3429000"/>
              <a:ext cx="175248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7" name=""/>
          <p:cNvGrpSpPr/>
          <p:nvPr/>
        </p:nvGrpSpPr>
        <p:grpSpPr>
          <a:xfrm>
            <a:off x="990720" y="4078440"/>
            <a:ext cx="5182920" cy="623880"/>
            <a:chOff x="990720" y="4078440"/>
            <a:chExt cx="5182920" cy="623880"/>
          </a:xfrm>
        </p:grpSpPr>
        <p:sp>
          <p:nvSpPr>
            <p:cNvPr id="3528" name=""/>
            <p:cNvSpPr/>
            <p:nvPr/>
          </p:nvSpPr>
          <p:spPr>
            <a:xfrm>
              <a:off x="990720" y="41148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互补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9" name="" descr=""/>
            <p:cNvPicPr/>
            <p:nvPr/>
          </p:nvPicPr>
          <p:blipFill>
            <a:blip r:embed="rId5"/>
            <a:stretch/>
          </p:blipFill>
          <p:spPr>
            <a:xfrm>
              <a:off x="2482920" y="4078440"/>
              <a:ext cx="3690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0" name=""/>
          <p:cNvGrpSpPr/>
          <p:nvPr/>
        </p:nvGrpSpPr>
        <p:grpSpPr>
          <a:xfrm>
            <a:off x="838080" y="5257800"/>
            <a:ext cx="5867280" cy="590040"/>
            <a:chOff x="838080" y="5257800"/>
            <a:chExt cx="5867280" cy="590040"/>
          </a:xfrm>
        </p:grpSpPr>
        <p:sp>
          <p:nvSpPr>
            <p:cNvPr id="3531" name=""/>
            <p:cNvSpPr/>
            <p:nvPr/>
          </p:nvSpPr>
          <p:spPr>
            <a:xfrm>
              <a:off x="838080" y="5257800"/>
              <a:ext cx="129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交换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2" name="" descr=""/>
            <p:cNvPicPr/>
            <p:nvPr/>
          </p:nvPicPr>
          <p:blipFill>
            <a:blip r:embed="rId6"/>
            <a:stretch/>
          </p:blipFill>
          <p:spPr>
            <a:xfrm>
              <a:off x="1955880" y="5329080"/>
              <a:ext cx="4749480" cy="51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3" name=""/>
          <p:cNvGrpSpPr/>
          <p:nvPr/>
        </p:nvGrpSpPr>
        <p:grpSpPr>
          <a:xfrm>
            <a:off x="1066680" y="990720"/>
            <a:ext cx="4572000" cy="171360"/>
            <a:chOff x="1066680" y="990720"/>
            <a:chExt cx="4572000" cy="171360"/>
          </a:xfrm>
        </p:grpSpPr>
        <p:pic>
          <p:nvPicPr>
            <p:cNvPr id="3534" name="" descr=""/>
            <p:cNvPicPr/>
            <p:nvPr/>
          </p:nvPicPr>
          <p:blipFill>
            <a:blip r:embed="rId7"/>
            <a:stretch/>
          </p:blipFill>
          <p:spPr>
            <a:xfrm>
              <a:off x="1971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5" name="" descr=""/>
            <p:cNvPicPr/>
            <p:nvPr/>
          </p:nvPicPr>
          <p:blipFill>
            <a:blip r:embed="rId8"/>
            <a:stretch/>
          </p:blipFill>
          <p:spPr>
            <a:xfrm>
              <a:off x="2114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6" name="" descr=""/>
            <p:cNvPicPr/>
            <p:nvPr/>
          </p:nvPicPr>
          <p:blipFill>
            <a:blip r:embed="rId9"/>
            <a:stretch/>
          </p:blipFill>
          <p:spPr>
            <a:xfrm>
              <a:off x="2276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7" name="" descr=""/>
            <p:cNvPicPr/>
            <p:nvPr/>
          </p:nvPicPr>
          <p:blipFill>
            <a:blip r:embed="rId10"/>
            <a:stretch/>
          </p:blipFill>
          <p:spPr>
            <a:xfrm>
              <a:off x="2571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8" name="" descr=""/>
            <p:cNvPicPr/>
            <p:nvPr/>
          </p:nvPicPr>
          <p:blipFill>
            <a:blip r:embed="rId11"/>
            <a:stretch/>
          </p:blipFill>
          <p:spPr>
            <a:xfrm>
              <a:off x="27338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9" name="" descr=""/>
            <p:cNvPicPr/>
            <p:nvPr/>
          </p:nvPicPr>
          <p:blipFill>
            <a:blip r:embed="rId12"/>
            <a:stretch/>
          </p:blipFill>
          <p:spPr>
            <a:xfrm>
              <a:off x="28861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0" name="" descr=""/>
            <p:cNvPicPr/>
            <p:nvPr/>
          </p:nvPicPr>
          <p:blipFill>
            <a:blip r:embed="rId13"/>
            <a:stretch/>
          </p:blipFill>
          <p:spPr>
            <a:xfrm>
              <a:off x="30290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1" name="" descr=""/>
            <p:cNvPicPr/>
            <p:nvPr/>
          </p:nvPicPr>
          <p:blipFill>
            <a:blip r:embed="rId14"/>
            <a:stretch/>
          </p:blipFill>
          <p:spPr>
            <a:xfrm>
              <a:off x="31910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2" name="" descr=""/>
            <p:cNvPicPr/>
            <p:nvPr/>
          </p:nvPicPr>
          <p:blipFill>
            <a:blip r:embed="rId15"/>
            <a:stretch/>
          </p:blipFill>
          <p:spPr>
            <a:xfrm>
              <a:off x="34862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3" name="" descr=""/>
            <p:cNvPicPr/>
            <p:nvPr/>
          </p:nvPicPr>
          <p:blipFill>
            <a:blip r:embed="rId16"/>
            <a:stretch/>
          </p:blipFill>
          <p:spPr>
            <a:xfrm>
              <a:off x="36482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4" name="" descr=""/>
            <p:cNvPicPr/>
            <p:nvPr/>
          </p:nvPicPr>
          <p:blipFill>
            <a:blip r:embed="rId17"/>
            <a:stretch/>
          </p:blipFill>
          <p:spPr>
            <a:xfrm>
              <a:off x="38005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5" name="" descr=""/>
            <p:cNvPicPr/>
            <p:nvPr/>
          </p:nvPicPr>
          <p:blipFill>
            <a:blip r:embed="rId18"/>
            <a:stretch/>
          </p:blipFill>
          <p:spPr>
            <a:xfrm>
              <a:off x="39434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6" name="" descr=""/>
            <p:cNvPicPr/>
            <p:nvPr/>
          </p:nvPicPr>
          <p:blipFill>
            <a:blip r:embed="rId19"/>
            <a:stretch/>
          </p:blipFill>
          <p:spPr>
            <a:xfrm>
              <a:off x="2428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7" name="" descr=""/>
            <p:cNvPicPr/>
            <p:nvPr/>
          </p:nvPicPr>
          <p:blipFill>
            <a:blip r:embed="rId20"/>
            <a:stretch/>
          </p:blipFill>
          <p:spPr>
            <a:xfrm>
              <a:off x="33433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8" name="" descr=""/>
            <p:cNvPicPr/>
            <p:nvPr/>
          </p:nvPicPr>
          <p:blipFill>
            <a:blip r:embed="rId21"/>
            <a:stretch/>
          </p:blipFill>
          <p:spPr>
            <a:xfrm>
              <a:off x="411480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9" name="" descr=""/>
            <p:cNvPicPr/>
            <p:nvPr/>
          </p:nvPicPr>
          <p:blipFill>
            <a:blip r:embed="rId22"/>
            <a:stretch/>
          </p:blipFill>
          <p:spPr>
            <a:xfrm>
              <a:off x="42577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0" name="" descr=""/>
            <p:cNvPicPr/>
            <p:nvPr/>
          </p:nvPicPr>
          <p:blipFill>
            <a:blip r:embed="rId23"/>
            <a:stretch/>
          </p:blipFill>
          <p:spPr>
            <a:xfrm>
              <a:off x="44006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1" name="" descr=""/>
            <p:cNvPicPr/>
            <p:nvPr/>
          </p:nvPicPr>
          <p:blipFill>
            <a:blip r:embed="rId24"/>
            <a:stretch/>
          </p:blipFill>
          <p:spPr>
            <a:xfrm>
              <a:off x="4562640" y="100008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2" name="" descr=""/>
            <p:cNvPicPr/>
            <p:nvPr/>
          </p:nvPicPr>
          <p:blipFill>
            <a:blip r:embed="rId25"/>
            <a:stretch/>
          </p:blipFill>
          <p:spPr>
            <a:xfrm>
              <a:off x="471492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3" name="" descr=""/>
            <p:cNvPicPr/>
            <p:nvPr/>
          </p:nvPicPr>
          <p:blipFill>
            <a:blip r:embed="rId26"/>
            <a:stretch/>
          </p:blipFill>
          <p:spPr>
            <a:xfrm>
              <a:off x="4857840" y="100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4" name=""/>
            <p:cNvGrpSpPr/>
            <p:nvPr/>
          </p:nvGrpSpPr>
          <p:grpSpPr>
            <a:xfrm>
              <a:off x="1066680" y="990720"/>
              <a:ext cx="923760" cy="161640"/>
              <a:chOff x="1066680" y="990720"/>
              <a:chExt cx="923760" cy="161640"/>
            </a:xfrm>
          </p:grpSpPr>
          <p:pic>
            <p:nvPicPr>
              <p:cNvPr id="355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2096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3716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5238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66680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828800" y="9907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066680" y="9907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61" name="" descr=""/>
            <p:cNvPicPr/>
            <p:nvPr/>
          </p:nvPicPr>
          <p:blipFill>
            <a:blip r:embed="rId33"/>
            <a:stretch/>
          </p:blipFill>
          <p:spPr>
            <a:xfrm>
              <a:off x="50198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2" name="" descr=""/>
            <p:cNvPicPr/>
            <p:nvPr/>
          </p:nvPicPr>
          <p:blipFill>
            <a:blip r:embed="rId34"/>
            <a:stretch/>
          </p:blipFill>
          <p:spPr>
            <a:xfrm>
              <a:off x="5181480" y="99072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3" name="" descr=""/>
            <p:cNvPicPr/>
            <p:nvPr/>
          </p:nvPicPr>
          <p:blipFill>
            <a:blip r:embed="rId35"/>
            <a:stretch/>
          </p:blipFill>
          <p:spPr>
            <a:xfrm>
              <a:off x="533412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4" name="" descr=""/>
            <p:cNvPicPr/>
            <p:nvPr/>
          </p:nvPicPr>
          <p:blipFill>
            <a:blip r:embed="rId36"/>
            <a:stretch/>
          </p:blipFill>
          <p:spPr>
            <a:xfrm>
              <a:off x="5477040" y="99072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6" dur="indefinite" restart="never" nodeType="tmRoot">
          <p:childTnLst>
            <p:seq>
              <p:cTn id="1827" dur="indefinite" nodeType="mainSeq">
                <p:childTnLst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32" dur="500"/>
                                        <p:tgtEl>
                                          <p:spTgt spid="3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37" dur="5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42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47" dur="500"/>
                                        <p:tgtEl>
                                          <p:spTgt spid="3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52" dur="500"/>
                                        <p:tgtEl>
                                          <p:spTgt spid="3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57" dur="500"/>
                                        <p:tgtEl>
                                          <p:spTgt spid="3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62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67" dur="5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"/>
          <p:cNvSpPr/>
          <p:nvPr/>
        </p:nvSpPr>
        <p:spPr>
          <a:xfrm>
            <a:off x="914400" y="6094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逻辑代数的基本运算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858000" y="1828800"/>
            <a:ext cx="1447920" cy="990720"/>
          </a:xfrm>
          <a:prstGeom prst="wedgeEllipseCallout">
            <a:avLst>
              <a:gd name="adj1" fmla="val -72805"/>
              <a:gd name="adj2" fmla="val 649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普通代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不适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990720" y="3429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证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8" name="" descr=""/>
          <p:cNvPicPr/>
          <p:nvPr/>
        </p:nvPicPr>
        <p:blipFill>
          <a:blip r:embed="rId2"/>
          <a:stretch/>
        </p:blipFill>
        <p:spPr>
          <a:xfrm>
            <a:off x="1658880" y="3962520"/>
            <a:ext cx="4989600" cy="500040"/>
          </a:xfrm>
          <a:prstGeom prst="rect">
            <a:avLst/>
          </a:prstGeom>
          <a:ln w="0">
            <a:noFill/>
          </a:ln>
        </p:spPr>
      </p:pic>
      <p:grpSp>
        <p:nvGrpSpPr>
          <p:cNvPr id="3569" name=""/>
          <p:cNvGrpSpPr/>
          <p:nvPr/>
        </p:nvGrpSpPr>
        <p:grpSpPr>
          <a:xfrm>
            <a:off x="990720" y="1143000"/>
            <a:ext cx="5564160" cy="1147680"/>
            <a:chOff x="990720" y="1143000"/>
            <a:chExt cx="5564160" cy="1147680"/>
          </a:xfrm>
        </p:grpSpPr>
        <p:sp>
          <p:nvSpPr>
            <p:cNvPr id="3570" name=""/>
            <p:cNvSpPr/>
            <p:nvPr/>
          </p:nvSpPr>
          <p:spPr>
            <a:xfrm>
              <a:off x="990720" y="11430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结合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1" name="" descr=""/>
            <p:cNvPicPr/>
            <p:nvPr/>
          </p:nvPicPr>
          <p:blipFill>
            <a:blip r:embed="rId3"/>
            <a:stretch/>
          </p:blipFill>
          <p:spPr>
            <a:xfrm>
              <a:off x="2281320" y="1219320"/>
              <a:ext cx="42735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2" name="" descr=""/>
            <p:cNvPicPr/>
            <p:nvPr/>
          </p:nvPicPr>
          <p:blipFill>
            <a:blip r:embed="rId4"/>
            <a:stretch/>
          </p:blipFill>
          <p:spPr>
            <a:xfrm>
              <a:off x="2405160" y="1752480"/>
              <a:ext cx="364968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3" name=""/>
          <p:cNvGrpSpPr/>
          <p:nvPr/>
        </p:nvGrpSpPr>
        <p:grpSpPr>
          <a:xfrm>
            <a:off x="990720" y="2247840"/>
            <a:ext cx="6325920" cy="1125720"/>
            <a:chOff x="990720" y="2247840"/>
            <a:chExt cx="6325920" cy="1125720"/>
          </a:xfrm>
        </p:grpSpPr>
        <p:sp>
          <p:nvSpPr>
            <p:cNvPr id="3574" name=""/>
            <p:cNvSpPr/>
            <p:nvPr/>
          </p:nvSpPr>
          <p:spPr>
            <a:xfrm>
              <a:off x="990720" y="22478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分配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5" name="" descr=""/>
            <p:cNvPicPr/>
            <p:nvPr/>
          </p:nvPicPr>
          <p:blipFill>
            <a:blip r:embed="rId5"/>
            <a:stretch/>
          </p:blipFill>
          <p:spPr>
            <a:xfrm>
              <a:off x="2268360" y="2286000"/>
              <a:ext cx="430236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6" name="" descr=""/>
            <p:cNvPicPr/>
            <p:nvPr/>
          </p:nvPicPr>
          <p:blipFill>
            <a:blip r:embed="rId6"/>
            <a:stretch/>
          </p:blipFill>
          <p:spPr>
            <a:xfrm>
              <a:off x="2251080" y="2819520"/>
              <a:ext cx="5065560" cy="5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77" name="" descr=""/>
          <p:cNvPicPr/>
          <p:nvPr/>
        </p:nvPicPr>
        <p:blipFill>
          <a:blip r:embed="rId7"/>
          <a:stretch/>
        </p:blipFill>
        <p:spPr>
          <a:xfrm>
            <a:off x="1658880" y="3429000"/>
            <a:ext cx="2879640" cy="554040"/>
          </a:xfrm>
          <a:prstGeom prst="rect">
            <a:avLst/>
          </a:prstGeom>
          <a:ln w="0">
            <a:noFill/>
          </a:ln>
        </p:spPr>
      </p:pic>
      <p:pic>
        <p:nvPicPr>
          <p:cNvPr id="3578" name="" descr=""/>
          <p:cNvPicPr/>
          <p:nvPr/>
        </p:nvPicPr>
        <p:blipFill>
          <a:blip r:embed="rId8"/>
          <a:stretch/>
        </p:blipFill>
        <p:spPr>
          <a:xfrm>
            <a:off x="1641600" y="4495680"/>
            <a:ext cx="3733560" cy="559080"/>
          </a:xfrm>
          <a:prstGeom prst="rect">
            <a:avLst/>
          </a:prstGeom>
          <a:ln w="0">
            <a:noFill/>
          </a:ln>
        </p:spPr>
      </p:pic>
      <p:pic>
        <p:nvPicPr>
          <p:cNvPr id="3579" name="" descr=""/>
          <p:cNvPicPr/>
          <p:nvPr/>
        </p:nvPicPr>
        <p:blipFill>
          <a:blip r:embed="rId9"/>
          <a:stretch/>
        </p:blipFill>
        <p:spPr>
          <a:xfrm>
            <a:off x="1658880" y="5105520"/>
            <a:ext cx="3618000" cy="556920"/>
          </a:xfrm>
          <a:prstGeom prst="rect">
            <a:avLst/>
          </a:prstGeom>
          <a:ln w="0">
            <a:noFill/>
          </a:ln>
        </p:spPr>
      </p:pic>
      <p:pic>
        <p:nvPicPr>
          <p:cNvPr id="3580" name="" descr=""/>
          <p:cNvPicPr/>
          <p:nvPr/>
        </p:nvPicPr>
        <p:blipFill>
          <a:blip r:embed="rId10"/>
          <a:stretch/>
        </p:blipFill>
        <p:spPr>
          <a:xfrm>
            <a:off x="1676520" y="5638680"/>
            <a:ext cx="1752480" cy="487440"/>
          </a:xfrm>
          <a:prstGeom prst="rect">
            <a:avLst/>
          </a:prstGeom>
          <a:ln w="0">
            <a:noFill/>
          </a:ln>
        </p:spPr>
      </p:pic>
      <p:sp>
        <p:nvSpPr>
          <p:cNvPr id="3581" name=""/>
          <p:cNvSpPr/>
          <p:nvPr/>
        </p:nvSpPr>
        <p:spPr>
          <a:xfrm>
            <a:off x="5638680" y="4419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+1=1</a:t>
            </a:r>
            <a:r>
              <a:rPr b="1" lang="en-US" sz="3200" spc="-1" strike="noStrike">
                <a:solidFill>
                  <a:srgbClr val="ffff00"/>
                </a:solidFill>
                <a:latin typeface="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2" name=""/>
          <p:cNvGrpSpPr/>
          <p:nvPr/>
        </p:nvGrpSpPr>
        <p:grpSpPr>
          <a:xfrm>
            <a:off x="6865560" y="3733920"/>
            <a:ext cx="1497600" cy="711360"/>
            <a:chOff x="6865560" y="3733920"/>
            <a:chExt cx="1497600" cy="711360"/>
          </a:xfrm>
        </p:grpSpPr>
        <p:sp>
          <p:nvSpPr>
            <p:cNvPr id="3583" name=""/>
            <p:cNvSpPr/>
            <p:nvPr/>
          </p:nvSpPr>
          <p:spPr>
            <a:xfrm>
              <a:off x="6865560" y="3863880"/>
              <a:ext cx="149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   A=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298280" y="3733920"/>
              <a:ext cx="29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74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79" dur="500"/>
                                        <p:tgtEl>
                                          <p:spTgt spid="3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884" dur="500"/>
                                        <p:tgtEl>
                                          <p:spTgt spid="3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89" dur="500"/>
                                        <p:tgtEl>
                                          <p:spTgt spid="3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94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899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04" dur="5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09" dur="500"/>
                                        <p:tgtEl>
                                          <p:spTgt spid="3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14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19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2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/>
          <p:cNvSpPr/>
          <p:nvPr/>
        </p:nvSpPr>
        <p:spPr>
          <a:xfrm>
            <a:off x="7174080" y="460440"/>
            <a:ext cx="15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6" name=""/>
          <p:cNvGrpSpPr/>
          <p:nvPr/>
        </p:nvGrpSpPr>
        <p:grpSpPr>
          <a:xfrm>
            <a:off x="3888360" y="2544120"/>
            <a:ext cx="1678680" cy="520560"/>
            <a:chOff x="3888360" y="2544120"/>
            <a:chExt cx="1678680" cy="520560"/>
          </a:xfrm>
        </p:grpSpPr>
        <p:sp>
          <p:nvSpPr>
            <p:cNvPr id="3587" name=""/>
            <p:cNvSpPr/>
            <p:nvPr/>
          </p:nvSpPr>
          <p:spPr>
            <a:xfrm>
              <a:off x="3888360" y="2544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183640" y="2544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3875760" y="2894760"/>
            <a:ext cx="1678680" cy="520560"/>
            <a:chOff x="3875760" y="2894760"/>
            <a:chExt cx="1678680" cy="520560"/>
          </a:xfrm>
        </p:grpSpPr>
        <p:sp>
          <p:nvSpPr>
            <p:cNvPr id="3590" name=""/>
            <p:cNvSpPr/>
            <p:nvPr/>
          </p:nvSpPr>
          <p:spPr>
            <a:xfrm>
              <a:off x="3875760" y="2894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171040" y="2894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324480" y="2513520"/>
            <a:ext cx="1555560" cy="1761120"/>
            <a:chOff x="6324480" y="2513520"/>
            <a:chExt cx="1555560" cy="1761120"/>
          </a:xfrm>
        </p:grpSpPr>
        <p:sp>
          <p:nvSpPr>
            <p:cNvPr id="3593" name=""/>
            <p:cNvSpPr/>
            <p:nvPr/>
          </p:nvSpPr>
          <p:spPr>
            <a:xfrm>
              <a:off x="6339240" y="2513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339240" y="2879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467480" y="287928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324480" y="331524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467480" y="251352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482240" y="3315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339240" y="375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467480" y="375408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838080" y="685800"/>
            <a:ext cx="6589800" cy="555480"/>
            <a:chOff x="838080" y="685800"/>
            <a:chExt cx="6589800" cy="555480"/>
          </a:xfrm>
        </p:grpSpPr>
        <p:sp>
          <p:nvSpPr>
            <p:cNvPr id="3602" name=""/>
            <p:cNvSpPr/>
            <p:nvPr/>
          </p:nvSpPr>
          <p:spPr>
            <a:xfrm>
              <a:off x="838080" y="706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反演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3" name="" descr=""/>
            <p:cNvPicPr/>
            <p:nvPr/>
          </p:nvPicPr>
          <p:blipFill>
            <a:blip r:embed="rId1"/>
            <a:stretch/>
          </p:blipFill>
          <p:spPr>
            <a:xfrm>
              <a:off x="2362320" y="685800"/>
              <a:ext cx="232236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4" name="" descr=""/>
            <p:cNvPicPr/>
            <p:nvPr/>
          </p:nvPicPr>
          <p:blipFill>
            <a:blip r:embed="rId2"/>
            <a:stretch/>
          </p:blipFill>
          <p:spPr>
            <a:xfrm>
              <a:off x="5105520" y="685800"/>
              <a:ext cx="2322360" cy="55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5" name=""/>
          <p:cNvSpPr/>
          <p:nvPr/>
        </p:nvSpPr>
        <p:spPr>
          <a:xfrm>
            <a:off x="1368720" y="1294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列状态表证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685800" y="1903320"/>
            <a:ext cx="7620120" cy="2406600"/>
            <a:chOff x="685800" y="1903320"/>
            <a:chExt cx="7620120" cy="2406600"/>
          </a:xfrm>
        </p:grpSpPr>
        <p:grpSp>
          <p:nvGrpSpPr>
            <p:cNvPr id="3607" name=""/>
            <p:cNvGrpSpPr/>
            <p:nvPr/>
          </p:nvGrpSpPr>
          <p:grpSpPr>
            <a:xfrm>
              <a:off x="685800" y="1903320"/>
              <a:ext cx="7620120" cy="2406600"/>
              <a:chOff x="685800" y="1903320"/>
              <a:chExt cx="7620120" cy="2406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685800" y="1903320"/>
                <a:ext cx="7620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9" name=""/>
              <p:cNvGrpSpPr/>
              <p:nvPr/>
            </p:nvGrpSpPr>
            <p:grpSpPr>
              <a:xfrm>
                <a:off x="685800" y="1903320"/>
                <a:ext cx="7619760" cy="2406600"/>
                <a:chOff x="685800" y="1903320"/>
                <a:chExt cx="7619760" cy="2406600"/>
              </a:xfrm>
            </p:grpSpPr>
            <p:sp>
              <p:nvSpPr>
                <p:cNvPr id="3610" name=""/>
                <p:cNvSpPr/>
                <p:nvPr/>
              </p:nvSpPr>
              <p:spPr>
                <a:xfrm>
                  <a:off x="685800" y="4309920"/>
                  <a:ext cx="761976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1" name=""/>
                <p:cNvGrpSpPr/>
                <p:nvPr/>
              </p:nvGrpSpPr>
              <p:grpSpPr>
                <a:xfrm>
                  <a:off x="685800" y="1903320"/>
                  <a:ext cx="7619760" cy="2406600"/>
                  <a:chOff x="685800" y="1903320"/>
                  <a:chExt cx="7619760" cy="2406600"/>
                </a:xfrm>
              </p:grpSpPr>
              <p:sp>
                <p:nvSpPr>
                  <p:cNvPr id="3612" name=""/>
                  <p:cNvSpPr/>
                  <p:nvPr/>
                </p:nvSpPr>
                <p:spPr>
                  <a:xfrm>
                    <a:off x="685800" y="2541240"/>
                    <a:ext cx="7619760" cy="180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3" name=""/>
                  <p:cNvGrpSpPr/>
                  <p:nvPr/>
                </p:nvGrpSpPr>
                <p:grpSpPr>
                  <a:xfrm>
                    <a:off x="685800" y="1903320"/>
                    <a:ext cx="7619760" cy="2406600"/>
                    <a:chOff x="685800" y="1903320"/>
                    <a:chExt cx="7619760" cy="2406600"/>
                  </a:xfrm>
                </p:grpSpPr>
                <p:sp>
                  <p:nvSpPr>
                    <p:cNvPr id="3614" name=""/>
                    <p:cNvSpPr/>
                    <p:nvPr/>
                  </p:nvSpPr>
                  <p:spPr>
                    <a:xfrm>
                      <a:off x="6858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5" name=""/>
                    <p:cNvSpPr/>
                    <p:nvPr/>
                  </p:nvSpPr>
                  <p:spPr>
                    <a:xfrm>
                      <a:off x="34290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6" name=""/>
                    <p:cNvSpPr/>
                    <p:nvPr/>
                  </p:nvSpPr>
                  <p:spPr>
                    <a:xfrm>
                      <a:off x="464796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7" name=""/>
                    <p:cNvSpPr/>
                    <p:nvPr/>
                  </p:nvSpPr>
                  <p:spPr>
                    <a:xfrm>
                      <a:off x="59436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8" name=""/>
                    <p:cNvSpPr/>
                    <p:nvPr/>
                  </p:nvSpPr>
                  <p:spPr>
                    <a:xfrm>
                      <a:off x="716256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9" name=""/>
                    <p:cNvSpPr/>
                    <p:nvPr/>
                  </p:nvSpPr>
                  <p:spPr>
                    <a:xfrm>
                      <a:off x="830556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0" name=""/>
                    <p:cNvSpPr/>
                    <p:nvPr/>
                  </p:nvSpPr>
                  <p:spPr>
                    <a:xfrm>
                      <a:off x="13716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1" name=""/>
                    <p:cNvSpPr/>
                    <p:nvPr/>
                  </p:nvSpPr>
                  <p:spPr>
                    <a:xfrm>
                      <a:off x="20574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2" name=""/>
                    <p:cNvSpPr/>
                    <p:nvPr/>
                  </p:nvSpPr>
                  <p:spPr>
                    <a:xfrm>
                      <a:off x="2743200" y="1903320"/>
                      <a:ext cx="0" cy="2406600"/>
                    </a:xfrm>
                    <a:prstGeom prst="line">
                      <a:avLst/>
                    </a:prstGeom>
                    <a:ln w="2844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623" name=""/>
            <p:cNvSpPr/>
            <p:nvPr/>
          </p:nvSpPr>
          <p:spPr>
            <a:xfrm>
              <a:off x="834120" y="19789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432440" y="19789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838080" y="2517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538640" y="2532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8528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15386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852840" y="333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1538640" y="333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8528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15386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224440" y="2532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910240" y="2532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2244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910240" y="289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224440" y="3334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895480" y="333468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2244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910240" y="3772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1" name="" descr=""/>
            <p:cNvPicPr/>
            <p:nvPr/>
          </p:nvPicPr>
          <p:blipFill>
            <a:blip r:embed="rId3"/>
            <a:stretch/>
          </p:blipFill>
          <p:spPr>
            <a:xfrm>
              <a:off x="2209680" y="2027160"/>
              <a:ext cx="4287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2" name="" descr=""/>
            <p:cNvPicPr/>
            <p:nvPr/>
          </p:nvPicPr>
          <p:blipFill>
            <a:blip r:embed="rId4"/>
            <a:stretch/>
          </p:blipFill>
          <p:spPr>
            <a:xfrm>
              <a:off x="2881440" y="2027160"/>
              <a:ext cx="366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3" name="" descr=""/>
            <p:cNvPicPr/>
            <p:nvPr/>
          </p:nvPicPr>
          <p:blipFill>
            <a:blip r:embed="rId5"/>
            <a:stretch/>
          </p:blipFill>
          <p:spPr>
            <a:xfrm>
              <a:off x="3505320" y="2027160"/>
              <a:ext cx="99036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4" name="" descr=""/>
            <p:cNvPicPr/>
            <p:nvPr/>
          </p:nvPicPr>
          <p:blipFill>
            <a:blip r:embed="rId6"/>
            <a:stretch/>
          </p:blipFill>
          <p:spPr>
            <a:xfrm>
              <a:off x="4876920" y="2027160"/>
              <a:ext cx="84276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5" name="" descr=""/>
            <p:cNvPicPr/>
            <p:nvPr/>
          </p:nvPicPr>
          <p:blipFill>
            <a:blip r:embed="rId7"/>
            <a:stretch/>
          </p:blipFill>
          <p:spPr>
            <a:xfrm>
              <a:off x="6097680" y="2027160"/>
              <a:ext cx="83484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6" name="" descr=""/>
            <p:cNvPicPr/>
            <p:nvPr/>
          </p:nvPicPr>
          <p:blipFill>
            <a:blip r:embed="rId8"/>
            <a:stretch/>
          </p:blipFill>
          <p:spPr>
            <a:xfrm>
              <a:off x="7161120" y="2027160"/>
              <a:ext cx="1000080" cy="5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7" name=""/>
          <p:cNvGrpSpPr/>
          <p:nvPr/>
        </p:nvGrpSpPr>
        <p:grpSpPr>
          <a:xfrm>
            <a:off x="3875760" y="3351960"/>
            <a:ext cx="1678680" cy="520560"/>
            <a:chOff x="3875760" y="3351960"/>
            <a:chExt cx="1678680" cy="520560"/>
          </a:xfrm>
        </p:grpSpPr>
        <p:sp>
          <p:nvSpPr>
            <p:cNvPr id="3648" name=""/>
            <p:cNvSpPr/>
            <p:nvPr/>
          </p:nvSpPr>
          <p:spPr>
            <a:xfrm>
              <a:off x="3875760" y="335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171040" y="335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0" name=""/>
          <p:cNvGrpSpPr/>
          <p:nvPr/>
        </p:nvGrpSpPr>
        <p:grpSpPr>
          <a:xfrm>
            <a:off x="3875760" y="3733200"/>
            <a:ext cx="1678680" cy="520560"/>
            <a:chOff x="3875760" y="3733200"/>
            <a:chExt cx="1678680" cy="520560"/>
          </a:xfrm>
        </p:grpSpPr>
        <p:sp>
          <p:nvSpPr>
            <p:cNvPr id="3651" name=""/>
            <p:cNvSpPr/>
            <p:nvPr/>
          </p:nvSpPr>
          <p:spPr>
            <a:xfrm>
              <a:off x="3875760" y="373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171040" y="373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"/>
          <p:cNvGrpSpPr/>
          <p:nvPr/>
        </p:nvGrpSpPr>
        <p:grpSpPr>
          <a:xfrm>
            <a:off x="488520" y="4419720"/>
            <a:ext cx="3191760" cy="1601280"/>
            <a:chOff x="488520" y="4419720"/>
            <a:chExt cx="3191760" cy="1601280"/>
          </a:xfrm>
        </p:grpSpPr>
        <p:sp>
          <p:nvSpPr>
            <p:cNvPr id="3654" name=""/>
            <p:cNvSpPr/>
            <p:nvPr/>
          </p:nvSpPr>
          <p:spPr>
            <a:xfrm>
              <a:off x="685800" y="4419720"/>
              <a:ext cx="1447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吸收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88520" y="4952160"/>
              <a:ext cx="319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(1) 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AB =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(2) 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(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)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 =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6" name=""/>
          <p:cNvGrpSpPr/>
          <p:nvPr/>
        </p:nvGrpSpPr>
        <p:grpSpPr>
          <a:xfrm>
            <a:off x="3733920" y="5029200"/>
            <a:ext cx="1454040" cy="762120"/>
            <a:chOff x="3733920" y="5029200"/>
            <a:chExt cx="1454040" cy="762120"/>
          </a:xfrm>
        </p:grpSpPr>
        <p:sp>
          <p:nvSpPr>
            <p:cNvPr id="3657" name=""/>
            <p:cNvSpPr/>
            <p:nvPr/>
          </p:nvSpPr>
          <p:spPr>
            <a:xfrm>
              <a:off x="3733920" y="5029200"/>
              <a:ext cx="236520" cy="76212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21"/>
                  </a:lnTo>
                  <a:cubicBezTo>
                    <a:pt x="10800" y="9521"/>
                    <a:pt x="16200" y="10421"/>
                    <a:pt x="21600" y="10421"/>
                  </a:cubicBezTo>
                  <a:cubicBezTo>
                    <a:pt x="16200" y="10421"/>
                    <a:pt x="10800" y="11321"/>
                    <a:pt x="10800" y="1222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4367160" y="5145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对偶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31" dur="500"/>
                                        <p:tgtEl>
                                          <p:spTgt spid="3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93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941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946" dur="500"/>
                                        <p:tgtEl>
                                          <p:spTgt spid="3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951" dur="500"/>
                                        <p:tgtEl>
                                          <p:spTgt spid="3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1956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61" dur="500"/>
                                        <p:tgtEl>
                                          <p:spTgt spid="3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965" dur="500"/>
                                        <p:tgtEl>
                                          <p:spTgt spid="3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"/>
          <p:cNvSpPr/>
          <p:nvPr/>
        </p:nvSpPr>
        <p:spPr>
          <a:xfrm>
            <a:off x="838080" y="1112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"/>
              </a:rPr>
              <a:t>对偶关系：</a:t>
            </a:r>
            <a:r>
              <a:rPr b="1" lang="en-US" sz="2800" spc="-1" strike="noStrike">
                <a:solidFill>
                  <a:srgbClr val="ffffff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某逻辑表达式中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与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 • 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换成或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+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或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+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换成与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 • 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得到一个新的逻辑表达式，即为原逻辑式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对偶式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。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若原逻辑恒等式成立，则其对偶式也成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85800" y="382104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1" name="" descr=""/>
          <p:cNvPicPr/>
          <p:nvPr/>
        </p:nvPicPr>
        <p:blipFill>
          <a:blip r:embed="rId1"/>
          <a:stretch/>
        </p:blipFill>
        <p:spPr>
          <a:xfrm>
            <a:off x="2971800" y="4419720"/>
            <a:ext cx="4275000" cy="684000"/>
          </a:xfrm>
          <a:prstGeom prst="rect">
            <a:avLst/>
          </a:prstGeom>
          <a:ln w="0">
            <a:noFill/>
          </a:ln>
        </p:spPr>
      </p:pic>
      <p:sp>
        <p:nvSpPr>
          <p:cNvPr id="3662" name=""/>
          <p:cNvSpPr/>
          <p:nvPr/>
        </p:nvSpPr>
        <p:spPr>
          <a:xfrm>
            <a:off x="6277680" y="38973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"/>
              </a:rPr>
              <a:t>A+AB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3" name="" descr=""/>
          <p:cNvPicPr/>
          <p:nvPr/>
        </p:nvPicPr>
        <p:blipFill>
          <a:blip r:embed="rId2"/>
          <a:stretch/>
        </p:blipFill>
        <p:spPr>
          <a:xfrm>
            <a:off x="1844640" y="3886200"/>
            <a:ext cx="3878280" cy="527040"/>
          </a:xfrm>
          <a:prstGeom prst="rect">
            <a:avLst/>
          </a:prstGeom>
          <a:ln w="0">
            <a:noFill/>
          </a:ln>
        </p:spPr>
      </p:pic>
      <p:grpSp>
        <p:nvGrpSpPr>
          <p:cNvPr id="3664" name=""/>
          <p:cNvGrpSpPr/>
          <p:nvPr/>
        </p:nvGrpSpPr>
        <p:grpSpPr>
          <a:xfrm>
            <a:off x="1828800" y="3638520"/>
            <a:ext cx="3047760" cy="819000"/>
            <a:chOff x="1828800" y="3638520"/>
            <a:chExt cx="3047760" cy="819000"/>
          </a:xfrm>
        </p:grpSpPr>
        <p:sp>
          <p:nvSpPr>
            <p:cNvPr id="3665" name=""/>
            <p:cNvSpPr/>
            <p:nvPr/>
          </p:nvSpPr>
          <p:spPr>
            <a:xfrm>
              <a:off x="1828800" y="4004280"/>
              <a:ext cx="417240" cy="4532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336760" y="3638520"/>
              <a:ext cx="1614240" cy="295920"/>
            </a:xfrm>
            <a:custGeom>
              <a:avLst/>
              <a:gdLst>
                <a:gd name="textAreaLeft" fmla="*/ 288720 w 1614240"/>
                <a:gd name="textAreaRight" fmla="*/ 1167840 w 1614240"/>
                <a:gd name="textAreaTop" fmla="*/ 39600 h 295920"/>
                <a:gd name="textAreaBottom" fmla="*/ 256320 h 29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29" hR="21600" stAng="10800000" swAng="5400000"/>
                  <a:lnTo>
                    <a:pt x="11763" y="0"/>
                  </a:lnTo>
                  <a:arcTo wR="7729" hR="21600" stAng="-5400000" swAng="2720527"/>
                  <a:lnTo>
                    <a:pt x="21158" y="14400"/>
                  </a:lnTo>
                  <a:lnTo>
                    <a:pt x="17474" y="21600"/>
                  </a:lnTo>
                  <a:lnTo>
                    <a:pt x="12906" y="14400"/>
                  </a:lnTo>
                  <a:lnTo>
                    <a:pt x="15015" y="14400"/>
                  </a:lnTo>
                  <a:arcTo wR="7729" hR="21600" stAng="-2679473" swAng="-2389018"/>
                  <a:lnTo>
                    <a:pt x="9746" y="749"/>
                  </a:lnTo>
                  <a:arcTo wR="7729" hR="21600" stAng="-5731509" swAng="-5068491"/>
                  <a:close/>
                </a:path>
                <a:path fill="darkenLess" w="21600" h="21600">
                  <a:moveTo>
                    <a:pt x="0" y="21600"/>
                  </a:moveTo>
                  <a:arcTo wR="7729" hR="21600" stAng="10800000" swAng="5400000"/>
                  <a:lnTo>
                    <a:pt x="7729" y="0"/>
                  </a:lnTo>
                  <a:arcTo wR="7729" hR="21600" stAng="-5400000" swAng="331509"/>
                  <a:lnTo>
                    <a:pt x="9746" y="749"/>
                  </a:lnTo>
                  <a:arcTo wR="7729" hR="21600" stAng="-5731509" swAng="-5068491"/>
                  <a:close/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389040" y="3987000"/>
              <a:ext cx="1487520" cy="4705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8" name=""/>
          <p:cNvGrpSpPr/>
          <p:nvPr/>
        </p:nvGrpSpPr>
        <p:grpSpPr>
          <a:xfrm>
            <a:off x="727200" y="2514600"/>
            <a:ext cx="4033800" cy="1162080"/>
            <a:chOff x="727200" y="2514600"/>
            <a:chExt cx="4033800" cy="1162080"/>
          </a:xfrm>
        </p:grpSpPr>
        <p:pic>
          <p:nvPicPr>
            <p:cNvPr id="3669" name="" descr=""/>
            <p:cNvPicPr/>
            <p:nvPr/>
          </p:nvPicPr>
          <p:blipFill>
            <a:blip r:embed="rId3"/>
            <a:stretch/>
          </p:blipFill>
          <p:spPr>
            <a:xfrm>
              <a:off x="1490760" y="3048120"/>
              <a:ext cx="277488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0" name="" descr=""/>
            <p:cNvPicPr/>
            <p:nvPr/>
          </p:nvPicPr>
          <p:blipFill>
            <a:blip r:embed="rId4"/>
            <a:stretch/>
          </p:blipFill>
          <p:spPr>
            <a:xfrm>
              <a:off x="1432080" y="2514600"/>
              <a:ext cx="33289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1" name=""/>
            <p:cNvSpPr/>
            <p:nvPr/>
          </p:nvSpPr>
          <p:spPr>
            <a:xfrm>
              <a:off x="735120" y="259020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27200" y="312336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4724280" y="2743200"/>
            <a:ext cx="1454040" cy="762120"/>
            <a:chOff x="4724280" y="2743200"/>
            <a:chExt cx="1454040" cy="762120"/>
          </a:xfrm>
        </p:grpSpPr>
        <p:sp>
          <p:nvSpPr>
            <p:cNvPr id="3674" name=""/>
            <p:cNvSpPr/>
            <p:nvPr/>
          </p:nvSpPr>
          <p:spPr>
            <a:xfrm>
              <a:off x="4724280" y="2743200"/>
              <a:ext cx="236520" cy="76212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21"/>
                  </a:lnTo>
                  <a:cubicBezTo>
                    <a:pt x="10800" y="9521"/>
                    <a:pt x="16200" y="10421"/>
                    <a:pt x="21600" y="10421"/>
                  </a:cubicBezTo>
                  <a:cubicBezTo>
                    <a:pt x="16200" y="10421"/>
                    <a:pt x="10800" y="11321"/>
                    <a:pt x="10800" y="1222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357520" y="2859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对偶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803160" y="5029200"/>
            <a:ext cx="4273560" cy="1162080"/>
            <a:chOff x="803160" y="5029200"/>
            <a:chExt cx="4273560" cy="1162080"/>
          </a:xfrm>
        </p:grpSpPr>
        <p:pic>
          <p:nvPicPr>
            <p:cNvPr id="3677" name="" descr=""/>
            <p:cNvPicPr/>
            <p:nvPr/>
          </p:nvPicPr>
          <p:blipFill>
            <a:blip r:embed="rId5"/>
            <a:stretch/>
          </p:blipFill>
          <p:spPr>
            <a:xfrm>
              <a:off x="1643040" y="5562720"/>
              <a:ext cx="343368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8" name="" descr=""/>
            <p:cNvPicPr/>
            <p:nvPr/>
          </p:nvPicPr>
          <p:blipFill>
            <a:blip r:embed="rId6"/>
            <a:stretch/>
          </p:blipFill>
          <p:spPr>
            <a:xfrm>
              <a:off x="1662120" y="5029200"/>
              <a:ext cx="27352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9" name=""/>
            <p:cNvSpPr/>
            <p:nvPr/>
          </p:nvSpPr>
          <p:spPr>
            <a:xfrm>
              <a:off x="803160" y="510480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03160" y="5637960"/>
              <a:ext cx="98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1" name=""/>
          <p:cNvGrpSpPr/>
          <p:nvPr/>
        </p:nvGrpSpPr>
        <p:grpSpPr>
          <a:xfrm>
            <a:off x="5029200" y="5181480"/>
            <a:ext cx="1454040" cy="762120"/>
            <a:chOff x="5029200" y="5181480"/>
            <a:chExt cx="1454040" cy="762120"/>
          </a:xfrm>
        </p:grpSpPr>
        <p:sp>
          <p:nvSpPr>
            <p:cNvPr id="3682" name=""/>
            <p:cNvSpPr/>
            <p:nvPr/>
          </p:nvSpPr>
          <p:spPr>
            <a:xfrm>
              <a:off x="5029200" y="5181480"/>
              <a:ext cx="236520" cy="76212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21"/>
                  </a:lnTo>
                  <a:cubicBezTo>
                    <a:pt x="10800" y="9521"/>
                    <a:pt x="16200" y="10421"/>
                    <a:pt x="21600" y="10421"/>
                  </a:cubicBezTo>
                  <a:cubicBezTo>
                    <a:pt x="16200" y="10421"/>
                    <a:pt x="10800" y="11321"/>
                    <a:pt x="10800" y="1222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662440" y="5298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对偶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72" dur="500"/>
                                        <p:tgtEl>
                                          <p:spTgt spid="3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77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9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981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86" dur="500"/>
                                        <p:tgtEl>
                                          <p:spTgt spid="3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91" dur="50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nodeType="clickEffect" fill="hold">
                      <p:stCondLst>
                        <p:cond delay="indefinite"/>
                      </p:stCondLst>
                      <p:childTnLst>
                        <p:par>
                          <p:cTn id="19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996" dur="50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01" dur="500"/>
                                        <p:tgtEl>
                                          <p:spTgt spid="3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06" dur="500"/>
                                        <p:tgtEl>
                                          <p:spTgt spid="3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11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2015" dur="500"/>
                                        <p:tgtEl>
                                          <p:spTgt spid="3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"/>
          <p:cNvSpPr/>
          <p:nvPr/>
        </p:nvSpPr>
        <p:spPr>
          <a:xfrm>
            <a:off x="8380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. 5. 2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逻辑函数的表示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5" name=""/>
          <p:cNvGrpSpPr/>
          <p:nvPr/>
        </p:nvGrpSpPr>
        <p:grpSpPr>
          <a:xfrm>
            <a:off x="1054440" y="1294560"/>
            <a:ext cx="3224520" cy="1892160"/>
            <a:chOff x="1054440" y="1294560"/>
            <a:chExt cx="3224520" cy="1892160"/>
          </a:xfrm>
        </p:grpSpPr>
        <p:sp>
          <p:nvSpPr>
            <p:cNvPr id="3686" name=""/>
            <p:cNvSpPr/>
            <p:nvPr/>
          </p:nvSpPr>
          <p:spPr>
            <a:xfrm>
              <a:off x="1054440" y="1904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表示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514600" y="1447920"/>
              <a:ext cx="152280" cy="1600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886120" y="17517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031560" y="12945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状态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886120" y="22089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逻辑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886120" y="2666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卡诺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2" name=""/>
          <p:cNvSpPr/>
          <p:nvPr/>
        </p:nvSpPr>
        <p:spPr>
          <a:xfrm>
            <a:off x="2948400" y="312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下面举例说明这四种表示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33520" y="428580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有一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形走廊，在相会处有一路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进入走廊的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地各有控制开关，都能独立进行控制。任意闭合一个开关，灯亮；任意闭合两个开关，灯灭；三个开关同时闭合，灯亮。设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代表三个开关（输入变量）；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代表灯（输出变量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22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27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nodeType="clickEffect" fill="hold">
                      <p:stCondLst>
                        <p:cond delay="indefinite"/>
                      </p:stCondLst>
                      <p:childTnLst>
                        <p:par>
                          <p:cTn id="20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32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1051920" y="167652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2149920" y="685080"/>
            <a:ext cx="4462920" cy="977760"/>
            <a:chOff x="2149920" y="685080"/>
            <a:chExt cx="4462920" cy="977760"/>
          </a:xfrm>
        </p:grpSpPr>
        <p:sp>
          <p:nvSpPr>
            <p:cNvPr id="3696" name=""/>
            <p:cNvSpPr/>
            <p:nvPr/>
          </p:nvSpPr>
          <p:spPr>
            <a:xfrm>
              <a:off x="2149920" y="685080"/>
              <a:ext cx="44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设：开关闭合其状态为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，断开为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568600" y="1142280"/>
              <a:ext cx="33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灯亮状态为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，灯灭为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8" name=""/>
          <p:cNvGrpSpPr/>
          <p:nvPr/>
        </p:nvGrpSpPr>
        <p:grpSpPr>
          <a:xfrm>
            <a:off x="914400" y="2209680"/>
            <a:ext cx="3657600" cy="2743200"/>
            <a:chOff x="914400" y="2209680"/>
            <a:chExt cx="3657600" cy="2743200"/>
          </a:xfrm>
        </p:grpSpPr>
        <p:sp>
          <p:nvSpPr>
            <p:cNvPr id="3699" name=""/>
            <p:cNvSpPr/>
            <p:nvPr/>
          </p:nvSpPr>
          <p:spPr>
            <a:xfrm>
              <a:off x="914400" y="2209680"/>
              <a:ext cx="3657600" cy="27432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371600" y="336744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用输入、输出变量的逻辑状态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“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或“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0”)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以表格形式来表示逻辑函数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1434600" y="5028480"/>
            <a:ext cx="3112560" cy="1130040"/>
            <a:chOff x="1434600" y="5028480"/>
            <a:chExt cx="3112560" cy="1130040"/>
          </a:xfrm>
        </p:grpSpPr>
        <p:sp>
          <p:nvSpPr>
            <p:cNvPr id="3702" name=""/>
            <p:cNvSpPr/>
            <p:nvPr/>
          </p:nvSpPr>
          <p:spPr>
            <a:xfrm>
              <a:off x="1620360" y="50284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三输入变量有八种组合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1434600" y="5637960"/>
              <a:ext cx="31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n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入变量有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2</a:t>
              </a:r>
              <a:r>
                <a:rPr b="1" i="1" lang="en-US" sz="2800" spc="-1" strike="noStrike" baseline="30000">
                  <a:solidFill>
                    <a:srgbClr val="cc0000"/>
                  </a:solidFill>
                  <a:latin typeface="?"/>
                </a:rPr>
                <a:t>n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种组合状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4" name=""/>
          <p:cNvGrpSpPr/>
          <p:nvPr/>
        </p:nvGrpSpPr>
        <p:grpSpPr>
          <a:xfrm>
            <a:off x="4705920" y="1752480"/>
            <a:ext cx="3218760" cy="3692520"/>
            <a:chOff x="4705920" y="1752480"/>
            <a:chExt cx="3218760" cy="3692520"/>
          </a:xfrm>
        </p:grpSpPr>
        <p:grpSp>
          <p:nvGrpSpPr>
            <p:cNvPr id="3705" name=""/>
            <p:cNvGrpSpPr/>
            <p:nvPr/>
          </p:nvGrpSpPr>
          <p:grpSpPr>
            <a:xfrm>
              <a:off x="4705920" y="1752480"/>
              <a:ext cx="3218760" cy="3692520"/>
              <a:chOff x="4705920" y="1752480"/>
              <a:chExt cx="3218760" cy="3692520"/>
            </a:xfrm>
          </p:grpSpPr>
          <p:sp>
            <p:nvSpPr>
              <p:cNvPr id="3706" name=""/>
              <p:cNvSpPr/>
              <p:nvPr/>
            </p:nvSpPr>
            <p:spPr>
              <a:xfrm>
                <a:off x="4705920" y="22575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7" name=""/>
              <p:cNvGrpSpPr/>
              <p:nvPr/>
            </p:nvGrpSpPr>
            <p:grpSpPr>
              <a:xfrm>
                <a:off x="5104080" y="1752480"/>
                <a:ext cx="2820600" cy="3692520"/>
                <a:chOff x="5104080" y="1752480"/>
                <a:chExt cx="2820600" cy="3692520"/>
              </a:xfrm>
            </p:grpSpPr>
            <p:sp>
              <p:nvSpPr>
                <p:cNvPr id="3708" name=""/>
                <p:cNvSpPr/>
                <p:nvPr/>
              </p:nvSpPr>
              <p:spPr>
                <a:xfrm>
                  <a:off x="5334120" y="17524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5334120" y="22096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7162920" y="1752480"/>
                  <a:ext cx="0" cy="358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5104080" y="17524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5251680" y="2638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5251680" y="3019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5251680" y="3400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>
                  <a:off x="5251680" y="3781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5251680" y="4162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5251680" y="4543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5251680" y="4924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19" name=""/>
            <p:cNvSpPr/>
            <p:nvPr/>
          </p:nvSpPr>
          <p:spPr>
            <a:xfrm>
              <a:off x="5372280" y="536904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2039" dur="500"/>
                                        <p:tgtEl>
                                          <p:spTgt spid="3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44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49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54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"/>
          <p:cNvSpPr/>
          <p:nvPr/>
        </p:nvSpPr>
        <p:spPr>
          <a:xfrm>
            <a:off x="53352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970560" y="2438280"/>
            <a:ext cx="42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取 </a:t>
            </a: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=“1”(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或</a:t>
            </a: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=“0” )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列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2" name=""/>
          <p:cNvGrpSpPr/>
          <p:nvPr/>
        </p:nvGrpSpPr>
        <p:grpSpPr>
          <a:xfrm>
            <a:off x="838080" y="2895480"/>
            <a:ext cx="2103120" cy="520560"/>
            <a:chOff x="838080" y="2895480"/>
            <a:chExt cx="2103120" cy="520560"/>
          </a:xfrm>
        </p:grpSpPr>
        <p:sp>
          <p:nvSpPr>
            <p:cNvPr id="3723" name=""/>
            <p:cNvSpPr/>
            <p:nvPr/>
          </p:nvSpPr>
          <p:spPr>
            <a:xfrm>
              <a:off x="1260720" y="28954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取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= “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38080" y="2923920"/>
              <a:ext cx="38124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685800" y="838080"/>
            <a:ext cx="792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用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与”“或”“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等运算来表达逻辑函数的表达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274400" y="182808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由逻辑状态表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7" name=""/>
          <p:cNvGrpSpPr/>
          <p:nvPr/>
        </p:nvGrpSpPr>
        <p:grpSpPr>
          <a:xfrm>
            <a:off x="609480" y="4578480"/>
            <a:ext cx="4953240" cy="1501200"/>
            <a:chOff x="609480" y="4578480"/>
            <a:chExt cx="4953240" cy="1501200"/>
          </a:xfrm>
        </p:grpSpPr>
        <p:sp>
          <p:nvSpPr>
            <p:cNvPr id="3728" name=""/>
            <p:cNvSpPr/>
            <p:nvPr/>
          </p:nvSpPr>
          <p:spPr>
            <a:xfrm>
              <a:off x="609480" y="4578480"/>
              <a:ext cx="495324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对应于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=1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若输入变量为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，则取输入变量本身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如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 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)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；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若输入变量为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则取其反变量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如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)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639800" y="5943600"/>
              <a:ext cx="2286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0" name=""/>
          <p:cNvSpPr/>
          <p:nvPr/>
        </p:nvSpPr>
        <p:spPr>
          <a:xfrm>
            <a:off x="5791320" y="3124080"/>
            <a:ext cx="1371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1600200" y="3429000"/>
            <a:ext cx="3429000" cy="914400"/>
            <a:chOff x="1600200" y="3429000"/>
            <a:chExt cx="3429000" cy="914400"/>
          </a:xfrm>
        </p:grpSpPr>
        <p:sp>
          <p:nvSpPr>
            <p:cNvPr id="3732" name=""/>
            <p:cNvSpPr/>
            <p:nvPr/>
          </p:nvSpPr>
          <p:spPr>
            <a:xfrm>
              <a:off x="1600200" y="3429000"/>
              <a:ext cx="3352680" cy="914400"/>
            </a:xfrm>
            <a:prstGeom prst="wedgeRoundRectCallout">
              <a:avLst>
                <a:gd name="adj1" fmla="val 75333"/>
                <a:gd name="adj2" fmla="val -81425"/>
                <a:gd name="adj3" fmla="val 16667"/>
              </a:avLst>
            </a:prstGeom>
            <a:solidFill>
              <a:srgbClr val="ffffcc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600200" y="364176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一种组合中，输入变量之间是“与”关系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10840" y="1752480"/>
            <a:ext cx="3218760" cy="3692520"/>
            <a:chOff x="5010840" y="1752480"/>
            <a:chExt cx="3218760" cy="3692520"/>
          </a:xfrm>
        </p:grpSpPr>
        <p:grpSp>
          <p:nvGrpSpPr>
            <p:cNvPr id="3735" name=""/>
            <p:cNvGrpSpPr/>
            <p:nvPr/>
          </p:nvGrpSpPr>
          <p:grpSpPr>
            <a:xfrm>
              <a:off x="5010840" y="1752480"/>
              <a:ext cx="3218760" cy="3692520"/>
              <a:chOff x="5010840" y="1752480"/>
              <a:chExt cx="3218760" cy="3692520"/>
            </a:xfrm>
          </p:grpSpPr>
          <p:sp>
            <p:nvSpPr>
              <p:cNvPr id="3736" name=""/>
              <p:cNvSpPr/>
              <p:nvPr/>
            </p:nvSpPr>
            <p:spPr>
              <a:xfrm>
                <a:off x="5010840" y="22575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7" name=""/>
              <p:cNvGrpSpPr/>
              <p:nvPr/>
            </p:nvGrpSpPr>
            <p:grpSpPr>
              <a:xfrm>
                <a:off x="5409000" y="1752480"/>
                <a:ext cx="2820600" cy="3692520"/>
                <a:chOff x="5409000" y="1752480"/>
                <a:chExt cx="2820600" cy="3692520"/>
              </a:xfrm>
            </p:grpSpPr>
            <p:sp>
              <p:nvSpPr>
                <p:cNvPr id="3738" name=""/>
                <p:cNvSpPr/>
                <p:nvPr/>
              </p:nvSpPr>
              <p:spPr>
                <a:xfrm>
                  <a:off x="5639040" y="17524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5639040" y="22096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7467840" y="1752480"/>
                  <a:ext cx="0" cy="358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5409000" y="17524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5556600" y="2638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5556600" y="3019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5556600" y="3400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5556600" y="3781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5556600" y="41623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5556600" y="45435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5556600" y="49244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9" name=""/>
            <p:cNvSpPr/>
            <p:nvPr/>
          </p:nvSpPr>
          <p:spPr>
            <a:xfrm>
              <a:off x="5677200" y="536904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61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2066" dur="500"/>
                                        <p:tgtEl>
                                          <p:spTgt spid="3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71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nodeType="clickEffect" fill="hold">
                      <p:stCondLst>
                        <p:cond delay="indefinite"/>
                      </p:stCondLst>
                      <p:childTnLst>
                        <p:par>
                          <p:cTn id="20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76" dur="500"/>
                                        <p:tgtEl>
                                          <p:spTgt spid="3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81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3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85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90" dur="500"/>
                                        <p:tgtEl>
                                          <p:spTgt spid="3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"/>
          <p:cNvSpPr/>
          <p:nvPr/>
        </p:nvSpPr>
        <p:spPr>
          <a:xfrm>
            <a:off x="6248520" y="3276720"/>
            <a:ext cx="2057400" cy="1143000"/>
          </a:xfrm>
          <a:prstGeom prst="wedgeRoundRectCallout">
            <a:avLst>
              <a:gd name="adj1" fmla="val -72222"/>
              <a:gd name="adj2" fmla="val -41388"/>
              <a:gd name="adj3" fmla="val 16667"/>
            </a:avLst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各组合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是“或”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1" name="" descr=""/>
          <p:cNvPicPr/>
          <p:nvPr/>
        </p:nvPicPr>
        <p:blipFill>
          <a:blip r:embed="rId1"/>
          <a:stretch/>
        </p:blipFill>
        <p:spPr>
          <a:xfrm>
            <a:off x="939960" y="990720"/>
            <a:ext cx="5742000" cy="533160"/>
          </a:xfrm>
          <a:prstGeom prst="rect">
            <a:avLst/>
          </a:prstGeom>
          <a:ln w="0">
            <a:noFill/>
          </a:ln>
        </p:spPr>
      </p:pic>
      <p:sp>
        <p:nvSpPr>
          <p:cNvPr id="3752" name=""/>
          <p:cNvSpPr/>
          <p:nvPr/>
        </p:nvSpPr>
        <p:spPr>
          <a:xfrm>
            <a:off x="83808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3" name=""/>
          <p:cNvGrpSpPr/>
          <p:nvPr/>
        </p:nvGrpSpPr>
        <p:grpSpPr>
          <a:xfrm>
            <a:off x="5181480" y="2590920"/>
            <a:ext cx="685800" cy="2590560"/>
            <a:chOff x="5181480" y="2590920"/>
            <a:chExt cx="685800" cy="2590560"/>
          </a:xfrm>
        </p:grpSpPr>
        <p:sp>
          <p:nvSpPr>
            <p:cNvPr id="3754" name=""/>
            <p:cNvSpPr/>
            <p:nvPr/>
          </p:nvSpPr>
          <p:spPr>
            <a:xfrm>
              <a:off x="5638680" y="2590920"/>
              <a:ext cx="228600" cy="2590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181480" y="27432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181480" y="312408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181480" y="38862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181480" y="5029200"/>
              <a:ext cx="380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9" name=""/>
          <p:cNvSpPr/>
          <p:nvPr/>
        </p:nvSpPr>
        <p:spPr>
          <a:xfrm>
            <a:off x="914400" y="5409720"/>
            <a:ext cx="5791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反之，也可由逻辑式列出状态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0" name=""/>
          <p:cNvGrpSpPr/>
          <p:nvPr/>
        </p:nvGrpSpPr>
        <p:grpSpPr>
          <a:xfrm>
            <a:off x="2267640" y="1600200"/>
            <a:ext cx="3295080" cy="3692520"/>
            <a:chOff x="2267640" y="1600200"/>
            <a:chExt cx="3295080" cy="3692520"/>
          </a:xfrm>
        </p:grpSpPr>
        <p:grpSp>
          <p:nvGrpSpPr>
            <p:cNvPr id="3761" name=""/>
            <p:cNvGrpSpPr/>
            <p:nvPr/>
          </p:nvGrpSpPr>
          <p:grpSpPr>
            <a:xfrm>
              <a:off x="2267640" y="1600200"/>
              <a:ext cx="3218760" cy="3692520"/>
              <a:chOff x="2267640" y="1600200"/>
              <a:chExt cx="3218760" cy="3692520"/>
            </a:xfrm>
          </p:grpSpPr>
          <p:sp>
            <p:nvSpPr>
              <p:cNvPr id="3762" name=""/>
              <p:cNvSpPr/>
              <p:nvPr/>
            </p:nvSpPr>
            <p:spPr>
              <a:xfrm>
                <a:off x="2267640" y="210528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3" name=""/>
              <p:cNvGrpSpPr/>
              <p:nvPr/>
            </p:nvGrpSpPr>
            <p:grpSpPr>
              <a:xfrm>
                <a:off x="2665800" y="1600200"/>
                <a:ext cx="2820600" cy="3692520"/>
                <a:chOff x="2665800" y="1600200"/>
                <a:chExt cx="2820600" cy="3692520"/>
              </a:xfrm>
            </p:grpSpPr>
            <p:sp>
              <p:nvSpPr>
                <p:cNvPr id="3764" name=""/>
                <p:cNvSpPr/>
                <p:nvPr/>
              </p:nvSpPr>
              <p:spPr>
                <a:xfrm>
                  <a:off x="2895840" y="160020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2895840" y="205740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4724640" y="1600200"/>
                  <a:ext cx="0" cy="358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2665800" y="160020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2813400" y="2486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2813400" y="2867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2813400" y="32482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>
                  <a:off x="2813400" y="3629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2813400" y="4010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2813400" y="43912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2813400" y="4772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5" name=""/>
            <p:cNvSpPr/>
            <p:nvPr/>
          </p:nvSpPr>
          <p:spPr>
            <a:xfrm>
              <a:off x="2819520" y="522144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097" dur="500"/>
                                        <p:tgtEl>
                                          <p:spTgt spid="3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101" dur="500"/>
                                        <p:tgtEl>
                                          <p:spTgt spid="3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06" dur="500"/>
                                        <p:tgtEl>
                                          <p:spTgt spid="3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nodeType="clickEffect" fill="hold">
                      <p:stCondLst>
                        <p:cond delay="indefinite"/>
                      </p:stCondLst>
                      <p:childTnLst>
                        <p:par>
                          <p:cTn id="2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11" dur="500"/>
                                        <p:tgtEl>
                                          <p:spTgt spid="3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"/>
          <p:cNvSpPr/>
          <p:nvPr/>
        </p:nvSpPr>
        <p:spPr>
          <a:xfrm>
            <a:off x="671400" y="414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1447920" y="990360"/>
            <a:ext cx="7086600" cy="4876560"/>
            <a:chOff x="1447920" y="990360"/>
            <a:chExt cx="7086600" cy="4876560"/>
          </a:xfrm>
        </p:grpSpPr>
        <p:sp>
          <p:nvSpPr>
            <p:cNvPr id="3778" name=""/>
            <p:cNvSpPr/>
            <p:nvPr/>
          </p:nvSpPr>
          <p:spPr>
            <a:xfrm>
              <a:off x="7925040" y="3504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24240" y="4419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447920" y="2819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1218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105520" y="5410080"/>
              <a:ext cx="10666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172200" y="3504960"/>
              <a:ext cx="4572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438640" y="1143000"/>
              <a:ext cx="609480" cy="83772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514600" y="114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048120" y="1447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905120" y="1523880"/>
              <a:ext cx="5335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496040" y="5029200"/>
              <a:ext cx="609480" cy="83772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572000" y="5029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496040" y="1447560"/>
              <a:ext cx="60948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4572000" y="1447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496040" y="3886200"/>
              <a:ext cx="609480" cy="83772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57200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496040" y="2666880"/>
              <a:ext cx="609480" cy="83772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5720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514600" y="2819160"/>
              <a:ext cx="60984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590920" y="2819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124440" y="3124080"/>
              <a:ext cx="152280" cy="1519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981440" y="3200400"/>
              <a:ext cx="533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514600" y="4419360"/>
              <a:ext cx="60984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590920" y="4419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124440" y="4724280"/>
              <a:ext cx="152280" cy="15192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981440" y="4800600"/>
              <a:ext cx="533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276720" y="48006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3886200" y="2133360"/>
              <a:ext cx="0" cy="266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886200" y="32763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886200" y="21333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200400" y="1523880"/>
              <a:ext cx="533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3733920" y="1523880"/>
              <a:ext cx="0" cy="25142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733920" y="2819160"/>
              <a:ext cx="7621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733920" y="4038480"/>
              <a:ext cx="7621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276720" y="3200400"/>
              <a:ext cx="22860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V="1">
              <a:off x="3505320" y="1600200"/>
              <a:ext cx="0" cy="28951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3505320" y="1600200"/>
              <a:ext cx="9907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3505320" y="4495680"/>
              <a:ext cx="9907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3962520" y="1828800"/>
              <a:ext cx="5335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2057400" y="990360"/>
              <a:ext cx="0" cy="5331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057400" y="990720"/>
              <a:ext cx="19051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3962520" y="990720"/>
              <a:ext cx="0" cy="838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267440" y="1828800"/>
              <a:ext cx="0" cy="33523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267440" y="518148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114800" y="5410080"/>
              <a:ext cx="38124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3962520" y="3047760"/>
              <a:ext cx="5335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2210040" y="2590200"/>
              <a:ext cx="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210040" y="2590560"/>
              <a:ext cx="13716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581640" y="2590560"/>
              <a:ext cx="0" cy="4568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581640" y="3047760"/>
              <a:ext cx="38088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4114800" y="3047760"/>
              <a:ext cx="0" cy="23619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962520" y="4267080"/>
              <a:ext cx="533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V="1">
              <a:off x="2210040" y="4266720"/>
              <a:ext cx="0" cy="533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210040" y="4267080"/>
              <a:ext cx="1752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962520" y="4267080"/>
              <a:ext cx="0" cy="1447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962520" y="5715000"/>
              <a:ext cx="533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629400" y="3200400"/>
              <a:ext cx="762120" cy="11426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705720" y="3200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5791320" y="3962160"/>
              <a:ext cx="0" cy="3045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105520" y="1828800"/>
              <a:ext cx="10666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172200" y="1828800"/>
              <a:ext cx="0" cy="16758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105520" y="3047760"/>
              <a:ext cx="685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791320" y="3047760"/>
              <a:ext cx="0" cy="6854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791320" y="3733560"/>
              <a:ext cx="838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105520" y="4267080"/>
              <a:ext cx="685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791320" y="3962160"/>
              <a:ext cx="838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6172200" y="4190760"/>
              <a:ext cx="0" cy="12189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172200" y="4190760"/>
              <a:ext cx="4572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391520" y="3809880"/>
              <a:ext cx="6094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7" name=""/>
            <p:cNvGrpSpPr/>
            <p:nvPr/>
          </p:nvGrpSpPr>
          <p:grpSpPr>
            <a:xfrm>
              <a:off x="3276720" y="4876560"/>
              <a:ext cx="609480" cy="520560"/>
              <a:chOff x="3276720" y="4876560"/>
              <a:chExt cx="609480" cy="520560"/>
            </a:xfrm>
          </p:grpSpPr>
          <p:sp>
            <p:nvSpPr>
              <p:cNvPr id="3848" name=""/>
              <p:cNvSpPr/>
              <p:nvPr/>
            </p:nvSpPr>
            <p:spPr>
              <a:xfrm>
                <a:off x="3276720" y="48765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352680" y="495252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3124440" y="3276360"/>
              <a:ext cx="609480" cy="520560"/>
              <a:chOff x="3124440" y="3276360"/>
              <a:chExt cx="609480" cy="520560"/>
            </a:xfrm>
          </p:grpSpPr>
          <p:sp>
            <p:nvSpPr>
              <p:cNvPr id="3851" name=""/>
              <p:cNvSpPr/>
              <p:nvPr/>
            </p:nvSpPr>
            <p:spPr>
              <a:xfrm>
                <a:off x="3124440" y="32763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200400" y="335232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3124440" y="1600200"/>
              <a:ext cx="609480" cy="520560"/>
              <a:chOff x="3124440" y="1600200"/>
              <a:chExt cx="609480" cy="520560"/>
            </a:xfrm>
          </p:grpSpPr>
          <p:sp>
            <p:nvSpPr>
              <p:cNvPr id="3854" name=""/>
              <p:cNvSpPr/>
              <p:nvPr/>
            </p:nvSpPr>
            <p:spPr>
              <a:xfrm>
                <a:off x="3124440" y="16002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200400" y="167616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 flipH="1">
              <a:off x="6858000" y="3504960"/>
              <a:ext cx="1526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18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23" dur="500"/>
                                        <p:tgtEl>
                                          <p:spTgt spid="3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. 5. 3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逻辑函数的化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8" name=""/>
          <p:cNvGrpSpPr/>
          <p:nvPr/>
        </p:nvGrpSpPr>
        <p:grpSpPr>
          <a:xfrm>
            <a:off x="838080" y="1521000"/>
            <a:ext cx="7620120" cy="1660320"/>
            <a:chOff x="838080" y="1521000"/>
            <a:chExt cx="7620120" cy="1660320"/>
          </a:xfrm>
        </p:grpSpPr>
        <p:sp>
          <p:nvSpPr>
            <p:cNvPr id="3859" name=""/>
            <p:cNvSpPr/>
            <p:nvPr/>
          </p:nvSpPr>
          <p:spPr>
            <a:xfrm>
              <a:off x="838080" y="2149200"/>
              <a:ext cx="76201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状态表直接写出的逻辑式及由此画出的逻辑图，一般比较复杂；若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经过简化，则可使用较少的逻辑门实现同样的逻辑功能。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从而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可节省器件，降低成本，提高电路工作的可靠性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066680" y="1521000"/>
              <a:ext cx="457200" cy="380880"/>
            </a:xfrm>
            <a:prstGeom prst="star5">
              <a:avLst/>
            </a:prstGeom>
            <a:solidFill>
              <a:srgbClr val="ff33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1" name=""/>
          <p:cNvGrpSpPr/>
          <p:nvPr/>
        </p:nvGrpSpPr>
        <p:grpSpPr>
          <a:xfrm>
            <a:off x="685800" y="3809880"/>
            <a:ext cx="7848720" cy="563040"/>
            <a:chOff x="685800" y="3809880"/>
            <a:chExt cx="7848720" cy="563040"/>
          </a:xfrm>
        </p:grpSpPr>
        <p:sp>
          <p:nvSpPr>
            <p:cNvPr id="3862" name=""/>
            <p:cNvSpPr/>
            <p:nvPr/>
          </p:nvSpPr>
          <p:spPr>
            <a:xfrm>
              <a:off x="685800" y="3809880"/>
              <a:ext cx="78487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利用逻辑代数变换，可用不同的门电路实现相同的逻辑功能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990720" y="3886200"/>
              <a:ext cx="457200" cy="3808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4" name=""/>
          <p:cNvGrpSpPr/>
          <p:nvPr/>
        </p:nvGrpSpPr>
        <p:grpSpPr>
          <a:xfrm>
            <a:off x="1968480" y="4876920"/>
            <a:ext cx="2863080" cy="1143000"/>
            <a:chOff x="1968480" y="4876920"/>
            <a:chExt cx="2863080" cy="1143000"/>
          </a:xfrm>
        </p:grpSpPr>
        <p:sp>
          <p:nvSpPr>
            <p:cNvPr id="3865" name=""/>
            <p:cNvSpPr/>
            <p:nvPr/>
          </p:nvSpPr>
          <p:spPr>
            <a:xfrm>
              <a:off x="1968480" y="5105520"/>
              <a:ext cx="1034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化简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3428640" y="4952880"/>
              <a:ext cx="76320" cy="10670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3800160" y="4876920"/>
              <a:ext cx="820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公式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3797280" y="5410080"/>
              <a:ext cx="1034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卡诺图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62120" y="1200240"/>
            <a:ext cx="4276080" cy="171360"/>
            <a:chOff x="762120" y="1200240"/>
            <a:chExt cx="4276080" cy="171360"/>
          </a:xfrm>
        </p:grpSpPr>
        <p:pic>
          <p:nvPicPr>
            <p:cNvPr id="3870" name="" descr=""/>
            <p:cNvPicPr/>
            <p:nvPr/>
          </p:nvPicPr>
          <p:blipFill>
            <a:blip r:embed="rId1"/>
            <a:stretch/>
          </p:blipFill>
          <p:spPr>
            <a:xfrm>
              <a:off x="16668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1" name="" descr=""/>
            <p:cNvPicPr/>
            <p:nvPr/>
          </p:nvPicPr>
          <p:blipFill>
            <a:blip r:embed="rId2"/>
            <a:stretch/>
          </p:blipFill>
          <p:spPr>
            <a:xfrm>
              <a:off x="18097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2" name="" descr=""/>
            <p:cNvPicPr/>
            <p:nvPr/>
          </p:nvPicPr>
          <p:blipFill>
            <a:blip r:embed="rId3"/>
            <a:stretch/>
          </p:blipFill>
          <p:spPr>
            <a:xfrm>
              <a:off x="19717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3" name="" descr=""/>
            <p:cNvPicPr/>
            <p:nvPr/>
          </p:nvPicPr>
          <p:blipFill>
            <a:blip r:embed="rId4"/>
            <a:stretch/>
          </p:blipFill>
          <p:spPr>
            <a:xfrm>
              <a:off x="22669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4" name="" descr=""/>
            <p:cNvPicPr/>
            <p:nvPr/>
          </p:nvPicPr>
          <p:blipFill>
            <a:blip r:embed="rId5"/>
            <a:stretch/>
          </p:blipFill>
          <p:spPr>
            <a:xfrm>
              <a:off x="24289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5" name="" descr=""/>
            <p:cNvPicPr/>
            <p:nvPr/>
          </p:nvPicPr>
          <p:blipFill>
            <a:blip r:embed="rId6"/>
            <a:stretch/>
          </p:blipFill>
          <p:spPr>
            <a:xfrm>
              <a:off x="25812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6" name="" descr=""/>
            <p:cNvPicPr/>
            <p:nvPr/>
          </p:nvPicPr>
          <p:blipFill>
            <a:blip r:embed="rId7"/>
            <a:stretch/>
          </p:blipFill>
          <p:spPr>
            <a:xfrm>
              <a:off x="27241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7" name="" descr=""/>
            <p:cNvPicPr/>
            <p:nvPr/>
          </p:nvPicPr>
          <p:blipFill>
            <a:blip r:embed="rId8"/>
            <a:stretch/>
          </p:blipFill>
          <p:spPr>
            <a:xfrm>
              <a:off x="28861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" descr=""/>
            <p:cNvPicPr/>
            <p:nvPr/>
          </p:nvPicPr>
          <p:blipFill>
            <a:blip r:embed="rId9"/>
            <a:stretch/>
          </p:blipFill>
          <p:spPr>
            <a:xfrm>
              <a:off x="31813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9" name="" descr=""/>
            <p:cNvPicPr/>
            <p:nvPr/>
          </p:nvPicPr>
          <p:blipFill>
            <a:blip r:embed="rId10"/>
            <a:stretch/>
          </p:blipFill>
          <p:spPr>
            <a:xfrm>
              <a:off x="33433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0" name="" descr=""/>
            <p:cNvPicPr/>
            <p:nvPr/>
          </p:nvPicPr>
          <p:blipFill>
            <a:blip r:embed="rId11"/>
            <a:stretch/>
          </p:blipFill>
          <p:spPr>
            <a:xfrm>
              <a:off x="34956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1" name="" descr=""/>
            <p:cNvPicPr/>
            <p:nvPr/>
          </p:nvPicPr>
          <p:blipFill>
            <a:blip r:embed="rId12"/>
            <a:stretch/>
          </p:blipFill>
          <p:spPr>
            <a:xfrm>
              <a:off x="36385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2" name="" descr=""/>
            <p:cNvPicPr/>
            <p:nvPr/>
          </p:nvPicPr>
          <p:blipFill>
            <a:blip r:embed="rId13"/>
            <a:stretch/>
          </p:blipFill>
          <p:spPr>
            <a:xfrm>
              <a:off x="21240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3" name="" descr=""/>
            <p:cNvPicPr/>
            <p:nvPr/>
          </p:nvPicPr>
          <p:blipFill>
            <a:blip r:embed="rId14"/>
            <a:stretch/>
          </p:blipFill>
          <p:spPr>
            <a:xfrm>
              <a:off x="30384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4" name="" descr=""/>
            <p:cNvPicPr/>
            <p:nvPr/>
          </p:nvPicPr>
          <p:blipFill>
            <a:blip r:embed="rId15"/>
            <a:stretch/>
          </p:blipFill>
          <p:spPr>
            <a:xfrm>
              <a:off x="38005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5" name="" descr=""/>
            <p:cNvPicPr/>
            <p:nvPr/>
          </p:nvPicPr>
          <p:blipFill>
            <a:blip r:embed="rId16"/>
            <a:stretch/>
          </p:blipFill>
          <p:spPr>
            <a:xfrm>
              <a:off x="395280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6" name="" descr=""/>
            <p:cNvPicPr/>
            <p:nvPr/>
          </p:nvPicPr>
          <p:blipFill>
            <a:blip r:embed="rId17"/>
            <a:stretch/>
          </p:blipFill>
          <p:spPr>
            <a:xfrm>
              <a:off x="4095720" y="120960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7" name="" descr=""/>
            <p:cNvPicPr/>
            <p:nvPr/>
          </p:nvPicPr>
          <p:blipFill>
            <a:blip r:embed="rId18"/>
            <a:stretch/>
          </p:blipFill>
          <p:spPr>
            <a:xfrm>
              <a:off x="4257720" y="1209600"/>
              <a:ext cx="16128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8" name=""/>
            <p:cNvGrpSpPr/>
            <p:nvPr/>
          </p:nvGrpSpPr>
          <p:grpSpPr>
            <a:xfrm>
              <a:off x="762120" y="1200240"/>
              <a:ext cx="923760" cy="161640"/>
              <a:chOff x="762120" y="1200240"/>
              <a:chExt cx="923760" cy="161640"/>
            </a:xfrm>
          </p:grpSpPr>
          <p:pic>
            <p:nvPicPr>
              <p:cNvPr id="388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90504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06704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21932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2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6224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24240" y="12002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2120" y="12002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95" name="" descr=""/>
            <p:cNvPicPr/>
            <p:nvPr/>
          </p:nvPicPr>
          <p:blipFill>
            <a:blip r:embed="rId25"/>
            <a:stretch/>
          </p:blipFill>
          <p:spPr>
            <a:xfrm>
              <a:off x="4419360" y="12002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6" name="" descr=""/>
            <p:cNvPicPr/>
            <p:nvPr/>
          </p:nvPicPr>
          <p:blipFill>
            <a:blip r:embed="rId26"/>
            <a:stretch/>
          </p:blipFill>
          <p:spPr>
            <a:xfrm>
              <a:off x="4572000" y="1200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7" name="" descr=""/>
            <p:cNvPicPr/>
            <p:nvPr/>
          </p:nvPicPr>
          <p:blipFill>
            <a:blip r:embed="rId27"/>
            <a:stretch/>
          </p:blipFill>
          <p:spPr>
            <a:xfrm>
              <a:off x="4714920" y="120024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8" name="" descr=""/>
            <p:cNvPicPr/>
            <p:nvPr/>
          </p:nvPicPr>
          <p:blipFill>
            <a:blip r:embed="rId28"/>
            <a:stretch/>
          </p:blipFill>
          <p:spPr>
            <a:xfrm>
              <a:off x="4876560" y="1200240"/>
              <a:ext cx="16164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30" dur="500"/>
                                        <p:tgtEl>
                                          <p:spTgt spid="3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35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40" dur="500"/>
                                        <p:tgtEl>
                                          <p:spTgt spid="3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4267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幅度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48006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上升沿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50292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周期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41008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下降沿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441972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脉冲宽度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6858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脉冲信号的部分参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05120" y="1219320"/>
            <a:ext cx="5075280" cy="2882520"/>
            <a:chOff x="1905120" y="1219320"/>
            <a:chExt cx="5075280" cy="2882520"/>
          </a:xfrm>
        </p:grpSpPr>
        <p:grpSp>
          <p:nvGrpSpPr>
            <p:cNvPr id="194" name=""/>
            <p:cNvGrpSpPr/>
            <p:nvPr/>
          </p:nvGrpSpPr>
          <p:grpSpPr>
            <a:xfrm>
              <a:off x="2133720" y="1219320"/>
              <a:ext cx="4846680" cy="1613880"/>
              <a:chOff x="2133720" y="1219320"/>
              <a:chExt cx="4846680" cy="16138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133720" y="1219320"/>
                <a:ext cx="3733560" cy="1545480"/>
                <a:chOff x="2133720" y="1219320"/>
                <a:chExt cx="3733560" cy="1545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133720" y="1219320"/>
                  <a:ext cx="1974600" cy="1539360"/>
                </a:xfrm>
                <a:custGeom>
                  <a:avLst/>
                  <a:gdLst/>
                  <a:ahLst/>
                  <a:rect l="l" t="t" r="r" b="b"/>
                  <a:pathLst>
                    <a:path w="1024" h="731">
                      <a:moveTo>
                        <a:pt x="0" y="723"/>
                      </a:moveTo>
                      <a:cubicBezTo>
                        <a:pt x="164" y="727"/>
                        <a:pt x="328" y="731"/>
                        <a:pt x="432" y="627"/>
                      </a:cubicBezTo>
                      <a:cubicBezTo>
                        <a:pt x="536" y="523"/>
                        <a:pt x="525" y="198"/>
                        <a:pt x="624" y="99"/>
                      </a:cubicBezTo>
                      <a:cubicBezTo>
                        <a:pt x="723" y="0"/>
                        <a:pt x="941" y="48"/>
                        <a:pt x="1024" y="35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3892320" y="1225440"/>
                  <a:ext cx="1974960" cy="1539360"/>
                </a:xfrm>
                <a:custGeom>
                  <a:avLst/>
                  <a:gdLst/>
                  <a:ahLst/>
                  <a:rect l="l" t="t" r="r" b="b"/>
                  <a:pathLst>
                    <a:path w="1024" h="731">
                      <a:moveTo>
                        <a:pt x="0" y="723"/>
                      </a:moveTo>
                      <a:cubicBezTo>
                        <a:pt x="164" y="727"/>
                        <a:pt x="328" y="731"/>
                        <a:pt x="432" y="627"/>
                      </a:cubicBezTo>
                      <a:cubicBezTo>
                        <a:pt x="536" y="523"/>
                        <a:pt x="525" y="198"/>
                        <a:pt x="624" y="99"/>
                      </a:cubicBezTo>
                      <a:cubicBezTo>
                        <a:pt x="723" y="0"/>
                        <a:pt x="941" y="48"/>
                        <a:pt x="1024" y="35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5789880" y="1382400"/>
                <a:ext cx="1190520" cy="1450800"/>
              </a:xfrm>
              <a:custGeom>
                <a:avLst/>
                <a:gdLst/>
                <a:ahLst/>
                <a:rect l="l" t="t" r="r" b="b"/>
                <a:pathLst>
                  <a:path w="750" h="914">
                    <a:moveTo>
                      <a:pt x="673" y="289"/>
                    </a:moveTo>
                    <a:cubicBezTo>
                      <a:pt x="681" y="256"/>
                      <a:pt x="750" y="0"/>
                      <a:pt x="719" y="82"/>
                    </a:cubicBezTo>
                    <a:cubicBezTo>
                      <a:pt x="688" y="164"/>
                      <a:pt x="606" y="651"/>
                      <a:pt x="486" y="783"/>
                    </a:cubicBezTo>
                    <a:cubicBezTo>
                      <a:pt x="366" y="914"/>
                      <a:pt x="101" y="850"/>
                      <a:pt x="0" y="86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962520" y="1295280"/>
              <a:ext cx="2057400" cy="1447560"/>
              <a:chOff x="3962520" y="1295280"/>
              <a:chExt cx="2057400" cy="1447560"/>
            </a:xfrm>
          </p:grpSpPr>
          <p:sp>
            <p:nvSpPr>
              <p:cNvPr id="200" name=""/>
              <p:cNvSpPr/>
              <p:nvPr/>
            </p:nvSpPr>
            <p:spPr>
              <a:xfrm>
                <a:off x="3962520" y="1295280"/>
                <a:ext cx="2057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15000" y="1295280"/>
                <a:ext cx="0" cy="1447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5638680" y="1676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666880" y="1523880"/>
              <a:ext cx="914040" cy="2286000"/>
              <a:chOff x="2666880" y="1523880"/>
              <a:chExt cx="914040" cy="2286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95480" y="259056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6360" y="152388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2666880" y="3124080"/>
                <a:ext cx="914040" cy="0"/>
                <a:chOff x="2666880" y="3124080"/>
                <a:chExt cx="914040" cy="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666880" y="3124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3276000" y="3124080"/>
                  <a:ext cx="304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95480" y="31240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4495680" y="1523880"/>
              <a:ext cx="837720" cy="1981080"/>
              <a:chOff x="4495680" y="1523880"/>
              <a:chExt cx="837720" cy="1981080"/>
            </a:xfrm>
          </p:grpSpPr>
          <p:sp>
            <p:nvSpPr>
              <p:cNvPr id="211" name=""/>
              <p:cNvSpPr/>
              <p:nvPr/>
            </p:nvSpPr>
            <p:spPr>
              <a:xfrm>
                <a:off x="4724280" y="1523880"/>
                <a:ext cx="0" cy="198108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28840" y="2590560"/>
                <a:ext cx="0" cy="91440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4495680" y="3124080"/>
                <a:ext cx="837720" cy="0"/>
                <a:chOff x="4495680" y="3124080"/>
                <a:chExt cx="837720" cy="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495680" y="3124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5028480" y="3124080"/>
                  <a:ext cx="30492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47960" y="31240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2286000" y="1219320"/>
              <a:ext cx="2514600" cy="520560"/>
              <a:chOff x="2286000" y="1219320"/>
              <a:chExt cx="2514600" cy="520560"/>
            </a:xfrm>
          </p:grpSpPr>
          <p:sp>
            <p:nvSpPr>
              <p:cNvPr id="218" name=""/>
              <p:cNvSpPr/>
              <p:nvPr/>
            </p:nvSpPr>
            <p:spPr>
              <a:xfrm>
                <a:off x="3352680" y="1523880"/>
                <a:ext cx="14479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86000" y="1219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0.9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09680" y="1676520"/>
              <a:ext cx="2667240" cy="520560"/>
              <a:chOff x="2209680" y="1676520"/>
              <a:chExt cx="2667240" cy="520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200400" y="2057400"/>
                <a:ext cx="1676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09680" y="16765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0.5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905120" y="2133720"/>
              <a:ext cx="4647600" cy="520560"/>
              <a:chOff x="1905120" y="2133720"/>
              <a:chExt cx="4647600" cy="520560"/>
            </a:xfrm>
          </p:grpSpPr>
          <p:sp>
            <p:nvSpPr>
              <p:cNvPr id="224" name=""/>
              <p:cNvSpPr/>
              <p:nvPr/>
            </p:nvSpPr>
            <p:spPr>
              <a:xfrm>
                <a:off x="2895480" y="2590920"/>
                <a:ext cx="3657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905120" y="2133720"/>
                <a:ext cx="11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"/>
                  </a:rPr>
                  <a:t>0.1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895480" y="2590920"/>
              <a:ext cx="3733560" cy="1218960"/>
              <a:chOff x="2895480" y="2590920"/>
              <a:chExt cx="3733560" cy="1218960"/>
            </a:xfrm>
          </p:grpSpPr>
          <p:sp>
            <p:nvSpPr>
              <p:cNvPr id="227" name=""/>
              <p:cNvSpPr/>
              <p:nvPr/>
            </p:nvSpPr>
            <p:spPr>
              <a:xfrm>
                <a:off x="6629040" y="259092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95480" y="3657240"/>
                <a:ext cx="373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159000" y="2057400"/>
              <a:ext cx="1677960" cy="304920"/>
              <a:chOff x="3159000" y="2057400"/>
              <a:chExt cx="1677960" cy="30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3159000" y="2057400"/>
                <a:ext cx="0" cy="30492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36960" y="2057400"/>
                <a:ext cx="0" cy="304920"/>
              </a:xfrm>
              <a:prstGeom prst="line">
                <a:avLst/>
              </a:prstGeom>
              <a:ln w="28440">
                <a:solidFill>
                  <a:srgbClr val="000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63320" y="2286000"/>
                <a:ext cx="60948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67080" y="2286000"/>
                <a:ext cx="569880" cy="0"/>
              </a:xfrm>
              <a:prstGeom prst="line">
                <a:avLst/>
              </a:prstGeom>
              <a:ln w="19080">
                <a:solidFill>
                  <a:srgbClr val="00001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505320" y="19810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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60496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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260496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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62520" y="3581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14600" y="38862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实际的矩形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0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2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2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27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用 “与非”门构成基本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09480" y="3581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“与非”门构成“或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1458720" y="1066680"/>
            <a:ext cx="37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“与非”门构成“与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2" name=""/>
          <p:cNvGrpSpPr/>
          <p:nvPr/>
        </p:nvGrpSpPr>
        <p:grpSpPr>
          <a:xfrm>
            <a:off x="1836000" y="2286000"/>
            <a:ext cx="4717080" cy="1074240"/>
            <a:chOff x="1836000" y="2286000"/>
            <a:chExt cx="4717080" cy="1074240"/>
          </a:xfrm>
        </p:grpSpPr>
        <p:sp>
          <p:nvSpPr>
            <p:cNvPr id="3903" name=""/>
            <p:cNvSpPr/>
            <p:nvPr/>
          </p:nvSpPr>
          <p:spPr>
            <a:xfrm>
              <a:off x="1836000" y="2286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617220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895480" y="2347920"/>
              <a:ext cx="762120" cy="95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648320" y="2347920"/>
              <a:ext cx="761760" cy="95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7" name=""/>
            <p:cNvGrpSpPr/>
            <p:nvPr/>
          </p:nvGrpSpPr>
          <p:grpSpPr>
            <a:xfrm>
              <a:off x="4267080" y="2622600"/>
              <a:ext cx="381240" cy="409680"/>
              <a:chOff x="4267080" y="2622600"/>
              <a:chExt cx="381240" cy="409680"/>
            </a:xfrm>
          </p:grpSpPr>
          <p:sp>
            <p:nvSpPr>
              <p:cNvPr id="3908" name=""/>
              <p:cNvSpPr/>
              <p:nvPr/>
            </p:nvSpPr>
            <p:spPr>
              <a:xfrm>
                <a:off x="4267080" y="26226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267080" y="262260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267080" y="30322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1" name=""/>
            <p:cNvSpPr/>
            <p:nvPr/>
          </p:nvSpPr>
          <p:spPr>
            <a:xfrm>
              <a:off x="2209680" y="25542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209680" y="31003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817160" y="22860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1837440" y="29005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57600" y="2759040"/>
              <a:ext cx="152280" cy="136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809880" y="2827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5410080" y="2759040"/>
              <a:ext cx="152640" cy="136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5562720" y="2827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3064680" y="22860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4884120" y="4267080"/>
            <a:ext cx="3630600" cy="1752840"/>
            <a:chOff x="4884120" y="4267080"/>
            <a:chExt cx="3630600" cy="1752840"/>
          </a:xfrm>
        </p:grpSpPr>
        <p:sp>
          <p:nvSpPr>
            <p:cNvPr id="3921" name=""/>
            <p:cNvSpPr/>
            <p:nvPr/>
          </p:nvSpPr>
          <p:spPr>
            <a:xfrm>
              <a:off x="4885560" y="5459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884120" y="4476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8161920" y="5029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946840" y="4267080"/>
              <a:ext cx="571320" cy="77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5" name=""/>
            <p:cNvGrpSpPr/>
            <p:nvPr/>
          </p:nvGrpSpPr>
          <p:grpSpPr>
            <a:xfrm>
              <a:off x="5662440" y="4476600"/>
              <a:ext cx="284400" cy="420840"/>
              <a:chOff x="5662440" y="4476600"/>
              <a:chExt cx="284400" cy="420840"/>
            </a:xfrm>
          </p:grpSpPr>
          <p:sp>
            <p:nvSpPr>
              <p:cNvPr id="3926" name=""/>
              <p:cNvSpPr/>
              <p:nvPr/>
            </p:nvSpPr>
            <p:spPr>
              <a:xfrm>
                <a:off x="5662440" y="447660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5662440" y="4476600"/>
                <a:ext cx="0" cy="42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5662440" y="489744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9" name=""/>
            <p:cNvSpPr/>
            <p:nvPr/>
          </p:nvSpPr>
          <p:spPr>
            <a:xfrm>
              <a:off x="5234040" y="4687920"/>
              <a:ext cx="42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946840" y="5248440"/>
              <a:ext cx="571320" cy="77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1" name=""/>
            <p:cNvGrpSpPr/>
            <p:nvPr/>
          </p:nvGrpSpPr>
          <p:grpSpPr>
            <a:xfrm>
              <a:off x="5662440" y="5459400"/>
              <a:ext cx="284400" cy="420840"/>
              <a:chOff x="5662440" y="5459400"/>
              <a:chExt cx="284400" cy="420840"/>
            </a:xfrm>
          </p:grpSpPr>
          <p:sp>
            <p:nvSpPr>
              <p:cNvPr id="3932" name=""/>
              <p:cNvSpPr/>
              <p:nvPr/>
            </p:nvSpPr>
            <p:spPr>
              <a:xfrm>
                <a:off x="5662440" y="545940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662440" y="5459400"/>
                <a:ext cx="0" cy="42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662440" y="5880240"/>
                <a:ext cx="2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5" name=""/>
            <p:cNvSpPr/>
            <p:nvPr/>
          </p:nvSpPr>
          <p:spPr>
            <a:xfrm>
              <a:off x="5234040" y="5668920"/>
              <a:ext cx="42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6019920" y="426708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7" name=""/>
            <p:cNvGrpSpPr/>
            <p:nvPr/>
          </p:nvGrpSpPr>
          <p:grpSpPr>
            <a:xfrm>
              <a:off x="6946920" y="4687920"/>
              <a:ext cx="285840" cy="981000"/>
              <a:chOff x="6946920" y="4687920"/>
              <a:chExt cx="285840" cy="981000"/>
            </a:xfrm>
          </p:grpSpPr>
          <p:sp>
            <p:nvSpPr>
              <p:cNvPr id="3938" name=""/>
              <p:cNvSpPr/>
              <p:nvPr/>
            </p:nvSpPr>
            <p:spPr>
              <a:xfrm>
                <a:off x="6946920" y="4687920"/>
                <a:ext cx="0" cy="35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6946920" y="5318640"/>
                <a:ext cx="0" cy="35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6946920" y="5318640"/>
                <a:ext cx="28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6946920" y="5038200"/>
                <a:ext cx="28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2" name=""/>
            <p:cNvSpPr/>
            <p:nvPr/>
          </p:nvSpPr>
          <p:spPr>
            <a:xfrm>
              <a:off x="7232760" y="4827600"/>
              <a:ext cx="569880" cy="77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315200" y="4800600"/>
              <a:ext cx="4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6518160" y="4618080"/>
              <a:ext cx="142920" cy="13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518160" y="5599080"/>
              <a:ext cx="142920" cy="13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802640" y="5178600"/>
              <a:ext cx="142920" cy="13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661080" y="5668920"/>
              <a:ext cx="28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6661080" y="4687920"/>
              <a:ext cx="28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7945560" y="52484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6034320" y="5257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1330200" y="1600200"/>
            <a:ext cx="5302440" cy="604800"/>
            <a:chOff x="1330200" y="1600200"/>
            <a:chExt cx="5302440" cy="604800"/>
          </a:xfrm>
        </p:grpSpPr>
        <p:sp>
          <p:nvSpPr>
            <p:cNvPr id="3952" name=""/>
            <p:cNvSpPr/>
            <p:nvPr/>
          </p:nvSpPr>
          <p:spPr>
            <a:xfrm>
              <a:off x="1330200" y="16765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代数运算法则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3" name="" descr=""/>
            <p:cNvPicPr/>
            <p:nvPr/>
          </p:nvPicPr>
          <p:blipFill>
            <a:blip r:embed="rId1"/>
            <a:stretch/>
          </p:blipFill>
          <p:spPr>
            <a:xfrm>
              <a:off x="4191120" y="1600200"/>
              <a:ext cx="244152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4" name=""/>
          <p:cNvGrpSpPr/>
          <p:nvPr/>
        </p:nvGrpSpPr>
        <p:grpSpPr>
          <a:xfrm>
            <a:off x="654120" y="4191120"/>
            <a:ext cx="4332240" cy="1385640"/>
            <a:chOff x="654120" y="4191120"/>
            <a:chExt cx="4332240" cy="1385640"/>
          </a:xfrm>
        </p:grpSpPr>
        <p:sp>
          <p:nvSpPr>
            <p:cNvPr id="3955" name=""/>
            <p:cNvSpPr/>
            <p:nvPr/>
          </p:nvSpPr>
          <p:spPr>
            <a:xfrm>
              <a:off x="1406520" y="4191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代数运算法则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6" name="" descr=""/>
            <p:cNvPicPr/>
            <p:nvPr/>
          </p:nvPicPr>
          <p:blipFill>
            <a:blip r:embed="rId2"/>
            <a:stretch/>
          </p:blipFill>
          <p:spPr>
            <a:xfrm>
              <a:off x="654120" y="4876920"/>
              <a:ext cx="433224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47" dur="500"/>
                                        <p:tgtEl>
                                          <p:spTgt spid="3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52" dur="500"/>
                                        <p:tgtEl>
                                          <p:spTgt spid="3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57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nodeType="clickEffect" fill="hold">
                      <p:stCondLst>
                        <p:cond delay="indefinite"/>
                      </p:stCondLst>
                      <p:childTnLst>
                        <p:par>
                          <p:cTn id="2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62" dur="500"/>
                                        <p:tgtEl>
                                          <p:spTgt spid="3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nodeType="clickEffect" fill="hold">
                      <p:stCondLst>
                        <p:cond delay="indefinite"/>
                      </p:stCondLst>
                      <p:childTnLst>
                        <p:par>
                          <p:cTn id="2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67" dur="5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nodeType="clickEffect" fill="hold">
                      <p:stCondLst>
                        <p:cond delay="indefinite"/>
                      </p:stCondLst>
                      <p:childTnLst>
                        <p:par>
                          <p:cTn id="2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72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7" name=""/>
          <p:cNvGrpSpPr/>
          <p:nvPr/>
        </p:nvGrpSpPr>
        <p:grpSpPr>
          <a:xfrm>
            <a:off x="3283920" y="1295280"/>
            <a:ext cx="3477600" cy="1067040"/>
            <a:chOff x="3283920" y="1295280"/>
            <a:chExt cx="3477600" cy="1067040"/>
          </a:xfrm>
        </p:grpSpPr>
        <p:sp>
          <p:nvSpPr>
            <p:cNvPr id="3958" name=""/>
            <p:cNvSpPr/>
            <p:nvPr/>
          </p:nvSpPr>
          <p:spPr>
            <a:xfrm>
              <a:off x="4876560" y="1295280"/>
              <a:ext cx="76176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4495680" y="1600200"/>
              <a:ext cx="380520" cy="457200"/>
              <a:chOff x="4495680" y="1600200"/>
              <a:chExt cx="380520" cy="457200"/>
            </a:xfrm>
          </p:grpSpPr>
          <p:sp>
            <p:nvSpPr>
              <p:cNvPr id="3960" name=""/>
              <p:cNvSpPr/>
              <p:nvPr/>
            </p:nvSpPr>
            <p:spPr>
              <a:xfrm>
                <a:off x="4495680" y="16002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4495680" y="16002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4495680" y="2057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3" name=""/>
            <p:cNvSpPr/>
            <p:nvPr/>
          </p:nvSpPr>
          <p:spPr>
            <a:xfrm>
              <a:off x="3657240" y="1828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028840" y="1295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408720" y="1574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283920" y="1574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638680" y="1752480"/>
              <a:ext cx="15192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790960" y="182880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9" name=""/>
          <p:cNvSpPr/>
          <p:nvPr/>
        </p:nvSpPr>
        <p:spPr>
          <a:xfrm>
            <a:off x="1535040" y="609480"/>
            <a:ext cx="37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“与非”门构成“非”门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1314720" y="2590920"/>
            <a:ext cx="33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用“与非”门构成“或非”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1" name=""/>
          <p:cNvGrpSpPr/>
          <p:nvPr/>
        </p:nvGrpSpPr>
        <p:grpSpPr>
          <a:xfrm>
            <a:off x="1378800" y="3962520"/>
            <a:ext cx="5307120" cy="1904760"/>
            <a:chOff x="1378800" y="3962520"/>
            <a:chExt cx="5307120" cy="1904760"/>
          </a:xfrm>
        </p:grpSpPr>
        <p:sp>
          <p:nvSpPr>
            <p:cNvPr id="3972" name=""/>
            <p:cNvSpPr/>
            <p:nvPr/>
          </p:nvSpPr>
          <p:spPr>
            <a:xfrm>
              <a:off x="4948200" y="478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6333120" y="48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80240" y="52578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378800" y="4191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514600" y="396252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209680" y="4191120"/>
              <a:ext cx="304920" cy="457200"/>
              <a:chOff x="2209680" y="4191120"/>
              <a:chExt cx="304920" cy="457200"/>
            </a:xfrm>
          </p:grpSpPr>
          <p:sp>
            <p:nvSpPr>
              <p:cNvPr id="3978" name=""/>
              <p:cNvSpPr/>
              <p:nvPr/>
            </p:nvSpPr>
            <p:spPr>
              <a:xfrm>
                <a:off x="2209680" y="41911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209680" y="41911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209680" y="46483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1" name=""/>
            <p:cNvSpPr/>
            <p:nvPr/>
          </p:nvSpPr>
          <p:spPr>
            <a:xfrm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5909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514600" y="502920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4" name=""/>
            <p:cNvGrpSpPr/>
            <p:nvPr/>
          </p:nvGrpSpPr>
          <p:grpSpPr>
            <a:xfrm>
              <a:off x="2209680" y="5257800"/>
              <a:ext cx="304920" cy="457200"/>
              <a:chOff x="2209680" y="5257800"/>
              <a:chExt cx="304920" cy="457200"/>
            </a:xfrm>
          </p:grpSpPr>
          <p:sp>
            <p:nvSpPr>
              <p:cNvPr id="3985" name=""/>
              <p:cNvSpPr/>
              <p:nvPr/>
            </p:nvSpPr>
            <p:spPr>
              <a:xfrm>
                <a:off x="2209680" y="52578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209680" y="52578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209680" y="57150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1752480" y="5486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59092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0" name=""/>
            <p:cNvGrpSpPr/>
            <p:nvPr/>
          </p:nvGrpSpPr>
          <p:grpSpPr>
            <a:xfrm>
              <a:off x="3581280" y="4419720"/>
              <a:ext cx="304920" cy="1066680"/>
              <a:chOff x="3581280" y="4419720"/>
              <a:chExt cx="304920" cy="1066680"/>
            </a:xfrm>
          </p:grpSpPr>
          <p:sp>
            <p:nvSpPr>
              <p:cNvPr id="3991" name=""/>
              <p:cNvSpPr/>
              <p:nvPr/>
            </p:nvSpPr>
            <p:spPr>
              <a:xfrm>
                <a:off x="3581280" y="44197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581280" y="51055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581280" y="5105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581280" y="4800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>
              <a:off x="3886200" y="457200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96252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257800" y="4572000"/>
              <a:ext cx="60948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8" name=""/>
            <p:cNvGrpSpPr/>
            <p:nvPr/>
          </p:nvGrpSpPr>
          <p:grpSpPr>
            <a:xfrm>
              <a:off x="4952880" y="4800600"/>
              <a:ext cx="304920" cy="457200"/>
              <a:chOff x="4952880" y="4800600"/>
              <a:chExt cx="304920" cy="457200"/>
            </a:xfrm>
          </p:grpSpPr>
          <p:sp>
            <p:nvSpPr>
              <p:cNvPr id="3999" name=""/>
              <p:cNvSpPr/>
              <p:nvPr/>
            </p:nvSpPr>
            <p:spPr>
              <a:xfrm>
                <a:off x="4952880" y="4800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4952880" y="4800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952880" y="52578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>
              <a:off x="533412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124080" y="54100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4495680" y="49528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867280" y="48769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276720" y="5486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276720" y="4419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4648320" y="5029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6019920" y="4952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1163520" cy="505080"/>
          </a:xfrm>
          <a:prstGeom prst="rect">
            <a:avLst/>
          </a:prstGeom>
          <a:ln w="0">
            <a:noFill/>
          </a:ln>
        </p:spPr>
      </p:pic>
      <p:grpSp>
        <p:nvGrpSpPr>
          <p:cNvPr id="4012" name=""/>
          <p:cNvGrpSpPr/>
          <p:nvPr/>
        </p:nvGrpSpPr>
        <p:grpSpPr>
          <a:xfrm>
            <a:off x="1406520" y="3124080"/>
            <a:ext cx="6654960" cy="738360"/>
            <a:chOff x="1406520" y="3124080"/>
            <a:chExt cx="6654960" cy="738360"/>
          </a:xfrm>
        </p:grpSpPr>
        <p:sp>
          <p:nvSpPr>
            <p:cNvPr id="4013" name=""/>
            <p:cNvSpPr/>
            <p:nvPr/>
          </p:nvSpPr>
          <p:spPr>
            <a:xfrm>
              <a:off x="1406520" y="32767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由逻辑代数运算法则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4" name="" descr=""/>
            <p:cNvPicPr/>
            <p:nvPr/>
          </p:nvPicPr>
          <p:blipFill>
            <a:blip r:embed="rId2"/>
            <a:stretch/>
          </p:blipFill>
          <p:spPr>
            <a:xfrm>
              <a:off x="4159080" y="3124080"/>
              <a:ext cx="3902400" cy="73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nodeType="clickEffect" fill="hold">
                      <p:stCondLst>
                        <p:cond delay="indefinite"/>
                      </p:stCondLst>
                      <p:childTnLst>
                        <p:par>
                          <p:cTn id="2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79" dur="500"/>
                                        <p:tgtEl>
                                          <p:spTgt spid="4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84" dur="5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nodeType="clickEffect" fill="hold">
                      <p:stCondLst>
                        <p:cond delay="indefinite"/>
                      </p:stCondLst>
                      <p:childTnLst>
                        <p:par>
                          <p:cTn id="2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189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94" dur="500"/>
                                        <p:tgtEl>
                                          <p:spTgt spid="4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99" dur="500"/>
                                        <p:tgtEl>
                                          <p:spTgt spid="3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"/>
          <p:cNvSpPr/>
          <p:nvPr/>
        </p:nvSpPr>
        <p:spPr>
          <a:xfrm>
            <a:off x="762120" y="16002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6" name=""/>
          <p:cNvGrpSpPr/>
          <p:nvPr/>
        </p:nvGrpSpPr>
        <p:grpSpPr>
          <a:xfrm>
            <a:off x="3200400" y="1600200"/>
            <a:ext cx="2266920" cy="514440"/>
            <a:chOff x="3200400" y="1600200"/>
            <a:chExt cx="2266920" cy="514440"/>
          </a:xfrm>
        </p:grpSpPr>
        <p:sp>
          <p:nvSpPr>
            <p:cNvPr id="4017" name=""/>
            <p:cNvSpPr/>
            <p:nvPr/>
          </p:nvSpPr>
          <p:spPr>
            <a:xfrm>
              <a:off x="3200400" y="1600200"/>
              <a:ext cx="1062720" cy="5144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4475880" y="1600200"/>
              <a:ext cx="991440" cy="5144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9" name=""/>
          <p:cNvSpPr/>
          <p:nvPr/>
        </p:nvSpPr>
        <p:spPr>
          <a:xfrm>
            <a:off x="16765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600200" y="6019920"/>
            <a:ext cx="6552720" cy="171000"/>
            <a:chOff x="1600200" y="6019920"/>
            <a:chExt cx="6552720" cy="171000"/>
          </a:xfrm>
        </p:grpSpPr>
        <p:pic>
          <p:nvPicPr>
            <p:cNvPr id="4021" name="" descr=""/>
            <p:cNvPicPr/>
            <p:nvPr/>
          </p:nvPicPr>
          <p:blipFill>
            <a:blip r:embed="rId1"/>
            <a:stretch/>
          </p:blipFill>
          <p:spPr>
            <a:xfrm>
              <a:off x="25048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2" name="" descr=""/>
            <p:cNvPicPr/>
            <p:nvPr/>
          </p:nvPicPr>
          <p:blipFill>
            <a:blip r:embed="rId2"/>
            <a:stretch/>
          </p:blipFill>
          <p:spPr>
            <a:xfrm>
              <a:off x="26478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3" name="" descr=""/>
            <p:cNvPicPr/>
            <p:nvPr/>
          </p:nvPicPr>
          <p:blipFill>
            <a:blip r:embed="rId3"/>
            <a:stretch/>
          </p:blipFill>
          <p:spPr>
            <a:xfrm>
              <a:off x="28098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4" name="" descr=""/>
            <p:cNvPicPr/>
            <p:nvPr/>
          </p:nvPicPr>
          <p:blipFill>
            <a:blip r:embed="rId4"/>
            <a:stretch/>
          </p:blipFill>
          <p:spPr>
            <a:xfrm>
              <a:off x="31050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5" name="" descr=""/>
            <p:cNvPicPr/>
            <p:nvPr/>
          </p:nvPicPr>
          <p:blipFill>
            <a:blip r:embed="rId5"/>
            <a:stretch/>
          </p:blipFill>
          <p:spPr>
            <a:xfrm>
              <a:off x="32670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" descr=""/>
            <p:cNvPicPr/>
            <p:nvPr/>
          </p:nvPicPr>
          <p:blipFill>
            <a:blip r:embed="rId6"/>
            <a:stretch/>
          </p:blipFill>
          <p:spPr>
            <a:xfrm>
              <a:off x="34192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7" name="" descr=""/>
            <p:cNvPicPr/>
            <p:nvPr/>
          </p:nvPicPr>
          <p:blipFill>
            <a:blip r:embed="rId7"/>
            <a:stretch/>
          </p:blipFill>
          <p:spPr>
            <a:xfrm>
              <a:off x="35622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8" name="" descr=""/>
            <p:cNvPicPr/>
            <p:nvPr/>
          </p:nvPicPr>
          <p:blipFill>
            <a:blip r:embed="rId8"/>
            <a:stretch/>
          </p:blipFill>
          <p:spPr>
            <a:xfrm>
              <a:off x="37242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9" name="" descr=""/>
            <p:cNvPicPr/>
            <p:nvPr/>
          </p:nvPicPr>
          <p:blipFill>
            <a:blip r:embed="rId9"/>
            <a:stretch/>
          </p:blipFill>
          <p:spPr>
            <a:xfrm>
              <a:off x="40194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0" name="" descr=""/>
            <p:cNvPicPr/>
            <p:nvPr/>
          </p:nvPicPr>
          <p:blipFill>
            <a:blip r:embed="rId10"/>
            <a:stretch/>
          </p:blipFill>
          <p:spPr>
            <a:xfrm>
              <a:off x="41814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1" name="" descr=""/>
            <p:cNvPicPr/>
            <p:nvPr/>
          </p:nvPicPr>
          <p:blipFill>
            <a:blip r:embed="rId11"/>
            <a:stretch/>
          </p:blipFill>
          <p:spPr>
            <a:xfrm>
              <a:off x="43336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2" name="" descr=""/>
            <p:cNvPicPr/>
            <p:nvPr/>
          </p:nvPicPr>
          <p:blipFill>
            <a:blip r:embed="rId12"/>
            <a:stretch/>
          </p:blipFill>
          <p:spPr>
            <a:xfrm>
              <a:off x="44766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3" name="" descr=""/>
            <p:cNvPicPr/>
            <p:nvPr/>
          </p:nvPicPr>
          <p:blipFill>
            <a:blip r:embed="rId13"/>
            <a:stretch/>
          </p:blipFill>
          <p:spPr>
            <a:xfrm>
              <a:off x="29620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4" name="" descr=""/>
            <p:cNvPicPr/>
            <p:nvPr/>
          </p:nvPicPr>
          <p:blipFill>
            <a:blip r:embed="rId14"/>
            <a:stretch/>
          </p:blipFill>
          <p:spPr>
            <a:xfrm>
              <a:off x="38764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5" name="" descr=""/>
            <p:cNvPicPr/>
            <p:nvPr/>
          </p:nvPicPr>
          <p:blipFill>
            <a:blip r:embed="rId15"/>
            <a:stretch/>
          </p:blipFill>
          <p:spPr>
            <a:xfrm>
              <a:off x="46386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6" name="" descr=""/>
            <p:cNvPicPr/>
            <p:nvPr/>
          </p:nvPicPr>
          <p:blipFill>
            <a:blip r:embed="rId16"/>
            <a:stretch/>
          </p:blipFill>
          <p:spPr>
            <a:xfrm>
              <a:off x="47908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7" name="" descr=""/>
            <p:cNvPicPr/>
            <p:nvPr/>
          </p:nvPicPr>
          <p:blipFill>
            <a:blip r:embed="rId17"/>
            <a:stretch/>
          </p:blipFill>
          <p:spPr>
            <a:xfrm>
              <a:off x="49338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8" name="" descr=""/>
            <p:cNvPicPr/>
            <p:nvPr/>
          </p:nvPicPr>
          <p:blipFill>
            <a:blip r:embed="rId18"/>
            <a:stretch/>
          </p:blipFill>
          <p:spPr>
            <a:xfrm>
              <a:off x="50958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9" name="" descr=""/>
            <p:cNvPicPr/>
            <p:nvPr/>
          </p:nvPicPr>
          <p:blipFill>
            <a:blip r:embed="rId19"/>
            <a:stretch/>
          </p:blipFill>
          <p:spPr>
            <a:xfrm>
              <a:off x="52480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0" name="" descr=""/>
            <p:cNvPicPr/>
            <p:nvPr/>
          </p:nvPicPr>
          <p:blipFill>
            <a:blip r:embed="rId20"/>
            <a:stretch/>
          </p:blipFill>
          <p:spPr>
            <a:xfrm>
              <a:off x="53910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1" name="" descr=""/>
            <p:cNvPicPr/>
            <p:nvPr/>
          </p:nvPicPr>
          <p:blipFill>
            <a:blip r:embed="rId21"/>
            <a:stretch/>
          </p:blipFill>
          <p:spPr>
            <a:xfrm>
              <a:off x="55530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2" name="" descr=""/>
            <p:cNvPicPr/>
            <p:nvPr/>
          </p:nvPicPr>
          <p:blipFill>
            <a:blip r:embed="rId22"/>
            <a:stretch/>
          </p:blipFill>
          <p:spPr>
            <a:xfrm>
              <a:off x="58482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3" name="" descr=""/>
            <p:cNvPicPr/>
            <p:nvPr/>
          </p:nvPicPr>
          <p:blipFill>
            <a:blip r:embed="rId23"/>
            <a:stretch/>
          </p:blipFill>
          <p:spPr>
            <a:xfrm>
              <a:off x="60102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4" name="" descr=""/>
            <p:cNvPicPr/>
            <p:nvPr/>
          </p:nvPicPr>
          <p:blipFill>
            <a:blip r:embed="rId24"/>
            <a:stretch/>
          </p:blipFill>
          <p:spPr>
            <a:xfrm>
              <a:off x="61624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5" name="" descr=""/>
            <p:cNvPicPr/>
            <p:nvPr/>
          </p:nvPicPr>
          <p:blipFill>
            <a:blip r:embed="rId25"/>
            <a:stretch/>
          </p:blipFill>
          <p:spPr>
            <a:xfrm>
              <a:off x="63054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6" name="" descr=""/>
            <p:cNvPicPr/>
            <p:nvPr/>
          </p:nvPicPr>
          <p:blipFill>
            <a:blip r:embed="rId26"/>
            <a:stretch/>
          </p:blipFill>
          <p:spPr>
            <a:xfrm>
              <a:off x="64674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7" name="" descr=""/>
            <p:cNvPicPr/>
            <p:nvPr/>
          </p:nvPicPr>
          <p:blipFill>
            <a:blip r:embed="rId27"/>
            <a:stretch/>
          </p:blipFill>
          <p:spPr>
            <a:xfrm>
              <a:off x="67626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8" name="" descr=""/>
            <p:cNvPicPr/>
            <p:nvPr/>
          </p:nvPicPr>
          <p:blipFill>
            <a:blip r:embed="rId28"/>
            <a:stretch/>
          </p:blipFill>
          <p:spPr>
            <a:xfrm>
              <a:off x="69246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9" name="" descr=""/>
            <p:cNvPicPr/>
            <p:nvPr/>
          </p:nvPicPr>
          <p:blipFill>
            <a:blip r:embed="rId29"/>
            <a:stretch/>
          </p:blipFill>
          <p:spPr>
            <a:xfrm>
              <a:off x="70768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0" name="" descr=""/>
            <p:cNvPicPr/>
            <p:nvPr/>
          </p:nvPicPr>
          <p:blipFill>
            <a:blip r:embed="rId30"/>
            <a:stretch/>
          </p:blipFill>
          <p:spPr>
            <a:xfrm>
              <a:off x="72198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1" name="" descr=""/>
            <p:cNvPicPr/>
            <p:nvPr/>
          </p:nvPicPr>
          <p:blipFill>
            <a:blip r:embed="rId31"/>
            <a:stretch/>
          </p:blipFill>
          <p:spPr>
            <a:xfrm>
              <a:off x="57052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2" name="" descr=""/>
            <p:cNvPicPr/>
            <p:nvPr/>
          </p:nvPicPr>
          <p:blipFill>
            <a:blip r:embed="rId32"/>
            <a:stretch/>
          </p:blipFill>
          <p:spPr>
            <a:xfrm>
              <a:off x="66196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3" name="" descr=""/>
            <p:cNvPicPr/>
            <p:nvPr/>
          </p:nvPicPr>
          <p:blipFill>
            <a:blip r:embed="rId33"/>
            <a:stretch/>
          </p:blipFill>
          <p:spPr>
            <a:xfrm>
              <a:off x="73818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4" name="" descr=""/>
            <p:cNvPicPr/>
            <p:nvPr/>
          </p:nvPicPr>
          <p:blipFill>
            <a:blip r:embed="rId34"/>
            <a:stretch/>
          </p:blipFill>
          <p:spPr>
            <a:xfrm>
              <a:off x="75340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5" name="" descr=""/>
            <p:cNvPicPr/>
            <p:nvPr/>
          </p:nvPicPr>
          <p:blipFill>
            <a:blip r:embed="rId35"/>
            <a:stretch/>
          </p:blipFill>
          <p:spPr>
            <a:xfrm>
              <a:off x="767700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6" name="" descr=""/>
            <p:cNvPicPr/>
            <p:nvPr/>
          </p:nvPicPr>
          <p:blipFill>
            <a:blip r:embed="rId36"/>
            <a:stretch/>
          </p:blipFill>
          <p:spPr>
            <a:xfrm>
              <a:off x="7839000" y="6029280"/>
              <a:ext cx="16128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7" name="" descr=""/>
            <p:cNvPicPr/>
            <p:nvPr/>
          </p:nvPicPr>
          <p:blipFill>
            <a:blip r:embed="rId37"/>
            <a:stretch/>
          </p:blipFill>
          <p:spPr>
            <a:xfrm>
              <a:off x="7991280" y="6029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8" name=""/>
            <p:cNvGrpSpPr/>
            <p:nvPr/>
          </p:nvGrpSpPr>
          <p:grpSpPr>
            <a:xfrm>
              <a:off x="1600200" y="6019920"/>
              <a:ext cx="923760" cy="161640"/>
              <a:chOff x="1600200" y="6019920"/>
              <a:chExt cx="923760" cy="161640"/>
            </a:xfrm>
          </p:grpSpPr>
          <p:pic>
            <p:nvPicPr>
              <p:cNvPr id="4059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7431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0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9051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1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574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2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20032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3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362320" y="60199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4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600200" y="60199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65" name="" descr=""/>
          <p:cNvPicPr/>
          <p:nvPr/>
        </p:nvPicPr>
        <p:blipFill>
          <a:blip r:embed="rId44"/>
          <a:stretch/>
        </p:blipFill>
        <p:spPr>
          <a:xfrm>
            <a:off x="633240" y="5105520"/>
            <a:ext cx="1043280" cy="1177920"/>
          </a:xfrm>
          <a:prstGeom prst="rect">
            <a:avLst/>
          </a:prstGeom>
          <a:ln w="0">
            <a:noFill/>
          </a:ln>
        </p:spPr>
      </p:pic>
      <p:sp>
        <p:nvSpPr>
          <p:cNvPr id="4066" name=""/>
          <p:cNvSpPr/>
          <p:nvPr/>
        </p:nvSpPr>
        <p:spPr>
          <a:xfrm>
            <a:off x="83808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应用逻辑代数运算法则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1028520" y="1066680"/>
            <a:ext cx="162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并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8" name="" descr=""/>
          <p:cNvPicPr/>
          <p:nvPr/>
        </p:nvPicPr>
        <p:blipFill>
          <a:blip r:embed="rId45"/>
          <a:stretch/>
        </p:blipFill>
        <p:spPr>
          <a:xfrm>
            <a:off x="2465280" y="1600200"/>
            <a:ext cx="5554800" cy="604800"/>
          </a:xfrm>
          <a:prstGeom prst="rect">
            <a:avLst/>
          </a:prstGeom>
          <a:ln w="0">
            <a:noFill/>
          </a:ln>
        </p:spPr>
      </p:pic>
      <p:grpSp>
        <p:nvGrpSpPr>
          <p:cNvPr id="4069" name=""/>
          <p:cNvGrpSpPr/>
          <p:nvPr/>
        </p:nvGrpSpPr>
        <p:grpSpPr>
          <a:xfrm>
            <a:off x="5638680" y="1600200"/>
            <a:ext cx="2266920" cy="514440"/>
            <a:chOff x="5638680" y="1600200"/>
            <a:chExt cx="2266920" cy="514440"/>
          </a:xfrm>
        </p:grpSpPr>
        <p:sp>
          <p:nvSpPr>
            <p:cNvPr id="4070" name=""/>
            <p:cNvSpPr/>
            <p:nvPr/>
          </p:nvSpPr>
          <p:spPr>
            <a:xfrm>
              <a:off x="5638680" y="1600200"/>
              <a:ext cx="1062720" cy="514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914160" y="1600200"/>
              <a:ext cx="991440" cy="514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2" name="" descr=""/>
          <p:cNvPicPr/>
          <p:nvPr/>
        </p:nvPicPr>
        <p:blipFill>
          <a:blip r:embed="rId46"/>
          <a:stretch/>
        </p:blipFill>
        <p:spPr>
          <a:xfrm>
            <a:off x="2770200" y="2209680"/>
            <a:ext cx="4595760" cy="604800"/>
          </a:xfrm>
          <a:prstGeom prst="rect">
            <a:avLst/>
          </a:prstGeom>
          <a:ln w="0">
            <a:noFill/>
          </a:ln>
        </p:spPr>
      </p:pic>
      <p:pic>
        <p:nvPicPr>
          <p:cNvPr id="4073" name="" descr=""/>
          <p:cNvPicPr/>
          <p:nvPr/>
        </p:nvPicPr>
        <p:blipFill>
          <a:blip r:embed="rId47"/>
          <a:stretch/>
        </p:blipFill>
        <p:spPr>
          <a:xfrm>
            <a:off x="2725560" y="2819520"/>
            <a:ext cx="2049480" cy="604800"/>
          </a:xfrm>
          <a:prstGeom prst="rect">
            <a:avLst/>
          </a:prstGeom>
          <a:ln w="0">
            <a:noFill/>
          </a:ln>
        </p:spPr>
      </p:pic>
      <p:pic>
        <p:nvPicPr>
          <p:cNvPr id="4074" name="" descr=""/>
          <p:cNvPicPr/>
          <p:nvPr/>
        </p:nvPicPr>
        <p:blipFill>
          <a:blip r:embed="rId48"/>
          <a:stretch/>
        </p:blipFill>
        <p:spPr>
          <a:xfrm>
            <a:off x="4800600" y="2895480"/>
            <a:ext cx="727200" cy="433440"/>
          </a:xfrm>
          <a:prstGeom prst="rect">
            <a:avLst/>
          </a:prstGeom>
          <a:ln w="0">
            <a:noFill/>
          </a:ln>
        </p:spPr>
      </p:pic>
      <p:grpSp>
        <p:nvGrpSpPr>
          <p:cNvPr id="4075" name=""/>
          <p:cNvGrpSpPr/>
          <p:nvPr/>
        </p:nvGrpSpPr>
        <p:grpSpPr>
          <a:xfrm>
            <a:off x="1066680" y="3809880"/>
            <a:ext cx="5114880" cy="609840"/>
            <a:chOff x="1066680" y="3809880"/>
            <a:chExt cx="5114880" cy="609840"/>
          </a:xfrm>
        </p:grpSpPr>
        <p:sp>
          <p:nvSpPr>
            <p:cNvPr id="4076" name=""/>
            <p:cNvSpPr/>
            <p:nvPr/>
          </p:nvSpPr>
          <p:spPr>
            <a:xfrm>
              <a:off x="1066680" y="3809880"/>
              <a:ext cx="83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905120" y="3809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化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8" name="" descr=""/>
            <p:cNvPicPr/>
            <p:nvPr/>
          </p:nvPicPr>
          <p:blipFill>
            <a:blip r:embed="rId49"/>
            <a:stretch/>
          </p:blipFill>
          <p:spPr>
            <a:xfrm>
              <a:off x="2711520" y="3809880"/>
              <a:ext cx="347004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9" name=""/>
          <p:cNvSpPr/>
          <p:nvPr/>
        </p:nvSpPr>
        <p:spPr>
          <a:xfrm>
            <a:off x="952200" y="3276720"/>
            <a:ext cx="162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配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0" name="" descr=""/>
          <p:cNvPicPr/>
          <p:nvPr/>
        </p:nvPicPr>
        <p:blipFill>
          <a:blip r:embed="rId50"/>
          <a:stretch/>
        </p:blipFill>
        <p:spPr>
          <a:xfrm>
            <a:off x="3075120" y="4343400"/>
            <a:ext cx="4332240" cy="604800"/>
          </a:xfrm>
          <a:prstGeom prst="rect">
            <a:avLst/>
          </a:prstGeom>
          <a:ln w="0">
            <a:noFill/>
          </a:ln>
        </p:spPr>
      </p:pic>
      <p:pic>
        <p:nvPicPr>
          <p:cNvPr id="4081" name="" descr=""/>
          <p:cNvPicPr/>
          <p:nvPr/>
        </p:nvPicPr>
        <p:blipFill>
          <a:blip r:embed="rId51"/>
          <a:stretch/>
        </p:blipFill>
        <p:spPr>
          <a:xfrm>
            <a:off x="2998800" y="4876920"/>
            <a:ext cx="4660920" cy="604800"/>
          </a:xfrm>
          <a:prstGeom prst="rect">
            <a:avLst/>
          </a:prstGeom>
          <a:ln w="0">
            <a:noFill/>
          </a:ln>
        </p:spPr>
      </p:pic>
      <p:sp>
        <p:nvSpPr>
          <p:cNvPr id="4082" name=""/>
          <p:cNvSpPr/>
          <p:nvPr/>
        </p:nvSpPr>
        <p:spPr>
          <a:xfrm>
            <a:off x="3352680" y="533412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5562720" y="5334120"/>
            <a:ext cx="19047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4" name="" descr=""/>
          <p:cNvPicPr/>
          <p:nvPr/>
        </p:nvPicPr>
        <p:blipFill>
          <a:blip r:embed="rId52"/>
          <a:stretch/>
        </p:blipFill>
        <p:spPr>
          <a:xfrm>
            <a:off x="3033720" y="5410080"/>
            <a:ext cx="2111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06" dur="500"/>
                                        <p:tgtEl>
                                          <p:spTgt spid="4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11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16" dur="500"/>
                                        <p:tgtEl>
                                          <p:spTgt spid="4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21" dur="500"/>
                                        <p:tgtEl>
                                          <p:spTgt spid="4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26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31" dur="500"/>
                                        <p:tgtEl>
                                          <p:spTgt spid="4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36" dur="500"/>
                                        <p:tgtEl>
                                          <p:spTgt spid="4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41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46" dur="500"/>
                                        <p:tgtEl>
                                          <p:spTgt spid="4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51" dur="500"/>
                                        <p:tgtEl>
                                          <p:spTgt spid="4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56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61" dur="500"/>
                                        <p:tgtEl>
                                          <p:spTgt spid="4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65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7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69" dur="500"/>
                                        <p:tgtEl>
                                          <p:spTgt spid="4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5" name="" descr=""/>
          <p:cNvPicPr/>
          <p:nvPr/>
        </p:nvPicPr>
        <p:blipFill>
          <a:blip r:embed="rId1"/>
          <a:stretch/>
        </p:blipFill>
        <p:spPr>
          <a:xfrm>
            <a:off x="5241960" y="5257800"/>
            <a:ext cx="2784600" cy="512640"/>
          </a:xfrm>
          <a:prstGeom prst="rect">
            <a:avLst/>
          </a:prstGeom>
          <a:ln w="0">
            <a:noFill/>
          </a:ln>
        </p:spPr>
      </p:pic>
      <p:grpSp>
        <p:nvGrpSpPr>
          <p:cNvPr id="4086" name=""/>
          <p:cNvGrpSpPr/>
          <p:nvPr/>
        </p:nvGrpSpPr>
        <p:grpSpPr>
          <a:xfrm>
            <a:off x="3352680" y="3886200"/>
            <a:ext cx="1524240" cy="1218960"/>
            <a:chOff x="3352680" y="3886200"/>
            <a:chExt cx="1524240" cy="1218960"/>
          </a:xfrm>
        </p:grpSpPr>
        <p:sp>
          <p:nvSpPr>
            <p:cNvPr id="4087" name=""/>
            <p:cNvSpPr/>
            <p:nvPr/>
          </p:nvSpPr>
          <p:spPr>
            <a:xfrm>
              <a:off x="3352680" y="3886200"/>
              <a:ext cx="1524240" cy="64980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632760" y="4536000"/>
              <a:ext cx="839880" cy="56916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762120" y="11430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1600200" y="1143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1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4263840" cy="604800"/>
          </a:xfrm>
          <a:prstGeom prst="rect">
            <a:avLst/>
          </a:prstGeom>
          <a:ln w="0">
            <a:noFill/>
          </a:ln>
        </p:spPr>
      </p:pic>
      <p:sp>
        <p:nvSpPr>
          <p:cNvPr id="4092" name=""/>
          <p:cNvSpPr/>
          <p:nvPr/>
        </p:nvSpPr>
        <p:spPr>
          <a:xfrm>
            <a:off x="873000" y="533520"/>
            <a:ext cx="162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加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3" name="" descr=""/>
          <p:cNvPicPr/>
          <p:nvPr/>
        </p:nvPicPr>
        <p:blipFill>
          <a:blip r:embed="rId3"/>
          <a:stretch/>
        </p:blipFill>
        <p:spPr>
          <a:xfrm>
            <a:off x="2908440" y="1752480"/>
            <a:ext cx="5119560" cy="604800"/>
          </a:xfrm>
          <a:prstGeom prst="rect">
            <a:avLst/>
          </a:prstGeom>
          <a:ln w="0">
            <a:noFill/>
          </a:ln>
        </p:spPr>
      </p:pic>
      <p:grpSp>
        <p:nvGrpSpPr>
          <p:cNvPr id="4094" name=""/>
          <p:cNvGrpSpPr/>
          <p:nvPr/>
        </p:nvGrpSpPr>
        <p:grpSpPr>
          <a:xfrm>
            <a:off x="3276720" y="1752480"/>
            <a:ext cx="2209680" cy="533520"/>
            <a:chOff x="3276720" y="1752480"/>
            <a:chExt cx="2209680" cy="533520"/>
          </a:xfrm>
        </p:grpSpPr>
        <p:sp>
          <p:nvSpPr>
            <p:cNvPr id="4095" name=""/>
            <p:cNvSpPr/>
            <p:nvPr/>
          </p:nvSpPr>
          <p:spPr>
            <a:xfrm>
              <a:off x="3276720" y="1752480"/>
              <a:ext cx="99072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496040" y="1752480"/>
              <a:ext cx="99036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7" name=""/>
          <p:cNvGrpSpPr/>
          <p:nvPr/>
        </p:nvGrpSpPr>
        <p:grpSpPr>
          <a:xfrm>
            <a:off x="5791320" y="1752480"/>
            <a:ext cx="2209680" cy="533520"/>
            <a:chOff x="5791320" y="1752480"/>
            <a:chExt cx="2209680" cy="533520"/>
          </a:xfrm>
        </p:grpSpPr>
        <p:sp>
          <p:nvSpPr>
            <p:cNvPr id="4098" name=""/>
            <p:cNvSpPr/>
            <p:nvPr/>
          </p:nvSpPr>
          <p:spPr>
            <a:xfrm>
              <a:off x="5791320" y="1752480"/>
              <a:ext cx="990720" cy="5335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010640" y="1752480"/>
              <a:ext cx="990360" cy="5335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00" name="" descr=""/>
          <p:cNvPicPr/>
          <p:nvPr/>
        </p:nvPicPr>
        <p:blipFill>
          <a:blip r:embed="rId4"/>
          <a:stretch/>
        </p:blipFill>
        <p:spPr>
          <a:xfrm>
            <a:off x="2940120" y="2438280"/>
            <a:ext cx="1981080" cy="466920"/>
          </a:xfrm>
          <a:prstGeom prst="rect">
            <a:avLst/>
          </a:prstGeom>
          <a:ln w="0">
            <a:noFill/>
          </a:ln>
        </p:spPr>
      </p:pic>
      <p:pic>
        <p:nvPicPr>
          <p:cNvPr id="4101" name="" descr=""/>
          <p:cNvPicPr/>
          <p:nvPr/>
        </p:nvPicPr>
        <p:blipFill>
          <a:blip r:embed="rId5"/>
          <a:stretch/>
        </p:blipFill>
        <p:spPr>
          <a:xfrm>
            <a:off x="2690640" y="3886200"/>
            <a:ext cx="3151440" cy="647640"/>
          </a:xfrm>
          <a:prstGeom prst="rect">
            <a:avLst/>
          </a:prstGeom>
          <a:ln w="0">
            <a:noFill/>
          </a:ln>
        </p:spPr>
      </p:pic>
      <p:pic>
        <p:nvPicPr>
          <p:cNvPr id="4102" name="" descr=""/>
          <p:cNvPicPr/>
          <p:nvPr/>
        </p:nvPicPr>
        <p:blipFill>
          <a:blip r:embed="rId6"/>
          <a:stretch/>
        </p:blipFill>
        <p:spPr>
          <a:xfrm>
            <a:off x="2708280" y="4495680"/>
            <a:ext cx="2687760" cy="648000"/>
          </a:xfrm>
          <a:prstGeom prst="rect">
            <a:avLst/>
          </a:prstGeom>
          <a:ln w="0">
            <a:noFill/>
          </a:ln>
        </p:spPr>
      </p:pic>
      <p:pic>
        <p:nvPicPr>
          <p:cNvPr id="4103" name="" descr=""/>
          <p:cNvPicPr/>
          <p:nvPr/>
        </p:nvPicPr>
        <p:blipFill>
          <a:blip r:embed="rId7"/>
          <a:stretch/>
        </p:blipFill>
        <p:spPr>
          <a:xfrm>
            <a:off x="2743200" y="5181480"/>
            <a:ext cx="1805040" cy="571680"/>
          </a:xfrm>
          <a:prstGeom prst="rect">
            <a:avLst/>
          </a:prstGeom>
          <a:ln w="0">
            <a:noFill/>
          </a:ln>
        </p:spPr>
      </p:pic>
      <p:sp>
        <p:nvSpPr>
          <p:cNvPr id="4104" name=""/>
          <p:cNvSpPr/>
          <p:nvPr/>
        </p:nvSpPr>
        <p:spPr>
          <a:xfrm>
            <a:off x="685800" y="2743200"/>
            <a:ext cx="215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吸收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1828800" y="5105520"/>
            <a:ext cx="990720" cy="533160"/>
          </a:xfrm>
          <a:prstGeom prst="wedgeEllipseCallout">
            <a:avLst>
              <a:gd name="adj1" fmla="val 140703"/>
              <a:gd name="adj2" fmla="val -89583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6" name="" descr=""/>
          <p:cNvPicPr/>
          <p:nvPr/>
        </p:nvPicPr>
        <p:blipFill>
          <a:blip r:embed="rId8"/>
          <a:stretch/>
        </p:blipFill>
        <p:spPr>
          <a:xfrm>
            <a:off x="5697360" y="4572000"/>
            <a:ext cx="2210040" cy="533520"/>
          </a:xfrm>
          <a:prstGeom prst="rect">
            <a:avLst/>
          </a:prstGeom>
          <a:ln w="0">
            <a:noFill/>
          </a:ln>
        </p:spPr>
      </p:pic>
      <p:grpSp>
        <p:nvGrpSpPr>
          <p:cNvPr id="4107" name=""/>
          <p:cNvGrpSpPr/>
          <p:nvPr/>
        </p:nvGrpSpPr>
        <p:grpSpPr>
          <a:xfrm>
            <a:off x="685800" y="3276720"/>
            <a:ext cx="5273640" cy="609480"/>
            <a:chOff x="685800" y="3276720"/>
            <a:chExt cx="5273640" cy="609480"/>
          </a:xfrm>
        </p:grpSpPr>
        <p:pic>
          <p:nvPicPr>
            <p:cNvPr id="4108" name="" descr=""/>
            <p:cNvPicPr/>
            <p:nvPr/>
          </p:nvPicPr>
          <p:blipFill>
            <a:blip r:embed="rId9"/>
            <a:stretch/>
          </p:blipFill>
          <p:spPr>
            <a:xfrm>
              <a:off x="2421000" y="3276720"/>
              <a:ext cx="3538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9" name=""/>
            <p:cNvSpPr/>
            <p:nvPr/>
          </p:nvSpPr>
          <p:spPr>
            <a:xfrm>
              <a:off x="685800" y="327672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523880" y="3276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化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76" dur="500"/>
                                        <p:tgtEl>
                                          <p:spTgt spid="4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81" dur="500"/>
                                        <p:tgtEl>
                                          <p:spTgt spid="4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86" dur="500"/>
                                        <p:tgtEl>
                                          <p:spTgt spid="4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91" dur="5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296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01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0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11" dur="500"/>
                                        <p:tgtEl>
                                          <p:spTgt spid="4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31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9"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2321" dur="500"/>
                                        <p:tgtEl>
                                          <p:spTgt spid="4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26" dur="5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2331" dur="500"/>
                                        <p:tgtEl>
                                          <p:spTgt spid="4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36" dur="500"/>
                                        <p:tgtEl>
                                          <p:spTgt spid="4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"/>
          <p:cNvSpPr/>
          <p:nvPr/>
        </p:nvSpPr>
        <p:spPr>
          <a:xfrm>
            <a:off x="990720" y="6094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1905120" y="609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3" name="" descr=""/>
          <p:cNvPicPr/>
          <p:nvPr/>
        </p:nvPicPr>
        <p:blipFill>
          <a:blip r:embed="rId1"/>
          <a:stretch/>
        </p:blipFill>
        <p:spPr>
          <a:xfrm>
            <a:off x="1154160" y="1066680"/>
            <a:ext cx="6113520" cy="604800"/>
          </a:xfrm>
          <a:prstGeom prst="rect">
            <a:avLst/>
          </a:prstGeom>
          <a:ln w="0">
            <a:noFill/>
          </a:ln>
        </p:spPr>
      </p:pic>
      <p:grpSp>
        <p:nvGrpSpPr>
          <p:cNvPr id="4114" name=""/>
          <p:cNvGrpSpPr/>
          <p:nvPr/>
        </p:nvGrpSpPr>
        <p:grpSpPr>
          <a:xfrm>
            <a:off x="3124080" y="1600200"/>
            <a:ext cx="4038840" cy="0"/>
            <a:chOff x="3124080" y="1600200"/>
            <a:chExt cx="4038840" cy="0"/>
          </a:xfrm>
        </p:grpSpPr>
        <p:sp>
          <p:nvSpPr>
            <p:cNvPr id="4115" name=""/>
            <p:cNvSpPr/>
            <p:nvPr/>
          </p:nvSpPr>
          <p:spPr>
            <a:xfrm>
              <a:off x="6553080" y="1600200"/>
              <a:ext cx="609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124080" y="1600200"/>
              <a:ext cx="9144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17" name="" descr=""/>
          <p:cNvPicPr/>
          <p:nvPr/>
        </p:nvPicPr>
        <p:blipFill>
          <a:blip r:embed="rId2"/>
          <a:stretch/>
        </p:blipFill>
        <p:spPr>
          <a:xfrm>
            <a:off x="1459080" y="2209680"/>
            <a:ext cx="5484600" cy="604800"/>
          </a:xfrm>
          <a:prstGeom prst="rect">
            <a:avLst/>
          </a:prstGeom>
          <a:ln w="0">
            <a:noFill/>
          </a:ln>
        </p:spPr>
      </p:pic>
      <p:grpSp>
        <p:nvGrpSpPr>
          <p:cNvPr id="4118" name=""/>
          <p:cNvGrpSpPr/>
          <p:nvPr/>
        </p:nvGrpSpPr>
        <p:grpSpPr>
          <a:xfrm>
            <a:off x="1828800" y="2743200"/>
            <a:ext cx="4114800" cy="0"/>
            <a:chOff x="1828800" y="2743200"/>
            <a:chExt cx="4114800" cy="0"/>
          </a:xfrm>
        </p:grpSpPr>
        <p:sp>
          <p:nvSpPr>
            <p:cNvPr id="4119" name=""/>
            <p:cNvSpPr/>
            <p:nvPr/>
          </p:nvSpPr>
          <p:spPr>
            <a:xfrm>
              <a:off x="1828800" y="2743200"/>
              <a:ext cx="914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334120" y="2743200"/>
              <a:ext cx="609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1" name="" descr=""/>
          <p:cNvPicPr/>
          <p:nvPr/>
        </p:nvPicPr>
        <p:blipFill>
          <a:blip r:embed="rId3"/>
          <a:stretch/>
        </p:blipFill>
        <p:spPr>
          <a:xfrm>
            <a:off x="1550880" y="2895480"/>
            <a:ext cx="4262400" cy="604800"/>
          </a:xfrm>
          <a:prstGeom prst="rect">
            <a:avLst/>
          </a:prstGeom>
          <a:ln w="0">
            <a:noFill/>
          </a:ln>
        </p:spPr>
      </p:pic>
      <p:grpSp>
        <p:nvGrpSpPr>
          <p:cNvPr id="4122" name=""/>
          <p:cNvGrpSpPr/>
          <p:nvPr/>
        </p:nvGrpSpPr>
        <p:grpSpPr>
          <a:xfrm>
            <a:off x="1905120" y="3429000"/>
            <a:ext cx="1981080" cy="0"/>
            <a:chOff x="1905120" y="3429000"/>
            <a:chExt cx="1981080" cy="0"/>
          </a:xfrm>
        </p:grpSpPr>
        <p:sp>
          <p:nvSpPr>
            <p:cNvPr id="4123" name=""/>
            <p:cNvSpPr/>
            <p:nvPr/>
          </p:nvSpPr>
          <p:spPr>
            <a:xfrm>
              <a:off x="1905120" y="3429000"/>
              <a:ext cx="6094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819520" y="3429000"/>
              <a:ext cx="10666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5" name="" descr=""/>
          <p:cNvPicPr/>
          <p:nvPr/>
        </p:nvPicPr>
        <p:blipFill>
          <a:blip r:embed="rId4"/>
          <a:stretch/>
        </p:blipFill>
        <p:spPr>
          <a:xfrm>
            <a:off x="1474920" y="3581280"/>
            <a:ext cx="3898800" cy="604800"/>
          </a:xfrm>
          <a:prstGeom prst="rect">
            <a:avLst/>
          </a:prstGeom>
          <a:ln w="0">
            <a:noFill/>
          </a:ln>
        </p:spPr>
      </p:pic>
      <p:grpSp>
        <p:nvGrpSpPr>
          <p:cNvPr id="4126" name=""/>
          <p:cNvGrpSpPr/>
          <p:nvPr/>
        </p:nvGrpSpPr>
        <p:grpSpPr>
          <a:xfrm>
            <a:off x="2819520" y="4114800"/>
            <a:ext cx="2485800" cy="0"/>
            <a:chOff x="2819520" y="4114800"/>
            <a:chExt cx="2485800" cy="0"/>
          </a:xfrm>
        </p:grpSpPr>
        <p:sp>
          <p:nvSpPr>
            <p:cNvPr id="4127" name=""/>
            <p:cNvSpPr/>
            <p:nvPr/>
          </p:nvSpPr>
          <p:spPr>
            <a:xfrm>
              <a:off x="2819520" y="411480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619520" y="4114800"/>
              <a:ext cx="685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9" name="" descr=""/>
          <p:cNvPicPr/>
          <p:nvPr/>
        </p:nvPicPr>
        <p:blipFill>
          <a:blip r:embed="rId5"/>
          <a:stretch/>
        </p:blipFill>
        <p:spPr>
          <a:xfrm>
            <a:off x="1398600" y="4267080"/>
            <a:ext cx="3865680" cy="604800"/>
          </a:xfrm>
          <a:prstGeom prst="rect">
            <a:avLst/>
          </a:prstGeom>
          <a:ln w="0">
            <a:noFill/>
          </a:ln>
        </p:spPr>
      </p:pic>
      <p:pic>
        <p:nvPicPr>
          <p:cNvPr id="4130" name="" descr=""/>
          <p:cNvPicPr/>
          <p:nvPr/>
        </p:nvPicPr>
        <p:blipFill>
          <a:blip r:embed="rId6"/>
          <a:stretch/>
        </p:blipFill>
        <p:spPr>
          <a:xfrm>
            <a:off x="1523880" y="4876920"/>
            <a:ext cx="3106800" cy="566640"/>
          </a:xfrm>
          <a:prstGeom prst="rect">
            <a:avLst/>
          </a:prstGeom>
          <a:ln w="0">
            <a:noFill/>
          </a:ln>
        </p:spPr>
      </p:pic>
      <p:pic>
        <p:nvPicPr>
          <p:cNvPr id="4131" name="" descr=""/>
          <p:cNvPicPr/>
          <p:nvPr/>
        </p:nvPicPr>
        <p:blipFill>
          <a:blip r:embed="rId7"/>
          <a:stretch/>
        </p:blipFill>
        <p:spPr>
          <a:xfrm>
            <a:off x="1425600" y="1600200"/>
            <a:ext cx="5816520" cy="604800"/>
          </a:xfrm>
          <a:prstGeom prst="rect">
            <a:avLst/>
          </a:prstGeom>
          <a:ln w="0">
            <a:noFill/>
          </a:ln>
        </p:spPr>
      </p:pic>
      <p:sp>
        <p:nvSpPr>
          <p:cNvPr id="4132" name=""/>
          <p:cNvSpPr/>
          <p:nvPr/>
        </p:nvSpPr>
        <p:spPr>
          <a:xfrm>
            <a:off x="6019920" y="1676520"/>
            <a:ext cx="304560" cy="457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7010280" y="2133720"/>
            <a:ext cx="838440" cy="380880"/>
          </a:xfrm>
          <a:prstGeom prst="wedgeEllipseCallout">
            <a:avLst>
              <a:gd name="adj1" fmla="val -131250"/>
              <a:gd name="adj2" fmla="val -80416"/>
            </a:avLst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762120" y="2666880"/>
            <a:ext cx="838080" cy="457200"/>
          </a:xfrm>
          <a:prstGeom prst="wedgeEllipseCallout">
            <a:avLst>
              <a:gd name="adj1" fmla="val 120263"/>
              <a:gd name="adj2" fmla="val -31597"/>
            </a:avLst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5" name=""/>
          <p:cNvGrpSpPr/>
          <p:nvPr/>
        </p:nvGrpSpPr>
        <p:grpSpPr>
          <a:xfrm>
            <a:off x="2743200" y="5410080"/>
            <a:ext cx="1828800" cy="0"/>
            <a:chOff x="2743200" y="5410080"/>
            <a:chExt cx="1828800" cy="0"/>
          </a:xfrm>
        </p:grpSpPr>
        <p:sp>
          <p:nvSpPr>
            <p:cNvPr id="4136" name=""/>
            <p:cNvSpPr/>
            <p:nvPr/>
          </p:nvSpPr>
          <p:spPr>
            <a:xfrm>
              <a:off x="2743200" y="5410080"/>
              <a:ext cx="685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657600" y="5410080"/>
              <a:ext cx="9144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3962520" y="480060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5334120" y="5105520"/>
            <a:ext cx="838080" cy="457200"/>
          </a:xfrm>
          <a:prstGeom prst="wedgeEllipseCallout">
            <a:avLst>
              <a:gd name="adj1" fmla="val -138824"/>
              <a:gd name="adj2" fmla="val -34375"/>
            </a:avLst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0" name="" descr=""/>
          <p:cNvPicPr/>
          <p:nvPr/>
        </p:nvPicPr>
        <p:blipFill>
          <a:blip r:embed="rId8"/>
          <a:stretch/>
        </p:blipFill>
        <p:spPr>
          <a:xfrm>
            <a:off x="1584360" y="5562720"/>
            <a:ext cx="2546280" cy="465120"/>
          </a:xfrm>
          <a:prstGeom prst="rect">
            <a:avLst/>
          </a:prstGeom>
          <a:ln w="0">
            <a:noFill/>
          </a:ln>
        </p:spPr>
      </p:pic>
      <p:pic>
        <p:nvPicPr>
          <p:cNvPr id="4141" name="" descr=""/>
          <p:cNvPicPr/>
          <p:nvPr/>
        </p:nvPicPr>
        <p:blipFill>
          <a:blip r:embed="rId9"/>
          <a:stretch/>
        </p:blipFill>
        <p:spPr>
          <a:xfrm>
            <a:off x="4267080" y="5562720"/>
            <a:ext cx="1616040" cy="465120"/>
          </a:xfrm>
          <a:prstGeom prst="rect">
            <a:avLst/>
          </a:prstGeom>
          <a:ln w="0">
            <a:noFill/>
          </a:ln>
        </p:spPr>
      </p:pic>
      <p:sp>
        <p:nvSpPr>
          <p:cNvPr id="4142" name=""/>
          <p:cNvSpPr/>
          <p:nvPr/>
        </p:nvSpPr>
        <p:spPr>
          <a:xfrm>
            <a:off x="3200400" y="2971800"/>
            <a:ext cx="304920" cy="457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838080" y="3429000"/>
            <a:ext cx="838440" cy="457200"/>
          </a:xfrm>
          <a:prstGeom prst="wedgeEllipseCallout">
            <a:avLst>
              <a:gd name="adj1" fmla="val 244319"/>
              <a:gd name="adj2" fmla="val -61458"/>
            </a:avLst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7" dur="indefinite" restart="never" nodeType="tmRoot">
          <p:childTnLst>
            <p:seq>
              <p:cTn id="2338" dur="indefinite" nodeType="mainSeq">
                <p:childTnLst>
                  <p:par>
                    <p:cTn id="2339" nodeType="clickEffect" fill="hold">
                      <p:stCondLst>
                        <p:cond delay="indefinite"/>
                      </p:stCondLst>
                      <p:childTnLst>
                        <p:par>
                          <p:cTn id="2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43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nodeType="clickEffect" fill="hold">
                      <p:stCondLst>
                        <p:cond delay="indefinite"/>
                      </p:stCondLst>
                      <p:childTnLst>
                        <p:par>
                          <p:cTn id="23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48" dur="500"/>
                                        <p:tgtEl>
                                          <p:spTgt spid="4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nodeType="clickEffect" fill="hold">
                      <p:stCondLst>
                        <p:cond delay="indefinite"/>
                      </p:stCondLst>
                      <p:childTnLst>
                        <p:par>
                          <p:cTn id="2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53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58" dur="500"/>
                                        <p:tgtEl>
                                          <p:spTgt spid="4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62" dur="500"/>
                                        <p:tgtEl>
                                          <p:spTgt spid="4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67" dur="500"/>
                                        <p:tgtEl>
                                          <p:spTgt spid="4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72" dur="500"/>
                                        <p:tgtEl>
                                          <p:spTgt spid="4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77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82" dur="500"/>
                                        <p:tgtEl>
                                          <p:spTgt spid="4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87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92" dur="500"/>
                                        <p:tgtEl>
                                          <p:spTgt spid="4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97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0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07" dur="500"/>
                                        <p:tgtEl>
                                          <p:spTgt spid="4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12" dur="500"/>
                                        <p:tgtEl>
                                          <p:spTgt spid="4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17" dur="500"/>
                                        <p:tgtEl>
                                          <p:spTgt spid="4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22" dur="500"/>
                                        <p:tgtEl>
                                          <p:spTgt spid="4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27" dur="500"/>
                                        <p:tgtEl>
                                          <p:spTgt spid="4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31" dur="500"/>
                                        <p:tgtEl>
                                          <p:spTgt spid="4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nodeType="clickEffect" fill="hold">
                      <p:stCondLst>
                        <p:cond delay="indefinite"/>
                      </p:stCondLst>
                      <p:childTnLst>
                        <p:par>
                          <p:cTn id="24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36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4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"/>
          <p:cNvSpPr/>
          <p:nvPr/>
        </p:nvSpPr>
        <p:spPr>
          <a:xfrm>
            <a:off x="533520" y="733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3.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应用卡诺图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609480" y="1208160"/>
            <a:ext cx="81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卡诺图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是与变量的最小项对应的按一定规则排列的方格图，每一小方格填入一个最小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609480" y="2727360"/>
            <a:ext cx="81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）最小项：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对于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入变量有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?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种组合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其相应的乘积项也有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?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?"/>
              </a:rPr>
              <a:t>个，则每一个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乘积项就称为一个最小项。其特点是每个输入变量均在其中以原变量和反变量形式出现一次，且仅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609480" y="435564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如：三个变量，有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种组合，最小项就是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个，卡诺图也相应有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个小方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1941120" y="5076360"/>
            <a:ext cx="423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卡诺图的行和列分别标出变量及其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2" dur="indefinite" restart="never" nodeType="tmRoot">
          <p:childTnLst>
            <p:seq>
              <p:cTn id="2443" dur="indefinite" nodeType="mainSeq">
                <p:childTnLst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48" dur="500"/>
                                        <p:tgtEl>
                                          <p:spTgt spid="4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delay="indefinite"/>
                      </p:stCondLst>
                      <p:childTnLst>
                        <p:par>
                          <p:cTn id="2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53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58" dur="500"/>
                                        <p:tgtEl>
                                          <p:spTgt spid="4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63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"/>
          <p:cNvSpPr/>
          <p:nvPr/>
        </p:nvSpPr>
        <p:spPr>
          <a:xfrm>
            <a:off x="685800" y="685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0" name=""/>
          <p:cNvGrpSpPr/>
          <p:nvPr/>
        </p:nvGrpSpPr>
        <p:grpSpPr>
          <a:xfrm>
            <a:off x="609480" y="1065600"/>
            <a:ext cx="2086200" cy="2511720"/>
            <a:chOff x="609480" y="1065600"/>
            <a:chExt cx="2086200" cy="2511720"/>
          </a:xfrm>
        </p:grpSpPr>
        <p:sp>
          <p:nvSpPr>
            <p:cNvPr id="4151" name=""/>
            <p:cNvSpPr/>
            <p:nvPr/>
          </p:nvSpPr>
          <p:spPr>
            <a:xfrm>
              <a:off x="914400" y="10656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295280" y="179532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295280" y="24051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981080" y="17953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flipH="1" flipV="1">
              <a:off x="914400" y="141444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09480" y="137052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371600" y="12942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762120" y="243720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762120" y="182772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133720" y="129420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1" name="" descr=""/>
            <p:cNvPicPr/>
            <p:nvPr/>
          </p:nvPicPr>
          <p:blipFill>
            <a:blip r:embed="rId1"/>
            <a:stretch/>
          </p:blipFill>
          <p:spPr>
            <a:xfrm>
              <a:off x="1265400" y="1871640"/>
              <a:ext cx="760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2" name="" descr=""/>
            <p:cNvPicPr/>
            <p:nvPr/>
          </p:nvPicPr>
          <p:blipFill>
            <a:blip r:embed="rId2"/>
            <a:stretch/>
          </p:blipFill>
          <p:spPr>
            <a:xfrm>
              <a:off x="1967040" y="1871640"/>
              <a:ext cx="7286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3" name="" descr=""/>
            <p:cNvPicPr/>
            <p:nvPr/>
          </p:nvPicPr>
          <p:blipFill>
            <a:blip r:embed="rId3"/>
            <a:stretch/>
          </p:blipFill>
          <p:spPr>
            <a:xfrm>
              <a:off x="1281240" y="2481120"/>
              <a:ext cx="7286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4" name="" descr=""/>
            <p:cNvPicPr/>
            <p:nvPr/>
          </p:nvPicPr>
          <p:blipFill>
            <a:blip r:embed="rId4"/>
            <a:stretch/>
          </p:blipFill>
          <p:spPr>
            <a:xfrm>
              <a:off x="1981080" y="2513160"/>
              <a:ext cx="7002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5" name=""/>
            <p:cNvSpPr/>
            <p:nvPr/>
          </p:nvSpPr>
          <p:spPr>
            <a:xfrm>
              <a:off x="1219320" y="3014280"/>
              <a:ext cx="1447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二变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6" name=""/>
          <p:cNvGrpSpPr/>
          <p:nvPr/>
        </p:nvGrpSpPr>
        <p:grpSpPr>
          <a:xfrm>
            <a:off x="762120" y="3504240"/>
            <a:ext cx="3429000" cy="2435040"/>
            <a:chOff x="762120" y="3504240"/>
            <a:chExt cx="3429000" cy="2435040"/>
          </a:xfrm>
        </p:grpSpPr>
        <p:sp>
          <p:nvSpPr>
            <p:cNvPr id="4167" name=""/>
            <p:cNvSpPr/>
            <p:nvPr/>
          </p:nvSpPr>
          <p:spPr>
            <a:xfrm>
              <a:off x="1066680" y="35042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8" name=""/>
            <p:cNvGrpSpPr/>
            <p:nvPr/>
          </p:nvGrpSpPr>
          <p:grpSpPr>
            <a:xfrm>
              <a:off x="762120" y="3699360"/>
              <a:ext cx="3429000" cy="2239920"/>
              <a:chOff x="762120" y="3699360"/>
              <a:chExt cx="3429000" cy="2239920"/>
            </a:xfrm>
          </p:grpSpPr>
          <p:sp>
            <p:nvSpPr>
              <p:cNvPr id="4169" name=""/>
              <p:cNvSpPr/>
              <p:nvPr/>
            </p:nvSpPr>
            <p:spPr>
              <a:xfrm>
                <a:off x="1447920" y="415764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1447920" y="4767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2133720" y="415764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 flipV="1">
                <a:off x="1066320" y="3776400"/>
                <a:ext cx="38124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62120" y="373248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1447920" y="373248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990720" y="476604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990720" y="423252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523880" y="4233960"/>
                <a:ext cx="515880" cy="53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8" name=""/>
              <p:cNvSpPr/>
              <p:nvPr/>
            </p:nvSpPr>
            <p:spPr>
              <a:xfrm>
                <a:off x="2819520" y="415764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2819520" y="4767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505320" y="415764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2133720" y="369936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2819520" y="369936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505320" y="369936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2417760" y="5376240"/>
                <a:ext cx="8208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"/>
                  </a:rPr>
                  <a:t>三变量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8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09680" y="4233960"/>
                <a:ext cx="515880" cy="5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895480" y="4233960"/>
                <a:ext cx="515880" cy="53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581280" y="4233960"/>
                <a:ext cx="515880" cy="5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3880" y="4767120"/>
                <a:ext cx="515880" cy="5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09680" y="4767120"/>
                <a:ext cx="515880" cy="53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95480" y="4767120"/>
                <a:ext cx="515880" cy="5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81280" y="4767120"/>
                <a:ext cx="515880" cy="53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92" name=""/>
          <p:cNvSpPr/>
          <p:nvPr/>
        </p:nvSpPr>
        <p:spPr>
          <a:xfrm>
            <a:off x="4724280" y="4419720"/>
            <a:ext cx="1752840" cy="1447560"/>
          </a:xfrm>
          <a:prstGeom prst="wedgeRoundRectCallout">
            <a:avLst>
              <a:gd name="adj1" fmla="val -90671"/>
              <a:gd name="adj2" fmla="val -43638"/>
              <a:gd name="adj3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二进制数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应的十进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"/>
              </a:rPr>
              <a:t>数编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3" name=""/>
          <p:cNvGrpSpPr/>
          <p:nvPr/>
        </p:nvGrpSpPr>
        <p:grpSpPr>
          <a:xfrm>
            <a:off x="4114800" y="761040"/>
            <a:ext cx="3581280" cy="3687840"/>
            <a:chOff x="4114800" y="761040"/>
            <a:chExt cx="3581280" cy="3687840"/>
          </a:xfrm>
        </p:grpSpPr>
        <p:sp>
          <p:nvSpPr>
            <p:cNvPr id="4194" name=""/>
            <p:cNvSpPr/>
            <p:nvPr/>
          </p:nvSpPr>
          <p:spPr>
            <a:xfrm>
              <a:off x="4952880" y="1447920"/>
              <a:ext cx="13716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952880" y="20574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638680" y="14479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H="1" flipV="1">
              <a:off x="4572000" y="1066320"/>
              <a:ext cx="3808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114800" y="10227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4952880" y="10227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0" name="" descr=""/>
            <p:cNvPicPr/>
            <p:nvPr/>
          </p:nvPicPr>
          <p:blipFill>
            <a:blip r:embed="rId13"/>
            <a:stretch/>
          </p:blipFill>
          <p:spPr>
            <a:xfrm>
              <a:off x="5029200" y="1523880"/>
              <a:ext cx="5158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1" name=""/>
            <p:cNvSpPr/>
            <p:nvPr/>
          </p:nvSpPr>
          <p:spPr>
            <a:xfrm>
              <a:off x="6324480" y="1447920"/>
              <a:ext cx="13716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324480" y="20574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7010280" y="14479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638680" y="989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324480" y="989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7010280" y="989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7" name="" descr=""/>
            <p:cNvPicPr/>
            <p:nvPr/>
          </p:nvPicPr>
          <p:blipFill>
            <a:blip r:embed="rId14"/>
            <a:stretch/>
          </p:blipFill>
          <p:spPr>
            <a:xfrm>
              <a:off x="5715000" y="1523880"/>
              <a:ext cx="5158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8" name="" descr=""/>
            <p:cNvPicPr/>
            <p:nvPr/>
          </p:nvPicPr>
          <p:blipFill>
            <a:blip r:embed="rId15"/>
            <a:stretch/>
          </p:blipFill>
          <p:spPr>
            <a:xfrm>
              <a:off x="6400800" y="1523880"/>
              <a:ext cx="51588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9" name="" descr=""/>
            <p:cNvPicPr/>
            <p:nvPr/>
          </p:nvPicPr>
          <p:blipFill>
            <a:blip r:embed="rId16"/>
            <a:stretch/>
          </p:blipFill>
          <p:spPr>
            <a:xfrm>
              <a:off x="7086600" y="1523880"/>
              <a:ext cx="5158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0" name="" descr=""/>
            <p:cNvPicPr/>
            <p:nvPr/>
          </p:nvPicPr>
          <p:blipFill>
            <a:blip r:embed="rId17"/>
            <a:stretch/>
          </p:blipFill>
          <p:spPr>
            <a:xfrm>
              <a:off x="5029200" y="2057400"/>
              <a:ext cx="5158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1" name="" descr=""/>
            <p:cNvPicPr/>
            <p:nvPr/>
          </p:nvPicPr>
          <p:blipFill>
            <a:blip r:embed="rId18"/>
            <a:stretch/>
          </p:blipFill>
          <p:spPr>
            <a:xfrm>
              <a:off x="5715000" y="2057400"/>
              <a:ext cx="51588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2" name="" descr=""/>
            <p:cNvPicPr/>
            <p:nvPr/>
          </p:nvPicPr>
          <p:blipFill>
            <a:blip r:embed="rId19"/>
            <a:stretch/>
          </p:blipFill>
          <p:spPr>
            <a:xfrm>
              <a:off x="6400800" y="2057400"/>
              <a:ext cx="5158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3" name="" descr=""/>
            <p:cNvPicPr/>
            <p:nvPr/>
          </p:nvPicPr>
          <p:blipFill>
            <a:blip r:embed="rId20"/>
            <a:stretch/>
          </p:blipFill>
          <p:spPr>
            <a:xfrm>
              <a:off x="7086600" y="2057400"/>
              <a:ext cx="5158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4" name=""/>
            <p:cNvSpPr/>
            <p:nvPr/>
          </p:nvSpPr>
          <p:spPr>
            <a:xfrm>
              <a:off x="4419720" y="761040"/>
              <a:ext cx="91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343400" y="15228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343400" y="2056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343400" y="26658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343400" y="32756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851440" y="3885840"/>
              <a:ext cx="820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四变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4952880" y="26668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4952880" y="3276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638680" y="26668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3" name="" descr=""/>
            <p:cNvPicPr/>
            <p:nvPr/>
          </p:nvPicPr>
          <p:blipFill>
            <a:blip r:embed="rId21"/>
            <a:stretch/>
          </p:blipFill>
          <p:spPr>
            <a:xfrm>
              <a:off x="4983120" y="2759040"/>
              <a:ext cx="6080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4" name=""/>
            <p:cNvSpPr/>
            <p:nvPr/>
          </p:nvSpPr>
          <p:spPr>
            <a:xfrm>
              <a:off x="6324480" y="26668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324480" y="3276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010280" y="26668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7" name="" descr=""/>
            <p:cNvPicPr/>
            <p:nvPr/>
          </p:nvPicPr>
          <p:blipFill>
            <a:blip r:embed="rId22"/>
            <a:stretch/>
          </p:blipFill>
          <p:spPr>
            <a:xfrm>
              <a:off x="5668920" y="2743200"/>
              <a:ext cx="6080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8" name="" descr=""/>
            <p:cNvPicPr/>
            <p:nvPr/>
          </p:nvPicPr>
          <p:blipFill>
            <a:blip r:embed="rId23"/>
            <a:stretch/>
          </p:blipFill>
          <p:spPr>
            <a:xfrm>
              <a:off x="6354720" y="2743200"/>
              <a:ext cx="608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9" name="" descr=""/>
            <p:cNvPicPr/>
            <p:nvPr/>
          </p:nvPicPr>
          <p:blipFill>
            <a:blip r:embed="rId24"/>
            <a:stretch/>
          </p:blipFill>
          <p:spPr>
            <a:xfrm>
              <a:off x="7042320" y="2743200"/>
              <a:ext cx="606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0" name="" descr=""/>
            <p:cNvPicPr/>
            <p:nvPr/>
          </p:nvPicPr>
          <p:blipFill>
            <a:blip r:embed="rId25"/>
            <a:stretch/>
          </p:blipFill>
          <p:spPr>
            <a:xfrm>
              <a:off x="5029200" y="3260880"/>
              <a:ext cx="51588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1" name="" descr=""/>
            <p:cNvPicPr/>
            <p:nvPr/>
          </p:nvPicPr>
          <p:blipFill>
            <a:blip r:embed="rId26"/>
            <a:stretch/>
          </p:blipFill>
          <p:spPr>
            <a:xfrm>
              <a:off x="5715000" y="3276720"/>
              <a:ext cx="51588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2" name="" descr=""/>
            <p:cNvPicPr/>
            <p:nvPr/>
          </p:nvPicPr>
          <p:blipFill>
            <a:blip r:embed="rId27"/>
            <a:stretch/>
          </p:blipFill>
          <p:spPr>
            <a:xfrm>
              <a:off x="6354720" y="3276720"/>
              <a:ext cx="6080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3" name="" descr=""/>
            <p:cNvPicPr/>
            <p:nvPr/>
          </p:nvPicPr>
          <p:blipFill>
            <a:blip r:embed="rId28"/>
            <a:stretch/>
          </p:blipFill>
          <p:spPr>
            <a:xfrm>
              <a:off x="7042320" y="3276720"/>
              <a:ext cx="60624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4" name=""/>
          <p:cNvGrpSpPr/>
          <p:nvPr/>
        </p:nvGrpSpPr>
        <p:grpSpPr>
          <a:xfrm>
            <a:off x="4343400" y="891360"/>
            <a:ext cx="3125520" cy="2766240"/>
            <a:chOff x="4343400" y="891360"/>
            <a:chExt cx="3125520" cy="2766240"/>
          </a:xfrm>
        </p:grpSpPr>
        <p:sp>
          <p:nvSpPr>
            <p:cNvPr id="4235" name=""/>
            <p:cNvSpPr/>
            <p:nvPr/>
          </p:nvSpPr>
          <p:spPr>
            <a:xfrm>
              <a:off x="4343400" y="1676520"/>
              <a:ext cx="152280" cy="1981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rot="5340000">
              <a:off x="6246720" y="-153720"/>
              <a:ext cx="155520" cy="22860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7" name=""/>
          <p:cNvGrpSpPr/>
          <p:nvPr/>
        </p:nvGrpSpPr>
        <p:grpSpPr>
          <a:xfrm>
            <a:off x="2743200" y="990720"/>
            <a:ext cx="1523880" cy="2514600"/>
            <a:chOff x="2743200" y="990720"/>
            <a:chExt cx="1523880" cy="2514600"/>
          </a:xfrm>
        </p:grpSpPr>
        <p:sp>
          <p:nvSpPr>
            <p:cNvPr id="4238" name=""/>
            <p:cNvSpPr/>
            <p:nvPr/>
          </p:nvSpPr>
          <p:spPr>
            <a:xfrm>
              <a:off x="2895480" y="1066680"/>
              <a:ext cx="1295640" cy="2438640"/>
            </a:xfrm>
            <a:prstGeom prst="wedgeRoundRectCallout">
              <a:avLst>
                <a:gd name="adj1" fmla="val 66300"/>
                <a:gd name="adj2" fmla="val 33009"/>
                <a:gd name="adj3" fmla="val 16667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743200" y="990720"/>
              <a:ext cx="1523880" cy="24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任意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个相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最小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之间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有一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"/>
                </a:rPr>
                <a:t>变量改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4" dur="indefinite" restart="never" nodeType="tmRoot">
          <p:childTnLst>
            <p:seq>
              <p:cTn id="2465" dur="indefinite" nodeType="mainSeq">
                <p:childTnLst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70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75" dur="500"/>
                                        <p:tgtEl>
                                          <p:spTgt spid="4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80" dur="500"/>
                                        <p:tgtEl>
                                          <p:spTgt spid="4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nodeType="clickEffect" fill="hold">
                      <p:stCondLst>
                        <p:cond delay="indefinite"/>
                      </p:stCondLst>
                      <p:childTnLst>
                        <p:par>
                          <p:cTn id="24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2485" dur="500"/>
                                        <p:tgtEl>
                                          <p:spTgt spid="4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90" dur="500"/>
                                        <p:tgtEl>
                                          <p:spTgt spid="4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495" dur="500"/>
                                        <p:tgtEl>
                                          <p:spTgt spid="4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500" dur="500"/>
                                        <p:tgtEl>
                                          <p:spTgt spid="4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 2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1307160" y="1166760"/>
            <a:ext cx="3033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a)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根据状态表画出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803160" y="1828800"/>
            <a:ext cx="579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如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3" name=""/>
          <p:cNvGrpSpPr/>
          <p:nvPr/>
        </p:nvGrpSpPr>
        <p:grpSpPr>
          <a:xfrm>
            <a:off x="4648320" y="1751400"/>
            <a:ext cx="3352680" cy="1872720"/>
            <a:chOff x="4648320" y="1751400"/>
            <a:chExt cx="3352680" cy="1872720"/>
          </a:xfrm>
        </p:grpSpPr>
        <p:sp>
          <p:nvSpPr>
            <p:cNvPr id="4244" name=""/>
            <p:cNvSpPr/>
            <p:nvPr/>
          </p:nvSpPr>
          <p:spPr>
            <a:xfrm flipH="1" flipV="1">
              <a:off x="4876920" y="2023560"/>
              <a:ext cx="3808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4648320" y="1980000"/>
              <a:ext cx="533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876920" y="17514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257800" y="2405160"/>
              <a:ext cx="13716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257800" y="30146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943600" y="240516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25780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800600" y="304704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800600" y="248004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629400" y="2405160"/>
              <a:ext cx="13716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629400" y="30146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315200" y="240516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43600" y="19468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629400" y="19468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315200" y="19468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9" name=""/>
          <p:cNvGrpSpPr/>
          <p:nvPr/>
        </p:nvGrpSpPr>
        <p:grpSpPr>
          <a:xfrm>
            <a:off x="5401080" y="2438280"/>
            <a:ext cx="2412000" cy="1105920"/>
            <a:chOff x="5401080" y="2438280"/>
            <a:chExt cx="2412000" cy="1105920"/>
          </a:xfrm>
        </p:grpSpPr>
        <p:sp>
          <p:nvSpPr>
            <p:cNvPr id="4260" name=""/>
            <p:cNvSpPr/>
            <p:nvPr/>
          </p:nvSpPr>
          <p:spPr>
            <a:xfrm>
              <a:off x="6086880" y="24382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7458480" y="24382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401080" y="30481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849000" y="30481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4" name=""/>
          <p:cNvSpPr/>
          <p:nvPr/>
        </p:nvSpPr>
        <p:spPr>
          <a:xfrm>
            <a:off x="4191120" y="2819520"/>
            <a:ext cx="533160" cy="380880"/>
          </a:xfrm>
          <a:prstGeom prst="rightArrow">
            <a:avLst>
              <a:gd name="adj1" fmla="val 50000"/>
              <a:gd name="adj2" fmla="val 348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4648320" y="3886200"/>
            <a:ext cx="3657600" cy="103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将输出变量为“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的填入对应的小方格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为“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的可不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6" name=""/>
          <p:cNvGrpSpPr/>
          <p:nvPr/>
        </p:nvGrpSpPr>
        <p:grpSpPr>
          <a:xfrm>
            <a:off x="896040" y="1981080"/>
            <a:ext cx="3218760" cy="3692520"/>
            <a:chOff x="896040" y="1981080"/>
            <a:chExt cx="3218760" cy="3692520"/>
          </a:xfrm>
        </p:grpSpPr>
        <p:grpSp>
          <p:nvGrpSpPr>
            <p:cNvPr id="4267" name=""/>
            <p:cNvGrpSpPr/>
            <p:nvPr/>
          </p:nvGrpSpPr>
          <p:grpSpPr>
            <a:xfrm>
              <a:off x="896040" y="1981080"/>
              <a:ext cx="3218760" cy="3692520"/>
              <a:chOff x="896040" y="1981080"/>
              <a:chExt cx="3218760" cy="3692520"/>
            </a:xfrm>
          </p:grpSpPr>
          <p:sp>
            <p:nvSpPr>
              <p:cNvPr id="4268" name=""/>
              <p:cNvSpPr/>
              <p:nvPr/>
            </p:nvSpPr>
            <p:spPr>
              <a:xfrm>
                <a:off x="896040" y="24861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"/>
                  </a:rPr>
                  <a:t>      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0     0    0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9" name=""/>
              <p:cNvGrpSpPr/>
              <p:nvPr/>
            </p:nvGrpSpPr>
            <p:grpSpPr>
              <a:xfrm>
                <a:off x="1294200" y="1981080"/>
                <a:ext cx="2820600" cy="3692520"/>
                <a:chOff x="1294200" y="1981080"/>
                <a:chExt cx="2820600" cy="3692520"/>
              </a:xfrm>
            </p:grpSpPr>
            <p:sp>
              <p:nvSpPr>
                <p:cNvPr id="4270" name=""/>
                <p:cNvSpPr/>
                <p:nvPr/>
              </p:nvSpPr>
              <p:spPr>
                <a:xfrm>
                  <a:off x="1524240" y="19810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1524240" y="24382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3353040" y="1981080"/>
                  <a:ext cx="0" cy="358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1294200" y="19810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1441800" y="2867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>
                  <a:off x="1441800" y="32479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>
                  <a:off x="1441800" y="3629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0     1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1441800" y="4010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1441800" y="43909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0    1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1441800" y="47721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0     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1441800" y="51530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1" name=""/>
            <p:cNvSpPr/>
            <p:nvPr/>
          </p:nvSpPr>
          <p:spPr>
            <a:xfrm>
              <a:off x="1447920" y="56023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1" dur="indefinite" restart="never" nodeType="tmRoot">
          <p:childTnLst>
            <p:seq>
              <p:cTn id="2502" dur="indefinite" nodeType="mainSeq">
                <p:childTnLst>
                  <p:par>
                    <p:cTn id="2503" nodeType="clickEffect" fill="hold">
                      <p:stCondLst>
                        <p:cond delay="indefinite"/>
                      </p:stCondLst>
                      <p:childTnLst>
                        <p:par>
                          <p:cTn id="25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07" dur="5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nodeType="clickEffect" fill="hold">
                      <p:stCondLst>
                        <p:cond delay="indefinite"/>
                      </p:stCondLst>
                      <p:childTnLst>
                        <p:par>
                          <p:cTn id="2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12" dur="500"/>
                                        <p:tgtEl>
                                          <p:spTgt spid="4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17" dur="5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22" dur="500"/>
                                        <p:tgtEl>
                                          <p:spTgt spid="4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>
            <a:off x="6094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 2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158840" y="1143000"/>
            <a:ext cx="3043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b)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根据逻辑式画出卡诺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4" name=""/>
          <p:cNvGrpSpPr/>
          <p:nvPr/>
        </p:nvGrpSpPr>
        <p:grpSpPr>
          <a:xfrm>
            <a:off x="838080" y="2818440"/>
            <a:ext cx="3352680" cy="1872720"/>
            <a:chOff x="838080" y="2818440"/>
            <a:chExt cx="3352680" cy="1872720"/>
          </a:xfrm>
        </p:grpSpPr>
        <p:sp>
          <p:nvSpPr>
            <p:cNvPr id="4285" name=""/>
            <p:cNvSpPr/>
            <p:nvPr/>
          </p:nvSpPr>
          <p:spPr>
            <a:xfrm flipH="1" flipV="1">
              <a:off x="1066680" y="308952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6" name=""/>
            <p:cNvGrpSpPr/>
            <p:nvPr/>
          </p:nvGrpSpPr>
          <p:grpSpPr>
            <a:xfrm>
              <a:off x="838080" y="2818440"/>
              <a:ext cx="3352680" cy="1872720"/>
              <a:chOff x="838080" y="2818440"/>
              <a:chExt cx="3352680" cy="1872720"/>
            </a:xfrm>
          </p:grpSpPr>
          <p:sp>
            <p:nvSpPr>
              <p:cNvPr id="4287" name=""/>
              <p:cNvSpPr/>
              <p:nvPr/>
            </p:nvSpPr>
            <p:spPr>
              <a:xfrm>
                <a:off x="838080" y="304704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1066680" y="28184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1447560" y="347220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1447560" y="4081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2133360" y="347220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1447560" y="30470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990360" y="411408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990360" y="354708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2819160" y="347220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2819160" y="4081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504960" y="347220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2133360" y="30139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2819160" y="30139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504960" y="30139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2276640" y="35053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648240" y="350532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1590840" y="41151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038760" y="41151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5" name=""/>
          <p:cNvSpPr/>
          <p:nvPr/>
        </p:nvSpPr>
        <p:spPr>
          <a:xfrm>
            <a:off x="4648320" y="2590920"/>
            <a:ext cx="3886200" cy="563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将逻辑式中的最小项分别用“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填入对应的小方格。如果逻辑式中最小项不全，可不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803160" y="1752480"/>
            <a:ext cx="6259680" cy="563040"/>
            <a:chOff x="803160" y="1752480"/>
            <a:chExt cx="6259680" cy="563040"/>
          </a:xfrm>
        </p:grpSpPr>
        <p:sp>
          <p:nvSpPr>
            <p:cNvPr id="4307" name=""/>
            <p:cNvSpPr/>
            <p:nvPr/>
          </p:nvSpPr>
          <p:spPr>
            <a:xfrm>
              <a:off x="803160" y="1752480"/>
              <a:ext cx="5799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如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8" name="" descr=""/>
            <p:cNvPicPr/>
            <p:nvPr/>
          </p:nvPicPr>
          <p:blipFill>
            <a:blip r:embed="rId1"/>
            <a:stretch/>
          </p:blipFill>
          <p:spPr>
            <a:xfrm>
              <a:off x="1320840" y="1752480"/>
              <a:ext cx="57420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9" name=""/>
          <p:cNvSpPr/>
          <p:nvPr/>
        </p:nvSpPr>
        <p:spPr>
          <a:xfrm>
            <a:off x="2590920" y="2438280"/>
            <a:ext cx="380880" cy="533520"/>
          </a:xfrm>
          <a:prstGeom prst="downArrow">
            <a:avLst>
              <a:gd name="adj1" fmla="val 50000"/>
              <a:gd name="adj2" fmla="val 187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62120" y="4800600"/>
            <a:ext cx="7400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如果逻辑式不是由最小项构成，一般应先化为最小项，或按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方法填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29" dur="500"/>
                                        <p:tgtEl>
                                          <p:spTgt spid="4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534" dur="500"/>
                                        <p:tgtEl>
                                          <p:spTgt spid="4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39" dur="500"/>
                                        <p:tgtEl>
                                          <p:spTgt spid="4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44" dur="500"/>
                                        <p:tgtEl>
                                          <p:spTgt spid="4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49" dur="500"/>
                                        <p:tgtEl>
                                          <p:spTgt spid="4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"/>
          <p:cNvSpPr/>
          <p:nvPr/>
        </p:nvSpPr>
        <p:spPr>
          <a:xfrm>
            <a:off x="762120" y="623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 3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1295280" y="4113720"/>
            <a:ext cx="3352680" cy="1872720"/>
            <a:chOff x="1295280" y="4113720"/>
            <a:chExt cx="3352680" cy="1872720"/>
          </a:xfrm>
        </p:grpSpPr>
        <p:sp>
          <p:nvSpPr>
            <p:cNvPr id="4313" name=""/>
            <p:cNvSpPr/>
            <p:nvPr/>
          </p:nvSpPr>
          <p:spPr>
            <a:xfrm flipH="1" flipV="1">
              <a:off x="1523880" y="438480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295280" y="434232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523880" y="41137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904760" y="476712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1904760" y="53769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590560" y="47671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904760" y="4342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447560" y="54090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447560" y="484236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276360" y="476712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276360" y="53769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962160" y="47671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590560" y="43088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276360" y="43088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962160" y="43088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20000" y="4800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05800" y="5410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810160" y="5410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20000" y="5410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2" name=""/>
          <p:cNvGrpSpPr/>
          <p:nvPr/>
        </p:nvGrpSpPr>
        <p:grpSpPr>
          <a:xfrm>
            <a:off x="851400" y="2743200"/>
            <a:ext cx="6413040" cy="1020240"/>
            <a:chOff x="851400" y="2743200"/>
            <a:chExt cx="6413040" cy="1020240"/>
          </a:xfrm>
        </p:grpSpPr>
        <p:sp>
          <p:nvSpPr>
            <p:cNvPr id="4333" name=""/>
            <p:cNvSpPr/>
            <p:nvPr/>
          </p:nvSpPr>
          <p:spPr>
            <a:xfrm>
              <a:off x="851400" y="2743200"/>
              <a:ext cx="7826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"/>
                </a:rPr>
                <a:t>例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4" name="" descr=""/>
            <p:cNvPicPr/>
            <p:nvPr/>
          </p:nvPicPr>
          <p:blipFill>
            <a:blip r:embed="rId1"/>
            <a:stretch/>
          </p:blipFill>
          <p:spPr>
            <a:xfrm>
              <a:off x="1625760" y="2743200"/>
              <a:ext cx="56386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5" name=""/>
            <p:cNvSpPr/>
            <p:nvPr/>
          </p:nvSpPr>
          <p:spPr>
            <a:xfrm>
              <a:off x="1795320" y="3200400"/>
              <a:ext cx="23144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用卡诺图表示并化简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6" name=""/>
          <p:cNvSpPr/>
          <p:nvPr/>
        </p:nvSpPr>
        <p:spPr>
          <a:xfrm>
            <a:off x="1068120" y="3684600"/>
            <a:ext cx="924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3429000" y="4876920"/>
            <a:ext cx="380880" cy="990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2743200" y="5486400"/>
            <a:ext cx="114300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3352680" y="5486400"/>
            <a:ext cx="114300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5029200" y="342900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将取值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相邻小方格圈成圈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1" name=""/>
          <p:cNvGrpSpPr/>
          <p:nvPr/>
        </p:nvGrpSpPr>
        <p:grpSpPr>
          <a:xfrm>
            <a:off x="1899720" y="1066680"/>
            <a:ext cx="4444560" cy="1553760"/>
            <a:chOff x="1899720" y="1066680"/>
            <a:chExt cx="4444560" cy="1553760"/>
          </a:xfrm>
        </p:grpSpPr>
        <p:sp>
          <p:nvSpPr>
            <p:cNvPr id="4342" name=""/>
            <p:cNvSpPr/>
            <p:nvPr/>
          </p:nvSpPr>
          <p:spPr>
            <a:xfrm>
              <a:off x="1899720" y="1447920"/>
              <a:ext cx="6073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步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2666880" y="1219320"/>
              <a:ext cx="76320" cy="13716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2901240" y="1066680"/>
              <a:ext cx="12092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卡诺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046680" y="1523880"/>
              <a:ext cx="1635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合并最小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537720" y="2057400"/>
              <a:ext cx="2806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写出最简“与或”逻辑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7" name=""/>
          <p:cNvSpPr/>
          <p:nvPr/>
        </p:nvSpPr>
        <p:spPr>
          <a:xfrm>
            <a:off x="5041800" y="4432320"/>
            <a:ext cx="35053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所圈取值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相邻小方格的个数应为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?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=0,1,2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0" dur="indefinite" restart="never" nodeType="tmRoot">
          <p:childTnLst>
            <p:seq>
              <p:cTn id="2551" dur="indefinite" nodeType="mainSeq">
                <p:childTnLst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56" dur="500"/>
                                        <p:tgtEl>
                                          <p:spTgt spid="4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61" dur="500"/>
                                        <p:tgtEl>
                                          <p:spTgt spid="4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6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71" dur="500"/>
                                        <p:tgtEl>
                                          <p:spTgt spid="4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576" dur="500"/>
                                        <p:tgtEl>
                                          <p:spTgt spid="4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81" dur="500"/>
                                        <p:tgtEl>
                                          <p:spTgt spid="4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86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nodeType="clickEffect" fill="hold">
                      <p:stCondLst>
                        <p:cond delay="indefinite"/>
                      </p:stCondLst>
                      <p:childTnLst>
                        <p:par>
                          <p:cTn id="25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91" dur="5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2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基本门电路及其组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1828800"/>
            <a:ext cx="8153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门电路是数字电路中最基本的逻辑元件。</a:t>
            </a: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所谓门就是一种开关，它能按照一定的条件去控制信号的通过或不通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门电路的输入和输出之间存在一定的逻辑关系</a:t>
            </a: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(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因果关系</a:t>
            </a: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)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，所以门电路又称为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门电路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52240" y="12762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2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逻辑门电路的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419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基本逻辑关系为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与”、“或”、“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952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下面通过例子说明逻辑电路的概念及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与”、“或”、“非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"/>
          <p:cNvSpPr/>
          <p:nvPr/>
        </p:nvSpPr>
        <p:spPr>
          <a:xfrm>
            <a:off x="533520" y="6094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( 3)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9" name=""/>
          <p:cNvGrpSpPr/>
          <p:nvPr/>
        </p:nvGrpSpPr>
        <p:grpSpPr>
          <a:xfrm>
            <a:off x="1447920" y="1294200"/>
            <a:ext cx="3352680" cy="1872720"/>
            <a:chOff x="1447920" y="1294200"/>
            <a:chExt cx="3352680" cy="1872720"/>
          </a:xfrm>
        </p:grpSpPr>
        <p:sp>
          <p:nvSpPr>
            <p:cNvPr id="4350" name=""/>
            <p:cNvSpPr/>
            <p:nvPr/>
          </p:nvSpPr>
          <p:spPr>
            <a:xfrm flipH="1" flipV="1">
              <a:off x="1676520" y="15652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447920" y="152280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76520" y="1294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2057400" y="194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2057400" y="2557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2743200" y="194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057400" y="15228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600200" y="258948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600200" y="2022840"/>
              <a:ext cx="533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429000" y="194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29000" y="2557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4114800" y="194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743200" y="1489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29000" y="1489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4114800" y="14893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572640" y="1981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258440" y="259056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962800" y="259056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572640" y="259056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9" name=""/>
          <p:cNvSpPr/>
          <p:nvPr/>
        </p:nvSpPr>
        <p:spPr>
          <a:xfrm>
            <a:off x="958320" y="129528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3581280" y="2057400"/>
            <a:ext cx="381240" cy="990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2895480" y="2666880"/>
            <a:ext cx="1143000" cy="3812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3505320" y="2666880"/>
            <a:ext cx="1143000" cy="3812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5600520" y="2133720"/>
            <a:ext cx="2314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个圈最小项分别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5449320" y="1468440"/>
            <a:ext cx="170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合并最小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5" name="" descr=""/>
          <p:cNvPicPr/>
          <p:nvPr/>
        </p:nvPicPr>
        <p:blipFill>
          <a:blip r:embed="rId1"/>
          <a:stretch/>
        </p:blipFill>
        <p:spPr>
          <a:xfrm>
            <a:off x="4997520" y="3429000"/>
            <a:ext cx="23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76" name="" descr=""/>
          <p:cNvPicPr/>
          <p:nvPr/>
        </p:nvPicPr>
        <p:blipFill>
          <a:blip r:embed="rId2"/>
          <a:stretch/>
        </p:blipFill>
        <p:spPr>
          <a:xfrm>
            <a:off x="4997520" y="2743200"/>
            <a:ext cx="23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77" name="" descr=""/>
          <p:cNvPicPr/>
          <p:nvPr/>
        </p:nvPicPr>
        <p:blipFill>
          <a:blip r:embed="rId3"/>
          <a:stretch/>
        </p:blipFill>
        <p:spPr>
          <a:xfrm>
            <a:off x="4978440" y="4114800"/>
            <a:ext cx="23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78" name="" descr=""/>
          <p:cNvPicPr/>
          <p:nvPr/>
        </p:nvPicPr>
        <p:blipFill>
          <a:blip r:embed="rId4"/>
          <a:stretch/>
        </p:blipFill>
        <p:spPr>
          <a:xfrm>
            <a:off x="7148520" y="2819520"/>
            <a:ext cx="1063440" cy="466560"/>
          </a:xfrm>
          <a:prstGeom prst="rect">
            <a:avLst/>
          </a:prstGeom>
          <a:ln w="0">
            <a:noFill/>
          </a:ln>
        </p:spPr>
      </p:pic>
      <p:pic>
        <p:nvPicPr>
          <p:cNvPr id="4379" name="" descr=""/>
          <p:cNvPicPr/>
          <p:nvPr/>
        </p:nvPicPr>
        <p:blipFill>
          <a:blip r:embed="rId5"/>
          <a:stretch/>
        </p:blipFill>
        <p:spPr>
          <a:xfrm>
            <a:off x="7162920" y="3505320"/>
            <a:ext cx="1063440" cy="466560"/>
          </a:xfrm>
          <a:prstGeom prst="rect">
            <a:avLst/>
          </a:prstGeom>
          <a:ln w="0">
            <a:noFill/>
          </a:ln>
        </p:spPr>
      </p:pic>
      <p:pic>
        <p:nvPicPr>
          <p:cNvPr id="4380" name="" descr=""/>
          <p:cNvPicPr/>
          <p:nvPr/>
        </p:nvPicPr>
        <p:blipFill>
          <a:blip r:embed="rId6"/>
          <a:stretch/>
        </p:blipFill>
        <p:spPr>
          <a:xfrm>
            <a:off x="7188120" y="4114800"/>
            <a:ext cx="1063800" cy="433440"/>
          </a:xfrm>
          <a:prstGeom prst="rect">
            <a:avLst/>
          </a:prstGeom>
          <a:ln w="0">
            <a:noFill/>
          </a:ln>
        </p:spPr>
      </p:pic>
      <p:sp>
        <p:nvSpPr>
          <p:cNvPr id="4381" name=""/>
          <p:cNvSpPr/>
          <p:nvPr/>
        </p:nvSpPr>
        <p:spPr>
          <a:xfrm>
            <a:off x="1093680" y="3373560"/>
            <a:ext cx="214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简化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2" name="" descr=""/>
          <p:cNvPicPr/>
          <p:nvPr/>
        </p:nvPicPr>
        <p:blipFill>
          <a:blip r:embed="rId7"/>
          <a:stretch/>
        </p:blipFill>
        <p:spPr>
          <a:xfrm>
            <a:off x="880920" y="4038480"/>
            <a:ext cx="3403800" cy="466920"/>
          </a:xfrm>
          <a:prstGeom prst="rect">
            <a:avLst/>
          </a:prstGeom>
          <a:ln w="0">
            <a:noFill/>
          </a:ln>
        </p:spPr>
      </p:pic>
      <p:sp>
        <p:nvSpPr>
          <p:cNvPr id="4383" name=""/>
          <p:cNvSpPr/>
          <p:nvPr/>
        </p:nvSpPr>
        <p:spPr>
          <a:xfrm>
            <a:off x="685800" y="4724280"/>
            <a:ext cx="7772400" cy="563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卡诺图化简法：保留一个圈内最小项的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相同变量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而消去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相反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2" dur="indefinite" restart="never" nodeType="tmRoot">
          <p:childTnLst>
            <p:seq>
              <p:cTn id="2593" dur="indefinite" nodeType="mainSeq">
                <p:childTnLst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598" dur="500"/>
                                        <p:tgtEl>
                                          <p:spTgt spid="4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nodeType="clickEffect" fill="hold">
                      <p:stCondLst>
                        <p:cond delay="indefinite"/>
                      </p:stCondLst>
                      <p:childTnLst>
                        <p:par>
                          <p:cTn id="26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03" dur="500"/>
                                        <p:tgtEl>
                                          <p:spTgt spid="4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608" dur="500"/>
                                        <p:tgtEl>
                                          <p:spTgt spid="4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13" dur="500"/>
                                        <p:tgtEl>
                                          <p:spTgt spid="4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nodeType="clickEffect" fill="hold">
                      <p:stCondLst>
                        <p:cond delay="indefinite"/>
                      </p:stCondLst>
                      <p:childTnLst>
                        <p:par>
                          <p:cTn id="26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18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nodeType="clickEffect" fill="hold">
                      <p:stCondLst>
                        <p:cond delay="indefinite"/>
                      </p:stCondLst>
                      <p:childTnLst>
                        <p:par>
                          <p:cTn id="26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23" dur="500"/>
                                        <p:tgtEl>
                                          <p:spTgt spid="4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nodeType="clickEffect" fill="hold">
                      <p:stCondLst>
                        <p:cond delay="indefinite"/>
                      </p:stCondLst>
                      <p:childTnLst>
                        <p:par>
                          <p:cTn id="26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28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nodeType="clickEffect" fill="hold">
                      <p:stCondLst>
                        <p:cond delay="indefinite"/>
                      </p:stCondLst>
                      <p:childTnLst>
                        <p:par>
                          <p:cTn id="26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33" dur="500"/>
                                        <p:tgtEl>
                                          <p:spTgt spid="4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38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nodeType="clickEffect" fill="hold">
                      <p:stCondLst>
                        <p:cond delay="indefinite"/>
                      </p:stCondLst>
                      <p:childTnLst>
                        <p:par>
                          <p:cTn id="26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43" dur="500"/>
                                        <p:tgtEl>
                                          <p:spTgt spid="4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nodeType="clickEffect" fill="hold">
                      <p:stCondLst>
                        <p:cond delay="indefinite"/>
                      </p:stCondLst>
                      <p:childTnLst>
                        <p:par>
                          <p:cTn id="26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48" dur="5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53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658" dur="500"/>
                                        <p:tgtEl>
                                          <p:spTgt spid="4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63" dur="500"/>
                                        <p:tgtEl>
                                          <p:spTgt spid="4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"/>
          <p:cNvGrpSpPr/>
          <p:nvPr/>
        </p:nvGrpSpPr>
        <p:grpSpPr>
          <a:xfrm>
            <a:off x="990720" y="2437200"/>
            <a:ext cx="3352680" cy="1829880"/>
            <a:chOff x="990720" y="2437200"/>
            <a:chExt cx="3352680" cy="1829880"/>
          </a:xfrm>
        </p:grpSpPr>
        <p:sp>
          <p:nvSpPr>
            <p:cNvPr id="4385" name=""/>
            <p:cNvSpPr/>
            <p:nvPr/>
          </p:nvSpPr>
          <p:spPr>
            <a:xfrm>
              <a:off x="1600200" y="3657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2286000" y="30481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600200" y="2622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2971800" y="3657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57600" y="30481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0" name=""/>
            <p:cNvGrpSpPr/>
            <p:nvPr/>
          </p:nvGrpSpPr>
          <p:grpSpPr>
            <a:xfrm>
              <a:off x="990720" y="2437200"/>
              <a:ext cx="3352680" cy="1829880"/>
              <a:chOff x="990720" y="2437200"/>
              <a:chExt cx="3352680" cy="1829880"/>
            </a:xfrm>
          </p:grpSpPr>
          <p:sp>
            <p:nvSpPr>
              <p:cNvPr id="4391" name=""/>
              <p:cNvSpPr/>
              <p:nvPr/>
            </p:nvSpPr>
            <p:spPr>
              <a:xfrm flipH="1" flipV="1">
                <a:off x="1219320" y="2665440"/>
                <a:ext cx="380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990720" y="2622960"/>
                <a:ext cx="5331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1219320" y="24372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1600200" y="304812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1143000" y="369000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1143000" y="312300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2971800" y="3048120"/>
                <a:ext cx="1371600" cy="121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2286000" y="25898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2971800" y="25898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3657600" y="258984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743480" y="308124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743480" y="369108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429280" y="308124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115080" y="308124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5" name=""/>
          <p:cNvSpPr/>
          <p:nvPr/>
        </p:nvSpPr>
        <p:spPr>
          <a:xfrm>
            <a:off x="604440" y="236232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1752480" y="3124080"/>
            <a:ext cx="381240" cy="990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676520" y="3124080"/>
            <a:ext cx="1143000" cy="381240"/>
          </a:xfrm>
          <a:prstGeom prst="ellipse">
            <a:avLst/>
          </a:prstGeom>
          <a:noFill/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62320" y="3200400"/>
            <a:ext cx="114300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1805040" y="4495680"/>
            <a:ext cx="167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简化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0" name="" descr=""/>
          <p:cNvPicPr/>
          <p:nvPr/>
        </p:nvPicPr>
        <p:blipFill>
          <a:blip r:embed="rId1"/>
          <a:stretch/>
        </p:blipFill>
        <p:spPr>
          <a:xfrm>
            <a:off x="1338120" y="5257800"/>
            <a:ext cx="2579760" cy="606600"/>
          </a:xfrm>
          <a:prstGeom prst="rect">
            <a:avLst/>
          </a:prstGeom>
          <a:ln w="0">
            <a:noFill/>
          </a:ln>
        </p:spPr>
      </p:pic>
      <p:sp>
        <p:nvSpPr>
          <p:cNvPr id="4411" name=""/>
          <p:cNvSpPr/>
          <p:nvPr/>
        </p:nvSpPr>
        <p:spPr>
          <a:xfrm>
            <a:off x="2895480" y="3733920"/>
            <a:ext cx="914400" cy="457200"/>
          </a:xfrm>
          <a:prstGeom prst="wedgeRoundRectCallout">
            <a:avLst>
              <a:gd name="adj1" fmla="val -117708"/>
              <a:gd name="adj2" fmla="val -126041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多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2" name=""/>
          <p:cNvGrpSpPr/>
          <p:nvPr/>
        </p:nvGrpSpPr>
        <p:grpSpPr>
          <a:xfrm>
            <a:off x="4572000" y="2208600"/>
            <a:ext cx="3581280" cy="3164400"/>
            <a:chOff x="4572000" y="2208600"/>
            <a:chExt cx="3581280" cy="3164400"/>
          </a:xfrm>
        </p:grpSpPr>
        <p:sp>
          <p:nvSpPr>
            <p:cNvPr id="4413" name=""/>
            <p:cNvSpPr/>
            <p:nvPr/>
          </p:nvSpPr>
          <p:spPr>
            <a:xfrm>
              <a:off x="5410080" y="28954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10080" y="35053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095880" y="28954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5029200" y="251460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572000" y="24706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410080" y="24706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781680" y="28954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781680" y="35053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467480" y="28954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095880" y="2437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781680" y="2437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67480" y="2437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4876920" y="2208600"/>
              <a:ext cx="91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800600" y="29707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800600" y="35042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800600" y="41137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800600" y="47232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410080" y="41148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410080" y="47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095880" y="4114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781680" y="41148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781680" y="47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7467480" y="4114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477400" y="28954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763400" y="28954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5477400" y="48769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7687080" y="4800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0" name=""/>
          <p:cNvGrpSpPr/>
          <p:nvPr/>
        </p:nvGrpSpPr>
        <p:grpSpPr>
          <a:xfrm>
            <a:off x="5410080" y="2895480"/>
            <a:ext cx="2743200" cy="2438640"/>
            <a:chOff x="5410080" y="2895480"/>
            <a:chExt cx="2743200" cy="2438640"/>
          </a:xfrm>
        </p:grpSpPr>
        <p:sp>
          <p:nvSpPr>
            <p:cNvPr id="4441" name=""/>
            <p:cNvSpPr/>
            <p:nvPr/>
          </p:nvSpPr>
          <p:spPr>
            <a:xfrm>
              <a:off x="5410080" y="4876920"/>
              <a:ext cx="533520" cy="4572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64" y="216"/>
                    <a:pt x="336" y="33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7620120" y="2895480"/>
              <a:ext cx="533160" cy="533520"/>
            </a:xfrm>
            <a:custGeom>
              <a:avLst/>
              <a:gdLst/>
              <a:ahLst/>
              <a:rect l="l" t="t" r="r" b="b"/>
              <a:pathLst>
                <a:path w="392" h="344">
                  <a:moveTo>
                    <a:pt x="56" y="0"/>
                  </a:moveTo>
                  <a:cubicBezTo>
                    <a:pt x="28" y="116"/>
                    <a:pt x="0" y="232"/>
                    <a:pt x="56" y="288"/>
                  </a:cubicBezTo>
                  <a:cubicBezTo>
                    <a:pt x="112" y="344"/>
                    <a:pt x="252" y="340"/>
                    <a:pt x="392" y="33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696080" y="480060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288" y="48"/>
                  </a:moveTo>
                  <a:cubicBezTo>
                    <a:pt x="192" y="24"/>
                    <a:pt x="96" y="0"/>
                    <a:pt x="48" y="48"/>
                  </a:cubicBezTo>
                  <a:cubicBezTo>
                    <a:pt x="0" y="96"/>
                    <a:pt x="0" y="216"/>
                    <a:pt x="0" y="33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5410080" y="28954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288" y="96"/>
                    <a:pt x="288" y="192"/>
                    <a:pt x="240" y="240"/>
                  </a:cubicBezTo>
                  <a:cubicBezTo>
                    <a:pt x="192" y="288"/>
                    <a:pt x="96" y="288"/>
                    <a:pt x="0" y="288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5" name=""/>
          <p:cNvGrpSpPr/>
          <p:nvPr/>
        </p:nvGrpSpPr>
        <p:grpSpPr>
          <a:xfrm>
            <a:off x="5648040" y="2842920"/>
            <a:ext cx="2235600" cy="2224800"/>
            <a:chOff x="5648040" y="2842920"/>
            <a:chExt cx="2235600" cy="2224800"/>
          </a:xfrm>
        </p:grpSpPr>
        <p:sp>
          <p:nvSpPr>
            <p:cNvPr id="4446" name=""/>
            <p:cNvSpPr/>
            <p:nvPr/>
          </p:nvSpPr>
          <p:spPr>
            <a:xfrm rot="2640000">
              <a:off x="5867280" y="3276360"/>
              <a:ext cx="1797120" cy="13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40" y="3840"/>
                  </a:moveTo>
                  <a:lnTo>
                    <a:pt x="9400" y="384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199" y="2700"/>
                  </a:lnTo>
                  <a:lnTo>
                    <a:pt x="12199" y="3840"/>
                  </a:lnTo>
                  <a:lnTo>
                    <a:pt x="17759" y="3840"/>
                  </a:lnTo>
                  <a:lnTo>
                    <a:pt x="17759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199"/>
                  </a:lnTo>
                  <a:lnTo>
                    <a:pt x="17759" y="12199"/>
                  </a:lnTo>
                  <a:lnTo>
                    <a:pt x="17759" y="17759"/>
                  </a:lnTo>
                  <a:lnTo>
                    <a:pt x="12199" y="17759"/>
                  </a:lnTo>
                  <a:lnTo>
                    <a:pt x="12199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7759"/>
                  </a:lnTo>
                  <a:lnTo>
                    <a:pt x="3840" y="17759"/>
                  </a:lnTo>
                  <a:lnTo>
                    <a:pt x="3840" y="12199"/>
                  </a:lnTo>
                  <a:lnTo>
                    <a:pt x="2700" y="12199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3840" y="9400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248520" y="3657600"/>
              <a:ext cx="1066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相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48" name="" descr=""/>
          <p:cNvPicPr/>
          <p:nvPr/>
        </p:nvPicPr>
        <p:blipFill>
          <a:blip r:embed="rId2"/>
          <a:stretch/>
        </p:blipFill>
        <p:spPr>
          <a:xfrm>
            <a:off x="5378400" y="5486400"/>
            <a:ext cx="1579680" cy="606600"/>
          </a:xfrm>
          <a:prstGeom prst="rect">
            <a:avLst/>
          </a:prstGeom>
          <a:ln w="0">
            <a:noFill/>
          </a:ln>
        </p:spPr>
      </p:pic>
      <p:sp>
        <p:nvSpPr>
          <p:cNvPr id="4449" name=""/>
          <p:cNvSpPr/>
          <p:nvPr/>
        </p:nvSpPr>
        <p:spPr>
          <a:xfrm>
            <a:off x="609480" y="533520"/>
            <a:ext cx="5639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0" name=""/>
          <p:cNvGrpSpPr/>
          <p:nvPr/>
        </p:nvGrpSpPr>
        <p:grpSpPr>
          <a:xfrm>
            <a:off x="685800" y="1066680"/>
            <a:ext cx="6499080" cy="604800"/>
            <a:chOff x="685800" y="1066680"/>
            <a:chExt cx="6499080" cy="604800"/>
          </a:xfrm>
        </p:grpSpPr>
        <p:pic>
          <p:nvPicPr>
            <p:cNvPr id="4451" name="" descr=""/>
            <p:cNvPicPr/>
            <p:nvPr/>
          </p:nvPicPr>
          <p:blipFill>
            <a:blip r:embed="rId3"/>
            <a:stretch/>
          </p:blipFill>
          <p:spPr>
            <a:xfrm>
              <a:off x="1133640" y="1066680"/>
              <a:ext cx="6051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2" name=""/>
            <p:cNvSpPr/>
            <p:nvPr/>
          </p:nvSpPr>
          <p:spPr>
            <a:xfrm>
              <a:off x="685800" y="1066680"/>
              <a:ext cx="914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609480" y="1600200"/>
            <a:ext cx="8089920" cy="604800"/>
            <a:chOff x="609480" y="1600200"/>
            <a:chExt cx="8089920" cy="604800"/>
          </a:xfrm>
        </p:grpSpPr>
        <p:sp>
          <p:nvSpPr>
            <p:cNvPr id="4454" name=""/>
            <p:cNvSpPr/>
            <p:nvPr/>
          </p:nvSpPr>
          <p:spPr>
            <a:xfrm>
              <a:off x="609480" y="1600200"/>
              <a:ext cx="914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5" name="" descr=""/>
            <p:cNvPicPr/>
            <p:nvPr/>
          </p:nvPicPr>
          <p:blipFill>
            <a:blip r:embed="rId4"/>
            <a:stretch/>
          </p:blipFill>
          <p:spPr>
            <a:xfrm>
              <a:off x="1066680" y="1600200"/>
              <a:ext cx="7632720" cy="60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nodeType="clickEffect" fill="hold">
                      <p:stCondLst>
                        <p:cond delay="indefinite"/>
                      </p:stCondLst>
                      <p:childTnLst>
                        <p:par>
                          <p:cTn id="2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7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nodeType="clickEffect" fill="hold">
                      <p:stCondLst>
                        <p:cond delay="indefinite"/>
                      </p:stCondLst>
                      <p:childTnLst>
                        <p:par>
                          <p:cTn id="26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75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4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4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686" dur="500"/>
                                        <p:tgtEl>
                                          <p:spTgt spid="4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91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nodeType="clickEffect" fill="hold">
                      <p:stCondLst>
                        <p:cond delay="indefinite"/>
                      </p:stCondLst>
                      <p:childTnLst>
                        <p:par>
                          <p:cTn id="2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696" dur="500"/>
                                        <p:tgtEl>
                                          <p:spTgt spid="4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nodeType="clickEffect" fill="hold">
                      <p:stCondLst>
                        <p:cond delay="indefinite"/>
                      </p:stCondLst>
                      <p:childTnLst>
                        <p:par>
                          <p:cTn id="26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701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nodeType="clickEffect" fill="hold">
                      <p:stCondLst>
                        <p:cond delay="indefinite"/>
                      </p:stCondLst>
                      <p:childTnLst>
                        <p:par>
                          <p:cTn id="27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06" dur="500"/>
                                        <p:tgtEl>
                                          <p:spTgt spid="4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delay="indefinite"/>
                      </p:stCondLst>
                      <p:childTnLst>
                        <p:par>
                          <p:cTn id="27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11" dur="500"/>
                                        <p:tgtEl>
                                          <p:spTgt spid="4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delay="indefinite"/>
                      </p:stCondLst>
                      <p:childTnLst>
                        <p:par>
                          <p:cTn id="27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1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4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nodeType="clickEffect" fill="hold">
                      <p:stCondLst>
                        <p:cond delay="indefinite"/>
                      </p:stCondLst>
                      <p:childTnLst>
                        <p:par>
                          <p:cTn id="27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4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nodeType="clickEffect" fill="hold">
                      <p:stCondLst>
                        <p:cond delay="indefinite"/>
                      </p:stCondLst>
                      <p:childTnLst>
                        <p:par>
                          <p:cTn id="2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9"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2733" dur="500"/>
                                        <p:tgtEl>
                                          <p:spTgt spid="4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nodeType="clickEffect" fill="hold">
                      <p:stCondLst>
                        <p:cond delay="indefinite"/>
                      </p:stCondLst>
                      <p:childTnLst>
                        <p:par>
                          <p:cTn id="2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38" dur="500"/>
                                        <p:tgtEl>
                                          <p:spTgt spid="4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"/>
          <p:cNvSpPr/>
          <p:nvPr/>
        </p:nvSpPr>
        <p:spPr>
          <a:xfrm>
            <a:off x="833040" y="182880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347840" y="5105520"/>
            <a:ext cx="167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简化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8" name="" descr=""/>
          <p:cNvPicPr/>
          <p:nvPr/>
        </p:nvPicPr>
        <p:blipFill>
          <a:blip r:embed="rId1"/>
          <a:stretch/>
        </p:blipFill>
        <p:spPr>
          <a:xfrm>
            <a:off x="3259080" y="5638680"/>
            <a:ext cx="2166840" cy="505080"/>
          </a:xfrm>
          <a:prstGeom prst="rect">
            <a:avLst/>
          </a:prstGeom>
          <a:ln w="0">
            <a:noFill/>
          </a:ln>
        </p:spPr>
      </p:pic>
      <p:grpSp>
        <p:nvGrpSpPr>
          <p:cNvPr id="4459" name=""/>
          <p:cNvGrpSpPr/>
          <p:nvPr/>
        </p:nvGrpSpPr>
        <p:grpSpPr>
          <a:xfrm>
            <a:off x="1295280" y="1751400"/>
            <a:ext cx="3581640" cy="3125520"/>
            <a:chOff x="1295280" y="1751400"/>
            <a:chExt cx="3581640" cy="3125520"/>
          </a:xfrm>
        </p:grpSpPr>
        <p:sp>
          <p:nvSpPr>
            <p:cNvPr id="4460" name=""/>
            <p:cNvSpPr/>
            <p:nvPr/>
          </p:nvSpPr>
          <p:spPr>
            <a:xfrm>
              <a:off x="2133720" y="24382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133720" y="3048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819520" y="2438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 flipV="1">
              <a:off x="1752120" y="20574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1295280" y="20134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133720" y="201348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505320" y="243828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505320" y="3048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4191120" y="2438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81952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50532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191120" y="1980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600200" y="1751400"/>
              <a:ext cx="91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523880" y="25135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523880" y="304704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523880" y="365652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1523880" y="426600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133720" y="365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133720" y="42670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819520" y="365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505320" y="3657600"/>
              <a:ext cx="13716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505320" y="42670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4191120" y="36576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3" name=""/>
          <p:cNvSpPr/>
          <p:nvPr/>
        </p:nvSpPr>
        <p:spPr>
          <a:xfrm>
            <a:off x="4334400" y="3733920"/>
            <a:ext cx="35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762120" y="533520"/>
            <a:ext cx="5638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7.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应用卡诺图化简逻辑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5" name="" descr=""/>
          <p:cNvPicPr/>
          <p:nvPr/>
        </p:nvPicPr>
        <p:blipFill>
          <a:blip r:embed="rId2"/>
          <a:stretch/>
        </p:blipFill>
        <p:spPr>
          <a:xfrm>
            <a:off x="1015920" y="1143000"/>
            <a:ext cx="4570560" cy="604800"/>
          </a:xfrm>
          <a:prstGeom prst="rect">
            <a:avLst/>
          </a:prstGeom>
          <a:ln w="0">
            <a:noFill/>
          </a:ln>
        </p:spPr>
      </p:pic>
      <p:grpSp>
        <p:nvGrpSpPr>
          <p:cNvPr id="4486" name=""/>
          <p:cNvGrpSpPr/>
          <p:nvPr/>
        </p:nvGrpSpPr>
        <p:grpSpPr>
          <a:xfrm>
            <a:off x="2277000" y="2514600"/>
            <a:ext cx="2412000" cy="1105560"/>
            <a:chOff x="2277000" y="2514600"/>
            <a:chExt cx="2412000" cy="1105560"/>
          </a:xfrm>
        </p:grpSpPr>
        <p:sp>
          <p:nvSpPr>
            <p:cNvPr id="4487" name=""/>
            <p:cNvSpPr/>
            <p:nvPr/>
          </p:nvSpPr>
          <p:spPr>
            <a:xfrm>
              <a:off x="43344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343400" y="2514600"/>
              <a:ext cx="336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962800" y="2514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648600" y="2514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2770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9628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648600" y="312408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277000" y="251460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5" name=""/>
          <p:cNvSpPr/>
          <p:nvPr/>
        </p:nvSpPr>
        <p:spPr>
          <a:xfrm>
            <a:off x="1676520" y="1066680"/>
            <a:ext cx="609480" cy="685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2133720" y="2438280"/>
            <a:ext cx="274320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3581280" y="167652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800600" y="16765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2277000" y="3733920"/>
            <a:ext cx="35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0" name=""/>
          <p:cNvGrpSpPr/>
          <p:nvPr/>
        </p:nvGrpSpPr>
        <p:grpSpPr>
          <a:xfrm>
            <a:off x="5181480" y="1828800"/>
            <a:ext cx="2133720" cy="685800"/>
            <a:chOff x="5181480" y="1828800"/>
            <a:chExt cx="2133720" cy="685800"/>
          </a:xfrm>
        </p:grpSpPr>
        <p:sp>
          <p:nvSpPr>
            <p:cNvPr id="4501" name=""/>
            <p:cNvSpPr/>
            <p:nvPr/>
          </p:nvSpPr>
          <p:spPr>
            <a:xfrm>
              <a:off x="5181480" y="1828800"/>
              <a:ext cx="2133720" cy="685800"/>
            </a:xfrm>
            <a:prstGeom prst="wedgeRoundRectCallout">
              <a:avLst>
                <a:gd name="adj1" fmla="val -90699"/>
                <a:gd name="adj2" fmla="val 69444"/>
                <a:gd name="adj3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含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均填“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5562720" y="2052720"/>
              <a:ext cx="2286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3" name=""/>
          <p:cNvGrpSpPr/>
          <p:nvPr/>
        </p:nvGrpSpPr>
        <p:grpSpPr>
          <a:xfrm>
            <a:off x="5257800" y="2514600"/>
            <a:ext cx="3711600" cy="2632320"/>
            <a:chOff x="5257800" y="2514600"/>
            <a:chExt cx="3711600" cy="2632320"/>
          </a:xfrm>
        </p:grpSpPr>
        <p:sp>
          <p:nvSpPr>
            <p:cNvPr id="4504" name=""/>
            <p:cNvSpPr/>
            <p:nvPr/>
          </p:nvSpPr>
          <p:spPr>
            <a:xfrm>
              <a:off x="5334120" y="2514600"/>
              <a:ext cx="14479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注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783040" y="3048120"/>
              <a:ext cx="2062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圈的个数应最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911560" y="3581280"/>
              <a:ext cx="21664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每个“圈”要最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257800" y="4114800"/>
              <a:ext cx="37116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每个“圈”至少要包含一个未被圈过的最小项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8" name=""/>
          <p:cNvGrpSpPr/>
          <p:nvPr/>
        </p:nvGrpSpPr>
        <p:grpSpPr>
          <a:xfrm>
            <a:off x="2133720" y="3124080"/>
            <a:ext cx="2743200" cy="1143000"/>
            <a:chOff x="2133720" y="3124080"/>
            <a:chExt cx="2743200" cy="1143000"/>
          </a:xfrm>
        </p:grpSpPr>
        <p:sp>
          <p:nvSpPr>
            <p:cNvPr id="4509" name=""/>
            <p:cNvSpPr/>
            <p:nvPr/>
          </p:nvSpPr>
          <p:spPr>
            <a:xfrm>
              <a:off x="2133720" y="3124080"/>
              <a:ext cx="533160" cy="1143000"/>
            </a:xfrm>
            <a:custGeom>
              <a:avLst/>
              <a:gdLst/>
              <a:ahLst/>
              <a:rect l="l" t="t" r="r" b="b"/>
              <a:pathLst>
                <a:path w="440" h="832">
                  <a:moveTo>
                    <a:pt x="0" y="104"/>
                  </a:moveTo>
                  <a:cubicBezTo>
                    <a:pt x="164" y="52"/>
                    <a:pt x="328" y="0"/>
                    <a:pt x="384" y="104"/>
                  </a:cubicBezTo>
                  <a:cubicBezTo>
                    <a:pt x="440" y="208"/>
                    <a:pt x="400" y="624"/>
                    <a:pt x="336" y="728"/>
                  </a:cubicBezTo>
                  <a:cubicBezTo>
                    <a:pt x="272" y="832"/>
                    <a:pt x="56" y="728"/>
                    <a:pt x="0" y="72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267080" y="3124080"/>
              <a:ext cx="609840" cy="1143000"/>
            </a:xfrm>
            <a:custGeom>
              <a:avLst/>
              <a:gdLst/>
              <a:ahLst/>
              <a:rect l="l" t="t" r="r" b="b"/>
              <a:pathLst>
                <a:path w="384" h="816">
                  <a:moveTo>
                    <a:pt x="384" y="104"/>
                  </a:moveTo>
                  <a:cubicBezTo>
                    <a:pt x="240" y="52"/>
                    <a:pt x="96" y="0"/>
                    <a:pt x="48" y="104"/>
                  </a:cubicBezTo>
                  <a:cubicBezTo>
                    <a:pt x="0" y="208"/>
                    <a:pt x="40" y="640"/>
                    <a:pt x="96" y="728"/>
                  </a:cubicBezTo>
                  <a:cubicBezTo>
                    <a:pt x="152" y="816"/>
                    <a:pt x="268" y="724"/>
                    <a:pt x="384" y="63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nodeType="clickEffect" fill="hold">
                      <p:stCondLst>
                        <p:cond delay="indefinite"/>
                      </p:stCondLst>
                      <p:childTnLst>
                        <p:par>
                          <p:cTn id="27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6" presetSubtype="42"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base">
                                        <p:cTn id="2745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4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4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nodeType="clickEffect" fill="hold">
                      <p:stCondLst>
                        <p:cond delay="indefinite"/>
                      </p:stCondLst>
                      <p:childTnLst>
                        <p:par>
                          <p:cTn id="27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3" presetSubtype="272"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762" dur="500"/>
                                        <p:tgtEl>
                                          <p:spTgt spid="4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67" dur="500"/>
                                        <p:tgtEl>
                                          <p:spTgt spid="4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nodeType="clickEffect" fill="hold">
                      <p:stCondLst>
                        <p:cond delay="indefinite"/>
                      </p:stCondLst>
                      <p:childTnLst>
                        <p:par>
                          <p:cTn id="27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9"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277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nodeType="clickEffect" fill="hold">
                      <p:stCondLst>
                        <p:cond delay="indefinite"/>
                      </p:stCondLst>
                      <p:childTnLst>
                        <p:par>
                          <p:cTn id="27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77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nodeType="clickEffect" fill="hold">
                      <p:stCondLst>
                        <p:cond delay="indefinite"/>
                      </p:stCondLst>
                      <p:childTnLst>
                        <p:par>
                          <p:cTn id="2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9"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2782" dur="500"/>
                                        <p:tgtEl>
                                          <p:spTgt spid="4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nodeType="clickEffect" fill="hold">
                      <p:stCondLst>
                        <p:cond delay="indefinite"/>
                      </p:stCondLst>
                      <p:childTnLst>
                        <p:par>
                          <p:cTn id="27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6" presetSubtype="37"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base">
                                        <p:cTn id="2787" dur="500"/>
                                        <p:tgtEl>
                                          <p:spTgt spid="4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92" dur="500"/>
                                        <p:tgtEl>
                                          <p:spTgt spid="4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nodeType="clickEffect" fill="hold">
                      <p:stCondLst>
                        <p:cond delay="indefinite"/>
                      </p:stCondLst>
                      <p:childTnLst>
                        <p:par>
                          <p:cTn id="2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797" dur="500"/>
                                        <p:tgtEl>
                                          <p:spTgt spid="4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02" dur="5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0. 6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组合逻辑电路的分析与综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2" name=""/>
          <p:cNvGrpSpPr/>
          <p:nvPr/>
        </p:nvGrpSpPr>
        <p:grpSpPr>
          <a:xfrm>
            <a:off x="1006560" y="1447920"/>
            <a:ext cx="7679880" cy="605880"/>
            <a:chOff x="1006560" y="1447920"/>
            <a:chExt cx="7679880" cy="605880"/>
          </a:xfrm>
        </p:grpSpPr>
        <p:sp>
          <p:nvSpPr>
            <p:cNvPr id="4513" name=""/>
            <p:cNvSpPr/>
            <p:nvPr/>
          </p:nvSpPr>
          <p:spPr>
            <a:xfrm>
              <a:off x="1006560" y="1447920"/>
              <a:ext cx="76798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组合逻辑电路：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任何时刻电路的输出状态只取决于该时刻的输入状态，而与该时刻以前的电路状态无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1254240" y="1447920"/>
              <a:ext cx="525960" cy="45684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5" name=""/>
          <p:cNvSpPr/>
          <p:nvPr/>
        </p:nvSpPr>
        <p:spPr>
          <a:xfrm>
            <a:off x="3488400" y="5195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组合逻辑电路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6" name=""/>
          <p:cNvGrpSpPr/>
          <p:nvPr/>
        </p:nvGrpSpPr>
        <p:grpSpPr>
          <a:xfrm>
            <a:off x="847080" y="3443400"/>
            <a:ext cx="7313040" cy="1652760"/>
            <a:chOff x="847080" y="3443400"/>
            <a:chExt cx="7313040" cy="1652760"/>
          </a:xfrm>
        </p:grpSpPr>
        <p:sp>
          <p:nvSpPr>
            <p:cNvPr id="4517" name=""/>
            <p:cNvSpPr/>
            <p:nvPr/>
          </p:nvSpPr>
          <p:spPr>
            <a:xfrm>
              <a:off x="2161080" y="344340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X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234880" y="4510080"/>
              <a:ext cx="48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X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161080" y="382428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X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0" name=""/>
            <p:cNvGrpSpPr/>
            <p:nvPr/>
          </p:nvGrpSpPr>
          <p:grpSpPr>
            <a:xfrm>
              <a:off x="6492960" y="3519360"/>
              <a:ext cx="517320" cy="1576800"/>
              <a:chOff x="6492960" y="3519360"/>
              <a:chExt cx="517320" cy="1576800"/>
            </a:xfrm>
          </p:grpSpPr>
          <p:sp>
            <p:nvSpPr>
              <p:cNvPr id="4521" name=""/>
              <p:cNvSpPr/>
              <p:nvPr/>
            </p:nvSpPr>
            <p:spPr>
              <a:xfrm>
                <a:off x="6501960" y="3900240"/>
                <a:ext cx="453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6501960" y="3519360"/>
                <a:ext cx="453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492960" y="458604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"/>
                  </a:rPr>
                  <a:t>Y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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4" name=""/>
            <p:cNvSpPr/>
            <p:nvPr/>
          </p:nvSpPr>
          <p:spPr>
            <a:xfrm>
              <a:off x="3382920" y="3519360"/>
              <a:ext cx="233352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682720" y="37800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682720" y="40338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682720" y="48150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5730840" y="48150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5716440" y="403380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5716440" y="3776760"/>
              <a:ext cx="7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5400000">
              <a:off x="5576040" y="4128480"/>
              <a:ext cx="106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"/>
                </a:rPr>
                <a:t>. .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rot="5340000">
              <a:off x="2586600" y="4067640"/>
              <a:ext cx="95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"/>
                </a:rPr>
                <a:t>. .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801600" y="390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组合逻辑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844640" y="3551400"/>
              <a:ext cx="228600" cy="1295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rot="10800000">
              <a:off x="7102080" y="3627000"/>
              <a:ext cx="228600" cy="1295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847080" y="3908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7552800" y="3908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09" dur="500"/>
                                        <p:tgtEl>
                                          <p:spTgt spid="4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1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nodeType="clickEffect" fill="hold">
                      <p:stCondLst>
                        <p:cond delay="indefinite"/>
                      </p:stCondLst>
                      <p:childTnLst>
                        <p:par>
                          <p:cTn id="28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19" dur="500"/>
                                        <p:tgtEl>
                                          <p:spTgt spid="4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. 6. 1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组合逻辑电路的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1782000" y="324792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由逻辑图写出输出端的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1572480" y="388296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用逻辑代数化简或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1212840" y="449280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1212840" y="510696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1732320" y="1698480"/>
            <a:ext cx="16437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已知逻辑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3886200" y="202716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43434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6064200" y="1698480"/>
            <a:ext cx="115596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逻辑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1097640" y="251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分析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8" name=""/>
          <p:cNvGrpSpPr/>
          <p:nvPr/>
        </p:nvGrpSpPr>
        <p:grpSpPr>
          <a:xfrm>
            <a:off x="762120" y="5791320"/>
            <a:ext cx="5781600" cy="171000"/>
            <a:chOff x="762120" y="5791320"/>
            <a:chExt cx="5781600" cy="171000"/>
          </a:xfrm>
        </p:grpSpPr>
        <p:pic>
          <p:nvPicPr>
            <p:cNvPr id="4549" name="" descr=""/>
            <p:cNvPicPr/>
            <p:nvPr/>
          </p:nvPicPr>
          <p:blipFill>
            <a:blip r:embed="rId3"/>
            <a:stretch/>
          </p:blipFill>
          <p:spPr>
            <a:xfrm>
              <a:off x="1667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0" name="" descr=""/>
            <p:cNvPicPr/>
            <p:nvPr/>
          </p:nvPicPr>
          <p:blipFill>
            <a:blip r:embed="rId4"/>
            <a:stretch/>
          </p:blipFill>
          <p:spPr>
            <a:xfrm>
              <a:off x="1809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1" name="" descr=""/>
            <p:cNvPicPr/>
            <p:nvPr/>
          </p:nvPicPr>
          <p:blipFill>
            <a:blip r:embed="rId5"/>
            <a:stretch/>
          </p:blipFill>
          <p:spPr>
            <a:xfrm>
              <a:off x="197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2" name="" descr=""/>
            <p:cNvPicPr/>
            <p:nvPr/>
          </p:nvPicPr>
          <p:blipFill>
            <a:blip r:embed="rId6"/>
            <a:stretch/>
          </p:blipFill>
          <p:spPr>
            <a:xfrm>
              <a:off x="2266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3" name="" descr=""/>
            <p:cNvPicPr/>
            <p:nvPr/>
          </p:nvPicPr>
          <p:blipFill>
            <a:blip r:embed="rId7"/>
            <a:stretch/>
          </p:blipFill>
          <p:spPr>
            <a:xfrm>
              <a:off x="2428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4" name="" descr=""/>
            <p:cNvPicPr/>
            <p:nvPr/>
          </p:nvPicPr>
          <p:blipFill>
            <a:blip r:embed="rId8"/>
            <a:stretch/>
          </p:blipFill>
          <p:spPr>
            <a:xfrm>
              <a:off x="2581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5" name="" descr=""/>
            <p:cNvPicPr/>
            <p:nvPr/>
          </p:nvPicPr>
          <p:blipFill>
            <a:blip r:embed="rId9"/>
            <a:stretch/>
          </p:blipFill>
          <p:spPr>
            <a:xfrm>
              <a:off x="2724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6" name="" descr=""/>
            <p:cNvPicPr/>
            <p:nvPr/>
          </p:nvPicPr>
          <p:blipFill>
            <a:blip r:embed="rId10"/>
            <a:stretch/>
          </p:blipFill>
          <p:spPr>
            <a:xfrm>
              <a:off x="2886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7" name="" descr=""/>
            <p:cNvPicPr/>
            <p:nvPr/>
          </p:nvPicPr>
          <p:blipFill>
            <a:blip r:embed="rId11"/>
            <a:stretch/>
          </p:blipFill>
          <p:spPr>
            <a:xfrm>
              <a:off x="3181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8" name="" descr=""/>
            <p:cNvPicPr/>
            <p:nvPr/>
          </p:nvPicPr>
          <p:blipFill>
            <a:blip r:embed="rId12"/>
            <a:stretch/>
          </p:blipFill>
          <p:spPr>
            <a:xfrm>
              <a:off x="3343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9" name="" descr=""/>
            <p:cNvPicPr/>
            <p:nvPr/>
          </p:nvPicPr>
          <p:blipFill>
            <a:blip r:embed="rId13"/>
            <a:stretch/>
          </p:blipFill>
          <p:spPr>
            <a:xfrm>
              <a:off x="3495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0" name="" descr=""/>
            <p:cNvPicPr/>
            <p:nvPr/>
          </p:nvPicPr>
          <p:blipFill>
            <a:blip r:embed="rId14"/>
            <a:stretch/>
          </p:blipFill>
          <p:spPr>
            <a:xfrm>
              <a:off x="3638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1" name="" descr=""/>
            <p:cNvPicPr/>
            <p:nvPr/>
          </p:nvPicPr>
          <p:blipFill>
            <a:blip r:embed="rId15"/>
            <a:stretch/>
          </p:blipFill>
          <p:spPr>
            <a:xfrm>
              <a:off x="2124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2" name="" descr=""/>
            <p:cNvPicPr/>
            <p:nvPr/>
          </p:nvPicPr>
          <p:blipFill>
            <a:blip r:embed="rId16"/>
            <a:stretch/>
          </p:blipFill>
          <p:spPr>
            <a:xfrm>
              <a:off x="3038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3" name="" descr=""/>
            <p:cNvPicPr/>
            <p:nvPr/>
          </p:nvPicPr>
          <p:blipFill>
            <a:blip r:embed="rId17"/>
            <a:stretch/>
          </p:blipFill>
          <p:spPr>
            <a:xfrm>
              <a:off x="3800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4" name="" descr=""/>
            <p:cNvPicPr/>
            <p:nvPr/>
          </p:nvPicPr>
          <p:blipFill>
            <a:blip r:embed="rId18"/>
            <a:stretch/>
          </p:blipFill>
          <p:spPr>
            <a:xfrm>
              <a:off x="3953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5" name="" descr=""/>
            <p:cNvPicPr/>
            <p:nvPr/>
          </p:nvPicPr>
          <p:blipFill>
            <a:blip r:embed="rId19"/>
            <a:stretch/>
          </p:blipFill>
          <p:spPr>
            <a:xfrm>
              <a:off x="4095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6" name="" descr=""/>
            <p:cNvPicPr/>
            <p:nvPr/>
          </p:nvPicPr>
          <p:blipFill>
            <a:blip r:embed="rId20"/>
            <a:stretch/>
          </p:blipFill>
          <p:spPr>
            <a:xfrm>
              <a:off x="4257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7" name="" descr=""/>
            <p:cNvPicPr/>
            <p:nvPr/>
          </p:nvPicPr>
          <p:blipFill>
            <a:blip r:embed="rId21"/>
            <a:stretch/>
          </p:blipFill>
          <p:spPr>
            <a:xfrm>
              <a:off x="4410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8" name="" descr=""/>
            <p:cNvPicPr/>
            <p:nvPr/>
          </p:nvPicPr>
          <p:blipFill>
            <a:blip r:embed="rId22"/>
            <a:stretch/>
          </p:blipFill>
          <p:spPr>
            <a:xfrm>
              <a:off x="4552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9" name="" descr=""/>
            <p:cNvPicPr/>
            <p:nvPr/>
          </p:nvPicPr>
          <p:blipFill>
            <a:blip r:embed="rId23"/>
            <a:stretch/>
          </p:blipFill>
          <p:spPr>
            <a:xfrm>
              <a:off x="4714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0" name="" descr=""/>
            <p:cNvPicPr/>
            <p:nvPr/>
          </p:nvPicPr>
          <p:blipFill>
            <a:blip r:embed="rId24"/>
            <a:stretch/>
          </p:blipFill>
          <p:spPr>
            <a:xfrm>
              <a:off x="5010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1" name="" descr=""/>
            <p:cNvPicPr/>
            <p:nvPr/>
          </p:nvPicPr>
          <p:blipFill>
            <a:blip r:embed="rId25"/>
            <a:stretch/>
          </p:blipFill>
          <p:spPr>
            <a:xfrm>
              <a:off x="5172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2" name="" descr=""/>
            <p:cNvPicPr/>
            <p:nvPr/>
          </p:nvPicPr>
          <p:blipFill>
            <a:blip r:embed="rId26"/>
            <a:stretch/>
          </p:blipFill>
          <p:spPr>
            <a:xfrm>
              <a:off x="5324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3" name="" descr=""/>
            <p:cNvPicPr/>
            <p:nvPr/>
          </p:nvPicPr>
          <p:blipFill>
            <a:blip r:embed="rId27"/>
            <a:stretch/>
          </p:blipFill>
          <p:spPr>
            <a:xfrm>
              <a:off x="5467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4" name="" descr=""/>
            <p:cNvPicPr/>
            <p:nvPr/>
          </p:nvPicPr>
          <p:blipFill>
            <a:blip r:embed="rId28"/>
            <a:stretch/>
          </p:blipFill>
          <p:spPr>
            <a:xfrm>
              <a:off x="4867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5" name="" descr=""/>
            <p:cNvPicPr/>
            <p:nvPr/>
          </p:nvPicPr>
          <p:blipFill>
            <a:blip r:embed="rId29"/>
            <a:stretch/>
          </p:blipFill>
          <p:spPr>
            <a:xfrm>
              <a:off x="5629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6" name="" descr=""/>
            <p:cNvPicPr/>
            <p:nvPr/>
          </p:nvPicPr>
          <p:blipFill>
            <a:blip r:embed="rId30"/>
            <a:stretch/>
          </p:blipFill>
          <p:spPr>
            <a:xfrm>
              <a:off x="5924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7" name="" descr=""/>
            <p:cNvPicPr/>
            <p:nvPr/>
          </p:nvPicPr>
          <p:blipFill>
            <a:blip r:embed="rId31"/>
            <a:stretch/>
          </p:blipFill>
          <p:spPr>
            <a:xfrm>
              <a:off x="6086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8" name="" descr=""/>
            <p:cNvPicPr/>
            <p:nvPr/>
          </p:nvPicPr>
          <p:blipFill>
            <a:blip r:embed="rId32"/>
            <a:stretch/>
          </p:blipFill>
          <p:spPr>
            <a:xfrm>
              <a:off x="6239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9" name="" descr=""/>
            <p:cNvPicPr/>
            <p:nvPr/>
          </p:nvPicPr>
          <p:blipFill>
            <a:blip r:embed="rId33"/>
            <a:stretch/>
          </p:blipFill>
          <p:spPr>
            <a:xfrm>
              <a:off x="638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0" name="" descr=""/>
            <p:cNvPicPr/>
            <p:nvPr/>
          </p:nvPicPr>
          <p:blipFill>
            <a:blip r:embed="rId34"/>
            <a:stretch/>
          </p:blipFill>
          <p:spPr>
            <a:xfrm>
              <a:off x="5781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81" name=""/>
            <p:cNvGrpSpPr/>
            <p:nvPr/>
          </p:nvGrpSpPr>
          <p:grpSpPr>
            <a:xfrm>
              <a:off x="762120" y="5791320"/>
              <a:ext cx="923760" cy="161640"/>
              <a:chOff x="762120" y="5791320"/>
              <a:chExt cx="923760" cy="161640"/>
            </a:xfrm>
          </p:grpSpPr>
          <p:pic>
            <p:nvPicPr>
              <p:cNvPr id="458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9050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0670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2193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5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3622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6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5242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621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0" dur="indefinite" restart="never" nodeType="tmRoot">
          <p:childTnLst>
            <p:seq>
              <p:cTn id="2821" dur="indefinite" nodeType="mainSeq">
                <p:childTnLst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26" dur="500"/>
                                        <p:tgtEl>
                                          <p:spTgt spid="4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nodeType="clickEffect" fill="hold">
                      <p:stCondLst>
                        <p:cond delay="indefinite"/>
                      </p:stCondLst>
                      <p:childTnLst>
                        <p:par>
                          <p:cTn id="2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31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3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35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7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39" dur="500"/>
                                        <p:tgtEl>
                                          <p:spTgt spid="4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nodeType="clickEffect" fill="hold">
                      <p:stCondLst>
                        <p:cond delay="indefinite"/>
                      </p:stCondLst>
                      <p:childTnLst>
                        <p:par>
                          <p:cTn id="28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44" dur="500"/>
                                        <p:tgtEl>
                                          <p:spTgt spid="4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nodeType="clickEffect" fill="hold">
                      <p:stCondLst>
                        <p:cond delay="indefinite"/>
                      </p:stCondLst>
                      <p:childTnLst>
                        <p:par>
                          <p:cTn id="28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49" dur="500"/>
                                        <p:tgtEl>
                                          <p:spTgt spid="4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nodeType="clickEffect" fill="hold">
                      <p:stCondLst>
                        <p:cond delay="indefinite"/>
                      </p:stCondLst>
                      <p:childTnLst>
                        <p:par>
                          <p:cTn id="28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54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59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nodeType="clickEffect" fill="hold">
                      <p:stCondLst>
                        <p:cond delay="indefinite"/>
                      </p:stCondLst>
                      <p:childTnLst>
                        <p:par>
                          <p:cTn id="28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64" dur="500"/>
                                        <p:tgtEl>
                                          <p:spTgt spid="4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"/>
          <p:cNvSpPr/>
          <p:nvPr/>
        </p:nvSpPr>
        <p:spPr>
          <a:xfrm>
            <a:off x="1454760" y="699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 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1136160" y="419040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4e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4e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0" name=""/>
          <p:cNvGrpSpPr/>
          <p:nvPr/>
        </p:nvGrpSpPr>
        <p:grpSpPr>
          <a:xfrm>
            <a:off x="1181160" y="5048280"/>
            <a:ext cx="2133720" cy="648720"/>
            <a:chOff x="1181160" y="5048280"/>
            <a:chExt cx="2133720" cy="648720"/>
          </a:xfrm>
        </p:grpSpPr>
        <p:sp>
          <p:nvSpPr>
            <p:cNvPr id="4591" name=""/>
            <p:cNvSpPr/>
            <p:nvPr/>
          </p:nvSpPr>
          <p:spPr>
            <a:xfrm>
              <a:off x="1181160" y="5048280"/>
              <a:ext cx="2133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99"/>
                  </a:solidFill>
                  <a:latin typeface=""/>
                </a:rPr>
                <a:t>2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 baseline="-25000">
                  <a:solidFill>
                    <a:srgbClr val="000099"/>
                  </a:solidFill>
                  <a:latin typeface="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943280" y="5124600"/>
              <a:ext cx="838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3" name=""/>
          <p:cNvGrpSpPr/>
          <p:nvPr/>
        </p:nvGrpSpPr>
        <p:grpSpPr>
          <a:xfrm>
            <a:off x="3009960" y="4896000"/>
            <a:ext cx="3276720" cy="810000"/>
            <a:chOff x="3009960" y="4896000"/>
            <a:chExt cx="3276720" cy="810000"/>
          </a:xfrm>
        </p:grpSpPr>
        <p:sp>
          <p:nvSpPr>
            <p:cNvPr id="4594" name=""/>
            <p:cNvSpPr/>
            <p:nvPr/>
          </p:nvSpPr>
          <p:spPr>
            <a:xfrm>
              <a:off x="3009960" y="51246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  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5219640" y="4896000"/>
              <a:ext cx="381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687120" y="48960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601520" y="48960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8" name=""/>
            <p:cNvGrpSpPr/>
            <p:nvPr/>
          </p:nvGrpSpPr>
          <p:grpSpPr>
            <a:xfrm>
              <a:off x="3543480" y="5048280"/>
              <a:ext cx="2438280" cy="152280"/>
              <a:chOff x="3543480" y="5048280"/>
              <a:chExt cx="2438280" cy="152280"/>
            </a:xfrm>
          </p:grpSpPr>
          <p:sp>
            <p:nvSpPr>
              <p:cNvPr id="4599" name=""/>
              <p:cNvSpPr/>
              <p:nvPr/>
            </p:nvSpPr>
            <p:spPr>
              <a:xfrm>
                <a:off x="4152960" y="5200560"/>
                <a:ext cx="4568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524560" y="5200560"/>
                <a:ext cx="4568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543480" y="5124600"/>
                <a:ext cx="1066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914720" y="5124600"/>
                <a:ext cx="1066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543480" y="5048280"/>
                <a:ext cx="2438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4" name=""/>
          <p:cNvGrpSpPr/>
          <p:nvPr/>
        </p:nvGrpSpPr>
        <p:grpSpPr>
          <a:xfrm>
            <a:off x="2971800" y="2514600"/>
            <a:ext cx="762120" cy="764280"/>
            <a:chOff x="2971800" y="2514600"/>
            <a:chExt cx="762120" cy="764280"/>
          </a:xfrm>
        </p:grpSpPr>
        <p:sp>
          <p:nvSpPr>
            <p:cNvPr id="4605" name=""/>
            <p:cNvSpPr/>
            <p:nvPr/>
          </p:nvSpPr>
          <p:spPr>
            <a:xfrm>
              <a:off x="2971800" y="2819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3200400" y="25146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048120" y="2895480"/>
              <a:ext cx="6094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8" name=""/>
          <p:cNvGrpSpPr/>
          <p:nvPr/>
        </p:nvGrpSpPr>
        <p:grpSpPr>
          <a:xfrm>
            <a:off x="5416920" y="1066680"/>
            <a:ext cx="1477080" cy="797400"/>
            <a:chOff x="5416920" y="1066680"/>
            <a:chExt cx="1477080" cy="797400"/>
          </a:xfrm>
        </p:grpSpPr>
        <p:sp>
          <p:nvSpPr>
            <p:cNvPr id="4609" name=""/>
            <p:cNvSpPr/>
            <p:nvPr/>
          </p:nvSpPr>
          <p:spPr>
            <a:xfrm>
              <a:off x="5772960" y="10666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5966640" y="140436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244920" y="1066680"/>
              <a:ext cx="37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152040" y="1488960"/>
              <a:ext cx="6494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5416920" y="14043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5502240" y="1404360"/>
              <a:ext cx="12988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5" name=""/>
          <p:cNvGrpSpPr/>
          <p:nvPr/>
        </p:nvGrpSpPr>
        <p:grpSpPr>
          <a:xfrm>
            <a:off x="5495040" y="3200400"/>
            <a:ext cx="1210680" cy="764280"/>
            <a:chOff x="5495040" y="3200400"/>
            <a:chExt cx="1210680" cy="764280"/>
          </a:xfrm>
        </p:grpSpPr>
        <p:sp>
          <p:nvSpPr>
            <p:cNvPr id="4616" name=""/>
            <p:cNvSpPr/>
            <p:nvPr/>
          </p:nvSpPr>
          <p:spPr>
            <a:xfrm>
              <a:off x="5782680" y="32004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172200" y="32004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8" name=""/>
            <p:cNvGrpSpPr/>
            <p:nvPr/>
          </p:nvGrpSpPr>
          <p:grpSpPr>
            <a:xfrm>
              <a:off x="5495040" y="3504960"/>
              <a:ext cx="1210680" cy="459720"/>
              <a:chOff x="5495040" y="3504960"/>
              <a:chExt cx="1210680" cy="459720"/>
            </a:xfrm>
          </p:grpSpPr>
          <p:sp>
            <p:nvSpPr>
              <p:cNvPr id="4619" name=""/>
              <p:cNvSpPr/>
              <p:nvPr/>
            </p:nvSpPr>
            <p:spPr>
              <a:xfrm>
                <a:off x="5943600" y="35049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"/>
                  </a:rPr>
                  <a:t>A 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6095880" y="3581280"/>
                <a:ext cx="5335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495040" y="350496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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562720" y="3504960"/>
                <a:ext cx="10666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23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7301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4624" name=""/>
          <p:cNvGrpSpPr/>
          <p:nvPr/>
        </p:nvGrpSpPr>
        <p:grpSpPr>
          <a:xfrm>
            <a:off x="1143000" y="1370160"/>
            <a:ext cx="6457320" cy="2535120"/>
            <a:chOff x="1143000" y="1370160"/>
            <a:chExt cx="6457320" cy="2535120"/>
          </a:xfrm>
        </p:grpSpPr>
        <p:sp>
          <p:nvSpPr>
            <p:cNvPr id="4625" name=""/>
            <p:cNvSpPr/>
            <p:nvPr/>
          </p:nvSpPr>
          <p:spPr>
            <a:xfrm>
              <a:off x="3141360" y="2152800"/>
              <a:ext cx="4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505320" y="2152800"/>
              <a:ext cx="323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143000" y="2152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151640" y="26859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286000" y="215280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3200400" y="270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600200" y="2457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600200" y="29145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114800" y="139068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029200" y="1924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114800" y="283860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029200" y="3371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7" name=""/>
            <p:cNvGrpSpPr/>
            <p:nvPr/>
          </p:nvGrpSpPr>
          <p:grpSpPr>
            <a:xfrm>
              <a:off x="1981080" y="1695600"/>
              <a:ext cx="2133720" cy="1904760"/>
              <a:chOff x="1981080" y="1695600"/>
              <a:chExt cx="2133720" cy="1904760"/>
            </a:xfrm>
          </p:grpSpPr>
          <p:sp>
            <p:nvSpPr>
              <p:cNvPr id="4638" name=""/>
              <p:cNvSpPr/>
              <p:nvPr/>
            </p:nvSpPr>
            <p:spPr>
              <a:xfrm>
                <a:off x="3657600" y="215244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657600" y="2152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1981080" y="169560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1981080" y="1695600"/>
                <a:ext cx="213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657600" y="31431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1981080" y="291456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1981080" y="3600360"/>
                <a:ext cx="213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5" name=""/>
            <p:cNvSpPr/>
            <p:nvPr/>
          </p:nvSpPr>
          <p:spPr>
            <a:xfrm>
              <a:off x="5867280" y="2152800"/>
              <a:ext cx="7621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781680" y="268596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7" name=""/>
            <p:cNvGrpSpPr/>
            <p:nvPr/>
          </p:nvGrpSpPr>
          <p:grpSpPr>
            <a:xfrm>
              <a:off x="5410080" y="1924200"/>
              <a:ext cx="457200" cy="1447200"/>
              <a:chOff x="5410080" y="1924200"/>
              <a:chExt cx="457200" cy="1447200"/>
            </a:xfrm>
          </p:grpSpPr>
          <p:sp>
            <p:nvSpPr>
              <p:cNvPr id="4648" name=""/>
              <p:cNvSpPr/>
              <p:nvPr/>
            </p:nvSpPr>
            <p:spPr>
              <a:xfrm>
                <a:off x="5410080" y="19242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5410080" y="2457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410080" y="29145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410080" y="29145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2" name=""/>
            <p:cNvSpPr/>
            <p:nvPr/>
          </p:nvSpPr>
          <p:spPr>
            <a:xfrm>
              <a:off x="6019920" y="23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43828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26708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26708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247520" y="245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952880" y="337176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976280" y="1370160"/>
              <a:ext cx="45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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828800" y="1924200"/>
              <a:ext cx="380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828800" y="2347920"/>
              <a:ext cx="38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048120" y="2610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876920" y="32958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876920" y="18478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6629400" y="2610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5" dur="indefinite" restart="never" nodeType="tmRoot">
          <p:childTnLst>
            <p:seq>
              <p:cTn id="2866" dur="indefinite" nodeType="mainSeq">
                <p:childTnLst>
                  <p:par>
                    <p:cTn id="2867" nodeType="clickEffect" fill="hold">
                      <p:stCondLst>
                        <p:cond delay="indefinite"/>
                      </p:stCondLst>
                      <p:childTnLst>
                        <p:par>
                          <p:cTn id="2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871" dur="500"/>
                                        <p:tgtEl>
                                          <p:spTgt spid="4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nodeType="clickEffect" fill="hold">
                      <p:stCondLst>
                        <p:cond delay="indefinite"/>
                      </p:stCondLst>
                      <p:childTnLst>
                        <p:par>
                          <p:cTn id="28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876" dur="500"/>
                                        <p:tgtEl>
                                          <p:spTgt spid="4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881" dur="500"/>
                                        <p:tgtEl>
                                          <p:spTgt spid="4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86" dur="500"/>
                                        <p:tgtEl>
                                          <p:spTgt spid="4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91" dur="500"/>
                                        <p:tgtEl>
                                          <p:spTgt spid="4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nodeType="clickEffect" fill="hold">
                      <p:stCondLst>
                        <p:cond delay="indefinite"/>
                      </p:stCondLst>
                      <p:childTnLst>
                        <p:par>
                          <p:cTn id="28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896" dur="500"/>
                                        <p:tgtEl>
                                          <p:spTgt spid="4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"/>
          <p:cNvSpPr/>
          <p:nvPr/>
        </p:nvSpPr>
        <p:spPr>
          <a:xfrm>
            <a:off x="1066680" y="762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应用逻辑代数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6" name=""/>
          <p:cNvGrpSpPr/>
          <p:nvPr/>
        </p:nvGrpSpPr>
        <p:grpSpPr>
          <a:xfrm>
            <a:off x="1295280" y="1523880"/>
            <a:ext cx="3886200" cy="810000"/>
            <a:chOff x="1295280" y="1523880"/>
            <a:chExt cx="3886200" cy="810000"/>
          </a:xfrm>
        </p:grpSpPr>
        <p:sp>
          <p:nvSpPr>
            <p:cNvPr id="4667" name=""/>
            <p:cNvSpPr/>
            <p:nvPr/>
          </p:nvSpPr>
          <p:spPr>
            <a:xfrm>
              <a:off x="1295280" y="175248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Y 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  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2209680" y="1676520"/>
              <a:ext cx="2590560" cy="152280"/>
              <a:chOff x="2209680" y="1676520"/>
              <a:chExt cx="2590560" cy="152280"/>
            </a:xfrm>
          </p:grpSpPr>
          <p:sp>
            <p:nvSpPr>
              <p:cNvPr id="4669" name=""/>
              <p:cNvSpPr/>
              <p:nvPr/>
            </p:nvSpPr>
            <p:spPr>
              <a:xfrm>
                <a:off x="2819160" y="1828800"/>
                <a:ext cx="5335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209680" y="1752480"/>
                <a:ext cx="1143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267080" y="1828800"/>
                <a:ext cx="4572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3581280" y="1752480"/>
                <a:ext cx="12189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209680" y="1676520"/>
                <a:ext cx="2590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4" name=""/>
            <p:cNvSpPr/>
            <p:nvPr/>
          </p:nvSpPr>
          <p:spPr>
            <a:xfrm>
              <a:off x="3276720" y="152388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430000" y="15238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3877920" y="15238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7" name=""/>
          <p:cNvGrpSpPr/>
          <p:nvPr/>
        </p:nvGrpSpPr>
        <p:grpSpPr>
          <a:xfrm>
            <a:off x="1371600" y="3322800"/>
            <a:ext cx="3886200" cy="810000"/>
            <a:chOff x="1371600" y="3322800"/>
            <a:chExt cx="3886200" cy="810000"/>
          </a:xfrm>
        </p:grpSpPr>
        <p:sp>
          <p:nvSpPr>
            <p:cNvPr id="4678" name=""/>
            <p:cNvSpPr/>
            <p:nvPr/>
          </p:nvSpPr>
          <p:spPr>
            <a:xfrm>
              <a:off x="1371600" y="35514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+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9520" y="3627360"/>
              <a:ext cx="53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267080" y="3627360"/>
              <a:ext cx="457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430000" y="33228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3877920" y="33228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3" name=""/>
          <p:cNvGrpSpPr/>
          <p:nvPr/>
        </p:nvGrpSpPr>
        <p:grpSpPr>
          <a:xfrm>
            <a:off x="1707120" y="5151600"/>
            <a:ext cx="1875600" cy="581400"/>
            <a:chOff x="1707120" y="5151600"/>
            <a:chExt cx="1875600" cy="581400"/>
          </a:xfrm>
        </p:grpSpPr>
        <p:sp>
          <p:nvSpPr>
            <p:cNvPr id="4684" name=""/>
            <p:cNvSpPr/>
            <p:nvPr/>
          </p:nvSpPr>
          <p:spPr>
            <a:xfrm>
              <a:off x="1707120" y="5151600"/>
              <a:ext cx="187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355840" y="5253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965320" y="525312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7" name=""/>
          <p:cNvSpPr/>
          <p:nvPr/>
        </p:nvSpPr>
        <p:spPr>
          <a:xfrm>
            <a:off x="4952880" y="2103480"/>
            <a:ext cx="304920" cy="914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61280 h 914400"/>
              <a:gd name="textAreaBottom" fmla="*/ 6624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32" stAng="-5400000" swAng="5400000"/>
                <a:lnTo>
                  <a:pt x="21600" y="11832"/>
                </a:lnTo>
                <a:arcTo wR="21600" hR="7632" stAng="0" swAng="2698930"/>
                <a:lnTo>
                  <a:pt x="7200" y="21164"/>
                </a:lnTo>
                <a:lnTo>
                  <a:pt x="0" y="17364"/>
                </a:lnTo>
                <a:lnTo>
                  <a:pt x="7200" y="12692"/>
                </a:lnTo>
                <a:lnTo>
                  <a:pt x="7200" y="14828"/>
                </a:lnTo>
                <a:arcTo wR="21600" hR="7632" stAng="2698930" swAng="-2352463"/>
                <a:lnTo>
                  <a:pt x="20766" y="9732"/>
                </a:lnTo>
                <a:arcTo wR="21600" hR="7632" stAng="-346467" swAng="-5053533"/>
                <a:close/>
              </a:path>
              <a:path fill="darkenLess" w="21600" h="21600">
                <a:moveTo>
                  <a:pt x="0" y="0"/>
                </a:moveTo>
                <a:arcTo wR="21600" hR="7632" stAng="-5400000" swAng="5400000"/>
                <a:lnTo>
                  <a:pt x="21600" y="11832"/>
                </a:lnTo>
                <a:arcTo wR="21600" hR="7632" stAng="0" swAng="-346467"/>
                <a:lnTo>
                  <a:pt x="20766" y="9732"/>
                </a:lnTo>
                <a:arcTo wR="21600" hR="7632" stAng="-346467" swAng="-5053533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5638680" y="2179800"/>
            <a:ext cx="1447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"/>
              </a:rPr>
              <a:t>反演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9" name=""/>
          <p:cNvGrpSpPr/>
          <p:nvPr/>
        </p:nvGrpSpPr>
        <p:grpSpPr>
          <a:xfrm>
            <a:off x="1371600" y="4084560"/>
            <a:ext cx="5029200" cy="810000"/>
            <a:chOff x="1371600" y="4084560"/>
            <a:chExt cx="5029200" cy="810000"/>
          </a:xfrm>
        </p:grpSpPr>
        <p:sp>
          <p:nvSpPr>
            <p:cNvPr id="4690" name=""/>
            <p:cNvSpPr/>
            <p:nvPr/>
          </p:nvSpPr>
          <p:spPr>
            <a:xfrm>
              <a:off x="1371600" y="4313160"/>
              <a:ext cx="502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 A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(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) +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(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+B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281952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2353680" y="408456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335120" y="408456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35268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0060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334120" y="438948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6477120" y="3932280"/>
            <a:ext cx="1447560" cy="58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反演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8" name=""/>
          <p:cNvGrpSpPr/>
          <p:nvPr/>
        </p:nvGrpSpPr>
        <p:grpSpPr>
          <a:xfrm>
            <a:off x="1371600" y="2468520"/>
            <a:ext cx="3886200" cy="810000"/>
            <a:chOff x="1371600" y="2468520"/>
            <a:chExt cx="3886200" cy="810000"/>
          </a:xfrm>
        </p:grpSpPr>
        <p:sp>
          <p:nvSpPr>
            <p:cNvPr id="4699" name=""/>
            <p:cNvSpPr/>
            <p:nvPr/>
          </p:nvSpPr>
          <p:spPr>
            <a:xfrm>
              <a:off x="1371600" y="26971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  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AB +B   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819520" y="2773440"/>
              <a:ext cx="53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209680" y="2697120"/>
              <a:ext cx="1143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267080" y="2773440"/>
              <a:ext cx="457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3581280" y="269712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209680" y="2620800"/>
              <a:ext cx="1143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430000" y="246852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3877920" y="246852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3581280" y="2620800"/>
              <a:ext cx="1219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8" name=""/>
          <p:cNvSpPr/>
          <p:nvPr/>
        </p:nvSpPr>
        <p:spPr>
          <a:xfrm>
            <a:off x="5791320" y="3657600"/>
            <a:ext cx="304560" cy="914400"/>
          </a:xfrm>
          <a:custGeom>
            <a:avLst/>
            <a:gdLst>
              <a:gd name="textAreaLeft" fmla="*/ 40680 w 304560"/>
              <a:gd name="textAreaRight" fmla="*/ 263880 w 304560"/>
              <a:gd name="textAreaTop" fmla="*/ 161280 h 914400"/>
              <a:gd name="textAreaBottom" fmla="*/ 6624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32" stAng="-5400000" swAng="5400000"/>
                <a:lnTo>
                  <a:pt x="21600" y="11832"/>
                </a:lnTo>
                <a:arcTo wR="21600" hR="7632" stAng="0" swAng="2698930"/>
                <a:lnTo>
                  <a:pt x="7200" y="21164"/>
                </a:lnTo>
                <a:lnTo>
                  <a:pt x="0" y="17364"/>
                </a:lnTo>
                <a:lnTo>
                  <a:pt x="7200" y="12692"/>
                </a:lnTo>
                <a:lnTo>
                  <a:pt x="7200" y="14828"/>
                </a:lnTo>
                <a:arcTo wR="21600" hR="7632" stAng="2698930" swAng="-2352463"/>
                <a:lnTo>
                  <a:pt x="20766" y="9732"/>
                </a:lnTo>
                <a:arcTo wR="21600" hR="7632" stAng="-346467" swAng="-5053533"/>
                <a:close/>
              </a:path>
              <a:path fill="darkenLess" w="21600" h="21600">
                <a:moveTo>
                  <a:pt x="0" y="0"/>
                </a:moveTo>
                <a:arcTo wR="21600" hR="7632" stAng="-5400000" swAng="5400000"/>
                <a:lnTo>
                  <a:pt x="21600" y="11832"/>
                </a:lnTo>
                <a:arcTo wR="21600" hR="7632" stAng="0" swAng="-346467"/>
                <a:lnTo>
                  <a:pt x="20766" y="9732"/>
                </a:lnTo>
                <a:arcTo wR="21600" hR="7632" stAng="-346467" swAng="-5053533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7" dur="indefinite" restart="never" nodeType="tmRoot">
          <p:childTnLst>
            <p:seq>
              <p:cTn id="2898" dur="indefinite" nodeType="mainSeq">
                <p:childTnLst>
                  <p:par>
                    <p:cTn id="2899" nodeType="clickEffect" fill="hold">
                      <p:stCondLst>
                        <p:cond delay="indefinite"/>
                      </p:stCondLst>
                      <p:childTnLst>
                        <p:par>
                          <p:cTn id="29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03" dur="500"/>
                                        <p:tgtEl>
                                          <p:spTgt spid="4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nodeType="clickEffect" fill="hold">
                      <p:stCondLst>
                        <p:cond delay="indefinite"/>
                      </p:stCondLst>
                      <p:childTnLst>
                        <p:par>
                          <p:cTn id="29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08" dur="500"/>
                                        <p:tgtEl>
                                          <p:spTgt spid="4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nodeType="clickEffect" fill="hold">
                      <p:stCondLst>
                        <p:cond delay="indefinite"/>
                      </p:stCondLst>
                      <p:childTnLst>
                        <p:par>
                          <p:cTn id="29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913" dur="500"/>
                                        <p:tgtEl>
                                          <p:spTgt spid="4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17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22" dur="500"/>
                                        <p:tgtEl>
                                          <p:spTgt spid="4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2927" dur="500"/>
                                        <p:tgtEl>
                                          <p:spTgt spid="4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9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31" dur="500"/>
                                        <p:tgtEl>
                                          <p:spTgt spid="4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nodeType="clickEffect" fill="hold">
                      <p:stCondLst>
                        <p:cond delay="indefinite"/>
                      </p:stCondLst>
                      <p:childTnLst>
                        <p:par>
                          <p:cTn id="29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36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nodeType="clickEffect" fill="hold">
                      <p:stCondLst>
                        <p:cond delay="indefinite"/>
                      </p:stCondLst>
                      <p:childTnLst>
                        <p:par>
                          <p:cTn id="29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41" dur="500"/>
                                        <p:tgtEl>
                                          <p:spTgt spid="4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9" name=""/>
          <p:cNvSpPr/>
          <p:nvPr/>
        </p:nvSpPr>
        <p:spPr>
          <a:xfrm>
            <a:off x="1210680" y="76212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0" name=""/>
          <p:cNvGrpSpPr/>
          <p:nvPr/>
        </p:nvGrpSpPr>
        <p:grpSpPr>
          <a:xfrm>
            <a:off x="4241160" y="990720"/>
            <a:ext cx="2130120" cy="1145160"/>
            <a:chOff x="4241160" y="990720"/>
            <a:chExt cx="2130120" cy="1145160"/>
          </a:xfrm>
        </p:grpSpPr>
        <p:sp>
          <p:nvSpPr>
            <p:cNvPr id="4711" name=""/>
            <p:cNvSpPr/>
            <p:nvPr/>
          </p:nvSpPr>
          <p:spPr>
            <a:xfrm>
              <a:off x="4241160" y="990720"/>
              <a:ext cx="21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Y=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5181480" y="106704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5791320" y="10512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430520" y="1554480"/>
              <a:ext cx="134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  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5029200" y="1706760"/>
              <a:ext cx="304920" cy="304920"/>
            </a:xfrm>
            <a:prstGeom prst="flowChartOr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6" name=""/>
          <p:cNvSpPr/>
          <p:nvPr/>
        </p:nvSpPr>
        <p:spPr>
          <a:xfrm>
            <a:off x="6705720" y="1828800"/>
            <a:ext cx="1731960" cy="806400"/>
          </a:xfrm>
          <a:prstGeom prst="cloudCallout">
            <a:avLst>
              <a:gd name="adj1" fmla="val -109393"/>
              <a:gd name="adj2" fmla="val -58462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7" name=""/>
          <p:cNvGrpSpPr/>
          <p:nvPr/>
        </p:nvGrpSpPr>
        <p:grpSpPr>
          <a:xfrm>
            <a:off x="609480" y="4114800"/>
            <a:ext cx="7315200" cy="1752480"/>
            <a:chOff x="609480" y="4114800"/>
            <a:chExt cx="7315200" cy="1752480"/>
          </a:xfrm>
        </p:grpSpPr>
        <p:sp>
          <p:nvSpPr>
            <p:cNvPr id="4718" name=""/>
            <p:cNvSpPr/>
            <p:nvPr/>
          </p:nvSpPr>
          <p:spPr>
            <a:xfrm>
              <a:off x="609480" y="4114800"/>
              <a:ext cx="7315200" cy="17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4)  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分析逻辑功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入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相同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出为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入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相异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输出为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ff3300"/>
                  </a:solidFill>
                  <a:latin typeface="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称为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“异或”逻辑</a:t>
              </a: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关系。这种电路称“异或”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62120" y="5867280"/>
              <a:ext cx="6933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0" name=""/>
          <p:cNvGrpSpPr/>
          <p:nvPr/>
        </p:nvGrpSpPr>
        <p:grpSpPr>
          <a:xfrm>
            <a:off x="4275720" y="2438280"/>
            <a:ext cx="3278160" cy="1739880"/>
            <a:chOff x="4275720" y="2438280"/>
            <a:chExt cx="3278160" cy="1739880"/>
          </a:xfrm>
        </p:grpSpPr>
        <p:sp>
          <p:nvSpPr>
            <p:cNvPr id="4721" name=""/>
            <p:cNvSpPr/>
            <p:nvPr/>
          </p:nvSpPr>
          <p:spPr>
            <a:xfrm>
              <a:off x="5486400" y="2438280"/>
              <a:ext cx="914400" cy="121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800600" y="28191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800600" y="3276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6400800" y="30477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5562720" y="24382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275720" y="25621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277160" y="30193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173360" y="27432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5181480" y="36576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4724280" y="324576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V="1">
              <a:off x="4724280" y="278856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V="1">
              <a:off x="7086600" y="3017160"/>
              <a:ext cx="7632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1143000" y="1371600"/>
            <a:ext cx="2590920" cy="2425680"/>
            <a:chOff x="1143000" y="1371600"/>
            <a:chExt cx="2590920" cy="2425680"/>
          </a:xfrm>
        </p:grpSpPr>
        <p:grpSp>
          <p:nvGrpSpPr>
            <p:cNvPr id="4734" name=""/>
            <p:cNvGrpSpPr/>
            <p:nvPr/>
          </p:nvGrpSpPr>
          <p:grpSpPr>
            <a:xfrm>
              <a:off x="1143000" y="1371600"/>
              <a:ext cx="2590920" cy="2425680"/>
              <a:chOff x="1143000" y="1371600"/>
              <a:chExt cx="2590920" cy="2425680"/>
            </a:xfrm>
          </p:grpSpPr>
          <p:sp>
            <p:nvSpPr>
              <p:cNvPr id="4735" name=""/>
              <p:cNvSpPr/>
              <p:nvPr/>
            </p:nvSpPr>
            <p:spPr>
              <a:xfrm>
                <a:off x="1143000" y="137160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143000" y="190512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895480" y="137160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905120" y="137160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219320" y="1371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133720" y="1371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276720" y="1371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295280" y="1908000"/>
                <a:ext cx="42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295280" y="2317680"/>
                <a:ext cx="42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282680" y="28065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284840" y="3276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209680" y="1935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209680" y="2773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2209680" y="23162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276720" y="2773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276720" y="2316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76720" y="1935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265920" y="3276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209680" y="32767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4" name=""/>
            <p:cNvSpPr/>
            <p:nvPr/>
          </p:nvSpPr>
          <p:spPr>
            <a:xfrm>
              <a:off x="1143000" y="37339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2" dur="indefinite" restart="never" nodeType="tmRoot">
          <p:childTnLst>
            <p:seq>
              <p:cTn id="2943" dur="indefinite" nodeType="mainSeq">
                <p:childTnLst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nodeType="clickEffect" fill="hold">
                      <p:stCondLst>
                        <p:cond delay="indefinite"/>
                      </p:stCondLst>
                      <p:childTnLst>
                        <p:par>
                          <p:cTn id="29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53" dur="500"/>
                                        <p:tgtEl>
                                          <p:spTgt spid="4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958" dur="500"/>
                                        <p:tgtEl>
                                          <p:spTgt spid="4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963" dur="500"/>
                                        <p:tgtEl>
                                          <p:spTgt spid="4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delay="indefinite"/>
                      </p:stCondLst>
                      <p:childTnLst>
                        <p:par>
                          <p:cTn id="29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68" dur="500"/>
                                        <p:tgtEl>
                                          <p:spTgt spid="4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"/>
          <p:cNvSpPr/>
          <p:nvPr/>
        </p:nvSpPr>
        <p:spPr>
          <a:xfrm>
            <a:off x="1180800" y="541008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1454760" y="50472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 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7" name=""/>
          <p:cNvGrpSpPr/>
          <p:nvPr/>
        </p:nvGrpSpPr>
        <p:grpSpPr>
          <a:xfrm>
            <a:off x="3962520" y="990720"/>
            <a:ext cx="1143000" cy="825120"/>
            <a:chOff x="3962520" y="990720"/>
            <a:chExt cx="1143000" cy="825120"/>
          </a:xfrm>
        </p:grpSpPr>
        <p:sp>
          <p:nvSpPr>
            <p:cNvPr id="4758" name=""/>
            <p:cNvSpPr/>
            <p:nvPr/>
          </p:nvSpPr>
          <p:spPr>
            <a:xfrm>
              <a:off x="3962520" y="1295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 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 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9" name=""/>
            <p:cNvGrpSpPr/>
            <p:nvPr/>
          </p:nvGrpSpPr>
          <p:grpSpPr>
            <a:xfrm>
              <a:off x="4038840" y="990720"/>
              <a:ext cx="762120" cy="764280"/>
              <a:chOff x="4038840" y="990720"/>
              <a:chExt cx="762120" cy="764280"/>
            </a:xfrm>
          </p:grpSpPr>
          <p:sp>
            <p:nvSpPr>
              <p:cNvPr id="4760" name=""/>
              <p:cNvSpPr/>
              <p:nvPr/>
            </p:nvSpPr>
            <p:spPr>
              <a:xfrm>
                <a:off x="4267440" y="990720"/>
                <a:ext cx="30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3300"/>
                    </a:solidFill>
                    <a:latin typeface="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038840" y="1371600"/>
                <a:ext cx="7621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2" name=""/>
          <p:cNvGrpSpPr/>
          <p:nvPr/>
        </p:nvGrpSpPr>
        <p:grpSpPr>
          <a:xfrm>
            <a:off x="3352680" y="5043600"/>
            <a:ext cx="2971800" cy="933120"/>
            <a:chOff x="3352680" y="5043600"/>
            <a:chExt cx="2971800" cy="933120"/>
          </a:xfrm>
        </p:grpSpPr>
        <p:sp>
          <p:nvSpPr>
            <p:cNvPr id="4763" name=""/>
            <p:cNvSpPr/>
            <p:nvPr/>
          </p:nvSpPr>
          <p:spPr>
            <a:xfrm>
              <a:off x="3352680" y="533412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</a:t>
              </a: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 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B   AB</a:t>
              </a:r>
              <a:r>
                <a:rPr b="1" lang="en-US" sz="3600" spc="-1" strike="noStrike">
                  <a:solidFill>
                    <a:srgbClr val="000099"/>
                  </a:solidFill>
                  <a:latin typeface=""/>
                </a:rPr>
                <a:t>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4" name=""/>
            <p:cNvGrpSpPr/>
            <p:nvPr/>
          </p:nvGrpSpPr>
          <p:grpSpPr>
            <a:xfrm>
              <a:off x="4114800" y="5257800"/>
              <a:ext cx="1447560" cy="152280"/>
              <a:chOff x="4114800" y="5257800"/>
              <a:chExt cx="1447560" cy="152280"/>
            </a:xfrm>
          </p:grpSpPr>
          <p:sp>
            <p:nvSpPr>
              <p:cNvPr id="4765" name=""/>
              <p:cNvSpPr/>
              <p:nvPr/>
            </p:nvSpPr>
            <p:spPr>
              <a:xfrm>
                <a:off x="4114800" y="5410080"/>
                <a:ext cx="5331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5029200" y="5333760"/>
                <a:ext cx="5331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5029200" y="54100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5333760" y="541008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114800" y="5257800"/>
                <a:ext cx="14475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0" name=""/>
            <p:cNvSpPr/>
            <p:nvPr/>
          </p:nvSpPr>
          <p:spPr>
            <a:xfrm>
              <a:off x="4648320" y="5043600"/>
              <a:ext cx="30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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1" name=""/>
          <p:cNvGrpSpPr/>
          <p:nvPr/>
        </p:nvGrpSpPr>
        <p:grpSpPr>
          <a:xfrm>
            <a:off x="5105520" y="3733920"/>
            <a:ext cx="1143000" cy="581400"/>
            <a:chOff x="5105520" y="3733920"/>
            <a:chExt cx="1143000" cy="581400"/>
          </a:xfrm>
        </p:grpSpPr>
        <p:sp>
          <p:nvSpPr>
            <p:cNvPr id="4772" name=""/>
            <p:cNvSpPr/>
            <p:nvPr/>
          </p:nvSpPr>
          <p:spPr>
            <a:xfrm>
              <a:off x="5105520" y="3733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A</a:t>
              </a:r>
              <a:r>
                <a:rPr b="0" lang="en-US" sz="3200" spc="-1" strike="noStrike">
                  <a:solidFill>
                    <a:srgbClr val="ff3300"/>
                  </a:solidFill>
                  <a:latin typeface=""/>
                </a:rPr>
                <a:t>•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5257800" y="373392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5257800" y="38098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5638680" y="38098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6" name=""/>
          <p:cNvSpPr/>
          <p:nvPr/>
        </p:nvSpPr>
        <p:spPr>
          <a:xfrm>
            <a:off x="6934320" y="4343400"/>
            <a:ext cx="1143000" cy="762120"/>
          </a:xfrm>
          <a:prstGeom prst="cloudCallout">
            <a:avLst>
              <a:gd name="adj1" fmla="val -54166"/>
              <a:gd name="adj2" fmla="val 97916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7" name=""/>
          <p:cNvGrpSpPr/>
          <p:nvPr/>
        </p:nvGrpSpPr>
        <p:grpSpPr>
          <a:xfrm>
            <a:off x="3581280" y="3276720"/>
            <a:ext cx="457200" cy="2927880"/>
            <a:chOff x="3581280" y="3276720"/>
            <a:chExt cx="457200" cy="2927880"/>
          </a:xfrm>
        </p:grpSpPr>
        <p:grpSp>
          <p:nvGrpSpPr>
            <p:cNvPr id="4778" name=""/>
            <p:cNvGrpSpPr/>
            <p:nvPr/>
          </p:nvGrpSpPr>
          <p:grpSpPr>
            <a:xfrm>
              <a:off x="3657600" y="3276720"/>
              <a:ext cx="380880" cy="1556280"/>
              <a:chOff x="3657600" y="3276720"/>
              <a:chExt cx="380880" cy="1556280"/>
            </a:xfrm>
          </p:grpSpPr>
          <p:sp>
            <p:nvSpPr>
              <p:cNvPr id="4779" name=""/>
              <p:cNvSpPr/>
              <p:nvPr/>
            </p:nvSpPr>
            <p:spPr>
              <a:xfrm>
                <a:off x="3657600" y="3276720"/>
                <a:ext cx="3808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"/>
                  </a:rPr>
                  <a:t>A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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784680" y="3352680"/>
                <a:ext cx="228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1" name=""/>
            <p:cNvGrpSpPr/>
            <p:nvPr/>
          </p:nvGrpSpPr>
          <p:grpSpPr>
            <a:xfrm>
              <a:off x="3581280" y="4648320"/>
              <a:ext cx="380880" cy="1556280"/>
              <a:chOff x="3581280" y="4648320"/>
              <a:chExt cx="380880" cy="1556280"/>
            </a:xfrm>
          </p:grpSpPr>
          <p:sp>
            <p:nvSpPr>
              <p:cNvPr id="4782" name=""/>
              <p:cNvSpPr/>
              <p:nvPr/>
            </p:nvSpPr>
            <p:spPr>
              <a:xfrm>
                <a:off x="3581280" y="4648320"/>
                <a:ext cx="3808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"/>
                  </a:rPr>
                  <a:t>B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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3733560" y="4724280"/>
                <a:ext cx="228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4" name=""/>
          <p:cNvGrpSpPr/>
          <p:nvPr/>
        </p:nvGrpSpPr>
        <p:grpSpPr>
          <a:xfrm>
            <a:off x="5593320" y="5384880"/>
            <a:ext cx="1875600" cy="581400"/>
            <a:chOff x="5593320" y="5384880"/>
            <a:chExt cx="1875600" cy="581400"/>
          </a:xfrm>
        </p:grpSpPr>
        <p:sp>
          <p:nvSpPr>
            <p:cNvPr id="4785" name=""/>
            <p:cNvSpPr/>
            <p:nvPr/>
          </p:nvSpPr>
          <p:spPr>
            <a:xfrm>
              <a:off x="5593320" y="5384880"/>
              <a:ext cx="187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 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6781680" y="54864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162920" y="5486400"/>
              <a:ext cx="3045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8" name=""/>
          <p:cNvGrpSpPr/>
          <p:nvPr/>
        </p:nvGrpSpPr>
        <p:grpSpPr>
          <a:xfrm>
            <a:off x="1397160" y="1219320"/>
            <a:ext cx="6232680" cy="3962160"/>
            <a:chOff x="1397160" y="1219320"/>
            <a:chExt cx="6232680" cy="3962160"/>
          </a:xfrm>
        </p:grpSpPr>
        <p:sp>
          <p:nvSpPr>
            <p:cNvPr id="4789" name=""/>
            <p:cNvSpPr/>
            <p:nvPr/>
          </p:nvSpPr>
          <p:spPr>
            <a:xfrm>
              <a:off x="3657600" y="1828800"/>
              <a:ext cx="18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2768760" y="1295280"/>
              <a:ext cx="76176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2895480" y="1219320"/>
              <a:ext cx="4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969160" y="2666880"/>
              <a:ext cx="76176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6883560" y="3200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444920" y="2895480"/>
              <a:ext cx="76212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359320" y="3429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48320" y="2819520"/>
              <a:ext cx="27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2768760" y="4114800"/>
              <a:ext cx="76176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3724200" y="4648320"/>
              <a:ext cx="34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971800" y="4114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2801880" y="2666880"/>
              <a:ext cx="76212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3759120" y="3200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971800" y="2666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3" name=""/>
            <p:cNvGrpSpPr/>
            <p:nvPr/>
          </p:nvGrpSpPr>
          <p:grpSpPr>
            <a:xfrm>
              <a:off x="1854360" y="1523880"/>
              <a:ext cx="4114800" cy="3124080"/>
              <a:chOff x="1854360" y="1523880"/>
              <a:chExt cx="4114800" cy="3124080"/>
            </a:xfrm>
          </p:grpSpPr>
          <p:sp>
            <p:nvSpPr>
              <p:cNvPr id="4804" name=""/>
              <p:cNvSpPr/>
              <p:nvPr/>
            </p:nvSpPr>
            <p:spPr>
              <a:xfrm>
                <a:off x="1854360" y="15238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1854360" y="20570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463840" y="1523880"/>
                <a:ext cx="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463840" y="32000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082960" y="2057040"/>
                <a:ext cx="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082960" y="46479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4064040" y="3657240"/>
                <a:ext cx="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4064040" y="36572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5511960" y="1828440"/>
                <a:ext cx="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5511960" y="2971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4" name=""/>
            <p:cNvSpPr/>
            <p:nvPr/>
          </p:nvSpPr>
          <p:spPr>
            <a:xfrm>
              <a:off x="1397160" y="1752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406520" y="121932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49320" y="2943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6112440" y="26384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3581280" y="31240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3540240" y="1752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3543480" y="457200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5202360" y="33526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6729480" y="3124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9" dur="indefinite" restart="never" nodeType="tmRoot">
          <p:childTnLst>
            <p:seq>
              <p:cTn id="2970" dur="indefinite" nodeType="mainSeq">
                <p:childTnLst>
                  <p:par>
                    <p:cTn id="2971" nodeType="clickEffect" fill="hold">
                      <p:stCondLst>
                        <p:cond delay="indefinite"/>
                      </p:stCondLst>
                      <p:childTnLst>
                        <p:par>
                          <p:cTn id="2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75" dur="500"/>
                                        <p:tgtEl>
                                          <p:spTgt spid="4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nodeType="clickEffect" fill="hold">
                      <p:stCondLst>
                        <p:cond delay="indefinite"/>
                      </p:stCondLst>
                      <p:childTnLst>
                        <p:par>
                          <p:cTn id="29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29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2985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nodeType="clickEffect" fill="hold">
                      <p:stCondLst>
                        <p:cond delay="indefinite"/>
                      </p:stCondLst>
                      <p:childTnLst>
                        <p:par>
                          <p:cTn id="29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90" dur="500"/>
                                        <p:tgtEl>
                                          <p:spTgt spid="4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nodeType="clickEffect" fill="hold">
                      <p:stCondLst>
                        <p:cond delay="indefinite"/>
                      </p:stCondLst>
                      <p:childTnLst>
                        <p:par>
                          <p:cTn id="29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995" dur="500"/>
                                        <p:tgtEl>
                                          <p:spTgt spid="4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nodeType="clickEffect" fill="hold">
                      <p:stCondLst>
                        <p:cond delay="indefinite"/>
                      </p:stCondLst>
                      <p:childTnLst>
                        <p:par>
                          <p:cTn id="29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00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005" dur="500"/>
                                        <p:tgtEl>
                                          <p:spTgt spid="4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"/>
          <p:cNvSpPr/>
          <p:nvPr/>
        </p:nvSpPr>
        <p:spPr>
          <a:xfrm>
            <a:off x="904320" y="65736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4" name=""/>
          <p:cNvGrpSpPr/>
          <p:nvPr/>
        </p:nvGrpSpPr>
        <p:grpSpPr>
          <a:xfrm>
            <a:off x="4230360" y="1066680"/>
            <a:ext cx="2170440" cy="581400"/>
            <a:chOff x="4230360" y="1066680"/>
            <a:chExt cx="2170440" cy="581400"/>
          </a:xfrm>
        </p:grpSpPr>
        <p:sp>
          <p:nvSpPr>
            <p:cNvPr id="4825" name=""/>
            <p:cNvSpPr/>
            <p:nvPr/>
          </p:nvSpPr>
          <p:spPr>
            <a:xfrm>
              <a:off x="4230360" y="106668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Y= AB +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6096240" y="1143000"/>
              <a:ext cx="3045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5791320" y="11430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8" name=""/>
          <p:cNvSpPr/>
          <p:nvPr/>
        </p:nvSpPr>
        <p:spPr>
          <a:xfrm>
            <a:off x="609480" y="3962520"/>
            <a:ext cx="784872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分析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入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出为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1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输入相异输出为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0”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称为“判一致电路”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(“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同或门”</a:t>
            </a: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可用于判断各输入端的状态是否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9" name=""/>
          <p:cNvGrpSpPr/>
          <p:nvPr/>
        </p:nvGrpSpPr>
        <p:grpSpPr>
          <a:xfrm>
            <a:off x="4432320" y="1782720"/>
            <a:ext cx="1238400" cy="581400"/>
            <a:chOff x="4432320" y="1782720"/>
            <a:chExt cx="1238400" cy="581400"/>
          </a:xfrm>
        </p:grpSpPr>
        <p:sp>
          <p:nvSpPr>
            <p:cNvPr id="4830" name=""/>
            <p:cNvSpPr/>
            <p:nvPr/>
          </p:nvSpPr>
          <p:spPr>
            <a:xfrm>
              <a:off x="4432320" y="178272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29200" y="1935360"/>
              <a:ext cx="304920" cy="304560"/>
            </a:xfrm>
            <a:prstGeom prst="flowChartOr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4800600" y="1859040"/>
              <a:ext cx="762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3" name=""/>
          <p:cNvSpPr/>
          <p:nvPr/>
        </p:nvSpPr>
        <p:spPr>
          <a:xfrm>
            <a:off x="6629400" y="838080"/>
            <a:ext cx="1447920" cy="685800"/>
          </a:xfrm>
          <a:prstGeom prst="cloudCallout">
            <a:avLst>
              <a:gd name="adj1" fmla="val -52523"/>
              <a:gd name="adj2" fmla="val 10416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"/>
              </a:rPr>
              <a:t>逻辑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4" name=""/>
          <p:cNvGrpSpPr/>
          <p:nvPr/>
        </p:nvGrpSpPr>
        <p:grpSpPr>
          <a:xfrm>
            <a:off x="4352040" y="2514600"/>
            <a:ext cx="3201480" cy="1785600"/>
            <a:chOff x="4352040" y="2514600"/>
            <a:chExt cx="3201480" cy="1785600"/>
          </a:xfrm>
        </p:grpSpPr>
        <p:sp>
          <p:nvSpPr>
            <p:cNvPr id="4835" name=""/>
            <p:cNvSpPr/>
            <p:nvPr/>
          </p:nvSpPr>
          <p:spPr>
            <a:xfrm>
              <a:off x="487656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629400" y="3124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562360" y="2514600"/>
              <a:ext cx="914400" cy="121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876560" y="3352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62560" y="3095640"/>
              <a:ext cx="76320" cy="74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638680" y="2666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352040" y="26082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353480" y="30654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7173000" y="28368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5257800" y="377964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逻辑符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476760" y="3047760"/>
              <a:ext cx="1526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800600" y="2865240"/>
              <a:ext cx="75960" cy="74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800600" y="3322440"/>
              <a:ext cx="75960" cy="74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8" name=""/>
          <p:cNvGrpSpPr/>
          <p:nvPr/>
        </p:nvGrpSpPr>
        <p:grpSpPr>
          <a:xfrm>
            <a:off x="5727600" y="1782720"/>
            <a:ext cx="1238400" cy="581400"/>
            <a:chOff x="5727600" y="1782720"/>
            <a:chExt cx="1238400" cy="581400"/>
          </a:xfrm>
        </p:grpSpPr>
        <p:sp>
          <p:nvSpPr>
            <p:cNvPr id="4849" name=""/>
            <p:cNvSpPr/>
            <p:nvPr/>
          </p:nvSpPr>
          <p:spPr>
            <a:xfrm>
              <a:off x="5727600" y="178272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  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324480" y="1935360"/>
              <a:ext cx="304920" cy="3045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6440400" y="2057400"/>
              <a:ext cx="7632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2" name=""/>
          <p:cNvGrpSpPr/>
          <p:nvPr/>
        </p:nvGrpSpPr>
        <p:grpSpPr>
          <a:xfrm>
            <a:off x="1143000" y="1295280"/>
            <a:ext cx="2590920" cy="2425680"/>
            <a:chOff x="1143000" y="1295280"/>
            <a:chExt cx="2590920" cy="2425680"/>
          </a:xfrm>
        </p:grpSpPr>
        <p:grpSp>
          <p:nvGrpSpPr>
            <p:cNvPr id="4853" name=""/>
            <p:cNvGrpSpPr/>
            <p:nvPr/>
          </p:nvGrpSpPr>
          <p:grpSpPr>
            <a:xfrm>
              <a:off x="1143000" y="1295280"/>
              <a:ext cx="2590920" cy="2425680"/>
              <a:chOff x="1143000" y="1295280"/>
              <a:chExt cx="2590920" cy="2425680"/>
            </a:xfrm>
          </p:grpSpPr>
          <p:sp>
            <p:nvSpPr>
              <p:cNvPr id="4854" name=""/>
              <p:cNvSpPr/>
              <p:nvPr/>
            </p:nvSpPr>
            <p:spPr>
              <a:xfrm>
                <a:off x="1143000" y="129528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1143000" y="182880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2895480" y="129528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1905120" y="129528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1219320" y="1295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2133720" y="1295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76720" y="1295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1295280" y="1831680"/>
                <a:ext cx="42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1295280" y="2241360"/>
                <a:ext cx="42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1282680" y="273024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1284840" y="3200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2209680" y="1858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2209680" y="2697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2209680" y="2239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76720" y="2697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76720" y="22399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76720" y="1858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65920" y="3200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2209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3" name=""/>
            <p:cNvSpPr/>
            <p:nvPr/>
          </p:nvSpPr>
          <p:spPr>
            <a:xfrm>
              <a:off x="1143000" y="3657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6" dur="indefinite" restart="never" nodeType="tmRoot">
          <p:childTnLst>
            <p:seq>
              <p:cTn id="3007" dur="indefinite" nodeType="mainSeq">
                <p:childTnLst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12" dur="500"/>
                                        <p:tgtEl>
                                          <p:spTgt spid="4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nodeType="clickEffect" fill="hold">
                      <p:stCondLst>
                        <p:cond delay="indefinite"/>
                      </p:stCondLst>
                      <p:childTnLst>
                        <p:par>
                          <p:cTn id="30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17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nodeType="clickEffect" fill="hold">
                      <p:stCondLst>
                        <p:cond delay="indefinite"/>
                      </p:stCondLst>
                      <p:childTnLst>
                        <p:par>
                          <p:cTn id="30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22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nodeType="clickEffect" fill="hold">
                      <p:stCondLst>
                        <p:cond delay="indefinite"/>
                      </p:stCondLst>
                      <p:childTnLst>
                        <p:par>
                          <p:cTn id="30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27" dur="500"/>
                                        <p:tgtEl>
                                          <p:spTgt spid="4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nodeType="clickEffect" fill="hold">
                      <p:stCondLst>
                        <p:cond delay="indefinite"/>
                      </p:stCondLst>
                      <p:childTnLst>
                        <p:par>
                          <p:cTn id="30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32" dur="500"/>
                                        <p:tgtEl>
                                          <p:spTgt spid="4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nodeType="clickEffect" fill="hold">
                      <p:stCondLst>
                        <p:cond delay="indefinite"/>
                      </p:stCondLst>
                      <p:childTnLst>
                        <p:par>
                          <p:cTn id="3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037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42" dur="500"/>
                                        <p:tgtEl>
                                          <p:spTgt spid="4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95320" y="1542960"/>
            <a:ext cx="3448080" cy="1755360"/>
            <a:chOff x="895320" y="1542960"/>
            <a:chExt cx="3448080" cy="1755360"/>
          </a:xfrm>
        </p:grpSpPr>
        <p:sp>
          <p:nvSpPr>
            <p:cNvPr id="245" name=""/>
            <p:cNvSpPr/>
            <p:nvPr/>
          </p:nvSpPr>
          <p:spPr>
            <a:xfrm>
              <a:off x="895320" y="221184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2600" y="1542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51000" y="2838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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930320" y="1625400"/>
              <a:ext cx="43668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32160" y="160812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029040" y="1625400"/>
              <a:ext cx="43488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84440" y="1608120"/>
              <a:ext cx="5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70280" y="2154240"/>
              <a:ext cx="573120" cy="57456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70520" y="1619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27320" y="15429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8600" y="31780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1840" y="15778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79600" y="321948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70520" y="2725560"/>
              <a:ext cx="0" cy="52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54400" y="15652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158256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5800" y="505152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设：开关断开、灯不亮用逻辑 “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，开关闭合、灯亮用 逻辑“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表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68920" y="3505320"/>
            <a:ext cx="3238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表达式</a:t>
            </a: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"/>
              </a:rPr>
              <a:t>Y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= </a:t>
            </a:r>
            <a:r>
              <a:rPr b="1" i="1" lang="en-US" sz="3200" spc="-1" strike="noStrike">
                <a:solidFill>
                  <a:srgbClr val="000099"/>
                </a:solidFill>
                <a:latin typeface="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• </a:t>
            </a:r>
            <a:r>
              <a:rPr b="1" i="1" lang="en-US" sz="3200" spc="-1" strike="noStrike">
                <a:solidFill>
                  <a:srgbClr val="000099"/>
                </a:solidFill>
                <a:latin typeface="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”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11480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  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与”</a:t>
            </a: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逻辑关系是指当决定某事件的条件全部具备时，该事件才发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904760" y="1404720"/>
            <a:ext cx="414360" cy="423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976120" y="1447920"/>
            <a:ext cx="37332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257800" y="2027160"/>
            <a:ext cx="1523880" cy="520560"/>
            <a:chOff x="5257800" y="2027160"/>
            <a:chExt cx="1523880" cy="520560"/>
          </a:xfrm>
        </p:grpSpPr>
        <p:sp>
          <p:nvSpPr>
            <p:cNvPr id="268" name=""/>
            <p:cNvSpPr/>
            <p:nvPr/>
          </p:nvSpPr>
          <p:spPr>
            <a:xfrm>
              <a:off x="525780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48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257800" y="2484360"/>
            <a:ext cx="1447920" cy="520560"/>
            <a:chOff x="5257800" y="2484360"/>
            <a:chExt cx="1447920" cy="520560"/>
          </a:xfrm>
        </p:grpSpPr>
        <p:sp>
          <p:nvSpPr>
            <p:cNvPr id="271" name=""/>
            <p:cNvSpPr/>
            <p:nvPr/>
          </p:nvSpPr>
          <p:spPr>
            <a:xfrm>
              <a:off x="5257800" y="2484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4843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238880" y="2484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47000" y="3446640"/>
            <a:ext cx="1450440" cy="520560"/>
            <a:chOff x="5247000" y="3446640"/>
            <a:chExt cx="1450440" cy="520560"/>
          </a:xfrm>
        </p:grpSpPr>
        <p:sp>
          <p:nvSpPr>
            <p:cNvPr id="275" name=""/>
            <p:cNvSpPr/>
            <p:nvPr/>
          </p:nvSpPr>
          <p:spPr>
            <a:xfrm>
              <a:off x="524700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1404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228440" y="3476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247360" y="2989440"/>
            <a:ext cx="2364480" cy="520560"/>
            <a:chOff x="5247360" y="2989440"/>
            <a:chExt cx="2364480" cy="520560"/>
          </a:xfrm>
        </p:grpSpPr>
        <p:sp>
          <p:nvSpPr>
            <p:cNvPr id="279" name=""/>
            <p:cNvSpPr/>
            <p:nvPr/>
          </p:nvSpPr>
          <p:spPr>
            <a:xfrm>
              <a:off x="631404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4736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2844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228440" y="1981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52880" y="1371600"/>
            <a:ext cx="3048120" cy="2637000"/>
            <a:chOff x="4952880" y="1371600"/>
            <a:chExt cx="3048120" cy="2637000"/>
          </a:xfrm>
        </p:grpSpPr>
        <p:sp>
          <p:nvSpPr>
            <p:cNvPr id="284" name=""/>
            <p:cNvSpPr/>
            <p:nvPr/>
          </p:nvSpPr>
          <p:spPr>
            <a:xfrm>
              <a:off x="518148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1371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4176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028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195264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40086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904760" y="1447560"/>
            <a:ext cx="1484280" cy="414360"/>
            <a:chOff x="1904760" y="1447560"/>
            <a:chExt cx="1484280" cy="414360"/>
          </a:xfrm>
        </p:grpSpPr>
        <p:sp>
          <p:nvSpPr>
            <p:cNvPr id="293" name=""/>
            <p:cNvSpPr/>
            <p:nvPr/>
          </p:nvSpPr>
          <p:spPr>
            <a:xfrm flipH="1" flipV="1">
              <a:off x="1904760" y="1447560"/>
              <a:ext cx="423720" cy="41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2965320" y="1447560"/>
              <a:ext cx="423720" cy="41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132720" y="11419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0" y="2152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46240" y="11430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18"/>
                </a:solidFill>
                <a:latin typeface="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08760" y="83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2133720"/>
            <a:ext cx="636480" cy="620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1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1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1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2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2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"/>
          <p:cNvSpPr/>
          <p:nvPr/>
        </p:nvSpPr>
        <p:spPr>
          <a:xfrm>
            <a:off x="1304280" y="53352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6639840" y="3429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1523880" y="220968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2438280" y="19810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3352680" y="2514600"/>
            <a:ext cx="1828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26668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638680" y="33526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6553080" y="3886200"/>
            <a:ext cx="381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4114800" y="35812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5029200" y="4114800"/>
            <a:ext cx="6094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4343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2438280" y="3352680"/>
            <a:ext cx="762120" cy="106704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3352680" y="3886200"/>
            <a:ext cx="762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266688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1523880" y="27432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752480" y="3886200"/>
            <a:ext cx="685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752480" y="27432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371600" y="5029200"/>
            <a:ext cx="23623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3733920" y="4343400"/>
            <a:ext cx="0" cy="6858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3733920" y="4343400"/>
            <a:ext cx="380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5181480" y="25146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5181480" y="36576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990720" y="4800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1151640" y="1854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5805720" y="3505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1154160" y="24638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114300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35812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502920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6561720" y="39625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4" name=""/>
          <p:cNvGrpSpPr/>
          <p:nvPr/>
        </p:nvGrpSpPr>
        <p:grpSpPr>
          <a:xfrm>
            <a:off x="6629400" y="4114800"/>
            <a:ext cx="1905120" cy="380880"/>
            <a:chOff x="6629400" y="4114800"/>
            <a:chExt cx="1905120" cy="380880"/>
          </a:xfrm>
        </p:grpSpPr>
        <p:grpSp>
          <p:nvGrpSpPr>
            <p:cNvPr id="4905" name=""/>
            <p:cNvGrpSpPr/>
            <p:nvPr/>
          </p:nvGrpSpPr>
          <p:grpSpPr>
            <a:xfrm>
              <a:off x="6629400" y="4114800"/>
              <a:ext cx="533520" cy="380880"/>
              <a:chOff x="6629400" y="4114800"/>
              <a:chExt cx="533520" cy="380880"/>
            </a:xfrm>
          </p:grpSpPr>
          <p:sp>
            <p:nvSpPr>
              <p:cNvPr id="4906" name=""/>
              <p:cNvSpPr/>
              <p:nvPr/>
            </p:nvSpPr>
            <p:spPr>
              <a:xfrm>
                <a:off x="6934320" y="41148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7" name=""/>
              <p:cNvGrpSpPr/>
              <p:nvPr/>
            </p:nvGrpSpPr>
            <p:grpSpPr>
              <a:xfrm>
                <a:off x="6629400" y="4114800"/>
                <a:ext cx="533520" cy="380880"/>
                <a:chOff x="6629400" y="4114800"/>
                <a:chExt cx="533520" cy="380880"/>
              </a:xfrm>
            </p:grpSpPr>
            <p:sp>
              <p:nvSpPr>
                <p:cNvPr id="4908" name=""/>
                <p:cNvSpPr/>
                <p:nvPr/>
              </p:nvSpPr>
              <p:spPr>
                <a:xfrm>
                  <a:off x="6629400" y="4495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 flipV="1">
                  <a:off x="693432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0" name=""/>
                <p:cNvSpPr/>
                <p:nvPr/>
              </p:nvSpPr>
              <p:spPr>
                <a:xfrm>
                  <a:off x="716292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1" name=""/>
            <p:cNvGrpSpPr/>
            <p:nvPr/>
          </p:nvGrpSpPr>
          <p:grpSpPr>
            <a:xfrm>
              <a:off x="7162920" y="4114800"/>
              <a:ext cx="533160" cy="380880"/>
              <a:chOff x="7162920" y="4114800"/>
              <a:chExt cx="533160" cy="380880"/>
            </a:xfrm>
          </p:grpSpPr>
          <p:sp>
            <p:nvSpPr>
              <p:cNvPr id="4912" name=""/>
              <p:cNvSpPr/>
              <p:nvPr/>
            </p:nvSpPr>
            <p:spPr>
              <a:xfrm>
                <a:off x="7467480" y="4114800"/>
                <a:ext cx="228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3" name=""/>
              <p:cNvGrpSpPr/>
              <p:nvPr/>
            </p:nvGrpSpPr>
            <p:grpSpPr>
              <a:xfrm>
                <a:off x="7162920" y="4114800"/>
                <a:ext cx="533160" cy="380880"/>
                <a:chOff x="7162920" y="4114800"/>
                <a:chExt cx="533160" cy="380880"/>
              </a:xfrm>
            </p:grpSpPr>
            <p:sp>
              <p:nvSpPr>
                <p:cNvPr id="4914" name=""/>
                <p:cNvSpPr/>
                <p:nvPr/>
              </p:nvSpPr>
              <p:spPr>
                <a:xfrm>
                  <a:off x="7162920" y="4495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 flipV="1">
                  <a:off x="746748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769608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7" name=""/>
            <p:cNvGrpSpPr/>
            <p:nvPr/>
          </p:nvGrpSpPr>
          <p:grpSpPr>
            <a:xfrm>
              <a:off x="7696080" y="4114800"/>
              <a:ext cx="533520" cy="380880"/>
              <a:chOff x="7696080" y="4114800"/>
              <a:chExt cx="533520" cy="380880"/>
            </a:xfrm>
          </p:grpSpPr>
          <p:sp>
            <p:nvSpPr>
              <p:cNvPr id="4918" name=""/>
              <p:cNvSpPr/>
              <p:nvPr/>
            </p:nvSpPr>
            <p:spPr>
              <a:xfrm>
                <a:off x="8001000" y="41148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9" name=""/>
              <p:cNvGrpSpPr/>
              <p:nvPr/>
            </p:nvGrpSpPr>
            <p:grpSpPr>
              <a:xfrm>
                <a:off x="7696080" y="4114800"/>
                <a:ext cx="533520" cy="380880"/>
                <a:chOff x="7696080" y="4114800"/>
                <a:chExt cx="533520" cy="380880"/>
              </a:xfrm>
            </p:grpSpPr>
            <p:sp>
              <p:nvSpPr>
                <p:cNvPr id="4920" name=""/>
                <p:cNvSpPr/>
                <p:nvPr/>
              </p:nvSpPr>
              <p:spPr>
                <a:xfrm>
                  <a:off x="7696080" y="44956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 flipV="1">
                  <a:off x="800100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8229600" y="411480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23" name=""/>
            <p:cNvSpPr/>
            <p:nvPr/>
          </p:nvSpPr>
          <p:spPr>
            <a:xfrm>
              <a:off x="8229600" y="44956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4" name=""/>
          <p:cNvGrpSpPr/>
          <p:nvPr/>
        </p:nvGrpSpPr>
        <p:grpSpPr>
          <a:xfrm>
            <a:off x="453960" y="1295280"/>
            <a:ext cx="2060640" cy="3287520"/>
            <a:chOff x="453960" y="1295280"/>
            <a:chExt cx="2060640" cy="3287520"/>
          </a:xfrm>
        </p:grpSpPr>
        <p:grpSp>
          <p:nvGrpSpPr>
            <p:cNvPr id="4925" name=""/>
            <p:cNvGrpSpPr/>
            <p:nvPr/>
          </p:nvGrpSpPr>
          <p:grpSpPr>
            <a:xfrm>
              <a:off x="609480" y="1295280"/>
              <a:ext cx="1905120" cy="380880"/>
              <a:chOff x="609480" y="1295280"/>
              <a:chExt cx="1905120" cy="380880"/>
            </a:xfrm>
          </p:grpSpPr>
          <p:grpSp>
            <p:nvGrpSpPr>
              <p:cNvPr id="4926" name=""/>
              <p:cNvGrpSpPr/>
              <p:nvPr/>
            </p:nvGrpSpPr>
            <p:grpSpPr>
              <a:xfrm>
                <a:off x="609480" y="1295280"/>
                <a:ext cx="533520" cy="380880"/>
                <a:chOff x="609480" y="1295280"/>
                <a:chExt cx="533520" cy="380880"/>
              </a:xfrm>
            </p:grpSpPr>
            <p:sp>
              <p:nvSpPr>
                <p:cNvPr id="4927" name=""/>
                <p:cNvSpPr/>
                <p:nvPr/>
              </p:nvSpPr>
              <p:spPr>
                <a:xfrm>
                  <a:off x="914400" y="1295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28" name=""/>
                <p:cNvGrpSpPr/>
                <p:nvPr/>
              </p:nvGrpSpPr>
              <p:grpSpPr>
                <a:xfrm>
                  <a:off x="609480" y="1295280"/>
                  <a:ext cx="533520" cy="380880"/>
                  <a:chOff x="609480" y="1295280"/>
                  <a:chExt cx="533520" cy="380880"/>
                </a:xfrm>
              </p:grpSpPr>
              <p:sp>
                <p:nvSpPr>
                  <p:cNvPr id="4929" name=""/>
                  <p:cNvSpPr/>
                  <p:nvPr/>
                </p:nvSpPr>
                <p:spPr>
                  <a:xfrm>
                    <a:off x="609480" y="16761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"/>
                  <p:cNvSpPr/>
                  <p:nvPr/>
                </p:nvSpPr>
                <p:spPr>
                  <a:xfrm flipV="1">
                    <a:off x="91440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"/>
                  <p:cNvSpPr/>
                  <p:nvPr/>
                </p:nvSpPr>
                <p:spPr>
                  <a:xfrm>
                    <a:off x="114300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2" name=""/>
              <p:cNvGrpSpPr/>
              <p:nvPr/>
            </p:nvGrpSpPr>
            <p:grpSpPr>
              <a:xfrm>
                <a:off x="1143000" y="1295280"/>
                <a:ext cx="533160" cy="380880"/>
                <a:chOff x="1143000" y="1295280"/>
                <a:chExt cx="533160" cy="380880"/>
              </a:xfrm>
            </p:grpSpPr>
            <p:sp>
              <p:nvSpPr>
                <p:cNvPr id="4933" name=""/>
                <p:cNvSpPr/>
                <p:nvPr/>
              </p:nvSpPr>
              <p:spPr>
                <a:xfrm>
                  <a:off x="1447560" y="1295280"/>
                  <a:ext cx="22824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4" name=""/>
                <p:cNvGrpSpPr/>
                <p:nvPr/>
              </p:nvGrpSpPr>
              <p:grpSpPr>
                <a:xfrm>
                  <a:off x="1143000" y="1295280"/>
                  <a:ext cx="533160" cy="380880"/>
                  <a:chOff x="1143000" y="1295280"/>
                  <a:chExt cx="533160" cy="380880"/>
                </a:xfrm>
              </p:grpSpPr>
              <p:sp>
                <p:nvSpPr>
                  <p:cNvPr id="4935" name=""/>
                  <p:cNvSpPr/>
                  <p:nvPr/>
                </p:nvSpPr>
                <p:spPr>
                  <a:xfrm>
                    <a:off x="1143000" y="16761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"/>
                  <p:cNvSpPr/>
                  <p:nvPr/>
                </p:nvSpPr>
                <p:spPr>
                  <a:xfrm flipV="1">
                    <a:off x="144756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"/>
                  <p:cNvSpPr/>
                  <p:nvPr/>
                </p:nvSpPr>
                <p:spPr>
                  <a:xfrm>
                    <a:off x="167616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8" name=""/>
              <p:cNvGrpSpPr/>
              <p:nvPr/>
            </p:nvGrpSpPr>
            <p:grpSpPr>
              <a:xfrm>
                <a:off x="1676160" y="1295280"/>
                <a:ext cx="533520" cy="380880"/>
                <a:chOff x="1676160" y="1295280"/>
                <a:chExt cx="533520" cy="380880"/>
              </a:xfrm>
            </p:grpSpPr>
            <p:sp>
              <p:nvSpPr>
                <p:cNvPr id="4939" name=""/>
                <p:cNvSpPr/>
                <p:nvPr/>
              </p:nvSpPr>
              <p:spPr>
                <a:xfrm>
                  <a:off x="1981080" y="1295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40" name=""/>
                <p:cNvGrpSpPr/>
                <p:nvPr/>
              </p:nvGrpSpPr>
              <p:grpSpPr>
                <a:xfrm>
                  <a:off x="1676160" y="1295280"/>
                  <a:ext cx="533520" cy="380880"/>
                  <a:chOff x="1676160" y="1295280"/>
                  <a:chExt cx="533520" cy="380880"/>
                </a:xfrm>
              </p:grpSpPr>
              <p:sp>
                <p:nvSpPr>
                  <p:cNvPr id="4941" name=""/>
                  <p:cNvSpPr/>
                  <p:nvPr/>
                </p:nvSpPr>
                <p:spPr>
                  <a:xfrm>
                    <a:off x="1676160" y="16761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"/>
                  <p:cNvSpPr/>
                  <p:nvPr/>
                </p:nvSpPr>
                <p:spPr>
                  <a:xfrm flipV="1">
                    <a:off x="198108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"/>
                  <p:cNvSpPr/>
                  <p:nvPr/>
                </p:nvSpPr>
                <p:spPr>
                  <a:xfrm>
                    <a:off x="2209680" y="12952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44" name=""/>
              <p:cNvSpPr/>
              <p:nvPr/>
            </p:nvSpPr>
            <p:spPr>
              <a:xfrm>
                <a:off x="2209680" y="1676160"/>
                <a:ext cx="304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5" name=""/>
            <p:cNvGrpSpPr/>
            <p:nvPr/>
          </p:nvGrpSpPr>
          <p:grpSpPr>
            <a:xfrm>
              <a:off x="453960" y="4173840"/>
              <a:ext cx="1904760" cy="408960"/>
              <a:chOff x="453960" y="4173840"/>
              <a:chExt cx="1904760" cy="408960"/>
            </a:xfrm>
          </p:grpSpPr>
          <p:grpSp>
            <p:nvGrpSpPr>
              <p:cNvPr id="4946" name=""/>
              <p:cNvGrpSpPr/>
              <p:nvPr/>
            </p:nvGrpSpPr>
            <p:grpSpPr>
              <a:xfrm>
                <a:off x="1825560" y="4173840"/>
                <a:ext cx="533160" cy="390600"/>
                <a:chOff x="1825560" y="4173840"/>
                <a:chExt cx="533160" cy="390600"/>
              </a:xfrm>
            </p:grpSpPr>
            <p:sp>
              <p:nvSpPr>
                <p:cNvPr id="4947" name=""/>
                <p:cNvSpPr/>
                <p:nvPr/>
              </p:nvSpPr>
              <p:spPr>
                <a:xfrm flipH="1">
                  <a:off x="1832040" y="4560480"/>
                  <a:ext cx="228600" cy="3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48" name=""/>
                <p:cNvGrpSpPr/>
                <p:nvPr/>
              </p:nvGrpSpPr>
              <p:grpSpPr>
                <a:xfrm>
                  <a:off x="1825560" y="4173840"/>
                  <a:ext cx="533160" cy="390600"/>
                  <a:chOff x="1825560" y="4173840"/>
                  <a:chExt cx="533160" cy="390600"/>
                </a:xfrm>
              </p:grpSpPr>
              <p:sp>
                <p:nvSpPr>
                  <p:cNvPr id="4949" name=""/>
                  <p:cNvSpPr/>
                  <p:nvPr/>
                </p:nvSpPr>
                <p:spPr>
                  <a:xfrm flipH="1">
                    <a:off x="2053800" y="4173840"/>
                    <a:ext cx="304920" cy="54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0" name=""/>
                  <p:cNvSpPr/>
                  <p:nvPr/>
                </p:nvSpPr>
                <p:spPr>
                  <a:xfrm>
                    <a:off x="2053800" y="4179600"/>
                    <a:ext cx="684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"/>
                  <p:cNvSpPr/>
                  <p:nvPr/>
                </p:nvSpPr>
                <p:spPr>
                  <a:xfrm flipH="1" flipV="1">
                    <a:off x="1825560" y="4183200"/>
                    <a:ext cx="648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52" name=""/>
              <p:cNvGrpSpPr/>
              <p:nvPr/>
            </p:nvGrpSpPr>
            <p:grpSpPr>
              <a:xfrm>
                <a:off x="1292400" y="4183200"/>
                <a:ext cx="533160" cy="390240"/>
                <a:chOff x="1292400" y="4183200"/>
                <a:chExt cx="533160" cy="390240"/>
              </a:xfrm>
            </p:grpSpPr>
            <p:sp>
              <p:nvSpPr>
                <p:cNvPr id="4953" name=""/>
                <p:cNvSpPr/>
                <p:nvPr/>
              </p:nvSpPr>
              <p:spPr>
                <a:xfrm flipH="1">
                  <a:off x="1299240" y="4569480"/>
                  <a:ext cx="228240" cy="3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4" name=""/>
                <p:cNvGrpSpPr/>
                <p:nvPr/>
              </p:nvGrpSpPr>
              <p:grpSpPr>
                <a:xfrm>
                  <a:off x="1292400" y="4183200"/>
                  <a:ext cx="533160" cy="390240"/>
                  <a:chOff x="1292400" y="4183200"/>
                  <a:chExt cx="533160" cy="390240"/>
                </a:xfrm>
              </p:grpSpPr>
              <p:sp>
                <p:nvSpPr>
                  <p:cNvPr id="4955" name=""/>
                  <p:cNvSpPr/>
                  <p:nvPr/>
                </p:nvSpPr>
                <p:spPr>
                  <a:xfrm flipH="1">
                    <a:off x="1521000" y="4183200"/>
                    <a:ext cx="304560" cy="54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6" name=""/>
                  <p:cNvSpPr/>
                  <p:nvPr/>
                </p:nvSpPr>
                <p:spPr>
                  <a:xfrm>
                    <a:off x="1521000" y="4188960"/>
                    <a:ext cx="648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7" name=""/>
                  <p:cNvSpPr/>
                  <p:nvPr/>
                </p:nvSpPr>
                <p:spPr>
                  <a:xfrm flipH="1" flipV="1">
                    <a:off x="1292400" y="4192560"/>
                    <a:ext cx="6480" cy="3808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58" name=""/>
              <p:cNvGrpSpPr/>
              <p:nvPr/>
            </p:nvGrpSpPr>
            <p:grpSpPr>
              <a:xfrm>
                <a:off x="758880" y="4192560"/>
                <a:ext cx="533520" cy="390240"/>
                <a:chOff x="758880" y="4192560"/>
                <a:chExt cx="533520" cy="390240"/>
              </a:xfrm>
            </p:grpSpPr>
            <p:sp>
              <p:nvSpPr>
                <p:cNvPr id="4959" name=""/>
                <p:cNvSpPr/>
                <p:nvPr/>
              </p:nvSpPr>
              <p:spPr>
                <a:xfrm flipH="1">
                  <a:off x="765720" y="4578840"/>
                  <a:ext cx="228240" cy="39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60" name=""/>
                <p:cNvGrpSpPr/>
                <p:nvPr/>
              </p:nvGrpSpPr>
              <p:grpSpPr>
                <a:xfrm>
                  <a:off x="758880" y="4192560"/>
                  <a:ext cx="533520" cy="390240"/>
                  <a:chOff x="758880" y="4192560"/>
                  <a:chExt cx="533520" cy="390240"/>
                </a:xfrm>
              </p:grpSpPr>
              <p:sp>
                <p:nvSpPr>
                  <p:cNvPr id="4961" name=""/>
                  <p:cNvSpPr/>
                  <p:nvPr/>
                </p:nvSpPr>
                <p:spPr>
                  <a:xfrm flipH="1">
                    <a:off x="987480" y="4192560"/>
                    <a:ext cx="304920" cy="50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>
                    <a:off x="987480" y="4197960"/>
                    <a:ext cx="648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 flipH="1" flipV="1">
                    <a:off x="758880" y="4201560"/>
                    <a:ext cx="6840" cy="3812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4" name=""/>
              <p:cNvSpPr/>
              <p:nvPr/>
            </p:nvSpPr>
            <p:spPr>
              <a:xfrm flipH="1">
                <a:off x="453960" y="4201560"/>
                <a:ext cx="304920" cy="5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5" name=""/>
          <p:cNvGrpSpPr/>
          <p:nvPr/>
        </p:nvGrpSpPr>
        <p:grpSpPr>
          <a:xfrm>
            <a:off x="3437640" y="1876320"/>
            <a:ext cx="2425680" cy="573120"/>
            <a:chOff x="3437640" y="1876320"/>
            <a:chExt cx="2425680" cy="573120"/>
          </a:xfrm>
        </p:grpSpPr>
        <p:sp>
          <p:nvSpPr>
            <p:cNvPr id="4966" name=""/>
            <p:cNvSpPr/>
            <p:nvPr/>
          </p:nvSpPr>
          <p:spPr>
            <a:xfrm>
              <a:off x="3437640" y="187632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7" name=""/>
            <p:cNvGrpSpPr/>
            <p:nvPr/>
          </p:nvGrpSpPr>
          <p:grpSpPr>
            <a:xfrm>
              <a:off x="3505320" y="1904760"/>
              <a:ext cx="2358000" cy="544680"/>
              <a:chOff x="3505320" y="1904760"/>
              <a:chExt cx="2358000" cy="544680"/>
            </a:xfrm>
          </p:grpSpPr>
          <p:sp>
            <p:nvSpPr>
              <p:cNvPr id="4968" name=""/>
              <p:cNvSpPr/>
              <p:nvPr/>
            </p:nvSpPr>
            <p:spPr>
              <a:xfrm>
                <a:off x="3505320" y="190476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9" name=""/>
              <p:cNvGrpSpPr/>
              <p:nvPr/>
            </p:nvGrpSpPr>
            <p:grpSpPr>
              <a:xfrm>
                <a:off x="3959280" y="2040840"/>
                <a:ext cx="1904040" cy="408600"/>
                <a:chOff x="3959280" y="2040840"/>
                <a:chExt cx="1904040" cy="408600"/>
              </a:xfrm>
            </p:grpSpPr>
            <p:grpSp>
              <p:nvGrpSpPr>
                <p:cNvPr id="4970" name=""/>
                <p:cNvGrpSpPr/>
                <p:nvPr/>
              </p:nvGrpSpPr>
              <p:grpSpPr>
                <a:xfrm>
                  <a:off x="5330520" y="2040840"/>
                  <a:ext cx="532800" cy="390240"/>
                  <a:chOff x="5330520" y="2040840"/>
                  <a:chExt cx="532800" cy="390240"/>
                </a:xfrm>
              </p:grpSpPr>
              <p:sp>
                <p:nvSpPr>
                  <p:cNvPr id="4971" name=""/>
                  <p:cNvSpPr/>
                  <p:nvPr/>
                </p:nvSpPr>
                <p:spPr>
                  <a:xfrm flipH="1">
                    <a:off x="5337360" y="2427120"/>
                    <a:ext cx="228240" cy="39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72" name=""/>
                  <p:cNvGrpSpPr/>
                  <p:nvPr/>
                </p:nvGrpSpPr>
                <p:grpSpPr>
                  <a:xfrm>
                    <a:off x="5330520" y="2040840"/>
                    <a:ext cx="532800" cy="390240"/>
                    <a:chOff x="5330520" y="2040840"/>
                    <a:chExt cx="532800" cy="390240"/>
                  </a:xfrm>
                </p:grpSpPr>
                <p:sp>
                  <p:nvSpPr>
                    <p:cNvPr id="4973" name=""/>
                    <p:cNvSpPr/>
                    <p:nvPr/>
                  </p:nvSpPr>
                  <p:spPr>
                    <a:xfrm flipH="1">
                      <a:off x="5558760" y="2040840"/>
                      <a:ext cx="304560" cy="540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4" name=""/>
                    <p:cNvSpPr/>
                    <p:nvPr/>
                  </p:nvSpPr>
                  <p:spPr>
                    <a:xfrm>
                      <a:off x="5558760" y="2046240"/>
                      <a:ext cx="684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5" name=""/>
                    <p:cNvSpPr/>
                    <p:nvPr/>
                  </p:nvSpPr>
                  <p:spPr>
                    <a:xfrm flipH="1" flipV="1">
                      <a:off x="5330520" y="2050200"/>
                      <a:ext cx="648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76" name=""/>
                <p:cNvGrpSpPr/>
                <p:nvPr/>
              </p:nvGrpSpPr>
              <p:grpSpPr>
                <a:xfrm>
                  <a:off x="4797720" y="2050200"/>
                  <a:ext cx="532800" cy="389880"/>
                  <a:chOff x="4797720" y="2050200"/>
                  <a:chExt cx="532800" cy="389880"/>
                </a:xfrm>
              </p:grpSpPr>
              <p:sp>
                <p:nvSpPr>
                  <p:cNvPr id="4977" name=""/>
                  <p:cNvSpPr/>
                  <p:nvPr/>
                </p:nvSpPr>
                <p:spPr>
                  <a:xfrm flipH="1">
                    <a:off x="4804560" y="2436120"/>
                    <a:ext cx="228240" cy="39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78" name=""/>
                  <p:cNvGrpSpPr/>
                  <p:nvPr/>
                </p:nvGrpSpPr>
                <p:grpSpPr>
                  <a:xfrm>
                    <a:off x="4797720" y="2050200"/>
                    <a:ext cx="532800" cy="389880"/>
                    <a:chOff x="4797720" y="2050200"/>
                    <a:chExt cx="532800" cy="389880"/>
                  </a:xfrm>
                </p:grpSpPr>
                <p:sp>
                  <p:nvSpPr>
                    <p:cNvPr id="4979" name=""/>
                    <p:cNvSpPr/>
                    <p:nvPr/>
                  </p:nvSpPr>
                  <p:spPr>
                    <a:xfrm flipH="1">
                      <a:off x="5026320" y="2050200"/>
                      <a:ext cx="304200" cy="540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0" name=""/>
                    <p:cNvSpPr/>
                    <p:nvPr/>
                  </p:nvSpPr>
                  <p:spPr>
                    <a:xfrm>
                      <a:off x="5026320" y="2055600"/>
                      <a:ext cx="6480" cy="38052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1" name=""/>
                    <p:cNvSpPr/>
                    <p:nvPr/>
                  </p:nvSpPr>
                  <p:spPr>
                    <a:xfrm flipH="1" flipV="1">
                      <a:off x="4797720" y="2059560"/>
                      <a:ext cx="6480" cy="38052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82" name=""/>
                <p:cNvGrpSpPr/>
                <p:nvPr/>
              </p:nvGrpSpPr>
              <p:grpSpPr>
                <a:xfrm>
                  <a:off x="4264200" y="2059560"/>
                  <a:ext cx="533160" cy="389880"/>
                  <a:chOff x="4264200" y="2059560"/>
                  <a:chExt cx="533160" cy="389880"/>
                </a:xfrm>
              </p:grpSpPr>
              <p:sp>
                <p:nvSpPr>
                  <p:cNvPr id="4983" name=""/>
                  <p:cNvSpPr/>
                  <p:nvPr/>
                </p:nvSpPr>
                <p:spPr>
                  <a:xfrm flipH="1">
                    <a:off x="4271400" y="2445480"/>
                    <a:ext cx="227880" cy="396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84" name=""/>
                  <p:cNvGrpSpPr/>
                  <p:nvPr/>
                </p:nvGrpSpPr>
                <p:grpSpPr>
                  <a:xfrm>
                    <a:off x="4264200" y="2059560"/>
                    <a:ext cx="533160" cy="389880"/>
                    <a:chOff x="4264200" y="2059560"/>
                    <a:chExt cx="533160" cy="389880"/>
                  </a:xfrm>
                </p:grpSpPr>
                <p:sp>
                  <p:nvSpPr>
                    <p:cNvPr id="4985" name=""/>
                    <p:cNvSpPr/>
                    <p:nvPr/>
                  </p:nvSpPr>
                  <p:spPr>
                    <a:xfrm flipH="1">
                      <a:off x="4492800" y="2059560"/>
                      <a:ext cx="304560" cy="50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4492800" y="2064600"/>
                      <a:ext cx="648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7" name=""/>
                    <p:cNvSpPr/>
                    <p:nvPr/>
                  </p:nvSpPr>
                  <p:spPr>
                    <a:xfrm flipH="1" flipV="1">
                      <a:off x="4264200" y="2068560"/>
                      <a:ext cx="6840" cy="38088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988" name=""/>
                <p:cNvSpPr/>
                <p:nvPr/>
              </p:nvSpPr>
              <p:spPr>
                <a:xfrm flipH="1">
                  <a:off x="3959280" y="2068560"/>
                  <a:ext cx="304560" cy="54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89" name=""/>
          <p:cNvGrpSpPr/>
          <p:nvPr/>
        </p:nvGrpSpPr>
        <p:grpSpPr>
          <a:xfrm>
            <a:off x="1347480" y="5581800"/>
            <a:ext cx="6044040" cy="669600"/>
            <a:chOff x="1347480" y="5581800"/>
            <a:chExt cx="6044040" cy="669600"/>
          </a:xfrm>
        </p:grpSpPr>
        <p:sp>
          <p:nvSpPr>
            <p:cNvPr id="4990" name=""/>
            <p:cNvSpPr/>
            <p:nvPr/>
          </p:nvSpPr>
          <p:spPr>
            <a:xfrm>
              <a:off x="1347480" y="5646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写出逻辑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6521400" y="5710320"/>
              <a:ext cx="320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013360" y="5608800"/>
              <a:ext cx="237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+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3600360" y="5710320"/>
              <a:ext cx="5144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772160" y="5710320"/>
              <a:ext cx="25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3679920" y="5581800"/>
              <a:ext cx="1349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2971800" y="5639040"/>
              <a:ext cx="250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Y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• B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514760" y="5646960"/>
              <a:ext cx="5144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8" name=""/>
          <p:cNvSpPr/>
          <p:nvPr/>
        </p:nvSpPr>
        <p:spPr>
          <a:xfrm>
            <a:off x="6443640" y="2209680"/>
            <a:ext cx="1315800" cy="520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设：</a:t>
            </a: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191120" y="2743200"/>
            <a:ext cx="1066680" cy="533520"/>
          </a:xfrm>
          <a:prstGeom prst="wedgeRoundRectCallout">
            <a:avLst>
              <a:gd name="adj1" fmla="val -40027"/>
              <a:gd name="adj2" fmla="val 115180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276720" y="1143000"/>
            <a:ext cx="990360" cy="457200"/>
          </a:xfrm>
          <a:prstGeom prst="wedgeRoundRectCallout">
            <a:avLst>
              <a:gd name="adj1" fmla="val -91828"/>
              <a:gd name="adj2" fmla="val 19583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5257800" y="4876920"/>
            <a:ext cx="1905120" cy="533160"/>
          </a:xfrm>
          <a:prstGeom prst="wedgeRoundRectCallout">
            <a:avLst>
              <a:gd name="adj1" fmla="val 60000"/>
              <a:gd name="adj2" fmla="val -13095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选通</a:t>
            </a:r>
            <a:r>
              <a:rPr b="1" i="1" lang="en-US" sz="2800" spc="-1" strike="noStrike">
                <a:solidFill>
                  <a:srgbClr val="ff3300"/>
                </a:solidFill>
                <a:latin typeface="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"/>
              </a:rPr>
              <a:t>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3200400" y="24382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6400800" y="3809880"/>
            <a:ext cx="152280" cy="15264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3049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1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53" dur="500"/>
                                        <p:tgtEl>
                                          <p:spTgt spid="4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5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057" dur="500"/>
                                        <p:tgtEl>
                                          <p:spTgt spid="5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nodeType="clickEffect" fill="hold">
                      <p:stCondLst>
                        <p:cond delay="indefinite"/>
                      </p:stCondLst>
                      <p:childTnLst>
                        <p:par>
                          <p:cTn id="30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62" dur="500"/>
                                        <p:tgtEl>
                                          <p:spTgt spid="4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4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6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8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070" dur="500"/>
                                        <p:tgtEl>
                                          <p:spTgt spid="4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75" dur="500"/>
                                        <p:tgtEl>
                                          <p:spTgt spid="4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8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1"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6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88" dur="500"/>
                                        <p:tgtEl>
                                          <p:spTgt spid="4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0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309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nodeType="clickEffect" fill="hold">
                      <p:stCondLst>
                        <p:cond delay="indefinite"/>
                      </p:stCondLst>
                      <p:childTnLst>
                        <p:par>
                          <p:cTn id="30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097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"/>
          <p:cNvSpPr/>
          <p:nvPr/>
        </p:nvSpPr>
        <p:spPr>
          <a:xfrm>
            <a:off x="6639480" y="38671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7" name=""/>
          <p:cNvGrpSpPr/>
          <p:nvPr/>
        </p:nvGrpSpPr>
        <p:grpSpPr>
          <a:xfrm>
            <a:off x="530280" y="1447560"/>
            <a:ext cx="2060640" cy="3287520"/>
            <a:chOff x="530280" y="1447560"/>
            <a:chExt cx="2060640" cy="3287520"/>
          </a:xfrm>
        </p:grpSpPr>
        <p:grpSp>
          <p:nvGrpSpPr>
            <p:cNvPr id="5008" name=""/>
            <p:cNvGrpSpPr/>
            <p:nvPr/>
          </p:nvGrpSpPr>
          <p:grpSpPr>
            <a:xfrm>
              <a:off x="685800" y="1447560"/>
              <a:ext cx="1905120" cy="380880"/>
              <a:chOff x="685800" y="1447560"/>
              <a:chExt cx="1905120" cy="380880"/>
            </a:xfrm>
          </p:grpSpPr>
          <p:grpSp>
            <p:nvGrpSpPr>
              <p:cNvPr id="5009" name=""/>
              <p:cNvGrpSpPr/>
              <p:nvPr/>
            </p:nvGrpSpPr>
            <p:grpSpPr>
              <a:xfrm>
                <a:off x="685800" y="1447560"/>
                <a:ext cx="533520" cy="380880"/>
                <a:chOff x="685800" y="1447560"/>
                <a:chExt cx="533520" cy="380880"/>
              </a:xfrm>
            </p:grpSpPr>
            <p:sp>
              <p:nvSpPr>
                <p:cNvPr id="5010" name=""/>
                <p:cNvSpPr/>
                <p:nvPr/>
              </p:nvSpPr>
              <p:spPr>
                <a:xfrm>
                  <a:off x="990720" y="14479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1" name=""/>
                <p:cNvGrpSpPr/>
                <p:nvPr/>
              </p:nvGrpSpPr>
              <p:grpSpPr>
                <a:xfrm>
                  <a:off x="685800" y="1447560"/>
                  <a:ext cx="533520" cy="380880"/>
                  <a:chOff x="685800" y="1447560"/>
                  <a:chExt cx="533520" cy="380880"/>
                </a:xfrm>
              </p:grpSpPr>
              <p:sp>
                <p:nvSpPr>
                  <p:cNvPr id="5012" name=""/>
                  <p:cNvSpPr/>
                  <p:nvPr/>
                </p:nvSpPr>
                <p:spPr>
                  <a:xfrm>
                    <a:off x="685800" y="182844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 flipV="1">
                    <a:off x="990720" y="144756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"/>
                  <p:cNvSpPr/>
                  <p:nvPr/>
                </p:nvSpPr>
                <p:spPr>
                  <a:xfrm>
                    <a:off x="1219320" y="144792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5" name=""/>
              <p:cNvGrpSpPr/>
              <p:nvPr/>
            </p:nvGrpSpPr>
            <p:grpSpPr>
              <a:xfrm>
                <a:off x="1219320" y="1447560"/>
                <a:ext cx="533160" cy="380880"/>
                <a:chOff x="1219320" y="1447560"/>
                <a:chExt cx="533160" cy="380880"/>
              </a:xfrm>
            </p:grpSpPr>
            <p:sp>
              <p:nvSpPr>
                <p:cNvPr id="5016" name=""/>
                <p:cNvSpPr/>
                <p:nvPr/>
              </p:nvSpPr>
              <p:spPr>
                <a:xfrm>
                  <a:off x="1523880" y="144792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7" name=""/>
                <p:cNvGrpSpPr/>
                <p:nvPr/>
              </p:nvGrpSpPr>
              <p:grpSpPr>
                <a:xfrm>
                  <a:off x="1219320" y="1447560"/>
                  <a:ext cx="533160" cy="380880"/>
                  <a:chOff x="1219320" y="1447560"/>
                  <a:chExt cx="533160" cy="380880"/>
                </a:xfrm>
              </p:grpSpPr>
              <p:sp>
                <p:nvSpPr>
                  <p:cNvPr id="5018" name=""/>
                  <p:cNvSpPr/>
                  <p:nvPr/>
                </p:nvSpPr>
                <p:spPr>
                  <a:xfrm>
                    <a:off x="1219320" y="182844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 flipV="1">
                    <a:off x="1523880" y="144756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"/>
                  <p:cNvSpPr/>
                  <p:nvPr/>
                </p:nvSpPr>
                <p:spPr>
                  <a:xfrm>
                    <a:off x="1752480" y="144792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21" name=""/>
              <p:cNvGrpSpPr/>
              <p:nvPr/>
            </p:nvGrpSpPr>
            <p:grpSpPr>
              <a:xfrm>
                <a:off x="1752480" y="1447560"/>
                <a:ext cx="533520" cy="380880"/>
                <a:chOff x="1752480" y="1447560"/>
                <a:chExt cx="533520" cy="380880"/>
              </a:xfrm>
            </p:grpSpPr>
            <p:sp>
              <p:nvSpPr>
                <p:cNvPr id="5022" name=""/>
                <p:cNvSpPr/>
                <p:nvPr/>
              </p:nvSpPr>
              <p:spPr>
                <a:xfrm>
                  <a:off x="2057400" y="14479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3" name=""/>
                <p:cNvGrpSpPr/>
                <p:nvPr/>
              </p:nvGrpSpPr>
              <p:grpSpPr>
                <a:xfrm>
                  <a:off x="1752480" y="1447560"/>
                  <a:ext cx="533520" cy="380880"/>
                  <a:chOff x="1752480" y="1447560"/>
                  <a:chExt cx="533520" cy="380880"/>
                </a:xfrm>
              </p:grpSpPr>
              <p:sp>
                <p:nvSpPr>
                  <p:cNvPr id="5024" name=""/>
                  <p:cNvSpPr/>
                  <p:nvPr/>
                </p:nvSpPr>
                <p:spPr>
                  <a:xfrm>
                    <a:off x="1752480" y="182844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V="1">
                    <a:off x="2057400" y="144756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"/>
                  <p:cNvSpPr/>
                  <p:nvPr/>
                </p:nvSpPr>
                <p:spPr>
                  <a:xfrm>
                    <a:off x="2286000" y="1447920"/>
                    <a:ext cx="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27" name=""/>
              <p:cNvSpPr/>
              <p:nvPr/>
            </p:nvSpPr>
            <p:spPr>
              <a:xfrm>
                <a:off x="2286000" y="1828440"/>
                <a:ext cx="30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8" name=""/>
            <p:cNvGrpSpPr/>
            <p:nvPr/>
          </p:nvGrpSpPr>
          <p:grpSpPr>
            <a:xfrm>
              <a:off x="530280" y="4326480"/>
              <a:ext cx="1904760" cy="408600"/>
              <a:chOff x="530280" y="4326480"/>
              <a:chExt cx="1904760" cy="408600"/>
            </a:xfrm>
          </p:grpSpPr>
          <p:grpSp>
            <p:nvGrpSpPr>
              <p:cNvPr id="5029" name=""/>
              <p:cNvGrpSpPr/>
              <p:nvPr/>
            </p:nvGrpSpPr>
            <p:grpSpPr>
              <a:xfrm>
                <a:off x="1901880" y="4326480"/>
                <a:ext cx="533160" cy="390240"/>
                <a:chOff x="1901880" y="4326480"/>
                <a:chExt cx="533160" cy="390240"/>
              </a:xfrm>
            </p:grpSpPr>
            <p:sp>
              <p:nvSpPr>
                <p:cNvPr id="5030" name=""/>
                <p:cNvSpPr/>
                <p:nvPr/>
              </p:nvSpPr>
              <p:spPr>
                <a:xfrm flipH="1">
                  <a:off x="1908360" y="4712760"/>
                  <a:ext cx="228600" cy="3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1" name=""/>
                <p:cNvGrpSpPr/>
                <p:nvPr/>
              </p:nvGrpSpPr>
              <p:grpSpPr>
                <a:xfrm>
                  <a:off x="1901880" y="4326480"/>
                  <a:ext cx="533160" cy="390240"/>
                  <a:chOff x="1901880" y="4326480"/>
                  <a:chExt cx="533160" cy="390240"/>
                </a:xfrm>
              </p:grpSpPr>
              <p:sp>
                <p:nvSpPr>
                  <p:cNvPr id="5032" name=""/>
                  <p:cNvSpPr/>
                  <p:nvPr/>
                </p:nvSpPr>
                <p:spPr>
                  <a:xfrm flipH="1">
                    <a:off x="2130120" y="4326480"/>
                    <a:ext cx="30492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>
                    <a:off x="2130120" y="4331880"/>
                    <a:ext cx="684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4" name=""/>
                  <p:cNvSpPr/>
                  <p:nvPr/>
                </p:nvSpPr>
                <p:spPr>
                  <a:xfrm flipH="1" flipV="1">
                    <a:off x="1901880" y="4335840"/>
                    <a:ext cx="648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35" name=""/>
              <p:cNvGrpSpPr/>
              <p:nvPr/>
            </p:nvGrpSpPr>
            <p:grpSpPr>
              <a:xfrm>
                <a:off x="1368720" y="4335840"/>
                <a:ext cx="533160" cy="389880"/>
                <a:chOff x="1368720" y="4335840"/>
                <a:chExt cx="533160" cy="389880"/>
              </a:xfrm>
            </p:grpSpPr>
            <p:sp>
              <p:nvSpPr>
                <p:cNvPr id="5036" name=""/>
                <p:cNvSpPr/>
                <p:nvPr/>
              </p:nvSpPr>
              <p:spPr>
                <a:xfrm flipH="1">
                  <a:off x="1375560" y="4721760"/>
                  <a:ext cx="228240" cy="3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7" name=""/>
                <p:cNvGrpSpPr/>
                <p:nvPr/>
              </p:nvGrpSpPr>
              <p:grpSpPr>
                <a:xfrm>
                  <a:off x="1368720" y="4335840"/>
                  <a:ext cx="533160" cy="389880"/>
                  <a:chOff x="1368720" y="4335840"/>
                  <a:chExt cx="533160" cy="389880"/>
                </a:xfrm>
              </p:grpSpPr>
              <p:sp>
                <p:nvSpPr>
                  <p:cNvPr id="5038" name=""/>
                  <p:cNvSpPr/>
                  <p:nvPr/>
                </p:nvSpPr>
                <p:spPr>
                  <a:xfrm flipH="1">
                    <a:off x="1597320" y="4335840"/>
                    <a:ext cx="30456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1597320" y="4341240"/>
                    <a:ext cx="648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"/>
                  <p:cNvSpPr/>
                  <p:nvPr/>
                </p:nvSpPr>
                <p:spPr>
                  <a:xfrm flipH="1" flipV="1">
                    <a:off x="1368720" y="4345200"/>
                    <a:ext cx="6480" cy="3805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41" name=""/>
              <p:cNvGrpSpPr/>
              <p:nvPr/>
            </p:nvGrpSpPr>
            <p:grpSpPr>
              <a:xfrm>
                <a:off x="835200" y="4345200"/>
                <a:ext cx="533520" cy="389880"/>
                <a:chOff x="835200" y="4345200"/>
                <a:chExt cx="533520" cy="389880"/>
              </a:xfrm>
            </p:grpSpPr>
            <p:sp>
              <p:nvSpPr>
                <p:cNvPr id="5042" name=""/>
                <p:cNvSpPr/>
                <p:nvPr/>
              </p:nvSpPr>
              <p:spPr>
                <a:xfrm flipH="1">
                  <a:off x="842040" y="4731120"/>
                  <a:ext cx="228240" cy="3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3" name=""/>
                <p:cNvGrpSpPr/>
                <p:nvPr/>
              </p:nvGrpSpPr>
              <p:grpSpPr>
                <a:xfrm>
                  <a:off x="835200" y="4345200"/>
                  <a:ext cx="533520" cy="389880"/>
                  <a:chOff x="835200" y="4345200"/>
                  <a:chExt cx="533520" cy="389880"/>
                </a:xfrm>
              </p:grpSpPr>
              <p:sp>
                <p:nvSpPr>
                  <p:cNvPr id="5044" name=""/>
                  <p:cNvSpPr/>
                  <p:nvPr/>
                </p:nvSpPr>
                <p:spPr>
                  <a:xfrm flipH="1">
                    <a:off x="1063800" y="4345200"/>
                    <a:ext cx="3049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5" name=""/>
                  <p:cNvSpPr/>
                  <p:nvPr/>
                </p:nvSpPr>
                <p:spPr>
                  <a:xfrm>
                    <a:off x="1063800" y="4350240"/>
                    <a:ext cx="648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 flipH="1" flipV="1">
                    <a:off x="835200" y="4354200"/>
                    <a:ext cx="684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7" name=""/>
              <p:cNvSpPr/>
              <p:nvPr/>
            </p:nvSpPr>
            <p:spPr>
              <a:xfrm flipH="1">
                <a:off x="530280" y="4354200"/>
                <a:ext cx="30492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8" name=""/>
          <p:cNvGrpSpPr/>
          <p:nvPr/>
        </p:nvGrpSpPr>
        <p:grpSpPr>
          <a:xfrm>
            <a:off x="6626160" y="4326840"/>
            <a:ext cx="1904760" cy="408600"/>
            <a:chOff x="6626160" y="4326840"/>
            <a:chExt cx="1904760" cy="408600"/>
          </a:xfrm>
        </p:grpSpPr>
        <p:grpSp>
          <p:nvGrpSpPr>
            <p:cNvPr id="5049" name=""/>
            <p:cNvGrpSpPr/>
            <p:nvPr/>
          </p:nvGrpSpPr>
          <p:grpSpPr>
            <a:xfrm>
              <a:off x="7997760" y="4326840"/>
              <a:ext cx="533160" cy="390240"/>
              <a:chOff x="7997760" y="4326840"/>
              <a:chExt cx="533160" cy="390240"/>
            </a:xfrm>
          </p:grpSpPr>
          <p:sp>
            <p:nvSpPr>
              <p:cNvPr id="5050" name=""/>
              <p:cNvSpPr/>
              <p:nvPr/>
            </p:nvSpPr>
            <p:spPr>
              <a:xfrm flipH="1">
                <a:off x="8004240" y="4713120"/>
                <a:ext cx="228600" cy="3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1" name=""/>
              <p:cNvGrpSpPr/>
              <p:nvPr/>
            </p:nvGrpSpPr>
            <p:grpSpPr>
              <a:xfrm>
                <a:off x="7997760" y="4326840"/>
                <a:ext cx="533160" cy="390240"/>
                <a:chOff x="7997760" y="4326840"/>
                <a:chExt cx="533160" cy="390240"/>
              </a:xfrm>
            </p:grpSpPr>
            <p:sp>
              <p:nvSpPr>
                <p:cNvPr id="5052" name=""/>
                <p:cNvSpPr/>
                <p:nvPr/>
              </p:nvSpPr>
              <p:spPr>
                <a:xfrm flipH="1">
                  <a:off x="8226000" y="4326840"/>
                  <a:ext cx="304920" cy="5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>
                  <a:off x="8226000" y="4332240"/>
                  <a:ext cx="684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 flipH="1" flipV="1">
                  <a:off x="7997760" y="4336200"/>
                  <a:ext cx="648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55" name=""/>
            <p:cNvGrpSpPr/>
            <p:nvPr/>
          </p:nvGrpSpPr>
          <p:grpSpPr>
            <a:xfrm>
              <a:off x="7464600" y="4336200"/>
              <a:ext cx="533160" cy="389880"/>
              <a:chOff x="7464600" y="4336200"/>
              <a:chExt cx="533160" cy="389880"/>
            </a:xfrm>
          </p:grpSpPr>
          <p:sp>
            <p:nvSpPr>
              <p:cNvPr id="5056" name=""/>
              <p:cNvSpPr/>
              <p:nvPr/>
            </p:nvSpPr>
            <p:spPr>
              <a:xfrm flipH="1">
                <a:off x="7471440" y="4722120"/>
                <a:ext cx="228240" cy="3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7" name=""/>
              <p:cNvGrpSpPr/>
              <p:nvPr/>
            </p:nvGrpSpPr>
            <p:grpSpPr>
              <a:xfrm>
                <a:off x="7464600" y="4336200"/>
                <a:ext cx="533160" cy="389880"/>
                <a:chOff x="7464600" y="4336200"/>
                <a:chExt cx="533160" cy="389880"/>
              </a:xfrm>
            </p:grpSpPr>
            <p:sp>
              <p:nvSpPr>
                <p:cNvPr id="5058" name=""/>
                <p:cNvSpPr/>
                <p:nvPr/>
              </p:nvSpPr>
              <p:spPr>
                <a:xfrm flipH="1">
                  <a:off x="7693200" y="4336200"/>
                  <a:ext cx="304560" cy="5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7693200" y="4341600"/>
                  <a:ext cx="6480" cy="380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 flipH="1" flipV="1">
                  <a:off x="7464600" y="4345560"/>
                  <a:ext cx="6480" cy="380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1" name=""/>
            <p:cNvGrpSpPr/>
            <p:nvPr/>
          </p:nvGrpSpPr>
          <p:grpSpPr>
            <a:xfrm>
              <a:off x="6931080" y="4345560"/>
              <a:ext cx="533520" cy="389880"/>
              <a:chOff x="6931080" y="4345560"/>
              <a:chExt cx="533520" cy="389880"/>
            </a:xfrm>
          </p:grpSpPr>
          <p:sp>
            <p:nvSpPr>
              <p:cNvPr id="5062" name=""/>
              <p:cNvSpPr/>
              <p:nvPr/>
            </p:nvSpPr>
            <p:spPr>
              <a:xfrm flipH="1">
                <a:off x="6937920" y="4731480"/>
                <a:ext cx="228240" cy="3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3" name=""/>
              <p:cNvGrpSpPr/>
              <p:nvPr/>
            </p:nvGrpSpPr>
            <p:grpSpPr>
              <a:xfrm>
                <a:off x="6931080" y="4345560"/>
                <a:ext cx="533520" cy="389880"/>
                <a:chOff x="6931080" y="4345560"/>
                <a:chExt cx="533520" cy="389880"/>
              </a:xfrm>
            </p:grpSpPr>
            <p:sp>
              <p:nvSpPr>
                <p:cNvPr id="5064" name=""/>
                <p:cNvSpPr/>
                <p:nvPr/>
              </p:nvSpPr>
              <p:spPr>
                <a:xfrm flipH="1">
                  <a:off x="7159680" y="4345560"/>
                  <a:ext cx="304920" cy="50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7159680" y="4350600"/>
                  <a:ext cx="648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 flipH="1" flipV="1">
                  <a:off x="6931080" y="4354560"/>
                  <a:ext cx="684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7" name=""/>
            <p:cNvSpPr/>
            <p:nvPr/>
          </p:nvSpPr>
          <p:spPr>
            <a:xfrm flipH="1">
              <a:off x="6626160" y="4354560"/>
              <a:ext cx="304920" cy="5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8" name=""/>
          <p:cNvSpPr/>
          <p:nvPr/>
        </p:nvSpPr>
        <p:spPr>
          <a:xfrm>
            <a:off x="6792120" y="32479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1600200" y="211464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2514600" y="1886040"/>
            <a:ext cx="76212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3429000" y="2419200"/>
            <a:ext cx="1828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2743200" y="196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5715000" y="3257640"/>
            <a:ext cx="76212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6629400" y="3790800"/>
            <a:ext cx="3808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4191120" y="3486240"/>
            <a:ext cx="76176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5105520" y="4019400"/>
            <a:ext cx="6094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4419720" y="3714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2514600" y="3257640"/>
            <a:ext cx="762120" cy="106668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3429000" y="3790800"/>
            <a:ext cx="76212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2743200" y="3409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1600200" y="26478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1828800" y="3790800"/>
            <a:ext cx="6858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1828800" y="26478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1447920" y="4933800"/>
            <a:ext cx="236196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3809880" y="4248000"/>
            <a:ext cx="0" cy="6858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3809880" y="4248000"/>
            <a:ext cx="38124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5257800" y="2419200"/>
            <a:ext cx="0" cy="1143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5257800" y="3562200"/>
            <a:ext cx="4572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1066680" y="4705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1227960" y="1758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5881680" y="3409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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1230120" y="23684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1219320" y="2724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3429000" y="241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3657600" y="333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5613480" y="1552680"/>
            <a:ext cx="1323720" cy="520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设：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C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3048120" y="1276200"/>
            <a:ext cx="1218960" cy="457200"/>
          </a:xfrm>
          <a:prstGeom prst="wedgeRoundRectCallout">
            <a:avLst>
              <a:gd name="adj1" fmla="val -48175"/>
              <a:gd name="adj2" fmla="val 109375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封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7010280" y="5410080"/>
            <a:ext cx="1758960" cy="460440"/>
          </a:xfrm>
          <a:prstGeom prst="wedgeRoundRectCallout">
            <a:avLst>
              <a:gd name="adj1" fmla="val -4152"/>
              <a:gd name="adj2" fmla="val -245861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选通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3276720" y="371484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3276720" y="234324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4952880" y="3943440"/>
            <a:ext cx="15264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6477120" y="3714840"/>
            <a:ext cx="152280" cy="152280"/>
          </a:xfrm>
          <a:prstGeom prst="ellipse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4114800" y="2590920"/>
            <a:ext cx="990720" cy="457200"/>
          </a:xfrm>
          <a:prstGeom prst="wedgeRoundRectCallout">
            <a:avLst>
              <a:gd name="adj1" fmla="val -11055"/>
              <a:gd name="adj2" fmla="val 18333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1616040" y="53352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例 </a:t>
            </a: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析下图的逻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5" name=""/>
          <p:cNvGrpSpPr/>
          <p:nvPr/>
        </p:nvGrpSpPr>
        <p:grpSpPr>
          <a:xfrm>
            <a:off x="4651920" y="4191120"/>
            <a:ext cx="1904040" cy="930960"/>
            <a:chOff x="4651920" y="4191120"/>
            <a:chExt cx="1904040" cy="930960"/>
          </a:xfrm>
        </p:grpSpPr>
        <p:grpSp>
          <p:nvGrpSpPr>
            <p:cNvPr id="5106" name=""/>
            <p:cNvGrpSpPr/>
            <p:nvPr/>
          </p:nvGrpSpPr>
          <p:grpSpPr>
            <a:xfrm>
              <a:off x="5039280" y="4191120"/>
              <a:ext cx="400320" cy="520560"/>
              <a:chOff x="5039280" y="4191120"/>
              <a:chExt cx="400320" cy="520560"/>
            </a:xfrm>
          </p:grpSpPr>
          <p:sp>
            <p:nvSpPr>
              <p:cNvPr id="5107" name=""/>
              <p:cNvSpPr/>
              <p:nvPr/>
            </p:nvSpPr>
            <p:spPr>
              <a:xfrm>
                <a:off x="5039280" y="419112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181480" y="4248000"/>
                <a:ext cx="2286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9" name=""/>
            <p:cNvGrpSpPr/>
            <p:nvPr/>
          </p:nvGrpSpPr>
          <p:grpSpPr>
            <a:xfrm>
              <a:off x="4651920" y="4713120"/>
              <a:ext cx="1904040" cy="408960"/>
              <a:chOff x="4651920" y="4713120"/>
              <a:chExt cx="1904040" cy="408960"/>
            </a:xfrm>
          </p:grpSpPr>
          <p:grpSp>
            <p:nvGrpSpPr>
              <p:cNvPr id="5110" name=""/>
              <p:cNvGrpSpPr/>
              <p:nvPr/>
            </p:nvGrpSpPr>
            <p:grpSpPr>
              <a:xfrm>
                <a:off x="4651920" y="4731480"/>
                <a:ext cx="532800" cy="390600"/>
                <a:chOff x="4651920" y="4731480"/>
                <a:chExt cx="532800" cy="390600"/>
              </a:xfrm>
            </p:grpSpPr>
            <p:sp>
              <p:nvSpPr>
                <p:cNvPr id="5111" name=""/>
                <p:cNvSpPr/>
                <p:nvPr/>
              </p:nvSpPr>
              <p:spPr>
                <a:xfrm flipV="1">
                  <a:off x="4949640" y="4731480"/>
                  <a:ext cx="228240" cy="3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2" name=""/>
                <p:cNvGrpSpPr/>
                <p:nvPr/>
              </p:nvGrpSpPr>
              <p:grpSpPr>
                <a:xfrm>
                  <a:off x="4651920" y="4731480"/>
                  <a:ext cx="532800" cy="390600"/>
                  <a:chOff x="4651920" y="4731480"/>
                  <a:chExt cx="532800" cy="390600"/>
                </a:xfrm>
              </p:grpSpPr>
              <p:sp>
                <p:nvSpPr>
                  <p:cNvPr id="5113" name=""/>
                  <p:cNvSpPr/>
                  <p:nvPr/>
                </p:nvSpPr>
                <p:spPr>
                  <a:xfrm flipV="1">
                    <a:off x="4651920" y="5116680"/>
                    <a:ext cx="30456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4" name=""/>
                  <p:cNvSpPr/>
                  <p:nvPr/>
                </p:nvSpPr>
                <p:spPr>
                  <a:xfrm flipH="1" flipV="1">
                    <a:off x="4949640" y="4735080"/>
                    <a:ext cx="684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5" name=""/>
                  <p:cNvSpPr/>
                  <p:nvPr/>
                </p:nvSpPr>
                <p:spPr>
                  <a:xfrm>
                    <a:off x="5178240" y="4731480"/>
                    <a:ext cx="648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6" name=""/>
              <p:cNvGrpSpPr/>
              <p:nvPr/>
            </p:nvGrpSpPr>
            <p:grpSpPr>
              <a:xfrm>
                <a:off x="5184720" y="4722480"/>
                <a:ext cx="532800" cy="390240"/>
                <a:chOff x="5184720" y="4722480"/>
                <a:chExt cx="532800" cy="390240"/>
              </a:xfrm>
            </p:grpSpPr>
            <p:sp>
              <p:nvSpPr>
                <p:cNvPr id="5117" name=""/>
                <p:cNvSpPr/>
                <p:nvPr/>
              </p:nvSpPr>
              <p:spPr>
                <a:xfrm flipV="1">
                  <a:off x="5482440" y="4722480"/>
                  <a:ext cx="228240" cy="3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8" name=""/>
                <p:cNvGrpSpPr/>
                <p:nvPr/>
              </p:nvGrpSpPr>
              <p:grpSpPr>
                <a:xfrm>
                  <a:off x="5184720" y="4722480"/>
                  <a:ext cx="532800" cy="390240"/>
                  <a:chOff x="5184720" y="4722480"/>
                  <a:chExt cx="532800" cy="390240"/>
                </a:xfrm>
              </p:grpSpPr>
              <p:sp>
                <p:nvSpPr>
                  <p:cNvPr id="5119" name=""/>
                  <p:cNvSpPr/>
                  <p:nvPr/>
                </p:nvSpPr>
                <p:spPr>
                  <a:xfrm flipV="1">
                    <a:off x="5184720" y="5107320"/>
                    <a:ext cx="3042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"/>
                  <p:cNvSpPr/>
                  <p:nvPr/>
                </p:nvSpPr>
                <p:spPr>
                  <a:xfrm flipH="1" flipV="1">
                    <a:off x="5482440" y="4726080"/>
                    <a:ext cx="648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"/>
                  <p:cNvSpPr/>
                  <p:nvPr/>
                </p:nvSpPr>
                <p:spPr>
                  <a:xfrm>
                    <a:off x="5711040" y="4722480"/>
                    <a:ext cx="6480" cy="380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2" name=""/>
              <p:cNvGrpSpPr/>
              <p:nvPr/>
            </p:nvGrpSpPr>
            <p:grpSpPr>
              <a:xfrm>
                <a:off x="5717880" y="4713120"/>
                <a:ext cx="533160" cy="390240"/>
                <a:chOff x="5717880" y="4713120"/>
                <a:chExt cx="533160" cy="390240"/>
              </a:xfrm>
            </p:grpSpPr>
            <p:sp>
              <p:nvSpPr>
                <p:cNvPr id="5123" name=""/>
                <p:cNvSpPr/>
                <p:nvPr/>
              </p:nvSpPr>
              <p:spPr>
                <a:xfrm flipV="1">
                  <a:off x="6015960" y="4713120"/>
                  <a:ext cx="227880" cy="3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4" name=""/>
                <p:cNvGrpSpPr/>
                <p:nvPr/>
              </p:nvGrpSpPr>
              <p:grpSpPr>
                <a:xfrm>
                  <a:off x="5717880" y="4713120"/>
                  <a:ext cx="533160" cy="390240"/>
                  <a:chOff x="5717880" y="4713120"/>
                  <a:chExt cx="533160" cy="390240"/>
                </a:xfrm>
              </p:grpSpPr>
              <p:sp>
                <p:nvSpPr>
                  <p:cNvPr id="5125" name=""/>
                  <p:cNvSpPr/>
                  <p:nvPr/>
                </p:nvSpPr>
                <p:spPr>
                  <a:xfrm flipV="1">
                    <a:off x="5717880" y="5098320"/>
                    <a:ext cx="3045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"/>
                  <p:cNvSpPr/>
                  <p:nvPr/>
                </p:nvSpPr>
                <p:spPr>
                  <a:xfrm flipH="1" flipV="1">
                    <a:off x="6015960" y="4716720"/>
                    <a:ext cx="648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7" name=""/>
                  <p:cNvSpPr/>
                  <p:nvPr/>
                </p:nvSpPr>
                <p:spPr>
                  <a:xfrm>
                    <a:off x="6244200" y="4713120"/>
                    <a:ext cx="6840" cy="381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28" name=""/>
              <p:cNvSpPr/>
              <p:nvPr/>
            </p:nvSpPr>
            <p:spPr>
              <a:xfrm flipV="1">
                <a:off x="6251400" y="5088960"/>
                <a:ext cx="30456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9" name=""/>
          <p:cNvGrpSpPr/>
          <p:nvPr/>
        </p:nvGrpSpPr>
        <p:grpSpPr>
          <a:xfrm>
            <a:off x="1042560" y="5486400"/>
            <a:ext cx="6806160" cy="671760"/>
            <a:chOff x="1042560" y="5486400"/>
            <a:chExt cx="6806160" cy="671760"/>
          </a:xfrm>
        </p:grpSpPr>
        <p:sp>
          <p:nvSpPr>
            <p:cNvPr id="5130" name=""/>
            <p:cNvSpPr/>
            <p:nvPr/>
          </p:nvSpPr>
          <p:spPr>
            <a:xfrm>
              <a:off x="1042560" y="55627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写出逻辑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6477120" y="565308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29200" y="55767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+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3429000" y="5638680"/>
              <a:ext cx="609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4572000" y="563868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3429000" y="5486400"/>
              <a:ext cx="1600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2743200" y="55627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"/>
                </a:rPr>
                <a:t>Y=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"/>
                </a:rPr>
                <a:t>AC • 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4267080" y="556272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3104" dur="500"/>
                                        <p:tgtEl>
                                          <p:spTgt spid="5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6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08" dur="500"/>
                                        <p:tgtEl>
                                          <p:spTgt spid="5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0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12" dur="500"/>
                                        <p:tgtEl>
                                          <p:spTgt spid="5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3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4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116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21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3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125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nodeType="clickEffect" fill="hold">
                      <p:stCondLst>
                        <p:cond delay="indefinite"/>
                      </p:stCondLst>
                      <p:childTnLst>
                        <p:par>
                          <p:cTn id="3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30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35" dur="500"/>
                                        <p:tgtEl>
                                          <p:spTgt spid="5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40" dur="500"/>
                                        <p:tgtEl>
                                          <p:spTgt spid="5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45" dur="500"/>
                                        <p:tgtEl>
                                          <p:spTgt spid="5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7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3149" dur="500"/>
                                        <p:tgtEl>
                                          <p:spTgt spid="5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54" dur="500"/>
                                        <p:tgtEl>
                                          <p:spTgt spid="5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837720" y="5335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. 6. 2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组合逻辑电路的综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9" name=""/>
          <p:cNvGrpSpPr/>
          <p:nvPr/>
        </p:nvGrpSpPr>
        <p:grpSpPr>
          <a:xfrm>
            <a:off x="1745640" y="1373040"/>
            <a:ext cx="5693400" cy="810000"/>
            <a:chOff x="1745640" y="1373040"/>
            <a:chExt cx="5693400" cy="810000"/>
          </a:xfrm>
        </p:grpSpPr>
        <p:sp>
          <p:nvSpPr>
            <p:cNvPr id="5140" name=""/>
            <p:cNvSpPr/>
            <p:nvPr/>
          </p:nvSpPr>
          <p:spPr>
            <a:xfrm>
              <a:off x="1745640" y="1525680"/>
              <a:ext cx="213156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"/>
                </a:rPr>
                <a:t>根据逻辑功能要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6283080" y="1601640"/>
              <a:ext cx="1155960" cy="5814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"/>
                </a:rPr>
                <a:t>逻辑电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4724280" y="198288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4947840" y="1373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设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4" name=""/>
          <p:cNvGrpSpPr/>
          <p:nvPr/>
        </p:nvGrpSpPr>
        <p:grpSpPr>
          <a:xfrm>
            <a:off x="950760" y="3002040"/>
            <a:ext cx="4825080" cy="2638440"/>
            <a:chOff x="950760" y="3002040"/>
            <a:chExt cx="4825080" cy="2638440"/>
          </a:xfrm>
        </p:grpSpPr>
        <p:sp>
          <p:nvSpPr>
            <p:cNvPr id="5145" name=""/>
            <p:cNvSpPr/>
            <p:nvPr/>
          </p:nvSpPr>
          <p:spPr>
            <a:xfrm>
              <a:off x="1607400" y="3002040"/>
              <a:ext cx="41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(1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由逻辑要求，列出逻辑状态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607400" y="3687480"/>
              <a:ext cx="41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(2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由逻辑状态表写出逻辑表达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361160" y="4373280"/>
              <a:ext cx="343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(3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简化和变换逻辑表达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950760" y="5059080"/>
              <a:ext cx="221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(4) </a:t>
              </a:r>
              <a:r>
                <a:rPr b="1" lang="zh-CN" sz="3200" spc="-1" strike="noStrike">
                  <a:solidFill>
                    <a:srgbClr val="000000"/>
                  </a:solidFill>
                  <a:latin typeface=""/>
                </a:rPr>
                <a:t>画出逻辑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9" name=""/>
          <p:cNvSpPr/>
          <p:nvPr/>
        </p:nvSpPr>
        <p:spPr>
          <a:xfrm>
            <a:off x="1338120" y="2362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"/>
              </a:rPr>
              <a:t>设计步骤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0" name=""/>
          <p:cNvGrpSpPr/>
          <p:nvPr/>
        </p:nvGrpSpPr>
        <p:grpSpPr>
          <a:xfrm>
            <a:off x="762120" y="5791320"/>
            <a:ext cx="5781600" cy="171000"/>
            <a:chOff x="762120" y="5791320"/>
            <a:chExt cx="5781600" cy="171000"/>
          </a:xfrm>
        </p:grpSpPr>
        <p:pic>
          <p:nvPicPr>
            <p:cNvPr id="5151" name="" descr=""/>
            <p:cNvPicPr/>
            <p:nvPr/>
          </p:nvPicPr>
          <p:blipFill>
            <a:blip r:embed="rId2"/>
            <a:stretch/>
          </p:blipFill>
          <p:spPr>
            <a:xfrm>
              <a:off x="1667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2" name="" descr=""/>
            <p:cNvPicPr/>
            <p:nvPr/>
          </p:nvPicPr>
          <p:blipFill>
            <a:blip r:embed="rId3"/>
            <a:stretch/>
          </p:blipFill>
          <p:spPr>
            <a:xfrm>
              <a:off x="1809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3" name="" descr=""/>
            <p:cNvPicPr/>
            <p:nvPr/>
          </p:nvPicPr>
          <p:blipFill>
            <a:blip r:embed="rId4"/>
            <a:stretch/>
          </p:blipFill>
          <p:spPr>
            <a:xfrm>
              <a:off x="197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4" name="" descr=""/>
            <p:cNvPicPr/>
            <p:nvPr/>
          </p:nvPicPr>
          <p:blipFill>
            <a:blip r:embed="rId5"/>
            <a:stretch/>
          </p:blipFill>
          <p:spPr>
            <a:xfrm>
              <a:off x="2266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5" name="" descr=""/>
            <p:cNvPicPr/>
            <p:nvPr/>
          </p:nvPicPr>
          <p:blipFill>
            <a:blip r:embed="rId6"/>
            <a:stretch/>
          </p:blipFill>
          <p:spPr>
            <a:xfrm>
              <a:off x="2428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6" name="" descr=""/>
            <p:cNvPicPr/>
            <p:nvPr/>
          </p:nvPicPr>
          <p:blipFill>
            <a:blip r:embed="rId7"/>
            <a:stretch/>
          </p:blipFill>
          <p:spPr>
            <a:xfrm>
              <a:off x="2581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7" name="" descr=""/>
            <p:cNvPicPr/>
            <p:nvPr/>
          </p:nvPicPr>
          <p:blipFill>
            <a:blip r:embed="rId8"/>
            <a:stretch/>
          </p:blipFill>
          <p:spPr>
            <a:xfrm>
              <a:off x="2724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8" name="" descr=""/>
            <p:cNvPicPr/>
            <p:nvPr/>
          </p:nvPicPr>
          <p:blipFill>
            <a:blip r:embed="rId9"/>
            <a:stretch/>
          </p:blipFill>
          <p:spPr>
            <a:xfrm>
              <a:off x="2886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9" name="" descr=""/>
            <p:cNvPicPr/>
            <p:nvPr/>
          </p:nvPicPr>
          <p:blipFill>
            <a:blip r:embed="rId10"/>
            <a:stretch/>
          </p:blipFill>
          <p:spPr>
            <a:xfrm>
              <a:off x="3181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0" name="" descr=""/>
            <p:cNvPicPr/>
            <p:nvPr/>
          </p:nvPicPr>
          <p:blipFill>
            <a:blip r:embed="rId11"/>
            <a:stretch/>
          </p:blipFill>
          <p:spPr>
            <a:xfrm>
              <a:off x="3343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1" name="" descr=""/>
            <p:cNvPicPr/>
            <p:nvPr/>
          </p:nvPicPr>
          <p:blipFill>
            <a:blip r:embed="rId12"/>
            <a:stretch/>
          </p:blipFill>
          <p:spPr>
            <a:xfrm>
              <a:off x="3495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2" name="" descr=""/>
            <p:cNvPicPr/>
            <p:nvPr/>
          </p:nvPicPr>
          <p:blipFill>
            <a:blip r:embed="rId13"/>
            <a:stretch/>
          </p:blipFill>
          <p:spPr>
            <a:xfrm>
              <a:off x="3638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3" name="" descr=""/>
            <p:cNvPicPr/>
            <p:nvPr/>
          </p:nvPicPr>
          <p:blipFill>
            <a:blip r:embed="rId14"/>
            <a:stretch/>
          </p:blipFill>
          <p:spPr>
            <a:xfrm>
              <a:off x="2124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4" name="" descr=""/>
            <p:cNvPicPr/>
            <p:nvPr/>
          </p:nvPicPr>
          <p:blipFill>
            <a:blip r:embed="rId15"/>
            <a:stretch/>
          </p:blipFill>
          <p:spPr>
            <a:xfrm>
              <a:off x="3038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5" name="" descr=""/>
            <p:cNvPicPr/>
            <p:nvPr/>
          </p:nvPicPr>
          <p:blipFill>
            <a:blip r:embed="rId16"/>
            <a:stretch/>
          </p:blipFill>
          <p:spPr>
            <a:xfrm>
              <a:off x="3800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6" name="" descr=""/>
            <p:cNvPicPr/>
            <p:nvPr/>
          </p:nvPicPr>
          <p:blipFill>
            <a:blip r:embed="rId17"/>
            <a:stretch/>
          </p:blipFill>
          <p:spPr>
            <a:xfrm>
              <a:off x="3953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7" name="" descr=""/>
            <p:cNvPicPr/>
            <p:nvPr/>
          </p:nvPicPr>
          <p:blipFill>
            <a:blip r:embed="rId18"/>
            <a:stretch/>
          </p:blipFill>
          <p:spPr>
            <a:xfrm>
              <a:off x="4095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8" name="" descr=""/>
            <p:cNvPicPr/>
            <p:nvPr/>
          </p:nvPicPr>
          <p:blipFill>
            <a:blip r:embed="rId19"/>
            <a:stretch/>
          </p:blipFill>
          <p:spPr>
            <a:xfrm>
              <a:off x="4257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9" name="" descr=""/>
            <p:cNvPicPr/>
            <p:nvPr/>
          </p:nvPicPr>
          <p:blipFill>
            <a:blip r:embed="rId20"/>
            <a:stretch/>
          </p:blipFill>
          <p:spPr>
            <a:xfrm>
              <a:off x="44103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0" name="" descr=""/>
            <p:cNvPicPr/>
            <p:nvPr/>
          </p:nvPicPr>
          <p:blipFill>
            <a:blip r:embed="rId21"/>
            <a:stretch/>
          </p:blipFill>
          <p:spPr>
            <a:xfrm>
              <a:off x="4552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1" name="" descr=""/>
            <p:cNvPicPr/>
            <p:nvPr/>
          </p:nvPicPr>
          <p:blipFill>
            <a:blip r:embed="rId22"/>
            <a:stretch/>
          </p:blipFill>
          <p:spPr>
            <a:xfrm>
              <a:off x="47149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2" name="" descr=""/>
            <p:cNvPicPr/>
            <p:nvPr/>
          </p:nvPicPr>
          <p:blipFill>
            <a:blip r:embed="rId23"/>
            <a:stretch/>
          </p:blipFill>
          <p:spPr>
            <a:xfrm>
              <a:off x="5010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3" name="" descr=""/>
            <p:cNvPicPr/>
            <p:nvPr/>
          </p:nvPicPr>
          <p:blipFill>
            <a:blip r:embed="rId24"/>
            <a:stretch/>
          </p:blipFill>
          <p:spPr>
            <a:xfrm>
              <a:off x="51721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4" name="" descr=""/>
            <p:cNvPicPr/>
            <p:nvPr/>
          </p:nvPicPr>
          <p:blipFill>
            <a:blip r:embed="rId25"/>
            <a:stretch/>
          </p:blipFill>
          <p:spPr>
            <a:xfrm>
              <a:off x="53247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5" name="" descr=""/>
            <p:cNvPicPr/>
            <p:nvPr/>
          </p:nvPicPr>
          <p:blipFill>
            <a:blip r:embed="rId26"/>
            <a:stretch/>
          </p:blipFill>
          <p:spPr>
            <a:xfrm>
              <a:off x="5467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6" name="" descr=""/>
            <p:cNvPicPr/>
            <p:nvPr/>
          </p:nvPicPr>
          <p:blipFill>
            <a:blip r:embed="rId27"/>
            <a:stretch/>
          </p:blipFill>
          <p:spPr>
            <a:xfrm>
              <a:off x="48675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7" name="" descr=""/>
            <p:cNvPicPr/>
            <p:nvPr/>
          </p:nvPicPr>
          <p:blipFill>
            <a:blip r:embed="rId28"/>
            <a:stretch/>
          </p:blipFill>
          <p:spPr>
            <a:xfrm>
              <a:off x="56293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8" name="" descr=""/>
            <p:cNvPicPr/>
            <p:nvPr/>
          </p:nvPicPr>
          <p:blipFill>
            <a:blip r:embed="rId29"/>
            <a:stretch/>
          </p:blipFill>
          <p:spPr>
            <a:xfrm>
              <a:off x="5924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9" name="" descr=""/>
            <p:cNvPicPr/>
            <p:nvPr/>
          </p:nvPicPr>
          <p:blipFill>
            <a:blip r:embed="rId30"/>
            <a:stretch/>
          </p:blipFill>
          <p:spPr>
            <a:xfrm>
              <a:off x="60865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0" name="" descr=""/>
            <p:cNvPicPr/>
            <p:nvPr/>
          </p:nvPicPr>
          <p:blipFill>
            <a:blip r:embed="rId31"/>
            <a:stretch/>
          </p:blipFill>
          <p:spPr>
            <a:xfrm>
              <a:off x="62391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1" name="" descr=""/>
            <p:cNvPicPr/>
            <p:nvPr/>
          </p:nvPicPr>
          <p:blipFill>
            <a:blip r:embed="rId32"/>
            <a:stretch/>
          </p:blipFill>
          <p:spPr>
            <a:xfrm>
              <a:off x="6381720" y="5800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2" name="" descr=""/>
            <p:cNvPicPr/>
            <p:nvPr/>
          </p:nvPicPr>
          <p:blipFill>
            <a:blip r:embed="rId33"/>
            <a:stretch/>
          </p:blipFill>
          <p:spPr>
            <a:xfrm>
              <a:off x="5781960" y="58006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83" name=""/>
            <p:cNvGrpSpPr/>
            <p:nvPr/>
          </p:nvGrpSpPr>
          <p:grpSpPr>
            <a:xfrm>
              <a:off x="762120" y="5791320"/>
              <a:ext cx="923760" cy="161640"/>
              <a:chOff x="762120" y="5791320"/>
              <a:chExt cx="923760" cy="161640"/>
            </a:xfrm>
          </p:grpSpPr>
          <p:pic>
            <p:nvPicPr>
              <p:cNvPr id="5184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9050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5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0670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6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2193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7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3622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8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5242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9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621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nodeType="clickEffect" fill="hold">
                      <p:stCondLst>
                        <p:cond delay="indefinite"/>
                      </p:stCondLst>
                      <p:childTnLst>
                        <p:par>
                          <p:cTn id="3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61" dur="500"/>
                                        <p:tgtEl>
                                          <p:spTgt spid="5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66" dur="500"/>
                                        <p:tgtEl>
                                          <p:spTgt spid="5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8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70" dur="500"/>
                                        <p:tgtEl>
                                          <p:spTgt spid="5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"/>
          <p:cNvSpPr/>
          <p:nvPr/>
        </p:nvSpPr>
        <p:spPr>
          <a:xfrm>
            <a:off x="457200" y="54288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计一个三人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C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表决电路。每人有一按键，如果赞同，按键，表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；如不赞同，不按键，表示 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表决结果用指示灯表示，多数赞同，灯亮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反之灯不亮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056600" y="237636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685800" y="2819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1094400" y="3290760"/>
            <a:ext cx="42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取 </a:t>
            </a: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=“1”(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或</a:t>
            </a: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r>
              <a:rPr b="1" lang="en-US" sz="2800" spc="-1" strike="noStrike">
                <a:solidFill>
                  <a:srgbClr val="333300"/>
                </a:solidFill>
                <a:latin typeface=""/>
              </a:rPr>
              <a:t>=“0” )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列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4" name=""/>
          <p:cNvGrpSpPr/>
          <p:nvPr/>
        </p:nvGrpSpPr>
        <p:grpSpPr>
          <a:xfrm>
            <a:off x="533520" y="3809880"/>
            <a:ext cx="2102760" cy="520560"/>
            <a:chOff x="533520" y="3809880"/>
            <a:chExt cx="2102760" cy="520560"/>
          </a:xfrm>
        </p:grpSpPr>
        <p:sp>
          <p:nvSpPr>
            <p:cNvPr id="5195" name=""/>
            <p:cNvSpPr/>
            <p:nvPr/>
          </p:nvSpPr>
          <p:spPr>
            <a:xfrm>
              <a:off x="955800" y="38098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"/>
                </a:rPr>
                <a:t>取 </a:t>
              </a:r>
              <a:r>
                <a:rPr b="1" i="1" lang="en-US" sz="2800" spc="-1" strike="noStrike">
                  <a:solidFill>
                    <a:srgbClr val="3333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 = “1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33520" y="3838320"/>
              <a:ext cx="380880" cy="4572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457200" y="4511880"/>
            <a:ext cx="4952880" cy="1501200"/>
            <a:chOff x="457200" y="4511880"/>
            <a:chExt cx="4952880" cy="1501200"/>
          </a:xfrm>
        </p:grpSpPr>
        <p:sp>
          <p:nvSpPr>
            <p:cNvPr id="5198" name=""/>
            <p:cNvSpPr/>
            <p:nvPr/>
          </p:nvSpPr>
          <p:spPr>
            <a:xfrm>
              <a:off x="457200" y="4511880"/>
              <a:ext cx="495288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对应于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Y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=1</a:t>
              </a: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若输入变量为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1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，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则取输入变量本身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如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"/>
                </a:rPr>
                <a:t>A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；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若输入变量为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“</a:t>
              </a: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0”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则取其反变量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(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如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"/>
                </a:rPr>
                <a:t>A</a:t>
              </a:r>
              <a:r>
                <a:rPr b="1" lang="en-US" sz="2800" spc="-1" strike="noStrike">
                  <a:solidFill>
                    <a:srgbClr val="006600"/>
                  </a:solidFill>
                  <a:latin typeface=""/>
                </a:rPr>
                <a:t> )</a:t>
              </a:r>
              <a:r>
                <a:rPr b="1" lang="zh-CN" sz="2800" spc="-1" strike="noStrike">
                  <a:solidFill>
                    <a:srgbClr val="006600"/>
                  </a:solidFill>
                  <a:latin typeface="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1487160" y="5877000"/>
              <a:ext cx="2282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5315400" y="2575080"/>
            <a:ext cx="3295080" cy="3446280"/>
            <a:chOff x="5315400" y="2575080"/>
            <a:chExt cx="3295080" cy="3446280"/>
          </a:xfrm>
        </p:grpSpPr>
        <p:sp>
          <p:nvSpPr>
            <p:cNvPr id="5201" name=""/>
            <p:cNvSpPr/>
            <p:nvPr/>
          </p:nvSpPr>
          <p:spPr>
            <a:xfrm>
              <a:off x="5315400" y="3040200"/>
              <a:ext cx="312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0    0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943240" y="25750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943240" y="299736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7772040" y="2575080"/>
              <a:ext cx="0" cy="330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14640" y="25750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860800" y="339264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0    1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860800" y="374364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1    0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60800" y="409428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1    1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60800" y="444672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0    0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60800" y="479916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0    1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60800" y="515016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1    0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60800" y="550080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1    1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019560" y="59436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1" dur="indefinite" restart="never" nodeType="tmRoot">
          <p:childTnLst>
            <p:seq>
              <p:cTn id="3172" dur="indefinite" nodeType="mainSeq">
                <p:childTnLst>
                  <p:par>
                    <p:cTn id="3173" nodeType="clickEffect" fill="hold">
                      <p:stCondLst>
                        <p:cond delay="indefinite"/>
                      </p:stCondLst>
                      <p:childTnLst>
                        <p:par>
                          <p:cTn id="3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77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nodeType="clickEffect" fill="hold">
                      <p:stCondLst>
                        <p:cond delay="indefinite"/>
                      </p:stCondLst>
                      <p:childTnLst>
                        <p:par>
                          <p:cTn id="3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82" dur="500"/>
                                        <p:tgtEl>
                                          <p:spTgt spid="5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87" dur="500"/>
                                        <p:tgtEl>
                                          <p:spTgt spid="5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nodeType="clickEffect" fill="hold">
                      <p:stCondLst>
                        <p:cond delay="indefinite"/>
                      </p:stCondLst>
                      <p:childTnLst>
                        <p:par>
                          <p:cTn id="3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92" dur="500"/>
                                        <p:tgtEl>
                                          <p:spTgt spid="5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nodeType="clickEffect" fill="hold">
                      <p:stCondLst>
                        <p:cond delay="indefinite"/>
                      </p:stCondLst>
                      <p:childTnLst>
                        <p:par>
                          <p:cTn id="3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197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nodeType="clickEffect" fill="hold">
                      <p:stCondLst>
                        <p:cond delay="indefinite"/>
                      </p:stCondLst>
                      <p:childTnLst>
                        <p:par>
                          <p:cTn id="3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02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4" name="" descr=""/>
          <p:cNvPicPr/>
          <p:nvPr/>
        </p:nvPicPr>
        <p:blipFill>
          <a:blip r:embed="rId1"/>
          <a:stretch/>
        </p:blipFill>
        <p:spPr>
          <a:xfrm>
            <a:off x="857160" y="1490760"/>
            <a:ext cx="4648320" cy="560160"/>
          </a:xfrm>
          <a:prstGeom prst="rect">
            <a:avLst/>
          </a:prstGeom>
          <a:ln w="0">
            <a:noFill/>
          </a:ln>
        </p:spPr>
      </p:pic>
      <p:sp>
        <p:nvSpPr>
          <p:cNvPr id="5215" name=""/>
          <p:cNvSpPr/>
          <p:nvPr/>
        </p:nvSpPr>
        <p:spPr>
          <a:xfrm>
            <a:off x="685800" y="5157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用“与非”门构成逻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609480" y="428400"/>
            <a:ext cx="7086600" cy="56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在一种组合中，各输入变量之间是“与”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628560" y="990000"/>
            <a:ext cx="3962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各组合之间是“或”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8" name=""/>
          <p:cNvGrpSpPr/>
          <p:nvPr/>
        </p:nvGrpSpPr>
        <p:grpSpPr>
          <a:xfrm>
            <a:off x="5315400" y="1736640"/>
            <a:ext cx="3295080" cy="3446280"/>
            <a:chOff x="5315400" y="1736640"/>
            <a:chExt cx="3295080" cy="3446280"/>
          </a:xfrm>
        </p:grpSpPr>
        <p:sp>
          <p:nvSpPr>
            <p:cNvPr id="5219" name=""/>
            <p:cNvSpPr/>
            <p:nvPr/>
          </p:nvSpPr>
          <p:spPr>
            <a:xfrm>
              <a:off x="5315400" y="2201760"/>
              <a:ext cx="312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0    0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943240" y="173664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943240" y="21589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7772040" y="1736640"/>
              <a:ext cx="0" cy="330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14640" y="173664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860800" y="255420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0    1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860800" y="290520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1    0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860800" y="325584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0     1    1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60800" y="360828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0    0   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60800" y="396072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0    1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860800" y="431172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1    0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860800" y="466236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1     1    1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6019560" y="510516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32" name="" descr=""/>
          <p:cNvPicPr/>
          <p:nvPr/>
        </p:nvPicPr>
        <p:blipFill>
          <a:blip r:embed="rId4"/>
          <a:stretch/>
        </p:blipFill>
        <p:spPr>
          <a:xfrm>
            <a:off x="1066680" y="4286160"/>
            <a:ext cx="3019680" cy="533520"/>
          </a:xfrm>
          <a:prstGeom prst="rect">
            <a:avLst/>
          </a:prstGeom>
          <a:ln w="0">
            <a:noFill/>
          </a:ln>
        </p:spPr>
      </p:pic>
      <p:pic>
        <p:nvPicPr>
          <p:cNvPr id="5233" name="" descr=""/>
          <p:cNvPicPr/>
          <p:nvPr/>
        </p:nvPicPr>
        <p:blipFill>
          <a:blip r:embed="rId5"/>
          <a:stretch/>
        </p:blipFill>
        <p:spPr>
          <a:xfrm>
            <a:off x="838080" y="5676840"/>
            <a:ext cx="3019680" cy="700200"/>
          </a:xfrm>
          <a:prstGeom prst="rect">
            <a:avLst/>
          </a:prstGeom>
          <a:ln w="0">
            <a:noFill/>
          </a:ln>
        </p:spPr>
      </p:pic>
      <p:pic>
        <p:nvPicPr>
          <p:cNvPr id="5234" name="" descr=""/>
          <p:cNvPicPr/>
          <p:nvPr/>
        </p:nvPicPr>
        <p:blipFill>
          <a:blip r:embed="rId6"/>
          <a:stretch/>
        </p:blipFill>
        <p:spPr>
          <a:xfrm>
            <a:off x="3924360" y="5681520"/>
            <a:ext cx="2289240" cy="700200"/>
          </a:xfrm>
          <a:prstGeom prst="rect">
            <a:avLst/>
          </a:prstGeom>
          <a:ln w="0">
            <a:noFill/>
          </a:ln>
        </p:spPr>
      </p:pic>
      <p:sp>
        <p:nvSpPr>
          <p:cNvPr id="5235" name=""/>
          <p:cNvSpPr/>
          <p:nvPr/>
        </p:nvSpPr>
        <p:spPr>
          <a:xfrm>
            <a:off x="3637080" y="2847960"/>
            <a:ext cx="477720" cy="12412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687760" y="3648240"/>
            <a:ext cx="1463400" cy="452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3583080" y="3648240"/>
            <a:ext cx="1463760" cy="452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8" name="" descr=""/>
          <p:cNvPicPr/>
          <p:nvPr/>
        </p:nvPicPr>
        <p:blipFill>
          <a:blip r:embed="rId7"/>
          <a:stretch/>
        </p:blipFill>
        <p:spPr>
          <a:xfrm>
            <a:off x="1409760" y="4729320"/>
            <a:ext cx="2287440" cy="519120"/>
          </a:xfrm>
          <a:prstGeom prst="rect">
            <a:avLst/>
          </a:prstGeom>
          <a:ln w="0">
            <a:noFill/>
          </a:ln>
        </p:spPr>
      </p:pic>
      <p:grpSp>
        <p:nvGrpSpPr>
          <p:cNvPr id="5239" name=""/>
          <p:cNvGrpSpPr/>
          <p:nvPr/>
        </p:nvGrpSpPr>
        <p:grpSpPr>
          <a:xfrm>
            <a:off x="1068480" y="1945440"/>
            <a:ext cx="4133880" cy="2245680"/>
            <a:chOff x="1068480" y="1945440"/>
            <a:chExt cx="4133880" cy="2245680"/>
          </a:xfrm>
        </p:grpSpPr>
        <p:sp>
          <p:nvSpPr>
            <p:cNvPr id="5240" name=""/>
            <p:cNvSpPr/>
            <p:nvPr/>
          </p:nvSpPr>
          <p:spPr>
            <a:xfrm>
              <a:off x="1684440" y="2682720"/>
              <a:ext cx="3517920" cy="1501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1684440" y="3443400"/>
              <a:ext cx="351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3409920" y="2682720"/>
              <a:ext cx="0" cy="15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2546280" y="2682720"/>
              <a:ext cx="0" cy="15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272120" y="2682720"/>
              <a:ext cx="0" cy="15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 flipV="1">
              <a:off x="1168560" y="2185560"/>
              <a:ext cx="52992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1068480" y="225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1282320" y="194544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1806120" y="2210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2677680" y="2226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3606120" y="2226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403160" y="2226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1307880" y="2823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1307880" y="3620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2817720" y="2853720"/>
            <a:ext cx="2073240" cy="1285560"/>
            <a:chOff x="2817720" y="2853720"/>
            <a:chExt cx="2073240" cy="1285560"/>
          </a:xfrm>
        </p:grpSpPr>
        <p:sp>
          <p:nvSpPr>
            <p:cNvPr id="5255" name=""/>
            <p:cNvSpPr/>
            <p:nvPr/>
          </p:nvSpPr>
          <p:spPr>
            <a:xfrm>
              <a:off x="3674160" y="358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4532040" y="3618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2817720" y="359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653280" y="285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3" dur="indefinite" restart="never" nodeType="tmRoot">
          <p:childTnLst>
            <p:seq>
              <p:cTn id="3204" dur="indefinite" nodeType="mainSeq">
                <p:childTnLst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09" dur="5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14" dur="500"/>
                                        <p:tgtEl>
                                          <p:spTgt spid="5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nodeType="clickEffect" fill="hold">
                      <p:stCondLst>
                        <p:cond delay="indefinite"/>
                      </p:stCondLst>
                      <p:childTnLst>
                        <p:par>
                          <p:cTn id="3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19" dur="500"/>
                                        <p:tgtEl>
                                          <p:spTgt spid="5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24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29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nodeType="clickEffect" fill="hold">
                      <p:stCondLst>
                        <p:cond delay="indefinite"/>
                      </p:stCondLst>
                      <p:childTnLst>
                        <p:par>
                          <p:cTn id="3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34" dur="500"/>
                                        <p:tgtEl>
                                          <p:spTgt spid="5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nodeType="clickEffect" fill="hold">
                      <p:stCondLst>
                        <p:cond delay="indefinite"/>
                      </p:stCondLst>
                      <p:childTnLst>
                        <p:par>
                          <p:cTn id="32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239" dur="500"/>
                                        <p:tgtEl>
                                          <p:spTgt spid="5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nodeType="clickEffect" fill="hold">
                      <p:stCondLst>
                        <p:cond delay="indefinite"/>
                      </p:stCondLst>
                      <p:childTnLst>
                        <p:par>
                          <p:cTn id="3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44" dur="5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nodeType="clickEffect" fill="hold">
                      <p:stCondLst>
                        <p:cond delay="indefinite"/>
                      </p:stCondLst>
                      <p:childTnLst>
                        <p:par>
                          <p:cTn id="3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49" dur="500"/>
                                        <p:tgtEl>
                                          <p:spTgt spid="5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nodeType="clickEffect" fill="hold">
                      <p:stCondLst>
                        <p:cond delay="indefinite"/>
                      </p:stCondLst>
                      <p:childTnLst>
                        <p:par>
                          <p:cTn id="3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54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nodeType="clickEffect" fill="hold">
                      <p:stCondLst>
                        <p:cond delay="indefinite"/>
                      </p:stCondLst>
                      <p:childTnLst>
                        <p:par>
                          <p:cTn id="3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59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nodeType="clickEffect" fill="hold">
                      <p:stCondLst>
                        <p:cond delay="indefinite"/>
                      </p:stCondLst>
                      <p:childTnLst>
                        <p:par>
                          <p:cTn id="3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64" dur="500"/>
                                        <p:tgtEl>
                                          <p:spTgt spid="5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"/>
          <p:cNvSpPr/>
          <p:nvPr/>
        </p:nvSpPr>
        <p:spPr>
          <a:xfrm>
            <a:off x="3481200" y="4799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人表决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0" name="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2438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5261" name=""/>
          <p:cNvGrpSpPr/>
          <p:nvPr/>
        </p:nvGrpSpPr>
        <p:grpSpPr>
          <a:xfrm>
            <a:off x="848160" y="1981080"/>
            <a:ext cx="3978360" cy="2265480"/>
            <a:chOff x="848160" y="1981080"/>
            <a:chExt cx="3978360" cy="2265480"/>
          </a:xfrm>
        </p:grpSpPr>
        <p:sp>
          <p:nvSpPr>
            <p:cNvPr id="5262" name=""/>
            <p:cNvSpPr/>
            <p:nvPr/>
          </p:nvSpPr>
          <p:spPr>
            <a:xfrm>
              <a:off x="1886040" y="2205000"/>
              <a:ext cx="536400" cy="744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1912680" y="2240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798720" y="2711520"/>
              <a:ext cx="536760" cy="745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1886040" y="3170160"/>
              <a:ext cx="536400" cy="744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909080" y="3068280"/>
              <a:ext cx="442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741760" y="3452760"/>
              <a:ext cx="534960" cy="744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763720" y="3459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352520" y="2349360"/>
              <a:ext cx="5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676520" y="336240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298680" y="3848040"/>
              <a:ext cx="2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flipV="1">
              <a:off x="1676520" y="2360520"/>
              <a:ext cx="0" cy="10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352520" y="2752560"/>
              <a:ext cx="5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1514520" y="373212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443320" y="35733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406600" y="2577960"/>
              <a:ext cx="113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502080" y="2900520"/>
              <a:ext cx="30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1365120" y="4046400"/>
              <a:ext cx="137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514680" y="3279600"/>
              <a:ext cx="0" cy="56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514680" y="2562120"/>
              <a:ext cx="180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3514680" y="3292560"/>
              <a:ext cx="30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3799800" y="2620440"/>
              <a:ext cx="442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4354560" y="311796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873720" y="198108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1284120" y="2319480"/>
              <a:ext cx="8100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1271520" y="2711520"/>
              <a:ext cx="8100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1284120" y="3995640"/>
              <a:ext cx="81000" cy="8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848160" y="24541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876240" y="37260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4651200" y="3076560"/>
              <a:ext cx="8100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4446000" y="25495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1514520" y="2792520"/>
              <a:ext cx="0" cy="9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5037840" y="1608120"/>
            <a:ext cx="3714840" cy="2966400"/>
            <a:chOff x="5037840" y="1608120"/>
            <a:chExt cx="3714840" cy="2966400"/>
          </a:xfrm>
        </p:grpSpPr>
        <p:sp>
          <p:nvSpPr>
            <p:cNvPr id="5294" name=""/>
            <p:cNvSpPr/>
            <p:nvPr/>
          </p:nvSpPr>
          <p:spPr>
            <a:xfrm>
              <a:off x="6404040" y="1709640"/>
              <a:ext cx="536400" cy="746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430680" y="1746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6951600" y="2036880"/>
              <a:ext cx="13356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6404040" y="3800520"/>
              <a:ext cx="536400" cy="745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6430680" y="3835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951600" y="4125960"/>
              <a:ext cx="13356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404040" y="2828880"/>
              <a:ext cx="536400" cy="747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430680" y="2864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951600" y="3156120"/>
              <a:ext cx="13356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7464600" y="2809800"/>
              <a:ext cx="536400" cy="747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486560" y="2846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8010360" y="3137040"/>
              <a:ext cx="13500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543640" y="1895400"/>
              <a:ext cx="86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543640" y="3090960"/>
              <a:ext cx="86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543640" y="4303800"/>
              <a:ext cx="86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V="1">
              <a:off x="6132600" y="2209320"/>
              <a:ext cx="0" cy="89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3520" y="2217600"/>
              <a:ext cx="32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6126120" y="3352320"/>
              <a:ext cx="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113520" y="3352680"/>
              <a:ext cx="29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3520" y="1895400"/>
              <a:ext cx="0" cy="209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6120" y="3967200"/>
              <a:ext cx="53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7085160" y="320364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085160" y="20844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7237440" y="2084400"/>
              <a:ext cx="0" cy="81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7237440" y="290340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085160" y="41720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7237440" y="3352680"/>
              <a:ext cx="0" cy="81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7237440" y="335268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462640" y="1865160"/>
              <a:ext cx="8100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462640" y="3057480"/>
              <a:ext cx="8100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489640" y="4264200"/>
              <a:ext cx="81000" cy="80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063400" y="160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037840" y="2841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5066640" y="4114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8145360" y="319392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8386200" y="2976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0" name="" descr=""/>
          <p:cNvPicPr/>
          <p:nvPr/>
        </p:nvPicPr>
        <p:blipFill>
          <a:blip r:embed="rId2"/>
          <a:stretch/>
        </p:blipFill>
        <p:spPr>
          <a:xfrm>
            <a:off x="1155600" y="914400"/>
            <a:ext cx="256716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nodeType="clickEffect" fill="hold">
                      <p:stCondLst>
                        <p:cond delay="indefinite"/>
                      </p:stCondLst>
                      <p:childTnLst>
                        <p:par>
                          <p:cTn id="3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71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nodeType="clickEffect" fill="hold">
                      <p:stCondLst>
                        <p:cond delay="indefinite"/>
                      </p:stCondLst>
                      <p:childTnLst>
                        <p:par>
                          <p:cTn id="3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7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nodeType="clickEffect" fill="hold">
                      <p:stCondLst>
                        <p:cond delay="indefinite"/>
                      </p:stCondLst>
                      <p:childTnLst>
                        <p:par>
                          <p:cTn id="3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81" dur="500"/>
                                        <p:tgtEl>
                                          <p:spTgt spid="5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86" dur="500"/>
                                        <p:tgtEl>
                                          <p:spTgt spid="5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nodeType="clickEffect" fill="hold">
                      <p:stCondLst>
                        <p:cond delay="indefinite"/>
                      </p:stCondLst>
                      <p:childTnLst>
                        <p:par>
                          <p:cTn id="3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91" dur="500"/>
                                        <p:tgtEl>
                                          <p:spTgt spid="5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"/>
          <p:cNvSpPr/>
          <p:nvPr/>
        </p:nvSpPr>
        <p:spPr>
          <a:xfrm>
            <a:off x="457200" y="380880"/>
            <a:ext cx="8229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计一个三变量奇偶检验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要求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当输入变量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中有奇数个同时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时，输出为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，否则为 “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用“与非”门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810720" y="304812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438120" y="3562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4" name=""/>
          <p:cNvGrpSpPr/>
          <p:nvPr/>
        </p:nvGrpSpPr>
        <p:grpSpPr>
          <a:xfrm>
            <a:off x="5544000" y="2438280"/>
            <a:ext cx="3219120" cy="3445560"/>
            <a:chOff x="5544000" y="2438280"/>
            <a:chExt cx="3219120" cy="3445560"/>
          </a:xfrm>
        </p:grpSpPr>
        <p:grpSp>
          <p:nvGrpSpPr>
            <p:cNvPr id="5335" name=""/>
            <p:cNvGrpSpPr/>
            <p:nvPr/>
          </p:nvGrpSpPr>
          <p:grpSpPr>
            <a:xfrm>
              <a:off x="5544000" y="2438280"/>
              <a:ext cx="3218760" cy="3445560"/>
              <a:chOff x="5544000" y="2438280"/>
              <a:chExt cx="3218760" cy="3445560"/>
            </a:xfrm>
          </p:grpSpPr>
          <p:sp>
            <p:nvSpPr>
              <p:cNvPr id="5336" name=""/>
              <p:cNvSpPr/>
              <p:nvPr/>
            </p:nvSpPr>
            <p:spPr>
              <a:xfrm>
                <a:off x="5544000" y="2903760"/>
                <a:ext cx="312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0    0   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7" name=""/>
              <p:cNvGrpSpPr/>
              <p:nvPr/>
            </p:nvGrpSpPr>
            <p:grpSpPr>
              <a:xfrm>
                <a:off x="5942160" y="2438280"/>
                <a:ext cx="2820600" cy="3445560"/>
                <a:chOff x="5942160" y="2438280"/>
                <a:chExt cx="2820600" cy="3445560"/>
              </a:xfrm>
            </p:grpSpPr>
            <p:sp>
              <p:nvSpPr>
                <p:cNvPr id="5338" name=""/>
                <p:cNvSpPr/>
                <p:nvPr/>
              </p:nvSpPr>
              <p:spPr>
                <a:xfrm>
                  <a:off x="6172200" y="243828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9" name=""/>
                <p:cNvSpPr/>
                <p:nvPr/>
              </p:nvSpPr>
              <p:spPr>
                <a:xfrm>
                  <a:off x="6172200" y="2859840"/>
                  <a:ext cx="259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0" name=""/>
                <p:cNvSpPr/>
                <p:nvPr/>
              </p:nvSpPr>
              <p:spPr>
                <a:xfrm>
                  <a:off x="8001000" y="2438280"/>
                  <a:ext cx="0" cy="330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1" name=""/>
                <p:cNvSpPr/>
                <p:nvPr/>
              </p:nvSpPr>
              <p:spPr>
                <a:xfrm>
                  <a:off x="5942160" y="2438280"/>
                  <a:ext cx="27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C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        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2" name=""/>
                <p:cNvSpPr/>
                <p:nvPr/>
              </p:nvSpPr>
              <p:spPr>
                <a:xfrm>
                  <a:off x="6089760" y="325512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0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3" name=""/>
                <p:cNvSpPr/>
                <p:nvPr/>
              </p:nvSpPr>
              <p:spPr>
                <a:xfrm>
                  <a:off x="6089760" y="36064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4" name=""/>
                <p:cNvSpPr/>
                <p:nvPr/>
              </p:nvSpPr>
              <p:spPr>
                <a:xfrm>
                  <a:off x="6089760" y="395784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     1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5" name=""/>
                <p:cNvSpPr/>
                <p:nvPr/>
              </p:nvSpPr>
              <p:spPr>
                <a:xfrm>
                  <a:off x="6089760" y="430920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0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6" name=""/>
                <p:cNvSpPr/>
                <p:nvPr/>
              </p:nvSpPr>
              <p:spPr>
                <a:xfrm>
                  <a:off x="6089760" y="46623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0    1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7" name=""/>
                <p:cNvSpPr/>
                <p:nvPr/>
              </p:nvSpPr>
              <p:spPr>
                <a:xfrm>
                  <a:off x="6089760" y="501336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0        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>
                  <a:off x="6089760" y="5363280"/>
                  <a:ext cx="257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     1    1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9" name=""/>
            <p:cNvSpPr/>
            <p:nvPr/>
          </p:nvSpPr>
          <p:spPr>
            <a:xfrm>
              <a:off x="6248520" y="5806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50" name="" descr=""/>
          <p:cNvPicPr/>
          <p:nvPr/>
        </p:nvPicPr>
        <p:blipFill>
          <a:blip r:embed="rId1"/>
          <a:stretch/>
        </p:blipFill>
        <p:spPr>
          <a:xfrm>
            <a:off x="836640" y="5079960"/>
            <a:ext cx="4630680" cy="500040"/>
          </a:xfrm>
          <a:prstGeom prst="rect">
            <a:avLst/>
          </a:prstGeom>
          <a:ln w="0">
            <a:noFill/>
          </a:ln>
        </p:spPr>
      </p:pic>
      <p:grpSp>
        <p:nvGrpSpPr>
          <p:cNvPr id="5351" name=""/>
          <p:cNvGrpSpPr/>
          <p:nvPr/>
        </p:nvGrpSpPr>
        <p:grpSpPr>
          <a:xfrm>
            <a:off x="1162080" y="5619600"/>
            <a:ext cx="4210200" cy="666720"/>
            <a:chOff x="1162080" y="5619600"/>
            <a:chExt cx="4210200" cy="666720"/>
          </a:xfrm>
        </p:grpSpPr>
        <p:pic>
          <p:nvPicPr>
            <p:cNvPr id="5352" name="" descr=""/>
            <p:cNvPicPr/>
            <p:nvPr/>
          </p:nvPicPr>
          <p:blipFill>
            <a:blip r:embed="rId2"/>
            <a:stretch/>
          </p:blipFill>
          <p:spPr>
            <a:xfrm>
              <a:off x="1162080" y="5705640"/>
              <a:ext cx="419184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3" name=""/>
            <p:cNvSpPr/>
            <p:nvPr/>
          </p:nvSpPr>
          <p:spPr>
            <a:xfrm>
              <a:off x="1503720" y="5619600"/>
              <a:ext cx="38685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503720" y="5724720"/>
              <a:ext cx="811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502000" y="5724720"/>
              <a:ext cx="811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3562560" y="5705640"/>
              <a:ext cx="811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4560840" y="5705640"/>
              <a:ext cx="811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8" name=""/>
          <p:cNvSpPr/>
          <p:nvPr/>
        </p:nvSpPr>
        <p:spPr>
          <a:xfrm>
            <a:off x="531720" y="4438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"/>
              </a:rPr>
              <a:t>(3)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用“与非”门构成逻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9" name=""/>
          <p:cNvGrpSpPr/>
          <p:nvPr/>
        </p:nvGrpSpPr>
        <p:grpSpPr>
          <a:xfrm>
            <a:off x="1428840" y="4998600"/>
            <a:ext cx="4038480" cy="74520"/>
            <a:chOff x="1428840" y="4998600"/>
            <a:chExt cx="4038480" cy="74520"/>
          </a:xfrm>
        </p:grpSpPr>
        <p:sp>
          <p:nvSpPr>
            <p:cNvPr id="5360" name=""/>
            <p:cNvSpPr/>
            <p:nvPr/>
          </p:nvSpPr>
          <p:spPr>
            <a:xfrm>
              <a:off x="1428840" y="5073120"/>
              <a:ext cx="4038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1428840" y="4998600"/>
              <a:ext cx="4038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2" name="" descr=""/>
          <p:cNvPicPr/>
          <p:nvPr/>
        </p:nvPicPr>
        <p:blipFill>
          <a:blip r:embed="rId3"/>
          <a:stretch/>
        </p:blipFill>
        <p:spPr>
          <a:xfrm>
            <a:off x="895320" y="4019400"/>
            <a:ext cx="4630680" cy="500040"/>
          </a:xfrm>
          <a:prstGeom prst="rect">
            <a:avLst/>
          </a:prstGeom>
          <a:ln w="0">
            <a:noFill/>
          </a:ln>
        </p:spPr>
      </p:pic>
      <p:grpSp>
        <p:nvGrpSpPr>
          <p:cNvPr id="5363" name=""/>
          <p:cNvGrpSpPr/>
          <p:nvPr/>
        </p:nvGrpSpPr>
        <p:grpSpPr>
          <a:xfrm>
            <a:off x="3124080" y="1741680"/>
            <a:ext cx="2895480" cy="1747440"/>
            <a:chOff x="3124080" y="1741680"/>
            <a:chExt cx="2895480" cy="1747440"/>
          </a:xfrm>
        </p:grpSpPr>
        <p:sp>
          <p:nvSpPr>
            <p:cNvPr id="5364" name=""/>
            <p:cNvSpPr/>
            <p:nvPr/>
          </p:nvSpPr>
          <p:spPr>
            <a:xfrm flipH="1" flipV="1">
              <a:off x="3321000" y="2061720"/>
              <a:ext cx="32940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3124080" y="1998000"/>
              <a:ext cx="461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3202200" y="1741680"/>
              <a:ext cx="898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3650760" y="2403000"/>
              <a:ext cx="1183320" cy="108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650760" y="2945160"/>
              <a:ext cx="118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242240" y="2403000"/>
              <a:ext cx="0" cy="108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650760" y="1999440"/>
              <a:ext cx="591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256200" y="2947680"/>
              <a:ext cx="459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3256200" y="2441520"/>
              <a:ext cx="459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834440" y="2403000"/>
              <a:ext cx="1185120" cy="108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4834440" y="2945160"/>
              <a:ext cx="118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427720" y="2403000"/>
              <a:ext cx="0" cy="108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4242240" y="1970640"/>
              <a:ext cx="5918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4834440" y="1970640"/>
              <a:ext cx="593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427720" y="1970640"/>
              <a:ext cx="5918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4343760" y="24325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529240" y="24325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3751200" y="29761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001120" y="2976120"/>
              <a:ext cx="3546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3" name=""/>
          <p:cNvSpPr/>
          <p:nvPr/>
        </p:nvSpPr>
        <p:spPr>
          <a:xfrm>
            <a:off x="675720" y="252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2" dur="indefinite" restart="never" nodeType="tmRoot">
          <p:childTnLst>
            <p:seq>
              <p:cTn id="3293" dur="indefinite" nodeType="mainSeq">
                <p:childTnLst>
                  <p:par>
                    <p:cTn id="3294" nodeType="clickEffect" fill="hold">
                      <p:stCondLst>
                        <p:cond delay="indefinite"/>
                      </p:stCondLst>
                      <p:childTnLst>
                        <p:par>
                          <p:cTn id="32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298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03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nodeType="clickEffect" fill="hold">
                      <p:stCondLst>
                        <p:cond delay="indefinite"/>
                      </p:stCondLst>
                      <p:childTnLst>
                        <p:par>
                          <p:cTn id="33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08" dur="500"/>
                                        <p:tgtEl>
                                          <p:spTgt spid="5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13" dur="500"/>
                                        <p:tgtEl>
                                          <p:spTgt spid="5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4" nodeType="clickEffect" fill="hold">
                      <p:stCondLst>
                        <p:cond delay="indefinite"/>
                      </p:stCondLst>
                      <p:childTnLst>
                        <p:par>
                          <p:cTn id="33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18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nodeType="clickEffect" fill="hold">
                      <p:stCondLst>
                        <p:cond delay="indefinite"/>
                      </p:stCondLst>
                      <p:childTnLst>
                        <p:par>
                          <p:cTn id="3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23" dur="500"/>
                                        <p:tgtEl>
                                          <p:spTgt spid="5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nodeType="clickEffect" fill="hold">
                      <p:stCondLst>
                        <p:cond delay="indefinite"/>
                      </p:stCondLst>
                      <p:childTnLst>
                        <p:par>
                          <p:cTn id="3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28" dur="500"/>
                                        <p:tgtEl>
                                          <p:spTgt spid="5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nodeType="clickEffect" fill="hold">
                      <p:stCondLst>
                        <p:cond delay="indefinite"/>
                      </p:stCondLst>
                      <p:childTnLst>
                        <p:par>
                          <p:cTn id="33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33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nodeType="clickEffect" fill="hold">
                      <p:stCondLst>
                        <p:cond delay="indefinite"/>
                      </p:stCondLst>
                      <p:childTnLst>
                        <p:par>
                          <p:cTn id="33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43" dur="500"/>
                                        <p:tgtEl>
                                          <p:spTgt spid="5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"/>
          <p:cNvSpPr/>
          <p:nvPr/>
        </p:nvSpPr>
        <p:spPr>
          <a:xfrm>
            <a:off x="673920" y="414360"/>
            <a:ext cx="16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(4) 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80773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1447920" y="4495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137160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1371600" y="1295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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056240" y="1219320"/>
            <a:ext cx="459360" cy="3720960"/>
            <a:chOff x="1056240" y="1219320"/>
            <a:chExt cx="459360" cy="3720960"/>
          </a:xfrm>
        </p:grpSpPr>
        <p:sp>
          <p:nvSpPr>
            <p:cNvPr id="5390" name=""/>
            <p:cNvSpPr/>
            <p:nvPr/>
          </p:nvSpPr>
          <p:spPr>
            <a:xfrm>
              <a:off x="1056240" y="121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1132200" y="289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1132200" y="4419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3" name=""/>
          <p:cNvGrpSpPr/>
          <p:nvPr/>
        </p:nvGrpSpPr>
        <p:grpSpPr>
          <a:xfrm>
            <a:off x="2961000" y="1066680"/>
            <a:ext cx="535680" cy="3873600"/>
            <a:chOff x="2961000" y="1066680"/>
            <a:chExt cx="535680" cy="3873600"/>
          </a:xfrm>
        </p:grpSpPr>
        <p:sp>
          <p:nvSpPr>
            <p:cNvPr id="5394" name=""/>
            <p:cNvSpPr/>
            <p:nvPr/>
          </p:nvSpPr>
          <p:spPr>
            <a:xfrm>
              <a:off x="3113280" y="4419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03732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961000" y="1066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7" name=""/>
          <p:cNvGrpSpPr/>
          <p:nvPr/>
        </p:nvGrpSpPr>
        <p:grpSpPr>
          <a:xfrm>
            <a:off x="5170680" y="1343160"/>
            <a:ext cx="459720" cy="4101840"/>
            <a:chOff x="5170680" y="1343160"/>
            <a:chExt cx="459720" cy="4101840"/>
          </a:xfrm>
        </p:grpSpPr>
        <p:sp>
          <p:nvSpPr>
            <p:cNvPr id="5398" name=""/>
            <p:cNvSpPr/>
            <p:nvPr/>
          </p:nvSpPr>
          <p:spPr>
            <a:xfrm>
              <a:off x="5170680" y="1343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5247000" y="3781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5247000" y="25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5247000" y="4924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2" name=""/>
          <p:cNvSpPr/>
          <p:nvPr/>
        </p:nvSpPr>
        <p:spPr>
          <a:xfrm>
            <a:off x="7609320" y="3400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3" name=""/>
          <p:cNvGrpSpPr/>
          <p:nvPr/>
        </p:nvGrpSpPr>
        <p:grpSpPr>
          <a:xfrm>
            <a:off x="1828800" y="1066680"/>
            <a:ext cx="6400800" cy="4876920"/>
            <a:chOff x="1828800" y="1066680"/>
            <a:chExt cx="6400800" cy="4876920"/>
          </a:xfrm>
        </p:grpSpPr>
        <p:sp>
          <p:nvSpPr>
            <p:cNvPr id="5404" name=""/>
            <p:cNvSpPr/>
            <p:nvPr/>
          </p:nvSpPr>
          <p:spPr>
            <a:xfrm>
              <a:off x="5181480" y="5486400"/>
              <a:ext cx="914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095880" y="3581280"/>
              <a:ext cx="4572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362320" y="1219320"/>
              <a:ext cx="60948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438280" y="1219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971800" y="1523880"/>
              <a:ext cx="152280" cy="15264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828800" y="1600200"/>
              <a:ext cx="5335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4419720" y="5105520"/>
              <a:ext cx="60948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4495680" y="5105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5029200" y="5410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4419720" y="1523880"/>
              <a:ext cx="609480" cy="8384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495680" y="15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5029200" y="1828800"/>
              <a:ext cx="152280" cy="15228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419720" y="3962520"/>
              <a:ext cx="60948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4495680" y="3962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502920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4419720" y="2743200"/>
              <a:ext cx="609480" cy="8380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44956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029200" y="3048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438280" y="2895480"/>
              <a:ext cx="609840" cy="8384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51460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048120" y="3200400"/>
              <a:ext cx="152280" cy="15228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1905120" y="3276720"/>
              <a:ext cx="533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438280" y="4495680"/>
              <a:ext cx="609840" cy="8384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514600" y="4495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048120" y="4800600"/>
              <a:ext cx="152280" cy="15228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1905120" y="4876920"/>
              <a:ext cx="5331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200400" y="48769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3809880" y="2209320"/>
              <a:ext cx="0" cy="266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3809880" y="33526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3809880" y="22096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3124080" y="1600200"/>
              <a:ext cx="533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657600" y="1600200"/>
              <a:ext cx="0" cy="25146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657600" y="2895480"/>
              <a:ext cx="7621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657600" y="4114800"/>
              <a:ext cx="7621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200400" y="3276720"/>
              <a:ext cx="2286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3429000" y="1676160"/>
              <a:ext cx="0" cy="28954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429000" y="167652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429000" y="4572000"/>
              <a:ext cx="99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886200" y="1905120"/>
              <a:ext cx="533520" cy="0"/>
            </a:xfrm>
            <a:prstGeom prst="line">
              <a:avLst/>
            </a:prstGeom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 flipV="1">
              <a:off x="1981080" y="1066680"/>
              <a:ext cx="0" cy="533520"/>
            </a:xfrm>
            <a:prstGeom prst="line">
              <a:avLst/>
            </a:prstGeom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1981080" y="1066680"/>
              <a:ext cx="1905120" cy="0"/>
            </a:xfrm>
            <a:prstGeom prst="line">
              <a:avLst/>
            </a:prstGeom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3886200" y="1066680"/>
              <a:ext cx="0" cy="838440"/>
            </a:xfrm>
            <a:prstGeom prst="line">
              <a:avLst/>
            </a:prstGeom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191120" y="1905120"/>
              <a:ext cx="0" cy="3352680"/>
            </a:xfrm>
            <a:prstGeom prst="line">
              <a:avLst/>
            </a:prstGeom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4191120" y="5257800"/>
              <a:ext cx="228600" cy="0"/>
            </a:xfrm>
            <a:prstGeom prst="line">
              <a:avLst/>
            </a:prstGeom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4038480" y="5486400"/>
              <a:ext cx="38124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3886200" y="3124080"/>
              <a:ext cx="5335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2133720" y="2666880"/>
              <a:ext cx="0" cy="6098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133720" y="2666880"/>
              <a:ext cx="13716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505320" y="2666880"/>
              <a:ext cx="0" cy="4572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505320" y="3124080"/>
              <a:ext cx="38088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4038480" y="3124080"/>
              <a:ext cx="0" cy="23623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3886200" y="4343400"/>
              <a:ext cx="533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133720" y="434340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133720" y="4343400"/>
              <a:ext cx="17524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886200" y="4343400"/>
              <a:ext cx="0" cy="1447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3886200" y="5791320"/>
              <a:ext cx="533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553080" y="3276720"/>
              <a:ext cx="838440" cy="114300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781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7391520" y="3809880"/>
              <a:ext cx="152280" cy="15264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V="1">
              <a:off x="5715000" y="4038120"/>
              <a:ext cx="0" cy="3049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5181480" y="1905120"/>
              <a:ext cx="9144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095880" y="1905120"/>
              <a:ext cx="0" cy="1676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181480" y="3124080"/>
              <a:ext cx="5335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715000" y="3124080"/>
              <a:ext cx="0" cy="68580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5715000" y="3809880"/>
              <a:ext cx="838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5715000" y="4038480"/>
              <a:ext cx="838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6095880" y="4266720"/>
              <a:ext cx="0" cy="12193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095880" y="4267080"/>
              <a:ext cx="4572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7543800" y="3886200"/>
              <a:ext cx="685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4" name=""/>
          <p:cNvGrpSpPr/>
          <p:nvPr/>
        </p:nvGrpSpPr>
        <p:grpSpPr>
          <a:xfrm>
            <a:off x="3037320" y="2743200"/>
            <a:ext cx="383400" cy="563040"/>
            <a:chOff x="3037320" y="2743200"/>
            <a:chExt cx="383400" cy="563040"/>
          </a:xfrm>
        </p:grpSpPr>
        <p:pic>
          <p:nvPicPr>
            <p:cNvPr id="5475" name="" descr=""/>
            <p:cNvPicPr/>
            <p:nvPr/>
          </p:nvPicPr>
          <p:blipFill>
            <a:blip r:embed="rId1"/>
            <a:stretch/>
          </p:blipFill>
          <p:spPr>
            <a:xfrm>
              <a:off x="3124080" y="2895480"/>
              <a:ext cx="23652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6" name=""/>
            <p:cNvSpPr/>
            <p:nvPr/>
          </p:nvSpPr>
          <p:spPr>
            <a:xfrm>
              <a:off x="3037320" y="274320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7" name=""/>
          <p:cNvGrpSpPr/>
          <p:nvPr/>
        </p:nvGrpSpPr>
        <p:grpSpPr>
          <a:xfrm>
            <a:off x="5247000" y="3733920"/>
            <a:ext cx="383400" cy="563040"/>
            <a:chOff x="5247000" y="3733920"/>
            <a:chExt cx="383400" cy="563040"/>
          </a:xfrm>
        </p:grpSpPr>
        <p:pic>
          <p:nvPicPr>
            <p:cNvPr id="5478" name="" descr=""/>
            <p:cNvPicPr/>
            <p:nvPr/>
          </p:nvPicPr>
          <p:blipFill>
            <a:blip r:embed="rId2"/>
            <a:stretch/>
          </p:blipFill>
          <p:spPr>
            <a:xfrm>
              <a:off x="5333760" y="3886200"/>
              <a:ext cx="23652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9" name=""/>
            <p:cNvSpPr/>
            <p:nvPr/>
          </p:nvSpPr>
          <p:spPr>
            <a:xfrm>
              <a:off x="5247000" y="373392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0" name=""/>
          <p:cNvGrpSpPr/>
          <p:nvPr/>
        </p:nvGrpSpPr>
        <p:grpSpPr>
          <a:xfrm>
            <a:off x="7609320" y="3352680"/>
            <a:ext cx="383400" cy="563040"/>
            <a:chOff x="7609320" y="3352680"/>
            <a:chExt cx="383400" cy="563040"/>
          </a:xfrm>
        </p:grpSpPr>
        <p:pic>
          <p:nvPicPr>
            <p:cNvPr id="5481" name="" descr=""/>
            <p:cNvPicPr/>
            <p:nvPr/>
          </p:nvPicPr>
          <p:blipFill>
            <a:blip r:embed="rId3"/>
            <a:stretch/>
          </p:blipFill>
          <p:spPr>
            <a:xfrm>
              <a:off x="7696080" y="3504960"/>
              <a:ext cx="23652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2" name=""/>
            <p:cNvSpPr/>
            <p:nvPr/>
          </p:nvSpPr>
          <p:spPr>
            <a:xfrm>
              <a:off x="7609320" y="335268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3" name=""/>
          <p:cNvGrpSpPr/>
          <p:nvPr/>
        </p:nvGrpSpPr>
        <p:grpSpPr>
          <a:xfrm>
            <a:off x="1055880" y="2895480"/>
            <a:ext cx="383400" cy="563040"/>
            <a:chOff x="1055880" y="2895480"/>
            <a:chExt cx="383400" cy="563040"/>
          </a:xfrm>
        </p:grpSpPr>
        <p:pic>
          <p:nvPicPr>
            <p:cNvPr id="5484" name="" descr=""/>
            <p:cNvPicPr/>
            <p:nvPr/>
          </p:nvPicPr>
          <p:blipFill>
            <a:blip r:embed="rId4"/>
            <a:stretch/>
          </p:blipFill>
          <p:spPr>
            <a:xfrm>
              <a:off x="1142640" y="3047760"/>
              <a:ext cx="23652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5" name=""/>
            <p:cNvSpPr/>
            <p:nvPr/>
          </p:nvSpPr>
          <p:spPr>
            <a:xfrm>
              <a:off x="1055880" y="2895480"/>
              <a:ext cx="38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350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355" dur="500"/>
                                        <p:tgtEl>
                                          <p:spTgt spid="5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360" dur="500"/>
                                        <p:tgtEl>
                                          <p:spTgt spid="5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365" dur="500"/>
                                        <p:tgtEl>
                                          <p:spTgt spid="5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7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75" dur="500"/>
                                        <p:tgtEl>
                                          <p:spTgt spid="5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80" dur="500"/>
                                        <p:tgtEl>
                                          <p:spTgt spid="5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nodeType="clickEffect" fill="hold">
                      <p:stCondLst>
                        <p:cond delay="indefinite"/>
                      </p:stCondLst>
                      <p:childTnLst>
                        <p:par>
                          <p:cTn id="3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85" dur="500"/>
                                        <p:tgtEl>
                                          <p:spTgt spid="5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"/>
          <p:cNvSpPr/>
          <p:nvPr/>
        </p:nvSpPr>
        <p:spPr>
          <a:xfrm>
            <a:off x="762120" y="533520"/>
            <a:ext cx="7772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例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3: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某工厂有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cc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三个车间和一个自备电站，站内有两台发电机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</a:t>
            </a:r>
            <a:r>
              <a:rPr b="1" i="1" lang="en-US" sz="2800" spc="-1" strike="noStrike">
                <a:solidFill>
                  <a:srgbClr val="000099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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容量是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的两倍。如果一个车间开工，只需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即可满足要求；如果两个车间开工，只需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，如果三个车间同时开工，则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均需运行。试画出控制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的逻辑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609480" y="4800600"/>
            <a:ext cx="76964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设：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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分别表示三个车间的开工状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开工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，不开工为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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和</a:t>
            </a:r>
            <a:r>
              <a:rPr b="1" i="1" lang="en-US" sz="2800" spc="-1" strike="noStrike">
                <a:solidFill>
                  <a:srgbClr val="003366"/>
                </a:solidFill>
                <a:latin typeface="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运行为“</a:t>
            </a:r>
            <a:r>
              <a:rPr b="1" lang="en-US" sz="2800" spc="-1" strike="noStrike">
                <a:solidFill>
                  <a:srgbClr val="003366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，不运行为“</a:t>
            </a:r>
            <a:r>
              <a:rPr b="1" lang="en-US" sz="2800" spc="-1" strike="noStrike">
                <a:solidFill>
                  <a:srgbClr val="003366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003366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6858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根据逻辑要求列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685800" y="3886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首先假设逻辑变量、逻辑函数取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、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1”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的含义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6" dur="indefinite" restart="never" nodeType="tmRoot">
          <p:childTnLst>
            <p:seq>
              <p:cTn id="3387" dur="indefinite" nodeType="mainSeq">
                <p:childTnLst>
                  <p:par>
                    <p:cTn id="3388" nodeType="clickEffect" fill="hold">
                      <p:stCondLst>
                        <p:cond delay="indefinite"/>
                      </p:stCondLst>
                      <p:childTnLst>
                        <p:par>
                          <p:cTn id="33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92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397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nodeType="clickEffect" fill="hold">
                      <p:stCondLst>
                        <p:cond delay="indefinite"/>
                      </p:stCondLst>
                      <p:childTnLst>
                        <p:par>
                          <p:cTn id="3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02" dur="500"/>
                                        <p:tgtEl>
                                          <p:spTgt spid="5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"/>
          <p:cNvSpPr/>
          <p:nvPr/>
        </p:nvSpPr>
        <p:spPr>
          <a:xfrm>
            <a:off x="762120" y="1066680"/>
            <a:ext cx="426708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要求：如果一个车间开工，只需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即可满足要求；如果两个车间开工，只需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运行，如果三个车间同时开工，则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和 </a:t>
            </a:r>
            <a:r>
              <a:rPr b="1" i="1" lang="en-US" sz="2800" spc="-1" strike="noStrike">
                <a:solidFill>
                  <a:srgbClr val="000000"/>
                </a:solidFill>
                <a:latin typeface="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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均需运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756720" y="43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开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1523880" y="45990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913760" y="432108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3076560" y="434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"/>
              </a:rPr>
              <a:t>不开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4114800" y="45990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4504320" y="434340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67896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1523880" y="5357880"/>
            <a:ext cx="3812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913760" y="507996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2960640" y="51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不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4114800" y="5357880"/>
            <a:ext cx="3808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4495680" y="50529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685800" y="623880"/>
            <a:ext cx="43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根据逻辑要求列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4" name=""/>
          <p:cNvGrpSpPr/>
          <p:nvPr/>
        </p:nvGrpSpPr>
        <p:grpSpPr>
          <a:xfrm>
            <a:off x="533520" y="5791320"/>
            <a:ext cx="4724280" cy="171360"/>
            <a:chOff x="533520" y="5791320"/>
            <a:chExt cx="4724280" cy="171360"/>
          </a:xfrm>
        </p:grpSpPr>
        <p:pic>
          <p:nvPicPr>
            <p:cNvPr id="5505" name="" descr=""/>
            <p:cNvPicPr/>
            <p:nvPr/>
          </p:nvPicPr>
          <p:blipFill>
            <a:blip r:embed="rId1"/>
            <a:stretch/>
          </p:blipFill>
          <p:spPr>
            <a:xfrm>
              <a:off x="14382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6" name="" descr=""/>
            <p:cNvPicPr/>
            <p:nvPr/>
          </p:nvPicPr>
          <p:blipFill>
            <a:blip r:embed="rId2"/>
            <a:stretch/>
          </p:blipFill>
          <p:spPr>
            <a:xfrm>
              <a:off x="1581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7" name="" descr=""/>
            <p:cNvPicPr/>
            <p:nvPr/>
          </p:nvPicPr>
          <p:blipFill>
            <a:blip r:embed="rId3"/>
            <a:stretch/>
          </p:blipFill>
          <p:spPr>
            <a:xfrm>
              <a:off x="1743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8" name="" descr=""/>
            <p:cNvPicPr/>
            <p:nvPr/>
          </p:nvPicPr>
          <p:blipFill>
            <a:blip r:embed="rId4"/>
            <a:stretch/>
          </p:blipFill>
          <p:spPr>
            <a:xfrm>
              <a:off x="2038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9" name="" descr=""/>
            <p:cNvPicPr/>
            <p:nvPr/>
          </p:nvPicPr>
          <p:blipFill>
            <a:blip r:embed="rId5"/>
            <a:stretch/>
          </p:blipFill>
          <p:spPr>
            <a:xfrm>
              <a:off x="2200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0" name="" descr=""/>
            <p:cNvPicPr/>
            <p:nvPr/>
          </p:nvPicPr>
          <p:blipFill>
            <a:blip r:embed="rId6"/>
            <a:stretch/>
          </p:blipFill>
          <p:spPr>
            <a:xfrm>
              <a:off x="23526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1" name="" descr=""/>
            <p:cNvPicPr/>
            <p:nvPr/>
          </p:nvPicPr>
          <p:blipFill>
            <a:blip r:embed="rId7"/>
            <a:stretch/>
          </p:blipFill>
          <p:spPr>
            <a:xfrm>
              <a:off x="2495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2" name="" descr=""/>
            <p:cNvPicPr/>
            <p:nvPr/>
          </p:nvPicPr>
          <p:blipFill>
            <a:blip r:embed="rId8"/>
            <a:stretch/>
          </p:blipFill>
          <p:spPr>
            <a:xfrm>
              <a:off x="2657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3" name="" descr=""/>
            <p:cNvPicPr/>
            <p:nvPr/>
          </p:nvPicPr>
          <p:blipFill>
            <a:blip r:embed="rId9"/>
            <a:stretch/>
          </p:blipFill>
          <p:spPr>
            <a:xfrm>
              <a:off x="29527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4" name="" descr=""/>
            <p:cNvPicPr/>
            <p:nvPr/>
          </p:nvPicPr>
          <p:blipFill>
            <a:blip r:embed="rId10"/>
            <a:stretch/>
          </p:blipFill>
          <p:spPr>
            <a:xfrm>
              <a:off x="31147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5" name="" descr=""/>
            <p:cNvPicPr/>
            <p:nvPr/>
          </p:nvPicPr>
          <p:blipFill>
            <a:blip r:embed="rId11"/>
            <a:stretch/>
          </p:blipFill>
          <p:spPr>
            <a:xfrm>
              <a:off x="32670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6" name="" descr=""/>
            <p:cNvPicPr/>
            <p:nvPr/>
          </p:nvPicPr>
          <p:blipFill>
            <a:blip r:embed="rId12"/>
            <a:stretch/>
          </p:blipFill>
          <p:spPr>
            <a:xfrm>
              <a:off x="34099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7" name="" descr=""/>
            <p:cNvPicPr/>
            <p:nvPr/>
          </p:nvPicPr>
          <p:blipFill>
            <a:blip r:embed="rId13"/>
            <a:stretch/>
          </p:blipFill>
          <p:spPr>
            <a:xfrm>
              <a:off x="18954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8" name="" descr=""/>
            <p:cNvPicPr/>
            <p:nvPr/>
          </p:nvPicPr>
          <p:blipFill>
            <a:blip r:embed="rId14"/>
            <a:stretch/>
          </p:blipFill>
          <p:spPr>
            <a:xfrm>
              <a:off x="28098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9" name="" descr=""/>
            <p:cNvPicPr/>
            <p:nvPr/>
          </p:nvPicPr>
          <p:blipFill>
            <a:blip r:embed="rId15"/>
            <a:stretch/>
          </p:blipFill>
          <p:spPr>
            <a:xfrm>
              <a:off x="35719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0" name="" descr=""/>
            <p:cNvPicPr/>
            <p:nvPr/>
          </p:nvPicPr>
          <p:blipFill>
            <a:blip r:embed="rId16"/>
            <a:stretch/>
          </p:blipFill>
          <p:spPr>
            <a:xfrm>
              <a:off x="37242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1" name="" descr=""/>
            <p:cNvPicPr/>
            <p:nvPr/>
          </p:nvPicPr>
          <p:blipFill>
            <a:blip r:embed="rId17"/>
            <a:stretch/>
          </p:blipFill>
          <p:spPr>
            <a:xfrm>
              <a:off x="3867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2" name="" descr=""/>
            <p:cNvPicPr/>
            <p:nvPr/>
          </p:nvPicPr>
          <p:blipFill>
            <a:blip r:embed="rId18"/>
            <a:stretch/>
          </p:blipFill>
          <p:spPr>
            <a:xfrm>
              <a:off x="40291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3" name="" descr=""/>
            <p:cNvPicPr/>
            <p:nvPr/>
          </p:nvPicPr>
          <p:blipFill>
            <a:blip r:embed="rId19"/>
            <a:stretch/>
          </p:blipFill>
          <p:spPr>
            <a:xfrm>
              <a:off x="41814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4" name="" descr=""/>
            <p:cNvPicPr/>
            <p:nvPr/>
          </p:nvPicPr>
          <p:blipFill>
            <a:blip r:embed="rId20"/>
            <a:stretch/>
          </p:blipFill>
          <p:spPr>
            <a:xfrm>
              <a:off x="4324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5" name="" descr=""/>
            <p:cNvPicPr/>
            <p:nvPr/>
          </p:nvPicPr>
          <p:blipFill>
            <a:blip r:embed="rId21"/>
            <a:stretch/>
          </p:blipFill>
          <p:spPr>
            <a:xfrm>
              <a:off x="44863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6" name="" descr=""/>
            <p:cNvPicPr/>
            <p:nvPr/>
          </p:nvPicPr>
          <p:blipFill>
            <a:blip r:embed="rId22"/>
            <a:stretch/>
          </p:blipFill>
          <p:spPr>
            <a:xfrm>
              <a:off x="4781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7" name="" descr=""/>
            <p:cNvPicPr/>
            <p:nvPr/>
          </p:nvPicPr>
          <p:blipFill>
            <a:blip r:embed="rId23"/>
            <a:stretch/>
          </p:blipFill>
          <p:spPr>
            <a:xfrm>
              <a:off x="494352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8" name="" descr=""/>
            <p:cNvPicPr/>
            <p:nvPr/>
          </p:nvPicPr>
          <p:blipFill>
            <a:blip r:embed="rId24"/>
            <a:stretch/>
          </p:blipFill>
          <p:spPr>
            <a:xfrm>
              <a:off x="50958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9" name="" descr=""/>
            <p:cNvPicPr/>
            <p:nvPr/>
          </p:nvPicPr>
          <p:blipFill>
            <a:blip r:embed="rId25"/>
            <a:stretch/>
          </p:blipFill>
          <p:spPr>
            <a:xfrm>
              <a:off x="4638600" y="58006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30" name=""/>
            <p:cNvGrpSpPr/>
            <p:nvPr/>
          </p:nvGrpSpPr>
          <p:grpSpPr>
            <a:xfrm>
              <a:off x="533520" y="5791320"/>
              <a:ext cx="923760" cy="161640"/>
              <a:chOff x="533520" y="5791320"/>
              <a:chExt cx="923760" cy="161640"/>
            </a:xfrm>
          </p:grpSpPr>
          <p:pic>
            <p:nvPicPr>
              <p:cNvPr id="553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764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384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9907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13364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5640" y="579132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3520" y="579132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37" name=""/>
          <p:cNvGrpSpPr/>
          <p:nvPr/>
        </p:nvGrpSpPr>
        <p:grpSpPr>
          <a:xfrm>
            <a:off x="6997680" y="1905120"/>
            <a:ext cx="476280" cy="3341520"/>
            <a:chOff x="6997680" y="1905120"/>
            <a:chExt cx="476280" cy="3341520"/>
          </a:xfrm>
        </p:grpSpPr>
        <p:sp>
          <p:nvSpPr>
            <p:cNvPr id="5538" name=""/>
            <p:cNvSpPr/>
            <p:nvPr/>
          </p:nvSpPr>
          <p:spPr>
            <a:xfrm>
              <a:off x="707580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069320" y="3964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069320" y="4345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7069320" y="4726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997680" y="22863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997680" y="2743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997680" y="31244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997680" y="358164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683480" y="1905120"/>
            <a:ext cx="523440" cy="3371760"/>
            <a:chOff x="7683480" y="1905120"/>
            <a:chExt cx="523440" cy="3371760"/>
          </a:xfrm>
        </p:grpSpPr>
        <p:sp>
          <p:nvSpPr>
            <p:cNvPr id="5547" name=""/>
            <p:cNvSpPr/>
            <p:nvPr/>
          </p:nvSpPr>
          <p:spPr>
            <a:xfrm>
              <a:off x="7683480" y="2286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76160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7799760" y="3994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799760" y="437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823520" y="4756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793640" y="2746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7721640" y="315612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720200" y="358128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5334120" y="1295280"/>
            <a:ext cx="3200400" cy="3949560"/>
            <a:chOff x="5334120" y="1295280"/>
            <a:chExt cx="3200400" cy="3949560"/>
          </a:xfrm>
        </p:grpSpPr>
        <p:grpSp>
          <p:nvGrpSpPr>
            <p:cNvPr id="5556" name=""/>
            <p:cNvGrpSpPr/>
            <p:nvPr/>
          </p:nvGrpSpPr>
          <p:grpSpPr>
            <a:xfrm>
              <a:off x="5334120" y="1295280"/>
              <a:ext cx="3200400" cy="3949560"/>
              <a:chOff x="5334120" y="1295280"/>
              <a:chExt cx="3200400" cy="3949560"/>
            </a:xfrm>
          </p:grpSpPr>
          <p:sp>
            <p:nvSpPr>
              <p:cNvPr id="5557" name=""/>
              <p:cNvSpPr/>
              <p:nvPr/>
            </p:nvSpPr>
            <p:spPr>
              <a:xfrm>
                <a:off x="5438520" y="396252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5436720" y="228600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5436720" y="271296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0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5436720" y="312408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5434560" y="3551400"/>
                <a:ext cx="153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0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5438520" y="434340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438520" y="472428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5438520" y="190512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010280" y="1295280"/>
                <a:ext cx="0" cy="385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410080" y="129528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5410080" y="190512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5334120" y="1371600"/>
                <a:ext cx="320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   B   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Arial"/>
                  </a:rPr>
                  <a:t>1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620120" y="1295280"/>
                <a:ext cx="0" cy="388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0" name=""/>
            <p:cNvSpPr/>
            <p:nvPr/>
          </p:nvSpPr>
          <p:spPr>
            <a:xfrm>
              <a:off x="5562720" y="518472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3" dur="indefinite" restart="never" nodeType="tmRoot">
          <p:childTnLst>
            <p:seq>
              <p:cTn id="3404" dur="indefinite" nodeType="mainSeq">
                <p:childTnLst>
                  <p:par>
                    <p:cTn id="3405" nodeType="clickEffect" fill="hold">
                      <p:stCondLst>
                        <p:cond delay="indefinite"/>
                      </p:stCondLst>
                      <p:childTnLst>
                        <p:par>
                          <p:cTn id="3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09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nodeType="clickEffect" fill="hold">
                      <p:stCondLst>
                        <p:cond delay="indefinite"/>
                      </p:stCondLst>
                      <p:childTnLst>
                        <p:par>
                          <p:cTn id="34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1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1352520" y="1143000"/>
            <a:ext cx="2922480" cy="2364840"/>
            <a:chOff x="1352520" y="1143000"/>
            <a:chExt cx="2922480" cy="2364840"/>
          </a:xfrm>
        </p:grpSpPr>
        <p:sp>
          <p:nvSpPr>
            <p:cNvPr id="301" name=""/>
            <p:cNvSpPr/>
            <p:nvPr/>
          </p:nvSpPr>
          <p:spPr>
            <a:xfrm>
              <a:off x="2667960" y="17514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64040" y="230436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52520" y="244044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5440" y="1523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1787400"/>
              <a:ext cx="58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1880" y="2306520"/>
              <a:ext cx="573120" cy="57492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02120" y="17715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6880" y="1143000"/>
              <a:ext cx="5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18"/>
                  </a:solidFill>
                  <a:latin typeface="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2440" y="17715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8800" y="335268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39800" y="1771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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6520" y="3048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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66960" y="18064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2120" y="2878200"/>
              <a:ext cx="0" cy="52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95440" y="1523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1523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9000" y="1523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03360" y="20574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56040" y="20574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9800" y="3389400"/>
              <a:ext cx="213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666880" y="1523880"/>
              <a:ext cx="381240" cy="228240"/>
              <a:chOff x="2666880" y="1523880"/>
              <a:chExt cx="381240" cy="22824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2666880" y="1591920"/>
                <a:ext cx="284400" cy="16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800" y="15238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2701800" y="2125440"/>
              <a:ext cx="28440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1800" y="2057400"/>
              <a:ext cx="7632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”逻辑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4648320"/>
            <a:ext cx="7543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或”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关系是指当决定某事件的条件之一具备时，该事件就发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2080" y="3886200"/>
            <a:ext cx="32893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逻辑表达式：</a:t>
            </a:r>
            <a:r>
              <a:rPr b="1" lang="en-US" sz="3200" spc="-1" strike="noStrike">
                <a:solidFill>
                  <a:srgbClr val="ff3300"/>
                </a:solidFill>
                <a:latin typeface="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"/>
              </a:rPr>
              <a:t>Y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= </a:t>
            </a:r>
            <a:r>
              <a:rPr b="1" i="1" lang="en-US" sz="3200" spc="-1" strike="noStrike">
                <a:solidFill>
                  <a:srgbClr val="000099"/>
                </a:solidFill>
                <a:latin typeface="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"/>
              </a:rPr>
              <a:t> + </a:t>
            </a:r>
            <a:r>
              <a:rPr b="1" i="1" lang="en-US" sz="3200" spc="-1" strike="noStrike">
                <a:solidFill>
                  <a:srgbClr val="000099"/>
                </a:solidFill>
                <a:latin typeface="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32440" y="8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18"/>
                </a:solidFill>
                <a:latin typeface=""/>
              </a:rPr>
              <a:t>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257800" y="2027160"/>
            <a:ext cx="1523880" cy="520560"/>
            <a:chOff x="5257800" y="2027160"/>
            <a:chExt cx="1523880" cy="520560"/>
          </a:xfrm>
        </p:grpSpPr>
        <p:sp>
          <p:nvSpPr>
            <p:cNvPr id="331" name=""/>
            <p:cNvSpPr/>
            <p:nvPr/>
          </p:nvSpPr>
          <p:spPr>
            <a:xfrm>
              <a:off x="525780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24480" y="2027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257800" y="2484360"/>
            <a:ext cx="1447920" cy="520560"/>
            <a:chOff x="5257800" y="2484360"/>
            <a:chExt cx="1447920" cy="520560"/>
          </a:xfrm>
        </p:grpSpPr>
        <p:sp>
          <p:nvSpPr>
            <p:cNvPr id="334" name=""/>
            <p:cNvSpPr/>
            <p:nvPr/>
          </p:nvSpPr>
          <p:spPr>
            <a:xfrm>
              <a:off x="5257800" y="2484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4480" y="24843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238880" y="2484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47000" y="3446640"/>
            <a:ext cx="1450440" cy="520560"/>
            <a:chOff x="5247000" y="3446640"/>
            <a:chExt cx="1450440" cy="520560"/>
          </a:xfrm>
        </p:grpSpPr>
        <p:sp>
          <p:nvSpPr>
            <p:cNvPr id="338" name=""/>
            <p:cNvSpPr/>
            <p:nvPr/>
          </p:nvSpPr>
          <p:spPr>
            <a:xfrm>
              <a:off x="524700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14040" y="3446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7228440" y="3476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247000" y="2989440"/>
            <a:ext cx="1450440" cy="520560"/>
            <a:chOff x="5247000" y="2989440"/>
            <a:chExt cx="1450440" cy="520560"/>
          </a:xfrm>
        </p:grpSpPr>
        <p:sp>
          <p:nvSpPr>
            <p:cNvPr id="342" name=""/>
            <p:cNvSpPr/>
            <p:nvPr/>
          </p:nvSpPr>
          <p:spPr>
            <a:xfrm>
              <a:off x="631404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47000" y="2989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18"/>
                  </a:solidFill>
                  <a:latin typeface="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228440" y="2989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28440" y="1981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18"/>
                </a:solidFill>
                <a:latin typeface="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952880" y="1371600"/>
            <a:ext cx="3048120" cy="2637000"/>
            <a:chOff x="4952880" y="1371600"/>
            <a:chExt cx="3048120" cy="2637000"/>
          </a:xfrm>
        </p:grpSpPr>
        <p:sp>
          <p:nvSpPr>
            <p:cNvPr id="347" name=""/>
            <p:cNvSpPr/>
            <p:nvPr/>
          </p:nvSpPr>
          <p:spPr>
            <a:xfrm>
              <a:off x="518148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1371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5200" y="1371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52880" y="141768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028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9920" y="14176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2880" y="195264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29200" y="40086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650680" y="1365120"/>
            <a:ext cx="1643400" cy="1541520"/>
            <a:chOff x="2650680" y="1365120"/>
            <a:chExt cx="1643400" cy="1541520"/>
          </a:xfrm>
        </p:grpSpPr>
        <p:sp>
          <p:nvSpPr>
            <p:cNvPr id="356" name=""/>
            <p:cNvSpPr/>
            <p:nvPr/>
          </p:nvSpPr>
          <p:spPr>
            <a:xfrm>
              <a:off x="3657600" y="228600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2650680" y="136512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97180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666520" y="1898640"/>
            <a:ext cx="1627560" cy="1008000"/>
            <a:chOff x="2666520" y="1898640"/>
            <a:chExt cx="1627560" cy="1008000"/>
          </a:xfrm>
        </p:grpSpPr>
        <p:sp>
          <p:nvSpPr>
            <p:cNvPr id="360" name=""/>
            <p:cNvSpPr/>
            <p:nvPr/>
          </p:nvSpPr>
          <p:spPr>
            <a:xfrm flipH="1" flipV="1">
              <a:off x="2666520" y="189864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7600" y="228600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66520" y="1905120"/>
            <a:ext cx="1627560" cy="1008000"/>
            <a:chOff x="2666520" y="1905120"/>
            <a:chExt cx="1627560" cy="1008000"/>
          </a:xfrm>
        </p:grpSpPr>
        <p:sp>
          <p:nvSpPr>
            <p:cNvPr id="363" name=""/>
            <p:cNvSpPr/>
            <p:nvPr/>
          </p:nvSpPr>
          <p:spPr>
            <a:xfrm flipH="1" flipV="1">
              <a:off x="2666520" y="190512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229248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639520" y="1434960"/>
            <a:ext cx="1654560" cy="1471680"/>
            <a:chOff x="2639520" y="1434960"/>
            <a:chExt cx="1654560" cy="1471680"/>
          </a:xfrm>
        </p:grpSpPr>
        <p:sp>
          <p:nvSpPr>
            <p:cNvPr id="366" name=""/>
            <p:cNvSpPr/>
            <p:nvPr/>
          </p:nvSpPr>
          <p:spPr>
            <a:xfrm>
              <a:off x="3657600" y="2286000"/>
              <a:ext cx="636480" cy="62064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2712600" y="143496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2639520" y="1893960"/>
              <a:ext cx="397080" cy="387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2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2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2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2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2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base">
                                        <p:cTn id="3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3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1" name=""/>
          <p:cNvSpPr/>
          <p:nvPr/>
        </p:nvSpPr>
        <p:spPr>
          <a:xfrm>
            <a:off x="533520" y="642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由状态表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2" name="" descr=""/>
          <p:cNvPicPr/>
          <p:nvPr/>
        </p:nvPicPr>
        <p:blipFill>
          <a:blip r:embed="rId1"/>
          <a:stretch/>
        </p:blipFill>
        <p:spPr>
          <a:xfrm>
            <a:off x="596880" y="1252440"/>
            <a:ext cx="4529160" cy="533520"/>
          </a:xfrm>
          <a:prstGeom prst="rect">
            <a:avLst/>
          </a:prstGeom>
          <a:ln w="0">
            <a:noFill/>
          </a:ln>
        </p:spPr>
      </p:pic>
      <p:pic>
        <p:nvPicPr>
          <p:cNvPr id="5573" name="" descr=""/>
          <p:cNvPicPr/>
          <p:nvPr/>
        </p:nvPicPr>
        <p:blipFill>
          <a:blip r:embed="rId2"/>
          <a:stretch/>
        </p:blipFill>
        <p:spPr>
          <a:xfrm>
            <a:off x="592200" y="1862280"/>
            <a:ext cx="4894200" cy="556920"/>
          </a:xfrm>
          <a:prstGeom prst="rect">
            <a:avLst/>
          </a:prstGeom>
          <a:ln w="0">
            <a:noFill/>
          </a:ln>
        </p:spPr>
      </p:pic>
      <p:grpSp>
        <p:nvGrpSpPr>
          <p:cNvPr id="5574" name=""/>
          <p:cNvGrpSpPr/>
          <p:nvPr/>
        </p:nvGrpSpPr>
        <p:grpSpPr>
          <a:xfrm>
            <a:off x="5715000" y="2776680"/>
            <a:ext cx="1371600" cy="2438280"/>
            <a:chOff x="5715000" y="2776680"/>
            <a:chExt cx="1371600" cy="2438280"/>
          </a:xfrm>
        </p:grpSpPr>
        <p:sp>
          <p:nvSpPr>
            <p:cNvPr id="5575" name=""/>
            <p:cNvSpPr/>
            <p:nvPr/>
          </p:nvSpPr>
          <p:spPr>
            <a:xfrm>
              <a:off x="5791320" y="2776680"/>
              <a:ext cx="1295280" cy="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5791320" y="3220920"/>
              <a:ext cx="1295280" cy="126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791320" y="4071960"/>
              <a:ext cx="1295280" cy="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715000" y="5214960"/>
              <a:ext cx="1371600" cy="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5715000" y="3614760"/>
            <a:ext cx="1981080" cy="1600200"/>
            <a:chOff x="5715000" y="3614760"/>
            <a:chExt cx="1981080" cy="1600200"/>
          </a:xfrm>
        </p:grpSpPr>
        <p:sp>
          <p:nvSpPr>
            <p:cNvPr id="5580" name=""/>
            <p:cNvSpPr/>
            <p:nvPr/>
          </p:nvSpPr>
          <p:spPr>
            <a:xfrm>
              <a:off x="5715000" y="3614760"/>
              <a:ext cx="198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715000" y="4453200"/>
              <a:ext cx="198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715000" y="4834080"/>
              <a:ext cx="198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715000" y="5214960"/>
              <a:ext cx="198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4" name=""/>
          <p:cNvGrpSpPr/>
          <p:nvPr/>
        </p:nvGrpSpPr>
        <p:grpSpPr>
          <a:xfrm>
            <a:off x="1066680" y="4147200"/>
            <a:ext cx="3352680" cy="1872720"/>
            <a:chOff x="1066680" y="4147200"/>
            <a:chExt cx="3352680" cy="1872720"/>
          </a:xfrm>
        </p:grpSpPr>
        <p:grpSp>
          <p:nvGrpSpPr>
            <p:cNvPr id="5585" name=""/>
            <p:cNvGrpSpPr/>
            <p:nvPr/>
          </p:nvGrpSpPr>
          <p:grpSpPr>
            <a:xfrm>
              <a:off x="1066680" y="4147200"/>
              <a:ext cx="3352680" cy="1872720"/>
              <a:chOff x="1066680" y="4147200"/>
              <a:chExt cx="3352680" cy="1872720"/>
            </a:xfrm>
          </p:grpSpPr>
          <p:sp>
            <p:nvSpPr>
              <p:cNvPr id="5586" name=""/>
              <p:cNvSpPr/>
              <p:nvPr/>
            </p:nvSpPr>
            <p:spPr>
              <a:xfrm flipH="1" flipV="1">
                <a:off x="1295280" y="4418280"/>
                <a:ext cx="380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1066680" y="437580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1295280" y="41472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1676160" y="4800600"/>
                <a:ext cx="1371600" cy="121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1676160" y="54104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361960" y="480060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1676160" y="437580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1218960" y="544248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1218960" y="4875840"/>
                <a:ext cx="533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047760" y="4800600"/>
                <a:ext cx="1371600" cy="121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047760" y="54104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733560" y="480060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361960" y="43423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047760" y="43423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733560" y="4342320"/>
                <a:ext cx="6858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191400" y="483408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877200" y="54435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581560" y="54435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191400" y="5443560"/>
                <a:ext cx="354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5" name=""/>
            <p:cNvSpPr/>
            <p:nvPr/>
          </p:nvSpPr>
          <p:spPr>
            <a:xfrm>
              <a:off x="3200400" y="4910400"/>
              <a:ext cx="380880" cy="9903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514600" y="5519880"/>
              <a:ext cx="1143000" cy="3808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3124080" y="5519880"/>
              <a:ext cx="1143000" cy="3808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1326240" y="3538440"/>
            <a:ext cx="2527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或由卡图诺可得相同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9" name="" descr=""/>
          <p:cNvPicPr/>
          <p:nvPr/>
        </p:nvPicPr>
        <p:blipFill>
          <a:blip r:embed="rId3"/>
          <a:stretch/>
        </p:blipFill>
        <p:spPr>
          <a:xfrm>
            <a:off x="990720" y="3043080"/>
            <a:ext cx="3276360" cy="533520"/>
          </a:xfrm>
          <a:prstGeom prst="rect">
            <a:avLst/>
          </a:prstGeom>
          <a:ln w="0">
            <a:noFill/>
          </a:ln>
        </p:spPr>
      </p:pic>
      <p:sp>
        <p:nvSpPr>
          <p:cNvPr id="5610" name=""/>
          <p:cNvSpPr/>
          <p:nvPr/>
        </p:nvSpPr>
        <p:spPr>
          <a:xfrm>
            <a:off x="457200" y="2471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3) 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化简逻辑式可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1" name=""/>
          <p:cNvGrpSpPr/>
          <p:nvPr/>
        </p:nvGrpSpPr>
        <p:grpSpPr>
          <a:xfrm>
            <a:off x="5638680" y="1328760"/>
            <a:ext cx="3200400" cy="3980880"/>
            <a:chOff x="5638680" y="1328760"/>
            <a:chExt cx="3200400" cy="3980880"/>
          </a:xfrm>
        </p:grpSpPr>
        <p:grpSp>
          <p:nvGrpSpPr>
            <p:cNvPr id="5612" name=""/>
            <p:cNvGrpSpPr/>
            <p:nvPr/>
          </p:nvGrpSpPr>
          <p:grpSpPr>
            <a:xfrm>
              <a:off x="5638680" y="1328760"/>
              <a:ext cx="3200400" cy="3980880"/>
              <a:chOff x="5638680" y="1328760"/>
              <a:chExt cx="3200400" cy="3980880"/>
            </a:xfrm>
          </p:grpSpPr>
          <p:sp>
            <p:nvSpPr>
              <p:cNvPr id="5613" name=""/>
              <p:cNvSpPr/>
              <p:nvPr/>
            </p:nvSpPr>
            <p:spPr>
              <a:xfrm>
                <a:off x="5743080" y="399564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5741280" y="231912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741280" y="274608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0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741280" y="315720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1   1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739120" y="3584520"/>
                <a:ext cx="153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0   0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5743080" y="437652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5743080" y="475740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1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5743080" y="1938240"/>
                <a:ext cx="134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0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1" name=""/>
              <p:cNvGrpSpPr/>
              <p:nvPr/>
            </p:nvGrpSpPr>
            <p:grpSpPr>
              <a:xfrm>
                <a:off x="7302240" y="1938240"/>
                <a:ext cx="476280" cy="3341160"/>
                <a:chOff x="7302240" y="1938240"/>
                <a:chExt cx="476280" cy="3341160"/>
              </a:xfrm>
            </p:grpSpPr>
            <p:sp>
              <p:nvSpPr>
                <p:cNvPr id="5622" name=""/>
                <p:cNvSpPr/>
                <p:nvPr/>
              </p:nvSpPr>
              <p:spPr>
                <a:xfrm>
                  <a:off x="7380360" y="1938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3" name=""/>
                <p:cNvSpPr/>
                <p:nvPr/>
              </p:nvSpPr>
              <p:spPr>
                <a:xfrm>
                  <a:off x="7373880" y="3997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4" name=""/>
                <p:cNvSpPr/>
                <p:nvPr/>
              </p:nvSpPr>
              <p:spPr>
                <a:xfrm>
                  <a:off x="7373880" y="4377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5" name=""/>
                <p:cNvSpPr/>
                <p:nvPr/>
              </p:nvSpPr>
              <p:spPr>
                <a:xfrm>
                  <a:off x="7373880" y="4758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>
                  <a:off x="7302240" y="23191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>
                  <a:off x="7302240" y="277632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>
                  <a:off x="7302240" y="31572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>
                  <a:off x="7302240" y="361440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0" name=""/>
              <p:cNvSpPr/>
              <p:nvPr/>
            </p:nvSpPr>
            <p:spPr>
              <a:xfrm>
                <a:off x="7314840" y="1328760"/>
                <a:ext cx="0" cy="385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5714640" y="132876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5714640" y="1938240"/>
                <a:ext cx="289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638680" y="1404720"/>
                <a:ext cx="320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   B   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Arial"/>
                  </a:rPr>
                  <a:t>1  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"/>
                    <a:ea typeface="Arial"/>
                  </a:rPr>
                  <a:t>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7924680" y="1328760"/>
                <a:ext cx="0" cy="388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5" name=""/>
              <p:cNvGrpSpPr/>
              <p:nvPr/>
            </p:nvGrpSpPr>
            <p:grpSpPr>
              <a:xfrm>
                <a:off x="7988040" y="1938240"/>
                <a:ext cx="523440" cy="3371400"/>
                <a:chOff x="7988040" y="1938240"/>
                <a:chExt cx="523440" cy="3371400"/>
              </a:xfrm>
            </p:grpSpPr>
            <p:sp>
              <p:nvSpPr>
                <p:cNvPr id="5636" name=""/>
                <p:cNvSpPr/>
                <p:nvPr/>
              </p:nvSpPr>
              <p:spPr>
                <a:xfrm>
                  <a:off x="7988040" y="231876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8066160" y="1938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8104320" y="4026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8104320" y="4407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8128080" y="4789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8098200" y="2779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8026200" y="318888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8024760" y="3614040"/>
                  <a:ext cx="47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 </a:t>
                  </a:r>
                  <a:r>
                    <a:rPr b="1" lang="en-US" sz="2800" spc="-1" strike="noStrike">
                      <a:solidFill>
                        <a:srgbClr val="000099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4" name=""/>
            <p:cNvSpPr/>
            <p:nvPr/>
          </p:nvSpPr>
          <p:spPr>
            <a:xfrm>
              <a:off x="5715000" y="52578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5" dur="indefinite" restart="never" nodeType="tmRoot">
          <p:childTnLst>
            <p:seq>
              <p:cTn id="3416" dur="indefinite" nodeType="mainSeq">
                <p:childTnLst>
                  <p:par>
                    <p:cTn id="3417" nodeType="clickEffect" fill="hold">
                      <p:stCondLst>
                        <p:cond delay="indefinite"/>
                      </p:stCondLst>
                      <p:childTnLst>
                        <p:par>
                          <p:cTn id="34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21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nodeType="clickEffect" fill="hold">
                      <p:stCondLst>
                        <p:cond delay="indefinite"/>
                      </p:stCondLst>
                      <p:childTnLst>
                        <p:par>
                          <p:cTn id="34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26" dur="500"/>
                                        <p:tgtEl>
                                          <p:spTgt spid="5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31" dur="500"/>
                                        <p:tgtEl>
                                          <p:spTgt spid="5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nodeType="clickEffect" fill="hold">
                      <p:stCondLst>
                        <p:cond delay="indefinite"/>
                      </p:stCondLst>
                      <p:childTnLst>
                        <p:par>
                          <p:cTn id="34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36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nodeType="clickEffect" fill="hold">
                      <p:stCondLst>
                        <p:cond delay="indefinite"/>
                      </p:stCondLst>
                      <p:childTnLst>
                        <p:par>
                          <p:cTn id="34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41" dur="500"/>
                                        <p:tgtEl>
                                          <p:spTgt spid="5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nodeType="clickEffect" fill="hold">
                      <p:stCondLst>
                        <p:cond delay="indefinite"/>
                      </p:stCondLst>
                      <p:childTnLst>
                        <p:par>
                          <p:cTn id="34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4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51" dur="500"/>
                                        <p:tgtEl>
                                          <p:spTgt spid="5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56" dur="500"/>
                                        <p:tgtEl>
                                          <p:spTgt spid="5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"/>
          <p:cNvSpPr/>
          <p:nvPr/>
        </p:nvSpPr>
        <p:spPr>
          <a:xfrm>
            <a:off x="736560" y="3559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4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用“与非”门构成逻辑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6" name="" descr=""/>
          <p:cNvPicPr/>
          <p:nvPr/>
        </p:nvPicPr>
        <p:blipFill>
          <a:blip r:embed="rId1"/>
          <a:stretch/>
        </p:blipFill>
        <p:spPr>
          <a:xfrm>
            <a:off x="1082520" y="4367160"/>
            <a:ext cx="3538800" cy="511200"/>
          </a:xfrm>
          <a:prstGeom prst="rect">
            <a:avLst/>
          </a:prstGeom>
          <a:ln w="0">
            <a:noFill/>
          </a:ln>
        </p:spPr>
      </p:pic>
      <p:sp>
        <p:nvSpPr>
          <p:cNvPr id="5647" name=""/>
          <p:cNvSpPr/>
          <p:nvPr/>
        </p:nvSpPr>
        <p:spPr>
          <a:xfrm>
            <a:off x="2030400" y="4344840"/>
            <a:ext cx="243828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2030400" y="4268880"/>
            <a:ext cx="243828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9" name=""/>
          <p:cNvGrpSpPr/>
          <p:nvPr/>
        </p:nvGrpSpPr>
        <p:grpSpPr>
          <a:xfrm>
            <a:off x="4614840" y="4268880"/>
            <a:ext cx="2685960" cy="532800"/>
            <a:chOff x="4614840" y="4268880"/>
            <a:chExt cx="2685960" cy="532800"/>
          </a:xfrm>
        </p:grpSpPr>
        <p:pic>
          <p:nvPicPr>
            <p:cNvPr id="5650" name="" descr=""/>
            <p:cNvPicPr/>
            <p:nvPr/>
          </p:nvPicPr>
          <p:blipFill>
            <a:blip r:embed="rId2"/>
            <a:stretch/>
          </p:blipFill>
          <p:spPr>
            <a:xfrm>
              <a:off x="4614840" y="4356000"/>
              <a:ext cx="2685960" cy="44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1" name=""/>
            <p:cNvGrpSpPr/>
            <p:nvPr/>
          </p:nvGrpSpPr>
          <p:grpSpPr>
            <a:xfrm>
              <a:off x="5002200" y="4268880"/>
              <a:ext cx="2286000" cy="66600"/>
              <a:chOff x="5002200" y="4268880"/>
              <a:chExt cx="2286000" cy="66600"/>
            </a:xfrm>
          </p:grpSpPr>
          <p:sp>
            <p:nvSpPr>
              <p:cNvPr id="5652" name=""/>
              <p:cNvSpPr/>
              <p:nvPr/>
            </p:nvSpPr>
            <p:spPr>
              <a:xfrm>
                <a:off x="5002200" y="4268880"/>
                <a:ext cx="2286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3" name=""/>
              <p:cNvGrpSpPr/>
              <p:nvPr/>
            </p:nvGrpSpPr>
            <p:grpSpPr>
              <a:xfrm>
                <a:off x="5078160" y="4335480"/>
                <a:ext cx="2133720" cy="0"/>
                <a:chOff x="5078160" y="4335480"/>
                <a:chExt cx="2133720" cy="0"/>
              </a:xfrm>
            </p:grpSpPr>
            <p:sp>
              <p:nvSpPr>
                <p:cNvPr id="5654" name=""/>
                <p:cNvSpPr/>
                <p:nvPr/>
              </p:nvSpPr>
              <p:spPr>
                <a:xfrm>
                  <a:off x="5078160" y="4335480"/>
                  <a:ext cx="60984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5840280" y="433548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6602400" y="433548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57" name=""/>
          <p:cNvGrpSpPr/>
          <p:nvPr/>
        </p:nvGrpSpPr>
        <p:grpSpPr>
          <a:xfrm>
            <a:off x="1019160" y="5056200"/>
            <a:ext cx="5533920" cy="658800"/>
            <a:chOff x="1019160" y="5056200"/>
            <a:chExt cx="5533920" cy="658800"/>
          </a:xfrm>
        </p:grpSpPr>
        <p:pic>
          <p:nvPicPr>
            <p:cNvPr id="5658" name="" descr=""/>
            <p:cNvPicPr/>
            <p:nvPr/>
          </p:nvPicPr>
          <p:blipFill>
            <a:blip r:embed="rId3"/>
            <a:stretch/>
          </p:blipFill>
          <p:spPr>
            <a:xfrm>
              <a:off x="1019160" y="5119920"/>
              <a:ext cx="5531040" cy="59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9" name=""/>
            <p:cNvGrpSpPr/>
            <p:nvPr/>
          </p:nvGrpSpPr>
          <p:grpSpPr>
            <a:xfrm>
              <a:off x="2019240" y="5056200"/>
              <a:ext cx="4533840" cy="63720"/>
              <a:chOff x="2019240" y="5056200"/>
              <a:chExt cx="4533840" cy="63720"/>
            </a:xfrm>
          </p:grpSpPr>
          <p:sp>
            <p:nvSpPr>
              <p:cNvPr id="5660" name=""/>
              <p:cNvSpPr/>
              <p:nvPr/>
            </p:nvSpPr>
            <p:spPr>
              <a:xfrm>
                <a:off x="2019240" y="5056200"/>
                <a:ext cx="453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2019240" y="5119920"/>
                <a:ext cx="95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188880" y="511992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4432320" y="5119920"/>
                <a:ext cx="95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5601960" y="511992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65" name="" descr=""/>
          <p:cNvPicPr/>
          <p:nvPr/>
        </p:nvPicPr>
        <p:blipFill>
          <a:blip r:embed="rId4"/>
          <a:stretch/>
        </p:blipFill>
        <p:spPr>
          <a:xfrm>
            <a:off x="766800" y="888840"/>
            <a:ext cx="4871880" cy="559080"/>
          </a:xfrm>
          <a:prstGeom prst="rect">
            <a:avLst/>
          </a:prstGeom>
          <a:ln w="0">
            <a:noFill/>
          </a:ln>
        </p:spPr>
      </p:pic>
      <p:grpSp>
        <p:nvGrpSpPr>
          <p:cNvPr id="5666" name=""/>
          <p:cNvGrpSpPr/>
          <p:nvPr/>
        </p:nvGrpSpPr>
        <p:grpSpPr>
          <a:xfrm>
            <a:off x="1066680" y="1379160"/>
            <a:ext cx="7619400" cy="2201400"/>
            <a:chOff x="1066680" y="1379160"/>
            <a:chExt cx="7619400" cy="2201400"/>
          </a:xfrm>
        </p:grpSpPr>
        <p:sp>
          <p:nvSpPr>
            <p:cNvPr id="5667" name=""/>
            <p:cNvSpPr/>
            <p:nvPr/>
          </p:nvSpPr>
          <p:spPr>
            <a:xfrm>
              <a:off x="1066680" y="1739880"/>
              <a:ext cx="36165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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由逻辑表达式画出卡诺图，由卡图诺可知，该函数不可化简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8" name=""/>
            <p:cNvGrpSpPr/>
            <p:nvPr/>
          </p:nvGrpSpPr>
          <p:grpSpPr>
            <a:xfrm>
              <a:off x="4987800" y="1379160"/>
              <a:ext cx="3698280" cy="2201400"/>
              <a:chOff x="4987800" y="1379160"/>
              <a:chExt cx="3698280" cy="2201400"/>
            </a:xfrm>
          </p:grpSpPr>
          <p:sp>
            <p:nvSpPr>
              <p:cNvPr id="5669" name=""/>
              <p:cNvSpPr/>
              <p:nvPr/>
            </p:nvSpPr>
            <p:spPr>
              <a:xfrm flipH="1" flipV="1">
                <a:off x="5239440" y="1690200"/>
                <a:ext cx="420120" cy="45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0" name=""/>
              <p:cNvGrpSpPr/>
              <p:nvPr/>
            </p:nvGrpSpPr>
            <p:grpSpPr>
              <a:xfrm>
                <a:off x="4987800" y="1379160"/>
                <a:ext cx="3698280" cy="2201400"/>
                <a:chOff x="4987800" y="1379160"/>
                <a:chExt cx="3698280" cy="2201400"/>
              </a:xfrm>
            </p:grpSpPr>
            <p:sp>
              <p:nvSpPr>
                <p:cNvPr id="5671" name=""/>
                <p:cNvSpPr/>
                <p:nvPr/>
              </p:nvSpPr>
              <p:spPr>
                <a:xfrm>
                  <a:off x="4987800" y="1653840"/>
                  <a:ext cx="590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5241240" y="1379160"/>
                  <a:ext cx="75492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B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5659920" y="2140920"/>
                  <a:ext cx="1513080" cy="1439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5659920" y="2860920"/>
                  <a:ext cx="151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6416640" y="2140920"/>
                  <a:ext cx="0" cy="14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5661720" y="1649880"/>
                  <a:ext cx="75312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5157360" y="2910240"/>
                  <a:ext cx="5882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5157360" y="2238840"/>
                  <a:ext cx="5882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7173000" y="2140920"/>
                  <a:ext cx="1513080" cy="1439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7173000" y="2860920"/>
                  <a:ext cx="151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7929720" y="2140920"/>
                  <a:ext cx="0" cy="14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6414840" y="1611720"/>
                  <a:ext cx="75780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7173000" y="1611720"/>
                  <a:ext cx="75636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7929720" y="1611720"/>
                  <a:ext cx="75636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6576840" y="2124000"/>
                  <a:ext cx="38340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8090640" y="2124000"/>
                  <a:ext cx="38340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5819400" y="2843640"/>
                  <a:ext cx="38340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7419960" y="2843640"/>
                  <a:ext cx="38340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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7" dur="indefinite" restart="never" nodeType="tmRoot">
          <p:childTnLst>
            <p:seq>
              <p:cTn id="3458" dur="indefinite" nodeType="mainSeq">
                <p:childTnLst>
                  <p:par>
                    <p:cTn id="3459" nodeType="clickEffect" fill="hold">
                      <p:stCondLst>
                        <p:cond delay="indefinite"/>
                      </p:stCondLst>
                      <p:childTnLst>
                        <p:par>
                          <p:cTn id="34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63" dur="500"/>
                                        <p:tgtEl>
                                          <p:spTgt spid="5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68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73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78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83" dur="500"/>
                                        <p:tgtEl>
                                          <p:spTgt spid="5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5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87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nodeType="clickEffect" fill="hold">
                      <p:stCondLst>
                        <p:cond delay="indefinite"/>
                      </p:stCondLst>
                      <p:childTnLst>
                        <p:par>
                          <p:cTn id="34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92" dur="500"/>
                                        <p:tgtEl>
                                          <p:spTgt spid="5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497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9" name=""/>
          <p:cNvSpPr/>
          <p:nvPr/>
        </p:nvSpPr>
        <p:spPr>
          <a:xfrm>
            <a:off x="825480" y="609480"/>
            <a:ext cx="4203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"/>
              </a:rPr>
              <a:t>(5)  </a:t>
            </a:r>
            <a:r>
              <a:rPr b="1" lang="zh-CN" sz="2800" spc="-1" strike="noStrike">
                <a:solidFill>
                  <a:srgbClr val="003300"/>
                </a:solidFill>
                <a:latin typeface=""/>
              </a:rPr>
              <a:t>画出逻辑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0" name=""/>
          <p:cNvGrpSpPr/>
          <p:nvPr/>
        </p:nvGrpSpPr>
        <p:grpSpPr>
          <a:xfrm>
            <a:off x="838080" y="1066680"/>
            <a:ext cx="7315200" cy="5287680"/>
            <a:chOff x="838080" y="1066680"/>
            <a:chExt cx="7315200" cy="5287680"/>
          </a:xfrm>
        </p:grpSpPr>
        <p:sp>
          <p:nvSpPr>
            <p:cNvPr id="5691" name=""/>
            <p:cNvSpPr/>
            <p:nvPr/>
          </p:nvSpPr>
          <p:spPr>
            <a:xfrm>
              <a:off x="838080" y="5638680"/>
              <a:ext cx="457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95280" y="5638680"/>
              <a:ext cx="457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286000" y="5638680"/>
              <a:ext cx="457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4" name=""/>
            <p:cNvGrpSpPr/>
            <p:nvPr/>
          </p:nvGrpSpPr>
          <p:grpSpPr>
            <a:xfrm>
              <a:off x="3886200" y="5715000"/>
              <a:ext cx="457200" cy="563040"/>
              <a:chOff x="3886200" y="5715000"/>
              <a:chExt cx="457200" cy="563040"/>
            </a:xfrm>
          </p:grpSpPr>
          <p:sp>
            <p:nvSpPr>
              <p:cNvPr id="5695" name=""/>
              <p:cNvSpPr/>
              <p:nvPr/>
            </p:nvSpPr>
            <p:spPr>
              <a:xfrm>
                <a:off x="3886200" y="5715000"/>
                <a:ext cx="457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997440" y="58676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7" name=""/>
            <p:cNvGrpSpPr/>
            <p:nvPr/>
          </p:nvGrpSpPr>
          <p:grpSpPr>
            <a:xfrm>
              <a:off x="4267080" y="5715000"/>
              <a:ext cx="457200" cy="563040"/>
              <a:chOff x="4267080" y="5715000"/>
              <a:chExt cx="457200" cy="563040"/>
            </a:xfrm>
          </p:grpSpPr>
          <p:sp>
            <p:nvSpPr>
              <p:cNvPr id="5698" name=""/>
              <p:cNvSpPr/>
              <p:nvPr/>
            </p:nvSpPr>
            <p:spPr>
              <a:xfrm>
                <a:off x="4267080" y="5715000"/>
                <a:ext cx="457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4378320" y="58676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0" name=""/>
            <p:cNvGrpSpPr/>
            <p:nvPr/>
          </p:nvGrpSpPr>
          <p:grpSpPr>
            <a:xfrm>
              <a:off x="5638680" y="5791320"/>
              <a:ext cx="457200" cy="563040"/>
              <a:chOff x="5638680" y="5791320"/>
              <a:chExt cx="457200" cy="563040"/>
            </a:xfrm>
          </p:grpSpPr>
          <p:sp>
            <p:nvSpPr>
              <p:cNvPr id="5701" name=""/>
              <p:cNvSpPr/>
              <p:nvPr/>
            </p:nvSpPr>
            <p:spPr>
              <a:xfrm>
                <a:off x="5638680" y="5791320"/>
                <a:ext cx="457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749920" y="59439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3" name=""/>
            <p:cNvGrpSpPr/>
            <p:nvPr/>
          </p:nvGrpSpPr>
          <p:grpSpPr>
            <a:xfrm>
              <a:off x="4038480" y="3314520"/>
              <a:ext cx="914400" cy="647640"/>
              <a:chOff x="4038480" y="3314520"/>
              <a:chExt cx="914400" cy="647640"/>
            </a:xfrm>
          </p:grpSpPr>
          <p:sp>
            <p:nvSpPr>
              <p:cNvPr id="5704" name=""/>
              <p:cNvSpPr/>
              <p:nvPr/>
            </p:nvSpPr>
            <p:spPr>
              <a:xfrm rot="16200000">
                <a:off x="4257360" y="3266640"/>
                <a:ext cx="476280" cy="91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 rot="16200000">
                <a:off x="4419720" y="3314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432144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7" name=""/>
            <p:cNvGrpSpPr/>
            <p:nvPr/>
          </p:nvGrpSpPr>
          <p:grpSpPr>
            <a:xfrm>
              <a:off x="990720" y="3352320"/>
              <a:ext cx="687240" cy="611280"/>
              <a:chOff x="990720" y="3352320"/>
              <a:chExt cx="687240" cy="611280"/>
            </a:xfrm>
          </p:grpSpPr>
          <p:sp>
            <p:nvSpPr>
              <p:cNvPr id="5708" name=""/>
              <p:cNvSpPr/>
              <p:nvPr/>
            </p:nvSpPr>
            <p:spPr>
              <a:xfrm rot="16200000">
                <a:off x="1104840" y="3390480"/>
                <a:ext cx="459000" cy="687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 rot="16200000">
                <a:off x="1294920" y="3352320"/>
                <a:ext cx="152280" cy="151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1144440" y="3430440"/>
                <a:ext cx="380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1" name=""/>
            <p:cNvSpPr/>
            <p:nvPr/>
          </p:nvSpPr>
          <p:spPr>
            <a:xfrm>
              <a:off x="114300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52388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3" name=""/>
            <p:cNvGrpSpPr/>
            <p:nvPr/>
          </p:nvGrpSpPr>
          <p:grpSpPr>
            <a:xfrm>
              <a:off x="2057400" y="3352320"/>
              <a:ext cx="687240" cy="611280"/>
              <a:chOff x="2057400" y="3352320"/>
              <a:chExt cx="687240" cy="611280"/>
            </a:xfrm>
          </p:grpSpPr>
          <p:sp>
            <p:nvSpPr>
              <p:cNvPr id="5714" name=""/>
              <p:cNvSpPr/>
              <p:nvPr/>
            </p:nvSpPr>
            <p:spPr>
              <a:xfrm rot="16200000">
                <a:off x="2171520" y="3390480"/>
                <a:ext cx="459000" cy="687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 rot="16200000">
                <a:off x="2361600" y="3352320"/>
                <a:ext cx="152280" cy="151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2211120" y="3430440"/>
                <a:ext cx="380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7" name=""/>
            <p:cNvSpPr/>
            <p:nvPr/>
          </p:nvSpPr>
          <p:spPr>
            <a:xfrm>
              <a:off x="259092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8" name=""/>
            <p:cNvGrpSpPr/>
            <p:nvPr/>
          </p:nvGrpSpPr>
          <p:grpSpPr>
            <a:xfrm>
              <a:off x="3048120" y="3352320"/>
              <a:ext cx="687240" cy="611280"/>
              <a:chOff x="3048120" y="3352320"/>
              <a:chExt cx="687240" cy="611280"/>
            </a:xfrm>
          </p:grpSpPr>
          <p:sp>
            <p:nvSpPr>
              <p:cNvPr id="5719" name=""/>
              <p:cNvSpPr/>
              <p:nvPr/>
            </p:nvSpPr>
            <p:spPr>
              <a:xfrm rot="16200000">
                <a:off x="3162240" y="3390480"/>
                <a:ext cx="459000" cy="687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 rot="16200000">
                <a:off x="3352320" y="3352320"/>
                <a:ext cx="152280" cy="151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201840" y="3430440"/>
                <a:ext cx="3805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2" name=""/>
            <p:cNvSpPr/>
            <p:nvPr/>
          </p:nvSpPr>
          <p:spPr>
            <a:xfrm rot="16200000">
              <a:off x="5715000" y="1752480"/>
              <a:ext cx="533520" cy="99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770800" y="1905120"/>
              <a:ext cx="409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13716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243828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flipV="1">
              <a:off x="34290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1371600" y="2971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213372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743200" y="2971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27432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 flipV="1">
              <a:off x="4495680" y="274284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 flipV="1">
              <a:off x="5562720" y="304776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7696080" y="2742840"/>
              <a:ext cx="0" cy="56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4495680" y="2743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 flipV="1">
              <a:off x="5638680" y="251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324480" y="27432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flipV="1">
              <a:off x="6324480" y="251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8" name=""/>
            <p:cNvGrpSpPr/>
            <p:nvPr/>
          </p:nvGrpSpPr>
          <p:grpSpPr>
            <a:xfrm>
              <a:off x="5105520" y="3314520"/>
              <a:ext cx="914400" cy="647640"/>
              <a:chOff x="5105520" y="3314520"/>
              <a:chExt cx="914400" cy="647640"/>
            </a:xfrm>
          </p:grpSpPr>
          <p:sp>
            <p:nvSpPr>
              <p:cNvPr id="5739" name=""/>
              <p:cNvSpPr/>
              <p:nvPr/>
            </p:nvSpPr>
            <p:spPr>
              <a:xfrm rot="16200000">
                <a:off x="5324400" y="3266640"/>
                <a:ext cx="476280" cy="91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 rot="16200000">
                <a:off x="5486760" y="3314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538848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2" name=""/>
            <p:cNvGrpSpPr/>
            <p:nvPr/>
          </p:nvGrpSpPr>
          <p:grpSpPr>
            <a:xfrm>
              <a:off x="6172200" y="3314520"/>
              <a:ext cx="914400" cy="647640"/>
              <a:chOff x="6172200" y="3314520"/>
              <a:chExt cx="914400" cy="647640"/>
            </a:xfrm>
          </p:grpSpPr>
          <p:sp>
            <p:nvSpPr>
              <p:cNvPr id="5743" name=""/>
              <p:cNvSpPr/>
              <p:nvPr/>
            </p:nvSpPr>
            <p:spPr>
              <a:xfrm rot="16200000">
                <a:off x="6391080" y="3266640"/>
                <a:ext cx="476280" cy="91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 rot="16200000">
                <a:off x="6553440" y="3314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45516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6" name=""/>
            <p:cNvGrpSpPr/>
            <p:nvPr/>
          </p:nvGrpSpPr>
          <p:grpSpPr>
            <a:xfrm>
              <a:off x="7238880" y="3314520"/>
              <a:ext cx="914400" cy="647640"/>
              <a:chOff x="7238880" y="3314520"/>
              <a:chExt cx="914400" cy="647640"/>
            </a:xfrm>
          </p:grpSpPr>
          <p:sp>
            <p:nvSpPr>
              <p:cNvPr id="5747" name=""/>
              <p:cNvSpPr/>
              <p:nvPr/>
            </p:nvSpPr>
            <p:spPr>
              <a:xfrm rot="16200000">
                <a:off x="7457760" y="3266640"/>
                <a:ext cx="476280" cy="91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 rot="16200000">
                <a:off x="7620120" y="3314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7521840" y="3429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0" name=""/>
            <p:cNvSpPr/>
            <p:nvPr/>
          </p:nvSpPr>
          <p:spPr>
            <a:xfrm>
              <a:off x="5562720" y="3048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5867280" y="25146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V="1">
              <a:off x="6629400" y="3047760"/>
              <a:ext cx="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095880" y="3048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V="1">
              <a:off x="6095880" y="25146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5" name=""/>
            <p:cNvGrpSpPr/>
            <p:nvPr/>
          </p:nvGrpSpPr>
          <p:grpSpPr>
            <a:xfrm>
              <a:off x="1981080" y="1793520"/>
              <a:ext cx="914400" cy="647640"/>
              <a:chOff x="1981080" y="1793520"/>
              <a:chExt cx="914400" cy="647640"/>
            </a:xfrm>
          </p:grpSpPr>
          <p:sp>
            <p:nvSpPr>
              <p:cNvPr id="5756" name=""/>
              <p:cNvSpPr/>
              <p:nvPr/>
            </p:nvSpPr>
            <p:spPr>
              <a:xfrm rot="16200000">
                <a:off x="2199960" y="1745640"/>
                <a:ext cx="476280" cy="91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 rot="16200000">
                <a:off x="2362320" y="1793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2264040" y="1908000"/>
                <a:ext cx="40932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9" name=""/>
            <p:cNvSpPr/>
            <p:nvPr/>
          </p:nvSpPr>
          <p:spPr>
            <a:xfrm>
              <a:off x="411480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4495680" y="3962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867280" y="3962520"/>
              <a:ext cx="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2438280" y="1295280"/>
              <a:ext cx="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5943600" y="1328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rot="16200000">
              <a:off x="5867280" y="1828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1143000" y="4267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V="1">
              <a:off x="2209680" y="396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6324480" y="396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V="1">
              <a:off x="7391520" y="3962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1523880" y="4572000"/>
              <a:ext cx="617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200400" y="3962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257800" y="3962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7696080" y="3962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590920" y="4876920"/>
              <a:ext cx="5410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581280" y="39625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4800600" y="39625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8001000" y="39625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4114800" y="51055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V="1">
              <a:off x="5562720" y="39621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4495680" y="533412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V="1">
              <a:off x="6629400" y="39625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867280" y="56386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V="1">
              <a:off x="6934320" y="396252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2438280" y="1066680"/>
              <a:ext cx="7621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G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?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867280" y="1066680"/>
              <a:ext cx="7621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G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?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8" dur="indefinite" restart="never" nodeType="tmRoot">
          <p:childTnLst>
            <p:seq>
              <p:cTn id="3499" dur="indefinite" nodeType="mainSeq">
                <p:childTnLst>
                  <p:par>
                    <p:cTn id="3500" nodeType="clickEffect" fill="hold">
                      <p:stCondLst>
                        <p:cond delay="indefinite"/>
                      </p:stCondLst>
                      <p:childTnLst>
                        <p:par>
                          <p:cTn id="35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3504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0. 7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加法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6" name=""/>
          <p:cNvGrpSpPr/>
          <p:nvPr/>
        </p:nvGrpSpPr>
        <p:grpSpPr>
          <a:xfrm>
            <a:off x="838080" y="2971800"/>
            <a:ext cx="2743200" cy="171360"/>
            <a:chOff x="838080" y="2971800"/>
            <a:chExt cx="2743200" cy="171360"/>
          </a:xfrm>
        </p:grpSpPr>
        <p:pic>
          <p:nvPicPr>
            <p:cNvPr id="5787" name="" descr=""/>
            <p:cNvPicPr/>
            <p:nvPr/>
          </p:nvPicPr>
          <p:blipFill>
            <a:blip r:embed="rId1"/>
            <a:stretch/>
          </p:blipFill>
          <p:spPr>
            <a:xfrm>
              <a:off x="17431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8" name="" descr=""/>
            <p:cNvPicPr/>
            <p:nvPr/>
          </p:nvPicPr>
          <p:blipFill>
            <a:blip r:embed="rId2"/>
            <a:stretch/>
          </p:blipFill>
          <p:spPr>
            <a:xfrm>
              <a:off x="18856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9" name="" descr=""/>
            <p:cNvPicPr/>
            <p:nvPr/>
          </p:nvPicPr>
          <p:blipFill>
            <a:blip r:embed="rId3"/>
            <a:stretch/>
          </p:blipFill>
          <p:spPr>
            <a:xfrm>
              <a:off x="20476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0" name="" descr=""/>
            <p:cNvPicPr/>
            <p:nvPr/>
          </p:nvPicPr>
          <p:blipFill>
            <a:blip r:embed="rId4"/>
            <a:stretch/>
          </p:blipFill>
          <p:spPr>
            <a:xfrm>
              <a:off x="23428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1" name="" descr=""/>
            <p:cNvPicPr/>
            <p:nvPr/>
          </p:nvPicPr>
          <p:blipFill>
            <a:blip r:embed="rId5"/>
            <a:stretch/>
          </p:blipFill>
          <p:spPr>
            <a:xfrm>
              <a:off x="25048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2" name="" descr=""/>
            <p:cNvPicPr/>
            <p:nvPr/>
          </p:nvPicPr>
          <p:blipFill>
            <a:blip r:embed="rId6"/>
            <a:stretch/>
          </p:blipFill>
          <p:spPr>
            <a:xfrm>
              <a:off x="26575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3" name="" descr=""/>
            <p:cNvPicPr/>
            <p:nvPr/>
          </p:nvPicPr>
          <p:blipFill>
            <a:blip r:embed="rId7"/>
            <a:stretch/>
          </p:blipFill>
          <p:spPr>
            <a:xfrm>
              <a:off x="28000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4" name="" descr=""/>
            <p:cNvPicPr/>
            <p:nvPr/>
          </p:nvPicPr>
          <p:blipFill>
            <a:blip r:embed="rId8"/>
            <a:stretch/>
          </p:blipFill>
          <p:spPr>
            <a:xfrm>
              <a:off x="29620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5" name="" descr=""/>
            <p:cNvPicPr/>
            <p:nvPr/>
          </p:nvPicPr>
          <p:blipFill>
            <a:blip r:embed="rId9"/>
            <a:stretch/>
          </p:blipFill>
          <p:spPr>
            <a:xfrm>
              <a:off x="32572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6" name="" descr=""/>
            <p:cNvPicPr/>
            <p:nvPr/>
          </p:nvPicPr>
          <p:blipFill>
            <a:blip r:embed="rId10"/>
            <a:stretch/>
          </p:blipFill>
          <p:spPr>
            <a:xfrm>
              <a:off x="3419280" y="2981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7" name="" descr=""/>
            <p:cNvPicPr/>
            <p:nvPr/>
          </p:nvPicPr>
          <p:blipFill>
            <a:blip r:embed="rId11"/>
            <a:stretch/>
          </p:blipFill>
          <p:spPr>
            <a:xfrm>
              <a:off x="22003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8" name="" descr=""/>
            <p:cNvPicPr/>
            <p:nvPr/>
          </p:nvPicPr>
          <p:blipFill>
            <a:blip r:embed="rId12"/>
            <a:stretch/>
          </p:blipFill>
          <p:spPr>
            <a:xfrm>
              <a:off x="3114720" y="2981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99" name=""/>
            <p:cNvGrpSpPr/>
            <p:nvPr/>
          </p:nvGrpSpPr>
          <p:grpSpPr>
            <a:xfrm>
              <a:off x="838080" y="2971800"/>
              <a:ext cx="923760" cy="162000"/>
              <a:chOff x="838080" y="2971800"/>
              <a:chExt cx="923760" cy="162000"/>
            </a:xfrm>
          </p:grpSpPr>
          <p:pic>
            <p:nvPicPr>
              <p:cNvPr id="580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98100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43000" y="29718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528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43820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00200" y="2971800"/>
                <a:ext cx="161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8080" y="2971800"/>
                <a:ext cx="16200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06" name=""/>
          <p:cNvSpPr/>
          <p:nvPr/>
        </p:nvSpPr>
        <p:spPr>
          <a:xfrm>
            <a:off x="762120" y="32004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7 .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二进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1865520" y="3809880"/>
            <a:ext cx="4263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十进制：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0~9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十个数码，“逢十进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685800" y="457200"/>
            <a:ext cx="7467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数字电路中，常用的组合电路有加法器、编码器、译码器、数据分配器和多路选择器等。下面几节分别介绍这几种典型组合逻辑电路的基本结构、工作原理和使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685800" y="4343400"/>
            <a:ext cx="784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在数字电路中，为了把电路的两个状态 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“1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态和“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0”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态</a:t>
            </a: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与数码对应起来，采用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二进制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2395440" y="5410080"/>
            <a:ext cx="3227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二进制：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两个数码，“逢二进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5" dur="indefinite" restart="never" nodeType="tmRoot">
          <p:childTnLst>
            <p:seq>
              <p:cTn id="3506" dur="indefinite" nodeType="mainSeq">
                <p:childTnLst>
                  <p:par>
                    <p:cTn id="3507" nodeType="clickEffect" fill="hold">
                      <p:stCondLst>
                        <p:cond delay="indefinite"/>
                      </p:stCondLst>
                      <p:childTnLst>
                        <p:par>
                          <p:cTn id="3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11" dur="500"/>
                                        <p:tgtEl>
                                          <p:spTgt spid="5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3" nodeType="afterEffect" fill="hold" presetClass="entr" presetID="22" presetSubtype="8"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15" dur="500"/>
                                        <p:tgtEl>
                                          <p:spTgt spid="5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20" dur="500"/>
                                        <p:tgtEl>
                                          <p:spTgt spid="5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nodeType="clickEffect" fill="hold">
                      <p:stCondLst>
                        <p:cond delay="indefinite"/>
                      </p:stCondLst>
                      <p:childTnLst>
                        <p:par>
                          <p:cTn id="3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25" dur="500"/>
                                        <p:tgtEl>
                                          <p:spTgt spid="5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30" dur="500"/>
                                        <p:tgtEl>
                                          <p:spTgt spid="5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nodeType="clickEffect" fill="hold">
                      <p:stCondLst>
                        <p:cond delay="indefinite"/>
                      </p:stCondLst>
                      <p:childTnLst>
                        <p:par>
                          <p:cTn id="35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35" dur="500"/>
                                        <p:tgtEl>
                                          <p:spTgt spid="5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0. 7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加法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686240" y="1114560"/>
            <a:ext cx="38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加法器</a:t>
            </a:r>
            <a:r>
              <a:rPr b="1" lang="en-US" sz="2800" spc="-1" strike="noStrike">
                <a:solidFill>
                  <a:srgbClr val="cc0000"/>
                </a:solidFill>
                <a:latin typeface=""/>
              </a:rPr>
              <a:t>:</a:t>
            </a:r>
            <a:r>
              <a:rPr b="1" lang="en-US" sz="2800" spc="-1" strike="noStrike">
                <a:solidFill>
                  <a:srgbClr val="000099"/>
                </a:solidFill>
                <a:latin typeface="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实现二进制加法运算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685800" y="405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3581280" y="2805120"/>
            <a:ext cx="381240" cy="1143000"/>
          </a:xfrm>
          <a:prstGeom prst="ellipse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2971800" y="2805120"/>
            <a:ext cx="457200" cy="17524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6" name=""/>
          <p:cNvGrpSpPr/>
          <p:nvPr/>
        </p:nvGrpSpPr>
        <p:grpSpPr>
          <a:xfrm>
            <a:off x="1212120" y="2011320"/>
            <a:ext cx="3283560" cy="2614680"/>
            <a:chOff x="1212120" y="2011320"/>
            <a:chExt cx="3283560" cy="2614680"/>
          </a:xfrm>
        </p:grpSpPr>
        <p:sp>
          <p:nvSpPr>
            <p:cNvPr id="5817" name=""/>
            <p:cNvSpPr/>
            <p:nvPr/>
          </p:nvSpPr>
          <p:spPr>
            <a:xfrm>
              <a:off x="1212120" y="2011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098080" y="2797200"/>
              <a:ext cx="106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099880" y="3483000"/>
              <a:ext cx="96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r>
                <a:rPr b="1" lang="en-US" sz="3200" spc="-1" strike="noStrike">
                  <a:solidFill>
                    <a:srgbClr val="ff0066"/>
                  </a:solidFill>
                  <a:latin typeface="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3567960" y="2805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3567960" y="3490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1676160" y="4626000"/>
              <a:ext cx="2819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1600200" y="34066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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3034440" y="3483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034440" y="2797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3034800" y="3948120"/>
            <a:ext cx="947160" cy="1267200"/>
            <a:chOff x="3034800" y="3948120"/>
            <a:chExt cx="947160" cy="1267200"/>
          </a:xfrm>
        </p:grpSpPr>
        <p:sp>
          <p:nvSpPr>
            <p:cNvPr id="5827" name=""/>
            <p:cNvSpPr/>
            <p:nvPr/>
          </p:nvSpPr>
          <p:spPr>
            <a:xfrm>
              <a:off x="3034800" y="3948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56796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2501280" y="3948120"/>
            <a:ext cx="947160" cy="1267200"/>
            <a:chOff x="2501280" y="3948120"/>
            <a:chExt cx="947160" cy="1267200"/>
          </a:xfrm>
        </p:grpSpPr>
        <p:sp>
          <p:nvSpPr>
            <p:cNvPr id="5830" name=""/>
            <p:cNvSpPr/>
            <p:nvPr/>
          </p:nvSpPr>
          <p:spPr>
            <a:xfrm>
              <a:off x="2501280" y="3948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303444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2196360" y="4633920"/>
            <a:ext cx="795240" cy="581400"/>
            <a:chOff x="2196360" y="4633920"/>
            <a:chExt cx="795240" cy="581400"/>
          </a:xfrm>
        </p:grpSpPr>
        <p:sp>
          <p:nvSpPr>
            <p:cNvPr id="5833" name=""/>
            <p:cNvSpPr/>
            <p:nvPr/>
          </p:nvSpPr>
          <p:spPr>
            <a:xfrm>
              <a:off x="257760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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196360" y="46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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5" name=""/>
          <p:cNvSpPr/>
          <p:nvPr/>
        </p:nvSpPr>
        <p:spPr>
          <a:xfrm>
            <a:off x="4648320" y="4329000"/>
            <a:ext cx="2057400" cy="922320"/>
          </a:xfrm>
          <a:prstGeom prst="wedgeRoundRectCallout">
            <a:avLst>
              <a:gd name="adj1" fmla="val -86421"/>
              <a:gd name="adj2" fmla="val -10043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不考虑低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来的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6" name=""/>
          <p:cNvGrpSpPr/>
          <p:nvPr/>
        </p:nvGrpSpPr>
        <p:grpSpPr>
          <a:xfrm>
            <a:off x="5562720" y="5319720"/>
            <a:ext cx="2514600" cy="672840"/>
            <a:chOff x="5562720" y="5319720"/>
            <a:chExt cx="2514600" cy="672840"/>
          </a:xfrm>
        </p:grpSpPr>
        <p:sp>
          <p:nvSpPr>
            <p:cNvPr id="5837" name=""/>
            <p:cNvSpPr/>
            <p:nvPr/>
          </p:nvSpPr>
          <p:spPr>
            <a:xfrm>
              <a:off x="6019920" y="5472000"/>
              <a:ext cx="20574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半加器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5562720" y="5884920"/>
              <a:ext cx="381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5562720" y="5319720"/>
              <a:ext cx="0" cy="53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0" name=""/>
          <p:cNvSpPr/>
          <p:nvPr/>
        </p:nvSpPr>
        <p:spPr>
          <a:xfrm>
            <a:off x="4114800" y="1828800"/>
            <a:ext cx="2209680" cy="914400"/>
          </a:xfrm>
          <a:prstGeom prst="wedgeRoundRectCallout">
            <a:avLst>
              <a:gd name="adj1" fmla="val -93606"/>
              <a:gd name="adj2" fmla="val 5000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要考虑低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"/>
              </a:rPr>
              <a:t>来的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1" name=""/>
          <p:cNvGrpSpPr/>
          <p:nvPr/>
        </p:nvGrpSpPr>
        <p:grpSpPr>
          <a:xfrm>
            <a:off x="5257800" y="2819520"/>
            <a:ext cx="2514600" cy="672840"/>
            <a:chOff x="5257800" y="2819520"/>
            <a:chExt cx="2514600" cy="672840"/>
          </a:xfrm>
        </p:grpSpPr>
        <p:sp>
          <p:nvSpPr>
            <p:cNvPr id="5842" name=""/>
            <p:cNvSpPr/>
            <p:nvPr/>
          </p:nvSpPr>
          <p:spPr>
            <a:xfrm>
              <a:off x="5703840" y="2971800"/>
              <a:ext cx="20685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全加器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5257800" y="3384720"/>
              <a:ext cx="371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5257800" y="2819520"/>
              <a:ext cx="0" cy="53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5" name=""/>
          <p:cNvSpPr/>
          <p:nvPr/>
        </p:nvSpPr>
        <p:spPr>
          <a:xfrm>
            <a:off x="2438280" y="2805120"/>
            <a:ext cx="457200" cy="17524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6" dur="indefinite" restart="never" nodeType="tmRoot">
          <p:childTnLst>
            <p:seq>
              <p:cTn id="3537" dur="indefinite" nodeType="mainSeq">
                <p:childTnLst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42" dur="500"/>
                                        <p:tgtEl>
                                          <p:spTgt spid="5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nodeType="clickEffect" fill="hold">
                      <p:stCondLst>
                        <p:cond delay="indefinite"/>
                      </p:stCondLst>
                      <p:childTnLst>
                        <p:par>
                          <p:cTn id="35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4" presetSubtype="16"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base">
                                        <p:cTn id="3547" dur="500"/>
                                        <p:tgtEl>
                                          <p:spTgt spid="5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nodeType="clickEffect" fill="hold">
                      <p:stCondLst>
                        <p:cond delay="indefinite"/>
                      </p:stCondLst>
                      <p:childTnLst>
                        <p:par>
                          <p:cTn id="3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55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4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355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2" presetSubtype="2"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base">
                                        <p:cTn id="3561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base">
                                        <p:cTn id="3566" dur="500"/>
                                        <p:tgtEl>
                                          <p:spTgt spid="5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7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576" dur="500"/>
                                        <p:tgtEl>
                                          <p:spTgt spid="5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8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3580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nodeType="clickEffect" fill="hold">
                      <p:stCondLst>
                        <p:cond delay="indefinite"/>
                      </p:stCondLst>
                      <p:childTnLst>
                        <p:par>
                          <p:cTn id="35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585" dur="500"/>
                                        <p:tgtEl>
                                          <p:spTgt spid="5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7" nodeType="afterEffect" fill="hold" presetClass="entr" presetID="1"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base">
                                        <p:cTn id="3593" dur="500"/>
                                        <p:tgtEl>
                                          <p:spTgt spid="5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59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3581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7. 1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半加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762120" y="91440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"/>
              </a:rPr>
              <a:t>半加：实现两个一位二进制数相加，不考虑来自低位的进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8" name=""/>
          <p:cNvGrpSpPr/>
          <p:nvPr/>
        </p:nvGrpSpPr>
        <p:grpSpPr>
          <a:xfrm>
            <a:off x="1203480" y="2286000"/>
            <a:ext cx="5032080" cy="1054080"/>
            <a:chOff x="1203480" y="2286000"/>
            <a:chExt cx="5032080" cy="1054080"/>
          </a:xfrm>
        </p:grpSpPr>
        <p:sp>
          <p:nvSpPr>
            <p:cNvPr id="5849" name=""/>
            <p:cNvSpPr/>
            <p:nvPr/>
          </p:nvSpPr>
          <p:spPr>
            <a:xfrm>
              <a:off x="2751840" y="22860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753280" y="28195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1203480" y="2666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两个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590920" y="2438280"/>
              <a:ext cx="152280" cy="838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3921120" y="25909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两个同位相加的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4" name=""/>
          <p:cNvGrpSpPr/>
          <p:nvPr/>
        </p:nvGrpSpPr>
        <p:grpSpPr>
          <a:xfrm>
            <a:off x="1203840" y="3581280"/>
            <a:ext cx="4918320" cy="1058760"/>
            <a:chOff x="1203840" y="3581280"/>
            <a:chExt cx="4918320" cy="1058760"/>
          </a:xfrm>
        </p:grpSpPr>
        <p:sp>
          <p:nvSpPr>
            <p:cNvPr id="5855" name=""/>
            <p:cNvSpPr/>
            <p:nvPr/>
          </p:nvSpPr>
          <p:spPr>
            <a:xfrm>
              <a:off x="1203840" y="373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两个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2590920" y="366228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750400" y="358128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678040" y="411480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3200400" y="3838320"/>
              <a:ext cx="3812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200400" y="4371840"/>
              <a:ext cx="3812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3942720" y="35859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表示半加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4234680" y="41194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"/>
                </a:rPr>
                <a:t>表示向高位的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3" name=""/>
          <p:cNvSpPr/>
          <p:nvPr/>
        </p:nvSpPr>
        <p:spPr>
          <a:xfrm>
            <a:off x="1275480" y="480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符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112644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半加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5" name=""/>
          <p:cNvGrpSpPr/>
          <p:nvPr/>
        </p:nvGrpSpPr>
        <p:grpSpPr>
          <a:xfrm>
            <a:off x="3209040" y="4724280"/>
            <a:ext cx="2915640" cy="1295640"/>
            <a:chOff x="3209040" y="4724280"/>
            <a:chExt cx="2915640" cy="1295640"/>
          </a:xfrm>
        </p:grpSpPr>
        <p:sp>
          <p:nvSpPr>
            <p:cNvPr id="5866" name=""/>
            <p:cNvSpPr/>
            <p:nvPr/>
          </p:nvSpPr>
          <p:spPr>
            <a:xfrm>
              <a:off x="4191120" y="4724280"/>
              <a:ext cx="990360" cy="129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3733920" y="5105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3733920" y="5638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5181480" y="5638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5181480" y="5105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3657600" y="5599080"/>
              <a:ext cx="7920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510440" y="5410080"/>
              <a:ext cx="68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209040" y="48006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3210480" y="53341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722200" y="48006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726160" y="541008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4495680" y="4800600"/>
              <a:ext cx="609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3657600" y="5062680"/>
              <a:ext cx="7920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5638680" y="5070600"/>
              <a:ext cx="7956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5635800" y="5602320"/>
              <a:ext cx="7920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nodeType="clickEffect" fill="hold">
                      <p:stCondLst>
                        <p:cond delay="indefinite"/>
                      </p:stCondLst>
                      <p:childTnLst>
                        <p:par>
                          <p:cTn id="36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05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nodeType="clickEffect" fill="hold">
                      <p:stCondLst>
                        <p:cond delay="indefinite"/>
                      </p:stCondLst>
                      <p:childTnLst>
                        <p:par>
                          <p:cTn id="3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10" dur="500"/>
                                        <p:tgtEl>
                                          <p:spTgt spid="5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nodeType="clickEffect" fill="hold">
                      <p:stCondLst>
                        <p:cond delay="indefinite"/>
                      </p:stCondLst>
                      <p:childTnLst>
                        <p:par>
                          <p:cTn id="36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15" dur="500"/>
                                        <p:tgtEl>
                                          <p:spTgt spid="5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nodeType="clickEffect" fill="hold">
                      <p:stCondLst>
                        <p:cond delay="indefinite"/>
                      </p:stCondLst>
                      <p:childTnLst>
                        <p:par>
                          <p:cTn id="36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20" dur="500"/>
                                        <p:tgtEl>
                                          <p:spTgt spid="5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nodeType="clickEffect" fill="hold">
                      <p:stCondLst>
                        <p:cond delay="indefinite"/>
                      </p:stCondLst>
                      <p:childTnLst>
                        <p:par>
                          <p:cTn id="3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25" dur="500"/>
                                        <p:tgtEl>
                                          <p:spTgt spid="5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30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"/>
          <p:cNvSpPr/>
          <p:nvPr/>
        </p:nvSpPr>
        <p:spPr>
          <a:xfrm>
            <a:off x="990720" y="76212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半加器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>
            <a:off x="1428120" y="4114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逻辑表达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3" name="" descr=""/>
          <p:cNvPicPr/>
          <p:nvPr/>
        </p:nvPicPr>
        <p:blipFill>
          <a:blip r:embed="rId1"/>
          <a:stretch/>
        </p:blipFill>
        <p:spPr>
          <a:xfrm>
            <a:off x="1255680" y="4724280"/>
            <a:ext cx="3925800" cy="547920"/>
          </a:xfrm>
          <a:prstGeom prst="rect">
            <a:avLst/>
          </a:prstGeom>
          <a:ln w="0">
            <a:noFill/>
          </a:ln>
        </p:spPr>
      </p:pic>
      <p:grpSp>
        <p:nvGrpSpPr>
          <p:cNvPr id="5884" name=""/>
          <p:cNvGrpSpPr/>
          <p:nvPr/>
        </p:nvGrpSpPr>
        <p:grpSpPr>
          <a:xfrm>
            <a:off x="4428360" y="990720"/>
            <a:ext cx="3414600" cy="3568320"/>
            <a:chOff x="4428360" y="990720"/>
            <a:chExt cx="3414600" cy="3568320"/>
          </a:xfrm>
        </p:grpSpPr>
        <p:sp>
          <p:nvSpPr>
            <p:cNvPr id="5885" name=""/>
            <p:cNvSpPr/>
            <p:nvPr/>
          </p:nvSpPr>
          <p:spPr>
            <a:xfrm>
              <a:off x="5703840" y="4038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5562720" y="1600200"/>
              <a:ext cx="0" cy="144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334120" y="2057400"/>
              <a:ext cx="0" cy="144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5867280" y="1295280"/>
              <a:ext cx="762120" cy="1066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5867280" y="2666880"/>
              <a:ext cx="762120" cy="1066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6036480" y="27907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5933160" y="1419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4952880" y="1600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4952880" y="20574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662940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629400" y="3200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562720" y="3047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334120" y="3504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181480" y="1523880"/>
              <a:ext cx="30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410080" y="103176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4428360" y="129528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4429800" y="18288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474680" y="16002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402320" y="289548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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5105520" y="990720"/>
              <a:ext cx="1904760" cy="2971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391520" y="179208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4867200" y="201924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343640" y="3159000"/>
              <a:ext cx="9396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4867200" y="1558800"/>
              <a:ext cx="93600" cy="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09" name="" descr=""/>
          <p:cNvPicPr/>
          <p:nvPr/>
        </p:nvPicPr>
        <p:blipFill>
          <a:blip r:embed="rId2"/>
          <a:stretch/>
        </p:blipFill>
        <p:spPr>
          <a:xfrm>
            <a:off x="1203480" y="5410080"/>
            <a:ext cx="1441440" cy="478080"/>
          </a:xfrm>
          <a:prstGeom prst="rect">
            <a:avLst/>
          </a:prstGeom>
          <a:ln w="0">
            <a:noFill/>
          </a:ln>
        </p:spPr>
      </p:pic>
      <p:pic>
        <p:nvPicPr>
          <p:cNvPr id="5910" name="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12459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911" name=""/>
          <p:cNvGrpSpPr/>
          <p:nvPr/>
        </p:nvGrpSpPr>
        <p:grpSpPr>
          <a:xfrm>
            <a:off x="1295280" y="1447920"/>
            <a:ext cx="2514600" cy="2465280"/>
            <a:chOff x="1295280" y="1447920"/>
            <a:chExt cx="2514600" cy="2465280"/>
          </a:xfrm>
        </p:grpSpPr>
        <p:grpSp>
          <p:nvGrpSpPr>
            <p:cNvPr id="5912" name=""/>
            <p:cNvGrpSpPr/>
            <p:nvPr/>
          </p:nvGrpSpPr>
          <p:grpSpPr>
            <a:xfrm>
              <a:off x="1295280" y="1447920"/>
              <a:ext cx="2514600" cy="2465280"/>
              <a:chOff x="1295280" y="1447920"/>
              <a:chExt cx="2514600" cy="2465280"/>
            </a:xfrm>
          </p:grpSpPr>
          <p:sp>
            <p:nvSpPr>
              <p:cNvPr id="5913" name=""/>
              <p:cNvSpPr/>
              <p:nvPr/>
            </p:nvSpPr>
            <p:spPr>
              <a:xfrm>
                <a:off x="1371600" y="14479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2590560" y="1447920"/>
                <a:ext cx="0" cy="243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1371600" y="198144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379160" y="1447920"/>
                <a:ext cx="21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A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    </a:t>
                </a: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B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     </a:t>
                </a: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S</a:t>
                </a: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  </a:t>
                </a:r>
                <a:r>
                  <a:rPr b="1" i="1" lang="en-US" sz="2800" spc="-1" strike="noStrike">
                    <a:solidFill>
                      <a:srgbClr val="333300"/>
                    </a:solidFill>
                    <a:latin typeface=""/>
                  </a:rPr>
                  <a:t>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295280" y="1962360"/>
                <a:ext cx="229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0     0     0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295280" y="2438640"/>
                <a:ext cx="229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0     1     1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1295280" y="2914920"/>
                <a:ext cx="229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     0     1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295280" y="3392640"/>
                <a:ext cx="229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00"/>
                    </a:solidFill>
                    <a:latin typeface=""/>
                  </a:rPr>
                  <a:t>1     1     0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1" name=""/>
            <p:cNvSpPr/>
            <p:nvPr/>
          </p:nvSpPr>
          <p:spPr>
            <a:xfrm>
              <a:off x="1371600" y="388620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1" dur="indefinite" restart="never" nodeType="tmRoot">
          <p:childTnLst>
            <p:seq>
              <p:cTn id="3632" dur="indefinite" nodeType="mainSeq">
                <p:childTnLst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37" dur="500"/>
                                        <p:tgtEl>
                                          <p:spTgt spid="5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nodeType="clickEffect" fill="hold">
                      <p:stCondLst>
                        <p:cond delay="indefinite"/>
                      </p:stCondLst>
                      <p:childTnLst>
                        <p:par>
                          <p:cTn id="36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4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47" dur="500"/>
                                        <p:tgtEl>
                                          <p:spTgt spid="5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52" dur="500"/>
                                        <p:tgtEl>
                                          <p:spTgt spid="5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335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 7. 2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全加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3" name=""/>
          <p:cNvGrpSpPr/>
          <p:nvPr/>
        </p:nvGrpSpPr>
        <p:grpSpPr>
          <a:xfrm>
            <a:off x="1288440" y="1981080"/>
            <a:ext cx="5252040" cy="1646640"/>
            <a:chOff x="1288440" y="1981080"/>
            <a:chExt cx="5252040" cy="1646640"/>
          </a:xfrm>
        </p:grpSpPr>
        <p:sp>
          <p:nvSpPr>
            <p:cNvPr id="5924" name=""/>
            <p:cNvSpPr/>
            <p:nvPr/>
          </p:nvSpPr>
          <p:spPr>
            <a:xfrm>
              <a:off x="3048120" y="2162160"/>
              <a:ext cx="76320" cy="6858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8440 h 685800"/>
                <a:gd name="textAreaBottom" fmla="*/ 6573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1288440" y="2367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210040" y="216216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525400" y="1981080"/>
              <a:ext cx="46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4226040" y="229068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两个同位相加的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526840" y="25146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460960" y="304812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4082400" y="30528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低位来的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200400" y="330516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200400" y="254304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1288440" y="3657600"/>
            <a:ext cx="4605120" cy="1189080"/>
            <a:chOff x="1288440" y="3657600"/>
            <a:chExt cx="4605120" cy="1189080"/>
          </a:xfrm>
        </p:grpSpPr>
        <p:sp>
          <p:nvSpPr>
            <p:cNvPr id="5935" name=""/>
            <p:cNvSpPr/>
            <p:nvPr/>
          </p:nvSpPr>
          <p:spPr>
            <a:xfrm>
              <a:off x="1288440" y="3890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"/>
                </a:rPr>
                <a:t>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209680" y="3808440"/>
              <a:ext cx="152640" cy="838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971800" y="399096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971800" y="452448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714120" y="3738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本位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006080" y="42721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"/>
                </a:rPr>
                <a:t>表示向高位的进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2375280" y="426708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371320" y="365760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"/>
                </a:rPr>
                <a:t>S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3" name=""/>
          <p:cNvSpPr/>
          <p:nvPr/>
        </p:nvSpPr>
        <p:spPr>
          <a:xfrm>
            <a:off x="762120" y="91440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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全加：实现两个一位二进制数相加，且考虑来自低位的进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1428120" y="480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"/>
              </a:rPr>
              <a:t>逻辑符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457200" y="1905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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"/>
              </a:rPr>
              <a:t>全加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6" name=""/>
          <p:cNvGrpSpPr/>
          <p:nvPr/>
        </p:nvGrpSpPr>
        <p:grpSpPr>
          <a:xfrm>
            <a:off x="3146400" y="4800600"/>
            <a:ext cx="3118680" cy="1417680"/>
            <a:chOff x="3146400" y="4800600"/>
            <a:chExt cx="3118680" cy="1417680"/>
          </a:xfrm>
        </p:grpSpPr>
        <p:sp>
          <p:nvSpPr>
            <p:cNvPr id="5947" name=""/>
            <p:cNvSpPr/>
            <p:nvPr/>
          </p:nvSpPr>
          <p:spPr>
            <a:xfrm>
              <a:off x="3287160" y="4800600"/>
              <a:ext cx="46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288600" y="52578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146400" y="563868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5799960" y="495288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5803920" y="556272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4267080" y="4876920"/>
              <a:ext cx="990360" cy="12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5257440" y="5791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5257440" y="5257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5" name=""/>
            <p:cNvGrpSpPr/>
            <p:nvPr/>
          </p:nvGrpSpPr>
          <p:grpSpPr>
            <a:xfrm>
              <a:off x="3733560" y="5486400"/>
              <a:ext cx="533520" cy="79200"/>
              <a:chOff x="3733560" y="5486400"/>
              <a:chExt cx="533520" cy="79200"/>
            </a:xfrm>
          </p:grpSpPr>
          <p:sp>
            <p:nvSpPr>
              <p:cNvPr id="5956" name=""/>
              <p:cNvSpPr/>
              <p:nvPr/>
            </p:nvSpPr>
            <p:spPr>
              <a:xfrm>
                <a:off x="3809880" y="55260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733560" y="548640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8" name=""/>
            <p:cNvSpPr/>
            <p:nvPr/>
          </p:nvSpPr>
          <p:spPr>
            <a:xfrm>
              <a:off x="4647960" y="5562720"/>
              <a:ext cx="6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571640" y="4952880"/>
              <a:ext cx="6098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5714640" y="5222880"/>
              <a:ext cx="7956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5711760" y="5754600"/>
              <a:ext cx="7920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2" name=""/>
            <p:cNvGrpSpPr/>
            <p:nvPr/>
          </p:nvGrpSpPr>
          <p:grpSpPr>
            <a:xfrm>
              <a:off x="3733560" y="5943600"/>
              <a:ext cx="533520" cy="79200"/>
              <a:chOff x="3733560" y="5943600"/>
              <a:chExt cx="533520" cy="79200"/>
            </a:xfrm>
          </p:grpSpPr>
          <p:sp>
            <p:nvSpPr>
              <p:cNvPr id="5963" name=""/>
              <p:cNvSpPr/>
              <p:nvPr/>
            </p:nvSpPr>
            <p:spPr>
              <a:xfrm>
                <a:off x="3809880" y="59832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733560" y="594360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5" name=""/>
            <p:cNvGrpSpPr/>
            <p:nvPr/>
          </p:nvGrpSpPr>
          <p:grpSpPr>
            <a:xfrm>
              <a:off x="3733560" y="5029200"/>
              <a:ext cx="533520" cy="79200"/>
              <a:chOff x="3733560" y="5029200"/>
              <a:chExt cx="533520" cy="79200"/>
            </a:xfrm>
          </p:grpSpPr>
          <p:sp>
            <p:nvSpPr>
              <p:cNvPr id="5966" name=""/>
              <p:cNvSpPr/>
              <p:nvPr/>
            </p:nvSpPr>
            <p:spPr>
              <a:xfrm>
                <a:off x="3809880" y="50688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733560" y="5029200"/>
                <a:ext cx="79200" cy="79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8" name=""/>
            <p:cNvSpPr/>
            <p:nvPr/>
          </p:nvSpPr>
          <p:spPr>
            <a:xfrm>
              <a:off x="4190760" y="5715000"/>
              <a:ext cx="6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nodeType="clickEffect" fill="hold">
                      <p:stCondLst>
                        <p:cond delay="indefinite"/>
                      </p:stCondLst>
                      <p:childTnLst>
                        <p:par>
                          <p:cTn id="36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59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nodeType="clickEffect" fill="hold">
                      <p:stCondLst>
                        <p:cond delay="indefinite"/>
                      </p:stCondLst>
                      <p:childTnLst>
                        <p:par>
                          <p:cTn id="36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64" dur="500"/>
                                        <p:tgtEl>
                                          <p:spTgt spid="5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69" dur="500"/>
                                        <p:tgtEl>
                                          <p:spTgt spid="5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7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79" dur="500"/>
                                        <p:tgtEl>
                                          <p:spTgt spid="5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84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"/>
          <p:cNvSpPr/>
          <p:nvPr/>
        </p:nvSpPr>
        <p:spPr>
          <a:xfrm>
            <a:off x="685800" y="533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1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列逻辑状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988560" y="350532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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"/>
              </a:rPr>
              <a:t>写出逻辑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1" name="" descr=""/>
          <p:cNvPicPr/>
          <p:nvPr/>
        </p:nvPicPr>
        <p:blipFill>
          <a:blip r:embed="rId1"/>
          <a:stretch/>
        </p:blipFill>
        <p:spPr>
          <a:xfrm>
            <a:off x="939960" y="4114800"/>
            <a:ext cx="6527520" cy="533520"/>
          </a:xfrm>
          <a:prstGeom prst="rect">
            <a:avLst/>
          </a:prstGeom>
          <a:ln w="0">
            <a:noFill/>
          </a:ln>
        </p:spPr>
      </p:pic>
      <p:pic>
        <p:nvPicPr>
          <p:cNvPr id="5972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7185240" cy="533520"/>
          </a:xfrm>
          <a:prstGeom prst="rect">
            <a:avLst/>
          </a:prstGeom>
          <a:ln w="0">
            <a:noFill/>
          </a:ln>
        </p:spPr>
      </p:pic>
      <p:pic>
        <p:nvPicPr>
          <p:cNvPr id="5973" name="" descr=""/>
          <p:cNvPicPr/>
          <p:nvPr/>
        </p:nvPicPr>
        <p:blipFill>
          <a:blip r:embed="rId3"/>
          <a:stretch/>
        </p:blipFill>
        <p:spPr>
          <a:xfrm>
            <a:off x="1258920" y="5791320"/>
            <a:ext cx="4227480" cy="533160"/>
          </a:xfrm>
          <a:prstGeom prst="rect">
            <a:avLst/>
          </a:prstGeom>
          <a:ln w="0">
            <a:noFill/>
          </a:ln>
        </p:spPr>
      </p:pic>
      <p:pic>
        <p:nvPicPr>
          <p:cNvPr id="5974" name="" descr=""/>
          <p:cNvPicPr/>
          <p:nvPr/>
        </p:nvPicPr>
        <p:blipFill>
          <a:blip r:embed="rId4"/>
          <a:stretch/>
        </p:blipFill>
        <p:spPr>
          <a:xfrm>
            <a:off x="1316160" y="4648320"/>
            <a:ext cx="2950920" cy="533160"/>
          </a:xfrm>
          <a:prstGeom prst="rect">
            <a:avLst/>
          </a:prstGeom>
          <a:ln w="0">
            <a:noFill/>
          </a:ln>
        </p:spPr>
      </p:pic>
      <p:grpSp>
        <p:nvGrpSpPr>
          <p:cNvPr id="5975" name=""/>
          <p:cNvGrpSpPr/>
          <p:nvPr/>
        </p:nvGrpSpPr>
        <p:grpSpPr>
          <a:xfrm>
            <a:off x="4468680" y="457200"/>
            <a:ext cx="3303720" cy="3692160"/>
            <a:chOff x="4468680" y="457200"/>
            <a:chExt cx="3303720" cy="3692160"/>
          </a:xfrm>
        </p:grpSpPr>
        <p:grpSp>
          <p:nvGrpSpPr>
            <p:cNvPr id="5976" name=""/>
            <p:cNvGrpSpPr/>
            <p:nvPr/>
          </p:nvGrpSpPr>
          <p:grpSpPr>
            <a:xfrm>
              <a:off x="4468680" y="457200"/>
              <a:ext cx="3303720" cy="3692160"/>
              <a:chOff x="4468680" y="457200"/>
              <a:chExt cx="3303720" cy="3692160"/>
            </a:xfrm>
          </p:grpSpPr>
          <p:sp>
            <p:nvSpPr>
              <p:cNvPr id="5977" name=""/>
              <p:cNvSpPr/>
              <p:nvPr/>
            </p:nvSpPr>
            <p:spPr>
              <a:xfrm>
                <a:off x="6476760" y="533160"/>
                <a:ext cx="0" cy="350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495680" y="4572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B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i-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S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i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"/>
                  </a:rPr>
                  <a:t>i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468680" y="96192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0      0     0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468680" y="134280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0      1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468680" y="172404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1 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468680" y="210492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0     1      1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468680" y="248580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0 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468680" y="286704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0      1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468680" y="324792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1      0     0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468680" y="3628800"/>
                <a:ext cx="314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1     1      1  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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    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572000" y="99036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572000" y="53316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9" name=""/>
            <p:cNvSpPr/>
            <p:nvPr/>
          </p:nvSpPr>
          <p:spPr>
            <a:xfrm>
              <a:off x="4572000" y="407664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0" name=""/>
          <p:cNvSpPr/>
          <p:nvPr/>
        </p:nvSpPr>
        <p:spPr>
          <a:xfrm>
            <a:off x="3276720" y="464832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5" dur="indefinite" restart="never" nodeType="tmRoot">
          <p:childTnLst>
            <p:seq>
              <p:cTn id="3686" dur="indefinite" nodeType="mainSeq">
                <p:childTnLst>
                  <p:par>
                    <p:cTn id="3687" nodeType="clickEffect" fill="hold">
                      <p:stCondLst>
                        <p:cond delay="indefinite"/>
                      </p:stCondLst>
                      <p:childTnLst>
                        <p:par>
                          <p:cTn id="36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4" presetSubtype="32"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base">
                                        <p:cTn id="3691" dur="500"/>
                                        <p:tgtEl>
                                          <p:spTgt spid="5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nodeType="clickEffect" fill="hold">
                      <p:stCondLst>
                        <p:cond delay="indefinite"/>
                      </p:stCondLst>
                      <p:childTnLst>
                        <p:par>
                          <p:cTn id="3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696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01" dur="500"/>
                                        <p:tgtEl>
                                          <p:spTgt spid="5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06" dur="500"/>
                                        <p:tgtEl>
                                          <p:spTgt spid="5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nodeType="clickEffect" fill="hold">
                      <p:stCondLst>
                        <p:cond delay="indefinite"/>
                      </p:stCondLst>
                      <p:childTnLst>
                        <p:par>
                          <p:cTn id="37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11" dur="500"/>
                                        <p:tgtEl>
                                          <p:spTgt spid="5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nodeType="clickEffect" fill="hold">
                      <p:stCondLst>
                        <p:cond delay="indefinite"/>
                      </p:stCondLst>
                      <p:childTnLst>
                        <p:par>
                          <p:cTn id="37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16" dur="500"/>
                                        <p:tgtEl>
                                          <p:spTgt spid="5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nodeType="clickEffect" fill="hold">
                      <p:stCondLst>
                        <p:cond delay="indefinite"/>
                      </p:stCondLst>
                      <p:childTnLst>
                        <p:par>
                          <p:cTn id="37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21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1" name="" descr=""/>
          <p:cNvPicPr/>
          <p:nvPr/>
        </p:nvPicPr>
        <p:blipFill>
          <a:blip r:embed="rId1"/>
          <a:stretch/>
        </p:blipFill>
        <p:spPr>
          <a:xfrm>
            <a:off x="3446640" y="1182600"/>
            <a:ext cx="4260600" cy="569880"/>
          </a:xfrm>
          <a:prstGeom prst="rect">
            <a:avLst/>
          </a:prstGeom>
          <a:ln w="0">
            <a:noFill/>
          </a:ln>
        </p:spPr>
      </p:pic>
      <p:pic>
        <p:nvPicPr>
          <p:cNvPr id="5992" name="" descr=""/>
          <p:cNvPicPr/>
          <p:nvPr/>
        </p:nvPicPr>
        <p:blipFill>
          <a:blip r:embed="rId2"/>
          <a:stretch/>
        </p:blipFill>
        <p:spPr>
          <a:xfrm>
            <a:off x="3429000" y="573120"/>
            <a:ext cx="3057480" cy="569880"/>
          </a:xfrm>
          <a:prstGeom prst="rect">
            <a:avLst/>
          </a:prstGeom>
          <a:ln w="0">
            <a:noFill/>
          </a:ln>
        </p:spPr>
      </p:pic>
      <p:grpSp>
        <p:nvGrpSpPr>
          <p:cNvPr id="5993" name=""/>
          <p:cNvGrpSpPr/>
          <p:nvPr/>
        </p:nvGrpSpPr>
        <p:grpSpPr>
          <a:xfrm>
            <a:off x="4430160" y="1919160"/>
            <a:ext cx="3934440" cy="4254480"/>
            <a:chOff x="4430160" y="1919160"/>
            <a:chExt cx="3934440" cy="4254480"/>
          </a:xfrm>
        </p:grpSpPr>
        <p:sp>
          <p:nvSpPr>
            <p:cNvPr id="5994" name=""/>
            <p:cNvSpPr/>
            <p:nvPr/>
          </p:nvSpPr>
          <p:spPr>
            <a:xfrm>
              <a:off x="5601960" y="56530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半加器构成的全加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5" name="" descr=""/>
            <p:cNvPicPr/>
            <p:nvPr/>
          </p:nvPicPr>
          <p:blipFill>
            <a:blip r:embed="rId3"/>
            <a:stretch/>
          </p:blipFill>
          <p:spPr>
            <a:xfrm>
              <a:off x="4937040" y="3705120"/>
              <a:ext cx="11268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6" name=""/>
            <p:cNvSpPr/>
            <p:nvPr/>
          </p:nvSpPr>
          <p:spPr>
            <a:xfrm>
              <a:off x="6195960" y="3989520"/>
              <a:ext cx="7938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467480" y="2909880"/>
              <a:ext cx="187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916760" y="233208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724800" y="4259160"/>
              <a:ext cx="795240" cy="60804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858000" y="432756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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1" name=""/>
            <p:cNvGrpSpPr/>
            <p:nvPr/>
          </p:nvGrpSpPr>
          <p:grpSpPr>
            <a:xfrm>
              <a:off x="6159600" y="2833560"/>
              <a:ext cx="545760" cy="614160"/>
              <a:chOff x="6159600" y="2833560"/>
              <a:chExt cx="545760" cy="614160"/>
            </a:xfrm>
          </p:grpSpPr>
          <p:sp>
            <p:nvSpPr>
              <p:cNvPr id="6002" name=""/>
              <p:cNvSpPr/>
              <p:nvPr/>
            </p:nvSpPr>
            <p:spPr>
              <a:xfrm>
                <a:off x="6470640" y="2833560"/>
                <a:ext cx="23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6159600" y="3447720"/>
                <a:ext cx="31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 flipV="1">
                <a:off x="6472800" y="2833560"/>
                <a:ext cx="0" cy="61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5" name=""/>
            <p:cNvSpPr/>
            <p:nvPr/>
          </p:nvSpPr>
          <p:spPr>
            <a:xfrm>
              <a:off x="6989760" y="3989520"/>
              <a:ext cx="0" cy="269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651800" y="2906640"/>
              <a:ext cx="0" cy="108288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254720" y="3989520"/>
              <a:ext cx="39708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254720" y="3989520"/>
              <a:ext cx="0" cy="2696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121520" y="4867200"/>
              <a:ext cx="0" cy="338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21520" y="5205240"/>
              <a:ext cx="7286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V="1">
              <a:off x="7467480" y="2364840"/>
              <a:ext cx="449280" cy="1116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431600" y="382428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430160" y="3290760"/>
              <a:ext cx="46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442040" y="214776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933680" y="207180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S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861680" y="496728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V="1">
              <a:off x="6994440" y="4697280"/>
              <a:ext cx="187560" cy="763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276880" y="1919160"/>
              <a:ext cx="2514600" cy="35816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410080" y="3214800"/>
              <a:ext cx="762120" cy="1068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952880" y="35193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570280" y="3747960"/>
              <a:ext cx="6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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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562720" y="3214800"/>
              <a:ext cx="6094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952880" y="4052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4" name=""/>
            <p:cNvGrpSpPr/>
            <p:nvPr/>
          </p:nvGrpSpPr>
          <p:grpSpPr>
            <a:xfrm>
              <a:off x="6705720" y="2071800"/>
              <a:ext cx="823320" cy="1068120"/>
              <a:chOff x="6705720" y="2071800"/>
              <a:chExt cx="823320" cy="1068120"/>
            </a:xfrm>
          </p:grpSpPr>
          <p:sp>
            <p:nvSpPr>
              <p:cNvPr id="6025" name=""/>
              <p:cNvSpPr/>
              <p:nvPr/>
            </p:nvSpPr>
            <p:spPr>
              <a:xfrm>
                <a:off x="6705720" y="2071800"/>
                <a:ext cx="764640" cy="1068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920280" y="2604960"/>
                <a:ext cx="60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"/>
                  </a:rPr>
                  <a:t>C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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914160" y="2071800"/>
                <a:ext cx="556200" cy="5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8" name=""/>
            <p:cNvSpPr/>
            <p:nvPr/>
          </p:nvSpPr>
          <p:spPr>
            <a:xfrm flipH="1">
              <a:off x="4952520" y="237636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848720" y="5154480"/>
              <a:ext cx="93600" cy="9396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4876920" y="399564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876920" y="347652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876920" y="234000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3" name=""/>
          <p:cNvGrpSpPr/>
          <p:nvPr/>
        </p:nvGrpSpPr>
        <p:grpSpPr>
          <a:xfrm>
            <a:off x="685800" y="457200"/>
            <a:ext cx="3826800" cy="5754600"/>
            <a:chOff x="685800" y="457200"/>
            <a:chExt cx="3826800" cy="5754600"/>
          </a:xfrm>
        </p:grpSpPr>
        <p:sp>
          <p:nvSpPr>
            <p:cNvPr id="6034" name=""/>
            <p:cNvSpPr/>
            <p:nvPr/>
          </p:nvSpPr>
          <p:spPr>
            <a:xfrm>
              <a:off x="1969920" y="569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"/>
                </a:rPr>
                <a:t>逻辑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048120" y="4800600"/>
              <a:ext cx="685800" cy="87948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6" name=""/>
            <p:cNvGrpSpPr/>
            <p:nvPr/>
          </p:nvGrpSpPr>
          <p:grpSpPr>
            <a:xfrm>
              <a:off x="1819440" y="1295280"/>
              <a:ext cx="618840" cy="914400"/>
              <a:chOff x="1819440" y="1295280"/>
              <a:chExt cx="618840" cy="914400"/>
            </a:xfrm>
          </p:grpSpPr>
          <p:sp>
            <p:nvSpPr>
              <p:cNvPr id="6037" name=""/>
              <p:cNvSpPr/>
              <p:nvPr/>
            </p:nvSpPr>
            <p:spPr>
              <a:xfrm>
                <a:off x="1819440" y="1330200"/>
                <a:ext cx="618840" cy="87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1904760" y="1295280"/>
                <a:ext cx="39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9" name=""/>
            <p:cNvSpPr/>
            <p:nvPr/>
          </p:nvSpPr>
          <p:spPr>
            <a:xfrm>
              <a:off x="3124080" y="4876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1219320" y="1066680"/>
              <a:ext cx="0" cy="419112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914400" y="1066680"/>
              <a:ext cx="0" cy="449604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2438280" y="1828800"/>
              <a:ext cx="22860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666880" y="2666880"/>
              <a:ext cx="3812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438280" y="3048120"/>
              <a:ext cx="6098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666880" y="3352680"/>
              <a:ext cx="38124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733920" y="525780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1474920" y="957240"/>
              <a:ext cx="9360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048120" y="2590920"/>
              <a:ext cx="685800" cy="914400"/>
            </a:xfrm>
            <a:prstGeom prst="rect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12408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"/>
                </a:rPr>
                <a:t>&gt;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>
              <a:off x="3200040" y="297180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733920" y="3048120"/>
              <a:ext cx="304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4038480" y="300672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685800" y="45720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4051440" y="2819520"/>
              <a:ext cx="46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4047480" y="4952880"/>
              <a:ext cx="430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S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1393920" y="45720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C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1002600" y="45720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"/>
                </a:rPr>
                <a:t>B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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8" name=""/>
            <p:cNvGrpSpPr/>
            <p:nvPr/>
          </p:nvGrpSpPr>
          <p:grpSpPr>
            <a:xfrm>
              <a:off x="1828800" y="2590920"/>
              <a:ext cx="619200" cy="914400"/>
              <a:chOff x="1828800" y="2590920"/>
              <a:chExt cx="619200" cy="914400"/>
            </a:xfrm>
          </p:grpSpPr>
          <p:sp>
            <p:nvSpPr>
              <p:cNvPr id="6059" name=""/>
              <p:cNvSpPr/>
              <p:nvPr/>
            </p:nvSpPr>
            <p:spPr>
              <a:xfrm>
                <a:off x="1828800" y="2625840"/>
                <a:ext cx="619200" cy="87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1914480" y="2590920"/>
                <a:ext cx="39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1" name=""/>
            <p:cNvGrpSpPr/>
            <p:nvPr/>
          </p:nvGrpSpPr>
          <p:grpSpPr>
            <a:xfrm>
              <a:off x="1828800" y="3809880"/>
              <a:ext cx="619200" cy="914400"/>
              <a:chOff x="1828800" y="3809880"/>
              <a:chExt cx="619200" cy="914400"/>
            </a:xfrm>
          </p:grpSpPr>
          <p:sp>
            <p:nvSpPr>
              <p:cNvPr id="6062" name=""/>
              <p:cNvSpPr/>
              <p:nvPr/>
            </p:nvSpPr>
            <p:spPr>
              <a:xfrm>
                <a:off x="1828800" y="3844800"/>
                <a:ext cx="619200" cy="879480"/>
              </a:xfrm>
              <a:prstGeom prst="rect">
                <a:avLst/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1914480" y="3809880"/>
                <a:ext cx="39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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4" name=""/>
            <p:cNvSpPr/>
            <p:nvPr/>
          </p:nvSpPr>
          <p:spPr>
            <a:xfrm>
              <a:off x="2666880" y="18288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666880" y="335268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438280" y="4303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1523880" y="495288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1219320" y="52578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914400" y="556272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V="1">
              <a:off x="1523880" y="106632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H="1">
              <a:off x="1523520" y="1600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1523880" y="4038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121932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1219320" y="2057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914400" y="4572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914400" y="33526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1179360" y="95256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873000" y="95256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038480" y="5221440"/>
              <a:ext cx="93960" cy="93600"/>
            </a:xfrm>
            <a:prstGeom prst="ellipse">
              <a:avLst/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2" dur="indefinite" restart="never" nodeType="tmRoot">
          <p:childTnLst>
            <p:seq>
              <p:cTn id="3723" dur="indefinite" nodeType="mainSeq">
                <p:childTnLst>
                  <p:par>
                    <p:cTn id="3724" nodeType="clickEffect" fill="hold">
                      <p:stCondLst>
                        <p:cond delay="indefinite"/>
                      </p:stCondLst>
                      <p:childTnLst>
                        <p:par>
                          <p:cTn id="37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28" dur="500"/>
                                        <p:tgtEl>
                                          <p:spTgt spid="6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nodeType="clickEffect" fill="hold">
                      <p:stCondLst>
                        <p:cond delay="indefinite"/>
                      </p:stCondLst>
                      <p:childTnLst>
                        <p:par>
                          <p:cTn id="3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3733" dur="500"/>
                                        <p:tgtEl>
                                          <p:spTgt spid="5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55:54Z</dcterms:created>
  <dc:creator>xtw</dc:creator>
  <dc:description/>
  <dc:language>en-US</dc:language>
  <cp:lastModifiedBy>USER</cp:lastModifiedBy>
  <dcterms:modified xsi:type="dcterms:W3CDTF">2019-02-15T02:25:49Z</dcterms:modified>
  <cp:revision>124</cp:revision>
  <dc:subject/>
  <dc:title>PowerPoint 演示文稿</dc:title>
</cp:coreProperties>
</file>