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94.wmf" ContentType="image/x-wmf"/>
  <Override PartName="/ppt/media/image124.wmf" ContentType="image/x-wmf"/>
  <Override PartName="/ppt/media/CAMERA.WAV" ContentType="audio/x-wav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91.wmf" ContentType="image/x-wmf"/>
  <Override PartName="/ppt/media/image23.wmf" ContentType="image/x-wmf"/>
  <Override PartName="/ppt/media/image90.wmf" ContentType="image/x-wmf"/>
  <Override PartName="/ppt/media/image22.wmf" ContentType="image/x-wmf"/>
  <Override PartName="/ppt/media/image88.wmf" ContentType="image/x-wmf"/>
  <Override PartName="/ppt/media/image82.png" ContentType="image/png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159.jpeg" ContentType="image/jpeg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110.wmf" ContentType="image/x-wmf"/>
  <Override PartName="/ppt/media/image59.wmf" ContentType="image/x-wmf"/>
  <Override PartName="/ppt/media/image92.wmf" ContentType="image/x-wmf"/>
  <Override PartName="/ppt/media/image24.png" ContentType="image/png"/>
  <Override PartName="/ppt/media/image119.wmf" ContentType="image/x-wmf"/>
  <Override PartName="/ppt/media/image187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125.wmf" ContentType="image/x-wmf"/>
  <Override PartName="/ppt/media/image193.wmf" ContentType="image/x-wmf"/>
  <Override PartName="/ppt/media/image6.jpeg" ContentType="image/jpeg"/>
  <Override PartName="/ppt/media/image147.wmf" ContentType="image/x-wmf"/>
  <Override PartName="/ppt/media/image58.wmf" ContentType="image/x-wmf"/>
  <Override PartName="/ppt/media/image42.wmf" ContentType="image/x-wmf"/>
  <Override PartName="/ppt/media/image139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96.wmf" ContentType="image/x-wmf"/>
  <Override PartName="/ppt/media/image34.wmf" ContentType="image/x-wmf"/>
  <Override PartName="/ppt/media/image32.wmf" ContentType="image/x-wmf"/>
  <Override PartName="/ppt/media/image129.wmf" ContentType="image/x-wmf"/>
  <Override PartName="/ppt/media/image197.wmf" ContentType="image/x-wmf"/>
  <Override PartName="/ppt/media/image35.wmf" ContentType="image/x-wmf"/>
  <Override PartName="/ppt/media/image133.wmf" ContentType="image/x-wmf"/>
  <Override PartName="/ppt/media/image2.png" ContentType="image/png"/>
  <Override PartName="/ppt/media/image134.wmf" ContentType="image/x-wmf"/>
  <Override PartName="/ppt/media/image135.wmf" ContentType="image/x-wmf"/>
  <Override PartName="/ppt/media/image136.wmf" ContentType="image/x-wmf"/>
  <Override PartName="/ppt/media/image138.wmf" ContentType="image/x-wmf"/>
  <Override PartName="/ppt/media/image41.wmf" ContentType="image/x-wmf"/>
  <Override PartName="/ppt/media/image54.wmf" ContentType="image/x-wmf"/>
  <Override PartName="/ppt/media/image140.wmf" ContentType="image/x-wmf"/>
  <Override PartName="/ppt/media/image89.wmf" ContentType="image/x-wmf"/>
  <Override PartName="/ppt/media/image143.wmf" ContentType="image/x-wmf"/>
  <Override PartName="/ppt/media/image144.wmf" ContentType="image/x-wmf"/>
  <Override PartName="/ppt/media/image131.wmf" ContentType="image/x-wmf"/>
  <Override PartName="/ppt/media/image168.wmf" ContentType="image/x-wmf"/>
  <Override PartName="/ppt/media/image46.wmf" ContentType="image/x-wmf"/>
  <Override PartName="/ppt/media/image202.wmf" ContentType="image/x-wmf"/>
  <Override PartName="/ppt/media/image132.wmf" ContentType="image/x-wmf"/>
  <Override PartName="/ppt/media/image169.wmf" ContentType="image/x-wmf"/>
  <Override PartName="/ppt/media/image56.wmf" ContentType="image/x-wmf"/>
  <Override PartName="/ppt/media/image142.wmf" ContentType="image/x-wmf"/>
  <Override PartName="/ppt/media/image179.wmf" ContentType="image/x-wmf"/>
  <Override PartName="/ppt/media/image198.wmf" ContentType="image/x-wmf"/>
  <Override PartName="/ppt/media/image36.wmf" ContentType="image/x-wmf"/>
  <Override PartName="/ppt/media/image40.wmf" ContentType="image/x-wmf"/>
  <Override PartName="/ppt/media/image163.wmf" ContentType="image/x-wmf"/>
  <Override PartName="/ppt/media/image200.wmf" ContentType="image/x-wmf"/>
  <Override PartName="/ppt/media/image44.wmf" ContentType="image/x-wmf"/>
  <Override PartName="/ppt/media/image154.wmf" ContentType="image/x-wmf"/>
  <Override PartName="/ppt/media/image164.wmf" ContentType="image/x-wmf"/>
  <Override PartName="/ppt/media/image155.wmf" ContentType="image/x-wmf"/>
  <Override PartName="/ppt/media/image153.wmf" ContentType="image/x-wmf"/>
  <Override PartName="/ppt/media/image156.wmf" ContentType="image/x-wmf"/>
  <Override PartName="/ppt/media/image203.wmf" ContentType="image/x-wmf"/>
  <Override PartName="/ppt/media/image47.wmf" ContentType="image/x-wmf"/>
  <Override PartName="/ppt/media/image55.wmf" ContentType="image/x-wmf"/>
  <Override PartName="/ppt/media/image141.wmf" ContentType="image/x-wmf"/>
  <Override PartName="/ppt/media/image178.wmf" ContentType="image/x-wmf"/>
  <Override PartName="/ppt/media/image158.wmf" ContentType="image/x-wmf"/>
  <Override PartName="/ppt/media/image130.wmf" ContentType="image/x-wmf"/>
  <Override PartName="/ppt/media/image167.wmf" ContentType="image/x-wmf"/>
  <Override PartName="/ppt/media/image43.wmf" ContentType="image/x-wmf"/>
  <Override PartName="/ppt/media/image166.wmf" ContentType="image/x-wmf"/>
  <Override PartName="/ppt/media/image199.wmf" ContentType="image/x-wmf"/>
  <Override PartName="/ppt/media/image37.wmf" ContentType="image/x-wmf"/>
  <Override PartName="/ppt/media/image162.wmf" ContentType="image/x-wmf"/>
  <Override PartName="/ppt/media/image189.wmf" ContentType="image/x-wmf"/>
  <Override PartName="/ppt/media/image152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51.wmf" ContentType="image/x-wmf"/>
  <Override PartName="/ppt/media/image146.wmf" ContentType="image/x-wmf"/>
  <Override PartName="/ppt/media/image201.wmf" ContentType="image/x-wmf"/>
  <Override PartName="/ppt/media/image45.wmf" ContentType="image/x-wmf"/>
  <Override PartName="/ppt/media/image145.png" ContentType="image/png"/>
  <Override PartName="/ppt/media/image83.png" ContentType="image/png"/>
  <Override PartName="/ppt/media/image150.wmf" ContentType="image/x-wmf"/>
  <Override PartName="/ppt/media/image33.wmf" ContentType="image/x-wmf"/>
  <Override PartName="/ppt/media/image94.wmf" ContentType="image/x-wmf"/>
  <Override PartName="/ppt/media/image161.wmf" ContentType="image/x-wmf"/>
  <Override PartName="/ppt/media/image26.png" ContentType="image/png"/>
  <Override PartName="/ppt/media/image10.wmf" ContentType="image/x-wmf"/>
  <Override PartName="/ppt/media/image107.wmf" ContentType="image/x-wmf"/>
  <Override PartName="/ppt/media/image175.wmf" ContentType="image/x-wmf"/>
  <Override PartName="/ppt/media/image81.wmf" ContentType="image/x-wmf"/>
  <Override PartName="/ppt/media/image13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85.wmf" ContentType="image/x-wmf"/>
  <Override PartName="/ppt/media/image195.wmf" ContentType="image/x-wmf"/>
  <Override PartName="/ppt/media/image127.wmf" ContentType="image/x-wmf"/>
  <Override PartName="/ppt/media/image4.jpeg" ContentType="image/jpeg"/>
  <Override PartName="/ppt/media/image105.wmf" ContentType="image/x-wmf"/>
  <Override PartName="/ppt/media/image173.wmf" ContentType="image/x-wmf"/>
  <Override PartName="/ppt/media/image11.wmf" ContentType="image/x-wmf"/>
  <Override PartName="/ppt/media/image25.png" ContentType="image/png"/>
  <Override PartName="/ppt/media/image160.wmf" ContentType="image/x-wmf"/>
  <Override PartName="/ppt/media/image7.jpeg" ContentType="image/jpeg"/>
  <Override PartName="/ppt/media/image157.wmf" ContentType="image/x-wmf"/>
  <Override PartName="/ppt/media/image49.wmf" ContentType="image/x-wmf"/>
  <Override PartName="/ppt/media/image100.wmf" ContentType="image/x-wmf"/>
  <Override PartName="/ppt/media/image15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108.wmf" ContentType="image/x-wmf"/>
  <Override PartName="/ppt/media/image176.wmf" ContentType="image/x-wmf"/>
  <Override PartName="/ppt/media/image14.wmf" ContentType="image/x-wmf"/>
  <Override PartName="/ppt/media/image137.wmf" ContentType="image/x-wmf"/>
  <Override PartName="/ppt/media/image5.jpeg" ContentType="image/jpeg"/>
  <Override PartName="/ppt/media/image115.wmf" ContentType="image/x-wmf"/>
  <Override PartName="/ppt/media/image183.wmf" ContentType="image/x-wmf"/>
  <Override PartName="/ppt/media/image86.wmf" ContentType="image/x-wmf"/>
  <Override PartName="/ppt/media/image18.wmf" ContentType="image/x-wmf"/>
  <Override PartName="/ppt/media/image57.wmf" ContentType="image/x-wmf"/>
  <Override PartName="/ppt/media/image20.wmf" ContentType="image/x-wmf"/>
  <Override PartName="/ppt/media/image93.wmf" ContentType="image/x-wmf"/>
  <Override PartName="/ppt/media/image3.jpeg" ContentType="image/jpeg"/>
  <Override PartName="/ppt/media/image117.wmf" ContentType="image/x-wmf"/>
  <Override PartName="/ppt/media/image185.wmf" ContentType="image/x-wmf"/>
  <Override PartName="/ppt/media/image17.jpeg" ContentType="image/jpeg"/>
  <Override PartName="/ppt/media/image50.wmf" ContentType="image/x-wmf"/>
  <Override PartName="/ppt/media/image1.jpeg" ContentType="image/jpeg"/>
  <Override PartName="/ppt/media/image165.wmf" ContentType="image/x-wmf"/>
  <Override PartName="/ppt/media/image87.wmf" ContentType="image/x-wmf"/>
  <Override PartName="/ppt/media/image19.wmf" ContentType="image/x-wmf"/>
  <Override PartName="/ppt/media/image16.wmf" ContentType="image/x-wmf"/>
  <Override PartName="/ppt/media/image8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335-D9B5-4D1F-BC0E-180DA504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A03-45A2-48AD-A580-487FDB17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D1D-0A9D-4642-90FC-628CCA5D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141-DFF2-4C93-A9D8-556F33A2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A4BD-C85D-4209-985C-24D24AD8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D504-A8F5-4E94-B7A3-455237A0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B2F3-D3DA-4367-9FD6-14895E61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1FB7-8631-4FC1-B44E-7AF5F946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BD08-09F8-4ED7-B952-B61FD938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5876-8764-40A2-A5D1-097D1CFF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069D-1383-4987-9DF9-E941E03D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4E1-A0D5-45CF-A66C-95F478E8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2B90-D3B6-4D76-B73B-9006AA81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32A0-B4D6-44C7-A69C-FF2E1D8A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411B-9455-4B9A-B9E0-0F9119FD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3514-B6CF-4C8E-A804-49FAE6F7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BA51-8815-4567-9542-12D96254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7A228-46C0-424A-97D4-87735AB9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AAA2D-ACCC-4542-B6CE-D7AAF680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3CA4F-675C-4ACE-ADF8-BE17D876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2AA56-0240-484C-83C7-497601AB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FE1AF-77D9-480D-A75C-9C30EB1C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6F2C-D2C9-49A3-8A93-412C0B9D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FEAF2-3E20-4121-A3AA-0415C9BE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80F7C-CE63-4A5E-8112-5FA45D11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7E3FB-4707-4E59-8E51-31D2F4BF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53F8A-E26A-435F-B43D-4F981E68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9F59F-AC3F-4BB2-81A7-B6357053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5B9A2-614C-4CB4-837D-C028777C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0400B-C223-45F9-84D1-851A0176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A5D02-24F0-4E91-B7FD-34684234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C8440-CBE3-4318-8F64-FF68D8B1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B6D83-C0F8-41CF-A018-909CC09A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D2C-4C6C-4903-9AAA-C4E7F9EC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8FA9B-3DA0-4D11-9F1E-94ACDC39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8E76A-E073-44A7-973C-D1243F01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B4624-BDF9-4DB5-8DB6-62935329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B8916-B51E-4078-911E-766E0F42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B21FA-CBA0-4103-B607-BDD56DB6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8434B-14E0-41A1-9292-A1E4C079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D16E4-3538-43C4-B0A7-985F3CDD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4BDAF-4821-4B0B-9E32-1FB9CDF2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BFF5-B8CC-4CC6-B5C5-FFB1DA01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A31-DB02-48BF-9714-7346C3AA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FA3-8A57-4456-9B01-7F2B5D4B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16C-D16B-4440-8ACA-90D97E41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E06-FA8E-4D94-A21C-40F3045B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8BA-9D34-4EFC-B929-7AAE0DFF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97CB-54B0-4EFB-AF11-72536F99F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7ABA-3650-4FA2-A74E-DA1D585F15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7FB1-2914-470B-AC4A-AB113DB48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3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3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2815-2F00-48E4-9AE6-08F5F3B1ED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9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50.wmf"/><Relationship Id="rId4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0.wmf"/><Relationship Id="rId3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9.wmf"/><Relationship Id="rId3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4.wmf"/><Relationship Id="rId3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1.wmf"/><Relationship Id="rId1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4.wmf"/><Relationship Id="rId6" Type="http://schemas.openxmlformats.org/officeDocument/2006/relationships/hyperlink" Target="file:///&#25197;&#36716;.avi" TargetMode="External"/><Relationship Id="rId7" Type="http://schemas.openxmlformats.org/officeDocument/2006/relationships/hyperlink" Target="file:///&#38750;&#22278;&#25130;&#38754;&#25197;&#36716;&#30340;&#32728;&#26354;&#29616;&#35937;.avi" TargetMode="External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hyperlink" Target="file:///tmp/home/.config/libreoffice/4/user/gallery/coin.wav" TargetMode="Externa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6.wmf"/><Relationship Id="rId1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6.wmf"/><Relationship Id="rId25" Type="http://schemas.openxmlformats.org/officeDocument/2006/relationships/hyperlink" Target="file:///tmp/home/.config/libreoffice/4/user/gallery/chimes.wav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hyperlink" Target="file:///tmp/home/.config/libreoffice/4/user/gallery/breeze.wav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97.wmf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6.wmf"/><Relationship Id="rId21" Type="http://schemas.openxmlformats.org/officeDocument/2006/relationships/hyperlink" Target="file:///tmp/home/.config/libreoffice/4/user/gallery/whoosh.wav" TargetMode="External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07.wmf"/><Relationship Id="rId2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3.wmf"/><Relationship Id="rId15" Type="http://schemas.openxmlformats.org/officeDocument/2006/relationships/hyperlink" Target="file:///usr/lib/libreoffice/share/gallery/sounds/laser.wav" TargetMode="External"/><Relationship Id="rId1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1.wmf"/><Relationship Id="rId17" Type="http://schemas.openxmlformats.org/officeDocument/2006/relationships/hyperlink" Target="file:///tmp/home/.config/libreoffice/4/user/gallery/drumroll.wav" TargetMode="External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2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23.wmf"/><Relationship Id="rId2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8.wmf"/><Relationship Id="rId1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3.wmf"/><Relationship Id="rId15" Type="http://schemas.openxmlformats.org/officeDocument/2006/relationships/hyperlink" Target="file:///tmp/home/.config/libreoffice/4/user/gallery/push.wav" TargetMode="External"/><Relationship Id="rId1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7.wmf"/><Relationship Id="rId15" Type="http://schemas.openxmlformats.org/officeDocument/2006/relationships/hyperlink" Target="file:///tmp/home/.config/libreoffice/4/user/gallery/arrow.wav" TargetMode="External"/><Relationship Id="rId1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3.wmf"/><Relationship Id="rId21" Type="http://schemas.openxmlformats.org/officeDocument/2006/relationships/hyperlink" Target="file:///tmp/home/.config/libreoffice/4/user/gallery/push.wav" TargetMode="External"/><Relationship Id="rId2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hyperlink" Target="file:///tmp/home/.config/libreoffice/4/user/gallery/voltage.wav" TargetMode="External"/><Relationship Id="rId1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5.wmf"/><Relationship Id="rId2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7.wmf"/><Relationship Id="rId5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8.wmf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9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3.wmf"/><Relationship Id="rId10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6.wmf"/><Relationship Id="rId35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9.wmf"/><Relationship Id="rId3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9.wmf"/><Relationship Id="rId3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2.wmf"/><Relationship Id="rId7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6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hyperlink" Target="file:///tmp/home/.config/libreoffice/4/user/gallery/suction.wav" TargetMode="External"/><Relationship Id="rId1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7.wmf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2.wmf"/><Relationship Id="rId1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4.wmf"/><Relationship Id="rId5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8.wmf"/><Relationship Id="rId9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2.wmf"/><Relationship Id="rId9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4.wmf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hyperlink" Target="file:///tmp/home/.config/libreoffice/4/user/gallery/hammer.wav" TargetMode="External"/><Relationship Id="rId16" Type="http://schemas.openxmlformats.org/officeDocument/2006/relationships/image" Target="../media/image17.jpe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9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23.wmf"/><Relationship Id="rId3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3.wmf"/><Relationship Id="rId3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1692360" y="1125360"/>
            <a:ext cx="5256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材 料 力 学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3" name="WordArt 5"/>
          <p:cNvSpPr txBox="1"/>
          <p:nvPr/>
        </p:nvSpPr>
        <p:spPr>
          <a:xfrm>
            <a:off x="2268360" y="3284640"/>
            <a:ext cx="4248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九章   扭转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4"/>
          <p:cNvSpPr/>
          <p:nvPr/>
        </p:nvSpPr>
        <p:spPr>
          <a:xfrm>
            <a:off x="2101680" y="1682640"/>
            <a:ext cx="385920" cy="1457280"/>
          </a:xfrm>
          <a:custGeom>
            <a:avLst/>
            <a:gdLst>
              <a:gd name="textAreaLeft" fmla="*/ 0 w 385920"/>
              <a:gd name="textAreaRight" fmla="*/ 386280 w 3859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1041" h="2281">
                <a:moveTo>
                  <a:pt x="0" y="1279"/>
                </a:moveTo>
                <a:lnTo>
                  <a:pt x="6" y="1358"/>
                </a:lnTo>
                <a:lnTo>
                  <a:pt x="13" y="1437"/>
                </a:lnTo>
                <a:lnTo>
                  <a:pt x="25" y="1513"/>
                </a:lnTo>
                <a:lnTo>
                  <a:pt x="38" y="1588"/>
                </a:lnTo>
                <a:lnTo>
                  <a:pt x="54" y="1660"/>
                </a:lnTo>
                <a:lnTo>
                  <a:pt x="72" y="1730"/>
                </a:lnTo>
                <a:lnTo>
                  <a:pt x="92" y="1798"/>
                </a:lnTo>
                <a:lnTo>
                  <a:pt x="113" y="1861"/>
                </a:lnTo>
                <a:lnTo>
                  <a:pt x="137" y="1922"/>
                </a:lnTo>
                <a:lnTo>
                  <a:pt x="164" y="1978"/>
                </a:lnTo>
                <a:lnTo>
                  <a:pt x="191" y="2030"/>
                </a:lnTo>
                <a:lnTo>
                  <a:pt x="221" y="2078"/>
                </a:lnTo>
                <a:lnTo>
                  <a:pt x="252" y="2122"/>
                </a:lnTo>
                <a:lnTo>
                  <a:pt x="283" y="2160"/>
                </a:lnTo>
                <a:lnTo>
                  <a:pt x="317" y="2194"/>
                </a:lnTo>
                <a:lnTo>
                  <a:pt x="351" y="2221"/>
                </a:lnTo>
                <a:lnTo>
                  <a:pt x="386" y="2245"/>
                </a:lnTo>
                <a:lnTo>
                  <a:pt x="422" y="2262"/>
                </a:lnTo>
                <a:lnTo>
                  <a:pt x="458" y="2274"/>
                </a:lnTo>
                <a:lnTo>
                  <a:pt x="495" y="2281"/>
                </a:lnTo>
                <a:lnTo>
                  <a:pt x="531" y="2281"/>
                </a:lnTo>
                <a:lnTo>
                  <a:pt x="568" y="2276"/>
                </a:lnTo>
                <a:lnTo>
                  <a:pt x="604" y="2266"/>
                </a:lnTo>
                <a:lnTo>
                  <a:pt x="640" y="2250"/>
                </a:lnTo>
                <a:lnTo>
                  <a:pt x="676" y="2229"/>
                </a:lnTo>
                <a:lnTo>
                  <a:pt x="710" y="2201"/>
                </a:lnTo>
                <a:lnTo>
                  <a:pt x="744" y="2169"/>
                </a:lnTo>
                <a:lnTo>
                  <a:pt x="777" y="2132"/>
                </a:lnTo>
                <a:lnTo>
                  <a:pt x="808" y="2090"/>
                </a:lnTo>
                <a:lnTo>
                  <a:pt x="837" y="2043"/>
                </a:lnTo>
                <a:lnTo>
                  <a:pt x="866" y="1993"/>
                </a:lnTo>
                <a:lnTo>
                  <a:pt x="892" y="1937"/>
                </a:lnTo>
                <a:lnTo>
                  <a:pt x="917" y="1877"/>
                </a:lnTo>
                <a:lnTo>
                  <a:pt x="940" y="1815"/>
                </a:lnTo>
                <a:lnTo>
                  <a:pt x="960" y="1748"/>
                </a:lnTo>
                <a:lnTo>
                  <a:pt x="978" y="1679"/>
                </a:lnTo>
                <a:lnTo>
                  <a:pt x="995" y="1607"/>
                </a:lnTo>
                <a:lnTo>
                  <a:pt x="1009" y="1533"/>
                </a:lnTo>
                <a:lnTo>
                  <a:pt x="1020" y="1457"/>
                </a:lnTo>
                <a:lnTo>
                  <a:pt x="1029" y="1380"/>
                </a:lnTo>
                <a:lnTo>
                  <a:pt x="1035" y="1300"/>
                </a:lnTo>
                <a:lnTo>
                  <a:pt x="1039" y="1221"/>
                </a:lnTo>
                <a:lnTo>
                  <a:pt x="1041" y="1140"/>
                </a:lnTo>
                <a:lnTo>
                  <a:pt x="1039" y="1061"/>
                </a:lnTo>
                <a:lnTo>
                  <a:pt x="1035" y="980"/>
                </a:lnTo>
                <a:lnTo>
                  <a:pt x="1029" y="902"/>
                </a:lnTo>
                <a:lnTo>
                  <a:pt x="1020" y="824"/>
                </a:lnTo>
                <a:lnTo>
                  <a:pt x="1009" y="747"/>
                </a:lnTo>
                <a:lnTo>
                  <a:pt x="995" y="673"/>
                </a:lnTo>
                <a:lnTo>
                  <a:pt x="978" y="601"/>
                </a:lnTo>
                <a:lnTo>
                  <a:pt x="960" y="533"/>
                </a:lnTo>
                <a:lnTo>
                  <a:pt x="940" y="466"/>
                </a:lnTo>
                <a:lnTo>
                  <a:pt x="917" y="403"/>
                </a:lnTo>
                <a:lnTo>
                  <a:pt x="892" y="344"/>
                </a:lnTo>
                <a:lnTo>
                  <a:pt x="866" y="289"/>
                </a:lnTo>
                <a:lnTo>
                  <a:pt x="837" y="237"/>
                </a:lnTo>
                <a:lnTo>
                  <a:pt x="808" y="191"/>
                </a:lnTo>
                <a:lnTo>
                  <a:pt x="777" y="149"/>
                </a:lnTo>
                <a:lnTo>
                  <a:pt x="744" y="111"/>
                </a:lnTo>
                <a:lnTo>
                  <a:pt x="710" y="79"/>
                </a:lnTo>
                <a:lnTo>
                  <a:pt x="676" y="53"/>
                </a:lnTo>
                <a:lnTo>
                  <a:pt x="640" y="31"/>
                </a:lnTo>
                <a:lnTo>
                  <a:pt x="604" y="15"/>
                </a:lnTo>
                <a:lnTo>
                  <a:pt x="568" y="4"/>
                </a:lnTo>
                <a:lnTo>
                  <a:pt x="531" y="0"/>
                </a:lnTo>
                <a:lnTo>
                  <a:pt x="495" y="1"/>
                </a:lnTo>
                <a:lnTo>
                  <a:pt x="458" y="7"/>
                </a:lnTo>
                <a:lnTo>
                  <a:pt x="422" y="19"/>
                </a:lnTo>
                <a:lnTo>
                  <a:pt x="386" y="36"/>
                </a:lnTo>
                <a:lnTo>
                  <a:pt x="351" y="59"/>
                </a:lnTo>
                <a:lnTo>
                  <a:pt x="317" y="88"/>
                </a:lnTo>
                <a:lnTo>
                  <a:pt x="283" y="121"/>
                </a:lnTo>
                <a:lnTo>
                  <a:pt x="252" y="160"/>
                </a:lnTo>
                <a:lnTo>
                  <a:pt x="221" y="203"/>
                </a:lnTo>
                <a:lnTo>
                  <a:pt x="191" y="251"/>
                </a:lnTo>
                <a:lnTo>
                  <a:pt x="164" y="303"/>
                </a:lnTo>
                <a:lnTo>
                  <a:pt x="137" y="360"/>
                </a:lnTo>
                <a:lnTo>
                  <a:pt x="113" y="420"/>
                </a:lnTo>
                <a:lnTo>
                  <a:pt x="92" y="484"/>
                </a:lnTo>
                <a:lnTo>
                  <a:pt x="72" y="551"/>
                </a:lnTo>
                <a:lnTo>
                  <a:pt x="54" y="620"/>
                </a:lnTo>
                <a:lnTo>
                  <a:pt x="38" y="693"/>
                </a:lnTo>
                <a:lnTo>
                  <a:pt x="25" y="768"/>
                </a:lnTo>
                <a:lnTo>
                  <a:pt x="13" y="845"/>
                </a:lnTo>
                <a:lnTo>
                  <a:pt x="6" y="923"/>
                </a:lnTo>
                <a:lnTo>
                  <a:pt x="0" y="100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5"/>
          <p:cNvSpPr/>
          <p:nvPr/>
        </p:nvSpPr>
        <p:spPr>
          <a:xfrm>
            <a:off x="2293920" y="1682640"/>
            <a:ext cx="250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6"/>
          <p:cNvSpPr/>
          <p:nvPr/>
        </p:nvSpPr>
        <p:spPr>
          <a:xfrm>
            <a:off x="2297160" y="3139920"/>
            <a:ext cx="2523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Freeform 7"/>
          <p:cNvSpPr/>
          <p:nvPr/>
        </p:nvSpPr>
        <p:spPr>
          <a:xfrm>
            <a:off x="2541600" y="1682640"/>
            <a:ext cx="195120" cy="1457280"/>
          </a:xfrm>
          <a:custGeom>
            <a:avLst/>
            <a:gdLst>
              <a:gd name="textAreaLeft" fmla="*/ 0 w 195120"/>
              <a:gd name="textAreaRight" fmla="*/ 195480 w 1951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529" h="2282">
                <a:moveTo>
                  <a:pt x="0" y="2282"/>
                </a:moveTo>
                <a:lnTo>
                  <a:pt x="36" y="2280"/>
                </a:lnTo>
                <a:lnTo>
                  <a:pt x="73" y="2272"/>
                </a:lnTo>
                <a:lnTo>
                  <a:pt x="109" y="2259"/>
                </a:lnTo>
                <a:lnTo>
                  <a:pt x="144" y="2241"/>
                </a:lnTo>
                <a:lnTo>
                  <a:pt x="179" y="2218"/>
                </a:lnTo>
                <a:lnTo>
                  <a:pt x="214" y="2190"/>
                </a:lnTo>
                <a:lnTo>
                  <a:pt x="247" y="2155"/>
                </a:lnTo>
                <a:lnTo>
                  <a:pt x="278" y="2115"/>
                </a:lnTo>
                <a:lnTo>
                  <a:pt x="309" y="2072"/>
                </a:lnTo>
                <a:lnTo>
                  <a:pt x="339" y="2023"/>
                </a:lnTo>
                <a:lnTo>
                  <a:pt x="366" y="1970"/>
                </a:lnTo>
                <a:lnTo>
                  <a:pt x="392" y="1913"/>
                </a:lnTo>
                <a:lnTo>
                  <a:pt x="415" y="1853"/>
                </a:lnTo>
                <a:lnTo>
                  <a:pt x="437" y="1788"/>
                </a:lnTo>
                <a:lnTo>
                  <a:pt x="457" y="1722"/>
                </a:lnTo>
                <a:lnTo>
                  <a:pt x="474" y="1651"/>
                </a:lnTo>
                <a:lnTo>
                  <a:pt x="490" y="1579"/>
                </a:lnTo>
                <a:lnTo>
                  <a:pt x="503" y="1503"/>
                </a:lnTo>
                <a:lnTo>
                  <a:pt x="514" y="1426"/>
                </a:lnTo>
                <a:lnTo>
                  <a:pt x="521" y="1349"/>
                </a:lnTo>
                <a:lnTo>
                  <a:pt x="526" y="1269"/>
                </a:lnTo>
                <a:lnTo>
                  <a:pt x="529" y="1189"/>
                </a:lnTo>
                <a:lnTo>
                  <a:pt x="529" y="1110"/>
                </a:lnTo>
                <a:lnTo>
                  <a:pt x="527" y="1029"/>
                </a:lnTo>
                <a:lnTo>
                  <a:pt x="523" y="950"/>
                </a:lnTo>
                <a:lnTo>
                  <a:pt x="516" y="871"/>
                </a:lnTo>
                <a:lnTo>
                  <a:pt x="505" y="795"/>
                </a:lnTo>
                <a:lnTo>
                  <a:pt x="493" y="719"/>
                </a:lnTo>
                <a:lnTo>
                  <a:pt x="479" y="646"/>
                </a:lnTo>
                <a:lnTo>
                  <a:pt x="462" y="575"/>
                </a:lnTo>
                <a:lnTo>
                  <a:pt x="442" y="507"/>
                </a:lnTo>
                <a:lnTo>
                  <a:pt x="420" y="443"/>
                </a:lnTo>
                <a:lnTo>
                  <a:pt x="397" y="380"/>
                </a:lnTo>
                <a:lnTo>
                  <a:pt x="372" y="323"/>
                </a:lnTo>
                <a:lnTo>
                  <a:pt x="345" y="269"/>
                </a:lnTo>
                <a:lnTo>
                  <a:pt x="316" y="219"/>
                </a:lnTo>
                <a:lnTo>
                  <a:pt x="286" y="175"/>
                </a:lnTo>
                <a:lnTo>
                  <a:pt x="254" y="134"/>
                </a:lnTo>
                <a:lnTo>
                  <a:pt x="221" y="99"/>
                </a:lnTo>
                <a:lnTo>
                  <a:pt x="187" y="69"/>
                </a:lnTo>
                <a:lnTo>
                  <a:pt x="152" y="44"/>
                </a:lnTo>
                <a:lnTo>
                  <a:pt x="116" y="24"/>
                </a:lnTo>
                <a:lnTo>
                  <a:pt x="80" y="11"/>
                </a:lnTo>
                <a:lnTo>
                  <a:pt x="44" y="2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Freeform 8"/>
          <p:cNvSpPr/>
          <p:nvPr/>
        </p:nvSpPr>
        <p:spPr>
          <a:xfrm>
            <a:off x="260280" y="2322360"/>
            <a:ext cx="77760" cy="176400"/>
          </a:xfrm>
          <a:custGeom>
            <a:avLst/>
            <a:gdLst>
              <a:gd name="textAreaLeft" fmla="*/ 0 w 77760"/>
              <a:gd name="textAreaRight" fmla="*/ 78120 w 7776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13" h="277">
                <a:moveTo>
                  <a:pt x="107" y="0"/>
                </a:moveTo>
                <a:lnTo>
                  <a:pt x="87" y="3"/>
                </a:lnTo>
                <a:lnTo>
                  <a:pt x="67" y="10"/>
                </a:lnTo>
                <a:lnTo>
                  <a:pt x="49" y="22"/>
                </a:lnTo>
                <a:lnTo>
                  <a:pt x="33" y="38"/>
                </a:lnTo>
                <a:lnTo>
                  <a:pt x="20" y="58"/>
                </a:lnTo>
                <a:lnTo>
                  <a:pt x="10" y="81"/>
                </a:lnTo>
                <a:lnTo>
                  <a:pt x="3" y="105"/>
                </a:lnTo>
                <a:lnTo>
                  <a:pt x="0" y="132"/>
                </a:lnTo>
                <a:lnTo>
                  <a:pt x="1" y="158"/>
                </a:lnTo>
                <a:lnTo>
                  <a:pt x="7" y="184"/>
                </a:lnTo>
                <a:lnTo>
                  <a:pt x="15" y="208"/>
                </a:lnTo>
                <a:lnTo>
                  <a:pt x="27" y="229"/>
                </a:lnTo>
                <a:lnTo>
                  <a:pt x="40" y="247"/>
                </a:lnTo>
                <a:lnTo>
                  <a:pt x="58" y="262"/>
                </a:lnTo>
                <a:lnTo>
                  <a:pt x="76" y="272"/>
                </a:lnTo>
                <a:lnTo>
                  <a:pt x="97" y="277"/>
                </a:lnTo>
                <a:lnTo>
                  <a:pt x="117" y="277"/>
                </a:lnTo>
                <a:lnTo>
                  <a:pt x="137" y="272"/>
                </a:lnTo>
                <a:lnTo>
                  <a:pt x="156" y="262"/>
                </a:lnTo>
                <a:lnTo>
                  <a:pt x="173" y="247"/>
                </a:lnTo>
                <a:lnTo>
                  <a:pt x="188" y="229"/>
                </a:lnTo>
                <a:lnTo>
                  <a:pt x="199" y="208"/>
                </a:lnTo>
                <a:lnTo>
                  <a:pt x="208" y="184"/>
                </a:lnTo>
                <a:lnTo>
                  <a:pt x="212" y="158"/>
                </a:lnTo>
                <a:lnTo>
                  <a:pt x="213" y="132"/>
                </a:lnTo>
                <a:lnTo>
                  <a:pt x="211" y="105"/>
                </a:lnTo>
                <a:lnTo>
                  <a:pt x="204" y="81"/>
                </a:lnTo>
                <a:lnTo>
                  <a:pt x="194" y="58"/>
                </a:lnTo>
                <a:lnTo>
                  <a:pt x="180" y="38"/>
                </a:lnTo>
                <a:lnTo>
                  <a:pt x="164" y="22"/>
                </a:lnTo>
                <a:lnTo>
                  <a:pt x="146" y="10"/>
                </a:lnTo>
                <a:lnTo>
                  <a:pt x="127" y="3"/>
                </a:lnTo>
                <a:lnTo>
                  <a:pt x="10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reeform 9"/>
          <p:cNvSpPr/>
          <p:nvPr/>
        </p:nvSpPr>
        <p:spPr>
          <a:xfrm>
            <a:off x="4492800" y="2322360"/>
            <a:ext cx="79200" cy="176400"/>
          </a:xfrm>
          <a:custGeom>
            <a:avLst/>
            <a:gdLst>
              <a:gd name="textAreaLeft" fmla="*/ 0 w 79200"/>
              <a:gd name="textAreaRight" fmla="*/ 79560 w 7920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14" h="277">
                <a:moveTo>
                  <a:pt x="107" y="0"/>
                </a:moveTo>
                <a:lnTo>
                  <a:pt x="87" y="3"/>
                </a:lnTo>
                <a:lnTo>
                  <a:pt x="67" y="10"/>
                </a:lnTo>
                <a:lnTo>
                  <a:pt x="49" y="22"/>
                </a:lnTo>
                <a:lnTo>
                  <a:pt x="34" y="38"/>
                </a:lnTo>
                <a:lnTo>
                  <a:pt x="20" y="58"/>
                </a:lnTo>
                <a:lnTo>
                  <a:pt x="9" y="81"/>
                </a:lnTo>
                <a:lnTo>
                  <a:pt x="3" y="105"/>
                </a:lnTo>
                <a:lnTo>
                  <a:pt x="0" y="132"/>
                </a:lnTo>
                <a:lnTo>
                  <a:pt x="1" y="158"/>
                </a:lnTo>
                <a:lnTo>
                  <a:pt x="6" y="184"/>
                </a:lnTo>
                <a:lnTo>
                  <a:pt x="15" y="208"/>
                </a:lnTo>
                <a:lnTo>
                  <a:pt x="26" y="229"/>
                </a:lnTo>
                <a:lnTo>
                  <a:pt x="41" y="247"/>
                </a:lnTo>
                <a:lnTo>
                  <a:pt x="58" y="262"/>
                </a:lnTo>
                <a:lnTo>
                  <a:pt x="77" y="272"/>
                </a:lnTo>
                <a:lnTo>
                  <a:pt x="96" y="277"/>
                </a:lnTo>
                <a:lnTo>
                  <a:pt x="117" y="277"/>
                </a:lnTo>
                <a:lnTo>
                  <a:pt x="136" y="272"/>
                </a:lnTo>
                <a:lnTo>
                  <a:pt x="155" y="262"/>
                </a:lnTo>
                <a:lnTo>
                  <a:pt x="172" y="247"/>
                </a:lnTo>
                <a:lnTo>
                  <a:pt x="187" y="229"/>
                </a:lnTo>
                <a:lnTo>
                  <a:pt x="199" y="208"/>
                </a:lnTo>
                <a:lnTo>
                  <a:pt x="207" y="184"/>
                </a:lnTo>
                <a:lnTo>
                  <a:pt x="213" y="158"/>
                </a:lnTo>
                <a:lnTo>
                  <a:pt x="214" y="132"/>
                </a:lnTo>
                <a:lnTo>
                  <a:pt x="210" y="105"/>
                </a:lnTo>
                <a:lnTo>
                  <a:pt x="204" y="81"/>
                </a:lnTo>
                <a:lnTo>
                  <a:pt x="193" y="58"/>
                </a:lnTo>
                <a:lnTo>
                  <a:pt x="181" y="38"/>
                </a:lnTo>
                <a:lnTo>
                  <a:pt x="164" y="22"/>
                </a:lnTo>
                <a:lnTo>
                  <a:pt x="146" y="10"/>
                </a:lnTo>
                <a:lnTo>
                  <a:pt x="127" y="3"/>
                </a:lnTo>
                <a:lnTo>
                  <a:pt x="10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10"/>
          <p:cNvSpPr/>
          <p:nvPr/>
        </p:nvSpPr>
        <p:spPr>
          <a:xfrm>
            <a:off x="299880" y="2322360"/>
            <a:ext cx="64008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11"/>
          <p:cNvSpPr/>
          <p:nvPr/>
        </p:nvSpPr>
        <p:spPr>
          <a:xfrm>
            <a:off x="299880" y="2498760"/>
            <a:ext cx="6400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12"/>
          <p:cNvSpPr/>
          <p:nvPr/>
        </p:nvSpPr>
        <p:spPr>
          <a:xfrm>
            <a:off x="2292480" y="2322360"/>
            <a:ext cx="144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13"/>
          <p:cNvSpPr/>
          <p:nvPr/>
        </p:nvSpPr>
        <p:spPr>
          <a:xfrm>
            <a:off x="2292480" y="24987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Freeform 14"/>
          <p:cNvSpPr/>
          <p:nvPr/>
        </p:nvSpPr>
        <p:spPr>
          <a:xfrm>
            <a:off x="2292480" y="2322360"/>
            <a:ext cx="39600" cy="176400"/>
          </a:xfrm>
          <a:custGeom>
            <a:avLst/>
            <a:gdLst>
              <a:gd name="textAreaLeft" fmla="*/ 0 w 39600"/>
              <a:gd name="textAreaRight" fmla="*/ 39600 w 3960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08" h="277">
                <a:moveTo>
                  <a:pt x="0" y="277"/>
                </a:moveTo>
                <a:lnTo>
                  <a:pt x="14" y="276"/>
                </a:lnTo>
                <a:lnTo>
                  <a:pt x="28" y="273"/>
                </a:lnTo>
                <a:lnTo>
                  <a:pt x="41" y="267"/>
                </a:lnTo>
                <a:lnTo>
                  <a:pt x="52" y="261"/>
                </a:lnTo>
                <a:lnTo>
                  <a:pt x="64" y="252"/>
                </a:lnTo>
                <a:lnTo>
                  <a:pt x="75" y="240"/>
                </a:lnTo>
                <a:lnTo>
                  <a:pt x="84" y="227"/>
                </a:lnTo>
                <a:lnTo>
                  <a:pt x="91" y="213"/>
                </a:lnTo>
                <a:lnTo>
                  <a:pt x="99" y="199"/>
                </a:lnTo>
                <a:lnTo>
                  <a:pt x="103" y="182"/>
                </a:lnTo>
                <a:lnTo>
                  <a:pt x="107" y="165"/>
                </a:lnTo>
                <a:lnTo>
                  <a:pt x="108" y="148"/>
                </a:lnTo>
                <a:lnTo>
                  <a:pt x="108" y="130"/>
                </a:lnTo>
                <a:lnTo>
                  <a:pt x="107" y="113"/>
                </a:lnTo>
                <a:lnTo>
                  <a:pt x="104" y="96"/>
                </a:lnTo>
                <a:lnTo>
                  <a:pt x="99" y="79"/>
                </a:lnTo>
                <a:lnTo>
                  <a:pt x="93" y="64"/>
                </a:lnTo>
                <a:lnTo>
                  <a:pt x="84" y="50"/>
                </a:lnTo>
                <a:lnTo>
                  <a:pt x="76" y="38"/>
                </a:lnTo>
                <a:lnTo>
                  <a:pt x="65" y="26"/>
                </a:lnTo>
                <a:lnTo>
                  <a:pt x="53" y="17"/>
                </a:lnTo>
                <a:lnTo>
                  <a:pt x="41" y="9"/>
                </a:lnTo>
                <a:lnTo>
                  <a:pt x="28" y="4"/>
                </a:lnTo>
                <a:lnTo>
                  <a:pt x="15" y="1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Freeform 15"/>
          <p:cNvSpPr/>
          <p:nvPr/>
        </p:nvSpPr>
        <p:spPr>
          <a:xfrm>
            <a:off x="1087560" y="2008080"/>
            <a:ext cx="117360" cy="874800"/>
          </a:xfrm>
          <a:custGeom>
            <a:avLst/>
            <a:gdLst>
              <a:gd name="textAreaLeft" fmla="*/ 0 w 117360"/>
              <a:gd name="textAreaRight" fmla="*/ 117720 w 11736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318" h="1369">
                <a:moveTo>
                  <a:pt x="0" y="1369"/>
                </a:moveTo>
                <a:lnTo>
                  <a:pt x="29" y="1367"/>
                </a:lnTo>
                <a:lnTo>
                  <a:pt x="56" y="1360"/>
                </a:lnTo>
                <a:lnTo>
                  <a:pt x="84" y="1347"/>
                </a:lnTo>
                <a:lnTo>
                  <a:pt x="111" y="1329"/>
                </a:lnTo>
                <a:lnTo>
                  <a:pt x="137" y="1306"/>
                </a:lnTo>
                <a:lnTo>
                  <a:pt x="162" y="1277"/>
                </a:lnTo>
                <a:lnTo>
                  <a:pt x="185" y="1243"/>
                </a:lnTo>
                <a:lnTo>
                  <a:pt x="208" y="1206"/>
                </a:lnTo>
                <a:lnTo>
                  <a:pt x="229" y="1164"/>
                </a:lnTo>
                <a:lnTo>
                  <a:pt x="248" y="1117"/>
                </a:lnTo>
                <a:lnTo>
                  <a:pt x="265" y="1069"/>
                </a:lnTo>
                <a:lnTo>
                  <a:pt x="280" y="1016"/>
                </a:lnTo>
                <a:lnTo>
                  <a:pt x="291" y="961"/>
                </a:lnTo>
                <a:lnTo>
                  <a:pt x="302" y="902"/>
                </a:lnTo>
                <a:lnTo>
                  <a:pt x="309" y="843"/>
                </a:lnTo>
                <a:lnTo>
                  <a:pt x="315" y="783"/>
                </a:lnTo>
                <a:lnTo>
                  <a:pt x="318" y="721"/>
                </a:lnTo>
                <a:lnTo>
                  <a:pt x="318" y="659"/>
                </a:lnTo>
                <a:lnTo>
                  <a:pt x="316" y="598"/>
                </a:lnTo>
                <a:lnTo>
                  <a:pt x="310" y="537"/>
                </a:lnTo>
                <a:lnTo>
                  <a:pt x="303" y="478"/>
                </a:lnTo>
                <a:lnTo>
                  <a:pt x="293" y="420"/>
                </a:lnTo>
                <a:lnTo>
                  <a:pt x="282" y="364"/>
                </a:lnTo>
                <a:lnTo>
                  <a:pt x="267" y="311"/>
                </a:lnTo>
                <a:lnTo>
                  <a:pt x="251" y="261"/>
                </a:lnTo>
                <a:lnTo>
                  <a:pt x="232" y="214"/>
                </a:lnTo>
                <a:lnTo>
                  <a:pt x="212" y="171"/>
                </a:lnTo>
                <a:lnTo>
                  <a:pt x="190" y="133"/>
                </a:lnTo>
                <a:lnTo>
                  <a:pt x="166" y="98"/>
                </a:lnTo>
                <a:lnTo>
                  <a:pt x="141" y="69"/>
                </a:lnTo>
                <a:lnTo>
                  <a:pt x="116" y="45"/>
                </a:lnTo>
                <a:lnTo>
                  <a:pt x="89" y="25"/>
                </a:lnTo>
                <a:lnTo>
                  <a:pt x="62" y="11"/>
                </a:lnTo>
                <a:lnTo>
                  <a:pt x="33" y="4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939960" y="2008080"/>
            <a:ext cx="15048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reeform 17"/>
          <p:cNvSpPr/>
          <p:nvPr/>
        </p:nvSpPr>
        <p:spPr>
          <a:xfrm>
            <a:off x="825480" y="2008080"/>
            <a:ext cx="230040" cy="874800"/>
          </a:xfrm>
          <a:custGeom>
            <a:avLst/>
            <a:gdLst>
              <a:gd name="textAreaLeft" fmla="*/ 0 w 230040"/>
              <a:gd name="textAreaRight" fmla="*/ 230400 w 23004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624" h="1369">
                <a:moveTo>
                  <a:pt x="0" y="768"/>
                </a:moveTo>
                <a:lnTo>
                  <a:pt x="6" y="829"/>
                </a:lnTo>
                <a:lnTo>
                  <a:pt x="12" y="889"/>
                </a:lnTo>
                <a:lnTo>
                  <a:pt x="22" y="947"/>
                </a:lnTo>
                <a:lnTo>
                  <a:pt x="34" y="1003"/>
                </a:lnTo>
                <a:lnTo>
                  <a:pt x="48" y="1056"/>
                </a:lnTo>
                <a:lnTo>
                  <a:pt x="65" y="1107"/>
                </a:lnTo>
                <a:lnTo>
                  <a:pt x="83" y="1153"/>
                </a:lnTo>
                <a:lnTo>
                  <a:pt x="103" y="1197"/>
                </a:lnTo>
                <a:lnTo>
                  <a:pt x="125" y="1236"/>
                </a:lnTo>
                <a:lnTo>
                  <a:pt x="149" y="1270"/>
                </a:lnTo>
                <a:lnTo>
                  <a:pt x="174" y="1300"/>
                </a:lnTo>
                <a:lnTo>
                  <a:pt x="199" y="1325"/>
                </a:lnTo>
                <a:lnTo>
                  <a:pt x="227" y="1344"/>
                </a:lnTo>
                <a:lnTo>
                  <a:pt x="254" y="1358"/>
                </a:lnTo>
                <a:lnTo>
                  <a:pt x="282" y="1366"/>
                </a:lnTo>
                <a:lnTo>
                  <a:pt x="311" y="1369"/>
                </a:lnTo>
                <a:lnTo>
                  <a:pt x="339" y="1367"/>
                </a:lnTo>
                <a:lnTo>
                  <a:pt x="367" y="1359"/>
                </a:lnTo>
                <a:lnTo>
                  <a:pt x="394" y="1345"/>
                </a:lnTo>
                <a:lnTo>
                  <a:pt x="422" y="1326"/>
                </a:lnTo>
                <a:lnTo>
                  <a:pt x="447" y="1302"/>
                </a:lnTo>
                <a:lnTo>
                  <a:pt x="473" y="1272"/>
                </a:lnTo>
                <a:lnTo>
                  <a:pt x="496" y="1238"/>
                </a:lnTo>
                <a:lnTo>
                  <a:pt x="518" y="1200"/>
                </a:lnTo>
                <a:lnTo>
                  <a:pt x="538" y="1157"/>
                </a:lnTo>
                <a:lnTo>
                  <a:pt x="557" y="1110"/>
                </a:lnTo>
                <a:lnTo>
                  <a:pt x="573" y="1060"/>
                </a:lnTo>
                <a:lnTo>
                  <a:pt x="588" y="1007"/>
                </a:lnTo>
                <a:lnTo>
                  <a:pt x="600" y="951"/>
                </a:lnTo>
                <a:lnTo>
                  <a:pt x="610" y="893"/>
                </a:lnTo>
                <a:lnTo>
                  <a:pt x="618" y="834"/>
                </a:lnTo>
                <a:lnTo>
                  <a:pt x="622" y="772"/>
                </a:lnTo>
                <a:lnTo>
                  <a:pt x="624" y="711"/>
                </a:lnTo>
                <a:lnTo>
                  <a:pt x="624" y="648"/>
                </a:lnTo>
                <a:lnTo>
                  <a:pt x="622" y="587"/>
                </a:lnTo>
                <a:lnTo>
                  <a:pt x="617" y="527"/>
                </a:lnTo>
                <a:lnTo>
                  <a:pt x="608" y="467"/>
                </a:lnTo>
                <a:lnTo>
                  <a:pt x="599" y="409"/>
                </a:lnTo>
                <a:lnTo>
                  <a:pt x="586" y="354"/>
                </a:lnTo>
                <a:lnTo>
                  <a:pt x="571" y="301"/>
                </a:lnTo>
                <a:lnTo>
                  <a:pt x="554" y="251"/>
                </a:lnTo>
                <a:lnTo>
                  <a:pt x="535" y="206"/>
                </a:lnTo>
                <a:lnTo>
                  <a:pt x="514" y="163"/>
                </a:lnTo>
                <a:lnTo>
                  <a:pt x="492" y="125"/>
                </a:lnTo>
                <a:lnTo>
                  <a:pt x="468" y="92"/>
                </a:lnTo>
                <a:lnTo>
                  <a:pt x="443" y="64"/>
                </a:lnTo>
                <a:lnTo>
                  <a:pt x="416" y="41"/>
                </a:lnTo>
                <a:lnTo>
                  <a:pt x="390" y="22"/>
                </a:lnTo>
                <a:lnTo>
                  <a:pt x="362" y="9"/>
                </a:lnTo>
                <a:lnTo>
                  <a:pt x="334" y="2"/>
                </a:lnTo>
                <a:lnTo>
                  <a:pt x="305" y="0"/>
                </a:lnTo>
                <a:lnTo>
                  <a:pt x="278" y="5"/>
                </a:lnTo>
                <a:lnTo>
                  <a:pt x="249" y="14"/>
                </a:lnTo>
                <a:lnTo>
                  <a:pt x="222" y="29"/>
                </a:lnTo>
                <a:lnTo>
                  <a:pt x="195" y="49"/>
                </a:lnTo>
                <a:lnTo>
                  <a:pt x="170" y="74"/>
                </a:lnTo>
                <a:lnTo>
                  <a:pt x="144" y="105"/>
                </a:lnTo>
                <a:lnTo>
                  <a:pt x="122" y="140"/>
                </a:lnTo>
                <a:lnTo>
                  <a:pt x="100" y="180"/>
                </a:lnTo>
                <a:lnTo>
                  <a:pt x="80" y="224"/>
                </a:lnTo>
                <a:lnTo>
                  <a:pt x="62" y="271"/>
                </a:lnTo>
                <a:lnTo>
                  <a:pt x="46" y="322"/>
                </a:lnTo>
                <a:lnTo>
                  <a:pt x="32" y="376"/>
                </a:lnTo>
                <a:lnTo>
                  <a:pt x="20" y="432"/>
                </a:lnTo>
                <a:lnTo>
                  <a:pt x="11" y="4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18"/>
          <p:cNvSpPr/>
          <p:nvPr/>
        </p:nvSpPr>
        <p:spPr>
          <a:xfrm>
            <a:off x="941400" y="2882880"/>
            <a:ext cx="150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Freeform 19"/>
          <p:cNvSpPr/>
          <p:nvPr/>
        </p:nvSpPr>
        <p:spPr>
          <a:xfrm>
            <a:off x="3722760" y="1974960"/>
            <a:ext cx="117360" cy="873000"/>
          </a:xfrm>
          <a:custGeom>
            <a:avLst/>
            <a:gdLst>
              <a:gd name="textAreaLeft" fmla="*/ 0 w 117360"/>
              <a:gd name="textAreaRight" fmla="*/ 117720 w 11736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317" h="1369">
                <a:moveTo>
                  <a:pt x="0" y="1369"/>
                </a:moveTo>
                <a:lnTo>
                  <a:pt x="26" y="1367"/>
                </a:lnTo>
                <a:lnTo>
                  <a:pt x="53" y="1361"/>
                </a:lnTo>
                <a:lnTo>
                  <a:pt x="79" y="1349"/>
                </a:lnTo>
                <a:lnTo>
                  <a:pt x="104" y="1333"/>
                </a:lnTo>
                <a:lnTo>
                  <a:pt x="129" y="1312"/>
                </a:lnTo>
                <a:lnTo>
                  <a:pt x="153" y="1287"/>
                </a:lnTo>
                <a:lnTo>
                  <a:pt x="176" y="1256"/>
                </a:lnTo>
                <a:lnTo>
                  <a:pt x="198" y="1222"/>
                </a:lnTo>
                <a:lnTo>
                  <a:pt x="218" y="1184"/>
                </a:lnTo>
                <a:lnTo>
                  <a:pt x="237" y="1143"/>
                </a:lnTo>
                <a:lnTo>
                  <a:pt x="254" y="1097"/>
                </a:lnTo>
                <a:lnTo>
                  <a:pt x="270" y="1050"/>
                </a:lnTo>
                <a:lnTo>
                  <a:pt x="282" y="999"/>
                </a:lnTo>
                <a:lnTo>
                  <a:pt x="294" y="946"/>
                </a:lnTo>
                <a:lnTo>
                  <a:pt x="302" y="891"/>
                </a:lnTo>
                <a:lnTo>
                  <a:pt x="310" y="835"/>
                </a:lnTo>
                <a:lnTo>
                  <a:pt x="314" y="777"/>
                </a:lnTo>
                <a:lnTo>
                  <a:pt x="317" y="719"/>
                </a:lnTo>
                <a:lnTo>
                  <a:pt x="317" y="661"/>
                </a:lnTo>
                <a:lnTo>
                  <a:pt x="315" y="603"/>
                </a:lnTo>
                <a:lnTo>
                  <a:pt x="311" y="545"/>
                </a:lnTo>
                <a:lnTo>
                  <a:pt x="305" y="488"/>
                </a:lnTo>
                <a:lnTo>
                  <a:pt x="295" y="433"/>
                </a:lnTo>
                <a:lnTo>
                  <a:pt x="284" y="379"/>
                </a:lnTo>
                <a:lnTo>
                  <a:pt x="272" y="329"/>
                </a:lnTo>
                <a:lnTo>
                  <a:pt x="257" y="280"/>
                </a:lnTo>
                <a:lnTo>
                  <a:pt x="240" y="234"/>
                </a:lnTo>
                <a:lnTo>
                  <a:pt x="222" y="192"/>
                </a:lnTo>
                <a:lnTo>
                  <a:pt x="202" y="153"/>
                </a:lnTo>
                <a:lnTo>
                  <a:pt x="181" y="119"/>
                </a:lnTo>
                <a:lnTo>
                  <a:pt x="157" y="87"/>
                </a:lnTo>
                <a:lnTo>
                  <a:pt x="134" y="62"/>
                </a:lnTo>
                <a:lnTo>
                  <a:pt x="109" y="39"/>
                </a:lnTo>
                <a:lnTo>
                  <a:pt x="83" y="23"/>
                </a:lnTo>
                <a:lnTo>
                  <a:pt x="57" y="10"/>
                </a:lnTo>
                <a:lnTo>
                  <a:pt x="30" y="2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20"/>
          <p:cNvSpPr/>
          <p:nvPr/>
        </p:nvSpPr>
        <p:spPr>
          <a:xfrm>
            <a:off x="3573360" y="2847960"/>
            <a:ext cx="150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Freeform 21"/>
          <p:cNvSpPr/>
          <p:nvPr/>
        </p:nvSpPr>
        <p:spPr>
          <a:xfrm>
            <a:off x="3459240" y="1974960"/>
            <a:ext cx="226800" cy="873000"/>
          </a:xfrm>
          <a:custGeom>
            <a:avLst/>
            <a:gdLst>
              <a:gd name="textAreaLeft" fmla="*/ 0 w 226800"/>
              <a:gd name="textAreaRight" fmla="*/ 227160 w 22680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619" h="1369">
                <a:moveTo>
                  <a:pt x="0" y="823"/>
                </a:moveTo>
                <a:lnTo>
                  <a:pt x="6" y="883"/>
                </a:lnTo>
                <a:lnTo>
                  <a:pt x="16" y="942"/>
                </a:lnTo>
                <a:lnTo>
                  <a:pt x="28" y="998"/>
                </a:lnTo>
                <a:lnTo>
                  <a:pt x="42" y="1052"/>
                </a:lnTo>
                <a:lnTo>
                  <a:pt x="58" y="1101"/>
                </a:lnTo>
                <a:lnTo>
                  <a:pt x="76" y="1149"/>
                </a:lnTo>
                <a:lnTo>
                  <a:pt x="96" y="1193"/>
                </a:lnTo>
                <a:lnTo>
                  <a:pt x="119" y="1232"/>
                </a:lnTo>
                <a:lnTo>
                  <a:pt x="142" y="1267"/>
                </a:lnTo>
                <a:lnTo>
                  <a:pt x="166" y="1297"/>
                </a:lnTo>
                <a:lnTo>
                  <a:pt x="193" y="1322"/>
                </a:lnTo>
                <a:lnTo>
                  <a:pt x="219" y="1342"/>
                </a:lnTo>
                <a:lnTo>
                  <a:pt x="247" y="1357"/>
                </a:lnTo>
                <a:lnTo>
                  <a:pt x="275" y="1365"/>
                </a:lnTo>
                <a:lnTo>
                  <a:pt x="303" y="1369"/>
                </a:lnTo>
                <a:lnTo>
                  <a:pt x="331" y="1367"/>
                </a:lnTo>
                <a:lnTo>
                  <a:pt x="359" y="1359"/>
                </a:lnTo>
                <a:lnTo>
                  <a:pt x="388" y="1346"/>
                </a:lnTo>
                <a:lnTo>
                  <a:pt x="414" y="1327"/>
                </a:lnTo>
                <a:lnTo>
                  <a:pt x="441" y="1304"/>
                </a:lnTo>
                <a:lnTo>
                  <a:pt x="465" y="1275"/>
                </a:lnTo>
                <a:lnTo>
                  <a:pt x="489" y="1241"/>
                </a:lnTo>
                <a:lnTo>
                  <a:pt x="511" y="1203"/>
                </a:lnTo>
                <a:lnTo>
                  <a:pt x="532" y="1161"/>
                </a:lnTo>
                <a:lnTo>
                  <a:pt x="551" y="1114"/>
                </a:lnTo>
                <a:lnTo>
                  <a:pt x="568" y="1064"/>
                </a:lnTo>
                <a:lnTo>
                  <a:pt x="582" y="1011"/>
                </a:lnTo>
                <a:lnTo>
                  <a:pt x="594" y="955"/>
                </a:lnTo>
                <a:lnTo>
                  <a:pt x="605" y="897"/>
                </a:lnTo>
                <a:lnTo>
                  <a:pt x="612" y="838"/>
                </a:lnTo>
                <a:lnTo>
                  <a:pt x="617" y="777"/>
                </a:lnTo>
                <a:lnTo>
                  <a:pt x="619" y="715"/>
                </a:lnTo>
                <a:lnTo>
                  <a:pt x="619" y="654"/>
                </a:lnTo>
                <a:lnTo>
                  <a:pt x="617" y="592"/>
                </a:lnTo>
                <a:lnTo>
                  <a:pt x="612" y="531"/>
                </a:lnTo>
                <a:lnTo>
                  <a:pt x="605" y="471"/>
                </a:lnTo>
                <a:lnTo>
                  <a:pt x="594" y="413"/>
                </a:lnTo>
                <a:lnTo>
                  <a:pt x="582" y="358"/>
                </a:lnTo>
                <a:lnTo>
                  <a:pt x="568" y="305"/>
                </a:lnTo>
                <a:lnTo>
                  <a:pt x="551" y="255"/>
                </a:lnTo>
                <a:lnTo>
                  <a:pt x="532" y="209"/>
                </a:lnTo>
                <a:lnTo>
                  <a:pt x="511" y="167"/>
                </a:lnTo>
                <a:lnTo>
                  <a:pt x="489" y="128"/>
                </a:lnTo>
                <a:lnTo>
                  <a:pt x="465" y="95"/>
                </a:lnTo>
                <a:lnTo>
                  <a:pt x="441" y="65"/>
                </a:lnTo>
                <a:lnTo>
                  <a:pt x="414" y="42"/>
                </a:lnTo>
                <a:lnTo>
                  <a:pt x="388" y="23"/>
                </a:lnTo>
                <a:lnTo>
                  <a:pt x="359" y="10"/>
                </a:lnTo>
                <a:lnTo>
                  <a:pt x="331" y="2"/>
                </a:lnTo>
                <a:lnTo>
                  <a:pt x="303" y="0"/>
                </a:lnTo>
                <a:lnTo>
                  <a:pt x="275" y="3"/>
                </a:lnTo>
                <a:lnTo>
                  <a:pt x="247" y="12"/>
                </a:lnTo>
                <a:lnTo>
                  <a:pt x="219" y="27"/>
                </a:lnTo>
                <a:lnTo>
                  <a:pt x="193" y="47"/>
                </a:lnTo>
                <a:lnTo>
                  <a:pt x="166" y="72"/>
                </a:lnTo>
                <a:lnTo>
                  <a:pt x="142" y="102"/>
                </a:lnTo>
                <a:lnTo>
                  <a:pt x="119" y="137"/>
                </a:lnTo>
                <a:lnTo>
                  <a:pt x="96" y="176"/>
                </a:lnTo>
                <a:lnTo>
                  <a:pt x="76" y="219"/>
                </a:lnTo>
                <a:lnTo>
                  <a:pt x="58" y="267"/>
                </a:lnTo>
                <a:lnTo>
                  <a:pt x="42" y="318"/>
                </a:lnTo>
                <a:lnTo>
                  <a:pt x="28" y="371"/>
                </a:lnTo>
                <a:lnTo>
                  <a:pt x="16" y="428"/>
                </a:lnTo>
                <a:lnTo>
                  <a:pt x="6" y="486"/>
                </a:lnTo>
                <a:lnTo>
                  <a:pt x="0" y="5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22"/>
          <p:cNvSpPr/>
          <p:nvPr/>
        </p:nvSpPr>
        <p:spPr>
          <a:xfrm>
            <a:off x="3571920" y="1974960"/>
            <a:ext cx="150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Freeform 23"/>
          <p:cNvSpPr/>
          <p:nvPr/>
        </p:nvSpPr>
        <p:spPr>
          <a:xfrm>
            <a:off x="939960" y="2322360"/>
            <a:ext cx="39600" cy="176400"/>
          </a:xfrm>
          <a:custGeom>
            <a:avLst/>
            <a:gdLst>
              <a:gd name="textAreaLeft" fmla="*/ 0 w 39600"/>
              <a:gd name="textAreaRight" fmla="*/ 39600 w 3960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08" h="277">
                <a:moveTo>
                  <a:pt x="0" y="277"/>
                </a:moveTo>
                <a:lnTo>
                  <a:pt x="20" y="275"/>
                </a:lnTo>
                <a:lnTo>
                  <a:pt x="39" y="269"/>
                </a:lnTo>
                <a:lnTo>
                  <a:pt x="57" y="257"/>
                </a:lnTo>
                <a:lnTo>
                  <a:pt x="73" y="242"/>
                </a:lnTo>
                <a:lnTo>
                  <a:pt x="86" y="223"/>
                </a:lnTo>
                <a:lnTo>
                  <a:pt x="97" y="201"/>
                </a:lnTo>
                <a:lnTo>
                  <a:pt x="103" y="177"/>
                </a:lnTo>
                <a:lnTo>
                  <a:pt x="108" y="152"/>
                </a:lnTo>
                <a:lnTo>
                  <a:pt x="108" y="127"/>
                </a:lnTo>
                <a:lnTo>
                  <a:pt x="104" y="101"/>
                </a:lnTo>
                <a:lnTo>
                  <a:pt x="97" y="77"/>
                </a:lnTo>
                <a:lnTo>
                  <a:pt x="86" y="55"/>
                </a:lnTo>
                <a:lnTo>
                  <a:pt x="73" y="36"/>
                </a:lnTo>
                <a:lnTo>
                  <a:pt x="57" y="21"/>
                </a:lnTo>
                <a:lnTo>
                  <a:pt x="40" y="9"/>
                </a:lnTo>
                <a:lnTo>
                  <a:pt x="21" y="2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24"/>
          <p:cNvSpPr/>
          <p:nvPr/>
        </p:nvSpPr>
        <p:spPr>
          <a:xfrm>
            <a:off x="1204920" y="2498760"/>
            <a:ext cx="10875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25"/>
          <p:cNvSpPr/>
          <p:nvPr/>
        </p:nvSpPr>
        <p:spPr>
          <a:xfrm>
            <a:off x="1201680" y="2322360"/>
            <a:ext cx="109080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26"/>
          <p:cNvSpPr/>
          <p:nvPr/>
        </p:nvSpPr>
        <p:spPr>
          <a:xfrm>
            <a:off x="2736720" y="2322360"/>
            <a:ext cx="83520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27"/>
          <p:cNvSpPr/>
          <p:nvPr/>
        </p:nvSpPr>
        <p:spPr>
          <a:xfrm>
            <a:off x="2736720" y="2498760"/>
            <a:ext cx="8352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Freeform 28"/>
          <p:cNvSpPr/>
          <p:nvPr/>
        </p:nvSpPr>
        <p:spPr>
          <a:xfrm>
            <a:off x="3571920" y="2322360"/>
            <a:ext cx="39600" cy="176400"/>
          </a:xfrm>
          <a:custGeom>
            <a:avLst/>
            <a:gdLst>
              <a:gd name="textAreaLeft" fmla="*/ 0 w 39600"/>
              <a:gd name="textAreaRight" fmla="*/ 39600 w 3960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08" h="277">
                <a:moveTo>
                  <a:pt x="0" y="277"/>
                </a:moveTo>
                <a:lnTo>
                  <a:pt x="19" y="275"/>
                </a:lnTo>
                <a:lnTo>
                  <a:pt x="39" y="269"/>
                </a:lnTo>
                <a:lnTo>
                  <a:pt x="56" y="257"/>
                </a:lnTo>
                <a:lnTo>
                  <a:pt x="73" y="242"/>
                </a:lnTo>
                <a:lnTo>
                  <a:pt x="86" y="223"/>
                </a:lnTo>
                <a:lnTo>
                  <a:pt x="96" y="201"/>
                </a:lnTo>
                <a:lnTo>
                  <a:pt x="104" y="177"/>
                </a:lnTo>
                <a:lnTo>
                  <a:pt x="108" y="152"/>
                </a:lnTo>
                <a:lnTo>
                  <a:pt x="108" y="127"/>
                </a:lnTo>
                <a:lnTo>
                  <a:pt x="104" y="101"/>
                </a:lnTo>
                <a:lnTo>
                  <a:pt x="97" y="77"/>
                </a:lnTo>
                <a:lnTo>
                  <a:pt x="87" y="55"/>
                </a:lnTo>
                <a:lnTo>
                  <a:pt x="73" y="36"/>
                </a:lnTo>
                <a:lnTo>
                  <a:pt x="57" y="21"/>
                </a:lnTo>
                <a:lnTo>
                  <a:pt x="39" y="9"/>
                </a:lnTo>
                <a:lnTo>
                  <a:pt x="20" y="2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29"/>
          <p:cNvSpPr/>
          <p:nvPr/>
        </p:nvSpPr>
        <p:spPr>
          <a:xfrm>
            <a:off x="3836880" y="2322360"/>
            <a:ext cx="69552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30"/>
          <p:cNvSpPr/>
          <p:nvPr/>
        </p:nvSpPr>
        <p:spPr>
          <a:xfrm>
            <a:off x="3836880" y="2498760"/>
            <a:ext cx="6955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31"/>
          <p:cNvSpPr/>
          <p:nvPr/>
        </p:nvSpPr>
        <p:spPr>
          <a:xfrm flipV="1">
            <a:off x="372960" y="2065320"/>
            <a:ext cx="3168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32"/>
          <p:cNvSpPr/>
          <p:nvPr/>
        </p:nvSpPr>
        <p:spPr>
          <a:xfrm flipV="1">
            <a:off x="372960" y="2064960"/>
            <a:ext cx="100080" cy="1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33"/>
          <p:cNvSpPr/>
          <p:nvPr/>
        </p:nvSpPr>
        <p:spPr>
          <a:xfrm flipV="1">
            <a:off x="430200" y="2065320"/>
            <a:ext cx="10944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34"/>
          <p:cNvSpPr/>
          <p:nvPr/>
        </p:nvSpPr>
        <p:spPr>
          <a:xfrm flipV="1">
            <a:off x="496800" y="2065320"/>
            <a:ext cx="10980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35"/>
          <p:cNvSpPr/>
          <p:nvPr/>
        </p:nvSpPr>
        <p:spPr>
          <a:xfrm flipV="1">
            <a:off x="372960" y="2563920"/>
            <a:ext cx="1296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36"/>
          <p:cNvSpPr/>
          <p:nvPr/>
        </p:nvSpPr>
        <p:spPr>
          <a:xfrm flipV="1">
            <a:off x="565200" y="2161800"/>
            <a:ext cx="54000" cy="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37"/>
          <p:cNvSpPr/>
          <p:nvPr/>
        </p:nvSpPr>
        <p:spPr>
          <a:xfrm flipV="1">
            <a:off x="372960" y="2563560"/>
            <a:ext cx="795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38"/>
          <p:cNvSpPr/>
          <p:nvPr/>
        </p:nvSpPr>
        <p:spPr>
          <a:xfrm flipV="1">
            <a:off x="412920" y="2563920"/>
            <a:ext cx="109440" cy="18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39"/>
          <p:cNvSpPr/>
          <p:nvPr/>
        </p:nvSpPr>
        <p:spPr>
          <a:xfrm flipV="1">
            <a:off x="479520" y="2563920"/>
            <a:ext cx="108000" cy="18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40"/>
          <p:cNvSpPr/>
          <p:nvPr/>
        </p:nvSpPr>
        <p:spPr>
          <a:xfrm flipV="1">
            <a:off x="546120" y="2628720"/>
            <a:ext cx="73080" cy="12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Line 41"/>
          <p:cNvSpPr/>
          <p:nvPr/>
        </p:nvSpPr>
        <p:spPr>
          <a:xfrm flipV="1">
            <a:off x="614520" y="2744640"/>
            <a:ext cx="468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42"/>
          <p:cNvSpPr/>
          <p:nvPr/>
        </p:nvSpPr>
        <p:spPr>
          <a:xfrm flipV="1">
            <a:off x="4233960" y="2065320"/>
            <a:ext cx="666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Line 43"/>
          <p:cNvSpPr/>
          <p:nvPr/>
        </p:nvSpPr>
        <p:spPr>
          <a:xfrm flipV="1">
            <a:off x="4257720" y="2065320"/>
            <a:ext cx="10800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44"/>
          <p:cNvSpPr/>
          <p:nvPr/>
        </p:nvSpPr>
        <p:spPr>
          <a:xfrm flipV="1">
            <a:off x="4325760" y="2065320"/>
            <a:ext cx="10980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45"/>
          <p:cNvSpPr/>
          <p:nvPr/>
        </p:nvSpPr>
        <p:spPr>
          <a:xfrm flipV="1">
            <a:off x="4392720" y="2107800"/>
            <a:ext cx="83880" cy="14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46"/>
          <p:cNvSpPr/>
          <p:nvPr/>
        </p:nvSpPr>
        <p:spPr>
          <a:xfrm flipV="1">
            <a:off x="4233960" y="2563920"/>
            <a:ext cx="4752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47"/>
          <p:cNvSpPr/>
          <p:nvPr/>
        </p:nvSpPr>
        <p:spPr>
          <a:xfrm flipV="1">
            <a:off x="4459320" y="2227320"/>
            <a:ext cx="1728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48"/>
          <p:cNvSpPr/>
          <p:nvPr/>
        </p:nvSpPr>
        <p:spPr>
          <a:xfrm flipV="1">
            <a:off x="4240080" y="2563920"/>
            <a:ext cx="108000" cy="18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49"/>
          <p:cNvSpPr/>
          <p:nvPr/>
        </p:nvSpPr>
        <p:spPr>
          <a:xfrm flipV="1">
            <a:off x="4307040" y="2563920"/>
            <a:ext cx="109440" cy="18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50"/>
          <p:cNvSpPr/>
          <p:nvPr/>
        </p:nvSpPr>
        <p:spPr>
          <a:xfrm flipV="1">
            <a:off x="4375080" y="2576160"/>
            <a:ext cx="101520" cy="17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51"/>
          <p:cNvSpPr/>
          <p:nvPr/>
        </p:nvSpPr>
        <p:spPr>
          <a:xfrm flipV="1">
            <a:off x="4441680" y="2690640"/>
            <a:ext cx="3492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52"/>
          <p:cNvSpPr/>
          <p:nvPr/>
        </p:nvSpPr>
        <p:spPr>
          <a:xfrm flipH="1">
            <a:off x="372960" y="2257560"/>
            <a:ext cx="2462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53"/>
          <p:cNvSpPr/>
          <p:nvPr/>
        </p:nvSpPr>
        <p:spPr>
          <a:xfrm flipH="1">
            <a:off x="4233960" y="2257560"/>
            <a:ext cx="2426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54"/>
          <p:cNvSpPr/>
          <p:nvPr/>
        </p:nvSpPr>
        <p:spPr>
          <a:xfrm flipH="1">
            <a:off x="372960" y="2563920"/>
            <a:ext cx="2462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55"/>
          <p:cNvSpPr/>
          <p:nvPr/>
        </p:nvSpPr>
        <p:spPr>
          <a:xfrm flipH="1">
            <a:off x="4233960" y="2563920"/>
            <a:ext cx="2426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Freeform 56"/>
          <p:cNvSpPr/>
          <p:nvPr/>
        </p:nvSpPr>
        <p:spPr>
          <a:xfrm>
            <a:off x="1101600" y="2151000"/>
            <a:ext cx="28800" cy="520920"/>
          </a:xfrm>
          <a:custGeom>
            <a:avLst/>
            <a:gdLst>
              <a:gd name="textAreaLeft" fmla="*/ 0 w 28800"/>
              <a:gd name="textAreaRight" fmla="*/ 29160 w 288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81" h="813">
                <a:moveTo>
                  <a:pt x="37" y="813"/>
                </a:moveTo>
                <a:lnTo>
                  <a:pt x="50" y="762"/>
                </a:lnTo>
                <a:lnTo>
                  <a:pt x="60" y="708"/>
                </a:lnTo>
                <a:lnTo>
                  <a:pt x="69" y="653"/>
                </a:lnTo>
                <a:lnTo>
                  <a:pt x="75" y="596"/>
                </a:lnTo>
                <a:lnTo>
                  <a:pt x="79" y="539"/>
                </a:lnTo>
                <a:lnTo>
                  <a:pt x="81" y="480"/>
                </a:lnTo>
                <a:lnTo>
                  <a:pt x="80" y="422"/>
                </a:lnTo>
                <a:lnTo>
                  <a:pt x="78" y="364"/>
                </a:lnTo>
                <a:lnTo>
                  <a:pt x="73" y="307"/>
                </a:lnTo>
                <a:lnTo>
                  <a:pt x="67" y="251"/>
                </a:lnTo>
                <a:lnTo>
                  <a:pt x="57" y="196"/>
                </a:lnTo>
                <a:lnTo>
                  <a:pt x="45" y="143"/>
                </a:lnTo>
                <a:lnTo>
                  <a:pt x="32" y="93"/>
                </a:lnTo>
                <a:lnTo>
                  <a:pt x="17" y="4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Freeform 57"/>
          <p:cNvSpPr/>
          <p:nvPr/>
        </p:nvSpPr>
        <p:spPr>
          <a:xfrm>
            <a:off x="2567160" y="1943280"/>
            <a:ext cx="44280" cy="934920"/>
          </a:xfrm>
          <a:custGeom>
            <a:avLst/>
            <a:gdLst>
              <a:gd name="textAreaLeft" fmla="*/ 0 w 44280"/>
              <a:gd name="textAreaRight" fmla="*/ 44280 w 442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121" h="1467">
                <a:moveTo>
                  <a:pt x="0" y="1467"/>
                </a:moveTo>
                <a:lnTo>
                  <a:pt x="22" y="1405"/>
                </a:lnTo>
                <a:lnTo>
                  <a:pt x="42" y="1338"/>
                </a:lnTo>
                <a:lnTo>
                  <a:pt x="60" y="1269"/>
                </a:lnTo>
                <a:lnTo>
                  <a:pt x="76" y="1198"/>
                </a:lnTo>
                <a:lnTo>
                  <a:pt x="90" y="1124"/>
                </a:lnTo>
                <a:lnTo>
                  <a:pt x="101" y="1048"/>
                </a:lnTo>
                <a:lnTo>
                  <a:pt x="110" y="970"/>
                </a:lnTo>
                <a:lnTo>
                  <a:pt x="116" y="892"/>
                </a:lnTo>
                <a:lnTo>
                  <a:pt x="120" y="813"/>
                </a:lnTo>
                <a:lnTo>
                  <a:pt x="121" y="733"/>
                </a:lnTo>
                <a:lnTo>
                  <a:pt x="120" y="654"/>
                </a:lnTo>
                <a:lnTo>
                  <a:pt x="116" y="574"/>
                </a:lnTo>
                <a:lnTo>
                  <a:pt x="110" y="496"/>
                </a:lnTo>
                <a:lnTo>
                  <a:pt x="101" y="419"/>
                </a:lnTo>
                <a:lnTo>
                  <a:pt x="90" y="343"/>
                </a:lnTo>
                <a:lnTo>
                  <a:pt x="76" y="270"/>
                </a:lnTo>
                <a:lnTo>
                  <a:pt x="60" y="198"/>
                </a:lnTo>
                <a:lnTo>
                  <a:pt x="42" y="129"/>
                </a:lnTo>
                <a:lnTo>
                  <a:pt x="22" y="6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Freeform 58"/>
          <p:cNvSpPr/>
          <p:nvPr/>
        </p:nvSpPr>
        <p:spPr>
          <a:xfrm>
            <a:off x="3740040" y="2151000"/>
            <a:ext cx="22320" cy="520920"/>
          </a:xfrm>
          <a:custGeom>
            <a:avLst/>
            <a:gdLst>
              <a:gd name="textAreaLeft" fmla="*/ 0 w 22320"/>
              <a:gd name="textAreaRight" fmla="*/ 22680 w 223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62" h="820">
                <a:moveTo>
                  <a:pt x="0" y="820"/>
                </a:moveTo>
                <a:lnTo>
                  <a:pt x="15" y="771"/>
                </a:lnTo>
                <a:lnTo>
                  <a:pt x="28" y="721"/>
                </a:lnTo>
                <a:lnTo>
                  <a:pt x="40" y="667"/>
                </a:lnTo>
                <a:lnTo>
                  <a:pt x="49" y="612"/>
                </a:lnTo>
                <a:lnTo>
                  <a:pt x="55" y="555"/>
                </a:lnTo>
                <a:lnTo>
                  <a:pt x="60" y="497"/>
                </a:lnTo>
                <a:lnTo>
                  <a:pt x="62" y="439"/>
                </a:lnTo>
                <a:lnTo>
                  <a:pt x="62" y="380"/>
                </a:lnTo>
                <a:lnTo>
                  <a:pt x="60" y="321"/>
                </a:lnTo>
                <a:lnTo>
                  <a:pt x="55" y="264"/>
                </a:lnTo>
                <a:lnTo>
                  <a:pt x="49" y="207"/>
                </a:lnTo>
                <a:lnTo>
                  <a:pt x="40" y="152"/>
                </a:lnTo>
                <a:lnTo>
                  <a:pt x="28" y="99"/>
                </a:lnTo>
                <a:lnTo>
                  <a:pt x="15" y="4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" name="Object 59"/>
          <p:cNvGraphicFramePr/>
          <p:nvPr/>
        </p:nvGraphicFramePr>
        <p:xfrm>
          <a:off x="2332080" y="3205080"/>
          <a:ext cx="33984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Object 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3205080"/>
                    <a:ext cx="339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60"/>
          <p:cNvGraphicFramePr/>
          <p:nvPr/>
        </p:nvGraphicFramePr>
        <p:xfrm>
          <a:off x="909720" y="2971800"/>
          <a:ext cx="33948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8" name="Object 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9720" y="2971800"/>
                    <a:ext cx="3394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61"/>
          <p:cNvGraphicFramePr/>
          <p:nvPr/>
        </p:nvGraphicFramePr>
        <p:xfrm>
          <a:off x="3522600" y="3002040"/>
          <a:ext cx="33984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0" name="Object 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2600" y="3002040"/>
                    <a:ext cx="3398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62"/>
          <p:cNvGraphicFramePr/>
          <p:nvPr/>
        </p:nvGraphicFramePr>
        <p:xfrm>
          <a:off x="825480" y="1433520"/>
          <a:ext cx="50976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2" name="Object 6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5480" y="1433520"/>
                    <a:ext cx="5097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63"/>
          <p:cNvGraphicFramePr/>
          <p:nvPr/>
        </p:nvGraphicFramePr>
        <p:xfrm>
          <a:off x="3430440" y="1427040"/>
          <a:ext cx="509760" cy="50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4" name="Object 6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30440" y="1427040"/>
                    <a:ext cx="5097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64"/>
          <p:cNvGraphicFramePr/>
          <p:nvPr/>
        </p:nvGraphicFramePr>
        <p:xfrm>
          <a:off x="2181240" y="1108080"/>
          <a:ext cx="509400" cy="50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6" name="Object 6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81240" y="1108080"/>
                    <a:ext cx="5094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Object 65"/>
          <p:cNvGraphicFramePr/>
          <p:nvPr/>
        </p:nvGraphicFramePr>
        <p:xfrm>
          <a:off x="2708280" y="2682720"/>
          <a:ext cx="431640" cy="459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8" name="Object 6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8280" y="2682720"/>
                    <a:ext cx="4316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Object 66"/>
          <p:cNvGraphicFramePr/>
          <p:nvPr/>
        </p:nvGraphicFramePr>
        <p:xfrm>
          <a:off x="1184400" y="1870200"/>
          <a:ext cx="431640" cy="458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0" name="Object 6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84400" y="1870200"/>
                    <a:ext cx="4316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Object 67"/>
          <p:cNvGraphicFramePr/>
          <p:nvPr/>
        </p:nvGraphicFramePr>
        <p:xfrm>
          <a:off x="3840120" y="1855800"/>
          <a:ext cx="432000" cy="45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2" name="Object 6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40120" y="1855800"/>
                    <a:ext cx="4320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78"/>
          <p:cNvGraphicFramePr/>
          <p:nvPr/>
        </p:nvGraphicFramePr>
        <p:xfrm>
          <a:off x="-415800" y="3213000"/>
          <a:ext cx="2611440" cy="2291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4" name="Object 7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-415800" y="3213000"/>
                    <a:ext cx="2611440" cy="22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Freeform 79"/>
          <p:cNvSpPr/>
          <p:nvPr/>
        </p:nvSpPr>
        <p:spPr>
          <a:xfrm>
            <a:off x="1449360" y="4110120"/>
            <a:ext cx="28440" cy="520560"/>
          </a:xfrm>
          <a:custGeom>
            <a:avLst/>
            <a:gdLst>
              <a:gd name="textAreaLeft" fmla="*/ 0 w 28440"/>
              <a:gd name="textAreaRight" fmla="*/ 28800 w 2844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81" h="813">
                <a:moveTo>
                  <a:pt x="37" y="813"/>
                </a:moveTo>
                <a:lnTo>
                  <a:pt x="50" y="762"/>
                </a:lnTo>
                <a:lnTo>
                  <a:pt x="60" y="708"/>
                </a:lnTo>
                <a:lnTo>
                  <a:pt x="69" y="653"/>
                </a:lnTo>
                <a:lnTo>
                  <a:pt x="75" y="596"/>
                </a:lnTo>
                <a:lnTo>
                  <a:pt x="79" y="539"/>
                </a:lnTo>
                <a:lnTo>
                  <a:pt x="81" y="480"/>
                </a:lnTo>
                <a:lnTo>
                  <a:pt x="80" y="422"/>
                </a:lnTo>
                <a:lnTo>
                  <a:pt x="78" y="364"/>
                </a:lnTo>
                <a:lnTo>
                  <a:pt x="73" y="307"/>
                </a:lnTo>
                <a:lnTo>
                  <a:pt x="67" y="251"/>
                </a:lnTo>
                <a:lnTo>
                  <a:pt x="57" y="196"/>
                </a:lnTo>
                <a:lnTo>
                  <a:pt x="45" y="143"/>
                </a:lnTo>
                <a:lnTo>
                  <a:pt x="32" y="93"/>
                </a:lnTo>
                <a:lnTo>
                  <a:pt x="17" y="4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Freeform 80"/>
          <p:cNvSpPr/>
          <p:nvPr/>
        </p:nvSpPr>
        <p:spPr>
          <a:xfrm>
            <a:off x="1101600" y="4081320"/>
            <a:ext cx="28800" cy="520920"/>
          </a:xfrm>
          <a:custGeom>
            <a:avLst/>
            <a:gdLst>
              <a:gd name="textAreaLeft" fmla="*/ 0 w 28800"/>
              <a:gd name="textAreaRight" fmla="*/ 29160 w 288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81" h="813">
                <a:moveTo>
                  <a:pt x="37" y="813"/>
                </a:moveTo>
                <a:lnTo>
                  <a:pt x="50" y="762"/>
                </a:lnTo>
                <a:lnTo>
                  <a:pt x="60" y="708"/>
                </a:lnTo>
                <a:lnTo>
                  <a:pt x="69" y="653"/>
                </a:lnTo>
                <a:lnTo>
                  <a:pt x="75" y="596"/>
                </a:lnTo>
                <a:lnTo>
                  <a:pt x="79" y="539"/>
                </a:lnTo>
                <a:lnTo>
                  <a:pt x="81" y="480"/>
                </a:lnTo>
                <a:lnTo>
                  <a:pt x="80" y="422"/>
                </a:lnTo>
                <a:lnTo>
                  <a:pt x="78" y="364"/>
                </a:lnTo>
                <a:lnTo>
                  <a:pt x="73" y="307"/>
                </a:lnTo>
                <a:lnTo>
                  <a:pt x="67" y="251"/>
                </a:lnTo>
                <a:lnTo>
                  <a:pt x="57" y="196"/>
                </a:lnTo>
                <a:lnTo>
                  <a:pt x="45" y="143"/>
                </a:lnTo>
                <a:lnTo>
                  <a:pt x="32" y="93"/>
                </a:lnTo>
                <a:lnTo>
                  <a:pt x="17" y="4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7" name="Object 81"/>
          <p:cNvGraphicFramePr/>
          <p:nvPr/>
        </p:nvGraphicFramePr>
        <p:xfrm>
          <a:off x="909720" y="3651120"/>
          <a:ext cx="431640" cy="459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8" name="Object 8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09720" y="3651120"/>
                    <a:ext cx="4316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82"/>
          <p:cNvGraphicFramePr/>
          <p:nvPr/>
        </p:nvGraphicFramePr>
        <p:xfrm>
          <a:off x="1308240" y="4568760"/>
          <a:ext cx="527040" cy="432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20" name="Object 8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308240" y="4568760"/>
                    <a:ext cx="527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83"/>
          <p:cNvGraphicFramePr/>
          <p:nvPr/>
        </p:nvGraphicFramePr>
        <p:xfrm>
          <a:off x="2195640" y="4522680"/>
          <a:ext cx="3295440" cy="2291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2" name="Object 8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195640" y="4522680"/>
                    <a:ext cx="3295440" cy="22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Freeform 86"/>
          <p:cNvSpPr/>
          <p:nvPr/>
        </p:nvSpPr>
        <p:spPr>
          <a:xfrm>
            <a:off x="3740040" y="5418000"/>
            <a:ext cx="22320" cy="520920"/>
          </a:xfrm>
          <a:custGeom>
            <a:avLst/>
            <a:gdLst>
              <a:gd name="textAreaLeft" fmla="*/ 0 w 22320"/>
              <a:gd name="textAreaRight" fmla="*/ 22680 w 223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62" h="820">
                <a:moveTo>
                  <a:pt x="0" y="820"/>
                </a:moveTo>
                <a:lnTo>
                  <a:pt x="15" y="771"/>
                </a:lnTo>
                <a:lnTo>
                  <a:pt x="28" y="721"/>
                </a:lnTo>
                <a:lnTo>
                  <a:pt x="40" y="667"/>
                </a:lnTo>
                <a:lnTo>
                  <a:pt x="49" y="612"/>
                </a:lnTo>
                <a:lnTo>
                  <a:pt x="55" y="555"/>
                </a:lnTo>
                <a:lnTo>
                  <a:pt x="60" y="497"/>
                </a:lnTo>
                <a:lnTo>
                  <a:pt x="62" y="439"/>
                </a:lnTo>
                <a:lnTo>
                  <a:pt x="62" y="380"/>
                </a:lnTo>
                <a:lnTo>
                  <a:pt x="60" y="321"/>
                </a:lnTo>
                <a:lnTo>
                  <a:pt x="55" y="264"/>
                </a:lnTo>
                <a:lnTo>
                  <a:pt x="49" y="207"/>
                </a:lnTo>
                <a:lnTo>
                  <a:pt x="40" y="152"/>
                </a:lnTo>
                <a:lnTo>
                  <a:pt x="28" y="99"/>
                </a:lnTo>
                <a:lnTo>
                  <a:pt x="15" y="4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Freeform 87"/>
          <p:cNvSpPr/>
          <p:nvPr/>
        </p:nvSpPr>
        <p:spPr>
          <a:xfrm>
            <a:off x="3362400" y="5418000"/>
            <a:ext cx="22320" cy="520920"/>
          </a:xfrm>
          <a:custGeom>
            <a:avLst/>
            <a:gdLst>
              <a:gd name="textAreaLeft" fmla="*/ 0 w 22320"/>
              <a:gd name="textAreaRight" fmla="*/ 22680 w 223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62" h="820">
                <a:moveTo>
                  <a:pt x="0" y="820"/>
                </a:moveTo>
                <a:lnTo>
                  <a:pt x="15" y="771"/>
                </a:lnTo>
                <a:lnTo>
                  <a:pt x="28" y="721"/>
                </a:lnTo>
                <a:lnTo>
                  <a:pt x="40" y="667"/>
                </a:lnTo>
                <a:lnTo>
                  <a:pt x="49" y="612"/>
                </a:lnTo>
                <a:lnTo>
                  <a:pt x="55" y="555"/>
                </a:lnTo>
                <a:lnTo>
                  <a:pt x="60" y="497"/>
                </a:lnTo>
                <a:lnTo>
                  <a:pt x="62" y="439"/>
                </a:lnTo>
                <a:lnTo>
                  <a:pt x="62" y="380"/>
                </a:lnTo>
                <a:lnTo>
                  <a:pt x="60" y="321"/>
                </a:lnTo>
                <a:lnTo>
                  <a:pt x="55" y="264"/>
                </a:lnTo>
                <a:lnTo>
                  <a:pt x="49" y="207"/>
                </a:lnTo>
                <a:lnTo>
                  <a:pt x="40" y="152"/>
                </a:lnTo>
                <a:lnTo>
                  <a:pt x="28" y="99"/>
                </a:lnTo>
                <a:lnTo>
                  <a:pt x="15" y="4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5" name="Object 88"/>
          <p:cNvGraphicFramePr/>
          <p:nvPr/>
        </p:nvGraphicFramePr>
        <p:xfrm>
          <a:off x="3583080" y="5019840"/>
          <a:ext cx="431640" cy="45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6" name="Object 8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583080" y="5019840"/>
                    <a:ext cx="4316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89"/>
          <p:cNvGraphicFramePr/>
          <p:nvPr/>
        </p:nvGraphicFramePr>
        <p:xfrm>
          <a:off x="2984400" y="4938840"/>
          <a:ext cx="550800" cy="431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8" name="Object 8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984400" y="4938840"/>
                    <a:ext cx="5508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Line 90"/>
          <p:cNvSpPr/>
          <p:nvPr/>
        </p:nvSpPr>
        <p:spPr>
          <a:xfrm>
            <a:off x="1616040" y="1974960"/>
            <a:ext cx="0" cy="87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ne 91"/>
          <p:cNvSpPr/>
          <p:nvPr/>
        </p:nvSpPr>
        <p:spPr>
          <a:xfrm>
            <a:off x="3154320" y="1974960"/>
            <a:ext cx="0" cy="87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1" name="Object 93"/>
          <p:cNvGraphicFramePr/>
          <p:nvPr/>
        </p:nvGraphicFramePr>
        <p:xfrm>
          <a:off x="1552680" y="1604880"/>
          <a:ext cx="176040" cy="3272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32" name="Object 9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552680" y="1604880"/>
                    <a:ext cx="17604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94"/>
          <p:cNvGraphicFramePr/>
          <p:nvPr/>
        </p:nvGraphicFramePr>
        <p:xfrm>
          <a:off x="1538280" y="2881440"/>
          <a:ext cx="176400" cy="326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34" name="Object 9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538280" y="2881440"/>
                    <a:ext cx="17640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95"/>
          <p:cNvGraphicFramePr/>
          <p:nvPr/>
        </p:nvGraphicFramePr>
        <p:xfrm>
          <a:off x="3067200" y="2881440"/>
          <a:ext cx="252360" cy="326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36" name="Object 9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67200" y="2881440"/>
                    <a:ext cx="25236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96"/>
          <p:cNvGraphicFramePr/>
          <p:nvPr/>
        </p:nvGraphicFramePr>
        <p:xfrm>
          <a:off x="3067200" y="1676520"/>
          <a:ext cx="252360" cy="3268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8" name="Object 9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067200" y="1676520"/>
                    <a:ext cx="25236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97"/>
          <p:cNvGraphicFramePr/>
          <p:nvPr/>
        </p:nvGraphicFramePr>
        <p:xfrm>
          <a:off x="5272200" y="2211480"/>
          <a:ext cx="3260520" cy="519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40" name="Object 97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272200" y="2211480"/>
                    <a:ext cx="32605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98"/>
          <p:cNvGraphicFramePr/>
          <p:nvPr/>
        </p:nvGraphicFramePr>
        <p:xfrm>
          <a:off x="5268960" y="3298680"/>
          <a:ext cx="3375000" cy="4748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42" name="Object 98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268960" y="3298680"/>
                    <a:ext cx="3375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AutoShape 99">
            <a:hlinkClick r:id="" action="ppaction://hlinkshowjump?jump=nextslide"/>
          </p:cNvPr>
          <p:cNvSpPr/>
          <p:nvPr/>
        </p:nvSpPr>
        <p:spPr>
          <a:xfrm>
            <a:off x="81216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00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章  扭转  例一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  例一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Freeform 5"/>
          <p:cNvSpPr/>
          <p:nvPr/>
        </p:nvSpPr>
        <p:spPr>
          <a:xfrm>
            <a:off x="2101680" y="1682640"/>
            <a:ext cx="385920" cy="1457280"/>
          </a:xfrm>
          <a:custGeom>
            <a:avLst/>
            <a:gdLst>
              <a:gd name="textAreaLeft" fmla="*/ 0 w 385920"/>
              <a:gd name="textAreaRight" fmla="*/ 386280 w 3859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1041" h="2281">
                <a:moveTo>
                  <a:pt x="0" y="1279"/>
                </a:moveTo>
                <a:lnTo>
                  <a:pt x="6" y="1358"/>
                </a:lnTo>
                <a:lnTo>
                  <a:pt x="13" y="1437"/>
                </a:lnTo>
                <a:lnTo>
                  <a:pt x="25" y="1513"/>
                </a:lnTo>
                <a:lnTo>
                  <a:pt x="38" y="1588"/>
                </a:lnTo>
                <a:lnTo>
                  <a:pt x="54" y="1660"/>
                </a:lnTo>
                <a:lnTo>
                  <a:pt x="72" y="1730"/>
                </a:lnTo>
                <a:lnTo>
                  <a:pt x="92" y="1798"/>
                </a:lnTo>
                <a:lnTo>
                  <a:pt x="113" y="1861"/>
                </a:lnTo>
                <a:lnTo>
                  <a:pt x="137" y="1922"/>
                </a:lnTo>
                <a:lnTo>
                  <a:pt x="164" y="1978"/>
                </a:lnTo>
                <a:lnTo>
                  <a:pt x="191" y="2030"/>
                </a:lnTo>
                <a:lnTo>
                  <a:pt x="221" y="2078"/>
                </a:lnTo>
                <a:lnTo>
                  <a:pt x="252" y="2122"/>
                </a:lnTo>
                <a:lnTo>
                  <a:pt x="283" y="2160"/>
                </a:lnTo>
                <a:lnTo>
                  <a:pt x="317" y="2194"/>
                </a:lnTo>
                <a:lnTo>
                  <a:pt x="351" y="2221"/>
                </a:lnTo>
                <a:lnTo>
                  <a:pt x="386" y="2245"/>
                </a:lnTo>
                <a:lnTo>
                  <a:pt x="422" y="2262"/>
                </a:lnTo>
                <a:lnTo>
                  <a:pt x="458" y="2274"/>
                </a:lnTo>
                <a:lnTo>
                  <a:pt x="495" y="2281"/>
                </a:lnTo>
                <a:lnTo>
                  <a:pt x="531" y="2281"/>
                </a:lnTo>
                <a:lnTo>
                  <a:pt x="568" y="2276"/>
                </a:lnTo>
                <a:lnTo>
                  <a:pt x="604" y="2266"/>
                </a:lnTo>
                <a:lnTo>
                  <a:pt x="640" y="2250"/>
                </a:lnTo>
                <a:lnTo>
                  <a:pt x="676" y="2229"/>
                </a:lnTo>
                <a:lnTo>
                  <a:pt x="710" y="2201"/>
                </a:lnTo>
                <a:lnTo>
                  <a:pt x="744" y="2169"/>
                </a:lnTo>
                <a:lnTo>
                  <a:pt x="777" y="2132"/>
                </a:lnTo>
                <a:lnTo>
                  <a:pt x="808" y="2090"/>
                </a:lnTo>
                <a:lnTo>
                  <a:pt x="837" y="2043"/>
                </a:lnTo>
                <a:lnTo>
                  <a:pt x="866" y="1993"/>
                </a:lnTo>
                <a:lnTo>
                  <a:pt x="892" y="1937"/>
                </a:lnTo>
                <a:lnTo>
                  <a:pt x="917" y="1877"/>
                </a:lnTo>
                <a:lnTo>
                  <a:pt x="940" y="1815"/>
                </a:lnTo>
                <a:lnTo>
                  <a:pt x="960" y="1748"/>
                </a:lnTo>
                <a:lnTo>
                  <a:pt x="978" y="1679"/>
                </a:lnTo>
                <a:lnTo>
                  <a:pt x="995" y="1607"/>
                </a:lnTo>
                <a:lnTo>
                  <a:pt x="1009" y="1533"/>
                </a:lnTo>
                <a:lnTo>
                  <a:pt x="1020" y="1457"/>
                </a:lnTo>
                <a:lnTo>
                  <a:pt x="1029" y="1380"/>
                </a:lnTo>
                <a:lnTo>
                  <a:pt x="1035" y="1300"/>
                </a:lnTo>
                <a:lnTo>
                  <a:pt x="1039" y="1221"/>
                </a:lnTo>
                <a:lnTo>
                  <a:pt x="1041" y="1140"/>
                </a:lnTo>
                <a:lnTo>
                  <a:pt x="1039" y="1061"/>
                </a:lnTo>
                <a:lnTo>
                  <a:pt x="1035" y="980"/>
                </a:lnTo>
                <a:lnTo>
                  <a:pt x="1029" y="902"/>
                </a:lnTo>
                <a:lnTo>
                  <a:pt x="1020" y="824"/>
                </a:lnTo>
                <a:lnTo>
                  <a:pt x="1009" y="747"/>
                </a:lnTo>
                <a:lnTo>
                  <a:pt x="995" y="673"/>
                </a:lnTo>
                <a:lnTo>
                  <a:pt x="978" y="601"/>
                </a:lnTo>
                <a:lnTo>
                  <a:pt x="960" y="533"/>
                </a:lnTo>
                <a:lnTo>
                  <a:pt x="940" y="466"/>
                </a:lnTo>
                <a:lnTo>
                  <a:pt x="917" y="403"/>
                </a:lnTo>
                <a:lnTo>
                  <a:pt x="892" y="344"/>
                </a:lnTo>
                <a:lnTo>
                  <a:pt x="866" y="289"/>
                </a:lnTo>
                <a:lnTo>
                  <a:pt x="837" y="237"/>
                </a:lnTo>
                <a:lnTo>
                  <a:pt x="808" y="191"/>
                </a:lnTo>
                <a:lnTo>
                  <a:pt x="777" y="149"/>
                </a:lnTo>
                <a:lnTo>
                  <a:pt x="744" y="111"/>
                </a:lnTo>
                <a:lnTo>
                  <a:pt x="710" y="79"/>
                </a:lnTo>
                <a:lnTo>
                  <a:pt x="676" y="53"/>
                </a:lnTo>
                <a:lnTo>
                  <a:pt x="640" y="31"/>
                </a:lnTo>
                <a:lnTo>
                  <a:pt x="604" y="15"/>
                </a:lnTo>
                <a:lnTo>
                  <a:pt x="568" y="4"/>
                </a:lnTo>
                <a:lnTo>
                  <a:pt x="531" y="0"/>
                </a:lnTo>
                <a:lnTo>
                  <a:pt x="495" y="1"/>
                </a:lnTo>
                <a:lnTo>
                  <a:pt x="458" y="7"/>
                </a:lnTo>
                <a:lnTo>
                  <a:pt x="422" y="19"/>
                </a:lnTo>
                <a:lnTo>
                  <a:pt x="386" y="36"/>
                </a:lnTo>
                <a:lnTo>
                  <a:pt x="351" y="59"/>
                </a:lnTo>
                <a:lnTo>
                  <a:pt x="317" y="88"/>
                </a:lnTo>
                <a:lnTo>
                  <a:pt x="283" y="121"/>
                </a:lnTo>
                <a:lnTo>
                  <a:pt x="252" y="160"/>
                </a:lnTo>
                <a:lnTo>
                  <a:pt x="221" y="203"/>
                </a:lnTo>
                <a:lnTo>
                  <a:pt x="191" y="251"/>
                </a:lnTo>
                <a:lnTo>
                  <a:pt x="164" y="303"/>
                </a:lnTo>
                <a:lnTo>
                  <a:pt x="137" y="360"/>
                </a:lnTo>
                <a:lnTo>
                  <a:pt x="113" y="420"/>
                </a:lnTo>
                <a:lnTo>
                  <a:pt x="92" y="484"/>
                </a:lnTo>
                <a:lnTo>
                  <a:pt x="72" y="551"/>
                </a:lnTo>
                <a:lnTo>
                  <a:pt x="54" y="620"/>
                </a:lnTo>
                <a:lnTo>
                  <a:pt x="38" y="693"/>
                </a:lnTo>
                <a:lnTo>
                  <a:pt x="25" y="768"/>
                </a:lnTo>
                <a:lnTo>
                  <a:pt x="13" y="845"/>
                </a:lnTo>
                <a:lnTo>
                  <a:pt x="6" y="923"/>
                </a:lnTo>
                <a:lnTo>
                  <a:pt x="0" y="100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Line 6"/>
          <p:cNvSpPr/>
          <p:nvPr/>
        </p:nvSpPr>
        <p:spPr>
          <a:xfrm>
            <a:off x="2293920" y="1682640"/>
            <a:ext cx="250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2297160" y="3139920"/>
            <a:ext cx="2523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Freeform 8"/>
          <p:cNvSpPr/>
          <p:nvPr/>
        </p:nvSpPr>
        <p:spPr>
          <a:xfrm>
            <a:off x="2541600" y="1682640"/>
            <a:ext cx="195120" cy="1457280"/>
          </a:xfrm>
          <a:custGeom>
            <a:avLst/>
            <a:gdLst>
              <a:gd name="textAreaLeft" fmla="*/ 0 w 195120"/>
              <a:gd name="textAreaRight" fmla="*/ 195480 w 1951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529" h="2282">
                <a:moveTo>
                  <a:pt x="0" y="2282"/>
                </a:moveTo>
                <a:lnTo>
                  <a:pt x="36" y="2280"/>
                </a:lnTo>
                <a:lnTo>
                  <a:pt x="73" y="2272"/>
                </a:lnTo>
                <a:lnTo>
                  <a:pt x="109" y="2259"/>
                </a:lnTo>
                <a:lnTo>
                  <a:pt x="144" y="2241"/>
                </a:lnTo>
                <a:lnTo>
                  <a:pt x="179" y="2218"/>
                </a:lnTo>
                <a:lnTo>
                  <a:pt x="214" y="2190"/>
                </a:lnTo>
                <a:lnTo>
                  <a:pt x="247" y="2155"/>
                </a:lnTo>
                <a:lnTo>
                  <a:pt x="278" y="2115"/>
                </a:lnTo>
                <a:lnTo>
                  <a:pt x="309" y="2072"/>
                </a:lnTo>
                <a:lnTo>
                  <a:pt x="339" y="2023"/>
                </a:lnTo>
                <a:lnTo>
                  <a:pt x="366" y="1970"/>
                </a:lnTo>
                <a:lnTo>
                  <a:pt x="392" y="1913"/>
                </a:lnTo>
                <a:lnTo>
                  <a:pt x="415" y="1853"/>
                </a:lnTo>
                <a:lnTo>
                  <a:pt x="437" y="1788"/>
                </a:lnTo>
                <a:lnTo>
                  <a:pt x="457" y="1722"/>
                </a:lnTo>
                <a:lnTo>
                  <a:pt x="474" y="1651"/>
                </a:lnTo>
                <a:lnTo>
                  <a:pt x="490" y="1579"/>
                </a:lnTo>
                <a:lnTo>
                  <a:pt x="503" y="1503"/>
                </a:lnTo>
                <a:lnTo>
                  <a:pt x="514" y="1426"/>
                </a:lnTo>
                <a:lnTo>
                  <a:pt x="521" y="1349"/>
                </a:lnTo>
                <a:lnTo>
                  <a:pt x="526" y="1269"/>
                </a:lnTo>
                <a:lnTo>
                  <a:pt x="529" y="1189"/>
                </a:lnTo>
                <a:lnTo>
                  <a:pt x="529" y="1110"/>
                </a:lnTo>
                <a:lnTo>
                  <a:pt x="527" y="1029"/>
                </a:lnTo>
                <a:lnTo>
                  <a:pt x="523" y="950"/>
                </a:lnTo>
                <a:lnTo>
                  <a:pt x="516" y="871"/>
                </a:lnTo>
                <a:lnTo>
                  <a:pt x="505" y="795"/>
                </a:lnTo>
                <a:lnTo>
                  <a:pt x="493" y="719"/>
                </a:lnTo>
                <a:lnTo>
                  <a:pt x="479" y="646"/>
                </a:lnTo>
                <a:lnTo>
                  <a:pt x="462" y="575"/>
                </a:lnTo>
                <a:lnTo>
                  <a:pt x="442" y="507"/>
                </a:lnTo>
                <a:lnTo>
                  <a:pt x="420" y="443"/>
                </a:lnTo>
                <a:lnTo>
                  <a:pt x="397" y="380"/>
                </a:lnTo>
                <a:lnTo>
                  <a:pt x="372" y="323"/>
                </a:lnTo>
                <a:lnTo>
                  <a:pt x="345" y="269"/>
                </a:lnTo>
                <a:lnTo>
                  <a:pt x="316" y="219"/>
                </a:lnTo>
                <a:lnTo>
                  <a:pt x="286" y="175"/>
                </a:lnTo>
                <a:lnTo>
                  <a:pt x="254" y="134"/>
                </a:lnTo>
                <a:lnTo>
                  <a:pt x="221" y="99"/>
                </a:lnTo>
                <a:lnTo>
                  <a:pt x="187" y="69"/>
                </a:lnTo>
                <a:lnTo>
                  <a:pt x="152" y="44"/>
                </a:lnTo>
                <a:lnTo>
                  <a:pt x="116" y="24"/>
                </a:lnTo>
                <a:lnTo>
                  <a:pt x="80" y="11"/>
                </a:lnTo>
                <a:lnTo>
                  <a:pt x="44" y="2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Freeform 9"/>
          <p:cNvSpPr/>
          <p:nvPr/>
        </p:nvSpPr>
        <p:spPr>
          <a:xfrm>
            <a:off x="260280" y="2322360"/>
            <a:ext cx="77760" cy="176400"/>
          </a:xfrm>
          <a:custGeom>
            <a:avLst/>
            <a:gdLst>
              <a:gd name="textAreaLeft" fmla="*/ 0 w 77760"/>
              <a:gd name="textAreaRight" fmla="*/ 78120 w 7776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13" h="277">
                <a:moveTo>
                  <a:pt x="107" y="0"/>
                </a:moveTo>
                <a:lnTo>
                  <a:pt x="87" y="3"/>
                </a:lnTo>
                <a:lnTo>
                  <a:pt x="67" y="10"/>
                </a:lnTo>
                <a:lnTo>
                  <a:pt x="49" y="22"/>
                </a:lnTo>
                <a:lnTo>
                  <a:pt x="33" y="38"/>
                </a:lnTo>
                <a:lnTo>
                  <a:pt x="20" y="58"/>
                </a:lnTo>
                <a:lnTo>
                  <a:pt x="10" y="81"/>
                </a:lnTo>
                <a:lnTo>
                  <a:pt x="3" y="105"/>
                </a:lnTo>
                <a:lnTo>
                  <a:pt x="0" y="132"/>
                </a:lnTo>
                <a:lnTo>
                  <a:pt x="1" y="158"/>
                </a:lnTo>
                <a:lnTo>
                  <a:pt x="7" y="184"/>
                </a:lnTo>
                <a:lnTo>
                  <a:pt x="15" y="208"/>
                </a:lnTo>
                <a:lnTo>
                  <a:pt x="27" y="229"/>
                </a:lnTo>
                <a:lnTo>
                  <a:pt x="40" y="247"/>
                </a:lnTo>
                <a:lnTo>
                  <a:pt x="58" y="262"/>
                </a:lnTo>
                <a:lnTo>
                  <a:pt x="76" y="272"/>
                </a:lnTo>
                <a:lnTo>
                  <a:pt x="97" y="277"/>
                </a:lnTo>
                <a:lnTo>
                  <a:pt x="117" y="277"/>
                </a:lnTo>
                <a:lnTo>
                  <a:pt x="137" y="272"/>
                </a:lnTo>
                <a:lnTo>
                  <a:pt x="156" y="262"/>
                </a:lnTo>
                <a:lnTo>
                  <a:pt x="173" y="247"/>
                </a:lnTo>
                <a:lnTo>
                  <a:pt x="188" y="229"/>
                </a:lnTo>
                <a:lnTo>
                  <a:pt x="199" y="208"/>
                </a:lnTo>
                <a:lnTo>
                  <a:pt x="208" y="184"/>
                </a:lnTo>
                <a:lnTo>
                  <a:pt x="212" y="158"/>
                </a:lnTo>
                <a:lnTo>
                  <a:pt x="213" y="132"/>
                </a:lnTo>
                <a:lnTo>
                  <a:pt x="211" y="105"/>
                </a:lnTo>
                <a:lnTo>
                  <a:pt x="204" y="81"/>
                </a:lnTo>
                <a:lnTo>
                  <a:pt x="194" y="58"/>
                </a:lnTo>
                <a:lnTo>
                  <a:pt x="180" y="38"/>
                </a:lnTo>
                <a:lnTo>
                  <a:pt x="164" y="22"/>
                </a:lnTo>
                <a:lnTo>
                  <a:pt x="146" y="10"/>
                </a:lnTo>
                <a:lnTo>
                  <a:pt x="127" y="3"/>
                </a:lnTo>
                <a:lnTo>
                  <a:pt x="10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Freeform 10"/>
          <p:cNvSpPr/>
          <p:nvPr/>
        </p:nvSpPr>
        <p:spPr>
          <a:xfrm>
            <a:off x="4492800" y="2322360"/>
            <a:ext cx="79200" cy="176400"/>
          </a:xfrm>
          <a:custGeom>
            <a:avLst/>
            <a:gdLst>
              <a:gd name="textAreaLeft" fmla="*/ 0 w 79200"/>
              <a:gd name="textAreaRight" fmla="*/ 79560 w 7920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14" h="277">
                <a:moveTo>
                  <a:pt x="107" y="0"/>
                </a:moveTo>
                <a:lnTo>
                  <a:pt x="87" y="3"/>
                </a:lnTo>
                <a:lnTo>
                  <a:pt x="67" y="10"/>
                </a:lnTo>
                <a:lnTo>
                  <a:pt x="49" y="22"/>
                </a:lnTo>
                <a:lnTo>
                  <a:pt x="34" y="38"/>
                </a:lnTo>
                <a:lnTo>
                  <a:pt x="20" y="58"/>
                </a:lnTo>
                <a:lnTo>
                  <a:pt x="9" y="81"/>
                </a:lnTo>
                <a:lnTo>
                  <a:pt x="3" y="105"/>
                </a:lnTo>
                <a:lnTo>
                  <a:pt x="0" y="132"/>
                </a:lnTo>
                <a:lnTo>
                  <a:pt x="1" y="158"/>
                </a:lnTo>
                <a:lnTo>
                  <a:pt x="6" y="184"/>
                </a:lnTo>
                <a:lnTo>
                  <a:pt x="15" y="208"/>
                </a:lnTo>
                <a:lnTo>
                  <a:pt x="26" y="229"/>
                </a:lnTo>
                <a:lnTo>
                  <a:pt x="41" y="247"/>
                </a:lnTo>
                <a:lnTo>
                  <a:pt x="58" y="262"/>
                </a:lnTo>
                <a:lnTo>
                  <a:pt x="77" y="272"/>
                </a:lnTo>
                <a:lnTo>
                  <a:pt x="96" y="277"/>
                </a:lnTo>
                <a:lnTo>
                  <a:pt x="117" y="277"/>
                </a:lnTo>
                <a:lnTo>
                  <a:pt x="136" y="272"/>
                </a:lnTo>
                <a:lnTo>
                  <a:pt x="155" y="262"/>
                </a:lnTo>
                <a:lnTo>
                  <a:pt x="172" y="247"/>
                </a:lnTo>
                <a:lnTo>
                  <a:pt x="187" y="229"/>
                </a:lnTo>
                <a:lnTo>
                  <a:pt x="199" y="208"/>
                </a:lnTo>
                <a:lnTo>
                  <a:pt x="207" y="184"/>
                </a:lnTo>
                <a:lnTo>
                  <a:pt x="213" y="158"/>
                </a:lnTo>
                <a:lnTo>
                  <a:pt x="214" y="132"/>
                </a:lnTo>
                <a:lnTo>
                  <a:pt x="210" y="105"/>
                </a:lnTo>
                <a:lnTo>
                  <a:pt x="204" y="81"/>
                </a:lnTo>
                <a:lnTo>
                  <a:pt x="193" y="58"/>
                </a:lnTo>
                <a:lnTo>
                  <a:pt x="181" y="38"/>
                </a:lnTo>
                <a:lnTo>
                  <a:pt x="164" y="22"/>
                </a:lnTo>
                <a:lnTo>
                  <a:pt x="146" y="10"/>
                </a:lnTo>
                <a:lnTo>
                  <a:pt x="127" y="3"/>
                </a:lnTo>
                <a:lnTo>
                  <a:pt x="10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1"/>
          <p:cNvSpPr/>
          <p:nvPr/>
        </p:nvSpPr>
        <p:spPr>
          <a:xfrm>
            <a:off x="299880" y="2322360"/>
            <a:ext cx="64008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2"/>
          <p:cNvSpPr/>
          <p:nvPr/>
        </p:nvSpPr>
        <p:spPr>
          <a:xfrm>
            <a:off x="299880" y="2498760"/>
            <a:ext cx="6400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13"/>
          <p:cNvSpPr/>
          <p:nvPr/>
        </p:nvSpPr>
        <p:spPr>
          <a:xfrm>
            <a:off x="2292480" y="2322360"/>
            <a:ext cx="144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14"/>
          <p:cNvSpPr/>
          <p:nvPr/>
        </p:nvSpPr>
        <p:spPr>
          <a:xfrm>
            <a:off x="2292480" y="24987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Freeform 15"/>
          <p:cNvSpPr/>
          <p:nvPr/>
        </p:nvSpPr>
        <p:spPr>
          <a:xfrm>
            <a:off x="2292480" y="2322360"/>
            <a:ext cx="39600" cy="176400"/>
          </a:xfrm>
          <a:custGeom>
            <a:avLst/>
            <a:gdLst>
              <a:gd name="textAreaLeft" fmla="*/ 0 w 39600"/>
              <a:gd name="textAreaRight" fmla="*/ 39600 w 3960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08" h="277">
                <a:moveTo>
                  <a:pt x="0" y="277"/>
                </a:moveTo>
                <a:lnTo>
                  <a:pt x="14" y="276"/>
                </a:lnTo>
                <a:lnTo>
                  <a:pt x="28" y="273"/>
                </a:lnTo>
                <a:lnTo>
                  <a:pt x="41" y="267"/>
                </a:lnTo>
                <a:lnTo>
                  <a:pt x="52" y="261"/>
                </a:lnTo>
                <a:lnTo>
                  <a:pt x="64" y="252"/>
                </a:lnTo>
                <a:lnTo>
                  <a:pt x="75" y="240"/>
                </a:lnTo>
                <a:lnTo>
                  <a:pt x="84" y="227"/>
                </a:lnTo>
                <a:lnTo>
                  <a:pt x="91" y="213"/>
                </a:lnTo>
                <a:lnTo>
                  <a:pt x="99" y="199"/>
                </a:lnTo>
                <a:lnTo>
                  <a:pt x="103" y="182"/>
                </a:lnTo>
                <a:lnTo>
                  <a:pt x="107" y="165"/>
                </a:lnTo>
                <a:lnTo>
                  <a:pt x="108" y="148"/>
                </a:lnTo>
                <a:lnTo>
                  <a:pt x="108" y="130"/>
                </a:lnTo>
                <a:lnTo>
                  <a:pt x="107" y="113"/>
                </a:lnTo>
                <a:lnTo>
                  <a:pt x="104" y="96"/>
                </a:lnTo>
                <a:lnTo>
                  <a:pt x="99" y="79"/>
                </a:lnTo>
                <a:lnTo>
                  <a:pt x="93" y="64"/>
                </a:lnTo>
                <a:lnTo>
                  <a:pt x="84" y="50"/>
                </a:lnTo>
                <a:lnTo>
                  <a:pt x="76" y="38"/>
                </a:lnTo>
                <a:lnTo>
                  <a:pt x="65" y="26"/>
                </a:lnTo>
                <a:lnTo>
                  <a:pt x="53" y="17"/>
                </a:lnTo>
                <a:lnTo>
                  <a:pt x="41" y="9"/>
                </a:lnTo>
                <a:lnTo>
                  <a:pt x="28" y="4"/>
                </a:lnTo>
                <a:lnTo>
                  <a:pt x="15" y="1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Freeform 16"/>
          <p:cNvSpPr/>
          <p:nvPr/>
        </p:nvSpPr>
        <p:spPr>
          <a:xfrm>
            <a:off x="1087560" y="2008080"/>
            <a:ext cx="117360" cy="874800"/>
          </a:xfrm>
          <a:custGeom>
            <a:avLst/>
            <a:gdLst>
              <a:gd name="textAreaLeft" fmla="*/ 0 w 117360"/>
              <a:gd name="textAreaRight" fmla="*/ 117720 w 11736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318" h="1369">
                <a:moveTo>
                  <a:pt x="0" y="1369"/>
                </a:moveTo>
                <a:lnTo>
                  <a:pt x="29" y="1367"/>
                </a:lnTo>
                <a:lnTo>
                  <a:pt x="56" y="1360"/>
                </a:lnTo>
                <a:lnTo>
                  <a:pt x="84" y="1347"/>
                </a:lnTo>
                <a:lnTo>
                  <a:pt x="111" y="1329"/>
                </a:lnTo>
                <a:lnTo>
                  <a:pt x="137" y="1306"/>
                </a:lnTo>
                <a:lnTo>
                  <a:pt x="162" y="1277"/>
                </a:lnTo>
                <a:lnTo>
                  <a:pt x="185" y="1243"/>
                </a:lnTo>
                <a:lnTo>
                  <a:pt x="208" y="1206"/>
                </a:lnTo>
                <a:lnTo>
                  <a:pt x="229" y="1164"/>
                </a:lnTo>
                <a:lnTo>
                  <a:pt x="248" y="1117"/>
                </a:lnTo>
                <a:lnTo>
                  <a:pt x="265" y="1069"/>
                </a:lnTo>
                <a:lnTo>
                  <a:pt x="280" y="1016"/>
                </a:lnTo>
                <a:lnTo>
                  <a:pt x="291" y="961"/>
                </a:lnTo>
                <a:lnTo>
                  <a:pt x="302" y="902"/>
                </a:lnTo>
                <a:lnTo>
                  <a:pt x="309" y="843"/>
                </a:lnTo>
                <a:lnTo>
                  <a:pt x="315" y="783"/>
                </a:lnTo>
                <a:lnTo>
                  <a:pt x="318" y="721"/>
                </a:lnTo>
                <a:lnTo>
                  <a:pt x="318" y="659"/>
                </a:lnTo>
                <a:lnTo>
                  <a:pt x="316" y="598"/>
                </a:lnTo>
                <a:lnTo>
                  <a:pt x="310" y="537"/>
                </a:lnTo>
                <a:lnTo>
                  <a:pt x="303" y="478"/>
                </a:lnTo>
                <a:lnTo>
                  <a:pt x="293" y="420"/>
                </a:lnTo>
                <a:lnTo>
                  <a:pt x="282" y="364"/>
                </a:lnTo>
                <a:lnTo>
                  <a:pt x="267" y="311"/>
                </a:lnTo>
                <a:lnTo>
                  <a:pt x="251" y="261"/>
                </a:lnTo>
                <a:lnTo>
                  <a:pt x="232" y="214"/>
                </a:lnTo>
                <a:lnTo>
                  <a:pt x="212" y="171"/>
                </a:lnTo>
                <a:lnTo>
                  <a:pt x="190" y="133"/>
                </a:lnTo>
                <a:lnTo>
                  <a:pt x="166" y="98"/>
                </a:lnTo>
                <a:lnTo>
                  <a:pt x="141" y="69"/>
                </a:lnTo>
                <a:lnTo>
                  <a:pt x="116" y="45"/>
                </a:lnTo>
                <a:lnTo>
                  <a:pt x="89" y="25"/>
                </a:lnTo>
                <a:lnTo>
                  <a:pt x="62" y="11"/>
                </a:lnTo>
                <a:lnTo>
                  <a:pt x="33" y="4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17"/>
          <p:cNvSpPr/>
          <p:nvPr/>
        </p:nvSpPr>
        <p:spPr>
          <a:xfrm>
            <a:off x="939960" y="2008080"/>
            <a:ext cx="15048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Freeform 18"/>
          <p:cNvSpPr/>
          <p:nvPr/>
        </p:nvSpPr>
        <p:spPr>
          <a:xfrm>
            <a:off x="825480" y="2008080"/>
            <a:ext cx="230040" cy="874800"/>
          </a:xfrm>
          <a:custGeom>
            <a:avLst/>
            <a:gdLst>
              <a:gd name="textAreaLeft" fmla="*/ 0 w 230040"/>
              <a:gd name="textAreaRight" fmla="*/ 230400 w 23004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624" h="1369">
                <a:moveTo>
                  <a:pt x="0" y="768"/>
                </a:moveTo>
                <a:lnTo>
                  <a:pt x="6" y="829"/>
                </a:lnTo>
                <a:lnTo>
                  <a:pt x="12" y="889"/>
                </a:lnTo>
                <a:lnTo>
                  <a:pt x="22" y="947"/>
                </a:lnTo>
                <a:lnTo>
                  <a:pt x="34" y="1003"/>
                </a:lnTo>
                <a:lnTo>
                  <a:pt x="48" y="1056"/>
                </a:lnTo>
                <a:lnTo>
                  <a:pt x="65" y="1107"/>
                </a:lnTo>
                <a:lnTo>
                  <a:pt x="83" y="1153"/>
                </a:lnTo>
                <a:lnTo>
                  <a:pt x="103" y="1197"/>
                </a:lnTo>
                <a:lnTo>
                  <a:pt x="125" y="1236"/>
                </a:lnTo>
                <a:lnTo>
                  <a:pt x="149" y="1270"/>
                </a:lnTo>
                <a:lnTo>
                  <a:pt x="174" y="1300"/>
                </a:lnTo>
                <a:lnTo>
                  <a:pt x="199" y="1325"/>
                </a:lnTo>
                <a:lnTo>
                  <a:pt x="227" y="1344"/>
                </a:lnTo>
                <a:lnTo>
                  <a:pt x="254" y="1358"/>
                </a:lnTo>
                <a:lnTo>
                  <a:pt x="282" y="1366"/>
                </a:lnTo>
                <a:lnTo>
                  <a:pt x="311" y="1369"/>
                </a:lnTo>
                <a:lnTo>
                  <a:pt x="339" y="1367"/>
                </a:lnTo>
                <a:lnTo>
                  <a:pt x="367" y="1359"/>
                </a:lnTo>
                <a:lnTo>
                  <a:pt x="394" y="1345"/>
                </a:lnTo>
                <a:lnTo>
                  <a:pt x="422" y="1326"/>
                </a:lnTo>
                <a:lnTo>
                  <a:pt x="447" y="1302"/>
                </a:lnTo>
                <a:lnTo>
                  <a:pt x="473" y="1272"/>
                </a:lnTo>
                <a:lnTo>
                  <a:pt x="496" y="1238"/>
                </a:lnTo>
                <a:lnTo>
                  <a:pt x="518" y="1200"/>
                </a:lnTo>
                <a:lnTo>
                  <a:pt x="538" y="1157"/>
                </a:lnTo>
                <a:lnTo>
                  <a:pt x="557" y="1110"/>
                </a:lnTo>
                <a:lnTo>
                  <a:pt x="573" y="1060"/>
                </a:lnTo>
                <a:lnTo>
                  <a:pt x="588" y="1007"/>
                </a:lnTo>
                <a:lnTo>
                  <a:pt x="600" y="951"/>
                </a:lnTo>
                <a:lnTo>
                  <a:pt x="610" y="893"/>
                </a:lnTo>
                <a:lnTo>
                  <a:pt x="618" y="834"/>
                </a:lnTo>
                <a:lnTo>
                  <a:pt x="622" y="772"/>
                </a:lnTo>
                <a:lnTo>
                  <a:pt x="624" y="711"/>
                </a:lnTo>
                <a:lnTo>
                  <a:pt x="624" y="648"/>
                </a:lnTo>
                <a:lnTo>
                  <a:pt x="622" y="587"/>
                </a:lnTo>
                <a:lnTo>
                  <a:pt x="617" y="527"/>
                </a:lnTo>
                <a:lnTo>
                  <a:pt x="608" y="467"/>
                </a:lnTo>
                <a:lnTo>
                  <a:pt x="599" y="409"/>
                </a:lnTo>
                <a:lnTo>
                  <a:pt x="586" y="354"/>
                </a:lnTo>
                <a:lnTo>
                  <a:pt x="571" y="301"/>
                </a:lnTo>
                <a:lnTo>
                  <a:pt x="554" y="251"/>
                </a:lnTo>
                <a:lnTo>
                  <a:pt x="535" y="206"/>
                </a:lnTo>
                <a:lnTo>
                  <a:pt x="514" y="163"/>
                </a:lnTo>
                <a:lnTo>
                  <a:pt x="492" y="125"/>
                </a:lnTo>
                <a:lnTo>
                  <a:pt x="468" y="92"/>
                </a:lnTo>
                <a:lnTo>
                  <a:pt x="443" y="64"/>
                </a:lnTo>
                <a:lnTo>
                  <a:pt x="416" y="41"/>
                </a:lnTo>
                <a:lnTo>
                  <a:pt x="390" y="22"/>
                </a:lnTo>
                <a:lnTo>
                  <a:pt x="362" y="9"/>
                </a:lnTo>
                <a:lnTo>
                  <a:pt x="334" y="2"/>
                </a:lnTo>
                <a:lnTo>
                  <a:pt x="305" y="0"/>
                </a:lnTo>
                <a:lnTo>
                  <a:pt x="278" y="5"/>
                </a:lnTo>
                <a:lnTo>
                  <a:pt x="249" y="14"/>
                </a:lnTo>
                <a:lnTo>
                  <a:pt x="222" y="29"/>
                </a:lnTo>
                <a:lnTo>
                  <a:pt x="195" y="49"/>
                </a:lnTo>
                <a:lnTo>
                  <a:pt x="170" y="74"/>
                </a:lnTo>
                <a:lnTo>
                  <a:pt x="144" y="105"/>
                </a:lnTo>
                <a:lnTo>
                  <a:pt x="122" y="140"/>
                </a:lnTo>
                <a:lnTo>
                  <a:pt x="100" y="180"/>
                </a:lnTo>
                <a:lnTo>
                  <a:pt x="80" y="224"/>
                </a:lnTo>
                <a:lnTo>
                  <a:pt x="62" y="271"/>
                </a:lnTo>
                <a:lnTo>
                  <a:pt x="46" y="322"/>
                </a:lnTo>
                <a:lnTo>
                  <a:pt x="32" y="376"/>
                </a:lnTo>
                <a:lnTo>
                  <a:pt x="20" y="432"/>
                </a:lnTo>
                <a:lnTo>
                  <a:pt x="11" y="4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19"/>
          <p:cNvSpPr/>
          <p:nvPr/>
        </p:nvSpPr>
        <p:spPr>
          <a:xfrm>
            <a:off x="941400" y="2882880"/>
            <a:ext cx="150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Freeform 20"/>
          <p:cNvSpPr/>
          <p:nvPr/>
        </p:nvSpPr>
        <p:spPr>
          <a:xfrm>
            <a:off x="3722760" y="1974960"/>
            <a:ext cx="117360" cy="873000"/>
          </a:xfrm>
          <a:custGeom>
            <a:avLst/>
            <a:gdLst>
              <a:gd name="textAreaLeft" fmla="*/ 0 w 117360"/>
              <a:gd name="textAreaRight" fmla="*/ 117720 w 11736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317" h="1369">
                <a:moveTo>
                  <a:pt x="0" y="1369"/>
                </a:moveTo>
                <a:lnTo>
                  <a:pt x="26" y="1367"/>
                </a:lnTo>
                <a:lnTo>
                  <a:pt x="53" y="1361"/>
                </a:lnTo>
                <a:lnTo>
                  <a:pt x="79" y="1349"/>
                </a:lnTo>
                <a:lnTo>
                  <a:pt x="104" y="1333"/>
                </a:lnTo>
                <a:lnTo>
                  <a:pt x="129" y="1312"/>
                </a:lnTo>
                <a:lnTo>
                  <a:pt x="153" y="1287"/>
                </a:lnTo>
                <a:lnTo>
                  <a:pt x="176" y="1256"/>
                </a:lnTo>
                <a:lnTo>
                  <a:pt x="198" y="1222"/>
                </a:lnTo>
                <a:lnTo>
                  <a:pt x="218" y="1184"/>
                </a:lnTo>
                <a:lnTo>
                  <a:pt x="237" y="1143"/>
                </a:lnTo>
                <a:lnTo>
                  <a:pt x="254" y="1097"/>
                </a:lnTo>
                <a:lnTo>
                  <a:pt x="270" y="1050"/>
                </a:lnTo>
                <a:lnTo>
                  <a:pt x="282" y="999"/>
                </a:lnTo>
                <a:lnTo>
                  <a:pt x="294" y="946"/>
                </a:lnTo>
                <a:lnTo>
                  <a:pt x="302" y="891"/>
                </a:lnTo>
                <a:lnTo>
                  <a:pt x="310" y="835"/>
                </a:lnTo>
                <a:lnTo>
                  <a:pt x="314" y="777"/>
                </a:lnTo>
                <a:lnTo>
                  <a:pt x="317" y="719"/>
                </a:lnTo>
                <a:lnTo>
                  <a:pt x="317" y="661"/>
                </a:lnTo>
                <a:lnTo>
                  <a:pt x="315" y="603"/>
                </a:lnTo>
                <a:lnTo>
                  <a:pt x="311" y="545"/>
                </a:lnTo>
                <a:lnTo>
                  <a:pt x="305" y="488"/>
                </a:lnTo>
                <a:lnTo>
                  <a:pt x="295" y="433"/>
                </a:lnTo>
                <a:lnTo>
                  <a:pt x="284" y="379"/>
                </a:lnTo>
                <a:lnTo>
                  <a:pt x="272" y="329"/>
                </a:lnTo>
                <a:lnTo>
                  <a:pt x="257" y="280"/>
                </a:lnTo>
                <a:lnTo>
                  <a:pt x="240" y="234"/>
                </a:lnTo>
                <a:lnTo>
                  <a:pt x="222" y="192"/>
                </a:lnTo>
                <a:lnTo>
                  <a:pt x="202" y="153"/>
                </a:lnTo>
                <a:lnTo>
                  <a:pt x="181" y="119"/>
                </a:lnTo>
                <a:lnTo>
                  <a:pt x="157" y="87"/>
                </a:lnTo>
                <a:lnTo>
                  <a:pt x="134" y="62"/>
                </a:lnTo>
                <a:lnTo>
                  <a:pt x="109" y="39"/>
                </a:lnTo>
                <a:lnTo>
                  <a:pt x="83" y="23"/>
                </a:lnTo>
                <a:lnTo>
                  <a:pt x="57" y="10"/>
                </a:lnTo>
                <a:lnTo>
                  <a:pt x="30" y="2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21"/>
          <p:cNvSpPr/>
          <p:nvPr/>
        </p:nvSpPr>
        <p:spPr>
          <a:xfrm>
            <a:off x="3573360" y="2847960"/>
            <a:ext cx="150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Freeform 22"/>
          <p:cNvSpPr/>
          <p:nvPr/>
        </p:nvSpPr>
        <p:spPr>
          <a:xfrm>
            <a:off x="3459240" y="1974960"/>
            <a:ext cx="226800" cy="873000"/>
          </a:xfrm>
          <a:custGeom>
            <a:avLst/>
            <a:gdLst>
              <a:gd name="textAreaLeft" fmla="*/ 0 w 226800"/>
              <a:gd name="textAreaRight" fmla="*/ 227160 w 22680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619" h="1369">
                <a:moveTo>
                  <a:pt x="0" y="823"/>
                </a:moveTo>
                <a:lnTo>
                  <a:pt x="6" y="883"/>
                </a:lnTo>
                <a:lnTo>
                  <a:pt x="16" y="942"/>
                </a:lnTo>
                <a:lnTo>
                  <a:pt x="28" y="998"/>
                </a:lnTo>
                <a:lnTo>
                  <a:pt x="42" y="1052"/>
                </a:lnTo>
                <a:lnTo>
                  <a:pt x="58" y="1101"/>
                </a:lnTo>
                <a:lnTo>
                  <a:pt x="76" y="1149"/>
                </a:lnTo>
                <a:lnTo>
                  <a:pt x="96" y="1193"/>
                </a:lnTo>
                <a:lnTo>
                  <a:pt x="119" y="1232"/>
                </a:lnTo>
                <a:lnTo>
                  <a:pt x="142" y="1267"/>
                </a:lnTo>
                <a:lnTo>
                  <a:pt x="166" y="1297"/>
                </a:lnTo>
                <a:lnTo>
                  <a:pt x="193" y="1322"/>
                </a:lnTo>
                <a:lnTo>
                  <a:pt x="219" y="1342"/>
                </a:lnTo>
                <a:lnTo>
                  <a:pt x="247" y="1357"/>
                </a:lnTo>
                <a:lnTo>
                  <a:pt x="275" y="1365"/>
                </a:lnTo>
                <a:lnTo>
                  <a:pt x="303" y="1369"/>
                </a:lnTo>
                <a:lnTo>
                  <a:pt x="331" y="1367"/>
                </a:lnTo>
                <a:lnTo>
                  <a:pt x="359" y="1359"/>
                </a:lnTo>
                <a:lnTo>
                  <a:pt x="388" y="1346"/>
                </a:lnTo>
                <a:lnTo>
                  <a:pt x="414" y="1327"/>
                </a:lnTo>
                <a:lnTo>
                  <a:pt x="441" y="1304"/>
                </a:lnTo>
                <a:lnTo>
                  <a:pt x="465" y="1275"/>
                </a:lnTo>
                <a:lnTo>
                  <a:pt x="489" y="1241"/>
                </a:lnTo>
                <a:lnTo>
                  <a:pt x="511" y="1203"/>
                </a:lnTo>
                <a:lnTo>
                  <a:pt x="532" y="1161"/>
                </a:lnTo>
                <a:lnTo>
                  <a:pt x="551" y="1114"/>
                </a:lnTo>
                <a:lnTo>
                  <a:pt x="568" y="1064"/>
                </a:lnTo>
                <a:lnTo>
                  <a:pt x="582" y="1011"/>
                </a:lnTo>
                <a:lnTo>
                  <a:pt x="594" y="955"/>
                </a:lnTo>
                <a:lnTo>
                  <a:pt x="605" y="897"/>
                </a:lnTo>
                <a:lnTo>
                  <a:pt x="612" y="838"/>
                </a:lnTo>
                <a:lnTo>
                  <a:pt x="617" y="777"/>
                </a:lnTo>
                <a:lnTo>
                  <a:pt x="619" y="715"/>
                </a:lnTo>
                <a:lnTo>
                  <a:pt x="619" y="654"/>
                </a:lnTo>
                <a:lnTo>
                  <a:pt x="617" y="592"/>
                </a:lnTo>
                <a:lnTo>
                  <a:pt x="612" y="531"/>
                </a:lnTo>
                <a:lnTo>
                  <a:pt x="605" y="471"/>
                </a:lnTo>
                <a:lnTo>
                  <a:pt x="594" y="413"/>
                </a:lnTo>
                <a:lnTo>
                  <a:pt x="582" y="358"/>
                </a:lnTo>
                <a:lnTo>
                  <a:pt x="568" y="305"/>
                </a:lnTo>
                <a:lnTo>
                  <a:pt x="551" y="255"/>
                </a:lnTo>
                <a:lnTo>
                  <a:pt x="532" y="209"/>
                </a:lnTo>
                <a:lnTo>
                  <a:pt x="511" y="167"/>
                </a:lnTo>
                <a:lnTo>
                  <a:pt x="489" y="128"/>
                </a:lnTo>
                <a:lnTo>
                  <a:pt x="465" y="95"/>
                </a:lnTo>
                <a:lnTo>
                  <a:pt x="441" y="65"/>
                </a:lnTo>
                <a:lnTo>
                  <a:pt x="414" y="42"/>
                </a:lnTo>
                <a:lnTo>
                  <a:pt x="388" y="23"/>
                </a:lnTo>
                <a:lnTo>
                  <a:pt x="359" y="10"/>
                </a:lnTo>
                <a:lnTo>
                  <a:pt x="331" y="2"/>
                </a:lnTo>
                <a:lnTo>
                  <a:pt x="303" y="0"/>
                </a:lnTo>
                <a:lnTo>
                  <a:pt x="275" y="3"/>
                </a:lnTo>
                <a:lnTo>
                  <a:pt x="247" y="12"/>
                </a:lnTo>
                <a:lnTo>
                  <a:pt x="219" y="27"/>
                </a:lnTo>
                <a:lnTo>
                  <a:pt x="193" y="47"/>
                </a:lnTo>
                <a:lnTo>
                  <a:pt x="166" y="72"/>
                </a:lnTo>
                <a:lnTo>
                  <a:pt x="142" y="102"/>
                </a:lnTo>
                <a:lnTo>
                  <a:pt x="119" y="137"/>
                </a:lnTo>
                <a:lnTo>
                  <a:pt x="96" y="176"/>
                </a:lnTo>
                <a:lnTo>
                  <a:pt x="76" y="219"/>
                </a:lnTo>
                <a:lnTo>
                  <a:pt x="58" y="267"/>
                </a:lnTo>
                <a:lnTo>
                  <a:pt x="42" y="318"/>
                </a:lnTo>
                <a:lnTo>
                  <a:pt x="28" y="371"/>
                </a:lnTo>
                <a:lnTo>
                  <a:pt x="16" y="428"/>
                </a:lnTo>
                <a:lnTo>
                  <a:pt x="6" y="486"/>
                </a:lnTo>
                <a:lnTo>
                  <a:pt x="0" y="5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23"/>
          <p:cNvSpPr/>
          <p:nvPr/>
        </p:nvSpPr>
        <p:spPr>
          <a:xfrm>
            <a:off x="3571920" y="1974960"/>
            <a:ext cx="150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Freeform 24"/>
          <p:cNvSpPr/>
          <p:nvPr/>
        </p:nvSpPr>
        <p:spPr>
          <a:xfrm>
            <a:off x="939960" y="2322360"/>
            <a:ext cx="39600" cy="176400"/>
          </a:xfrm>
          <a:custGeom>
            <a:avLst/>
            <a:gdLst>
              <a:gd name="textAreaLeft" fmla="*/ 0 w 39600"/>
              <a:gd name="textAreaRight" fmla="*/ 39600 w 3960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08" h="277">
                <a:moveTo>
                  <a:pt x="0" y="277"/>
                </a:moveTo>
                <a:lnTo>
                  <a:pt x="20" y="275"/>
                </a:lnTo>
                <a:lnTo>
                  <a:pt x="39" y="269"/>
                </a:lnTo>
                <a:lnTo>
                  <a:pt x="57" y="257"/>
                </a:lnTo>
                <a:lnTo>
                  <a:pt x="73" y="242"/>
                </a:lnTo>
                <a:lnTo>
                  <a:pt x="86" y="223"/>
                </a:lnTo>
                <a:lnTo>
                  <a:pt x="97" y="201"/>
                </a:lnTo>
                <a:lnTo>
                  <a:pt x="103" y="177"/>
                </a:lnTo>
                <a:lnTo>
                  <a:pt x="108" y="152"/>
                </a:lnTo>
                <a:lnTo>
                  <a:pt x="108" y="127"/>
                </a:lnTo>
                <a:lnTo>
                  <a:pt x="104" y="101"/>
                </a:lnTo>
                <a:lnTo>
                  <a:pt x="97" y="77"/>
                </a:lnTo>
                <a:lnTo>
                  <a:pt x="86" y="55"/>
                </a:lnTo>
                <a:lnTo>
                  <a:pt x="73" y="36"/>
                </a:lnTo>
                <a:lnTo>
                  <a:pt x="57" y="21"/>
                </a:lnTo>
                <a:lnTo>
                  <a:pt x="40" y="9"/>
                </a:lnTo>
                <a:lnTo>
                  <a:pt x="21" y="2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25"/>
          <p:cNvSpPr/>
          <p:nvPr/>
        </p:nvSpPr>
        <p:spPr>
          <a:xfrm>
            <a:off x="1204920" y="2498760"/>
            <a:ext cx="10875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26"/>
          <p:cNvSpPr/>
          <p:nvPr/>
        </p:nvSpPr>
        <p:spPr>
          <a:xfrm>
            <a:off x="1201680" y="2322360"/>
            <a:ext cx="109080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27"/>
          <p:cNvSpPr/>
          <p:nvPr/>
        </p:nvSpPr>
        <p:spPr>
          <a:xfrm>
            <a:off x="2736720" y="2322360"/>
            <a:ext cx="83520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28"/>
          <p:cNvSpPr/>
          <p:nvPr/>
        </p:nvSpPr>
        <p:spPr>
          <a:xfrm>
            <a:off x="2736720" y="2498760"/>
            <a:ext cx="8352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3571920" y="2322360"/>
            <a:ext cx="39600" cy="176400"/>
          </a:xfrm>
          <a:custGeom>
            <a:avLst/>
            <a:gdLst>
              <a:gd name="textAreaLeft" fmla="*/ 0 w 39600"/>
              <a:gd name="textAreaRight" fmla="*/ 39600 w 3960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08" h="277">
                <a:moveTo>
                  <a:pt x="0" y="277"/>
                </a:moveTo>
                <a:lnTo>
                  <a:pt x="19" y="275"/>
                </a:lnTo>
                <a:lnTo>
                  <a:pt x="39" y="269"/>
                </a:lnTo>
                <a:lnTo>
                  <a:pt x="56" y="257"/>
                </a:lnTo>
                <a:lnTo>
                  <a:pt x="73" y="242"/>
                </a:lnTo>
                <a:lnTo>
                  <a:pt x="86" y="223"/>
                </a:lnTo>
                <a:lnTo>
                  <a:pt x="96" y="201"/>
                </a:lnTo>
                <a:lnTo>
                  <a:pt x="104" y="177"/>
                </a:lnTo>
                <a:lnTo>
                  <a:pt x="108" y="152"/>
                </a:lnTo>
                <a:lnTo>
                  <a:pt x="108" y="127"/>
                </a:lnTo>
                <a:lnTo>
                  <a:pt x="104" y="101"/>
                </a:lnTo>
                <a:lnTo>
                  <a:pt x="97" y="77"/>
                </a:lnTo>
                <a:lnTo>
                  <a:pt x="87" y="55"/>
                </a:lnTo>
                <a:lnTo>
                  <a:pt x="73" y="36"/>
                </a:lnTo>
                <a:lnTo>
                  <a:pt x="57" y="21"/>
                </a:lnTo>
                <a:lnTo>
                  <a:pt x="39" y="9"/>
                </a:lnTo>
                <a:lnTo>
                  <a:pt x="20" y="2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30"/>
          <p:cNvSpPr/>
          <p:nvPr/>
        </p:nvSpPr>
        <p:spPr>
          <a:xfrm>
            <a:off x="3836880" y="2322360"/>
            <a:ext cx="69552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Line 31"/>
          <p:cNvSpPr/>
          <p:nvPr/>
        </p:nvSpPr>
        <p:spPr>
          <a:xfrm>
            <a:off x="3836880" y="2498760"/>
            <a:ext cx="6955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32"/>
          <p:cNvSpPr/>
          <p:nvPr/>
        </p:nvSpPr>
        <p:spPr>
          <a:xfrm flipV="1">
            <a:off x="372960" y="2065320"/>
            <a:ext cx="3168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33"/>
          <p:cNvSpPr/>
          <p:nvPr/>
        </p:nvSpPr>
        <p:spPr>
          <a:xfrm flipV="1">
            <a:off x="372960" y="2064960"/>
            <a:ext cx="100080" cy="1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34"/>
          <p:cNvSpPr/>
          <p:nvPr/>
        </p:nvSpPr>
        <p:spPr>
          <a:xfrm flipV="1">
            <a:off x="430200" y="2065320"/>
            <a:ext cx="10944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35"/>
          <p:cNvSpPr/>
          <p:nvPr/>
        </p:nvSpPr>
        <p:spPr>
          <a:xfrm flipV="1">
            <a:off x="496800" y="2065320"/>
            <a:ext cx="10980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36"/>
          <p:cNvSpPr/>
          <p:nvPr/>
        </p:nvSpPr>
        <p:spPr>
          <a:xfrm flipV="1">
            <a:off x="372960" y="2563920"/>
            <a:ext cx="1296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37"/>
          <p:cNvSpPr/>
          <p:nvPr/>
        </p:nvSpPr>
        <p:spPr>
          <a:xfrm flipV="1">
            <a:off x="565200" y="2161800"/>
            <a:ext cx="54000" cy="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38"/>
          <p:cNvSpPr/>
          <p:nvPr/>
        </p:nvSpPr>
        <p:spPr>
          <a:xfrm flipV="1">
            <a:off x="372960" y="2563560"/>
            <a:ext cx="795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39"/>
          <p:cNvSpPr/>
          <p:nvPr/>
        </p:nvSpPr>
        <p:spPr>
          <a:xfrm flipV="1">
            <a:off x="412920" y="2563920"/>
            <a:ext cx="109440" cy="18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40"/>
          <p:cNvSpPr/>
          <p:nvPr/>
        </p:nvSpPr>
        <p:spPr>
          <a:xfrm flipV="1">
            <a:off x="479520" y="2563920"/>
            <a:ext cx="108000" cy="18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Line 41"/>
          <p:cNvSpPr/>
          <p:nvPr/>
        </p:nvSpPr>
        <p:spPr>
          <a:xfrm flipV="1">
            <a:off x="546120" y="2628720"/>
            <a:ext cx="73080" cy="12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42"/>
          <p:cNvSpPr/>
          <p:nvPr/>
        </p:nvSpPr>
        <p:spPr>
          <a:xfrm flipV="1">
            <a:off x="614520" y="2744640"/>
            <a:ext cx="468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43"/>
          <p:cNvSpPr/>
          <p:nvPr/>
        </p:nvSpPr>
        <p:spPr>
          <a:xfrm flipV="1">
            <a:off x="4233960" y="2065320"/>
            <a:ext cx="666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44"/>
          <p:cNvSpPr/>
          <p:nvPr/>
        </p:nvSpPr>
        <p:spPr>
          <a:xfrm flipV="1">
            <a:off x="4257720" y="2065320"/>
            <a:ext cx="10800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45"/>
          <p:cNvSpPr/>
          <p:nvPr/>
        </p:nvSpPr>
        <p:spPr>
          <a:xfrm flipV="1">
            <a:off x="4325760" y="2065320"/>
            <a:ext cx="10980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Line 46"/>
          <p:cNvSpPr/>
          <p:nvPr/>
        </p:nvSpPr>
        <p:spPr>
          <a:xfrm flipV="1">
            <a:off x="4392720" y="2107800"/>
            <a:ext cx="83880" cy="14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47"/>
          <p:cNvSpPr/>
          <p:nvPr/>
        </p:nvSpPr>
        <p:spPr>
          <a:xfrm flipV="1">
            <a:off x="4233960" y="2563920"/>
            <a:ext cx="4752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48"/>
          <p:cNvSpPr/>
          <p:nvPr/>
        </p:nvSpPr>
        <p:spPr>
          <a:xfrm flipV="1">
            <a:off x="4459320" y="2227320"/>
            <a:ext cx="1728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49"/>
          <p:cNvSpPr/>
          <p:nvPr/>
        </p:nvSpPr>
        <p:spPr>
          <a:xfrm flipV="1">
            <a:off x="4240080" y="2563920"/>
            <a:ext cx="108000" cy="18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Line 50"/>
          <p:cNvSpPr/>
          <p:nvPr/>
        </p:nvSpPr>
        <p:spPr>
          <a:xfrm flipV="1">
            <a:off x="4307040" y="2563920"/>
            <a:ext cx="109440" cy="18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Line 51"/>
          <p:cNvSpPr/>
          <p:nvPr/>
        </p:nvSpPr>
        <p:spPr>
          <a:xfrm flipV="1">
            <a:off x="4375080" y="2576160"/>
            <a:ext cx="101520" cy="17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52"/>
          <p:cNvSpPr/>
          <p:nvPr/>
        </p:nvSpPr>
        <p:spPr>
          <a:xfrm flipV="1">
            <a:off x="4441680" y="2690640"/>
            <a:ext cx="3492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53"/>
          <p:cNvSpPr/>
          <p:nvPr/>
        </p:nvSpPr>
        <p:spPr>
          <a:xfrm flipH="1">
            <a:off x="372960" y="2257560"/>
            <a:ext cx="2462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Line 54"/>
          <p:cNvSpPr/>
          <p:nvPr/>
        </p:nvSpPr>
        <p:spPr>
          <a:xfrm flipH="1">
            <a:off x="4233960" y="2257560"/>
            <a:ext cx="2426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Line 55"/>
          <p:cNvSpPr/>
          <p:nvPr/>
        </p:nvSpPr>
        <p:spPr>
          <a:xfrm flipH="1">
            <a:off x="372960" y="2563920"/>
            <a:ext cx="2462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Line 56"/>
          <p:cNvSpPr/>
          <p:nvPr/>
        </p:nvSpPr>
        <p:spPr>
          <a:xfrm flipH="1">
            <a:off x="4233960" y="2563920"/>
            <a:ext cx="2426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Freeform 57"/>
          <p:cNvSpPr/>
          <p:nvPr/>
        </p:nvSpPr>
        <p:spPr>
          <a:xfrm>
            <a:off x="1101600" y="2151000"/>
            <a:ext cx="28800" cy="520920"/>
          </a:xfrm>
          <a:custGeom>
            <a:avLst/>
            <a:gdLst>
              <a:gd name="textAreaLeft" fmla="*/ 0 w 28800"/>
              <a:gd name="textAreaRight" fmla="*/ 29160 w 288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81" h="813">
                <a:moveTo>
                  <a:pt x="37" y="813"/>
                </a:moveTo>
                <a:lnTo>
                  <a:pt x="50" y="762"/>
                </a:lnTo>
                <a:lnTo>
                  <a:pt x="60" y="708"/>
                </a:lnTo>
                <a:lnTo>
                  <a:pt x="69" y="653"/>
                </a:lnTo>
                <a:lnTo>
                  <a:pt x="75" y="596"/>
                </a:lnTo>
                <a:lnTo>
                  <a:pt x="79" y="539"/>
                </a:lnTo>
                <a:lnTo>
                  <a:pt x="81" y="480"/>
                </a:lnTo>
                <a:lnTo>
                  <a:pt x="80" y="422"/>
                </a:lnTo>
                <a:lnTo>
                  <a:pt x="78" y="364"/>
                </a:lnTo>
                <a:lnTo>
                  <a:pt x="73" y="307"/>
                </a:lnTo>
                <a:lnTo>
                  <a:pt x="67" y="251"/>
                </a:lnTo>
                <a:lnTo>
                  <a:pt x="57" y="196"/>
                </a:lnTo>
                <a:lnTo>
                  <a:pt x="45" y="143"/>
                </a:lnTo>
                <a:lnTo>
                  <a:pt x="32" y="93"/>
                </a:lnTo>
                <a:lnTo>
                  <a:pt x="17" y="4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Freeform 58"/>
          <p:cNvSpPr/>
          <p:nvPr/>
        </p:nvSpPr>
        <p:spPr>
          <a:xfrm>
            <a:off x="2567160" y="1943280"/>
            <a:ext cx="44280" cy="934920"/>
          </a:xfrm>
          <a:custGeom>
            <a:avLst/>
            <a:gdLst>
              <a:gd name="textAreaLeft" fmla="*/ 0 w 44280"/>
              <a:gd name="textAreaRight" fmla="*/ 44280 w 442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121" h="1467">
                <a:moveTo>
                  <a:pt x="0" y="1467"/>
                </a:moveTo>
                <a:lnTo>
                  <a:pt x="22" y="1405"/>
                </a:lnTo>
                <a:lnTo>
                  <a:pt x="42" y="1338"/>
                </a:lnTo>
                <a:lnTo>
                  <a:pt x="60" y="1269"/>
                </a:lnTo>
                <a:lnTo>
                  <a:pt x="76" y="1198"/>
                </a:lnTo>
                <a:lnTo>
                  <a:pt x="90" y="1124"/>
                </a:lnTo>
                <a:lnTo>
                  <a:pt x="101" y="1048"/>
                </a:lnTo>
                <a:lnTo>
                  <a:pt x="110" y="970"/>
                </a:lnTo>
                <a:lnTo>
                  <a:pt x="116" y="892"/>
                </a:lnTo>
                <a:lnTo>
                  <a:pt x="120" y="813"/>
                </a:lnTo>
                <a:lnTo>
                  <a:pt x="121" y="733"/>
                </a:lnTo>
                <a:lnTo>
                  <a:pt x="120" y="654"/>
                </a:lnTo>
                <a:lnTo>
                  <a:pt x="116" y="574"/>
                </a:lnTo>
                <a:lnTo>
                  <a:pt x="110" y="496"/>
                </a:lnTo>
                <a:lnTo>
                  <a:pt x="101" y="419"/>
                </a:lnTo>
                <a:lnTo>
                  <a:pt x="90" y="343"/>
                </a:lnTo>
                <a:lnTo>
                  <a:pt x="76" y="270"/>
                </a:lnTo>
                <a:lnTo>
                  <a:pt x="60" y="198"/>
                </a:lnTo>
                <a:lnTo>
                  <a:pt x="42" y="129"/>
                </a:lnTo>
                <a:lnTo>
                  <a:pt x="22" y="6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Freeform 59"/>
          <p:cNvSpPr/>
          <p:nvPr/>
        </p:nvSpPr>
        <p:spPr>
          <a:xfrm>
            <a:off x="3740040" y="2151000"/>
            <a:ext cx="22320" cy="520920"/>
          </a:xfrm>
          <a:custGeom>
            <a:avLst/>
            <a:gdLst>
              <a:gd name="textAreaLeft" fmla="*/ 0 w 22320"/>
              <a:gd name="textAreaRight" fmla="*/ 22680 w 223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62" h="820">
                <a:moveTo>
                  <a:pt x="0" y="820"/>
                </a:moveTo>
                <a:lnTo>
                  <a:pt x="15" y="771"/>
                </a:lnTo>
                <a:lnTo>
                  <a:pt x="28" y="721"/>
                </a:lnTo>
                <a:lnTo>
                  <a:pt x="40" y="667"/>
                </a:lnTo>
                <a:lnTo>
                  <a:pt x="49" y="612"/>
                </a:lnTo>
                <a:lnTo>
                  <a:pt x="55" y="555"/>
                </a:lnTo>
                <a:lnTo>
                  <a:pt x="60" y="497"/>
                </a:lnTo>
                <a:lnTo>
                  <a:pt x="62" y="439"/>
                </a:lnTo>
                <a:lnTo>
                  <a:pt x="62" y="380"/>
                </a:lnTo>
                <a:lnTo>
                  <a:pt x="60" y="321"/>
                </a:lnTo>
                <a:lnTo>
                  <a:pt x="55" y="264"/>
                </a:lnTo>
                <a:lnTo>
                  <a:pt x="49" y="207"/>
                </a:lnTo>
                <a:lnTo>
                  <a:pt x="40" y="152"/>
                </a:lnTo>
                <a:lnTo>
                  <a:pt x="28" y="99"/>
                </a:lnTo>
                <a:lnTo>
                  <a:pt x="15" y="4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1" name="Object 60"/>
          <p:cNvGraphicFramePr/>
          <p:nvPr/>
        </p:nvGraphicFramePr>
        <p:xfrm>
          <a:off x="2332080" y="3205080"/>
          <a:ext cx="33984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3205080"/>
                    <a:ext cx="339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61"/>
          <p:cNvGraphicFramePr/>
          <p:nvPr/>
        </p:nvGraphicFramePr>
        <p:xfrm>
          <a:off x="909720" y="2971800"/>
          <a:ext cx="33948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Object 6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9720" y="2971800"/>
                    <a:ext cx="3394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Object 62"/>
          <p:cNvGraphicFramePr/>
          <p:nvPr/>
        </p:nvGraphicFramePr>
        <p:xfrm>
          <a:off x="3522600" y="3002040"/>
          <a:ext cx="33984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6" name="Object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2600" y="3002040"/>
                    <a:ext cx="3398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63"/>
          <p:cNvGraphicFramePr/>
          <p:nvPr/>
        </p:nvGraphicFramePr>
        <p:xfrm>
          <a:off x="825480" y="1433520"/>
          <a:ext cx="50976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8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5480" y="1433520"/>
                    <a:ext cx="5097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64"/>
          <p:cNvGraphicFramePr/>
          <p:nvPr/>
        </p:nvGraphicFramePr>
        <p:xfrm>
          <a:off x="3430440" y="1427040"/>
          <a:ext cx="509760" cy="50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0" name="Object 6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30440" y="1427040"/>
                    <a:ext cx="5097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65"/>
          <p:cNvGraphicFramePr/>
          <p:nvPr/>
        </p:nvGraphicFramePr>
        <p:xfrm>
          <a:off x="2181240" y="1108080"/>
          <a:ext cx="509400" cy="50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2" name="Object 6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81240" y="1108080"/>
                    <a:ext cx="5094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Object 66"/>
          <p:cNvGraphicFramePr/>
          <p:nvPr/>
        </p:nvGraphicFramePr>
        <p:xfrm>
          <a:off x="2708280" y="2682720"/>
          <a:ext cx="431640" cy="459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14" name="Object 6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8280" y="2682720"/>
                    <a:ext cx="4316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67"/>
          <p:cNvGraphicFramePr/>
          <p:nvPr/>
        </p:nvGraphicFramePr>
        <p:xfrm>
          <a:off x="1184400" y="1870200"/>
          <a:ext cx="431640" cy="458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6" name="Object 6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84400" y="1870200"/>
                    <a:ext cx="4316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Object 68"/>
          <p:cNvGraphicFramePr/>
          <p:nvPr/>
        </p:nvGraphicFramePr>
        <p:xfrm>
          <a:off x="3840120" y="1855800"/>
          <a:ext cx="432000" cy="45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18" name="Object 6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40120" y="1855800"/>
                    <a:ext cx="4320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Line 69"/>
          <p:cNvSpPr/>
          <p:nvPr/>
        </p:nvSpPr>
        <p:spPr>
          <a:xfrm>
            <a:off x="1616040" y="1974960"/>
            <a:ext cx="0" cy="87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Line 70"/>
          <p:cNvSpPr/>
          <p:nvPr/>
        </p:nvSpPr>
        <p:spPr>
          <a:xfrm>
            <a:off x="3154320" y="1974960"/>
            <a:ext cx="0" cy="87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1" name="Object 71"/>
          <p:cNvGraphicFramePr/>
          <p:nvPr/>
        </p:nvGraphicFramePr>
        <p:xfrm>
          <a:off x="1552680" y="1604880"/>
          <a:ext cx="176040" cy="327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22" name="Object 7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552680" y="1604880"/>
                    <a:ext cx="17604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Object 72"/>
          <p:cNvGraphicFramePr/>
          <p:nvPr/>
        </p:nvGraphicFramePr>
        <p:xfrm>
          <a:off x="1538280" y="2881440"/>
          <a:ext cx="176400" cy="326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24" name="Object 7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538280" y="2881440"/>
                    <a:ext cx="17640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Object 73"/>
          <p:cNvGraphicFramePr/>
          <p:nvPr/>
        </p:nvGraphicFramePr>
        <p:xfrm>
          <a:off x="3067200" y="2881440"/>
          <a:ext cx="252360" cy="326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26" name="Object 7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67200" y="2881440"/>
                    <a:ext cx="25236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Object 74"/>
          <p:cNvGraphicFramePr/>
          <p:nvPr/>
        </p:nvGraphicFramePr>
        <p:xfrm>
          <a:off x="3067200" y="1676520"/>
          <a:ext cx="252360" cy="326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28" name="Object 7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67200" y="1676520"/>
                    <a:ext cx="25236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Line 78"/>
          <p:cNvSpPr/>
          <p:nvPr/>
        </p:nvSpPr>
        <p:spPr>
          <a:xfrm>
            <a:off x="376200" y="4937040"/>
            <a:ext cx="4327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Line 79"/>
          <p:cNvSpPr/>
          <p:nvPr/>
        </p:nvSpPr>
        <p:spPr>
          <a:xfrm flipV="1">
            <a:off x="376200" y="3722400"/>
            <a:ext cx="1800" cy="1214280"/>
          </a:xfrm>
          <a:prstGeom prst="line">
            <a:avLst/>
          </a:prstGeom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Line 80"/>
          <p:cNvSpPr/>
          <p:nvPr/>
        </p:nvSpPr>
        <p:spPr>
          <a:xfrm>
            <a:off x="1000080" y="4071960"/>
            <a:ext cx="3240" cy="86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Line 81"/>
          <p:cNvSpPr/>
          <p:nvPr/>
        </p:nvSpPr>
        <p:spPr>
          <a:xfrm>
            <a:off x="2581200" y="4071960"/>
            <a:ext cx="1800" cy="86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Line 82"/>
          <p:cNvSpPr/>
          <p:nvPr/>
        </p:nvSpPr>
        <p:spPr>
          <a:xfrm>
            <a:off x="1000080" y="4071960"/>
            <a:ext cx="1581120" cy="32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Line 83"/>
          <p:cNvSpPr/>
          <p:nvPr/>
        </p:nvSpPr>
        <p:spPr>
          <a:xfrm>
            <a:off x="2581200" y="4937040"/>
            <a:ext cx="1800" cy="57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Line 84"/>
          <p:cNvSpPr/>
          <p:nvPr/>
        </p:nvSpPr>
        <p:spPr>
          <a:xfrm>
            <a:off x="2581200" y="5513400"/>
            <a:ext cx="1139760" cy="32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Line 85"/>
          <p:cNvSpPr/>
          <p:nvPr/>
        </p:nvSpPr>
        <p:spPr>
          <a:xfrm>
            <a:off x="3720960" y="4937040"/>
            <a:ext cx="1800" cy="57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Line 86"/>
          <p:cNvSpPr/>
          <p:nvPr/>
        </p:nvSpPr>
        <p:spPr>
          <a:xfrm flipV="1">
            <a:off x="1135080" y="4071600"/>
            <a:ext cx="3240" cy="86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Line 87"/>
          <p:cNvSpPr/>
          <p:nvPr/>
        </p:nvSpPr>
        <p:spPr>
          <a:xfrm flipV="1">
            <a:off x="1319040" y="4071600"/>
            <a:ext cx="3240" cy="86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Line 88"/>
          <p:cNvSpPr/>
          <p:nvPr/>
        </p:nvSpPr>
        <p:spPr>
          <a:xfrm flipV="1">
            <a:off x="1504800" y="4071600"/>
            <a:ext cx="1800" cy="86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Line 89"/>
          <p:cNvSpPr/>
          <p:nvPr/>
        </p:nvSpPr>
        <p:spPr>
          <a:xfrm flipV="1">
            <a:off x="1689120" y="4071600"/>
            <a:ext cx="1440" cy="86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Line 90"/>
          <p:cNvSpPr/>
          <p:nvPr/>
        </p:nvSpPr>
        <p:spPr>
          <a:xfrm flipV="1">
            <a:off x="1873080" y="4071600"/>
            <a:ext cx="1800" cy="86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Line 91"/>
          <p:cNvSpPr/>
          <p:nvPr/>
        </p:nvSpPr>
        <p:spPr>
          <a:xfrm flipV="1">
            <a:off x="2057400" y="4071600"/>
            <a:ext cx="1440" cy="86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Line 92"/>
          <p:cNvSpPr/>
          <p:nvPr/>
        </p:nvSpPr>
        <p:spPr>
          <a:xfrm flipV="1">
            <a:off x="2241720" y="4071600"/>
            <a:ext cx="1440" cy="86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Line 93"/>
          <p:cNvSpPr/>
          <p:nvPr/>
        </p:nvSpPr>
        <p:spPr>
          <a:xfrm flipV="1">
            <a:off x="2425680" y="4071600"/>
            <a:ext cx="1440" cy="86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Line 94"/>
          <p:cNvSpPr/>
          <p:nvPr/>
        </p:nvSpPr>
        <p:spPr>
          <a:xfrm flipV="1">
            <a:off x="2793960" y="4936680"/>
            <a:ext cx="1800" cy="57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Line 95"/>
          <p:cNvSpPr/>
          <p:nvPr/>
        </p:nvSpPr>
        <p:spPr>
          <a:xfrm flipV="1">
            <a:off x="2978280" y="4936680"/>
            <a:ext cx="1440" cy="57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Line 96"/>
          <p:cNvSpPr/>
          <p:nvPr/>
        </p:nvSpPr>
        <p:spPr>
          <a:xfrm flipV="1">
            <a:off x="3162240" y="4936680"/>
            <a:ext cx="1800" cy="57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Line 97"/>
          <p:cNvSpPr/>
          <p:nvPr/>
        </p:nvSpPr>
        <p:spPr>
          <a:xfrm flipV="1">
            <a:off x="3344760" y="4936680"/>
            <a:ext cx="1800" cy="57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Line 98"/>
          <p:cNvSpPr/>
          <p:nvPr/>
        </p:nvSpPr>
        <p:spPr>
          <a:xfrm flipV="1">
            <a:off x="3529080" y="4936680"/>
            <a:ext cx="1440" cy="57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Line 99"/>
          <p:cNvSpPr/>
          <p:nvPr/>
        </p:nvSpPr>
        <p:spPr>
          <a:xfrm flipV="1">
            <a:off x="3713040" y="4936680"/>
            <a:ext cx="1800" cy="57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1" name="Object 101"/>
          <p:cNvGraphicFramePr/>
          <p:nvPr/>
        </p:nvGraphicFramePr>
        <p:xfrm>
          <a:off x="146160" y="3314880"/>
          <a:ext cx="393480" cy="372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52" name="Object 1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46160" y="3314880"/>
                    <a:ext cx="393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102"/>
          <p:cNvGraphicFramePr/>
          <p:nvPr/>
        </p:nvGraphicFramePr>
        <p:xfrm>
          <a:off x="2668680" y="3965400"/>
          <a:ext cx="1209600" cy="308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54" name="Object 10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68680" y="3965400"/>
                    <a:ext cx="12096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103"/>
          <p:cNvGraphicFramePr/>
          <p:nvPr/>
        </p:nvGraphicFramePr>
        <p:xfrm>
          <a:off x="3862440" y="5415120"/>
          <a:ext cx="1423800" cy="361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56" name="Object 10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862440" y="5415120"/>
                    <a:ext cx="14238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104"/>
          <p:cNvGraphicFramePr/>
          <p:nvPr/>
        </p:nvGraphicFramePr>
        <p:xfrm>
          <a:off x="5272200" y="2211480"/>
          <a:ext cx="3260520" cy="519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58" name="Object 10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272200" y="2211480"/>
                    <a:ext cx="32605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105"/>
          <p:cNvGraphicFramePr/>
          <p:nvPr/>
        </p:nvGraphicFramePr>
        <p:xfrm>
          <a:off x="5268960" y="3298680"/>
          <a:ext cx="3375000" cy="474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60" name="Object 10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268960" y="3298680"/>
                    <a:ext cx="3375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1" name="Group 112"/>
          <p:cNvGrpSpPr/>
          <p:nvPr/>
        </p:nvGrpSpPr>
        <p:grpSpPr>
          <a:xfrm>
            <a:off x="1592280" y="4309920"/>
            <a:ext cx="431640" cy="459720"/>
            <a:chOff x="1592280" y="4309920"/>
            <a:chExt cx="431640" cy="459720"/>
          </a:xfrm>
        </p:grpSpPr>
        <p:sp>
          <p:nvSpPr>
            <p:cNvPr id="762" name="Oval 113"/>
            <p:cNvSpPr/>
            <p:nvPr/>
          </p:nvSpPr>
          <p:spPr>
            <a:xfrm>
              <a:off x="1677960" y="4454280"/>
              <a:ext cx="217440" cy="217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114"/>
            <p:cNvSpPr/>
            <p:nvPr/>
          </p:nvSpPr>
          <p:spPr>
            <a:xfrm>
              <a:off x="1592280" y="430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4" name="Group 115"/>
          <p:cNvGrpSpPr/>
          <p:nvPr/>
        </p:nvGrpSpPr>
        <p:grpSpPr>
          <a:xfrm>
            <a:off x="3133800" y="5129280"/>
            <a:ext cx="223920" cy="217440"/>
            <a:chOff x="3133800" y="5129280"/>
            <a:chExt cx="223920" cy="217440"/>
          </a:xfrm>
        </p:grpSpPr>
        <p:sp>
          <p:nvSpPr>
            <p:cNvPr id="765" name="Oval 116"/>
            <p:cNvSpPr/>
            <p:nvPr/>
          </p:nvSpPr>
          <p:spPr>
            <a:xfrm>
              <a:off x="3140280" y="5129280"/>
              <a:ext cx="217440" cy="217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117"/>
            <p:cNvSpPr/>
            <p:nvPr/>
          </p:nvSpPr>
          <p:spPr>
            <a:xfrm>
              <a:off x="3133800" y="5243400"/>
              <a:ext cx="22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AutoShape 118">
            <a:hlinkClick r:id="" action="ppaction://hlinkshowjump?jump=nextslide"/>
          </p:cNvPr>
          <p:cNvSpPr/>
          <p:nvPr/>
        </p:nvSpPr>
        <p:spPr>
          <a:xfrm>
            <a:off x="8143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119"/>
          <p:cNvSpPr/>
          <p:nvPr/>
        </p:nvSpPr>
        <p:spPr>
          <a:xfrm>
            <a:off x="371520" y="4929120"/>
            <a:ext cx="62208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Line 120"/>
          <p:cNvSpPr/>
          <p:nvPr/>
        </p:nvSpPr>
        <p:spPr>
          <a:xfrm>
            <a:off x="3724200" y="4943520"/>
            <a:ext cx="9669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11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  例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Freeform 15"/>
          <p:cNvSpPr/>
          <p:nvPr/>
        </p:nvSpPr>
        <p:spPr>
          <a:xfrm flipV="1">
            <a:off x="6575400" y="2716920"/>
            <a:ext cx="34920" cy="460440"/>
          </a:xfrm>
          <a:custGeom>
            <a:avLst/>
            <a:gdLst>
              <a:gd name="textAreaLeft" fmla="*/ 0 w 34920"/>
              <a:gd name="textAreaRight" fmla="*/ 35280 w 3492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131" h="1742">
                <a:moveTo>
                  <a:pt x="0" y="1742"/>
                </a:moveTo>
                <a:lnTo>
                  <a:pt x="52" y="1567"/>
                </a:lnTo>
                <a:lnTo>
                  <a:pt x="91" y="1379"/>
                </a:lnTo>
                <a:lnTo>
                  <a:pt x="118" y="1180"/>
                </a:lnTo>
                <a:lnTo>
                  <a:pt x="131" y="974"/>
                </a:lnTo>
                <a:lnTo>
                  <a:pt x="131" y="768"/>
                </a:lnTo>
                <a:lnTo>
                  <a:pt x="118" y="563"/>
                </a:lnTo>
                <a:lnTo>
                  <a:pt x="91" y="364"/>
                </a:lnTo>
                <a:lnTo>
                  <a:pt x="52" y="17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Freeform 16"/>
          <p:cNvSpPr/>
          <p:nvPr/>
        </p:nvSpPr>
        <p:spPr>
          <a:xfrm flipV="1">
            <a:off x="2651040" y="2604960"/>
            <a:ext cx="96840" cy="728640"/>
          </a:xfrm>
          <a:custGeom>
            <a:avLst/>
            <a:gdLst>
              <a:gd name="textAreaLeft" fmla="*/ 0 w 96840"/>
              <a:gd name="textAreaRight" fmla="*/ 97200 w 96840"/>
              <a:gd name="textAreaTop" fmla="*/ 360 h 728640"/>
              <a:gd name="textAreaBottom" fmla="*/ 729360 h 728640"/>
            </a:gdLst>
            <a:ahLst/>
            <a:rect l="textAreaLeft" t="textAreaTop" r="textAreaRight" b="textAreaBottom"/>
            <a:pathLst>
              <a:path w="260" h="2589">
                <a:moveTo>
                  <a:pt x="119" y="2589"/>
                </a:moveTo>
                <a:lnTo>
                  <a:pt x="173" y="2364"/>
                </a:lnTo>
                <a:lnTo>
                  <a:pt x="215" y="2127"/>
                </a:lnTo>
                <a:lnTo>
                  <a:pt x="243" y="1881"/>
                </a:lnTo>
                <a:lnTo>
                  <a:pt x="258" y="1630"/>
                </a:lnTo>
                <a:lnTo>
                  <a:pt x="260" y="1377"/>
                </a:lnTo>
                <a:lnTo>
                  <a:pt x="249" y="1125"/>
                </a:lnTo>
                <a:lnTo>
                  <a:pt x="223" y="878"/>
                </a:lnTo>
                <a:lnTo>
                  <a:pt x="185" y="638"/>
                </a:lnTo>
                <a:lnTo>
                  <a:pt x="135" y="411"/>
                </a:lnTo>
                <a:lnTo>
                  <a:pt x="73" y="19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Line 17"/>
          <p:cNvSpPr/>
          <p:nvPr/>
        </p:nvSpPr>
        <p:spPr>
          <a:xfrm flipH="1">
            <a:off x="5187960" y="3084480"/>
            <a:ext cx="37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Line 18"/>
          <p:cNvSpPr/>
          <p:nvPr/>
        </p:nvSpPr>
        <p:spPr>
          <a:xfrm flipH="1">
            <a:off x="3652920" y="3084480"/>
            <a:ext cx="37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Line 19"/>
          <p:cNvSpPr/>
          <p:nvPr/>
        </p:nvSpPr>
        <p:spPr>
          <a:xfrm flipH="1">
            <a:off x="5187960" y="2813040"/>
            <a:ext cx="37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Line 20"/>
          <p:cNvSpPr/>
          <p:nvPr/>
        </p:nvSpPr>
        <p:spPr>
          <a:xfrm flipH="1">
            <a:off x="3652920" y="2813040"/>
            <a:ext cx="37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Line 21"/>
          <p:cNvSpPr/>
          <p:nvPr/>
        </p:nvSpPr>
        <p:spPr>
          <a:xfrm flipV="1">
            <a:off x="5504040" y="3195720"/>
            <a:ext cx="55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Line 22"/>
          <p:cNvSpPr/>
          <p:nvPr/>
        </p:nvSpPr>
        <p:spPr>
          <a:xfrm flipV="1">
            <a:off x="5402160" y="3092040"/>
            <a:ext cx="157320" cy="15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Line 23"/>
          <p:cNvSpPr/>
          <p:nvPr/>
        </p:nvSpPr>
        <p:spPr>
          <a:xfrm flipV="1">
            <a:off x="5300640" y="3084120"/>
            <a:ext cx="165240" cy="16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Line 24"/>
          <p:cNvSpPr/>
          <p:nvPr/>
        </p:nvSpPr>
        <p:spPr>
          <a:xfrm flipV="1">
            <a:off x="5197320" y="3084120"/>
            <a:ext cx="166680" cy="16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25"/>
          <p:cNvSpPr/>
          <p:nvPr/>
        </p:nvSpPr>
        <p:spPr>
          <a:xfrm flipV="1">
            <a:off x="5532480" y="2785680"/>
            <a:ext cx="270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26"/>
          <p:cNvSpPr/>
          <p:nvPr/>
        </p:nvSpPr>
        <p:spPr>
          <a:xfrm flipV="1">
            <a:off x="5187960" y="3084120"/>
            <a:ext cx="7308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27"/>
          <p:cNvSpPr/>
          <p:nvPr/>
        </p:nvSpPr>
        <p:spPr>
          <a:xfrm flipV="1">
            <a:off x="5429160" y="2682720"/>
            <a:ext cx="13032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28"/>
          <p:cNvSpPr/>
          <p:nvPr/>
        </p:nvSpPr>
        <p:spPr>
          <a:xfrm flipV="1">
            <a:off x="5327640" y="2646000"/>
            <a:ext cx="165240" cy="1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Line 29"/>
          <p:cNvSpPr/>
          <p:nvPr/>
        </p:nvSpPr>
        <p:spPr>
          <a:xfrm flipV="1">
            <a:off x="5226120" y="2646000"/>
            <a:ext cx="164880" cy="1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30"/>
          <p:cNvSpPr/>
          <p:nvPr/>
        </p:nvSpPr>
        <p:spPr>
          <a:xfrm flipV="1">
            <a:off x="5187960" y="2646360"/>
            <a:ext cx="1015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Line 31"/>
          <p:cNvSpPr/>
          <p:nvPr/>
        </p:nvSpPr>
        <p:spPr>
          <a:xfrm flipV="1">
            <a:off x="4016520" y="3243240"/>
            <a:ext cx="792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32"/>
          <p:cNvSpPr/>
          <p:nvPr/>
        </p:nvSpPr>
        <p:spPr>
          <a:xfrm flipV="1">
            <a:off x="3914640" y="3139560"/>
            <a:ext cx="10980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33"/>
          <p:cNvSpPr/>
          <p:nvPr/>
        </p:nvSpPr>
        <p:spPr>
          <a:xfrm flipV="1">
            <a:off x="3811680" y="3084120"/>
            <a:ext cx="166680" cy="16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34"/>
          <p:cNvSpPr/>
          <p:nvPr/>
        </p:nvSpPr>
        <p:spPr>
          <a:xfrm flipV="1">
            <a:off x="3710160" y="3084120"/>
            <a:ext cx="166680" cy="16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Line 35"/>
          <p:cNvSpPr/>
          <p:nvPr/>
        </p:nvSpPr>
        <p:spPr>
          <a:xfrm flipV="1">
            <a:off x="3652920" y="308412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Line 36"/>
          <p:cNvSpPr/>
          <p:nvPr/>
        </p:nvSpPr>
        <p:spPr>
          <a:xfrm flipV="1">
            <a:off x="3943440" y="2730240"/>
            <a:ext cx="8100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Line 37"/>
          <p:cNvSpPr/>
          <p:nvPr/>
        </p:nvSpPr>
        <p:spPr>
          <a:xfrm flipV="1">
            <a:off x="3652920" y="3084120"/>
            <a:ext cx="1908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Line 38"/>
          <p:cNvSpPr/>
          <p:nvPr/>
        </p:nvSpPr>
        <p:spPr>
          <a:xfrm flipV="1">
            <a:off x="3840120" y="2646000"/>
            <a:ext cx="165240" cy="1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Line 39"/>
          <p:cNvSpPr/>
          <p:nvPr/>
        </p:nvSpPr>
        <p:spPr>
          <a:xfrm flipV="1">
            <a:off x="3738600" y="2646000"/>
            <a:ext cx="165240" cy="1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Line 40"/>
          <p:cNvSpPr/>
          <p:nvPr/>
        </p:nvSpPr>
        <p:spPr>
          <a:xfrm flipV="1">
            <a:off x="3652920" y="2646000"/>
            <a:ext cx="149040" cy="14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Line 41"/>
          <p:cNvSpPr/>
          <p:nvPr/>
        </p:nvSpPr>
        <p:spPr>
          <a:xfrm flipV="1">
            <a:off x="3652920" y="2646360"/>
            <a:ext cx="4608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Line 42"/>
          <p:cNvSpPr/>
          <p:nvPr/>
        </p:nvSpPr>
        <p:spPr>
          <a:xfrm>
            <a:off x="6721560" y="3025800"/>
            <a:ext cx="141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43"/>
          <p:cNvSpPr/>
          <p:nvPr/>
        </p:nvSpPr>
        <p:spPr>
          <a:xfrm>
            <a:off x="6721560" y="2870280"/>
            <a:ext cx="141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Freeform 44"/>
          <p:cNvSpPr/>
          <p:nvPr/>
        </p:nvSpPr>
        <p:spPr>
          <a:xfrm>
            <a:off x="6318360" y="2870280"/>
            <a:ext cx="61920" cy="155520"/>
          </a:xfrm>
          <a:custGeom>
            <a:avLst/>
            <a:gdLst>
              <a:gd name="textAreaLeft" fmla="*/ 0 w 61920"/>
              <a:gd name="textAreaRight" fmla="*/ 62280 w 6192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30" h="589">
                <a:moveTo>
                  <a:pt x="0" y="589"/>
                </a:moveTo>
                <a:lnTo>
                  <a:pt x="42" y="586"/>
                </a:lnTo>
                <a:lnTo>
                  <a:pt x="83" y="571"/>
                </a:lnTo>
                <a:lnTo>
                  <a:pt x="121" y="548"/>
                </a:lnTo>
                <a:lnTo>
                  <a:pt x="155" y="515"/>
                </a:lnTo>
                <a:lnTo>
                  <a:pt x="183" y="475"/>
                </a:lnTo>
                <a:lnTo>
                  <a:pt x="206" y="428"/>
                </a:lnTo>
                <a:lnTo>
                  <a:pt x="221" y="377"/>
                </a:lnTo>
                <a:lnTo>
                  <a:pt x="229" y="324"/>
                </a:lnTo>
                <a:lnTo>
                  <a:pt x="230" y="269"/>
                </a:lnTo>
                <a:lnTo>
                  <a:pt x="221" y="215"/>
                </a:lnTo>
                <a:lnTo>
                  <a:pt x="207" y="164"/>
                </a:lnTo>
                <a:lnTo>
                  <a:pt x="184" y="118"/>
                </a:lnTo>
                <a:lnTo>
                  <a:pt x="156" y="78"/>
                </a:lnTo>
                <a:lnTo>
                  <a:pt x="122" y="45"/>
                </a:lnTo>
                <a:lnTo>
                  <a:pt x="85" y="20"/>
                </a:lnTo>
                <a:lnTo>
                  <a:pt x="44" y="6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Line 45"/>
          <p:cNvSpPr/>
          <p:nvPr/>
        </p:nvSpPr>
        <p:spPr>
          <a:xfrm>
            <a:off x="4775040" y="3025800"/>
            <a:ext cx="1544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46"/>
          <p:cNvSpPr/>
          <p:nvPr/>
        </p:nvSpPr>
        <p:spPr>
          <a:xfrm>
            <a:off x="4775040" y="2870280"/>
            <a:ext cx="1544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Line 47"/>
          <p:cNvSpPr/>
          <p:nvPr/>
        </p:nvSpPr>
        <p:spPr>
          <a:xfrm>
            <a:off x="2913120" y="2870280"/>
            <a:ext cx="145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48"/>
          <p:cNvSpPr/>
          <p:nvPr/>
        </p:nvSpPr>
        <p:spPr>
          <a:xfrm>
            <a:off x="2919240" y="3025800"/>
            <a:ext cx="145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Freeform 49"/>
          <p:cNvSpPr/>
          <p:nvPr/>
        </p:nvSpPr>
        <p:spPr>
          <a:xfrm>
            <a:off x="2309760" y="2870280"/>
            <a:ext cx="60480" cy="155520"/>
          </a:xfrm>
          <a:custGeom>
            <a:avLst/>
            <a:gdLst>
              <a:gd name="textAreaLeft" fmla="*/ 0 w 60480"/>
              <a:gd name="textAreaRight" fmla="*/ 60840 w 604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29" h="589">
                <a:moveTo>
                  <a:pt x="0" y="589"/>
                </a:moveTo>
                <a:lnTo>
                  <a:pt x="42" y="586"/>
                </a:lnTo>
                <a:lnTo>
                  <a:pt x="83" y="571"/>
                </a:lnTo>
                <a:lnTo>
                  <a:pt x="121" y="548"/>
                </a:lnTo>
                <a:lnTo>
                  <a:pt x="155" y="515"/>
                </a:lnTo>
                <a:lnTo>
                  <a:pt x="184" y="475"/>
                </a:lnTo>
                <a:lnTo>
                  <a:pt x="206" y="428"/>
                </a:lnTo>
                <a:lnTo>
                  <a:pt x="222" y="377"/>
                </a:lnTo>
                <a:lnTo>
                  <a:pt x="229" y="324"/>
                </a:lnTo>
                <a:lnTo>
                  <a:pt x="229" y="269"/>
                </a:lnTo>
                <a:lnTo>
                  <a:pt x="222" y="215"/>
                </a:lnTo>
                <a:lnTo>
                  <a:pt x="207" y="164"/>
                </a:lnTo>
                <a:lnTo>
                  <a:pt x="185" y="118"/>
                </a:lnTo>
                <a:lnTo>
                  <a:pt x="156" y="78"/>
                </a:lnTo>
                <a:lnTo>
                  <a:pt x="122" y="45"/>
                </a:lnTo>
                <a:lnTo>
                  <a:pt x="85" y="20"/>
                </a:lnTo>
                <a:lnTo>
                  <a:pt x="44" y="6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Line 50"/>
          <p:cNvSpPr/>
          <p:nvPr/>
        </p:nvSpPr>
        <p:spPr>
          <a:xfrm>
            <a:off x="6319800" y="2563920"/>
            <a:ext cx="23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51"/>
          <p:cNvSpPr/>
          <p:nvPr/>
        </p:nvSpPr>
        <p:spPr>
          <a:xfrm>
            <a:off x="6146640" y="2563920"/>
            <a:ext cx="349560" cy="768240"/>
          </a:xfrm>
          <a:custGeom>
            <a:avLst/>
            <a:gdLst>
              <a:gd name="textAreaLeft" fmla="*/ 0 w 349560"/>
              <a:gd name="textAreaRight" fmla="*/ 349920 w 34956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1315" h="2906">
                <a:moveTo>
                  <a:pt x="0" y="1747"/>
                </a:moveTo>
                <a:lnTo>
                  <a:pt x="28" y="1958"/>
                </a:lnTo>
                <a:lnTo>
                  <a:pt x="70" y="2157"/>
                </a:lnTo>
                <a:lnTo>
                  <a:pt x="125" y="2340"/>
                </a:lnTo>
                <a:lnTo>
                  <a:pt x="192" y="2503"/>
                </a:lnTo>
                <a:lnTo>
                  <a:pt x="269" y="2642"/>
                </a:lnTo>
                <a:lnTo>
                  <a:pt x="355" y="2754"/>
                </a:lnTo>
                <a:lnTo>
                  <a:pt x="448" y="2837"/>
                </a:lnTo>
                <a:lnTo>
                  <a:pt x="544" y="2887"/>
                </a:lnTo>
                <a:lnTo>
                  <a:pt x="645" y="2906"/>
                </a:lnTo>
                <a:lnTo>
                  <a:pt x="744" y="2893"/>
                </a:lnTo>
                <a:lnTo>
                  <a:pt x="842" y="2846"/>
                </a:lnTo>
                <a:lnTo>
                  <a:pt x="936" y="2768"/>
                </a:lnTo>
                <a:lnTo>
                  <a:pt x="1023" y="2660"/>
                </a:lnTo>
                <a:lnTo>
                  <a:pt x="1101" y="2524"/>
                </a:lnTo>
                <a:lnTo>
                  <a:pt x="1170" y="2365"/>
                </a:lnTo>
                <a:lnTo>
                  <a:pt x="1226" y="2184"/>
                </a:lnTo>
                <a:lnTo>
                  <a:pt x="1271" y="1987"/>
                </a:lnTo>
                <a:lnTo>
                  <a:pt x="1300" y="1779"/>
                </a:lnTo>
                <a:lnTo>
                  <a:pt x="1315" y="1563"/>
                </a:lnTo>
                <a:lnTo>
                  <a:pt x="1315" y="1344"/>
                </a:lnTo>
                <a:lnTo>
                  <a:pt x="1300" y="1128"/>
                </a:lnTo>
                <a:lnTo>
                  <a:pt x="1271" y="919"/>
                </a:lnTo>
                <a:lnTo>
                  <a:pt x="1226" y="722"/>
                </a:lnTo>
                <a:lnTo>
                  <a:pt x="1170" y="541"/>
                </a:lnTo>
                <a:lnTo>
                  <a:pt x="1101" y="382"/>
                </a:lnTo>
                <a:lnTo>
                  <a:pt x="1023" y="247"/>
                </a:lnTo>
                <a:lnTo>
                  <a:pt x="936" y="139"/>
                </a:lnTo>
                <a:lnTo>
                  <a:pt x="842" y="60"/>
                </a:lnTo>
                <a:lnTo>
                  <a:pt x="744" y="14"/>
                </a:lnTo>
                <a:lnTo>
                  <a:pt x="645" y="0"/>
                </a:lnTo>
                <a:lnTo>
                  <a:pt x="544" y="19"/>
                </a:lnTo>
                <a:lnTo>
                  <a:pt x="448" y="70"/>
                </a:lnTo>
                <a:lnTo>
                  <a:pt x="355" y="152"/>
                </a:lnTo>
                <a:lnTo>
                  <a:pt x="269" y="265"/>
                </a:lnTo>
                <a:lnTo>
                  <a:pt x="192" y="403"/>
                </a:lnTo>
                <a:lnTo>
                  <a:pt x="125" y="566"/>
                </a:lnTo>
                <a:lnTo>
                  <a:pt x="70" y="750"/>
                </a:lnTo>
                <a:lnTo>
                  <a:pt x="28" y="949"/>
                </a:lnTo>
                <a:lnTo>
                  <a:pt x="0" y="11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Line 52"/>
          <p:cNvSpPr/>
          <p:nvPr/>
        </p:nvSpPr>
        <p:spPr>
          <a:xfrm>
            <a:off x="6323040" y="3332160"/>
            <a:ext cx="23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Freeform 53"/>
          <p:cNvSpPr/>
          <p:nvPr/>
        </p:nvSpPr>
        <p:spPr>
          <a:xfrm>
            <a:off x="6546960" y="2563920"/>
            <a:ext cx="179280" cy="768240"/>
          </a:xfrm>
          <a:custGeom>
            <a:avLst/>
            <a:gdLst>
              <a:gd name="textAreaLeft" fmla="*/ 0 w 179280"/>
              <a:gd name="textAreaRight" fmla="*/ 179640 w 1792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675" h="2906">
                <a:moveTo>
                  <a:pt x="0" y="2906"/>
                </a:moveTo>
                <a:lnTo>
                  <a:pt x="100" y="2894"/>
                </a:lnTo>
                <a:lnTo>
                  <a:pt x="197" y="2848"/>
                </a:lnTo>
                <a:lnTo>
                  <a:pt x="291" y="2771"/>
                </a:lnTo>
                <a:lnTo>
                  <a:pt x="378" y="2665"/>
                </a:lnTo>
                <a:lnTo>
                  <a:pt x="456" y="2531"/>
                </a:lnTo>
                <a:lnTo>
                  <a:pt x="525" y="2372"/>
                </a:lnTo>
                <a:lnTo>
                  <a:pt x="582" y="2193"/>
                </a:lnTo>
                <a:lnTo>
                  <a:pt x="627" y="1998"/>
                </a:lnTo>
                <a:lnTo>
                  <a:pt x="658" y="1789"/>
                </a:lnTo>
                <a:lnTo>
                  <a:pt x="673" y="1573"/>
                </a:lnTo>
                <a:lnTo>
                  <a:pt x="675" y="1355"/>
                </a:lnTo>
                <a:lnTo>
                  <a:pt x="660" y="1139"/>
                </a:lnTo>
                <a:lnTo>
                  <a:pt x="631" y="931"/>
                </a:lnTo>
                <a:lnTo>
                  <a:pt x="588" y="733"/>
                </a:lnTo>
                <a:lnTo>
                  <a:pt x="533" y="552"/>
                </a:lnTo>
                <a:lnTo>
                  <a:pt x="465" y="392"/>
                </a:lnTo>
                <a:lnTo>
                  <a:pt x="387" y="254"/>
                </a:lnTo>
                <a:lnTo>
                  <a:pt x="301" y="145"/>
                </a:lnTo>
                <a:lnTo>
                  <a:pt x="208" y="65"/>
                </a:lnTo>
                <a:lnTo>
                  <a:pt x="110" y="16"/>
                </a:lnTo>
                <a:lnTo>
                  <a:pt x="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Line 54"/>
          <p:cNvSpPr/>
          <p:nvPr/>
        </p:nvSpPr>
        <p:spPr>
          <a:xfrm>
            <a:off x="2316240" y="3571920"/>
            <a:ext cx="34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Freeform 55"/>
          <p:cNvSpPr/>
          <p:nvPr/>
        </p:nvSpPr>
        <p:spPr>
          <a:xfrm>
            <a:off x="2049480" y="2417760"/>
            <a:ext cx="525600" cy="1154160"/>
          </a:xfrm>
          <a:custGeom>
            <a:avLst/>
            <a:gdLst>
              <a:gd name="textAreaLeft" fmla="*/ 0 w 525600"/>
              <a:gd name="textAreaRight" fmla="*/ 525960 w 52560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1988" h="4358">
                <a:moveTo>
                  <a:pt x="0" y="2444"/>
                </a:moveTo>
                <a:lnTo>
                  <a:pt x="23" y="2712"/>
                </a:lnTo>
                <a:lnTo>
                  <a:pt x="61" y="2972"/>
                </a:lnTo>
                <a:lnTo>
                  <a:pt x="113" y="3219"/>
                </a:lnTo>
                <a:lnTo>
                  <a:pt x="178" y="3450"/>
                </a:lnTo>
                <a:lnTo>
                  <a:pt x="258" y="3661"/>
                </a:lnTo>
                <a:lnTo>
                  <a:pt x="348" y="3848"/>
                </a:lnTo>
                <a:lnTo>
                  <a:pt x="448" y="4010"/>
                </a:lnTo>
                <a:lnTo>
                  <a:pt x="556" y="4144"/>
                </a:lnTo>
                <a:lnTo>
                  <a:pt x="672" y="4246"/>
                </a:lnTo>
                <a:lnTo>
                  <a:pt x="793" y="4317"/>
                </a:lnTo>
                <a:lnTo>
                  <a:pt x="916" y="4354"/>
                </a:lnTo>
                <a:lnTo>
                  <a:pt x="1040" y="4358"/>
                </a:lnTo>
                <a:lnTo>
                  <a:pt x="1164" y="4327"/>
                </a:lnTo>
                <a:lnTo>
                  <a:pt x="1286" y="4262"/>
                </a:lnTo>
                <a:lnTo>
                  <a:pt x="1402" y="4166"/>
                </a:lnTo>
                <a:lnTo>
                  <a:pt x="1512" y="4038"/>
                </a:lnTo>
                <a:lnTo>
                  <a:pt x="1614" y="3881"/>
                </a:lnTo>
                <a:lnTo>
                  <a:pt x="1706" y="3698"/>
                </a:lnTo>
                <a:lnTo>
                  <a:pt x="1787" y="3491"/>
                </a:lnTo>
                <a:lnTo>
                  <a:pt x="1856" y="3264"/>
                </a:lnTo>
                <a:lnTo>
                  <a:pt x="1911" y="3019"/>
                </a:lnTo>
                <a:lnTo>
                  <a:pt x="1952" y="2762"/>
                </a:lnTo>
                <a:lnTo>
                  <a:pt x="1977" y="2495"/>
                </a:lnTo>
                <a:lnTo>
                  <a:pt x="1988" y="2224"/>
                </a:lnTo>
                <a:lnTo>
                  <a:pt x="1983" y="1952"/>
                </a:lnTo>
                <a:lnTo>
                  <a:pt x="1962" y="1683"/>
                </a:lnTo>
                <a:lnTo>
                  <a:pt x="1926" y="1422"/>
                </a:lnTo>
                <a:lnTo>
                  <a:pt x="1875" y="1174"/>
                </a:lnTo>
                <a:lnTo>
                  <a:pt x="1811" y="941"/>
                </a:lnTo>
                <a:lnTo>
                  <a:pt x="1734" y="727"/>
                </a:lnTo>
                <a:lnTo>
                  <a:pt x="1645" y="535"/>
                </a:lnTo>
                <a:lnTo>
                  <a:pt x="1546" y="370"/>
                </a:lnTo>
                <a:lnTo>
                  <a:pt x="1438" y="232"/>
                </a:lnTo>
                <a:lnTo>
                  <a:pt x="1324" y="125"/>
                </a:lnTo>
                <a:lnTo>
                  <a:pt x="1204" y="50"/>
                </a:lnTo>
                <a:lnTo>
                  <a:pt x="1081" y="9"/>
                </a:lnTo>
                <a:lnTo>
                  <a:pt x="957" y="0"/>
                </a:lnTo>
                <a:lnTo>
                  <a:pt x="833" y="27"/>
                </a:lnTo>
                <a:lnTo>
                  <a:pt x="711" y="86"/>
                </a:lnTo>
                <a:lnTo>
                  <a:pt x="594" y="178"/>
                </a:lnTo>
                <a:lnTo>
                  <a:pt x="482" y="302"/>
                </a:lnTo>
                <a:lnTo>
                  <a:pt x="380" y="455"/>
                </a:lnTo>
                <a:lnTo>
                  <a:pt x="285" y="635"/>
                </a:lnTo>
                <a:lnTo>
                  <a:pt x="203" y="839"/>
                </a:lnTo>
                <a:lnTo>
                  <a:pt x="133" y="1064"/>
                </a:lnTo>
                <a:lnTo>
                  <a:pt x="76" y="1306"/>
                </a:lnTo>
                <a:lnTo>
                  <a:pt x="33" y="156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Line 56"/>
          <p:cNvSpPr/>
          <p:nvPr/>
        </p:nvSpPr>
        <p:spPr>
          <a:xfrm>
            <a:off x="2311560" y="2417760"/>
            <a:ext cx="344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Freeform 57"/>
          <p:cNvSpPr/>
          <p:nvPr/>
        </p:nvSpPr>
        <p:spPr>
          <a:xfrm>
            <a:off x="2651040" y="2417760"/>
            <a:ext cx="268200" cy="1154160"/>
          </a:xfrm>
          <a:custGeom>
            <a:avLst/>
            <a:gdLst>
              <a:gd name="textAreaLeft" fmla="*/ 0 w 268200"/>
              <a:gd name="textAreaRight" fmla="*/ 268560 w 26820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1013" h="4361">
                <a:moveTo>
                  <a:pt x="0" y="4361"/>
                </a:moveTo>
                <a:lnTo>
                  <a:pt x="122" y="4349"/>
                </a:lnTo>
                <a:lnTo>
                  <a:pt x="240" y="4306"/>
                </a:lnTo>
                <a:lnTo>
                  <a:pt x="357" y="4230"/>
                </a:lnTo>
                <a:lnTo>
                  <a:pt x="468" y="4125"/>
                </a:lnTo>
                <a:lnTo>
                  <a:pt x="573" y="3991"/>
                </a:lnTo>
                <a:lnTo>
                  <a:pt x="668" y="3830"/>
                </a:lnTo>
                <a:lnTo>
                  <a:pt x="755" y="3646"/>
                </a:lnTo>
                <a:lnTo>
                  <a:pt x="831" y="3439"/>
                </a:lnTo>
                <a:lnTo>
                  <a:pt x="895" y="3214"/>
                </a:lnTo>
                <a:lnTo>
                  <a:pt x="946" y="2974"/>
                </a:lnTo>
                <a:lnTo>
                  <a:pt x="983" y="2722"/>
                </a:lnTo>
                <a:lnTo>
                  <a:pt x="1006" y="2462"/>
                </a:lnTo>
                <a:lnTo>
                  <a:pt x="1013" y="2197"/>
                </a:lnTo>
                <a:lnTo>
                  <a:pt x="1007" y="1934"/>
                </a:lnTo>
                <a:lnTo>
                  <a:pt x="987" y="1673"/>
                </a:lnTo>
                <a:lnTo>
                  <a:pt x="951" y="1420"/>
                </a:lnTo>
                <a:lnTo>
                  <a:pt x="902" y="1178"/>
                </a:lnTo>
                <a:lnTo>
                  <a:pt x="840" y="951"/>
                </a:lnTo>
                <a:lnTo>
                  <a:pt x="766" y="742"/>
                </a:lnTo>
                <a:lnTo>
                  <a:pt x="681" y="554"/>
                </a:lnTo>
                <a:lnTo>
                  <a:pt x="586" y="390"/>
                </a:lnTo>
                <a:lnTo>
                  <a:pt x="482" y="252"/>
                </a:lnTo>
                <a:lnTo>
                  <a:pt x="372" y="143"/>
                </a:lnTo>
                <a:lnTo>
                  <a:pt x="256" y="64"/>
                </a:lnTo>
                <a:lnTo>
                  <a:pt x="137" y="16"/>
                </a:lnTo>
                <a:lnTo>
                  <a:pt x="1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Freeform 58"/>
          <p:cNvSpPr/>
          <p:nvPr/>
        </p:nvSpPr>
        <p:spPr>
          <a:xfrm>
            <a:off x="4371840" y="2870280"/>
            <a:ext cx="60480" cy="155520"/>
          </a:xfrm>
          <a:custGeom>
            <a:avLst/>
            <a:gdLst>
              <a:gd name="textAreaLeft" fmla="*/ 0 w 60480"/>
              <a:gd name="textAreaRight" fmla="*/ 60840 w 604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30" h="589">
                <a:moveTo>
                  <a:pt x="0" y="589"/>
                </a:moveTo>
                <a:lnTo>
                  <a:pt x="43" y="585"/>
                </a:lnTo>
                <a:lnTo>
                  <a:pt x="83" y="571"/>
                </a:lnTo>
                <a:lnTo>
                  <a:pt x="121" y="547"/>
                </a:lnTo>
                <a:lnTo>
                  <a:pt x="155" y="515"/>
                </a:lnTo>
                <a:lnTo>
                  <a:pt x="183" y="475"/>
                </a:lnTo>
                <a:lnTo>
                  <a:pt x="206" y="428"/>
                </a:lnTo>
                <a:lnTo>
                  <a:pt x="222" y="377"/>
                </a:lnTo>
                <a:lnTo>
                  <a:pt x="229" y="323"/>
                </a:lnTo>
                <a:lnTo>
                  <a:pt x="230" y="269"/>
                </a:lnTo>
                <a:lnTo>
                  <a:pt x="222" y="215"/>
                </a:lnTo>
                <a:lnTo>
                  <a:pt x="207" y="164"/>
                </a:lnTo>
                <a:lnTo>
                  <a:pt x="184" y="118"/>
                </a:lnTo>
                <a:lnTo>
                  <a:pt x="156" y="78"/>
                </a:lnTo>
                <a:lnTo>
                  <a:pt x="123" y="45"/>
                </a:lnTo>
                <a:lnTo>
                  <a:pt x="85" y="20"/>
                </a:lnTo>
                <a:lnTo>
                  <a:pt x="45" y="6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Line 59"/>
          <p:cNvSpPr/>
          <p:nvPr/>
        </p:nvSpPr>
        <p:spPr>
          <a:xfrm>
            <a:off x="4370400" y="3025800"/>
            <a:ext cx="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Line 60"/>
          <p:cNvSpPr/>
          <p:nvPr/>
        </p:nvSpPr>
        <p:spPr>
          <a:xfrm>
            <a:off x="4370400" y="2870280"/>
            <a:ext cx="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Line 61"/>
          <p:cNvSpPr/>
          <p:nvPr/>
        </p:nvSpPr>
        <p:spPr>
          <a:xfrm>
            <a:off x="1922400" y="3025800"/>
            <a:ext cx="389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Line 62"/>
          <p:cNvSpPr/>
          <p:nvPr/>
        </p:nvSpPr>
        <p:spPr>
          <a:xfrm>
            <a:off x="1922400" y="2870280"/>
            <a:ext cx="389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Freeform 63"/>
          <p:cNvSpPr/>
          <p:nvPr/>
        </p:nvSpPr>
        <p:spPr>
          <a:xfrm>
            <a:off x="6862680" y="2870280"/>
            <a:ext cx="60480" cy="155520"/>
          </a:xfrm>
          <a:custGeom>
            <a:avLst/>
            <a:gdLst>
              <a:gd name="textAreaLeft" fmla="*/ 0 w 60480"/>
              <a:gd name="textAreaRight" fmla="*/ 60840 w 604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26" h="589">
                <a:moveTo>
                  <a:pt x="0" y="589"/>
                </a:moveTo>
                <a:lnTo>
                  <a:pt x="43" y="585"/>
                </a:lnTo>
                <a:lnTo>
                  <a:pt x="83" y="570"/>
                </a:lnTo>
                <a:lnTo>
                  <a:pt x="120" y="546"/>
                </a:lnTo>
                <a:lnTo>
                  <a:pt x="153" y="513"/>
                </a:lnTo>
                <a:lnTo>
                  <a:pt x="182" y="473"/>
                </a:lnTo>
                <a:lnTo>
                  <a:pt x="204" y="426"/>
                </a:lnTo>
                <a:lnTo>
                  <a:pt x="219" y="376"/>
                </a:lnTo>
                <a:lnTo>
                  <a:pt x="226" y="322"/>
                </a:lnTo>
                <a:lnTo>
                  <a:pt x="226" y="268"/>
                </a:lnTo>
                <a:lnTo>
                  <a:pt x="219" y="214"/>
                </a:lnTo>
                <a:lnTo>
                  <a:pt x="204" y="164"/>
                </a:lnTo>
                <a:lnTo>
                  <a:pt x="182" y="118"/>
                </a:lnTo>
                <a:lnTo>
                  <a:pt x="153" y="78"/>
                </a:lnTo>
                <a:lnTo>
                  <a:pt x="120" y="45"/>
                </a:lnTo>
                <a:lnTo>
                  <a:pt x="83" y="20"/>
                </a:lnTo>
                <a:lnTo>
                  <a:pt x="43" y="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Freeform 64"/>
          <p:cNvSpPr/>
          <p:nvPr/>
        </p:nvSpPr>
        <p:spPr>
          <a:xfrm>
            <a:off x="1862280" y="2870280"/>
            <a:ext cx="60120" cy="155520"/>
          </a:xfrm>
          <a:custGeom>
            <a:avLst/>
            <a:gdLst>
              <a:gd name="textAreaLeft" fmla="*/ 0 w 60120"/>
              <a:gd name="textAreaRight" fmla="*/ 60480 w 6012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30" h="589">
                <a:moveTo>
                  <a:pt x="228" y="0"/>
                </a:moveTo>
                <a:lnTo>
                  <a:pt x="186" y="6"/>
                </a:lnTo>
                <a:lnTo>
                  <a:pt x="145" y="20"/>
                </a:lnTo>
                <a:lnTo>
                  <a:pt x="107" y="44"/>
                </a:lnTo>
                <a:lnTo>
                  <a:pt x="73" y="78"/>
                </a:lnTo>
                <a:lnTo>
                  <a:pt x="46" y="118"/>
                </a:lnTo>
                <a:lnTo>
                  <a:pt x="24" y="164"/>
                </a:lnTo>
                <a:lnTo>
                  <a:pt x="8" y="215"/>
                </a:lnTo>
                <a:lnTo>
                  <a:pt x="0" y="269"/>
                </a:lnTo>
                <a:lnTo>
                  <a:pt x="0" y="324"/>
                </a:lnTo>
                <a:lnTo>
                  <a:pt x="9" y="377"/>
                </a:lnTo>
                <a:lnTo>
                  <a:pt x="25" y="429"/>
                </a:lnTo>
                <a:lnTo>
                  <a:pt x="47" y="475"/>
                </a:lnTo>
                <a:lnTo>
                  <a:pt x="75" y="515"/>
                </a:lnTo>
                <a:lnTo>
                  <a:pt x="109" y="548"/>
                </a:lnTo>
                <a:lnTo>
                  <a:pt x="147" y="571"/>
                </a:lnTo>
                <a:lnTo>
                  <a:pt x="188" y="586"/>
                </a:lnTo>
                <a:lnTo>
                  <a:pt x="230" y="5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Freeform 65"/>
          <p:cNvSpPr/>
          <p:nvPr/>
        </p:nvSpPr>
        <p:spPr>
          <a:xfrm>
            <a:off x="4600440" y="2563920"/>
            <a:ext cx="177840" cy="768240"/>
          </a:xfrm>
          <a:custGeom>
            <a:avLst/>
            <a:gdLst>
              <a:gd name="textAreaLeft" fmla="*/ 0 w 177840"/>
              <a:gd name="textAreaRight" fmla="*/ 177840 w 17784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675" h="2906">
                <a:moveTo>
                  <a:pt x="0" y="2906"/>
                </a:moveTo>
                <a:lnTo>
                  <a:pt x="100" y="2894"/>
                </a:lnTo>
                <a:lnTo>
                  <a:pt x="197" y="2848"/>
                </a:lnTo>
                <a:lnTo>
                  <a:pt x="291" y="2771"/>
                </a:lnTo>
                <a:lnTo>
                  <a:pt x="378" y="2665"/>
                </a:lnTo>
                <a:lnTo>
                  <a:pt x="457" y="2531"/>
                </a:lnTo>
                <a:lnTo>
                  <a:pt x="525" y="2372"/>
                </a:lnTo>
                <a:lnTo>
                  <a:pt x="583" y="2193"/>
                </a:lnTo>
                <a:lnTo>
                  <a:pt x="627" y="1998"/>
                </a:lnTo>
                <a:lnTo>
                  <a:pt x="658" y="1789"/>
                </a:lnTo>
                <a:lnTo>
                  <a:pt x="674" y="1573"/>
                </a:lnTo>
                <a:lnTo>
                  <a:pt x="675" y="1355"/>
                </a:lnTo>
                <a:lnTo>
                  <a:pt x="660" y="1139"/>
                </a:lnTo>
                <a:lnTo>
                  <a:pt x="631" y="931"/>
                </a:lnTo>
                <a:lnTo>
                  <a:pt x="588" y="733"/>
                </a:lnTo>
                <a:lnTo>
                  <a:pt x="533" y="552"/>
                </a:lnTo>
                <a:lnTo>
                  <a:pt x="465" y="392"/>
                </a:lnTo>
                <a:lnTo>
                  <a:pt x="387" y="254"/>
                </a:lnTo>
                <a:lnTo>
                  <a:pt x="301" y="145"/>
                </a:lnTo>
                <a:lnTo>
                  <a:pt x="208" y="65"/>
                </a:lnTo>
                <a:lnTo>
                  <a:pt x="110" y="16"/>
                </a:lnTo>
                <a:lnTo>
                  <a:pt x="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ine 66"/>
          <p:cNvSpPr/>
          <p:nvPr/>
        </p:nvSpPr>
        <p:spPr>
          <a:xfrm>
            <a:off x="4375080" y="3332160"/>
            <a:ext cx="23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Freeform 67"/>
          <p:cNvSpPr/>
          <p:nvPr/>
        </p:nvSpPr>
        <p:spPr>
          <a:xfrm>
            <a:off x="4200480" y="2563920"/>
            <a:ext cx="347760" cy="768240"/>
          </a:xfrm>
          <a:custGeom>
            <a:avLst/>
            <a:gdLst>
              <a:gd name="textAreaLeft" fmla="*/ 0 w 347760"/>
              <a:gd name="textAreaRight" fmla="*/ 348120 w 34776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1315" h="2906">
                <a:moveTo>
                  <a:pt x="0" y="1747"/>
                </a:moveTo>
                <a:lnTo>
                  <a:pt x="28" y="1958"/>
                </a:lnTo>
                <a:lnTo>
                  <a:pt x="70" y="2157"/>
                </a:lnTo>
                <a:lnTo>
                  <a:pt x="125" y="2340"/>
                </a:lnTo>
                <a:lnTo>
                  <a:pt x="192" y="2503"/>
                </a:lnTo>
                <a:lnTo>
                  <a:pt x="269" y="2642"/>
                </a:lnTo>
                <a:lnTo>
                  <a:pt x="355" y="2754"/>
                </a:lnTo>
                <a:lnTo>
                  <a:pt x="448" y="2837"/>
                </a:lnTo>
                <a:lnTo>
                  <a:pt x="544" y="2887"/>
                </a:lnTo>
                <a:lnTo>
                  <a:pt x="645" y="2906"/>
                </a:lnTo>
                <a:lnTo>
                  <a:pt x="745" y="2893"/>
                </a:lnTo>
                <a:lnTo>
                  <a:pt x="842" y="2846"/>
                </a:lnTo>
                <a:lnTo>
                  <a:pt x="936" y="2768"/>
                </a:lnTo>
                <a:lnTo>
                  <a:pt x="1023" y="2660"/>
                </a:lnTo>
                <a:lnTo>
                  <a:pt x="1101" y="2524"/>
                </a:lnTo>
                <a:lnTo>
                  <a:pt x="1170" y="2365"/>
                </a:lnTo>
                <a:lnTo>
                  <a:pt x="1226" y="2184"/>
                </a:lnTo>
                <a:lnTo>
                  <a:pt x="1271" y="1987"/>
                </a:lnTo>
                <a:lnTo>
                  <a:pt x="1300" y="1779"/>
                </a:lnTo>
                <a:lnTo>
                  <a:pt x="1315" y="1563"/>
                </a:lnTo>
                <a:lnTo>
                  <a:pt x="1315" y="1344"/>
                </a:lnTo>
                <a:lnTo>
                  <a:pt x="1300" y="1128"/>
                </a:lnTo>
                <a:lnTo>
                  <a:pt x="1271" y="919"/>
                </a:lnTo>
                <a:lnTo>
                  <a:pt x="1226" y="722"/>
                </a:lnTo>
                <a:lnTo>
                  <a:pt x="1170" y="541"/>
                </a:lnTo>
                <a:lnTo>
                  <a:pt x="1101" y="382"/>
                </a:lnTo>
                <a:lnTo>
                  <a:pt x="1023" y="247"/>
                </a:lnTo>
                <a:lnTo>
                  <a:pt x="936" y="139"/>
                </a:lnTo>
                <a:lnTo>
                  <a:pt x="842" y="60"/>
                </a:lnTo>
                <a:lnTo>
                  <a:pt x="745" y="14"/>
                </a:lnTo>
                <a:lnTo>
                  <a:pt x="645" y="0"/>
                </a:lnTo>
                <a:lnTo>
                  <a:pt x="544" y="19"/>
                </a:lnTo>
                <a:lnTo>
                  <a:pt x="448" y="70"/>
                </a:lnTo>
                <a:lnTo>
                  <a:pt x="355" y="152"/>
                </a:lnTo>
                <a:lnTo>
                  <a:pt x="269" y="265"/>
                </a:lnTo>
                <a:lnTo>
                  <a:pt x="192" y="403"/>
                </a:lnTo>
                <a:lnTo>
                  <a:pt x="125" y="566"/>
                </a:lnTo>
                <a:lnTo>
                  <a:pt x="70" y="750"/>
                </a:lnTo>
                <a:lnTo>
                  <a:pt x="28" y="949"/>
                </a:lnTo>
                <a:lnTo>
                  <a:pt x="0" y="11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Freeform 68"/>
          <p:cNvSpPr/>
          <p:nvPr/>
        </p:nvSpPr>
        <p:spPr>
          <a:xfrm flipV="1">
            <a:off x="4629240" y="2716920"/>
            <a:ext cx="33120" cy="460440"/>
          </a:xfrm>
          <a:custGeom>
            <a:avLst/>
            <a:gdLst>
              <a:gd name="textAreaLeft" fmla="*/ 0 w 33120"/>
              <a:gd name="textAreaRight" fmla="*/ 33480 w 3312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131" h="1742">
                <a:moveTo>
                  <a:pt x="0" y="1742"/>
                </a:moveTo>
                <a:lnTo>
                  <a:pt x="52" y="1567"/>
                </a:lnTo>
                <a:lnTo>
                  <a:pt x="91" y="1379"/>
                </a:lnTo>
                <a:lnTo>
                  <a:pt x="118" y="1180"/>
                </a:lnTo>
                <a:lnTo>
                  <a:pt x="131" y="974"/>
                </a:lnTo>
                <a:lnTo>
                  <a:pt x="131" y="768"/>
                </a:lnTo>
                <a:lnTo>
                  <a:pt x="118" y="563"/>
                </a:lnTo>
                <a:lnTo>
                  <a:pt x="91" y="364"/>
                </a:lnTo>
                <a:lnTo>
                  <a:pt x="52" y="17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Line 69"/>
          <p:cNvSpPr/>
          <p:nvPr/>
        </p:nvSpPr>
        <p:spPr>
          <a:xfrm>
            <a:off x="4371840" y="2563920"/>
            <a:ext cx="23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Freeform 70"/>
          <p:cNvSpPr/>
          <p:nvPr/>
        </p:nvSpPr>
        <p:spPr>
          <a:xfrm>
            <a:off x="1862280" y="2870280"/>
            <a:ext cx="118800" cy="155520"/>
          </a:xfrm>
          <a:custGeom>
            <a:avLst/>
            <a:gdLst>
              <a:gd name="textAreaLeft" fmla="*/ 0 w 118800"/>
              <a:gd name="textAreaRight" fmla="*/ 119160 w 1188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453" h="588">
                <a:moveTo>
                  <a:pt x="227" y="0"/>
                </a:moveTo>
                <a:lnTo>
                  <a:pt x="184" y="7"/>
                </a:lnTo>
                <a:lnTo>
                  <a:pt x="143" y="22"/>
                </a:lnTo>
                <a:lnTo>
                  <a:pt x="104" y="48"/>
                </a:lnTo>
                <a:lnTo>
                  <a:pt x="71" y="82"/>
                </a:lnTo>
                <a:lnTo>
                  <a:pt x="43" y="124"/>
                </a:lnTo>
                <a:lnTo>
                  <a:pt x="21" y="173"/>
                </a:lnTo>
                <a:lnTo>
                  <a:pt x="7" y="226"/>
                </a:lnTo>
                <a:lnTo>
                  <a:pt x="0" y="281"/>
                </a:lnTo>
                <a:lnTo>
                  <a:pt x="2" y="337"/>
                </a:lnTo>
                <a:lnTo>
                  <a:pt x="13" y="391"/>
                </a:lnTo>
                <a:lnTo>
                  <a:pt x="31" y="442"/>
                </a:lnTo>
                <a:lnTo>
                  <a:pt x="55" y="488"/>
                </a:lnTo>
                <a:lnTo>
                  <a:pt x="87" y="527"/>
                </a:lnTo>
                <a:lnTo>
                  <a:pt x="123" y="557"/>
                </a:lnTo>
                <a:lnTo>
                  <a:pt x="163" y="577"/>
                </a:lnTo>
                <a:lnTo>
                  <a:pt x="206" y="588"/>
                </a:lnTo>
                <a:lnTo>
                  <a:pt x="248" y="588"/>
                </a:lnTo>
                <a:lnTo>
                  <a:pt x="290" y="577"/>
                </a:lnTo>
                <a:lnTo>
                  <a:pt x="331" y="557"/>
                </a:lnTo>
                <a:lnTo>
                  <a:pt x="367" y="527"/>
                </a:lnTo>
                <a:lnTo>
                  <a:pt x="398" y="488"/>
                </a:lnTo>
                <a:lnTo>
                  <a:pt x="423" y="442"/>
                </a:lnTo>
                <a:lnTo>
                  <a:pt x="441" y="391"/>
                </a:lnTo>
                <a:lnTo>
                  <a:pt x="451" y="337"/>
                </a:lnTo>
                <a:lnTo>
                  <a:pt x="453" y="281"/>
                </a:lnTo>
                <a:lnTo>
                  <a:pt x="447" y="226"/>
                </a:lnTo>
                <a:lnTo>
                  <a:pt x="433" y="173"/>
                </a:lnTo>
                <a:lnTo>
                  <a:pt x="411" y="124"/>
                </a:lnTo>
                <a:lnTo>
                  <a:pt x="384" y="82"/>
                </a:lnTo>
                <a:lnTo>
                  <a:pt x="350" y="48"/>
                </a:lnTo>
                <a:lnTo>
                  <a:pt x="312" y="22"/>
                </a:lnTo>
                <a:lnTo>
                  <a:pt x="270" y="7"/>
                </a:lnTo>
                <a:lnTo>
                  <a:pt x="22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71"/>
          <p:cNvSpPr/>
          <p:nvPr/>
        </p:nvSpPr>
        <p:spPr>
          <a:xfrm>
            <a:off x="1042920" y="907920"/>
            <a:ext cx="770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一传动系统如图所示。主轴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AC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以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n=960r/min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作均速转动。已知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=27.5kW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， 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=20kW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， 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=7.5kW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作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AC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轴的扭矩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8" name="Object 72"/>
          <p:cNvGraphicFramePr/>
          <p:nvPr/>
        </p:nvGraphicFramePr>
        <p:xfrm>
          <a:off x="2394000" y="3608280"/>
          <a:ext cx="28584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9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4000" y="3608280"/>
                    <a:ext cx="2858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Object 73"/>
          <p:cNvGraphicFramePr/>
          <p:nvPr/>
        </p:nvGraphicFramePr>
        <p:xfrm>
          <a:off x="4411800" y="3435480"/>
          <a:ext cx="28548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1" name="Object 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1800" y="3435480"/>
                    <a:ext cx="2854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2" name="Object 74"/>
          <p:cNvGraphicFramePr/>
          <p:nvPr/>
        </p:nvGraphicFramePr>
        <p:xfrm>
          <a:off x="6299280" y="3424320"/>
          <a:ext cx="28584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3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99280" y="3424320"/>
                    <a:ext cx="2858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4" name="Object 75"/>
          <p:cNvGraphicFramePr/>
          <p:nvPr/>
        </p:nvGraphicFramePr>
        <p:xfrm>
          <a:off x="1943280" y="2022480"/>
          <a:ext cx="1320480" cy="34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5" name="Object 7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43280" y="2022480"/>
                    <a:ext cx="13204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76"/>
          <p:cNvGraphicFramePr/>
          <p:nvPr/>
        </p:nvGraphicFramePr>
        <p:xfrm>
          <a:off x="4017960" y="2022480"/>
          <a:ext cx="114768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7" name="Object 7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17960" y="2022480"/>
                    <a:ext cx="11476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77"/>
          <p:cNvGraphicFramePr/>
          <p:nvPr/>
        </p:nvGraphicFramePr>
        <p:xfrm>
          <a:off x="5992920" y="2022480"/>
          <a:ext cx="1206360" cy="34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9" name="Object 7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92920" y="2022480"/>
                    <a:ext cx="120636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78"/>
          <p:cNvGraphicFramePr/>
          <p:nvPr/>
        </p:nvGraphicFramePr>
        <p:xfrm>
          <a:off x="1874880" y="3952800"/>
          <a:ext cx="4565520" cy="84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1" name="Object 7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74880" y="3952800"/>
                    <a:ext cx="45655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9"/>
          <p:cNvSpPr/>
          <p:nvPr/>
        </p:nvSpPr>
        <p:spPr>
          <a:xfrm>
            <a:off x="1042920" y="39178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3" name="Object 80"/>
          <p:cNvGraphicFramePr/>
          <p:nvPr/>
        </p:nvGraphicFramePr>
        <p:xfrm>
          <a:off x="1886040" y="4838760"/>
          <a:ext cx="4184640" cy="842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4" name="Object 8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86040" y="4838760"/>
                    <a:ext cx="41846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81"/>
          <p:cNvGraphicFramePr/>
          <p:nvPr/>
        </p:nvGraphicFramePr>
        <p:xfrm>
          <a:off x="1844640" y="5913360"/>
          <a:ext cx="6138720" cy="488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6" name="Object 8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4640" y="5913360"/>
                    <a:ext cx="61387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7" name="AutoShape 82">
            <a:hlinkClick r:id="" action="ppaction://hlinkshowjump?jump=nextslide"/>
          </p:cNvPr>
          <p:cNvSpPr/>
          <p:nvPr/>
        </p:nvSpPr>
        <p:spPr>
          <a:xfrm>
            <a:off x="8101080" y="58802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Freeform 4"/>
          <p:cNvSpPr/>
          <p:nvPr/>
        </p:nvSpPr>
        <p:spPr>
          <a:xfrm>
            <a:off x="1449360" y="4110120"/>
            <a:ext cx="28440" cy="520560"/>
          </a:xfrm>
          <a:custGeom>
            <a:avLst/>
            <a:gdLst>
              <a:gd name="textAreaLeft" fmla="*/ 0 w 28440"/>
              <a:gd name="textAreaRight" fmla="*/ 28800 w 2844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81" h="813">
                <a:moveTo>
                  <a:pt x="37" y="813"/>
                </a:moveTo>
                <a:lnTo>
                  <a:pt x="50" y="762"/>
                </a:lnTo>
                <a:lnTo>
                  <a:pt x="60" y="708"/>
                </a:lnTo>
                <a:lnTo>
                  <a:pt x="69" y="653"/>
                </a:lnTo>
                <a:lnTo>
                  <a:pt x="75" y="596"/>
                </a:lnTo>
                <a:lnTo>
                  <a:pt x="79" y="539"/>
                </a:lnTo>
                <a:lnTo>
                  <a:pt x="81" y="480"/>
                </a:lnTo>
                <a:lnTo>
                  <a:pt x="80" y="422"/>
                </a:lnTo>
                <a:lnTo>
                  <a:pt x="78" y="364"/>
                </a:lnTo>
                <a:lnTo>
                  <a:pt x="73" y="307"/>
                </a:lnTo>
                <a:lnTo>
                  <a:pt x="67" y="251"/>
                </a:lnTo>
                <a:lnTo>
                  <a:pt x="57" y="196"/>
                </a:lnTo>
                <a:lnTo>
                  <a:pt x="45" y="143"/>
                </a:lnTo>
                <a:lnTo>
                  <a:pt x="32" y="93"/>
                </a:lnTo>
                <a:lnTo>
                  <a:pt x="17" y="4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Freeform 5"/>
          <p:cNvSpPr/>
          <p:nvPr/>
        </p:nvSpPr>
        <p:spPr>
          <a:xfrm>
            <a:off x="1101600" y="4146480"/>
            <a:ext cx="28800" cy="520920"/>
          </a:xfrm>
          <a:custGeom>
            <a:avLst/>
            <a:gdLst>
              <a:gd name="textAreaLeft" fmla="*/ 0 w 28800"/>
              <a:gd name="textAreaRight" fmla="*/ 29160 w 288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81" h="813">
                <a:moveTo>
                  <a:pt x="37" y="813"/>
                </a:moveTo>
                <a:lnTo>
                  <a:pt x="50" y="762"/>
                </a:lnTo>
                <a:lnTo>
                  <a:pt x="60" y="708"/>
                </a:lnTo>
                <a:lnTo>
                  <a:pt x="69" y="653"/>
                </a:lnTo>
                <a:lnTo>
                  <a:pt x="75" y="596"/>
                </a:lnTo>
                <a:lnTo>
                  <a:pt x="79" y="539"/>
                </a:lnTo>
                <a:lnTo>
                  <a:pt x="81" y="480"/>
                </a:lnTo>
                <a:lnTo>
                  <a:pt x="80" y="422"/>
                </a:lnTo>
                <a:lnTo>
                  <a:pt x="78" y="364"/>
                </a:lnTo>
                <a:lnTo>
                  <a:pt x="73" y="307"/>
                </a:lnTo>
                <a:lnTo>
                  <a:pt x="67" y="251"/>
                </a:lnTo>
                <a:lnTo>
                  <a:pt x="57" y="196"/>
                </a:lnTo>
                <a:lnTo>
                  <a:pt x="45" y="143"/>
                </a:lnTo>
                <a:lnTo>
                  <a:pt x="32" y="93"/>
                </a:lnTo>
                <a:lnTo>
                  <a:pt x="17" y="4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0" name="Object 6"/>
          <p:cNvGraphicFramePr/>
          <p:nvPr/>
        </p:nvGraphicFramePr>
        <p:xfrm>
          <a:off x="909720" y="3716280"/>
          <a:ext cx="43164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3716280"/>
                    <a:ext cx="4316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7"/>
          <p:cNvGraphicFramePr/>
          <p:nvPr/>
        </p:nvGraphicFramePr>
        <p:xfrm>
          <a:off x="1308240" y="4568760"/>
          <a:ext cx="52704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8240" y="4568760"/>
                    <a:ext cx="527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Freeform 8"/>
          <p:cNvSpPr/>
          <p:nvPr/>
        </p:nvSpPr>
        <p:spPr>
          <a:xfrm>
            <a:off x="2568600" y="5500800"/>
            <a:ext cx="22320" cy="520560"/>
          </a:xfrm>
          <a:custGeom>
            <a:avLst/>
            <a:gdLst>
              <a:gd name="textAreaLeft" fmla="*/ 0 w 22320"/>
              <a:gd name="textAreaRight" fmla="*/ 22680 w 223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62" h="820">
                <a:moveTo>
                  <a:pt x="0" y="820"/>
                </a:moveTo>
                <a:lnTo>
                  <a:pt x="15" y="771"/>
                </a:lnTo>
                <a:lnTo>
                  <a:pt x="28" y="721"/>
                </a:lnTo>
                <a:lnTo>
                  <a:pt x="40" y="667"/>
                </a:lnTo>
                <a:lnTo>
                  <a:pt x="49" y="612"/>
                </a:lnTo>
                <a:lnTo>
                  <a:pt x="55" y="555"/>
                </a:lnTo>
                <a:lnTo>
                  <a:pt x="60" y="497"/>
                </a:lnTo>
                <a:lnTo>
                  <a:pt x="62" y="439"/>
                </a:lnTo>
                <a:lnTo>
                  <a:pt x="62" y="380"/>
                </a:lnTo>
                <a:lnTo>
                  <a:pt x="60" y="321"/>
                </a:lnTo>
                <a:lnTo>
                  <a:pt x="55" y="264"/>
                </a:lnTo>
                <a:lnTo>
                  <a:pt x="49" y="207"/>
                </a:lnTo>
                <a:lnTo>
                  <a:pt x="40" y="152"/>
                </a:lnTo>
                <a:lnTo>
                  <a:pt x="28" y="99"/>
                </a:lnTo>
                <a:lnTo>
                  <a:pt x="15" y="4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Freeform 9"/>
          <p:cNvSpPr/>
          <p:nvPr/>
        </p:nvSpPr>
        <p:spPr>
          <a:xfrm>
            <a:off x="3605040" y="5530680"/>
            <a:ext cx="22320" cy="520920"/>
          </a:xfrm>
          <a:custGeom>
            <a:avLst/>
            <a:gdLst>
              <a:gd name="textAreaLeft" fmla="*/ 0 w 22320"/>
              <a:gd name="textAreaRight" fmla="*/ 22680 w 223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62" h="820">
                <a:moveTo>
                  <a:pt x="0" y="820"/>
                </a:moveTo>
                <a:lnTo>
                  <a:pt x="15" y="771"/>
                </a:lnTo>
                <a:lnTo>
                  <a:pt x="28" y="721"/>
                </a:lnTo>
                <a:lnTo>
                  <a:pt x="40" y="667"/>
                </a:lnTo>
                <a:lnTo>
                  <a:pt x="49" y="612"/>
                </a:lnTo>
                <a:lnTo>
                  <a:pt x="55" y="555"/>
                </a:lnTo>
                <a:lnTo>
                  <a:pt x="60" y="497"/>
                </a:lnTo>
                <a:lnTo>
                  <a:pt x="62" y="439"/>
                </a:lnTo>
                <a:lnTo>
                  <a:pt x="62" y="380"/>
                </a:lnTo>
                <a:lnTo>
                  <a:pt x="60" y="321"/>
                </a:lnTo>
                <a:lnTo>
                  <a:pt x="55" y="264"/>
                </a:lnTo>
                <a:lnTo>
                  <a:pt x="49" y="207"/>
                </a:lnTo>
                <a:lnTo>
                  <a:pt x="40" y="152"/>
                </a:lnTo>
                <a:lnTo>
                  <a:pt x="28" y="99"/>
                </a:lnTo>
                <a:lnTo>
                  <a:pt x="15" y="4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6" name="Object 10"/>
          <p:cNvGraphicFramePr/>
          <p:nvPr/>
        </p:nvGraphicFramePr>
        <p:xfrm>
          <a:off x="2411280" y="5019840"/>
          <a:ext cx="432000" cy="4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5019840"/>
                    <a:ext cx="4320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8" name="Object 11"/>
          <p:cNvGraphicFramePr/>
          <p:nvPr/>
        </p:nvGraphicFramePr>
        <p:xfrm>
          <a:off x="3444840" y="6093000"/>
          <a:ext cx="55080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9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44840" y="6093000"/>
                    <a:ext cx="5508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0" name="Text Box 12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  例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Freeform 13"/>
          <p:cNvSpPr/>
          <p:nvPr/>
        </p:nvSpPr>
        <p:spPr>
          <a:xfrm>
            <a:off x="4264200" y="2373480"/>
            <a:ext cx="29880" cy="460080"/>
          </a:xfrm>
          <a:custGeom>
            <a:avLst/>
            <a:gdLst>
              <a:gd name="textAreaLeft" fmla="*/ 0 w 29880"/>
              <a:gd name="textAreaRight" fmla="*/ 30240 w 2988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31" h="1742">
                <a:moveTo>
                  <a:pt x="0" y="1742"/>
                </a:moveTo>
                <a:lnTo>
                  <a:pt x="52" y="1567"/>
                </a:lnTo>
                <a:lnTo>
                  <a:pt x="91" y="1379"/>
                </a:lnTo>
                <a:lnTo>
                  <a:pt x="118" y="1180"/>
                </a:lnTo>
                <a:lnTo>
                  <a:pt x="131" y="974"/>
                </a:lnTo>
                <a:lnTo>
                  <a:pt x="131" y="768"/>
                </a:lnTo>
                <a:lnTo>
                  <a:pt x="118" y="563"/>
                </a:lnTo>
                <a:lnTo>
                  <a:pt x="91" y="364"/>
                </a:lnTo>
                <a:lnTo>
                  <a:pt x="52" y="17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Freeform 14"/>
          <p:cNvSpPr/>
          <p:nvPr/>
        </p:nvSpPr>
        <p:spPr>
          <a:xfrm>
            <a:off x="879480" y="2260440"/>
            <a:ext cx="60480" cy="685800"/>
          </a:xfrm>
          <a:custGeom>
            <a:avLst/>
            <a:gdLst>
              <a:gd name="textAreaLeft" fmla="*/ 0 w 60480"/>
              <a:gd name="textAreaRight" fmla="*/ 60840 w 60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60" h="2589">
                <a:moveTo>
                  <a:pt x="119" y="2589"/>
                </a:moveTo>
                <a:lnTo>
                  <a:pt x="173" y="2364"/>
                </a:lnTo>
                <a:lnTo>
                  <a:pt x="215" y="2127"/>
                </a:lnTo>
                <a:lnTo>
                  <a:pt x="243" y="1881"/>
                </a:lnTo>
                <a:lnTo>
                  <a:pt x="258" y="1630"/>
                </a:lnTo>
                <a:lnTo>
                  <a:pt x="260" y="1377"/>
                </a:lnTo>
                <a:lnTo>
                  <a:pt x="249" y="1125"/>
                </a:lnTo>
                <a:lnTo>
                  <a:pt x="223" y="878"/>
                </a:lnTo>
                <a:lnTo>
                  <a:pt x="185" y="638"/>
                </a:lnTo>
                <a:lnTo>
                  <a:pt x="135" y="411"/>
                </a:lnTo>
                <a:lnTo>
                  <a:pt x="73" y="19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15"/>
          <p:cNvSpPr/>
          <p:nvPr/>
        </p:nvSpPr>
        <p:spPr>
          <a:xfrm flipH="1">
            <a:off x="3058920" y="2739960"/>
            <a:ext cx="32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16"/>
          <p:cNvSpPr/>
          <p:nvPr/>
        </p:nvSpPr>
        <p:spPr>
          <a:xfrm flipH="1">
            <a:off x="1725480" y="2739960"/>
            <a:ext cx="32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17"/>
          <p:cNvSpPr/>
          <p:nvPr/>
        </p:nvSpPr>
        <p:spPr>
          <a:xfrm flipH="1">
            <a:off x="3058920" y="2468520"/>
            <a:ext cx="32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18"/>
          <p:cNvSpPr/>
          <p:nvPr/>
        </p:nvSpPr>
        <p:spPr>
          <a:xfrm flipH="1">
            <a:off x="1725480" y="2468520"/>
            <a:ext cx="32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19"/>
          <p:cNvSpPr/>
          <p:nvPr/>
        </p:nvSpPr>
        <p:spPr>
          <a:xfrm flipV="1">
            <a:off x="3333600" y="2851200"/>
            <a:ext cx="4788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Line 20"/>
          <p:cNvSpPr/>
          <p:nvPr/>
        </p:nvSpPr>
        <p:spPr>
          <a:xfrm flipV="1">
            <a:off x="3244680" y="2747520"/>
            <a:ext cx="136800" cy="15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3157560" y="2739600"/>
            <a:ext cx="142920" cy="16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Line 22"/>
          <p:cNvSpPr/>
          <p:nvPr/>
        </p:nvSpPr>
        <p:spPr>
          <a:xfrm flipV="1">
            <a:off x="3067200" y="2739600"/>
            <a:ext cx="144360" cy="16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3357720" y="2441160"/>
            <a:ext cx="2376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3059280" y="2739600"/>
            <a:ext cx="6336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Line 25"/>
          <p:cNvSpPr/>
          <p:nvPr/>
        </p:nvSpPr>
        <p:spPr>
          <a:xfrm flipV="1">
            <a:off x="3268800" y="2338200"/>
            <a:ext cx="11268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Line 26"/>
          <p:cNvSpPr/>
          <p:nvPr/>
        </p:nvSpPr>
        <p:spPr>
          <a:xfrm flipV="1">
            <a:off x="3179880" y="2301480"/>
            <a:ext cx="144360" cy="1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Line 27"/>
          <p:cNvSpPr/>
          <p:nvPr/>
        </p:nvSpPr>
        <p:spPr>
          <a:xfrm flipV="1">
            <a:off x="3092400" y="2301480"/>
            <a:ext cx="142920" cy="1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Line 28"/>
          <p:cNvSpPr/>
          <p:nvPr/>
        </p:nvSpPr>
        <p:spPr>
          <a:xfrm flipV="1">
            <a:off x="3059280" y="2301840"/>
            <a:ext cx="8856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Line 29"/>
          <p:cNvSpPr/>
          <p:nvPr/>
        </p:nvSpPr>
        <p:spPr>
          <a:xfrm flipV="1">
            <a:off x="2041560" y="2898720"/>
            <a:ext cx="792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Line 30"/>
          <p:cNvSpPr/>
          <p:nvPr/>
        </p:nvSpPr>
        <p:spPr>
          <a:xfrm flipV="1">
            <a:off x="1954080" y="2795760"/>
            <a:ext cx="954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Line 31"/>
          <p:cNvSpPr/>
          <p:nvPr/>
        </p:nvSpPr>
        <p:spPr>
          <a:xfrm flipV="1">
            <a:off x="1863720" y="2739600"/>
            <a:ext cx="144360" cy="16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Line 32"/>
          <p:cNvSpPr/>
          <p:nvPr/>
        </p:nvSpPr>
        <p:spPr>
          <a:xfrm flipV="1">
            <a:off x="1776240" y="2739600"/>
            <a:ext cx="144720" cy="16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Line 33"/>
          <p:cNvSpPr/>
          <p:nvPr/>
        </p:nvSpPr>
        <p:spPr>
          <a:xfrm flipV="1">
            <a:off x="1725480" y="2739600"/>
            <a:ext cx="10476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Line 34"/>
          <p:cNvSpPr/>
          <p:nvPr/>
        </p:nvSpPr>
        <p:spPr>
          <a:xfrm flipV="1">
            <a:off x="1978200" y="2385720"/>
            <a:ext cx="7128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Line 35"/>
          <p:cNvSpPr/>
          <p:nvPr/>
        </p:nvSpPr>
        <p:spPr>
          <a:xfrm flipV="1">
            <a:off x="1725480" y="273960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Line 36"/>
          <p:cNvSpPr/>
          <p:nvPr/>
        </p:nvSpPr>
        <p:spPr>
          <a:xfrm flipV="1">
            <a:off x="1889280" y="2301480"/>
            <a:ext cx="142560" cy="1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Line 37"/>
          <p:cNvSpPr/>
          <p:nvPr/>
        </p:nvSpPr>
        <p:spPr>
          <a:xfrm flipV="1">
            <a:off x="1800360" y="2301480"/>
            <a:ext cx="144360" cy="1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Line 38"/>
          <p:cNvSpPr/>
          <p:nvPr/>
        </p:nvSpPr>
        <p:spPr>
          <a:xfrm flipV="1">
            <a:off x="1725480" y="2301480"/>
            <a:ext cx="130320" cy="14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Line 39"/>
          <p:cNvSpPr/>
          <p:nvPr/>
        </p:nvSpPr>
        <p:spPr>
          <a:xfrm flipV="1">
            <a:off x="1725480" y="2301840"/>
            <a:ext cx="414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Line 40"/>
          <p:cNvSpPr/>
          <p:nvPr/>
        </p:nvSpPr>
        <p:spPr>
          <a:xfrm>
            <a:off x="4390920" y="2681280"/>
            <a:ext cx="12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41"/>
          <p:cNvSpPr/>
          <p:nvPr/>
        </p:nvSpPr>
        <p:spPr>
          <a:xfrm>
            <a:off x="4390920" y="2525760"/>
            <a:ext cx="12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Freeform 42"/>
          <p:cNvSpPr/>
          <p:nvPr/>
        </p:nvSpPr>
        <p:spPr>
          <a:xfrm>
            <a:off x="4040280" y="2525760"/>
            <a:ext cx="54000" cy="155520"/>
          </a:xfrm>
          <a:custGeom>
            <a:avLst/>
            <a:gdLst>
              <a:gd name="textAreaLeft" fmla="*/ 0 w 54000"/>
              <a:gd name="textAreaRight" fmla="*/ 54360 w 540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30" h="589">
                <a:moveTo>
                  <a:pt x="0" y="589"/>
                </a:moveTo>
                <a:lnTo>
                  <a:pt x="42" y="586"/>
                </a:lnTo>
                <a:lnTo>
                  <a:pt x="83" y="571"/>
                </a:lnTo>
                <a:lnTo>
                  <a:pt x="121" y="548"/>
                </a:lnTo>
                <a:lnTo>
                  <a:pt x="155" y="515"/>
                </a:lnTo>
                <a:lnTo>
                  <a:pt x="183" y="475"/>
                </a:lnTo>
                <a:lnTo>
                  <a:pt x="206" y="428"/>
                </a:lnTo>
                <a:lnTo>
                  <a:pt x="221" y="377"/>
                </a:lnTo>
                <a:lnTo>
                  <a:pt x="229" y="324"/>
                </a:lnTo>
                <a:lnTo>
                  <a:pt x="230" y="269"/>
                </a:lnTo>
                <a:lnTo>
                  <a:pt x="221" y="215"/>
                </a:lnTo>
                <a:lnTo>
                  <a:pt x="207" y="164"/>
                </a:lnTo>
                <a:lnTo>
                  <a:pt x="184" y="118"/>
                </a:lnTo>
                <a:lnTo>
                  <a:pt x="156" y="78"/>
                </a:lnTo>
                <a:lnTo>
                  <a:pt x="122" y="45"/>
                </a:lnTo>
                <a:lnTo>
                  <a:pt x="85" y="20"/>
                </a:lnTo>
                <a:lnTo>
                  <a:pt x="44" y="6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Line 43"/>
          <p:cNvSpPr/>
          <p:nvPr/>
        </p:nvSpPr>
        <p:spPr>
          <a:xfrm>
            <a:off x="2700360" y="2681280"/>
            <a:ext cx="1341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Line 44"/>
          <p:cNvSpPr/>
          <p:nvPr/>
        </p:nvSpPr>
        <p:spPr>
          <a:xfrm>
            <a:off x="2700360" y="2525760"/>
            <a:ext cx="1341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45"/>
          <p:cNvSpPr/>
          <p:nvPr/>
        </p:nvSpPr>
        <p:spPr>
          <a:xfrm>
            <a:off x="1084320" y="2525760"/>
            <a:ext cx="1266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1089000" y="2681280"/>
            <a:ext cx="1262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Freeform 47"/>
          <p:cNvSpPr/>
          <p:nvPr/>
        </p:nvSpPr>
        <p:spPr>
          <a:xfrm>
            <a:off x="560520" y="2525760"/>
            <a:ext cx="52200" cy="155520"/>
          </a:xfrm>
          <a:custGeom>
            <a:avLst/>
            <a:gdLst>
              <a:gd name="textAreaLeft" fmla="*/ 0 w 52200"/>
              <a:gd name="textAreaRight" fmla="*/ 52560 w 52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29" h="589">
                <a:moveTo>
                  <a:pt x="0" y="589"/>
                </a:moveTo>
                <a:lnTo>
                  <a:pt x="42" y="586"/>
                </a:lnTo>
                <a:lnTo>
                  <a:pt x="83" y="571"/>
                </a:lnTo>
                <a:lnTo>
                  <a:pt x="121" y="548"/>
                </a:lnTo>
                <a:lnTo>
                  <a:pt x="155" y="515"/>
                </a:lnTo>
                <a:lnTo>
                  <a:pt x="184" y="475"/>
                </a:lnTo>
                <a:lnTo>
                  <a:pt x="206" y="428"/>
                </a:lnTo>
                <a:lnTo>
                  <a:pt x="222" y="377"/>
                </a:lnTo>
                <a:lnTo>
                  <a:pt x="229" y="324"/>
                </a:lnTo>
                <a:lnTo>
                  <a:pt x="229" y="269"/>
                </a:lnTo>
                <a:lnTo>
                  <a:pt x="222" y="215"/>
                </a:lnTo>
                <a:lnTo>
                  <a:pt x="207" y="164"/>
                </a:lnTo>
                <a:lnTo>
                  <a:pt x="185" y="118"/>
                </a:lnTo>
                <a:lnTo>
                  <a:pt x="156" y="78"/>
                </a:lnTo>
                <a:lnTo>
                  <a:pt x="122" y="45"/>
                </a:lnTo>
                <a:lnTo>
                  <a:pt x="85" y="20"/>
                </a:lnTo>
                <a:lnTo>
                  <a:pt x="44" y="6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Line 48"/>
          <p:cNvSpPr/>
          <p:nvPr/>
        </p:nvSpPr>
        <p:spPr>
          <a:xfrm>
            <a:off x="4041720" y="2219400"/>
            <a:ext cx="200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Freeform 49"/>
          <p:cNvSpPr/>
          <p:nvPr/>
        </p:nvSpPr>
        <p:spPr>
          <a:xfrm>
            <a:off x="3890880" y="2219400"/>
            <a:ext cx="303120" cy="768240"/>
          </a:xfrm>
          <a:custGeom>
            <a:avLst/>
            <a:gdLst>
              <a:gd name="textAreaLeft" fmla="*/ 0 w 303120"/>
              <a:gd name="textAreaRight" fmla="*/ 303120 w 30312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1315" h="2906">
                <a:moveTo>
                  <a:pt x="0" y="1747"/>
                </a:moveTo>
                <a:lnTo>
                  <a:pt x="28" y="1958"/>
                </a:lnTo>
                <a:lnTo>
                  <a:pt x="70" y="2157"/>
                </a:lnTo>
                <a:lnTo>
                  <a:pt x="125" y="2340"/>
                </a:lnTo>
                <a:lnTo>
                  <a:pt x="192" y="2503"/>
                </a:lnTo>
                <a:lnTo>
                  <a:pt x="269" y="2642"/>
                </a:lnTo>
                <a:lnTo>
                  <a:pt x="355" y="2754"/>
                </a:lnTo>
                <a:lnTo>
                  <a:pt x="448" y="2837"/>
                </a:lnTo>
                <a:lnTo>
                  <a:pt x="544" y="2887"/>
                </a:lnTo>
                <a:lnTo>
                  <a:pt x="645" y="2906"/>
                </a:lnTo>
                <a:lnTo>
                  <a:pt x="744" y="2893"/>
                </a:lnTo>
                <a:lnTo>
                  <a:pt x="842" y="2846"/>
                </a:lnTo>
                <a:lnTo>
                  <a:pt x="936" y="2768"/>
                </a:lnTo>
                <a:lnTo>
                  <a:pt x="1023" y="2660"/>
                </a:lnTo>
                <a:lnTo>
                  <a:pt x="1101" y="2524"/>
                </a:lnTo>
                <a:lnTo>
                  <a:pt x="1170" y="2365"/>
                </a:lnTo>
                <a:lnTo>
                  <a:pt x="1226" y="2184"/>
                </a:lnTo>
                <a:lnTo>
                  <a:pt x="1271" y="1987"/>
                </a:lnTo>
                <a:lnTo>
                  <a:pt x="1300" y="1779"/>
                </a:lnTo>
                <a:lnTo>
                  <a:pt x="1315" y="1563"/>
                </a:lnTo>
                <a:lnTo>
                  <a:pt x="1315" y="1344"/>
                </a:lnTo>
                <a:lnTo>
                  <a:pt x="1300" y="1128"/>
                </a:lnTo>
                <a:lnTo>
                  <a:pt x="1271" y="919"/>
                </a:lnTo>
                <a:lnTo>
                  <a:pt x="1226" y="722"/>
                </a:lnTo>
                <a:lnTo>
                  <a:pt x="1170" y="541"/>
                </a:lnTo>
                <a:lnTo>
                  <a:pt x="1101" y="382"/>
                </a:lnTo>
                <a:lnTo>
                  <a:pt x="1023" y="247"/>
                </a:lnTo>
                <a:lnTo>
                  <a:pt x="936" y="139"/>
                </a:lnTo>
                <a:lnTo>
                  <a:pt x="842" y="60"/>
                </a:lnTo>
                <a:lnTo>
                  <a:pt x="744" y="14"/>
                </a:lnTo>
                <a:lnTo>
                  <a:pt x="645" y="0"/>
                </a:lnTo>
                <a:lnTo>
                  <a:pt x="544" y="19"/>
                </a:lnTo>
                <a:lnTo>
                  <a:pt x="448" y="70"/>
                </a:lnTo>
                <a:lnTo>
                  <a:pt x="355" y="152"/>
                </a:lnTo>
                <a:lnTo>
                  <a:pt x="269" y="265"/>
                </a:lnTo>
                <a:lnTo>
                  <a:pt x="192" y="403"/>
                </a:lnTo>
                <a:lnTo>
                  <a:pt x="125" y="566"/>
                </a:lnTo>
                <a:lnTo>
                  <a:pt x="70" y="750"/>
                </a:lnTo>
                <a:lnTo>
                  <a:pt x="28" y="949"/>
                </a:lnTo>
                <a:lnTo>
                  <a:pt x="0" y="11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Line 50"/>
          <p:cNvSpPr/>
          <p:nvPr/>
        </p:nvSpPr>
        <p:spPr>
          <a:xfrm>
            <a:off x="4044960" y="2987640"/>
            <a:ext cx="200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Freeform 51"/>
          <p:cNvSpPr/>
          <p:nvPr/>
        </p:nvSpPr>
        <p:spPr>
          <a:xfrm>
            <a:off x="4238640" y="2219400"/>
            <a:ext cx="155520" cy="768240"/>
          </a:xfrm>
          <a:custGeom>
            <a:avLst/>
            <a:gdLst>
              <a:gd name="textAreaLeft" fmla="*/ 0 w 155520"/>
              <a:gd name="textAreaRight" fmla="*/ 155520 w 15552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675" h="2906">
                <a:moveTo>
                  <a:pt x="0" y="2906"/>
                </a:moveTo>
                <a:lnTo>
                  <a:pt x="100" y="2894"/>
                </a:lnTo>
                <a:lnTo>
                  <a:pt x="197" y="2848"/>
                </a:lnTo>
                <a:lnTo>
                  <a:pt x="291" y="2771"/>
                </a:lnTo>
                <a:lnTo>
                  <a:pt x="378" y="2665"/>
                </a:lnTo>
                <a:lnTo>
                  <a:pt x="456" y="2531"/>
                </a:lnTo>
                <a:lnTo>
                  <a:pt x="525" y="2372"/>
                </a:lnTo>
                <a:lnTo>
                  <a:pt x="582" y="2193"/>
                </a:lnTo>
                <a:lnTo>
                  <a:pt x="627" y="1998"/>
                </a:lnTo>
                <a:lnTo>
                  <a:pt x="658" y="1789"/>
                </a:lnTo>
                <a:lnTo>
                  <a:pt x="673" y="1573"/>
                </a:lnTo>
                <a:lnTo>
                  <a:pt x="675" y="1355"/>
                </a:lnTo>
                <a:lnTo>
                  <a:pt x="660" y="1139"/>
                </a:lnTo>
                <a:lnTo>
                  <a:pt x="631" y="931"/>
                </a:lnTo>
                <a:lnTo>
                  <a:pt x="588" y="733"/>
                </a:lnTo>
                <a:lnTo>
                  <a:pt x="533" y="552"/>
                </a:lnTo>
                <a:lnTo>
                  <a:pt x="465" y="392"/>
                </a:lnTo>
                <a:lnTo>
                  <a:pt x="387" y="254"/>
                </a:lnTo>
                <a:lnTo>
                  <a:pt x="301" y="145"/>
                </a:lnTo>
                <a:lnTo>
                  <a:pt x="208" y="65"/>
                </a:lnTo>
                <a:lnTo>
                  <a:pt x="110" y="16"/>
                </a:lnTo>
                <a:lnTo>
                  <a:pt x="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Line 52"/>
          <p:cNvSpPr/>
          <p:nvPr/>
        </p:nvSpPr>
        <p:spPr>
          <a:xfrm>
            <a:off x="565200" y="3227400"/>
            <a:ext cx="299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Freeform 53"/>
          <p:cNvSpPr/>
          <p:nvPr/>
        </p:nvSpPr>
        <p:spPr>
          <a:xfrm>
            <a:off x="333360" y="2073240"/>
            <a:ext cx="457200" cy="1154160"/>
          </a:xfrm>
          <a:custGeom>
            <a:avLst/>
            <a:gdLst>
              <a:gd name="textAreaLeft" fmla="*/ 0 w 457200"/>
              <a:gd name="textAreaRight" fmla="*/ 457560 w 45720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1988" h="4358">
                <a:moveTo>
                  <a:pt x="0" y="2444"/>
                </a:moveTo>
                <a:lnTo>
                  <a:pt x="23" y="2712"/>
                </a:lnTo>
                <a:lnTo>
                  <a:pt x="61" y="2972"/>
                </a:lnTo>
                <a:lnTo>
                  <a:pt x="113" y="3219"/>
                </a:lnTo>
                <a:lnTo>
                  <a:pt x="178" y="3450"/>
                </a:lnTo>
                <a:lnTo>
                  <a:pt x="258" y="3661"/>
                </a:lnTo>
                <a:lnTo>
                  <a:pt x="348" y="3848"/>
                </a:lnTo>
                <a:lnTo>
                  <a:pt x="448" y="4010"/>
                </a:lnTo>
                <a:lnTo>
                  <a:pt x="556" y="4144"/>
                </a:lnTo>
                <a:lnTo>
                  <a:pt x="672" y="4246"/>
                </a:lnTo>
                <a:lnTo>
                  <a:pt x="793" y="4317"/>
                </a:lnTo>
                <a:lnTo>
                  <a:pt x="916" y="4354"/>
                </a:lnTo>
                <a:lnTo>
                  <a:pt x="1040" y="4358"/>
                </a:lnTo>
                <a:lnTo>
                  <a:pt x="1164" y="4327"/>
                </a:lnTo>
                <a:lnTo>
                  <a:pt x="1286" y="4262"/>
                </a:lnTo>
                <a:lnTo>
                  <a:pt x="1402" y="4166"/>
                </a:lnTo>
                <a:lnTo>
                  <a:pt x="1512" y="4038"/>
                </a:lnTo>
                <a:lnTo>
                  <a:pt x="1614" y="3881"/>
                </a:lnTo>
                <a:lnTo>
                  <a:pt x="1706" y="3698"/>
                </a:lnTo>
                <a:lnTo>
                  <a:pt x="1787" y="3491"/>
                </a:lnTo>
                <a:lnTo>
                  <a:pt x="1856" y="3264"/>
                </a:lnTo>
                <a:lnTo>
                  <a:pt x="1911" y="3019"/>
                </a:lnTo>
                <a:lnTo>
                  <a:pt x="1952" y="2762"/>
                </a:lnTo>
                <a:lnTo>
                  <a:pt x="1977" y="2495"/>
                </a:lnTo>
                <a:lnTo>
                  <a:pt x="1988" y="2224"/>
                </a:lnTo>
                <a:lnTo>
                  <a:pt x="1983" y="1952"/>
                </a:lnTo>
                <a:lnTo>
                  <a:pt x="1962" y="1683"/>
                </a:lnTo>
                <a:lnTo>
                  <a:pt x="1926" y="1422"/>
                </a:lnTo>
                <a:lnTo>
                  <a:pt x="1875" y="1174"/>
                </a:lnTo>
                <a:lnTo>
                  <a:pt x="1811" y="941"/>
                </a:lnTo>
                <a:lnTo>
                  <a:pt x="1734" y="727"/>
                </a:lnTo>
                <a:lnTo>
                  <a:pt x="1645" y="535"/>
                </a:lnTo>
                <a:lnTo>
                  <a:pt x="1546" y="370"/>
                </a:lnTo>
                <a:lnTo>
                  <a:pt x="1438" y="232"/>
                </a:lnTo>
                <a:lnTo>
                  <a:pt x="1324" y="125"/>
                </a:lnTo>
                <a:lnTo>
                  <a:pt x="1204" y="50"/>
                </a:lnTo>
                <a:lnTo>
                  <a:pt x="1081" y="9"/>
                </a:lnTo>
                <a:lnTo>
                  <a:pt x="957" y="0"/>
                </a:lnTo>
                <a:lnTo>
                  <a:pt x="833" y="27"/>
                </a:lnTo>
                <a:lnTo>
                  <a:pt x="711" y="86"/>
                </a:lnTo>
                <a:lnTo>
                  <a:pt x="594" y="178"/>
                </a:lnTo>
                <a:lnTo>
                  <a:pt x="482" y="302"/>
                </a:lnTo>
                <a:lnTo>
                  <a:pt x="380" y="455"/>
                </a:lnTo>
                <a:lnTo>
                  <a:pt x="285" y="635"/>
                </a:lnTo>
                <a:lnTo>
                  <a:pt x="203" y="839"/>
                </a:lnTo>
                <a:lnTo>
                  <a:pt x="133" y="1064"/>
                </a:lnTo>
                <a:lnTo>
                  <a:pt x="76" y="1306"/>
                </a:lnTo>
                <a:lnTo>
                  <a:pt x="33" y="156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Line 54"/>
          <p:cNvSpPr/>
          <p:nvPr/>
        </p:nvSpPr>
        <p:spPr>
          <a:xfrm>
            <a:off x="561960" y="2073240"/>
            <a:ext cx="29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Freeform 55"/>
          <p:cNvSpPr/>
          <p:nvPr/>
        </p:nvSpPr>
        <p:spPr>
          <a:xfrm>
            <a:off x="857160" y="2073240"/>
            <a:ext cx="231840" cy="1154160"/>
          </a:xfrm>
          <a:custGeom>
            <a:avLst/>
            <a:gdLst>
              <a:gd name="textAreaLeft" fmla="*/ 0 w 231840"/>
              <a:gd name="textAreaRight" fmla="*/ 232200 w 23184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1013" h="4361">
                <a:moveTo>
                  <a:pt x="0" y="4361"/>
                </a:moveTo>
                <a:lnTo>
                  <a:pt x="122" y="4349"/>
                </a:lnTo>
                <a:lnTo>
                  <a:pt x="240" y="4306"/>
                </a:lnTo>
                <a:lnTo>
                  <a:pt x="357" y="4230"/>
                </a:lnTo>
                <a:lnTo>
                  <a:pt x="468" y="4125"/>
                </a:lnTo>
                <a:lnTo>
                  <a:pt x="573" y="3991"/>
                </a:lnTo>
                <a:lnTo>
                  <a:pt x="668" y="3830"/>
                </a:lnTo>
                <a:lnTo>
                  <a:pt x="755" y="3646"/>
                </a:lnTo>
                <a:lnTo>
                  <a:pt x="831" y="3439"/>
                </a:lnTo>
                <a:lnTo>
                  <a:pt x="895" y="3214"/>
                </a:lnTo>
                <a:lnTo>
                  <a:pt x="946" y="2974"/>
                </a:lnTo>
                <a:lnTo>
                  <a:pt x="983" y="2722"/>
                </a:lnTo>
                <a:lnTo>
                  <a:pt x="1006" y="2462"/>
                </a:lnTo>
                <a:lnTo>
                  <a:pt x="1013" y="2197"/>
                </a:lnTo>
                <a:lnTo>
                  <a:pt x="1007" y="1934"/>
                </a:lnTo>
                <a:lnTo>
                  <a:pt x="987" y="1673"/>
                </a:lnTo>
                <a:lnTo>
                  <a:pt x="951" y="1420"/>
                </a:lnTo>
                <a:lnTo>
                  <a:pt x="902" y="1178"/>
                </a:lnTo>
                <a:lnTo>
                  <a:pt x="840" y="951"/>
                </a:lnTo>
                <a:lnTo>
                  <a:pt x="766" y="742"/>
                </a:lnTo>
                <a:lnTo>
                  <a:pt x="681" y="554"/>
                </a:lnTo>
                <a:lnTo>
                  <a:pt x="586" y="390"/>
                </a:lnTo>
                <a:lnTo>
                  <a:pt x="482" y="252"/>
                </a:lnTo>
                <a:lnTo>
                  <a:pt x="372" y="143"/>
                </a:lnTo>
                <a:lnTo>
                  <a:pt x="256" y="64"/>
                </a:lnTo>
                <a:lnTo>
                  <a:pt x="137" y="16"/>
                </a:lnTo>
                <a:lnTo>
                  <a:pt x="1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Freeform 56"/>
          <p:cNvSpPr/>
          <p:nvPr/>
        </p:nvSpPr>
        <p:spPr>
          <a:xfrm>
            <a:off x="2351160" y="2525760"/>
            <a:ext cx="52200" cy="155520"/>
          </a:xfrm>
          <a:custGeom>
            <a:avLst/>
            <a:gdLst>
              <a:gd name="textAreaLeft" fmla="*/ 0 w 52200"/>
              <a:gd name="textAreaRight" fmla="*/ 52560 w 52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30" h="589">
                <a:moveTo>
                  <a:pt x="0" y="589"/>
                </a:moveTo>
                <a:lnTo>
                  <a:pt x="43" y="585"/>
                </a:lnTo>
                <a:lnTo>
                  <a:pt x="83" y="571"/>
                </a:lnTo>
                <a:lnTo>
                  <a:pt x="121" y="547"/>
                </a:lnTo>
                <a:lnTo>
                  <a:pt x="155" y="515"/>
                </a:lnTo>
                <a:lnTo>
                  <a:pt x="183" y="475"/>
                </a:lnTo>
                <a:lnTo>
                  <a:pt x="206" y="428"/>
                </a:lnTo>
                <a:lnTo>
                  <a:pt x="222" y="377"/>
                </a:lnTo>
                <a:lnTo>
                  <a:pt x="229" y="323"/>
                </a:lnTo>
                <a:lnTo>
                  <a:pt x="230" y="269"/>
                </a:lnTo>
                <a:lnTo>
                  <a:pt x="222" y="215"/>
                </a:lnTo>
                <a:lnTo>
                  <a:pt x="207" y="164"/>
                </a:lnTo>
                <a:lnTo>
                  <a:pt x="184" y="118"/>
                </a:lnTo>
                <a:lnTo>
                  <a:pt x="156" y="78"/>
                </a:lnTo>
                <a:lnTo>
                  <a:pt x="123" y="45"/>
                </a:lnTo>
                <a:lnTo>
                  <a:pt x="85" y="20"/>
                </a:lnTo>
                <a:lnTo>
                  <a:pt x="45" y="6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Line 57"/>
          <p:cNvSpPr/>
          <p:nvPr/>
        </p:nvSpPr>
        <p:spPr>
          <a:xfrm>
            <a:off x="2349360" y="2681280"/>
            <a:ext cx="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Line 58"/>
          <p:cNvSpPr/>
          <p:nvPr/>
        </p:nvSpPr>
        <p:spPr>
          <a:xfrm>
            <a:off x="2349360" y="2525760"/>
            <a:ext cx="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Line 59"/>
          <p:cNvSpPr/>
          <p:nvPr/>
        </p:nvSpPr>
        <p:spPr>
          <a:xfrm>
            <a:off x="223920" y="2681280"/>
            <a:ext cx="33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Line 60"/>
          <p:cNvSpPr/>
          <p:nvPr/>
        </p:nvSpPr>
        <p:spPr>
          <a:xfrm>
            <a:off x="223920" y="2525760"/>
            <a:ext cx="33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Freeform 61"/>
          <p:cNvSpPr/>
          <p:nvPr/>
        </p:nvSpPr>
        <p:spPr>
          <a:xfrm>
            <a:off x="4513320" y="2525760"/>
            <a:ext cx="52200" cy="155520"/>
          </a:xfrm>
          <a:custGeom>
            <a:avLst/>
            <a:gdLst>
              <a:gd name="textAreaLeft" fmla="*/ 0 w 52200"/>
              <a:gd name="textAreaRight" fmla="*/ 52560 w 52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26" h="589">
                <a:moveTo>
                  <a:pt x="0" y="589"/>
                </a:moveTo>
                <a:lnTo>
                  <a:pt x="43" y="585"/>
                </a:lnTo>
                <a:lnTo>
                  <a:pt x="83" y="570"/>
                </a:lnTo>
                <a:lnTo>
                  <a:pt x="120" y="546"/>
                </a:lnTo>
                <a:lnTo>
                  <a:pt x="153" y="513"/>
                </a:lnTo>
                <a:lnTo>
                  <a:pt x="182" y="473"/>
                </a:lnTo>
                <a:lnTo>
                  <a:pt x="204" y="426"/>
                </a:lnTo>
                <a:lnTo>
                  <a:pt x="219" y="376"/>
                </a:lnTo>
                <a:lnTo>
                  <a:pt x="226" y="322"/>
                </a:lnTo>
                <a:lnTo>
                  <a:pt x="226" y="268"/>
                </a:lnTo>
                <a:lnTo>
                  <a:pt x="219" y="214"/>
                </a:lnTo>
                <a:lnTo>
                  <a:pt x="204" y="164"/>
                </a:lnTo>
                <a:lnTo>
                  <a:pt x="182" y="118"/>
                </a:lnTo>
                <a:lnTo>
                  <a:pt x="153" y="78"/>
                </a:lnTo>
                <a:lnTo>
                  <a:pt x="120" y="45"/>
                </a:lnTo>
                <a:lnTo>
                  <a:pt x="83" y="20"/>
                </a:lnTo>
                <a:lnTo>
                  <a:pt x="43" y="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Freeform 62"/>
          <p:cNvSpPr/>
          <p:nvPr/>
        </p:nvSpPr>
        <p:spPr>
          <a:xfrm>
            <a:off x="171360" y="2525760"/>
            <a:ext cx="52560" cy="155520"/>
          </a:xfrm>
          <a:custGeom>
            <a:avLst/>
            <a:gdLst>
              <a:gd name="textAreaLeft" fmla="*/ 0 w 52560"/>
              <a:gd name="textAreaRight" fmla="*/ 52920 w 525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30" h="589">
                <a:moveTo>
                  <a:pt x="228" y="0"/>
                </a:moveTo>
                <a:lnTo>
                  <a:pt x="186" y="6"/>
                </a:lnTo>
                <a:lnTo>
                  <a:pt x="145" y="20"/>
                </a:lnTo>
                <a:lnTo>
                  <a:pt x="107" y="44"/>
                </a:lnTo>
                <a:lnTo>
                  <a:pt x="73" y="78"/>
                </a:lnTo>
                <a:lnTo>
                  <a:pt x="46" y="118"/>
                </a:lnTo>
                <a:lnTo>
                  <a:pt x="24" y="164"/>
                </a:lnTo>
                <a:lnTo>
                  <a:pt x="8" y="215"/>
                </a:lnTo>
                <a:lnTo>
                  <a:pt x="0" y="269"/>
                </a:lnTo>
                <a:lnTo>
                  <a:pt x="0" y="324"/>
                </a:lnTo>
                <a:lnTo>
                  <a:pt x="9" y="377"/>
                </a:lnTo>
                <a:lnTo>
                  <a:pt x="25" y="429"/>
                </a:lnTo>
                <a:lnTo>
                  <a:pt x="47" y="475"/>
                </a:lnTo>
                <a:lnTo>
                  <a:pt x="75" y="515"/>
                </a:lnTo>
                <a:lnTo>
                  <a:pt x="109" y="548"/>
                </a:lnTo>
                <a:lnTo>
                  <a:pt x="147" y="571"/>
                </a:lnTo>
                <a:lnTo>
                  <a:pt x="188" y="586"/>
                </a:lnTo>
                <a:lnTo>
                  <a:pt x="230" y="5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reeform 63"/>
          <p:cNvSpPr/>
          <p:nvPr/>
        </p:nvSpPr>
        <p:spPr>
          <a:xfrm>
            <a:off x="2549520" y="2219400"/>
            <a:ext cx="154080" cy="768240"/>
          </a:xfrm>
          <a:custGeom>
            <a:avLst/>
            <a:gdLst>
              <a:gd name="textAreaLeft" fmla="*/ 0 w 154080"/>
              <a:gd name="textAreaRight" fmla="*/ 154440 w 1540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675" h="2906">
                <a:moveTo>
                  <a:pt x="0" y="2906"/>
                </a:moveTo>
                <a:lnTo>
                  <a:pt x="100" y="2894"/>
                </a:lnTo>
                <a:lnTo>
                  <a:pt x="197" y="2848"/>
                </a:lnTo>
                <a:lnTo>
                  <a:pt x="291" y="2771"/>
                </a:lnTo>
                <a:lnTo>
                  <a:pt x="378" y="2665"/>
                </a:lnTo>
                <a:lnTo>
                  <a:pt x="457" y="2531"/>
                </a:lnTo>
                <a:lnTo>
                  <a:pt x="525" y="2372"/>
                </a:lnTo>
                <a:lnTo>
                  <a:pt x="583" y="2193"/>
                </a:lnTo>
                <a:lnTo>
                  <a:pt x="627" y="1998"/>
                </a:lnTo>
                <a:lnTo>
                  <a:pt x="658" y="1789"/>
                </a:lnTo>
                <a:lnTo>
                  <a:pt x="674" y="1573"/>
                </a:lnTo>
                <a:lnTo>
                  <a:pt x="675" y="1355"/>
                </a:lnTo>
                <a:lnTo>
                  <a:pt x="660" y="1139"/>
                </a:lnTo>
                <a:lnTo>
                  <a:pt x="631" y="931"/>
                </a:lnTo>
                <a:lnTo>
                  <a:pt x="588" y="733"/>
                </a:lnTo>
                <a:lnTo>
                  <a:pt x="533" y="552"/>
                </a:lnTo>
                <a:lnTo>
                  <a:pt x="465" y="392"/>
                </a:lnTo>
                <a:lnTo>
                  <a:pt x="387" y="254"/>
                </a:lnTo>
                <a:lnTo>
                  <a:pt x="301" y="145"/>
                </a:lnTo>
                <a:lnTo>
                  <a:pt x="208" y="65"/>
                </a:lnTo>
                <a:lnTo>
                  <a:pt x="110" y="16"/>
                </a:lnTo>
                <a:lnTo>
                  <a:pt x="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ine 64"/>
          <p:cNvSpPr/>
          <p:nvPr/>
        </p:nvSpPr>
        <p:spPr>
          <a:xfrm>
            <a:off x="2352600" y="2987640"/>
            <a:ext cx="200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Freeform 65"/>
          <p:cNvSpPr/>
          <p:nvPr/>
        </p:nvSpPr>
        <p:spPr>
          <a:xfrm>
            <a:off x="2201760" y="2219400"/>
            <a:ext cx="301680" cy="768240"/>
          </a:xfrm>
          <a:custGeom>
            <a:avLst/>
            <a:gdLst>
              <a:gd name="textAreaLeft" fmla="*/ 0 w 301680"/>
              <a:gd name="textAreaRight" fmla="*/ 302040 w 3016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1315" h="2906">
                <a:moveTo>
                  <a:pt x="0" y="1747"/>
                </a:moveTo>
                <a:lnTo>
                  <a:pt x="28" y="1958"/>
                </a:lnTo>
                <a:lnTo>
                  <a:pt x="70" y="2157"/>
                </a:lnTo>
                <a:lnTo>
                  <a:pt x="125" y="2340"/>
                </a:lnTo>
                <a:lnTo>
                  <a:pt x="192" y="2503"/>
                </a:lnTo>
                <a:lnTo>
                  <a:pt x="269" y="2642"/>
                </a:lnTo>
                <a:lnTo>
                  <a:pt x="355" y="2754"/>
                </a:lnTo>
                <a:lnTo>
                  <a:pt x="448" y="2837"/>
                </a:lnTo>
                <a:lnTo>
                  <a:pt x="544" y="2887"/>
                </a:lnTo>
                <a:lnTo>
                  <a:pt x="645" y="2906"/>
                </a:lnTo>
                <a:lnTo>
                  <a:pt x="745" y="2893"/>
                </a:lnTo>
                <a:lnTo>
                  <a:pt x="842" y="2846"/>
                </a:lnTo>
                <a:lnTo>
                  <a:pt x="936" y="2768"/>
                </a:lnTo>
                <a:lnTo>
                  <a:pt x="1023" y="2660"/>
                </a:lnTo>
                <a:lnTo>
                  <a:pt x="1101" y="2524"/>
                </a:lnTo>
                <a:lnTo>
                  <a:pt x="1170" y="2365"/>
                </a:lnTo>
                <a:lnTo>
                  <a:pt x="1226" y="2184"/>
                </a:lnTo>
                <a:lnTo>
                  <a:pt x="1271" y="1987"/>
                </a:lnTo>
                <a:lnTo>
                  <a:pt x="1300" y="1779"/>
                </a:lnTo>
                <a:lnTo>
                  <a:pt x="1315" y="1563"/>
                </a:lnTo>
                <a:lnTo>
                  <a:pt x="1315" y="1344"/>
                </a:lnTo>
                <a:lnTo>
                  <a:pt x="1300" y="1128"/>
                </a:lnTo>
                <a:lnTo>
                  <a:pt x="1271" y="919"/>
                </a:lnTo>
                <a:lnTo>
                  <a:pt x="1226" y="722"/>
                </a:lnTo>
                <a:lnTo>
                  <a:pt x="1170" y="541"/>
                </a:lnTo>
                <a:lnTo>
                  <a:pt x="1101" y="382"/>
                </a:lnTo>
                <a:lnTo>
                  <a:pt x="1023" y="247"/>
                </a:lnTo>
                <a:lnTo>
                  <a:pt x="936" y="139"/>
                </a:lnTo>
                <a:lnTo>
                  <a:pt x="842" y="60"/>
                </a:lnTo>
                <a:lnTo>
                  <a:pt x="745" y="14"/>
                </a:lnTo>
                <a:lnTo>
                  <a:pt x="645" y="0"/>
                </a:lnTo>
                <a:lnTo>
                  <a:pt x="544" y="19"/>
                </a:lnTo>
                <a:lnTo>
                  <a:pt x="448" y="70"/>
                </a:lnTo>
                <a:lnTo>
                  <a:pt x="355" y="152"/>
                </a:lnTo>
                <a:lnTo>
                  <a:pt x="269" y="265"/>
                </a:lnTo>
                <a:lnTo>
                  <a:pt x="192" y="403"/>
                </a:lnTo>
                <a:lnTo>
                  <a:pt x="125" y="566"/>
                </a:lnTo>
                <a:lnTo>
                  <a:pt x="70" y="750"/>
                </a:lnTo>
                <a:lnTo>
                  <a:pt x="28" y="949"/>
                </a:lnTo>
                <a:lnTo>
                  <a:pt x="0" y="11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Freeform 66"/>
          <p:cNvSpPr/>
          <p:nvPr/>
        </p:nvSpPr>
        <p:spPr>
          <a:xfrm>
            <a:off x="2573280" y="2373480"/>
            <a:ext cx="30240" cy="460080"/>
          </a:xfrm>
          <a:custGeom>
            <a:avLst/>
            <a:gdLst>
              <a:gd name="textAreaLeft" fmla="*/ 0 w 30240"/>
              <a:gd name="textAreaRight" fmla="*/ 30600 w 30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31" h="1742">
                <a:moveTo>
                  <a:pt x="0" y="1742"/>
                </a:moveTo>
                <a:lnTo>
                  <a:pt x="52" y="1567"/>
                </a:lnTo>
                <a:lnTo>
                  <a:pt x="91" y="1379"/>
                </a:lnTo>
                <a:lnTo>
                  <a:pt x="118" y="1180"/>
                </a:lnTo>
                <a:lnTo>
                  <a:pt x="131" y="974"/>
                </a:lnTo>
                <a:lnTo>
                  <a:pt x="131" y="768"/>
                </a:lnTo>
                <a:lnTo>
                  <a:pt x="118" y="563"/>
                </a:lnTo>
                <a:lnTo>
                  <a:pt x="91" y="364"/>
                </a:lnTo>
                <a:lnTo>
                  <a:pt x="52" y="17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Line 67"/>
          <p:cNvSpPr/>
          <p:nvPr/>
        </p:nvSpPr>
        <p:spPr>
          <a:xfrm>
            <a:off x="2351160" y="2219400"/>
            <a:ext cx="19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Freeform 68"/>
          <p:cNvSpPr/>
          <p:nvPr/>
        </p:nvSpPr>
        <p:spPr>
          <a:xfrm>
            <a:off x="171360" y="2525760"/>
            <a:ext cx="103320" cy="155520"/>
          </a:xfrm>
          <a:custGeom>
            <a:avLst/>
            <a:gdLst>
              <a:gd name="textAreaLeft" fmla="*/ 0 w 103320"/>
              <a:gd name="textAreaRight" fmla="*/ 103680 w 10332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453" h="588">
                <a:moveTo>
                  <a:pt x="227" y="0"/>
                </a:moveTo>
                <a:lnTo>
                  <a:pt x="184" y="7"/>
                </a:lnTo>
                <a:lnTo>
                  <a:pt x="143" y="22"/>
                </a:lnTo>
                <a:lnTo>
                  <a:pt x="104" y="48"/>
                </a:lnTo>
                <a:lnTo>
                  <a:pt x="71" y="82"/>
                </a:lnTo>
                <a:lnTo>
                  <a:pt x="43" y="124"/>
                </a:lnTo>
                <a:lnTo>
                  <a:pt x="21" y="173"/>
                </a:lnTo>
                <a:lnTo>
                  <a:pt x="7" y="226"/>
                </a:lnTo>
                <a:lnTo>
                  <a:pt x="0" y="281"/>
                </a:lnTo>
                <a:lnTo>
                  <a:pt x="2" y="337"/>
                </a:lnTo>
                <a:lnTo>
                  <a:pt x="13" y="391"/>
                </a:lnTo>
                <a:lnTo>
                  <a:pt x="31" y="442"/>
                </a:lnTo>
                <a:lnTo>
                  <a:pt x="55" y="488"/>
                </a:lnTo>
                <a:lnTo>
                  <a:pt x="87" y="527"/>
                </a:lnTo>
                <a:lnTo>
                  <a:pt x="123" y="557"/>
                </a:lnTo>
                <a:lnTo>
                  <a:pt x="163" y="577"/>
                </a:lnTo>
                <a:lnTo>
                  <a:pt x="206" y="588"/>
                </a:lnTo>
                <a:lnTo>
                  <a:pt x="248" y="588"/>
                </a:lnTo>
                <a:lnTo>
                  <a:pt x="290" y="577"/>
                </a:lnTo>
                <a:lnTo>
                  <a:pt x="331" y="557"/>
                </a:lnTo>
                <a:lnTo>
                  <a:pt x="367" y="527"/>
                </a:lnTo>
                <a:lnTo>
                  <a:pt x="398" y="488"/>
                </a:lnTo>
                <a:lnTo>
                  <a:pt x="423" y="442"/>
                </a:lnTo>
                <a:lnTo>
                  <a:pt x="441" y="391"/>
                </a:lnTo>
                <a:lnTo>
                  <a:pt x="451" y="337"/>
                </a:lnTo>
                <a:lnTo>
                  <a:pt x="453" y="281"/>
                </a:lnTo>
                <a:lnTo>
                  <a:pt x="447" y="226"/>
                </a:lnTo>
                <a:lnTo>
                  <a:pt x="433" y="173"/>
                </a:lnTo>
                <a:lnTo>
                  <a:pt x="411" y="124"/>
                </a:lnTo>
                <a:lnTo>
                  <a:pt x="384" y="82"/>
                </a:lnTo>
                <a:lnTo>
                  <a:pt x="350" y="48"/>
                </a:lnTo>
                <a:lnTo>
                  <a:pt x="312" y="22"/>
                </a:lnTo>
                <a:lnTo>
                  <a:pt x="270" y="7"/>
                </a:lnTo>
                <a:lnTo>
                  <a:pt x="22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7" name="Object 69"/>
          <p:cNvGraphicFramePr/>
          <p:nvPr/>
        </p:nvGraphicFramePr>
        <p:xfrm>
          <a:off x="633240" y="3263760"/>
          <a:ext cx="247680" cy="30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8" name="Object 6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3240" y="3263760"/>
                    <a:ext cx="2476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Object 70"/>
          <p:cNvGraphicFramePr/>
          <p:nvPr/>
        </p:nvGraphicFramePr>
        <p:xfrm>
          <a:off x="2384280" y="3090960"/>
          <a:ext cx="249480" cy="30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0" name="Object 7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84280" y="3090960"/>
                    <a:ext cx="2494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1" name="Object 71"/>
          <p:cNvGraphicFramePr/>
          <p:nvPr/>
        </p:nvGraphicFramePr>
        <p:xfrm>
          <a:off x="4024440" y="3079800"/>
          <a:ext cx="247680" cy="3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22" name="Object 7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24440" y="3079800"/>
                    <a:ext cx="2476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Object 72"/>
          <p:cNvGraphicFramePr/>
          <p:nvPr/>
        </p:nvGraphicFramePr>
        <p:xfrm>
          <a:off x="241200" y="1677960"/>
          <a:ext cx="1148040" cy="344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4" name="Object 7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1200" y="1677960"/>
                    <a:ext cx="11480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73"/>
          <p:cNvGraphicFramePr/>
          <p:nvPr/>
        </p:nvGraphicFramePr>
        <p:xfrm>
          <a:off x="2043000" y="1677960"/>
          <a:ext cx="997200" cy="344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26" name="Object 7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43000" y="1677960"/>
                    <a:ext cx="997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7" name="Object 74"/>
          <p:cNvGraphicFramePr/>
          <p:nvPr/>
        </p:nvGraphicFramePr>
        <p:xfrm>
          <a:off x="3757680" y="1677960"/>
          <a:ext cx="1047600" cy="34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28" name="Object 7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57680" y="1677960"/>
                    <a:ext cx="10476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9" name="Line 81"/>
          <p:cNvSpPr/>
          <p:nvPr/>
        </p:nvSpPr>
        <p:spPr>
          <a:xfrm>
            <a:off x="525600" y="5691240"/>
            <a:ext cx="155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Freeform 89"/>
          <p:cNvSpPr/>
          <p:nvPr/>
        </p:nvSpPr>
        <p:spPr>
          <a:xfrm>
            <a:off x="412920" y="4299120"/>
            <a:ext cx="47520" cy="191880"/>
          </a:xfrm>
          <a:custGeom>
            <a:avLst/>
            <a:gdLst>
              <a:gd name="textAreaLeft" fmla="*/ 0 w 47520"/>
              <a:gd name="textAreaRight" fmla="*/ 47880 w 475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598" h="1574">
                <a:moveTo>
                  <a:pt x="593" y="0"/>
                </a:moveTo>
                <a:lnTo>
                  <a:pt x="483" y="13"/>
                </a:lnTo>
                <a:lnTo>
                  <a:pt x="377" y="52"/>
                </a:lnTo>
                <a:lnTo>
                  <a:pt x="278" y="116"/>
                </a:lnTo>
                <a:lnTo>
                  <a:pt x="191" y="204"/>
                </a:lnTo>
                <a:lnTo>
                  <a:pt x="117" y="312"/>
                </a:lnTo>
                <a:lnTo>
                  <a:pt x="59" y="436"/>
                </a:lnTo>
                <a:lnTo>
                  <a:pt x="19" y="573"/>
                </a:lnTo>
                <a:lnTo>
                  <a:pt x="0" y="718"/>
                </a:lnTo>
                <a:lnTo>
                  <a:pt x="0" y="864"/>
                </a:lnTo>
                <a:lnTo>
                  <a:pt x="21" y="1008"/>
                </a:lnTo>
                <a:lnTo>
                  <a:pt x="61" y="1144"/>
                </a:lnTo>
                <a:lnTo>
                  <a:pt x="120" y="1268"/>
                </a:lnTo>
                <a:lnTo>
                  <a:pt x="195" y="1375"/>
                </a:lnTo>
                <a:lnTo>
                  <a:pt x="284" y="1462"/>
                </a:lnTo>
                <a:lnTo>
                  <a:pt x="382" y="1525"/>
                </a:lnTo>
                <a:lnTo>
                  <a:pt x="489" y="1563"/>
                </a:lnTo>
                <a:lnTo>
                  <a:pt x="598" y="157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90"/>
          <p:cNvSpPr/>
          <p:nvPr/>
        </p:nvSpPr>
        <p:spPr>
          <a:xfrm>
            <a:off x="460440" y="4299120"/>
            <a:ext cx="76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Line 91"/>
          <p:cNvSpPr/>
          <p:nvPr/>
        </p:nvSpPr>
        <p:spPr>
          <a:xfrm>
            <a:off x="460440" y="4491000"/>
            <a:ext cx="763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ine 92"/>
          <p:cNvSpPr/>
          <p:nvPr/>
        </p:nvSpPr>
        <p:spPr>
          <a:xfrm>
            <a:off x="1224000" y="4491000"/>
            <a:ext cx="31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Line 93"/>
          <p:cNvSpPr/>
          <p:nvPr/>
        </p:nvSpPr>
        <p:spPr>
          <a:xfrm>
            <a:off x="1222200" y="4299120"/>
            <a:ext cx="31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Freeform 94"/>
          <p:cNvSpPr/>
          <p:nvPr/>
        </p:nvSpPr>
        <p:spPr>
          <a:xfrm>
            <a:off x="458640" y="4299120"/>
            <a:ext cx="47880" cy="191880"/>
          </a:xfrm>
          <a:custGeom>
            <a:avLst/>
            <a:gdLst>
              <a:gd name="textAreaLeft" fmla="*/ 0 w 47880"/>
              <a:gd name="textAreaRight" fmla="*/ 48240 w 478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08" h="1573">
                <a:moveTo>
                  <a:pt x="22" y="0"/>
                </a:moveTo>
                <a:lnTo>
                  <a:pt x="132" y="14"/>
                </a:lnTo>
                <a:lnTo>
                  <a:pt x="237" y="54"/>
                </a:lnTo>
                <a:lnTo>
                  <a:pt x="335" y="119"/>
                </a:lnTo>
                <a:lnTo>
                  <a:pt x="422" y="208"/>
                </a:lnTo>
                <a:lnTo>
                  <a:pt x="495" y="317"/>
                </a:lnTo>
                <a:lnTo>
                  <a:pt x="552" y="443"/>
                </a:lnTo>
                <a:lnTo>
                  <a:pt x="590" y="579"/>
                </a:lnTo>
                <a:lnTo>
                  <a:pt x="608" y="723"/>
                </a:lnTo>
                <a:lnTo>
                  <a:pt x="607" y="870"/>
                </a:lnTo>
                <a:lnTo>
                  <a:pt x="585" y="1014"/>
                </a:lnTo>
                <a:lnTo>
                  <a:pt x="542" y="1150"/>
                </a:lnTo>
                <a:lnTo>
                  <a:pt x="482" y="1273"/>
                </a:lnTo>
                <a:lnTo>
                  <a:pt x="406" y="1379"/>
                </a:lnTo>
                <a:lnTo>
                  <a:pt x="317" y="1465"/>
                </a:lnTo>
                <a:lnTo>
                  <a:pt x="217" y="1527"/>
                </a:lnTo>
                <a:lnTo>
                  <a:pt x="110" y="1564"/>
                </a:lnTo>
                <a:lnTo>
                  <a:pt x="0" y="157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Freeform 95"/>
          <p:cNvSpPr/>
          <p:nvPr/>
        </p:nvSpPr>
        <p:spPr>
          <a:xfrm>
            <a:off x="1533600" y="4299120"/>
            <a:ext cx="48960" cy="191880"/>
          </a:xfrm>
          <a:custGeom>
            <a:avLst/>
            <a:gdLst>
              <a:gd name="textAreaLeft" fmla="*/ 0 w 48960"/>
              <a:gd name="textAreaRight" fmla="*/ 49320 w 48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09" h="1573">
                <a:moveTo>
                  <a:pt x="21" y="0"/>
                </a:moveTo>
                <a:lnTo>
                  <a:pt x="79" y="5"/>
                </a:lnTo>
                <a:lnTo>
                  <a:pt x="137" y="16"/>
                </a:lnTo>
                <a:lnTo>
                  <a:pt x="193" y="35"/>
                </a:lnTo>
                <a:lnTo>
                  <a:pt x="248" y="61"/>
                </a:lnTo>
                <a:lnTo>
                  <a:pt x="301" y="94"/>
                </a:lnTo>
                <a:lnTo>
                  <a:pt x="351" y="135"/>
                </a:lnTo>
                <a:lnTo>
                  <a:pt x="397" y="181"/>
                </a:lnTo>
                <a:lnTo>
                  <a:pt x="440" y="234"/>
                </a:lnTo>
                <a:lnTo>
                  <a:pt x="479" y="292"/>
                </a:lnTo>
                <a:lnTo>
                  <a:pt x="513" y="355"/>
                </a:lnTo>
                <a:lnTo>
                  <a:pt x="543" y="422"/>
                </a:lnTo>
                <a:lnTo>
                  <a:pt x="567" y="493"/>
                </a:lnTo>
                <a:lnTo>
                  <a:pt x="586" y="567"/>
                </a:lnTo>
                <a:lnTo>
                  <a:pt x="599" y="642"/>
                </a:lnTo>
                <a:lnTo>
                  <a:pt x="607" y="719"/>
                </a:lnTo>
                <a:lnTo>
                  <a:pt x="609" y="797"/>
                </a:lnTo>
                <a:lnTo>
                  <a:pt x="605" y="874"/>
                </a:lnTo>
                <a:lnTo>
                  <a:pt x="595" y="952"/>
                </a:lnTo>
                <a:lnTo>
                  <a:pt x="580" y="1027"/>
                </a:lnTo>
                <a:lnTo>
                  <a:pt x="559" y="1100"/>
                </a:lnTo>
                <a:lnTo>
                  <a:pt x="533" y="1170"/>
                </a:lnTo>
                <a:lnTo>
                  <a:pt x="501" y="1235"/>
                </a:lnTo>
                <a:lnTo>
                  <a:pt x="466" y="1298"/>
                </a:lnTo>
                <a:lnTo>
                  <a:pt x="425" y="1354"/>
                </a:lnTo>
                <a:lnTo>
                  <a:pt x="381" y="1405"/>
                </a:lnTo>
                <a:lnTo>
                  <a:pt x="333" y="1450"/>
                </a:lnTo>
                <a:lnTo>
                  <a:pt x="282" y="1489"/>
                </a:lnTo>
                <a:lnTo>
                  <a:pt x="229" y="1521"/>
                </a:lnTo>
                <a:lnTo>
                  <a:pt x="174" y="1545"/>
                </a:lnTo>
                <a:lnTo>
                  <a:pt x="116" y="1563"/>
                </a:lnTo>
                <a:lnTo>
                  <a:pt x="58" y="1572"/>
                </a:lnTo>
                <a:lnTo>
                  <a:pt x="0" y="157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Freeform 97"/>
          <p:cNvSpPr/>
          <p:nvPr/>
        </p:nvSpPr>
        <p:spPr>
          <a:xfrm>
            <a:off x="484200" y="5676840"/>
            <a:ext cx="47520" cy="192240"/>
          </a:xfrm>
          <a:custGeom>
            <a:avLst/>
            <a:gdLst>
              <a:gd name="textAreaLeft" fmla="*/ 0 w 47520"/>
              <a:gd name="textAreaRight" fmla="*/ 47880 w 475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598" h="1574">
                <a:moveTo>
                  <a:pt x="593" y="0"/>
                </a:moveTo>
                <a:lnTo>
                  <a:pt x="483" y="13"/>
                </a:lnTo>
                <a:lnTo>
                  <a:pt x="377" y="52"/>
                </a:lnTo>
                <a:lnTo>
                  <a:pt x="278" y="116"/>
                </a:lnTo>
                <a:lnTo>
                  <a:pt x="191" y="204"/>
                </a:lnTo>
                <a:lnTo>
                  <a:pt x="117" y="312"/>
                </a:lnTo>
                <a:lnTo>
                  <a:pt x="59" y="436"/>
                </a:lnTo>
                <a:lnTo>
                  <a:pt x="19" y="573"/>
                </a:lnTo>
                <a:lnTo>
                  <a:pt x="0" y="718"/>
                </a:lnTo>
                <a:lnTo>
                  <a:pt x="0" y="864"/>
                </a:lnTo>
                <a:lnTo>
                  <a:pt x="21" y="1008"/>
                </a:lnTo>
                <a:lnTo>
                  <a:pt x="61" y="1144"/>
                </a:lnTo>
                <a:lnTo>
                  <a:pt x="120" y="1268"/>
                </a:lnTo>
                <a:lnTo>
                  <a:pt x="195" y="1375"/>
                </a:lnTo>
                <a:lnTo>
                  <a:pt x="284" y="1462"/>
                </a:lnTo>
                <a:lnTo>
                  <a:pt x="382" y="1525"/>
                </a:lnTo>
                <a:lnTo>
                  <a:pt x="489" y="1563"/>
                </a:lnTo>
                <a:lnTo>
                  <a:pt x="598" y="157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Freeform 98"/>
          <p:cNvSpPr/>
          <p:nvPr/>
        </p:nvSpPr>
        <p:spPr>
          <a:xfrm>
            <a:off x="530280" y="5676840"/>
            <a:ext cx="47520" cy="192240"/>
          </a:xfrm>
          <a:custGeom>
            <a:avLst/>
            <a:gdLst>
              <a:gd name="textAreaLeft" fmla="*/ 0 w 47520"/>
              <a:gd name="textAreaRight" fmla="*/ 47880 w 475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608" h="1573">
                <a:moveTo>
                  <a:pt x="22" y="0"/>
                </a:moveTo>
                <a:lnTo>
                  <a:pt x="132" y="14"/>
                </a:lnTo>
                <a:lnTo>
                  <a:pt x="237" y="54"/>
                </a:lnTo>
                <a:lnTo>
                  <a:pt x="335" y="119"/>
                </a:lnTo>
                <a:lnTo>
                  <a:pt x="422" y="208"/>
                </a:lnTo>
                <a:lnTo>
                  <a:pt x="495" y="317"/>
                </a:lnTo>
                <a:lnTo>
                  <a:pt x="552" y="443"/>
                </a:lnTo>
                <a:lnTo>
                  <a:pt x="590" y="579"/>
                </a:lnTo>
                <a:lnTo>
                  <a:pt x="608" y="723"/>
                </a:lnTo>
                <a:lnTo>
                  <a:pt x="607" y="870"/>
                </a:lnTo>
                <a:lnTo>
                  <a:pt x="585" y="1014"/>
                </a:lnTo>
                <a:lnTo>
                  <a:pt x="542" y="1150"/>
                </a:lnTo>
                <a:lnTo>
                  <a:pt x="482" y="1273"/>
                </a:lnTo>
                <a:lnTo>
                  <a:pt x="406" y="1379"/>
                </a:lnTo>
                <a:lnTo>
                  <a:pt x="317" y="1465"/>
                </a:lnTo>
                <a:lnTo>
                  <a:pt x="217" y="1527"/>
                </a:lnTo>
                <a:lnTo>
                  <a:pt x="110" y="1564"/>
                </a:lnTo>
                <a:lnTo>
                  <a:pt x="0" y="157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9" name="Group 100"/>
          <p:cNvGrpSpPr/>
          <p:nvPr/>
        </p:nvGrpSpPr>
        <p:grpSpPr>
          <a:xfrm>
            <a:off x="525600" y="5678640"/>
            <a:ext cx="3205800" cy="176040"/>
            <a:chOff x="525600" y="5678640"/>
            <a:chExt cx="3205800" cy="176040"/>
          </a:xfrm>
        </p:grpSpPr>
        <p:sp>
          <p:nvSpPr>
            <p:cNvPr id="940" name="Line 82"/>
            <p:cNvSpPr/>
            <p:nvPr/>
          </p:nvSpPr>
          <p:spPr>
            <a:xfrm>
              <a:off x="525600" y="5851440"/>
              <a:ext cx="2233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83"/>
            <p:cNvSpPr/>
            <p:nvPr/>
          </p:nvSpPr>
          <p:spPr>
            <a:xfrm>
              <a:off x="2758680" y="5851440"/>
              <a:ext cx="9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84"/>
            <p:cNvSpPr/>
            <p:nvPr/>
          </p:nvSpPr>
          <p:spPr>
            <a:xfrm>
              <a:off x="2756520" y="5690160"/>
              <a:ext cx="913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99"/>
            <p:cNvSpPr/>
            <p:nvPr/>
          </p:nvSpPr>
          <p:spPr>
            <a:xfrm>
              <a:off x="3660840" y="5678640"/>
              <a:ext cx="70560" cy="1760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609" h="1573">
                  <a:moveTo>
                    <a:pt x="21" y="0"/>
                  </a:moveTo>
                  <a:lnTo>
                    <a:pt x="79" y="5"/>
                  </a:lnTo>
                  <a:lnTo>
                    <a:pt x="137" y="16"/>
                  </a:lnTo>
                  <a:lnTo>
                    <a:pt x="193" y="35"/>
                  </a:lnTo>
                  <a:lnTo>
                    <a:pt x="248" y="61"/>
                  </a:lnTo>
                  <a:lnTo>
                    <a:pt x="301" y="94"/>
                  </a:lnTo>
                  <a:lnTo>
                    <a:pt x="351" y="135"/>
                  </a:lnTo>
                  <a:lnTo>
                    <a:pt x="397" y="181"/>
                  </a:lnTo>
                  <a:lnTo>
                    <a:pt x="440" y="234"/>
                  </a:lnTo>
                  <a:lnTo>
                    <a:pt x="479" y="292"/>
                  </a:lnTo>
                  <a:lnTo>
                    <a:pt x="513" y="355"/>
                  </a:lnTo>
                  <a:lnTo>
                    <a:pt x="543" y="422"/>
                  </a:lnTo>
                  <a:lnTo>
                    <a:pt x="567" y="493"/>
                  </a:lnTo>
                  <a:lnTo>
                    <a:pt x="586" y="567"/>
                  </a:lnTo>
                  <a:lnTo>
                    <a:pt x="599" y="642"/>
                  </a:lnTo>
                  <a:lnTo>
                    <a:pt x="607" y="719"/>
                  </a:lnTo>
                  <a:lnTo>
                    <a:pt x="609" y="797"/>
                  </a:lnTo>
                  <a:lnTo>
                    <a:pt x="605" y="874"/>
                  </a:lnTo>
                  <a:lnTo>
                    <a:pt x="595" y="952"/>
                  </a:lnTo>
                  <a:lnTo>
                    <a:pt x="580" y="1027"/>
                  </a:lnTo>
                  <a:lnTo>
                    <a:pt x="559" y="1100"/>
                  </a:lnTo>
                  <a:lnTo>
                    <a:pt x="533" y="1170"/>
                  </a:lnTo>
                  <a:lnTo>
                    <a:pt x="501" y="1235"/>
                  </a:lnTo>
                  <a:lnTo>
                    <a:pt x="466" y="1298"/>
                  </a:lnTo>
                  <a:lnTo>
                    <a:pt x="425" y="1354"/>
                  </a:lnTo>
                  <a:lnTo>
                    <a:pt x="381" y="1405"/>
                  </a:lnTo>
                  <a:lnTo>
                    <a:pt x="333" y="1450"/>
                  </a:lnTo>
                  <a:lnTo>
                    <a:pt x="282" y="1489"/>
                  </a:lnTo>
                  <a:lnTo>
                    <a:pt x="229" y="1521"/>
                  </a:lnTo>
                  <a:lnTo>
                    <a:pt x="174" y="1545"/>
                  </a:lnTo>
                  <a:lnTo>
                    <a:pt x="116" y="1563"/>
                  </a:lnTo>
                  <a:lnTo>
                    <a:pt x="58" y="1572"/>
                  </a:lnTo>
                  <a:lnTo>
                    <a:pt x="0" y="15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Line 101"/>
          <p:cNvSpPr/>
          <p:nvPr/>
        </p:nvSpPr>
        <p:spPr>
          <a:xfrm flipH="1">
            <a:off x="2017440" y="5689440"/>
            <a:ext cx="739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102"/>
          <p:cNvSpPr/>
          <p:nvPr/>
        </p:nvSpPr>
        <p:spPr>
          <a:xfrm>
            <a:off x="1101600" y="5511960"/>
            <a:ext cx="28800" cy="520560"/>
          </a:xfrm>
          <a:custGeom>
            <a:avLst/>
            <a:gdLst>
              <a:gd name="textAreaLeft" fmla="*/ 0 w 28800"/>
              <a:gd name="textAreaRight" fmla="*/ 29160 w 288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81" h="813">
                <a:moveTo>
                  <a:pt x="37" y="813"/>
                </a:moveTo>
                <a:lnTo>
                  <a:pt x="50" y="762"/>
                </a:lnTo>
                <a:lnTo>
                  <a:pt x="60" y="708"/>
                </a:lnTo>
                <a:lnTo>
                  <a:pt x="69" y="653"/>
                </a:lnTo>
                <a:lnTo>
                  <a:pt x="75" y="596"/>
                </a:lnTo>
                <a:lnTo>
                  <a:pt x="79" y="539"/>
                </a:lnTo>
                <a:lnTo>
                  <a:pt x="81" y="480"/>
                </a:lnTo>
                <a:lnTo>
                  <a:pt x="80" y="422"/>
                </a:lnTo>
                <a:lnTo>
                  <a:pt x="78" y="364"/>
                </a:lnTo>
                <a:lnTo>
                  <a:pt x="73" y="307"/>
                </a:lnTo>
                <a:lnTo>
                  <a:pt x="67" y="251"/>
                </a:lnTo>
                <a:lnTo>
                  <a:pt x="57" y="196"/>
                </a:lnTo>
                <a:lnTo>
                  <a:pt x="45" y="143"/>
                </a:lnTo>
                <a:lnTo>
                  <a:pt x="32" y="93"/>
                </a:lnTo>
                <a:lnTo>
                  <a:pt x="17" y="4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6" name="Object 103"/>
          <p:cNvGraphicFramePr/>
          <p:nvPr/>
        </p:nvGraphicFramePr>
        <p:xfrm>
          <a:off x="909720" y="5081760"/>
          <a:ext cx="431640" cy="458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47" name="Object 10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09720" y="5081760"/>
                    <a:ext cx="4316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104"/>
          <p:cNvGraphicFramePr/>
          <p:nvPr/>
        </p:nvGraphicFramePr>
        <p:xfrm>
          <a:off x="3890880" y="3598920"/>
          <a:ext cx="3834000" cy="547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49" name="Object 10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90880" y="3598920"/>
                    <a:ext cx="38340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0" name="Object 106"/>
          <p:cNvGraphicFramePr/>
          <p:nvPr/>
        </p:nvGraphicFramePr>
        <p:xfrm>
          <a:off x="3995640" y="4316400"/>
          <a:ext cx="2368800" cy="576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51" name="Object 10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995640" y="4316400"/>
                    <a:ext cx="23688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2" name="Object 107"/>
          <p:cNvGraphicFramePr/>
          <p:nvPr/>
        </p:nvGraphicFramePr>
        <p:xfrm>
          <a:off x="4630680" y="5029200"/>
          <a:ext cx="4546800" cy="5446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53" name="Object 10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5029200"/>
                    <a:ext cx="45468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Line 108"/>
          <p:cNvSpPr/>
          <p:nvPr/>
        </p:nvSpPr>
        <p:spPr>
          <a:xfrm>
            <a:off x="1477800" y="2260440"/>
            <a:ext cx="0" cy="7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Line 109"/>
          <p:cNvSpPr/>
          <p:nvPr/>
        </p:nvSpPr>
        <p:spPr>
          <a:xfrm>
            <a:off x="3741840" y="2260440"/>
            <a:ext cx="0" cy="7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6" name="Object 111"/>
          <p:cNvGraphicFramePr/>
          <p:nvPr/>
        </p:nvGraphicFramePr>
        <p:xfrm>
          <a:off x="1406520" y="1924200"/>
          <a:ext cx="176040" cy="3268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57" name="Object 11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406520" y="1924200"/>
                    <a:ext cx="17604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8" name="Object 112"/>
          <p:cNvGraphicFramePr/>
          <p:nvPr/>
        </p:nvGraphicFramePr>
        <p:xfrm>
          <a:off x="1392120" y="3056040"/>
          <a:ext cx="176400" cy="3268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59" name="Object 11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392120" y="3056040"/>
                    <a:ext cx="17640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0" name="Object 113"/>
          <p:cNvGraphicFramePr/>
          <p:nvPr/>
        </p:nvGraphicFramePr>
        <p:xfrm>
          <a:off x="3618000" y="1924200"/>
          <a:ext cx="252360" cy="326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61" name="Object 113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618000" y="1924200"/>
                    <a:ext cx="25236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2" name="Object 116"/>
          <p:cNvGraphicFramePr/>
          <p:nvPr/>
        </p:nvGraphicFramePr>
        <p:xfrm>
          <a:off x="3648240" y="3056040"/>
          <a:ext cx="252360" cy="326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63" name="Object 11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648240" y="3056040"/>
                    <a:ext cx="25236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AutoShape 117">
            <a:hlinkClick r:id="" action="ppaction://hlinkshowjump?jump=nextslide"/>
          </p:cNvPr>
          <p:cNvSpPr/>
          <p:nvPr/>
        </p:nvSpPr>
        <p:spPr>
          <a:xfrm>
            <a:off x="8132760" y="58514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  例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Freeform 5"/>
          <p:cNvSpPr/>
          <p:nvPr/>
        </p:nvSpPr>
        <p:spPr>
          <a:xfrm>
            <a:off x="4264200" y="2373480"/>
            <a:ext cx="29880" cy="460080"/>
          </a:xfrm>
          <a:custGeom>
            <a:avLst/>
            <a:gdLst>
              <a:gd name="textAreaLeft" fmla="*/ 0 w 29880"/>
              <a:gd name="textAreaRight" fmla="*/ 30240 w 2988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31" h="1742">
                <a:moveTo>
                  <a:pt x="0" y="1742"/>
                </a:moveTo>
                <a:lnTo>
                  <a:pt x="52" y="1567"/>
                </a:lnTo>
                <a:lnTo>
                  <a:pt x="91" y="1379"/>
                </a:lnTo>
                <a:lnTo>
                  <a:pt x="118" y="1180"/>
                </a:lnTo>
                <a:lnTo>
                  <a:pt x="131" y="974"/>
                </a:lnTo>
                <a:lnTo>
                  <a:pt x="131" y="768"/>
                </a:lnTo>
                <a:lnTo>
                  <a:pt x="118" y="563"/>
                </a:lnTo>
                <a:lnTo>
                  <a:pt x="91" y="364"/>
                </a:lnTo>
                <a:lnTo>
                  <a:pt x="52" y="17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Freeform 6"/>
          <p:cNvSpPr/>
          <p:nvPr/>
        </p:nvSpPr>
        <p:spPr>
          <a:xfrm>
            <a:off x="879480" y="2260440"/>
            <a:ext cx="60480" cy="685800"/>
          </a:xfrm>
          <a:custGeom>
            <a:avLst/>
            <a:gdLst>
              <a:gd name="textAreaLeft" fmla="*/ 0 w 60480"/>
              <a:gd name="textAreaRight" fmla="*/ 60840 w 60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60" h="2589">
                <a:moveTo>
                  <a:pt x="119" y="2589"/>
                </a:moveTo>
                <a:lnTo>
                  <a:pt x="173" y="2364"/>
                </a:lnTo>
                <a:lnTo>
                  <a:pt x="215" y="2127"/>
                </a:lnTo>
                <a:lnTo>
                  <a:pt x="243" y="1881"/>
                </a:lnTo>
                <a:lnTo>
                  <a:pt x="258" y="1630"/>
                </a:lnTo>
                <a:lnTo>
                  <a:pt x="260" y="1377"/>
                </a:lnTo>
                <a:lnTo>
                  <a:pt x="249" y="1125"/>
                </a:lnTo>
                <a:lnTo>
                  <a:pt x="223" y="878"/>
                </a:lnTo>
                <a:lnTo>
                  <a:pt x="185" y="638"/>
                </a:lnTo>
                <a:lnTo>
                  <a:pt x="135" y="411"/>
                </a:lnTo>
                <a:lnTo>
                  <a:pt x="73" y="19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Line 7"/>
          <p:cNvSpPr/>
          <p:nvPr/>
        </p:nvSpPr>
        <p:spPr>
          <a:xfrm flipH="1">
            <a:off x="3058920" y="2739960"/>
            <a:ext cx="32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Line 8"/>
          <p:cNvSpPr/>
          <p:nvPr/>
        </p:nvSpPr>
        <p:spPr>
          <a:xfrm flipH="1">
            <a:off x="1725480" y="2739960"/>
            <a:ext cx="32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Line 9"/>
          <p:cNvSpPr/>
          <p:nvPr/>
        </p:nvSpPr>
        <p:spPr>
          <a:xfrm flipH="1">
            <a:off x="3058920" y="2468520"/>
            <a:ext cx="32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Line 10"/>
          <p:cNvSpPr/>
          <p:nvPr/>
        </p:nvSpPr>
        <p:spPr>
          <a:xfrm flipH="1">
            <a:off x="1725480" y="2468520"/>
            <a:ext cx="32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Line 11"/>
          <p:cNvSpPr/>
          <p:nvPr/>
        </p:nvSpPr>
        <p:spPr>
          <a:xfrm flipV="1">
            <a:off x="3333600" y="2851200"/>
            <a:ext cx="4788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Line 12"/>
          <p:cNvSpPr/>
          <p:nvPr/>
        </p:nvSpPr>
        <p:spPr>
          <a:xfrm flipV="1">
            <a:off x="3244680" y="2747520"/>
            <a:ext cx="136800" cy="15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Line 13"/>
          <p:cNvSpPr/>
          <p:nvPr/>
        </p:nvSpPr>
        <p:spPr>
          <a:xfrm flipV="1">
            <a:off x="3157560" y="2739600"/>
            <a:ext cx="142920" cy="16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Line 14"/>
          <p:cNvSpPr/>
          <p:nvPr/>
        </p:nvSpPr>
        <p:spPr>
          <a:xfrm flipV="1">
            <a:off x="3067200" y="2739600"/>
            <a:ext cx="144360" cy="16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Line 15"/>
          <p:cNvSpPr/>
          <p:nvPr/>
        </p:nvSpPr>
        <p:spPr>
          <a:xfrm flipV="1">
            <a:off x="3357720" y="2441160"/>
            <a:ext cx="2376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Line 16"/>
          <p:cNvSpPr/>
          <p:nvPr/>
        </p:nvSpPr>
        <p:spPr>
          <a:xfrm flipV="1">
            <a:off x="3059280" y="2739600"/>
            <a:ext cx="6336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Line 17"/>
          <p:cNvSpPr/>
          <p:nvPr/>
        </p:nvSpPr>
        <p:spPr>
          <a:xfrm flipV="1">
            <a:off x="3268800" y="2338200"/>
            <a:ext cx="11268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Line 18"/>
          <p:cNvSpPr/>
          <p:nvPr/>
        </p:nvSpPr>
        <p:spPr>
          <a:xfrm flipV="1">
            <a:off x="3179880" y="2301480"/>
            <a:ext cx="144360" cy="1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Line 19"/>
          <p:cNvSpPr/>
          <p:nvPr/>
        </p:nvSpPr>
        <p:spPr>
          <a:xfrm flipV="1">
            <a:off x="3092400" y="2301480"/>
            <a:ext cx="142920" cy="1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Line 20"/>
          <p:cNvSpPr/>
          <p:nvPr/>
        </p:nvSpPr>
        <p:spPr>
          <a:xfrm flipV="1">
            <a:off x="3059280" y="2301840"/>
            <a:ext cx="8856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Line 21"/>
          <p:cNvSpPr/>
          <p:nvPr/>
        </p:nvSpPr>
        <p:spPr>
          <a:xfrm flipV="1">
            <a:off x="2041560" y="2898720"/>
            <a:ext cx="792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Line 22"/>
          <p:cNvSpPr/>
          <p:nvPr/>
        </p:nvSpPr>
        <p:spPr>
          <a:xfrm flipV="1">
            <a:off x="1954080" y="2795760"/>
            <a:ext cx="954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Line 23"/>
          <p:cNvSpPr/>
          <p:nvPr/>
        </p:nvSpPr>
        <p:spPr>
          <a:xfrm flipV="1">
            <a:off x="1863720" y="2739600"/>
            <a:ext cx="144360" cy="16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Line 24"/>
          <p:cNvSpPr/>
          <p:nvPr/>
        </p:nvSpPr>
        <p:spPr>
          <a:xfrm flipV="1">
            <a:off x="1776240" y="2739600"/>
            <a:ext cx="144720" cy="16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Line 25"/>
          <p:cNvSpPr/>
          <p:nvPr/>
        </p:nvSpPr>
        <p:spPr>
          <a:xfrm flipV="1">
            <a:off x="1725480" y="2739600"/>
            <a:ext cx="10476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Line 26"/>
          <p:cNvSpPr/>
          <p:nvPr/>
        </p:nvSpPr>
        <p:spPr>
          <a:xfrm flipV="1">
            <a:off x="1978200" y="2385720"/>
            <a:ext cx="7128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Line 27"/>
          <p:cNvSpPr/>
          <p:nvPr/>
        </p:nvSpPr>
        <p:spPr>
          <a:xfrm flipV="1">
            <a:off x="1725480" y="273960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28"/>
          <p:cNvSpPr/>
          <p:nvPr/>
        </p:nvSpPr>
        <p:spPr>
          <a:xfrm flipV="1">
            <a:off x="1889280" y="2301480"/>
            <a:ext cx="142560" cy="1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Line 29"/>
          <p:cNvSpPr/>
          <p:nvPr/>
        </p:nvSpPr>
        <p:spPr>
          <a:xfrm flipV="1">
            <a:off x="1800360" y="2301480"/>
            <a:ext cx="144360" cy="1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Line 30"/>
          <p:cNvSpPr/>
          <p:nvPr/>
        </p:nvSpPr>
        <p:spPr>
          <a:xfrm flipV="1">
            <a:off x="1725480" y="2301480"/>
            <a:ext cx="130320" cy="14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Line 31"/>
          <p:cNvSpPr/>
          <p:nvPr/>
        </p:nvSpPr>
        <p:spPr>
          <a:xfrm flipV="1">
            <a:off x="1725480" y="2301840"/>
            <a:ext cx="414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Line 32"/>
          <p:cNvSpPr/>
          <p:nvPr/>
        </p:nvSpPr>
        <p:spPr>
          <a:xfrm>
            <a:off x="4390920" y="2681280"/>
            <a:ext cx="12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Line 33"/>
          <p:cNvSpPr/>
          <p:nvPr/>
        </p:nvSpPr>
        <p:spPr>
          <a:xfrm>
            <a:off x="4390920" y="2525760"/>
            <a:ext cx="12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Freeform 34"/>
          <p:cNvSpPr/>
          <p:nvPr/>
        </p:nvSpPr>
        <p:spPr>
          <a:xfrm>
            <a:off x="4040280" y="2525760"/>
            <a:ext cx="54000" cy="155520"/>
          </a:xfrm>
          <a:custGeom>
            <a:avLst/>
            <a:gdLst>
              <a:gd name="textAreaLeft" fmla="*/ 0 w 54000"/>
              <a:gd name="textAreaRight" fmla="*/ 54360 w 540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30" h="589">
                <a:moveTo>
                  <a:pt x="0" y="589"/>
                </a:moveTo>
                <a:lnTo>
                  <a:pt x="42" y="586"/>
                </a:lnTo>
                <a:lnTo>
                  <a:pt x="83" y="571"/>
                </a:lnTo>
                <a:lnTo>
                  <a:pt x="121" y="548"/>
                </a:lnTo>
                <a:lnTo>
                  <a:pt x="155" y="515"/>
                </a:lnTo>
                <a:lnTo>
                  <a:pt x="183" y="475"/>
                </a:lnTo>
                <a:lnTo>
                  <a:pt x="206" y="428"/>
                </a:lnTo>
                <a:lnTo>
                  <a:pt x="221" y="377"/>
                </a:lnTo>
                <a:lnTo>
                  <a:pt x="229" y="324"/>
                </a:lnTo>
                <a:lnTo>
                  <a:pt x="230" y="269"/>
                </a:lnTo>
                <a:lnTo>
                  <a:pt x="221" y="215"/>
                </a:lnTo>
                <a:lnTo>
                  <a:pt x="207" y="164"/>
                </a:lnTo>
                <a:lnTo>
                  <a:pt x="184" y="118"/>
                </a:lnTo>
                <a:lnTo>
                  <a:pt x="156" y="78"/>
                </a:lnTo>
                <a:lnTo>
                  <a:pt x="122" y="45"/>
                </a:lnTo>
                <a:lnTo>
                  <a:pt x="85" y="20"/>
                </a:lnTo>
                <a:lnTo>
                  <a:pt x="44" y="6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Line 35"/>
          <p:cNvSpPr/>
          <p:nvPr/>
        </p:nvSpPr>
        <p:spPr>
          <a:xfrm>
            <a:off x="2700360" y="2681280"/>
            <a:ext cx="1341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Line 36"/>
          <p:cNvSpPr/>
          <p:nvPr/>
        </p:nvSpPr>
        <p:spPr>
          <a:xfrm>
            <a:off x="2700360" y="2525760"/>
            <a:ext cx="1341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Line 37"/>
          <p:cNvSpPr/>
          <p:nvPr/>
        </p:nvSpPr>
        <p:spPr>
          <a:xfrm>
            <a:off x="1084320" y="2525760"/>
            <a:ext cx="1266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Line 38"/>
          <p:cNvSpPr/>
          <p:nvPr/>
        </p:nvSpPr>
        <p:spPr>
          <a:xfrm>
            <a:off x="1089000" y="2681280"/>
            <a:ext cx="1262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Freeform 39"/>
          <p:cNvSpPr/>
          <p:nvPr/>
        </p:nvSpPr>
        <p:spPr>
          <a:xfrm>
            <a:off x="560520" y="2525760"/>
            <a:ext cx="52200" cy="155520"/>
          </a:xfrm>
          <a:custGeom>
            <a:avLst/>
            <a:gdLst>
              <a:gd name="textAreaLeft" fmla="*/ 0 w 52200"/>
              <a:gd name="textAreaRight" fmla="*/ 52560 w 52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29" h="589">
                <a:moveTo>
                  <a:pt x="0" y="589"/>
                </a:moveTo>
                <a:lnTo>
                  <a:pt x="42" y="586"/>
                </a:lnTo>
                <a:lnTo>
                  <a:pt x="83" y="571"/>
                </a:lnTo>
                <a:lnTo>
                  <a:pt x="121" y="548"/>
                </a:lnTo>
                <a:lnTo>
                  <a:pt x="155" y="515"/>
                </a:lnTo>
                <a:lnTo>
                  <a:pt x="184" y="475"/>
                </a:lnTo>
                <a:lnTo>
                  <a:pt x="206" y="428"/>
                </a:lnTo>
                <a:lnTo>
                  <a:pt x="222" y="377"/>
                </a:lnTo>
                <a:lnTo>
                  <a:pt x="229" y="324"/>
                </a:lnTo>
                <a:lnTo>
                  <a:pt x="229" y="269"/>
                </a:lnTo>
                <a:lnTo>
                  <a:pt x="222" y="215"/>
                </a:lnTo>
                <a:lnTo>
                  <a:pt x="207" y="164"/>
                </a:lnTo>
                <a:lnTo>
                  <a:pt x="185" y="118"/>
                </a:lnTo>
                <a:lnTo>
                  <a:pt x="156" y="78"/>
                </a:lnTo>
                <a:lnTo>
                  <a:pt x="122" y="45"/>
                </a:lnTo>
                <a:lnTo>
                  <a:pt x="85" y="20"/>
                </a:lnTo>
                <a:lnTo>
                  <a:pt x="44" y="6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40"/>
          <p:cNvSpPr/>
          <p:nvPr/>
        </p:nvSpPr>
        <p:spPr>
          <a:xfrm>
            <a:off x="4041720" y="2219400"/>
            <a:ext cx="200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Freeform 41"/>
          <p:cNvSpPr/>
          <p:nvPr/>
        </p:nvSpPr>
        <p:spPr>
          <a:xfrm>
            <a:off x="3890880" y="2219400"/>
            <a:ext cx="303120" cy="768240"/>
          </a:xfrm>
          <a:custGeom>
            <a:avLst/>
            <a:gdLst>
              <a:gd name="textAreaLeft" fmla="*/ 0 w 303120"/>
              <a:gd name="textAreaRight" fmla="*/ 303120 w 30312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1315" h="2906">
                <a:moveTo>
                  <a:pt x="0" y="1747"/>
                </a:moveTo>
                <a:lnTo>
                  <a:pt x="28" y="1958"/>
                </a:lnTo>
                <a:lnTo>
                  <a:pt x="70" y="2157"/>
                </a:lnTo>
                <a:lnTo>
                  <a:pt x="125" y="2340"/>
                </a:lnTo>
                <a:lnTo>
                  <a:pt x="192" y="2503"/>
                </a:lnTo>
                <a:lnTo>
                  <a:pt x="269" y="2642"/>
                </a:lnTo>
                <a:lnTo>
                  <a:pt x="355" y="2754"/>
                </a:lnTo>
                <a:lnTo>
                  <a:pt x="448" y="2837"/>
                </a:lnTo>
                <a:lnTo>
                  <a:pt x="544" y="2887"/>
                </a:lnTo>
                <a:lnTo>
                  <a:pt x="645" y="2906"/>
                </a:lnTo>
                <a:lnTo>
                  <a:pt x="744" y="2893"/>
                </a:lnTo>
                <a:lnTo>
                  <a:pt x="842" y="2846"/>
                </a:lnTo>
                <a:lnTo>
                  <a:pt x="936" y="2768"/>
                </a:lnTo>
                <a:lnTo>
                  <a:pt x="1023" y="2660"/>
                </a:lnTo>
                <a:lnTo>
                  <a:pt x="1101" y="2524"/>
                </a:lnTo>
                <a:lnTo>
                  <a:pt x="1170" y="2365"/>
                </a:lnTo>
                <a:lnTo>
                  <a:pt x="1226" y="2184"/>
                </a:lnTo>
                <a:lnTo>
                  <a:pt x="1271" y="1987"/>
                </a:lnTo>
                <a:lnTo>
                  <a:pt x="1300" y="1779"/>
                </a:lnTo>
                <a:lnTo>
                  <a:pt x="1315" y="1563"/>
                </a:lnTo>
                <a:lnTo>
                  <a:pt x="1315" y="1344"/>
                </a:lnTo>
                <a:lnTo>
                  <a:pt x="1300" y="1128"/>
                </a:lnTo>
                <a:lnTo>
                  <a:pt x="1271" y="919"/>
                </a:lnTo>
                <a:lnTo>
                  <a:pt x="1226" y="722"/>
                </a:lnTo>
                <a:lnTo>
                  <a:pt x="1170" y="541"/>
                </a:lnTo>
                <a:lnTo>
                  <a:pt x="1101" y="382"/>
                </a:lnTo>
                <a:lnTo>
                  <a:pt x="1023" y="247"/>
                </a:lnTo>
                <a:lnTo>
                  <a:pt x="936" y="139"/>
                </a:lnTo>
                <a:lnTo>
                  <a:pt x="842" y="60"/>
                </a:lnTo>
                <a:lnTo>
                  <a:pt x="744" y="14"/>
                </a:lnTo>
                <a:lnTo>
                  <a:pt x="645" y="0"/>
                </a:lnTo>
                <a:lnTo>
                  <a:pt x="544" y="19"/>
                </a:lnTo>
                <a:lnTo>
                  <a:pt x="448" y="70"/>
                </a:lnTo>
                <a:lnTo>
                  <a:pt x="355" y="152"/>
                </a:lnTo>
                <a:lnTo>
                  <a:pt x="269" y="265"/>
                </a:lnTo>
                <a:lnTo>
                  <a:pt x="192" y="403"/>
                </a:lnTo>
                <a:lnTo>
                  <a:pt x="125" y="566"/>
                </a:lnTo>
                <a:lnTo>
                  <a:pt x="70" y="750"/>
                </a:lnTo>
                <a:lnTo>
                  <a:pt x="28" y="949"/>
                </a:lnTo>
                <a:lnTo>
                  <a:pt x="0" y="11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42"/>
          <p:cNvSpPr/>
          <p:nvPr/>
        </p:nvSpPr>
        <p:spPr>
          <a:xfrm>
            <a:off x="4044960" y="2987640"/>
            <a:ext cx="200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Freeform 43"/>
          <p:cNvSpPr/>
          <p:nvPr/>
        </p:nvSpPr>
        <p:spPr>
          <a:xfrm>
            <a:off x="4238640" y="2219400"/>
            <a:ext cx="155520" cy="768240"/>
          </a:xfrm>
          <a:custGeom>
            <a:avLst/>
            <a:gdLst>
              <a:gd name="textAreaLeft" fmla="*/ 0 w 155520"/>
              <a:gd name="textAreaRight" fmla="*/ 155520 w 15552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675" h="2906">
                <a:moveTo>
                  <a:pt x="0" y="2906"/>
                </a:moveTo>
                <a:lnTo>
                  <a:pt x="100" y="2894"/>
                </a:lnTo>
                <a:lnTo>
                  <a:pt x="197" y="2848"/>
                </a:lnTo>
                <a:lnTo>
                  <a:pt x="291" y="2771"/>
                </a:lnTo>
                <a:lnTo>
                  <a:pt x="378" y="2665"/>
                </a:lnTo>
                <a:lnTo>
                  <a:pt x="456" y="2531"/>
                </a:lnTo>
                <a:lnTo>
                  <a:pt x="525" y="2372"/>
                </a:lnTo>
                <a:lnTo>
                  <a:pt x="582" y="2193"/>
                </a:lnTo>
                <a:lnTo>
                  <a:pt x="627" y="1998"/>
                </a:lnTo>
                <a:lnTo>
                  <a:pt x="658" y="1789"/>
                </a:lnTo>
                <a:lnTo>
                  <a:pt x="673" y="1573"/>
                </a:lnTo>
                <a:lnTo>
                  <a:pt x="675" y="1355"/>
                </a:lnTo>
                <a:lnTo>
                  <a:pt x="660" y="1139"/>
                </a:lnTo>
                <a:lnTo>
                  <a:pt x="631" y="931"/>
                </a:lnTo>
                <a:lnTo>
                  <a:pt x="588" y="733"/>
                </a:lnTo>
                <a:lnTo>
                  <a:pt x="533" y="552"/>
                </a:lnTo>
                <a:lnTo>
                  <a:pt x="465" y="392"/>
                </a:lnTo>
                <a:lnTo>
                  <a:pt x="387" y="254"/>
                </a:lnTo>
                <a:lnTo>
                  <a:pt x="301" y="145"/>
                </a:lnTo>
                <a:lnTo>
                  <a:pt x="208" y="65"/>
                </a:lnTo>
                <a:lnTo>
                  <a:pt x="110" y="16"/>
                </a:lnTo>
                <a:lnTo>
                  <a:pt x="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44"/>
          <p:cNvSpPr/>
          <p:nvPr/>
        </p:nvSpPr>
        <p:spPr>
          <a:xfrm>
            <a:off x="565200" y="3227400"/>
            <a:ext cx="299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Freeform 45"/>
          <p:cNvSpPr/>
          <p:nvPr/>
        </p:nvSpPr>
        <p:spPr>
          <a:xfrm>
            <a:off x="333360" y="2073240"/>
            <a:ext cx="457200" cy="1154160"/>
          </a:xfrm>
          <a:custGeom>
            <a:avLst/>
            <a:gdLst>
              <a:gd name="textAreaLeft" fmla="*/ 0 w 457200"/>
              <a:gd name="textAreaRight" fmla="*/ 457560 w 45720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1988" h="4358">
                <a:moveTo>
                  <a:pt x="0" y="2444"/>
                </a:moveTo>
                <a:lnTo>
                  <a:pt x="23" y="2712"/>
                </a:lnTo>
                <a:lnTo>
                  <a:pt x="61" y="2972"/>
                </a:lnTo>
                <a:lnTo>
                  <a:pt x="113" y="3219"/>
                </a:lnTo>
                <a:lnTo>
                  <a:pt x="178" y="3450"/>
                </a:lnTo>
                <a:lnTo>
                  <a:pt x="258" y="3661"/>
                </a:lnTo>
                <a:lnTo>
                  <a:pt x="348" y="3848"/>
                </a:lnTo>
                <a:lnTo>
                  <a:pt x="448" y="4010"/>
                </a:lnTo>
                <a:lnTo>
                  <a:pt x="556" y="4144"/>
                </a:lnTo>
                <a:lnTo>
                  <a:pt x="672" y="4246"/>
                </a:lnTo>
                <a:lnTo>
                  <a:pt x="793" y="4317"/>
                </a:lnTo>
                <a:lnTo>
                  <a:pt x="916" y="4354"/>
                </a:lnTo>
                <a:lnTo>
                  <a:pt x="1040" y="4358"/>
                </a:lnTo>
                <a:lnTo>
                  <a:pt x="1164" y="4327"/>
                </a:lnTo>
                <a:lnTo>
                  <a:pt x="1286" y="4262"/>
                </a:lnTo>
                <a:lnTo>
                  <a:pt x="1402" y="4166"/>
                </a:lnTo>
                <a:lnTo>
                  <a:pt x="1512" y="4038"/>
                </a:lnTo>
                <a:lnTo>
                  <a:pt x="1614" y="3881"/>
                </a:lnTo>
                <a:lnTo>
                  <a:pt x="1706" y="3698"/>
                </a:lnTo>
                <a:lnTo>
                  <a:pt x="1787" y="3491"/>
                </a:lnTo>
                <a:lnTo>
                  <a:pt x="1856" y="3264"/>
                </a:lnTo>
                <a:lnTo>
                  <a:pt x="1911" y="3019"/>
                </a:lnTo>
                <a:lnTo>
                  <a:pt x="1952" y="2762"/>
                </a:lnTo>
                <a:lnTo>
                  <a:pt x="1977" y="2495"/>
                </a:lnTo>
                <a:lnTo>
                  <a:pt x="1988" y="2224"/>
                </a:lnTo>
                <a:lnTo>
                  <a:pt x="1983" y="1952"/>
                </a:lnTo>
                <a:lnTo>
                  <a:pt x="1962" y="1683"/>
                </a:lnTo>
                <a:lnTo>
                  <a:pt x="1926" y="1422"/>
                </a:lnTo>
                <a:lnTo>
                  <a:pt x="1875" y="1174"/>
                </a:lnTo>
                <a:lnTo>
                  <a:pt x="1811" y="941"/>
                </a:lnTo>
                <a:lnTo>
                  <a:pt x="1734" y="727"/>
                </a:lnTo>
                <a:lnTo>
                  <a:pt x="1645" y="535"/>
                </a:lnTo>
                <a:lnTo>
                  <a:pt x="1546" y="370"/>
                </a:lnTo>
                <a:lnTo>
                  <a:pt x="1438" y="232"/>
                </a:lnTo>
                <a:lnTo>
                  <a:pt x="1324" y="125"/>
                </a:lnTo>
                <a:lnTo>
                  <a:pt x="1204" y="50"/>
                </a:lnTo>
                <a:lnTo>
                  <a:pt x="1081" y="9"/>
                </a:lnTo>
                <a:lnTo>
                  <a:pt x="957" y="0"/>
                </a:lnTo>
                <a:lnTo>
                  <a:pt x="833" y="27"/>
                </a:lnTo>
                <a:lnTo>
                  <a:pt x="711" y="86"/>
                </a:lnTo>
                <a:lnTo>
                  <a:pt x="594" y="178"/>
                </a:lnTo>
                <a:lnTo>
                  <a:pt x="482" y="302"/>
                </a:lnTo>
                <a:lnTo>
                  <a:pt x="380" y="455"/>
                </a:lnTo>
                <a:lnTo>
                  <a:pt x="285" y="635"/>
                </a:lnTo>
                <a:lnTo>
                  <a:pt x="203" y="839"/>
                </a:lnTo>
                <a:lnTo>
                  <a:pt x="133" y="1064"/>
                </a:lnTo>
                <a:lnTo>
                  <a:pt x="76" y="1306"/>
                </a:lnTo>
                <a:lnTo>
                  <a:pt x="33" y="156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46"/>
          <p:cNvSpPr/>
          <p:nvPr/>
        </p:nvSpPr>
        <p:spPr>
          <a:xfrm>
            <a:off x="561960" y="2073240"/>
            <a:ext cx="29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Freeform 47"/>
          <p:cNvSpPr/>
          <p:nvPr/>
        </p:nvSpPr>
        <p:spPr>
          <a:xfrm>
            <a:off x="857160" y="2073240"/>
            <a:ext cx="231840" cy="1154160"/>
          </a:xfrm>
          <a:custGeom>
            <a:avLst/>
            <a:gdLst>
              <a:gd name="textAreaLeft" fmla="*/ 0 w 231840"/>
              <a:gd name="textAreaRight" fmla="*/ 232200 w 23184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1013" h="4361">
                <a:moveTo>
                  <a:pt x="0" y="4361"/>
                </a:moveTo>
                <a:lnTo>
                  <a:pt x="122" y="4349"/>
                </a:lnTo>
                <a:lnTo>
                  <a:pt x="240" y="4306"/>
                </a:lnTo>
                <a:lnTo>
                  <a:pt x="357" y="4230"/>
                </a:lnTo>
                <a:lnTo>
                  <a:pt x="468" y="4125"/>
                </a:lnTo>
                <a:lnTo>
                  <a:pt x="573" y="3991"/>
                </a:lnTo>
                <a:lnTo>
                  <a:pt x="668" y="3830"/>
                </a:lnTo>
                <a:lnTo>
                  <a:pt x="755" y="3646"/>
                </a:lnTo>
                <a:lnTo>
                  <a:pt x="831" y="3439"/>
                </a:lnTo>
                <a:lnTo>
                  <a:pt x="895" y="3214"/>
                </a:lnTo>
                <a:lnTo>
                  <a:pt x="946" y="2974"/>
                </a:lnTo>
                <a:lnTo>
                  <a:pt x="983" y="2722"/>
                </a:lnTo>
                <a:lnTo>
                  <a:pt x="1006" y="2462"/>
                </a:lnTo>
                <a:lnTo>
                  <a:pt x="1013" y="2197"/>
                </a:lnTo>
                <a:lnTo>
                  <a:pt x="1007" y="1934"/>
                </a:lnTo>
                <a:lnTo>
                  <a:pt x="987" y="1673"/>
                </a:lnTo>
                <a:lnTo>
                  <a:pt x="951" y="1420"/>
                </a:lnTo>
                <a:lnTo>
                  <a:pt x="902" y="1178"/>
                </a:lnTo>
                <a:lnTo>
                  <a:pt x="840" y="951"/>
                </a:lnTo>
                <a:lnTo>
                  <a:pt x="766" y="742"/>
                </a:lnTo>
                <a:lnTo>
                  <a:pt x="681" y="554"/>
                </a:lnTo>
                <a:lnTo>
                  <a:pt x="586" y="390"/>
                </a:lnTo>
                <a:lnTo>
                  <a:pt x="482" y="252"/>
                </a:lnTo>
                <a:lnTo>
                  <a:pt x="372" y="143"/>
                </a:lnTo>
                <a:lnTo>
                  <a:pt x="256" y="64"/>
                </a:lnTo>
                <a:lnTo>
                  <a:pt x="137" y="16"/>
                </a:lnTo>
                <a:lnTo>
                  <a:pt x="1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Freeform 48"/>
          <p:cNvSpPr/>
          <p:nvPr/>
        </p:nvSpPr>
        <p:spPr>
          <a:xfrm>
            <a:off x="2351160" y="2525760"/>
            <a:ext cx="52200" cy="155520"/>
          </a:xfrm>
          <a:custGeom>
            <a:avLst/>
            <a:gdLst>
              <a:gd name="textAreaLeft" fmla="*/ 0 w 52200"/>
              <a:gd name="textAreaRight" fmla="*/ 52560 w 52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30" h="589">
                <a:moveTo>
                  <a:pt x="0" y="589"/>
                </a:moveTo>
                <a:lnTo>
                  <a:pt x="43" y="585"/>
                </a:lnTo>
                <a:lnTo>
                  <a:pt x="83" y="571"/>
                </a:lnTo>
                <a:lnTo>
                  <a:pt x="121" y="547"/>
                </a:lnTo>
                <a:lnTo>
                  <a:pt x="155" y="515"/>
                </a:lnTo>
                <a:lnTo>
                  <a:pt x="183" y="475"/>
                </a:lnTo>
                <a:lnTo>
                  <a:pt x="206" y="428"/>
                </a:lnTo>
                <a:lnTo>
                  <a:pt x="222" y="377"/>
                </a:lnTo>
                <a:lnTo>
                  <a:pt x="229" y="323"/>
                </a:lnTo>
                <a:lnTo>
                  <a:pt x="230" y="269"/>
                </a:lnTo>
                <a:lnTo>
                  <a:pt x="222" y="215"/>
                </a:lnTo>
                <a:lnTo>
                  <a:pt x="207" y="164"/>
                </a:lnTo>
                <a:lnTo>
                  <a:pt x="184" y="118"/>
                </a:lnTo>
                <a:lnTo>
                  <a:pt x="156" y="78"/>
                </a:lnTo>
                <a:lnTo>
                  <a:pt x="123" y="45"/>
                </a:lnTo>
                <a:lnTo>
                  <a:pt x="85" y="20"/>
                </a:lnTo>
                <a:lnTo>
                  <a:pt x="45" y="6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Line 49"/>
          <p:cNvSpPr/>
          <p:nvPr/>
        </p:nvSpPr>
        <p:spPr>
          <a:xfrm>
            <a:off x="2349360" y="2681280"/>
            <a:ext cx="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Line 50"/>
          <p:cNvSpPr/>
          <p:nvPr/>
        </p:nvSpPr>
        <p:spPr>
          <a:xfrm>
            <a:off x="2349360" y="2525760"/>
            <a:ext cx="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Line 51"/>
          <p:cNvSpPr/>
          <p:nvPr/>
        </p:nvSpPr>
        <p:spPr>
          <a:xfrm>
            <a:off x="223920" y="2681280"/>
            <a:ext cx="33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Line 52"/>
          <p:cNvSpPr/>
          <p:nvPr/>
        </p:nvSpPr>
        <p:spPr>
          <a:xfrm>
            <a:off x="223920" y="2525760"/>
            <a:ext cx="33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Freeform 53"/>
          <p:cNvSpPr/>
          <p:nvPr/>
        </p:nvSpPr>
        <p:spPr>
          <a:xfrm>
            <a:off x="4513320" y="2525760"/>
            <a:ext cx="52200" cy="155520"/>
          </a:xfrm>
          <a:custGeom>
            <a:avLst/>
            <a:gdLst>
              <a:gd name="textAreaLeft" fmla="*/ 0 w 52200"/>
              <a:gd name="textAreaRight" fmla="*/ 52560 w 52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26" h="589">
                <a:moveTo>
                  <a:pt x="0" y="589"/>
                </a:moveTo>
                <a:lnTo>
                  <a:pt x="43" y="585"/>
                </a:lnTo>
                <a:lnTo>
                  <a:pt x="83" y="570"/>
                </a:lnTo>
                <a:lnTo>
                  <a:pt x="120" y="546"/>
                </a:lnTo>
                <a:lnTo>
                  <a:pt x="153" y="513"/>
                </a:lnTo>
                <a:lnTo>
                  <a:pt x="182" y="473"/>
                </a:lnTo>
                <a:lnTo>
                  <a:pt x="204" y="426"/>
                </a:lnTo>
                <a:lnTo>
                  <a:pt x="219" y="376"/>
                </a:lnTo>
                <a:lnTo>
                  <a:pt x="226" y="322"/>
                </a:lnTo>
                <a:lnTo>
                  <a:pt x="226" y="268"/>
                </a:lnTo>
                <a:lnTo>
                  <a:pt x="219" y="214"/>
                </a:lnTo>
                <a:lnTo>
                  <a:pt x="204" y="164"/>
                </a:lnTo>
                <a:lnTo>
                  <a:pt x="182" y="118"/>
                </a:lnTo>
                <a:lnTo>
                  <a:pt x="153" y="78"/>
                </a:lnTo>
                <a:lnTo>
                  <a:pt x="120" y="45"/>
                </a:lnTo>
                <a:lnTo>
                  <a:pt x="83" y="20"/>
                </a:lnTo>
                <a:lnTo>
                  <a:pt x="43" y="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Freeform 54"/>
          <p:cNvSpPr/>
          <p:nvPr/>
        </p:nvSpPr>
        <p:spPr>
          <a:xfrm>
            <a:off x="171360" y="2525760"/>
            <a:ext cx="52560" cy="155520"/>
          </a:xfrm>
          <a:custGeom>
            <a:avLst/>
            <a:gdLst>
              <a:gd name="textAreaLeft" fmla="*/ 0 w 52560"/>
              <a:gd name="textAreaRight" fmla="*/ 52920 w 525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30" h="589">
                <a:moveTo>
                  <a:pt x="228" y="0"/>
                </a:moveTo>
                <a:lnTo>
                  <a:pt x="186" y="6"/>
                </a:lnTo>
                <a:lnTo>
                  <a:pt x="145" y="20"/>
                </a:lnTo>
                <a:lnTo>
                  <a:pt x="107" y="44"/>
                </a:lnTo>
                <a:lnTo>
                  <a:pt x="73" y="78"/>
                </a:lnTo>
                <a:lnTo>
                  <a:pt x="46" y="118"/>
                </a:lnTo>
                <a:lnTo>
                  <a:pt x="24" y="164"/>
                </a:lnTo>
                <a:lnTo>
                  <a:pt x="8" y="215"/>
                </a:lnTo>
                <a:lnTo>
                  <a:pt x="0" y="269"/>
                </a:lnTo>
                <a:lnTo>
                  <a:pt x="0" y="324"/>
                </a:lnTo>
                <a:lnTo>
                  <a:pt x="9" y="377"/>
                </a:lnTo>
                <a:lnTo>
                  <a:pt x="25" y="429"/>
                </a:lnTo>
                <a:lnTo>
                  <a:pt x="47" y="475"/>
                </a:lnTo>
                <a:lnTo>
                  <a:pt x="75" y="515"/>
                </a:lnTo>
                <a:lnTo>
                  <a:pt x="109" y="548"/>
                </a:lnTo>
                <a:lnTo>
                  <a:pt x="147" y="571"/>
                </a:lnTo>
                <a:lnTo>
                  <a:pt x="188" y="586"/>
                </a:lnTo>
                <a:lnTo>
                  <a:pt x="230" y="5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Freeform 55"/>
          <p:cNvSpPr/>
          <p:nvPr/>
        </p:nvSpPr>
        <p:spPr>
          <a:xfrm>
            <a:off x="2549520" y="2219400"/>
            <a:ext cx="154080" cy="768240"/>
          </a:xfrm>
          <a:custGeom>
            <a:avLst/>
            <a:gdLst>
              <a:gd name="textAreaLeft" fmla="*/ 0 w 154080"/>
              <a:gd name="textAreaRight" fmla="*/ 154440 w 1540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675" h="2906">
                <a:moveTo>
                  <a:pt x="0" y="2906"/>
                </a:moveTo>
                <a:lnTo>
                  <a:pt x="100" y="2894"/>
                </a:lnTo>
                <a:lnTo>
                  <a:pt x="197" y="2848"/>
                </a:lnTo>
                <a:lnTo>
                  <a:pt x="291" y="2771"/>
                </a:lnTo>
                <a:lnTo>
                  <a:pt x="378" y="2665"/>
                </a:lnTo>
                <a:lnTo>
                  <a:pt x="457" y="2531"/>
                </a:lnTo>
                <a:lnTo>
                  <a:pt x="525" y="2372"/>
                </a:lnTo>
                <a:lnTo>
                  <a:pt x="583" y="2193"/>
                </a:lnTo>
                <a:lnTo>
                  <a:pt x="627" y="1998"/>
                </a:lnTo>
                <a:lnTo>
                  <a:pt x="658" y="1789"/>
                </a:lnTo>
                <a:lnTo>
                  <a:pt x="674" y="1573"/>
                </a:lnTo>
                <a:lnTo>
                  <a:pt x="675" y="1355"/>
                </a:lnTo>
                <a:lnTo>
                  <a:pt x="660" y="1139"/>
                </a:lnTo>
                <a:lnTo>
                  <a:pt x="631" y="931"/>
                </a:lnTo>
                <a:lnTo>
                  <a:pt x="588" y="733"/>
                </a:lnTo>
                <a:lnTo>
                  <a:pt x="533" y="552"/>
                </a:lnTo>
                <a:lnTo>
                  <a:pt x="465" y="392"/>
                </a:lnTo>
                <a:lnTo>
                  <a:pt x="387" y="254"/>
                </a:lnTo>
                <a:lnTo>
                  <a:pt x="301" y="145"/>
                </a:lnTo>
                <a:lnTo>
                  <a:pt x="208" y="65"/>
                </a:lnTo>
                <a:lnTo>
                  <a:pt x="110" y="16"/>
                </a:lnTo>
                <a:lnTo>
                  <a:pt x="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Line 56"/>
          <p:cNvSpPr/>
          <p:nvPr/>
        </p:nvSpPr>
        <p:spPr>
          <a:xfrm>
            <a:off x="2352600" y="2987640"/>
            <a:ext cx="200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Freeform 57"/>
          <p:cNvSpPr/>
          <p:nvPr/>
        </p:nvSpPr>
        <p:spPr>
          <a:xfrm>
            <a:off x="2201760" y="2219400"/>
            <a:ext cx="301680" cy="768240"/>
          </a:xfrm>
          <a:custGeom>
            <a:avLst/>
            <a:gdLst>
              <a:gd name="textAreaLeft" fmla="*/ 0 w 301680"/>
              <a:gd name="textAreaRight" fmla="*/ 302040 w 3016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1315" h="2906">
                <a:moveTo>
                  <a:pt x="0" y="1747"/>
                </a:moveTo>
                <a:lnTo>
                  <a:pt x="28" y="1958"/>
                </a:lnTo>
                <a:lnTo>
                  <a:pt x="70" y="2157"/>
                </a:lnTo>
                <a:lnTo>
                  <a:pt x="125" y="2340"/>
                </a:lnTo>
                <a:lnTo>
                  <a:pt x="192" y="2503"/>
                </a:lnTo>
                <a:lnTo>
                  <a:pt x="269" y="2642"/>
                </a:lnTo>
                <a:lnTo>
                  <a:pt x="355" y="2754"/>
                </a:lnTo>
                <a:lnTo>
                  <a:pt x="448" y="2837"/>
                </a:lnTo>
                <a:lnTo>
                  <a:pt x="544" y="2887"/>
                </a:lnTo>
                <a:lnTo>
                  <a:pt x="645" y="2906"/>
                </a:lnTo>
                <a:lnTo>
                  <a:pt x="745" y="2893"/>
                </a:lnTo>
                <a:lnTo>
                  <a:pt x="842" y="2846"/>
                </a:lnTo>
                <a:lnTo>
                  <a:pt x="936" y="2768"/>
                </a:lnTo>
                <a:lnTo>
                  <a:pt x="1023" y="2660"/>
                </a:lnTo>
                <a:lnTo>
                  <a:pt x="1101" y="2524"/>
                </a:lnTo>
                <a:lnTo>
                  <a:pt x="1170" y="2365"/>
                </a:lnTo>
                <a:lnTo>
                  <a:pt x="1226" y="2184"/>
                </a:lnTo>
                <a:lnTo>
                  <a:pt x="1271" y="1987"/>
                </a:lnTo>
                <a:lnTo>
                  <a:pt x="1300" y="1779"/>
                </a:lnTo>
                <a:lnTo>
                  <a:pt x="1315" y="1563"/>
                </a:lnTo>
                <a:lnTo>
                  <a:pt x="1315" y="1344"/>
                </a:lnTo>
                <a:lnTo>
                  <a:pt x="1300" y="1128"/>
                </a:lnTo>
                <a:lnTo>
                  <a:pt x="1271" y="919"/>
                </a:lnTo>
                <a:lnTo>
                  <a:pt x="1226" y="722"/>
                </a:lnTo>
                <a:lnTo>
                  <a:pt x="1170" y="541"/>
                </a:lnTo>
                <a:lnTo>
                  <a:pt x="1101" y="382"/>
                </a:lnTo>
                <a:lnTo>
                  <a:pt x="1023" y="247"/>
                </a:lnTo>
                <a:lnTo>
                  <a:pt x="936" y="139"/>
                </a:lnTo>
                <a:lnTo>
                  <a:pt x="842" y="60"/>
                </a:lnTo>
                <a:lnTo>
                  <a:pt x="745" y="14"/>
                </a:lnTo>
                <a:lnTo>
                  <a:pt x="645" y="0"/>
                </a:lnTo>
                <a:lnTo>
                  <a:pt x="544" y="19"/>
                </a:lnTo>
                <a:lnTo>
                  <a:pt x="448" y="70"/>
                </a:lnTo>
                <a:lnTo>
                  <a:pt x="355" y="152"/>
                </a:lnTo>
                <a:lnTo>
                  <a:pt x="269" y="265"/>
                </a:lnTo>
                <a:lnTo>
                  <a:pt x="192" y="403"/>
                </a:lnTo>
                <a:lnTo>
                  <a:pt x="125" y="566"/>
                </a:lnTo>
                <a:lnTo>
                  <a:pt x="70" y="750"/>
                </a:lnTo>
                <a:lnTo>
                  <a:pt x="28" y="949"/>
                </a:lnTo>
                <a:lnTo>
                  <a:pt x="0" y="11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Freeform 58"/>
          <p:cNvSpPr/>
          <p:nvPr/>
        </p:nvSpPr>
        <p:spPr>
          <a:xfrm>
            <a:off x="2573280" y="2373480"/>
            <a:ext cx="30240" cy="460080"/>
          </a:xfrm>
          <a:custGeom>
            <a:avLst/>
            <a:gdLst>
              <a:gd name="textAreaLeft" fmla="*/ 0 w 30240"/>
              <a:gd name="textAreaRight" fmla="*/ 30600 w 30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31" h="1742">
                <a:moveTo>
                  <a:pt x="0" y="1742"/>
                </a:moveTo>
                <a:lnTo>
                  <a:pt x="52" y="1567"/>
                </a:lnTo>
                <a:lnTo>
                  <a:pt x="91" y="1379"/>
                </a:lnTo>
                <a:lnTo>
                  <a:pt x="118" y="1180"/>
                </a:lnTo>
                <a:lnTo>
                  <a:pt x="131" y="974"/>
                </a:lnTo>
                <a:lnTo>
                  <a:pt x="131" y="768"/>
                </a:lnTo>
                <a:lnTo>
                  <a:pt x="118" y="563"/>
                </a:lnTo>
                <a:lnTo>
                  <a:pt x="91" y="364"/>
                </a:lnTo>
                <a:lnTo>
                  <a:pt x="52" y="17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Line 59"/>
          <p:cNvSpPr/>
          <p:nvPr/>
        </p:nvSpPr>
        <p:spPr>
          <a:xfrm>
            <a:off x="2351160" y="2219400"/>
            <a:ext cx="19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Freeform 60"/>
          <p:cNvSpPr/>
          <p:nvPr/>
        </p:nvSpPr>
        <p:spPr>
          <a:xfrm>
            <a:off x="171360" y="2525760"/>
            <a:ext cx="103320" cy="155520"/>
          </a:xfrm>
          <a:custGeom>
            <a:avLst/>
            <a:gdLst>
              <a:gd name="textAreaLeft" fmla="*/ 0 w 103320"/>
              <a:gd name="textAreaRight" fmla="*/ 103680 w 10332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453" h="588">
                <a:moveTo>
                  <a:pt x="227" y="0"/>
                </a:moveTo>
                <a:lnTo>
                  <a:pt x="184" y="7"/>
                </a:lnTo>
                <a:lnTo>
                  <a:pt x="143" y="22"/>
                </a:lnTo>
                <a:lnTo>
                  <a:pt x="104" y="48"/>
                </a:lnTo>
                <a:lnTo>
                  <a:pt x="71" y="82"/>
                </a:lnTo>
                <a:lnTo>
                  <a:pt x="43" y="124"/>
                </a:lnTo>
                <a:lnTo>
                  <a:pt x="21" y="173"/>
                </a:lnTo>
                <a:lnTo>
                  <a:pt x="7" y="226"/>
                </a:lnTo>
                <a:lnTo>
                  <a:pt x="0" y="281"/>
                </a:lnTo>
                <a:lnTo>
                  <a:pt x="2" y="337"/>
                </a:lnTo>
                <a:lnTo>
                  <a:pt x="13" y="391"/>
                </a:lnTo>
                <a:lnTo>
                  <a:pt x="31" y="442"/>
                </a:lnTo>
                <a:lnTo>
                  <a:pt x="55" y="488"/>
                </a:lnTo>
                <a:lnTo>
                  <a:pt x="87" y="527"/>
                </a:lnTo>
                <a:lnTo>
                  <a:pt x="123" y="557"/>
                </a:lnTo>
                <a:lnTo>
                  <a:pt x="163" y="577"/>
                </a:lnTo>
                <a:lnTo>
                  <a:pt x="206" y="588"/>
                </a:lnTo>
                <a:lnTo>
                  <a:pt x="248" y="588"/>
                </a:lnTo>
                <a:lnTo>
                  <a:pt x="290" y="577"/>
                </a:lnTo>
                <a:lnTo>
                  <a:pt x="331" y="557"/>
                </a:lnTo>
                <a:lnTo>
                  <a:pt x="367" y="527"/>
                </a:lnTo>
                <a:lnTo>
                  <a:pt x="398" y="488"/>
                </a:lnTo>
                <a:lnTo>
                  <a:pt x="423" y="442"/>
                </a:lnTo>
                <a:lnTo>
                  <a:pt x="441" y="391"/>
                </a:lnTo>
                <a:lnTo>
                  <a:pt x="451" y="337"/>
                </a:lnTo>
                <a:lnTo>
                  <a:pt x="453" y="281"/>
                </a:lnTo>
                <a:lnTo>
                  <a:pt x="447" y="226"/>
                </a:lnTo>
                <a:lnTo>
                  <a:pt x="433" y="173"/>
                </a:lnTo>
                <a:lnTo>
                  <a:pt x="411" y="124"/>
                </a:lnTo>
                <a:lnTo>
                  <a:pt x="384" y="82"/>
                </a:lnTo>
                <a:lnTo>
                  <a:pt x="350" y="48"/>
                </a:lnTo>
                <a:lnTo>
                  <a:pt x="312" y="22"/>
                </a:lnTo>
                <a:lnTo>
                  <a:pt x="270" y="7"/>
                </a:lnTo>
                <a:lnTo>
                  <a:pt x="22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2" name="Object 61"/>
          <p:cNvGraphicFramePr/>
          <p:nvPr/>
        </p:nvGraphicFramePr>
        <p:xfrm>
          <a:off x="633240" y="3263760"/>
          <a:ext cx="24768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3" name="Object 6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3263760"/>
                    <a:ext cx="2476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4" name="Object 62"/>
          <p:cNvGraphicFramePr/>
          <p:nvPr/>
        </p:nvGraphicFramePr>
        <p:xfrm>
          <a:off x="2384280" y="3090960"/>
          <a:ext cx="24948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5" name="Object 6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4280" y="3090960"/>
                    <a:ext cx="2494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6" name="Object 63"/>
          <p:cNvGraphicFramePr/>
          <p:nvPr/>
        </p:nvGraphicFramePr>
        <p:xfrm>
          <a:off x="4024440" y="3079800"/>
          <a:ext cx="24768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7" name="Object 6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24440" y="3079800"/>
                    <a:ext cx="2476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8" name="Object 64"/>
          <p:cNvGraphicFramePr/>
          <p:nvPr/>
        </p:nvGraphicFramePr>
        <p:xfrm>
          <a:off x="241200" y="1677960"/>
          <a:ext cx="1148040" cy="34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9" name="Object 6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200" y="1677960"/>
                    <a:ext cx="11480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0" name="Object 65"/>
          <p:cNvGraphicFramePr/>
          <p:nvPr/>
        </p:nvGraphicFramePr>
        <p:xfrm>
          <a:off x="2043000" y="1677960"/>
          <a:ext cx="9972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1" name="Object 6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43000" y="1677960"/>
                    <a:ext cx="997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2" name="Object 66"/>
          <p:cNvGraphicFramePr/>
          <p:nvPr/>
        </p:nvGraphicFramePr>
        <p:xfrm>
          <a:off x="3757680" y="1677960"/>
          <a:ext cx="1047600" cy="34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3" name="Object 6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57680" y="1677960"/>
                    <a:ext cx="10476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4" name="Line 67"/>
          <p:cNvSpPr/>
          <p:nvPr/>
        </p:nvSpPr>
        <p:spPr>
          <a:xfrm>
            <a:off x="1477800" y="2260440"/>
            <a:ext cx="0" cy="7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Line 68"/>
          <p:cNvSpPr/>
          <p:nvPr/>
        </p:nvSpPr>
        <p:spPr>
          <a:xfrm>
            <a:off x="3741840" y="2260440"/>
            <a:ext cx="0" cy="7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6" name="Object 69"/>
          <p:cNvGraphicFramePr/>
          <p:nvPr/>
        </p:nvGraphicFramePr>
        <p:xfrm>
          <a:off x="1406520" y="1924200"/>
          <a:ext cx="176040" cy="326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37" name="Object 6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6520" y="1924200"/>
                    <a:ext cx="17604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8" name="Object 70"/>
          <p:cNvGraphicFramePr/>
          <p:nvPr/>
        </p:nvGraphicFramePr>
        <p:xfrm>
          <a:off x="1392120" y="3056040"/>
          <a:ext cx="176400" cy="326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39" name="Object 7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92120" y="3056040"/>
                    <a:ext cx="17640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0" name="Object 71"/>
          <p:cNvGraphicFramePr/>
          <p:nvPr/>
        </p:nvGraphicFramePr>
        <p:xfrm>
          <a:off x="3618000" y="1924200"/>
          <a:ext cx="252360" cy="326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41" name="Object 7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18000" y="1924200"/>
                    <a:ext cx="25236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Object 72"/>
          <p:cNvGraphicFramePr/>
          <p:nvPr/>
        </p:nvGraphicFramePr>
        <p:xfrm>
          <a:off x="3648240" y="3056040"/>
          <a:ext cx="252360" cy="326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43" name="Object 7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48240" y="3056040"/>
                    <a:ext cx="25236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Object 73"/>
          <p:cNvGraphicFramePr/>
          <p:nvPr/>
        </p:nvGraphicFramePr>
        <p:xfrm>
          <a:off x="5479920" y="2239920"/>
          <a:ext cx="2978280" cy="576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45" name="Object 7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79920" y="2239920"/>
                    <a:ext cx="2978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6" name="Object 74"/>
          <p:cNvGraphicFramePr/>
          <p:nvPr/>
        </p:nvGraphicFramePr>
        <p:xfrm>
          <a:off x="5435640" y="3052800"/>
          <a:ext cx="2973240" cy="608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47" name="Object 7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35640" y="3052800"/>
                    <a:ext cx="29732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8" name="Line 80"/>
          <p:cNvSpPr/>
          <p:nvPr/>
        </p:nvSpPr>
        <p:spPr>
          <a:xfrm>
            <a:off x="457200" y="4227480"/>
            <a:ext cx="428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Line 81"/>
          <p:cNvSpPr/>
          <p:nvPr/>
        </p:nvSpPr>
        <p:spPr>
          <a:xfrm>
            <a:off x="1069920" y="4227480"/>
            <a:ext cx="1800" cy="106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82"/>
          <p:cNvSpPr/>
          <p:nvPr/>
        </p:nvSpPr>
        <p:spPr>
          <a:xfrm>
            <a:off x="1069920" y="5295960"/>
            <a:ext cx="1662120" cy="14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ine 83"/>
          <p:cNvSpPr/>
          <p:nvPr/>
        </p:nvSpPr>
        <p:spPr>
          <a:xfrm flipV="1">
            <a:off x="2732040" y="4681080"/>
            <a:ext cx="1800" cy="61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Line 84"/>
          <p:cNvSpPr/>
          <p:nvPr/>
        </p:nvSpPr>
        <p:spPr>
          <a:xfrm>
            <a:off x="2732040" y="4681440"/>
            <a:ext cx="1565280" cy="180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Line 85"/>
          <p:cNvSpPr/>
          <p:nvPr/>
        </p:nvSpPr>
        <p:spPr>
          <a:xfrm flipV="1">
            <a:off x="4297320" y="4227120"/>
            <a:ext cx="1800" cy="45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86"/>
          <p:cNvSpPr/>
          <p:nvPr/>
        </p:nvSpPr>
        <p:spPr>
          <a:xfrm>
            <a:off x="457200" y="4227480"/>
            <a:ext cx="1440" cy="1335240"/>
          </a:xfrm>
          <a:prstGeom prst="line">
            <a:avLst/>
          </a:prstGeom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Line 87"/>
          <p:cNvSpPr/>
          <p:nvPr/>
        </p:nvSpPr>
        <p:spPr>
          <a:xfrm flipV="1">
            <a:off x="1266840" y="4227480"/>
            <a:ext cx="1440" cy="106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Line 88"/>
          <p:cNvSpPr/>
          <p:nvPr/>
        </p:nvSpPr>
        <p:spPr>
          <a:xfrm flipV="1">
            <a:off x="1492200" y="4227480"/>
            <a:ext cx="1800" cy="106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Line 89"/>
          <p:cNvSpPr/>
          <p:nvPr/>
        </p:nvSpPr>
        <p:spPr>
          <a:xfrm flipV="1">
            <a:off x="1717560" y="4227480"/>
            <a:ext cx="1800" cy="106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Line 90"/>
          <p:cNvSpPr/>
          <p:nvPr/>
        </p:nvSpPr>
        <p:spPr>
          <a:xfrm flipV="1">
            <a:off x="1968480" y="4227480"/>
            <a:ext cx="1440" cy="106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Line 91"/>
          <p:cNvSpPr/>
          <p:nvPr/>
        </p:nvSpPr>
        <p:spPr>
          <a:xfrm flipV="1">
            <a:off x="2217600" y="4227480"/>
            <a:ext cx="1800" cy="106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Line 92"/>
          <p:cNvSpPr/>
          <p:nvPr/>
        </p:nvSpPr>
        <p:spPr>
          <a:xfrm flipV="1">
            <a:off x="2494080" y="4227480"/>
            <a:ext cx="1440" cy="106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Line 94"/>
          <p:cNvSpPr/>
          <p:nvPr/>
        </p:nvSpPr>
        <p:spPr>
          <a:xfrm flipV="1">
            <a:off x="2728800" y="4227120"/>
            <a:ext cx="1800" cy="45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Line 95"/>
          <p:cNvSpPr/>
          <p:nvPr/>
        </p:nvSpPr>
        <p:spPr>
          <a:xfrm flipV="1">
            <a:off x="2992320" y="4227120"/>
            <a:ext cx="1800" cy="45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Line 96"/>
          <p:cNvSpPr/>
          <p:nvPr/>
        </p:nvSpPr>
        <p:spPr>
          <a:xfrm flipV="1">
            <a:off x="3243240" y="4227120"/>
            <a:ext cx="1440" cy="45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97"/>
          <p:cNvSpPr/>
          <p:nvPr/>
        </p:nvSpPr>
        <p:spPr>
          <a:xfrm flipV="1">
            <a:off x="3494160" y="4227120"/>
            <a:ext cx="1440" cy="45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Line 98"/>
          <p:cNvSpPr/>
          <p:nvPr/>
        </p:nvSpPr>
        <p:spPr>
          <a:xfrm flipV="1">
            <a:off x="3745080" y="4227120"/>
            <a:ext cx="1440" cy="45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99"/>
          <p:cNvSpPr/>
          <p:nvPr/>
        </p:nvSpPr>
        <p:spPr>
          <a:xfrm flipV="1">
            <a:off x="3970440" y="4227120"/>
            <a:ext cx="1440" cy="45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Line 100"/>
          <p:cNvSpPr/>
          <p:nvPr/>
        </p:nvSpPr>
        <p:spPr>
          <a:xfrm flipV="1">
            <a:off x="4156200" y="4227120"/>
            <a:ext cx="1440" cy="45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8" name="Object 101"/>
          <p:cNvGraphicFramePr/>
          <p:nvPr/>
        </p:nvGraphicFramePr>
        <p:xfrm>
          <a:off x="250920" y="5533920"/>
          <a:ext cx="439560" cy="416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69" name="Object 1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0920" y="5533920"/>
                    <a:ext cx="4395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0" name="Object 102"/>
          <p:cNvGraphicFramePr/>
          <p:nvPr/>
        </p:nvGraphicFramePr>
        <p:xfrm>
          <a:off x="2050920" y="5300640"/>
          <a:ext cx="1441440" cy="366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71" name="Object 10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50920" y="5300640"/>
                    <a:ext cx="144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2" name="Object 103"/>
          <p:cNvGraphicFramePr/>
          <p:nvPr/>
        </p:nvGraphicFramePr>
        <p:xfrm>
          <a:off x="3838680" y="4703760"/>
          <a:ext cx="1400040" cy="399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73" name="Object 10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838680" y="4703760"/>
                    <a:ext cx="14000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4" name="Group 104"/>
          <p:cNvGrpSpPr/>
          <p:nvPr/>
        </p:nvGrpSpPr>
        <p:grpSpPr>
          <a:xfrm>
            <a:off x="1989000" y="4703760"/>
            <a:ext cx="223920" cy="217440"/>
            <a:chOff x="1989000" y="4703760"/>
            <a:chExt cx="223920" cy="217440"/>
          </a:xfrm>
        </p:grpSpPr>
        <p:sp>
          <p:nvSpPr>
            <p:cNvPr id="1075" name="Oval 105"/>
            <p:cNvSpPr/>
            <p:nvPr/>
          </p:nvSpPr>
          <p:spPr>
            <a:xfrm>
              <a:off x="1995480" y="4703760"/>
              <a:ext cx="217440" cy="217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Line 106"/>
            <p:cNvSpPr/>
            <p:nvPr/>
          </p:nvSpPr>
          <p:spPr>
            <a:xfrm>
              <a:off x="1989000" y="4817880"/>
              <a:ext cx="22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7" name="AutoShape 107">
            <a:hlinkClick r:id="" action="ppaction://hlinkshowjump?jump=nextslide"/>
          </p:cNvPr>
          <p:cNvSpPr/>
          <p:nvPr/>
        </p:nvSpPr>
        <p:spPr>
          <a:xfrm>
            <a:off x="8172360" y="5950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Line 108"/>
          <p:cNvSpPr/>
          <p:nvPr/>
        </p:nvSpPr>
        <p:spPr>
          <a:xfrm>
            <a:off x="457200" y="4229280"/>
            <a:ext cx="60948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109"/>
          <p:cNvSpPr/>
          <p:nvPr/>
        </p:nvSpPr>
        <p:spPr>
          <a:xfrm>
            <a:off x="4300560" y="4229280"/>
            <a:ext cx="44748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64"/>
          <p:cNvSpPr/>
          <p:nvPr/>
        </p:nvSpPr>
        <p:spPr>
          <a:xfrm>
            <a:off x="1187280" y="98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隶书"/>
              </a:rPr>
              <a:t>薄壁圆筒的扭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Freeform 80"/>
          <p:cNvSpPr/>
          <p:nvPr/>
        </p:nvSpPr>
        <p:spPr>
          <a:xfrm>
            <a:off x="870120" y="2359080"/>
            <a:ext cx="2987640" cy="158904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1290" h="6005">
                <a:moveTo>
                  <a:pt x="11290" y="5650"/>
                </a:moveTo>
                <a:lnTo>
                  <a:pt x="11290" y="5579"/>
                </a:lnTo>
                <a:lnTo>
                  <a:pt x="11289" y="5508"/>
                </a:lnTo>
                <a:lnTo>
                  <a:pt x="11286" y="5437"/>
                </a:lnTo>
                <a:lnTo>
                  <a:pt x="11283" y="5366"/>
                </a:lnTo>
                <a:lnTo>
                  <a:pt x="11279" y="5295"/>
                </a:lnTo>
                <a:lnTo>
                  <a:pt x="11274" y="5224"/>
                </a:lnTo>
                <a:lnTo>
                  <a:pt x="11269" y="5153"/>
                </a:lnTo>
                <a:lnTo>
                  <a:pt x="11261" y="5083"/>
                </a:lnTo>
                <a:lnTo>
                  <a:pt x="11254" y="5012"/>
                </a:lnTo>
                <a:lnTo>
                  <a:pt x="11246" y="4941"/>
                </a:lnTo>
                <a:lnTo>
                  <a:pt x="11236" y="4872"/>
                </a:lnTo>
                <a:lnTo>
                  <a:pt x="11226" y="4801"/>
                </a:lnTo>
                <a:lnTo>
                  <a:pt x="11215" y="4731"/>
                </a:lnTo>
                <a:lnTo>
                  <a:pt x="11203" y="4661"/>
                </a:lnTo>
                <a:lnTo>
                  <a:pt x="11190" y="4591"/>
                </a:lnTo>
                <a:lnTo>
                  <a:pt x="11177" y="4521"/>
                </a:lnTo>
                <a:lnTo>
                  <a:pt x="11162" y="4452"/>
                </a:lnTo>
                <a:lnTo>
                  <a:pt x="11146" y="4382"/>
                </a:lnTo>
                <a:lnTo>
                  <a:pt x="11130" y="4314"/>
                </a:lnTo>
                <a:lnTo>
                  <a:pt x="11113" y="4245"/>
                </a:lnTo>
                <a:lnTo>
                  <a:pt x="11095" y="4176"/>
                </a:lnTo>
                <a:lnTo>
                  <a:pt x="11076" y="4108"/>
                </a:lnTo>
                <a:lnTo>
                  <a:pt x="11056" y="4039"/>
                </a:lnTo>
                <a:lnTo>
                  <a:pt x="11036" y="3972"/>
                </a:lnTo>
                <a:lnTo>
                  <a:pt x="11014" y="3904"/>
                </a:lnTo>
                <a:lnTo>
                  <a:pt x="10991" y="3837"/>
                </a:lnTo>
                <a:lnTo>
                  <a:pt x="10968" y="3769"/>
                </a:lnTo>
                <a:lnTo>
                  <a:pt x="10945" y="3703"/>
                </a:lnTo>
                <a:lnTo>
                  <a:pt x="10919" y="3636"/>
                </a:lnTo>
                <a:lnTo>
                  <a:pt x="10894" y="3570"/>
                </a:lnTo>
                <a:lnTo>
                  <a:pt x="10868" y="3505"/>
                </a:lnTo>
                <a:lnTo>
                  <a:pt x="10840" y="3439"/>
                </a:lnTo>
                <a:lnTo>
                  <a:pt x="10811" y="3373"/>
                </a:lnTo>
                <a:lnTo>
                  <a:pt x="10783" y="3309"/>
                </a:lnTo>
                <a:lnTo>
                  <a:pt x="10753" y="3244"/>
                </a:lnTo>
                <a:lnTo>
                  <a:pt x="10722" y="3181"/>
                </a:lnTo>
                <a:lnTo>
                  <a:pt x="10691" y="3117"/>
                </a:lnTo>
                <a:lnTo>
                  <a:pt x="10659" y="3054"/>
                </a:lnTo>
                <a:lnTo>
                  <a:pt x="10626" y="2990"/>
                </a:lnTo>
                <a:lnTo>
                  <a:pt x="10592" y="2929"/>
                </a:lnTo>
                <a:lnTo>
                  <a:pt x="10557" y="2866"/>
                </a:lnTo>
                <a:lnTo>
                  <a:pt x="10522" y="2805"/>
                </a:lnTo>
                <a:lnTo>
                  <a:pt x="10486" y="2743"/>
                </a:lnTo>
                <a:lnTo>
                  <a:pt x="10449" y="2683"/>
                </a:lnTo>
                <a:lnTo>
                  <a:pt x="10411" y="2623"/>
                </a:lnTo>
                <a:lnTo>
                  <a:pt x="10373" y="2563"/>
                </a:lnTo>
                <a:lnTo>
                  <a:pt x="10334" y="2504"/>
                </a:lnTo>
                <a:lnTo>
                  <a:pt x="10294" y="2445"/>
                </a:lnTo>
                <a:lnTo>
                  <a:pt x="10253" y="2387"/>
                </a:lnTo>
                <a:lnTo>
                  <a:pt x="10212" y="2329"/>
                </a:lnTo>
                <a:lnTo>
                  <a:pt x="10170" y="2272"/>
                </a:lnTo>
                <a:lnTo>
                  <a:pt x="10127" y="2215"/>
                </a:lnTo>
                <a:lnTo>
                  <a:pt x="10084" y="2159"/>
                </a:lnTo>
                <a:lnTo>
                  <a:pt x="10040" y="2104"/>
                </a:lnTo>
                <a:lnTo>
                  <a:pt x="9995" y="2049"/>
                </a:lnTo>
                <a:lnTo>
                  <a:pt x="9950" y="1995"/>
                </a:lnTo>
                <a:lnTo>
                  <a:pt x="9903" y="1941"/>
                </a:lnTo>
                <a:lnTo>
                  <a:pt x="9856" y="1887"/>
                </a:lnTo>
                <a:lnTo>
                  <a:pt x="9809" y="1835"/>
                </a:lnTo>
                <a:lnTo>
                  <a:pt x="9760" y="1782"/>
                </a:lnTo>
                <a:lnTo>
                  <a:pt x="9711" y="1731"/>
                </a:lnTo>
                <a:lnTo>
                  <a:pt x="9662" y="1680"/>
                </a:lnTo>
                <a:lnTo>
                  <a:pt x="9612" y="1629"/>
                </a:lnTo>
                <a:lnTo>
                  <a:pt x="9561" y="1581"/>
                </a:lnTo>
                <a:lnTo>
                  <a:pt x="9509" y="1531"/>
                </a:lnTo>
                <a:lnTo>
                  <a:pt x="9457" y="1483"/>
                </a:lnTo>
                <a:lnTo>
                  <a:pt x="9405" y="1436"/>
                </a:lnTo>
                <a:lnTo>
                  <a:pt x="9351" y="1389"/>
                </a:lnTo>
                <a:lnTo>
                  <a:pt x="9298" y="1343"/>
                </a:lnTo>
                <a:lnTo>
                  <a:pt x="9243" y="1297"/>
                </a:lnTo>
                <a:lnTo>
                  <a:pt x="9188" y="1251"/>
                </a:lnTo>
                <a:lnTo>
                  <a:pt x="9133" y="1208"/>
                </a:lnTo>
                <a:lnTo>
                  <a:pt x="9077" y="1165"/>
                </a:lnTo>
                <a:lnTo>
                  <a:pt x="9020" y="1121"/>
                </a:lnTo>
                <a:lnTo>
                  <a:pt x="8964" y="1079"/>
                </a:lnTo>
                <a:lnTo>
                  <a:pt x="8906" y="1038"/>
                </a:lnTo>
                <a:lnTo>
                  <a:pt x="8847" y="997"/>
                </a:lnTo>
                <a:lnTo>
                  <a:pt x="8789" y="957"/>
                </a:lnTo>
                <a:lnTo>
                  <a:pt x="8730" y="918"/>
                </a:lnTo>
                <a:lnTo>
                  <a:pt x="8669" y="880"/>
                </a:lnTo>
                <a:lnTo>
                  <a:pt x="8610" y="842"/>
                </a:lnTo>
                <a:lnTo>
                  <a:pt x="8549" y="805"/>
                </a:lnTo>
                <a:lnTo>
                  <a:pt x="8488" y="769"/>
                </a:lnTo>
                <a:lnTo>
                  <a:pt x="8427" y="734"/>
                </a:lnTo>
                <a:lnTo>
                  <a:pt x="8364" y="699"/>
                </a:lnTo>
                <a:lnTo>
                  <a:pt x="8302" y="665"/>
                </a:lnTo>
                <a:lnTo>
                  <a:pt x="8240" y="632"/>
                </a:lnTo>
                <a:lnTo>
                  <a:pt x="8176" y="600"/>
                </a:lnTo>
                <a:lnTo>
                  <a:pt x="8112" y="569"/>
                </a:lnTo>
                <a:lnTo>
                  <a:pt x="8049" y="538"/>
                </a:lnTo>
                <a:lnTo>
                  <a:pt x="7984" y="508"/>
                </a:lnTo>
                <a:lnTo>
                  <a:pt x="7920" y="480"/>
                </a:lnTo>
                <a:lnTo>
                  <a:pt x="7854" y="451"/>
                </a:lnTo>
                <a:lnTo>
                  <a:pt x="7790" y="423"/>
                </a:lnTo>
                <a:lnTo>
                  <a:pt x="7723" y="397"/>
                </a:lnTo>
                <a:lnTo>
                  <a:pt x="7657" y="372"/>
                </a:lnTo>
                <a:lnTo>
                  <a:pt x="7590" y="346"/>
                </a:lnTo>
                <a:lnTo>
                  <a:pt x="7524" y="322"/>
                </a:lnTo>
                <a:lnTo>
                  <a:pt x="7457" y="300"/>
                </a:lnTo>
                <a:lnTo>
                  <a:pt x="7389" y="276"/>
                </a:lnTo>
                <a:lnTo>
                  <a:pt x="7322" y="255"/>
                </a:lnTo>
                <a:lnTo>
                  <a:pt x="7254" y="235"/>
                </a:lnTo>
                <a:lnTo>
                  <a:pt x="7186" y="215"/>
                </a:lnTo>
                <a:lnTo>
                  <a:pt x="7117" y="196"/>
                </a:lnTo>
                <a:lnTo>
                  <a:pt x="7049" y="178"/>
                </a:lnTo>
                <a:lnTo>
                  <a:pt x="6981" y="161"/>
                </a:lnTo>
                <a:lnTo>
                  <a:pt x="6911" y="144"/>
                </a:lnTo>
                <a:lnTo>
                  <a:pt x="6842" y="129"/>
                </a:lnTo>
                <a:lnTo>
                  <a:pt x="6773" y="114"/>
                </a:lnTo>
                <a:lnTo>
                  <a:pt x="6703" y="101"/>
                </a:lnTo>
                <a:lnTo>
                  <a:pt x="6633" y="88"/>
                </a:lnTo>
                <a:lnTo>
                  <a:pt x="6563" y="75"/>
                </a:lnTo>
                <a:lnTo>
                  <a:pt x="6494" y="65"/>
                </a:lnTo>
                <a:lnTo>
                  <a:pt x="6423" y="54"/>
                </a:lnTo>
                <a:lnTo>
                  <a:pt x="6353" y="44"/>
                </a:lnTo>
                <a:lnTo>
                  <a:pt x="6282" y="36"/>
                </a:lnTo>
                <a:lnTo>
                  <a:pt x="6212" y="29"/>
                </a:lnTo>
                <a:lnTo>
                  <a:pt x="6141" y="22"/>
                </a:lnTo>
                <a:lnTo>
                  <a:pt x="6070" y="16"/>
                </a:lnTo>
                <a:lnTo>
                  <a:pt x="6000" y="12"/>
                </a:lnTo>
                <a:lnTo>
                  <a:pt x="5929" y="7"/>
                </a:lnTo>
                <a:lnTo>
                  <a:pt x="5858" y="4"/>
                </a:lnTo>
                <a:lnTo>
                  <a:pt x="5787" y="2"/>
                </a:lnTo>
                <a:lnTo>
                  <a:pt x="5716" y="1"/>
                </a:lnTo>
                <a:lnTo>
                  <a:pt x="5645" y="0"/>
                </a:lnTo>
                <a:lnTo>
                  <a:pt x="5574" y="1"/>
                </a:lnTo>
                <a:lnTo>
                  <a:pt x="5504" y="2"/>
                </a:lnTo>
                <a:lnTo>
                  <a:pt x="5433" y="4"/>
                </a:lnTo>
                <a:lnTo>
                  <a:pt x="5362" y="7"/>
                </a:lnTo>
                <a:lnTo>
                  <a:pt x="5291" y="12"/>
                </a:lnTo>
                <a:lnTo>
                  <a:pt x="5220" y="16"/>
                </a:lnTo>
                <a:lnTo>
                  <a:pt x="5149" y="22"/>
                </a:lnTo>
                <a:lnTo>
                  <a:pt x="5079" y="29"/>
                </a:lnTo>
                <a:lnTo>
                  <a:pt x="5008" y="36"/>
                </a:lnTo>
                <a:lnTo>
                  <a:pt x="4938" y="44"/>
                </a:lnTo>
                <a:lnTo>
                  <a:pt x="4867" y="54"/>
                </a:lnTo>
                <a:lnTo>
                  <a:pt x="4797" y="65"/>
                </a:lnTo>
                <a:lnTo>
                  <a:pt x="4727" y="75"/>
                </a:lnTo>
                <a:lnTo>
                  <a:pt x="4658" y="88"/>
                </a:lnTo>
                <a:lnTo>
                  <a:pt x="4588" y="101"/>
                </a:lnTo>
                <a:lnTo>
                  <a:pt x="4518" y="114"/>
                </a:lnTo>
                <a:lnTo>
                  <a:pt x="4448" y="129"/>
                </a:lnTo>
                <a:lnTo>
                  <a:pt x="4379" y="144"/>
                </a:lnTo>
                <a:lnTo>
                  <a:pt x="4310" y="161"/>
                </a:lnTo>
                <a:lnTo>
                  <a:pt x="4241" y="178"/>
                </a:lnTo>
                <a:lnTo>
                  <a:pt x="4173" y="196"/>
                </a:lnTo>
                <a:lnTo>
                  <a:pt x="4105" y="215"/>
                </a:lnTo>
                <a:lnTo>
                  <a:pt x="4036" y="235"/>
                </a:lnTo>
                <a:lnTo>
                  <a:pt x="3968" y="255"/>
                </a:lnTo>
                <a:lnTo>
                  <a:pt x="3900" y="276"/>
                </a:lnTo>
                <a:lnTo>
                  <a:pt x="3834" y="300"/>
                </a:lnTo>
                <a:lnTo>
                  <a:pt x="3766" y="322"/>
                </a:lnTo>
                <a:lnTo>
                  <a:pt x="3699" y="346"/>
                </a:lnTo>
                <a:lnTo>
                  <a:pt x="3634" y="372"/>
                </a:lnTo>
                <a:lnTo>
                  <a:pt x="3567" y="397"/>
                </a:lnTo>
                <a:lnTo>
                  <a:pt x="3501" y="423"/>
                </a:lnTo>
                <a:lnTo>
                  <a:pt x="3436" y="451"/>
                </a:lnTo>
                <a:lnTo>
                  <a:pt x="3371" y="480"/>
                </a:lnTo>
                <a:lnTo>
                  <a:pt x="3306" y="508"/>
                </a:lnTo>
                <a:lnTo>
                  <a:pt x="3242" y="538"/>
                </a:lnTo>
                <a:lnTo>
                  <a:pt x="3177" y="569"/>
                </a:lnTo>
                <a:lnTo>
                  <a:pt x="3114" y="600"/>
                </a:lnTo>
                <a:lnTo>
                  <a:pt x="3051" y="632"/>
                </a:lnTo>
                <a:lnTo>
                  <a:pt x="2988" y="665"/>
                </a:lnTo>
                <a:lnTo>
                  <a:pt x="2925" y="699"/>
                </a:lnTo>
                <a:lnTo>
                  <a:pt x="2864" y="734"/>
                </a:lnTo>
                <a:lnTo>
                  <a:pt x="2802" y="769"/>
                </a:lnTo>
                <a:lnTo>
                  <a:pt x="2741" y="805"/>
                </a:lnTo>
                <a:lnTo>
                  <a:pt x="2681" y="842"/>
                </a:lnTo>
                <a:lnTo>
                  <a:pt x="2620" y="880"/>
                </a:lnTo>
                <a:lnTo>
                  <a:pt x="2561" y="918"/>
                </a:lnTo>
                <a:lnTo>
                  <a:pt x="2502" y="957"/>
                </a:lnTo>
                <a:lnTo>
                  <a:pt x="2442" y="997"/>
                </a:lnTo>
                <a:lnTo>
                  <a:pt x="2385" y="1038"/>
                </a:lnTo>
                <a:lnTo>
                  <a:pt x="2327" y="1079"/>
                </a:lnTo>
                <a:lnTo>
                  <a:pt x="2270" y="1121"/>
                </a:lnTo>
                <a:lnTo>
                  <a:pt x="2214" y="1165"/>
                </a:lnTo>
                <a:lnTo>
                  <a:pt x="2158" y="1208"/>
                </a:lnTo>
                <a:lnTo>
                  <a:pt x="2102" y="1251"/>
                </a:lnTo>
                <a:lnTo>
                  <a:pt x="2046" y="1297"/>
                </a:lnTo>
                <a:lnTo>
                  <a:pt x="1992" y="1343"/>
                </a:lnTo>
                <a:lnTo>
                  <a:pt x="1938" y="1389"/>
                </a:lnTo>
                <a:lnTo>
                  <a:pt x="1886" y="1436"/>
                </a:lnTo>
                <a:lnTo>
                  <a:pt x="1833" y="1483"/>
                </a:lnTo>
                <a:lnTo>
                  <a:pt x="1781" y="1531"/>
                </a:lnTo>
                <a:lnTo>
                  <a:pt x="1730" y="1581"/>
                </a:lnTo>
                <a:lnTo>
                  <a:pt x="1679" y="1629"/>
                </a:lnTo>
                <a:lnTo>
                  <a:pt x="1628" y="1680"/>
                </a:lnTo>
                <a:lnTo>
                  <a:pt x="1580" y="1731"/>
                </a:lnTo>
                <a:lnTo>
                  <a:pt x="1530" y="1782"/>
                </a:lnTo>
                <a:lnTo>
                  <a:pt x="1482" y="1835"/>
                </a:lnTo>
                <a:lnTo>
                  <a:pt x="1434" y="1887"/>
                </a:lnTo>
                <a:lnTo>
                  <a:pt x="1388" y="1941"/>
                </a:lnTo>
                <a:lnTo>
                  <a:pt x="1341" y="1995"/>
                </a:lnTo>
                <a:lnTo>
                  <a:pt x="1296" y="2049"/>
                </a:lnTo>
                <a:lnTo>
                  <a:pt x="1250" y="2104"/>
                </a:lnTo>
                <a:lnTo>
                  <a:pt x="1207" y="2159"/>
                </a:lnTo>
                <a:lnTo>
                  <a:pt x="1163" y="2215"/>
                </a:lnTo>
                <a:lnTo>
                  <a:pt x="1120" y="2272"/>
                </a:lnTo>
                <a:lnTo>
                  <a:pt x="1079" y="2329"/>
                </a:lnTo>
                <a:lnTo>
                  <a:pt x="1037" y="2387"/>
                </a:lnTo>
                <a:lnTo>
                  <a:pt x="996" y="2445"/>
                </a:lnTo>
                <a:lnTo>
                  <a:pt x="957" y="2504"/>
                </a:lnTo>
                <a:lnTo>
                  <a:pt x="918" y="2563"/>
                </a:lnTo>
                <a:lnTo>
                  <a:pt x="879" y="2623"/>
                </a:lnTo>
                <a:lnTo>
                  <a:pt x="842" y="2683"/>
                </a:lnTo>
                <a:lnTo>
                  <a:pt x="804" y="2743"/>
                </a:lnTo>
                <a:lnTo>
                  <a:pt x="768" y="2805"/>
                </a:lnTo>
                <a:lnTo>
                  <a:pt x="732" y="2866"/>
                </a:lnTo>
                <a:lnTo>
                  <a:pt x="699" y="2929"/>
                </a:lnTo>
                <a:lnTo>
                  <a:pt x="665" y="2990"/>
                </a:lnTo>
                <a:lnTo>
                  <a:pt x="632" y="3054"/>
                </a:lnTo>
                <a:lnTo>
                  <a:pt x="599" y="3117"/>
                </a:lnTo>
                <a:lnTo>
                  <a:pt x="568" y="3181"/>
                </a:lnTo>
                <a:lnTo>
                  <a:pt x="538" y="3244"/>
                </a:lnTo>
                <a:lnTo>
                  <a:pt x="508" y="3309"/>
                </a:lnTo>
                <a:lnTo>
                  <a:pt x="478" y="3373"/>
                </a:lnTo>
                <a:lnTo>
                  <a:pt x="451" y="3439"/>
                </a:lnTo>
                <a:lnTo>
                  <a:pt x="423" y="3505"/>
                </a:lnTo>
                <a:lnTo>
                  <a:pt x="397" y="3570"/>
                </a:lnTo>
                <a:lnTo>
                  <a:pt x="370" y="3636"/>
                </a:lnTo>
                <a:lnTo>
                  <a:pt x="346" y="3703"/>
                </a:lnTo>
                <a:lnTo>
                  <a:pt x="322" y="3769"/>
                </a:lnTo>
                <a:lnTo>
                  <a:pt x="298" y="3837"/>
                </a:lnTo>
                <a:lnTo>
                  <a:pt x="276" y="3904"/>
                </a:lnTo>
                <a:lnTo>
                  <a:pt x="255" y="3972"/>
                </a:lnTo>
                <a:lnTo>
                  <a:pt x="235" y="4039"/>
                </a:lnTo>
                <a:lnTo>
                  <a:pt x="215" y="4108"/>
                </a:lnTo>
                <a:lnTo>
                  <a:pt x="196" y="4176"/>
                </a:lnTo>
                <a:lnTo>
                  <a:pt x="178" y="4245"/>
                </a:lnTo>
                <a:lnTo>
                  <a:pt x="161" y="4314"/>
                </a:lnTo>
                <a:lnTo>
                  <a:pt x="144" y="4382"/>
                </a:lnTo>
                <a:lnTo>
                  <a:pt x="129" y="4452"/>
                </a:lnTo>
                <a:lnTo>
                  <a:pt x="114" y="4521"/>
                </a:lnTo>
                <a:lnTo>
                  <a:pt x="100" y="4591"/>
                </a:lnTo>
                <a:lnTo>
                  <a:pt x="88" y="4661"/>
                </a:lnTo>
                <a:lnTo>
                  <a:pt x="75" y="4731"/>
                </a:lnTo>
                <a:lnTo>
                  <a:pt x="64" y="4801"/>
                </a:lnTo>
                <a:lnTo>
                  <a:pt x="54" y="4872"/>
                </a:lnTo>
                <a:lnTo>
                  <a:pt x="44" y="4941"/>
                </a:lnTo>
                <a:lnTo>
                  <a:pt x="36" y="5012"/>
                </a:lnTo>
                <a:lnTo>
                  <a:pt x="28" y="5083"/>
                </a:lnTo>
                <a:lnTo>
                  <a:pt x="22" y="5153"/>
                </a:lnTo>
                <a:lnTo>
                  <a:pt x="17" y="5224"/>
                </a:lnTo>
                <a:lnTo>
                  <a:pt x="11" y="5295"/>
                </a:lnTo>
                <a:lnTo>
                  <a:pt x="7" y="5366"/>
                </a:lnTo>
                <a:lnTo>
                  <a:pt x="4" y="5437"/>
                </a:lnTo>
                <a:lnTo>
                  <a:pt x="2" y="5508"/>
                </a:lnTo>
                <a:lnTo>
                  <a:pt x="1" y="5579"/>
                </a:lnTo>
                <a:lnTo>
                  <a:pt x="0" y="5650"/>
                </a:lnTo>
                <a:lnTo>
                  <a:pt x="1" y="5721"/>
                </a:lnTo>
                <a:lnTo>
                  <a:pt x="2" y="5792"/>
                </a:lnTo>
                <a:lnTo>
                  <a:pt x="4" y="5863"/>
                </a:lnTo>
                <a:lnTo>
                  <a:pt x="7" y="5934"/>
                </a:lnTo>
                <a:lnTo>
                  <a:pt x="11" y="6005"/>
                </a:lnTo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Freeform 81"/>
          <p:cNvSpPr/>
          <p:nvPr/>
        </p:nvSpPr>
        <p:spPr>
          <a:xfrm>
            <a:off x="873000" y="3852720"/>
            <a:ext cx="2984760" cy="1495440"/>
          </a:xfrm>
          <a:custGeom>
            <a:avLst/>
            <a:gdLst>
              <a:gd name="textAreaLeft" fmla="*/ 0 w 2984760"/>
              <a:gd name="textAreaRight" fmla="*/ 2985120 w 29847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11279" h="5650">
                <a:moveTo>
                  <a:pt x="0" y="355"/>
                </a:moveTo>
                <a:lnTo>
                  <a:pt x="6" y="425"/>
                </a:lnTo>
                <a:lnTo>
                  <a:pt x="11" y="496"/>
                </a:lnTo>
                <a:lnTo>
                  <a:pt x="17" y="567"/>
                </a:lnTo>
                <a:lnTo>
                  <a:pt x="25" y="637"/>
                </a:lnTo>
                <a:lnTo>
                  <a:pt x="33" y="708"/>
                </a:lnTo>
                <a:lnTo>
                  <a:pt x="43" y="778"/>
                </a:lnTo>
                <a:lnTo>
                  <a:pt x="53" y="849"/>
                </a:lnTo>
                <a:lnTo>
                  <a:pt x="64" y="919"/>
                </a:lnTo>
                <a:lnTo>
                  <a:pt x="77" y="989"/>
                </a:lnTo>
                <a:lnTo>
                  <a:pt x="89" y="1059"/>
                </a:lnTo>
                <a:lnTo>
                  <a:pt x="103" y="1129"/>
                </a:lnTo>
                <a:lnTo>
                  <a:pt x="118" y="1197"/>
                </a:lnTo>
                <a:lnTo>
                  <a:pt x="133" y="1267"/>
                </a:lnTo>
                <a:lnTo>
                  <a:pt x="150" y="1336"/>
                </a:lnTo>
                <a:lnTo>
                  <a:pt x="167" y="1405"/>
                </a:lnTo>
                <a:lnTo>
                  <a:pt x="185" y="1474"/>
                </a:lnTo>
                <a:lnTo>
                  <a:pt x="204" y="1541"/>
                </a:lnTo>
                <a:lnTo>
                  <a:pt x="224" y="1610"/>
                </a:lnTo>
                <a:lnTo>
                  <a:pt x="244" y="1678"/>
                </a:lnTo>
                <a:lnTo>
                  <a:pt x="265" y="1746"/>
                </a:lnTo>
                <a:lnTo>
                  <a:pt x="287" y="1814"/>
                </a:lnTo>
                <a:lnTo>
                  <a:pt x="311" y="1880"/>
                </a:lnTo>
                <a:lnTo>
                  <a:pt x="335" y="1947"/>
                </a:lnTo>
                <a:lnTo>
                  <a:pt x="359" y="2014"/>
                </a:lnTo>
                <a:lnTo>
                  <a:pt x="386" y="2079"/>
                </a:lnTo>
                <a:lnTo>
                  <a:pt x="412" y="2145"/>
                </a:lnTo>
                <a:lnTo>
                  <a:pt x="440" y="2211"/>
                </a:lnTo>
                <a:lnTo>
                  <a:pt x="467" y="2276"/>
                </a:lnTo>
                <a:lnTo>
                  <a:pt x="497" y="2341"/>
                </a:lnTo>
                <a:lnTo>
                  <a:pt x="527" y="2405"/>
                </a:lnTo>
                <a:lnTo>
                  <a:pt x="557" y="2469"/>
                </a:lnTo>
                <a:lnTo>
                  <a:pt x="588" y="2534"/>
                </a:lnTo>
                <a:lnTo>
                  <a:pt x="621" y="2596"/>
                </a:lnTo>
                <a:lnTo>
                  <a:pt x="654" y="2660"/>
                </a:lnTo>
                <a:lnTo>
                  <a:pt x="688" y="2722"/>
                </a:lnTo>
                <a:lnTo>
                  <a:pt x="721" y="2783"/>
                </a:lnTo>
                <a:lnTo>
                  <a:pt x="757" y="2845"/>
                </a:lnTo>
                <a:lnTo>
                  <a:pt x="793" y="2906"/>
                </a:lnTo>
                <a:lnTo>
                  <a:pt x="831" y="2967"/>
                </a:lnTo>
                <a:lnTo>
                  <a:pt x="868" y="3027"/>
                </a:lnTo>
                <a:lnTo>
                  <a:pt x="907" y="3086"/>
                </a:lnTo>
                <a:lnTo>
                  <a:pt x="946" y="3146"/>
                </a:lnTo>
                <a:lnTo>
                  <a:pt x="985" y="3205"/>
                </a:lnTo>
                <a:lnTo>
                  <a:pt x="1026" y="3263"/>
                </a:lnTo>
                <a:lnTo>
                  <a:pt x="1068" y="3320"/>
                </a:lnTo>
                <a:lnTo>
                  <a:pt x="1109" y="3377"/>
                </a:lnTo>
                <a:lnTo>
                  <a:pt x="1152" y="3435"/>
                </a:lnTo>
                <a:lnTo>
                  <a:pt x="1196" y="3491"/>
                </a:lnTo>
                <a:lnTo>
                  <a:pt x="1239" y="3546"/>
                </a:lnTo>
                <a:lnTo>
                  <a:pt x="1285" y="3601"/>
                </a:lnTo>
                <a:lnTo>
                  <a:pt x="1330" y="3656"/>
                </a:lnTo>
                <a:lnTo>
                  <a:pt x="1377" y="3709"/>
                </a:lnTo>
                <a:lnTo>
                  <a:pt x="1423" y="3763"/>
                </a:lnTo>
                <a:lnTo>
                  <a:pt x="1471" y="3815"/>
                </a:lnTo>
                <a:lnTo>
                  <a:pt x="1519" y="3868"/>
                </a:lnTo>
                <a:lnTo>
                  <a:pt x="1569" y="3919"/>
                </a:lnTo>
                <a:lnTo>
                  <a:pt x="1617" y="3969"/>
                </a:lnTo>
                <a:lnTo>
                  <a:pt x="1668" y="4020"/>
                </a:lnTo>
                <a:lnTo>
                  <a:pt x="1719" y="4069"/>
                </a:lnTo>
                <a:lnTo>
                  <a:pt x="1770" y="4119"/>
                </a:lnTo>
                <a:lnTo>
                  <a:pt x="1822" y="4166"/>
                </a:lnTo>
                <a:lnTo>
                  <a:pt x="1875" y="4214"/>
                </a:lnTo>
                <a:lnTo>
                  <a:pt x="1927" y="4262"/>
                </a:lnTo>
                <a:lnTo>
                  <a:pt x="1981" y="4307"/>
                </a:lnTo>
                <a:lnTo>
                  <a:pt x="2035" y="4353"/>
                </a:lnTo>
                <a:lnTo>
                  <a:pt x="2091" y="4398"/>
                </a:lnTo>
                <a:lnTo>
                  <a:pt x="2147" y="4442"/>
                </a:lnTo>
                <a:lnTo>
                  <a:pt x="2203" y="4486"/>
                </a:lnTo>
                <a:lnTo>
                  <a:pt x="2259" y="4528"/>
                </a:lnTo>
                <a:lnTo>
                  <a:pt x="2316" y="4571"/>
                </a:lnTo>
                <a:lnTo>
                  <a:pt x="2374" y="4612"/>
                </a:lnTo>
                <a:lnTo>
                  <a:pt x="2431" y="4652"/>
                </a:lnTo>
                <a:lnTo>
                  <a:pt x="2491" y="4693"/>
                </a:lnTo>
                <a:lnTo>
                  <a:pt x="2550" y="4732"/>
                </a:lnTo>
                <a:lnTo>
                  <a:pt x="2609" y="4770"/>
                </a:lnTo>
                <a:lnTo>
                  <a:pt x="2670" y="4808"/>
                </a:lnTo>
                <a:lnTo>
                  <a:pt x="2730" y="4845"/>
                </a:lnTo>
                <a:lnTo>
                  <a:pt x="2791" y="4881"/>
                </a:lnTo>
                <a:lnTo>
                  <a:pt x="2853" y="4916"/>
                </a:lnTo>
                <a:lnTo>
                  <a:pt x="2914" y="4951"/>
                </a:lnTo>
                <a:lnTo>
                  <a:pt x="2977" y="4985"/>
                </a:lnTo>
                <a:lnTo>
                  <a:pt x="3040" y="5018"/>
                </a:lnTo>
                <a:lnTo>
                  <a:pt x="3103" y="5049"/>
                </a:lnTo>
                <a:lnTo>
                  <a:pt x="3166" y="5081"/>
                </a:lnTo>
                <a:lnTo>
                  <a:pt x="3231" y="5112"/>
                </a:lnTo>
                <a:lnTo>
                  <a:pt x="3295" y="5141"/>
                </a:lnTo>
                <a:lnTo>
                  <a:pt x="3360" y="5171"/>
                </a:lnTo>
                <a:lnTo>
                  <a:pt x="3425" y="5199"/>
                </a:lnTo>
                <a:lnTo>
                  <a:pt x="3490" y="5226"/>
                </a:lnTo>
                <a:lnTo>
                  <a:pt x="3556" y="5253"/>
                </a:lnTo>
                <a:lnTo>
                  <a:pt x="3623" y="5278"/>
                </a:lnTo>
                <a:lnTo>
                  <a:pt x="3688" y="5303"/>
                </a:lnTo>
                <a:lnTo>
                  <a:pt x="3755" y="5328"/>
                </a:lnTo>
                <a:lnTo>
                  <a:pt x="3823" y="5351"/>
                </a:lnTo>
                <a:lnTo>
                  <a:pt x="3889" y="5373"/>
                </a:lnTo>
                <a:lnTo>
                  <a:pt x="3957" y="5395"/>
                </a:lnTo>
                <a:lnTo>
                  <a:pt x="4025" y="5415"/>
                </a:lnTo>
                <a:lnTo>
                  <a:pt x="4094" y="5435"/>
                </a:lnTo>
                <a:lnTo>
                  <a:pt x="4162" y="5454"/>
                </a:lnTo>
                <a:lnTo>
                  <a:pt x="4230" y="5472"/>
                </a:lnTo>
                <a:lnTo>
                  <a:pt x="4299" y="5489"/>
                </a:lnTo>
                <a:lnTo>
                  <a:pt x="4368" y="5506"/>
                </a:lnTo>
                <a:lnTo>
                  <a:pt x="4437" y="5521"/>
                </a:lnTo>
                <a:lnTo>
                  <a:pt x="4507" y="5535"/>
                </a:lnTo>
                <a:lnTo>
                  <a:pt x="4577" y="5549"/>
                </a:lnTo>
                <a:lnTo>
                  <a:pt x="4647" y="5562"/>
                </a:lnTo>
                <a:lnTo>
                  <a:pt x="4716" y="5575"/>
                </a:lnTo>
                <a:lnTo>
                  <a:pt x="4786" y="5585"/>
                </a:lnTo>
                <a:lnTo>
                  <a:pt x="4856" y="5596"/>
                </a:lnTo>
                <a:lnTo>
                  <a:pt x="4927" y="5605"/>
                </a:lnTo>
                <a:lnTo>
                  <a:pt x="4997" y="5614"/>
                </a:lnTo>
                <a:lnTo>
                  <a:pt x="5068" y="5621"/>
                </a:lnTo>
                <a:lnTo>
                  <a:pt x="5138" y="5627"/>
                </a:lnTo>
                <a:lnTo>
                  <a:pt x="5209" y="5634"/>
                </a:lnTo>
                <a:lnTo>
                  <a:pt x="5280" y="5638"/>
                </a:lnTo>
                <a:lnTo>
                  <a:pt x="5351" y="5642"/>
                </a:lnTo>
                <a:lnTo>
                  <a:pt x="5422" y="5645"/>
                </a:lnTo>
                <a:lnTo>
                  <a:pt x="5493" y="5648"/>
                </a:lnTo>
                <a:lnTo>
                  <a:pt x="5563" y="5649"/>
                </a:lnTo>
                <a:lnTo>
                  <a:pt x="5634" y="5650"/>
                </a:lnTo>
                <a:lnTo>
                  <a:pt x="5705" y="5649"/>
                </a:lnTo>
                <a:lnTo>
                  <a:pt x="5776" y="5648"/>
                </a:lnTo>
                <a:lnTo>
                  <a:pt x="5847" y="5645"/>
                </a:lnTo>
                <a:lnTo>
                  <a:pt x="5918" y="5642"/>
                </a:lnTo>
                <a:lnTo>
                  <a:pt x="5989" y="5638"/>
                </a:lnTo>
                <a:lnTo>
                  <a:pt x="6059" y="5634"/>
                </a:lnTo>
                <a:lnTo>
                  <a:pt x="6130" y="5627"/>
                </a:lnTo>
                <a:lnTo>
                  <a:pt x="6201" y="5621"/>
                </a:lnTo>
                <a:lnTo>
                  <a:pt x="6271" y="5614"/>
                </a:lnTo>
                <a:lnTo>
                  <a:pt x="6342" y="5605"/>
                </a:lnTo>
                <a:lnTo>
                  <a:pt x="6412" y="5596"/>
                </a:lnTo>
                <a:lnTo>
                  <a:pt x="6483" y="5585"/>
                </a:lnTo>
                <a:lnTo>
                  <a:pt x="6552" y="5575"/>
                </a:lnTo>
                <a:lnTo>
                  <a:pt x="6622" y="5562"/>
                </a:lnTo>
                <a:lnTo>
                  <a:pt x="6692" y="5549"/>
                </a:lnTo>
                <a:lnTo>
                  <a:pt x="6762" y="5535"/>
                </a:lnTo>
                <a:lnTo>
                  <a:pt x="6831" y="5521"/>
                </a:lnTo>
                <a:lnTo>
                  <a:pt x="6900" y="5506"/>
                </a:lnTo>
                <a:lnTo>
                  <a:pt x="6970" y="5489"/>
                </a:lnTo>
                <a:lnTo>
                  <a:pt x="7038" y="5472"/>
                </a:lnTo>
                <a:lnTo>
                  <a:pt x="7106" y="5454"/>
                </a:lnTo>
                <a:lnTo>
                  <a:pt x="7175" y="5435"/>
                </a:lnTo>
                <a:lnTo>
                  <a:pt x="7243" y="5415"/>
                </a:lnTo>
                <a:lnTo>
                  <a:pt x="7311" y="5395"/>
                </a:lnTo>
                <a:lnTo>
                  <a:pt x="7378" y="5373"/>
                </a:lnTo>
                <a:lnTo>
                  <a:pt x="7446" y="5351"/>
                </a:lnTo>
                <a:lnTo>
                  <a:pt x="7513" y="5328"/>
                </a:lnTo>
                <a:lnTo>
                  <a:pt x="7579" y="5303"/>
                </a:lnTo>
                <a:lnTo>
                  <a:pt x="7646" y="5278"/>
                </a:lnTo>
                <a:lnTo>
                  <a:pt x="7712" y="5253"/>
                </a:lnTo>
                <a:lnTo>
                  <a:pt x="7779" y="5226"/>
                </a:lnTo>
                <a:lnTo>
                  <a:pt x="7843" y="5199"/>
                </a:lnTo>
                <a:lnTo>
                  <a:pt x="7909" y="5171"/>
                </a:lnTo>
                <a:lnTo>
                  <a:pt x="7973" y="5141"/>
                </a:lnTo>
                <a:lnTo>
                  <a:pt x="8038" y="5112"/>
                </a:lnTo>
                <a:lnTo>
                  <a:pt x="8101" y="5081"/>
                </a:lnTo>
                <a:lnTo>
                  <a:pt x="8165" y="5049"/>
                </a:lnTo>
                <a:lnTo>
                  <a:pt x="8229" y="5018"/>
                </a:lnTo>
                <a:lnTo>
                  <a:pt x="8291" y="4985"/>
                </a:lnTo>
                <a:lnTo>
                  <a:pt x="8353" y="4951"/>
                </a:lnTo>
                <a:lnTo>
                  <a:pt x="8416" y="4916"/>
                </a:lnTo>
                <a:lnTo>
                  <a:pt x="8477" y="4881"/>
                </a:lnTo>
                <a:lnTo>
                  <a:pt x="8538" y="4845"/>
                </a:lnTo>
                <a:lnTo>
                  <a:pt x="8599" y="4808"/>
                </a:lnTo>
                <a:lnTo>
                  <a:pt x="8658" y="4770"/>
                </a:lnTo>
                <a:lnTo>
                  <a:pt x="8719" y="4732"/>
                </a:lnTo>
                <a:lnTo>
                  <a:pt x="8778" y="4693"/>
                </a:lnTo>
                <a:lnTo>
                  <a:pt x="8836" y="4652"/>
                </a:lnTo>
                <a:lnTo>
                  <a:pt x="8895" y="4612"/>
                </a:lnTo>
                <a:lnTo>
                  <a:pt x="8953" y="4571"/>
                </a:lnTo>
                <a:lnTo>
                  <a:pt x="9009" y="4528"/>
                </a:lnTo>
                <a:lnTo>
                  <a:pt x="9066" y="4486"/>
                </a:lnTo>
                <a:lnTo>
                  <a:pt x="9122" y="4442"/>
                </a:lnTo>
                <a:lnTo>
                  <a:pt x="9177" y="4398"/>
                </a:lnTo>
                <a:lnTo>
                  <a:pt x="9232" y="4353"/>
                </a:lnTo>
                <a:lnTo>
                  <a:pt x="9287" y="4307"/>
                </a:lnTo>
                <a:lnTo>
                  <a:pt x="9340" y="4262"/>
                </a:lnTo>
                <a:lnTo>
                  <a:pt x="9394" y="4214"/>
                </a:lnTo>
                <a:lnTo>
                  <a:pt x="9446" y="4166"/>
                </a:lnTo>
                <a:lnTo>
                  <a:pt x="9498" y="4119"/>
                </a:lnTo>
                <a:lnTo>
                  <a:pt x="9550" y="4069"/>
                </a:lnTo>
                <a:lnTo>
                  <a:pt x="9601" y="4020"/>
                </a:lnTo>
                <a:lnTo>
                  <a:pt x="9651" y="3969"/>
                </a:lnTo>
                <a:lnTo>
                  <a:pt x="9700" y="3919"/>
                </a:lnTo>
                <a:lnTo>
                  <a:pt x="9749" y="3868"/>
                </a:lnTo>
                <a:lnTo>
                  <a:pt x="9798" y="3815"/>
                </a:lnTo>
                <a:lnTo>
                  <a:pt x="9845" y="3763"/>
                </a:lnTo>
                <a:lnTo>
                  <a:pt x="9892" y="3709"/>
                </a:lnTo>
                <a:lnTo>
                  <a:pt x="9939" y="3656"/>
                </a:lnTo>
                <a:lnTo>
                  <a:pt x="9984" y="3601"/>
                </a:lnTo>
                <a:lnTo>
                  <a:pt x="10029" y="3546"/>
                </a:lnTo>
                <a:lnTo>
                  <a:pt x="10073" y="3491"/>
                </a:lnTo>
                <a:lnTo>
                  <a:pt x="10116" y="3435"/>
                </a:lnTo>
                <a:lnTo>
                  <a:pt x="10159" y="3377"/>
                </a:lnTo>
                <a:lnTo>
                  <a:pt x="10201" y="3320"/>
                </a:lnTo>
                <a:lnTo>
                  <a:pt x="10242" y="3263"/>
                </a:lnTo>
                <a:lnTo>
                  <a:pt x="10283" y="3205"/>
                </a:lnTo>
                <a:lnTo>
                  <a:pt x="10323" y="3146"/>
                </a:lnTo>
                <a:lnTo>
                  <a:pt x="10362" y="3086"/>
                </a:lnTo>
                <a:lnTo>
                  <a:pt x="10400" y="3027"/>
                </a:lnTo>
                <a:lnTo>
                  <a:pt x="10438" y="2967"/>
                </a:lnTo>
                <a:lnTo>
                  <a:pt x="10475" y="2906"/>
                </a:lnTo>
                <a:lnTo>
                  <a:pt x="10511" y="2845"/>
                </a:lnTo>
                <a:lnTo>
                  <a:pt x="10546" y="2783"/>
                </a:lnTo>
                <a:lnTo>
                  <a:pt x="10581" y="2722"/>
                </a:lnTo>
                <a:lnTo>
                  <a:pt x="10615" y="2660"/>
                </a:lnTo>
                <a:lnTo>
                  <a:pt x="10648" y="2596"/>
                </a:lnTo>
                <a:lnTo>
                  <a:pt x="10680" y="2534"/>
                </a:lnTo>
                <a:lnTo>
                  <a:pt x="10711" y="2469"/>
                </a:lnTo>
                <a:lnTo>
                  <a:pt x="10742" y="2405"/>
                </a:lnTo>
                <a:lnTo>
                  <a:pt x="10772" y="2341"/>
                </a:lnTo>
                <a:lnTo>
                  <a:pt x="10800" y="2276"/>
                </a:lnTo>
                <a:lnTo>
                  <a:pt x="10829" y="2211"/>
                </a:lnTo>
                <a:lnTo>
                  <a:pt x="10857" y="2145"/>
                </a:lnTo>
                <a:lnTo>
                  <a:pt x="10883" y="2079"/>
                </a:lnTo>
                <a:lnTo>
                  <a:pt x="10908" y="2014"/>
                </a:lnTo>
                <a:lnTo>
                  <a:pt x="10934" y="1947"/>
                </a:lnTo>
                <a:lnTo>
                  <a:pt x="10957" y="1880"/>
                </a:lnTo>
                <a:lnTo>
                  <a:pt x="10980" y="1814"/>
                </a:lnTo>
                <a:lnTo>
                  <a:pt x="11003" y="1746"/>
                </a:lnTo>
                <a:lnTo>
                  <a:pt x="11025" y="1678"/>
                </a:lnTo>
                <a:lnTo>
                  <a:pt x="11045" y="1610"/>
                </a:lnTo>
                <a:lnTo>
                  <a:pt x="11065" y="1541"/>
                </a:lnTo>
                <a:lnTo>
                  <a:pt x="11084" y="1474"/>
                </a:lnTo>
                <a:lnTo>
                  <a:pt x="11102" y="1405"/>
                </a:lnTo>
                <a:lnTo>
                  <a:pt x="11119" y="1336"/>
                </a:lnTo>
                <a:lnTo>
                  <a:pt x="11135" y="1267"/>
                </a:lnTo>
                <a:lnTo>
                  <a:pt x="11151" y="1197"/>
                </a:lnTo>
                <a:lnTo>
                  <a:pt x="11166" y="1129"/>
                </a:lnTo>
                <a:lnTo>
                  <a:pt x="11179" y="1059"/>
                </a:lnTo>
                <a:lnTo>
                  <a:pt x="11192" y="989"/>
                </a:lnTo>
                <a:lnTo>
                  <a:pt x="11204" y="919"/>
                </a:lnTo>
                <a:lnTo>
                  <a:pt x="11215" y="849"/>
                </a:lnTo>
                <a:lnTo>
                  <a:pt x="11225" y="778"/>
                </a:lnTo>
                <a:lnTo>
                  <a:pt x="11235" y="708"/>
                </a:lnTo>
                <a:lnTo>
                  <a:pt x="11243" y="637"/>
                </a:lnTo>
                <a:lnTo>
                  <a:pt x="11250" y="567"/>
                </a:lnTo>
                <a:lnTo>
                  <a:pt x="11258" y="496"/>
                </a:lnTo>
                <a:lnTo>
                  <a:pt x="11263" y="425"/>
                </a:lnTo>
                <a:lnTo>
                  <a:pt x="11268" y="355"/>
                </a:lnTo>
                <a:lnTo>
                  <a:pt x="11272" y="284"/>
                </a:lnTo>
                <a:lnTo>
                  <a:pt x="11275" y="213"/>
                </a:lnTo>
                <a:lnTo>
                  <a:pt x="11278" y="142"/>
                </a:lnTo>
                <a:lnTo>
                  <a:pt x="11279" y="71"/>
                </a:lnTo>
                <a:lnTo>
                  <a:pt x="11279" y="0"/>
                </a:lnTo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Freeform 82"/>
          <p:cNvSpPr/>
          <p:nvPr/>
        </p:nvSpPr>
        <p:spPr>
          <a:xfrm>
            <a:off x="1360440" y="2849400"/>
            <a:ext cx="2006640" cy="171468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7582" h="6477">
                <a:moveTo>
                  <a:pt x="7582" y="3794"/>
                </a:moveTo>
                <a:lnTo>
                  <a:pt x="7582" y="3736"/>
                </a:lnTo>
                <a:lnTo>
                  <a:pt x="7580" y="3677"/>
                </a:lnTo>
                <a:lnTo>
                  <a:pt x="7578" y="3619"/>
                </a:lnTo>
                <a:lnTo>
                  <a:pt x="7575" y="3560"/>
                </a:lnTo>
                <a:lnTo>
                  <a:pt x="7571" y="3502"/>
                </a:lnTo>
                <a:lnTo>
                  <a:pt x="7566" y="3443"/>
                </a:lnTo>
                <a:lnTo>
                  <a:pt x="7560" y="3386"/>
                </a:lnTo>
                <a:lnTo>
                  <a:pt x="7553" y="3328"/>
                </a:lnTo>
                <a:lnTo>
                  <a:pt x="7546" y="3270"/>
                </a:lnTo>
                <a:lnTo>
                  <a:pt x="7538" y="3211"/>
                </a:lnTo>
                <a:lnTo>
                  <a:pt x="7528" y="3154"/>
                </a:lnTo>
                <a:lnTo>
                  <a:pt x="7517" y="3097"/>
                </a:lnTo>
                <a:lnTo>
                  <a:pt x="7507" y="3039"/>
                </a:lnTo>
                <a:lnTo>
                  <a:pt x="7494" y="2982"/>
                </a:lnTo>
                <a:lnTo>
                  <a:pt x="7481" y="2926"/>
                </a:lnTo>
                <a:lnTo>
                  <a:pt x="7468" y="2868"/>
                </a:lnTo>
                <a:lnTo>
                  <a:pt x="7453" y="2812"/>
                </a:lnTo>
                <a:lnTo>
                  <a:pt x="7437" y="2755"/>
                </a:lnTo>
                <a:lnTo>
                  <a:pt x="7421" y="2699"/>
                </a:lnTo>
                <a:lnTo>
                  <a:pt x="7404" y="2644"/>
                </a:lnTo>
                <a:lnTo>
                  <a:pt x="7386" y="2588"/>
                </a:lnTo>
                <a:lnTo>
                  <a:pt x="7367" y="2533"/>
                </a:lnTo>
                <a:lnTo>
                  <a:pt x="7347" y="2478"/>
                </a:lnTo>
                <a:lnTo>
                  <a:pt x="7326" y="2424"/>
                </a:lnTo>
                <a:lnTo>
                  <a:pt x="7305" y="2369"/>
                </a:lnTo>
                <a:lnTo>
                  <a:pt x="7282" y="2315"/>
                </a:lnTo>
                <a:lnTo>
                  <a:pt x="7259" y="2262"/>
                </a:lnTo>
                <a:lnTo>
                  <a:pt x="7235" y="2208"/>
                </a:lnTo>
                <a:lnTo>
                  <a:pt x="7210" y="2155"/>
                </a:lnTo>
                <a:lnTo>
                  <a:pt x="7185" y="2103"/>
                </a:lnTo>
                <a:lnTo>
                  <a:pt x="7158" y="2051"/>
                </a:lnTo>
                <a:lnTo>
                  <a:pt x="7131" y="1999"/>
                </a:lnTo>
                <a:lnTo>
                  <a:pt x="7103" y="1947"/>
                </a:lnTo>
                <a:lnTo>
                  <a:pt x="7074" y="1896"/>
                </a:lnTo>
                <a:lnTo>
                  <a:pt x="7045" y="1847"/>
                </a:lnTo>
                <a:lnTo>
                  <a:pt x="7014" y="1797"/>
                </a:lnTo>
                <a:lnTo>
                  <a:pt x="6984" y="1747"/>
                </a:lnTo>
                <a:lnTo>
                  <a:pt x="6951" y="1698"/>
                </a:lnTo>
                <a:lnTo>
                  <a:pt x="6919" y="1650"/>
                </a:lnTo>
                <a:lnTo>
                  <a:pt x="6885" y="1602"/>
                </a:lnTo>
                <a:lnTo>
                  <a:pt x="6851" y="1554"/>
                </a:lnTo>
                <a:lnTo>
                  <a:pt x="6816" y="1508"/>
                </a:lnTo>
                <a:lnTo>
                  <a:pt x="6780" y="1461"/>
                </a:lnTo>
                <a:lnTo>
                  <a:pt x="6744" y="1416"/>
                </a:lnTo>
                <a:lnTo>
                  <a:pt x="6707" y="1370"/>
                </a:lnTo>
                <a:lnTo>
                  <a:pt x="6670" y="1326"/>
                </a:lnTo>
                <a:lnTo>
                  <a:pt x="6632" y="1281"/>
                </a:lnTo>
                <a:lnTo>
                  <a:pt x="6593" y="1238"/>
                </a:lnTo>
                <a:lnTo>
                  <a:pt x="6553" y="1194"/>
                </a:lnTo>
                <a:lnTo>
                  <a:pt x="6513" y="1153"/>
                </a:lnTo>
                <a:lnTo>
                  <a:pt x="6472" y="1111"/>
                </a:lnTo>
                <a:lnTo>
                  <a:pt x="6430" y="1071"/>
                </a:lnTo>
                <a:lnTo>
                  <a:pt x="6388" y="1029"/>
                </a:lnTo>
                <a:lnTo>
                  <a:pt x="6345" y="990"/>
                </a:lnTo>
                <a:lnTo>
                  <a:pt x="6302" y="951"/>
                </a:lnTo>
                <a:lnTo>
                  <a:pt x="6257" y="913"/>
                </a:lnTo>
                <a:lnTo>
                  <a:pt x="6213" y="875"/>
                </a:lnTo>
                <a:lnTo>
                  <a:pt x="6167" y="838"/>
                </a:lnTo>
                <a:lnTo>
                  <a:pt x="6122" y="802"/>
                </a:lnTo>
                <a:lnTo>
                  <a:pt x="6075" y="766"/>
                </a:lnTo>
                <a:lnTo>
                  <a:pt x="6029" y="732"/>
                </a:lnTo>
                <a:lnTo>
                  <a:pt x="5981" y="697"/>
                </a:lnTo>
                <a:lnTo>
                  <a:pt x="5933" y="664"/>
                </a:lnTo>
                <a:lnTo>
                  <a:pt x="5885" y="631"/>
                </a:lnTo>
                <a:lnTo>
                  <a:pt x="5836" y="599"/>
                </a:lnTo>
                <a:lnTo>
                  <a:pt x="5787" y="568"/>
                </a:lnTo>
                <a:lnTo>
                  <a:pt x="5738" y="538"/>
                </a:lnTo>
                <a:lnTo>
                  <a:pt x="5687" y="508"/>
                </a:lnTo>
                <a:lnTo>
                  <a:pt x="5636" y="480"/>
                </a:lnTo>
                <a:lnTo>
                  <a:pt x="5585" y="451"/>
                </a:lnTo>
                <a:lnTo>
                  <a:pt x="5533" y="424"/>
                </a:lnTo>
                <a:lnTo>
                  <a:pt x="5481" y="397"/>
                </a:lnTo>
                <a:lnTo>
                  <a:pt x="5428" y="372"/>
                </a:lnTo>
                <a:lnTo>
                  <a:pt x="5375" y="347"/>
                </a:lnTo>
                <a:lnTo>
                  <a:pt x="5322" y="323"/>
                </a:lnTo>
                <a:lnTo>
                  <a:pt x="5268" y="300"/>
                </a:lnTo>
                <a:lnTo>
                  <a:pt x="5214" y="277"/>
                </a:lnTo>
                <a:lnTo>
                  <a:pt x="5160" y="256"/>
                </a:lnTo>
                <a:lnTo>
                  <a:pt x="5106" y="235"/>
                </a:lnTo>
                <a:lnTo>
                  <a:pt x="5051" y="215"/>
                </a:lnTo>
                <a:lnTo>
                  <a:pt x="4996" y="196"/>
                </a:lnTo>
                <a:lnTo>
                  <a:pt x="4940" y="178"/>
                </a:lnTo>
                <a:lnTo>
                  <a:pt x="4885" y="161"/>
                </a:lnTo>
                <a:lnTo>
                  <a:pt x="4829" y="145"/>
                </a:lnTo>
                <a:lnTo>
                  <a:pt x="4772" y="129"/>
                </a:lnTo>
                <a:lnTo>
                  <a:pt x="4716" y="114"/>
                </a:lnTo>
                <a:lnTo>
                  <a:pt x="4660" y="101"/>
                </a:lnTo>
                <a:lnTo>
                  <a:pt x="4602" y="88"/>
                </a:lnTo>
                <a:lnTo>
                  <a:pt x="4545" y="75"/>
                </a:lnTo>
                <a:lnTo>
                  <a:pt x="4488" y="65"/>
                </a:lnTo>
                <a:lnTo>
                  <a:pt x="4430" y="54"/>
                </a:lnTo>
                <a:lnTo>
                  <a:pt x="4373" y="45"/>
                </a:lnTo>
                <a:lnTo>
                  <a:pt x="4314" y="36"/>
                </a:lnTo>
                <a:lnTo>
                  <a:pt x="4257" y="29"/>
                </a:lnTo>
                <a:lnTo>
                  <a:pt x="4199" y="22"/>
                </a:lnTo>
                <a:lnTo>
                  <a:pt x="4141" y="16"/>
                </a:lnTo>
                <a:lnTo>
                  <a:pt x="4083" y="11"/>
                </a:lnTo>
                <a:lnTo>
                  <a:pt x="4024" y="7"/>
                </a:lnTo>
                <a:lnTo>
                  <a:pt x="3966" y="4"/>
                </a:lnTo>
                <a:lnTo>
                  <a:pt x="3908" y="1"/>
                </a:lnTo>
                <a:lnTo>
                  <a:pt x="3850" y="0"/>
                </a:lnTo>
                <a:lnTo>
                  <a:pt x="3791" y="0"/>
                </a:lnTo>
                <a:lnTo>
                  <a:pt x="3733" y="0"/>
                </a:lnTo>
                <a:lnTo>
                  <a:pt x="3675" y="1"/>
                </a:lnTo>
                <a:lnTo>
                  <a:pt x="3616" y="4"/>
                </a:lnTo>
                <a:lnTo>
                  <a:pt x="3557" y="7"/>
                </a:lnTo>
                <a:lnTo>
                  <a:pt x="3499" y="11"/>
                </a:lnTo>
                <a:lnTo>
                  <a:pt x="3441" y="16"/>
                </a:lnTo>
                <a:lnTo>
                  <a:pt x="3384" y="22"/>
                </a:lnTo>
                <a:lnTo>
                  <a:pt x="3326" y="29"/>
                </a:lnTo>
                <a:lnTo>
                  <a:pt x="3267" y="36"/>
                </a:lnTo>
                <a:lnTo>
                  <a:pt x="3210" y="45"/>
                </a:lnTo>
                <a:lnTo>
                  <a:pt x="3152" y="54"/>
                </a:lnTo>
                <a:lnTo>
                  <a:pt x="3095" y="65"/>
                </a:lnTo>
                <a:lnTo>
                  <a:pt x="3038" y="75"/>
                </a:lnTo>
                <a:lnTo>
                  <a:pt x="2980" y="88"/>
                </a:lnTo>
                <a:lnTo>
                  <a:pt x="2923" y="101"/>
                </a:lnTo>
                <a:lnTo>
                  <a:pt x="2866" y="114"/>
                </a:lnTo>
                <a:lnTo>
                  <a:pt x="2810" y="129"/>
                </a:lnTo>
                <a:lnTo>
                  <a:pt x="2754" y="145"/>
                </a:lnTo>
                <a:lnTo>
                  <a:pt x="2698" y="161"/>
                </a:lnTo>
                <a:lnTo>
                  <a:pt x="2642" y="178"/>
                </a:lnTo>
                <a:lnTo>
                  <a:pt x="2586" y="196"/>
                </a:lnTo>
                <a:lnTo>
                  <a:pt x="2531" y="215"/>
                </a:lnTo>
                <a:lnTo>
                  <a:pt x="2476" y="235"/>
                </a:lnTo>
                <a:lnTo>
                  <a:pt x="2421" y="256"/>
                </a:lnTo>
                <a:lnTo>
                  <a:pt x="2367" y="277"/>
                </a:lnTo>
                <a:lnTo>
                  <a:pt x="2313" y="300"/>
                </a:lnTo>
                <a:lnTo>
                  <a:pt x="2260" y="323"/>
                </a:lnTo>
                <a:lnTo>
                  <a:pt x="2206" y="347"/>
                </a:lnTo>
                <a:lnTo>
                  <a:pt x="2153" y="372"/>
                </a:lnTo>
                <a:lnTo>
                  <a:pt x="2102" y="397"/>
                </a:lnTo>
                <a:lnTo>
                  <a:pt x="2050" y="424"/>
                </a:lnTo>
                <a:lnTo>
                  <a:pt x="1998" y="451"/>
                </a:lnTo>
                <a:lnTo>
                  <a:pt x="1947" y="480"/>
                </a:lnTo>
                <a:lnTo>
                  <a:pt x="1896" y="508"/>
                </a:lnTo>
                <a:lnTo>
                  <a:pt x="1845" y="538"/>
                </a:lnTo>
                <a:lnTo>
                  <a:pt x="1796" y="568"/>
                </a:lnTo>
                <a:lnTo>
                  <a:pt x="1746" y="599"/>
                </a:lnTo>
                <a:lnTo>
                  <a:pt x="1697" y="631"/>
                </a:lnTo>
                <a:lnTo>
                  <a:pt x="1648" y="664"/>
                </a:lnTo>
                <a:lnTo>
                  <a:pt x="1601" y="697"/>
                </a:lnTo>
                <a:lnTo>
                  <a:pt x="1553" y="732"/>
                </a:lnTo>
                <a:lnTo>
                  <a:pt x="1506" y="766"/>
                </a:lnTo>
                <a:lnTo>
                  <a:pt x="1460" y="802"/>
                </a:lnTo>
                <a:lnTo>
                  <a:pt x="1414" y="838"/>
                </a:lnTo>
                <a:lnTo>
                  <a:pt x="1369" y="875"/>
                </a:lnTo>
                <a:lnTo>
                  <a:pt x="1324" y="913"/>
                </a:lnTo>
                <a:lnTo>
                  <a:pt x="1281" y="951"/>
                </a:lnTo>
                <a:lnTo>
                  <a:pt x="1238" y="990"/>
                </a:lnTo>
                <a:lnTo>
                  <a:pt x="1194" y="1029"/>
                </a:lnTo>
                <a:lnTo>
                  <a:pt x="1152" y="1071"/>
                </a:lnTo>
                <a:lnTo>
                  <a:pt x="1110" y="1111"/>
                </a:lnTo>
                <a:lnTo>
                  <a:pt x="1069" y="1153"/>
                </a:lnTo>
                <a:lnTo>
                  <a:pt x="1029" y="1194"/>
                </a:lnTo>
                <a:lnTo>
                  <a:pt x="990" y="1238"/>
                </a:lnTo>
                <a:lnTo>
                  <a:pt x="951" y="1281"/>
                </a:lnTo>
                <a:lnTo>
                  <a:pt x="912" y="1326"/>
                </a:lnTo>
                <a:lnTo>
                  <a:pt x="874" y="1370"/>
                </a:lnTo>
                <a:lnTo>
                  <a:pt x="837" y="1416"/>
                </a:lnTo>
                <a:lnTo>
                  <a:pt x="801" y="1461"/>
                </a:lnTo>
                <a:lnTo>
                  <a:pt x="766" y="1508"/>
                </a:lnTo>
                <a:lnTo>
                  <a:pt x="731" y="1554"/>
                </a:lnTo>
                <a:lnTo>
                  <a:pt x="696" y="1602"/>
                </a:lnTo>
                <a:lnTo>
                  <a:pt x="664" y="1650"/>
                </a:lnTo>
                <a:lnTo>
                  <a:pt x="631" y="1698"/>
                </a:lnTo>
                <a:lnTo>
                  <a:pt x="599" y="1747"/>
                </a:lnTo>
                <a:lnTo>
                  <a:pt x="568" y="1797"/>
                </a:lnTo>
                <a:lnTo>
                  <a:pt x="538" y="1847"/>
                </a:lnTo>
                <a:lnTo>
                  <a:pt x="508" y="1896"/>
                </a:lnTo>
                <a:lnTo>
                  <a:pt x="479" y="1947"/>
                </a:lnTo>
                <a:lnTo>
                  <a:pt x="451" y="1999"/>
                </a:lnTo>
                <a:lnTo>
                  <a:pt x="424" y="2051"/>
                </a:lnTo>
                <a:lnTo>
                  <a:pt x="398" y="2103"/>
                </a:lnTo>
                <a:lnTo>
                  <a:pt x="372" y="2155"/>
                </a:lnTo>
                <a:lnTo>
                  <a:pt x="347" y="2208"/>
                </a:lnTo>
                <a:lnTo>
                  <a:pt x="323" y="2262"/>
                </a:lnTo>
                <a:lnTo>
                  <a:pt x="300" y="2315"/>
                </a:lnTo>
                <a:lnTo>
                  <a:pt x="277" y="2369"/>
                </a:lnTo>
                <a:lnTo>
                  <a:pt x="256" y="2424"/>
                </a:lnTo>
                <a:lnTo>
                  <a:pt x="236" y="2478"/>
                </a:lnTo>
                <a:lnTo>
                  <a:pt x="216" y="2533"/>
                </a:lnTo>
                <a:lnTo>
                  <a:pt x="197" y="2588"/>
                </a:lnTo>
                <a:lnTo>
                  <a:pt x="179" y="2644"/>
                </a:lnTo>
                <a:lnTo>
                  <a:pt x="162" y="2699"/>
                </a:lnTo>
                <a:lnTo>
                  <a:pt x="145" y="2755"/>
                </a:lnTo>
                <a:lnTo>
                  <a:pt x="129" y="2812"/>
                </a:lnTo>
                <a:lnTo>
                  <a:pt x="115" y="2868"/>
                </a:lnTo>
                <a:lnTo>
                  <a:pt x="100" y="2926"/>
                </a:lnTo>
                <a:lnTo>
                  <a:pt x="88" y="2982"/>
                </a:lnTo>
                <a:lnTo>
                  <a:pt x="76" y="3039"/>
                </a:lnTo>
                <a:lnTo>
                  <a:pt x="64" y="3097"/>
                </a:lnTo>
                <a:lnTo>
                  <a:pt x="55" y="3154"/>
                </a:lnTo>
                <a:lnTo>
                  <a:pt x="45" y="3211"/>
                </a:lnTo>
                <a:lnTo>
                  <a:pt x="37" y="3270"/>
                </a:lnTo>
                <a:lnTo>
                  <a:pt x="29" y="3328"/>
                </a:lnTo>
                <a:lnTo>
                  <a:pt x="22" y="3386"/>
                </a:lnTo>
                <a:lnTo>
                  <a:pt x="17" y="3443"/>
                </a:lnTo>
                <a:lnTo>
                  <a:pt x="11" y="3502"/>
                </a:lnTo>
                <a:lnTo>
                  <a:pt x="7" y="3560"/>
                </a:lnTo>
                <a:lnTo>
                  <a:pt x="4" y="3619"/>
                </a:lnTo>
                <a:lnTo>
                  <a:pt x="2" y="3677"/>
                </a:lnTo>
                <a:lnTo>
                  <a:pt x="1" y="3736"/>
                </a:lnTo>
                <a:lnTo>
                  <a:pt x="0" y="3794"/>
                </a:lnTo>
                <a:lnTo>
                  <a:pt x="1" y="3852"/>
                </a:lnTo>
                <a:lnTo>
                  <a:pt x="2" y="3910"/>
                </a:lnTo>
                <a:lnTo>
                  <a:pt x="4" y="3970"/>
                </a:lnTo>
                <a:lnTo>
                  <a:pt x="7" y="4028"/>
                </a:lnTo>
                <a:lnTo>
                  <a:pt x="11" y="4086"/>
                </a:lnTo>
                <a:lnTo>
                  <a:pt x="17" y="4144"/>
                </a:lnTo>
                <a:lnTo>
                  <a:pt x="22" y="4203"/>
                </a:lnTo>
                <a:lnTo>
                  <a:pt x="29" y="4260"/>
                </a:lnTo>
                <a:lnTo>
                  <a:pt x="37" y="4318"/>
                </a:lnTo>
                <a:lnTo>
                  <a:pt x="45" y="4376"/>
                </a:lnTo>
                <a:lnTo>
                  <a:pt x="55" y="4433"/>
                </a:lnTo>
                <a:lnTo>
                  <a:pt x="64" y="4491"/>
                </a:lnTo>
                <a:lnTo>
                  <a:pt x="76" y="4549"/>
                </a:lnTo>
                <a:lnTo>
                  <a:pt x="88" y="4606"/>
                </a:lnTo>
                <a:lnTo>
                  <a:pt x="100" y="4662"/>
                </a:lnTo>
                <a:lnTo>
                  <a:pt x="115" y="4719"/>
                </a:lnTo>
                <a:lnTo>
                  <a:pt x="129" y="4775"/>
                </a:lnTo>
                <a:lnTo>
                  <a:pt x="145" y="4833"/>
                </a:lnTo>
                <a:lnTo>
                  <a:pt x="162" y="4889"/>
                </a:lnTo>
                <a:lnTo>
                  <a:pt x="179" y="4944"/>
                </a:lnTo>
                <a:lnTo>
                  <a:pt x="197" y="5000"/>
                </a:lnTo>
                <a:lnTo>
                  <a:pt x="216" y="5055"/>
                </a:lnTo>
                <a:lnTo>
                  <a:pt x="236" y="5110"/>
                </a:lnTo>
                <a:lnTo>
                  <a:pt x="256" y="5164"/>
                </a:lnTo>
                <a:lnTo>
                  <a:pt x="277" y="5219"/>
                </a:lnTo>
                <a:lnTo>
                  <a:pt x="300" y="5273"/>
                </a:lnTo>
                <a:lnTo>
                  <a:pt x="323" y="5326"/>
                </a:lnTo>
                <a:lnTo>
                  <a:pt x="347" y="5380"/>
                </a:lnTo>
                <a:lnTo>
                  <a:pt x="372" y="5433"/>
                </a:lnTo>
                <a:lnTo>
                  <a:pt x="398" y="5485"/>
                </a:lnTo>
                <a:lnTo>
                  <a:pt x="424" y="5537"/>
                </a:lnTo>
                <a:lnTo>
                  <a:pt x="451" y="5589"/>
                </a:lnTo>
                <a:lnTo>
                  <a:pt x="479" y="5640"/>
                </a:lnTo>
                <a:lnTo>
                  <a:pt x="508" y="5691"/>
                </a:lnTo>
                <a:lnTo>
                  <a:pt x="538" y="5741"/>
                </a:lnTo>
                <a:lnTo>
                  <a:pt x="568" y="5791"/>
                </a:lnTo>
                <a:lnTo>
                  <a:pt x="599" y="5841"/>
                </a:lnTo>
                <a:lnTo>
                  <a:pt x="631" y="5889"/>
                </a:lnTo>
                <a:lnTo>
                  <a:pt x="664" y="5938"/>
                </a:lnTo>
                <a:lnTo>
                  <a:pt x="696" y="5986"/>
                </a:lnTo>
                <a:lnTo>
                  <a:pt x="731" y="6033"/>
                </a:lnTo>
                <a:lnTo>
                  <a:pt x="766" y="6080"/>
                </a:lnTo>
                <a:lnTo>
                  <a:pt x="801" y="6126"/>
                </a:lnTo>
                <a:lnTo>
                  <a:pt x="837" y="6173"/>
                </a:lnTo>
                <a:lnTo>
                  <a:pt x="874" y="6217"/>
                </a:lnTo>
                <a:lnTo>
                  <a:pt x="912" y="6262"/>
                </a:lnTo>
                <a:lnTo>
                  <a:pt x="951" y="6306"/>
                </a:lnTo>
                <a:lnTo>
                  <a:pt x="990" y="6350"/>
                </a:lnTo>
                <a:lnTo>
                  <a:pt x="1029" y="6393"/>
                </a:lnTo>
                <a:lnTo>
                  <a:pt x="1069" y="6436"/>
                </a:lnTo>
                <a:lnTo>
                  <a:pt x="1110" y="6477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Freeform 83"/>
          <p:cNvSpPr/>
          <p:nvPr/>
        </p:nvSpPr>
        <p:spPr>
          <a:xfrm>
            <a:off x="1654200" y="3852720"/>
            <a:ext cx="1712880" cy="100512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1005120"/>
              <a:gd name="textAreaBottom" fmla="*/ 1005480 h 1005120"/>
            </a:gdLst>
            <a:ahLst/>
            <a:rect l="textAreaLeft" t="textAreaTop" r="textAreaRight" b="textAreaBottom"/>
            <a:pathLst>
              <a:path w="6472" h="3794">
                <a:moveTo>
                  <a:pt x="0" y="2683"/>
                </a:moveTo>
                <a:lnTo>
                  <a:pt x="42" y="2724"/>
                </a:lnTo>
                <a:lnTo>
                  <a:pt x="84" y="2764"/>
                </a:lnTo>
                <a:lnTo>
                  <a:pt x="128" y="2804"/>
                </a:lnTo>
                <a:lnTo>
                  <a:pt x="171" y="2843"/>
                </a:lnTo>
                <a:lnTo>
                  <a:pt x="214" y="2881"/>
                </a:lnTo>
                <a:lnTo>
                  <a:pt x="259" y="2919"/>
                </a:lnTo>
                <a:lnTo>
                  <a:pt x="304" y="2956"/>
                </a:lnTo>
                <a:lnTo>
                  <a:pt x="350" y="2992"/>
                </a:lnTo>
                <a:lnTo>
                  <a:pt x="396" y="3028"/>
                </a:lnTo>
                <a:lnTo>
                  <a:pt x="443" y="3062"/>
                </a:lnTo>
                <a:lnTo>
                  <a:pt x="491" y="3097"/>
                </a:lnTo>
                <a:lnTo>
                  <a:pt x="538" y="3130"/>
                </a:lnTo>
                <a:lnTo>
                  <a:pt x="587" y="3163"/>
                </a:lnTo>
                <a:lnTo>
                  <a:pt x="636" y="3194"/>
                </a:lnTo>
                <a:lnTo>
                  <a:pt x="686" y="3226"/>
                </a:lnTo>
                <a:lnTo>
                  <a:pt x="735" y="3256"/>
                </a:lnTo>
                <a:lnTo>
                  <a:pt x="786" y="3285"/>
                </a:lnTo>
                <a:lnTo>
                  <a:pt x="837" y="3315"/>
                </a:lnTo>
                <a:lnTo>
                  <a:pt x="888" y="3343"/>
                </a:lnTo>
                <a:lnTo>
                  <a:pt x="940" y="3370"/>
                </a:lnTo>
                <a:lnTo>
                  <a:pt x="992" y="3397"/>
                </a:lnTo>
                <a:lnTo>
                  <a:pt x="1043" y="3422"/>
                </a:lnTo>
                <a:lnTo>
                  <a:pt x="1096" y="3446"/>
                </a:lnTo>
                <a:lnTo>
                  <a:pt x="1150" y="3471"/>
                </a:lnTo>
                <a:lnTo>
                  <a:pt x="1203" y="3494"/>
                </a:lnTo>
                <a:lnTo>
                  <a:pt x="1257" y="3516"/>
                </a:lnTo>
                <a:lnTo>
                  <a:pt x="1311" y="3537"/>
                </a:lnTo>
                <a:lnTo>
                  <a:pt x="1366" y="3559"/>
                </a:lnTo>
                <a:lnTo>
                  <a:pt x="1421" y="3579"/>
                </a:lnTo>
                <a:lnTo>
                  <a:pt x="1476" y="3598"/>
                </a:lnTo>
                <a:lnTo>
                  <a:pt x="1532" y="3616"/>
                </a:lnTo>
                <a:lnTo>
                  <a:pt x="1588" y="3633"/>
                </a:lnTo>
                <a:lnTo>
                  <a:pt x="1644" y="3650"/>
                </a:lnTo>
                <a:lnTo>
                  <a:pt x="1700" y="3664"/>
                </a:lnTo>
                <a:lnTo>
                  <a:pt x="1756" y="3679"/>
                </a:lnTo>
                <a:lnTo>
                  <a:pt x="1813" y="3693"/>
                </a:lnTo>
                <a:lnTo>
                  <a:pt x="1870" y="3706"/>
                </a:lnTo>
                <a:lnTo>
                  <a:pt x="1928" y="3718"/>
                </a:lnTo>
                <a:lnTo>
                  <a:pt x="1985" y="3729"/>
                </a:lnTo>
                <a:lnTo>
                  <a:pt x="2042" y="3740"/>
                </a:lnTo>
                <a:lnTo>
                  <a:pt x="2100" y="3749"/>
                </a:lnTo>
                <a:lnTo>
                  <a:pt x="2157" y="3758"/>
                </a:lnTo>
                <a:lnTo>
                  <a:pt x="2216" y="3765"/>
                </a:lnTo>
                <a:lnTo>
                  <a:pt x="2274" y="3772"/>
                </a:lnTo>
                <a:lnTo>
                  <a:pt x="2331" y="3778"/>
                </a:lnTo>
                <a:lnTo>
                  <a:pt x="2389" y="3783"/>
                </a:lnTo>
                <a:lnTo>
                  <a:pt x="2447" y="3787"/>
                </a:lnTo>
                <a:lnTo>
                  <a:pt x="2506" y="3790"/>
                </a:lnTo>
                <a:lnTo>
                  <a:pt x="2565" y="3793"/>
                </a:lnTo>
                <a:lnTo>
                  <a:pt x="2623" y="3794"/>
                </a:lnTo>
                <a:lnTo>
                  <a:pt x="2681" y="3794"/>
                </a:lnTo>
                <a:lnTo>
                  <a:pt x="2740" y="3794"/>
                </a:lnTo>
                <a:lnTo>
                  <a:pt x="2798" y="3793"/>
                </a:lnTo>
                <a:lnTo>
                  <a:pt x="2856" y="3790"/>
                </a:lnTo>
                <a:lnTo>
                  <a:pt x="2914" y="3787"/>
                </a:lnTo>
                <a:lnTo>
                  <a:pt x="2973" y="3783"/>
                </a:lnTo>
                <a:lnTo>
                  <a:pt x="3031" y="3778"/>
                </a:lnTo>
                <a:lnTo>
                  <a:pt x="3089" y="3772"/>
                </a:lnTo>
                <a:lnTo>
                  <a:pt x="3147" y="3765"/>
                </a:lnTo>
                <a:lnTo>
                  <a:pt x="3204" y="3758"/>
                </a:lnTo>
                <a:lnTo>
                  <a:pt x="3263" y="3749"/>
                </a:lnTo>
                <a:lnTo>
                  <a:pt x="3320" y="3740"/>
                </a:lnTo>
                <a:lnTo>
                  <a:pt x="3378" y="3729"/>
                </a:lnTo>
                <a:lnTo>
                  <a:pt x="3435" y="3718"/>
                </a:lnTo>
                <a:lnTo>
                  <a:pt x="3492" y="3706"/>
                </a:lnTo>
                <a:lnTo>
                  <a:pt x="3550" y="3693"/>
                </a:lnTo>
                <a:lnTo>
                  <a:pt x="3606" y="3679"/>
                </a:lnTo>
                <a:lnTo>
                  <a:pt x="3662" y="3664"/>
                </a:lnTo>
                <a:lnTo>
                  <a:pt x="3719" y="3650"/>
                </a:lnTo>
                <a:lnTo>
                  <a:pt x="3775" y="3633"/>
                </a:lnTo>
                <a:lnTo>
                  <a:pt x="3830" y="3616"/>
                </a:lnTo>
                <a:lnTo>
                  <a:pt x="3886" y="3598"/>
                </a:lnTo>
                <a:lnTo>
                  <a:pt x="3941" y="3579"/>
                </a:lnTo>
                <a:lnTo>
                  <a:pt x="3996" y="3559"/>
                </a:lnTo>
                <a:lnTo>
                  <a:pt x="4050" y="3537"/>
                </a:lnTo>
                <a:lnTo>
                  <a:pt x="4104" y="3516"/>
                </a:lnTo>
                <a:lnTo>
                  <a:pt x="4158" y="3494"/>
                </a:lnTo>
                <a:lnTo>
                  <a:pt x="4212" y="3471"/>
                </a:lnTo>
                <a:lnTo>
                  <a:pt x="4265" y="3446"/>
                </a:lnTo>
                <a:lnTo>
                  <a:pt x="4318" y="3422"/>
                </a:lnTo>
                <a:lnTo>
                  <a:pt x="4371" y="3397"/>
                </a:lnTo>
                <a:lnTo>
                  <a:pt x="4423" y="3370"/>
                </a:lnTo>
                <a:lnTo>
                  <a:pt x="4475" y="3343"/>
                </a:lnTo>
                <a:lnTo>
                  <a:pt x="4526" y="3315"/>
                </a:lnTo>
                <a:lnTo>
                  <a:pt x="4577" y="3285"/>
                </a:lnTo>
                <a:lnTo>
                  <a:pt x="4628" y="3256"/>
                </a:lnTo>
                <a:lnTo>
                  <a:pt x="4677" y="3226"/>
                </a:lnTo>
                <a:lnTo>
                  <a:pt x="4726" y="3194"/>
                </a:lnTo>
                <a:lnTo>
                  <a:pt x="4775" y="3163"/>
                </a:lnTo>
                <a:lnTo>
                  <a:pt x="4823" y="3130"/>
                </a:lnTo>
                <a:lnTo>
                  <a:pt x="4871" y="3097"/>
                </a:lnTo>
                <a:lnTo>
                  <a:pt x="4919" y="3062"/>
                </a:lnTo>
                <a:lnTo>
                  <a:pt x="4965" y="3028"/>
                </a:lnTo>
                <a:lnTo>
                  <a:pt x="5012" y="2992"/>
                </a:lnTo>
                <a:lnTo>
                  <a:pt x="5057" y="2956"/>
                </a:lnTo>
                <a:lnTo>
                  <a:pt x="5103" y="2919"/>
                </a:lnTo>
                <a:lnTo>
                  <a:pt x="5147" y="2881"/>
                </a:lnTo>
                <a:lnTo>
                  <a:pt x="5192" y="2843"/>
                </a:lnTo>
                <a:lnTo>
                  <a:pt x="5235" y="2804"/>
                </a:lnTo>
                <a:lnTo>
                  <a:pt x="5278" y="2764"/>
                </a:lnTo>
                <a:lnTo>
                  <a:pt x="5320" y="2724"/>
                </a:lnTo>
                <a:lnTo>
                  <a:pt x="5362" y="2683"/>
                </a:lnTo>
                <a:lnTo>
                  <a:pt x="5403" y="2642"/>
                </a:lnTo>
                <a:lnTo>
                  <a:pt x="5443" y="2599"/>
                </a:lnTo>
                <a:lnTo>
                  <a:pt x="5483" y="2556"/>
                </a:lnTo>
                <a:lnTo>
                  <a:pt x="5522" y="2512"/>
                </a:lnTo>
                <a:lnTo>
                  <a:pt x="5560" y="2468"/>
                </a:lnTo>
                <a:lnTo>
                  <a:pt x="5597" y="2423"/>
                </a:lnTo>
                <a:lnTo>
                  <a:pt x="5634" y="2379"/>
                </a:lnTo>
                <a:lnTo>
                  <a:pt x="5670" y="2332"/>
                </a:lnTo>
                <a:lnTo>
                  <a:pt x="5706" y="2286"/>
                </a:lnTo>
                <a:lnTo>
                  <a:pt x="5741" y="2239"/>
                </a:lnTo>
                <a:lnTo>
                  <a:pt x="5775" y="2192"/>
                </a:lnTo>
                <a:lnTo>
                  <a:pt x="5809" y="2144"/>
                </a:lnTo>
                <a:lnTo>
                  <a:pt x="5841" y="2095"/>
                </a:lnTo>
                <a:lnTo>
                  <a:pt x="5874" y="2047"/>
                </a:lnTo>
                <a:lnTo>
                  <a:pt x="5904" y="1997"/>
                </a:lnTo>
                <a:lnTo>
                  <a:pt x="5935" y="1947"/>
                </a:lnTo>
                <a:lnTo>
                  <a:pt x="5964" y="1897"/>
                </a:lnTo>
                <a:lnTo>
                  <a:pt x="5993" y="1846"/>
                </a:lnTo>
                <a:lnTo>
                  <a:pt x="6021" y="1795"/>
                </a:lnTo>
                <a:lnTo>
                  <a:pt x="6048" y="1743"/>
                </a:lnTo>
                <a:lnTo>
                  <a:pt x="6075" y="1691"/>
                </a:lnTo>
                <a:lnTo>
                  <a:pt x="6100" y="1639"/>
                </a:lnTo>
                <a:lnTo>
                  <a:pt x="6125" y="1586"/>
                </a:lnTo>
                <a:lnTo>
                  <a:pt x="6149" y="1532"/>
                </a:lnTo>
                <a:lnTo>
                  <a:pt x="6172" y="1479"/>
                </a:lnTo>
                <a:lnTo>
                  <a:pt x="6195" y="1425"/>
                </a:lnTo>
                <a:lnTo>
                  <a:pt x="6216" y="1370"/>
                </a:lnTo>
                <a:lnTo>
                  <a:pt x="6237" y="1316"/>
                </a:lnTo>
                <a:lnTo>
                  <a:pt x="6257" y="1261"/>
                </a:lnTo>
                <a:lnTo>
                  <a:pt x="6276" y="1206"/>
                </a:lnTo>
                <a:lnTo>
                  <a:pt x="6294" y="1150"/>
                </a:lnTo>
                <a:lnTo>
                  <a:pt x="6311" y="1095"/>
                </a:lnTo>
                <a:lnTo>
                  <a:pt x="6327" y="1039"/>
                </a:lnTo>
                <a:lnTo>
                  <a:pt x="6343" y="981"/>
                </a:lnTo>
                <a:lnTo>
                  <a:pt x="6358" y="925"/>
                </a:lnTo>
                <a:lnTo>
                  <a:pt x="6371" y="868"/>
                </a:lnTo>
                <a:lnTo>
                  <a:pt x="6384" y="812"/>
                </a:lnTo>
                <a:lnTo>
                  <a:pt x="6397" y="755"/>
                </a:lnTo>
                <a:lnTo>
                  <a:pt x="6407" y="697"/>
                </a:lnTo>
                <a:lnTo>
                  <a:pt x="6418" y="639"/>
                </a:lnTo>
                <a:lnTo>
                  <a:pt x="6428" y="582"/>
                </a:lnTo>
                <a:lnTo>
                  <a:pt x="6436" y="524"/>
                </a:lnTo>
                <a:lnTo>
                  <a:pt x="6443" y="466"/>
                </a:lnTo>
                <a:lnTo>
                  <a:pt x="6450" y="409"/>
                </a:lnTo>
                <a:lnTo>
                  <a:pt x="6456" y="350"/>
                </a:lnTo>
                <a:lnTo>
                  <a:pt x="6461" y="292"/>
                </a:lnTo>
                <a:lnTo>
                  <a:pt x="6465" y="234"/>
                </a:lnTo>
                <a:lnTo>
                  <a:pt x="6468" y="176"/>
                </a:lnTo>
                <a:lnTo>
                  <a:pt x="6470" y="116"/>
                </a:lnTo>
                <a:lnTo>
                  <a:pt x="6472" y="58"/>
                </a:lnTo>
                <a:lnTo>
                  <a:pt x="6472" y="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Line 84"/>
          <p:cNvSpPr/>
          <p:nvPr/>
        </p:nvSpPr>
        <p:spPr>
          <a:xfrm>
            <a:off x="2363760" y="3852720"/>
            <a:ext cx="149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85"/>
          <p:cNvSpPr/>
          <p:nvPr/>
        </p:nvSpPr>
        <p:spPr>
          <a:xfrm flipV="1">
            <a:off x="3857760" y="3389040"/>
            <a:ext cx="1440" cy="463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86"/>
          <p:cNvSpPr/>
          <p:nvPr/>
        </p:nvSpPr>
        <p:spPr>
          <a:xfrm flipV="1">
            <a:off x="3367080" y="3541680"/>
            <a:ext cx="1440" cy="311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87"/>
          <p:cNvSpPr/>
          <p:nvPr/>
        </p:nvSpPr>
        <p:spPr>
          <a:xfrm flipV="1">
            <a:off x="2363760" y="3389040"/>
            <a:ext cx="1494000" cy="46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Line 88"/>
          <p:cNvSpPr/>
          <p:nvPr/>
        </p:nvSpPr>
        <p:spPr>
          <a:xfrm>
            <a:off x="3367080" y="3852720"/>
            <a:ext cx="49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Line 89"/>
          <p:cNvSpPr/>
          <p:nvPr/>
        </p:nvSpPr>
        <p:spPr>
          <a:xfrm flipV="1">
            <a:off x="3530520" y="3490560"/>
            <a:ext cx="1800" cy="361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90"/>
          <p:cNvSpPr/>
          <p:nvPr/>
        </p:nvSpPr>
        <p:spPr>
          <a:xfrm flipV="1">
            <a:off x="3693960" y="3440160"/>
            <a:ext cx="1800" cy="412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Freeform 91"/>
          <p:cNvSpPr/>
          <p:nvPr/>
        </p:nvSpPr>
        <p:spPr>
          <a:xfrm>
            <a:off x="1116000" y="2604960"/>
            <a:ext cx="2497320" cy="1703520"/>
          </a:xfrm>
          <a:custGeom>
            <a:avLst/>
            <a:gdLst>
              <a:gd name="textAreaLeft" fmla="*/ 0 w 2497320"/>
              <a:gd name="textAreaRight" fmla="*/ 2497680 w 2497320"/>
              <a:gd name="textAreaTop" fmla="*/ 0 h 1703520"/>
              <a:gd name="textAreaBottom" fmla="*/ 1703880 h 1703520"/>
            </a:gdLst>
            <a:ahLst/>
            <a:rect l="textAreaLeft" t="textAreaTop" r="textAreaRight" b="textAreaBottom"/>
            <a:pathLst>
              <a:path w="9437" h="6437">
                <a:moveTo>
                  <a:pt x="9437" y="4721"/>
                </a:moveTo>
                <a:lnTo>
                  <a:pt x="9435" y="4656"/>
                </a:lnTo>
                <a:lnTo>
                  <a:pt x="9434" y="4591"/>
                </a:lnTo>
                <a:lnTo>
                  <a:pt x="9432" y="4526"/>
                </a:lnTo>
                <a:lnTo>
                  <a:pt x="9429" y="4460"/>
                </a:lnTo>
                <a:lnTo>
                  <a:pt x="9425" y="4396"/>
                </a:lnTo>
                <a:lnTo>
                  <a:pt x="9420" y="4331"/>
                </a:lnTo>
                <a:lnTo>
                  <a:pt x="9414" y="4267"/>
                </a:lnTo>
                <a:lnTo>
                  <a:pt x="9408" y="4201"/>
                </a:lnTo>
                <a:lnTo>
                  <a:pt x="9399" y="4136"/>
                </a:lnTo>
                <a:lnTo>
                  <a:pt x="9391" y="4073"/>
                </a:lnTo>
                <a:lnTo>
                  <a:pt x="9383" y="4008"/>
                </a:lnTo>
                <a:lnTo>
                  <a:pt x="9372" y="3944"/>
                </a:lnTo>
                <a:lnTo>
                  <a:pt x="9360" y="3879"/>
                </a:lnTo>
                <a:lnTo>
                  <a:pt x="9349" y="3816"/>
                </a:lnTo>
                <a:lnTo>
                  <a:pt x="9336" y="3752"/>
                </a:lnTo>
                <a:lnTo>
                  <a:pt x="9322" y="3688"/>
                </a:lnTo>
                <a:lnTo>
                  <a:pt x="9307" y="3625"/>
                </a:lnTo>
                <a:lnTo>
                  <a:pt x="9291" y="3561"/>
                </a:lnTo>
                <a:lnTo>
                  <a:pt x="9276" y="3499"/>
                </a:lnTo>
                <a:lnTo>
                  <a:pt x="9259" y="3436"/>
                </a:lnTo>
                <a:lnTo>
                  <a:pt x="9240" y="3374"/>
                </a:lnTo>
                <a:lnTo>
                  <a:pt x="9222" y="3312"/>
                </a:lnTo>
                <a:lnTo>
                  <a:pt x="9201" y="3249"/>
                </a:lnTo>
                <a:lnTo>
                  <a:pt x="9180" y="3188"/>
                </a:lnTo>
                <a:lnTo>
                  <a:pt x="9159" y="3126"/>
                </a:lnTo>
                <a:lnTo>
                  <a:pt x="9137" y="3065"/>
                </a:lnTo>
                <a:lnTo>
                  <a:pt x="9114" y="3004"/>
                </a:lnTo>
                <a:lnTo>
                  <a:pt x="9089" y="2944"/>
                </a:lnTo>
                <a:lnTo>
                  <a:pt x="9065" y="2884"/>
                </a:lnTo>
                <a:lnTo>
                  <a:pt x="9038" y="2824"/>
                </a:lnTo>
                <a:lnTo>
                  <a:pt x="9012" y="2765"/>
                </a:lnTo>
                <a:lnTo>
                  <a:pt x="8985" y="2706"/>
                </a:lnTo>
                <a:lnTo>
                  <a:pt x="8957" y="2647"/>
                </a:lnTo>
                <a:lnTo>
                  <a:pt x="8928" y="2588"/>
                </a:lnTo>
                <a:lnTo>
                  <a:pt x="8898" y="2531"/>
                </a:lnTo>
                <a:lnTo>
                  <a:pt x="8868" y="2474"/>
                </a:lnTo>
                <a:lnTo>
                  <a:pt x="8836" y="2417"/>
                </a:lnTo>
                <a:lnTo>
                  <a:pt x="8804" y="2360"/>
                </a:lnTo>
                <a:lnTo>
                  <a:pt x="8772" y="2304"/>
                </a:lnTo>
                <a:lnTo>
                  <a:pt x="8738" y="2248"/>
                </a:lnTo>
                <a:lnTo>
                  <a:pt x="8703" y="2193"/>
                </a:lnTo>
                <a:lnTo>
                  <a:pt x="8668" y="2138"/>
                </a:lnTo>
                <a:lnTo>
                  <a:pt x="8632" y="2084"/>
                </a:lnTo>
                <a:lnTo>
                  <a:pt x="8596" y="2030"/>
                </a:lnTo>
                <a:lnTo>
                  <a:pt x="8558" y="1977"/>
                </a:lnTo>
                <a:lnTo>
                  <a:pt x="8520" y="1924"/>
                </a:lnTo>
                <a:lnTo>
                  <a:pt x="8480" y="1873"/>
                </a:lnTo>
                <a:lnTo>
                  <a:pt x="8441" y="1821"/>
                </a:lnTo>
                <a:lnTo>
                  <a:pt x="8401" y="1770"/>
                </a:lnTo>
                <a:lnTo>
                  <a:pt x="8360" y="1719"/>
                </a:lnTo>
                <a:lnTo>
                  <a:pt x="8318" y="1669"/>
                </a:lnTo>
                <a:lnTo>
                  <a:pt x="8276" y="1620"/>
                </a:lnTo>
                <a:lnTo>
                  <a:pt x="8233" y="1571"/>
                </a:lnTo>
                <a:lnTo>
                  <a:pt x="8189" y="1523"/>
                </a:lnTo>
                <a:lnTo>
                  <a:pt x="8145" y="1476"/>
                </a:lnTo>
                <a:lnTo>
                  <a:pt x="8100" y="1428"/>
                </a:lnTo>
                <a:lnTo>
                  <a:pt x="8055" y="1382"/>
                </a:lnTo>
                <a:lnTo>
                  <a:pt x="8008" y="1337"/>
                </a:lnTo>
                <a:lnTo>
                  <a:pt x="7962" y="1291"/>
                </a:lnTo>
                <a:lnTo>
                  <a:pt x="7914" y="1247"/>
                </a:lnTo>
                <a:lnTo>
                  <a:pt x="7865" y="1203"/>
                </a:lnTo>
                <a:lnTo>
                  <a:pt x="7817" y="1160"/>
                </a:lnTo>
                <a:lnTo>
                  <a:pt x="7768" y="1118"/>
                </a:lnTo>
                <a:lnTo>
                  <a:pt x="7718" y="1076"/>
                </a:lnTo>
                <a:lnTo>
                  <a:pt x="7667" y="1035"/>
                </a:lnTo>
                <a:lnTo>
                  <a:pt x="7616" y="995"/>
                </a:lnTo>
                <a:lnTo>
                  <a:pt x="7565" y="955"/>
                </a:lnTo>
                <a:lnTo>
                  <a:pt x="7513" y="916"/>
                </a:lnTo>
                <a:lnTo>
                  <a:pt x="7460" y="878"/>
                </a:lnTo>
                <a:lnTo>
                  <a:pt x="7407" y="840"/>
                </a:lnTo>
                <a:lnTo>
                  <a:pt x="7353" y="804"/>
                </a:lnTo>
                <a:lnTo>
                  <a:pt x="7299" y="768"/>
                </a:lnTo>
                <a:lnTo>
                  <a:pt x="7244" y="732"/>
                </a:lnTo>
                <a:lnTo>
                  <a:pt x="7189" y="698"/>
                </a:lnTo>
                <a:lnTo>
                  <a:pt x="7134" y="664"/>
                </a:lnTo>
                <a:lnTo>
                  <a:pt x="7077" y="632"/>
                </a:lnTo>
                <a:lnTo>
                  <a:pt x="7020" y="600"/>
                </a:lnTo>
                <a:lnTo>
                  <a:pt x="6964" y="568"/>
                </a:lnTo>
                <a:lnTo>
                  <a:pt x="6906" y="537"/>
                </a:lnTo>
                <a:lnTo>
                  <a:pt x="6849" y="508"/>
                </a:lnTo>
                <a:lnTo>
                  <a:pt x="6791" y="479"/>
                </a:lnTo>
                <a:lnTo>
                  <a:pt x="6731" y="451"/>
                </a:lnTo>
                <a:lnTo>
                  <a:pt x="6673" y="423"/>
                </a:lnTo>
                <a:lnTo>
                  <a:pt x="6614" y="397"/>
                </a:lnTo>
                <a:lnTo>
                  <a:pt x="6553" y="371"/>
                </a:lnTo>
                <a:lnTo>
                  <a:pt x="6494" y="346"/>
                </a:lnTo>
                <a:lnTo>
                  <a:pt x="6434" y="322"/>
                </a:lnTo>
                <a:lnTo>
                  <a:pt x="6372" y="299"/>
                </a:lnTo>
                <a:lnTo>
                  <a:pt x="6312" y="276"/>
                </a:lnTo>
                <a:lnTo>
                  <a:pt x="6251" y="255"/>
                </a:lnTo>
                <a:lnTo>
                  <a:pt x="6188" y="235"/>
                </a:lnTo>
                <a:lnTo>
                  <a:pt x="6127" y="214"/>
                </a:lnTo>
                <a:lnTo>
                  <a:pt x="6064" y="195"/>
                </a:lnTo>
                <a:lnTo>
                  <a:pt x="6002" y="177"/>
                </a:lnTo>
                <a:lnTo>
                  <a:pt x="5939" y="159"/>
                </a:lnTo>
                <a:lnTo>
                  <a:pt x="5877" y="144"/>
                </a:lnTo>
                <a:lnTo>
                  <a:pt x="5813" y="128"/>
                </a:lnTo>
                <a:lnTo>
                  <a:pt x="5750" y="113"/>
                </a:lnTo>
                <a:lnTo>
                  <a:pt x="5686" y="99"/>
                </a:lnTo>
                <a:lnTo>
                  <a:pt x="5623" y="86"/>
                </a:lnTo>
                <a:lnTo>
                  <a:pt x="5559" y="75"/>
                </a:lnTo>
                <a:lnTo>
                  <a:pt x="5495" y="63"/>
                </a:lnTo>
                <a:lnTo>
                  <a:pt x="5431" y="54"/>
                </a:lnTo>
                <a:lnTo>
                  <a:pt x="5366" y="44"/>
                </a:lnTo>
                <a:lnTo>
                  <a:pt x="5302" y="36"/>
                </a:lnTo>
                <a:lnTo>
                  <a:pt x="5237" y="28"/>
                </a:lnTo>
                <a:lnTo>
                  <a:pt x="5173" y="21"/>
                </a:lnTo>
                <a:lnTo>
                  <a:pt x="5108" y="15"/>
                </a:lnTo>
                <a:lnTo>
                  <a:pt x="5043" y="10"/>
                </a:lnTo>
                <a:lnTo>
                  <a:pt x="4978" y="6"/>
                </a:lnTo>
                <a:lnTo>
                  <a:pt x="4913" y="3"/>
                </a:lnTo>
                <a:lnTo>
                  <a:pt x="4849" y="1"/>
                </a:lnTo>
                <a:lnTo>
                  <a:pt x="4783" y="0"/>
                </a:lnTo>
                <a:lnTo>
                  <a:pt x="4718" y="0"/>
                </a:lnTo>
                <a:lnTo>
                  <a:pt x="4653" y="0"/>
                </a:lnTo>
                <a:lnTo>
                  <a:pt x="4588" y="1"/>
                </a:lnTo>
                <a:lnTo>
                  <a:pt x="4524" y="3"/>
                </a:lnTo>
                <a:lnTo>
                  <a:pt x="4458" y="6"/>
                </a:lnTo>
                <a:lnTo>
                  <a:pt x="4393" y="10"/>
                </a:lnTo>
                <a:lnTo>
                  <a:pt x="4329" y="15"/>
                </a:lnTo>
                <a:lnTo>
                  <a:pt x="4264" y="21"/>
                </a:lnTo>
                <a:lnTo>
                  <a:pt x="4200" y="28"/>
                </a:lnTo>
                <a:lnTo>
                  <a:pt x="4135" y="36"/>
                </a:lnTo>
                <a:lnTo>
                  <a:pt x="4070" y="44"/>
                </a:lnTo>
                <a:lnTo>
                  <a:pt x="4006" y="54"/>
                </a:lnTo>
                <a:lnTo>
                  <a:pt x="3941" y="63"/>
                </a:lnTo>
                <a:lnTo>
                  <a:pt x="3878" y="75"/>
                </a:lnTo>
                <a:lnTo>
                  <a:pt x="3814" y="86"/>
                </a:lnTo>
                <a:lnTo>
                  <a:pt x="3750" y="99"/>
                </a:lnTo>
                <a:lnTo>
                  <a:pt x="3686" y="113"/>
                </a:lnTo>
                <a:lnTo>
                  <a:pt x="3624" y="128"/>
                </a:lnTo>
                <a:lnTo>
                  <a:pt x="3560" y="144"/>
                </a:lnTo>
                <a:lnTo>
                  <a:pt x="3498" y="159"/>
                </a:lnTo>
                <a:lnTo>
                  <a:pt x="3434" y="177"/>
                </a:lnTo>
                <a:lnTo>
                  <a:pt x="3372" y="195"/>
                </a:lnTo>
                <a:lnTo>
                  <a:pt x="3310" y="214"/>
                </a:lnTo>
                <a:lnTo>
                  <a:pt x="3248" y="235"/>
                </a:lnTo>
                <a:lnTo>
                  <a:pt x="3186" y="255"/>
                </a:lnTo>
                <a:lnTo>
                  <a:pt x="3125" y="276"/>
                </a:lnTo>
                <a:lnTo>
                  <a:pt x="3063" y="299"/>
                </a:lnTo>
                <a:lnTo>
                  <a:pt x="3003" y="322"/>
                </a:lnTo>
                <a:lnTo>
                  <a:pt x="2943" y="346"/>
                </a:lnTo>
                <a:lnTo>
                  <a:pt x="2882" y="371"/>
                </a:lnTo>
                <a:lnTo>
                  <a:pt x="2823" y="397"/>
                </a:lnTo>
                <a:lnTo>
                  <a:pt x="2764" y="423"/>
                </a:lnTo>
                <a:lnTo>
                  <a:pt x="2705" y="451"/>
                </a:lnTo>
                <a:lnTo>
                  <a:pt x="2646" y="479"/>
                </a:lnTo>
                <a:lnTo>
                  <a:pt x="2588" y="508"/>
                </a:lnTo>
                <a:lnTo>
                  <a:pt x="2530" y="537"/>
                </a:lnTo>
                <a:lnTo>
                  <a:pt x="2473" y="568"/>
                </a:lnTo>
                <a:lnTo>
                  <a:pt x="2415" y="600"/>
                </a:lnTo>
                <a:lnTo>
                  <a:pt x="2359" y="632"/>
                </a:lnTo>
                <a:lnTo>
                  <a:pt x="2303" y="664"/>
                </a:lnTo>
                <a:lnTo>
                  <a:pt x="2247" y="698"/>
                </a:lnTo>
                <a:lnTo>
                  <a:pt x="2192" y="732"/>
                </a:lnTo>
                <a:lnTo>
                  <a:pt x="2138" y="768"/>
                </a:lnTo>
                <a:lnTo>
                  <a:pt x="2083" y="804"/>
                </a:lnTo>
                <a:lnTo>
                  <a:pt x="2030" y="840"/>
                </a:lnTo>
                <a:lnTo>
                  <a:pt x="1977" y="878"/>
                </a:lnTo>
                <a:lnTo>
                  <a:pt x="1924" y="916"/>
                </a:lnTo>
                <a:lnTo>
                  <a:pt x="1872" y="955"/>
                </a:lnTo>
                <a:lnTo>
                  <a:pt x="1820" y="995"/>
                </a:lnTo>
                <a:lnTo>
                  <a:pt x="1770" y="1035"/>
                </a:lnTo>
                <a:lnTo>
                  <a:pt x="1719" y="1076"/>
                </a:lnTo>
                <a:lnTo>
                  <a:pt x="1669" y="1118"/>
                </a:lnTo>
                <a:lnTo>
                  <a:pt x="1619" y="1160"/>
                </a:lnTo>
                <a:lnTo>
                  <a:pt x="1571" y="1203"/>
                </a:lnTo>
                <a:lnTo>
                  <a:pt x="1523" y="1247"/>
                </a:lnTo>
                <a:lnTo>
                  <a:pt x="1475" y="1291"/>
                </a:lnTo>
                <a:lnTo>
                  <a:pt x="1429" y="1337"/>
                </a:lnTo>
                <a:lnTo>
                  <a:pt x="1382" y="1382"/>
                </a:lnTo>
                <a:lnTo>
                  <a:pt x="1337" y="1428"/>
                </a:lnTo>
                <a:lnTo>
                  <a:pt x="1291" y="1476"/>
                </a:lnTo>
                <a:lnTo>
                  <a:pt x="1247" y="1523"/>
                </a:lnTo>
                <a:lnTo>
                  <a:pt x="1203" y="1571"/>
                </a:lnTo>
                <a:lnTo>
                  <a:pt x="1161" y="1620"/>
                </a:lnTo>
                <a:lnTo>
                  <a:pt x="1118" y="1669"/>
                </a:lnTo>
                <a:lnTo>
                  <a:pt x="1076" y="1719"/>
                </a:lnTo>
                <a:lnTo>
                  <a:pt x="1035" y="1770"/>
                </a:lnTo>
                <a:lnTo>
                  <a:pt x="995" y="1821"/>
                </a:lnTo>
                <a:lnTo>
                  <a:pt x="955" y="1873"/>
                </a:lnTo>
                <a:lnTo>
                  <a:pt x="916" y="1924"/>
                </a:lnTo>
                <a:lnTo>
                  <a:pt x="878" y="1977"/>
                </a:lnTo>
                <a:lnTo>
                  <a:pt x="841" y="2030"/>
                </a:lnTo>
                <a:lnTo>
                  <a:pt x="804" y="2084"/>
                </a:lnTo>
                <a:lnTo>
                  <a:pt x="768" y="2138"/>
                </a:lnTo>
                <a:lnTo>
                  <a:pt x="733" y="2193"/>
                </a:lnTo>
                <a:lnTo>
                  <a:pt x="699" y="2248"/>
                </a:lnTo>
                <a:lnTo>
                  <a:pt x="665" y="2304"/>
                </a:lnTo>
                <a:lnTo>
                  <a:pt x="632" y="2360"/>
                </a:lnTo>
                <a:lnTo>
                  <a:pt x="601" y="2417"/>
                </a:lnTo>
                <a:lnTo>
                  <a:pt x="569" y="2474"/>
                </a:lnTo>
                <a:lnTo>
                  <a:pt x="538" y="2531"/>
                </a:lnTo>
                <a:lnTo>
                  <a:pt x="509" y="2588"/>
                </a:lnTo>
                <a:lnTo>
                  <a:pt x="480" y="2647"/>
                </a:lnTo>
                <a:lnTo>
                  <a:pt x="451" y="2706"/>
                </a:lnTo>
                <a:lnTo>
                  <a:pt x="424" y="2765"/>
                </a:lnTo>
                <a:lnTo>
                  <a:pt x="397" y="2824"/>
                </a:lnTo>
                <a:lnTo>
                  <a:pt x="372" y="2884"/>
                </a:lnTo>
                <a:lnTo>
                  <a:pt x="347" y="2944"/>
                </a:lnTo>
                <a:lnTo>
                  <a:pt x="323" y="3004"/>
                </a:lnTo>
                <a:lnTo>
                  <a:pt x="300" y="3065"/>
                </a:lnTo>
                <a:lnTo>
                  <a:pt x="278" y="3126"/>
                </a:lnTo>
                <a:lnTo>
                  <a:pt x="255" y="3188"/>
                </a:lnTo>
                <a:lnTo>
                  <a:pt x="235" y="3249"/>
                </a:lnTo>
                <a:lnTo>
                  <a:pt x="215" y="3312"/>
                </a:lnTo>
                <a:lnTo>
                  <a:pt x="196" y="3374"/>
                </a:lnTo>
                <a:lnTo>
                  <a:pt x="178" y="3436"/>
                </a:lnTo>
                <a:lnTo>
                  <a:pt x="161" y="3499"/>
                </a:lnTo>
                <a:lnTo>
                  <a:pt x="144" y="3561"/>
                </a:lnTo>
                <a:lnTo>
                  <a:pt x="129" y="3625"/>
                </a:lnTo>
                <a:lnTo>
                  <a:pt x="115" y="3688"/>
                </a:lnTo>
                <a:lnTo>
                  <a:pt x="101" y="3752"/>
                </a:lnTo>
                <a:lnTo>
                  <a:pt x="88" y="3816"/>
                </a:lnTo>
                <a:lnTo>
                  <a:pt x="75" y="3879"/>
                </a:lnTo>
                <a:lnTo>
                  <a:pt x="65" y="3944"/>
                </a:lnTo>
                <a:lnTo>
                  <a:pt x="54" y="4008"/>
                </a:lnTo>
                <a:lnTo>
                  <a:pt x="45" y="4073"/>
                </a:lnTo>
                <a:lnTo>
                  <a:pt x="36" y="4136"/>
                </a:lnTo>
                <a:lnTo>
                  <a:pt x="29" y="4201"/>
                </a:lnTo>
                <a:lnTo>
                  <a:pt x="23" y="4267"/>
                </a:lnTo>
                <a:lnTo>
                  <a:pt x="16" y="4331"/>
                </a:lnTo>
                <a:lnTo>
                  <a:pt x="11" y="4396"/>
                </a:lnTo>
                <a:lnTo>
                  <a:pt x="8" y="4460"/>
                </a:lnTo>
                <a:lnTo>
                  <a:pt x="5" y="4526"/>
                </a:lnTo>
                <a:lnTo>
                  <a:pt x="2" y="4591"/>
                </a:lnTo>
                <a:lnTo>
                  <a:pt x="0" y="4656"/>
                </a:lnTo>
                <a:lnTo>
                  <a:pt x="0" y="4721"/>
                </a:lnTo>
                <a:lnTo>
                  <a:pt x="0" y="4785"/>
                </a:lnTo>
                <a:lnTo>
                  <a:pt x="2" y="4851"/>
                </a:lnTo>
                <a:lnTo>
                  <a:pt x="5" y="4916"/>
                </a:lnTo>
                <a:lnTo>
                  <a:pt x="8" y="4981"/>
                </a:lnTo>
                <a:lnTo>
                  <a:pt x="11" y="5046"/>
                </a:lnTo>
                <a:lnTo>
                  <a:pt x="16" y="5110"/>
                </a:lnTo>
                <a:lnTo>
                  <a:pt x="23" y="5176"/>
                </a:lnTo>
                <a:lnTo>
                  <a:pt x="29" y="5241"/>
                </a:lnTo>
                <a:lnTo>
                  <a:pt x="36" y="5305"/>
                </a:lnTo>
                <a:lnTo>
                  <a:pt x="45" y="5370"/>
                </a:lnTo>
                <a:lnTo>
                  <a:pt x="54" y="5433"/>
                </a:lnTo>
                <a:lnTo>
                  <a:pt x="65" y="5498"/>
                </a:lnTo>
                <a:lnTo>
                  <a:pt x="75" y="5563"/>
                </a:lnTo>
                <a:lnTo>
                  <a:pt x="88" y="5626"/>
                </a:lnTo>
                <a:lnTo>
                  <a:pt x="101" y="5690"/>
                </a:lnTo>
                <a:lnTo>
                  <a:pt x="115" y="5753"/>
                </a:lnTo>
                <a:lnTo>
                  <a:pt x="129" y="5817"/>
                </a:lnTo>
                <a:lnTo>
                  <a:pt x="144" y="5880"/>
                </a:lnTo>
                <a:lnTo>
                  <a:pt x="161" y="5943"/>
                </a:lnTo>
                <a:lnTo>
                  <a:pt x="178" y="6005"/>
                </a:lnTo>
                <a:lnTo>
                  <a:pt x="196" y="6069"/>
                </a:lnTo>
                <a:lnTo>
                  <a:pt x="215" y="6130"/>
                </a:lnTo>
                <a:lnTo>
                  <a:pt x="235" y="6193"/>
                </a:lnTo>
                <a:lnTo>
                  <a:pt x="255" y="6254"/>
                </a:lnTo>
                <a:lnTo>
                  <a:pt x="278" y="6315"/>
                </a:lnTo>
                <a:lnTo>
                  <a:pt x="300" y="6377"/>
                </a:lnTo>
                <a:lnTo>
                  <a:pt x="323" y="6437"/>
                </a:lnTo>
              </a:path>
            </a:pathLst>
          </a:custGeom>
          <a:noFill/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Freeform 92"/>
          <p:cNvSpPr/>
          <p:nvPr/>
        </p:nvSpPr>
        <p:spPr>
          <a:xfrm>
            <a:off x="1201680" y="3852720"/>
            <a:ext cx="2411640" cy="1251000"/>
          </a:xfrm>
          <a:custGeom>
            <a:avLst/>
            <a:gdLst>
              <a:gd name="textAreaLeft" fmla="*/ 0 w 2411640"/>
              <a:gd name="textAreaRight" fmla="*/ 2412000 w 241164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9114" h="4722">
                <a:moveTo>
                  <a:pt x="0" y="1716"/>
                </a:moveTo>
                <a:lnTo>
                  <a:pt x="24" y="1777"/>
                </a:lnTo>
                <a:lnTo>
                  <a:pt x="49" y="1837"/>
                </a:lnTo>
                <a:lnTo>
                  <a:pt x="74" y="1896"/>
                </a:lnTo>
                <a:lnTo>
                  <a:pt x="101" y="1957"/>
                </a:lnTo>
                <a:lnTo>
                  <a:pt x="128" y="2015"/>
                </a:lnTo>
                <a:lnTo>
                  <a:pt x="157" y="2074"/>
                </a:lnTo>
                <a:lnTo>
                  <a:pt x="186" y="2132"/>
                </a:lnTo>
                <a:lnTo>
                  <a:pt x="215" y="2189"/>
                </a:lnTo>
                <a:lnTo>
                  <a:pt x="246" y="2248"/>
                </a:lnTo>
                <a:lnTo>
                  <a:pt x="278" y="2304"/>
                </a:lnTo>
                <a:lnTo>
                  <a:pt x="309" y="2361"/>
                </a:lnTo>
                <a:lnTo>
                  <a:pt x="342" y="2417"/>
                </a:lnTo>
                <a:lnTo>
                  <a:pt x="376" y="2472"/>
                </a:lnTo>
                <a:lnTo>
                  <a:pt x="410" y="2527"/>
                </a:lnTo>
                <a:lnTo>
                  <a:pt x="445" y="2582"/>
                </a:lnTo>
                <a:lnTo>
                  <a:pt x="481" y="2636"/>
                </a:lnTo>
                <a:lnTo>
                  <a:pt x="518" y="2690"/>
                </a:lnTo>
                <a:lnTo>
                  <a:pt x="555" y="2743"/>
                </a:lnTo>
                <a:lnTo>
                  <a:pt x="593" y="2796"/>
                </a:lnTo>
                <a:lnTo>
                  <a:pt x="632" y="2848"/>
                </a:lnTo>
                <a:lnTo>
                  <a:pt x="672" y="2900"/>
                </a:lnTo>
                <a:lnTo>
                  <a:pt x="712" y="2951"/>
                </a:lnTo>
                <a:lnTo>
                  <a:pt x="753" y="3002"/>
                </a:lnTo>
                <a:lnTo>
                  <a:pt x="795" y="3051"/>
                </a:lnTo>
                <a:lnTo>
                  <a:pt x="838" y="3101"/>
                </a:lnTo>
                <a:lnTo>
                  <a:pt x="880" y="3150"/>
                </a:lnTo>
                <a:lnTo>
                  <a:pt x="924" y="3197"/>
                </a:lnTo>
                <a:lnTo>
                  <a:pt x="968" y="3245"/>
                </a:lnTo>
                <a:lnTo>
                  <a:pt x="1014" y="3293"/>
                </a:lnTo>
                <a:lnTo>
                  <a:pt x="1059" y="3338"/>
                </a:lnTo>
                <a:lnTo>
                  <a:pt x="1106" y="3385"/>
                </a:lnTo>
                <a:lnTo>
                  <a:pt x="1152" y="3429"/>
                </a:lnTo>
                <a:lnTo>
                  <a:pt x="1200" y="3474"/>
                </a:lnTo>
                <a:lnTo>
                  <a:pt x="1248" y="3517"/>
                </a:lnTo>
                <a:lnTo>
                  <a:pt x="1296" y="3561"/>
                </a:lnTo>
                <a:lnTo>
                  <a:pt x="1346" y="3603"/>
                </a:lnTo>
                <a:lnTo>
                  <a:pt x="1396" y="3644"/>
                </a:lnTo>
                <a:lnTo>
                  <a:pt x="1447" y="3686"/>
                </a:lnTo>
                <a:lnTo>
                  <a:pt x="1497" y="3726"/>
                </a:lnTo>
                <a:lnTo>
                  <a:pt x="1549" y="3766"/>
                </a:lnTo>
                <a:lnTo>
                  <a:pt x="1601" y="3804"/>
                </a:lnTo>
                <a:lnTo>
                  <a:pt x="1654" y="3842"/>
                </a:lnTo>
                <a:lnTo>
                  <a:pt x="1707" y="3880"/>
                </a:lnTo>
                <a:lnTo>
                  <a:pt x="1760" y="3916"/>
                </a:lnTo>
                <a:lnTo>
                  <a:pt x="1815" y="3952"/>
                </a:lnTo>
                <a:lnTo>
                  <a:pt x="1869" y="3988"/>
                </a:lnTo>
                <a:lnTo>
                  <a:pt x="1924" y="4022"/>
                </a:lnTo>
                <a:lnTo>
                  <a:pt x="1980" y="4056"/>
                </a:lnTo>
                <a:lnTo>
                  <a:pt x="2036" y="4089"/>
                </a:lnTo>
                <a:lnTo>
                  <a:pt x="2092" y="4121"/>
                </a:lnTo>
                <a:lnTo>
                  <a:pt x="2150" y="4153"/>
                </a:lnTo>
                <a:lnTo>
                  <a:pt x="2207" y="4183"/>
                </a:lnTo>
                <a:lnTo>
                  <a:pt x="2265" y="4213"/>
                </a:lnTo>
                <a:lnTo>
                  <a:pt x="2323" y="4241"/>
                </a:lnTo>
                <a:lnTo>
                  <a:pt x="2382" y="4270"/>
                </a:lnTo>
                <a:lnTo>
                  <a:pt x="2441" y="4298"/>
                </a:lnTo>
                <a:lnTo>
                  <a:pt x="2500" y="4324"/>
                </a:lnTo>
                <a:lnTo>
                  <a:pt x="2559" y="4349"/>
                </a:lnTo>
                <a:lnTo>
                  <a:pt x="2620" y="4375"/>
                </a:lnTo>
                <a:lnTo>
                  <a:pt x="2680" y="4399"/>
                </a:lnTo>
                <a:lnTo>
                  <a:pt x="2740" y="4421"/>
                </a:lnTo>
                <a:lnTo>
                  <a:pt x="2802" y="4445"/>
                </a:lnTo>
                <a:lnTo>
                  <a:pt x="2863" y="4466"/>
                </a:lnTo>
                <a:lnTo>
                  <a:pt x="2925" y="4486"/>
                </a:lnTo>
                <a:lnTo>
                  <a:pt x="2987" y="4506"/>
                </a:lnTo>
                <a:lnTo>
                  <a:pt x="3049" y="4525"/>
                </a:lnTo>
                <a:lnTo>
                  <a:pt x="3111" y="4543"/>
                </a:lnTo>
                <a:lnTo>
                  <a:pt x="3175" y="4561"/>
                </a:lnTo>
                <a:lnTo>
                  <a:pt x="3237" y="4577"/>
                </a:lnTo>
                <a:lnTo>
                  <a:pt x="3301" y="4593"/>
                </a:lnTo>
                <a:lnTo>
                  <a:pt x="3363" y="4608"/>
                </a:lnTo>
                <a:lnTo>
                  <a:pt x="3427" y="4622"/>
                </a:lnTo>
                <a:lnTo>
                  <a:pt x="3491" y="4634"/>
                </a:lnTo>
                <a:lnTo>
                  <a:pt x="3555" y="4646"/>
                </a:lnTo>
                <a:lnTo>
                  <a:pt x="3618" y="4658"/>
                </a:lnTo>
                <a:lnTo>
                  <a:pt x="3683" y="4667"/>
                </a:lnTo>
                <a:lnTo>
                  <a:pt x="3747" y="4677"/>
                </a:lnTo>
                <a:lnTo>
                  <a:pt x="3812" y="4685"/>
                </a:lnTo>
                <a:lnTo>
                  <a:pt x="3877" y="4694"/>
                </a:lnTo>
                <a:lnTo>
                  <a:pt x="3941" y="4700"/>
                </a:lnTo>
                <a:lnTo>
                  <a:pt x="4006" y="4705"/>
                </a:lnTo>
                <a:lnTo>
                  <a:pt x="4070" y="4711"/>
                </a:lnTo>
                <a:lnTo>
                  <a:pt x="4135" y="4715"/>
                </a:lnTo>
                <a:lnTo>
                  <a:pt x="4201" y="4718"/>
                </a:lnTo>
                <a:lnTo>
                  <a:pt x="4265" y="4720"/>
                </a:lnTo>
                <a:lnTo>
                  <a:pt x="4330" y="4721"/>
                </a:lnTo>
                <a:lnTo>
                  <a:pt x="4395" y="4722"/>
                </a:lnTo>
                <a:lnTo>
                  <a:pt x="4460" y="4721"/>
                </a:lnTo>
                <a:lnTo>
                  <a:pt x="4526" y="4720"/>
                </a:lnTo>
                <a:lnTo>
                  <a:pt x="4590" y="4718"/>
                </a:lnTo>
                <a:lnTo>
                  <a:pt x="4655" y="4715"/>
                </a:lnTo>
                <a:lnTo>
                  <a:pt x="4720" y="4711"/>
                </a:lnTo>
                <a:lnTo>
                  <a:pt x="4785" y="4705"/>
                </a:lnTo>
                <a:lnTo>
                  <a:pt x="4850" y="4700"/>
                </a:lnTo>
                <a:lnTo>
                  <a:pt x="4914" y="4694"/>
                </a:lnTo>
                <a:lnTo>
                  <a:pt x="4979" y="4685"/>
                </a:lnTo>
                <a:lnTo>
                  <a:pt x="5043" y="4677"/>
                </a:lnTo>
                <a:lnTo>
                  <a:pt x="5108" y="4667"/>
                </a:lnTo>
                <a:lnTo>
                  <a:pt x="5172" y="4658"/>
                </a:lnTo>
                <a:lnTo>
                  <a:pt x="5236" y="4646"/>
                </a:lnTo>
                <a:lnTo>
                  <a:pt x="5300" y="4634"/>
                </a:lnTo>
                <a:lnTo>
                  <a:pt x="5363" y="4622"/>
                </a:lnTo>
                <a:lnTo>
                  <a:pt x="5427" y="4608"/>
                </a:lnTo>
                <a:lnTo>
                  <a:pt x="5490" y="4593"/>
                </a:lnTo>
                <a:lnTo>
                  <a:pt x="5554" y="4577"/>
                </a:lnTo>
                <a:lnTo>
                  <a:pt x="5616" y="4561"/>
                </a:lnTo>
                <a:lnTo>
                  <a:pt x="5679" y="4543"/>
                </a:lnTo>
                <a:lnTo>
                  <a:pt x="5741" y="4525"/>
                </a:lnTo>
                <a:lnTo>
                  <a:pt x="5804" y="4506"/>
                </a:lnTo>
                <a:lnTo>
                  <a:pt x="5865" y="4486"/>
                </a:lnTo>
                <a:lnTo>
                  <a:pt x="5928" y="4466"/>
                </a:lnTo>
                <a:lnTo>
                  <a:pt x="5989" y="4445"/>
                </a:lnTo>
                <a:lnTo>
                  <a:pt x="6049" y="4421"/>
                </a:lnTo>
                <a:lnTo>
                  <a:pt x="6111" y="4399"/>
                </a:lnTo>
                <a:lnTo>
                  <a:pt x="6171" y="4375"/>
                </a:lnTo>
                <a:lnTo>
                  <a:pt x="6230" y="4349"/>
                </a:lnTo>
                <a:lnTo>
                  <a:pt x="6291" y="4324"/>
                </a:lnTo>
                <a:lnTo>
                  <a:pt x="6350" y="4298"/>
                </a:lnTo>
                <a:lnTo>
                  <a:pt x="6408" y="4270"/>
                </a:lnTo>
                <a:lnTo>
                  <a:pt x="6468" y="4241"/>
                </a:lnTo>
                <a:lnTo>
                  <a:pt x="6526" y="4213"/>
                </a:lnTo>
                <a:lnTo>
                  <a:pt x="6583" y="4183"/>
                </a:lnTo>
                <a:lnTo>
                  <a:pt x="6641" y="4153"/>
                </a:lnTo>
                <a:lnTo>
                  <a:pt x="6697" y="4121"/>
                </a:lnTo>
                <a:lnTo>
                  <a:pt x="6754" y="4089"/>
                </a:lnTo>
                <a:lnTo>
                  <a:pt x="6811" y="4056"/>
                </a:lnTo>
                <a:lnTo>
                  <a:pt x="6866" y="4022"/>
                </a:lnTo>
                <a:lnTo>
                  <a:pt x="6921" y="3988"/>
                </a:lnTo>
                <a:lnTo>
                  <a:pt x="6976" y="3952"/>
                </a:lnTo>
                <a:lnTo>
                  <a:pt x="7030" y="3916"/>
                </a:lnTo>
                <a:lnTo>
                  <a:pt x="7084" y="3880"/>
                </a:lnTo>
                <a:lnTo>
                  <a:pt x="7137" y="3842"/>
                </a:lnTo>
                <a:lnTo>
                  <a:pt x="7190" y="3804"/>
                </a:lnTo>
                <a:lnTo>
                  <a:pt x="7242" y="3766"/>
                </a:lnTo>
                <a:lnTo>
                  <a:pt x="7293" y="3726"/>
                </a:lnTo>
                <a:lnTo>
                  <a:pt x="7344" y="3686"/>
                </a:lnTo>
                <a:lnTo>
                  <a:pt x="7395" y="3644"/>
                </a:lnTo>
                <a:lnTo>
                  <a:pt x="7445" y="3603"/>
                </a:lnTo>
                <a:lnTo>
                  <a:pt x="7494" y="3561"/>
                </a:lnTo>
                <a:lnTo>
                  <a:pt x="7542" y="3517"/>
                </a:lnTo>
                <a:lnTo>
                  <a:pt x="7591" y="3474"/>
                </a:lnTo>
                <a:lnTo>
                  <a:pt x="7639" y="3429"/>
                </a:lnTo>
                <a:lnTo>
                  <a:pt x="7685" y="3385"/>
                </a:lnTo>
                <a:lnTo>
                  <a:pt x="7732" y="3338"/>
                </a:lnTo>
                <a:lnTo>
                  <a:pt x="7777" y="3293"/>
                </a:lnTo>
                <a:lnTo>
                  <a:pt x="7822" y="3245"/>
                </a:lnTo>
                <a:lnTo>
                  <a:pt x="7866" y="3197"/>
                </a:lnTo>
                <a:lnTo>
                  <a:pt x="7910" y="3150"/>
                </a:lnTo>
                <a:lnTo>
                  <a:pt x="7953" y="3101"/>
                </a:lnTo>
                <a:lnTo>
                  <a:pt x="7995" y="3051"/>
                </a:lnTo>
                <a:lnTo>
                  <a:pt x="8037" y="3002"/>
                </a:lnTo>
                <a:lnTo>
                  <a:pt x="8078" y="2951"/>
                </a:lnTo>
                <a:lnTo>
                  <a:pt x="8118" y="2900"/>
                </a:lnTo>
                <a:lnTo>
                  <a:pt x="8157" y="2848"/>
                </a:lnTo>
                <a:lnTo>
                  <a:pt x="8197" y="2796"/>
                </a:lnTo>
                <a:lnTo>
                  <a:pt x="8235" y="2743"/>
                </a:lnTo>
                <a:lnTo>
                  <a:pt x="8273" y="2690"/>
                </a:lnTo>
                <a:lnTo>
                  <a:pt x="8309" y="2636"/>
                </a:lnTo>
                <a:lnTo>
                  <a:pt x="8345" y="2582"/>
                </a:lnTo>
                <a:lnTo>
                  <a:pt x="8380" y="2527"/>
                </a:lnTo>
                <a:lnTo>
                  <a:pt x="8415" y="2472"/>
                </a:lnTo>
                <a:lnTo>
                  <a:pt x="8449" y="2417"/>
                </a:lnTo>
                <a:lnTo>
                  <a:pt x="8481" y="2361"/>
                </a:lnTo>
                <a:lnTo>
                  <a:pt x="8513" y="2304"/>
                </a:lnTo>
                <a:lnTo>
                  <a:pt x="8545" y="2248"/>
                </a:lnTo>
                <a:lnTo>
                  <a:pt x="8575" y="2189"/>
                </a:lnTo>
                <a:lnTo>
                  <a:pt x="8605" y="2132"/>
                </a:lnTo>
                <a:lnTo>
                  <a:pt x="8634" y="2074"/>
                </a:lnTo>
                <a:lnTo>
                  <a:pt x="8662" y="2015"/>
                </a:lnTo>
                <a:lnTo>
                  <a:pt x="8689" y="1957"/>
                </a:lnTo>
                <a:lnTo>
                  <a:pt x="8715" y="1896"/>
                </a:lnTo>
                <a:lnTo>
                  <a:pt x="8742" y="1837"/>
                </a:lnTo>
                <a:lnTo>
                  <a:pt x="8766" y="1777"/>
                </a:lnTo>
                <a:lnTo>
                  <a:pt x="8791" y="1716"/>
                </a:lnTo>
                <a:lnTo>
                  <a:pt x="8814" y="1656"/>
                </a:lnTo>
                <a:lnTo>
                  <a:pt x="8836" y="1594"/>
                </a:lnTo>
                <a:lnTo>
                  <a:pt x="8857" y="1533"/>
                </a:lnTo>
                <a:lnTo>
                  <a:pt x="8878" y="1472"/>
                </a:lnTo>
                <a:lnTo>
                  <a:pt x="8899" y="1409"/>
                </a:lnTo>
                <a:lnTo>
                  <a:pt x="8917" y="1348"/>
                </a:lnTo>
                <a:lnTo>
                  <a:pt x="8936" y="1284"/>
                </a:lnTo>
                <a:lnTo>
                  <a:pt x="8953" y="1222"/>
                </a:lnTo>
                <a:lnTo>
                  <a:pt x="8968" y="1159"/>
                </a:lnTo>
                <a:lnTo>
                  <a:pt x="8984" y="1096"/>
                </a:lnTo>
                <a:lnTo>
                  <a:pt x="8999" y="1032"/>
                </a:lnTo>
                <a:lnTo>
                  <a:pt x="9013" y="969"/>
                </a:lnTo>
                <a:lnTo>
                  <a:pt x="9026" y="905"/>
                </a:lnTo>
                <a:lnTo>
                  <a:pt x="9037" y="842"/>
                </a:lnTo>
                <a:lnTo>
                  <a:pt x="9049" y="777"/>
                </a:lnTo>
                <a:lnTo>
                  <a:pt x="9060" y="712"/>
                </a:lnTo>
                <a:lnTo>
                  <a:pt x="9068" y="649"/>
                </a:lnTo>
                <a:lnTo>
                  <a:pt x="9076" y="584"/>
                </a:lnTo>
                <a:lnTo>
                  <a:pt x="9085" y="520"/>
                </a:lnTo>
                <a:lnTo>
                  <a:pt x="9091" y="455"/>
                </a:lnTo>
                <a:lnTo>
                  <a:pt x="9097" y="389"/>
                </a:lnTo>
                <a:lnTo>
                  <a:pt x="9102" y="325"/>
                </a:lnTo>
                <a:lnTo>
                  <a:pt x="9106" y="260"/>
                </a:lnTo>
                <a:lnTo>
                  <a:pt x="9109" y="195"/>
                </a:lnTo>
                <a:lnTo>
                  <a:pt x="9111" y="130"/>
                </a:lnTo>
                <a:lnTo>
                  <a:pt x="9112" y="64"/>
                </a:lnTo>
                <a:lnTo>
                  <a:pt x="9114" y="0"/>
                </a:lnTo>
              </a:path>
            </a:pathLst>
          </a:custGeom>
          <a:noFill/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5" name="Object 93"/>
          <p:cNvGraphicFramePr/>
          <p:nvPr/>
        </p:nvGraphicFramePr>
        <p:xfrm>
          <a:off x="2124000" y="3708360"/>
          <a:ext cx="254160" cy="2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6" name="Object 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708360"/>
                    <a:ext cx="2541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7" name="Line 94"/>
          <p:cNvSpPr/>
          <p:nvPr/>
        </p:nvSpPr>
        <p:spPr>
          <a:xfrm>
            <a:off x="900000" y="2263680"/>
            <a:ext cx="392400" cy="522360"/>
          </a:xfrm>
          <a:prstGeom prst="line">
            <a:avLst/>
          </a:prstGeom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Line 95"/>
          <p:cNvSpPr/>
          <p:nvPr/>
        </p:nvSpPr>
        <p:spPr>
          <a:xfrm>
            <a:off x="1627200" y="3192480"/>
            <a:ext cx="392040" cy="52236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9" name="Object 96"/>
          <p:cNvGraphicFramePr/>
          <p:nvPr/>
        </p:nvGraphicFramePr>
        <p:xfrm>
          <a:off x="1214280" y="2263680"/>
          <a:ext cx="23364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0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2263680"/>
                    <a:ext cx="23364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Object 99"/>
          <p:cNvGraphicFramePr/>
          <p:nvPr/>
        </p:nvGraphicFramePr>
        <p:xfrm>
          <a:off x="2071800" y="3179880"/>
          <a:ext cx="46656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2" name="Object 9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71800" y="3179880"/>
                    <a:ext cx="4665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3" name="Object 101"/>
          <p:cNvGraphicFramePr/>
          <p:nvPr/>
        </p:nvGraphicFramePr>
        <p:xfrm>
          <a:off x="4859280" y="907920"/>
          <a:ext cx="2610000" cy="63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4" name="Object 1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907920"/>
                    <a:ext cx="26100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5" name="Text Box 102"/>
          <p:cNvSpPr/>
          <p:nvPr/>
        </p:nvSpPr>
        <p:spPr>
          <a:xfrm>
            <a:off x="5003640" y="182880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104"/>
          <p:cNvSpPr/>
          <p:nvPr/>
        </p:nvSpPr>
        <p:spPr>
          <a:xfrm>
            <a:off x="4800600" y="1695600"/>
            <a:ext cx="365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可以认为，剪应力在薄壁圆筒上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均匀分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Line 105"/>
          <p:cNvSpPr/>
          <p:nvPr/>
        </p:nvSpPr>
        <p:spPr>
          <a:xfrm flipV="1">
            <a:off x="2351160" y="2858760"/>
            <a:ext cx="755640" cy="987480"/>
          </a:xfrm>
          <a:prstGeom prst="line">
            <a:avLst/>
          </a:prstGeom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8" name="Object 106"/>
          <p:cNvGraphicFramePr/>
          <p:nvPr/>
        </p:nvGraphicFramePr>
        <p:xfrm>
          <a:off x="2484360" y="3068640"/>
          <a:ext cx="28728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9" name="Object 10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3068640"/>
                    <a:ext cx="2872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0" name="Freeform 110"/>
          <p:cNvSpPr/>
          <p:nvPr/>
        </p:nvSpPr>
        <p:spPr>
          <a:xfrm>
            <a:off x="1042920" y="4002120"/>
            <a:ext cx="258840" cy="579240"/>
          </a:xfrm>
          <a:custGeom>
            <a:avLst/>
            <a:gdLst>
              <a:gd name="textAreaLeft" fmla="*/ 0 w 258840"/>
              <a:gd name="textAreaRight" fmla="*/ 259200 w 258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977" h="2188">
                <a:moveTo>
                  <a:pt x="0" y="0"/>
                </a:moveTo>
                <a:lnTo>
                  <a:pt x="1" y="65"/>
                </a:lnTo>
                <a:lnTo>
                  <a:pt x="4" y="130"/>
                </a:lnTo>
                <a:lnTo>
                  <a:pt x="8" y="195"/>
                </a:lnTo>
                <a:lnTo>
                  <a:pt x="12" y="260"/>
                </a:lnTo>
                <a:lnTo>
                  <a:pt x="18" y="324"/>
                </a:lnTo>
                <a:lnTo>
                  <a:pt x="27" y="389"/>
                </a:lnTo>
                <a:lnTo>
                  <a:pt x="36" y="452"/>
                </a:lnTo>
                <a:lnTo>
                  <a:pt x="47" y="517"/>
                </a:lnTo>
                <a:lnTo>
                  <a:pt x="59" y="580"/>
                </a:lnTo>
                <a:lnTo>
                  <a:pt x="72" y="644"/>
                </a:lnTo>
                <a:lnTo>
                  <a:pt x="87" y="707"/>
                </a:lnTo>
                <a:lnTo>
                  <a:pt x="103" y="770"/>
                </a:lnTo>
                <a:lnTo>
                  <a:pt x="121" y="832"/>
                </a:lnTo>
                <a:lnTo>
                  <a:pt x="140" y="895"/>
                </a:lnTo>
                <a:lnTo>
                  <a:pt x="160" y="956"/>
                </a:lnTo>
                <a:lnTo>
                  <a:pt x="182" y="1018"/>
                </a:lnTo>
                <a:lnTo>
                  <a:pt x="206" y="1078"/>
                </a:lnTo>
                <a:lnTo>
                  <a:pt x="230" y="1138"/>
                </a:lnTo>
                <a:lnTo>
                  <a:pt x="256" y="1198"/>
                </a:lnTo>
                <a:lnTo>
                  <a:pt x="283" y="1257"/>
                </a:lnTo>
                <a:lnTo>
                  <a:pt x="312" y="1315"/>
                </a:lnTo>
                <a:lnTo>
                  <a:pt x="341" y="1372"/>
                </a:lnTo>
                <a:lnTo>
                  <a:pt x="372" y="1430"/>
                </a:lnTo>
                <a:lnTo>
                  <a:pt x="404" y="1487"/>
                </a:lnTo>
                <a:lnTo>
                  <a:pt x="438" y="1542"/>
                </a:lnTo>
                <a:lnTo>
                  <a:pt x="473" y="1597"/>
                </a:lnTo>
                <a:lnTo>
                  <a:pt x="508" y="1651"/>
                </a:lnTo>
                <a:lnTo>
                  <a:pt x="545" y="1704"/>
                </a:lnTo>
                <a:lnTo>
                  <a:pt x="584" y="1757"/>
                </a:lnTo>
                <a:lnTo>
                  <a:pt x="623" y="1809"/>
                </a:lnTo>
                <a:lnTo>
                  <a:pt x="663" y="1859"/>
                </a:lnTo>
                <a:lnTo>
                  <a:pt x="704" y="1909"/>
                </a:lnTo>
                <a:lnTo>
                  <a:pt x="747" y="1958"/>
                </a:lnTo>
                <a:lnTo>
                  <a:pt x="791" y="2006"/>
                </a:lnTo>
                <a:lnTo>
                  <a:pt x="836" y="2053"/>
                </a:lnTo>
                <a:lnTo>
                  <a:pt x="881" y="2099"/>
                </a:lnTo>
                <a:lnTo>
                  <a:pt x="929" y="2143"/>
                </a:lnTo>
                <a:lnTo>
                  <a:pt x="977" y="2188"/>
                </a:lnTo>
              </a:path>
            </a:pathLst>
          </a:custGeom>
          <a:noFill/>
          <a:ln w="5724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1" name="Object 111"/>
          <p:cNvGraphicFramePr/>
          <p:nvPr/>
        </p:nvGraphicFramePr>
        <p:xfrm>
          <a:off x="611280" y="4221000"/>
          <a:ext cx="441360" cy="417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12" name="Object 1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4221000"/>
                    <a:ext cx="44136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3" name="Object 112"/>
          <p:cNvGraphicFramePr/>
          <p:nvPr/>
        </p:nvGraphicFramePr>
        <p:xfrm>
          <a:off x="5138640" y="3371760"/>
          <a:ext cx="3149640" cy="59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14" name="Object 1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38640" y="3371760"/>
                    <a:ext cx="314964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AutoShape 113"/>
          <p:cNvSpPr/>
          <p:nvPr/>
        </p:nvSpPr>
        <p:spPr>
          <a:xfrm>
            <a:off x="6661080" y="3962520"/>
            <a:ext cx="358920" cy="676080"/>
          </a:xfrm>
          <a:prstGeom prst="downArrow">
            <a:avLst>
              <a:gd name="adj1" fmla="val 50000"/>
              <a:gd name="adj2" fmla="val 47091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6" name="Object 114"/>
          <p:cNvGraphicFramePr/>
          <p:nvPr/>
        </p:nvGraphicFramePr>
        <p:xfrm>
          <a:off x="5948280" y="4765680"/>
          <a:ext cx="1828800" cy="1173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17" name="Object 1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8280" y="4765680"/>
                    <a:ext cx="18288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8" name="AutoShape 11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5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3024360" cy="25923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6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3024360" cy="2865600"/>
          </a:xfrm>
          <a:prstGeom prst="rect">
            <a:avLst/>
          </a:prstGeom>
          <a:ln w="0">
            <a:noFill/>
          </a:ln>
        </p:spPr>
      </p:pic>
      <p:sp>
        <p:nvSpPr>
          <p:cNvPr id="1121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Line 170"/>
          <p:cNvSpPr/>
          <p:nvPr/>
        </p:nvSpPr>
        <p:spPr>
          <a:xfrm>
            <a:off x="2319480" y="3170160"/>
            <a:ext cx="1644480" cy="9072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Line 171"/>
          <p:cNvSpPr/>
          <p:nvPr/>
        </p:nvSpPr>
        <p:spPr>
          <a:xfrm>
            <a:off x="911160" y="4743360"/>
            <a:ext cx="1584360" cy="8892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111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5" name="Group 223"/>
          <p:cNvGrpSpPr/>
          <p:nvPr/>
        </p:nvGrpSpPr>
        <p:grpSpPr>
          <a:xfrm>
            <a:off x="1654200" y="5167440"/>
            <a:ext cx="1519200" cy="1663920"/>
            <a:chOff x="1654200" y="5167440"/>
            <a:chExt cx="1519200" cy="1663920"/>
          </a:xfrm>
        </p:grpSpPr>
        <p:sp>
          <p:nvSpPr>
            <p:cNvPr id="1126" name="Freeform 202"/>
            <p:cNvSpPr/>
            <p:nvPr/>
          </p:nvSpPr>
          <p:spPr>
            <a:xfrm>
              <a:off x="1842480" y="5321880"/>
              <a:ext cx="1131840" cy="140652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406520"/>
                <a:gd name="textAreaBottom" fmla="*/ 1406880 h 1406520"/>
              </a:gdLst>
              <a:ahLst/>
              <a:rect l="textAreaLeft" t="textAreaTop" r="textAreaRight" b="textAreaBottom"/>
              <a:pathLst>
                <a:path w="6494" h="8250">
                  <a:moveTo>
                    <a:pt x="6494" y="8250"/>
                  </a:moveTo>
                  <a:lnTo>
                    <a:pt x="6494" y="1939"/>
                  </a:lnTo>
                  <a:lnTo>
                    <a:pt x="0" y="0"/>
                  </a:lnTo>
                  <a:lnTo>
                    <a:pt x="0" y="6310"/>
                  </a:lnTo>
                  <a:lnTo>
                    <a:pt x="6494" y="8250"/>
                  </a:lnTo>
                  <a:close/>
                </a:path>
              </a:pathLst>
            </a:custGeom>
            <a:solidFill>
              <a:srgbClr val="00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Rectangle 201"/>
            <p:cNvSpPr/>
            <p:nvPr/>
          </p:nvSpPr>
          <p:spPr>
            <a:xfrm>
              <a:off x="1844280" y="5306400"/>
              <a:ext cx="1132200" cy="1076040"/>
            </a:xfrm>
            <a:prstGeom prst="rect">
              <a:avLst/>
            </a:prstGeom>
            <a:solidFill>
              <a:srgbClr val="00ffff">
                <a:alpha val="57000"/>
              </a:srgbClr>
            </a:solidFill>
            <a:ln w="0">
              <a:solidFill>
                <a:srgbClr val="ffcf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Text Box 203"/>
            <p:cNvSpPr/>
            <p:nvPr/>
          </p:nvSpPr>
          <p:spPr>
            <a:xfrm>
              <a:off x="1654200" y="6282360"/>
              <a:ext cx="2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Text Box 205"/>
            <p:cNvSpPr/>
            <p:nvPr/>
          </p:nvSpPr>
          <p:spPr>
            <a:xfrm>
              <a:off x="2934720" y="534924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Text Box 206"/>
            <p:cNvSpPr/>
            <p:nvPr/>
          </p:nvSpPr>
          <p:spPr>
            <a:xfrm>
              <a:off x="2934720" y="64630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Text Box 207"/>
            <p:cNvSpPr/>
            <p:nvPr/>
          </p:nvSpPr>
          <p:spPr>
            <a:xfrm>
              <a:off x="1654200" y="5167440"/>
              <a:ext cx="2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2" name="Freeform 177"/>
          <p:cNvSpPr/>
          <p:nvPr/>
        </p:nvSpPr>
        <p:spPr>
          <a:xfrm>
            <a:off x="1301760" y="3902040"/>
            <a:ext cx="307800" cy="317520"/>
          </a:xfrm>
          <a:custGeom>
            <a:avLst/>
            <a:gdLst>
              <a:gd name="textAreaLeft" fmla="*/ 0 w 307800"/>
              <a:gd name="textAreaRight" fmla="*/ 308160 w 30780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537" h="1540">
                <a:moveTo>
                  <a:pt x="1537" y="1540"/>
                </a:moveTo>
                <a:lnTo>
                  <a:pt x="0" y="1446"/>
                </a:lnTo>
                <a:lnTo>
                  <a:pt x="1479" y="0"/>
                </a:lnTo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Freeform 178"/>
          <p:cNvSpPr/>
          <p:nvPr/>
        </p:nvSpPr>
        <p:spPr>
          <a:xfrm>
            <a:off x="1293840" y="3881520"/>
            <a:ext cx="303120" cy="318960"/>
          </a:xfrm>
          <a:custGeom>
            <a:avLst/>
            <a:gdLst>
              <a:gd name="textAreaLeft" fmla="*/ 0 w 303120"/>
              <a:gd name="textAreaRight" fmla="*/ 303480 w 303120"/>
              <a:gd name="textAreaTop" fmla="*/ 0 h 318960"/>
              <a:gd name="textAreaBottom" fmla="*/ 318960 h 318960"/>
            </a:gdLst>
            <a:ahLst/>
            <a:rect l="textAreaLeft" t="textAreaTop" r="textAreaRight" b="textAreaBottom"/>
            <a:pathLst>
              <a:path w="1519" h="1542">
                <a:moveTo>
                  <a:pt x="40" y="1542"/>
                </a:moveTo>
                <a:lnTo>
                  <a:pt x="1519" y="96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Freeform 140"/>
          <p:cNvSpPr/>
          <p:nvPr/>
        </p:nvSpPr>
        <p:spPr>
          <a:xfrm>
            <a:off x="1328760" y="1797120"/>
            <a:ext cx="304920" cy="317520"/>
          </a:xfrm>
          <a:custGeom>
            <a:avLst/>
            <a:gdLst>
              <a:gd name="textAreaLeft" fmla="*/ 0 w 304920"/>
              <a:gd name="textAreaRight" fmla="*/ 305280 w 3049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525" h="1545">
                <a:moveTo>
                  <a:pt x="1525" y="0"/>
                </a:moveTo>
                <a:lnTo>
                  <a:pt x="0" y="1545"/>
                </a:lnTo>
                <a:lnTo>
                  <a:pt x="1525" y="1545"/>
                </a:lnTo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Freeform 139"/>
          <p:cNvSpPr/>
          <p:nvPr/>
        </p:nvSpPr>
        <p:spPr>
          <a:xfrm>
            <a:off x="1328760" y="1797120"/>
            <a:ext cx="304920" cy="317520"/>
          </a:xfrm>
          <a:custGeom>
            <a:avLst/>
            <a:gdLst>
              <a:gd name="textAreaLeft" fmla="*/ 0 w 304920"/>
              <a:gd name="textAreaRight" fmla="*/ 305280 w 3049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525" h="1545">
                <a:moveTo>
                  <a:pt x="0" y="0"/>
                </a:moveTo>
                <a:lnTo>
                  <a:pt x="1525" y="0"/>
                </a:lnTo>
                <a:lnTo>
                  <a:pt x="0" y="1545"/>
                </a:lnTo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Line 115"/>
          <p:cNvSpPr/>
          <p:nvPr/>
        </p:nvSpPr>
        <p:spPr>
          <a:xfrm>
            <a:off x="1135080" y="1125360"/>
            <a:ext cx="30510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Line 116"/>
          <p:cNvSpPr/>
          <p:nvPr/>
        </p:nvSpPr>
        <p:spPr>
          <a:xfrm>
            <a:off x="1135080" y="2786040"/>
            <a:ext cx="30510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Line 117"/>
          <p:cNvSpPr/>
          <p:nvPr/>
        </p:nvSpPr>
        <p:spPr>
          <a:xfrm>
            <a:off x="4186080" y="1955880"/>
            <a:ext cx="708120" cy="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Line 118"/>
          <p:cNvSpPr/>
          <p:nvPr/>
        </p:nvSpPr>
        <p:spPr>
          <a:xfrm flipH="1">
            <a:off x="311040" y="1955880"/>
            <a:ext cx="400320" cy="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Freeform 119"/>
          <p:cNvSpPr/>
          <p:nvPr/>
        </p:nvSpPr>
        <p:spPr>
          <a:xfrm>
            <a:off x="4186080" y="1125360"/>
            <a:ext cx="424080" cy="1660680"/>
          </a:xfrm>
          <a:custGeom>
            <a:avLst/>
            <a:gdLst>
              <a:gd name="textAreaLeft" fmla="*/ 0 w 424080"/>
              <a:gd name="textAreaRight" fmla="*/ 424440 w 42408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2117" h="8059">
                <a:moveTo>
                  <a:pt x="0" y="0"/>
                </a:moveTo>
                <a:lnTo>
                  <a:pt x="134" y="9"/>
                </a:lnTo>
                <a:lnTo>
                  <a:pt x="266" y="32"/>
                </a:lnTo>
                <a:lnTo>
                  <a:pt x="397" y="72"/>
                </a:lnTo>
                <a:lnTo>
                  <a:pt x="527" y="127"/>
                </a:lnTo>
                <a:lnTo>
                  <a:pt x="655" y="198"/>
                </a:lnTo>
                <a:lnTo>
                  <a:pt x="780" y="284"/>
                </a:lnTo>
                <a:lnTo>
                  <a:pt x="901" y="385"/>
                </a:lnTo>
                <a:lnTo>
                  <a:pt x="1020" y="499"/>
                </a:lnTo>
                <a:lnTo>
                  <a:pt x="1134" y="628"/>
                </a:lnTo>
                <a:lnTo>
                  <a:pt x="1244" y="770"/>
                </a:lnTo>
                <a:lnTo>
                  <a:pt x="1349" y="926"/>
                </a:lnTo>
                <a:lnTo>
                  <a:pt x="1449" y="1093"/>
                </a:lnTo>
                <a:lnTo>
                  <a:pt x="1543" y="1272"/>
                </a:lnTo>
                <a:lnTo>
                  <a:pt x="1631" y="1461"/>
                </a:lnTo>
                <a:lnTo>
                  <a:pt x="1712" y="1662"/>
                </a:lnTo>
                <a:lnTo>
                  <a:pt x="1788" y="1871"/>
                </a:lnTo>
                <a:lnTo>
                  <a:pt x="1855" y="2089"/>
                </a:lnTo>
                <a:lnTo>
                  <a:pt x="1916" y="2315"/>
                </a:lnTo>
                <a:lnTo>
                  <a:pt x="1969" y="2547"/>
                </a:lnTo>
                <a:lnTo>
                  <a:pt x="2013" y="2785"/>
                </a:lnTo>
                <a:lnTo>
                  <a:pt x="2050" y="3027"/>
                </a:lnTo>
                <a:lnTo>
                  <a:pt x="2080" y="3275"/>
                </a:lnTo>
                <a:lnTo>
                  <a:pt x="2100" y="3525"/>
                </a:lnTo>
                <a:lnTo>
                  <a:pt x="2113" y="3777"/>
                </a:lnTo>
                <a:lnTo>
                  <a:pt x="2117" y="4030"/>
                </a:lnTo>
                <a:lnTo>
                  <a:pt x="2113" y="4283"/>
                </a:lnTo>
                <a:lnTo>
                  <a:pt x="2100" y="4535"/>
                </a:lnTo>
                <a:lnTo>
                  <a:pt x="2080" y="4785"/>
                </a:lnTo>
                <a:lnTo>
                  <a:pt x="2050" y="5032"/>
                </a:lnTo>
                <a:lnTo>
                  <a:pt x="2013" y="5275"/>
                </a:lnTo>
                <a:lnTo>
                  <a:pt x="1969" y="5514"/>
                </a:lnTo>
                <a:lnTo>
                  <a:pt x="1916" y="5745"/>
                </a:lnTo>
                <a:lnTo>
                  <a:pt x="1855" y="5971"/>
                </a:lnTo>
                <a:lnTo>
                  <a:pt x="1788" y="6189"/>
                </a:lnTo>
                <a:lnTo>
                  <a:pt x="1712" y="6399"/>
                </a:lnTo>
                <a:lnTo>
                  <a:pt x="1631" y="6598"/>
                </a:lnTo>
                <a:lnTo>
                  <a:pt x="1543" y="6788"/>
                </a:lnTo>
                <a:lnTo>
                  <a:pt x="1449" y="6967"/>
                </a:lnTo>
                <a:lnTo>
                  <a:pt x="1349" y="7135"/>
                </a:lnTo>
                <a:lnTo>
                  <a:pt x="1244" y="7289"/>
                </a:lnTo>
                <a:lnTo>
                  <a:pt x="1134" y="7432"/>
                </a:lnTo>
                <a:lnTo>
                  <a:pt x="1020" y="7560"/>
                </a:lnTo>
                <a:lnTo>
                  <a:pt x="901" y="7676"/>
                </a:lnTo>
                <a:lnTo>
                  <a:pt x="780" y="7776"/>
                </a:lnTo>
                <a:lnTo>
                  <a:pt x="655" y="7862"/>
                </a:lnTo>
                <a:lnTo>
                  <a:pt x="527" y="7933"/>
                </a:lnTo>
                <a:lnTo>
                  <a:pt x="397" y="7988"/>
                </a:lnTo>
                <a:lnTo>
                  <a:pt x="266" y="8027"/>
                </a:lnTo>
                <a:lnTo>
                  <a:pt x="134" y="8052"/>
                </a:lnTo>
                <a:lnTo>
                  <a:pt x="0" y="8059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Freeform 120"/>
          <p:cNvSpPr/>
          <p:nvPr/>
        </p:nvSpPr>
        <p:spPr>
          <a:xfrm>
            <a:off x="3762360" y="1125360"/>
            <a:ext cx="423720" cy="1660680"/>
          </a:xfrm>
          <a:custGeom>
            <a:avLst/>
            <a:gdLst>
              <a:gd name="textAreaLeft" fmla="*/ 0 w 423720"/>
              <a:gd name="textAreaRight" fmla="*/ 424080 w 42372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2116" h="8059">
                <a:moveTo>
                  <a:pt x="2116" y="0"/>
                </a:moveTo>
                <a:lnTo>
                  <a:pt x="1983" y="9"/>
                </a:lnTo>
                <a:lnTo>
                  <a:pt x="1851" y="32"/>
                </a:lnTo>
                <a:lnTo>
                  <a:pt x="1719" y="72"/>
                </a:lnTo>
                <a:lnTo>
                  <a:pt x="1590" y="127"/>
                </a:lnTo>
                <a:lnTo>
                  <a:pt x="1462" y="198"/>
                </a:lnTo>
                <a:lnTo>
                  <a:pt x="1337" y="284"/>
                </a:lnTo>
                <a:lnTo>
                  <a:pt x="1215" y="385"/>
                </a:lnTo>
                <a:lnTo>
                  <a:pt x="1097" y="499"/>
                </a:lnTo>
                <a:lnTo>
                  <a:pt x="982" y="628"/>
                </a:lnTo>
                <a:lnTo>
                  <a:pt x="872" y="770"/>
                </a:lnTo>
                <a:lnTo>
                  <a:pt x="767" y="926"/>
                </a:lnTo>
                <a:lnTo>
                  <a:pt x="668" y="1093"/>
                </a:lnTo>
                <a:lnTo>
                  <a:pt x="574" y="1272"/>
                </a:lnTo>
                <a:lnTo>
                  <a:pt x="486" y="1461"/>
                </a:lnTo>
                <a:lnTo>
                  <a:pt x="404" y="1662"/>
                </a:lnTo>
                <a:lnTo>
                  <a:pt x="329" y="1871"/>
                </a:lnTo>
                <a:lnTo>
                  <a:pt x="261" y="2089"/>
                </a:lnTo>
                <a:lnTo>
                  <a:pt x="201" y="2315"/>
                </a:lnTo>
                <a:lnTo>
                  <a:pt x="148" y="2547"/>
                </a:lnTo>
                <a:lnTo>
                  <a:pt x="104" y="2785"/>
                </a:lnTo>
                <a:lnTo>
                  <a:pt x="66" y="3027"/>
                </a:lnTo>
                <a:lnTo>
                  <a:pt x="37" y="3275"/>
                </a:lnTo>
                <a:lnTo>
                  <a:pt x="17" y="3525"/>
                </a:lnTo>
                <a:lnTo>
                  <a:pt x="4" y="3777"/>
                </a:lnTo>
                <a:lnTo>
                  <a:pt x="0" y="4030"/>
                </a:lnTo>
                <a:lnTo>
                  <a:pt x="4" y="4283"/>
                </a:lnTo>
                <a:lnTo>
                  <a:pt x="17" y="4535"/>
                </a:lnTo>
                <a:lnTo>
                  <a:pt x="37" y="4785"/>
                </a:lnTo>
                <a:lnTo>
                  <a:pt x="66" y="5032"/>
                </a:lnTo>
                <a:lnTo>
                  <a:pt x="104" y="5275"/>
                </a:lnTo>
                <a:lnTo>
                  <a:pt x="148" y="5514"/>
                </a:lnTo>
                <a:lnTo>
                  <a:pt x="201" y="5745"/>
                </a:lnTo>
                <a:lnTo>
                  <a:pt x="261" y="5971"/>
                </a:lnTo>
                <a:lnTo>
                  <a:pt x="329" y="6189"/>
                </a:lnTo>
                <a:lnTo>
                  <a:pt x="404" y="6399"/>
                </a:lnTo>
                <a:lnTo>
                  <a:pt x="486" y="6598"/>
                </a:lnTo>
                <a:lnTo>
                  <a:pt x="574" y="6788"/>
                </a:lnTo>
                <a:lnTo>
                  <a:pt x="668" y="6967"/>
                </a:lnTo>
                <a:lnTo>
                  <a:pt x="767" y="7135"/>
                </a:lnTo>
                <a:lnTo>
                  <a:pt x="872" y="7289"/>
                </a:lnTo>
                <a:lnTo>
                  <a:pt x="982" y="7432"/>
                </a:lnTo>
                <a:lnTo>
                  <a:pt x="1097" y="7560"/>
                </a:lnTo>
                <a:lnTo>
                  <a:pt x="1215" y="7676"/>
                </a:lnTo>
                <a:lnTo>
                  <a:pt x="1337" y="7776"/>
                </a:lnTo>
                <a:lnTo>
                  <a:pt x="1462" y="7862"/>
                </a:lnTo>
                <a:lnTo>
                  <a:pt x="1590" y="7933"/>
                </a:lnTo>
                <a:lnTo>
                  <a:pt x="1719" y="7988"/>
                </a:lnTo>
                <a:lnTo>
                  <a:pt x="1851" y="8027"/>
                </a:lnTo>
                <a:lnTo>
                  <a:pt x="1983" y="8052"/>
                </a:lnTo>
                <a:lnTo>
                  <a:pt x="2116" y="8059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Freeform 121"/>
          <p:cNvSpPr/>
          <p:nvPr/>
        </p:nvSpPr>
        <p:spPr>
          <a:xfrm>
            <a:off x="942840" y="1125360"/>
            <a:ext cx="192240" cy="88920"/>
          </a:xfrm>
          <a:custGeom>
            <a:avLst/>
            <a:gdLst>
              <a:gd name="textAreaLeft" fmla="*/ 0 w 192240"/>
              <a:gd name="textAreaRight" fmla="*/ 192600 w 1922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956" h="435">
                <a:moveTo>
                  <a:pt x="956" y="0"/>
                </a:moveTo>
                <a:lnTo>
                  <a:pt x="833" y="8"/>
                </a:lnTo>
                <a:lnTo>
                  <a:pt x="709" y="28"/>
                </a:lnTo>
                <a:lnTo>
                  <a:pt x="586" y="63"/>
                </a:lnTo>
                <a:lnTo>
                  <a:pt x="465" y="110"/>
                </a:lnTo>
                <a:lnTo>
                  <a:pt x="345" y="172"/>
                </a:lnTo>
                <a:lnTo>
                  <a:pt x="228" y="247"/>
                </a:lnTo>
                <a:lnTo>
                  <a:pt x="113" y="335"/>
                </a:lnTo>
                <a:lnTo>
                  <a:pt x="0" y="435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Line 122"/>
          <p:cNvSpPr/>
          <p:nvPr/>
        </p:nvSpPr>
        <p:spPr>
          <a:xfrm>
            <a:off x="942840" y="1214280"/>
            <a:ext cx="3052800" cy="18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Line 123"/>
          <p:cNvSpPr/>
          <p:nvPr/>
        </p:nvSpPr>
        <p:spPr>
          <a:xfrm flipH="1">
            <a:off x="942840" y="2695680"/>
            <a:ext cx="3052800" cy="144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Freeform 124"/>
          <p:cNvSpPr/>
          <p:nvPr/>
        </p:nvSpPr>
        <p:spPr>
          <a:xfrm>
            <a:off x="711360" y="1214280"/>
            <a:ext cx="231480" cy="1481400"/>
          </a:xfrm>
          <a:custGeom>
            <a:avLst/>
            <a:gdLst>
              <a:gd name="textAreaLeft" fmla="*/ 0 w 231480"/>
              <a:gd name="textAreaRight" fmla="*/ 231840 w 231480"/>
              <a:gd name="textAreaTop" fmla="*/ 0 h 1481400"/>
              <a:gd name="textAreaBottom" fmla="*/ 1481760 h 1481400"/>
            </a:gdLst>
            <a:ahLst/>
            <a:rect l="textAreaLeft" t="textAreaTop" r="textAreaRight" b="textAreaBottom"/>
            <a:pathLst>
              <a:path w="1159" h="7190">
                <a:moveTo>
                  <a:pt x="1159" y="0"/>
                </a:moveTo>
                <a:lnTo>
                  <a:pt x="1043" y="121"/>
                </a:lnTo>
                <a:lnTo>
                  <a:pt x="930" y="257"/>
                </a:lnTo>
                <a:lnTo>
                  <a:pt x="822" y="406"/>
                </a:lnTo>
                <a:lnTo>
                  <a:pt x="719" y="567"/>
                </a:lnTo>
                <a:lnTo>
                  <a:pt x="621" y="741"/>
                </a:lnTo>
                <a:lnTo>
                  <a:pt x="530" y="925"/>
                </a:lnTo>
                <a:lnTo>
                  <a:pt x="445" y="1121"/>
                </a:lnTo>
                <a:lnTo>
                  <a:pt x="366" y="1325"/>
                </a:lnTo>
                <a:lnTo>
                  <a:pt x="294" y="1539"/>
                </a:lnTo>
                <a:lnTo>
                  <a:pt x="231" y="1761"/>
                </a:lnTo>
                <a:lnTo>
                  <a:pt x="174" y="1991"/>
                </a:lnTo>
                <a:lnTo>
                  <a:pt x="125" y="2227"/>
                </a:lnTo>
                <a:lnTo>
                  <a:pt x="84" y="2469"/>
                </a:lnTo>
                <a:lnTo>
                  <a:pt x="50" y="2714"/>
                </a:lnTo>
                <a:lnTo>
                  <a:pt x="25" y="2963"/>
                </a:lnTo>
                <a:lnTo>
                  <a:pt x="8" y="3215"/>
                </a:lnTo>
                <a:lnTo>
                  <a:pt x="0" y="3468"/>
                </a:lnTo>
                <a:lnTo>
                  <a:pt x="0" y="3722"/>
                </a:lnTo>
                <a:lnTo>
                  <a:pt x="8" y="3975"/>
                </a:lnTo>
                <a:lnTo>
                  <a:pt x="25" y="4227"/>
                </a:lnTo>
                <a:lnTo>
                  <a:pt x="50" y="4476"/>
                </a:lnTo>
                <a:lnTo>
                  <a:pt x="84" y="4722"/>
                </a:lnTo>
                <a:lnTo>
                  <a:pt x="125" y="4963"/>
                </a:lnTo>
                <a:lnTo>
                  <a:pt x="174" y="5199"/>
                </a:lnTo>
                <a:lnTo>
                  <a:pt x="231" y="5428"/>
                </a:lnTo>
                <a:lnTo>
                  <a:pt x="295" y="5650"/>
                </a:lnTo>
                <a:lnTo>
                  <a:pt x="366" y="5864"/>
                </a:lnTo>
                <a:lnTo>
                  <a:pt x="445" y="6070"/>
                </a:lnTo>
                <a:lnTo>
                  <a:pt x="530" y="6264"/>
                </a:lnTo>
                <a:lnTo>
                  <a:pt x="621" y="6450"/>
                </a:lnTo>
                <a:lnTo>
                  <a:pt x="719" y="6623"/>
                </a:lnTo>
                <a:lnTo>
                  <a:pt x="822" y="6784"/>
                </a:lnTo>
                <a:lnTo>
                  <a:pt x="930" y="6933"/>
                </a:lnTo>
                <a:lnTo>
                  <a:pt x="1043" y="7068"/>
                </a:lnTo>
                <a:lnTo>
                  <a:pt x="1159" y="7190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Freeform 125"/>
          <p:cNvSpPr/>
          <p:nvPr/>
        </p:nvSpPr>
        <p:spPr>
          <a:xfrm>
            <a:off x="942840" y="2695680"/>
            <a:ext cx="192240" cy="90360"/>
          </a:xfrm>
          <a:custGeom>
            <a:avLst/>
            <a:gdLst>
              <a:gd name="textAreaLeft" fmla="*/ 0 w 192240"/>
              <a:gd name="textAreaRight" fmla="*/ 192600 w 1922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956" h="434">
                <a:moveTo>
                  <a:pt x="0" y="0"/>
                </a:moveTo>
                <a:lnTo>
                  <a:pt x="113" y="100"/>
                </a:lnTo>
                <a:lnTo>
                  <a:pt x="228" y="188"/>
                </a:lnTo>
                <a:lnTo>
                  <a:pt x="345" y="262"/>
                </a:lnTo>
                <a:lnTo>
                  <a:pt x="465" y="324"/>
                </a:lnTo>
                <a:lnTo>
                  <a:pt x="586" y="373"/>
                </a:lnTo>
                <a:lnTo>
                  <a:pt x="709" y="406"/>
                </a:lnTo>
                <a:lnTo>
                  <a:pt x="833" y="428"/>
                </a:lnTo>
                <a:lnTo>
                  <a:pt x="956" y="434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Line 126"/>
          <p:cNvSpPr/>
          <p:nvPr/>
        </p:nvSpPr>
        <p:spPr>
          <a:xfrm>
            <a:off x="785880" y="1486080"/>
            <a:ext cx="305100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Line 127"/>
          <p:cNvSpPr/>
          <p:nvPr/>
        </p:nvSpPr>
        <p:spPr>
          <a:xfrm>
            <a:off x="719280" y="1797120"/>
            <a:ext cx="3052800" cy="144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Line 128"/>
          <p:cNvSpPr/>
          <p:nvPr/>
        </p:nvSpPr>
        <p:spPr>
          <a:xfrm>
            <a:off x="719280" y="2114640"/>
            <a:ext cx="3052800" cy="144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Line 129"/>
          <p:cNvSpPr/>
          <p:nvPr/>
        </p:nvSpPr>
        <p:spPr>
          <a:xfrm>
            <a:off x="785880" y="2425680"/>
            <a:ext cx="305100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Freeform 130"/>
          <p:cNvSpPr/>
          <p:nvPr/>
        </p:nvSpPr>
        <p:spPr>
          <a:xfrm>
            <a:off x="3457440" y="1125360"/>
            <a:ext cx="424080" cy="1660680"/>
          </a:xfrm>
          <a:custGeom>
            <a:avLst/>
            <a:gdLst>
              <a:gd name="textAreaLeft" fmla="*/ 0 w 424080"/>
              <a:gd name="textAreaRight" fmla="*/ 424440 w 42408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2117" h="8059">
                <a:moveTo>
                  <a:pt x="2117" y="0"/>
                </a:moveTo>
                <a:lnTo>
                  <a:pt x="1984" y="9"/>
                </a:lnTo>
                <a:lnTo>
                  <a:pt x="1852" y="32"/>
                </a:lnTo>
                <a:lnTo>
                  <a:pt x="1721" y="72"/>
                </a:lnTo>
                <a:lnTo>
                  <a:pt x="1590" y="127"/>
                </a:lnTo>
                <a:lnTo>
                  <a:pt x="1462" y="198"/>
                </a:lnTo>
                <a:lnTo>
                  <a:pt x="1337" y="284"/>
                </a:lnTo>
                <a:lnTo>
                  <a:pt x="1216" y="385"/>
                </a:lnTo>
                <a:lnTo>
                  <a:pt x="1097" y="499"/>
                </a:lnTo>
                <a:lnTo>
                  <a:pt x="983" y="628"/>
                </a:lnTo>
                <a:lnTo>
                  <a:pt x="873" y="770"/>
                </a:lnTo>
                <a:lnTo>
                  <a:pt x="768" y="926"/>
                </a:lnTo>
                <a:lnTo>
                  <a:pt x="668" y="1093"/>
                </a:lnTo>
                <a:lnTo>
                  <a:pt x="574" y="1272"/>
                </a:lnTo>
                <a:lnTo>
                  <a:pt x="486" y="1461"/>
                </a:lnTo>
                <a:lnTo>
                  <a:pt x="405" y="1662"/>
                </a:lnTo>
                <a:lnTo>
                  <a:pt x="329" y="1871"/>
                </a:lnTo>
                <a:lnTo>
                  <a:pt x="262" y="2089"/>
                </a:lnTo>
                <a:lnTo>
                  <a:pt x="201" y="2315"/>
                </a:lnTo>
                <a:lnTo>
                  <a:pt x="148" y="2547"/>
                </a:lnTo>
                <a:lnTo>
                  <a:pt x="104" y="2785"/>
                </a:lnTo>
                <a:lnTo>
                  <a:pt x="67" y="3027"/>
                </a:lnTo>
                <a:lnTo>
                  <a:pt x="38" y="3275"/>
                </a:lnTo>
                <a:lnTo>
                  <a:pt x="17" y="3525"/>
                </a:lnTo>
                <a:lnTo>
                  <a:pt x="4" y="3777"/>
                </a:lnTo>
                <a:lnTo>
                  <a:pt x="0" y="4030"/>
                </a:lnTo>
                <a:lnTo>
                  <a:pt x="4" y="4283"/>
                </a:lnTo>
                <a:lnTo>
                  <a:pt x="17" y="4535"/>
                </a:lnTo>
                <a:lnTo>
                  <a:pt x="38" y="4785"/>
                </a:lnTo>
                <a:lnTo>
                  <a:pt x="67" y="5032"/>
                </a:lnTo>
                <a:lnTo>
                  <a:pt x="104" y="5275"/>
                </a:lnTo>
                <a:lnTo>
                  <a:pt x="148" y="5514"/>
                </a:lnTo>
                <a:lnTo>
                  <a:pt x="201" y="5745"/>
                </a:lnTo>
                <a:lnTo>
                  <a:pt x="262" y="5971"/>
                </a:lnTo>
                <a:lnTo>
                  <a:pt x="329" y="6189"/>
                </a:lnTo>
                <a:lnTo>
                  <a:pt x="405" y="6399"/>
                </a:lnTo>
                <a:lnTo>
                  <a:pt x="486" y="6598"/>
                </a:lnTo>
                <a:lnTo>
                  <a:pt x="574" y="6788"/>
                </a:lnTo>
                <a:lnTo>
                  <a:pt x="668" y="6967"/>
                </a:lnTo>
                <a:lnTo>
                  <a:pt x="768" y="7135"/>
                </a:lnTo>
                <a:lnTo>
                  <a:pt x="873" y="7289"/>
                </a:lnTo>
                <a:lnTo>
                  <a:pt x="983" y="7432"/>
                </a:lnTo>
                <a:lnTo>
                  <a:pt x="1097" y="7560"/>
                </a:lnTo>
                <a:lnTo>
                  <a:pt x="1216" y="7676"/>
                </a:lnTo>
                <a:lnTo>
                  <a:pt x="1337" y="7776"/>
                </a:lnTo>
                <a:lnTo>
                  <a:pt x="1462" y="7862"/>
                </a:lnTo>
                <a:lnTo>
                  <a:pt x="1590" y="7933"/>
                </a:lnTo>
                <a:lnTo>
                  <a:pt x="1721" y="7988"/>
                </a:lnTo>
                <a:lnTo>
                  <a:pt x="1852" y="8027"/>
                </a:lnTo>
                <a:lnTo>
                  <a:pt x="1984" y="8052"/>
                </a:lnTo>
                <a:lnTo>
                  <a:pt x="2117" y="805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Freeform 131"/>
          <p:cNvSpPr/>
          <p:nvPr/>
        </p:nvSpPr>
        <p:spPr>
          <a:xfrm>
            <a:off x="3152880" y="1125360"/>
            <a:ext cx="423720" cy="1660680"/>
          </a:xfrm>
          <a:custGeom>
            <a:avLst/>
            <a:gdLst>
              <a:gd name="textAreaLeft" fmla="*/ 0 w 423720"/>
              <a:gd name="textAreaRight" fmla="*/ 424080 w 42372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2117" h="8059">
                <a:moveTo>
                  <a:pt x="2117" y="0"/>
                </a:moveTo>
                <a:lnTo>
                  <a:pt x="1985" y="9"/>
                </a:lnTo>
                <a:lnTo>
                  <a:pt x="1852" y="32"/>
                </a:lnTo>
                <a:lnTo>
                  <a:pt x="1721" y="72"/>
                </a:lnTo>
                <a:lnTo>
                  <a:pt x="1591" y="127"/>
                </a:lnTo>
                <a:lnTo>
                  <a:pt x="1464" y="198"/>
                </a:lnTo>
                <a:lnTo>
                  <a:pt x="1338" y="284"/>
                </a:lnTo>
                <a:lnTo>
                  <a:pt x="1216" y="385"/>
                </a:lnTo>
                <a:lnTo>
                  <a:pt x="1097" y="499"/>
                </a:lnTo>
                <a:lnTo>
                  <a:pt x="983" y="628"/>
                </a:lnTo>
                <a:lnTo>
                  <a:pt x="873" y="770"/>
                </a:lnTo>
                <a:lnTo>
                  <a:pt x="768" y="926"/>
                </a:lnTo>
                <a:lnTo>
                  <a:pt x="668" y="1093"/>
                </a:lnTo>
                <a:lnTo>
                  <a:pt x="574" y="1272"/>
                </a:lnTo>
                <a:lnTo>
                  <a:pt x="486" y="1461"/>
                </a:lnTo>
                <a:lnTo>
                  <a:pt x="405" y="1662"/>
                </a:lnTo>
                <a:lnTo>
                  <a:pt x="330" y="1871"/>
                </a:lnTo>
                <a:lnTo>
                  <a:pt x="263" y="2089"/>
                </a:lnTo>
                <a:lnTo>
                  <a:pt x="203" y="2315"/>
                </a:lnTo>
                <a:lnTo>
                  <a:pt x="150" y="2547"/>
                </a:lnTo>
                <a:lnTo>
                  <a:pt x="104" y="2785"/>
                </a:lnTo>
                <a:lnTo>
                  <a:pt x="67" y="3027"/>
                </a:lnTo>
                <a:lnTo>
                  <a:pt x="38" y="3275"/>
                </a:lnTo>
                <a:lnTo>
                  <a:pt x="17" y="3525"/>
                </a:lnTo>
                <a:lnTo>
                  <a:pt x="5" y="3777"/>
                </a:lnTo>
                <a:lnTo>
                  <a:pt x="0" y="4030"/>
                </a:lnTo>
                <a:lnTo>
                  <a:pt x="5" y="4283"/>
                </a:lnTo>
                <a:lnTo>
                  <a:pt x="17" y="4535"/>
                </a:lnTo>
                <a:lnTo>
                  <a:pt x="38" y="4785"/>
                </a:lnTo>
                <a:lnTo>
                  <a:pt x="67" y="5032"/>
                </a:lnTo>
                <a:lnTo>
                  <a:pt x="104" y="5275"/>
                </a:lnTo>
                <a:lnTo>
                  <a:pt x="150" y="5514"/>
                </a:lnTo>
                <a:lnTo>
                  <a:pt x="203" y="5745"/>
                </a:lnTo>
                <a:lnTo>
                  <a:pt x="263" y="5971"/>
                </a:lnTo>
                <a:lnTo>
                  <a:pt x="330" y="6189"/>
                </a:lnTo>
                <a:lnTo>
                  <a:pt x="405" y="6399"/>
                </a:lnTo>
                <a:lnTo>
                  <a:pt x="486" y="6598"/>
                </a:lnTo>
                <a:lnTo>
                  <a:pt x="574" y="6788"/>
                </a:lnTo>
                <a:lnTo>
                  <a:pt x="668" y="6967"/>
                </a:lnTo>
                <a:lnTo>
                  <a:pt x="768" y="7135"/>
                </a:lnTo>
                <a:lnTo>
                  <a:pt x="873" y="7289"/>
                </a:lnTo>
                <a:lnTo>
                  <a:pt x="983" y="7432"/>
                </a:lnTo>
                <a:lnTo>
                  <a:pt x="1097" y="7560"/>
                </a:lnTo>
                <a:lnTo>
                  <a:pt x="1216" y="7676"/>
                </a:lnTo>
                <a:lnTo>
                  <a:pt x="1338" y="7776"/>
                </a:lnTo>
                <a:lnTo>
                  <a:pt x="1464" y="7862"/>
                </a:lnTo>
                <a:lnTo>
                  <a:pt x="1591" y="7933"/>
                </a:lnTo>
                <a:lnTo>
                  <a:pt x="1721" y="7988"/>
                </a:lnTo>
                <a:lnTo>
                  <a:pt x="1852" y="8027"/>
                </a:lnTo>
                <a:lnTo>
                  <a:pt x="1985" y="8052"/>
                </a:lnTo>
                <a:lnTo>
                  <a:pt x="2117" y="805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Freeform 132"/>
          <p:cNvSpPr/>
          <p:nvPr/>
        </p:nvSpPr>
        <p:spPr>
          <a:xfrm>
            <a:off x="2847960" y="1125360"/>
            <a:ext cx="423720" cy="1660680"/>
          </a:xfrm>
          <a:custGeom>
            <a:avLst/>
            <a:gdLst>
              <a:gd name="textAreaLeft" fmla="*/ 0 w 423720"/>
              <a:gd name="textAreaRight" fmla="*/ 424080 w 42372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2117" h="8059">
                <a:moveTo>
                  <a:pt x="2117" y="0"/>
                </a:moveTo>
                <a:lnTo>
                  <a:pt x="1984" y="9"/>
                </a:lnTo>
                <a:lnTo>
                  <a:pt x="1852" y="32"/>
                </a:lnTo>
                <a:lnTo>
                  <a:pt x="1720" y="72"/>
                </a:lnTo>
                <a:lnTo>
                  <a:pt x="1590" y="127"/>
                </a:lnTo>
                <a:lnTo>
                  <a:pt x="1463" y="198"/>
                </a:lnTo>
                <a:lnTo>
                  <a:pt x="1338" y="284"/>
                </a:lnTo>
                <a:lnTo>
                  <a:pt x="1215" y="385"/>
                </a:lnTo>
                <a:lnTo>
                  <a:pt x="1097" y="499"/>
                </a:lnTo>
                <a:lnTo>
                  <a:pt x="982" y="628"/>
                </a:lnTo>
                <a:lnTo>
                  <a:pt x="873" y="770"/>
                </a:lnTo>
                <a:lnTo>
                  <a:pt x="767" y="926"/>
                </a:lnTo>
                <a:lnTo>
                  <a:pt x="668" y="1093"/>
                </a:lnTo>
                <a:lnTo>
                  <a:pt x="574" y="1272"/>
                </a:lnTo>
                <a:lnTo>
                  <a:pt x="486" y="1461"/>
                </a:lnTo>
                <a:lnTo>
                  <a:pt x="404" y="1662"/>
                </a:lnTo>
                <a:lnTo>
                  <a:pt x="330" y="1871"/>
                </a:lnTo>
                <a:lnTo>
                  <a:pt x="262" y="2089"/>
                </a:lnTo>
                <a:lnTo>
                  <a:pt x="202" y="2315"/>
                </a:lnTo>
                <a:lnTo>
                  <a:pt x="149" y="2547"/>
                </a:lnTo>
                <a:lnTo>
                  <a:pt x="103" y="2785"/>
                </a:lnTo>
                <a:lnTo>
                  <a:pt x="66" y="3027"/>
                </a:lnTo>
                <a:lnTo>
                  <a:pt x="38" y="3275"/>
                </a:lnTo>
                <a:lnTo>
                  <a:pt x="17" y="3525"/>
                </a:lnTo>
                <a:lnTo>
                  <a:pt x="4" y="3777"/>
                </a:lnTo>
                <a:lnTo>
                  <a:pt x="0" y="4030"/>
                </a:lnTo>
                <a:lnTo>
                  <a:pt x="4" y="4283"/>
                </a:lnTo>
                <a:lnTo>
                  <a:pt x="17" y="4535"/>
                </a:lnTo>
                <a:lnTo>
                  <a:pt x="38" y="4785"/>
                </a:lnTo>
                <a:lnTo>
                  <a:pt x="66" y="5032"/>
                </a:lnTo>
                <a:lnTo>
                  <a:pt x="103" y="5275"/>
                </a:lnTo>
                <a:lnTo>
                  <a:pt x="149" y="5514"/>
                </a:lnTo>
                <a:lnTo>
                  <a:pt x="202" y="5745"/>
                </a:lnTo>
                <a:lnTo>
                  <a:pt x="262" y="5971"/>
                </a:lnTo>
                <a:lnTo>
                  <a:pt x="330" y="6189"/>
                </a:lnTo>
                <a:lnTo>
                  <a:pt x="404" y="6399"/>
                </a:lnTo>
                <a:lnTo>
                  <a:pt x="486" y="6598"/>
                </a:lnTo>
                <a:lnTo>
                  <a:pt x="574" y="6788"/>
                </a:lnTo>
                <a:lnTo>
                  <a:pt x="668" y="6967"/>
                </a:lnTo>
                <a:lnTo>
                  <a:pt x="767" y="7135"/>
                </a:lnTo>
                <a:lnTo>
                  <a:pt x="873" y="7289"/>
                </a:lnTo>
                <a:lnTo>
                  <a:pt x="982" y="7432"/>
                </a:lnTo>
                <a:lnTo>
                  <a:pt x="1097" y="7560"/>
                </a:lnTo>
                <a:lnTo>
                  <a:pt x="1215" y="7676"/>
                </a:lnTo>
                <a:lnTo>
                  <a:pt x="1338" y="7776"/>
                </a:lnTo>
                <a:lnTo>
                  <a:pt x="1463" y="7862"/>
                </a:lnTo>
                <a:lnTo>
                  <a:pt x="1590" y="7933"/>
                </a:lnTo>
                <a:lnTo>
                  <a:pt x="1720" y="7988"/>
                </a:lnTo>
                <a:lnTo>
                  <a:pt x="1852" y="8027"/>
                </a:lnTo>
                <a:lnTo>
                  <a:pt x="1984" y="8052"/>
                </a:lnTo>
                <a:lnTo>
                  <a:pt x="2117" y="805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Freeform 133"/>
          <p:cNvSpPr/>
          <p:nvPr/>
        </p:nvSpPr>
        <p:spPr>
          <a:xfrm>
            <a:off x="2543040" y="1125360"/>
            <a:ext cx="424080" cy="1660680"/>
          </a:xfrm>
          <a:custGeom>
            <a:avLst/>
            <a:gdLst>
              <a:gd name="textAreaLeft" fmla="*/ 0 w 424080"/>
              <a:gd name="textAreaRight" fmla="*/ 424440 w 42408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2117" h="8059">
                <a:moveTo>
                  <a:pt x="2117" y="0"/>
                </a:moveTo>
                <a:lnTo>
                  <a:pt x="1983" y="9"/>
                </a:lnTo>
                <a:lnTo>
                  <a:pt x="1851" y="32"/>
                </a:lnTo>
                <a:lnTo>
                  <a:pt x="1720" y="72"/>
                </a:lnTo>
                <a:lnTo>
                  <a:pt x="1590" y="127"/>
                </a:lnTo>
                <a:lnTo>
                  <a:pt x="1462" y="198"/>
                </a:lnTo>
                <a:lnTo>
                  <a:pt x="1337" y="284"/>
                </a:lnTo>
                <a:lnTo>
                  <a:pt x="1216" y="385"/>
                </a:lnTo>
                <a:lnTo>
                  <a:pt x="1097" y="499"/>
                </a:lnTo>
                <a:lnTo>
                  <a:pt x="983" y="628"/>
                </a:lnTo>
                <a:lnTo>
                  <a:pt x="872" y="770"/>
                </a:lnTo>
                <a:lnTo>
                  <a:pt x="767" y="926"/>
                </a:lnTo>
                <a:lnTo>
                  <a:pt x="667" y="1093"/>
                </a:lnTo>
                <a:lnTo>
                  <a:pt x="573" y="1272"/>
                </a:lnTo>
                <a:lnTo>
                  <a:pt x="485" y="1461"/>
                </a:lnTo>
                <a:lnTo>
                  <a:pt x="403" y="1662"/>
                </a:lnTo>
                <a:lnTo>
                  <a:pt x="329" y="1871"/>
                </a:lnTo>
                <a:lnTo>
                  <a:pt x="262" y="2089"/>
                </a:lnTo>
                <a:lnTo>
                  <a:pt x="201" y="2315"/>
                </a:lnTo>
                <a:lnTo>
                  <a:pt x="148" y="2547"/>
                </a:lnTo>
                <a:lnTo>
                  <a:pt x="104" y="2785"/>
                </a:lnTo>
                <a:lnTo>
                  <a:pt x="66" y="3027"/>
                </a:lnTo>
                <a:lnTo>
                  <a:pt x="37" y="3275"/>
                </a:lnTo>
                <a:lnTo>
                  <a:pt x="16" y="3525"/>
                </a:lnTo>
                <a:lnTo>
                  <a:pt x="4" y="3777"/>
                </a:lnTo>
                <a:lnTo>
                  <a:pt x="0" y="4030"/>
                </a:lnTo>
                <a:lnTo>
                  <a:pt x="4" y="4283"/>
                </a:lnTo>
                <a:lnTo>
                  <a:pt x="16" y="4535"/>
                </a:lnTo>
                <a:lnTo>
                  <a:pt x="37" y="4785"/>
                </a:lnTo>
                <a:lnTo>
                  <a:pt x="66" y="5032"/>
                </a:lnTo>
                <a:lnTo>
                  <a:pt x="104" y="5275"/>
                </a:lnTo>
                <a:lnTo>
                  <a:pt x="148" y="5514"/>
                </a:lnTo>
                <a:lnTo>
                  <a:pt x="201" y="5745"/>
                </a:lnTo>
                <a:lnTo>
                  <a:pt x="262" y="5971"/>
                </a:lnTo>
                <a:lnTo>
                  <a:pt x="329" y="6189"/>
                </a:lnTo>
                <a:lnTo>
                  <a:pt x="403" y="6399"/>
                </a:lnTo>
                <a:lnTo>
                  <a:pt x="485" y="6598"/>
                </a:lnTo>
                <a:lnTo>
                  <a:pt x="573" y="6788"/>
                </a:lnTo>
                <a:lnTo>
                  <a:pt x="667" y="6967"/>
                </a:lnTo>
                <a:lnTo>
                  <a:pt x="767" y="7135"/>
                </a:lnTo>
                <a:lnTo>
                  <a:pt x="872" y="7289"/>
                </a:lnTo>
                <a:lnTo>
                  <a:pt x="983" y="7432"/>
                </a:lnTo>
                <a:lnTo>
                  <a:pt x="1097" y="7560"/>
                </a:lnTo>
                <a:lnTo>
                  <a:pt x="1216" y="7676"/>
                </a:lnTo>
                <a:lnTo>
                  <a:pt x="1337" y="7776"/>
                </a:lnTo>
                <a:lnTo>
                  <a:pt x="1462" y="7862"/>
                </a:lnTo>
                <a:lnTo>
                  <a:pt x="1590" y="7933"/>
                </a:lnTo>
                <a:lnTo>
                  <a:pt x="1720" y="7988"/>
                </a:lnTo>
                <a:lnTo>
                  <a:pt x="1851" y="8027"/>
                </a:lnTo>
                <a:lnTo>
                  <a:pt x="1983" y="8052"/>
                </a:lnTo>
                <a:lnTo>
                  <a:pt x="2117" y="805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Freeform 134"/>
          <p:cNvSpPr/>
          <p:nvPr/>
        </p:nvSpPr>
        <p:spPr>
          <a:xfrm>
            <a:off x="2236680" y="1125360"/>
            <a:ext cx="424080" cy="1660680"/>
          </a:xfrm>
          <a:custGeom>
            <a:avLst/>
            <a:gdLst>
              <a:gd name="textAreaLeft" fmla="*/ 0 w 424080"/>
              <a:gd name="textAreaRight" fmla="*/ 424440 w 42408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2117" h="8059">
                <a:moveTo>
                  <a:pt x="2117" y="0"/>
                </a:moveTo>
                <a:lnTo>
                  <a:pt x="1983" y="9"/>
                </a:lnTo>
                <a:lnTo>
                  <a:pt x="1851" y="32"/>
                </a:lnTo>
                <a:lnTo>
                  <a:pt x="1720" y="72"/>
                </a:lnTo>
                <a:lnTo>
                  <a:pt x="1591" y="127"/>
                </a:lnTo>
                <a:lnTo>
                  <a:pt x="1463" y="198"/>
                </a:lnTo>
                <a:lnTo>
                  <a:pt x="1338" y="284"/>
                </a:lnTo>
                <a:lnTo>
                  <a:pt x="1216" y="385"/>
                </a:lnTo>
                <a:lnTo>
                  <a:pt x="1097" y="499"/>
                </a:lnTo>
                <a:lnTo>
                  <a:pt x="983" y="628"/>
                </a:lnTo>
                <a:lnTo>
                  <a:pt x="873" y="770"/>
                </a:lnTo>
                <a:lnTo>
                  <a:pt x="768" y="926"/>
                </a:lnTo>
                <a:lnTo>
                  <a:pt x="667" y="1093"/>
                </a:lnTo>
                <a:lnTo>
                  <a:pt x="574" y="1272"/>
                </a:lnTo>
                <a:lnTo>
                  <a:pt x="486" y="1461"/>
                </a:lnTo>
                <a:lnTo>
                  <a:pt x="405" y="1662"/>
                </a:lnTo>
                <a:lnTo>
                  <a:pt x="330" y="1871"/>
                </a:lnTo>
                <a:lnTo>
                  <a:pt x="262" y="2089"/>
                </a:lnTo>
                <a:lnTo>
                  <a:pt x="201" y="2315"/>
                </a:lnTo>
                <a:lnTo>
                  <a:pt x="149" y="2547"/>
                </a:lnTo>
                <a:lnTo>
                  <a:pt x="104" y="2785"/>
                </a:lnTo>
                <a:lnTo>
                  <a:pt x="67" y="3027"/>
                </a:lnTo>
                <a:lnTo>
                  <a:pt x="37" y="3275"/>
                </a:lnTo>
                <a:lnTo>
                  <a:pt x="17" y="3525"/>
                </a:lnTo>
                <a:lnTo>
                  <a:pt x="5" y="3777"/>
                </a:lnTo>
                <a:lnTo>
                  <a:pt x="0" y="4030"/>
                </a:lnTo>
                <a:lnTo>
                  <a:pt x="5" y="4283"/>
                </a:lnTo>
                <a:lnTo>
                  <a:pt x="17" y="4535"/>
                </a:lnTo>
                <a:lnTo>
                  <a:pt x="37" y="4785"/>
                </a:lnTo>
                <a:lnTo>
                  <a:pt x="67" y="5032"/>
                </a:lnTo>
                <a:lnTo>
                  <a:pt x="104" y="5275"/>
                </a:lnTo>
                <a:lnTo>
                  <a:pt x="149" y="5514"/>
                </a:lnTo>
                <a:lnTo>
                  <a:pt x="201" y="5745"/>
                </a:lnTo>
                <a:lnTo>
                  <a:pt x="262" y="5971"/>
                </a:lnTo>
                <a:lnTo>
                  <a:pt x="330" y="6189"/>
                </a:lnTo>
                <a:lnTo>
                  <a:pt x="405" y="6399"/>
                </a:lnTo>
                <a:lnTo>
                  <a:pt x="486" y="6598"/>
                </a:lnTo>
                <a:lnTo>
                  <a:pt x="574" y="6788"/>
                </a:lnTo>
                <a:lnTo>
                  <a:pt x="667" y="6967"/>
                </a:lnTo>
                <a:lnTo>
                  <a:pt x="768" y="7135"/>
                </a:lnTo>
                <a:lnTo>
                  <a:pt x="873" y="7289"/>
                </a:lnTo>
                <a:lnTo>
                  <a:pt x="983" y="7432"/>
                </a:lnTo>
                <a:lnTo>
                  <a:pt x="1097" y="7560"/>
                </a:lnTo>
                <a:lnTo>
                  <a:pt x="1216" y="7676"/>
                </a:lnTo>
                <a:lnTo>
                  <a:pt x="1338" y="7776"/>
                </a:lnTo>
                <a:lnTo>
                  <a:pt x="1463" y="7862"/>
                </a:lnTo>
                <a:lnTo>
                  <a:pt x="1591" y="7933"/>
                </a:lnTo>
                <a:lnTo>
                  <a:pt x="1720" y="7988"/>
                </a:lnTo>
                <a:lnTo>
                  <a:pt x="1851" y="8027"/>
                </a:lnTo>
                <a:lnTo>
                  <a:pt x="1983" y="8052"/>
                </a:lnTo>
                <a:lnTo>
                  <a:pt x="2117" y="805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Freeform 135"/>
          <p:cNvSpPr/>
          <p:nvPr/>
        </p:nvSpPr>
        <p:spPr>
          <a:xfrm>
            <a:off x="1932120" y="1125360"/>
            <a:ext cx="423720" cy="1660680"/>
          </a:xfrm>
          <a:custGeom>
            <a:avLst/>
            <a:gdLst>
              <a:gd name="textAreaLeft" fmla="*/ 0 w 423720"/>
              <a:gd name="textAreaRight" fmla="*/ 424080 w 42372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2116" h="8059">
                <a:moveTo>
                  <a:pt x="2116" y="0"/>
                </a:moveTo>
                <a:lnTo>
                  <a:pt x="1984" y="9"/>
                </a:lnTo>
                <a:lnTo>
                  <a:pt x="1851" y="32"/>
                </a:lnTo>
                <a:lnTo>
                  <a:pt x="1720" y="72"/>
                </a:lnTo>
                <a:lnTo>
                  <a:pt x="1590" y="127"/>
                </a:lnTo>
                <a:lnTo>
                  <a:pt x="1462" y="198"/>
                </a:lnTo>
                <a:lnTo>
                  <a:pt x="1337" y="284"/>
                </a:lnTo>
                <a:lnTo>
                  <a:pt x="1215" y="385"/>
                </a:lnTo>
                <a:lnTo>
                  <a:pt x="1097" y="499"/>
                </a:lnTo>
                <a:lnTo>
                  <a:pt x="982" y="628"/>
                </a:lnTo>
                <a:lnTo>
                  <a:pt x="872" y="770"/>
                </a:lnTo>
                <a:lnTo>
                  <a:pt x="767" y="926"/>
                </a:lnTo>
                <a:lnTo>
                  <a:pt x="668" y="1093"/>
                </a:lnTo>
                <a:lnTo>
                  <a:pt x="573" y="1272"/>
                </a:lnTo>
                <a:lnTo>
                  <a:pt x="486" y="1461"/>
                </a:lnTo>
                <a:lnTo>
                  <a:pt x="404" y="1662"/>
                </a:lnTo>
                <a:lnTo>
                  <a:pt x="329" y="1871"/>
                </a:lnTo>
                <a:lnTo>
                  <a:pt x="261" y="2089"/>
                </a:lnTo>
                <a:lnTo>
                  <a:pt x="201" y="2315"/>
                </a:lnTo>
                <a:lnTo>
                  <a:pt x="148" y="2547"/>
                </a:lnTo>
                <a:lnTo>
                  <a:pt x="103" y="2785"/>
                </a:lnTo>
                <a:lnTo>
                  <a:pt x="66" y="3027"/>
                </a:lnTo>
                <a:lnTo>
                  <a:pt x="37" y="3275"/>
                </a:lnTo>
                <a:lnTo>
                  <a:pt x="17" y="3525"/>
                </a:lnTo>
                <a:lnTo>
                  <a:pt x="4" y="3777"/>
                </a:lnTo>
                <a:lnTo>
                  <a:pt x="0" y="4030"/>
                </a:lnTo>
                <a:lnTo>
                  <a:pt x="4" y="4283"/>
                </a:lnTo>
                <a:lnTo>
                  <a:pt x="17" y="4535"/>
                </a:lnTo>
                <a:lnTo>
                  <a:pt x="37" y="4785"/>
                </a:lnTo>
                <a:lnTo>
                  <a:pt x="66" y="5032"/>
                </a:lnTo>
                <a:lnTo>
                  <a:pt x="103" y="5275"/>
                </a:lnTo>
                <a:lnTo>
                  <a:pt x="148" y="5514"/>
                </a:lnTo>
                <a:lnTo>
                  <a:pt x="201" y="5745"/>
                </a:lnTo>
                <a:lnTo>
                  <a:pt x="261" y="5971"/>
                </a:lnTo>
                <a:lnTo>
                  <a:pt x="329" y="6189"/>
                </a:lnTo>
                <a:lnTo>
                  <a:pt x="404" y="6399"/>
                </a:lnTo>
                <a:lnTo>
                  <a:pt x="486" y="6598"/>
                </a:lnTo>
                <a:lnTo>
                  <a:pt x="573" y="6788"/>
                </a:lnTo>
                <a:lnTo>
                  <a:pt x="668" y="6967"/>
                </a:lnTo>
                <a:lnTo>
                  <a:pt x="767" y="7135"/>
                </a:lnTo>
                <a:lnTo>
                  <a:pt x="872" y="7289"/>
                </a:lnTo>
                <a:lnTo>
                  <a:pt x="982" y="7432"/>
                </a:lnTo>
                <a:lnTo>
                  <a:pt x="1097" y="7560"/>
                </a:lnTo>
                <a:lnTo>
                  <a:pt x="1215" y="7676"/>
                </a:lnTo>
                <a:lnTo>
                  <a:pt x="1337" y="7776"/>
                </a:lnTo>
                <a:lnTo>
                  <a:pt x="1462" y="7862"/>
                </a:lnTo>
                <a:lnTo>
                  <a:pt x="1590" y="7933"/>
                </a:lnTo>
                <a:lnTo>
                  <a:pt x="1720" y="7988"/>
                </a:lnTo>
                <a:lnTo>
                  <a:pt x="1851" y="8027"/>
                </a:lnTo>
                <a:lnTo>
                  <a:pt x="1984" y="8052"/>
                </a:lnTo>
                <a:lnTo>
                  <a:pt x="2116" y="805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Freeform 136"/>
          <p:cNvSpPr/>
          <p:nvPr/>
        </p:nvSpPr>
        <p:spPr>
          <a:xfrm>
            <a:off x="1641600" y="1149480"/>
            <a:ext cx="422280" cy="1660320"/>
          </a:xfrm>
          <a:custGeom>
            <a:avLst/>
            <a:gdLst>
              <a:gd name="textAreaLeft" fmla="*/ 0 w 422280"/>
              <a:gd name="textAreaRight" fmla="*/ 422640 w 422280"/>
              <a:gd name="textAreaTop" fmla="*/ 0 h 1660320"/>
              <a:gd name="textAreaBottom" fmla="*/ 1660680 h 1660320"/>
            </a:gdLst>
            <a:ahLst/>
            <a:rect l="textAreaLeft" t="textAreaTop" r="textAreaRight" b="textAreaBottom"/>
            <a:pathLst>
              <a:path w="2116" h="8059">
                <a:moveTo>
                  <a:pt x="2116" y="0"/>
                </a:moveTo>
                <a:lnTo>
                  <a:pt x="1984" y="9"/>
                </a:lnTo>
                <a:lnTo>
                  <a:pt x="1852" y="32"/>
                </a:lnTo>
                <a:lnTo>
                  <a:pt x="1720" y="72"/>
                </a:lnTo>
                <a:lnTo>
                  <a:pt x="1590" y="127"/>
                </a:lnTo>
                <a:lnTo>
                  <a:pt x="1463" y="198"/>
                </a:lnTo>
                <a:lnTo>
                  <a:pt x="1337" y="284"/>
                </a:lnTo>
                <a:lnTo>
                  <a:pt x="1215" y="385"/>
                </a:lnTo>
                <a:lnTo>
                  <a:pt x="1097" y="499"/>
                </a:lnTo>
                <a:lnTo>
                  <a:pt x="982" y="628"/>
                </a:lnTo>
                <a:lnTo>
                  <a:pt x="872" y="770"/>
                </a:lnTo>
                <a:lnTo>
                  <a:pt x="768" y="926"/>
                </a:lnTo>
                <a:lnTo>
                  <a:pt x="668" y="1093"/>
                </a:lnTo>
                <a:lnTo>
                  <a:pt x="574" y="1272"/>
                </a:lnTo>
                <a:lnTo>
                  <a:pt x="486" y="1461"/>
                </a:lnTo>
                <a:lnTo>
                  <a:pt x="404" y="1662"/>
                </a:lnTo>
                <a:lnTo>
                  <a:pt x="329" y="1871"/>
                </a:lnTo>
                <a:lnTo>
                  <a:pt x="261" y="2089"/>
                </a:lnTo>
                <a:lnTo>
                  <a:pt x="201" y="2315"/>
                </a:lnTo>
                <a:lnTo>
                  <a:pt x="149" y="2547"/>
                </a:lnTo>
                <a:lnTo>
                  <a:pt x="104" y="2785"/>
                </a:lnTo>
                <a:lnTo>
                  <a:pt x="67" y="3027"/>
                </a:lnTo>
                <a:lnTo>
                  <a:pt x="38" y="3275"/>
                </a:lnTo>
                <a:lnTo>
                  <a:pt x="17" y="3525"/>
                </a:lnTo>
                <a:lnTo>
                  <a:pt x="4" y="3777"/>
                </a:lnTo>
                <a:lnTo>
                  <a:pt x="0" y="4030"/>
                </a:lnTo>
                <a:lnTo>
                  <a:pt x="4" y="4283"/>
                </a:lnTo>
                <a:lnTo>
                  <a:pt x="17" y="4535"/>
                </a:lnTo>
                <a:lnTo>
                  <a:pt x="38" y="4785"/>
                </a:lnTo>
                <a:lnTo>
                  <a:pt x="67" y="5032"/>
                </a:lnTo>
                <a:lnTo>
                  <a:pt x="104" y="5275"/>
                </a:lnTo>
                <a:lnTo>
                  <a:pt x="149" y="5514"/>
                </a:lnTo>
                <a:lnTo>
                  <a:pt x="201" y="5745"/>
                </a:lnTo>
                <a:lnTo>
                  <a:pt x="261" y="5971"/>
                </a:lnTo>
                <a:lnTo>
                  <a:pt x="329" y="6189"/>
                </a:lnTo>
                <a:lnTo>
                  <a:pt x="404" y="6399"/>
                </a:lnTo>
                <a:lnTo>
                  <a:pt x="486" y="6598"/>
                </a:lnTo>
                <a:lnTo>
                  <a:pt x="574" y="6788"/>
                </a:lnTo>
                <a:lnTo>
                  <a:pt x="668" y="6967"/>
                </a:lnTo>
                <a:lnTo>
                  <a:pt x="768" y="7135"/>
                </a:lnTo>
                <a:lnTo>
                  <a:pt x="872" y="7289"/>
                </a:lnTo>
                <a:lnTo>
                  <a:pt x="982" y="7432"/>
                </a:lnTo>
                <a:lnTo>
                  <a:pt x="1097" y="7560"/>
                </a:lnTo>
                <a:lnTo>
                  <a:pt x="1215" y="7676"/>
                </a:lnTo>
                <a:lnTo>
                  <a:pt x="1337" y="7776"/>
                </a:lnTo>
                <a:lnTo>
                  <a:pt x="1463" y="7862"/>
                </a:lnTo>
                <a:lnTo>
                  <a:pt x="1590" y="7933"/>
                </a:lnTo>
                <a:lnTo>
                  <a:pt x="1720" y="7988"/>
                </a:lnTo>
                <a:lnTo>
                  <a:pt x="1852" y="8027"/>
                </a:lnTo>
                <a:lnTo>
                  <a:pt x="1984" y="8052"/>
                </a:lnTo>
                <a:lnTo>
                  <a:pt x="2116" y="805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Freeform 137"/>
          <p:cNvSpPr/>
          <p:nvPr/>
        </p:nvSpPr>
        <p:spPr>
          <a:xfrm>
            <a:off x="1322280" y="1125360"/>
            <a:ext cx="422280" cy="1660680"/>
          </a:xfrm>
          <a:custGeom>
            <a:avLst/>
            <a:gdLst>
              <a:gd name="textAreaLeft" fmla="*/ 0 w 422280"/>
              <a:gd name="textAreaRight" fmla="*/ 422640 w 42228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2117" h="8059">
                <a:moveTo>
                  <a:pt x="2117" y="0"/>
                </a:moveTo>
                <a:lnTo>
                  <a:pt x="1984" y="9"/>
                </a:lnTo>
                <a:lnTo>
                  <a:pt x="1852" y="32"/>
                </a:lnTo>
                <a:lnTo>
                  <a:pt x="1721" y="72"/>
                </a:lnTo>
                <a:lnTo>
                  <a:pt x="1591" y="127"/>
                </a:lnTo>
                <a:lnTo>
                  <a:pt x="1463" y="198"/>
                </a:lnTo>
                <a:lnTo>
                  <a:pt x="1339" y="284"/>
                </a:lnTo>
                <a:lnTo>
                  <a:pt x="1216" y="385"/>
                </a:lnTo>
                <a:lnTo>
                  <a:pt x="1097" y="499"/>
                </a:lnTo>
                <a:lnTo>
                  <a:pt x="983" y="628"/>
                </a:lnTo>
                <a:lnTo>
                  <a:pt x="873" y="770"/>
                </a:lnTo>
                <a:lnTo>
                  <a:pt x="768" y="926"/>
                </a:lnTo>
                <a:lnTo>
                  <a:pt x="668" y="1093"/>
                </a:lnTo>
                <a:lnTo>
                  <a:pt x="574" y="1272"/>
                </a:lnTo>
                <a:lnTo>
                  <a:pt x="486" y="1461"/>
                </a:lnTo>
                <a:lnTo>
                  <a:pt x="405" y="1662"/>
                </a:lnTo>
                <a:lnTo>
                  <a:pt x="331" y="1871"/>
                </a:lnTo>
                <a:lnTo>
                  <a:pt x="263" y="2089"/>
                </a:lnTo>
                <a:lnTo>
                  <a:pt x="202" y="2315"/>
                </a:lnTo>
                <a:lnTo>
                  <a:pt x="149" y="2547"/>
                </a:lnTo>
                <a:lnTo>
                  <a:pt x="104" y="2785"/>
                </a:lnTo>
                <a:lnTo>
                  <a:pt x="67" y="3027"/>
                </a:lnTo>
                <a:lnTo>
                  <a:pt x="38" y="3275"/>
                </a:lnTo>
                <a:lnTo>
                  <a:pt x="17" y="3525"/>
                </a:lnTo>
                <a:lnTo>
                  <a:pt x="4" y="3777"/>
                </a:lnTo>
                <a:lnTo>
                  <a:pt x="0" y="4030"/>
                </a:lnTo>
                <a:lnTo>
                  <a:pt x="4" y="4283"/>
                </a:lnTo>
                <a:lnTo>
                  <a:pt x="17" y="4535"/>
                </a:lnTo>
                <a:lnTo>
                  <a:pt x="38" y="4785"/>
                </a:lnTo>
                <a:lnTo>
                  <a:pt x="67" y="5032"/>
                </a:lnTo>
                <a:lnTo>
                  <a:pt x="104" y="5275"/>
                </a:lnTo>
                <a:lnTo>
                  <a:pt x="149" y="5514"/>
                </a:lnTo>
                <a:lnTo>
                  <a:pt x="202" y="5745"/>
                </a:lnTo>
                <a:lnTo>
                  <a:pt x="263" y="5971"/>
                </a:lnTo>
                <a:lnTo>
                  <a:pt x="331" y="6189"/>
                </a:lnTo>
                <a:lnTo>
                  <a:pt x="405" y="6399"/>
                </a:lnTo>
                <a:lnTo>
                  <a:pt x="486" y="6598"/>
                </a:lnTo>
                <a:lnTo>
                  <a:pt x="574" y="6788"/>
                </a:lnTo>
                <a:lnTo>
                  <a:pt x="668" y="6967"/>
                </a:lnTo>
                <a:lnTo>
                  <a:pt x="768" y="7135"/>
                </a:lnTo>
                <a:lnTo>
                  <a:pt x="873" y="7289"/>
                </a:lnTo>
                <a:lnTo>
                  <a:pt x="983" y="7432"/>
                </a:lnTo>
                <a:lnTo>
                  <a:pt x="1097" y="7560"/>
                </a:lnTo>
                <a:lnTo>
                  <a:pt x="1216" y="7676"/>
                </a:lnTo>
                <a:lnTo>
                  <a:pt x="1339" y="7776"/>
                </a:lnTo>
                <a:lnTo>
                  <a:pt x="1463" y="7862"/>
                </a:lnTo>
                <a:lnTo>
                  <a:pt x="1591" y="7933"/>
                </a:lnTo>
                <a:lnTo>
                  <a:pt x="1721" y="7988"/>
                </a:lnTo>
                <a:lnTo>
                  <a:pt x="1852" y="8027"/>
                </a:lnTo>
                <a:lnTo>
                  <a:pt x="1984" y="8052"/>
                </a:lnTo>
                <a:lnTo>
                  <a:pt x="2117" y="805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Freeform 138"/>
          <p:cNvSpPr/>
          <p:nvPr/>
        </p:nvSpPr>
        <p:spPr>
          <a:xfrm>
            <a:off x="1041480" y="1149480"/>
            <a:ext cx="423720" cy="1660320"/>
          </a:xfrm>
          <a:custGeom>
            <a:avLst/>
            <a:gdLst>
              <a:gd name="textAreaLeft" fmla="*/ 0 w 423720"/>
              <a:gd name="textAreaRight" fmla="*/ 424080 w 423720"/>
              <a:gd name="textAreaTop" fmla="*/ 0 h 1660320"/>
              <a:gd name="textAreaBottom" fmla="*/ 1660680 h 1660320"/>
            </a:gdLst>
            <a:ahLst/>
            <a:rect l="textAreaLeft" t="textAreaTop" r="textAreaRight" b="textAreaBottom"/>
            <a:pathLst>
              <a:path w="2116" h="8059">
                <a:moveTo>
                  <a:pt x="2116" y="0"/>
                </a:moveTo>
                <a:lnTo>
                  <a:pt x="1983" y="9"/>
                </a:lnTo>
                <a:lnTo>
                  <a:pt x="1850" y="32"/>
                </a:lnTo>
                <a:lnTo>
                  <a:pt x="1719" y="72"/>
                </a:lnTo>
                <a:lnTo>
                  <a:pt x="1590" y="127"/>
                </a:lnTo>
                <a:lnTo>
                  <a:pt x="1462" y="198"/>
                </a:lnTo>
                <a:lnTo>
                  <a:pt x="1337" y="284"/>
                </a:lnTo>
                <a:lnTo>
                  <a:pt x="1215" y="385"/>
                </a:lnTo>
                <a:lnTo>
                  <a:pt x="1096" y="499"/>
                </a:lnTo>
                <a:lnTo>
                  <a:pt x="982" y="628"/>
                </a:lnTo>
                <a:lnTo>
                  <a:pt x="872" y="770"/>
                </a:lnTo>
                <a:lnTo>
                  <a:pt x="766" y="926"/>
                </a:lnTo>
                <a:lnTo>
                  <a:pt x="667" y="1093"/>
                </a:lnTo>
                <a:lnTo>
                  <a:pt x="572" y="1272"/>
                </a:lnTo>
                <a:lnTo>
                  <a:pt x="484" y="1461"/>
                </a:lnTo>
                <a:lnTo>
                  <a:pt x="403" y="1662"/>
                </a:lnTo>
                <a:lnTo>
                  <a:pt x="329" y="1871"/>
                </a:lnTo>
                <a:lnTo>
                  <a:pt x="261" y="2089"/>
                </a:lnTo>
                <a:lnTo>
                  <a:pt x="201" y="2315"/>
                </a:lnTo>
                <a:lnTo>
                  <a:pt x="148" y="2547"/>
                </a:lnTo>
                <a:lnTo>
                  <a:pt x="102" y="2785"/>
                </a:lnTo>
                <a:lnTo>
                  <a:pt x="65" y="3027"/>
                </a:lnTo>
                <a:lnTo>
                  <a:pt x="37" y="3275"/>
                </a:lnTo>
                <a:lnTo>
                  <a:pt x="15" y="3525"/>
                </a:lnTo>
                <a:lnTo>
                  <a:pt x="4" y="3777"/>
                </a:lnTo>
                <a:lnTo>
                  <a:pt x="0" y="4030"/>
                </a:lnTo>
                <a:lnTo>
                  <a:pt x="4" y="4283"/>
                </a:lnTo>
                <a:lnTo>
                  <a:pt x="15" y="4535"/>
                </a:lnTo>
                <a:lnTo>
                  <a:pt x="37" y="4785"/>
                </a:lnTo>
                <a:lnTo>
                  <a:pt x="65" y="5032"/>
                </a:lnTo>
                <a:lnTo>
                  <a:pt x="102" y="5275"/>
                </a:lnTo>
                <a:lnTo>
                  <a:pt x="148" y="5514"/>
                </a:lnTo>
                <a:lnTo>
                  <a:pt x="201" y="5745"/>
                </a:lnTo>
                <a:lnTo>
                  <a:pt x="261" y="5971"/>
                </a:lnTo>
                <a:lnTo>
                  <a:pt x="329" y="6189"/>
                </a:lnTo>
                <a:lnTo>
                  <a:pt x="403" y="6399"/>
                </a:lnTo>
                <a:lnTo>
                  <a:pt x="484" y="6598"/>
                </a:lnTo>
                <a:lnTo>
                  <a:pt x="572" y="6788"/>
                </a:lnTo>
                <a:lnTo>
                  <a:pt x="667" y="6967"/>
                </a:lnTo>
                <a:lnTo>
                  <a:pt x="766" y="7135"/>
                </a:lnTo>
                <a:lnTo>
                  <a:pt x="872" y="7289"/>
                </a:lnTo>
                <a:lnTo>
                  <a:pt x="982" y="7432"/>
                </a:lnTo>
                <a:lnTo>
                  <a:pt x="1096" y="7560"/>
                </a:lnTo>
                <a:lnTo>
                  <a:pt x="1215" y="7676"/>
                </a:lnTo>
                <a:lnTo>
                  <a:pt x="1337" y="7776"/>
                </a:lnTo>
                <a:lnTo>
                  <a:pt x="1462" y="7862"/>
                </a:lnTo>
                <a:lnTo>
                  <a:pt x="1590" y="7933"/>
                </a:lnTo>
                <a:lnTo>
                  <a:pt x="1719" y="7988"/>
                </a:lnTo>
                <a:lnTo>
                  <a:pt x="1850" y="8027"/>
                </a:lnTo>
                <a:lnTo>
                  <a:pt x="1983" y="8052"/>
                </a:lnTo>
                <a:lnTo>
                  <a:pt x="2116" y="805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Freeform 141"/>
          <p:cNvSpPr/>
          <p:nvPr/>
        </p:nvSpPr>
        <p:spPr>
          <a:xfrm>
            <a:off x="1627200" y="1797120"/>
            <a:ext cx="6480" cy="317520"/>
          </a:xfrm>
          <a:custGeom>
            <a:avLst/>
            <a:gdLst>
              <a:gd name="textAreaLeft" fmla="*/ 0 w 6480"/>
              <a:gd name="textAreaRight" fmla="*/ 6840 w 64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38" h="1545">
                <a:moveTo>
                  <a:pt x="38" y="0"/>
                </a:moveTo>
                <a:lnTo>
                  <a:pt x="19" y="219"/>
                </a:lnTo>
                <a:lnTo>
                  <a:pt x="6" y="441"/>
                </a:lnTo>
                <a:lnTo>
                  <a:pt x="0" y="662"/>
                </a:lnTo>
                <a:lnTo>
                  <a:pt x="0" y="884"/>
                </a:lnTo>
                <a:lnTo>
                  <a:pt x="6" y="1106"/>
                </a:lnTo>
                <a:lnTo>
                  <a:pt x="19" y="1326"/>
                </a:lnTo>
                <a:lnTo>
                  <a:pt x="38" y="15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Freeform 142"/>
          <p:cNvSpPr/>
          <p:nvPr/>
        </p:nvSpPr>
        <p:spPr>
          <a:xfrm>
            <a:off x="1322280" y="1797120"/>
            <a:ext cx="6480" cy="317520"/>
          </a:xfrm>
          <a:custGeom>
            <a:avLst/>
            <a:gdLst>
              <a:gd name="textAreaLeft" fmla="*/ 0 w 6480"/>
              <a:gd name="textAreaRight" fmla="*/ 6840 w 64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38" h="1545">
                <a:moveTo>
                  <a:pt x="38" y="0"/>
                </a:moveTo>
                <a:lnTo>
                  <a:pt x="19" y="219"/>
                </a:lnTo>
                <a:lnTo>
                  <a:pt x="7" y="441"/>
                </a:lnTo>
                <a:lnTo>
                  <a:pt x="0" y="662"/>
                </a:lnTo>
                <a:lnTo>
                  <a:pt x="0" y="884"/>
                </a:lnTo>
                <a:lnTo>
                  <a:pt x="7" y="1106"/>
                </a:lnTo>
                <a:lnTo>
                  <a:pt x="19" y="1326"/>
                </a:lnTo>
                <a:lnTo>
                  <a:pt x="38" y="15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Freeform 147"/>
          <p:cNvSpPr/>
          <p:nvPr/>
        </p:nvSpPr>
        <p:spPr>
          <a:xfrm>
            <a:off x="984240" y="3170160"/>
            <a:ext cx="422280" cy="1662120"/>
          </a:xfrm>
          <a:custGeom>
            <a:avLst/>
            <a:gdLst>
              <a:gd name="textAreaLeft" fmla="*/ 0 w 422280"/>
              <a:gd name="textAreaRight" fmla="*/ 422640 w 42228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116" h="8057">
                <a:moveTo>
                  <a:pt x="2116" y="0"/>
                </a:moveTo>
                <a:lnTo>
                  <a:pt x="1983" y="7"/>
                </a:lnTo>
                <a:lnTo>
                  <a:pt x="1850" y="32"/>
                </a:lnTo>
                <a:lnTo>
                  <a:pt x="1719" y="71"/>
                </a:lnTo>
                <a:lnTo>
                  <a:pt x="1590" y="126"/>
                </a:lnTo>
                <a:lnTo>
                  <a:pt x="1462" y="197"/>
                </a:lnTo>
                <a:lnTo>
                  <a:pt x="1337" y="282"/>
                </a:lnTo>
                <a:lnTo>
                  <a:pt x="1215" y="383"/>
                </a:lnTo>
                <a:lnTo>
                  <a:pt x="1096" y="497"/>
                </a:lnTo>
                <a:lnTo>
                  <a:pt x="982" y="627"/>
                </a:lnTo>
                <a:lnTo>
                  <a:pt x="872" y="768"/>
                </a:lnTo>
                <a:lnTo>
                  <a:pt x="766" y="924"/>
                </a:lnTo>
                <a:lnTo>
                  <a:pt x="667" y="1091"/>
                </a:lnTo>
                <a:lnTo>
                  <a:pt x="572" y="1270"/>
                </a:lnTo>
                <a:lnTo>
                  <a:pt x="484" y="1460"/>
                </a:lnTo>
                <a:lnTo>
                  <a:pt x="403" y="1660"/>
                </a:lnTo>
                <a:lnTo>
                  <a:pt x="329" y="1870"/>
                </a:lnTo>
                <a:lnTo>
                  <a:pt x="261" y="2088"/>
                </a:lnTo>
                <a:lnTo>
                  <a:pt x="201" y="2313"/>
                </a:lnTo>
                <a:lnTo>
                  <a:pt x="148" y="2545"/>
                </a:lnTo>
                <a:lnTo>
                  <a:pt x="102" y="2783"/>
                </a:lnTo>
                <a:lnTo>
                  <a:pt x="65" y="3027"/>
                </a:lnTo>
                <a:lnTo>
                  <a:pt x="37" y="3274"/>
                </a:lnTo>
                <a:lnTo>
                  <a:pt x="15" y="3524"/>
                </a:lnTo>
                <a:lnTo>
                  <a:pt x="4" y="3776"/>
                </a:lnTo>
                <a:lnTo>
                  <a:pt x="0" y="4029"/>
                </a:lnTo>
                <a:lnTo>
                  <a:pt x="4" y="4282"/>
                </a:lnTo>
                <a:lnTo>
                  <a:pt x="15" y="4534"/>
                </a:lnTo>
                <a:lnTo>
                  <a:pt x="37" y="4784"/>
                </a:lnTo>
                <a:lnTo>
                  <a:pt x="65" y="5030"/>
                </a:lnTo>
                <a:lnTo>
                  <a:pt x="102" y="5274"/>
                </a:lnTo>
                <a:lnTo>
                  <a:pt x="148" y="5512"/>
                </a:lnTo>
                <a:lnTo>
                  <a:pt x="201" y="5744"/>
                </a:lnTo>
                <a:lnTo>
                  <a:pt x="261" y="5969"/>
                </a:lnTo>
                <a:lnTo>
                  <a:pt x="329" y="6188"/>
                </a:lnTo>
                <a:lnTo>
                  <a:pt x="403" y="6397"/>
                </a:lnTo>
                <a:lnTo>
                  <a:pt x="484" y="6597"/>
                </a:lnTo>
                <a:lnTo>
                  <a:pt x="572" y="6787"/>
                </a:lnTo>
                <a:lnTo>
                  <a:pt x="667" y="6966"/>
                </a:lnTo>
                <a:lnTo>
                  <a:pt x="766" y="7133"/>
                </a:lnTo>
                <a:lnTo>
                  <a:pt x="872" y="7289"/>
                </a:lnTo>
                <a:lnTo>
                  <a:pt x="982" y="7431"/>
                </a:lnTo>
                <a:lnTo>
                  <a:pt x="1096" y="7560"/>
                </a:lnTo>
                <a:lnTo>
                  <a:pt x="1215" y="7674"/>
                </a:lnTo>
                <a:lnTo>
                  <a:pt x="1337" y="7775"/>
                </a:lnTo>
                <a:lnTo>
                  <a:pt x="1462" y="7860"/>
                </a:lnTo>
                <a:lnTo>
                  <a:pt x="1590" y="7931"/>
                </a:lnTo>
                <a:lnTo>
                  <a:pt x="1719" y="7986"/>
                </a:lnTo>
                <a:lnTo>
                  <a:pt x="1850" y="8026"/>
                </a:lnTo>
                <a:lnTo>
                  <a:pt x="1983" y="8050"/>
                </a:lnTo>
                <a:lnTo>
                  <a:pt x="2116" y="805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Freeform 148"/>
          <p:cNvSpPr/>
          <p:nvPr/>
        </p:nvSpPr>
        <p:spPr>
          <a:xfrm>
            <a:off x="1289160" y="3170160"/>
            <a:ext cx="423720" cy="1662120"/>
          </a:xfrm>
          <a:custGeom>
            <a:avLst/>
            <a:gdLst>
              <a:gd name="textAreaLeft" fmla="*/ 0 w 423720"/>
              <a:gd name="textAreaRight" fmla="*/ 424080 w 42372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117" h="8057">
                <a:moveTo>
                  <a:pt x="2117" y="0"/>
                </a:moveTo>
                <a:lnTo>
                  <a:pt x="1984" y="7"/>
                </a:lnTo>
                <a:lnTo>
                  <a:pt x="1852" y="32"/>
                </a:lnTo>
                <a:lnTo>
                  <a:pt x="1721" y="71"/>
                </a:lnTo>
                <a:lnTo>
                  <a:pt x="1591" y="126"/>
                </a:lnTo>
                <a:lnTo>
                  <a:pt x="1463" y="197"/>
                </a:lnTo>
                <a:lnTo>
                  <a:pt x="1339" y="282"/>
                </a:lnTo>
                <a:lnTo>
                  <a:pt x="1216" y="383"/>
                </a:lnTo>
                <a:lnTo>
                  <a:pt x="1097" y="497"/>
                </a:lnTo>
                <a:lnTo>
                  <a:pt x="983" y="627"/>
                </a:lnTo>
                <a:lnTo>
                  <a:pt x="873" y="768"/>
                </a:lnTo>
                <a:lnTo>
                  <a:pt x="768" y="924"/>
                </a:lnTo>
                <a:lnTo>
                  <a:pt x="668" y="1091"/>
                </a:lnTo>
                <a:lnTo>
                  <a:pt x="574" y="1270"/>
                </a:lnTo>
                <a:lnTo>
                  <a:pt x="486" y="1460"/>
                </a:lnTo>
                <a:lnTo>
                  <a:pt x="405" y="1660"/>
                </a:lnTo>
                <a:lnTo>
                  <a:pt x="331" y="1870"/>
                </a:lnTo>
                <a:lnTo>
                  <a:pt x="263" y="2088"/>
                </a:lnTo>
                <a:lnTo>
                  <a:pt x="202" y="2313"/>
                </a:lnTo>
                <a:lnTo>
                  <a:pt x="149" y="2545"/>
                </a:lnTo>
                <a:lnTo>
                  <a:pt x="104" y="2783"/>
                </a:lnTo>
                <a:lnTo>
                  <a:pt x="67" y="3027"/>
                </a:lnTo>
                <a:lnTo>
                  <a:pt x="38" y="3274"/>
                </a:lnTo>
                <a:lnTo>
                  <a:pt x="17" y="3524"/>
                </a:lnTo>
                <a:lnTo>
                  <a:pt x="4" y="3776"/>
                </a:lnTo>
                <a:lnTo>
                  <a:pt x="0" y="4029"/>
                </a:lnTo>
                <a:lnTo>
                  <a:pt x="4" y="4282"/>
                </a:lnTo>
                <a:lnTo>
                  <a:pt x="17" y="4534"/>
                </a:lnTo>
                <a:lnTo>
                  <a:pt x="38" y="4784"/>
                </a:lnTo>
                <a:lnTo>
                  <a:pt x="67" y="5030"/>
                </a:lnTo>
                <a:lnTo>
                  <a:pt x="104" y="5274"/>
                </a:lnTo>
                <a:lnTo>
                  <a:pt x="149" y="5512"/>
                </a:lnTo>
                <a:lnTo>
                  <a:pt x="202" y="5744"/>
                </a:lnTo>
                <a:lnTo>
                  <a:pt x="263" y="5969"/>
                </a:lnTo>
                <a:lnTo>
                  <a:pt x="331" y="6188"/>
                </a:lnTo>
                <a:lnTo>
                  <a:pt x="405" y="6397"/>
                </a:lnTo>
                <a:lnTo>
                  <a:pt x="486" y="6597"/>
                </a:lnTo>
                <a:lnTo>
                  <a:pt x="574" y="6787"/>
                </a:lnTo>
                <a:lnTo>
                  <a:pt x="668" y="6966"/>
                </a:lnTo>
                <a:lnTo>
                  <a:pt x="768" y="7133"/>
                </a:lnTo>
                <a:lnTo>
                  <a:pt x="873" y="7289"/>
                </a:lnTo>
                <a:lnTo>
                  <a:pt x="983" y="7431"/>
                </a:lnTo>
                <a:lnTo>
                  <a:pt x="1097" y="7560"/>
                </a:lnTo>
                <a:lnTo>
                  <a:pt x="1216" y="7674"/>
                </a:lnTo>
                <a:lnTo>
                  <a:pt x="1339" y="7775"/>
                </a:lnTo>
                <a:lnTo>
                  <a:pt x="1463" y="7860"/>
                </a:lnTo>
                <a:lnTo>
                  <a:pt x="1591" y="7931"/>
                </a:lnTo>
                <a:lnTo>
                  <a:pt x="1721" y="7986"/>
                </a:lnTo>
                <a:lnTo>
                  <a:pt x="1852" y="8026"/>
                </a:lnTo>
                <a:lnTo>
                  <a:pt x="1984" y="8050"/>
                </a:lnTo>
                <a:lnTo>
                  <a:pt x="2117" y="805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Freeform 149"/>
          <p:cNvSpPr/>
          <p:nvPr/>
        </p:nvSpPr>
        <p:spPr>
          <a:xfrm>
            <a:off x="1595520" y="3170160"/>
            <a:ext cx="422280" cy="1662120"/>
          </a:xfrm>
          <a:custGeom>
            <a:avLst/>
            <a:gdLst>
              <a:gd name="textAreaLeft" fmla="*/ 0 w 422280"/>
              <a:gd name="textAreaRight" fmla="*/ 422640 w 42228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116" h="8057">
                <a:moveTo>
                  <a:pt x="2116" y="0"/>
                </a:moveTo>
                <a:lnTo>
                  <a:pt x="1984" y="7"/>
                </a:lnTo>
                <a:lnTo>
                  <a:pt x="1852" y="32"/>
                </a:lnTo>
                <a:lnTo>
                  <a:pt x="1720" y="71"/>
                </a:lnTo>
                <a:lnTo>
                  <a:pt x="1590" y="126"/>
                </a:lnTo>
                <a:lnTo>
                  <a:pt x="1463" y="197"/>
                </a:lnTo>
                <a:lnTo>
                  <a:pt x="1337" y="282"/>
                </a:lnTo>
                <a:lnTo>
                  <a:pt x="1215" y="383"/>
                </a:lnTo>
                <a:lnTo>
                  <a:pt x="1097" y="497"/>
                </a:lnTo>
                <a:lnTo>
                  <a:pt x="982" y="627"/>
                </a:lnTo>
                <a:lnTo>
                  <a:pt x="872" y="768"/>
                </a:lnTo>
                <a:lnTo>
                  <a:pt x="768" y="924"/>
                </a:lnTo>
                <a:lnTo>
                  <a:pt x="668" y="1091"/>
                </a:lnTo>
                <a:lnTo>
                  <a:pt x="574" y="1270"/>
                </a:lnTo>
                <a:lnTo>
                  <a:pt x="486" y="1460"/>
                </a:lnTo>
                <a:lnTo>
                  <a:pt x="404" y="1660"/>
                </a:lnTo>
                <a:lnTo>
                  <a:pt x="329" y="1870"/>
                </a:lnTo>
                <a:lnTo>
                  <a:pt x="261" y="2088"/>
                </a:lnTo>
                <a:lnTo>
                  <a:pt x="201" y="2313"/>
                </a:lnTo>
                <a:lnTo>
                  <a:pt x="149" y="2545"/>
                </a:lnTo>
                <a:lnTo>
                  <a:pt x="104" y="2783"/>
                </a:lnTo>
                <a:lnTo>
                  <a:pt x="67" y="3027"/>
                </a:lnTo>
                <a:lnTo>
                  <a:pt x="38" y="3274"/>
                </a:lnTo>
                <a:lnTo>
                  <a:pt x="17" y="3524"/>
                </a:lnTo>
                <a:lnTo>
                  <a:pt x="4" y="3776"/>
                </a:lnTo>
                <a:lnTo>
                  <a:pt x="0" y="4029"/>
                </a:lnTo>
                <a:lnTo>
                  <a:pt x="4" y="4282"/>
                </a:lnTo>
                <a:lnTo>
                  <a:pt x="17" y="4534"/>
                </a:lnTo>
                <a:lnTo>
                  <a:pt x="38" y="4784"/>
                </a:lnTo>
                <a:lnTo>
                  <a:pt x="67" y="5030"/>
                </a:lnTo>
                <a:lnTo>
                  <a:pt x="104" y="5274"/>
                </a:lnTo>
                <a:lnTo>
                  <a:pt x="149" y="5512"/>
                </a:lnTo>
                <a:lnTo>
                  <a:pt x="201" y="5744"/>
                </a:lnTo>
                <a:lnTo>
                  <a:pt x="261" y="5969"/>
                </a:lnTo>
                <a:lnTo>
                  <a:pt x="329" y="6188"/>
                </a:lnTo>
                <a:lnTo>
                  <a:pt x="404" y="6397"/>
                </a:lnTo>
                <a:lnTo>
                  <a:pt x="486" y="6597"/>
                </a:lnTo>
                <a:lnTo>
                  <a:pt x="574" y="6787"/>
                </a:lnTo>
                <a:lnTo>
                  <a:pt x="668" y="6966"/>
                </a:lnTo>
                <a:lnTo>
                  <a:pt x="768" y="7133"/>
                </a:lnTo>
                <a:lnTo>
                  <a:pt x="872" y="7289"/>
                </a:lnTo>
                <a:lnTo>
                  <a:pt x="982" y="7431"/>
                </a:lnTo>
                <a:lnTo>
                  <a:pt x="1097" y="7560"/>
                </a:lnTo>
                <a:lnTo>
                  <a:pt x="1215" y="7674"/>
                </a:lnTo>
                <a:lnTo>
                  <a:pt x="1337" y="7775"/>
                </a:lnTo>
                <a:lnTo>
                  <a:pt x="1463" y="7860"/>
                </a:lnTo>
                <a:lnTo>
                  <a:pt x="1590" y="7931"/>
                </a:lnTo>
                <a:lnTo>
                  <a:pt x="1720" y="7986"/>
                </a:lnTo>
                <a:lnTo>
                  <a:pt x="1852" y="8026"/>
                </a:lnTo>
                <a:lnTo>
                  <a:pt x="1984" y="8050"/>
                </a:lnTo>
                <a:lnTo>
                  <a:pt x="2116" y="805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Freeform 150"/>
          <p:cNvSpPr/>
          <p:nvPr/>
        </p:nvSpPr>
        <p:spPr>
          <a:xfrm>
            <a:off x="1900080" y="3170160"/>
            <a:ext cx="424080" cy="1662120"/>
          </a:xfrm>
          <a:custGeom>
            <a:avLst/>
            <a:gdLst>
              <a:gd name="textAreaLeft" fmla="*/ 0 w 424080"/>
              <a:gd name="textAreaRight" fmla="*/ 424440 w 42408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116" h="8057">
                <a:moveTo>
                  <a:pt x="2116" y="0"/>
                </a:moveTo>
                <a:lnTo>
                  <a:pt x="1984" y="7"/>
                </a:lnTo>
                <a:lnTo>
                  <a:pt x="1851" y="32"/>
                </a:lnTo>
                <a:lnTo>
                  <a:pt x="1720" y="71"/>
                </a:lnTo>
                <a:lnTo>
                  <a:pt x="1590" y="126"/>
                </a:lnTo>
                <a:lnTo>
                  <a:pt x="1462" y="197"/>
                </a:lnTo>
                <a:lnTo>
                  <a:pt x="1337" y="282"/>
                </a:lnTo>
                <a:lnTo>
                  <a:pt x="1215" y="383"/>
                </a:lnTo>
                <a:lnTo>
                  <a:pt x="1097" y="497"/>
                </a:lnTo>
                <a:lnTo>
                  <a:pt x="982" y="627"/>
                </a:lnTo>
                <a:lnTo>
                  <a:pt x="872" y="768"/>
                </a:lnTo>
                <a:lnTo>
                  <a:pt x="767" y="924"/>
                </a:lnTo>
                <a:lnTo>
                  <a:pt x="668" y="1091"/>
                </a:lnTo>
                <a:lnTo>
                  <a:pt x="573" y="1270"/>
                </a:lnTo>
                <a:lnTo>
                  <a:pt x="486" y="1460"/>
                </a:lnTo>
                <a:lnTo>
                  <a:pt x="404" y="1660"/>
                </a:lnTo>
                <a:lnTo>
                  <a:pt x="329" y="1870"/>
                </a:lnTo>
                <a:lnTo>
                  <a:pt x="261" y="2088"/>
                </a:lnTo>
                <a:lnTo>
                  <a:pt x="201" y="2313"/>
                </a:lnTo>
                <a:lnTo>
                  <a:pt x="148" y="2545"/>
                </a:lnTo>
                <a:lnTo>
                  <a:pt x="103" y="2783"/>
                </a:lnTo>
                <a:lnTo>
                  <a:pt x="66" y="3027"/>
                </a:lnTo>
                <a:lnTo>
                  <a:pt x="37" y="3274"/>
                </a:lnTo>
                <a:lnTo>
                  <a:pt x="17" y="3524"/>
                </a:lnTo>
                <a:lnTo>
                  <a:pt x="4" y="3776"/>
                </a:lnTo>
                <a:lnTo>
                  <a:pt x="0" y="4029"/>
                </a:lnTo>
                <a:lnTo>
                  <a:pt x="4" y="4282"/>
                </a:lnTo>
                <a:lnTo>
                  <a:pt x="17" y="4534"/>
                </a:lnTo>
                <a:lnTo>
                  <a:pt x="37" y="4784"/>
                </a:lnTo>
                <a:lnTo>
                  <a:pt x="66" y="5030"/>
                </a:lnTo>
                <a:lnTo>
                  <a:pt x="103" y="5274"/>
                </a:lnTo>
                <a:lnTo>
                  <a:pt x="148" y="5512"/>
                </a:lnTo>
                <a:lnTo>
                  <a:pt x="201" y="5744"/>
                </a:lnTo>
                <a:lnTo>
                  <a:pt x="261" y="5969"/>
                </a:lnTo>
                <a:lnTo>
                  <a:pt x="329" y="6188"/>
                </a:lnTo>
                <a:lnTo>
                  <a:pt x="404" y="6397"/>
                </a:lnTo>
                <a:lnTo>
                  <a:pt x="486" y="6597"/>
                </a:lnTo>
                <a:lnTo>
                  <a:pt x="573" y="6787"/>
                </a:lnTo>
                <a:lnTo>
                  <a:pt x="668" y="6966"/>
                </a:lnTo>
                <a:lnTo>
                  <a:pt x="767" y="7133"/>
                </a:lnTo>
                <a:lnTo>
                  <a:pt x="872" y="7289"/>
                </a:lnTo>
                <a:lnTo>
                  <a:pt x="982" y="7431"/>
                </a:lnTo>
                <a:lnTo>
                  <a:pt x="1097" y="7560"/>
                </a:lnTo>
                <a:lnTo>
                  <a:pt x="1215" y="7674"/>
                </a:lnTo>
                <a:lnTo>
                  <a:pt x="1337" y="7775"/>
                </a:lnTo>
                <a:lnTo>
                  <a:pt x="1462" y="7860"/>
                </a:lnTo>
                <a:lnTo>
                  <a:pt x="1590" y="7931"/>
                </a:lnTo>
                <a:lnTo>
                  <a:pt x="1720" y="7986"/>
                </a:lnTo>
                <a:lnTo>
                  <a:pt x="1851" y="8026"/>
                </a:lnTo>
                <a:lnTo>
                  <a:pt x="1984" y="8050"/>
                </a:lnTo>
                <a:lnTo>
                  <a:pt x="2116" y="805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Freeform 151"/>
          <p:cNvSpPr/>
          <p:nvPr/>
        </p:nvSpPr>
        <p:spPr>
          <a:xfrm>
            <a:off x="2185920" y="3168720"/>
            <a:ext cx="424080" cy="1660320"/>
          </a:xfrm>
          <a:custGeom>
            <a:avLst/>
            <a:gdLst>
              <a:gd name="textAreaLeft" fmla="*/ 0 w 424080"/>
              <a:gd name="textAreaRight" fmla="*/ 424440 w 424080"/>
              <a:gd name="textAreaTop" fmla="*/ 0 h 1660320"/>
              <a:gd name="textAreaBottom" fmla="*/ 1660680 h 1660320"/>
            </a:gdLst>
            <a:ahLst/>
            <a:rect l="textAreaLeft" t="textAreaTop" r="textAreaRight" b="textAreaBottom"/>
            <a:pathLst>
              <a:path w="2117" h="8057">
                <a:moveTo>
                  <a:pt x="2117" y="0"/>
                </a:moveTo>
                <a:lnTo>
                  <a:pt x="1983" y="7"/>
                </a:lnTo>
                <a:lnTo>
                  <a:pt x="1851" y="32"/>
                </a:lnTo>
                <a:lnTo>
                  <a:pt x="1720" y="71"/>
                </a:lnTo>
                <a:lnTo>
                  <a:pt x="1591" y="126"/>
                </a:lnTo>
                <a:lnTo>
                  <a:pt x="1463" y="197"/>
                </a:lnTo>
                <a:lnTo>
                  <a:pt x="1338" y="282"/>
                </a:lnTo>
                <a:lnTo>
                  <a:pt x="1216" y="383"/>
                </a:lnTo>
                <a:lnTo>
                  <a:pt x="1097" y="497"/>
                </a:lnTo>
                <a:lnTo>
                  <a:pt x="983" y="627"/>
                </a:lnTo>
                <a:lnTo>
                  <a:pt x="873" y="768"/>
                </a:lnTo>
                <a:lnTo>
                  <a:pt x="768" y="924"/>
                </a:lnTo>
                <a:lnTo>
                  <a:pt x="667" y="1091"/>
                </a:lnTo>
                <a:lnTo>
                  <a:pt x="574" y="1270"/>
                </a:lnTo>
                <a:lnTo>
                  <a:pt x="486" y="1460"/>
                </a:lnTo>
                <a:lnTo>
                  <a:pt x="405" y="1660"/>
                </a:lnTo>
                <a:lnTo>
                  <a:pt x="330" y="1870"/>
                </a:lnTo>
                <a:lnTo>
                  <a:pt x="262" y="2088"/>
                </a:lnTo>
                <a:lnTo>
                  <a:pt x="201" y="2313"/>
                </a:lnTo>
                <a:lnTo>
                  <a:pt x="149" y="2545"/>
                </a:lnTo>
                <a:lnTo>
                  <a:pt x="104" y="2783"/>
                </a:lnTo>
                <a:lnTo>
                  <a:pt x="67" y="3027"/>
                </a:lnTo>
                <a:lnTo>
                  <a:pt x="37" y="3274"/>
                </a:lnTo>
                <a:lnTo>
                  <a:pt x="17" y="3524"/>
                </a:lnTo>
                <a:lnTo>
                  <a:pt x="5" y="3776"/>
                </a:lnTo>
                <a:lnTo>
                  <a:pt x="0" y="4029"/>
                </a:lnTo>
                <a:lnTo>
                  <a:pt x="5" y="4282"/>
                </a:lnTo>
                <a:lnTo>
                  <a:pt x="17" y="4534"/>
                </a:lnTo>
                <a:lnTo>
                  <a:pt x="37" y="4784"/>
                </a:lnTo>
                <a:lnTo>
                  <a:pt x="67" y="5030"/>
                </a:lnTo>
                <a:lnTo>
                  <a:pt x="104" y="5274"/>
                </a:lnTo>
                <a:lnTo>
                  <a:pt x="149" y="5512"/>
                </a:lnTo>
                <a:lnTo>
                  <a:pt x="201" y="5744"/>
                </a:lnTo>
                <a:lnTo>
                  <a:pt x="262" y="5969"/>
                </a:lnTo>
                <a:lnTo>
                  <a:pt x="330" y="6188"/>
                </a:lnTo>
                <a:lnTo>
                  <a:pt x="405" y="6397"/>
                </a:lnTo>
                <a:lnTo>
                  <a:pt x="486" y="6597"/>
                </a:lnTo>
                <a:lnTo>
                  <a:pt x="574" y="6787"/>
                </a:lnTo>
                <a:lnTo>
                  <a:pt x="667" y="6966"/>
                </a:lnTo>
                <a:lnTo>
                  <a:pt x="768" y="7133"/>
                </a:lnTo>
                <a:lnTo>
                  <a:pt x="873" y="7289"/>
                </a:lnTo>
                <a:lnTo>
                  <a:pt x="983" y="7431"/>
                </a:lnTo>
                <a:lnTo>
                  <a:pt x="1097" y="7560"/>
                </a:lnTo>
                <a:lnTo>
                  <a:pt x="1216" y="7674"/>
                </a:lnTo>
                <a:lnTo>
                  <a:pt x="1338" y="7775"/>
                </a:lnTo>
                <a:lnTo>
                  <a:pt x="1463" y="7860"/>
                </a:lnTo>
                <a:lnTo>
                  <a:pt x="1591" y="7931"/>
                </a:lnTo>
                <a:lnTo>
                  <a:pt x="1720" y="7986"/>
                </a:lnTo>
                <a:lnTo>
                  <a:pt x="1851" y="8026"/>
                </a:lnTo>
                <a:lnTo>
                  <a:pt x="1983" y="8050"/>
                </a:lnTo>
                <a:lnTo>
                  <a:pt x="2117" y="805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Freeform 152"/>
          <p:cNvSpPr/>
          <p:nvPr/>
        </p:nvSpPr>
        <p:spPr>
          <a:xfrm>
            <a:off x="2509920" y="3170160"/>
            <a:ext cx="423720" cy="1662120"/>
          </a:xfrm>
          <a:custGeom>
            <a:avLst/>
            <a:gdLst>
              <a:gd name="textAreaLeft" fmla="*/ 0 w 423720"/>
              <a:gd name="textAreaRight" fmla="*/ 424080 w 42372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117" h="8057">
                <a:moveTo>
                  <a:pt x="2117" y="0"/>
                </a:moveTo>
                <a:lnTo>
                  <a:pt x="1983" y="7"/>
                </a:lnTo>
                <a:lnTo>
                  <a:pt x="1851" y="32"/>
                </a:lnTo>
                <a:lnTo>
                  <a:pt x="1720" y="71"/>
                </a:lnTo>
                <a:lnTo>
                  <a:pt x="1590" y="126"/>
                </a:lnTo>
                <a:lnTo>
                  <a:pt x="1462" y="197"/>
                </a:lnTo>
                <a:lnTo>
                  <a:pt x="1337" y="282"/>
                </a:lnTo>
                <a:lnTo>
                  <a:pt x="1216" y="383"/>
                </a:lnTo>
                <a:lnTo>
                  <a:pt x="1097" y="497"/>
                </a:lnTo>
                <a:lnTo>
                  <a:pt x="983" y="627"/>
                </a:lnTo>
                <a:lnTo>
                  <a:pt x="872" y="768"/>
                </a:lnTo>
                <a:lnTo>
                  <a:pt x="767" y="924"/>
                </a:lnTo>
                <a:lnTo>
                  <a:pt x="667" y="1091"/>
                </a:lnTo>
                <a:lnTo>
                  <a:pt x="573" y="1270"/>
                </a:lnTo>
                <a:lnTo>
                  <a:pt x="485" y="1460"/>
                </a:lnTo>
                <a:lnTo>
                  <a:pt x="403" y="1660"/>
                </a:lnTo>
                <a:lnTo>
                  <a:pt x="329" y="1870"/>
                </a:lnTo>
                <a:lnTo>
                  <a:pt x="262" y="2088"/>
                </a:lnTo>
                <a:lnTo>
                  <a:pt x="201" y="2313"/>
                </a:lnTo>
                <a:lnTo>
                  <a:pt x="148" y="2545"/>
                </a:lnTo>
                <a:lnTo>
                  <a:pt x="104" y="2783"/>
                </a:lnTo>
                <a:lnTo>
                  <a:pt x="66" y="3027"/>
                </a:lnTo>
                <a:lnTo>
                  <a:pt x="37" y="3274"/>
                </a:lnTo>
                <a:lnTo>
                  <a:pt x="16" y="3524"/>
                </a:lnTo>
                <a:lnTo>
                  <a:pt x="4" y="3776"/>
                </a:lnTo>
                <a:lnTo>
                  <a:pt x="0" y="4029"/>
                </a:lnTo>
                <a:lnTo>
                  <a:pt x="4" y="4282"/>
                </a:lnTo>
                <a:lnTo>
                  <a:pt x="16" y="4534"/>
                </a:lnTo>
                <a:lnTo>
                  <a:pt x="37" y="4784"/>
                </a:lnTo>
                <a:lnTo>
                  <a:pt x="66" y="5030"/>
                </a:lnTo>
                <a:lnTo>
                  <a:pt x="104" y="5274"/>
                </a:lnTo>
                <a:lnTo>
                  <a:pt x="148" y="5512"/>
                </a:lnTo>
                <a:lnTo>
                  <a:pt x="201" y="5744"/>
                </a:lnTo>
                <a:lnTo>
                  <a:pt x="262" y="5969"/>
                </a:lnTo>
                <a:lnTo>
                  <a:pt x="329" y="6188"/>
                </a:lnTo>
                <a:lnTo>
                  <a:pt x="403" y="6397"/>
                </a:lnTo>
                <a:lnTo>
                  <a:pt x="485" y="6597"/>
                </a:lnTo>
                <a:lnTo>
                  <a:pt x="573" y="6787"/>
                </a:lnTo>
                <a:lnTo>
                  <a:pt x="667" y="6966"/>
                </a:lnTo>
                <a:lnTo>
                  <a:pt x="767" y="7133"/>
                </a:lnTo>
                <a:lnTo>
                  <a:pt x="872" y="7289"/>
                </a:lnTo>
                <a:lnTo>
                  <a:pt x="983" y="7431"/>
                </a:lnTo>
                <a:lnTo>
                  <a:pt x="1097" y="7560"/>
                </a:lnTo>
                <a:lnTo>
                  <a:pt x="1216" y="7674"/>
                </a:lnTo>
                <a:lnTo>
                  <a:pt x="1337" y="7775"/>
                </a:lnTo>
                <a:lnTo>
                  <a:pt x="1462" y="7860"/>
                </a:lnTo>
                <a:lnTo>
                  <a:pt x="1590" y="7931"/>
                </a:lnTo>
                <a:lnTo>
                  <a:pt x="1720" y="7986"/>
                </a:lnTo>
                <a:lnTo>
                  <a:pt x="1851" y="8026"/>
                </a:lnTo>
                <a:lnTo>
                  <a:pt x="1983" y="8050"/>
                </a:lnTo>
                <a:lnTo>
                  <a:pt x="2117" y="805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Freeform 153"/>
          <p:cNvSpPr/>
          <p:nvPr/>
        </p:nvSpPr>
        <p:spPr>
          <a:xfrm>
            <a:off x="2814480" y="3170160"/>
            <a:ext cx="424080" cy="1662120"/>
          </a:xfrm>
          <a:custGeom>
            <a:avLst/>
            <a:gdLst>
              <a:gd name="textAreaLeft" fmla="*/ 0 w 424080"/>
              <a:gd name="textAreaRight" fmla="*/ 424440 w 42408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117" h="8057">
                <a:moveTo>
                  <a:pt x="2117" y="0"/>
                </a:moveTo>
                <a:lnTo>
                  <a:pt x="1984" y="7"/>
                </a:lnTo>
                <a:lnTo>
                  <a:pt x="1852" y="32"/>
                </a:lnTo>
                <a:lnTo>
                  <a:pt x="1720" y="71"/>
                </a:lnTo>
                <a:lnTo>
                  <a:pt x="1590" y="126"/>
                </a:lnTo>
                <a:lnTo>
                  <a:pt x="1463" y="197"/>
                </a:lnTo>
                <a:lnTo>
                  <a:pt x="1338" y="282"/>
                </a:lnTo>
                <a:lnTo>
                  <a:pt x="1215" y="383"/>
                </a:lnTo>
                <a:lnTo>
                  <a:pt x="1097" y="497"/>
                </a:lnTo>
                <a:lnTo>
                  <a:pt x="982" y="627"/>
                </a:lnTo>
                <a:lnTo>
                  <a:pt x="873" y="768"/>
                </a:lnTo>
                <a:lnTo>
                  <a:pt x="767" y="924"/>
                </a:lnTo>
                <a:lnTo>
                  <a:pt x="668" y="1091"/>
                </a:lnTo>
                <a:lnTo>
                  <a:pt x="574" y="1270"/>
                </a:lnTo>
                <a:lnTo>
                  <a:pt x="486" y="1460"/>
                </a:lnTo>
                <a:lnTo>
                  <a:pt x="404" y="1660"/>
                </a:lnTo>
                <a:lnTo>
                  <a:pt x="330" y="1870"/>
                </a:lnTo>
                <a:lnTo>
                  <a:pt x="262" y="2088"/>
                </a:lnTo>
                <a:lnTo>
                  <a:pt x="202" y="2313"/>
                </a:lnTo>
                <a:lnTo>
                  <a:pt x="149" y="2545"/>
                </a:lnTo>
                <a:lnTo>
                  <a:pt x="103" y="2783"/>
                </a:lnTo>
                <a:lnTo>
                  <a:pt x="66" y="3027"/>
                </a:lnTo>
                <a:lnTo>
                  <a:pt x="38" y="3274"/>
                </a:lnTo>
                <a:lnTo>
                  <a:pt x="17" y="3524"/>
                </a:lnTo>
                <a:lnTo>
                  <a:pt x="4" y="3776"/>
                </a:lnTo>
                <a:lnTo>
                  <a:pt x="0" y="4029"/>
                </a:lnTo>
                <a:lnTo>
                  <a:pt x="4" y="4282"/>
                </a:lnTo>
                <a:lnTo>
                  <a:pt x="17" y="4534"/>
                </a:lnTo>
                <a:lnTo>
                  <a:pt x="38" y="4784"/>
                </a:lnTo>
                <a:lnTo>
                  <a:pt x="66" y="5030"/>
                </a:lnTo>
                <a:lnTo>
                  <a:pt x="103" y="5274"/>
                </a:lnTo>
                <a:lnTo>
                  <a:pt x="149" y="5512"/>
                </a:lnTo>
                <a:lnTo>
                  <a:pt x="202" y="5744"/>
                </a:lnTo>
                <a:lnTo>
                  <a:pt x="262" y="5969"/>
                </a:lnTo>
                <a:lnTo>
                  <a:pt x="330" y="6188"/>
                </a:lnTo>
                <a:lnTo>
                  <a:pt x="404" y="6397"/>
                </a:lnTo>
                <a:lnTo>
                  <a:pt x="486" y="6597"/>
                </a:lnTo>
                <a:lnTo>
                  <a:pt x="574" y="6787"/>
                </a:lnTo>
                <a:lnTo>
                  <a:pt x="668" y="6966"/>
                </a:lnTo>
                <a:lnTo>
                  <a:pt x="767" y="7133"/>
                </a:lnTo>
                <a:lnTo>
                  <a:pt x="873" y="7289"/>
                </a:lnTo>
                <a:lnTo>
                  <a:pt x="982" y="7431"/>
                </a:lnTo>
                <a:lnTo>
                  <a:pt x="1097" y="7560"/>
                </a:lnTo>
                <a:lnTo>
                  <a:pt x="1215" y="7674"/>
                </a:lnTo>
                <a:lnTo>
                  <a:pt x="1338" y="7775"/>
                </a:lnTo>
                <a:lnTo>
                  <a:pt x="1463" y="7860"/>
                </a:lnTo>
                <a:lnTo>
                  <a:pt x="1590" y="7931"/>
                </a:lnTo>
                <a:lnTo>
                  <a:pt x="1720" y="7986"/>
                </a:lnTo>
                <a:lnTo>
                  <a:pt x="1852" y="8026"/>
                </a:lnTo>
                <a:lnTo>
                  <a:pt x="1984" y="8050"/>
                </a:lnTo>
                <a:lnTo>
                  <a:pt x="2117" y="805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Freeform 154"/>
          <p:cNvSpPr/>
          <p:nvPr/>
        </p:nvSpPr>
        <p:spPr>
          <a:xfrm>
            <a:off x="3119400" y="3170160"/>
            <a:ext cx="425520" cy="1662120"/>
          </a:xfrm>
          <a:custGeom>
            <a:avLst/>
            <a:gdLst>
              <a:gd name="textAreaLeft" fmla="*/ 0 w 425520"/>
              <a:gd name="textAreaRight" fmla="*/ 425880 w 42552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117" h="8057">
                <a:moveTo>
                  <a:pt x="2117" y="0"/>
                </a:moveTo>
                <a:lnTo>
                  <a:pt x="1985" y="7"/>
                </a:lnTo>
                <a:lnTo>
                  <a:pt x="1852" y="32"/>
                </a:lnTo>
                <a:lnTo>
                  <a:pt x="1721" y="71"/>
                </a:lnTo>
                <a:lnTo>
                  <a:pt x="1591" y="126"/>
                </a:lnTo>
                <a:lnTo>
                  <a:pt x="1464" y="197"/>
                </a:lnTo>
                <a:lnTo>
                  <a:pt x="1338" y="282"/>
                </a:lnTo>
                <a:lnTo>
                  <a:pt x="1216" y="383"/>
                </a:lnTo>
                <a:lnTo>
                  <a:pt x="1097" y="497"/>
                </a:lnTo>
                <a:lnTo>
                  <a:pt x="983" y="627"/>
                </a:lnTo>
                <a:lnTo>
                  <a:pt x="873" y="768"/>
                </a:lnTo>
                <a:lnTo>
                  <a:pt x="768" y="924"/>
                </a:lnTo>
                <a:lnTo>
                  <a:pt x="668" y="1091"/>
                </a:lnTo>
                <a:lnTo>
                  <a:pt x="574" y="1270"/>
                </a:lnTo>
                <a:lnTo>
                  <a:pt x="486" y="1460"/>
                </a:lnTo>
                <a:lnTo>
                  <a:pt x="405" y="1660"/>
                </a:lnTo>
                <a:lnTo>
                  <a:pt x="330" y="1870"/>
                </a:lnTo>
                <a:lnTo>
                  <a:pt x="263" y="2088"/>
                </a:lnTo>
                <a:lnTo>
                  <a:pt x="203" y="2313"/>
                </a:lnTo>
                <a:lnTo>
                  <a:pt x="150" y="2545"/>
                </a:lnTo>
                <a:lnTo>
                  <a:pt x="104" y="2783"/>
                </a:lnTo>
                <a:lnTo>
                  <a:pt x="67" y="3027"/>
                </a:lnTo>
                <a:lnTo>
                  <a:pt x="38" y="3274"/>
                </a:lnTo>
                <a:lnTo>
                  <a:pt x="17" y="3524"/>
                </a:lnTo>
                <a:lnTo>
                  <a:pt x="5" y="3776"/>
                </a:lnTo>
                <a:lnTo>
                  <a:pt x="0" y="4029"/>
                </a:lnTo>
                <a:lnTo>
                  <a:pt x="5" y="4282"/>
                </a:lnTo>
                <a:lnTo>
                  <a:pt x="17" y="4534"/>
                </a:lnTo>
                <a:lnTo>
                  <a:pt x="38" y="4784"/>
                </a:lnTo>
                <a:lnTo>
                  <a:pt x="67" y="5030"/>
                </a:lnTo>
                <a:lnTo>
                  <a:pt x="104" y="5274"/>
                </a:lnTo>
                <a:lnTo>
                  <a:pt x="150" y="5512"/>
                </a:lnTo>
                <a:lnTo>
                  <a:pt x="203" y="5744"/>
                </a:lnTo>
                <a:lnTo>
                  <a:pt x="263" y="5969"/>
                </a:lnTo>
                <a:lnTo>
                  <a:pt x="330" y="6188"/>
                </a:lnTo>
                <a:lnTo>
                  <a:pt x="405" y="6397"/>
                </a:lnTo>
                <a:lnTo>
                  <a:pt x="486" y="6597"/>
                </a:lnTo>
                <a:lnTo>
                  <a:pt x="574" y="6787"/>
                </a:lnTo>
                <a:lnTo>
                  <a:pt x="668" y="6966"/>
                </a:lnTo>
                <a:lnTo>
                  <a:pt x="768" y="7133"/>
                </a:lnTo>
                <a:lnTo>
                  <a:pt x="873" y="7289"/>
                </a:lnTo>
                <a:lnTo>
                  <a:pt x="983" y="7431"/>
                </a:lnTo>
                <a:lnTo>
                  <a:pt x="1097" y="7560"/>
                </a:lnTo>
                <a:lnTo>
                  <a:pt x="1216" y="7674"/>
                </a:lnTo>
                <a:lnTo>
                  <a:pt x="1338" y="7775"/>
                </a:lnTo>
                <a:lnTo>
                  <a:pt x="1464" y="7860"/>
                </a:lnTo>
                <a:lnTo>
                  <a:pt x="1591" y="7931"/>
                </a:lnTo>
                <a:lnTo>
                  <a:pt x="1721" y="7986"/>
                </a:lnTo>
                <a:lnTo>
                  <a:pt x="1852" y="8026"/>
                </a:lnTo>
                <a:lnTo>
                  <a:pt x="1985" y="8050"/>
                </a:lnTo>
                <a:lnTo>
                  <a:pt x="2117" y="805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Freeform 155"/>
          <p:cNvSpPr/>
          <p:nvPr/>
        </p:nvSpPr>
        <p:spPr>
          <a:xfrm>
            <a:off x="3425760" y="3170160"/>
            <a:ext cx="424080" cy="1662120"/>
          </a:xfrm>
          <a:custGeom>
            <a:avLst/>
            <a:gdLst>
              <a:gd name="textAreaLeft" fmla="*/ 0 w 424080"/>
              <a:gd name="textAreaRight" fmla="*/ 424440 w 42408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117" h="8057">
                <a:moveTo>
                  <a:pt x="2117" y="0"/>
                </a:moveTo>
                <a:lnTo>
                  <a:pt x="1984" y="7"/>
                </a:lnTo>
                <a:lnTo>
                  <a:pt x="1852" y="32"/>
                </a:lnTo>
                <a:lnTo>
                  <a:pt x="1721" y="71"/>
                </a:lnTo>
                <a:lnTo>
                  <a:pt x="1590" y="126"/>
                </a:lnTo>
                <a:lnTo>
                  <a:pt x="1462" y="197"/>
                </a:lnTo>
                <a:lnTo>
                  <a:pt x="1337" y="282"/>
                </a:lnTo>
                <a:lnTo>
                  <a:pt x="1216" y="383"/>
                </a:lnTo>
                <a:lnTo>
                  <a:pt x="1097" y="497"/>
                </a:lnTo>
                <a:lnTo>
                  <a:pt x="983" y="627"/>
                </a:lnTo>
                <a:lnTo>
                  <a:pt x="873" y="768"/>
                </a:lnTo>
                <a:lnTo>
                  <a:pt x="768" y="924"/>
                </a:lnTo>
                <a:lnTo>
                  <a:pt x="668" y="1091"/>
                </a:lnTo>
                <a:lnTo>
                  <a:pt x="574" y="1270"/>
                </a:lnTo>
                <a:lnTo>
                  <a:pt x="486" y="1460"/>
                </a:lnTo>
                <a:lnTo>
                  <a:pt x="405" y="1660"/>
                </a:lnTo>
                <a:lnTo>
                  <a:pt x="329" y="1870"/>
                </a:lnTo>
                <a:lnTo>
                  <a:pt x="262" y="2088"/>
                </a:lnTo>
                <a:lnTo>
                  <a:pt x="201" y="2313"/>
                </a:lnTo>
                <a:lnTo>
                  <a:pt x="148" y="2545"/>
                </a:lnTo>
                <a:lnTo>
                  <a:pt x="104" y="2783"/>
                </a:lnTo>
                <a:lnTo>
                  <a:pt x="67" y="3027"/>
                </a:lnTo>
                <a:lnTo>
                  <a:pt x="38" y="3274"/>
                </a:lnTo>
                <a:lnTo>
                  <a:pt x="17" y="3524"/>
                </a:lnTo>
                <a:lnTo>
                  <a:pt x="4" y="3776"/>
                </a:lnTo>
                <a:lnTo>
                  <a:pt x="0" y="4029"/>
                </a:lnTo>
                <a:lnTo>
                  <a:pt x="4" y="4282"/>
                </a:lnTo>
                <a:lnTo>
                  <a:pt x="17" y="4534"/>
                </a:lnTo>
                <a:lnTo>
                  <a:pt x="38" y="4784"/>
                </a:lnTo>
                <a:lnTo>
                  <a:pt x="67" y="5030"/>
                </a:lnTo>
                <a:lnTo>
                  <a:pt x="104" y="5274"/>
                </a:lnTo>
                <a:lnTo>
                  <a:pt x="148" y="5512"/>
                </a:lnTo>
                <a:lnTo>
                  <a:pt x="201" y="5744"/>
                </a:lnTo>
                <a:lnTo>
                  <a:pt x="262" y="5969"/>
                </a:lnTo>
                <a:lnTo>
                  <a:pt x="329" y="6188"/>
                </a:lnTo>
                <a:lnTo>
                  <a:pt x="405" y="6397"/>
                </a:lnTo>
                <a:lnTo>
                  <a:pt x="486" y="6597"/>
                </a:lnTo>
                <a:lnTo>
                  <a:pt x="574" y="6787"/>
                </a:lnTo>
                <a:lnTo>
                  <a:pt x="668" y="6966"/>
                </a:lnTo>
                <a:lnTo>
                  <a:pt x="768" y="7133"/>
                </a:lnTo>
                <a:lnTo>
                  <a:pt x="873" y="7289"/>
                </a:lnTo>
                <a:lnTo>
                  <a:pt x="983" y="7431"/>
                </a:lnTo>
                <a:lnTo>
                  <a:pt x="1097" y="7560"/>
                </a:lnTo>
                <a:lnTo>
                  <a:pt x="1216" y="7674"/>
                </a:lnTo>
                <a:lnTo>
                  <a:pt x="1337" y="7775"/>
                </a:lnTo>
                <a:lnTo>
                  <a:pt x="1462" y="7860"/>
                </a:lnTo>
                <a:lnTo>
                  <a:pt x="1590" y="7931"/>
                </a:lnTo>
                <a:lnTo>
                  <a:pt x="1721" y="7986"/>
                </a:lnTo>
                <a:lnTo>
                  <a:pt x="1852" y="8026"/>
                </a:lnTo>
                <a:lnTo>
                  <a:pt x="1984" y="8050"/>
                </a:lnTo>
                <a:lnTo>
                  <a:pt x="2117" y="805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Freeform 156"/>
          <p:cNvSpPr/>
          <p:nvPr/>
        </p:nvSpPr>
        <p:spPr>
          <a:xfrm>
            <a:off x="911160" y="4743360"/>
            <a:ext cx="190440" cy="88920"/>
          </a:xfrm>
          <a:custGeom>
            <a:avLst/>
            <a:gdLst>
              <a:gd name="textAreaLeft" fmla="*/ 0 w 190440"/>
              <a:gd name="textAreaRight" fmla="*/ 190800 w 1904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956" h="434">
                <a:moveTo>
                  <a:pt x="0" y="0"/>
                </a:moveTo>
                <a:lnTo>
                  <a:pt x="113" y="101"/>
                </a:lnTo>
                <a:lnTo>
                  <a:pt x="228" y="189"/>
                </a:lnTo>
                <a:lnTo>
                  <a:pt x="345" y="263"/>
                </a:lnTo>
                <a:lnTo>
                  <a:pt x="465" y="324"/>
                </a:lnTo>
                <a:lnTo>
                  <a:pt x="586" y="373"/>
                </a:lnTo>
                <a:lnTo>
                  <a:pt x="709" y="407"/>
                </a:lnTo>
                <a:lnTo>
                  <a:pt x="833" y="428"/>
                </a:lnTo>
                <a:lnTo>
                  <a:pt x="956" y="434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Freeform 157"/>
          <p:cNvSpPr/>
          <p:nvPr/>
        </p:nvSpPr>
        <p:spPr>
          <a:xfrm>
            <a:off x="679320" y="3260880"/>
            <a:ext cx="231840" cy="1482480"/>
          </a:xfrm>
          <a:custGeom>
            <a:avLst/>
            <a:gdLst>
              <a:gd name="textAreaLeft" fmla="*/ 0 w 231840"/>
              <a:gd name="textAreaRight" fmla="*/ 232200 w 231840"/>
              <a:gd name="textAreaTop" fmla="*/ 0 h 1482480"/>
              <a:gd name="textAreaBottom" fmla="*/ 1482840 h 1482480"/>
            </a:gdLst>
            <a:ahLst/>
            <a:rect l="textAreaLeft" t="textAreaTop" r="textAreaRight" b="textAreaBottom"/>
            <a:pathLst>
              <a:path w="1159" h="7189">
                <a:moveTo>
                  <a:pt x="1159" y="0"/>
                </a:moveTo>
                <a:lnTo>
                  <a:pt x="1043" y="122"/>
                </a:lnTo>
                <a:lnTo>
                  <a:pt x="930" y="257"/>
                </a:lnTo>
                <a:lnTo>
                  <a:pt x="822" y="405"/>
                </a:lnTo>
                <a:lnTo>
                  <a:pt x="719" y="566"/>
                </a:lnTo>
                <a:lnTo>
                  <a:pt x="621" y="740"/>
                </a:lnTo>
                <a:lnTo>
                  <a:pt x="530" y="924"/>
                </a:lnTo>
                <a:lnTo>
                  <a:pt x="445" y="1120"/>
                </a:lnTo>
                <a:lnTo>
                  <a:pt x="366" y="1326"/>
                </a:lnTo>
                <a:lnTo>
                  <a:pt x="294" y="1539"/>
                </a:lnTo>
                <a:lnTo>
                  <a:pt x="231" y="1762"/>
                </a:lnTo>
                <a:lnTo>
                  <a:pt x="174" y="1990"/>
                </a:lnTo>
                <a:lnTo>
                  <a:pt x="125" y="2227"/>
                </a:lnTo>
                <a:lnTo>
                  <a:pt x="84" y="2468"/>
                </a:lnTo>
                <a:lnTo>
                  <a:pt x="50" y="2714"/>
                </a:lnTo>
                <a:lnTo>
                  <a:pt x="25" y="2962"/>
                </a:lnTo>
                <a:lnTo>
                  <a:pt x="8" y="3214"/>
                </a:lnTo>
                <a:lnTo>
                  <a:pt x="0" y="3468"/>
                </a:lnTo>
                <a:lnTo>
                  <a:pt x="0" y="3722"/>
                </a:lnTo>
                <a:lnTo>
                  <a:pt x="8" y="3975"/>
                </a:lnTo>
                <a:lnTo>
                  <a:pt x="25" y="4227"/>
                </a:lnTo>
                <a:lnTo>
                  <a:pt x="50" y="4476"/>
                </a:lnTo>
                <a:lnTo>
                  <a:pt x="84" y="4721"/>
                </a:lnTo>
                <a:lnTo>
                  <a:pt x="125" y="4963"/>
                </a:lnTo>
                <a:lnTo>
                  <a:pt x="174" y="5199"/>
                </a:lnTo>
                <a:lnTo>
                  <a:pt x="231" y="5428"/>
                </a:lnTo>
                <a:lnTo>
                  <a:pt x="295" y="5650"/>
                </a:lnTo>
                <a:lnTo>
                  <a:pt x="366" y="5865"/>
                </a:lnTo>
                <a:lnTo>
                  <a:pt x="445" y="6069"/>
                </a:lnTo>
                <a:lnTo>
                  <a:pt x="530" y="6265"/>
                </a:lnTo>
                <a:lnTo>
                  <a:pt x="621" y="6449"/>
                </a:lnTo>
                <a:lnTo>
                  <a:pt x="719" y="6623"/>
                </a:lnTo>
                <a:lnTo>
                  <a:pt x="822" y="6784"/>
                </a:lnTo>
                <a:lnTo>
                  <a:pt x="930" y="6933"/>
                </a:lnTo>
                <a:lnTo>
                  <a:pt x="1043" y="7068"/>
                </a:lnTo>
                <a:lnTo>
                  <a:pt x="1159" y="7189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Freeform 158"/>
          <p:cNvSpPr/>
          <p:nvPr/>
        </p:nvSpPr>
        <p:spPr>
          <a:xfrm>
            <a:off x="911160" y="3170160"/>
            <a:ext cx="190440" cy="90720"/>
          </a:xfrm>
          <a:custGeom>
            <a:avLst/>
            <a:gdLst>
              <a:gd name="textAreaLeft" fmla="*/ 0 w 190440"/>
              <a:gd name="textAreaRight" fmla="*/ 190800 w 19044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956" h="434">
                <a:moveTo>
                  <a:pt x="956" y="0"/>
                </a:moveTo>
                <a:lnTo>
                  <a:pt x="833" y="6"/>
                </a:lnTo>
                <a:lnTo>
                  <a:pt x="709" y="27"/>
                </a:lnTo>
                <a:lnTo>
                  <a:pt x="586" y="61"/>
                </a:lnTo>
                <a:lnTo>
                  <a:pt x="465" y="110"/>
                </a:lnTo>
                <a:lnTo>
                  <a:pt x="345" y="171"/>
                </a:lnTo>
                <a:lnTo>
                  <a:pt x="228" y="245"/>
                </a:lnTo>
                <a:lnTo>
                  <a:pt x="113" y="333"/>
                </a:lnTo>
                <a:lnTo>
                  <a:pt x="0" y="434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Freeform 159"/>
          <p:cNvSpPr/>
          <p:nvPr/>
        </p:nvSpPr>
        <p:spPr>
          <a:xfrm>
            <a:off x="3730680" y="3170160"/>
            <a:ext cx="423720" cy="1662120"/>
          </a:xfrm>
          <a:custGeom>
            <a:avLst/>
            <a:gdLst>
              <a:gd name="textAreaLeft" fmla="*/ 0 w 423720"/>
              <a:gd name="textAreaRight" fmla="*/ 424080 w 42372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116" h="8057">
                <a:moveTo>
                  <a:pt x="2116" y="0"/>
                </a:moveTo>
                <a:lnTo>
                  <a:pt x="1983" y="7"/>
                </a:lnTo>
                <a:lnTo>
                  <a:pt x="1851" y="32"/>
                </a:lnTo>
                <a:lnTo>
                  <a:pt x="1719" y="71"/>
                </a:lnTo>
                <a:lnTo>
                  <a:pt x="1590" y="126"/>
                </a:lnTo>
                <a:lnTo>
                  <a:pt x="1462" y="197"/>
                </a:lnTo>
                <a:lnTo>
                  <a:pt x="1337" y="282"/>
                </a:lnTo>
                <a:lnTo>
                  <a:pt x="1215" y="383"/>
                </a:lnTo>
                <a:lnTo>
                  <a:pt x="1097" y="497"/>
                </a:lnTo>
                <a:lnTo>
                  <a:pt x="982" y="627"/>
                </a:lnTo>
                <a:lnTo>
                  <a:pt x="872" y="768"/>
                </a:lnTo>
                <a:lnTo>
                  <a:pt x="767" y="924"/>
                </a:lnTo>
                <a:lnTo>
                  <a:pt x="668" y="1091"/>
                </a:lnTo>
                <a:lnTo>
                  <a:pt x="574" y="1270"/>
                </a:lnTo>
                <a:lnTo>
                  <a:pt x="486" y="1460"/>
                </a:lnTo>
                <a:lnTo>
                  <a:pt x="404" y="1660"/>
                </a:lnTo>
                <a:lnTo>
                  <a:pt x="329" y="1870"/>
                </a:lnTo>
                <a:lnTo>
                  <a:pt x="261" y="2088"/>
                </a:lnTo>
                <a:lnTo>
                  <a:pt x="201" y="2313"/>
                </a:lnTo>
                <a:lnTo>
                  <a:pt x="148" y="2545"/>
                </a:lnTo>
                <a:lnTo>
                  <a:pt x="104" y="2783"/>
                </a:lnTo>
                <a:lnTo>
                  <a:pt x="66" y="3027"/>
                </a:lnTo>
                <a:lnTo>
                  <a:pt x="37" y="3274"/>
                </a:lnTo>
                <a:lnTo>
                  <a:pt x="17" y="3524"/>
                </a:lnTo>
                <a:lnTo>
                  <a:pt x="4" y="3776"/>
                </a:lnTo>
                <a:lnTo>
                  <a:pt x="0" y="4029"/>
                </a:lnTo>
                <a:lnTo>
                  <a:pt x="4" y="4282"/>
                </a:lnTo>
                <a:lnTo>
                  <a:pt x="17" y="4534"/>
                </a:lnTo>
                <a:lnTo>
                  <a:pt x="37" y="4784"/>
                </a:lnTo>
                <a:lnTo>
                  <a:pt x="66" y="5030"/>
                </a:lnTo>
                <a:lnTo>
                  <a:pt x="104" y="5274"/>
                </a:lnTo>
                <a:lnTo>
                  <a:pt x="148" y="5512"/>
                </a:lnTo>
                <a:lnTo>
                  <a:pt x="201" y="5744"/>
                </a:lnTo>
                <a:lnTo>
                  <a:pt x="261" y="5969"/>
                </a:lnTo>
                <a:lnTo>
                  <a:pt x="329" y="6188"/>
                </a:lnTo>
                <a:lnTo>
                  <a:pt x="404" y="6397"/>
                </a:lnTo>
                <a:lnTo>
                  <a:pt x="486" y="6597"/>
                </a:lnTo>
                <a:lnTo>
                  <a:pt x="574" y="6787"/>
                </a:lnTo>
                <a:lnTo>
                  <a:pt x="668" y="6966"/>
                </a:lnTo>
                <a:lnTo>
                  <a:pt x="767" y="7133"/>
                </a:lnTo>
                <a:lnTo>
                  <a:pt x="872" y="7289"/>
                </a:lnTo>
                <a:lnTo>
                  <a:pt x="982" y="7431"/>
                </a:lnTo>
                <a:lnTo>
                  <a:pt x="1097" y="7560"/>
                </a:lnTo>
                <a:lnTo>
                  <a:pt x="1215" y="7674"/>
                </a:lnTo>
                <a:lnTo>
                  <a:pt x="1337" y="7775"/>
                </a:lnTo>
                <a:lnTo>
                  <a:pt x="1462" y="7860"/>
                </a:lnTo>
                <a:lnTo>
                  <a:pt x="1590" y="7931"/>
                </a:lnTo>
                <a:lnTo>
                  <a:pt x="1719" y="7986"/>
                </a:lnTo>
                <a:lnTo>
                  <a:pt x="1851" y="8026"/>
                </a:lnTo>
                <a:lnTo>
                  <a:pt x="1983" y="8050"/>
                </a:lnTo>
                <a:lnTo>
                  <a:pt x="2116" y="8057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Freeform 160"/>
          <p:cNvSpPr/>
          <p:nvPr/>
        </p:nvSpPr>
        <p:spPr>
          <a:xfrm>
            <a:off x="4154400" y="3170160"/>
            <a:ext cx="424080" cy="1662120"/>
          </a:xfrm>
          <a:custGeom>
            <a:avLst/>
            <a:gdLst>
              <a:gd name="textAreaLeft" fmla="*/ 0 w 424080"/>
              <a:gd name="textAreaRight" fmla="*/ 424440 w 42408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117" h="8057">
                <a:moveTo>
                  <a:pt x="0" y="0"/>
                </a:moveTo>
                <a:lnTo>
                  <a:pt x="134" y="7"/>
                </a:lnTo>
                <a:lnTo>
                  <a:pt x="266" y="32"/>
                </a:lnTo>
                <a:lnTo>
                  <a:pt x="397" y="71"/>
                </a:lnTo>
                <a:lnTo>
                  <a:pt x="527" y="126"/>
                </a:lnTo>
                <a:lnTo>
                  <a:pt x="655" y="197"/>
                </a:lnTo>
                <a:lnTo>
                  <a:pt x="780" y="282"/>
                </a:lnTo>
                <a:lnTo>
                  <a:pt x="901" y="383"/>
                </a:lnTo>
                <a:lnTo>
                  <a:pt x="1020" y="497"/>
                </a:lnTo>
                <a:lnTo>
                  <a:pt x="1134" y="627"/>
                </a:lnTo>
                <a:lnTo>
                  <a:pt x="1244" y="768"/>
                </a:lnTo>
                <a:lnTo>
                  <a:pt x="1349" y="924"/>
                </a:lnTo>
                <a:lnTo>
                  <a:pt x="1449" y="1091"/>
                </a:lnTo>
                <a:lnTo>
                  <a:pt x="1543" y="1270"/>
                </a:lnTo>
                <a:lnTo>
                  <a:pt x="1631" y="1460"/>
                </a:lnTo>
                <a:lnTo>
                  <a:pt x="1712" y="1660"/>
                </a:lnTo>
                <a:lnTo>
                  <a:pt x="1788" y="1870"/>
                </a:lnTo>
                <a:lnTo>
                  <a:pt x="1855" y="2088"/>
                </a:lnTo>
                <a:lnTo>
                  <a:pt x="1916" y="2313"/>
                </a:lnTo>
                <a:lnTo>
                  <a:pt x="1969" y="2545"/>
                </a:lnTo>
                <a:lnTo>
                  <a:pt x="2013" y="2783"/>
                </a:lnTo>
                <a:lnTo>
                  <a:pt x="2050" y="3027"/>
                </a:lnTo>
                <a:lnTo>
                  <a:pt x="2080" y="3274"/>
                </a:lnTo>
                <a:lnTo>
                  <a:pt x="2100" y="3524"/>
                </a:lnTo>
                <a:lnTo>
                  <a:pt x="2113" y="3776"/>
                </a:lnTo>
                <a:lnTo>
                  <a:pt x="2117" y="4029"/>
                </a:lnTo>
                <a:lnTo>
                  <a:pt x="2113" y="4282"/>
                </a:lnTo>
                <a:lnTo>
                  <a:pt x="2100" y="4534"/>
                </a:lnTo>
                <a:lnTo>
                  <a:pt x="2080" y="4784"/>
                </a:lnTo>
                <a:lnTo>
                  <a:pt x="2050" y="5030"/>
                </a:lnTo>
                <a:lnTo>
                  <a:pt x="2013" y="5274"/>
                </a:lnTo>
                <a:lnTo>
                  <a:pt x="1969" y="5512"/>
                </a:lnTo>
                <a:lnTo>
                  <a:pt x="1916" y="5744"/>
                </a:lnTo>
                <a:lnTo>
                  <a:pt x="1855" y="5969"/>
                </a:lnTo>
                <a:lnTo>
                  <a:pt x="1788" y="6188"/>
                </a:lnTo>
                <a:lnTo>
                  <a:pt x="1712" y="6397"/>
                </a:lnTo>
                <a:lnTo>
                  <a:pt x="1631" y="6597"/>
                </a:lnTo>
                <a:lnTo>
                  <a:pt x="1543" y="6787"/>
                </a:lnTo>
                <a:lnTo>
                  <a:pt x="1449" y="6966"/>
                </a:lnTo>
                <a:lnTo>
                  <a:pt x="1349" y="7133"/>
                </a:lnTo>
                <a:lnTo>
                  <a:pt x="1244" y="7289"/>
                </a:lnTo>
                <a:lnTo>
                  <a:pt x="1134" y="7431"/>
                </a:lnTo>
                <a:lnTo>
                  <a:pt x="1020" y="7560"/>
                </a:lnTo>
                <a:lnTo>
                  <a:pt x="901" y="7674"/>
                </a:lnTo>
                <a:lnTo>
                  <a:pt x="780" y="7775"/>
                </a:lnTo>
                <a:lnTo>
                  <a:pt x="655" y="7860"/>
                </a:lnTo>
                <a:lnTo>
                  <a:pt x="527" y="7931"/>
                </a:lnTo>
                <a:lnTo>
                  <a:pt x="397" y="7986"/>
                </a:lnTo>
                <a:lnTo>
                  <a:pt x="266" y="8026"/>
                </a:lnTo>
                <a:lnTo>
                  <a:pt x="134" y="8050"/>
                </a:lnTo>
                <a:lnTo>
                  <a:pt x="0" y="8057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Line 161"/>
          <p:cNvSpPr/>
          <p:nvPr/>
        </p:nvSpPr>
        <p:spPr>
          <a:xfrm flipH="1">
            <a:off x="279000" y="4002120"/>
            <a:ext cx="398520" cy="144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Line 162"/>
          <p:cNvSpPr/>
          <p:nvPr/>
        </p:nvSpPr>
        <p:spPr>
          <a:xfrm>
            <a:off x="4154400" y="4002120"/>
            <a:ext cx="708120" cy="144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Line 163"/>
          <p:cNvSpPr/>
          <p:nvPr/>
        </p:nvSpPr>
        <p:spPr>
          <a:xfrm>
            <a:off x="1101600" y="4832280"/>
            <a:ext cx="30528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Line 164"/>
          <p:cNvSpPr/>
          <p:nvPr/>
        </p:nvSpPr>
        <p:spPr>
          <a:xfrm>
            <a:off x="1101600" y="3170160"/>
            <a:ext cx="3052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Line 165"/>
          <p:cNvSpPr/>
          <p:nvPr/>
        </p:nvSpPr>
        <p:spPr>
          <a:xfrm>
            <a:off x="911160" y="3260880"/>
            <a:ext cx="2940120" cy="1602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166"/>
          <p:cNvSpPr/>
          <p:nvPr/>
        </p:nvSpPr>
        <p:spPr>
          <a:xfrm>
            <a:off x="752400" y="3532320"/>
            <a:ext cx="3003480" cy="19044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167"/>
          <p:cNvSpPr/>
          <p:nvPr/>
        </p:nvSpPr>
        <p:spPr>
          <a:xfrm>
            <a:off x="687240" y="3841920"/>
            <a:ext cx="3040200" cy="19656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168"/>
          <p:cNvSpPr/>
          <p:nvPr/>
        </p:nvSpPr>
        <p:spPr>
          <a:xfrm>
            <a:off x="687240" y="4160880"/>
            <a:ext cx="3084840" cy="19368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169"/>
          <p:cNvSpPr/>
          <p:nvPr/>
        </p:nvSpPr>
        <p:spPr>
          <a:xfrm>
            <a:off x="752400" y="4471920"/>
            <a:ext cx="3137040" cy="1764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172"/>
          <p:cNvSpPr/>
          <p:nvPr/>
        </p:nvSpPr>
        <p:spPr>
          <a:xfrm>
            <a:off x="687240" y="3841920"/>
            <a:ext cx="176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Freeform 173"/>
          <p:cNvSpPr/>
          <p:nvPr/>
        </p:nvSpPr>
        <p:spPr>
          <a:xfrm>
            <a:off x="2298600" y="3683160"/>
            <a:ext cx="22320" cy="158760"/>
          </a:xfrm>
          <a:custGeom>
            <a:avLst/>
            <a:gdLst>
              <a:gd name="textAreaLeft" fmla="*/ 0 w 22320"/>
              <a:gd name="textAreaRight" fmla="*/ 22680 w 223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09" h="772">
                <a:moveTo>
                  <a:pt x="109" y="772"/>
                </a:moveTo>
                <a:lnTo>
                  <a:pt x="64" y="38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Freeform 174"/>
          <p:cNvSpPr/>
          <p:nvPr/>
        </p:nvSpPr>
        <p:spPr>
          <a:xfrm>
            <a:off x="2320920" y="3948120"/>
            <a:ext cx="6480" cy="209520"/>
          </a:xfrm>
          <a:custGeom>
            <a:avLst/>
            <a:gdLst>
              <a:gd name="textAreaLeft" fmla="*/ 0 w 6480"/>
              <a:gd name="textAreaRight" fmla="*/ 6840 w 6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34" h="1017">
                <a:moveTo>
                  <a:pt x="0" y="1017"/>
                </a:moveTo>
                <a:lnTo>
                  <a:pt x="24" y="678"/>
                </a:lnTo>
                <a:lnTo>
                  <a:pt x="34" y="339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Freeform 175"/>
          <p:cNvSpPr/>
          <p:nvPr/>
        </p:nvSpPr>
        <p:spPr>
          <a:xfrm>
            <a:off x="504720" y="3630600"/>
            <a:ext cx="44640" cy="730440"/>
          </a:xfrm>
          <a:custGeom>
            <a:avLst/>
            <a:gdLst>
              <a:gd name="textAreaLeft" fmla="*/ 0 w 44640"/>
              <a:gd name="textAreaRight" fmla="*/ 45000 w 4464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221" h="3540">
                <a:moveTo>
                  <a:pt x="221" y="0"/>
                </a:moveTo>
                <a:lnTo>
                  <a:pt x="168" y="222"/>
                </a:lnTo>
                <a:lnTo>
                  <a:pt x="122" y="450"/>
                </a:lnTo>
                <a:lnTo>
                  <a:pt x="82" y="683"/>
                </a:lnTo>
                <a:lnTo>
                  <a:pt x="51" y="919"/>
                </a:lnTo>
                <a:lnTo>
                  <a:pt x="26" y="1159"/>
                </a:lnTo>
                <a:lnTo>
                  <a:pt x="9" y="1402"/>
                </a:lnTo>
                <a:lnTo>
                  <a:pt x="1" y="1645"/>
                </a:lnTo>
                <a:lnTo>
                  <a:pt x="0" y="1890"/>
                </a:lnTo>
                <a:lnTo>
                  <a:pt x="7" y="2133"/>
                </a:lnTo>
                <a:lnTo>
                  <a:pt x="21" y="2376"/>
                </a:lnTo>
                <a:lnTo>
                  <a:pt x="43" y="2617"/>
                </a:lnTo>
                <a:lnTo>
                  <a:pt x="74" y="2854"/>
                </a:lnTo>
                <a:lnTo>
                  <a:pt x="111" y="3088"/>
                </a:lnTo>
                <a:lnTo>
                  <a:pt x="155" y="3317"/>
                </a:lnTo>
                <a:lnTo>
                  <a:pt x="207" y="3540"/>
                </a:lnTo>
              </a:path>
            </a:pathLst>
          </a:custGeom>
          <a:noFill/>
          <a:ln w="5724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Freeform 176"/>
          <p:cNvSpPr/>
          <p:nvPr/>
        </p:nvSpPr>
        <p:spPr>
          <a:xfrm>
            <a:off x="3911760" y="3630600"/>
            <a:ext cx="44280" cy="730440"/>
          </a:xfrm>
          <a:custGeom>
            <a:avLst/>
            <a:gdLst>
              <a:gd name="textAreaLeft" fmla="*/ 0 w 44280"/>
              <a:gd name="textAreaRight" fmla="*/ 44640 w 4428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221" h="3540">
                <a:moveTo>
                  <a:pt x="221" y="0"/>
                </a:moveTo>
                <a:lnTo>
                  <a:pt x="167" y="222"/>
                </a:lnTo>
                <a:lnTo>
                  <a:pt x="121" y="450"/>
                </a:lnTo>
                <a:lnTo>
                  <a:pt x="82" y="683"/>
                </a:lnTo>
                <a:lnTo>
                  <a:pt x="50" y="919"/>
                </a:lnTo>
                <a:lnTo>
                  <a:pt x="26" y="1159"/>
                </a:lnTo>
                <a:lnTo>
                  <a:pt x="10" y="1402"/>
                </a:lnTo>
                <a:lnTo>
                  <a:pt x="1" y="1645"/>
                </a:lnTo>
                <a:lnTo>
                  <a:pt x="0" y="1890"/>
                </a:lnTo>
                <a:lnTo>
                  <a:pt x="6" y="2133"/>
                </a:lnTo>
                <a:lnTo>
                  <a:pt x="21" y="2376"/>
                </a:lnTo>
                <a:lnTo>
                  <a:pt x="44" y="2617"/>
                </a:lnTo>
                <a:lnTo>
                  <a:pt x="73" y="2854"/>
                </a:lnTo>
                <a:lnTo>
                  <a:pt x="111" y="3088"/>
                </a:lnTo>
                <a:lnTo>
                  <a:pt x="156" y="3317"/>
                </a:lnTo>
                <a:lnTo>
                  <a:pt x="208" y="3540"/>
                </a:lnTo>
              </a:path>
            </a:pathLst>
          </a:custGeom>
          <a:noFill/>
          <a:ln w="5724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Freeform 179"/>
          <p:cNvSpPr/>
          <p:nvPr/>
        </p:nvSpPr>
        <p:spPr>
          <a:xfrm>
            <a:off x="1595520" y="3902040"/>
            <a:ext cx="14040" cy="317520"/>
          </a:xfrm>
          <a:custGeom>
            <a:avLst/>
            <a:gdLst>
              <a:gd name="textAreaLeft" fmla="*/ 0 w 14040"/>
              <a:gd name="textAreaRight" fmla="*/ 14400 w 140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4" h="1540">
                <a:moveTo>
                  <a:pt x="16" y="0"/>
                </a:moveTo>
                <a:lnTo>
                  <a:pt x="5" y="220"/>
                </a:lnTo>
                <a:lnTo>
                  <a:pt x="0" y="442"/>
                </a:lnTo>
                <a:lnTo>
                  <a:pt x="2" y="665"/>
                </a:lnTo>
                <a:lnTo>
                  <a:pt x="10" y="886"/>
                </a:lnTo>
                <a:lnTo>
                  <a:pt x="25" y="1106"/>
                </a:lnTo>
                <a:lnTo>
                  <a:pt x="46" y="1324"/>
                </a:lnTo>
                <a:lnTo>
                  <a:pt x="74" y="15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Freeform 180"/>
          <p:cNvSpPr/>
          <p:nvPr/>
        </p:nvSpPr>
        <p:spPr>
          <a:xfrm>
            <a:off x="1289160" y="3881520"/>
            <a:ext cx="12600" cy="318960"/>
          </a:xfrm>
          <a:custGeom>
            <a:avLst/>
            <a:gdLst>
              <a:gd name="textAreaLeft" fmla="*/ 0 w 12600"/>
              <a:gd name="textAreaRight" fmla="*/ 12960 w 12600"/>
              <a:gd name="textAreaTop" fmla="*/ 0 h 318960"/>
              <a:gd name="textAreaBottom" fmla="*/ 318960 h 318960"/>
            </a:gdLst>
            <a:ahLst/>
            <a:rect l="textAreaLeft" t="textAreaTop" r="textAreaRight" b="textAreaBottom"/>
            <a:pathLst>
              <a:path w="61" h="1542">
                <a:moveTo>
                  <a:pt x="21" y="0"/>
                </a:moveTo>
                <a:lnTo>
                  <a:pt x="8" y="221"/>
                </a:lnTo>
                <a:lnTo>
                  <a:pt x="1" y="442"/>
                </a:lnTo>
                <a:lnTo>
                  <a:pt x="0" y="663"/>
                </a:lnTo>
                <a:lnTo>
                  <a:pt x="6" y="885"/>
                </a:lnTo>
                <a:lnTo>
                  <a:pt x="17" y="1106"/>
                </a:lnTo>
                <a:lnTo>
                  <a:pt x="36" y="1325"/>
                </a:lnTo>
                <a:lnTo>
                  <a:pt x="61" y="15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Text Box 181"/>
          <p:cNvSpPr/>
          <p:nvPr/>
        </p:nvSpPr>
        <p:spPr>
          <a:xfrm>
            <a:off x="1150920" y="15987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Text Box 182"/>
          <p:cNvSpPr/>
          <p:nvPr/>
        </p:nvSpPr>
        <p:spPr>
          <a:xfrm>
            <a:off x="1150920" y="20415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Text Box 183"/>
          <p:cNvSpPr/>
          <p:nvPr/>
        </p:nvSpPr>
        <p:spPr>
          <a:xfrm>
            <a:off x="1585800" y="204156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Text Box 184"/>
          <p:cNvSpPr/>
          <p:nvPr/>
        </p:nvSpPr>
        <p:spPr>
          <a:xfrm>
            <a:off x="1585800" y="159228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185"/>
          <p:cNvSpPr/>
          <p:nvPr/>
        </p:nvSpPr>
        <p:spPr>
          <a:xfrm>
            <a:off x="1096920" y="361800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 Box 186"/>
          <p:cNvSpPr/>
          <p:nvPr/>
        </p:nvSpPr>
        <p:spPr>
          <a:xfrm>
            <a:off x="1585800" y="41734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Text Box 187"/>
          <p:cNvSpPr/>
          <p:nvPr/>
        </p:nvSpPr>
        <p:spPr>
          <a:xfrm>
            <a:off x="1531800" y="367344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Text Box 188"/>
          <p:cNvSpPr/>
          <p:nvPr/>
        </p:nvSpPr>
        <p:spPr>
          <a:xfrm>
            <a:off x="1096920" y="417348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Text Box 189"/>
          <p:cNvSpPr/>
          <p:nvPr/>
        </p:nvSpPr>
        <p:spPr>
          <a:xfrm>
            <a:off x="3821040" y="4289400"/>
            <a:ext cx="5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Text Box 190"/>
          <p:cNvSpPr/>
          <p:nvPr/>
        </p:nvSpPr>
        <p:spPr>
          <a:xfrm>
            <a:off x="387360" y="333684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Freeform 191"/>
          <p:cNvSpPr/>
          <p:nvPr/>
        </p:nvSpPr>
        <p:spPr>
          <a:xfrm>
            <a:off x="560520" y="1598760"/>
            <a:ext cx="44280" cy="728640"/>
          </a:xfrm>
          <a:custGeom>
            <a:avLst/>
            <a:gdLst>
              <a:gd name="textAreaLeft" fmla="*/ 0 w 44280"/>
              <a:gd name="textAreaRight" fmla="*/ 44640 w 4428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21" h="3540">
                <a:moveTo>
                  <a:pt x="221" y="0"/>
                </a:moveTo>
                <a:lnTo>
                  <a:pt x="168" y="222"/>
                </a:lnTo>
                <a:lnTo>
                  <a:pt x="122" y="450"/>
                </a:lnTo>
                <a:lnTo>
                  <a:pt x="82" y="683"/>
                </a:lnTo>
                <a:lnTo>
                  <a:pt x="51" y="919"/>
                </a:lnTo>
                <a:lnTo>
                  <a:pt x="26" y="1159"/>
                </a:lnTo>
                <a:lnTo>
                  <a:pt x="9" y="1402"/>
                </a:lnTo>
                <a:lnTo>
                  <a:pt x="1" y="1645"/>
                </a:lnTo>
                <a:lnTo>
                  <a:pt x="0" y="1890"/>
                </a:lnTo>
                <a:lnTo>
                  <a:pt x="7" y="2133"/>
                </a:lnTo>
                <a:lnTo>
                  <a:pt x="21" y="2376"/>
                </a:lnTo>
                <a:lnTo>
                  <a:pt x="43" y="2617"/>
                </a:lnTo>
                <a:lnTo>
                  <a:pt x="74" y="2854"/>
                </a:lnTo>
                <a:lnTo>
                  <a:pt x="111" y="3088"/>
                </a:lnTo>
                <a:lnTo>
                  <a:pt x="155" y="3317"/>
                </a:lnTo>
                <a:lnTo>
                  <a:pt x="207" y="3540"/>
                </a:lnTo>
              </a:path>
            </a:pathLst>
          </a:custGeom>
          <a:noFill/>
          <a:ln w="5724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 Box 192"/>
          <p:cNvSpPr/>
          <p:nvPr/>
        </p:nvSpPr>
        <p:spPr>
          <a:xfrm>
            <a:off x="442800" y="1303200"/>
            <a:ext cx="5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Freeform 193"/>
          <p:cNvSpPr/>
          <p:nvPr/>
        </p:nvSpPr>
        <p:spPr>
          <a:xfrm>
            <a:off x="3911760" y="1555920"/>
            <a:ext cx="44280" cy="730080"/>
          </a:xfrm>
          <a:custGeom>
            <a:avLst/>
            <a:gdLst>
              <a:gd name="textAreaLeft" fmla="*/ 0 w 44280"/>
              <a:gd name="textAreaRight" fmla="*/ 44640 w 4428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21" h="3540">
                <a:moveTo>
                  <a:pt x="221" y="0"/>
                </a:moveTo>
                <a:lnTo>
                  <a:pt x="167" y="222"/>
                </a:lnTo>
                <a:lnTo>
                  <a:pt x="121" y="450"/>
                </a:lnTo>
                <a:lnTo>
                  <a:pt x="82" y="683"/>
                </a:lnTo>
                <a:lnTo>
                  <a:pt x="50" y="919"/>
                </a:lnTo>
                <a:lnTo>
                  <a:pt x="26" y="1159"/>
                </a:lnTo>
                <a:lnTo>
                  <a:pt x="10" y="1402"/>
                </a:lnTo>
                <a:lnTo>
                  <a:pt x="1" y="1645"/>
                </a:lnTo>
                <a:lnTo>
                  <a:pt x="0" y="1890"/>
                </a:lnTo>
                <a:lnTo>
                  <a:pt x="6" y="2133"/>
                </a:lnTo>
                <a:lnTo>
                  <a:pt x="21" y="2376"/>
                </a:lnTo>
                <a:lnTo>
                  <a:pt x="44" y="2617"/>
                </a:lnTo>
                <a:lnTo>
                  <a:pt x="73" y="2854"/>
                </a:lnTo>
                <a:lnTo>
                  <a:pt x="111" y="3088"/>
                </a:lnTo>
                <a:lnTo>
                  <a:pt x="156" y="3317"/>
                </a:lnTo>
                <a:lnTo>
                  <a:pt x="208" y="3540"/>
                </a:lnTo>
              </a:path>
            </a:pathLst>
          </a:custGeom>
          <a:noFill/>
          <a:ln w="5724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Text Box 194"/>
          <p:cNvSpPr/>
          <p:nvPr/>
        </p:nvSpPr>
        <p:spPr>
          <a:xfrm>
            <a:off x="3821040" y="2214720"/>
            <a:ext cx="5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Text Box 195"/>
          <p:cNvSpPr/>
          <p:nvPr/>
        </p:nvSpPr>
        <p:spPr>
          <a:xfrm>
            <a:off x="2354400" y="3693960"/>
            <a:ext cx="4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Line 213"/>
          <p:cNvSpPr/>
          <p:nvPr/>
        </p:nvSpPr>
        <p:spPr>
          <a:xfrm>
            <a:off x="3159000" y="4824360"/>
            <a:ext cx="1800" cy="21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Line 214"/>
          <p:cNvSpPr/>
          <p:nvPr/>
        </p:nvSpPr>
        <p:spPr>
          <a:xfrm>
            <a:off x="3460680" y="4824360"/>
            <a:ext cx="1800" cy="21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Line 215"/>
          <p:cNvSpPr/>
          <p:nvPr/>
        </p:nvSpPr>
        <p:spPr>
          <a:xfrm>
            <a:off x="3162240" y="4979880"/>
            <a:ext cx="29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Text Box 216"/>
          <p:cNvSpPr/>
          <p:nvPr/>
        </p:nvSpPr>
        <p:spPr>
          <a:xfrm>
            <a:off x="3124080" y="474804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Line 217"/>
          <p:cNvSpPr/>
          <p:nvPr/>
        </p:nvSpPr>
        <p:spPr>
          <a:xfrm>
            <a:off x="3235320" y="2790720"/>
            <a:ext cx="1440" cy="21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Line 218"/>
          <p:cNvSpPr/>
          <p:nvPr/>
        </p:nvSpPr>
        <p:spPr>
          <a:xfrm>
            <a:off x="3537000" y="2790720"/>
            <a:ext cx="1440" cy="21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Line 219"/>
          <p:cNvSpPr/>
          <p:nvPr/>
        </p:nvSpPr>
        <p:spPr>
          <a:xfrm>
            <a:off x="3238560" y="2946240"/>
            <a:ext cx="29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Text Box 220"/>
          <p:cNvSpPr/>
          <p:nvPr/>
        </p:nvSpPr>
        <p:spPr>
          <a:xfrm>
            <a:off x="3198960" y="272736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AutoShape 221">
            <a:hlinkClick r:id="" action="ppaction://hlinkshowjump?jump=nextslide"/>
            <a:hlinkClick r:id="rId1"/>
          </p:cNvPr>
          <p:cNvSpPr/>
          <p:nvPr/>
        </p:nvSpPr>
        <p:spPr>
          <a:xfrm>
            <a:off x="8143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Text Box 224"/>
          <p:cNvSpPr/>
          <p:nvPr/>
        </p:nvSpPr>
        <p:spPr>
          <a:xfrm>
            <a:off x="5586480" y="1654200"/>
            <a:ext cx="3348000" cy="28598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变形前后圆周线的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形状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大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不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相邻圆周线的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间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保持不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纵向线近似保持直线，并且</a:t>
            </a:r>
            <a:r>
              <a:rPr b="1" i="1" lang="zh-CN" sz="2400" spc="-1" strike="noStrike">
                <a:solidFill>
                  <a:srgbClr val="ffcf01"/>
                </a:solidFill>
                <a:latin typeface="Arial"/>
              </a:rPr>
              <a:t>倾斜了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相同</a:t>
            </a:r>
            <a:r>
              <a:rPr b="1" i="1" lang="zh-CN" sz="2400" spc="-1" strike="noStrike">
                <a:solidFill>
                  <a:srgbClr val="ffcf01"/>
                </a:solidFill>
                <a:latin typeface="Arial"/>
              </a:rPr>
              <a:t>的角度</a:t>
            </a:r>
            <a:r>
              <a:rPr b="1" i="1" lang="el-GR" sz="2400" spc="-1" strike="noStrike">
                <a:solidFill>
                  <a:srgbClr val="ffcf01"/>
                </a:solidFill>
                <a:latin typeface="Arial"/>
                <a:ea typeface="Arial"/>
              </a:rPr>
              <a:t>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轴表面的</a:t>
            </a:r>
            <a:r>
              <a:rPr b="1" i="1" lang="zh-CN" sz="2400" spc="-1" strike="noStrike">
                <a:solidFill>
                  <a:srgbClr val="00ffff"/>
                </a:solidFill>
                <a:latin typeface="Arial"/>
                <a:ea typeface="Arial"/>
              </a:rPr>
              <a:t>矩形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网格变成了</a:t>
            </a:r>
            <a:r>
              <a:rPr b="1" i="1" lang="zh-CN" sz="2400" spc="-1" strike="noStrike">
                <a:solidFill>
                  <a:srgbClr val="00ffff"/>
                </a:solidFill>
                <a:latin typeface="Arial"/>
                <a:ea typeface="Arial"/>
              </a:rPr>
              <a:t>平行四边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227"/>
          <p:cNvSpPr/>
          <p:nvPr/>
        </p:nvSpPr>
        <p:spPr>
          <a:xfrm flipV="1">
            <a:off x="3043080" y="5757480"/>
            <a:ext cx="0" cy="7016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Line 228"/>
          <p:cNvSpPr/>
          <p:nvPr/>
        </p:nvSpPr>
        <p:spPr>
          <a:xfrm flipV="1">
            <a:off x="1776240" y="5579640"/>
            <a:ext cx="0" cy="701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9" name="Object 230"/>
          <p:cNvGraphicFramePr/>
          <p:nvPr/>
        </p:nvGraphicFramePr>
        <p:xfrm>
          <a:off x="3011400" y="5904000"/>
          <a:ext cx="304920" cy="33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0" name="Object 2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1400" y="5904000"/>
                    <a:ext cx="30492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1" name="Object 231"/>
          <p:cNvGraphicFramePr/>
          <p:nvPr/>
        </p:nvGraphicFramePr>
        <p:xfrm>
          <a:off x="1514520" y="5815080"/>
          <a:ext cx="304920" cy="33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2" name="Object 2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14520" y="5815080"/>
                    <a:ext cx="30492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3" name="Freeform 235"/>
          <p:cNvSpPr/>
          <p:nvPr/>
        </p:nvSpPr>
        <p:spPr>
          <a:xfrm rot="2355000">
            <a:off x="2446200" y="5325840"/>
            <a:ext cx="82800" cy="169560"/>
          </a:xfrm>
          <a:custGeom>
            <a:avLst/>
            <a:gdLst>
              <a:gd name="textAreaLeft" fmla="*/ 0 w 82800"/>
              <a:gd name="textAreaRight" fmla="*/ 83160 w 828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194" h="853">
                <a:moveTo>
                  <a:pt x="194" y="853"/>
                </a:moveTo>
                <a:lnTo>
                  <a:pt x="186" y="678"/>
                </a:lnTo>
                <a:lnTo>
                  <a:pt x="162" y="502"/>
                </a:lnTo>
                <a:lnTo>
                  <a:pt x="123" y="330"/>
                </a:lnTo>
                <a:lnTo>
                  <a:pt x="70" y="16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Text Box 236"/>
          <p:cNvSpPr/>
          <p:nvPr/>
        </p:nvSpPr>
        <p:spPr>
          <a:xfrm>
            <a:off x="2433600" y="5205240"/>
            <a:ext cx="4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Rectangle 237"/>
          <p:cNvSpPr/>
          <p:nvPr/>
        </p:nvSpPr>
        <p:spPr>
          <a:xfrm>
            <a:off x="6594840" y="89388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Webdings"/>
                <a:ea typeface="Webdings"/>
                <a:hlinkClick r:id="rId6"/>
              </a:rPr>
              <a:t>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Rectangle 238"/>
          <p:cNvSpPr/>
          <p:nvPr/>
        </p:nvSpPr>
        <p:spPr>
          <a:xfrm>
            <a:off x="4938840" y="249228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Webdings"/>
                <a:ea typeface="Webdings"/>
                <a:hlinkClick r:id="rId7"/>
              </a:rPr>
              <a:t>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Freeform 227"/>
          <p:cNvSpPr/>
          <p:nvPr/>
        </p:nvSpPr>
        <p:spPr>
          <a:xfrm>
            <a:off x="5021280" y="1989000"/>
            <a:ext cx="3878280" cy="2414880"/>
          </a:xfrm>
          <a:custGeom>
            <a:avLst/>
            <a:gdLst>
              <a:gd name="textAreaLeft" fmla="*/ 0 w 3878280"/>
              <a:gd name="textAreaRight" fmla="*/ 3878640 w 3878280"/>
              <a:gd name="textAreaTop" fmla="*/ 0 h 2414880"/>
              <a:gd name="textAreaBottom" fmla="*/ 2415240 h 2414880"/>
            </a:gdLst>
            <a:ahLst/>
            <a:rect l="textAreaLeft" t="textAreaTop" r="textAreaRight" b="textAreaBottom"/>
            <a:pathLst>
              <a:path w="14661" h="9124">
                <a:moveTo>
                  <a:pt x="8775" y="0"/>
                </a:moveTo>
                <a:lnTo>
                  <a:pt x="0" y="9124"/>
                </a:lnTo>
                <a:lnTo>
                  <a:pt x="5886" y="9124"/>
                </a:lnTo>
                <a:lnTo>
                  <a:pt x="14661" y="0"/>
                </a:lnTo>
                <a:lnTo>
                  <a:pt x="8775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Freeform 226"/>
          <p:cNvSpPr/>
          <p:nvPr/>
        </p:nvSpPr>
        <p:spPr>
          <a:xfrm>
            <a:off x="6578640" y="1989000"/>
            <a:ext cx="2320920" cy="351504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3515040"/>
              <a:gd name="textAreaBottom" fmla="*/ 3515400 h 3515040"/>
            </a:gdLst>
            <a:ahLst/>
            <a:rect l="textAreaLeft" t="textAreaTop" r="textAreaRight" b="textAreaBottom"/>
            <a:pathLst>
              <a:path w="8775" h="13282">
                <a:moveTo>
                  <a:pt x="0" y="13282"/>
                </a:moveTo>
                <a:lnTo>
                  <a:pt x="0" y="9124"/>
                </a:lnTo>
                <a:lnTo>
                  <a:pt x="8775" y="0"/>
                </a:lnTo>
                <a:lnTo>
                  <a:pt x="0" y="13282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Rectangle 228"/>
          <p:cNvSpPr/>
          <p:nvPr/>
        </p:nvSpPr>
        <p:spPr>
          <a:xfrm>
            <a:off x="5021280" y="4394160"/>
            <a:ext cx="1557360" cy="1100160"/>
          </a:xfrm>
          <a:prstGeom prst="rect">
            <a:avLst/>
          </a:prstGeom>
          <a:solidFill>
            <a:srgbClr val="f7fd0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Freeform 143"/>
          <p:cNvSpPr/>
          <p:nvPr/>
        </p:nvSpPr>
        <p:spPr>
          <a:xfrm>
            <a:off x="1851120" y="1709640"/>
            <a:ext cx="330120" cy="166680"/>
          </a:xfrm>
          <a:custGeom>
            <a:avLst/>
            <a:gdLst>
              <a:gd name="textAreaLeft" fmla="*/ 0 w 330120"/>
              <a:gd name="textAreaRight" fmla="*/ 330480 w 3301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47" h="629">
                <a:moveTo>
                  <a:pt x="605" y="0"/>
                </a:moveTo>
                <a:lnTo>
                  <a:pt x="0" y="629"/>
                </a:lnTo>
                <a:lnTo>
                  <a:pt x="643" y="629"/>
                </a:lnTo>
                <a:lnTo>
                  <a:pt x="1247" y="0"/>
                </a:lnTo>
                <a:lnTo>
                  <a:pt x="605" y="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Freeform 88"/>
          <p:cNvSpPr/>
          <p:nvPr/>
        </p:nvSpPr>
        <p:spPr>
          <a:xfrm>
            <a:off x="1576440" y="4272120"/>
            <a:ext cx="1025640" cy="9190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3881" h="3472">
                <a:moveTo>
                  <a:pt x="541" y="3472"/>
                </a:moveTo>
                <a:lnTo>
                  <a:pt x="3881" y="0"/>
                </a:lnTo>
                <a:lnTo>
                  <a:pt x="0" y="1658"/>
                </a:lnTo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Freeform 90"/>
          <p:cNvSpPr/>
          <p:nvPr/>
        </p:nvSpPr>
        <p:spPr>
          <a:xfrm>
            <a:off x="636480" y="4272120"/>
            <a:ext cx="1965600" cy="438120"/>
          </a:xfrm>
          <a:custGeom>
            <a:avLst/>
            <a:gdLst>
              <a:gd name="textAreaLeft" fmla="*/ 0 w 1965600"/>
              <a:gd name="textAreaRight" fmla="*/ 1965960 w 19656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7432" h="1658">
                <a:moveTo>
                  <a:pt x="3881" y="0"/>
                </a:moveTo>
                <a:lnTo>
                  <a:pt x="0" y="1658"/>
                </a:lnTo>
                <a:lnTo>
                  <a:pt x="3551" y="1658"/>
                </a:lnTo>
                <a:lnTo>
                  <a:pt x="7432" y="0"/>
                </a:lnTo>
                <a:lnTo>
                  <a:pt x="3881" y="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Freeform 86"/>
          <p:cNvSpPr/>
          <p:nvPr/>
        </p:nvSpPr>
        <p:spPr>
          <a:xfrm>
            <a:off x="636480" y="4710240"/>
            <a:ext cx="939960" cy="480960"/>
          </a:xfrm>
          <a:custGeom>
            <a:avLst/>
            <a:gdLst>
              <a:gd name="textAreaLeft" fmla="*/ 0 w 939960"/>
              <a:gd name="textAreaRight" fmla="*/ 940320 w 9399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3551" h="1814">
                <a:moveTo>
                  <a:pt x="0" y="0"/>
                </a:moveTo>
                <a:lnTo>
                  <a:pt x="3551" y="0"/>
                </a:lnTo>
                <a:lnTo>
                  <a:pt x="541" y="1814"/>
                </a:lnTo>
              </a:path>
            </a:pathLst>
          </a:custGeom>
          <a:solidFill>
            <a:srgbClr val="f7fd03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Freeform 85"/>
          <p:cNvSpPr/>
          <p:nvPr/>
        </p:nvSpPr>
        <p:spPr>
          <a:xfrm>
            <a:off x="797040" y="4700520"/>
            <a:ext cx="939600" cy="479520"/>
          </a:xfrm>
          <a:custGeom>
            <a:avLst/>
            <a:gdLst>
              <a:gd name="textAreaLeft" fmla="*/ 0 w 939600"/>
              <a:gd name="textAreaRight" fmla="*/ 939960 w 9396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3551" h="1815">
                <a:moveTo>
                  <a:pt x="3010" y="0"/>
                </a:moveTo>
                <a:lnTo>
                  <a:pt x="0" y="1815"/>
                </a:lnTo>
                <a:lnTo>
                  <a:pt x="3551" y="1815"/>
                </a:lnTo>
              </a:path>
            </a:pathLst>
          </a:custGeom>
          <a:solidFill>
            <a:srgbClr val="f7fd03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Text Box 6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Line 59"/>
          <p:cNvSpPr/>
          <p:nvPr/>
        </p:nvSpPr>
        <p:spPr>
          <a:xfrm>
            <a:off x="1663560" y="5916600"/>
            <a:ext cx="938520" cy="1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Line 60"/>
          <p:cNvSpPr/>
          <p:nvPr/>
        </p:nvSpPr>
        <p:spPr>
          <a:xfrm>
            <a:off x="1655640" y="2627280"/>
            <a:ext cx="946440" cy="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Freeform 61"/>
          <p:cNvSpPr/>
          <p:nvPr/>
        </p:nvSpPr>
        <p:spPr>
          <a:xfrm>
            <a:off x="598320" y="2627280"/>
            <a:ext cx="1065240" cy="208296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2082960"/>
              <a:gd name="textAreaBottom" fmla="*/ 2083320 h 2082960"/>
            </a:gdLst>
            <a:ahLst/>
            <a:rect l="textAreaLeft" t="textAreaTop" r="textAreaRight" b="textAreaBottom"/>
            <a:pathLst>
              <a:path w="4026" h="7872">
                <a:moveTo>
                  <a:pt x="4026" y="0"/>
                </a:moveTo>
                <a:lnTo>
                  <a:pt x="3835" y="6"/>
                </a:lnTo>
                <a:lnTo>
                  <a:pt x="3645" y="27"/>
                </a:lnTo>
                <a:lnTo>
                  <a:pt x="3457" y="62"/>
                </a:lnTo>
                <a:lnTo>
                  <a:pt x="3270" y="110"/>
                </a:lnTo>
                <a:lnTo>
                  <a:pt x="3084" y="172"/>
                </a:lnTo>
                <a:lnTo>
                  <a:pt x="2900" y="248"/>
                </a:lnTo>
                <a:lnTo>
                  <a:pt x="2719" y="335"/>
                </a:lnTo>
                <a:lnTo>
                  <a:pt x="2541" y="437"/>
                </a:lnTo>
                <a:lnTo>
                  <a:pt x="2366" y="552"/>
                </a:lnTo>
                <a:lnTo>
                  <a:pt x="2195" y="680"/>
                </a:lnTo>
                <a:lnTo>
                  <a:pt x="2028" y="818"/>
                </a:lnTo>
                <a:lnTo>
                  <a:pt x="1866" y="970"/>
                </a:lnTo>
                <a:lnTo>
                  <a:pt x="1708" y="1134"/>
                </a:lnTo>
                <a:lnTo>
                  <a:pt x="1554" y="1307"/>
                </a:lnTo>
                <a:lnTo>
                  <a:pt x="1407" y="1493"/>
                </a:lnTo>
                <a:lnTo>
                  <a:pt x="1266" y="1690"/>
                </a:lnTo>
                <a:lnTo>
                  <a:pt x="1131" y="1895"/>
                </a:lnTo>
                <a:lnTo>
                  <a:pt x="1002" y="2111"/>
                </a:lnTo>
                <a:lnTo>
                  <a:pt x="880" y="2336"/>
                </a:lnTo>
                <a:lnTo>
                  <a:pt x="764" y="2570"/>
                </a:lnTo>
                <a:lnTo>
                  <a:pt x="657" y="2811"/>
                </a:lnTo>
                <a:lnTo>
                  <a:pt x="557" y="3060"/>
                </a:lnTo>
                <a:lnTo>
                  <a:pt x="465" y="3316"/>
                </a:lnTo>
                <a:lnTo>
                  <a:pt x="380" y="3579"/>
                </a:lnTo>
                <a:lnTo>
                  <a:pt x="303" y="3846"/>
                </a:lnTo>
                <a:lnTo>
                  <a:pt x="235" y="4121"/>
                </a:lnTo>
                <a:lnTo>
                  <a:pt x="175" y="4399"/>
                </a:lnTo>
                <a:lnTo>
                  <a:pt x="124" y="4682"/>
                </a:lnTo>
                <a:lnTo>
                  <a:pt x="81" y="4968"/>
                </a:lnTo>
                <a:lnTo>
                  <a:pt x="48" y="5256"/>
                </a:lnTo>
                <a:lnTo>
                  <a:pt x="23" y="5547"/>
                </a:lnTo>
                <a:lnTo>
                  <a:pt x="7" y="5839"/>
                </a:lnTo>
                <a:lnTo>
                  <a:pt x="0" y="6132"/>
                </a:lnTo>
                <a:lnTo>
                  <a:pt x="2" y="6426"/>
                </a:lnTo>
                <a:lnTo>
                  <a:pt x="13" y="6718"/>
                </a:lnTo>
                <a:lnTo>
                  <a:pt x="33" y="7010"/>
                </a:lnTo>
                <a:lnTo>
                  <a:pt x="61" y="7300"/>
                </a:lnTo>
                <a:lnTo>
                  <a:pt x="99" y="7587"/>
                </a:lnTo>
                <a:lnTo>
                  <a:pt x="145" y="7872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Freeform 62"/>
          <p:cNvSpPr/>
          <p:nvPr/>
        </p:nvSpPr>
        <p:spPr>
          <a:xfrm>
            <a:off x="1538280" y="2627280"/>
            <a:ext cx="1063800" cy="2082960"/>
          </a:xfrm>
          <a:custGeom>
            <a:avLst/>
            <a:gdLst>
              <a:gd name="textAreaLeft" fmla="*/ 0 w 1063800"/>
              <a:gd name="textAreaRight" fmla="*/ 1064160 w 1063800"/>
              <a:gd name="textAreaTop" fmla="*/ 0 h 2082960"/>
              <a:gd name="textAreaBottom" fmla="*/ 2083320 h 2082960"/>
            </a:gdLst>
            <a:ahLst/>
            <a:rect l="textAreaLeft" t="textAreaTop" r="textAreaRight" b="textAreaBottom"/>
            <a:pathLst>
              <a:path w="4026" h="7872">
                <a:moveTo>
                  <a:pt x="4026" y="0"/>
                </a:moveTo>
                <a:lnTo>
                  <a:pt x="3836" y="6"/>
                </a:lnTo>
                <a:lnTo>
                  <a:pt x="3647" y="27"/>
                </a:lnTo>
                <a:lnTo>
                  <a:pt x="3457" y="62"/>
                </a:lnTo>
                <a:lnTo>
                  <a:pt x="3270" y="110"/>
                </a:lnTo>
                <a:lnTo>
                  <a:pt x="3085" y="172"/>
                </a:lnTo>
                <a:lnTo>
                  <a:pt x="2900" y="248"/>
                </a:lnTo>
                <a:lnTo>
                  <a:pt x="2719" y="335"/>
                </a:lnTo>
                <a:lnTo>
                  <a:pt x="2541" y="437"/>
                </a:lnTo>
                <a:lnTo>
                  <a:pt x="2367" y="552"/>
                </a:lnTo>
                <a:lnTo>
                  <a:pt x="2195" y="680"/>
                </a:lnTo>
                <a:lnTo>
                  <a:pt x="2028" y="818"/>
                </a:lnTo>
                <a:lnTo>
                  <a:pt x="1866" y="970"/>
                </a:lnTo>
                <a:lnTo>
                  <a:pt x="1708" y="1134"/>
                </a:lnTo>
                <a:lnTo>
                  <a:pt x="1555" y="1307"/>
                </a:lnTo>
                <a:lnTo>
                  <a:pt x="1407" y="1493"/>
                </a:lnTo>
                <a:lnTo>
                  <a:pt x="1267" y="1690"/>
                </a:lnTo>
                <a:lnTo>
                  <a:pt x="1131" y="1895"/>
                </a:lnTo>
                <a:lnTo>
                  <a:pt x="1002" y="2111"/>
                </a:lnTo>
                <a:lnTo>
                  <a:pt x="880" y="2336"/>
                </a:lnTo>
                <a:lnTo>
                  <a:pt x="765" y="2570"/>
                </a:lnTo>
                <a:lnTo>
                  <a:pt x="658" y="2811"/>
                </a:lnTo>
                <a:lnTo>
                  <a:pt x="557" y="3060"/>
                </a:lnTo>
                <a:lnTo>
                  <a:pt x="465" y="3316"/>
                </a:lnTo>
                <a:lnTo>
                  <a:pt x="380" y="3579"/>
                </a:lnTo>
                <a:lnTo>
                  <a:pt x="303" y="3846"/>
                </a:lnTo>
                <a:lnTo>
                  <a:pt x="235" y="4121"/>
                </a:lnTo>
                <a:lnTo>
                  <a:pt x="176" y="4399"/>
                </a:lnTo>
                <a:lnTo>
                  <a:pt x="124" y="4682"/>
                </a:lnTo>
                <a:lnTo>
                  <a:pt x="82" y="4968"/>
                </a:lnTo>
                <a:lnTo>
                  <a:pt x="48" y="5256"/>
                </a:lnTo>
                <a:lnTo>
                  <a:pt x="23" y="5547"/>
                </a:lnTo>
                <a:lnTo>
                  <a:pt x="8" y="5839"/>
                </a:lnTo>
                <a:lnTo>
                  <a:pt x="0" y="6132"/>
                </a:lnTo>
                <a:lnTo>
                  <a:pt x="2" y="6426"/>
                </a:lnTo>
                <a:lnTo>
                  <a:pt x="13" y="6718"/>
                </a:lnTo>
                <a:lnTo>
                  <a:pt x="33" y="7010"/>
                </a:lnTo>
                <a:lnTo>
                  <a:pt x="62" y="7300"/>
                </a:lnTo>
                <a:lnTo>
                  <a:pt x="100" y="7587"/>
                </a:lnTo>
                <a:lnTo>
                  <a:pt x="145" y="7872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63"/>
          <p:cNvSpPr/>
          <p:nvPr/>
        </p:nvSpPr>
        <p:spPr>
          <a:xfrm>
            <a:off x="2602080" y="4272120"/>
            <a:ext cx="817560" cy="144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64"/>
          <p:cNvSpPr/>
          <p:nvPr/>
        </p:nvSpPr>
        <p:spPr>
          <a:xfrm flipH="1">
            <a:off x="1663200" y="4272120"/>
            <a:ext cx="938520" cy="144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65"/>
          <p:cNvSpPr/>
          <p:nvPr/>
        </p:nvSpPr>
        <p:spPr>
          <a:xfrm>
            <a:off x="636480" y="4710240"/>
            <a:ext cx="9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66"/>
          <p:cNvSpPr/>
          <p:nvPr/>
        </p:nvSpPr>
        <p:spPr>
          <a:xfrm flipH="1">
            <a:off x="1576080" y="4272120"/>
            <a:ext cx="1025640" cy="438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67"/>
          <p:cNvSpPr/>
          <p:nvPr/>
        </p:nvSpPr>
        <p:spPr>
          <a:xfrm flipH="1">
            <a:off x="636120" y="4272120"/>
            <a:ext cx="1027080" cy="438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68"/>
          <p:cNvSpPr/>
          <p:nvPr/>
        </p:nvSpPr>
        <p:spPr>
          <a:xfrm>
            <a:off x="779400" y="5191200"/>
            <a:ext cx="9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69"/>
          <p:cNvSpPr/>
          <p:nvPr/>
        </p:nvSpPr>
        <p:spPr>
          <a:xfrm flipV="1">
            <a:off x="779400" y="4271760"/>
            <a:ext cx="884160" cy="91908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Line 70"/>
          <p:cNvSpPr/>
          <p:nvPr/>
        </p:nvSpPr>
        <p:spPr>
          <a:xfrm flipV="1">
            <a:off x="1719360" y="4271760"/>
            <a:ext cx="882720" cy="9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Line 71"/>
          <p:cNvSpPr/>
          <p:nvPr/>
        </p:nvSpPr>
        <p:spPr>
          <a:xfrm>
            <a:off x="636480" y="4710240"/>
            <a:ext cx="986040" cy="203040"/>
          </a:xfrm>
          <a:prstGeom prst="line">
            <a:avLst/>
          </a:prstGeom>
          <a:ln w="0">
            <a:solidFill>
              <a:srgbClr val="ca271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Line 72"/>
          <p:cNvSpPr/>
          <p:nvPr/>
        </p:nvSpPr>
        <p:spPr>
          <a:xfrm flipV="1">
            <a:off x="1622520" y="4271760"/>
            <a:ext cx="979560" cy="641160"/>
          </a:xfrm>
          <a:prstGeom prst="line">
            <a:avLst/>
          </a:prstGeom>
          <a:ln w="0">
            <a:solidFill>
              <a:srgbClr val="ca271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73"/>
          <p:cNvSpPr/>
          <p:nvPr/>
        </p:nvSpPr>
        <p:spPr>
          <a:xfrm flipV="1">
            <a:off x="1812960" y="4271760"/>
            <a:ext cx="789120" cy="1104840"/>
          </a:xfrm>
          <a:prstGeom prst="line">
            <a:avLst/>
          </a:prstGeom>
          <a:ln w="0">
            <a:solidFill>
              <a:srgbClr val="ca271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Line 74"/>
          <p:cNvSpPr/>
          <p:nvPr/>
        </p:nvSpPr>
        <p:spPr>
          <a:xfrm flipH="1" flipV="1">
            <a:off x="779040" y="5191200"/>
            <a:ext cx="1033560" cy="185760"/>
          </a:xfrm>
          <a:prstGeom prst="line">
            <a:avLst/>
          </a:prstGeom>
          <a:ln w="0">
            <a:solidFill>
              <a:srgbClr val="ca271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Line 75"/>
          <p:cNvSpPr/>
          <p:nvPr/>
        </p:nvSpPr>
        <p:spPr>
          <a:xfrm>
            <a:off x="1663560" y="5916600"/>
            <a:ext cx="1800" cy="425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Line 76"/>
          <p:cNvSpPr/>
          <p:nvPr/>
        </p:nvSpPr>
        <p:spPr>
          <a:xfrm>
            <a:off x="2602080" y="5916600"/>
            <a:ext cx="1440" cy="43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Line 77"/>
          <p:cNvSpPr/>
          <p:nvPr/>
        </p:nvSpPr>
        <p:spPr>
          <a:xfrm>
            <a:off x="1663560" y="6246720"/>
            <a:ext cx="938520" cy="180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Line 78"/>
          <p:cNvSpPr/>
          <p:nvPr/>
        </p:nvSpPr>
        <p:spPr>
          <a:xfrm flipH="1">
            <a:off x="950760" y="4272120"/>
            <a:ext cx="712800" cy="144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Freeform 79"/>
          <p:cNvSpPr/>
          <p:nvPr/>
        </p:nvSpPr>
        <p:spPr>
          <a:xfrm>
            <a:off x="2602080" y="2627280"/>
            <a:ext cx="1064880" cy="3289320"/>
          </a:xfrm>
          <a:custGeom>
            <a:avLst/>
            <a:gdLst>
              <a:gd name="textAreaLeft" fmla="*/ 0 w 1064880"/>
              <a:gd name="textAreaRight" fmla="*/ 1065240 w 1064880"/>
              <a:gd name="textAreaTop" fmla="*/ 0 h 3289320"/>
              <a:gd name="textAreaBottom" fmla="*/ 3289680 h 3289320"/>
            </a:gdLst>
            <a:ahLst/>
            <a:rect l="textAreaLeft" t="textAreaTop" r="textAreaRight" b="textAreaBottom"/>
            <a:pathLst>
              <a:path w="4025" h="12429">
                <a:moveTo>
                  <a:pt x="0" y="0"/>
                </a:moveTo>
                <a:lnTo>
                  <a:pt x="191" y="7"/>
                </a:lnTo>
                <a:lnTo>
                  <a:pt x="382" y="27"/>
                </a:lnTo>
                <a:lnTo>
                  <a:pt x="573" y="63"/>
                </a:lnTo>
                <a:lnTo>
                  <a:pt x="762" y="112"/>
                </a:lnTo>
                <a:lnTo>
                  <a:pt x="949" y="174"/>
                </a:lnTo>
                <a:lnTo>
                  <a:pt x="1134" y="252"/>
                </a:lnTo>
                <a:lnTo>
                  <a:pt x="1317" y="342"/>
                </a:lnTo>
                <a:lnTo>
                  <a:pt x="1496" y="444"/>
                </a:lnTo>
                <a:lnTo>
                  <a:pt x="1672" y="561"/>
                </a:lnTo>
                <a:lnTo>
                  <a:pt x="1844" y="690"/>
                </a:lnTo>
                <a:lnTo>
                  <a:pt x="2013" y="832"/>
                </a:lnTo>
                <a:lnTo>
                  <a:pt x="2177" y="987"/>
                </a:lnTo>
                <a:lnTo>
                  <a:pt x="2335" y="1152"/>
                </a:lnTo>
                <a:lnTo>
                  <a:pt x="2488" y="1330"/>
                </a:lnTo>
                <a:lnTo>
                  <a:pt x="2636" y="1517"/>
                </a:lnTo>
                <a:lnTo>
                  <a:pt x="2778" y="1716"/>
                </a:lnTo>
                <a:lnTo>
                  <a:pt x="2914" y="1926"/>
                </a:lnTo>
                <a:lnTo>
                  <a:pt x="3042" y="2145"/>
                </a:lnTo>
                <a:lnTo>
                  <a:pt x="3165" y="2373"/>
                </a:lnTo>
                <a:lnTo>
                  <a:pt x="3279" y="2610"/>
                </a:lnTo>
                <a:lnTo>
                  <a:pt x="3387" y="2854"/>
                </a:lnTo>
                <a:lnTo>
                  <a:pt x="3487" y="3107"/>
                </a:lnTo>
                <a:lnTo>
                  <a:pt x="3578" y="3367"/>
                </a:lnTo>
                <a:lnTo>
                  <a:pt x="3662" y="3633"/>
                </a:lnTo>
                <a:lnTo>
                  <a:pt x="3737" y="3905"/>
                </a:lnTo>
                <a:lnTo>
                  <a:pt x="3804" y="4182"/>
                </a:lnTo>
                <a:lnTo>
                  <a:pt x="3862" y="4464"/>
                </a:lnTo>
                <a:lnTo>
                  <a:pt x="3912" y="4750"/>
                </a:lnTo>
                <a:lnTo>
                  <a:pt x="3952" y="5039"/>
                </a:lnTo>
                <a:lnTo>
                  <a:pt x="3984" y="5330"/>
                </a:lnTo>
                <a:lnTo>
                  <a:pt x="4007" y="5623"/>
                </a:lnTo>
                <a:lnTo>
                  <a:pt x="4021" y="5919"/>
                </a:lnTo>
                <a:lnTo>
                  <a:pt x="4025" y="6214"/>
                </a:lnTo>
                <a:lnTo>
                  <a:pt x="4021" y="6510"/>
                </a:lnTo>
                <a:lnTo>
                  <a:pt x="4007" y="6805"/>
                </a:lnTo>
                <a:lnTo>
                  <a:pt x="3984" y="7099"/>
                </a:lnTo>
                <a:lnTo>
                  <a:pt x="3952" y="7390"/>
                </a:lnTo>
                <a:lnTo>
                  <a:pt x="3912" y="7679"/>
                </a:lnTo>
                <a:lnTo>
                  <a:pt x="3862" y="7965"/>
                </a:lnTo>
                <a:lnTo>
                  <a:pt x="3804" y="8247"/>
                </a:lnTo>
                <a:lnTo>
                  <a:pt x="3737" y="8524"/>
                </a:lnTo>
                <a:lnTo>
                  <a:pt x="3662" y="8796"/>
                </a:lnTo>
                <a:lnTo>
                  <a:pt x="3578" y="9062"/>
                </a:lnTo>
                <a:lnTo>
                  <a:pt x="3487" y="9322"/>
                </a:lnTo>
                <a:lnTo>
                  <a:pt x="3387" y="9575"/>
                </a:lnTo>
                <a:lnTo>
                  <a:pt x="3279" y="9819"/>
                </a:lnTo>
                <a:lnTo>
                  <a:pt x="3165" y="10056"/>
                </a:lnTo>
                <a:lnTo>
                  <a:pt x="3042" y="10284"/>
                </a:lnTo>
                <a:lnTo>
                  <a:pt x="2914" y="10503"/>
                </a:lnTo>
                <a:lnTo>
                  <a:pt x="2778" y="10712"/>
                </a:lnTo>
                <a:lnTo>
                  <a:pt x="2636" y="10911"/>
                </a:lnTo>
                <a:lnTo>
                  <a:pt x="2488" y="11099"/>
                </a:lnTo>
                <a:lnTo>
                  <a:pt x="2335" y="11276"/>
                </a:lnTo>
                <a:lnTo>
                  <a:pt x="2177" y="11442"/>
                </a:lnTo>
                <a:lnTo>
                  <a:pt x="2013" y="11596"/>
                </a:lnTo>
                <a:lnTo>
                  <a:pt x="1844" y="11738"/>
                </a:lnTo>
                <a:lnTo>
                  <a:pt x="1672" y="11867"/>
                </a:lnTo>
                <a:lnTo>
                  <a:pt x="1496" y="11984"/>
                </a:lnTo>
                <a:lnTo>
                  <a:pt x="1317" y="12087"/>
                </a:lnTo>
                <a:lnTo>
                  <a:pt x="1134" y="12177"/>
                </a:lnTo>
                <a:lnTo>
                  <a:pt x="949" y="12254"/>
                </a:lnTo>
                <a:lnTo>
                  <a:pt x="762" y="12317"/>
                </a:lnTo>
                <a:lnTo>
                  <a:pt x="573" y="12366"/>
                </a:lnTo>
                <a:lnTo>
                  <a:pt x="382" y="12401"/>
                </a:lnTo>
                <a:lnTo>
                  <a:pt x="191" y="12422"/>
                </a:lnTo>
                <a:lnTo>
                  <a:pt x="0" y="12429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Freeform 80"/>
          <p:cNvSpPr/>
          <p:nvPr/>
        </p:nvSpPr>
        <p:spPr>
          <a:xfrm>
            <a:off x="1719360" y="5191200"/>
            <a:ext cx="882720" cy="725400"/>
          </a:xfrm>
          <a:custGeom>
            <a:avLst/>
            <a:gdLst>
              <a:gd name="textAreaLeft" fmla="*/ 0 w 882720"/>
              <a:gd name="textAreaRight" fmla="*/ 883080 w 88272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3340" h="2743">
                <a:moveTo>
                  <a:pt x="0" y="0"/>
                </a:moveTo>
                <a:lnTo>
                  <a:pt x="109" y="236"/>
                </a:lnTo>
                <a:lnTo>
                  <a:pt x="225" y="465"/>
                </a:lnTo>
                <a:lnTo>
                  <a:pt x="347" y="684"/>
                </a:lnTo>
                <a:lnTo>
                  <a:pt x="475" y="895"/>
                </a:lnTo>
                <a:lnTo>
                  <a:pt x="610" y="1096"/>
                </a:lnTo>
                <a:lnTo>
                  <a:pt x="751" y="1287"/>
                </a:lnTo>
                <a:lnTo>
                  <a:pt x="897" y="1468"/>
                </a:lnTo>
                <a:lnTo>
                  <a:pt x="1049" y="1638"/>
                </a:lnTo>
                <a:lnTo>
                  <a:pt x="1205" y="1798"/>
                </a:lnTo>
                <a:lnTo>
                  <a:pt x="1366" y="1945"/>
                </a:lnTo>
                <a:lnTo>
                  <a:pt x="1531" y="2082"/>
                </a:lnTo>
                <a:lnTo>
                  <a:pt x="1701" y="2205"/>
                </a:lnTo>
                <a:lnTo>
                  <a:pt x="1874" y="2317"/>
                </a:lnTo>
                <a:lnTo>
                  <a:pt x="2050" y="2416"/>
                </a:lnTo>
                <a:lnTo>
                  <a:pt x="2229" y="2502"/>
                </a:lnTo>
                <a:lnTo>
                  <a:pt x="2411" y="2575"/>
                </a:lnTo>
                <a:lnTo>
                  <a:pt x="2594" y="2635"/>
                </a:lnTo>
                <a:lnTo>
                  <a:pt x="2779" y="2683"/>
                </a:lnTo>
                <a:lnTo>
                  <a:pt x="2965" y="2716"/>
                </a:lnTo>
                <a:lnTo>
                  <a:pt x="3152" y="2736"/>
                </a:lnTo>
                <a:lnTo>
                  <a:pt x="3340" y="2743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Freeform 81"/>
          <p:cNvSpPr/>
          <p:nvPr/>
        </p:nvSpPr>
        <p:spPr>
          <a:xfrm>
            <a:off x="1576440" y="4710240"/>
            <a:ext cx="142920" cy="480960"/>
          </a:xfrm>
          <a:custGeom>
            <a:avLst/>
            <a:gdLst>
              <a:gd name="textAreaLeft" fmla="*/ 0 w 142920"/>
              <a:gd name="textAreaRight" fmla="*/ 143280 w 14292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541" h="1814">
                <a:moveTo>
                  <a:pt x="0" y="0"/>
                </a:moveTo>
                <a:lnTo>
                  <a:pt x="54" y="274"/>
                </a:lnTo>
                <a:lnTo>
                  <a:pt x="116" y="544"/>
                </a:lnTo>
                <a:lnTo>
                  <a:pt x="186" y="810"/>
                </a:lnTo>
                <a:lnTo>
                  <a:pt x="264" y="1071"/>
                </a:lnTo>
                <a:lnTo>
                  <a:pt x="349" y="1325"/>
                </a:lnTo>
                <a:lnTo>
                  <a:pt x="442" y="1572"/>
                </a:lnTo>
                <a:lnTo>
                  <a:pt x="541" y="1814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Freeform 82"/>
          <p:cNvSpPr/>
          <p:nvPr/>
        </p:nvSpPr>
        <p:spPr>
          <a:xfrm>
            <a:off x="636480" y="4710240"/>
            <a:ext cx="142920" cy="480960"/>
          </a:xfrm>
          <a:custGeom>
            <a:avLst/>
            <a:gdLst>
              <a:gd name="textAreaLeft" fmla="*/ 0 w 142920"/>
              <a:gd name="textAreaRight" fmla="*/ 143280 w 14292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541" h="1814">
                <a:moveTo>
                  <a:pt x="0" y="0"/>
                </a:moveTo>
                <a:lnTo>
                  <a:pt x="54" y="274"/>
                </a:lnTo>
                <a:lnTo>
                  <a:pt x="115" y="544"/>
                </a:lnTo>
                <a:lnTo>
                  <a:pt x="185" y="810"/>
                </a:lnTo>
                <a:lnTo>
                  <a:pt x="264" y="1071"/>
                </a:lnTo>
                <a:lnTo>
                  <a:pt x="348" y="1325"/>
                </a:lnTo>
                <a:lnTo>
                  <a:pt x="441" y="1572"/>
                </a:lnTo>
                <a:lnTo>
                  <a:pt x="541" y="18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Freeform 83"/>
          <p:cNvSpPr/>
          <p:nvPr/>
        </p:nvSpPr>
        <p:spPr>
          <a:xfrm>
            <a:off x="779400" y="5191200"/>
            <a:ext cx="884160" cy="725400"/>
          </a:xfrm>
          <a:custGeom>
            <a:avLst/>
            <a:gdLst>
              <a:gd name="textAreaLeft" fmla="*/ 0 w 884160"/>
              <a:gd name="textAreaRight" fmla="*/ 884520 w 88416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3340" h="2743">
                <a:moveTo>
                  <a:pt x="0" y="0"/>
                </a:moveTo>
                <a:lnTo>
                  <a:pt x="109" y="236"/>
                </a:lnTo>
                <a:lnTo>
                  <a:pt x="224" y="465"/>
                </a:lnTo>
                <a:lnTo>
                  <a:pt x="346" y="684"/>
                </a:lnTo>
                <a:lnTo>
                  <a:pt x="474" y="895"/>
                </a:lnTo>
                <a:lnTo>
                  <a:pt x="610" y="1096"/>
                </a:lnTo>
                <a:lnTo>
                  <a:pt x="751" y="1287"/>
                </a:lnTo>
                <a:lnTo>
                  <a:pt x="897" y="1468"/>
                </a:lnTo>
                <a:lnTo>
                  <a:pt x="1048" y="1638"/>
                </a:lnTo>
                <a:lnTo>
                  <a:pt x="1205" y="1798"/>
                </a:lnTo>
                <a:lnTo>
                  <a:pt x="1366" y="1945"/>
                </a:lnTo>
                <a:lnTo>
                  <a:pt x="1531" y="2082"/>
                </a:lnTo>
                <a:lnTo>
                  <a:pt x="1700" y="2205"/>
                </a:lnTo>
                <a:lnTo>
                  <a:pt x="1874" y="2317"/>
                </a:lnTo>
                <a:lnTo>
                  <a:pt x="2050" y="2416"/>
                </a:lnTo>
                <a:lnTo>
                  <a:pt x="2229" y="2502"/>
                </a:lnTo>
                <a:lnTo>
                  <a:pt x="2410" y="2575"/>
                </a:lnTo>
                <a:lnTo>
                  <a:pt x="2594" y="2635"/>
                </a:lnTo>
                <a:lnTo>
                  <a:pt x="2778" y="2683"/>
                </a:lnTo>
                <a:lnTo>
                  <a:pt x="2965" y="2716"/>
                </a:lnTo>
                <a:lnTo>
                  <a:pt x="3152" y="2736"/>
                </a:lnTo>
                <a:lnTo>
                  <a:pt x="3340" y="2743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Freeform 84"/>
          <p:cNvSpPr/>
          <p:nvPr/>
        </p:nvSpPr>
        <p:spPr>
          <a:xfrm>
            <a:off x="1592280" y="4700520"/>
            <a:ext cx="144360" cy="479520"/>
          </a:xfrm>
          <a:custGeom>
            <a:avLst/>
            <a:gdLst>
              <a:gd name="textAreaLeft" fmla="*/ 0 w 144360"/>
              <a:gd name="textAreaRight" fmla="*/ 144720 w 14436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541" h="1815">
                <a:moveTo>
                  <a:pt x="0" y="0"/>
                </a:moveTo>
                <a:lnTo>
                  <a:pt x="53" y="275"/>
                </a:lnTo>
                <a:lnTo>
                  <a:pt x="115" y="545"/>
                </a:lnTo>
                <a:lnTo>
                  <a:pt x="185" y="811"/>
                </a:lnTo>
                <a:lnTo>
                  <a:pt x="262" y="1070"/>
                </a:lnTo>
                <a:lnTo>
                  <a:pt x="347" y="1326"/>
                </a:lnTo>
                <a:lnTo>
                  <a:pt x="440" y="1573"/>
                </a:lnTo>
                <a:lnTo>
                  <a:pt x="541" y="181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Freeform 87"/>
          <p:cNvSpPr/>
          <p:nvPr/>
        </p:nvSpPr>
        <p:spPr>
          <a:xfrm>
            <a:off x="636480" y="4710240"/>
            <a:ext cx="142920" cy="480960"/>
          </a:xfrm>
          <a:custGeom>
            <a:avLst/>
            <a:gdLst>
              <a:gd name="textAreaLeft" fmla="*/ 0 w 142920"/>
              <a:gd name="textAreaRight" fmla="*/ 143280 w 14292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541" h="1814">
                <a:moveTo>
                  <a:pt x="0" y="0"/>
                </a:moveTo>
                <a:lnTo>
                  <a:pt x="54" y="274"/>
                </a:lnTo>
                <a:lnTo>
                  <a:pt x="115" y="544"/>
                </a:lnTo>
                <a:lnTo>
                  <a:pt x="185" y="810"/>
                </a:lnTo>
                <a:lnTo>
                  <a:pt x="264" y="1071"/>
                </a:lnTo>
                <a:lnTo>
                  <a:pt x="348" y="1325"/>
                </a:lnTo>
                <a:lnTo>
                  <a:pt x="441" y="1572"/>
                </a:lnTo>
                <a:lnTo>
                  <a:pt x="541" y="1814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Freeform 120"/>
          <p:cNvSpPr/>
          <p:nvPr/>
        </p:nvSpPr>
        <p:spPr>
          <a:xfrm>
            <a:off x="306360" y="1413000"/>
            <a:ext cx="193680" cy="595080"/>
          </a:xfrm>
          <a:custGeom>
            <a:avLst/>
            <a:gdLst>
              <a:gd name="textAreaLeft" fmla="*/ 0 w 193680"/>
              <a:gd name="textAreaRight" fmla="*/ 194040 w 19368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728" h="2249">
                <a:moveTo>
                  <a:pt x="728" y="0"/>
                </a:moveTo>
                <a:lnTo>
                  <a:pt x="647" y="8"/>
                </a:lnTo>
                <a:lnTo>
                  <a:pt x="566" y="29"/>
                </a:lnTo>
                <a:lnTo>
                  <a:pt x="488" y="64"/>
                </a:lnTo>
                <a:lnTo>
                  <a:pt x="413" y="111"/>
                </a:lnTo>
                <a:lnTo>
                  <a:pt x="341" y="173"/>
                </a:lnTo>
                <a:lnTo>
                  <a:pt x="274" y="246"/>
                </a:lnTo>
                <a:lnTo>
                  <a:pt x="214" y="330"/>
                </a:lnTo>
                <a:lnTo>
                  <a:pt x="159" y="424"/>
                </a:lnTo>
                <a:lnTo>
                  <a:pt x="112" y="526"/>
                </a:lnTo>
                <a:lnTo>
                  <a:pt x="72" y="637"/>
                </a:lnTo>
                <a:lnTo>
                  <a:pt x="41" y="754"/>
                </a:lnTo>
                <a:lnTo>
                  <a:pt x="19" y="875"/>
                </a:lnTo>
                <a:lnTo>
                  <a:pt x="5" y="999"/>
                </a:lnTo>
                <a:lnTo>
                  <a:pt x="0" y="1125"/>
                </a:lnTo>
                <a:lnTo>
                  <a:pt x="5" y="1251"/>
                </a:lnTo>
                <a:lnTo>
                  <a:pt x="19" y="1376"/>
                </a:lnTo>
                <a:lnTo>
                  <a:pt x="41" y="1496"/>
                </a:lnTo>
                <a:lnTo>
                  <a:pt x="72" y="1613"/>
                </a:lnTo>
                <a:lnTo>
                  <a:pt x="112" y="1723"/>
                </a:lnTo>
                <a:lnTo>
                  <a:pt x="159" y="1827"/>
                </a:lnTo>
                <a:lnTo>
                  <a:pt x="214" y="1920"/>
                </a:lnTo>
                <a:lnTo>
                  <a:pt x="274" y="2005"/>
                </a:lnTo>
                <a:lnTo>
                  <a:pt x="341" y="2078"/>
                </a:lnTo>
                <a:lnTo>
                  <a:pt x="413" y="2138"/>
                </a:lnTo>
                <a:lnTo>
                  <a:pt x="488" y="2187"/>
                </a:lnTo>
                <a:lnTo>
                  <a:pt x="566" y="2222"/>
                </a:lnTo>
                <a:lnTo>
                  <a:pt x="647" y="2243"/>
                </a:lnTo>
                <a:lnTo>
                  <a:pt x="728" y="2249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Freeform 121"/>
          <p:cNvSpPr/>
          <p:nvPr/>
        </p:nvSpPr>
        <p:spPr>
          <a:xfrm>
            <a:off x="3465360" y="1413000"/>
            <a:ext cx="385920" cy="595080"/>
          </a:xfrm>
          <a:custGeom>
            <a:avLst/>
            <a:gdLst>
              <a:gd name="textAreaLeft" fmla="*/ 0 w 385920"/>
              <a:gd name="textAreaRight" fmla="*/ 386280 w 38592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1457" h="2249">
                <a:moveTo>
                  <a:pt x="729" y="0"/>
                </a:moveTo>
                <a:lnTo>
                  <a:pt x="647" y="8"/>
                </a:lnTo>
                <a:lnTo>
                  <a:pt x="567" y="29"/>
                </a:lnTo>
                <a:lnTo>
                  <a:pt x="488" y="64"/>
                </a:lnTo>
                <a:lnTo>
                  <a:pt x="413" y="111"/>
                </a:lnTo>
                <a:lnTo>
                  <a:pt x="341" y="173"/>
                </a:lnTo>
                <a:lnTo>
                  <a:pt x="274" y="246"/>
                </a:lnTo>
                <a:lnTo>
                  <a:pt x="214" y="330"/>
                </a:lnTo>
                <a:lnTo>
                  <a:pt x="159" y="424"/>
                </a:lnTo>
                <a:lnTo>
                  <a:pt x="112" y="526"/>
                </a:lnTo>
                <a:lnTo>
                  <a:pt x="72" y="637"/>
                </a:lnTo>
                <a:lnTo>
                  <a:pt x="41" y="754"/>
                </a:lnTo>
                <a:lnTo>
                  <a:pt x="18" y="875"/>
                </a:lnTo>
                <a:lnTo>
                  <a:pt x="4" y="999"/>
                </a:lnTo>
                <a:lnTo>
                  <a:pt x="0" y="1125"/>
                </a:lnTo>
                <a:lnTo>
                  <a:pt x="4" y="1251"/>
                </a:lnTo>
                <a:lnTo>
                  <a:pt x="18" y="1376"/>
                </a:lnTo>
                <a:lnTo>
                  <a:pt x="41" y="1496"/>
                </a:lnTo>
                <a:lnTo>
                  <a:pt x="72" y="1613"/>
                </a:lnTo>
                <a:lnTo>
                  <a:pt x="112" y="1723"/>
                </a:lnTo>
                <a:lnTo>
                  <a:pt x="159" y="1827"/>
                </a:lnTo>
                <a:lnTo>
                  <a:pt x="214" y="1920"/>
                </a:lnTo>
                <a:lnTo>
                  <a:pt x="274" y="2005"/>
                </a:lnTo>
                <a:lnTo>
                  <a:pt x="341" y="2078"/>
                </a:lnTo>
                <a:lnTo>
                  <a:pt x="413" y="2138"/>
                </a:lnTo>
                <a:lnTo>
                  <a:pt x="488" y="2187"/>
                </a:lnTo>
                <a:lnTo>
                  <a:pt x="567" y="2222"/>
                </a:lnTo>
                <a:lnTo>
                  <a:pt x="647" y="2243"/>
                </a:lnTo>
                <a:lnTo>
                  <a:pt x="729" y="2249"/>
                </a:lnTo>
                <a:lnTo>
                  <a:pt x="810" y="2243"/>
                </a:lnTo>
                <a:lnTo>
                  <a:pt x="891" y="2222"/>
                </a:lnTo>
                <a:lnTo>
                  <a:pt x="969" y="2187"/>
                </a:lnTo>
                <a:lnTo>
                  <a:pt x="1045" y="2138"/>
                </a:lnTo>
                <a:lnTo>
                  <a:pt x="1116" y="2078"/>
                </a:lnTo>
                <a:lnTo>
                  <a:pt x="1183" y="2005"/>
                </a:lnTo>
                <a:lnTo>
                  <a:pt x="1244" y="1920"/>
                </a:lnTo>
                <a:lnTo>
                  <a:pt x="1298" y="1827"/>
                </a:lnTo>
                <a:lnTo>
                  <a:pt x="1346" y="1723"/>
                </a:lnTo>
                <a:lnTo>
                  <a:pt x="1385" y="1613"/>
                </a:lnTo>
                <a:lnTo>
                  <a:pt x="1417" y="1496"/>
                </a:lnTo>
                <a:lnTo>
                  <a:pt x="1439" y="1376"/>
                </a:lnTo>
                <a:lnTo>
                  <a:pt x="1453" y="1251"/>
                </a:lnTo>
                <a:lnTo>
                  <a:pt x="1457" y="1125"/>
                </a:lnTo>
                <a:lnTo>
                  <a:pt x="1453" y="999"/>
                </a:lnTo>
                <a:lnTo>
                  <a:pt x="1439" y="875"/>
                </a:lnTo>
                <a:lnTo>
                  <a:pt x="1417" y="754"/>
                </a:lnTo>
                <a:lnTo>
                  <a:pt x="1385" y="637"/>
                </a:lnTo>
                <a:lnTo>
                  <a:pt x="1346" y="526"/>
                </a:lnTo>
                <a:lnTo>
                  <a:pt x="1298" y="424"/>
                </a:lnTo>
                <a:lnTo>
                  <a:pt x="1244" y="330"/>
                </a:lnTo>
                <a:lnTo>
                  <a:pt x="1183" y="246"/>
                </a:lnTo>
                <a:lnTo>
                  <a:pt x="1116" y="173"/>
                </a:lnTo>
                <a:lnTo>
                  <a:pt x="1045" y="111"/>
                </a:lnTo>
                <a:lnTo>
                  <a:pt x="969" y="64"/>
                </a:lnTo>
                <a:lnTo>
                  <a:pt x="891" y="29"/>
                </a:lnTo>
                <a:lnTo>
                  <a:pt x="810" y="8"/>
                </a:lnTo>
                <a:lnTo>
                  <a:pt x="729" y="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122"/>
          <p:cNvSpPr/>
          <p:nvPr/>
        </p:nvSpPr>
        <p:spPr>
          <a:xfrm>
            <a:off x="500040" y="1413000"/>
            <a:ext cx="1509840" cy="1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Line 123"/>
          <p:cNvSpPr/>
          <p:nvPr/>
        </p:nvSpPr>
        <p:spPr>
          <a:xfrm>
            <a:off x="500040" y="2008080"/>
            <a:ext cx="1511280" cy="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Freeform 124"/>
          <p:cNvSpPr/>
          <p:nvPr/>
        </p:nvSpPr>
        <p:spPr>
          <a:xfrm>
            <a:off x="500040" y="1413000"/>
            <a:ext cx="192240" cy="595080"/>
          </a:xfrm>
          <a:custGeom>
            <a:avLst/>
            <a:gdLst>
              <a:gd name="textAreaLeft" fmla="*/ 0 w 192240"/>
              <a:gd name="textAreaRight" fmla="*/ 192600 w 19224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729" h="2249">
                <a:moveTo>
                  <a:pt x="0" y="0"/>
                </a:moveTo>
                <a:lnTo>
                  <a:pt x="82" y="8"/>
                </a:lnTo>
                <a:lnTo>
                  <a:pt x="162" y="29"/>
                </a:lnTo>
                <a:lnTo>
                  <a:pt x="242" y="64"/>
                </a:lnTo>
                <a:lnTo>
                  <a:pt x="317" y="111"/>
                </a:lnTo>
                <a:lnTo>
                  <a:pt x="388" y="173"/>
                </a:lnTo>
                <a:lnTo>
                  <a:pt x="455" y="246"/>
                </a:lnTo>
                <a:lnTo>
                  <a:pt x="516" y="330"/>
                </a:lnTo>
                <a:lnTo>
                  <a:pt x="570" y="424"/>
                </a:lnTo>
                <a:lnTo>
                  <a:pt x="618" y="526"/>
                </a:lnTo>
                <a:lnTo>
                  <a:pt x="657" y="637"/>
                </a:lnTo>
                <a:lnTo>
                  <a:pt x="689" y="754"/>
                </a:lnTo>
                <a:lnTo>
                  <a:pt x="711" y="875"/>
                </a:lnTo>
                <a:lnTo>
                  <a:pt x="725" y="999"/>
                </a:lnTo>
                <a:lnTo>
                  <a:pt x="729" y="1125"/>
                </a:lnTo>
                <a:lnTo>
                  <a:pt x="725" y="1251"/>
                </a:lnTo>
                <a:lnTo>
                  <a:pt x="711" y="1376"/>
                </a:lnTo>
                <a:lnTo>
                  <a:pt x="689" y="1496"/>
                </a:lnTo>
                <a:lnTo>
                  <a:pt x="657" y="1613"/>
                </a:lnTo>
                <a:lnTo>
                  <a:pt x="618" y="1723"/>
                </a:lnTo>
                <a:lnTo>
                  <a:pt x="570" y="1827"/>
                </a:lnTo>
                <a:lnTo>
                  <a:pt x="516" y="1920"/>
                </a:lnTo>
                <a:lnTo>
                  <a:pt x="455" y="2005"/>
                </a:lnTo>
                <a:lnTo>
                  <a:pt x="388" y="2078"/>
                </a:lnTo>
                <a:lnTo>
                  <a:pt x="317" y="2138"/>
                </a:lnTo>
                <a:lnTo>
                  <a:pt x="242" y="2187"/>
                </a:lnTo>
                <a:lnTo>
                  <a:pt x="162" y="2222"/>
                </a:lnTo>
                <a:lnTo>
                  <a:pt x="82" y="2243"/>
                </a:lnTo>
                <a:lnTo>
                  <a:pt x="0" y="2249"/>
                </a:lnTo>
              </a:path>
            </a:pathLst>
          </a:custGeom>
          <a:noFill/>
          <a:ln w="381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Freeform 126"/>
          <p:cNvSpPr/>
          <p:nvPr/>
        </p:nvSpPr>
        <p:spPr>
          <a:xfrm>
            <a:off x="1817640" y="1413000"/>
            <a:ext cx="193680" cy="595080"/>
          </a:xfrm>
          <a:custGeom>
            <a:avLst/>
            <a:gdLst>
              <a:gd name="textAreaLeft" fmla="*/ 0 w 193680"/>
              <a:gd name="textAreaRight" fmla="*/ 194040 w 19368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729" h="2249">
                <a:moveTo>
                  <a:pt x="729" y="0"/>
                </a:moveTo>
                <a:lnTo>
                  <a:pt x="647" y="8"/>
                </a:lnTo>
                <a:lnTo>
                  <a:pt x="567" y="29"/>
                </a:lnTo>
                <a:lnTo>
                  <a:pt x="487" y="64"/>
                </a:lnTo>
                <a:lnTo>
                  <a:pt x="412" y="111"/>
                </a:lnTo>
                <a:lnTo>
                  <a:pt x="341" y="173"/>
                </a:lnTo>
                <a:lnTo>
                  <a:pt x="274" y="246"/>
                </a:lnTo>
                <a:lnTo>
                  <a:pt x="213" y="330"/>
                </a:lnTo>
                <a:lnTo>
                  <a:pt x="159" y="424"/>
                </a:lnTo>
                <a:lnTo>
                  <a:pt x="111" y="526"/>
                </a:lnTo>
                <a:lnTo>
                  <a:pt x="72" y="637"/>
                </a:lnTo>
                <a:lnTo>
                  <a:pt x="40" y="754"/>
                </a:lnTo>
                <a:lnTo>
                  <a:pt x="18" y="875"/>
                </a:lnTo>
                <a:lnTo>
                  <a:pt x="4" y="999"/>
                </a:lnTo>
                <a:lnTo>
                  <a:pt x="0" y="1125"/>
                </a:lnTo>
                <a:lnTo>
                  <a:pt x="4" y="1251"/>
                </a:lnTo>
                <a:lnTo>
                  <a:pt x="18" y="1376"/>
                </a:lnTo>
                <a:lnTo>
                  <a:pt x="40" y="1496"/>
                </a:lnTo>
                <a:lnTo>
                  <a:pt x="72" y="1613"/>
                </a:lnTo>
                <a:lnTo>
                  <a:pt x="111" y="1723"/>
                </a:lnTo>
                <a:lnTo>
                  <a:pt x="159" y="1827"/>
                </a:lnTo>
                <a:lnTo>
                  <a:pt x="213" y="1920"/>
                </a:lnTo>
                <a:lnTo>
                  <a:pt x="274" y="2005"/>
                </a:lnTo>
                <a:lnTo>
                  <a:pt x="341" y="2078"/>
                </a:lnTo>
                <a:lnTo>
                  <a:pt x="412" y="2138"/>
                </a:lnTo>
                <a:lnTo>
                  <a:pt x="487" y="2187"/>
                </a:lnTo>
                <a:lnTo>
                  <a:pt x="567" y="2222"/>
                </a:lnTo>
                <a:lnTo>
                  <a:pt x="647" y="2243"/>
                </a:lnTo>
                <a:lnTo>
                  <a:pt x="729" y="2249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Line 127"/>
          <p:cNvSpPr/>
          <p:nvPr/>
        </p:nvSpPr>
        <p:spPr>
          <a:xfrm>
            <a:off x="2181240" y="1413000"/>
            <a:ext cx="1477800" cy="1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Line 128"/>
          <p:cNvSpPr/>
          <p:nvPr/>
        </p:nvSpPr>
        <p:spPr>
          <a:xfrm>
            <a:off x="2009880" y="1413000"/>
            <a:ext cx="171360" cy="1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Line 129"/>
          <p:cNvSpPr/>
          <p:nvPr/>
        </p:nvSpPr>
        <p:spPr>
          <a:xfrm>
            <a:off x="500040" y="1709640"/>
            <a:ext cx="1681200" cy="180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Line 130"/>
          <p:cNvSpPr/>
          <p:nvPr/>
        </p:nvSpPr>
        <p:spPr>
          <a:xfrm>
            <a:off x="2181240" y="1709640"/>
            <a:ext cx="1477800" cy="180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Line 131"/>
          <p:cNvSpPr/>
          <p:nvPr/>
        </p:nvSpPr>
        <p:spPr>
          <a:xfrm>
            <a:off x="2181240" y="2008080"/>
            <a:ext cx="1477800" cy="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Line 132"/>
          <p:cNvSpPr/>
          <p:nvPr/>
        </p:nvSpPr>
        <p:spPr>
          <a:xfrm>
            <a:off x="2011320" y="2008080"/>
            <a:ext cx="169920" cy="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Line 133"/>
          <p:cNvSpPr/>
          <p:nvPr/>
        </p:nvSpPr>
        <p:spPr>
          <a:xfrm flipV="1">
            <a:off x="1995480" y="1709280"/>
            <a:ext cx="185760" cy="79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Line 134"/>
          <p:cNvSpPr/>
          <p:nvPr/>
        </p:nvSpPr>
        <p:spPr>
          <a:xfrm flipH="1">
            <a:off x="2011320" y="1709640"/>
            <a:ext cx="169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Line 135"/>
          <p:cNvSpPr/>
          <p:nvPr/>
        </p:nvSpPr>
        <p:spPr>
          <a:xfrm flipH="1">
            <a:off x="1825560" y="1789200"/>
            <a:ext cx="169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Line 136"/>
          <p:cNvSpPr/>
          <p:nvPr/>
        </p:nvSpPr>
        <p:spPr>
          <a:xfrm flipV="1">
            <a:off x="1825560" y="1709280"/>
            <a:ext cx="185760" cy="79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Line 137"/>
          <p:cNvSpPr/>
          <p:nvPr/>
        </p:nvSpPr>
        <p:spPr>
          <a:xfrm flipV="1">
            <a:off x="2021040" y="1709280"/>
            <a:ext cx="160200" cy="1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Line 138"/>
          <p:cNvSpPr/>
          <p:nvPr/>
        </p:nvSpPr>
        <p:spPr>
          <a:xfrm flipH="1">
            <a:off x="1851120" y="1876320"/>
            <a:ext cx="169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Line 139"/>
          <p:cNvSpPr/>
          <p:nvPr/>
        </p:nvSpPr>
        <p:spPr>
          <a:xfrm flipV="1">
            <a:off x="1851120" y="1709280"/>
            <a:ext cx="160200" cy="1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Line 140"/>
          <p:cNvSpPr/>
          <p:nvPr/>
        </p:nvSpPr>
        <p:spPr>
          <a:xfrm flipV="1">
            <a:off x="3659040" y="1482840"/>
            <a:ext cx="123840" cy="226800"/>
          </a:xfrm>
          <a:prstGeom prst="line">
            <a:avLst/>
          </a:prstGeom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Text Box 176"/>
          <p:cNvSpPr/>
          <p:nvPr/>
        </p:nvSpPr>
        <p:spPr>
          <a:xfrm>
            <a:off x="1474920" y="393372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Text Box 177"/>
          <p:cNvSpPr/>
          <p:nvPr/>
        </p:nvSpPr>
        <p:spPr>
          <a:xfrm>
            <a:off x="2195640" y="392580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Text Box 180"/>
          <p:cNvSpPr/>
          <p:nvPr/>
        </p:nvSpPr>
        <p:spPr>
          <a:xfrm>
            <a:off x="1617840" y="4892760"/>
            <a:ext cx="43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Text Box 181"/>
          <p:cNvSpPr/>
          <p:nvPr/>
        </p:nvSpPr>
        <p:spPr>
          <a:xfrm>
            <a:off x="1476360" y="4437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Text Box 182"/>
          <p:cNvSpPr/>
          <p:nvPr/>
        </p:nvSpPr>
        <p:spPr>
          <a:xfrm>
            <a:off x="7310520" y="4292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Text Box 183"/>
          <p:cNvSpPr/>
          <p:nvPr/>
        </p:nvSpPr>
        <p:spPr>
          <a:xfrm>
            <a:off x="395280" y="45324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Text Box 184"/>
          <p:cNvSpPr/>
          <p:nvPr/>
        </p:nvSpPr>
        <p:spPr>
          <a:xfrm>
            <a:off x="468360" y="50133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185"/>
          <p:cNvSpPr/>
          <p:nvPr/>
        </p:nvSpPr>
        <p:spPr>
          <a:xfrm>
            <a:off x="6227640" y="4724280"/>
            <a:ext cx="5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Text Box 186"/>
          <p:cNvSpPr/>
          <p:nvPr/>
        </p:nvSpPr>
        <p:spPr>
          <a:xfrm>
            <a:off x="3780000" y="1197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Line 187"/>
          <p:cNvSpPr/>
          <p:nvPr/>
        </p:nvSpPr>
        <p:spPr>
          <a:xfrm flipV="1">
            <a:off x="2597040" y="3068280"/>
            <a:ext cx="750960" cy="12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Text Box 188"/>
          <p:cNvSpPr/>
          <p:nvPr/>
        </p:nvSpPr>
        <p:spPr>
          <a:xfrm>
            <a:off x="320364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Line 199"/>
          <p:cNvSpPr/>
          <p:nvPr/>
        </p:nvSpPr>
        <p:spPr>
          <a:xfrm flipV="1">
            <a:off x="5021280" y="1989000"/>
            <a:ext cx="2320920" cy="241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Line 200"/>
          <p:cNvSpPr/>
          <p:nvPr/>
        </p:nvSpPr>
        <p:spPr>
          <a:xfrm flipV="1">
            <a:off x="6578640" y="1989000"/>
            <a:ext cx="2320920" cy="241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Line 201"/>
          <p:cNvSpPr/>
          <p:nvPr/>
        </p:nvSpPr>
        <p:spPr>
          <a:xfrm>
            <a:off x="7342200" y="1989000"/>
            <a:ext cx="155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Line 202"/>
          <p:cNvSpPr/>
          <p:nvPr/>
        </p:nvSpPr>
        <p:spPr>
          <a:xfrm flipH="1">
            <a:off x="6578280" y="1989000"/>
            <a:ext cx="2320920" cy="351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Line 203"/>
          <p:cNvSpPr/>
          <p:nvPr/>
        </p:nvSpPr>
        <p:spPr>
          <a:xfrm flipH="1">
            <a:off x="5020920" y="1989000"/>
            <a:ext cx="2320920" cy="351504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Line 204"/>
          <p:cNvSpPr/>
          <p:nvPr/>
        </p:nvSpPr>
        <p:spPr>
          <a:xfrm>
            <a:off x="5021280" y="4403880"/>
            <a:ext cx="155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Line 205"/>
          <p:cNvSpPr/>
          <p:nvPr/>
        </p:nvSpPr>
        <p:spPr>
          <a:xfrm>
            <a:off x="6578640" y="4403880"/>
            <a:ext cx="1440" cy="1100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Line 206"/>
          <p:cNvSpPr/>
          <p:nvPr/>
        </p:nvSpPr>
        <p:spPr>
          <a:xfrm flipH="1">
            <a:off x="5021280" y="5504040"/>
            <a:ext cx="155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Line 208"/>
          <p:cNvSpPr/>
          <p:nvPr/>
        </p:nvSpPr>
        <p:spPr>
          <a:xfrm>
            <a:off x="5907240" y="3483000"/>
            <a:ext cx="1440" cy="68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Line 209"/>
          <p:cNvSpPr/>
          <p:nvPr/>
        </p:nvSpPr>
        <p:spPr>
          <a:xfrm>
            <a:off x="7464600" y="3483000"/>
            <a:ext cx="1440" cy="89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Line 211"/>
          <p:cNvSpPr/>
          <p:nvPr/>
        </p:nvSpPr>
        <p:spPr>
          <a:xfrm>
            <a:off x="6578640" y="5504040"/>
            <a:ext cx="1440" cy="347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Line 212"/>
          <p:cNvSpPr/>
          <p:nvPr/>
        </p:nvSpPr>
        <p:spPr>
          <a:xfrm flipV="1">
            <a:off x="6578640" y="1988640"/>
            <a:ext cx="2320920" cy="2762280"/>
          </a:xfrm>
          <a:prstGeom prst="line">
            <a:avLst/>
          </a:prstGeom>
          <a:ln w="0">
            <a:solidFill>
              <a:srgbClr val="ce3d1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Line 213"/>
          <p:cNvSpPr/>
          <p:nvPr/>
        </p:nvSpPr>
        <p:spPr>
          <a:xfrm flipV="1">
            <a:off x="6578640" y="1988640"/>
            <a:ext cx="2320920" cy="3862440"/>
          </a:xfrm>
          <a:prstGeom prst="line">
            <a:avLst/>
          </a:prstGeom>
          <a:ln w="0">
            <a:solidFill>
              <a:srgbClr val="ce3d1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Line 214"/>
          <p:cNvSpPr/>
          <p:nvPr/>
        </p:nvSpPr>
        <p:spPr>
          <a:xfrm>
            <a:off x="5021280" y="5504040"/>
            <a:ext cx="1557360" cy="347400"/>
          </a:xfrm>
          <a:prstGeom prst="line">
            <a:avLst/>
          </a:prstGeom>
          <a:ln w="0">
            <a:solidFill>
              <a:srgbClr val="ce3d1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Line 217"/>
          <p:cNvSpPr/>
          <p:nvPr/>
        </p:nvSpPr>
        <p:spPr>
          <a:xfrm>
            <a:off x="5021280" y="4403880"/>
            <a:ext cx="1557360" cy="347400"/>
          </a:xfrm>
          <a:prstGeom prst="line">
            <a:avLst/>
          </a:prstGeom>
          <a:ln w="0">
            <a:solidFill>
              <a:srgbClr val="ce3d1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Line 218"/>
          <p:cNvSpPr/>
          <p:nvPr/>
        </p:nvSpPr>
        <p:spPr>
          <a:xfrm flipV="1">
            <a:off x="7342200" y="164772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Line 219"/>
          <p:cNvSpPr/>
          <p:nvPr/>
        </p:nvSpPr>
        <p:spPr>
          <a:xfrm flipV="1">
            <a:off x="8888400" y="164772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Line 220"/>
          <p:cNvSpPr/>
          <p:nvPr/>
        </p:nvSpPr>
        <p:spPr>
          <a:xfrm>
            <a:off x="7342200" y="1743120"/>
            <a:ext cx="1546200" cy="144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Line 221"/>
          <p:cNvSpPr/>
          <p:nvPr/>
        </p:nvSpPr>
        <p:spPr>
          <a:xfrm flipH="1">
            <a:off x="5335560" y="3483000"/>
            <a:ext cx="57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Line 222"/>
          <p:cNvSpPr/>
          <p:nvPr/>
        </p:nvSpPr>
        <p:spPr>
          <a:xfrm flipH="1">
            <a:off x="6396120" y="1989000"/>
            <a:ext cx="9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Line 223"/>
          <p:cNvSpPr/>
          <p:nvPr/>
        </p:nvSpPr>
        <p:spPr>
          <a:xfrm flipH="1">
            <a:off x="5538960" y="1989000"/>
            <a:ext cx="1436400" cy="149400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Line 224"/>
          <p:cNvSpPr/>
          <p:nvPr/>
        </p:nvSpPr>
        <p:spPr>
          <a:xfrm flipH="1">
            <a:off x="4092480" y="4403880"/>
            <a:ext cx="9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Line 225"/>
          <p:cNvSpPr/>
          <p:nvPr/>
        </p:nvSpPr>
        <p:spPr>
          <a:xfrm flipH="1">
            <a:off x="4343040" y="1989000"/>
            <a:ext cx="2320920" cy="241488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Freeform 229"/>
          <p:cNvSpPr/>
          <p:nvPr/>
        </p:nvSpPr>
        <p:spPr>
          <a:xfrm>
            <a:off x="6613560" y="3483000"/>
            <a:ext cx="6480" cy="98280"/>
          </a:xfrm>
          <a:custGeom>
            <a:avLst/>
            <a:gdLst>
              <a:gd name="textAreaLeft" fmla="*/ 0 w 6480"/>
              <a:gd name="textAreaRight" fmla="*/ 6840 w 648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25" h="370">
                <a:moveTo>
                  <a:pt x="0" y="370"/>
                </a:moveTo>
                <a:lnTo>
                  <a:pt x="19" y="185"/>
                </a:lnTo>
                <a:lnTo>
                  <a:pt x="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Freeform 231"/>
          <p:cNvSpPr/>
          <p:nvPr/>
        </p:nvSpPr>
        <p:spPr>
          <a:xfrm>
            <a:off x="8066160" y="2371680"/>
            <a:ext cx="199800" cy="277920"/>
          </a:xfrm>
          <a:custGeom>
            <a:avLst/>
            <a:gdLst>
              <a:gd name="textAreaLeft" fmla="*/ 0 w 199800"/>
              <a:gd name="textAreaRight" fmla="*/ 200160 w 19980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754" h="1046">
                <a:moveTo>
                  <a:pt x="0" y="0"/>
                </a:moveTo>
                <a:lnTo>
                  <a:pt x="97" y="192"/>
                </a:lnTo>
                <a:lnTo>
                  <a:pt x="206" y="380"/>
                </a:lnTo>
                <a:lnTo>
                  <a:pt x="327" y="559"/>
                </a:lnTo>
                <a:lnTo>
                  <a:pt x="459" y="730"/>
                </a:lnTo>
                <a:lnTo>
                  <a:pt x="601" y="892"/>
                </a:lnTo>
                <a:lnTo>
                  <a:pt x="754" y="1046"/>
                </a:lnTo>
              </a:path>
            </a:pathLst>
          </a:custGeom>
          <a:noFill/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Freeform 232"/>
          <p:cNvSpPr/>
          <p:nvPr/>
        </p:nvSpPr>
        <p:spPr>
          <a:xfrm>
            <a:off x="8312040" y="2689200"/>
            <a:ext cx="289080" cy="160200"/>
          </a:xfrm>
          <a:custGeom>
            <a:avLst/>
            <a:gdLst>
              <a:gd name="textAreaLeft" fmla="*/ 0 w 289080"/>
              <a:gd name="textAreaRight" fmla="*/ 289440 w 2890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094" h="607">
                <a:moveTo>
                  <a:pt x="0" y="0"/>
                </a:moveTo>
                <a:lnTo>
                  <a:pt x="166" y="129"/>
                </a:lnTo>
                <a:lnTo>
                  <a:pt x="339" y="247"/>
                </a:lnTo>
                <a:lnTo>
                  <a:pt x="519" y="354"/>
                </a:lnTo>
                <a:lnTo>
                  <a:pt x="705" y="450"/>
                </a:lnTo>
                <a:lnTo>
                  <a:pt x="897" y="534"/>
                </a:lnTo>
                <a:lnTo>
                  <a:pt x="1094" y="607"/>
                </a:lnTo>
              </a:path>
            </a:pathLst>
          </a:custGeom>
          <a:noFill/>
          <a:ln w="0">
            <a:solidFill>
              <a:srgbClr val="000000"/>
            </a:solidFill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Text Box 233"/>
          <p:cNvSpPr/>
          <p:nvPr/>
        </p:nvSpPr>
        <p:spPr>
          <a:xfrm>
            <a:off x="4788000" y="414972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Text Box 234"/>
          <p:cNvSpPr/>
          <p:nvPr/>
        </p:nvSpPr>
        <p:spPr>
          <a:xfrm>
            <a:off x="4734000" y="534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Text Box 235"/>
          <p:cNvSpPr/>
          <p:nvPr/>
        </p:nvSpPr>
        <p:spPr>
          <a:xfrm>
            <a:off x="6299280" y="5397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Text Box 236"/>
          <p:cNvSpPr/>
          <p:nvPr/>
        </p:nvSpPr>
        <p:spPr>
          <a:xfrm>
            <a:off x="6372360" y="4149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 Box 237"/>
          <p:cNvSpPr/>
          <p:nvPr/>
        </p:nvSpPr>
        <p:spPr>
          <a:xfrm>
            <a:off x="5651640" y="3206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Text Box 238"/>
          <p:cNvSpPr/>
          <p:nvPr/>
        </p:nvSpPr>
        <p:spPr>
          <a:xfrm>
            <a:off x="5651640" y="3925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Text Box 239"/>
          <p:cNvSpPr/>
          <p:nvPr/>
        </p:nvSpPr>
        <p:spPr>
          <a:xfrm>
            <a:off x="7451640" y="3998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Text Box 240"/>
          <p:cNvSpPr/>
          <p:nvPr/>
        </p:nvSpPr>
        <p:spPr>
          <a:xfrm>
            <a:off x="7236000" y="3206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Text Box 241"/>
          <p:cNvSpPr/>
          <p:nvPr/>
        </p:nvSpPr>
        <p:spPr>
          <a:xfrm>
            <a:off x="7380360" y="35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Text Box 242"/>
          <p:cNvSpPr/>
          <p:nvPr/>
        </p:nvSpPr>
        <p:spPr>
          <a:xfrm rot="18678600">
            <a:off x="5325840" y="2813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Text Box 243"/>
          <p:cNvSpPr/>
          <p:nvPr/>
        </p:nvSpPr>
        <p:spPr>
          <a:xfrm rot="18611400">
            <a:off x="5948280" y="2197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Text Box 244"/>
          <p:cNvSpPr/>
          <p:nvPr/>
        </p:nvSpPr>
        <p:spPr>
          <a:xfrm>
            <a:off x="795672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Text Box 245"/>
          <p:cNvSpPr/>
          <p:nvPr/>
        </p:nvSpPr>
        <p:spPr>
          <a:xfrm>
            <a:off x="1908000" y="5950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3" name="Object 246"/>
          <p:cNvGraphicFramePr/>
          <p:nvPr/>
        </p:nvGraphicFramePr>
        <p:xfrm>
          <a:off x="6659640" y="3141720"/>
          <a:ext cx="29988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4" name="Object 2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3141720"/>
                    <a:ext cx="2998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5" name="Freeform 230"/>
          <p:cNvSpPr/>
          <p:nvPr/>
        </p:nvSpPr>
        <p:spPr>
          <a:xfrm>
            <a:off x="1158840" y="4710240"/>
            <a:ext cx="9720" cy="117360"/>
          </a:xfrm>
          <a:custGeom>
            <a:avLst/>
            <a:gdLst>
              <a:gd name="textAreaLeft" fmla="*/ 0 w 9720"/>
              <a:gd name="textAreaRight" fmla="*/ 10080 w 972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4" h="709">
                <a:moveTo>
                  <a:pt x="0" y="709"/>
                </a:moveTo>
                <a:lnTo>
                  <a:pt x="43" y="475"/>
                </a:lnTo>
                <a:lnTo>
                  <a:pt x="68" y="237"/>
                </a:lnTo>
                <a:lnTo>
                  <a:pt x="7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6" name="Object 247"/>
          <p:cNvGraphicFramePr/>
          <p:nvPr/>
        </p:nvGraphicFramePr>
        <p:xfrm>
          <a:off x="1222200" y="4595760"/>
          <a:ext cx="25272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7" name="Object 2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595760"/>
                    <a:ext cx="2527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8" name="Object 248"/>
          <p:cNvGraphicFramePr/>
          <p:nvPr/>
        </p:nvGraphicFramePr>
        <p:xfrm>
          <a:off x="8532720" y="2637000"/>
          <a:ext cx="360360" cy="32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9" name="Object 2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32720" y="2637000"/>
                    <a:ext cx="36036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0" name="Rectangle 249"/>
          <p:cNvSpPr/>
          <p:nvPr/>
        </p:nvSpPr>
        <p:spPr>
          <a:xfrm>
            <a:off x="5907240" y="3483000"/>
            <a:ext cx="1557360" cy="676080"/>
          </a:xfrm>
          <a:prstGeom prst="rect">
            <a:avLst/>
          </a:prstGeom>
          <a:noFill/>
          <a:ln w="0">
            <a:solidFill>
              <a:srgbClr val="ffcf01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Line 269"/>
          <p:cNvSpPr/>
          <p:nvPr/>
        </p:nvSpPr>
        <p:spPr>
          <a:xfrm>
            <a:off x="2181240" y="1989000"/>
            <a:ext cx="0" cy="216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Line 270"/>
          <p:cNvSpPr/>
          <p:nvPr/>
        </p:nvSpPr>
        <p:spPr>
          <a:xfrm>
            <a:off x="1938240" y="1995480"/>
            <a:ext cx="0" cy="196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Line 271"/>
          <p:cNvSpPr/>
          <p:nvPr/>
        </p:nvSpPr>
        <p:spPr>
          <a:xfrm>
            <a:off x="1938240" y="2133720"/>
            <a:ext cx="239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Text Box 272"/>
          <p:cNvSpPr/>
          <p:nvPr/>
        </p:nvSpPr>
        <p:spPr>
          <a:xfrm>
            <a:off x="1751040" y="2090880"/>
            <a:ext cx="6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Freeform 142"/>
          <p:cNvSpPr/>
          <p:nvPr/>
        </p:nvSpPr>
        <p:spPr>
          <a:xfrm>
            <a:off x="1825560" y="1709640"/>
            <a:ext cx="355680" cy="79560"/>
          </a:xfrm>
          <a:custGeom>
            <a:avLst/>
            <a:gdLst>
              <a:gd name="textAreaLeft" fmla="*/ 0 w 355680"/>
              <a:gd name="textAreaRight" fmla="*/ 356040 w 355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344" h="300">
                <a:moveTo>
                  <a:pt x="702" y="0"/>
                </a:moveTo>
                <a:lnTo>
                  <a:pt x="1344" y="0"/>
                </a:lnTo>
                <a:lnTo>
                  <a:pt x="641" y="300"/>
                </a:lnTo>
                <a:lnTo>
                  <a:pt x="0" y="300"/>
                </a:lnTo>
                <a:lnTo>
                  <a:pt x="702" y="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Freeform 125"/>
          <p:cNvSpPr/>
          <p:nvPr/>
        </p:nvSpPr>
        <p:spPr>
          <a:xfrm>
            <a:off x="1987560" y="1413000"/>
            <a:ext cx="385920" cy="595080"/>
          </a:xfrm>
          <a:custGeom>
            <a:avLst/>
            <a:gdLst>
              <a:gd name="textAreaLeft" fmla="*/ 0 w 385920"/>
              <a:gd name="textAreaRight" fmla="*/ 386280 w 38592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1457" h="2249">
                <a:moveTo>
                  <a:pt x="728" y="0"/>
                </a:moveTo>
                <a:lnTo>
                  <a:pt x="647" y="8"/>
                </a:lnTo>
                <a:lnTo>
                  <a:pt x="565" y="29"/>
                </a:lnTo>
                <a:lnTo>
                  <a:pt x="487" y="64"/>
                </a:lnTo>
                <a:lnTo>
                  <a:pt x="412" y="111"/>
                </a:lnTo>
                <a:lnTo>
                  <a:pt x="340" y="173"/>
                </a:lnTo>
                <a:lnTo>
                  <a:pt x="274" y="246"/>
                </a:lnTo>
                <a:lnTo>
                  <a:pt x="213" y="330"/>
                </a:lnTo>
                <a:lnTo>
                  <a:pt x="159" y="424"/>
                </a:lnTo>
                <a:lnTo>
                  <a:pt x="111" y="526"/>
                </a:lnTo>
                <a:lnTo>
                  <a:pt x="72" y="637"/>
                </a:lnTo>
                <a:lnTo>
                  <a:pt x="40" y="754"/>
                </a:lnTo>
                <a:lnTo>
                  <a:pt x="18" y="875"/>
                </a:lnTo>
                <a:lnTo>
                  <a:pt x="4" y="999"/>
                </a:lnTo>
                <a:lnTo>
                  <a:pt x="0" y="1125"/>
                </a:lnTo>
                <a:lnTo>
                  <a:pt x="4" y="1251"/>
                </a:lnTo>
                <a:lnTo>
                  <a:pt x="18" y="1376"/>
                </a:lnTo>
                <a:lnTo>
                  <a:pt x="40" y="1496"/>
                </a:lnTo>
                <a:lnTo>
                  <a:pt x="72" y="1613"/>
                </a:lnTo>
                <a:lnTo>
                  <a:pt x="111" y="1723"/>
                </a:lnTo>
                <a:lnTo>
                  <a:pt x="159" y="1827"/>
                </a:lnTo>
                <a:lnTo>
                  <a:pt x="213" y="1920"/>
                </a:lnTo>
                <a:lnTo>
                  <a:pt x="274" y="2005"/>
                </a:lnTo>
                <a:lnTo>
                  <a:pt x="340" y="2078"/>
                </a:lnTo>
                <a:lnTo>
                  <a:pt x="412" y="2138"/>
                </a:lnTo>
                <a:lnTo>
                  <a:pt x="487" y="2187"/>
                </a:lnTo>
                <a:lnTo>
                  <a:pt x="565" y="2222"/>
                </a:lnTo>
                <a:lnTo>
                  <a:pt x="647" y="2243"/>
                </a:lnTo>
                <a:lnTo>
                  <a:pt x="728" y="2249"/>
                </a:lnTo>
                <a:lnTo>
                  <a:pt x="810" y="2243"/>
                </a:lnTo>
                <a:lnTo>
                  <a:pt x="890" y="2222"/>
                </a:lnTo>
                <a:lnTo>
                  <a:pt x="969" y="2187"/>
                </a:lnTo>
                <a:lnTo>
                  <a:pt x="1044" y="2138"/>
                </a:lnTo>
                <a:lnTo>
                  <a:pt x="1116" y="2078"/>
                </a:lnTo>
                <a:lnTo>
                  <a:pt x="1182" y="2005"/>
                </a:lnTo>
                <a:lnTo>
                  <a:pt x="1243" y="1920"/>
                </a:lnTo>
                <a:lnTo>
                  <a:pt x="1297" y="1827"/>
                </a:lnTo>
                <a:lnTo>
                  <a:pt x="1344" y="1723"/>
                </a:lnTo>
                <a:lnTo>
                  <a:pt x="1384" y="1613"/>
                </a:lnTo>
                <a:lnTo>
                  <a:pt x="1415" y="1496"/>
                </a:lnTo>
                <a:lnTo>
                  <a:pt x="1438" y="1376"/>
                </a:lnTo>
                <a:lnTo>
                  <a:pt x="1451" y="1251"/>
                </a:lnTo>
                <a:lnTo>
                  <a:pt x="1457" y="1125"/>
                </a:lnTo>
                <a:lnTo>
                  <a:pt x="1451" y="999"/>
                </a:lnTo>
                <a:lnTo>
                  <a:pt x="1438" y="875"/>
                </a:lnTo>
                <a:lnTo>
                  <a:pt x="1415" y="754"/>
                </a:lnTo>
                <a:lnTo>
                  <a:pt x="1384" y="637"/>
                </a:lnTo>
                <a:lnTo>
                  <a:pt x="1344" y="526"/>
                </a:lnTo>
                <a:lnTo>
                  <a:pt x="1297" y="424"/>
                </a:lnTo>
                <a:lnTo>
                  <a:pt x="1243" y="330"/>
                </a:lnTo>
                <a:lnTo>
                  <a:pt x="1182" y="246"/>
                </a:lnTo>
                <a:lnTo>
                  <a:pt x="1116" y="173"/>
                </a:lnTo>
                <a:lnTo>
                  <a:pt x="1044" y="111"/>
                </a:lnTo>
                <a:lnTo>
                  <a:pt x="969" y="64"/>
                </a:lnTo>
                <a:lnTo>
                  <a:pt x="890" y="29"/>
                </a:lnTo>
                <a:lnTo>
                  <a:pt x="810" y="8"/>
                </a:lnTo>
                <a:lnTo>
                  <a:pt x="728" y="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Freeform 274"/>
          <p:cNvSpPr/>
          <p:nvPr/>
        </p:nvSpPr>
        <p:spPr>
          <a:xfrm>
            <a:off x="2004840" y="1708200"/>
            <a:ext cx="176400" cy="162000"/>
          </a:xfrm>
          <a:custGeom>
            <a:avLst/>
            <a:gdLst>
              <a:gd name="textAreaLeft" fmla="*/ 0 w 176400"/>
              <a:gd name="textAreaRight" fmla="*/ 176400 w 1764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11" h="102">
                <a:moveTo>
                  <a:pt x="111" y="0"/>
                </a:moveTo>
                <a:lnTo>
                  <a:pt x="0" y="46"/>
                </a:lnTo>
                <a:lnTo>
                  <a:pt x="14" y="102"/>
                </a:lnTo>
                <a:lnTo>
                  <a:pt x="111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ffcf01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Freeform 275"/>
          <p:cNvSpPr/>
          <p:nvPr/>
        </p:nvSpPr>
        <p:spPr>
          <a:xfrm>
            <a:off x="1836720" y="1785960"/>
            <a:ext cx="166680" cy="90360"/>
          </a:xfrm>
          <a:custGeom>
            <a:avLst/>
            <a:gdLst>
              <a:gd name="textAreaLeft" fmla="*/ 0 w 166680"/>
              <a:gd name="textAreaRight" fmla="*/ 167040 w 16668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05" h="57">
                <a:moveTo>
                  <a:pt x="0" y="2"/>
                </a:moveTo>
                <a:lnTo>
                  <a:pt x="91" y="0"/>
                </a:lnTo>
                <a:lnTo>
                  <a:pt x="105" y="57"/>
                </a:lnTo>
                <a:lnTo>
                  <a:pt x="19" y="56"/>
                </a:lnTo>
                <a:lnTo>
                  <a:pt x="0" y="2"/>
                </a:lnTo>
                <a:close/>
              </a:path>
            </a:pathLst>
          </a:custGeom>
          <a:solidFill>
            <a:srgbClr val="f7fd03"/>
          </a:solidFill>
          <a:ln w="0">
            <a:solidFill>
              <a:srgbClr val="ffcf01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Text Box 276"/>
          <p:cNvSpPr/>
          <p:nvPr/>
        </p:nvSpPr>
        <p:spPr>
          <a:xfrm>
            <a:off x="6330960" y="583416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Text Box 277"/>
          <p:cNvSpPr/>
          <p:nvPr/>
        </p:nvSpPr>
        <p:spPr>
          <a:xfrm>
            <a:off x="1720800" y="514368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Text Box 278"/>
          <p:cNvSpPr/>
          <p:nvPr/>
        </p:nvSpPr>
        <p:spPr>
          <a:xfrm>
            <a:off x="1546200" y="466740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Text Box 279"/>
          <p:cNvSpPr/>
          <p:nvPr/>
        </p:nvSpPr>
        <p:spPr>
          <a:xfrm>
            <a:off x="7020000" y="1628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Text Box 280"/>
          <p:cNvSpPr/>
          <p:nvPr/>
        </p:nvSpPr>
        <p:spPr>
          <a:xfrm>
            <a:off x="8799480" y="16495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Text Box 281"/>
          <p:cNvSpPr/>
          <p:nvPr/>
        </p:nvSpPr>
        <p:spPr>
          <a:xfrm>
            <a:off x="1644480" y="13874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Text Box 282"/>
          <p:cNvSpPr/>
          <p:nvPr/>
        </p:nvSpPr>
        <p:spPr>
          <a:xfrm>
            <a:off x="2050920" y="1413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Freeform 288"/>
          <p:cNvSpPr/>
          <p:nvPr/>
        </p:nvSpPr>
        <p:spPr>
          <a:xfrm>
            <a:off x="210960" y="1476360"/>
            <a:ext cx="73080" cy="463680"/>
          </a:xfrm>
          <a:custGeom>
            <a:avLst/>
            <a:gdLst>
              <a:gd name="textAreaLeft" fmla="*/ 0 w 73080"/>
              <a:gd name="textAreaRight" fmla="*/ 73440 w 730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323" h="2046">
                <a:moveTo>
                  <a:pt x="323" y="0"/>
                </a:moveTo>
                <a:lnTo>
                  <a:pt x="256" y="99"/>
                </a:lnTo>
                <a:lnTo>
                  <a:pt x="197" y="207"/>
                </a:lnTo>
                <a:lnTo>
                  <a:pt x="144" y="324"/>
                </a:lnTo>
                <a:lnTo>
                  <a:pt x="99" y="448"/>
                </a:lnTo>
                <a:lnTo>
                  <a:pt x="63" y="577"/>
                </a:lnTo>
                <a:lnTo>
                  <a:pt x="34" y="713"/>
                </a:lnTo>
                <a:lnTo>
                  <a:pt x="15" y="851"/>
                </a:lnTo>
                <a:lnTo>
                  <a:pt x="4" y="991"/>
                </a:lnTo>
                <a:lnTo>
                  <a:pt x="0" y="1133"/>
                </a:lnTo>
                <a:lnTo>
                  <a:pt x="7" y="1275"/>
                </a:lnTo>
                <a:lnTo>
                  <a:pt x="23" y="1415"/>
                </a:lnTo>
                <a:lnTo>
                  <a:pt x="46" y="1552"/>
                </a:lnTo>
                <a:lnTo>
                  <a:pt x="79" y="1685"/>
                </a:lnTo>
                <a:lnTo>
                  <a:pt x="119" y="1812"/>
                </a:lnTo>
                <a:lnTo>
                  <a:pt x="167" y="1933"/>
                </a:lnTo>
                <a:lnTo>
                  <a:pt x="223" y="2046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Freeform 289"/>
          <p:cNvSpPr/>
          <p:nvPr/>
        </p:nvSpPr>
        <p:spPr>
          <a:xfrm>
            <a:off x="3348000" y="1476360"/>
            <a:ext cx="73080" cy="463680"/>
          </a:xfrm>
          <a:custGeom>
            <a:avLst/>
            <a:gdLst>
              <a:gd name="textAreaLeft" fmla="*/ 0 w 73080"/>
              <a:gd name="textAreaRight" fmla="*/ 73440 w 730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323" h="2046">
                <a:moveTo>
                  <a:pt x="323" y="0"/>
                </a:moveTo>
                <a:lnTo>
                  <a:pt x="256" y="99"/>
                </a:lnTo>
                <a:lnTo>
                  <a:pt x="197" y="207"/>
                </a:lnTo>
                <a:lnTo>
                  <a:pt x="144" y="324"/>
                </a:lnTo>
                <a:lnTo>
                  <a:pt x="99" y="448"/>
                </a:lnTo>
                <a:lnTo>
                  <a:pt x="63" y="577"/>
                </a:lnTo>
                <a:lnTo>
                  <a:pt x="34" y="713"/>
                </a:lnTo>
                <a:lnTo>
                  <a:pt x="15" y="851"/>
                </a:lnTo>
                <a:lnTo>
                  <a:pt x="4" y="991"/>
                </a:lnTo>
                <a:lnTo>
                  <a:pt x="0" y="1133"/>
                </a:lnTo>
                <a:lnTo>
                  <a:pt x="7" y="1275"/>
                </a:lnTo>
                <a:lnTo>
                  <a:pt x="23" y="1415"/>
                </a:lnTo>
                <a:lnTo>
                  <a:pt x="46" y="1552"/>
                </a:lnTo>
                <a:lnTo>
                  <a:pt x="79" y="1685"/>
                </a:lnTo>
                <a:lnTo>
                  <a:pt x="119" y="1812"/>
                </a:lnTo>
                <a:lnTo>
                  <a:pt x="167" y="1933"/>
                </a:lnTo>
                <a:lnTo>
                  <a:pt x="223" y="2046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Text Box 290"/>
          <p:cNvSpPr/>
          <p:nvPr/>
        </p:nvSpPr>
        <p:spPr>
          <a:xfrm>
            <a:off x="17640" y="1197000"/>
            <a:ext cx="3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Text Box 291"/>
          <p:cNvSpPr/>
          <p:nvPr/>
        </p:nvSpPr>
        <p:spPr>
          <a:xfrm>
            <a:off x="3178080" y="184464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Line 295"/>
          <p:cNvSpPr/>
          <p:nvPr/>
        </p:nvSpPr>
        <p:spPr>
          <a:xfrm>
            <a:off x="5900760" y="3481560"/>
            <a:ext cx="1562040" cy="21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Line 296"/>
          <p:cNvSpPr/>
          <p:nvPr/>
        </p:nvSpPr>
        <p:spPr>
          <a:xfrm>
            <a:off x="5905440" y="4157640"/>
            <a:ext cx="1557360" cy="214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2" name="Object 299"/>
          <p:cNvGraphicFramePr/>
          <p:nvPr/>
        </p:nvGraphicFramePr>
        <p:xfrm>
          <a:off x="2424240" y="4551480"/>
          <a:ext cx="360360" cy="32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3" name="Object 29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24240" y="4551480"/>
                    <a:ext cx="36036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4" name="Freeform 300"/>
          <p:cNvSpPr/>
          <p:nvPr/>
        </p:nvSpPr>
        <p:spPr>
          <a:xfrm>
            <a:off x="1908000" y="4208400"/>
            <a:ext cx="200160" cy="277920"/>
          </a:xfrm>
          <a:custGeom>
            <a:avLst/>
            <a:gdLst>
              <a:gd name="textAreaLeft" fmla="*/ 0 w 200160"/>
              <a:gd name="textAreaRight" fmla="*/ 200520 w 2001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754" h="1046">
                <a:moveTo>
                  <a:pt x="0" y="0"/>
                </a:moveTo>
                <a:lnTo>
                  <a:pt x="97" y="192"/>
                </a:lnTo>
                <a:lnTo>
                  <a:pt x="206" y="380"/>
                </a:lnTo>
                <a:lnTo>
                  <a:pt x="327" y="559"/>
                </a:lnTo>
                <a:lnTo>
                  <a:pt x="459" y="730"/>
                </a:lnTo>
                <a:lnTo>
                  <a:pt x="601" y="892"/>
                </a:lnTo>
                <a:lnTo>
                  <a:pt x="754" y="1046"/>
                </a:lnTo>
              </a:path>
            </a:pathLst>
          </a:custGeom>
          <a:noFill/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Freeform 304"/>
          <p:cNvSpPr/>
          <p:nvPr/>
        </p:nvSpPr>
        <p:spPr>
          <a:xfrm>
            <a:off x="2166840" y="4551480"/>
            <a:ext cx="289080" cy="160200"/>
          </a:xfrm>
          <a:custGeom>
            <a:avLst/>
            <a:gdLst>
              <a:gd name="textAreaLeft" fmla="*/ 0 w 289080"/>
              <a:gd name="textAreaRight" fmla="*/ 289440 w 2890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094" h="607">
                <a:moveTo>
                  <a:pt x="0" y="0"/>
                </a:moveTo>
                <a:lnTo>
                  <a:pt x="166" y="129"/>
                </a:lnTo>
                <a:lnTo>
                  <a:pt x="339" y="247"/>
                </a:lnTo>
                <a:lnTo>
                  <a:pt x="519" y="354"/>
                </a:lnTo>
                <a:lnTo>
                  <a:pt x="705" y="450"/>
                </a:lnTo>
                <a:lnTo>
                  <a:pt x="897" y="534"/>
                </a:lnTo>
                <a:lnTo>
                  <a:pt x="1094" y="607"/>
                </a:lnTo>
              </a:path>
            </a:pathLst>
          </a:custGeom>
          <a:noFill/>
          <a:ln w="0">
            <a:solidFill>
              <a:srgbClr val="000000"/>
            </a:solidFill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AutoShape 306">
            <a:hlinkClick r:id="" action="ppaction://hlinkshowjump?jump=nextslide"/>
            <a:hlinkClick r:id="rId9"/>
          </p:cNvPr>
          <p:cNvSpPr/>
          <p:nvPr/>
        </p:nvSpPr>
        <p:spPr>
          <a:xfrm>
            <a:off x="8101080" y="58514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Text Box 307"/>
          <p:cNvSpPr/>
          <p:nvPr/>
        </p:nvSpPr>
        <p:spPr>
          <a:xfrm>
            <a:off x="1576440" y="16351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Text Box 308"/>
          <p:cNvSpPr/>
          <p:nvPr/>
        </p:nvSpPr>
        <p:spPr>
          <a:xfrm>
            <a:off x="1620720" y="1773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Text Box 309"/>
          <p:cNvSpPr/>
          <p:nvPr/>
        </p:nvSpPr>
        <p:spPr>
          <a:xfrm>
            <a:off x="1979640" y="177336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Text Box 310"/>
          <p:cNvSpPr/>
          <p:nvPr/>
        </p:nvSpPr>
        <p:spPr>
          <a:xfrm>
            <a:off x="2009880" y="16542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Freeform 312"/>
          <p:cNvSpPr/>
          <p:nvPr/>
        </p:nvSpPr>
        <p:spPr>
          <a:xfrm>
            <a:off x="5789520" y="4394160"/>
            <a:ext cx="19080" cy="187200"/>
          </a:xfrm>
          <a:custGeom>
            <a:avLst/>
            <a:gdLst>
              <a:gd name="textAreaLeft" fmla="*/ 0 w 19080"/>
              <a:gd name="textAreaRight" fmla="*/ 19440 w 190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4" h="709">
                <a:moveTo>
                  <a:pt x="0" y="709"/>
                </a:moveTo>
                <a:lnTo>
                  <a:pt x="43" y="475"/>
                </a:lnTo>
                <a:lnTo>
                  <a:pt x="68" y="237"/>
                </a:lnTo>
                <a:lnTo>
                  <a:pt x="7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2" name="Object 313"/>
          <p:cNvGraphicFramePr/>
          <p:nvPr/>
        </p:nvGraphicFramePr>
        <p:xfrm>
          <a:off x="5915160" y="4292640"/>
          <a:ext cx="312480" cy="40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73" name="Object 3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15160" y="4292640"/>
                    <a:ext cx="3124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Text Box 61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Freeform 385"/>
          <p:cNvSpPr/>
          <p:nvPr/>
        </p:nvSpPr>
        <p:spPr>
          <a:xfrm>
            <a:off x="793800" y="1989000"/>
            <a:ext cx="3878280" cy="2414880"/>
          </a:xfrm>
          <a:custGeom>
            <a:avLst/>
            <a:gdLst>
              <a:gd name="textAreaLeft" fmla="*/ 0 w 3878280"/>
              <a:gd name="textAreaRight" fmla="*/ 3878640 w 3878280"/>
              <a:gd name="textAreaTop" fmla="*/ 0 h 2414880"/>
              <a:gd name="textAreaBottom" fmla="*/ 2415240 h 2414880"/>
            </a:gdLst>
            <a:ahLst/>
            <a:rect l="textAreaLeft" t="textAreaTop" r="textAreaRight" b="textAreaBottom"/>
            <a:pathLst>
              <a:path w="14661" h="9124">
                <a:moveTo>
                  <a:pt x="8775" y="0"/>
                </a:moveTo>
                <a:lnTo>
                  <a:pt x="0" y="9124"/>
                </a:lnTo>
                <a:lnTo>
                  <a:pt x="5886" y="9124"/>
                </a:lnTo>
                <a:lnTo>
                  <a:pt x="14661" y="0"/>
                </a:lnTo>
                <a:lnTo>
                  <a:pt x="8775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Freeform 386"/>
          <p:cNvSpPr/>
          <p:nvPr/>
        </p:nvSpPr>
        <p:spPr>
          <a:xfrm>
            <a:off x="2351160" y="1989000"/>
            <a:ext cx="2320920" cy="351504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3515040"/>
              <a:gd name="textAreaBottom" fmla="*/ 3515400 h 3515040"/>
            </a:gdLst>
            <a:ahLst/>
            <a:rect l="textAreaLeft" t="textAreaTop" r="textAreaRight" b="textAreaBottom"/>
            <a:pathLst>
              <a:path w="8775" h="13282">
                <a:moveTo>
                  <a:pt x="0" y="13282"/>
                </a:moveTo>
                <a:lnTo>
                  <a:pt x="0" y="9124"/>
                </a:lnTo>
                <a:lnTo>
                  <a:pt x="8775" y="0"/>
                </a:lnTo>
                <a:lnTo>
                  <a:pt x="0" y="13282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Rectangle 387"/>
          <p:cNvSpPr/>
          <p:nvPr/>
        </p:nvSpPr>
        <p:spPr>
          <a:xfrm>
            <a:off x="793800" y="4394160"/>
            <a:ext cx="1557360" cy="1100160"/>
          </a:xfrm>
          <a:prstGeom prst="rect">
            <a:avLst/>
          </a:prstGeom>
          <a:solidFill>
            <a:srgbClr val="f7fd0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Text Box 388"/>
          <p:cNvSpPr/>
          <p:nvPr/>
        </p:nvSpPr>
        <p:spPr>
          <a:xfrm>
            <a:off x="3083040" y="4292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 Box 389"/>
          <p:cNvSpPr/>
          <p:nvPr/>
        </p:nvSpPr>
        <p:spPr>
          <a:xfrm>
            <a:off x="2000160" y="4724280"/>
            <a:ext cx="5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Line 390"/>
          <p:cNvSpPr/>
          <p:nvPr/>
        </p:nvSpPr>
        <p:spPr>
          <a:xfrm flipV="1">
            <a:off x="793800" y="1989000"/>
            <a:ext cx="2320920" cy="241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Line 391"/>
          <p:cNvSpPr/>
          <p:nvPr/>
        </p:nvSpPr>
        <p:spPr>
          <a:xfrm flipV="1">
            <a:off x="2351160" y="1989000"/>
            <a:ext cx="2320920" cy="241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Line 392"/>
          <p:cNvSpPr/>
          <p:nvPr/>
        </p:nvSpPr>
        <p:spPr>
          <a:xfrm>
            <a:off x="3114720" y="1989000"/>
            <a:ext cx="155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Line 393"/>
          <p:cNvSpPr/>
          <p:nvPr/>
        </p:nvSpPr>
        <p:spPr>
          <a:xfrm flipH="1">
            <a:off x="2350800" y="1989000"/>
            <a:ext cx="2320920" cy="351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Line 394"/>
          <p:cNvSpPr/>
          <p:nvPr/>
        </p:nvSpPr>
        <p:spPr>
          <a:xfrm flipH="1">
            <a:off x="793440" y="1989000"/>
            <a:ext cx="2320920" cy="351504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Line 395"/>
          <p:cNvSpPr/>
          <p:nvPr/>
        </p:nvSpPr>
        <p:spPr>
          <a:xfrm>
            <a:off x="793800" y="4403880"/>
            <a:ext cx="155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Line 396"/>
          <p:cNvSpPr/>
          <p:nvPr/>
        </p:nvSpPr>
        <p:spPr>
          <a:xfrm>
            <a:off x="2351160" y="4403880"/>
            <a:ext cx="1440" cy="1100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Line 397"/>
          <p:cNvSpPr/>
          <p:nvPr/>
        </p:nvSpPr>
        <p:spPr>
          <a:xfrm flipH="1">
            <a:off x="793800" y="5504040"/>
            <a:ext cx="155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Line 398"/>
          <p:cNvSpPr/>
          <p:nvPr/>
        </p:nvSpPr>
        <p:spPr>
          <a:xfrm>
            <a:off x="1679400" y="3483000"/>
            <a:ext cx="1800" cy="68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Line 399"/>
          <p:cNvSpPr/>
          <p:nvPr/>
        </p:nvSpPr>
        <p:spPr>
          <a:xfrm>
            <a:off x="3236760" y="3483000"/>
            <a:ext cx="1800" cy="89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Line 400"/>
          <p:cNvSpPr/>
          <p:nvPr/>
        </p:nvSpPr>
        <p:spPr>
          <a:xfrm>
            <a:off x="2351160" y="5504040"/>
            <a:ext cx="1440" cy="347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Line 401"/>
          <p:cNvSpPr/>
          <p:nvPr/>
        </p:nvSpPr>
        <p:spPr>
          <a:xfrm flipV="1">
            <a:off x="2351160" y="1988640"/>
            <a:ext cx="2320920" cy="2762280"/>
          </a:xfrm>
          <a:prstGeom prst="line">
            <a:avLst/>
          </a:prstGeom>
          <a:ln w="0">
            <a:solidFill>
              <a:srgbClr val="ce3d1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Line 402"/>
          <p:cNvSpPr/>
          <p:nvPr/>
        </p:nvSpPr>
        <p:spPr>
          <a:xfrm flipV="1">
            <a:off x="2351160" y="1988640"/>
            <a:ext cx="2320920" cy="3862440"/>
          </a:xfrm>
          <a:prstGeom prst="line">
            <a:avLst/>
          </a:prstGeom>
          <a:ln w="0">
            <a:solidFill>
              <a:srgbClr val="ce3d1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Line 403"/>
          <p:cNvSpPr/>
          <p:nvPr/>
        </p:nvSpPr>
        <p:spPr>
          <a:xfrm>
            <a:off x="793800" y="5504040"/>
            <a:ext cx="1557360" cy="347400"/>
          </a:xfrm>
          <a:prstGeom prst="line">
            <a:avLst/>
          </a:prstGeom>
          <a:ln w="0">
            <a:solidFill>
              <a:srgbClr val="ce3d1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Line 404"/>
          <p:cNvSpPr/>
          <p:nvPr/>
        </p:nvSpPr>
        <p:spPr>
          <a:xfrm>
            <a:off x="793800" y="4403880"/>
            <a:ext cx="1557360" cy="347400"/>
          </a:xfrm>
          <a:prstGeom prst="line">
            <a:avLst/>
          </a:prstGeom>
          <a:ln w="0">
            <a:solidFill>
              <a:srgbClr val="ce3d1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Line 405"/>
          <p:cNvSpPr/>
          <p:nvPr/>
        </p:nvSpPr>
        <p:spPr>
          <a:xfrm flipV="1">
            <a:off x="3114720" y="164772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Line 406"/>
          <p:cNvSpPr/>
          <p:nvPr/>
        </p:nvSpPr>
        <p:spPr>
          <a:xfrm flipV="1">
            <a:off x="4660920" y="164772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Line 407"/>
          <p:cNvSpPr/>
          <p:nvPr/>
        </p:nvSpPr>
        <p:spPr>
          <a:xfrm>
            <a:off x="3114720" y="1743120"/>
            <a:ext cx="1546200" cy="144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Line 408"/>
          <p:cNvSpPr/>
          <p:nvPr/>
        </p:nvSpPr>
        <p:spPr>
          <a:xfrm flipH="1">
            <a:off x="1107720" y="3483000"/>
            <a:ext cx="571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Line 409"/>
          <p:cNvSpPr/>
          <p:nvPr/>
        </p:nvSpPr>
        <p:spPr>
          <a:xfrm flipH="1">
            <a:off x="2168640" y="1989000"/>
            <a:ext cx="9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Line 410"/>
          <p:cNvSpPr/>
          <p:nvPr/>
        </p:nvSpPr>
        <p:spPr>
          <a:xfrm flipH="1">
            <a:off x="1310760" y="1989000"/>
            <a:ext cx="1436760" cy="149400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Line 411"/>
          <p:cNvSpPr/>
          <p:nvPr/>
        </p:nvSpPr>
        <p:spPr>
          <a:xfrm flipH="1">
            <a:off x="-135000" y="4403880"/>
            <a:ext cx="9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Line 412"/>
          <p:cNvSpPr/>
          <p:nvPr/>
        </p:nvSpPr>
        <p:spPr>
          <a:xfrm flipH="1">
            <a:off x="115560" y="1989000"/>
            <a:ext cx="2320920" cy="241488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Freeform 413"/>
          <p:cNvSpPr/>
          <p:nvPr/>
        </p:nvSpPr>
        <p:spPr>
          <a:xfrm>
            <a:off x="2386080" y="3483000"/>
            <a:ext cx="6120" cy="98280"/>
          </a:xfrm>
          <a:custGeom>
            <a:avLst/>
            <a:gdLst>
              <a:gd name="textAreaLeft" fmla="*/ 0 w 6120"/>
              <a:gd name="textAreaRight" fmla="*/ 6480 w 61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25" h="370">
                <a:moveTo>
                  <a:pt x="0" y="370"/>
                </a:moveTo>
                <a:lnTo>
                  <a:pt x="19" y="185"/>
                </a:lnTo>
                <a:lnTo>
                  <a:pt x="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Freeform 414"/>
          <p:cNvSpPr/>
          <p:nvPr/>
        </p:nvSpPr>
        <p:spPr>
          <a:xfrm>
            <a:off x="1587600" y="4394160"/>
            <a:ext cx="19080" cy="187200"/>
          </a:xfrm>
          <a:custGeom>
            <a:avLst/>
            <a:gdLst>
              <a:gd name="textAreaLeft" fmla="*/ 0 w 19080"/>
              <a:gd name="textAreaRight" fmla="*/ 19440 w 190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4" h="709">
                <a:moveTo>
                  <a:pt x="0" y="709"/>
                </a:moveTo>
                <a:lnTo>
                  <a:pt x="43" y="475"/>
                </a:lnTo>
                <a:lnTo>
                  <a:pt x="68" y="237"/>
                </a:lnTo>
                <a:lnTo>
                  <a:pt x="7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Freeform 415"/>
          <p:cNvSpPr/>
          <p:nvPr/>
        </p:nvSpPr>
        <p:spPr>
          <a:xfrm>
            <a:off x="3838680" y="2371680"/>
            <a:ext cx="199800" cy="277920"/>
          </a:xfrm>
          <a:custGeom>
            <a:avLst/>
            <a:gdLst>
              <a:gd name="textAreaLeft" fmla="*/ 0 w 199800"/>
              <a:gd name="textAreaRight" fmla="*/ 200160 w 19980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754" h="1046">
                <a:moveTo>
                  <a:pt x="0" y="0"/>
                </a:moveTo>
                <a:lnTo>
                  <a:pt x="97" y="192"/>
                </a:lnTo>
                <a:lnTo>
                  <a:pt x="206" y="380"/>
                </a:lnTo>
                <a:lnTo>
                  <a:pt x="327" y="559"/>
                </a:lnTo>
                <a:lnTo>
                  <a:pt x="459" y="730"/>
                </a:lnTo>
                <a:lnTo>
                  <a:pt x="601" y="892"/>
                </a:lnTo>
                <a:lnTo>
                  <a:pt x="754" y="1046"/>
                </a:lnTo>
              </a:path>
            </a:pathLst>
          </a:custGeom>
          <a:noFill/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Freeform 416"/>
          <p:cNvSpPr/>
          <p:nvPr/>
        </p:nvSpPr>
        <p:spPr>
          <a:xfrm>
            <a:off x="4084560" y="2689200"/>
            <a:ext cx="289080" cy="160200"/>
          </a:xfrm>
          <a:custGeom>
            <a:avLst/>
            <a:gdLst>
              <a:gd name="textAreaLeft" fmla="*/ 0 w 289080"/>
              <a:gd name="textAreaRight" fmla="*/ 289440 w 2890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094" h="607">
                <a:moveTo>
                  <a:pt x="0" y="0"/>
                </a:moveTo>
                <a:lnTo>
                  <a:pt x="166" y="129"/>
                </a:lnTo>
                <a:lnTo>
                  <a:pt x="339" y="247"/>
                </a:lnTo>
                <a:lnTo>
                  <a:pt x="519" y="354"/>
                </a:lnTo>
                <a:lnTo>
                  <a:pt x="705" y="450"/>
                </a:lnTo>
                <a:lnTo>
                  <a:pt x="897" y="534"/>
                </a:lnTo>
                <a:lnTo>
                  <a:pt x="1094" y="607"/>
                </a:lnTo>
              </a:path>
            </a:pathLst>
          </a:custGeom>
          <a:noFill/>
          <a:ln w="0">
            <a:solidFill>
              <a:srgbClr val="000000"/>
            </a:solidFill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Text Box 417"/>
          <p:cNvSpPr/>
          <p:nvPr/>
        </p:nvSpPr>
        <p:spPr>
          <a:xfrm>
            <a:off x="560520" y="4172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Text Box 418"/>
          <p:cNvSpPr/>
          <p:nvPr/>
        </p:nvSpPr>
        <p:spPr>
          <a:xfrm>
            <a:off x="560520" y="53974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Text Box 419"/>
          <p:cNvSpPr/>
          <p:nvPr/>
        </p:nvSpPr>
        <p:spPr>
          <a:xfrm>
            <a:off x="2071800" y="5397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Text Box 420"/>
          <p:cNvSpPr/>
          <p:nvPr/>
        </p:nvSpPr>
        <p:spPr>
          <a:xfrm>
            <a:off x="2144880" y="4149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Text Box 421"/>
          <p:cNvSpPr/>
          <p:nvPr/>
        </p:nvSpPr>
        <p:spPr>
          <a:xfrm>
            <a:off x="1476360" y="3206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Text Box 422"/>
          <p:cNvSpPr/>
          <p:nvPr/>
        </p:nvSpPr>
        <p:spPr>
          <a:xfrm>
            <a:off x="1476360" y="3925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Text Box 423"/>
          <p:cNvSpPr/>
          <p:nvPr/>
        </p:nvSpPr>
        <p:spPr>
          <a:xfrm>
            <a:off x="3224160" y="3998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Text Box 424"/>
          <p:cNvSpPr/>
          <p:nvPr/>
        </p:nvSpPr>
        <p:spPr>
          <a:xfrm>
            <a:off x="3008160" y="3206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Text Box 425"/>
          <p:cNvSpPr/>
          <p:nvPr/>
        </p:nvSpPr>
        <p:spPr>
          <a:xfrm>
            <a:off x="3152880" y="3573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Text Box 426"/>
          <p:cNvSpPr/>
          <p:nvPr/>
        </p:nvSpPr>
        <p:spPr>
          <a:xfrm rot="18678600">
            <a:off x="1098360" y="2813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Text Box 427"/>
          <p:cNvSpPr/>
          <p:nvPr/>
        </p:nvSpPr>
        <p:spPr>
          <a:xfrm rot="18611400">
            <a:off x="1720800" y="2197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Text Box 428"/>
          <p:cNvSpPr/>
          <p:nvPr/>
        </p:nvSpPr>
        <p:spPr>
          <a:xfrm>
            <a:off x="3728880" y="1413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9" name="Object 429"/>
          <p:cNvGraphicFramePr/>
          <p:nvPr/>
        </p:nvGraphicFramePr>
        <p:xfrm>
          <a:off x="2432160" y="3141720"/>
          <a:ext cx="29988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0" name="Object 4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2160" y="3141720"/>
                    <a:ext cx="2998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1" name="Object 430"/>
          <p:cNvGraphicFramePr/>
          <p:nvPr/>
        </p:nvGraphicFramePr>
        <p:xfrm>
          <a:off x="1712880" y="4292640"/>
          <a:ext cx="31284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2" name="Object 4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2880" y="4292640"/>
                    <a:ext cx="3128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3" name="Object 431"/>
          <p:cNvGraphicFramePr/>
          <p:nvPr/>
        </p:nvGraphicFramePr>
        <p:xfrm>
          <a:off x="4305240" y="2637000"/>
          <a:ext cx="360360" cy="32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4" name="Object 4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05240" y="2637000"/>
                    <a:ext cx="36036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5" name="Rectangle 432"/>
          <p:cNvSpPr/>
          <p:nvPr/>
        </p:nvSpPr>
        <p:spPr>
          <a:xfrm>
            <a:off x="1679400" y="3483000"/>
            <a:ext cx="1557360" cy="676080"/>
          </a:xfrm>
          <a:prstGeom prst="rect">
            <a:avLst/>
          </a:prstGeom>
          <a:noFill/>
          <a:ln w="0">
            <a:solidFill>
              <a:srgbClr val="ffcf01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Text Box 433"/>
          <p:cNvSpPr/>
          <p:nvPr/>
        </p:nvSpPr>
        <p:spPr>
          <a:xfrm>
            <a:off x="2103480" y="583416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Text Box 434"/>
          <p:cNvSpPr/>
          <p:nvPr/>
        </p:nvSpPr>
        <p:spPr>
          <a:xfrm>
            <a:off x="2792520" y="162864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435"/>
          <p:cNvSpPr/>
          <p:nvPr/>
        </p:nvSpPr>
        <p:spPr>
          <a:xfrm>
            <a:off x="4572000" y="16495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Line 436"/>
          <p:cNvSpPr/>
          <p:nvPr/>
        </p:nvSpPr>
        <p:spPr>
          <a:xfrm>
            <a:off x="1673280" y="3481560"/>
            <a:ext cx="1562040" cy="21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Line 437"/>
          <p:cNvSpPr/>
          <p:nvPr/>
        </p:nvSpPr>
        <p:spPr>
          <a:xfrm>
            <a:off x="1677960" y="4157640"/>
            <a:ext cx="1557360" cy="214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Text Box 439"/>
          <p:cNvSpPr/>
          <p:nvPr/>
        </p:nvSpPr>
        <p:spPr>
          <a:xfrm>
            <a:off x="5148360" y="1125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Text Box 440"/>
          <p:cNvSpPr/>
          <p:nvPr/>
        </p:nvSpPr>
        <p:spPr>
          <a:xfrm>
            <a:off x="5148360" y="112536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Text Box 441"/>
          <p:cNvSpPr/>
          <p:nvPr/>
        </p:nvSpPr>
        <p:spPr>
          <a:xfrm>
            <a:off x="5148360" y="9558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、几何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Text Box 442"/>
          <p:cNvSpPr/>
          <p:nvPr/>
        </p:nvSpPr>
        <p:spPr>
          <a:xfrm>
            <a:off x="5148360" y="36925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、物理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Text Box 444"/>
          <p:cNvSpPr/>
          <p:nvPr/>
        </p:nvSpPr>
        <p:spPr>
          <a:xfrm>
            <a:off x="7908840" y="309888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AutoShape 445"/>
          <p:cNvSpPr/>
          <p:nvPr/>
        </p:nvSpPr>
        <p:spPr>
          <a:xfrm>
            <a:off x="6661080" y="2427120"/>
            <a:ext cx="358920" cy="524160"/>
          </a:xfrm>
          <a:prstGeom prst="downArrow">
            <a:avLst>
              <a:gd name="adj1" fmla="val 50000"/>
              <a:gd name="adj2" fmla="val 36510"/>
            </a:avLst>
          </a:prstGeom>
          <a:solidFill>
            <a:srgbClr val="00e4a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7" name="Object 446"/>
          <p:cNvGraphicFramePr/>
          <p:nvPr/>
        </p:nvGraphicFramePr>
        <p:xfrm>
          <a:off x="6276960" y="2908440"/>
          <a:ext cx="1463760" cy="85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8" name="Object 4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76960" y="2908440"/>
                    <a:ext cx="146376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9" name="AutoShape 448"/>
          <p:cNvSpPr/>
          <p:nvPr/>
        </p:nvSpPr>
        <p:spPr>
          <a:xfrm>
            <a:off x="6481800" y="5060880"/>
            <a:ext cx="358560" cy="523800"/>
          </a:xfrm>
          <a:prstGeom prst="downArrow">
            <a:avLst>
              <a:gd name="adj1" fmla="val 50000"/>
              <a:gd name="adj2" fmla="val 36521"/>
            </a:avLst>
          </a:prstGeom>
          <a:solidFill>
            <a:srgbClr val="00e4a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0" name="Object 449"/>
          <p:cNvGraphicFramePr/>
          <p:nvPr/>
        </p:nvGraphicFramePr>
        <p:xfrm>
          <a:off x="5148360" y="5584680"/>
          <a:ext cx="1809720" cy="92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1" name="Object 44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8360" y="5584680"/>
                    <a:ext cx="18097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2" name="Text Box 450"/>
          <p:cNvSpPr/>
          <p:nvPr/>
        </p:nvSpPr>
        <p:spPr>
          <a:xfrm>
            <a:off x="7236000" y="5805360"/>
            <a:ext cx="7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3" name="Object 451"/>
          <p:cNvGraphicFramePr/>
          <p:nvPr/>
        </p:nvGraphicFramePr>
        <p:xfrm>
          <a:off x="5059440" y="1601640"/>
          <a:ext cx="412560" cy="560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4" name="Object 45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59440" y="1601640"/>
                    <a:ext cx="4125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5" name="Object 452"/>
          <p:cNvGraphicFramePr/>
          <p:nvPr/>
        </p:nvGraphicFramePr>
        <p:xfrm>
          <a:off x="5459400" y="1684440"/>
          <a:ext cx="941400" cy="527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46" name="Object 45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59400" y="1684440"/>
                    <a:ext cx="9414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7" name="Object 453"/>
          <p:cNvGraphicFramePr/>
          <p:nvPr/>
        </p:nvGraphicFramePr>
        <p:xfrm>
          <a:off x="6392880" y="1413000"/>
          <a:ext cx="869760" cy="1009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48" name="Object 45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92880" y="1413000"/>
                    <a:ext cx="8697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9" name="Object 454"/>
          <p:cNvGraphicFramePr/>
          <p:nvPr/>
        </p:nvGraphicFramePr>
        <p:xfrm>
          <a:off x="7262640" y="1444680"/>
          <a:ext cx="819360" cy="977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50" name="Object 45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62640" y="1444680"/>
                    <a:ext cx="81936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1" name="Object 455"/>
          <p:cNvGraphicFramePr/>
          <p:nvPr/>
        </p:nvGraphicFramePr>
        <p:xfrm>
          <a:off x="8082000" y="1563840"/>
          <a:ext cx="1012680" cy="847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52" name="Object 45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082000" y="1563840"/>
                    <a:ext cx="101268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3" name="Object 456"/>
          <p:cNvGraphicFramePr/>
          <p:nvPr/>
        </p:nvGraphicFramePr>
        <p:xfrm>
          <a:off x="5369040" y="4240080"/>
          <a:ext cx="1452600" cy="600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54" name="Object 45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69040" y="4240080"/>
                    <a:ext cx="14526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5" name="Object 457"/>
          <p:cNvGraphicFramePr/>
          <p:nvPr/>
        </p:nvGraphicFramePr>
        <p:xfrm>
          <a:off x="6823080" y="4059360"/>
          <a:ext cx="1438200" cy="928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56" name="Object 45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23080" y="4059360"/>
                    <a:ext cx="14382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7" name="Freeform 461"/>
          <p:cNvSpPr/>
          <p:nvPr/>
        </p:nvSpPr>
        <p:spPr>
          <a:xfrm>
            <a:off x="3187800" y="3481560"/>
            <a:ext cx="54000" cy="214200"/>
          </a:xfrm>
          <a:custGeom>
            <a:avLst/>
            <a:gdLst>
              <a:gd name="textAreaLeft" fmla="*/ 0 w 54000"/>
              <a:gd name="textAreaRight" fmla="*/ 54360 w 540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34" h="135">
                <a:moveTo>
                  <a:pt x="10" y="12"/>
                </a:moveTo>
                <a:lnTo>
                  <a:pt x="29" y="0"/>
                </a:lnTo>
                <a:cubicBezTo>
                  <a:pt x="28" y="4"/>
                  <a:pt x="8" y="23"/>
                  <a:pt x="4" y="39"/>
                </a:cubicBezTo>
                <a:cubicBezTo>
                  <a:pt x="0" y="55"/>
                  <a:pt x="0" y="82"/>
                  <a:pt x="2" y="96"/>
                </a:cubicBezTo>
                <a:cubicBezTo>
                  <a:pt x="4" y="110"/>
                  <a:pt x="9" y="119"/>
                  <a:pt x="14" y="125"/>
                </a:cubicBezTo>
                <a:cubicBezTo>
                  <a:pt x="19" y="131"/>
                  <a:pt x="31" y="133"/>
                  <a:pt x="34" y="1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AutoShape 462">
            <a:hlinkClick r:id="" action="ppaction://hlinkshowjump?jump=nextslide"/>
            <a:hlinkClick r:id="rId25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8-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 rot="921600">
            <a:off x="2987640" y="3429000"/>
            <a:ext cx="1224000" cy="141120"/>
          </a:xfrm>
          <a:prstGeom prst="rec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728280" y="3579120"/>
            <a:ext cx="2579760" cy="1925280"/>
            <a:chOff x="728280" y="3579120"/>
            <a:chExt cx="2579760" cy="1925280"/>
          </a:xfrm>
        </p:grpSpPr>
        <p:sp>
          <p:nvSpPr>
            <p:cNvPr id="187" name="Line 5"/>
            <p:cNvSpPr/>
            <p:nvPr/>
          </p:nvSpPr>
          <p:spPr>
            <a:xfrm flipV="1">
              <a:off x="1544760" y="3579120"/>
              <a:ext cx="1763280" cy="137052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 rot="624600">
              <a:off x="760320" y="4945320"/>
              <a:ext cx="113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传动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Text Box 16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0" name="Object 17"/>
          <p:cNvGraphicFramePr/>
          <p:nvPr/>
        </p:nvGraphicFramePr>
        <p:xfrm>
          <a:off x="971640" y="907920"/>
          <a:ext cx="180972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07920"/>
                    <a:ext cx="18097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2" name="Text Box 18"/>
          <p:cNvSpPr/>
          <p:nvPr/>
        </p:nvSpPr>
        <p:spPr>
          <a:xfrm>
            <a:off x="2916360" y="112536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Text Box 19"/>
          <p:cNvSpPr/>
          <p:nvPr/>
        </p:nvSpPr>
        <p:spPr>
          <a:xfrm>
            <a:off x="539640" y="1746360"/>
            <a:ext cx="424836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当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时，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当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时，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&lt;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时，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沿半径呈线性分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剪应力的方向与半径垂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Freeform 27"/>
          <p:cNvSpPr/>
          <p:nvPr/>
        </p:nvSpPr>
        <p:spPr>
          <a:xfrm>
            <a:off x="6199200" y="1488960"/>
            <a:ext cx="1752480" cy="175284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6621" h="6626">
                <a:moveTo>
                  <a:pt x="6621" y="3313"/>
                </a:moveTo>
                <a:lnTo>
                  <a:pt x="6614" y="3096"/>
                </a:lnTo>
                <a:lnTo>
                  <a:pt x="6593" y="2880"/>
                </a:lnTo>
                <a:lnTo>
                  <a:pt x="6558" y="2666"/>
                </a:lnTo>
                <a:lnTo>
                  <a:pt x="6508" y="2456"/>
                </a:lnTo>
                <a:lnTo>
                  <a:pt x="6445" y="2248"/>
                </a:lnTo>
                <a:lnTo>
                  <a:pt x="6369" y="2045"/>
                </a:lnTo>
                <a:lnTo>
                  <a:pt x="6280" y="1848"/>
                </a:lnTo>
                <a:lnTo>
                  <a:pt x="6178" y="1656"/>
                </a:lnTo>
                <a:lnTo>
                  <a:pt x="6063" y="1472"/>
                </a:lnTo>
                <a:lnTo>
                  <a:pt x="5937" y="1296"/>
                </a:lnTo>
                <a:lnTo>
                  <a:pt x="5800" y="1129"/>
                </a:lnTo>
                <a:lnTo>
                  <a:pt x="5651" y="970"/>
                </a:lnTo>
                <a:lnTo>
                  <a:pt x="5494" y="822"/>
                </a:lnTo>
                <a:lnTo>
                  <a:pt x="5326" y="684"/>
                </a:lnTo>
                <a:lnTo>
                  <a:pt x="5151" y="558"/>
                </a:lnTo>
                <a:lnTo>
                  <a:pt x="4966" y="444"/>
                </a:lnTo>
                <a:lnTo>
                  <a:pt x="4775" y="341"/>
                </a:lnTo>
                <a:lnTo>
                  <a:pt x="4578" y="252"/>
                </a:lnTo>
                <a:lnTo>
                  <a:pt x="4375" y="176"/>
                </a:lnTo>
                <a:lnTo>
                  <a:pt x="4168" y="112"/>
                </a:lnTo>
                <a:lnTo>
                  <a:pt x="3957" y="64"/>
                </a:lnTo>
                <a:lnTo>
                  <a:pt x="3743" y="28"/>
                </a:lnTo>
                <a:lnTo>
                  <a:pt x="3527" y="7"/>
                </a:lnTo>
                <a:lnTo>
                  <a:pt x="3311" y="0"/>
                </a:lnTo>
                <a:lnTo>
                  <a:pt x="3094" y="7"/>
                </a:lnTo>
                <a:lnTo>
                  <a:pt x="2879" y="28"/>
                </a:lnTo>
                <a:lnTo>
                  <a:pt x="2665" y="64"/>
                </a:lnTo>
                <a:lnTo>
                  <a:pt x="2454" y="112"/>
                </a:lnTo>
                <a:lnTo>
                  <a:pt x="2247" y="176"/>
                </a:lnTo>
                <a:lnTo>
                  <a:pt x="2044" y="252"/>
                </a:lnTo>
                <a:lnTo>
                  <a:pt x="1847" y="341"/>
                </a:lnTo>
                <a:lnTo>
                  <a:pt x="1655" y="444"/>
                </a:lnTo>
                <a:lnTo>
                  <a:pt x="1472" y="558"/>
                </a:lnTo>
                <a:lnTo>
                  <a:pt x="1295" y="684"/>
                </a:lnTo>
                <a:lnTo>
                  <a:pt x="1128" y="822"/>
                </a:lnTo>
                <a:lnTo>
                  <a:pt x="970" y="970"/>
                </a:lnTo>
                <a:lnTo>
                  <a:pt x="822" y="1129"/>
                </a:lnTo>
                <a:lnTo>
                  <a:pt x="684" y="1296"/>
                </a:lnTo>
                <a:lnTo>
                  <a:pt x="558" y="1472"/>
                </a:lnTo>
                <a:lnTo>
                  <a:pt x="444" y="1656"/>
                </a:lnTo>
                <a:lnTo>
                  <a:pt x="342" y="1848"/>
                </a:lnTo>
                <a:lnTo>
                  <a:pt x="252" y="2045"/>
                </a:lnTo>
                <a:lnTo>
                  <a:pt x="176" y="2248"/>
                </a:lnTo>
                <a:lnTo>
                  <a:pt x="114" y="2456"/>
                </a:lnTo>
                <a:lnTo>
                  <a:pt x="64" y="2666"/>
                </a:lnTo>
                <a:lnTo>
                  <a:pt x="29" y="2880"/>
                </a:lnTo>
                <a:lnTo>
                  <a:pt x="8" y="3096"/>
                </a:lnTo>
                <a:lnTo>
                  <a:pt x="0" y="3313"/>
                </a:lnTo>
                <a:lnTo>
                  <a:pt x="8" y="3529"/>
                </a:lnTo>
                <a:lnTo>
                  <a:pt x="29" y="3745"/>
                </a:lnTo>
                <a:lnTo>
                  <a:pt x="64" y="3959"/>
                </a:lnTo>
                <a:lnTo>
                  <a:pt x="114" y="4171"/>
                </a:lnTo>
                <a:lnTo>
                  <a:pt x="176" y="4377"/>
                </a:lnTo>
                <a:lnTo>
                  <a:pt x="252" y="4581"/>
                </a:lnTo>
                <a:lnTo>
                  <a:pt x="342" y="4779"/>
                </a:lnTo>
                <a:lnTo>
                  <a:pt x="444" y="4969"/>
                </a:lnTo>
                <a:lnTo>
                  <a:pt x="558" y="5153"/>
                </a:lnTo>
                <a:lnTo>
                  <a:pt x="684" y="5330"/>
                </a:lnTo>
                <a:lnTo>
                  <a:pt x="822" y="5498"/>
                </a:lnTo>
                <a:lnTo>
                  <a:pt x="970" y="5655"/>
                </a:lnTo>
                <a:lnTo>
                  <a:pt x="1128" y="5804"/>
                </a:lnTo>
                <a:lnTo>
                  <a:pt x="1295" y="5941"/>
                </a:lnTo>
                <a:lnTo>
                  <a:pt x="1472" y="6067"/>
                </a:lnTo>
                <a:lnTo>
                  <a:pt x="1655" y="6183"/>
                </a:lnTo>
                <a:lnTo>
                  <a:pt x="1847" y="6284"/>
                </a:lnTo>
                <a:lnTo>
                  <a:pt x="2044" y="6374"/>
                </a:lnTo>
                <a:lnTo>
                  <a:pt x="2247" y="6451"/>
                </a:lnTo>
                <a:lnTo>
                  <a:pt x="2454" y="6513"/>
                </a:lnTo>
                <a:lnTo>
                  <a:pt x="2665" y="6563"/>
                </a:lnTo>
                <a:lnTo>
                  <a:pt x="2879" y="6598"/>
                </a:lnTo>
                <a:lnTo>
                  <a:pt x="3094" y="6619"/>
                </a:lnTo>
                <a:lnTo>
                  <a:pt x="3311" y="6626"/>
                </a:lnTo>
                <a:lnTo>
                  <a:pt x="3527" y="6619"/>
                </a:lnTo>
                <a:lnTo>
                  <a:pt x="3743" y="6598"/>
                </a:lnTo>
                <a:lnTo>
                  <a:pt x="3957" y="6563"/>
                </a:lnTo>
                <a:lnTo>
                  <a:pt x="4168" y="6513"/>
                </a:lnTo>
                <a:lnTo>
                  <a:pt x="4375" y="6451"/>
                </a:lnTo>
                <a:lnTo>
                  <a:pt x="4578" y="6374"/>
                </a:lnTo>
                <a:lnTo>
                  <a:pt x="4775" y="6284"/>
                </a:lnTo>
                <a:lnTo>
                  <a:pt x="4966" y="6183"/>
                </a:lnTo>
                <a:lnTo>
                  <a:pt x="5151" y="6067"/>
                </a:lnTo>
                <a:lnTo>
                  <a:pt x="5326" y="5941"/>
                </a:lnTo>
                <a:lnTo>
                  <a:pt x="5494" y="5804"/>
                </a:lnTo>
                <a:lnTo>
                  <a:pt x="5651" y="5655"/>
                </a:lnTo>
                <a:lnTo>
                  <a:pt x="5800" y="5498"/>
                </a:lnTo>
                <a:lnTo>
                  <a:pt x="5937" y="5330"/>
                </a:lnTo>
                <a:lnTo>
                  <a:pt x="6063" y="5153"/>
                </a:lnTo>
                <a:lnTo>
                  <a:pt x="6178" y="4969"/>
                </a:lnTo>
                <a:lnTo>
                  <a:pt x="6280" y="4779"/>
                </a:lnTo>
                <a:lnTo>
                  <a:pt x="6369" y="4581"/>
                </a:lnTo>
                <a:lnTo>
                  <a:pt x="6445" y="4377"/>
                </a:lnTo>
                <a:lnTo>
                  <a:pt x="6508" y="4171"/>
                </a:lnTo>
                <a:lnTo>
                  <a:pt x="6558" y="3959"/>
                </a:lnTo>
                <a:lnTo>
                  <a:pt x="6593" y="3745"/>
                </a:lnTo>
                <a:lnTo>
                  <a:pt x="6614" y="3529"/>
                </a:lnTo>
                <a:lnTo>
                  <a:pt x="6621" y="3313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Line 28"/>
          <p:cNvSpPr/>
          <p:nvPr/>
        </p:nvSpPr>
        <p:spPr>
          <a:xfrm flipV="1">
            <a:off x="7075440" y="1488960"/>
            <a:ext cx="1800" cy="87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Line 29"/>
          <p:cNvSpPr/>
          <p:nvPr/>
        </p:nvSpPr>
        <p:spPr>
          <a:xfrm flipH="1">
            <a:off x="6316560" y="2365200"/>
            <a:ext cx="758880" cy="4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Line 30"/>
          <p:cNvSpPr/>
          <p:nvPr/>
        </p:nvSpPr>
        <p:spPr>
          <a:xfrm>
            <a:off x="7075440" y="2365200"/>
            <a:ext cx="758880" cy="4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Line 31"/>
          <p:cNvSpPr/>
          <p:nvPr/>
        </p:nvSpPr>
        <p:spPr>
          <a:xfrm flipH="1">
            <a:off x="6635520" y="2365200"/>
            <a:ext cx="43956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Line 32"/>
          <p:cNvSpPr/>
          <p:nvPr/>
        </p:nvSpPr>
        <p:spPr>
          <a:xfrm flipH="1" flipV="1">
            <a:off x="6316200" y="2803680"/>
            <a:ext cx="319320" cy="55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Line 33"/>
          <p:cNvSpPr/>
          <p:nvPr/>
        </p:nvSpPr>
        <p:spPr>
          <a:xfrm flipH="1" flipV="1">
            <a:off x="6470640" y="2714760"/>
            <a:ext cx="254160" cy="441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Line 34"/>
          <p:cNvSpPr/>
          <p:nvPr/>
        </p:nvSpPr>
        <p:spPr>
          <a:xfrm flipH="1" flipV="1">
            <a:off x="6621120" y="2626920"/>
            <a:ext cx="190440" cy="3301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Line 35"/>
          <p:cNvSpPr/>
          <p:nvPr/>
        </p:nvSpPr>
        <p:spPr>
          <a:xfrm flipH="1" flipV="1">
            <a:off x="6773400" y="2539800"/>
            <a:ext cx="127080" cy="2206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Line 36"/>
          <p:cNvSpPr/>
          <p:nvPr/>
        </p:nvSpPr>
        <p:spPr>
          <a:xfrm flipH="1" flipV="1">
            <a:off x="6924240" y="2451240"/>
            <a:ext cx="63720" cy="11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Line 37"/>
          <p:cNvSpPr/>
          <p:nvPr/>
        </p:nvSpPr>
        <p:spPr>
          <a:xfrm flipH="1">
            <a:off x="7834320" y="2249640"/>
            <a:ext cx="318960" cy="5540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Line 38"/>
          <p:cNvSpPr/>
          <p:nvPr/>
        </p:nvSpPr>
        <p:spPr>
          <a:xfrm flipH="1">
            <a:off x="7680240" y="2273400"/>
            <a:ext cx="255600" cy="441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Line 39"/>
          <p:cNvSpPr/>
          <p:nvPr/>
        </p:nvSpPr>
        <p:spPr>
          <a:xfrm flipH="1">
            <a:off x="7376760" y="2319480"/>
            <a:ext cx="127080" cy="2206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Line 40"/>
          <p:cNvSpPr/>
          <p:nvPr/>
        </p:nvSpPr>
        <p:spPr>
          <a:xfrm flipH="1">
            <a:off x="7529040" y="2295360"/>
            <a:ext cx="190440" cy="3319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Line 41"/>
          <p:cNvSpPr/>
          <p:nvPr/>
        </p:nvSpPr>
        <p:spPr>
          <a:xfrm flipV="1">
            <a:off x="7075440" y="2249280"/>
            <a:ext cx="1077840" cy="11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Line 42"/>
          <p:cNvSpPr/>
          <p:nvPr/>
        </p:nvSpPr>
        <p:spPr>
          <a:xfrm flipH="1">
            <a:off x="7226280" y="2341440"/>
            <a:ext cx="63360" cy="1098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Line 43"/>
          <p:cNvSpPr/>
          <p:nvPr/>
        </p:nvSpPr>
        <p:spPr>
          <a:xfrm>
            <a:off x="6437160" y="1488960"/>
            <a:ext cx="638280" cy="18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Line 44"/>
          <p:cNvSpPr/>
          <p:nvPr/>
        </p:nvSpPr>
        <p:spPr>
          <a:xfrm>
            <a:off x="6566040" y="1665360"/>
            <a:ext cx="509400" cy="14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Line 45"/>
          <p:cNvSpPr/>
          <p:nvPr/>
        </p:nvSpPr>
        <p:spPr>
          <a:xfrm>
            <a:off x="6821640" y="2016000"/>
            <a:ext cx="253800" cy="18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Line 46"/>
          <p:cNvSpPr/>
          <p:nvPr/>
        </p:nvSpPr>
        <p:spPr>
          <a:xfrm>
            <a:off x="6692760" y="1839960"/>
            <a:ext cx="382680" cy="14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Line 47"/>
          <p:cNvSpPr/>
          <p:nvPr/>
        </p:nvSpPr>
        <p:spPr>
          <a:xfrm flipH="1" flipV="1">
            <a:off x="6436800" y="1488960"/>
            <a:ext cx="638280" cy="87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Line 48"/>
          <p:cNvSpPr/>
          <p:nvPr/>
        </p:nvSpPr>
        <p:spPr>
          <a:xfrm>
            <a:off x="6948360" y="2190600"/>
            <a:ext cx="127080" cy="18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Line 49"/>
          <p:cNvSpPr/>
          <p:nvPr/>
        </p:nvSpPr>
        <p:spPr>
          <a:xfrm flipH="1" flipV="1">
            <a:off x="6316200" y="2803680"/>
            <a:ext cx="319320" cy="552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Line 50"/>
          <p:cNvSpPr/>
          <p:nvPr/>
        </p:nvSpPr>
        <p:spPr>
          <a:xfrm flipH="1" flipV="1">
            <a:off x="6381720" y="2765160"/>
            <a:ext cx="52560" cy="9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Line 51"/>
          <p:cNvSpPr/>
          <p:nvPr/>
        </p:nvSpPr>
        <p:spPr>
          <a:xfrm flipH="1">
            <a:off x="6368760" y="2855880"/>
            <a:ext cx="6516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Line 52"/>
          <p:cNvSpPr/>
          <p:nvPr/>
        </p:nvSpPr>
        <p:spPr>
          <a:xfrm>
            <a:off x="7821720" y="2674800"/>
            <a:ext cx="6516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Line 53"/>
          <p:cNvSpPr/>
          <p:nvPr/>
        </p:nvSpPr>
        <p:spPr>
          <a:xfrm flipH="1">
            <a:off x="7769160" y="2674800"/>
            <a:ext cx="5256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Line 54"/>
          <p:cNvSpPr/>
          <p:nvPr/>
        </p:nvSpPr>
        <p:spPr>
          <a:xfrm flipV="1">
            <a:off x="6970680" y="1488960"/>
            <a:ext cx="1800" cy="7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Line 55"/>
          <p:cNvSpPr/>
          <p:nvPr/>
        </p:nvSpPr>
        <p:spPr>
          <a:xfrm>
            <a:off x="6970680" y="1563840"/>
            <a:ext cx="104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Freeform 56"/>
          <p:cNvSpPr/>
          <p:nvPr/>
        </p:nvSpPr>
        <p:spPr>
          <a:xfrm>
            <a:off x="6508800" y="2033640"/>
            <a:ext cx="106200" cy="390600"/>
          </a:xfrm>
          <a:custGeom>
            <a:avLst/>
            <a:gdLst>
              <a:gd name="textAreaLeft" fmla="*/ 0 w 106200"/>
              <a:gd name="textAreaRight" fmla="*/ 106560 w 1062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02" h="1477">
                <a:moveTo>
                  <a:pt x="402" y="0"/>
                </a:moveTo>
                <a:lnTo>
                  <a:pt x="306" y="145"/>
                </a:lnTo>
                <a:lnTo>
                  <a:pt x="223" y="297"/>
                </a:lnTo>
                <a:lnTo>
                  <a:pt x="153" y="455"/>
                </a:lnTo>
                <a:lnTo>
                  <a:pt x="95" y="619"/>
                </a:lnTo>
                <a:lnTo>
                  <a:pt x="50" y="786"/>
                </a:lnTo>
                <a:lnTo>
                  <a:pt x="19" y="958"/>
                </a:lnTo>
                <a:lnTo>
                  <a:pt x="3" y="1131"/>
                </a:lnTo>
                <a:lnTo>
                  <a:pt x="0" y="1304"/>
                </a:lnTo>
                <a:lnTo>
                  <a:pt x="12" y="1477"/>
                </a:lnTo>
              </a:path>
            </a:pathLst>
          </a:custGeom>
          <a:noFill/>
          <a:ln w="57240">
            <a:solidFill>
              <a:srgbClr val="f7fd0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Freeform 60"/>
          <p:cNvSpPr/>
          <p:nvPr/>
        </p:nvSpPr>
        <p:spPr>
          <a:xfrm>
            <a:off x="6300720" y="4576680"/>
            <a:ext cx="1752840" cy="175284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6621" h="6626">
                <a:moveTo>
                  <a:pt x="6621" y="3313"/>
                </a:moveTo>
                <a:lnTo>
                  <a:pt x="6613" y="3096"/>
                </a:lnTo>
                <a:lnTo>
                  <a:pt x="6592" y="2880"/>
                </a:lnTo>
                <a:lnTo>
                  <a:pt x="6557" y="2666"/>
                </a:lnTo>
                <a:lnTo>
                  <a:pt x="6507" y="2456"/>
                </a:lnTo>
                <a:lnTo>
                  <a:pt x="6445" y="2248"/>
                </a:lnTo>
                <a:lnTo>
                  <a:pt x="6369" y="2045"/>
                </a:lnTo>
                <a:lnTo>
                  <a:pt x="6279" y="1848"/>
                </a:lnTo>
                <a:lnTo>
                  <a:pt x="6177" y="1656"/>
                </a:lnTo>
                <a:lnTo>
                  <a:pt x="6063" y="1472"/>
                </a:lnTo>
                <a:lnTo>
                  <a:pt x="5937" y="1296"/>
                </a:lnTo>
                <a:lnTo>
                  <a:pt x="5799" y="1129"/>
                </a:lnTo>
                <a:lnTo>
                  <a:pt x="5651" y="970"/>
                </a:lnTo>
                <a:lnTo>
                  <a:pt x="5493" y="822"/>
                </a:lnTo>
                <a:lnTo>
                  <a:pt x="5326" y="684"/>
                </a:lnTo>
                <a:lnTo>
                  <a:pt x="5149" y="558"/>
                </a:lnTo>
                <a:lnTo>
                  <a:pt x="4966" y="444"/>
                </a:lnTo>
                <a:lnTo>
                  <a:pt x="4774" y="341"/>
                </a:lnTo>
                <a:lnTo>
                  <a:pt x="4577" y="252"/>
                </a:lnTo>
                <a:lnTo>
                  <a:pt x="4374" y="176"/>
                </a:lnTo>
                <a:lnTo>
                  <a:pt x="4167" y="112"/>
                </a:lnTo>
                <a:lnTo>
                  <a:pt x="3956" y="64"/>
                </a:lnTo>
                <a:lnTo>
                  <a:pt x="3743" y="28"/>
                </a:lnTo>
                <a:lnTo>
                  <a:pt x="3527" y="7"/>
                </a:lnTo>
                <a:lnTo>
                  <a:pt x="3310" y="0"/>
                </a:lnTo>
                <a:lnTo>
                  <a:pt x="3094" y="7"/>
                </a:lnTo>
                <a:lnTo>
                  <a:pt x="2878" y="28"/>
                </a:lnTo>
                <a:lnTo>
                  <a:pt x="2665" y="64"/>
                </a:lnTo>
                <a:lnTo>
                  <a:pt x="2453" y="112"/>
                </a:lnTo>
                <a:lnTo>
                  <a:pt x="2247" y="176"/>
                </a:lnTo>
                <a:lnTo>
                  <a:pt x="2043" y="252"/>
                </a:lnTo>
                <a:lnTo>
                  <a:pt x="1846" y="341"/>
                </a:lnTo>
                <a:lnTo>
                  <a:pt x="1655" y="444"/>
                </a:lnTo>
                <a:lnTo>
                  <a:pt x="1472" y="558"/>
                </a:lnTo>
                <a:lnTo>
                  <a:pt x="1295" y="684"/>
                </a:lnTo>
                <a:lnTo>
                  <a:pt x="1127" y="822"/>
                </a:lnTo>
                <a:lnTo>
                  <a:pt x="970" y="970"/>
                </a:lnTo>
                <a:lnTo>
                  <a:pt x="821" y="1129"/>
                </a:lnTo>
                <a:lnTo>
                  <a:pt x="684" y="1296"/>
                </a:lnTo>
                <a:lnTo>
                  <a:pt x="558" y="1472"/>
                </a:lnTo>
                <a:lnTo>
                  <a:pt x="443" y="1656"/>
                </a:lnTo>
                <a:lnTo>
                  <a:pt x="342" y="1848"/>
                </a:lnTo>
                <a:lnTo>
                  <a:pt x="252" y="2045"/>
                </a:lnTo>
                <a:lnTo>
                  <a:pt x="176" y="2248"/>
                </a:lnTo>
                <a:lnTo>
                  <a:pt x="113" y="2456"/>
                </a:lnTo>
                <a:lnTo>
                  <a:pt x="63" y="2666"/>
                </a:lnTo>
                <a:lnTo>
                  <a:pt x="28" y="2880"/>
                </a:lnTo>
                <a:lnTo>
                  <a:pt x="7" y="3096"/>
                </a:lnTo>
                <a:lnTo>
                  <a:pt x="0" y="3313"/>
                </a:lnTo>
                <a:lnTo>
                  <a:pt x="7" y="3529"/>
                </a:lnTo>
                <a:lnTo>
                  <a:pt x="28" y="3745"/>
                </a:lnTo>
                <a:lnTo>
                  <a:pt x="63" y="3959"/>
                </a:lnTo>
                <a:lnTo>
                  <a:pt x="113" y="4171"/>
                </a:lnTo>
                <a:lnTo>
                  <a:pt x="176" y="4377"/>
                </a:lnTo>
                <a:lnTo>
                  <a:pt x="252" y="4581"/>
                </a:lnTo>
                <a:lnTo>
                  <a:pt x="342" y="4779"/>
                </a:lnTo>
                <a:lnTo>
                  <a:pt x="443" y="4969"/>
                </a:lnTo>
                <a:lnTo>
                  <a:pt x="558" y="5153"/>
                </a:lnTo>
                <a:lnTo>
                  <a:pt x="684" y="5330"/>
                </a:lnTo>
                <a:lnTo>
                  <a:pt x="821" y="5498"/>
                </a:lnTo>
                <a:lnTo>
                  <a:pt x="970" y="5655"/>
                </a:lnTo>
                <a:lnTo>
                  <a:pt x="1127" y="5804"/>
                </a:lnTo>
                <a:lnTo>
                  <a:pt x="1295" y="5941"/>
                </a:lnTo>
                <a:lnTo>
                  <a:pt x="1472" y="6067"/>
                </a:lnTo>
                <a:lnTo>
                  <a:pt x="1655" y="6183"/>
                </a:lnTo>
                <a:lnTo>
                  <a:pt x="1846" y="6284"/>
                </a:lnTo>
                <a:lnTo>
                  <a:pt x="2043" y="6374"/>
                </a:lnTo>
                <a:lnTo>
                  <a:pt x="2247" y="6451"/>
                </a:lnTo>
                <a:lnTo>
                  <a:pt x="2453" y="6513"/>
                </a:lnTo>
                <a:lnTo>
                  <a:pt x="2665" y="6563"/>
                </a:lnTo>
                <a:lnTo>
                  <a:pt x="2878" y="6598"/>
                </a:lnTo>
                <a:lnTo>
                  <a:pt x="3094" y="6619"/>
                </a:lnTo>
                <a:lnTo>
                  <a:pt x="3310" y="6626"/>
                </a:lnTo>
                <a:lnTo>
                  <a:pt x="3527" y="6619"/>
                </a:lnTo>
                <a:lnTo>
                  <a:pt x="3743" y="6598"/>
                </a:lnTo>
                <a:lnTo>
                  <a:pt x="3956" y="6563"/>
                </a:lnTo>
                <a:lnTo>
                  <a:pt x="4167" y="6513"/>
                </a:lnTo>
                <a:lnTo>
                  <a:pt x="4374" y="6451"/>
                </a:lnTo>
                <a:lnTo>
                  <a:pt x="4577" y="6374"/>
                </a:lnTo>
                <a:lnTo>
                  <a:pt x="4774" y="6284"/>
                </a:lnTo>
                <a:lnTo>
                  <a:pt x="4966" y="6183"/>
                </a:lnTo>
                <a:lnTo>
                  <a:pt x="5149" y="6067"/>
                </a:lnTo>
                <a:lnTo>
                  <a:pt x="5326" y="5941"/>
                </a:lnTo>
                <a:lnTo>
                  <a:pt x="5493" y="5804"/>
                </a:lnTo>
                <a:lnTo>
                  <a:pt x="5651" y="5655"/>
                </a:lnTo>
                <a:lnTo>
                  <a:pt x="5799" y="5498"/>
                </a:lnTo>
                <a:lnTo>
                  <a:pt x="5937" y="5330"/>
                </a:lnTo>
                <a:lnTo>
                  <a:pt x="6063" y="5153"/>
                </a:lnTo>
                <a:lnTo>
                  <a:pt x="6177" y="4969"/>
                </a:lnTo>
                <a:lnTo>
                  <a:pt x="6279" y="4779"/>
                </a:lnTo>
                <a:lnTo>
                  <a:pt x="6369" y="4581"/>
                </a:lnTo>
                <a:lnTo>
                  <a:pt x="6445" y="4377"/>
                </a:lnTo>
                <a:lnTo>
                  <a:pt x="6507" y="4171"/>
                </a:lnTo>
                <a:lnTo>
                  <a:pt x="6557" y="3959"/>
                </a:lnTo>
                <a:lnTo>
                  <a:pt x="6592" y="3745"/>
                </a:lnTo>
                <a:lnTo>
                  <a:pt x="6613" y="3529"/>
                </a:lnTo>
                <a:lnTo>
                  <a:pt x="6621" y="3313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Line 61"/>
          <p:cNvSpPr/>
          <p:nvPr/>
        </p:nvSpPr>
        <p:spPr>
          <a:xfrm flipH="1">
            <a:off x="7176600" y="4694400"/>
            <a:ext cx="438120" cy="75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Line 62"/>
          <p:cNvSpPr/>
          <p:nvPr/>
        </p:nvSpPr>
        <p:spPr>
          <a:xfrm>
            <a:off x="7062840" y="4373640"/>
            <a:ext cx="552240" cy="3207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Line 63"/>
          <p:cNvSpPr/>
          <p:nvPr/>
        </p:nvSpPr>
        <p:spPr>
          <a:xfrm>
            <a:off x="7062840" y="4373640"/>
            <a:ext cx="114120" cy="1079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Line 64"/>
          <p:cNvSpPr/>
          <p:nvPr/>
        </p:nvSpPr>
        <p:spPr>
          <a:xfrm>
            <a:off x="7088040" y="4608360"/>
            <a:ext cx="432000" cy="2509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Line 65"/>
          <p:cNvSpPr/>
          <p:nvPr/>
        </p:nvSpPr>
        <p:spPr>
          <a:xfrm>
            <a:off x="7110360" y="4824360"/>
            <a:ext cx="322200" cy="1857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Line 66"/>
          <p:cNvSpPr/>
          <p:nvPr/>
        </p:nvSpPr>
        <p:spPr>
          <a:xfrm>
            <a:off x="7132680" y="5040360"/>
            <a:ext cx="210960" cy="1220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Line 67"/>
          <p:cNvSpPr/>
          <p:nvPr/>
        </p:nvSpPr>
        <p:spPr>
          <a:xfrm>
            <a:off x="7156440" y="5256360"/>
            <a:ext cx="100080" cy="586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Line 68"/>
          <p:cNvSpPr/>
          <p:nvPr/>
        </p:nvSpPr>
        <p:spPr>
          <a:xfrm flipH="1" flipV="1">
            <a:off x="7097760" y="5590800"/>
            <a:ext cx="100080" cy="57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Line 69"/>
          <p:cNvSpPr/>
          <p:nvPr/>
        </p:nvSpPr>
        <p:spPr>
          <a:xfrm flipH="1" flipV="1">
            <a:off x="7009920" y="5742000"/>
            <a:ext cx="211320" cy="1224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Line 70"/>
          <p:cNvSpPr/>
          <p:nvPr/>
        </p:nvSpPr>
        <p:spPr>
          <a:xfrm flipH="1" flipV="1">
            <a:off x="6921360" y="5894280"/>
            <a:ext cx="322560" cy="1857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Line 71"/>
          <p:cNvSpPr/>
          <p:nvPr/>
        </p:nvSpPr>
        <p:spPr>
          <a:xfrm flipH="1" flipV="1">
            <a:off x="6833880" y="6044760"/>
            <a:ext cx="431640" cy="2509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Line 72"/>
          <p:cNvSpPr/>
          <p:nvPr/>
        </p:nvSpPr>
        <p:spPr>
          <a:xfrm flipH="1" flipV="1">
            <a:off x="7176960" y="5452560"/>
            <a:ext cx="114480" cy="107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Line 73"/>
          <p:cNvSpPr/>
          <p:nvPr/>
        </p:nvSpPr>
        <p:spPr>
          <a:xfrm flipV="1">
            <a:off x="6738840" y="5452920"/>
            <a:ext cx="438120" cy="75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Line 74"/>
          <p:cNvSpPr/>
          <p:nvPr/>
        </p:nvSpPr>
        <p:spPr>
          <a:xfrm flipH="1" flipV="1">
            <a:off x="6738480" y="6211440"/>
            <a:ext cx="552600" cy="3193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Freeform 75"/>
          <p:cNvSpPr/>
          <p:nvPr/>
        </p:nvSpPr>
        <p:spPr>
          <a:xfrm>
            <a:off x="6762600" y="5121360"/>
            <a:ext cx="106560" cy="390600"/>
          </a:xfrm>
          <a:custGeom>
            <a:avLst/>
            <a:gdLst>
              <a:gd name="textAreaLeft" fmla="*/ 0 w 106560"/>
              <a:gd name="textAreaRight" fmla="*/ 106920 w 10656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01" h="1477">
                <a:moveTo>
                  <a:pt x="401" y="0"/>
                </a:moveTo>
                <a:lnTo>
                  <a:pt x="306" y="145"/>
                </a:lnTo>
                <a:lnTo>
                  <a:pt x="222" y="297"/>
                </a:lnTo>
                <a:lnTo>
                  <a:pt x="151" y="455"/>
                </a:lnTo>
                <a:lnTo>
                  <a:pt x="94" y="619"/>
                </a:lnTo>
                <a:lnTo>
                  <a:pt x="49" y="786"/>
                </a:lnTo>
                <a:lnTo>
                  <a:pt x="19" y="958"/>
                </a:lnTo>
                <a:lnTo>
                  <a:pt x="3" y="1131"/>
                </a:lnTo>
                <a:lnTo>
                  <a:pt x="0" y="1304"/>
                </a:lnTo>
                <a:lnTo>
                  <a:pt x="11" y="1477"/>
                </a:lnTo>
              </a:path>
            </a:pathLst>
          </a:custGeom>
          <a:noFill/>
          <a:ln w="57240">
            <a:solidFill>
              <a:srgbClr val="f7fd0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Text Box 76"/>
          <p:cNvSpPr/>
          <p:nvPr/>
        </p:nvSpPr>
        <p:spPr>
          <a:xfrm>
            <a:off x="6156360" y="220356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Text Box 77"/>
          <p:cNvSpPr/>
          <p:nvPr/>
        </p:nvSpPr>
        <p:spPr>
          <a:xfrm>
            <a:off x="6345360" y="534816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Text Box 78"/>
          <p:cNvSpPr/>
          <p:nvPr/>
        </p:nvSpPr>
        <p:spPr>
          <a:xfrm>
            <a:off x="6921360" y="64278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Text Box 79"/>
          <p:cNvSpPr/>
          <p:nvPr/>
        </p:nvSpPr>
        <p:spPr>
          <a:xfrm>
            <a:off x="6561000" y="390852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Text Box 80"/>
          <p:cNvSpPr/>
          <p:nvPr/>
        </p:nvSpPr>
        <p:spPr>
          <a:xfrm>
            <a:off x="6227640" y="325908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Text Box 81"/>
          <p:cNvSpPr/>
          <p:nvPr/>
        </p:nvSpPr>
        <p:spPr>
          <a:xfrm>
            <a:off x="7812000" y="18446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 Box 82"/>
          <p:cNvSpPr/>
          <p:nvPr/>
        </p:nvSpPr>
        <p:spPr>
          <a:xfrm>
            <a:off x="5580000" y="112392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Freeform 156"/>
          <p:cNvSpPr/>
          <p:nvPr/>
        </p:nvSpPr>
        <p:spPr>
          <a:xfrm>
            <a:off x="395280" y="4762440"/>
            <a:ext cx="1752480" cy="175284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6621" h="6626">
                <a:moveTo>
                  <a:pt x="6621" y="3313"/>
                </a:moveTo>
                <a:lnTo>
                  <a:pt x="6613" y="3096"/>
                </a:lnTo>
                <a:lnTo>
                  <a:pt x="6592" y="2880"/>
                </a:lnTo>
                <a:lnTo>
                  <a:pt x="6557" y="2666"/>
                </a:lnTo>
                <a:lnTo>
                  <a:pt x="6509" y="2456"/>
                </a:lnTo>
                <a:lnTo>
                  <a:pt x="6445" y="2248"/>
                </a:lnTo>
                <a:lnTo>
                  <a:pt x="6369" y="2045"/>
                </a:lnTo>
                <a:lnTo>
                  <a:pt x="6280" y="1848"/>
                </a:lnTo>
                <a:lnTo>
                  <a:pt x="6177" y="1656"/>
                </a:lnTo>
                <a:lnTo>
                  <a:pt x="6063" y="1472"/>
                </a:lnTo>
                <a:lnTo>
                  <a:pt x="5937" y="1296"/>
                </a:lnTo>
                <a:lnTo>
                  <a:pt x="5799" y="1129"/>
                </a:lnTo>
                <a:lnTo>
                  <a:pt x="5651" y="970"/>
                </a:lnTo>
                <a:lnTo>
                  <a:pt x="5493" y="822"/>
                </a:lnTo>
                <a:lnTo>
                  <a:pt x="5326" y="684"/>
                </a:lnTo>
                <a:lnTo>
                  <a:pt x="5150" y="558"/>
                </a:lnTo>
                <a:lnTo>
                  <a:pt x="4966" y="444"/>
                </a:lnTo>
                <a:lnTo>
                  <a:pt x="4774" y="341"/>
                </a:lnTo>
                <a:lnTo>
                  <a:pt x="4577" y="252"/>
                </a:lnTo>
                <a:lnTo>
                  <a:pt x="4375" y="176"/>
                </a:lnTo>
                <a:lnTo>
                  <a:pt x="4168" y="112"/>
                </a:lnTo>
                <a:lnTo>
                  <a:pt x="3957" y="64"/>
                </a:lnTo>
                <a:lnTo>
                  <a:pt x="3743" y="28"/>
                </a:lnTo>
                <a:lnTo>
                  <a:pt x="3527" y="7"/>
                </a:lnTo>
                <a:lnTo>
                  <a:pt x="3311" y="0"/>
                </a:lnTo>
                <a:lnTo>
                  <a:pt x="3094" y="7"/>
                </a:lnTo>
                <a:lnTo>
                  <a:pt x="2879" y="28"/>
                </a:lnTo>
                <a:lnTo>
                  <a:pt x="2665" y="64"/>
                </a:lnTo>
                <a:lnTo>
                  <a:pt x="2454" y="112"/>
                </a:lnTo>
                <a:lnTo>
                  <a:pt x="2247" y="176"/>
                </a:lnTo>
                <a:lnTo>
                  <a:pt x="2044" y="252"/>
                </a:lnTo>
                <a:lnTo>
                  <a:pt x="1847" y="341"/>
                </a:lnTo>
                <a:lnTo>
                  <a:pt x="1656" y="444"/>
                </a:lnTo>
                <a:lnTo>
                  <a:pt x="1472" y="558"/>
                </a:lnTo>
                <a:lnTo>
                  <a:pt x="1296" y="684"/>
                </a:lnTo>
                <a:lnTo>
                  <a:pt x="1128" y="822"/>
                </a:lnTo>
                <a:lnTo>
                  <a:pt x="970" y="970"/>
                </a:lnTo>
                <a:lnTo>
                  <a:pt x="822" y="1129"/>
                </a:lnTo>
                <a:lnTo>
                  <a:pt x="684" y="1296"/>
                </a:lnTo>
                <a:lnTo>
                  <a:pt x="558" y="1472"/>
                </a:lnTo>
                <a:lnTo>
                  <a:pt x="444" y="1656"/>
                </a:lnTo>
                <a:lnTo>
                  <a:pt x="342" y="1848"/>
                </a:lnTo>
                <a:lnTo>
                  <a:pt x="252" y="2045"/>
                </a:lnTo>
                <a:lnTo>
                  <a:pt x="176" y="2248"/>
                </a:lnTo>
                <a:lnTo>
                  <a:pt x="113" y="2456"/>
                </a:lnTo>
                <a:lnTo>
                  <a:pt x="64" y="2666"/>
                </a:lnTo>
                <a:lnTo>
                  <a:pt x="29" y="2880"/>
                </a:lnTo>
                <a:lnTo>
                  <a:pt x="7" y="3096"/>
                </a:lnTo>
                <a:lnTo>
                  <a:pt x="0" y="3313"/>
                </a:lnTo>
                <a:lnTo>
                  <a:pt x="7" y="3529"/>
                </a:lnTo>
                <a:lnTo>
                  <a:pt x="29" y="3745"/>
                </a:lnTo>
                <a:lnTo>
                  <a:pt x="64" y="3959"/>
                </a:lnTo>
                <a:lnTo>
                  <a:pt x="113" y="4171"/>
                </a:lnTo>
                <a:lnTo>
                  <a:pt x="176" y="4377"/>
                </a:lnTo>
                <a:lnTo>
                  <a:pt x="252" y="4581"/>
                </a:lnTo>
                <a:lnTo>
                  <a:pt x="342" y="4779"/>
                </a:lnTo>
                <a:lnTo>
                  <a:pt x="444" y="4969"/>
                </a:lnTo>
                <a:lnTo>
                  <a:pt x="558" y="5153"/>
                </a:lnTo>
                <a:lnTo>
                  <a:pt x="684" y="5330"/>
                </a:lnTo>
                <a:lnTo>
                  <a:pt x="822" y="5498"/>
                </a:lnTo>
                <a:lnTo>
                  <a:pt x="970" y="5655"/>
                </a:lnTo>
                <a:lnTo>
                  <a:pt x="1128" y="5804"/>
                </a:lnTo>
                <a:lnTo>
                  <a:pt x="1296" y="5941"/>
                </a:lnTo>
                <a:lnTo>
                  <a:pt x="1472" y="6067"/>
                </a:lnTo>
                <a:lnTo>
                  <a:pt x="1656" y="6183"/>
                </a:lnTo>
                <a:lnTo>
                  <a:pt x="1847" y="6284"/>
                </a:lnTo>
                <a:lnTo>
                  <a:pt x="2044" y="6374"/>
                </a:lnTo>
                <a:lnTo>
                  <a:pt x="2247" y="6451"/>
                </a:lnTo>
                <a:lnTo>
                  <a:pt x="2454" y="6513"/>
                </a:lnTo>
                <a:lnTo>
                  <a:pt x="2665" y="6563"/>
                </a:lnTo>
                <a:lnTo>
                  <a:pt x="2879" y="6598"/>
                </a:lnTo>
                <a:lnTo>
                  <a:pt x="3094" y="6619"/>
                </a:lnTo>
                <a:lnTo>
                  <a:pt x="3311" y="6626"/>
                </a:lnTo>
                <a:lnTo>
                  <a:pt x="3527" y="6619"/>
                </a:lnTo>
                <a:lnTo>
                  <a:pt x="3743" y="6598"/>
                </a:lnTo>
                <a:lnTo>
                  <a:pt x="3957" y="6563"/>
                </a:lnTo>
                <a:lnTo>
                  <a:pt x="4168" y="6513"/>
                </a:lnTo>
                <a:lnTo>
                  <a:pt x="4375" y="6451"/>
                </a:lnTo>
                <a:lnTo>
                  <a:pt x="4577" y="6374"/>
                </a:lnTo>
                <a:lnTo>
                  <a:pt x="4774" y="6284"/>
                </a:lnTo>
                <a:lnTo>
                  <a:pt x="4966" y="6183"/>
                </a:lnTo>
                <a:lnTo>
                  <a:pt x="5150" y="6067"/>
                </a:lnTo>
                <a:lnTo>
                  <a:pt x="5326" y="5941"/>
                </a:lnTo>
                <a:lnTo>
                  <a:pt x="5493" y="5804"/>
                </a:lnTo>
                <a:lnTo>
                  <a:pt x="5651" y="5655"/>
                </a:lnTo>
                <a:lnTo>
                  <a:pt x="5799" y="5498"/>
                </a:lnTo>
                <a:lnTo>
                  <a:pt x="5937" y="5330"/>
                </a:lnTo>
                <a:lnTo>
                  <a:pt x="6063" y="5153"/>
                </a:lnTo>
                <a:lnTo>
                  <a:pt x="6177" y="4969"/>
                </a:lnTo>
                <a:lnTo>
                  <a:pt x="6280" y="4779"/>
                </a:lnTo>
                <a:lnTo>
                  <a:pt x="6369" y="4581"/>
                </a:lnTo>
                <a:lnTo>
                  <a:pt x="6445" y="4377"/>
                </a:lnTo>
                <a:lnTo>
                  <a:pt x="6509" y="4171"/>
                </a:lnTo>
                <a:lnTo>
                  <a:pt x="6557" y="3959"/>
                </a:lnTo>
                <a:lnTo>
                  <a:pt x="6592" y="3745"/>
                </a:lnTo>
                <a:lnTo>
                  <a:pt x="6613" y="3529"/>
                </a:lnTo>
                <a:lnTo>
                  <a:pt x="6621" y="3313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Freeform 159"/>
          <p:cNvSpPr/>
          <p:nvPr/>
        </p:nvSpPr>
        <p:spPr>
          <a:xfrm>
            <a:off x="743040" y="5108400"/>
            <a:ext cx="1057320" cy="105912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1059120"/>
              <a:gd name="textAreaBottom" fmla="*/ 1059480 h 1059120"/>
            </a:gdLst>
            <a:ahLst/>
            <a:rect l="textAreaLeft" t="textAreaTop" r="textAreaRight" b="textAreaBottom"/>
            <a:pathLst>
              <a:path w="3999" h="4003">
                <a:moveTo>
                  <a:pt x="3999" y="2002"/>
                </a:moveTo>
                <a:lnTo>
                  <a:pt x="3993" y="1837"/>
                </a:lnTo>
                <a:lnTo>
                  <a:pt x="3973" y="1673"/>
                </a:lnTo>
                <a:lnTo>
                  <a:pt x="3939" y="1511"/>
                </a:lnTo>
                <a:lnTo>
                  <a:pt x="3891" y="1352"/>
                </a:lnTo>
                <a:lnTo>
                  <a:pt x="3831" y="1198"/>
                </a:lnTo>
                <a:lnTo>
                  <a:pt x="3759" y="1049"/>
                </a:lnTo>
                <a:lnTo>
                  <a:pt x="3674" y="907"/>
                </a:lnTo>
                <a:lnTo>
                  <a:pt x="3578" y="773"/>
                </a:lnTo>
                <a:lnTo>
                  <a:pt x="3471" y="646"/>
                </a:lnTo>
                <a:lnTo>
                  <a:pt x="3354" y="529"/>
                </a:lnTo>
                <a:lnTo>
                  <a:pt x="3228" y="422"/>
                </a:lnTo>
                <a:lnTo>
                  <a:pt x="3094" y="326"/>
                </a:lnTo>
                <a:lnTo>
                  <a:pt x="2952" y="241"/>
                </a:lnTo>
                <a:lnTo>
                  <a:pt x="2803" y="169"/>
                </a:lnTo>
                <a:lnTo>
                  <a:pt x="2649" y="109"/>
                </a:lnTo>
                <a:lnTo>
                  <a:pt x="2490" y="61"/>
                </a:lnTo>
                <a:lnTo>
                  <a:pt x="2329" y="28"/>
                </a:lnTo>
                <a:lnTo>
                  <a:pt x="2165" y="7"/>
                </a:lnTo>
                <a:lnTo>
                  <a:pt x="2000" y="0"/>
                </a:lnTo>
                <a:lnTo>
                  <a:pt x="1835" y="7"/>
                </a:lnTo>
                <a:lnTo>
                  <a:pt x="1671" y="28"/>
                </a:lnTo>
                <a:lnTo>
                  <a:pt x="1509" y="61"/>
                </a:lnTo>
                <a:lnTo>
                  <a:pt x="1350" y="109"/>
                </a:lnTo>
                <a:lnTo>
                  <a:pt x="1196" y="169"/>
                </a:lnTo>
                <a:lnTo>
                  <a:pt x="1048" y="241"/>
                </a:lnTo>
                <a:lnTo>
                  <a:pt x="906" y="326"/>
                </a:lnTo>
                <a:lnTo>
                  <a:pt x="772" y="422"/>
                </a:lnTo>
                <a:lnTo>
                  <a:pt x="646" y="529"/>
                </a:lnTo>
                <a:lnTo>
                  <a:pt x="528" y="646"/>
                </a:lnTo>
                <a:lnTo>
                  <a:pt x="421" y="773"/>
                </a:lnTo>
                <a:lnTo>
                  <a:pt x="326" y="907"/>
                </a:lnTo>
                <a:lnTo>
                  <a:pt x="241" y="1049"/>
                </a:lnTo>
                <a:lnTo>
                  <a:pt x="168" y="1198"/>
                </a:lnTo>
                <a:lnTo>
                  <a:pt x="108" y="1352"/>
                </a:lnTo>
                <a:lnTo>
                  <a:pt x="61" y="1511"/>
                </a:lnTo>
                <a:lnTo>
                  <a:pt x="27" y="1673"/>
                </a:lnTo>
                <a:lnTo>
                  <a:pt x="7" y="1837"/>
                </a:lnTo>
                <a:lnTo>
                  <a:pt x="0" y="2002"/>
                </a:lnTo>
                <a:lnTo>
                  <a:pt x="7" y="2167"/>
                </a:lnTo>
                <a:lnTo>
                  <a:pt x="27" y="2332"/>
                </a:lnTo>
                <a:lnTo>
                  <a:pt x="61" y="2494"/>
                </a:lnTo>
                <a:lnTo>
                  <a:pt x="108" y="2651"/>
                </a:lnTo>
                <a:lnTo>
                  <a:pt x="168" y="2806"/>
                </a:lnTo>
                <a:lnTo>
                  <a:pt x="241" y="2954"/>
                </a:lnTo>
                <a:lnTo>
                  <a:pt x="326" y="3097"/>
                </a:lnTo>
                <a:lnTo>
                  <a:pt x="421" y="3232"/>
                </a:lnTo>
                <a:lnTo>
                  <a:pt x="528" y="3358"/>
                </a:lnTo>
                <a:lnTo>
                  <a:pt x="646" y="3474"/>
                </a:lnTo>
                <a:lnTo>
                  <a:pt x="772" y="3581"/>
                </a:lnTo>
                <a:lnTo>
                  <a:pt x="906" y="3677"/>
                </a:lnTo>
                <a:lnTo>
                  <a:pt x="1048" y="3762"/>
                </a:lnTo>
                <a:lnTo>
                  <a:pt x="1196" y="3835"/>
                </a:lnTo>
                <a:lnTo>
                  <a:pt x="1350" y="3895"/>
                </a:lnTo>
                <a:lnTo>
                  <a:pt x="1509" y="3942"/>
                </a:lnTo>
                <a:lnTo>
                  <a:pt x="1671" y="3976"/>
                </a:lnTo>
                <a:lnTo>
                  <a:pt x="1835" y="3997"/>
                </a:lnTo>
                <a:lnTo>
                  <a:pt x="2000" y="4003"/>
                </a:lnTo>
                <a:lnTo>
                  <a:pt x="2165" y="3997"/>
                </a:lnTo>
                <a:lnTo>
                  <a:pt x="2329" y="3976"/>
                </a:lnTo>
                <a:lnTo>
                  <a:pt x="2490" y="3942"/>
                </a:lnTo>
                <a:lnTo>
                  <a:pt x="2649" y="3895"/>
                </a:lnTo>
                <a:lnTo>
                  <a:pt x="2803" y="3835"/>
                </a:lnTo>
                <a:lnTo>
                  <a:pt x="2952" y="3762"/>
                </a:lnTo>
                <a:lnTo>
                  <a:pt x="3094" y="3677"/>
                </a:lnTo>
                <a:lnTo>
                  <a:pt x="3228" y="3581"/>
                </a:lnTo>
                <a:lnTo>
                  <a:pt x="3354" y="3474"/>
                </a:lnTo>
                <a:lnTo>
                  <a:pt x="3471" y="3358"/>
                </a:lnTo>
                <a:lnTo>
                  <a:pt x="3578" y="3232"/>
                </a:lnTo>
                <a:lnTo>
                  <a:pt x="3674" y="3097"/>
                </a:lnTo>
                <a:lnTo>
                  <a:pt x="3759" y="2954"/>
                </a:lnTo>
                <a:lnTo>
                  <a:pt x="3831" y="2806"/>
                </a:lnTo>
                <a:lnTo>
                  <a:pt x="3891" y="2651"/>
                </a:lnTo>
                <a:lnTo>
                  <a:pt x="3939" y="2494"/>
                </a:lnTo>
                <a:lnTo>
                  <a:pt x="3973" y="2332"/>
                </a:lnTo>
                <a:lnTo>
                  <a:pt x="3993" y="2167"/>
                </a:lnTo>
                <a:lnTo>
                  <a:pt x="3999" y="2002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Line 160"/>
          <p:cNvSpPr/>
          <p:nvPr/>
        </p:nvSpPr>
        <p:spPr>
          <a:xfrm>
            <a:off x="907920" y="6022800"/>
            <a:ext cx="104760" cy="695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Line 161"/>
          <p:cNvSpPr/>
          <p:nvPr/>
        </p:nvSpPr>
        <p:spPr>
          <a:xfrm>
            <a:off x="1530360" y="4557600"/>
            <a:ext cx="104760" cy="695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Line 162"/>
          <p:cNvSpPr/>
          <p:nvPr/>
        </p:nvSpPr>
        <p:spPr>
          <a:xfrm>
            <a:off x="907920" y="6022800"/>
            <a:ext cx="403200" cy="379440"/>
          </a:xfrm>
          <a:prstGeom prst="line">
            <a:avLst/>
          </a:prstGeom>
          <a:ln w="381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Line 164"/>
          <p:cNvSpPr/>
          <p:nvPr/>
        </p:nvSpPr>
        <p:spPr>
          <a:xfrm flipH="1" flipV="1">
            <a:off x="610920" y="6338880"/>
            <a:ext cx="401400" cy="37944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Line 165"/>
          <p:cNvSpPr/>
          <p:nvPr/>
        </p:nvSpPr>
        <p:spPr>
          <a:xfrm flipV="1">
            <a:off x="1012680" y="6402240"/>
            <a:ext cx="298440" cy="31608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Line 166"/>
          <p:cNvSpPr/>
          <p:nvPr/>
        </p:nvSpPr>
        <p:spPr>
          <a:xfrm flipH="1" flipV="1">
            <a:off x="1231920" y="4873680"/>
            <a:ext cx="403200" cy="379440"/>
          </a:xfrm>
          <a:prstGeom prst="line">
            <a:avLst/>
          </a:prstGeom>
          <a:ln w="381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Line 167"/>
          <p:cNvSpPr/>
          <p:nvPr/>
        </p:nvSpPr>
        <p:spPr>
          <a:xfrm>
            <a:off x="1530360" y="4557600"/>
            <a:ext cx="401760" cy="37944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Line 168"/>
          <p:cNvSpPr/>
          <p:nvPr/>
        </p:nvSpPr>
        <p:spPr>
          <a:xfrm flipH="1">
            <a:off x="1231560" y="4557600"/>
            <a:ext cx="298440" cy="31608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Line 169"/>
          <p:cNvSpPr/>
          <p:nvPr/>
        </p:nvSpPr>
        <p:spPr>
          <a:xfrm flipV="1">
            <a:off x="1635120" y="4937040"/>
            <a:ext cx="297000" cy="316080"/>
          </a:xfrm>
          <a:prstGeom prst="line">
            <a:avLst/>
          </a:prstGeom>
          <a:ln w="381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Line 170"/>
          <p:cNvSpPr/>
          <p:nvPr/>
        </p:nvSpPr>
        <p:spPr>
          <a:xfrm flipH="1">
            <a:off x="611280" y="6022800"/>
            <a:ext cx="296640" cy="316080"/>
          </a:xfrm>
          <a:prstGeom prst="line">
            <a:avLst/>
          </a:prstGeom>
          <a:ln w="381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Text Box 171"/>
          <p:cNvSpPr/>
          <p:nvPr/>
        </p:nvSpPr>
        <p:spPr>
          <a:xfrm>
            <a:off x="1284120" y="41623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Text Box 172"/>
          <p:cNvSpPr/>
          <p:nvPr/>
        </p:nvSpPr>
        <p:spPr>
          <a:xfrm>
            <a:off x="847800" y="651528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AutoShape 204">
            <a:hlinkClick r:id="" action="ppaction://hlinkshowjump?jump=nextslide"/>
            <a:hlinkClick r:id="rId3"/>
          </p:cNvPr>
          <p:cNvSpPr/>
          <p:nvPr/>
        </p:nvSpPr>
        <p:spPr>
          <a:xfrm>
            <a:off x="8101080" y="586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Line 205"/>
          <p:cNvSpPr/>
          <p:nvPr/>
        </p:nvSpPr>
        <p:spPr>
          <a:xfrm flipV="1">
            <a:off x="911160" y="5245200"/>
            <a:ext cx="719280" cy="79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3" name="Object 209"/>
          <p:cNvGraphicFramePr/>
          <p:nvPr/>
        </p:nvGraphicFramePr>
        <p:xfrm>
          <a:off x="979560" y="5316480"/>
          <a:ext cx="35568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4" name="Object 20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9560" y="5316480"/>
                    <a:ext cx="3556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5" name="Freeform 216"/>
          <p:cNvSpPr/>
          <p:nvPr/>
        </p:nvSpPr>
        <p:spPr>
          <a:xfrm>
            <a:off x="3313080" y="4356000"/>
            <a:ext cx="2235240" cy="2237040"/>
          </a:xfrm>
          <a:custGeom>
            <a:avLst/>
            <a:gdLst>
              <a:gd name="textAreaLeft" fmla="*/ 0 w 2235240"/>
              <a:gd name="textAreaRight" fmla="*/ 2235600 w 2235240"/>
              <a:gd name="textAreaTop" fmla="*/ 0 h 2237040"/>
              <a:gd name="textAreaBottom" fmla="*/ 2237400 h 2237040"/>
            </a:gdLst>
            <a:ahLst/>
            <a:rect l="textAreaLeft" t="textAreaTop" r="textAreaRight" b="textAreaBottom"/>
            <a:pathLst>
              <a:path w="8447" h="8455">
                <a:moveTo>
                  <a:pt x="8447" y="4227"/>
                </a:moveTo>
                <a:lnTo>
                  <a:pt x="8439" y="3982"/>
                </a:lnTo>
                <a:lnTo>
                  <a:pt x="8418" y="3737"/>
                </a:lnTo>
                <a:lnTo>
                  <a:pt x="8383" y="3493"/>
                </a:lnTo>
                <a:lnTo>
                  <a:pt x="8332" y="3252"/>
                </a:lnTo>
                <a:lnTo>
                  <a:pt x="8269" y="3015"/>
                </a:lnTo>
                <a:lnTo>
                  <a:pt x="8191" y="2781"/>
                </a:lnTo>
                <a:lnTo>
                  <a:pt x="8101" y="2553"/>
                </a:lnTo>
                <a:lnTo>
                  <a:pt x="7997" y="2330"/>
                </a:lnTo>
                <a:lnTo>
                  <a:pt x="7881" y="2114"/>
                </a:lnTo>
                <a:lnTo>
                  <a:pt x="7751" y="1904"/>
                </a:lnTo>
                <a:lnTo>
                  <a:pt x="7610" y="1702"/>
                </a:lnTo>
                <a:lnTo>
                  <a:pt x="7458" y="1510"/>
                </a:lnTo>
                <a:lnTo>
                  <a:pt x="7296" y="1326"/>
                </a:lnTo>
                <a:lnTo>
                  <a:pt x="7122" y="1152"/>
                </a:lnTo>
                <a:lnTo>
                  <a:pt x="6938" y="988"/>
                </a:lnTo>
                <a:lnTo>
                  <a:pt x="6745" y="836"/>
                </a:lnTo>
                <a:lnTo>
                  <a:pt x="6544" y="695"/>
                </a:lnTo>
                <a:lnTo>
                  <a:pt x="6335" y="566"/>
                </a:lnTo>
                <a:lnTo>
                  <a:pt x="6119" y="449"/>
                </a:lnTo>
                <a:lnTo>
                  <a:pt x="5896" y="346"/>
                </a:lnTo>
                <a:lnTo>
                  <a:pt x="5667" y="254"/>
                </a:lnTo>
                <a:lnTo>
                  <a:pt x="5435" y="177"/>
                </a:lnTo>
                <a:lnTo>
                  <a:pt x="5197" y="113"/>
                </a:lnTo>
                <a:lnTo>
                  <a:pt x="4957" y="64"/>
                </a:lnTo>
                <a:lnTo>
                  <a:pt x="4714" y="28"/>
                </a:lnTo>
                <a:lnTo>
                  <a:pt x="4469" y="7"/>
                </a:lnTo>
                <a:lnTo>
                  <a:pt x="4223" y="0"/>
                </a:lnTo>
                <a:lnTo>
                  <a:pt x="3977" y="7"/>
                </a:lnTo>
                <a:lnTo>
                  <a:pt x="3733" y="28"/>
                </a:lnTo>
                <a:lnTo>
                  <a:pt x="3490" y="64"/>
                </a:lnTo>
                <a:lnTo>
                  <a:pt x="3249" y="113"/>
                </a:lnTo>
                <a:lnTo>
                  <a:pt x="3012" y="177"/>
                </a:lnTo>
                <a:lnTo>
                  <a:pt x="2779" y="254"/>
                </a:lnTo>
                <a:lnTo>
                  <a:pt x="2551" y="346"/>
                </a:lnTo>
                <a:lnTo>
                  <a:pt x="2328" y="449"/>
                </a:lnTo>
                <a:lnTo>
                  <a:pt x="2112" y="566"/>
                </a:lnTo>
                <a:lnTo>
                  <a:pt x="1903" y="695"/>
                </a:lnTo>
                <a:lnTo>
                  <a:pt x="1701" y="836"/>
                </a:lnTo>
                <a:lnTo>
                  <a:pt x="1509" y="988"/>
                </a:lnTo>
                <a:lnTo>
                  <a:pt x="1325" y="1152"/>
                </a:lnTo>
                <a:lnTo>
                  <a:pt x="1151" y="1326"/>
                </a:lnTo>
                <a:lnTo>
                  <a:pt x="988" y="1510"/>
                </a:lnTo>
                <a:lnTo>
                  <a:pt x="835" y="1702"/>
                </a:lnTo>
                <a:lnTo>
                  <a:pt x="694" y="1904"/>
                </a:lnTo>
                <a:lnTo>
                  <a:pt x="566" y="2114"/>
                </a:lnTo>
                <a:lnTo>
                  <a:pt x="449" y="2330"/>
                </a:lnTo>
                <a:lnTo>
                  <a:pt x="345" y="2553"/>
                </a:lnTo>
                <a:lnTo>
                  <a:pt x="255" y="2781"/>
                </a:lnTo>
                <a:lnTo>
                  <a:pt x="177" y="3015"/>
                </a:lnTo>
                <a:lnTo>
                  <a:pt x="114" y="3252"/>
                </a:lnTo>
                <a:lnTo>
                  <a:pt x="64" y="3493"/>
                </a:lnTo>
                <a:lnTo>
                  <a:pt x="29" y="3737"/>
                </a:lnTo>
                <a:lnTo>
                  <a:pt x="7" y="3982"/>
                </a:lnTo>
                <a:lnTo>
                  <a:pt x="0" y="4227"/>
                </a:lnTo>
                <a:lnTo>
                  <a:pt x="7" y="4473"/>
                </a:lnTo>
                <a:lnTo>
                  <a:pt x="29" y="4718"/>
                </a:lnTo>
                <a:lnTo>
                  <a:pt x="64" y="4961"/>
                </a:lnTo>
                <a:lnTo>
                  <a:pt x="114" y="5202"/>
                </a:lnTo>
                <a:lnTo>
                  <a:pt x="177" y="5440"/>
                </a:lnTo>
                <a:lnTo>
                  <a:pt x="255" y="5673"/>
                </a:lnTo>
                <a:lnTo>
                  <a:pt x="345" y="5902"/>
                </a:lnTo>
                <a:lnTo>
                  <a:pt x="449" y="6124"/>
                </a:lnTo>
                <a:lnTo>
                  <a:pt x="566" y="6341"/>
                </a:lnTo>
                <a:lnTo>
                  <a:pt x="694" y="6550"/>
                </a:lnTo>
                <a:lnTo>
                  <a:pt x="835" y="6751"/>
                </a:lnTo>
                <a:lnTo>
                  <a:pt x="988" y="6945"/>
                </a:lnTo>
                <a:lnTo>
                  <a:pt x="1151" y="7128"/>
                </a:lnTo>
                <a:lnTo>
                  <a:pt x="1325" y="7302"/>
                </a:lnTo>
                <a:lnTo>
                  <a:pt x="1509" y="7465"/>
                </a:lnTo>
                <a:lnTo>
                  <a:pt x="1701" y="7619"/>
                </a:lnTo>
                <a:lnTo>
                  <a:pt x="1903" y="7759"/>
                </a:lnTo>
                <a:lnTo>
                  <a:pt x="2112" y="7888"/>
                </a:lnTo>
                <a:lnTo>
                  <a:pt x="2328" y="8005"/>
                </a:lnTo>
                <a:lnTo>
                  <a:pt x="2551" y="8109"/>
                </a:lnTo>
                <a:lnTo>
                  <a:pt x="2779" y="8200"/>
                </a:lnTo>
                <a:lnTo>
                  <a:pt x="3012" y="8277"/>
                </a:lnTo>
                <a:lnTo>
                  <a:pt x="3249" y="8341"/>
                </a:lnTo>
                <a:lnTo>
                  <a:pt x="3490" y="8390"/>
                </a:lnTo>
                <a:lnTo>
                  <a:pt x="3733" y="8426"/>
                </a:lnTo>
                <a:lnTo>
                  <a:pt x="3977" y="8448"/>
                </a:lnTo>
                <a:lnTo>
                  <a:pt x="4223" y="8455"/>
                </a:lnTo>
                <a:lnTo>
                  <a:pt x="4469" y="8448"/>
                </a:lnTo>
                <a:lnTo>
                  <a:pt x="4714" y="8426"/>
                </a:lnTo>
                <a:lnTo>
                  <a:pt x="4957" y="8390"/>
                </a:lnTo>
                <a:lnTo>
                  <a:pt x="5197" y="8341"/>
                </a:lnTo>
                <a:lnTo>
                  <a:pt x="5435" y="8277"/>
                </a:lnTo>
                <a:lnTo>
                  <a:pt x="5667" y="8200"/>
                </a:lnTo>
                <a:lnTo>
                  <a:pt x="5896" y="8109"/>
                </a:lnTo>
                <a:lnTo>
                  <a:pt x="6119" y="8005"/>
                </a:lnTo>
                <a:lnTo>
                  <a:pt x="6335" y="7888"/>
                </a:lnTo>
                <a:lnTo>
                  <a:pt x="6544" y="7759"/>
                </a:lnTo>
                <a:lnTo>
                  <a:pt x="6745" y="7619"/>
                </a:lnTo>
                <a:lnTo>
                  <a:pt x="6938" y="7465"/>
                </a:lnTo>
                <a:lnTo>
                  <a:pt x="7122" y="7302"/>
                </a:lnTo>
                <a:lnTo>
                  <a:pt x="7296" y="7128"/>
                </a:lnTo>
                <a:lnTo>
                  <a:pt x="7458" y="6945"/>
                </a:lnTo>
                <a:lnTo>
                  <a:pt x="7610" y="6751"/>
                </a:lnTo>
                <a:lnTo>
                  <a:pt x="7751" y="6550"/>
                </a:lnTo>
                <a:lnTo>
                  <a:pt x="7881" y="6341"/>
                </a:lnTo>
                <a:lnTo>
                  <a:pt x="7997" y="6124"/>
                </a:lnTo>
                <a:lnTo>
                  <a:pt x="8101" y="5902"/>
                </a:lnTo>
                <a:lnTo>
                  <a:pt x="8191" y="5673"/>
                </a:lnTo>
                <a:lnTo>
                  <a:pt x="8269" y="5440"/>
                </a:lnTo>
                <a:lnTo>
                  <a:pt x="8332" y="5202"/>
                </a:lnTo>
                <a:lnTo>
                  <a:pt x="8383" y="4961"/>
                </a:lnTo>
                <a:lnTo>
                  <a:pt x="8418" y="4718"/>
                </a:lnTo>
                <a:lnTo>
                  <a:pt x="8439" y="4473"/>
                </a:lnTo>
                <a:lnTo>
                  <a:pt x="8447" y="4227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Freeform 217"/>
          <p:cNvSpPr/>
          <p:nvPr/>
        </p:nvSpPr>
        <p:spPr>
          <a:xfrm>
            <a:off x="3767040" y="4809960"/>
            <a:ext cx="1327320" cy="1328760"/>
          </a:xfrm>
          <a:custGeom>
            <a:avLst/>
            <a:gdLst>
              <a:gd name="textAreaLeft" fmla="*/ 0 w 1327320"/>
              <a:gd name="textAreaRight" fmla="*/ 1327320 w 13273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5020" h="5023">
                <a:moveTo>
                  <a:pt x="5020" y="2511"/>
                </a:moveTo>
                <a:lnTo>
                  <a:pt x="5013" y="2323"/>
                </a:lnTo>
                <a:lnTo>
                  <a:pt x="4991" y="2137"/>
                </a:lnTo>
                <a:lnTo>
                  <a:pt x="4957" y="1952"/>
                </a:lnTo>
                <a:lnTo>
                  <a:pt x="4908" y="1771"/>
                </a:lnTo>
                <a:lnTo>
                  <a:pt x="4846" y="1594"/>
                </a:lnTo>
                <a:lnTo>
                  <a:pt x="4771" y="1421"/>
                </a:lnTo>
                <a:lnTo>
                  <a:pt x="4684" y="1255"/>
                </a:lnTo>
                <a:lnTo>
                  <a:pt x="4584" y="1096"/>
                </a:lnTo>
                <a:lnTo>
                  <a:pt x="4472" y="945"/>
                </a:lnTo>
                <a:lnTo>
                  <a:pt x="4349" y="803"/>
                </a:lnTo>
                <a:lnTo>
                  <a:pt x="4217" y="669"/>
                </a:lnTo>
                <a:lnTo>
                  <a:pt x="4075" y="547"/>
                </a:lnTo>
                <a:lnTo>
                  <a:pt x="3923" y="436"/>
                </a:lnTo>
                <a:lnTo>
                  <a:pt x="3765" y="336"/>
                </a:lnTo>
                <a:lnTo>
                  <a:pt x="3599" y="247"/>
                </a:lnTo>
                <a:lnTo>
                  <a:pt x="3427" y="172"/>
                </a:lnTo>
                <a:lnTo>
                  <a:pt x="3250" y="111"/>
                </a:lnTo>
                <a:lnTo>
                  <a:pt x="3069" y="62"/>
                </a:lnTo>
                <a:lnTo>
                  <a:pt x="2885" y="27"/>
                </a:lnTo>
                <a:lnTo>
                  <a:pt x="2697" y="6"/>
                </a:lnTo>
                <a:lnTo>
                  <a:pt x="2510" y="0"/>
                </a:lnTo>
                <a:lnTo>
                  <a:pt x="2323" y="6"/>
                </a:lnTo>
                <a:lnTo>
                  <a:pt x="2136" y="27"/>
                </a:lnTo>
                <a:lnTo>
                  <a:pt x="1952" y="62"/>
                </a:lnTo>
                <a:lnTo>
                  <a:pt x="1771" y="111"/>
                </a:lnTo>
                <a:lnTo>
                  <a:pt x="1594" y="172"/>
                </a:lnTo>
                <a:lnTo>
                  <a:pt x="1421" y="247"/>
                </a:lnTo>
                <a:lnTo>
                  <a:pt x="1255" y="336"/>
                </a:lnTo>
                <a:lnTo>
                  <a:pt x="1097" y="436"/>
                </a:lnTo>
                <a:lnTo>
                  <a:pt x="946" y="547"/>
                </a:lnTo>
                <a:lnTo>
                  <a:pt x="804" y="669"/>
                </a:lnTo>
                <a:lnTo>
                  <a:pt x="671" y="803"/>
                </a:lnTo>
                <a:lnTo>
                  <a:pt x="549" y="945"/>
                </a:lnTo>
                <a:lnTo>
                  <a:pt x="437" y="1096"/>
                </a:lnTo>
                <a:lnTo>
                  <a:pt x="337" y="1255"/>
                </a:lnTo>
                <a:lnTo>
                  <a:pt x="249" y="1421"/>
                </a:lnTo>
                <a:lnTo>
                  <a:pt x="174" y="1594"/>
                </a:lnTo>
                <a:lnTo>
                  <a:pt x="113" y="1771"/>
                </a:lnTo>
                <a:lnTo>
                  <a:pt x="63" y="1952"/>
                </a:lnTo>
                <a:lnTo>
                  <a:pt x="28" y="2137"/>
                </a:lnTo>
                <a:lnTo>
                  <a:pt x="8" y="2323"/>
                </a:lnTo>
                <a:lnTo>
                  <a:pt x="0" y="2511"/>
                </a:lnTo>
                <a:lnTo>
                  <a:pt x="8" y="2699"/>
                </a:lnTo>
                <a:lnTo>
                  <a:pt x="28" y="2886"/>
                </a:lnTo>
                <a:lnTo>
                  <a:pt x="63" y="3070"/>
                </a:lnTo>
                <a:lnTo>
                  <a:pt x="113" y="3252"/>
                </a:lnTo>
                <a:lnTo>
                  <a:pt x="174" y="3429"/>
                </a:lnTo>
                <a:lnTo>
                  <a:pt x="249" y="3601"/>
                </a:lnTo>
                <a:lnTo>
                  <a:pt x="337" y="3767"/>
                </a:lnTo>
                <a:lnTo>
                  <a:pt x="437" y="3926"/>
                </a:lnTo>
                <a:lnTo>
                  <a:pt x="549" y="4077"/>
                </a:lnTo>
                <a:lnTo>
                  <a:pt x="671" y="4220"/>
                </a:lnTo>
                <a:lnTo>
                  <a:pt x="804" y="4353"/>
                </a:lnTo>
                <a:lnTo>
                  <a:pt x="946" y="4475"/>
                </a:lnTo>
                <a:lnTo>
                  <a:pt x="1097" y="4587"/>
                </a:lnTo>
                <a:lnTo>
                  <a:pt x="1255" y="4687"/>
                </a:lnTo>
                <a:lnTo>
                  <a:pt x="1421" y="4774"/>
                </a:lnTo>
                <a:lnTo>
                  <a:pt x="1594" y="4849"/>
                </a:lnTo>
                <a:lnTo>
                  <a:pt x="1771" y="4911"/>
                </a:lnTo>
                <a:lnTo>
                  <a:pt x="1952" y="4960"/>
                </a:lnTo>
                <a:lnTo>
                  <a:pt x="2136" y="4995"/>
                </a:lnTo>
                <a:lnTo>
                  <a:pt x="2323" y="5016"/>
                </a:lnTo>
                <a:lnTo>
                  <a:pt x="2510" y="5023"/>
                </a:lnTo>
                <a:lnTo>
                  <a:pt x="2697" y="5016"/>
                </a:lnTo>
                <a:lnTo>
                  <a:pt x="2885" y="4995"/>
                </a:lnTo>
                <a:lnTo>
                  <a:pt x="3069" y="4960"/>
                </a:lnTo>
                <a:lnTo>
                  <a:pt x="3250" y="4911"/>
                </a:lnTo>
                <a:lnTo>
                  <a:pt x="3427" y="4849"/>
                </a:lnTo>
                <a:lnTo>
                  <a:pt x="3599" y="4774"/>
                </a:lnTo>
                <a:lnTo>
                  <a:pt x="3765" y="4687"/>
                </a:lnTo>
                <a:lnTo>
                  <a:pt x="3923" y="4587"/>
                </a:lnTo>
                <a:lnTo>
                  <a:pt x="4075" y="4475"/>
                </a:lnTo>
                <a:lnTo>
                  <a:pt x="4217" y="4353"/>
                </a:lnTo>
                <a:lnTo>
                  <a:pt x="4349" y="4220"/>
                </a:lnTo>
                <a:lnTo>
                  <a:pt x="4472" y="4077"/>
                </a:lnTo>
                <a:lnTo>
                  <a:pt x="4584" y="3926"/>
                </a:lnTo>
                <a:lnTo>
                  <a:pt x="4684" y="3767"/>
                </a:lnTo>
                <a:lnTo>
                  <a:pt x="4771" y="3601"/>
                </a:lnTo>
                <a:lnTo>
                  <a:pt x="4846" y="3429"/>
                </a:lnTo>
                <a:lnTo>
                  <a:pt x="4908" y="3252"/>
                </a:lnTo>
                <a:lnTo>
                  <a:pt x="4957" y="3070"/>
                </a:lnTo>
                <a:lnTo>
                  <a:pt x="4991" y="2886"/>
                </a:lnTo>
                <a:lnTo>
                  <a:pt x="5013" y="2699"/>
                </a:lnTo>
                <a:lnTo>
                  <a:pt x="5020" y="251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Line 218"/>
          <p:cNvSpPr/>
          <p:nvPr/>
        </p:nvSpPr>
        <p:spPr>
          <a:xfrm>
            <a:off x="5094360" y="5473800"/>
            <a:ext cx="453960" cy="144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Line 219"/>
          <p:cNvSpPr/>
          <p:nvPr/>
        </p:nvSpPr>
        <p:spPr>
          <a:xfrm flipV="1">
            <a:off x="5094360" y="4867200"/>
            <a:ext cx="453960" cy="2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Line 220"/>
          <p:cNvSpPr/>
          <p:nvPr/>
        </p:nvSpPr>
        <p:spPr>
          <a:xfrm flipV="1">
            <a:off x="5548320" y="4866840"/>
            <a:ext cx="1440" cy="606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Line 221"/>
          <p:cNvSpPr/>
          <p:nvPr/>
        </p:nvSpPr>
        <p:spPr>
          <a:xfrm flipV="1">
            <a:off x="5094360" y="5113080"/>
            <a:ext cx="1440" cy="360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Line 222"/>
          <p:cNvSpPr/>
          <p:nvPr/>
        </p:nvSpPr>
        <p:spPr>
          <a:xfrm flipV="1">
            <a:off x="5435640" y="4928760"/>
            <a:ext cx="1440" cy="54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Line 223"/>
          <p:cNvSpPr/>
          <p:nvPr/>
        </p:nvSpPr>
        <p:spPr>
          <a:xfrm flipV="1">
            <a:off x="5321160" y="4990680"/>
            <a:ext cx="1800" cy="482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Line 224"/>
          <p:cNvSpPr/>
          <p:nvPr/>
        </p:nvSpPr>
        <p:spPr>
          <a:xfrm flipV="1">
            <a:off x="5208480" y="5051160"/>
            <a:ext cx="1800" cy="422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Line 225"/>
          <p:cNvSpPr/>
          <p:nvPr/>
        </p:nvSpPr>
        <p:spPr>
          <a:xfrm flipH="1">
            <a:off x="2936880" y="5473800"/>
            <a:ext cx="1494000" cy="144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Line 226"/>
          <p:cNvSpPr/>
          <p:nvPr/>
        </p:nvSpPr>
        <p:spPr>
          <a:xfrm>
            <a:off x="4430880" y="5473800"/>
            <a:ext cx="663480" cy="144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Line 227"/>
          <p:cNvSpPr/>
          <p:nvPr/>
        </p:nvSpPr>
        <p:spPr>
          <a:xfrm>
            <a:off x="5548320" y="5473800"/>
            <a:ext cx="492120" cy="144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Line 228"/>
          <p:cNvSpPr/>
          <p:nvPr/>
        </p:nvSpPr>
        <p:spPr>
          <a:xfrm flipV="1">
            <a:off x="4430880" y="4167000"/>
            <a:ext cx="1440" cy="130644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Line 229"/>
          <p:cNvSpPr/>
          <p:nvPr/>
        </p:nvSpPr>
        <p:spPr>
          <a:xfrm>
            <a:off x="4430880" y="5473800"/>
            <a:ext cx="1440" cy="141444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Freeform 230"/>
          <p:cNvSpPr/>
          <p:nvPr/>
        </p:nvSpPr>
        <p:spPr>
          <a:xfrm rot="20764800">
            <a:off x="3576600" y="5316480"/>
            <a:ext cx="106560" cy="390600"/>
          </a:xfrm>
          <a:custGeom>
            <a:avLst/>
            <a:gdLst>
              <a:gd name="textAreaLeft" fmla="*/ 0 w 106560"/>
              <a:gd name="textAreaRight" fmla="*/ 106920 w 10656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01" h="1477">
                <a:moveTo>
                  <a:pt x="401" y="0"/>
                </a:moveTo>
                <a:lnTo>
                  <a:pt x="306" y="145"/>
                </a:lnTo>
                <a:lnTo>
                  <a:pt x="222" y="297"/>
                </a:lnTo>
                <a:lnTo>
                  <a:pt x="151" y="455"/>
                </a:lnTo>
                <a:lnTo>
                  <a:pt x="94" y="619"/>
                </a:lnTo>
                <a:lnTo>
                  <a:pt x="49" y="786"/>
                </a:lnTo>
                <a:lnTo>
                  <a:pt x="19" y="958"/>
                </a:lnTo>
                <a:lnTo>
                  <a:pt x="3" y="1131"/>
                </a:lnTo>
                <a:lnTo>
                  <a:pt x="0" y="1304"/>
                </a:lnTo>
                <a:lnTo>
                  <a:pt x="11" y="1477"/>
                </a:lnTo>
              </a:path>
            </a:pathLst>
          </a:custGeom>
          <a:noFill/>
          <a:ln w="57240">
            <a:solidFill>
              <a:srgbClr val="f7fd0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Text Box 231"/>
          <p:cNvSpPr/>
          <p:nvPr/>
        </p:nvSpPr>
        <p:spPr>
          <a:xfrm>
            <a:off x="3338640" y="561348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Freeform 9"/>
          <p:cNvSpPr/>
          <p:nvPr/>
        </p:nvSpPr>
        <p:spPr>
          <a:xfrm>
            <a:off x="395280" y="1778040"/>
            <a:ext cx="2584440" cy="2587680"/>
          </a:xfrm>
          <a:custGeom>
            <a:avLst/>
            <a:gdLst>
              <a:gd name="textAreaLeft" fmla="*/ 0 w 2584440"/>
              <a:gd name="textAreaRight" fmla="*/ 2584800 w 2584440"/>
              <a:gd name="textAreaTop" fmla="*/ 0 h 2587680"/>
              <a:gd name="textAreaBottom" fmla="*/ 2588040 h 2587680"/>
            </a:gdLst>
            <a:ahLst/>
            <a:rect l="textAreaLeft" t="textAreaTop" r="textAreaRight" b="textAreaBottom"/>
            <a:pathLst>
              <a:path w="9769" h="9779">
                <a:moveTo>
                  <a:pt x="9769" y="4890"/>
                </a:moveTo>
                <a:lnTo>
                  <a:pt x="9763" y="4625"/>
                </a:lnTo>
                <a:lnTo>
                  <a:pt x="9741" y="4361"/>
                </a:lnTo>
                <a:lnTo>
                  <a:pt x="9706" y="4098"/>
                </a:lnTo>
                <a:lnTo>
                  <a:pt x="9656" y="3839"/>
                </a:lnTo>
                <a:lnTo>
                  <a:pt x="9591" y="3581"/>
                </a:lnTo>
                <a:lnTo>
                  <a:pt x="9514" y="3328"/>
                </a:lnTo>
                <a:lnTo>
                  <a:pt x="9423" y="3079"/>
                </a:lnTo>
                <a:lnTo>
                  <a:pt x="9318" y="2837"/>
                </a:lnTo>
                <a:lnTo>
                  <a:pt x="9201" y="2600"/>
                </a:lnTo>
                <a:lnTo>
                  <a:pt x="9071" y="2369"/>
                </a:lnTo>
                <a:lnTo>
                  <a:pt x="8928" y="2146"/>
                </a:lnTo>
                <a:lnTo>
                  <a:pt x="8774" y="1931"/>
                </a:lnTo>
                <a:lnTo>
                  <a:pt x="8608" y="1724"/>
                </a:lnTo>
                <a:lnTo>
                  <a:pt x="8431" y="1527"/>
                </a:lnTo>
                <a:lnTo>
                  <a:pt x="8245" y="1340"/>
                </a:lnTo>
                <a:lnTo>
                  <a:pt x="8048" y="1163"/>
                </a:lnTo>
                <a:lnTo>
                  <a:pt x="7841" y="997"/>
                </a:lnTo>
                <a:lnTo>
                  <a:pt x="7626" y="842"/>
                </a:lnTo>
                <a:lnTo>
                  <a:pt x="7403" y="700"/>
                </a:lnTo>
                <a:lnTo>
                  <a:pt x="7173" y="570"/>
                </a:lnTo>
                <a:lnTo>
                  <a:pt x="6936" y="452"/>
                </a:lnTo>
                <a:lnTo>
                  <a:pt x="6692" y="348"/>
                </a:lnTo>
                <a:lnTo>
                  <a:pt x="6445" y="257"/>
                </a:lnTo>
                <a:lnTo>
                  <a:pt x="6192" y="178"/>
                </a:lnTo>
                <a:lnTo>
                  <a:pt x="5934" y="115"/>
                </a:lnTo>
                <a:lnTo>
                  <a:pt x="5675" y="65"/>
                </a:lnTo>
                <a:lnTo>
                  <a:pt x="5412" y="29"/>
                </a:lnTo>
                <a:lnTo>
                  <a:pt x="5149" y="8"/>
                </a:lnTo>
                <a:lnTo>
                  <a:pt x="4885" y="0"/>
                </a:lnTo>
                <a:lnTo>
                  <a:pt x="4620" y="8"/>
                </a:lnTo>
                <a:lnTo>
                  <a:pt x="4357" y="29"/>
                </a:lnTo>
                <a:lnTo>
                  <a:pt x="4094" y="65"/>
                </a:lnTo>
                <a:lnTo>
                  <a:pt x="3835" y="115"/>
                </a:lnTo>
                <a:lnTo>
                  <a:pt x="3577" y="178"/>
                </a:lnTo>
                <a:lnTo>
                  <a:pt x="3324" y="257"/>
                </a:lnTo>
                <a:lnTo>
                  <a:pt x="3077" y="348"/>
                </a:lnTo>
                <a:lnTo>
                  <a:pt x="2833" y="452"/>
                </a:lnTo>
                <a:lnTo>
                  <a:pt x="2596" y="570"/>
                </a:lnTo>
                <a:lnTo>
                  <a:pt x="2366" y="700"/>
                </a:lnTo>
                <a:lnTo>
                  <a:pt x="2143" y="842"/>
                </a:lnTo>
                <a:lnTo>
                  <a:pt x="1928" y="997"/>
                </a:lnTo>
                <a:lnTo>
                  <a:pt x="1722" y="1163"/>
                </a:lnTo>
                <a:lnTo>
                  <a:pt x="1525" y="1340"/>
                </a:lnTo>
                <a:lnTo>
                  <a:pt x="1338" y="1527"/>
                </a:lnTo>
                <a:lnTo>
                  <a:pt x="1161" y="1724"/>
                </a:lnTo>
                <a:lnTo>
                  <a:pt x="996" y="1931"/>
                </a:lnTo>
                <a:lnTo>
                  <a:pt x="841" y="2146"/>
                </a:lnTo>
                <a:lnTo>
                  <a:pt x="698" y="2369"/>
                </a:lnTo>
                <a:lnTo>
                  <a:pt x="568" y="2600"/>
                </a:lnTo>
                <a:lnTo>
                  <a:pt x="451" y="2837"/>
                </a:lnTo>
                <a:lnTo>
                  <a:pt x="346" y="3079"/>
                </a:lnTo>
                <a:lnTo>
                  <a:pt x="255" y="3328"/>
                </a:lnTo>
                <a:lnTo>
                  <a:pt x="177" y="3581"/>
                </a:lnTo>
                <a:lnTo>
                  <a:pt x="114" y="3839"/>
                </a:lnTo>
                <a:lnTo>
                  <a:pt x="64" y="4098"/>
                </a:lnTo>
                <a:lnTo>
                  <a:pt x="28" y="4361"/>
                </a:lnTo>
                <a:lnTo>
                  <a:pt x="7" y="4625"/>
                </a:lnTo>
                <a:lnTo>
                  <a:pt x="0" y="4890"/>
                </a:lnTo>
                <a:lnTo>
                  <a:pt x="7" y="5155"/>
                </a:lnTo>
                <a:lnTo>
                  <a:pt x="28" y="5418"/>
                </a:lnTo>
                <a:lnTo>
                  <a:pt x="64" y="5681"/>
                </a:lnTo>
                <a:lnTo>
                  <a:pt x="114" y="5940"/>
                </a:lnTo>
                <a:lnTo>
                  <a:pt x="177" y="6198"/>
                </a:lnTo>
                <a:lnTo>
                  <a:pt x="255" y="6451"/>
                </a:lnTo>
                <a:lnTo>
                  <a:pt x="346" y="6700"/>
                </a:lnTo>
                <a:lnTo>
                  <a:pt x="451" y="6942"/>
                </a:lnTo>
                <a:lnTo>
                  <a:pt x="568" y="7180"/>
                </a:lnTo>
                <a:lnTo>
                  <a:pt x="698" y="7410"/>
                </a:lnTo>
                <a:lnTo>
                  <a:pt x="841" y="7633"/>
                </a:lnTo>
                <a:lnTo>
                  <a:pt x="996" y="7848"/>
                </a:lnTo>
                <a:lnTo>
                  <a:pt x="1161" y="8055"/>
                </a:lnTo>
                <a:lnTo>
                  <a:pt x="1338" y="8252"/>
                </a:lnTo>
                <a:lnTo>
                  <a:pt x="1525" y="8439"/>
                </a:lnTo>
                <a:lnTo>
                  <a:pt x="1722" y="8616"/>
                </a:lnTo>
                <a:lnTo>
                  <a:pt x="1928" y="8782"/>
                </a:lnTo>
                <a:lnTo>
                  <a:pt x="2143" y="8937"/>
                </a:lnTo>
                <a:lnTo>
                  <a:pt x="2366" y="9079"/>
                </a:lnTo>
                <a:lnTo>
                  <a:pt x="2596" y="9209"/>
                </a:lnTo>
                <a:lnTo>
                  <a:pt x="2833" y="9328"/>
                </a:lnTo>
                <a:lnTo>
                  <a:pt x="3077" y="9431"/>
                </a:lnTo>
                <a:lnTo>
                  <a:pt x="3324" y="9523"/>
                </a:lnTo>
                <a:lnTo>
                  <a:pt x="3577" y="9601"/>
                </a:lnTo>
                <a:lnTo>
                  <a:pt x="3835" y="9664"/>
                </a:lnTo>
                <a:lnTo>
                  <a:pt x="4094" y="9714"/>
                </a:lnTo>
                <a:lnTo>
                  <a:pt x="4357" y="9750"/>
                </a:lnTo>
                <a:lnTo>
                  <a:pt x="4620" y="9772"/>
                </a:lnTo>
                <a:lnTo>
                  <a:pt x="4885" y="9779"/>
                </a:lnTo>
                <a:lnTo>
                  <a:pt x="5149" y="9772"/>
                </a:lnTo>
                <a:lnTo>
                  <a:pt x="5412" y="9750"/>
                </a:lnTo>
                <a:lnTo>
                  <a:pt x="5675" y="9714"/>
                </a:lnTo>
                <a:lnTo>
                  <a:pt x="5934" y="9664"/>
                </a:lnTo>
                <a:lnTo>
                  <a:pt x="6192" y="9601"/>
                </a:lnTo>
                <a:lnTo>
                  <a:pt x="6445" y="9523"/>
                </a:lnTo>
                <a:lnTo>
                  <a:pt x="6692" y="9431"/>
                </a:lnTo>
                <a:lnTo>
                  <a:pt x="6936" y="9328"/>
                </a:lnTo>
                <a:lnTo>
                  <a:pt x="7173" y="9209"/>
                </a:lnTo>
                <a:lnTo>
                  <a:pt x="7403" y="9079"/>
                </a:lnTo>
                <a:lnTo>
                  <a:pt x="7626" y="8937"/>
                </a:lnTo>
                <a:lnTo>
                  <a:pt x="7841" y="8782"/>
                </a:lnTo>
                <a:lnTo>
                  <a:pt x="8048" y="8616"/>
                </a:lnTo>
                <a:lnTo>
                  <a:pt x="8245" y="8439"/>
                </a:lnTo>
                <a:lnTo>
                  <a:pt x="8431" y="8252"/>
                </a:lnTo>
                <a:lnTo>
                  <a:pt x="8608" y="8055"/>
                </a:lnTo>
                <a:lnTo>
                  <a:pt x="8774" y="7848"/>
                </a:lnTo>
                <a:lnTo>
                  <a:pt x="8928" y="7633"/>
                </a:lnTo>
                <a:lnTo>
                  <a:pt x="9071" y="7410"/>
                </a:lnTo>
                <a:lnTo>
                  <a:pt x="9201" y="7180"/>
                </a:lnTo>
                <a:lnTo>
                  <a:pt x="9318" y="6942"/>
                </a:lnTo>
                <a:lnTo>
                  <a:pt x="9423" y="6700"/>
                </a:lnTo>
                <a:lnTo>
                  <a:pt x="9514" y="6451"/>
                </a:lnTo>
                <a:lnTo>
                  <a:pt x="9591" y="6198"/>
                </a:lnTo>
                <a:lnTo>
                  <a:pt x="9656" y="5940"/>
                </a:lnTo>
                <a:lnTo>
                  <a:pt x="9706" y="5681"/>
                </a:lnTo>
                <a:lnTo>
                  <a:pt x="9741" y="5418"/>
                </a:lnTo>
                <a:lnTo>
                  <a:pt x="9763" y="5155"/>
                </a:lnTo>
                <a:lnTo>
                  <a:pt x="9769" y="489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Freeform 10"/>
          <p:cNvSpPr/>
          <p:nvPr/>
        </p:nvSpPr>
        <p:spPr>
          <a:xfrm>
            <a:off x="2278080" y="2424240"/>
            <a:ext cx="114120" cy="114120"/>
          </a:xfrm>
          <a:custGeom>
            <a:avLst/>
            <a:gdLst>
              <a:gd name="textAreaLeft" fmla="*/ 0 w 114120"/>
              <a:gd name="textAreaRight" fmla="*/ 114480 w 114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31" h="433">
                <a:moveTo>
                  <a:pt x="0" y="257"/>
                </a:moveTo>
                <a:lnTo>
                  <a:pt x="252" y="0"/>
                </a:lnTo>
                <a:lnTo>
                  <a:pt x="431" y="176"/>
                </a:lnTo>
                <a:lnTo>
                  <a:pt x="180" y="433"/>
                </a:lnTo>
                <a:lnTo>
                  <a:pt x="0" y="257"/>
                </a:lnTo>
                <a:close/>
              </a:path>
            </a:pathLst>
          </a:cu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Line 11"/>
          <p:cNvSpPr/>
          <p:nvPr/>
        </p:nvSpPr>
        <p:spPr>
          <a:xfrm flipV="1">
            <a:off x="1687680" y="2480760"/>
            <a:ext cx="657000" cy="59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Line 12"/>
          <p:cNvSpPr/>
          <p:nvPr/>
        </p:nvSpPr>
        <p:spPr>
          <a:xfrm>
            <a:off x="2001960" y="2098800"/>
            <a:ext cx="342720" cy="3823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Text Box 13"/>
          <p:cNvSpPr/>
          <p:nvPr/>
        </p:nvSpPr>
        <p:spPr>
          <a:xfrm>
            <a:off x="1419120" y="29638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 Box 14"/>
          <p:cNvSpPr/>
          <p:nvPr/>
        </p:nvSpPr>
        <p:spPr>
          <a:xfrm>
            <a:off x="1682640" y="2465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Text Box 15"/>
          <p:cNvSpPr/>
          <p:nvPr/>
        </p:nvSpPr>
        <p:spPr>
          <a:xfrm>
            <a:off x="2392200" y="22813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9" name="Object 17"/>
          <p:cNvGraphicFramePr/>
          <p:nvPr/>
        </p:nvGraphicFramePr>
        <p:xfrm>
          <a:off x="1819440" y="1679400"/>
          <a:ext cx="36648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679400"/>
                    <a:ext cx="3664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1" name="Text Box 18"/>
          <p:cNvSpPr/>
          <p:nvPr/>
        </p:nvSpPr>
        <p:spPr>
          <a:xfrm>
            <a:off x="3768840" y="896760"/>
            <a:ext cx="31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、静力学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2" name="Object 19"/>
          <p:cNvGraphicFramePr/>
          <p:nvPr/>
        </p:nvGraphicFramePr>
        <p:xfrm>
          <a:off x="4572000" y="1400040"/>
          <a:ext cx="107964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3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400040"/>
                    <a:ext cx="10796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4" name="Object 20"/>
          <p:cNvGraphicFramePr/>
          <p:nvPr/>
        </p:nvGraphicFramePr>
        <p:xfrm>
          <a:off x="4038480" y="1547640"/>
          <a:ext cx="53352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5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1547640"/>
                    <a:ext cx="533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6" name="Object 21"/>
          <p:cNvGraphicFramePr/>
          <p:nvPr/>
        </p:nvGraphicFramePr>
        <p:xfrm>
          <a:off x="3714840" y="1363680"/>
          <a:ext cx="619200" cy="71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7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14840" y="1363680"/>
                    <a:ext cx="619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8" name="Object 22"/>
          <p:cNvGraphicFramePr/>
          <p:nvPr/>
        </p:nvGraphicFramePr>
        <p:xfrm>
          <a:off x="5651640" y="1428840"/>
          <a:ext cx="896760" cy="57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9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1428840"/>
                    <a:ext cx="8967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0" name="AutoShape 23"/>
          <p:cNvSpPr/>
          <p:nvPr/>
        </p:nvSpPr>
        <p:spPr>
          <a:xfrm>
            <a:off x="5076720" y="1962000"/>
            <a:ext cx="358920" cy="1001880"/>
          </a:xfrm>
          <a:prstGeom prst="downArrow">
            <a:avLst>
              <a:gd name="adj1" fmla="val 50000"/>
              <a:gd name="adj2" fmla="val 69784"/>
            </a:avLst>
          </a:prstGeom>
          <a:solidFill>
            <a:srgbClr val="00e4a8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1" name="Object 24"/>
          <p:cNvGraphicFramePr/>
          <p:nvPr/>
        </p:nvGraphicFramePr>
        <p:xfrm>
          <a:off x="5643720" y="1962000"/>
          <a:ext cx="180972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2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43720" y="1962000"/>
                    <a:ext cx="18097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Text Box 25"/>
          <p:cNvSpPr/>
          <p:nvPr/>
        </p:nvSpPr>
        <p:spPr>
          <a:xfrm>
            <a:off x="7701120" y="2158920"/>
            <a:ext cx="7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4" name="Object 26"/>
          <p:cNvGraphicFramePr/>
          <p:nvPr/>
        </p:nvGraphicFramePr>
        <p:xfrm>
          <a:off x="4073400" y="2963880"/>
          <a:ext cx="3162600" cy="981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5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73400" y="2963880"/>
                    <a:ext cx="31626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6" name="AutoShape 27"/>
          <p:cNvSpPr/>
          <p:nvPr/>
        </p:nvSpPr>
        <p:spPr>
          <a:xfrm>
            <a:off x="5278320" y="4059360"/>
            <a:ext cx="358920" cy="503280"/>
          </a:xfrm>
          <a:prstGeom prst="downArrow">
            <a:avLst>
              <a:gd name="adj1" fmla="val 50000"/>
              <a:gd name="adj2" fmla="val 35055"/>
            </a:avLst>
          </a:prstGeom>
          <a:solidFill>
            <a:srgbClr val="00e4a8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7" name="Object 28"/>
          <p:cNvGraphicFramePr/>
          <p:nvPr/>
        </p:nvGraphicFramePr>
        <p:xfrm>
          <a:off x="4245120" y="4562640"/>
          <a:ext cx="2990880" cy="954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8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45120" y="4562640"/>
                    <a:ext cx="299088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9" name="Line 29"/>
          <p:cNvSpPr/>
          <p:nvPr/>
        </p:nvSpPr>
        <p:spPr>
          <a:xfrm flipV="1">
            <a:off x="5278320" y="5514480"/>
            <a:ext cx="1036800" cy="1800"/>
          </a:xfrm>
          <a:prstGeom prst="line">
            <a:avLst/>
          </a:prstGeom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0" name="Object 30"/>
          <p:cNvGraphicFramePr/>
          <p:nvPr/>
        </p:nvGraphicFramePr>
        <p:xfrm>
          <a:off x="5200560" y="5643720"/>
          <a:ext cx="2014560" cy="647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1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00560" y="5643720"/>
                    <a:ext cx="20145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2" name="Object 31"/>
          <p:cNvGraphicFramePr/>
          <p:nvPr/>
        </p:nvGraphicFramePr>
        <p:xfrm>
          <a:off x="793800" y="5181480"/>
          <a:ext cx="1996920" cy="1293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3" name="Object 3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93800" y="5181480"/>
                    <a:ext cx="199692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4" name="Text Box 32"/>
          <p:cNvSpPr/>
          <p:nvPr/>
        </p:nvSpPr>
        <p:spPr>
          <a:xfrm>
            <a:off x="2916360" y="5516640"/>
            <a:ext cx="7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AutoShape 33">
            <a:hlinkClick r:id="" action="ppaction://hlinkshowjump?jump=nextslide"/>
            <a:hlinkClick r:id="rId2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Freeform 34"/>
          <p:cNvSpPr/>
          <p:nvPr/>
        </p:nvSpPr>
        <p:spPr>
          <a:xfrm>
            <a:off x="965160" y="3429000"/>
            <a:ext cx="271440" cy="349200"/>
          </a:xfrm>
          <a:custGeom>
            <a:avLst/>
            <a:gdLst>
              <a:gd name="textAreaLeft" fmla="*/ 0 w 271440"/>
              <a:gd name="textAreaRight" fmla="*/ 271800 w 2714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029" h="1319">
                <a:moveTo>
                  <a:pt x="0" y="0"/>
                </a:moveTo>
                <a:lnTo>
                  <a:pt x="62" y="179"/>
                </a:lnTo>
                <a:lnTo>
                  <a:pt x="140" y="353"/>
                </a:lnTo>
                <a:lnTo>
                  <a:pt x="231" y="520"/>
                </a:lnTo>
                <a:lnTo>
                  <a:pt x="335" y="679"/>
                </a:lnTo>
                <a:lnTo>
                  <a:pt x="453" y="828"/>
                </a:lnTo>
                <a:lnTo>
                  <a:pt x="581" y="969"/>
                </a:lnTo>
                <a:lnTo>
                  <a:pt x="721" y="1097"/>
                </a:lnTo>
                <a:lnTo>
                  <a:pt x="870" y="1214"/>
                </a:lnTo>
                <a:lnTo>
                  <a:pt x="1029" y="1319"/>
                </a:lnTo>
              </a:path>
            </a:pathLst>
          </a:custGeom>
          <a:noFill/>
          <a:ln w="5724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7" name="Object 35"/>
          <p:cNvGraphicFramePr/>
          <p:nvPr/>
        </p:nvGraphicFramePr>
        <p:xfrm>
          <a:off x="1311120" y="3595680"/>
          <a:ext cx="432000" cy="4096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88" name="Object 35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11120" y="3595680"/>
                    <a:ext cx="4320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0" name="Object 6"/>
          <p:cNvGraphicFramePr/>
          <p:nvPr/>
        </p:nvGraphicFramePr>
        <p:xfrm>
          <a:off x="1641600" y="1052640"/>
          <a:ext cx="1996920" cy="12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1600" y="1052640"/>
                    <a:ext cx="199692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2" name="Text Box 7"/>
          <p:cNvSpPr/>
          <p:nvPr/>
        </p:nvSpPr>
        <p:spPr>
          <a:xfrm>
            <a:off x="3763800" y="138744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AutoShape 8"/>
          <p:cNvSpPr/>
          <p:nvPr/>
        </p:nvSpPr>
        <p:spPr>
          <a:xfrm>
            <a:off x="2482920" y="2346480"/>
            <a:ext cx="287280" cy="866520"/>
          </a:xfrm>
          <a:prstGeom prst="downArrow">
            <a:avLst>
              <a:gd name="adj1" fmla="val 50000"/>
              <a:gd name="adj2" fmla="val 75407"/>
            </a:avLst>
          </a:prstGeom>
          <a:solidFill>
            <a:srgbClr val="00e4a8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4" name="Object 11"/>
          <p:cNvGraphicFramePr/>
          <p:nvPr/>
        </p:nvGraphicFramePr>
        <p:xfrm>
          <a:off x="3274920" y="2292480"/>
          <a:ext cx="2057400" cy="10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4920" y="2292480"/>
                    <a:ext cx="20574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6" name="Text Box 12"/>
          <p:cNvSpPr/>
          <p:nvPr/>
        </p:nvSpPr>
        <p:spPr>
          <a:xfrm>
            <a:off x="5506920" y="26114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7" name="Object 13"/>
          <p:cNvGraphicFramePr/>
          <p:nvPr/>
        </p:nvGraphicFramePr>
        <p:xfrm>
          <a:off x="776160" y="3429000"/>
          <a:ext cx="3414960" cy="111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6160" y="3429000"/>
                    <a:ext cx="341496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AutoShape 15"/>
          <p:cNvSpPr/>
          <p:nvPr/>
        </p:nvSpPr>
        <p:spPr>
          <a:xfrm>
            <a:off x="4233960" y="3846600"/>
            <a:ext cx="1157040" cy="288720"/>
          </a:xfrm>
          <a:prstGeom prst="rightArrow">
            <a:avLst>
              <a:gd name="adj1" fmla="val 50000"/>
              <a:gd name="adj2" fmla="val 100187"/>
            </a:avLst>
          </a:prstGeom>
          <a:solidFill>
            <a:srgbClr val="00e4a8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0" name="Object 16"/>
          <p:cNvGraphicFramePr/>
          <p:nvPr/>
        </p:nvGraphicFramePr>
        <p:xfrm>
          <a:off x="5506920" y="3354480"/>
          <a:ext cx="1873440" cy="11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1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6920" y="3354480"/>
                    <a:ext cx="1873440" cy="1191960"/>
                  </a:xfrm>
                  <a:prstGeom prst="rect">
                    <a:avLst/>
                  </a:prstGeom>
                  <a:ln w="28440">
                    <a:solidFill>
                      <a:srgbClr val="ff33cc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602" name="Text Box 17"/>
          <p:cNvSpPr/>
          <p:nvPr/>
        </p:nvSpPr>
        <p:spPr>
          <a:xfrm>
            <a:off x="792000" y="5013360"/>
            <a:ext cx="500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当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时，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取最大值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3" name="Object 18"/>
          <p:cNvGraphicFramePr/>
          <p:nvPr/>
        </p:nvGraphicFramePr>
        <p:xfrm>
          <a:off x="593640" y="5661000"/>
          <a:ext cx="2324160" cy="109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3640" y="5661000"/>
                    <a:ext cx="232416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5" name="Object 21"/>
          <p:cNvGraphicFramePr/>
          <p:nvPr/>
        </p:nvGraphicFramePr>
        <p:xfrm>
          <a:off x="5873760" y="5630760"/>
          <a:ext cx="1722600" cy="1138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6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73760" y="5630760"/>
                    <a:ext cx="1722600" cy="1138320"/>
                  </a:xfrm>
                  <a:prstGeom prst="rect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pSp>
        <p:nvGrpSpPr>
          <p:cNvPr id="1607" name="Group 26"/>
          <p:cNvGrpSpPr/>
          <p:nvPr/>
        </p:nvGrpSpPr>
        <p:grpSpPr>
          <a:xfrm>
            <a:off x="3048120" y="5661000"/>
            <a:ext cx="2747880" cy="1083600"/>
            <a:chOff x="3048120" y="5661000"/>
            <a:chExt cx="2747880" cy="1083600"/>
          </a:xfrm>
        </p:grpSpPr>
        <p:graphicFrame>
          <p:nvGraphicFramePr>
            <p:cNvPr id="1608" name="Object 20"/>
            <p:cNvGraphicFramePr/>
            <p:nvPr/>
          </p:nvGraphicFramePr>
          <p:xfrm>
            <a:off x="3274920" y="5661000"/>
            <a:ext cx="1668600" cy="480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09" name="Object 2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74920" y="5661000"/>
                      <a:ext cx="166860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0" name="AutoShape 22"/>
            <p:cNvSpPr/>
            <p:nvPr/>
          </p:nvSpPr>
          <p:spPr>
            <a:xfrm>
              <a:off x="3048120" y="6093000"/>
              <a:ext cx="2747880" cy="360360"/>
            </a:xfrm>
            <a:prstGeom prst="rightArrow">
              <a:avLst>
                <a:gd name="adj1" fmla="val 50000"/>
                <a:gd name="adj2" fmla="val 190634"/>
              </a:avLst>
            </a:prstGeom>
            <a:solidFill>
              <a:srgbClr val="00e4a8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Text Box 23"/>
            <p:cNvSpPr/>
            <p:nvPr/>
          </p:nvSpPr>
          <p:spPr>
            <a:xfrm>
              <a:off x="3092400" y="6284880"/>
              <a:ext cx="22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隶书"/>
                </a:rPr>
                <a:t>抗扭截面模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2" name="AutoShape 24">
            <a:hlinkClick r:id="" action="ppaction://hlinkshowjump?jump=nextslide"/>
            <a:hlinkClick r:id="rId15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 Box 5"/>
          <p:cNvSpPr/>
          <p:nvPr/>
        </p:nvSpPr>
        <p:spPr>
          <a:xfrm>
            <a:off x="1258920" y="1052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隶书"/>
              </a:rPr>
              <a:t>圆截面的极惯矩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Freeform 9"/>
          <p:cNvSpPr/>
          <p:nvPr/>
        </p:nvSpPr>
        <p:spPr>
          <a:xfrm>
            <a:off x="1090440" y="2139840"/>
            <a:ext cx="2530800" cy="2533680"/>
          </a:xfrm>
          <a:custGeom>
            <a:avLst/>
            <a:gdLst>
              <a:gd name="textAreaLeft" fmla="*/ 0 w 2530800"/>
              <a:gd name="textAreaRight" fmla="*/ 2530800 w 2530800"/>
              <a:gd name="textAreaTop" fmla="*/ 0 h 2533680"/>
              <a:gd name="textAreaBottom" fmla="*/ 2534040 h 2533680"/>
            </a:gdLst>
            <a:ahLst/>
            <a:rect l="textAreaLeft" t="textAreaTop" r="textAreaRight" b="textAreaBottom"/>
            <a:pathLst>
              <a:path w="9568" h="9576">
                <a:moveTo>
                  <a:pt x="9568" y="4788"/>
                </a:moveTo>
                <a:lnTo>
                  <a:pt x="9560" y="4529"/>
                </a:lnTo>
                <a:lnTo>
                  <a:pt x="9539" y="4270"/>
                </a:lnTo>
                <a:lnTo>
                  <a:pt x="9504" y="4013"/>
                </a:lnTo>
                <a:lnTo>
                  <a:pt x="9456" y="3759"/>
                </a:lnTo>
                <a:lnTo>
                  <a:pt x="9393" y="3507"/>
                </a:lnTo>
                <a:lnTo>
                  <a:pt x="9317" y="3259"/>
                </a:lnTo>
                <a:lnTo>
                  <a:pt x="9228" y="3016"/>
                </a:lnTo>
                <a:lnTo>
                  <a:pt x="9125" y="2777"/>
                </a:lnTo>
                <a:lnTo>
                  <a:pt x="9010" y="2545"/>
                </a:lnTo>
                <a:lnTo>
                  <a:pt x="8883" y="2319"/>
                </a:lnTo>
                <a:lnTo>
                  <a:pt x="8743" y="2101"/>
                </a:lnTo>
                <a:lnTo>
                  <a:pt x="8592" y="1890"/>
                </a:lnTo>
                <a:lnTo>
                  <a:pt x="8430" y="1688"/>
                </a:lnTo>
                <a:lnTo>
                  <a:pt x="8257" y="1495"/>
                </a:lnTo>
                <a:lnTo>
                  <a:pt x="8074" y="1312"/>
                </a:lnTo>
                <a:lnTo>
                  <a:pt x="7881" y="1138"/>
                </a:lnTo>
                <a:lnTo>
                  <a:pt x="7679" y="976"/>
                </a:lnTo>
                <a:lnTo>
                  <a:pt x="7468" y="825"/>
                </a:lnTo>
                <a:lnTo>
                  <a:pt x="7250" y="685"/>
                </a:lnTo>
                <a:lnTo>
                  <a:pt x="7024" y="558"/>
                </a:lnTo>
                <a:lnTo>
                  <a:pt x="6793" y="443"/>
                </a:lnTo>
                <a:lnTo>
                  <a:pt x="6554" y="340"/>
                </a:lnTo>
                <a:lnTo>
                  <a:pt x="6311" y="251"/>
                </a:lnTo>
                <a:lnTo>
                  <a:pt x="6063" y="175"/>
                </a:lnTo>
                <a:lnTo>
                  <a:pt x="5812" y="112"/>
                </a:lnTo>
                <a:lnTo>
                  <a:pt x="5558" y="62"/>
                </a:lnTo>
                <a:lnTo>
                  <a:pt x="5301" y="28"/>
                </a:lnTo>
                <a:lnTo>
                  <a:pt x="5042" y="6"/>
                </a:lnTo>
                <a:lnTo>
                  <a:pt x="4784" y="0"/>
                </a:lnTo>
                <a:lnTo>
                  <a:pt x="4525" y="6"/>
                </a:lnTo>
                <a:lnTo>
                  <a:pt x="4266" y="28"/>
                </a:lnTo>
                <a:lnTo>
                  <a:pt x="4010" y="62"/>
                </a:lnTo>
                <a:lnTo>
                  <a:pt x="3755" y="112"/>
                </a:lnTo>
                <a:lnTo>
                  <a:pt x="3504" y="175"/>
                </a:lnTo>
                <a:lnTo>
                  <a:pt x="3256" y="251"/>
                </a:lnTo>
                <a:lnTo>
                  <a:pt x="3013" y="340"/>
                </a:lnTo>
                <a:lnTo>
                  <a:pt x="2775" y="443"/>
                </a:lnTo>
                <a:lnTo>
                  <a:pt x="2542" y="558"/>
                </a:lnTo>
                <a:lnTo>
                  <a:pt x="2317" y="685"/>
                </a:lnTo>
                <a:lnTo>
                  <a:pt x="2099" y="825"/>
                </a:lnTo>
                <a:lnTo>
                  <a:pt x="1888" y="976"/>
                </a:lnTo>
                <a:lnTo>
                  <a:pt x="1687" y="1138"/>
                </a:lnTo>
                <a:lnTo>
                  <a:pt x="1494" y="1312"/>
                </a:lnTo>
                <a:lnTo>
                  <a:pt x="1311" y="1495"/>
                </a:lnTo>
                <a:lnTo>
                  <a:pt x="1137" y="1688"/>
                </a:lnTo>
                <a:lnTo>
                  <a:pt x="975" y="1890"/>
                </a:lnTo>
                <a:lnTo>
                  <a:pt x="824" y="2101"/>
                </a:lnTo>
                <a:lnTo>
                  <a:pt x="684" y="2319"/>
                </a:lnTo>
                <a:lnTo>
                  <a:pt x="557" y="2545"/>
                </a:lnTo>
                <a:lnTo>
                  <a:pt x="442" y="2777"/>
                </a:lnTo>
                <a:lnTo>
                  <a:pt x="340" y="3016"/>
                </a:lnTo>
                <a:lnTo>
                  <a:pt x="250" y="3259"/>
                </a:lnTo>
                <a:lnTo>
                  <a:pt x="174" y="3507"/>
                </a:lnTo>
                <a:lnTo>
                  <a:pt x="111" y="3759"/>
                </a:lnTo>
                <a:lnTo>
                  <a:pt x="63" y="4013"/>
                </a:lnTo>
                <a:lnTo>
                  <a:pt x="28" y="4270"/>
                </a:lnTo>
                <a:lnTo>
                  <a:pt x="7" y="4529"/>
                </a:lnTo>
                <a:lnTo>
                  <a:pt x="0" y="4788"/>
                </a:lnTo>
                <a:lnTo>
                  <a:pt x="7" y="5046"/>
                </a:lnTo>
                <a:lnTo>
                  <a:pt x="28" y="5306"/>
                </a:lnTo>
                <a:lnTo>
                  <a:pt x="63" y="5562"/>
                </a:lnTo>
                <a:lnTo>
                  <a:pt x="111" y="5817"/>
                </a:lnTo>
                <a:lnTo>
                  <a:pt x="174" y="6068"/>
                </a:lnTo>
                <a:lnTo>
                  <a:pt x="250" y="6317"/>
                </a:lnTo>
                <a:lnTo>
                  <a:pt x="340" y="6559"/>
                </a:lnTo>
                <a:lnTo>
                  <a:pt x="442" y="6798"/>
                </a:lnTo>
                <a:lnTo>
                  <a:pt x="557" y="7031"/>
                </a:lnTo>
                <a:lnTo>
                  <a:pt x="684" y="7256"/>
                </a:lnTo>
                <a:lnTo>
                  <a:pt x="824" y="7474"/>
                </a:lnTo>
                <a:lnTo>
                  <a:pt x="975" y="7685"/>
                </a:lnTo>
                <a:lnTo>
                  <a:pt x="1137" y="7887"/>
                </a:lnTo>
                <a:lnTo>
                  <a:pt x="1311" y="8080"/>
                </a:lnTo>
                <a:lnTo>
                  <a:pt x="1494" y="8264"/>
                </a:lnTo>
                <a:lnTo>
                  <a:pt x="1687" y="8437"/>
                </a:lnTo>
                <a:lnTo>
                  <a:pt x="1888" y="8599"/>
                </a:lnTo>
                <a:lnTo>
                  <a:pt x="2099" y="8750"/>
                </a:lnTo>
                <a:lnTo>
                  <a:pt x="2317" y="8890"/>
                </a:lnTo>
                <a:lnTo>
                  <a:pt x="2542" y="9018"/>
                </a:lnTo>
                <a:lnTo>
                  <a:pt x="2775" y="9133"/>
                </a:lnTo>
                <a:lnTo>
                  <a:pt x="3013" y="9235"/>
                </a:lnTo>
                <a:lnTo>
                  <a:pt x="3256" y="9325"/>
                </a:lnTo>
                <a:lnTo>
                  <a:pt x="3504" y="9401"/>
                </a:lnTo>
                <a:lnTo>
                  <a:pt x="3755" y="9464"/>
                </a:lnTo>
                <a:lnTo>
                  <a:pt x="4010" y="9512"/>
                </a:lnTo>
                <a:lnTo>
                  <a:pt x="4266" y="9547"/>
                </a:lnTo>
                <a:lnTo>
                  <a:pt x="4525" y="9569"/>
                </a:lnTo>
                <a:lnTo>
                  <a:pt x="4784" y="9576"/>
                </a:lnTo>
                <a:lnTo>
                  <a:pt x="5042" y="9569"/>
                </a:lnTo>
                <a:lnTo>
                  <a:pt x="5301" y="9547"/>
                </a:lnTo>
                <a:lnTo>
                  <a:pt x="5558" y="9512"/>
                </a:lnTo>
                <a:lnTo>
                  <a:pt x="5812" y="9464"/>
                </a:lnTo>
                <a:lnTo>
                  <a:pt x="6063" y="9401"/>
                </a:lnTo>
                <a:lnTo>
                  <a:pt x="6311" y="9325"/>
                </a:lnTo>
                <a:lnTo>
                  <a:pt x="6554" y="9235"/>
                </a:lnTo>
                <a:lnTo>
                  <a:pt x="6793" y="9133"/>
                </a:lnTo>
                <a:lnTo>
                  <a:pt x="7024" y="9018"/>
                </a:lnTo>
                <a:lnTo>
                  <a:pt x="7250" y="8890"/>
                </a:lnTo>
                <a:lnTo>
                  <a:pt x="7468" y="8750"/>
                </a:lnTo>
                <a:lnTo>
                  <a:pt x="7679" y="8599"/>
                </a:lnTo>
                <a:lnTo>
                  <a:pt x="7881" y="8437"/>
                </a:lnTo>
                <a:lnTo>
                  <a:pt x="8074" y="8264"/>
                </a:lnTo>
                <a:lnTo>
                  <a:pt x="8257" y="8080"/>
                </a:lnTo>
                <a:lnTo>
                  <a:pt x="8430" y="7887"/>
                </a:lnTo>
                <a:lnTo>
                  <a:pt x="8592" y="7685"/>
                </a:lnTo>
                <a:lnTo>
                  <a:pt x="8743" y="7474"/>
                </a:lnTo>
                <a:lnTo>
                  <a:pt x="8883" y="7256"/>
                </a:lnTo>
                <a:lnTo>
                  <a:pt x="9010" y="7031"/>
                </a:lnTo>
                <a:lnTo>
                  <a:pt x="9125" y="6798"/>
                </a:lnTo>
                <a:lnTo>
                  <a:pt x="9228" y="6559"/>
                </a:lnTo>
                <a:lnTo>
                  <a:pt x="9317" y="6317"/>
                </a:lnTo>
                <a:lnTo>
                  <a:pt x="9393" y="6068"/>
                </a:lnTo>
                <a:lnTo>
                  <a:pt x="9456" y="5817"/>
                </a:lnTo>
                <a:lnTo>
                  <a:pt x="9504" y="5562"/>
                </a:lnTo>
                <a:lnTo>
                  <a:pt x="9539" y="5306"/>
                </a:lnTo>
                <a:lnTo>
                  <a:pt x="9560" y="5046"/>
                </a:lnTo>
                <a:lnTo>
                  <a:pt x="9568" y="4788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Line 10"/>
          <p:cNvSpPr/>
          <p:nvPr/>
        </p:nvSpPr>
        <p:spPr>
          <a:xfrm flipH="1">
            <a:off x="479520" y="2139840"/>
            <a:ext cx="18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Line 11"/>
          <p:cNvSpPr/>
          <p:nvPr/>
        </p:nvSpPr>
        <p:spPr>
          <a:xfrm flipH="1">
            <a:off x="479520" y="4673520"/>
            <a:ext cx="18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Line 12"/>
          <p:cNvSpPr/>
          <p:nvPr/>
        </p:nvSpPr>
        <p:spPr>
          <a:xfrm>
            <a:off x="822240" y="2139840"/>
            <a:ext cx="1800" cy="253368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Freeform 17"/>
          <p:cNvSpPr/>
          <p:nvPr/>
        </p:nvSpPr>
        <p:spPr>
          <a:xfrm>
            <a:off x="1689120" y="2739960"/>
            <a:ext cx="1332000" cy="1333440"/>
          </a:xfrm>
          <a:custGeom>
            <a:avLst/>
            <a:gdLst>
              <a:gd name="textAreaLeft" fmla="*/ 0 w 1332000"/>
              <a:gd name="textAreaRight" fmla="*/ 1332360 w 133200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5035" h="5040">
                <a:moveTo>
                  <a:pt x="5035" y="2520"/>
                </a:moveTo>
                <a:lnTo>
                  <a:pt x="5028" y="2332"/>
                </a:lnTo>
                <a:lnTo>
                  <a:pt x="5007" y="2144"/>
                </a:lnTo>
                <a:lnTo>
                  <a:pt x="4972" y="1959"/>
                </a:lnTo>
                <a:lnTo>
                  <a:pt x="4924" y="1777"/>
                </a:lnTo>
                <a:lnTo>
                  <a:pt x="4861" y="1599"/>
                </a:lnTo>
                <a:lnTo>
                  <a:pt x="4786" y="1426"/>
                </a:lnTo>
                <a:lnTo>
                  <a:pt x="4698" y="1260"/>
                </a:lnTo>
                <a:lnTo>
                  <a:pt x="4598" y="1100"/>
                </a:lnTo>
                <a:lnTo>
                  <a:pt x="4486" y="949"/>
                </a:lnTo>
                <a:lnTo>
                  <a:pt x="4364" y="806"/>
                </a:lnTo>
                <a:lnTo>
                  <a:pt x="4230" y="672"/>
                </a:lnTo>
                <a:lnTo>
                  <a:pt x="4087" y="550"/>
                </a:lnTo>
                <a:lnTo>
                  <a:pt x="3936" y="437"/>
                </a:lnTo>
                <a:lnTo>
                  <a:pt x="3777" y="338"/>
                </a:lnTo>
                <a:lnTo>
                  <a:pt x="3610" y="249"/>
                </a:lnTo>
                <a:lnTo>
                  <a:pt x="3437" y="174"/>
                </a:lnTo>
                <a:lnTo>
                  <a:pt x="3260" y="112"/>
                </a:lnTo>
                <a:lnTo>
                  <a:pt x="3078" y="62"/>
                </a:lnTo>
                <a:lnTo>
                  <a:pt x="2893" y="28"/>
                </a:lnTo>
                <a:lnTo>
                  <a:pt x="2705" y="6"/>
                </a:lnTo>
                <a:lnTo>
                  <a:pt x="2518" y="0"/>
                </a:lnTo>
                <a:lnTo>
                  <a:pt x="2330" y="6"/>
                </a:lnTo>
                <a:lnTo>
                  <a:pt x="2142" y="28"/>
                </a:lnTo>
                <a:lnTo>
                  <a:pt x="1958" y="62"/>
                </a:lnTo>
                <a:lnTo>
                  <a:pt x="1776" y="112"/>
                </a:lnTo>
                <a:lnTo>
                  <a:pt x="1598" y="174"/>
                </a:lnTo>
                <a:lnTo>
                  <a:pt x="1425" y="249"/>
                </a:lnTo>
                <a:lnTo>
                  <a:pt x="1259" y="338"/>
                </a:lnTo>
                <a:lnTo>
                  <a:pt x="1099" y="437"/>
                </a:lnTo>
                <a:lnTo>
                  <a:pt x="948" y="550"/>
                </a:lnTo>
                <a:lnTo>
                  <a:pt x="805" y="672"/>
                </a:lnTo>
                <a:lnTo>
                  <a:pt x="672" y="806"/>
                </a:lnTo>
                <a:lnTo>
                  <a:pt x="550" y="949"/>
                </a:lnTo>
                <a:lnTo>
                  <a:pt x="437" y="1100"/>
                </a:lnTo>
                <a:lnTo>
                  <a:pt x="337" y="1260"/>
                </a:lnTo>
                <a:lnTo>
                  <a:pt x="249" y="1426"/>
                </a:lnTo>
                <a:lnTo>
                  <a:pt x="174" y="1599"/>
                </a:lnTo>
                <a:lnTo>
                  <a:pt x="111" y="1777"/>
                </a:lnTo>
                <a:lnTo>
                  <a:pt x="63" y="1959"/>
                </a:lnTo>
                <a:lnTo>
                  <a:pt x="28" y="2144"/>
                </a:lnTo>
                <a:lnTo>
                  <a:pt x="6" y="2332"/>
                </a:lnTo>
                <a:lnTo>
                  <a:pt x="0" y="2520"/>
                </a:lnTo>
                <a:lnTo>
                  <a:pt x="6" y="2708"/>
                </a:lnTo>
                <a:lnTo>
                  <a:pt x="28" y="2895"/>
                </a:lnTo>
                <a:lnTo>
                  <a:pt x="63" y="3080"/>
                </a:lnTo>
                <a:lnTo>
                  <a:pt x="111" y="3262"/>
                </a:lnTo>
                <a:lnTo>
                  <a:pt x="174" y="3440"/>
                </a:lnTo>
                <a:lnTo>
                  <a:pt x="249" y="3613"/>
                </a:lnTo>
                <a:lnTo>
                  <a:pt x="337" y="3780"/>
                </a:lnTo>
                <a:lnTo>
                  <a:pt x="437" y="3939"/>
                </a:lnTo>
                <a:lnTo>
                  <a:pt x="550" y="4090"/>
                </a:lnTo>
                <a:lnTo>
                  <a:pt x="672" y="4233"/>
                </a:lnTo>
                <a:lnTo>
                  <a:pt x="805" y="4367"/>
                </a:lnTo>
                <a:lnTo>
                  <a:pt x="948" y="4489"/>
                </a:lnTo>
                <a:lnTo>
                  <a:pt x="1099" y="4602"/>
                </a:lnTo>
                <a:lnTo>
                  <a:pt x="1259" y="4702"/>
                </a:lnTo>
                <a:lnTo>
                  <a:pt x="1425" y="4790"/>
                </a:lnTo>
                <a:lnTo>
                  <a:pt x="1598" y="4865"/>
                </a:lnTo>
                <a:lnTo>
                  <a:pt x="1776" y="4928"/>
                </a:lnTo>
                <a:lnTo>
                  <a:pt x="1958" y="4976"/>
                </a:lnTo>
                <a:lnTo>
                  <a:pt x="2142" y="5011"/>
                </a:lnTo>
                <a:lnTo>
                  <a:pt x="2330" y="5033"/>
                </a:lnTo>
                <a:lnTo>
                  <a:pt x="2518" y="5040"/>
                </a:lnTo>
                <a:lnTo>
                  <a:pt x="2705" y="5033"/>
                </a:lnTo>
                <a:lnTo>
                  <a:pt x="2893" y="5011"/>
                </a:lnTo>
                <a:lnTo>
                  <a:pt x="3078" y="4976"/>
                </a:lnTo>
                <a:lnTo>
                  <a:pt x="3260" y="4928"/>
                </a:lnTo>
                <a:lnTo>
                  <a:pt x="3437" y="4865"/>
                </a:lnTo>
                <a:lnTo>
                  <a:pt x="3610" y="4790"/>
                </a:lnTo>
                <a:lnTo>
                  <a:pt x="3777" y="4702"/>
                </a:lnTo>
                <a:lnTo>
                  <a:pt x="3936" y="4602"/>
                </a:lnTo>
                <a:lnTo>
                  <a:pt x="4087" y="4489"/>
                </a:lnTo>
                <a:lnTo>
                  <a:pt x="4230" y="4367"/>
                </a:lnTo>
                <a:lnTo>
                  <a:pt x="4364" y="4233"/>
                </a:lnTo>
                <a:lnTo>
                  <a:pt x="4486" y="4090"/>
                </a:lnTo>
                <a:lnTo>
                  <a:pt x="4598" y="3939"/>
                </a:lnTo>
                <a:lnTo>
                  <a:pt x="4698" y="3780"/>
                </a:lnTo>
                <a:lnTo>
                  <a:pt x="4786" y="3613"/>
                </a:lnTo>
                <a:lnTo>
                  <a:pt x="4861" y="3440"/>
                </a:lnTo>
                <a:lnTo>
                  <a:pt x="4924" y="3262"/>
                </a:lnTo>
                <a:lnTo>
                  <a:pt x="4972" y="3080"/>
                </a:lnTo>
                <a:lnTo>
                  <a:pt x="5007" y="2895"/>
                </a:lnTo>
                <a:lnTo>
                  <a:pt x="5028" y="2708"/>
                </a:lnTo>
                <a:lnTo>
                  <a:pt x="5035" y="2520"/>
                </a:lnTo>
                <a:close/>
              </a:path>
            </a:pathLst>
          </a:cu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Freeform 16"/>
          <p:cNvSpPr/>
          <p:nvPr/>
        </p:nvSpPr>
        <p:spPr>
          <a:xfrm>
            <a:off x="1755720" y="2816280"/>
            <a:ext cx="1200240" cy="1200240"/>
          </a:xfrm>
          <a:custGeom>
            <a:avLst/>
            <a:gdLst>
              <a:gd name="textAreaLeft" fmla="*/ 0 w 1200240"/>
              <a:gd name="textAreaRight" fmla="*/ 1200240 w 12002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4532" h="4536">
                <a:moveTo>
                  <a:pt x="4532" y="2268"/>
                </a:moveTo>
                <a:lnTo>
                  <a:pt x="4524" y="2090"/>
                </a:lnTo>
                <a:lnTo>
                  <a:pt x="4503" y="1913"/>
                </a:lnTo>
                <a:lnTo>
                  <a:pt x="4469" y="1739"/>
                </a:lnTo>
                <a:lnTo>
                  <a:pt x="4421" y="1567"/>
                </a:lnTo>
                <a:lnTo>
                  <a:pt x="4359" y="1400"/>
                </a:lnTo>
                <a:lnTo>
                  <a:pt x="4284" y="1238"/>
                </a:lnTo>
                <a:lnTo>
                  <a:pt x="4197" y="1083"/>
                </a:lnTo>
                <a:lnTo>
                  <a:pt x="4099" y="935"/>
                </a:lnTo>
                <a:lnTo>
                  <a:pt x="3989" y="795"/>
                </a:lnTo>
                <a:lnTo>
                  <a:pt x="3868" y="664"/>
                </a:lnTo>
                <a:lnTo>
                  <a:pt x="3737" y="543"/>
                </a:lnTo>
                <a:lnTo>
                  <a:pt x="3598" y="433"/>
                </a:lnTo>
                <a:lnTo>
                  <a:pt x="3450" y="334"/>
                </a:lnTo>
                <a:lnTo>
                  <a:pt x="3294" y="247"/>
                </a:lnTo>
                <a:lnTo>
                  <a:pt x="3133" y="173"/>
                </a:lnTo>
                <a:lnTo>
                  <a:pt x="2966" y="111"/>
                </a:lnTo>
                <a:lnTo>
                  <a:pt x="2794" y="62"/>
                </a:lnTo>
                <a:lnTo>
                  <a:pt x="2620" y="28"/>
                </a:lnTo>
                <a:lnTo>
                  <a:pt x="2444" y="6"/>
                </a:lnTo>
                <a:lnTo>
                  <a:pt x="2266" y="0"/>
                </a:lnTo>
                <a:lnTo>
                  <a:pt x="2088" y="6"/>
                </a:lnTo>
                <a:lnTo>
                  <a:pt x="1911" y="28"/>
                </a:lnTo>
                <a:lnTo>
                  <a:pt x="1737" y="62"/>
                </a:lnTo>
                <a:lnTo>
                  <a:pt x="1565" y="111"/>
                </a:lnTo>
                <a:lnTo>
                  <a:pt x="1399" y="173"/>
                </a:lnTo>
                <a:lnTo>
                  <a:pt x="1237" y="247"/>
                </a:lnTo>
                <a:lnTo>
                  <a:pt x="1081" y="334"/>
                </a:lnTo>
                <a:lnTo>
                  <a:pt x="934" y="433"/>
                </a:lnTo>
                <a:lnTo>
                  <a:pt x="794" y="543"/>
                </a:lnTo>
                <a:lnTo>
                  <a:pt x="663" y="664"/>
                </a:lnTo>
                <a:lnTo>
                  <a:pt x="542" y="795"/>
                </a:lnTo>
                <a:lnTo>
                  <a:pt x="432" y="935"/>
                </a:lnTo>
                <a:lnTo>
                  <a:pt x="334" y="1083"/>
                </a:lnTo>
                <a:lnTo>
                  <a:pt x="247" y="1238"/>
                </a:lnTo>
                <a:lnTo>
                  <a:pt x="172" y="1400"/>
                </a:lnTo>
                <a:lnTo>
                  <a:pt x="110" y="1567"/>
                </a:lnTo>
                <a:lnTo>
                  <a:pt x="63" y="1739"/>
                </a:lnTo>
                <a:lnTo>
                  <a:pt x="28" y="1913"/>
                </a:lnTo>
                <a:lnTo>
                  <a:pt x="6" y="2090"/>
                </a:lnTo>
                <a:lnTo>
                  <a:pt x="0" y="2268"/>
                </a:lnTo>
                <a:lnTo>
                  <a:pt x="6" y="2446"/>
                </a:lnTo>
                <a:lnTo>
                  <a:pt x="28" y="2623"/>
                </a:lnTo>
                <a:lnTo>
                  <a:pt x="63" y="2797"/>
                </a:lnTo>
                <a:lnTo>
                  <a:pt x="110" y="2969"/>
                </a:lnTo>
                <a:lnTo>
                  <a:pt x="172" y="3135"/>
                </a:lnTo>
                <a:lnTo>
                  <a:pt x="247" y="3297"/>
                </a:lnTo>
                <a:lnTo>
                  <a:pt x="334" y="3453"/>
                </a:lnTo>
                <a:lnTo>
                  <a:pt x="432" y="3601"/>
                </a:lnTo>
                <a:lnTo>
                  <a:pt x="542" y="3741"/>
                </a:lnTo>
                <a:lnTo>
                  <a:pt x="663" y="3871"/>
                </a:lnTo>
                <a:lnTo>
                  <a:pt x="794" y="3992"/>
                </a:lnTo>
                <a:lnTo>
                  <a:pt x="934" y="4102"/>
                </a:lnTo>
                <a:lnTo>
                  <a:pt x="1081" y="4201"/>
                </a:lnTo>
                <a:lnTo>
                  <a:pt x="1237" y="4288"/>
                </a:lnTo>
                <a:lnTo>
                  <a:pt x="1399" y="4363"/>
                </a:lnTo>
                <a:lnTo>
                  <a:pt x="1565" y="4425"/>
                </a:lnTo>
                <a:lnTo>
                  <a:pt x="1737" y="4472"/>
                </a:lnTo>
                <a:lnTo>
                  <a:pt x="1911" y="4507"/>
                </a:lnTo>
                <a:lnTo>
                  <a:pt x="2088" y="4529"/>
                </a:lnTo>
                <a:lnTo>
                  <a:pt x="2266" y="4536"/>
                </a:lnTo>
                <a:lnTo>
                  <a:pt x="2444" y="4529"/>
                </a:lnTo>
                <a:lnTo>
                  <a:pt x="2620" y="4507"/>
                </a:lnTo>
                <a:lnTo>
                  <a:pt x="2794" y="4472"/>
                </a:lnTo>
                <a:lnTo>
                  <a:pt x="2966" y="4425"/>
                </a:lnTo>
                <a:lnTo>
                  <a:pt x="3133" y="4363"/>
                </a:lnTo>
                <a:lnTo>
                  <a:pt x="3294" y="4288"/>
                </a:lnTo>
                <a:lnTo>
                  <a:pt x="3450" y="4201"/>
                </a:lnTo>
                <a:lnTo>
                  <a:pt x="3598" y="4102"/>
                </a:lnTo>
                <a:lnTo>
                  <a:pt x="3737" y="3992"/>
                </a:lnTo>
                <a:lnTo>
                  <a:pt x="3868" y="3871"/>
                </a:lnTo>
                <a:lnTo>
                  <a:pt x="3989" y="3741"/>
                </a:lnTo>
                <a:lnTo>
                  <a:pt x="4099" y="3601"/>
                </a:lnTo>
                <a:lnTo>
                  <a:pt x="4197" y="3453"/>
                </a:lnTo>
                <a:lnTo>
                  <a:pt x="4284" y="3297"/>
                </a:lnTo>
                <a:lnTo>
                  <a:pt x="4359" y="3135"/>
                </a:lnTo>
                <a:lnTo>
                  <a:pt x="4421" y="2969"/>
                </a:lnTo>
                <a:lnTo>
                  <a:pt x="4469" y="2797"/>
                </a:lnTo>
                <a:lnTo>
                  <a:pt x="4503" y="2623"/>
                </a:lnTo>
                <a:lnTo>
                  <a:pt x="4524" y="2446"/>
                </a:lnTo>
                <a:lnTo>
                  <a:pt x="4532" y="2268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Line 18"/>
          <p:cNvSpPr/>
          <p:nvPr/>
        </p:nvSpPr>
        <p:spPr>
          <a:xfrm flipV="1">
            <a:off x="2355840" y="2964960"/>
            <a:ext cx="396720" cy="451080"/>
          </a:xfrm>
          <a:prstGeom prst="line">
            <a:avLst/>
          </a:prstGeom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Line 19"/>
          <p:cNvSpPr/>
          <p:nvPr/>
        </p:nvSpPr>
        <p:spPr>
          <a:xfrm flipV="1">
            <a:off x="2800440" y="2665080"/>
            <a:ext cx="214200" cy="24444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Line 13"/>
          <p:cNvSpPr/>
          <p:nvPr/>
        </p:nvSpPr>
        <p:spPr>
          <a:xfrm>
            <a:off x="824040" y="3416400"/>
            <a:ext cx="3171600" cy="144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Line 14"/>
          <p:cNvSpPr/>
          <p:nvPr/>
        </p:nvSpPr>
        <p:spPr>
          <a:xfrm flipV="1">
            <a:off x="2355840" y="1834920"/>
            <a:ext cx="1440" cy="157140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Line 15"/>
          <p:cNvSpPr/>
          <p:nvPr/>
        </p:nvSpPr>
        <p:spPr>
          <a:xfrm>
            <a:off x="2355840" y="3406680"/>
            <a:ext cx="1440" cy="162900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Text Box 20"/>
          <p:cNvSpPr/>
          <p:nvPr/>
        </p:nvSpPr>
        <p:spPr>
          <a:xfrm>
            <a:off x="2324160" y="2825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7" name="Object 22"/>
          <p:cNvGraphicFramePr/>
          <p:nvPr/>
        </p:nvGraphicFramePr>
        <p:xfrm>
          <a:off x="2668680" y="2448000"/>
          <a:ext cx="34596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8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8680" y="2448000"/>
                    <a:ext cx="345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9" name="Text Box 23"/>
          <p:cNvSpPr/>
          <p:nvPr/>
        </p:nvSpPr>
        <p:spPr>
          <a:xfrm rot="16200000">
            <a:off x="301320" y="30178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0" name="Object 24"/>
          <p:cNvGraphicFramePr/>
          <p:nvPr/>
        </p:nvGraphicFramePr>
        <p:xfrm>
          <a:off x="4971960" y="1085760"/>
          <a:ext cx="1976400" cy="5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1960" y="1085760"/>
                    <a:ext cx="19764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2" name="Object 25"/>
          <p:cNvGraphicFramePr/>
          <p:nvPr/>
        </p:nvGraphicFramePr>
        <p:xfrm>
          <a:off x="5003640" y="1716120"/>
          <a:ext cx="180828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3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1716120"/>
                    <a:ext cx="180828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4" name="Object 26"/>
          <p:cNvGraphicFramePr/>
          <p:nvPr/>
        </p:nvGraphicFramePr>
        <p:xfrm>
          <a:off x="5452920" y="2379600"/>
          <a:ext cx="220680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5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52920" y="2379600"/>
                    <a:ext cx="220680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6" name="Object 27"/>
          <p:cNvGraphicFramePr/>
          <p:nvPr/>
        </p:nvGraphicFramePr>
        <p:xfrm>
          <a:off x="5473800" y="3149640"/>
          <a:ext cx="1788840" cy="78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7" name="Object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73800" y="3149640"/>
                    <a:ext cx="17888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8" name="Object 28"/>
          <p:cNvGraphicFramePr/>
          <p:nvPr/>
        </p:nvGraphicFramePr>
        <p:xfrm>
          <a:off x="5504040" y="3870360"/>
          <a:ext cx="1593720" cy="861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9" name="Object 2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04040" y="3870360"/>
                    <a:ext cx="159372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0" name="Object 29"/>
          <p:cNvGraphicFramePr/>
          <p:nvPr/>
        </p:nvGraphicFramePr>
        <p:xfrm>
          <a:off x="5516640" y="4732200"/>
          <a:ext cx="2751120" cy="857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41" name="Object 2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16640" y="4732200"/>
                    <a:ext cx="27511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2" name="Object 30"/>
          <p:cNvGraphicFramePr/>
          <p:nvPr/>
        </p:nvGraphicFramePr>
        <p:xfrm>
          <a:off x="4118040" y="5589720"/>
          <a:ext cx="3541680" cy="125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43" name="Object 3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8040" y="5589720"/>
                    <a:ext cx="354168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AutoShape 31">
            <a:hlinkClick r:id="" action="ppaction://hlinkshowjump?jump=nextslide"/>
            <a:hlinkClick r:id="rId17"/>
          </p:cNvPr>
          <p:cNvSpPr/>
          <p:nvPr/>
        </p:nvSpPr>
        <p:spPr>
          <a:xfrm>
            <a:off x="8101080" y="5834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5" name="Object 32"/>
          <p:cNvGraphicFramePr/>
          <p:nvPr/>
        </p:nvGraphicFramePr>
        <p:xfrm>
          <a:off x="284040" y="5672160"/>
          <a:ext cx="1292400" cy="869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46" name="Object 3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4040" y="5672160"/>
                    <a:ext cx="1292400" cy="869760"/>
                  </a:xfrm>
                  <a:prstGeom prst="rect">
                    <a:avLst/>
                  </a:prstGeom>
                  <a:ln w="0">
                    <a:solidFill>
                      <a:srgbClr val="66ff33"/>
                    </a:solidFill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47" name="Object 33"/>
          <p:cNvGraphicFramePr/>
          <p:nvPr/>
        </p:nvGraphicFramePr>
        <p:xfrm>
          <a:off x="2305080" y="5672160"/>
          <a:ext cx="1344600" cy="8697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48" name="Object 3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305080" y="5672160"/>
                    <a:ext cx="1344600" cy="869760"/>
                  </a:xfrm>
                  <a:prstGeom prst="rect">
                    <a:avLst/>
                  </a:prstGeom>
                  <a:ln w="0">
                    <a:solidFill>
                      <a:srgbClr val="ff0000"/>
                    </a:solidFill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Text Box 2"/>
          <p:cNvSpPr/>
          <p:nvPr/>
        </p:nvSpPr>
        <p:spPr>
          <a:xfrm>
            <a:off x="1258920" y="1052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隶书"/>
              </a:rPr>
              <a:t>圆环截面的极惯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Text Box 3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Freeform 4"/>
          <p:cNvSpPr/>
          <p:nvPr/>
        </p:nvSpPr>
        <p:spPr>
          <a:xfrm>
            <a:off x="1370160" y="2643120"/>
            <a:ext cx="2530440" cy="2533680"/>
          </a:xfrm>
          <a:custGeom>
            <a:avLst/>
            <a:gdLst>
              <a:gd name="textAreaLeft" fmla="*/ 0 w 2530440"/>
              <a:gd name="textAreaRight" fmla="*/ 2530800 w 2530440"/>
              <a:gd name="textAreaTop" fmla="*/ 0 h 2533680"/>
              <a:gd name="textAreaBottom" fmla="*/ 2534040 h 2533680"/>
            </a:gdLst>
            <a:ahLst/>
            <a:rect l="textAreaLeft" t="textAreaTop" r="textAreaRight" b="textAreaBottom"/>
            <a:pathLst>
              <a:path w="9568" h="9576">
                <a:moveTo>
                  <a:pt x="9568" y="4788"/>
                </a:moveTo>
                <a:lnTo>
                  <a:pt x="9561" y="4529"/>
                </a:lnTo>
                <a:lnTo>
                  <a:pt x="9540" y="4270"/>
                </a:lnTo>
                <a:lnTo>
                  <a:pt x="9505" y="4013"/>
                </a:lnTo>
                <a:lnTo>
                  <a:pt x="9457" y="3759"/>
                </a:lnTo>
                <a:lnTo>
                  <a:pt x="9394" y="3507"/>
                </a:lnTo>
                <a:lnTo>
                  <a:pt x="9318" y="3259"/>
                </a:lnTo>
                <a:lnTo>
                  <a:pt x="9228" y="3016"/>
                </a:lnTo>
                <a:lnTo>
                  <a:pt x="9126" y="2777"/>
                </a:lnTo>
                <a:lnTo>
                  <a:pt x="9011" y="2545"/>
                </a:lnTo>
                <a:lnTo>
                  <a:pt x="8884" y="2319"/>
                </a:lnTo>
                <a:lnTo>
                  <a:pt x="8744" y="2101"/>
                </a:lnTo>
                <a:lnTo>
                  <a:pt x="8593" y="1890"/>
                </a:lnTo>
                <a:lnTo>
                  <a:pt x="8431" y="1688"/>
                </a:lnTo>
                <a:lnTo>
                  <a:pt x="8257" y="1495"/>
                </a:lnTo>
                <a:lnTo>
                  <a:pt x="8074" y="1312"/>
                </a:lnTo>
                <a:lnTo>
                  <a:pt x="7881" y="1138"/>
                </a:lnTo>
                <a:lnTo>
                  <a:pt x="7679" y="976"/>
                </a:lnTo>
                <a:lnTo>
                  <a:pt x="7469" y="825"/>
                </a:lnTo>
                <a:lnTo>
                  <a:pt x="7251" y="685"/>
                </a:lnTo>
                <a:lnTo>
                  <a:pt x="7025" y="558"/>
                </a:lnTo>
                <a:lnTo>
                  <a:pt x="6793" y="443"/>
                </a:lnTo>
                <a:lnTo>
                  <a:pt x="6555" y="340"/>
                </a:lnTo>
                <a:lnTo>
                  <a:pt x="6312" y="251"/>
                </a:lnTo>
                <a:lnTo>
                  <a:pt x="6064" y="175"/>
                </a:lnTo>
                <a:lnTo>
                  <a:pt x="5812" y="112"/>
                </a:lnTo>
                <a:lnTo>
                  <a:pt x="5558" y="62"/>
                </a:lnTo>
                <a:lnTo>
                  <a:pt x="5302" y="28"/>
                </a:lnTo>
                <a:lnTo>
                  <a:pt x="5043" y="6"/>
                </a:lnTo>
                <a:lnTo>
                  <a:pt x="4784" y="0"/>
                </a:lnTo>
                <a:lnTo>
                  <a:pt x="4526" y="6"/>
                </a:lnTo>
                <a:lnTo>
                  <a:pt x="4267" y="28"/>
                </a:lnTo>
                <a:lnTo>
                  <a:pt x="4010" y="62"/>
                </a:lnTo>
                <a:lnTo>
                  <a:pt x="3756" y="112"/>
                </a:lnTo>
                <a:lnTo>
                  <a:pt x="3505" y="175"/>
                </a:lnTo>
                <a:lnTo>
                  <a:pt x="3257" y="251"/>
                </a:lnTo>
                <a:lnTo>
                  <a:pt x="3014" y="340"/>
                </a:lnTo>
                <a:lnTo>
                  <a:pt x="2775" y="443"/>
                </a:lnTo>
                <a:lnTo>
                  <a:pt x="2543" y="558"/>
                </a:lnTo>
                <a:lnTo>
                  <a:pt x="2318" y="685"/>
                </a:lnTo>
                <a:lnTo>
                  <a:pt x="2100" y="825"/>
                </a:lnTo>
                <a:lnTo>
                  <a:pt x="1889" y="976"/>
                </a:lnTo>
                <a:lnTo>
                  <a:pt x="1687" y="1138"/>
                </a:lnTo>
                <a:lnTo>
                  <a:pt x="1494" y="1312"/>
                </a:lnTo>
                <a:lnTo>
                  <a:pt x="1311" y="1495"/>
                </a:lnTo>
                <a:lnTo>
                  <a:pt x="1138" y="1688"/>
                </a:lnTo>
                <a:lnTo>
                  <a:pt x="976" y="1890"/>
                </a:lnTo>
                <a:lnTo>
                  <a:pt x="825" y="2101"/>
                </a:lnTo>
                <a:lnTo>
                  <a:pt x="685" y="2319"/>
                </a:lnTo>
                <a:lnTo>
                  <a:pt x="558" y="2545"/>
                </a:lnTo>
                <a:lnTo>
                  <a:pt x="443" y="2777"/>
                </a:lnTo>
                <a:lnTo>
                  <a:pt x="340" y="3016"/>
                </a:lnTo>
                <a:lnTo>
                  <a:pt x="251" y="3259"/>
                </a:lnTo>
                <a:lnTo>
                  <a:pt x="175" y="3507"/>
                </a:lnTo>
                <a:lnTo>
                  <a:pt x="112" y="3759"/>
                </a:lnTo>
                <a:lnTo>
                  <a:pt x="64" y="4013"/>
                </a:lnTo>
                <a:lnTo>
                  <a:pt x="29" y="4270"/>
                </a:lnTo>
                <a:lnTo>
                  <a:pt x="8" y="4529"/>
                </a:lnTo>
                <a:lnTo>
                  <a:pt x="0" y="4788"/>
                </a:lnTo>
                <a:lnTo>
                  <a:pt x="8" y="5046"/>
                </a:lnTo>
                <a:lnTo>
                  <a:pt x="29" y="5306"/>
                </a:lnTo>
                <a:lnTo>
                  <a:pt x="64" y="5562"/>
                </a:lnTo>
                <a:lnTo>
                  <a:pt x="112" y="5817"/>
                </a:lnTo>
                <a:lnTo>
                  <a:pt x="175" y="6068"/>
                </a:lnTo>
                <a:lnTo>
                  <a:pt x="251" y="6317"/>
                </a:lnTo>
                <a:lnTo>
                  <a:pt x="340" y="6559"/>
                </a:lnTo>
                <a:lnTo>
                  <a:pt x="443" y="6798"/>
                </a:lnTo>
                <a:lnTo>
                  <a:pt x="558" y="7031"/>
                </a:lnTo>
                <a:lnTo>
                  <a:pt x="685" y="7256"/>
                </a:lnTo>
                <a:lnTo>
                  <a:pt x="825" y="7474"/>
                </a:lnTo>
                <a:lnTo>
                  <a:pt x="976" y="7685"/>
                </a:lnTo>
                <a:lnTo>
                  <a:pt x="1138" y="7887"/>
                </a:lnTo>
                <a:lnTo>
                  <a:pt x="1311" y="8080"/>
                </a:lnTo>
                <a:lnTo>
                  <a:pt x="1494" y="8264"/>
                </a:lnTo>
                <a:lnTo>
                  <a:pt x="1687" y="8437"/>
                </a:lnTo>
                <a:lnTo>
                  <a:pt x="1889" y="8599"/>
                </a:lnTo>
                <a:lnTo>
                  <a:pt x="2100" y="8750"/>
                </a:lnTo>
                <a:lnTo>
                  <a:pt x="2318" y="8890"/>
                </a:lnTo>
                <a:lnTo>
                  <a:pt x="2543" y="9018"/>
                </a:lnTo>
                <a:lnTo>
                  <a:pt x="2775" y="9133"/>
                </a:lnTo>
                <a:lnTo>
                  <a:pt x="3014" y="9235"/>
                </a:lnTo>
                <a:lnTo>
                  <a:pt x="3257" y="9325"/>
                </a:lnTo>
                <a:lnTo>
                  <a:pt x="3505" y="9401"/>
                </a:lnTo>
                <a:lnTo>
                  <a:pt x="3756" y="9464"/>
                </a:lnTo>
                <a:lnTo>
                  <a:pt x="4010" y="9512"/>
                </a:lnTo>
                <a:lnTo>
                  <a:pt x="4267" y="9547"/>
                </a:lnTo>
                <a:lnTo>
                  <a:pt x="4526" y="9569"/>
                </a:lnTo>
                <a:lnTo>
                  <a:pt x="4784" y="9576"/>
                </a:lnTo>
                <a:lnTo>
                  <a:pt x="5043" y="9569"/>
                </a:lnTo>
                <a:lnTo>
                  <a:pt x="5302" y="9547"/>
                </a:lnTo>
                <a:lnTo>
                  <a:pt x="5558" y="9512"/>
                </a:lnTo>
                <a:lnTo>
                  <a:pt x="5812" y="9464"/>
                </a:lnTo>
                <a:lnTo>
                  <a:pt x="6064" y="9401"/>
                </a:lnTo>
                <a:lnTo>
                  <a:pt x="6312" y="9325"/>
                </a:lnTo>
                <a:lnTo>
                  <a:pt x="6555" y="9235"/>
                </a:lnTo>
                <a:lnTo>
                  <a:pt x="6793" y="9133"/>
                </a:lnTo>
                <a:lnTo>
                  <a:pt x="7025" y="9018"/>
                </a:lnTo>
                <a:lnTo>
                  <a:pt x="7251" y="8890"/>
                </a:lnTo>
                <a:lnTo>
                  <a:pt x="7469" y="8750"/>
                </a:lnTo>
                <a:lnTo>
                  <a:pt x="7679" y="8599"/>
                </a:lnTo>
                <a:lnTo>
                  <a:pt x="7881" y="8437"/>
                </a:lnTo>
                <a:lnTo>
                  <a:pt x="8074" y="8264"/>
                </a:lnTo>
                <a:lnTo>
                  <a:pt x="8257" y="8080"/>
                </a:lnTo>
                <a:lnTo>
                  <a:pt x="8431" y="7887"/>
                </a:lnTo>
                <a:lnTo>
                  <a:pt x="8593" y="7685"/>
                </a:lnTo>
                <a:lnTo>
                  <a:pt x="8744" y="7474"/>
                </a:lnTo>
                <a:lnTo>
                  <a:pt x="8884" y="7256"/>
                </a:lnTo>
                <a:lnTo>
                  <a:pt x="9011" y="7031"/>
                </a:lnTo>
                <a:lnTo>
                  <a:pt x="9126" y="6798"/>
                </a:lnTo>
                <a:lnTo>
                  <a:pt x="9228" y="6559"/>
                </a:lnTo>
                <a:lnTo>
                  <a:pt x="9318" y="6317"/>
                </a:lnTo>
                <a:lnTo>
                  <a:pt x="9394" y="6068"/>
                </a:lnTo>
                <a:lnTo>
                  <a:pt x="9457" y="5817"/>
                </a:lnTo>
                <a:lnTo>
                  <a:pt x="9505" y="5562"/>
                </a:lnTo>
                <a:lnTo>
                  <a:pt x="9540" y="5306"/>
                </a:lnTo>
                <a:lnTo>
                  <a:pt x="9561" y="5046"/>
                </a:lnTo>
                <a:lnTo>
                  <a:pt x="9568" y="4788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Freeform 5"/>
          <p:cNvSpPr/>
          <p:nvPr/>
        </p:nvSpPr>
        <p:spPr>
          <a:xfrm>
            <a:off x="1901880" y="3176640"/>
            <a:ext cx="1465200" cy="146664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466640"/>
              <a:gd name="textAreaBottom" fmla="*/ 1467000 h 1466640"/>
            </a:gdLst>
            <a:ahLst/>
            <a:rect l="textAreaLeft" t="textAreaTop" r="textAreaRight" b="textAreaBottom"/>
            <a:pathLst>
              <a:path w="5539" h="5544">
                <a:moveTo>
                  <a:pt x="5539" y="2772"/>
                </a:moveTo>
                <a:lnTo>
                  <a:pt x="5531" y="2574"/>
                </a:lnTo>
                <a:lnTo>
                  <a:pt x="5510" y="2377"/>
                </a:lnTo>
                <a:lnTo>
                  <a:pt x="5475" y="2182"/>
                </a:lnTo>
                <a:lnTo>
                  <a:pt x="5427" y="1991"/>
                </a:lnTo>
                <a:lnTo>
                  <a:pt x="5364" y="1803"/>
                </a:lnTo>
                <a:lnTo>
                  <a:pt x="5289" y="1620"/>
                </a:lnTo>
                <a:lnTo>
                  <a:pt x="5200" y="1443"/>
                </a:lnTo>
                <a:lnTo>
                  <a:pt x="5099" y="1273"/>
                </a:lnTo>
                <a:lnTo>
                  <a:pt x="4986" y="1111"/>
                </a:lnTo>
                <a:lnTo>
                  <a:pt x="4862" y="956"/>
                </a:lnTo>
                <a:lnTo>
                  <a:pt x="4728" y="812"/>
                </a:lnTo>
                <a:lnTo>
                  <a:pt x="4583" y="677"/>
                </a:lnTo>
                <a:lnTo>
                  <a:pt x="4429" y="553"/>
                </a:lnTo>
                <a:lnTo>
                  <a:pt x="4266" y="439"/>
                </a:lnTo>
                <a:lnTo>
                  <a:pt x="4097" y="339"/>
                </a:lnTo>
                <a:lnTo>
                  <a:pt x="3920" y="250"/>
                </a:lnTo>
                <a:lnTo>
                  <a:pt x="3737" y="175"/>
                </a:lnTo>
                <a:lnTo>
                  <a:pt x="3549" y="112"/>
                </a:lnTo>
                <a:lnTo>
                  <a:pt x="3358" y="64"/>
                </a:lnTo>
                <a:lnTo>
                  <a:pt x="3163" y="28"/>
                </a:lnTo>
                <a:lnTo>
                  <a:pt x="2967" y="6"/>
                </a:lnTo>
                <a:lnTo>
                  <a:pt x="2769" y="0"/>
                </a:lnTo>
                <a:lnTo>
                  <a:pt x="2572" y="6"/>
                </a:lnTo>
                <a:lnTo>
                  <a:pt x="2375" y="28"/>
                </a:lnTo>
                <a:lnTo>
                  <a:pt x="2180" y="64"/>
                </a:lnTo>
                <a:lnTo>
                  <a:pt x="1989" y="112"/>
                </a:lnTo>
                <a:lnTo>
                  <a:pt x="1801" y="175"/>
                </a:lnTo>
                <a:lnTo>
                  <a:pt x="1619" y="250"/>
                </a:lnTo>
                <a:lnTo>
                  <a:pt x="1442" y="339"/>
                </a:lnTo>
                <a:lnTo>
                  <a:pt x="1272" y="439"/>
                </a:lnTo>
                <a:lnTo>
                  <a:pt x="1110" y="553"/>
                </a:lnTo>
                <a:lnTo>
                  <a:pt x="955" y="677"/>
                </a:lnTo>
                <a:lnTo>
                  <a:pt x="811" y="812"/>
                </a:lnTo>
                <a:lnTo>
                  <a:pt x="676" y="956"/>
                </a:lnTo>
                <a:lnTo>
                  <a:pt x="552" y="1111"/>
                </a:lnTo>
                <a:lnTo>
                  <a:pt x="440" y="1273"/>
                </a:lnTo>
                <a:lnTo>
                  <a:pt x="339" y="1443"/>
                </a:lnTo>
                <a:lnTo>
                  <a:pt x="250" y="1620"/>
                </a:lnTo>
                <a:lnTo>
                  <a:pt x="175" y="1803"/>
                </a:lnTo>
                <a:lnTo>
                  <a:pt x="112" y="1991"/>
                </a:lnTo>
                <a:lnTo>
                  <a:pt x="63" y="2182"/>
                </a:lnTo>
                <a:lnTo>
                  <a:pt x="28" y="2377"/>
                </a:lnTo>
                <a:lnTo>
                  <a:pt x="6" y="2574"/>
                </a:lnTo>
                <a:lnTo>
                  <a:pt x="0" y="2772"/>
                </a:lnTo>
                <a:lnTo>
                  <a:pt x="6" y="2969"/>
                </a:lnTo>
                <a:lnTo>
                  <a:pt x="28" y="3166"/>
                </a:lnTo>
                <a:lnTo>
                  <a:pt x="63" y="3361"/>
                </a:lnTo>
                <a:lnTo>
                  <a:pt x="112" y="3552"/>
                </a:lnTo>
                <a:lnTo>
                  <a:pt x="175" y="3741"/>
                </a:lnTo>
                <a:lnTo>
                  <a:pt x="250" y="3923"/>
                </a:lnTo>
                <a:lnTo>
                  <a:pt x="339" y="4100"/>
                </a:lnTo>
                <a:lnTo>
                  <a:pt x="440" y="4270"/>
                </a:lnTo>
                <a:lnTo>
                  <a:pt x="552" y="4432"/>
                </a:lnTo>
                <a:lnTo>
                  <a:pt x="676" y="4587"/>
                </a:lnTo>
                <a:lnTo>
                  <a:pt x="811" y="4732"/>
                </a:lnTo>
                <a:lnTo>
                  <a:pt x="955" y="4866"/>
                </a:lnTo>
                <a:lnTo>
                  <a:pt x="1110" y="4990"/>
                </a:lnTo>
                <a:lnTo>
                  <a:pt x="1272" y="5104"/>
                </a:lnTo>
                <a:lnTo>
                  <a:pt x="1442" y="5204"/>
                </a:lnTo>
                <a:lnTo>
                  <a:pt x="1619" y="5293"/>
                </a:lnTo>
                <a:lnTo>
                  <a:pt x="1801" y="5368"/>
                </a:lnTo>
                <a:lnTo>
                  <a:pt x="1989" y="5431"/>
                </a:lnTo>
                <a:lnTo>
                  <a:pt x="2180" y="5480"/>
                </a:lnTo>
                <a:lnTo>
                  <a:pt x="2375" y="5515"/>
                </a:lnTo>
                <a:lnTo>
                  <a:pt x="2572" y="5537"/>
                </a:lnTo>
                <a:lnTo>
                  <a:pt x="2769" y="5544"/>
                </a:lnTo>
                <a:lnTo>
                  <a:pt x="2967" y="5537"/>
                </a:lnTo>
                <a:lnTo>
                  <a:pt x="3163" y="5515"/>
                </a:lnTo>
                <a:lnTo>
                  <a:pt x="3358" y="5480"/>
                </a:lnTo>
                <a:lnTo>
                  <a:pt x="3549" y="5431"/>
                </a:lnTo>
                <a:lnTo>
                  <a:pt x="3737" y="5368"/>
                </a:lnTo>
                <a:lnTo>
                  <a:pt x="3920" y="5293"/>
                </a:lnTo>
                <a:lnTo>
                  <a:pt x="4097" y="5204"/>
                </a:lnTo>
                <a:lnTo>
                  <a:pt x="4266" y="5104"/>
                </a:lnTo>
                <a:lnTo>
                  <a:pt x="4429" y="4990"/>
                </a:lnTo>
                <a:lnTo>
                  <a:pt x="4583" y="4866"/>
                </a:lnTo>
                <a:lnTo>
                  <a:pt x="4728" y="4732"/>
                </a:lnTo>
                <a:lnTo>
                  <a:pt x="4862" y="4587"/>
                </a:lnTo>
                <a:lnTo>
                  <a:pt x="4986" y="4432"/>
                </a:lnTo>
                <a:lnTo>
                  <a:pt x="5099" y="4270"/>
                </a:lnTo>
                <a:lnTo>
                  <a:pt x="5200" y="4100"/>
                </a:lnTo>
                <a:lnTo>
                  <a:pt x="5289" y="3923"/>
                </a:lnTo>
                <a:lnTo>
                  <a:pt x="5364" y="3741"/>
                </a:lnTo>
                <a:lnTo>
                  <a:pt x="5427" y="3552"/>
                </a:lnTo>
                <a:lnTo>
                  <a:pt x="5475" y="3361"/>
                </a:lnTo>
                <a:lnTo>
                  <a:pt x="5510" y="3166"/>
                </a:lnTo>
                <a:lnTo>
                  <a:pt x="5531" y="2969"/>
                </a:lnTo>
                <a:lnTo>
                  <a:pt x="5539" y="27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Line 6"/>
          <p:cNvSpPr/>
          <p:nvPr/>
        </p:nvSpPr>
        <p:spPr>
          <a:xfrm>
            <a:off x="1177920" y="3919680"/>
            <a:ext cx="3038400" cy="144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Line 7"/>
          <p:cNvSpPr/>
          <p:nvPr/>
        </p:nvSpPr>
        <p:spPr>
          <a:xfrm>
            <a:off x="2635200" y="2452680"/>
            <a:ext cx="1800" cy="313380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Line 8"/>
          <p:cNvSpPr/>
          <p:nvPr/>
        </p:nvSpPr>
        <p:spPr>
          <a:xfrm flipH="1">
            <a:off x="901440" y="3176640"/>
            <a:ext cx="1733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Line 9"/>
          <p:cNvSpPr/>
          <p:nvPr/>
        </p:nvSpPr>
        <p:spPr>
          <a:xfrm flipH="1">
            <a:off x="901440" y="4643280"/>
            <a:ext cx="1733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Line 10"/>
          <p:cNvSpPr/>
          <p:nvPr/>
        </p:nvSpPr>
        <p:spPr>
          <a:xfrm>
            <a:off x="1187280" y="3176640"/>
            <a:ext cx="1800" cy="146664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Line 11"/>
          <p:cNvSpPr/>
          <p:nvPr/>
        </p:nvSpPr>
        <p:spPr>
          <a:xfrm flipH="1">
            <a:off x="539280" y="2643120"/>
            <a:ext cx="209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Line 12"/>
          <p:cNvSpPr/>
          <p:nvPr/>
        </p:nvSpPr>
        <p:spPr>
          <a:xfrm flipH="1">
            <a:off x="539280" y="5176800"/>
            <a:ext cx="209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Line 13"/>
          <p:cNvSpPr/>
          <p:nvPr/>
        </p:nvSpPr>
        <p:spPr>
          <a:xfrm>
            <a:off x="787320" y="2643120"/>
            <a:ext cx="1800" cy="253368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Text Box 14"/>
          <p:cNvSpPr/>
          <p:nvPr/>
        </p:nvSpPr>
        <p:spPr>
          <a:xfrm rot="16200000">
            <a:off x="769680" y="36306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Text Box 15"/>
          <p:cNvSpPr/>
          <p:nvPr/>
        </p:nvSpPr>
        <p:spPr>
          <a:xfrm rot="16200000">
            <a:off x="312480" y="36306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3" name="Object 16"/>
          <p:cNvGraphicFramePr/>
          <p:nvPr/>
        </p:nvGraphicFramePr>
        <p:xfrm>
          <a:off x="5003640" y="1370160"/>
          <a:ext cx="2016360" cy="10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370160"/>
                    <a:ext cx="20163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5" name="Object 17"/>
          <p:cNvGraphicFramePr/>
          <p:nvPr/>
        </p:nvGraphicFramePr>
        <p:xfrm>
          <a:off x="5413320" y="2452680"/>
          <a:ext cx="2251080" cy="9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3320" y="2452680"/>
                    <a:ext cx="22510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7" name="Text Box 18"/>
          <p:cNvSpPr/>
          <p:nvPr/>
        </p:nvSpPr>
        <p:spPr>
          <a:xfrm>
            <a:off x="4716360" y="3645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8" name="Object 19"/>
          <p:cNvGraphicFramePr/>
          <p:nvPr/>
        </p:nvGraphicFramePr>
        <p:xfrm>
          <a:off x="5248440" y="3368520"/>
          <a:ext cx="1180800" cy="104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48440" y="3368520"/>
                    <a:ext cx="11808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0" name="Object 20"/>
          <p:cNvGraphicFramePr/>
          <p:nvPr/>
        </p:nvGraphicFramePr>
        <p:xfrm>
          <a:off x="4827600" y="4414680"/>
          <a:ext cx="270180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1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7600" y="4414680"/>
                    <a:ext cx="2701800" cy="909720"/>
                  </a:xfrm>
                  <a:prstGeom prst="rect">
                    <a:avLst/>
                  </a:prstGeom>
                  <a:ln w="0">
                    <a:solidFill>
                      <a:srgbClr val="ff0000"/>
                    </a:solidFill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72" name="Object 21"/>
          <p:cNvGraphicFramePr/>
          <p:nvPr/>
        </p:nvGraphicFramePr>
        <p:xfrm>
          <a:off x="2268360" y="5495760"/>
          <a:ext cx="5261040" cy="114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3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5495760"/>
                    <a:ext cx="5261040" cy="1149480"/>
                  </a:xfrm>
                  <a:prstGeom prst="rect">
                    <a:avLst/>
                  </a:prstGeom>
                  <a:ln w="0">
                    <a:solidFill>
                      <a:srgbClr val="c420c0"/>
                    </a:solidFill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674" name="AutoShape 22">
            <a:hlinkClick r:id="" action="ppaction://hlinkshowjump?jump=nextslide"/>
          </p:cNvPr>
          <p:cNvSpPr/>
          <p:nvPr/>
        </p:nvSpPr>
        <p:spPr>
          <a:xfrm>
            <a:off x="8172360" y="587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5" name="Object 4"/>
          <p:cNvGraphicFramePr/>
          <p:nvPr/>
        </p:nvGraphicFramePr>
        <p:xfrm>
          <a:off x="755640" y="1131840"/>
          <a:ext cx="2303640" cy="11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31840"/>
                    <a:ext cx="2303640" cy="1192320"/>
                  </a:xfrm>
                  <a:prstGeom prst="rect">
                    <a:avLst/>
                  </a:prstGeom>
                  <a:ln w="28440">
                    <a:solidFill>
                      <a:srgbClr val="ff33cc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77" name="Object 5"/>
          <p:cNvGraphicFramePr/>
          <p:nvPr/>
        </p:nvGraphicFramePr>
        <p:xfrm>
          <a:off x="4500720" y="1131840"/>
          <a:ext cx="2303280" cy="11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131840"/>
                    <a:ext cx="2303280" cy="1138320"/>
                  </a:xfrm>
                  <a:prstGeom prst="rect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679" name="Text Box 6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Text Box 7"/>
          <p:cNvSpPr/>
          <p:nvPr/>
        </p:nvSpPr>
        <p:spPr>
          <a:xfrm>
            <a:off x="755640" y="2421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隶书"/>
              </a:rPr>
              <a:t>公式的适用范围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Text Box 8"/>
          <p:cNvSpPr/>
          <p:nvPr/>
        </p:nvSpPr>
        <p:spPr>
          <a:xfrm>
            <a:off x="755640" y="29671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材料必须均匀连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Freeform 208"/>
          <p:cNvSpPr/>
          <p:nvPr/>
        </p:nvSpPr>
        <p:spPr>
          <a:xfrm>
            <a:off x="3324240" y="4098960"/>
            <a:ext cx="2284560" cy="2286000"/>
          </a:xfrm>
          <a:custGeom>
            <a:avLst/>
            <a:gdLst>
              <a:gd name="textAreaLeft" fmla="*/ 0 w 2284560"/>
              <a:gd name="textAreaRight" fmla="*/ 2284920 w 228456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8636" h="8642">
                <a:moveTo>
                  <a:pt x="8636" y="4321"/>
                </a:moveTo>
                <a:lnTo>
                  <a:pt x="8628" y="4070"/>
                </a:lnTo>
                <a:lnTo>
                  <a:pt x="8606" y="3819"/>
                </a:lnTo>
                <a:lnTo>
                  <a:pt x="8570" y="3570"/>
                </a:lnTo>
                <a:lnTo>
                  <a:pt x="8519" y="3324"/>
                </a:lnTo>
                <a:lnTo>
                  <a:pt x="8454" y="3082"/>
                </a:lnTo>
                <a:lnTo>
                  <a:pt x="8375" y="2843"/>
                </a:lnTo>
                <a:lnTo>
                  <a:pt x="8282" y="2610"/>
                </a:lnTo>
                <a:lnTo>
                  <a:pt x="8176" y="2381"/>
                </a:lnTo>
                <a:lnTo>
                  <a:pt x="8056" y="2160"/>
                </a:lnTo>
                <a:lnTo>
                  <a:pt x="7925" y="1946"/>
                </a:lnTo>
                <a:lnTo>
                  <a:pt x="7781" y="1740"/>
                </a:lnTo>
                <a:lnTo>
                  <a:pt x="7624" y="1543"/>
                </a:lnTo>
                <a:lnTo>
                  <a:pt x="7458" y="1355"/>
                </a:lnTo>
                <a:lnTo>
                  <a:pt x="7280" y="1177"/>
                </a:lnTo>
                <a:lnTo>
                  <a:pt x="7093" y="1011"/>
                </a:lnTo>
                <a:lnTo>
                  <a:pt x="6896" y="854"/>
                </a:lnTo>
                <a:lnTo>
                  <a:pt x="6690" y="710"/>
                </a:lnTo>
                <a:lnTo>
                  <a:pt x="6477" y="579"/>
                </a:lnTo>
                <a:lnTo>
                  <a:pt x="6255" y="459"/>
                </a:lnTo>
                <a:lnTo>
                  <a:pt x="6028" y="353"/>
                </a:lnTo>
                <a:lnTo>
                  <a:pt x="5794" y="260"/>
                </a:lnTo>
                <a:lnTo>
                  <a:pt x="5556" y="181"/>
                </a:lnTo>
                <a:lnTo>
                  <a:pt x="5313" y="116"/>
                </a:lnTo>
                <a:lnTo>
                  <a:pt x="5067" y="65"/>
                </a:lnTo>
                <a:lnTo>
                  <a:pt x="4819" y="28"/>
                </a:lnTo>
                <a:lnTo>
                  <a:pt x="4569" y="7"/>
                </a:lnTo>
                <a:lnTo>
                  <a:pt x="4318" y="0"/>
                </a:lnTo>
                <a:lnTo>
                  <a:pt x="4067" y="7"/>
                </a:lnTo>
                <a:lnTo>
                  <a:pt x="3816" y="28"/>
                </a:lnTo>
                <a:lnTo>
                  <a:pt x="3568" y="65"/>
                </a:lnTo>
                <a:lnTo>
                  <a:pt x="3321" y="116"/>
                </a:lnTo>
                <a:lnTo>
                  <a:pt x="3079" y="181"/>
                </a:lnTo>
                <a:lnTo>
                  <a:pt x="2841" y="260"/>
                </a:lnTo>
                <a:lnTo>
                  <a:pt x="2608" y="353"/>
                </a:lnTo>
                <a:lnTo>
                  <a:pt x="2380" y="459"/>
                </a:lnTo>
                <a:lnTo>
                  <a:pt x="2159" y="579"/>
                </a:lnTo>
                <a:lnTo>
                  <a:pt x="1945" y="710"/>
                </a:lnTo>
                <a:lnTo>
                  <a:pt x="1740" y="854"/>
                </a:lnTo>
                <a:lnTo>
                  <a:pt x="1543" y="1011"/>
                </a:lnTo>
                <a:lnTo>
                  <a:pt x="1354" y="1177"/>
                </a:lnTo>
                <a:lnTo>
                  <a:pt x="1177" y="1355"/>
                </a:lnTo>
                <a:lnTo>
                  <a:pt x="1010" y="1543"/>
                </a:lnTo>
                <a:lnTo>
                  <a:pt x="854" y="1740"/>
                </a:lnTo>
                <a:lnTo>
                  <a:pt x="710" y="1946"/>
                </a:lnTo>
                <a:lnTo>
                  <a:pt x="578" y="2160"/>
                </a:lnTo>
                <a:lnTo>
                  <a:pt x="459" y="2381"/>
                </a:lnTo>
                <a:lnTo>
                  <a:pt x="352" y="2610"/>
                </a:lnTo>
                <a:lnTo>
                  <a:pt x="260" y="2843"/>
                </a:lnTo>
                <a:lnTo>
                  <a:pt x="181" y="3082"/>
                </a:lnTo>
                <a:lnTo>
                  <a:pt x="116" y="3324"/>
                </a:lnTo>
                <a:lnTo>
                  <a:pt x="66" y="3570"/>
                </a:lnTo>
                <a:lnTo>
                  <a:pt x="28" y="3819"/>
                </a:lnTo>
                <a:lnTo>
                  <a:pt x="7" y="4070"/>
                </a:lnTo>
                <a:lnTo>
                  <a:pt x="0" y="4321"/>
                </a:lnTo>
                <a:lnTo>
                  <a:pt x="7" y="4572"/>
                </a:lnTo>
                <a:lnTo>
                  <a:pt x="28" y="4823"/>
                </a:lnTo>
                <a:lnTo>
                  <a:pt x="66" y="5071"/>
                </a:lnTo>
                <a:lnTo>
                  <a:pt x="116" y="5317"/>
                </a:lnTo>
                <a:lnTo>
                  <a:pt x="181" y="5561"/>
                </a:lnTo>
                <a:lnTo>
                  <a:pt x="260" y="5799"/>
                </a:lnTo>
                <a:lnTo>
                  <a:pt x="352" y="6033"/>
                </a:lnTo>
                <a:lnTo>
                  <a:pt x="459" y="6260"/>
                </a:lnTo>
                <a:lnTo>
                  <a:pt x="578" y="6482"/>
                </a:lnTo>
                <a:lnTo>
                  <a:pt x="710" y="6696"/>
                </a:lnTo>
                <a:lnTo>
                  <a:pt x="854" y="6901"/>
                </a:lnTo>
                <a:lnTo>
                  <a:pt x="1010" y="7098"/>
                </a:lnTo>
                <a:lnTo>
                  <a:pt x="1177" y="7286"/>
                </a:lnTo>
                <a:lnTo>
                  <a:pt x="1354" y="7464"/>
                </a:lnTo>
                <a:lnTo>
                  <a:pt x="1543" y="7631"/>
                </a:lnTo>
                <a:lnTo>
                  <a:pt x="1740" y="7787"/>
                </a:lnTo>
                <a:lnTo>
                  <a:pt x="1945" y="7931"/>
                </a:lnTo>
                <a:lnTo>
                  <a:pt x="2159" y="8064"/>
                </a:lnTo>
                <a:lnTo>
                  <a:pt x="2380" y="8182"/>
                </a:lnTo>
                <a:lnTo>
                  <a:pt x="2608" y="8289"/>
                </a:lnTo>
                <a:lnTo>
                  <a:pt x="2841" y="8381"/>
                </a:lnTo>
                <a:lnTo>
                  <a:pt x="3079" y="8461"/>
                </a:lnTo>
                <a:lnTo>
                  <a:pt x="3321" y="8525"/>
                </a:lnTo>
                <a:lnTo>
                  <a:pt x="3568" y="8576"/>
                </a:lnTo>
                <a:lnTo>
                  <a:pt x="3816" y="8613"/>
                </a:lnTo>
                <a:lnTo>
                  <a:pt x="4067" y="8634"/>
                </a:lnTo>
                <a:lnTo>
                  <a:pt x="4318" y="8642"/>
                </a:lnTo>
                <a:lnTo>
                  <a:pt x="4569" y="8634"/>
                </a:lnTo>
                <a:lnTo>
                  <a:pt x="4819" y="8613"/>
                </a:lnTo>
                <a:lnTo>
                  <a:pt x="5067" y="8576"/>
                </a:lnTo>
                <a:lnTo>
                  <a:pt x="5313" y="8525"/>
                </a:lnTo>
                <a:lnTo>
                  <a:pt x="5556" y="8461"/>
                </a:lnTo>
                <a:lnTo>
                  <a:pt x="5794" y="8381"/>
                </a:lnTo>
                <a:lnTo>
                  <a:pt x="6028" y="8289"/>
                </a:lnTo>
                <a:lnTo>
                  <a:pt x="6255" y="8182"/>
                </a:lnTo>
                <a:lnTo>
                  <a:pt x="6477" y="8064"/>
                </a:lnTo>
                <a:lnTo>
                  <a:pt x="6690" y="7931"/>
                </a:lnTo>
                <a:lnTo>
                  <a:pt x="6896" y="7787"/>
                </a:lnTo>
                <a:lnTo>
                  <a:pt x="7093" y="7631"/>
                </a:lnTo>
                <a:lnTo>
                  <a:pt x="7280" y="7464"/>
                </a:lnTo>
                <a:lnTo>
                  <a:pt x="7458" y="7286"/>
                </a:lnTo>
                <a:lnTo>
                  <a:pt x="7624" y="7098"/>
                </a:lnTo>
                <a:lnTo>
                  <a:pt x="7781" y="6901"/>
                </a:lnTo>
                <a:lnTo>
                  <a:pt x="7925" y="6696"/>
                </a:lnTo>
                <a:lnTo>
                  <a:pt x="8056" y="6482"/>
                </a:lnTo>
                <a:lnTo>
                  <a:pt x="8176" y="6260"/>
                </a:lnTo>
                <a:lnTo>
                  <a:pt x="8282" y="6033"/>
                </a:lnTo>
                <a:lnTo>
                  <a:pt x="8375" y="5799"/>
                </a:lnTo>
                <a:lnTo>
                  <a:pt x="8454" y="5561"/>
                </a:lnTo>
                <a:lnTo>
                  <a:pt x="8519" y="5317"/>
                </a:lnTo>
                <a:lnTo>
                  <a:pt x="8570" y="5071"/>
                </a:lnTo>
                <a:lnTo>
                  <a:pt x="8606" y="4823"/>
                </a:lnTo>
                <a:lnTo>
                  <a:pt x="8628" y="4572"/>
                </a:lnTo>
                <a:lnTo>
                  <a:pt x="8636" y="4321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Freeform 209"/>
          <p:cNvSpPr/>
          <p:nvPr/>
        </p:nvSpPr>
        <p:spPr>
          <a:xfrm>
            <a:off x="3932280" y="4708440"/>
            <a:ext cx="1066680" cy="10670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4033" h="4036">
                <a:moveTo>
                  <a:pt x="4033" y="2018"/>
                </a:moveTo>
                <a:lnTo>
                  <a:pt x="4026" y="1851"/>
                </a:lnTo>
                <a:lnTo>
                  <a:pt x="4005" y="1685"/>
                </a:lnTo>
                <a:lnTo>
                  <a:pt x="3971" y="1522"/>
                </a:lnTo>
                <a:lnTo>
                  <a:pt x="3924" y="1362"/>
                </a:lnTo>
                <a:lnTo>
                  <a:pt x="3863" y="1207"/>
                </a:lnTo>
                <a:lnTo>
                  <a:pt x="3790" y="1057"/>
                </a:lnTo>
                <a:lnTo>
                  <a:pt x="3705" y="913"/>
                </a:lnTo>
                <a:lnTo>
                  <a:pt x="3608" y="778"/>
                </a:lnTo>
                <a:lnTo>
                  <a:pt x="3500" y="651"/>
                </a:lnTo>
                <a:lnTo>
                  <a:pt x="3383" y="533"/>
                </a:lnTo>
                <a:lnTo>
                  <a:pt x="3256" y="425"/>
                </a:lnTo>
                <a:lnTo>
                  <a:pt x="3119" y="328"/>
                </a:lnTo>
                <a:lnTo>
                  <a:pt x="2976" y="243"/>
                </a:lnTo>
                <a:lnTo>
                  <a:pt x="2827" y="169"/>
                </a:lnTo>
                <a:lnTo>
                  <a:pt x="2671" y="109"/>
                </a:lnTo>
                <a:lnTo>
                  <a:pt x="2511" y="61"/>
                </a:lnTo>
                <a:lnTo>
                  <a:pt x="2348" y="27"/>
                </a:lnTo>
                <a:lnTo>
                  <a:pt x="2183" y="6"/>
                </a:lnTo>
                <a:lnTo>
                  <a:pt x="2017" y="0"/>
                </a:lnTo>
                <a:lnTo>
                  <a:pt x="1849" y="6"/>
                </a:lnTo>
                <a:lnTo>
                  <a:pt x="1684" y="27"/>
                </a:lnTo>
                <a:lnTo>
                  <a:pt x="1521" y="61"/>
                </a:lnTo>
                <a:lnTo>
                  <a:pt x="1361" y="109"/>
                </a:lnTo>
                <a:lnTo>
                  <a:pt x="1207" y="169"/>
                </a:lnTo>
                <a:lnTo>
                  <a:pt x="1056" y="243"/>
                </a:lnTo>
                <a:lnTo>
                  <a:pt x="913" y="328"/>
                </a:lnTo>
                <a:lnTo>
                  <a:pt x="778" y="425"/>
                </a:lnTo>
                <a:lnTo>
                  <a:pt x="651" y="533"/>
                </a:lnTo>
                <a:lnTo>
                  <a:pt x="532" y="651"/>
                </a:lnTo>
                <a:lnTo>
                  <a:pt x="425" y="778"/>
                </a:lnTo>
                <a:lnTo>
                  <a:pt x="328" y="913"/>
                </a:lnTo>
                <a:lnTo>
                  <a:pt x="243" y="1057"/>
                </a:lnTo>
                <a:lnTo>
                  <a:pt x="169" y="1207"/>
                </a:lnTo>
                <a:lnTo>
                  <a:pt x="109" y="1362"/>
                </a:lnTo>
                <a:lnTo>
                  <a:pt x="61" y="1522"/>
                </a:lnTo>
                <a:lnTo>
                  <a:pt x="27" y="1685"/>
                </a:lnTo>
                <a:lnTo>
                  <a:pt x="7" y="1851"/>
                </a:lnTo>
                <a:lnTo>
                  <a:pt x="0" y="2018"/>
                </a:lnTo>
                <a:lnTo>
                  <a:pt x="7" y="2184"/>
                </a:lnTo>
                <a:lnTo>
                  <a:pt x="27" y="2350"/>
                </a:lnTo>
                <a:lnTo>
                  <a:pt x="61" y="2513"/>
                </a:lnTo>
                <a:lnTo>
                  <a:pt x="109" y="2673"/>
                </a:lnTo>
                <a:lnTo>
                  <a:pt x="169" y="2829"/>
                </a:lnTo>
                <a:lnTo>
                  <a:pt x="243" y="2978"/>
                </a:lnTo>
                <a:lnTo>
                  <a:pt x="328" y="3122"/>
                </a:lnTo>
                <a:lnTo>
                  <a:pt x="425" y="3258"/>
                </a:lnTo>
                <a:lnTo>
                  <a:pt x="532" y="3385"/>
                </a:lnTo>
                <a:lnTo>
                  <a:pt x="651" y="3503"/>
                </a:lnTo>
                <a:lnTo>
                  <a:pt x="778" y="3610"/>
                </a:lnTo>
                <a:lnTo>
                  <a:pt x="913" y="3708"/>
                </a:lnTo>
                <a:lnTo>
                  <a:pt x="1056" y="3793"/>
                </a:lnTo>
                <a:lnTo>
                  <a:pt x="1207" y="3866"/>
                </a:lnTo>
                <a:lnTo>
                  <a:pt x="1361" y="3927"/>
                </a:lnTo>
                <a:lnTo>
                  <a:pt x="1521" y="3974"/>
                </a:lnTo>
                <a:lnTo>
                  <a:pt x="1684" y="4008"/>
                </a:lnTo>
                <a:lnTo>
                  <a:pt x="1849" y="4029"/>
                </a:lnTo>
                <a:lnTo>
                  <a:pt x="2017" y="4036"/>
                </a:lnTo>
                <a:lnTo>
                  <a:pt x="2183" y="4029"/>
                </a:lnTo>
                <a:lnTo>
                  <a:pt x="2348" y="4008"/>
                </a:lnTo>
                <a:lnTo>
                  <a:pt x="2511" y="3974"/>
                </a:lnTo>
                <a:lnTo>
                  <a:pt x="2671" y="3927"/>
                </a:lnTo>
                <a:lnTo>
                  <a:pt x="2827" y="3866"/>
                </a:lnTo>
                <a:lnTo>
                  <a:pt x="2976" y="3793"/>
                </a:lnTo>
                <a:lnTo>
                  <a:pt x="3119" y="3708"/>
                </a:lnTo>
                <a:lnTo>
                  <a:pt x="3256" y="3610"/>
                </a:lnTo>
                <a:lnTo>
                  <a:pt x="3383" y="3503"/>
                </a:lnTo>
                <a:lnTo>
                  <a:pt x="3500" y="3385"/>
                </a:lnTo>
                <a:lnTo>
                  <a:pt x="3608" y="3258"/>
                </a:lnTo>
                <a:lnTo>
                  <a:pt x="3705" y="3122"/>
                </a:lnTo>
                <a:lnTo>
                  <a:pt x="3790" y="2978"/>
                </a:lnTo>
                <a:lnTo>
                  <a:pt x="3863" y="2829"/>
                </a:lnTo>
                <a:lnTo>
                  <a:pt x="3924" y="2673"/>
                </a:lnTo>
                <a:lnTo>
                  <a:pt x="3971" y="2513"/>
                </a:lnTo>
                <a:lnTo>
                  <a:pt x="4005" y="2350"/>
                </a:lnTo>
                <a:lnTo>
                  <a:pt x="4026" y="2184"/>
                </a:lnTo>
                <a:lnTo>
                  <a:pt x="4033" y="2018"/>
                </a:lnTo>
                <a:close/>
              </a:path>
            </a:pathLst>
          </a:cu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Line 210"/>
          <p:cNvSpPr/>
          <p:nvPr/>
        </p:nvSpPr>
        <p:spPr>
          <a:xfrm flipH="1">
            <a:off x="4416120" y="524196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Line 211"/>
          <p:cNvSpPr/>
          <p:nvPr/>
        </p:nvSpPr>
        <p:spPr>
          <a:xfrm flipH="1">
            <a:off x="4402080" y="5241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Line 212"/>
          <p:cNvSpPr/>
          <p:nvPr/>
        </p:nvSpPr>
        <p:spPr>
          <a:xfrm flipH="1">
            <a:off x="435096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Line 213"/>
          <p:cNvSpPr/>
          <p:nvPr/>
        </p:nvSpPr>
        <p:spPr>
          <a:xfrm flipH="1">
            <a:off x="4338360" y="5241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Line 214"/>
          <p:cNvSpPr/>
          <p:nvPr/>
        </p:nvSpPr>
        <p:spPr>
          <a:xfrm flipH="1">
            <a:off x="428760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Line 215"/>
          <p:cNvSpPr/>
          <p:nvPr/>
        </p:nvSpPr>
        <p:spPr>
          <a:xfrm flipH="1">
            <a:off x="4273560" y="52419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Line 216"/>
          <p:cNvSpPr/>
          <p:nvPr/>
        </p:nvSpPr>
        <p:spPr>
          <a:xfrm flipH="1">
            <a:off x="422388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Line 217"/>
          <p:cNvSpPr/>
          <p:nvPr/>
        </p:nvSpPr>
        <p:spPr>
          <a:xfrm flipH="1">
            <a:off x="4209840" y="5241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Line 218"/>
          <p:cNvSpPr/>
          <p:nvPr/>
        </p:nvSpPr>
        <p:spPr>
          <a:xfrm flipH="1">
            <a:off x="416052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Line 219"/>
          <p:cNvSpPr/>
          <p:nvPr/>
        </p:nvSpPr>
        <p:spPr>
          <a:xfrm flipH="1">
            <a:off x="4146480" y="5241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Line 220"/>
          <p:cNvSpPr/>
          <p:nvPr/>
        </p:nvSpPr>
        <p:spPr>
          <a:xfrm flipH="1">
            <a:off x="409536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Line 221"/>
          <p:cNvSpPr/>
          <p:nvPr/>
        </p:nvSpPr>
        <p:spPr>
          <a:xfrm flipH="1">
            <a:off x="4081320" y="52419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Line 222"/>
          <p:cNvSpPr/>
          <p:nvPr/>
        </p:nvSpPr>
        <p:spPr>
          <a:xfrm flipH="1">
            <a:off x="403200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Line 223"/>
          <p:cNvSpPr/>
          <p:nvPr/>
        </p:nvSpPr>
        <p:spPr>
          <a:xfrm flipH="1">
            <a:off x="4017960" y="52419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Line 224"/>
          <p:cNvSpPr/>
          <p:nvPr/>
        </p:nvSpPr>
        <p:spPr>
          <a:xfrm flipH="1">
            <a:off x="396828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Line 225"/>
          <p:cNvSpPr/>
          <p:nvPr/>
        </p:nvSpPr>
        <p:spPr>
          <a:xfrm flipH="1">
            <a:off x="3954240" y="5241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Line 226"/>
          <p:cNvSpPr/>
          <p:nvPr/>
        </p:nvSpPr>
        <p:spPr>
          <a:xfrm flipH="1">
            <a:off x="390348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Line 227"/>
          <p:cNvSpPr/>
          <p:nvPr/>
        </p:nvSpPr>
        <p:spPr>
          <a:xfrm flipH="1">
            <a:off x="3890880" y="5241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Line 228"/>
          <p:cNvSpPr/>
          <p:nvPr/>
        </p:nvSpPr>
        <p:spPr>
          <a:xfrm flipH="1">
            <a:off x="383976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Line 229"/>
          <p:cNvSpPr/>
          <p:nvPr/>
        </p:nvSpPr>
        <p:spPr>
          <a:xfrm flipH="1">
            <a:off x="3825720" y="52419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Line 230"/>
          <p:cNvSpPr/>
          <p:nvPr/>
        </p:nvSpPr>
        <p:spPr>
          <a:xfrm flipH="1">
            <a:off x="377640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Line 231"/>
          <p:cNvSpPr/>
          <p:nvPr/>
        </p:nvSpPr>
        <p:spPr>
          <a:xfrm flipH="1">
            <a:off x="3762360" y="5241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Line 232"/>
          <p:cNvSpPr/>
          <p:nvPr/>
        </p:nvSpPr>
        <p:spPr>
          <a:xfrm flipH="1">
            <a:off x="371268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Line 233"/>
          <p:cNvSpPr/>
          <p:nvPr/>
        </p:nvSpPr>
        <p:spPr>
          <a:xfrm flipH="1">
            <a:off x="3698640" y="5241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Line 234"/>
          <p:cNvSpPr/>
          <p:nvPr/>
        </p:nvSpPr>
        <p:spPr>
          <a:xfrm flipH="1">
            <a:off x="364788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Line 235"/>
          <p:cNvSpPr/>
          <p:nvPr/>
        </p:nvSpPr>
        <p:spPr>
          <a:xfrm flipH="1">
            <a:off x="3633840" y="52419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Line 236"/>
          <p:cNvSpPr/>
          <p:nvPr/>
        </p:nvSpPr>
        <p:spPr>
          <a:xfrm flipH="1">
            <a:off x="358416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Line 237"/>
          <p:cNvSpPr/>
          <p:nvPr/>
        </p:nvSpPr>
        <p:spPr>
          <a:xfrm flipH="1">
            <a:off x="3569760" y="5241960"/>
            <a:ext cx="8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Line 238"/>
          <p:cNvSpPr/>
          <p:nvPr/>
        </p:nvSpPr>
        <p:spPr>
          <a:xfrm flipH="1">
            <a:off x="352080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Line 239"/>
          <p:cNvSpPr/>
          <p:nvPr/>
        </p:nvSpPr>
        <p:spPr>
          <a:xfrm flipH="1">
            <a:off x="3506760" y="5241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Line 240"/>
          <p:cNvSpPr/>
          <p:nvPr/>
        </p:nvSpPr>
        <p:spPr>
          <a:xfrm flipH="1">
            <a:off x="345564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Line 241"/>
          <p:cNvSpPr/>
          <p:nvPr/>
        </p:nvSpPr>
        <p:spPr>
          <a:xfrm flipH="1">
            <a:off x="3443040" y="5241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Line 242"/>
          <p:cNvSpPr/>
          <p:nvPr/>
        </p:nvSpPr>
        <p:spPr>
          <a:xfrm flipH="1">
            <a:off x="339228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Line 243"/>
          <p:cNvSpPr/>
          <p:nvPr/>
        </p:nvSpPr>
        <p:spPr>
          <a:xfrm flipH="1">
            <a:off x="3378240" y="52419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Line 244"/>
          <p:cNvSpPr/>
          <p:nvPr/>
        </p:nvSpPr>
        <p:spPr>
          <a:xfrm flipH="1">
            <a:off x="332856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Line 245"/>
          <p:cNvSpPr/>
          <p:nvPr/>
        </p:nvSpPr>
        <p:spPr>
          <a:xfrm flipH="1">
            <a:off x="3314520" y="5241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Line 246"/>
          <p:cNvSpPr/>
          <p:nvPr/>
        </p:nvSpPr>
        <p:spPr>
          <a:xfrm flipH="1">
            <a:off x="326520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Line 247"/>
          <p:cNvSpPr/>
          <p:nvPr/>
        </p:nvSpPr>
        <p:spPr>
          <a:xfrm flipH="1">
            <a:off x="3251160" y="5241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Line 248"/>
          <p:cNvSpPr/>
          <p:nvPr/>
        </p:nvSpPr>
        <p:spPr>
          <a:xfrm flipH="1">
            <a:off x="320004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Line 249"/>
          <p:cNvSpPr/>
          <p:nvPr/>
        </p:nvSpPr>
        <p:spPr>
          <a:xfrm flipH="1">
            <a:off x="3186000" y="52419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Line 250"/>
          <p:cNvSpPr/>
          <p:nvPr/>
        </p:nvSpPr>
        <p:spPr>
          <a:xfrm flipH="1">
            <a:off x="313668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Line 251"/>
          <p:cNvSpPr/>
          <p:nvPr/>
        </p:nvSpPr>
        <p:spPr>
          <a:xfrm flipH="1">
            <a:off x="3122640" y="52419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Line 252"/>
          <p:cNvSpPr/>
          <p:nvPr/>
        </p:nvSpPr>
        <p:spPr>
          <a:xfrm flipH="1">
            <a:off x="307296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Line 253"/>
          <p:cNvSpPr/>
          <p:nvPr/>
        </p:nvSpPr>
        <p:spPr>
          <a:xfrm flipH="1">
            <a:off x="3058920" y="5241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Line 254"/>
          <p:cNvSpPr/>
          <p:nvPr/>
        </p:nvSpPr>
        <p:spPr>
          <a:xfrm flipH="1">
            <a:off x="300780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Line 255"/>
          <p:cNvSpPr/>
          <p:nvPr/>
        </p:nvSpPr>
        <p:spPr>
          <a:xfrm flipH="1">
            <a:off x="2995560" y="5241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Line 256"/>
          <p:cNvSpPr/>
          <p:nvPr/>
        </p:nvSpPr>
        <p:spPr>
          <a:xfrm flipH="1">
            <a:off x="2937960" y="524196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Line 257"/>
          <p:cNvSpPr/>
          <p:nvPr/>
        </p:nvSpPr>
        <p:spPr>
          <a:xfrm>
            <a:off x="5608800" y="52419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Line 258"/>
          <p:cNvSpPr/>
          <p:nvPr/>
        </p:nvSpPr>
        <p:spPr>
          <a:xfrm>
            <a:off x="5649840" y="52419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Line 259"/>
          <p:cNvSpPr/>
          <p:nvPr/>
        </p:nvSpPr>
        <p:spPr>
          <a:xfrm>
            <a:off x="566424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Line 260"/>
          <p:cNvSpPr/>
          <p:nvPr/>
        </p:nvSpPr>
        <p:spPr>
          <a:xfrm>
            <a:off x="5713560" y="52419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Line 261"/>
          <p:cNvSpPr/>
          <p:nvPr/>
        </p:nvSpPr>
        <p:spPr>
          <a:xfrm>
            <a:off x="572760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Line 262"/>
          <p:cNvSpPr/>
          <p:nvPr/>
        </p:nvSpPr>
        <p:spPr>
          <a:xfrm>
            <a:off x="5778360" y="5241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Line 263"/>
          <p:cNvSpPr/>
          <p:nvPr/>
        </p:nvSpPr>
        <p:spPr>
          <a:xfrm>
            <a:off x="579276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Line 264"/>
          <p:cNvSpPr/>
          <p:nvPr/>
        </p:nvSpPr>
        <p:spPr>
          <a:xfrm>
            <a:off x="5842080" y="52419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Line 265"/>
          <p:cNvSpPr/>
          <p:nvPr/>
        </p:nvSpPr>
        <p:spPr>
          <a:xfrm>
            <a:off x="5856120" y="5241960"/>
            <a:ext cx="4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Line 266"/>
          <p:cNvSpPr/>
          <p:nvPr/>
        </p:nvSpPr>
        <p:spPr>
          <a:xfrm>
            <a:off x="5905440" y="52419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Line 267"/>
          <p:cNvSpPr/>
          <p:nvPr/>
        </p:nvSpPr>
        <p:spPr>
          <a:xfrm>
            <a:off x="5919840" y="52419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Line 268"/>
          <p:cNvSpPr/>
          <p:nvPr/>
        </p:nvSpPr>
        <p:spPr>
          <a:xfrm flipV="1">
            <a:off x="4465800" y="51944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Line 269"/>
          <p:cNvSpPr/>
          <p:nvPr/>
        </p:nvSpPr>
        <p:spPr>
          <a:xfrm flipV="1">
            <a:off x="4465800" y="51800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Line 270"/>
          <p:cNvSpPr/>
          <p:nvPr/>
        </p:nvSpPr>
        <p:spPr>
          <a:xfrm flipV="1">
            <a:off x="4465800" y="5130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Line 271"/>
          <p:cNvSpPr/>
          <p:nvPr/>
        </p:nvSpPr>
        <p:spPr>
          <a:xfrm flipV="1">
            <a:off x="4465800" y="5116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Line 272"/>
          <p:cNvSpPr/>
          <p:nvPr/>
        </p:nvSpPr>
        <p:spPr>
          <a:xfrm flipV="1">
            <a:off x="4465800" y="506736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Line 273"/>
          <p:cNvSpPr/>
          <p:nvPr/>
        </p:nvSpPr>
        <p:spPr>
          <a:xfrm flipV="1">
            <a:off x="4465800" y="50529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Line 274"/>
          <p:cNvSpPr/>
          <p:nvPr/>
        </p:nvSpPr>
        <p:spPr>
          <a:xfrm flipV="1">
            <a:off x="4465800" y="5001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Line 275"/>
          <p:cNvSpPr/>
          <p:nvPr/>
        </p:nvSpPr>
        <p:spPr>
          <a:xfrm flipV="1">
            <a:off x="4465800" y="498780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Line 276"/>
          <p:cNvSpPr/>
          <p:nvPr/>
        </p:nvSpPr>
        <p:spPr>
          <a:xfrm flipV="1">
            <a:off x="4465800" y="49384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Line 277"/>
          <p:cNvSpPr/>
          <p:nvPr/>
        </p:nvSpPr>
        <p:spPr>
          <a:xfrm flipV="1">
            <a:off x="4465800" y="49244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Line 278"/>
          <p:cNvSpPr/>
          <p:nvPr/>
        </p:nvSpPr>
        <p:spPr>
          <a:xfrm flipV="1">
            <a:off x="4465800" y="48747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Line 279"/>
          <p:cNvSpPr/>
          <p:nvPr/>
        </p:nvSpPr>
        <p:spPr>
          <a:xfrm flipV="1">
            <a:off x="4465800" y="48607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Line 280"/>
          <p:cNvSpPr/>
          <p:nvPr/>
        </p:nvSpPr>
        <p:spPr>
          <a:xfrm flipV="1">
            <a:off x="4465800" y="4809960"/>
            <a:ext cx="1440" cy="4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Line 281"/>
          <p:cNvSpPr/>
          <p:nvPr/>
        </p:nvSpPr>
        <p:spPr>
          <a:xfrm flipV="1">
            <a:off x="4465800" y="479592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Line 282"/>
          <p:cNvSpPr/>
          <p:nvPr/>
        </p:nvSpPr>
        <p:spPr>
          <a:xfrm flipV="1">
            <a:off x="4465800" y="47462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Line 283"/>
          <p:cNvSpPr/>
          <p:nvPr/>
        </p:nvSpPr>
        <p:spPr>
          <a:xfrm flipV="1">
            <a:off x="4465800" y="473220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Line 284"/>
          <p:cNvSpPr/>
          <p:nvPr/>
        </p:nvSpPr>
        <p:spPr>
          <a:xfrm flipV="1">
            <a:off x="4465800" y="46828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Line 285"/>
          <p:cNvSpPr/>
          <p:nvPr/>
        </p:nvSpPr>
        <p:spPr>
          <a:xfrm flipV="1">
            <a:off x="4465800" y="46688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Line 286"/>
          <p:cNvSpPr/>
          <p:nvPr/>
        </p:nvSpPr>
        <p:spPr>
          <a:xfrm flipV="1">
            <a:off x="4465800" y="461772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Line 287"/>
          <p:cNvSpPr/>
          <p:nvPr/>
        </p:nvSpPr>
        <p:spPr>
          <a:xfrm flipV="1">
            <a:off x="4465800" y="46036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Line 288"/>
          <p:cNvSpPr/>
          <p:nvPr/>
        </p:nvSpPr>
        <p:spPr>
          <a:xfrm flipV="1">
            <a:off x="4465800" y="4554360"/>
            <a:ext cx="1440" cy="4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Line 289"/>
          <p:cNvSpPr/>
          <p:nvPr/>
        </p:nvSpPr>
        <p:spPr>
          <a:xfrm flipV="1">
            <a:off x="4465800" y="4539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Line 290"/>
          <p:cNvSpPr/>
          <p:nvPr/>
        </p:nvSpPr>
        <p:spPr>
          <a:xfrm flipV="1">
            <a:off x="4465800" y="44906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Line 291"/>
          <p:cNvSpPr/>
          <p:nvPr/>
        </p:nvSpPr>
        <p:spPr>
          <a:xfrm flipV="1">
            <a:off x="4465800" y="44766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Line 292"/>
          <p:cNvSpPr/>
          <p:nvPr/>
        </p:nvSpPr>
        <p:spPr>
          <a:xfrm flipV="1">
            <a:off x="4465800" y="44254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Line 293"/>
          <p:cNvSpPr/>
          <p:nvPr/>
        </p:nvSpPr>
        <p:spPr>
          <a:xfrm flipV="1">
            <a:off x="4465800" y="441180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Line 294"/>
          <p:cNvSpPr/>
          <p:nvPr/>
        </p:nvSpPr>
        <p:spPr>
          <a:xfrm flipV="1">
            <a:off x="4465800" y="436212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Line 295"/>
          <p:cNvSpPr/>
          <p:nvPr/>
        </p:nvSpPr>
        <p:spPr>
          <a:xfrm flipV="1">
            <a:off x="4465800" y="43480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Line 296"/>
          <p:cNvSpPr/>
          <p:nvPr/>
        </p:nvSpPr>
        <p:spPr>
          <a:xfrm flipV="1">
            <a:off x="4465800" y="42987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Line 297"/>
          <p:cNvSpPr/>
          <p:nvPr/>
        </p:nvSpPr>
        <p:spPr>
          <a:xfrm flipV="1">
            <a:off x="4465800" y="42843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Line 298"/>
          <p:cNvSpPr/>
          <p:nvPr/>
        </p:nvSpPr>
        <p:spPr>
          <a:xfrm flipV="1">
            <a:off x="4465800" y="42336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Line 299"/>
          <p:cNvSpPr/>
          <p:nvPr/>
        </p:nvSpPr>
        <p:spPr>
          <a:xfrm flipV="1">
            <a:off x="4465800" y="4221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Line 300"/>
          <p:cNvSpPr/>
          <p:nvPr/>
        </p:nvSpPr>
        <p:spPr>
          <a:xfrm flipV="1">
            <a:off x="4465800" y="41698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Line 301"/>
          <p:cNvSpPr/>
          <p:nvPr/>
        </p:nvSpPr>
        <p:spPr>
          <a:xfrm flipV="1">
            <a:off x="4465800" y="415620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Line 302"/>
          <p:cNvSpPr/>
          <p:nvPr/>
        </p:nvSpPr>
        <p:spPr>
          <a:xfrm flipV="1">
            <a:off x="4465800" y="410652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Line 303"/>
          <p:cNvSpPr/>
          <p:nvPr/>
        </p:nvSpPr>
        <p:spPr>
          <a:xfrm flipV="1">
            <a:off x="4465800" y="409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Line 304"/>
          <p:cNvSpPr/>
          <p:nvPr/>
        </p:nvSpPr>
        <p:spPr>
          <a:xfrm flipV="1">
            <a:off x="4465800" y="404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Line 305"/>
          <p:cNvSpPr/>
          <p:nvPr/>
        </p:nvSpPr>
        <p:spPr>
          <a:xfrm flipV="1">
            <a:off x="4465800" y="4026960"/>
            <a:ext cx="1440" cy="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Line 306"/>
          <p:cNvSpPr/>
          <p:nvPr/>
        </p:nvSpPr>
        <p:spPr>
          <a:xfrm flipV="1">
            <a:off x="4465800" y="3978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Line 307"/>
          <p:cNvSpPr/>
          <p:nvPr/>
        </p:nvSpPr>
        <p:spPr>
          <a:xfrm flipV="1">
            <a:off x="4465800" y="396396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Line 308"/>
          <p:cNvSpPr/>
          <p:nvPr/>
        </p:nvSpPr>
        <p:spPr>
          <a:xfrm flipV="1">
            <a:off x="4465800" y="3914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Line 309"/>
          <p:cNvSpPr/>
          <p:nvPr/>
        </p:nvSpPr>
        <p:spPr>
          <a:xfrm flipV="1">
            <a:off x="4465800" y="39002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310"/>
          <p:cNvSpPr/>
          <p:nvPr/>
        </p:nvSpPr>
        <p:spPr>
          <a:xfrm flipV="1">
            <a:off x="4465800" y="384660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311"/>
          <p:cNvSpPr/>
          <p:nvPr/>
        </p:nvSpPr>
        <p:spPr>
          <a:xfrm>
            <a:off x="4465800" y="52419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Line 312"/>
          <p:cNvSpPr/>
          <p:nvPr/>
        </p:nvSpPr>
        <p:spPr>
          <a:xfrm>
            <a:off x="4465800" y="52992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Line 313"/>
          <p:cNvSpPr/>
          <p:nvPr/>
        </p:nvSpPr>
        <p:spPr>
          <a:xfrm>
            <a:off x="4465800" y="53132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Line 314"/>
          <p:cNvSpPr/>
          <p:nvPr/>
        </p:nvSpPr>
        <p:spPr>
          <a:xfrm>
            <a:off x="4465800" y="536256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315"/>
          <p:cNvSpPr/>
          <p:nvPr/>
        </p:nvSpPr>
        <p:spPr>
          <a:xfrm>
            <a:off x="4465800" y="53769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316"/>
          <p:cNvSpPr/>
          <p:nvPr/>
        </p:nvSpPr>
        <p:spPr>
          <a:xfrm>
            <a:off x="4465800" y="54277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317"/>
          <p:cNvSpPr/>
          <p:nvPr/>
        </p:nvSpPr>
        <p:spPr>
          <a:xfrm>
            <a:off x="4465800" y="544032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Line 318"/>
          <p:cNvSpPr/>
          <p:nvPr/>
        </p:nvSpPr>
        <p:spPr>
          <a:xfrm>
            <a:off x="4465800" y="54910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Line 319"/>
          <p:cNvSpPr/>
          <p:nvPr/>
        </p:nvSpPr>
        <p:spPr>
          <a:xfrm>
            <a:off x="4465800" y="55054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Line 320"/>
          <p:cNvSpPr/>
          <p:nvPr/>
        </p:nvSpPr>
        <p:spPr>
          <a:xfrm>
            <a:off x="4465800" y="555480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Line 321"/>
          <p:cNvSpPr/>
          <p:nvPr/>
        </p:nvSpPr>
        <p:spPr>
          <a:xfrm>
            <a:off x="4465800" y="5568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Line 322"/>
          <p:cNvSpPr/>
          <p:nvPr/>
        </p:nvSpPr>
        <p:spPr>
          <a:xfrm>
            <a:off x="4465800" y="561816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Line 323"/>
          <p:cNvSpPr/>
          <p:nvPr/>
        </p:nvSpPr>
        <p:spPr>
          <a:xfrm>
            <a:off x="4465800" y="56325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Line 324"/>
          <p:cNvSpPr/>
          <p:nvPr/>
        </p:nvSpPr>
        <p:spPr>
          <a:xfrm>
            <a:off x="4465800" y="5683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Line 325"/>
          <p:cNvSpPr/>
          <p:nvPr/>
        </p:nvSpPr>
        <p:spPr>
          <a:xfrm>
            <a:off x="4465800" y="5697360"/>
            <a:ext cx="1440" cy="4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Line 326"/>
          <p:cNvSpPr/>
          <p:nvPr/>
        </p:nvSpPr>
        <p:spPr>
          <a:xfrm>
            <a:off x="4465800" y="57466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Line 327"/>
          <p:cNvSpPr/>
          <p:nvPr/>
        </p:nvSpPr>
        <p:spPr>
          <a:xfrm>
            <a:off x="4465800" y="57610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Line 328"/>
          <p:cNvSpPr/>
          <p:nvPr/>
        </p:nvSpPr>
        <p:spPr>
          <a:xfrm>
            <a:off x="4465800" y="581040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Line 329"/>
          <p:cNvSpPr/>
          <p:nvPr/>
        </p:nvSpPr>
        <p:spPr>
          <a:xfrm>
            <a:off x="4465800" y="5824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Line 330"/>
          <p:cNvSpPr/>
          <p:nvPr/>
        </p:nvSpPr>
        <p:spPr>
          <a:xfrm>
            <a:off x="4465800" y="5875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Line 331"/>
          <p:cNvSpPr/>
          <p:nvPr/>
        </p:nvSpPr>
        <p:spPr>
          <a:xfrm>
            <a:off x="4465800" y="58896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Line 332"/>
          <p:cNvSpPr/>
          <p:nvPr/>
        </p:nvSpPr>
        <p:spPr>
          <a:xfrm>
            <a:off x="4465800" y="593892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Line 333"/>
          <p:cNvSpPr/>
          <p:nvPr/>
        </p:nvSpPr>
        <p:spPr>
          <a:xfrm>
            <a:off x="4465800" y="5952960"/>
            <a:ext cx="1440" cy="4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Line 334"/>
          <p:cNvSpPr/>
          <p:nvPr/>
        </p:nvSpPr>
        <p:spPr>
          <a:xfrm>
            <a:off x="4465800" y="60022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Line 335"/>
          <p:cNvSpPr/>
          <p:nvPr/>
        </p:nvSpPr>
        <p:spPr>
          <a:xfrm>
            <a:off x="4465800" y="60166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Line 336"/>
          <p:cNvSpPr/>
          <p:nvPr/>
        </p:nvSpPr>
        <p:spPr>
          <a:xfrm>
            <a:off x="4465800" y="60674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Line 337"/>
          <p:cNvSpPr/>
          <p:nvPr/>
        </p:nvSpPr>
        <p:spPr>
          <a:xfrm>
            <a:off x="4465800" y="6081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Line 338"/>
          <p:cNvSpPr/>
          <p:nvPr/>
        </p:nvSpPr>
        <p:spPr>
          <a:xfrm>
            <a:off x="4465800" y="61308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Line 339"/>
          <p:cNvSpPr/>
          <p:nvPr/>
        </p:nvSpPr>
        <p:spPr>
          <a:xfrm>
            <a:off x="4465800" y="61452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Line 340"/>
          <p:cNvSpPr/>
          <p:nvPr/>
        </p:nvSpPr>
        <p:spPr>
          <a:xfrm>
            <a:off x="4465800" y="619452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Line 341"/>
          <p:cNvSpPr/>
          <p:nvPr/>
        </p:nvSpPr>
        <p:spPr>
          <a:xfrm>
            <a:off x="4465800" y="62085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Line 342"/>
          <p:cNvSpPr/>
          <p:nvPr/>
        </p:nvSpPr>
        <p:spPr>
          <a:xfrm>
            <a:off x="4465800" y="62596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Line 343"/>
          <p:cNvSpPr/>
          <p:nvPr/>
        </p:nvSpPr>
        <p:spPr>
          <a:xfrm>
            <a:off x="4465800" y="627372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Line 344"/>
          <p:cNvSpPr/>
          <p:nvPr/>
        </p:nvSpPr>
        <p:spPr>
          <a:xfrm>
            <a:off x="4465800" y="63230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Line 345"/>
          <p:cNvSpPr/>
          <p:nvPr/>
        </p:nvSpPr>
        <p:spPr>
          <a:xfrm>
            <a:off x="4465800" y="6337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Line 346"/>
          <p:cNvSpPr/>
          <p:nvPr/>
        </p:nvSpPr>
        <p:spPr>
          <a:xfrm>
            <a:off x="4465800" y="638640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Line 347"/>
          <p:cNvSpPr/>
          <p:nvPr/>
        </p:nvSpPr>
        <p:spPr>
          <a:xfrm>
            <a:off x="4465800" y="6400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Line 348"/>
          <p:cNvSpPr/>
          <p:nvPr/>
        </p:nvSpPr>
        <p:spPr>
          <a:xfrm>
            <a:off x="4465800" y="64515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Line 349"/>
          <p:cNvSpPr/>
          <p:nvPr/>
        </p:nvSpPr>
        <p:spPr>
          <a:xfrm>
            <a:off x="4465800" y="646596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Line 350"/>
          <p:cNvSpPr/>
          <p:nvPr/>
        </p:nvSpPr>
        <p:spPr>
          <a:xfrm>
            <a:off x="4465800" y="65152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Line 351"/>
          <p:cNvSpPr/>
          <p:nvPr/>
        </p:nvSpPr>
        <p:spPr>
          <a:xfrm>
            <a:off x="4465800" y="652932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Line 352"/>
          <p:cNvSpPr/>
          <p:nvPr/>
        </p:nvSpPr>
        <p:spPr>
          <a:xfrm>
            <a:off x="4465800" y="65786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Line 353"/>
          <p:cNvSpPr/>
          <p:nvPr/>
        </p:nvSpPr>
        <p:spPr>
          <a:xfrm>
            <a:off x="4465800" y="65930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Line 354"/>
          <p:cNvSpPr/>
          <p:nvPr/>
        </p:nvSpPr>
        <p:spPr>
          <a:xfrm>
            <a:off x="4465800" y="66438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Line 355"/>
          <p:cNvSpPr/>
          <p:nvPr/>
        </p:nvSpPr>
        <p:spPr>
          <a:xfrm>
            <a:off x="4465800" y="66564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Line 356"/>
          <p:cNvSpPr/>
          <p:nvPr/>
        </p:nvSpPr>
        <p:spPr>
          <a:xfrm>
            <a:off x="4465800" y="6707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Line 357"/>
          <p:cNvSpPr/>
          <p:nvPr/>
        </p:nvSpPr>
        <p:spPr>
          <a:xfrm>
            <a:off x="4465800" y="6721560"/>
            <a:ext cx="1440" cy="4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Line 358"/>
          <p:cNvSpPr/>
          <p:nvPr/>
        </p:nvSpPr>
        <p:spPr>
          <a:xfrm flipV="1">
            <a:off x="4465800" y="4936680"/>
            <a:ext cx="533160" cy="30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Line 359"/>
          <p:cNvSpPr/>
          <p:nvPr/>
        </p:nvSpPr>
        <p:spPr>
          <a:xfrm flipV="1">
            <a:off x="5608800" y="3754440"/>
            <a:ext cx="1440" cy="14875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Line 360"/>
          <p:cNvSpPr/>
          <p:nvPr/>
        </p:nvSpPr>
        <p:spPr>
          <a:xfrm flipH="1">
            <a:off x="4998960" y="3754440"/>
            <a:ext cx="609840" cy="7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Line 361"/>
          <p:cNvSpPr/>
          <p:nvPr/>
        </p:nvSpPr>
        <p:spPr>
          <a:xfrm flipV="1">
            <a:off x="4998960" y="4546080"/>
            <a:ext cx="1800" cy="390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Line 362"/>
          <p:cNvSpPr/>
          <p:nvPr/>
        </p:nvSpPr>
        <p:spPr>
          <a:xfrm flipV="1">
            <a:off x="4465800" y="4546440"/>
            <a:ext cx="533160" cy="69552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Line 363"/>
          <p:cNvSpPr/>
          <p:nvPr/>
        </p:nvSpPr>
        <p:spPr>
          <a:xfrm>
            <a:off x="4465800" y="5241960"/>
            <a:ext cx="53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Line 364"/>
          <p:cNvSpPr/>
          <p:nvPr/>
        </p:nvSpPr>
        <p:spPr>
          <a:xfrm>
            <a:off x="4998960" y="5241960"/>
            <a:ext cx="60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Line 377"/>
          <p:cNvSpPr/>
          <p:nvPr/>
        </p:nvSpPr>
        <p:spPr>
          <a:xfrm flipV="1">
            <a:off x="4643280" y="5140440"/>
            <a:ext cx="1800" cy="10152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Line 378"/>
          <p:cNvSpPr/>
          <p:nvPr/>
        </p:nvSpPr>
        <p:spPr>
          <a:xfrm flipV="1">
            <a:off x="4821120" y="5038200"/>
            <a:ext cx="1800" cy="20340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Line 379"/>
          <p:cNvSpPr/>
          <p:nvPr/>
        </p:nvSpPr>
        <p:spPr>
          <a:xfrm flipV="1">
            <a:off x="5202360" y="4282920"/>
            <a:ext cx="1440" cy="959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Line 380"/>
          <p:cNvSpPr/>
          <p:nvPr/>
        </p:nvSpPr>
        <p:spPr>
          <a:xfrm flipV="1">
            <a:off x="5405400" y="4017960"/>
            <a:ext cx="1800" cy="1224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Line 381"/>
          <p:cNvSpPr/>
          <p:nvPr/>
        </p:nvSpPr>
        <p:spPr>
          <a:xfrm>
            <a:off x="4998960" y="4937040"/>
            <a:ext cx="1800" cy="304920"/>
          </a:xfrm>
          <a:prstGeom prst="line">
            <a:avLst/>
          </a:prstGeom>
          <a:ln w="1908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Line 384"/>
          <p:cNvSpPr/>
          <p:nvPr/>
        </p:nvSpPr>
        <p:spPr>
          <a:xfrm flipH="1">
            <a:off x="3200040" y="5824440"/>
            <a:ext cx="62532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Line 385"/>
          <p:cNvSpPr/>
          <p:nvPr/>
        </p:nvSpPr>
        <p:spPr>
          <a:xfrm flipH="1">
            <a:off x="2771280" y="644364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Line 386"/>
          <p:cNvSpPr/>
          <p:nvPr/>
        </p:nvSpPr>
        <p:spPr>
          <a:xfrm>
            <a:off x="4645080" y="5497560"/>
            <a:ext cx="1019160" cy="9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Line 387"/>
          <p:cNvSpPr/>
          <p:nvPr/>
        </p:nvSpPr>
        <p:spPr>
          <a:xfrm>
            <a:off x="5664240" y="6458040"/>
            <a:ext cx="563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Text Box 388"/>
          <p:cNvSpPr/>
          <p:nvPr/>
        </p:nvSpPr>
        <p:spPr>
          <a:xfrm>
            <a:off x="5665680" y="6056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Text Box 389"/>
          <p:cNvSpPr/>
          <p:nvPr/>
        </p:nvSpPr>
        <p:spPr>
          <a:xfrm>
            <a:off x="2706840" y="60469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Line 390"/>
          <p:cNvSpPr/>
          <p:nvPr/>
        </p:nvSpPr>
        <p:spPr>
          <a:xfrm>
            <a:off x="4998960" y="4930920"/>
            <a:ext cx="951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Line 391"/>
          <p:cNvSpPr/>
          <p:nvPr/>
        </p:nvSpPr>
        <p:spPr>
          <a:xfrm flipV="1">
            <a:off x="5843520" y="4928760"/>
            <a:ext cx="0" cy="30492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2" name="Object 392"/>
          <p:cNvGraphicFramePr/>
          <p:nvPr/>
        </p:nvGraphicFramePr>
        <p:xfrm>
          <a:off x="5919840" y="4795920"/>
          <a:ext cx="682560" cy="4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3" name="Object 39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19840" y="4795920"/>
                    <a:ext cx="68256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4" name="Object 394"/>
          <p:cNvGraphicFramePr/>
          <p:nvPr/>
        </p:nvGraphicFramePr>
        <p:xfrm>
          <a:off x="5649840" y="3639960"/>
          <a:ext cx="633600" cy="40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5" name="Object 39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49840" y="3639960"/>
                    <a:ext cx="6336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6" name="Object 395"/>
          <p:cNvGraphicFramePr/>
          <p:nvPr/>
        </p:nvGraphicFramePr>
        <p:xfrm>
          <a:off x="4869000" y="4732200"/>
          <a:ext cx="263520" cy="28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7" name="Object 3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69000" y="4732200"/>
                    <a:ext cx="26352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8" name="Object 396"/>
          <p:cNvGraphicFramePr/>
          <p:nvPr/>
        </p:nvGraphicFramePr>
        <p:xfrm>
          <a:off x="4822920" y="4227480"/>
          <a:ext cx="26352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9" name="Object 39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22920" y="4227480"/>
                    <a:ext cx="2635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0" name="Object 397"/>
          <p:cNvGraphicFramePr/>
          <p:nvPr/>
        </p:nvGraphicFramePr>
        <p:xfrm>
          <a:off x="5495760" y="3516480"/>
          <a:ext cx="238320" cy="288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61" name="Object 39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95760" y="3516480"/>
                    <a:ext cx="23832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AutoShape 398">
            <a:hlinkClick r:id="" action="ppaction://hlinkshowjump?jump=nextslide"/>
            <a:hlinkClick r:id="rId15"/>
          </p:cNvPr>
          <p:cNvSpPr/>
          <p:nvPr/>
        </p:nvSpPr>
        <p:spPr>
          <a:xfrm>
            <a:off x="8101080" y="58784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Freeform 399"/>
          <p:cNvSpPr/>
          <p:nvPr/>
        </p:nvSpPr>
        <p:spPr>
          <a:xfrm rot="20764800">
            <a:off x="3576600" y="5037120"/>
            <a:ext cx="106560" cy="390600"/>
          </a:xfrm>
          <a:custGeom>
            <a:avLst/>
            <a:gdLst>
              <a:gd name="textAreaLeft" fmla="*/ 0 w 106560"/>
              <a:gd name="textAreaRight" fmla="*/ 106920 w 10656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01" h="1477">
                <a:moveTo>
                  <a:pt x="401" y="0"/>
                </a:moveTo>
                <a:lnTo>
                  <a:pt x="306" y="145"/>
                </a:lnTo>
                <a:lnTo>
                  <a:pt x="222" y="297"/>
                </a:lnTo>
                <a:lnTo>
                  <a:pt x="151" y="455"/>
                </a:lnTo>
                <a:lnTo>
                  <a:pt x="94" y="619"/>
                </a:lnTo>
                <a:lnTo>
                  <a:pt x="49" y="786"/>
                </a:lnTo>
                <a:lnTo>
                  <a:pt x="19" y="958"/>
                </a:lnTo>
                <a:lnTo>
                  <a:pt x="3" y="1131"/>
                </a:lnTo>
                <a:lnTo>
                  <a:pt x="0" y="1304"/>
                </a:lnTo>
                <a:lnTo>
                  <a:pt x="11" y="1477"/>
                </a:lnTo>
              </a:path>
            </a:pathLst>
          </a:custGeom>
          <a:noFill/>
          <a:ln w="57240">
            <a:solidFill>
              <a:srgbClr val="f7fd0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Text Box 400"/>
          <p:cNvSpPr/>
          <p:nvPr/>
        </p:nvSpPr>
        <p:spPr>
          <a:xfrm>
            <a:off x="3338640" y="533412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Freeform 564"/>
          <p:cNvSpPr/>
          <p:nvPr/>
        </p:nvSpPr>
        <p:spPr>
          <a:xfrm>
            <a:off x="557280" y="3930480"/>
            <a:ext cx="2031840" cy="203364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7679" h="7686">
                <a:moveTo>
                  <a:pt x="7679" y="3842"/>
                </a:moveTo>
                <a:lnTo>
                  <a:pt x="7672" y="3610"/>
                </a:lnTo>
                <a:lnTo>
                  <a:pt x="7651" y="3379"/>
                </a:lnTo>
                <a:lnTo>
                  <a:pt x="7616" y="3150"/>
                </a:lnTo>
                <a:lnTo>
                  <a:pt x="7567" y="2923"/>
                </a:lnTo>
                <a:lnTo>
                  <a:pt x="7506" y="2699"/>
                </a:lnTo>
                <a:lnTo>
                  <a:pt x="7430" y="2479"/>
                </a:lnTo>
                <a:lnTo>
                  <a:pt x="7341" y="2266"/>
                </a:lnTo>
                <a:lnTo>
                  <a:pt x="7239" y="2056"/>
                </a:lnTo>
                <a:lnTo>
                  <a:pt x="7126" y="1854"/>
                </a:lnTo>
                <a:lnTo>
                  <a:pt x="7000" y="1659"/>
                </a:lnTo>
                <a:lnTo>
                  <a:pt x="6862" y="1473"/>
                </a:lnTo>
                <a:lnTo>
                  <a:pt x="6714" y="1294"/>
                </a:lnTo>
                <a:lnTo>
                  <a:pt x="6555" y="1125"/>
                </a:lnTo>
                <a:lnTo>
                  <a:pt x="6386" y="965"/>
                </a:lnTo>
                <a:lnTo>
                  <a:pt x="6208" y="817"/>
                </a:lnTo>
                <a:lnTo>
                  <a:pt x="6021" y="679"/>
                </a:lnTo>
                <a:lnTo>
                  <a:pt x="5827" y="553"/>
                </a:lnTo>
                <a:lnTo>
                  <a:pt x="5624" y="439"/>
                </a:lnTo>
                <a:lnTo>
                  <a:pt x="5416" y="337"/>
                </a:lnTo>
                <a:lnTo>
                  <a:pt x="5201" y="250"/>
                </a:lnTo>
                <a:lnTo>
                  <a:pt x="4982" y="173"/>
                </a:lnTo>
                <a:lnTo>
                  <a:pt x="4758" y="111"/>
                </a:lnTo>
                <a:lnTo>
                  <a:pt x="4532" y="62"/>
                </a:lnTo>
                <a:lnTo>
                  <a:pt x="4303" y="27"/>
                </a:lnTo>
                <a:lnTo>
                  <a:pt x="4071" y="6"/>
                </a:lnTo>
                <a:lnTo>
                  <a:pt x="3839" y="0"/>
                </a:lnTo>
                <a:lnTo>
                  <a:pt x="3608" y="6"/>
                </a:lnTo>
                <a:lnTo>
                  <a:pt x="3376" y="27"/>
                </a:lnTo>
                <a:lnTo>
                  <a:pt x="3148" y="62"/>
                </a:lnTo>
                <a:lnTo>
                  <a:pt x="2921" y="111"/>
                </a:lnTo>
                <a:lnTo>
                  <a:pt x="2698" y="173"/>
                </a:lnTo>
                <a:lnTo>
                  <a:pt x="2479" y="250"/>
                </a:lnTo>
                <a:lnTo>
                  <a:pt x="2264" y="337"/>
                </a:lnTo>
                <a:lnTo>
                  <a:pt x="2055" y="439"/>
                </a:lnTo>
                <a:lnTo>
                  <a:pt x="1853" y="553"/>
                </a:lnTo>
                <a:lnTo>
                  <a:pt x="1658" y="679"/>
                </a:lnTo>
                <a:lnTo>
                  <a:pt x="1472" y="817"/>
                </a:lnTo>
                <a:lnTo>
                  <a:pt x="1294" y="965"/>
                </a:lnTo>
                <a:lnTo>
                  <a:pt x="1124" y="1125"/>
                </a:lnTo>
                <a:lnTo>
                  <a:pt x="965" y="1294"/>
                </a:lnTo>
                <a:lnTo>
                  <a:pt x="817" y="1473"/>
                </a:lnTo>
                <a:lnTo>
                  <a:pt x="680" y="1659"/>
                </a:lnTo>
                <a:lnTo>
                  <a:pt x="554" y="1854"/>
                </a:lnTo>
                <a:lnTo>
                  <a:pt x="440" y="2056"/>
                </a:lnTo>
                <a:lnTo>
                  <a:pt x="339" y="2266"/>
                </a:lnTo>
                <a:lnTo>
                  <a:pt x="250" y="2479"/>
                </a:lnTo>
                <a:lnTo>
                  <a:pt x="173" y="2699"/>
                </a:lnTo>
                <a:lnTo>
                  <a:pt x="112" y="2923"/>
                </a:lnTo>
                <a:lnTo>
                  <a:pt x="63" y="3150"/>
                </a:lnTo>
                <a:lnTo>
                  <a:pt x="28" y="3379"/>
                </a:lnTo>
                <a:lnTo>
                  <a:pt x="7" y="3610"/>
                </a:lnTo>
                <a:lnTo>
                  <a:pt x="0" y="3842"/>
                </a:lnTo>
                <a:lnTo>
                  <a:pt x="7" y="4074"/>
                </a:lnTo>
                <a:lnTo>
                  <a:pt x="28" y="4306"/>
                </a:lnTo>
                <a:lnTo>
                  <a:pt x="63" y="4535"/>
                </a:lnTo>
                <a:lnTo>
                  <a:pt x="112" y="4762"/>
                </a:lnTo>
                <a:lnTo>
                  <a:pt x="173" y="4986"/>
                </a:lnTo>
                <a:lnTo>
                  <a:pt x="250" y="5205"/>
                </a:lnTo>
                <a:lnTo>
                  <a:pt x="339" y="5420"/>
                </a:lnTo>
                <a:lnTo>
                  <a:pt x="440" y="5628"/>
                </a:lnTo>
                <a:lnTo>
                  <a:pt x="554" y="5831"/>
                </a:lnTo>
                <a:lnTo>
                  <a:pt x="680" y="6025"/>
                </a:lnTo>
                <a:lnTo>
                  <a:pt x="817" y="6212"/>
                </a:lnTo>
                <a:lnTo>
                  <a:pt x="965" y="6391"/>
                </a:lnTo>
                <a:lnTo>
                  <a:pt x="1124" y="6560"/>
                </a:lnTo>
                <a:lnTo>
                  <a:pt x="1294" y="6719"/>
                </a:lnTo>
                <a:lnTo>
                  <a:pt x="1472" y="6867"/>
                </a:lnTo>
                <a:lnTo>
                  <a:pt x="1658" y="7005"/>
                </a:lnTo>
                <a:lnTo>
                  <a:pt x="1853" y="7131"/>
                </a:lnTo>
                <a:lnTo>
                  <a:pt x="2055" y="7245"/>
                </a:lnTo>
                <a:lnTo>
                  <a:pt x="2264" y="7347"/>
                </a:lnTo>
                <a:lnTo>
                  <a:pt x="2479" y="7436"/>
                </a:lnTo>
                <a:lnTo>
                  <a:pt x="2698" y="7511"/>
                </a:lnTo>
                <a:lnTo>
                  <a:pt x="2921" y="7573"/>
                </a:lnTo>
                <a:lnTo>
                  <a:pt x="3148" y="7622"/>
                </a:lnTo>
                <a:lnTo>
                  <a:pt x="3376" y="7657"/>
                </a:lnTo>
                <a:lnTo>
                  <a:pt x="3608" y="7678"/>
                </a:lnTo>
                <a:lnTo>
                  <a:pt x="3839" y="7686"/>
                </a:lnTo>
                <a:lnTo>
                  <a:pt x="4071" y="7678"/>
                </a:lnTo>
                <a:lnTo>
                  <a:pt x="4303" y="7657"/>
                </a:lnTo>
                <a:lnTo>
                  <a:pt x="4532" y="7622"/>
                </a:lnTo>
                <a:lnTo>
                  <a:pt x="4758" y="7573"/>
                </a:lnTo>
                <a:lnTo>
                  <a:pt x="4982" y="7511"/>
                </a:lnTo>
                <a:lnTo>
                  <a:pt x="5201" y="7436"/>
                </a:lnTo>
                <a:lnTo>
                  <a:pt x="5416" y="7347"/>
                </a:lnTo>
                <a:lnTo>
                  <a:pt x="5624" y="7245"/>
                </a:lnTo>
                <a:lnTo>
                  <a:pt x="5827" y="7131"/>
                </a:lnTo>
                <a:lnTo>
                  <a:pt x="6021" y="7005"/>
                </a:lnTo>
                <a:lnTo>
                  <a:pt x="6208" y="6867"/>
                </a:lnTo>
                <a:lnTo>
                  <a:pt x="6386" y="6719"/>
                </a:lnTo>
                <a:lnTo>
                  <a:pt x="6555" y="6560"/>
                </a:lnTo>
                <a:lnTo>
                  <a:pt x="6714" y="6391"/>
                </a:lnTo>
                <a:lnTo>
                  <a:pt x="6862" y="6212"/>
                </a:lnTo>
                <a:lnTo>
                  <a:pt x="7000" y="6025"/>
                </a:lnTo>
                <a:lnTo>
                  <a:pt x="7126" y="5831"/>
                </a:lnTo>
                <a:lnTo>
                  <a:pt x="7239" y="5628"/>
                </a:lnTo>
                <a:lnTo>
                  <a:pt x="7341" y="5420"/>
                </a:lnTo>
                <a:lnTo>
                  <a:pt x="7430" y="5205"/>
                </a:lnTo>
                <a:lnTo>
                  <a:pt x="7506" y="4986"/>
                </a:lnTo>
                <a:lnTo>
                  <a:pt x="7567" y="4762"/>
                </a:lnTo>
                <a:lnTo>
                  <a:pt x="7616" y="4535"/>
                </a:lnTo>
                <a:lnTo>
                  <a:pt x="7651" y="4306"/>
                </a:lnTo>
                <a:lnTo>
                  <a:pt x="7672" y="4074"/>
                </a:lnTo>
                <a:lnTo>
                  <a:pt x="7679" y="3842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Freeform 158"/>
          <p:cNvSpPr/>
          <p:nvPr/>
        </p:nvSpPr>
        <p:spPr>
          <a:xfrm>
            <a:off x="6591240" y="3946680"/>
            <a:ext cx="2032200" cy="2033280"/>
          </a:xfrm>
          <a:custGeom>
            <a:avLst/>
            <a:gdLst>
              <a:gd name="textAreaLeft" fmla="*/ 0 w 2032200"/>
              <a:gd name="textAreaRight" fmla="*/ 2032560 w 2032200"/>
              <a:gd name="textAreaTop" fmla="*/ 0 h 2033280"/>
              <a:gd name="textAreaBottom" fmla="*/ 2033640 h 2033280"/>
            </a:gdLst>
            <a:ahLst/>
            <a:rect l="textAreaLeft" t="textAreaTop" r="textAreaRight" b="textAreaBottom"/>
            <a:pathLst>
              <a:path w="7679" h="7686">
                <a:moveTo>
                  <a:pt x="7679" y="3843"/>
                </a:moveTo>
                <a:lnTo>
                  <a:pt x="7672" y="3611"/>
                </a:lnTo>
                <a:lnTo>
                  <a:pt x="7651" y="3380"/>
                </a:lnTo>
                <a:lnTo>
                  <a:pt x="7616" y="3150"/>
                </a:lnTo>
                <a:lnTo>
                  <a:pt x="7567" y="2924"/>
                </a:lnTo>
                <a:lnTo>
                  <a:pt x="7506" y="2699"/>
                </a:lnTo>
                <a:lnTo>
                  <a:pt x="7429" y="2480"/>
                </a:lnTo>
                <a:lnTo>
                  <a:pt x="7340" y="2266"/>
                </a:lnTo>
                <a:lnTo>
                  <a:pt x="7239" y="2057"/>
                </a:lnTo>
                <a:lnTo>
                  <a:pt x="7125" y="1855"/>
                </a:lnTo>
                <a:lnTo>
                  <a:pt x="6999" y="1659"/>
                </a:lnTo>
                <a:lnTo>
                  <a:pt x="6862" y="1473"/>
                </a:lnTo>
                <a:lnTo>
                  <a:pt x="6714" y="1294"/>
                </a:lnTo>
                <a:lnTo>
                  <a:pt x="6555" y="1126"/>
                </a:lnTo>
                <a:lnTo>
                  <a:pt x="6385" y="967"/>
                </a:lnTo>
                <a:lnTo>
                  <a:pt x="6207" y="818"/>
                </a:lnTo>
                <a:lnTo>
                  <a:pt x="6020" y="680"/>
                </a:lnTo>
                <a:lnTo>
                  <a:pt x="5826" y="554"/>
                </a:lnTo>
                <a:lnTo>
                  <a:pt x="5624" y="441"/>
                </a:lnTo>
                <a:lnTo>
                  <a:pt x="5415" y="339"/>
                </a:lnTo>
                <a:lnTo>
                  <a:pt x="5201" y="250"/>
                </a:lnTo>
                <a:lnTo>
                  <a:pt x="4981" y="174"/>
                </a:lnTo>
                <a:lnTo>
                  <a:pt x="4758" y="111"/>
                </a:lnTo>
                <a:lnTo>
                  <a:pt x="4531" y="63"/>
                </a:lnTo>
                <a:lnTo>
                  <a:pt x="4303" y="28"/>
                </a:lnTo>
                <a:lnTo>
                  <a:pt x="4071" y="7"/>
                </a:lnTo>
                <a:lnTo>
                  <a:pt x="3839" y="0"/>
                </a:lnTo>
                <a:lnTo>
                  <a:pt x="3608" y="7"/>
                </a:lnTo>
                <a:lnTo>
                  <a:pt x="3376" y="28"/>
                </a:lnTo>
                <a:lnTo>
                  <a:pt x="3147" y="63"/>
                </a:lnTo>
                <a:lnTo>
                  <a:pt x="2921" y="111"/>
                </a:lnTo>
                <a:lnTo>
                  <a:pt x="2697" y="174"/>
                </a:lnTo>
                <a:lnTo>
                  <a:pt x="2478" y="250"/>
                </a:lnTo>
                <a:lnTo>
                  <a:pt x="2263" y="339"/>
                </a:lnTo>
                <a:lnTo>
                  <a:pt x="2055" y="441"/>
                </a:lnTo>
                <a:lnTo>
                  <a:pt x="1853" y="554"/>
                </a:lnTo>
                <a:lnTo>
                  <a:pt x="1658" y="680"/>
                </a:lnTo>
                <a:lnTo>
                  <a:pt x="1471" y="818"/>
                </a:lnTo>
                <a:lnTo>
                  <a:pt x="1293" y="967"/>
                </a:lnTo>
                <a:lnTo>
                  <a:pt x="1124" y="1126"/>
                </a:lnTo>
                <a:lnTo>
                  <a:pt x="965" y="1294"/>
                </a:lnTo>
                <a:lnTo>
                  <a:pt x="817" y="1473"/>
                </a:lnTo>
                <a:lnTo>
                  <a:pt x="679" y="1659"/>
                </a:lnTo>
                <a:lnTo>
                  <a:pt x="553" y="1855"/>
                </a:lnTo>
                <a:lnTo>
                  <a:pt x="439" y="2057"/>
                </a:lnTo>
                <a:lnTo>
                  <a:pt x="338" y="2266"/>
                </a:lnTo>
                <a:lnTo>
                  <a:pt x="249" y="2480"/>
                </a:lnTo>
                <a:lnTo>
                  <a:pt x="173" y="2699"/>
                </a:lnTo>
                <a:lnTo>
                  <a:pt x="111" y="2924"/>
                </a:lnTo>
                <a:lnTo>
                  <a:pt x="63" y="3150"/>
                </a:lnTo>
                <a:lnTo>
                  <a:pt x="28" y="3380"/>
                </a:lnTo>
                <a:lnTo>
                  <a:pt x="7" y="3611"/>
                </a:lnTo>
                <a:lnTo>
                  <a:pt x="0" y="3843"/>
                </a:lnTo>
                <a:lnTo>
                  <a:pt x="7" y="4075"/>
                </a:lnTo>
                <a:lnTo>
                  <a:pt x="28" y="4306"/>
                </a:lnTo>
                <a:lnTo>
                  <a:pt x="63" y="4535"/>
                </a:lnTo>
                <a:lnTo>
                  <a:pt x="111" y="4763"/>
                </a:lnTo>
                <a:lnTo>
                  <a:pt x="173" y="4986"/>
                </a:lnTo>
                <a:lnTo>
                  <a:pt x="249" y="5205"/>
                </a:lnTo>
                <a:lnTo>
                  <a:pt x="338" y="5420"/>
                </a:lnTo>
                <a:lnTo>
                  <a:pt x="439" y="5629"/>
                </a:lnTo>
                <a:lnTo>
                  <a:pt x="553" y="5831"/>
                </a:lnTo>
                <a:lnTo>
                  <a:pt x="679" y="6026"/>
                </a:lnTo>
                <a:lnTo>
                  <a:pt x="817" y="6213"/>
                </a:lnTo>
                <a:lnTo>
                  <a:pt x="965" y="6391"/>
                </a:lnTo>
                <a:lnTo>
                  <a:pt x="1124" y="6561"/>
                </a:lnTo>
                <a:lnTo>
                  <a:pt x="1293" y="6719"/>
                </a:lnTo>
                <a:lnTo>
                  <a:pt x="1471" y="6868"/>
                </a:lnTo>
                <a:lnTo>
                  <a:pt x="1658" y="7005"/>
                </a:lnTo>
                <a:lnTo>
                  <a:pt x="1853" y="7131"/>
                </a:lnTo>
                <a:lnTo>
                  <a:pt x="2055" y="7246"/>
                </a:lnTo>
                <a:lnTo>
                  <a:pt x="2263" y="7347"/>
                </a:lnTo>
                <a:lnTo>
                  <a:pt x="2478" y="7436"/>
                </a:lnTo>
                <a:lnTo>
                  <a:pt x="2697" y="7511"/>
                </a:lnTo>
                <a:lnTo>
                  <a:pt x="2921" y="7574"/>
                </a:lnTo>
                <a:lnTo>
                  <a:pt x="3147" y="7623"/>
                </a:lnTo>
                <a:lnTo>
                  <a:pt x="3376" y="7658"/>
                </a:lnTo>
                <a:lnTo>
                  <a:pt x="3608" y="7679"/>
                </a:lnTo>
                <a:lnTo>
                  <a:pt x="3839" y="7686"/>
                </a:lnTo>
                <a:lnTo>
                  <a:pt x="4071" y="7679"/>
                </a:lnTo>
                <a:lnTo>
                  <a:pt x="4303" y="7658"/>
                </a:lnTo>
                <a:lnTo>
                  <a:pt x="4531" y="7623"/>
                </a:lnTo>
                <a:lnTo>
                  <a:pt x="4758" y="7574"/>
                </a:lnTo>
                <a:lnTo>
                  <a:pt x="4981" y="7511"/>
                </a:lnTo>
                <a:lnTo>
                  <a:pt x="5201" y="7436"/>
                </a:lnTo>
                <a:lnTo>
                  <a:pt x="5415" y="7347"/>
                </a:lnTo>
                <a:lnTo>
                  <a:pt x="5624" y="7246"/>
                </a:lnTo>
                <a:lnTo>
                  <a:pt x="5826" y="7131"/>
                </a:lnTo>
                <a:lnTo>
                  <a:pt x="6020" y="7005"/>
                </a:lnTo>
                <a:lnTo>
                  <a:pt x="6207" y="6868"/>
                </a:lnTo>
                <a:lnTo>
                  <a:pt x="6385" y="6719"/>
                </a:lnTo>
                <a:lnTo>
                  <a:pt x="6555" y="6561"/>
                </a:lnTo>
                <a:lnTo>
                  <a:pt x="6714" y="6391"/>
                </a:lnTo>
                <a:lnTo>
                  <a:pt x="6862" y="6213"/>
                </a:lnTo>
                <a:lnTo>
                  <a:pt x="6999" y="6026"/>
                </a:lnTo>
                <a:lnTo>
                  <a:pt x="7125" y="5831"/>
                </a:lnTo>
                <a:lnTo>
                  <a:pt x="7239" y="5629"/>
                </a:lnTo>
                <a:lnTo>
                  <a:pt x="7340" y="5420"/>
                </a:lnTo>
                <a:lnTo>
                  <a:pt x="7429" y="5205"/>
                </a:lnTo>
                <a:lnTo>
                  <a:pt x="7506" y="4986"/>
                </a:lnTo>
                <a:lnTo>
                  <a:pt x="7567" y="4763"/>
                </a:lnTo>
                <a:lnTo>
                  <a:pt x="7616" y="4535"/>
                </a:lnTo>
                <a:lnTo>
                  <a:pt x="7651" y="4306"/>
                </a:lnTo>
                <a:lnTo>
                  <a:pt x="7672" y="4075"/>
                </a:lnTo>
                <a:lnTo>
                  <a:pt x="7679" y="3843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Freeform 259"/>
          <p:cNvSpPr/>
          <p:nvPr/>
        </p:nvSpPr>
        <p:spPr>
          <a:xfrm>
            <a:off x="3538440" y="3952800"/>
            <a:ext cx="2032200" cy="2033640"/>
          </a:xfrm>
          <a:custGeom>
            <a:avLst/>
            <a:gdLst>
              <a:gd name="textAreaLeft" fmla="*/ 0 w 2032200"/>
              <a:gd name="textAreaRight" fmla="*/ 2032560 w 203220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7679" h="7686">
                <a:moveTo>
                  <a:pt x="7679" y="3843"/>
                </a:moveTo>
                <a:lnTo>
                  <a:pt x="7672" y="3611"/>
                </a:lnTo>
                <a:lnTo>
                  <a:pt x="7651" y="3380"/>
                </a:lnTo>
                <a:lnTo>
                  <a:pt x="7616" y="3150"/>
                </a:lnTo>
                <a:lnTo>
                  <a:pt x="7567" y="2924"/>
                </a:lnTo>
                <a:lnTo>
                  <a:pt x="7506" y="2699"/>
                </a:lnTo>
                <a:lnTo>
                  <a:pt x="7430" y="2480"/>
                </a:lnTo>
                <a:lnTo>
                  <a:pt x="7341" y="2266"/>
                </a:lnTo>
                <a:lnTo>
                  <a:pt x="7239" y="2057"/>
                </a:lnTo>
                <a:lnTo>
                  <a:pt x="7126" y="1855"/>
                </a:lnTo>
                <a:lnTo>
                  <a:pt x="7000" y="1659"/>
                </a:lnTo>
                <a:lnTo>
                  <a:pt x="6862" y="1473"/>
                </a:lnTo>
                <a:lnTo>
                  <a:pt x="6714" y="1294"/>
                </a:lnTo>
                <a:lnTo>
                  <a:pt x="6555" y="1126"/>
                </a:lnTo>
                <a:lnTo>
                  <a:pt x="6386" y="967"/>
                </a:lnTo>
                <a:lnTo>
                  <a:pt x="6208" y="818"/>
                </a:lnTo>
                <a:lnTo>
                  <a:pt x="6021" y="680"/>
                </a:lnTo>
                <a:lnTo>
                  <a:pt x="5827" y="554"/>
                </a:lnTo>
                <a:lnTo>
                  <a:pt x="5624" y="441"/>
                </a:lnTo>
                <a:lnTo>
                  <a:pt x="5416" y="339"/>
                </a:lnTo>
                <a:lnTo>
                  <a:pt x="5201" y="250"/>
                </a:lnTo>
                <a:lnTo>
                  <a:pt x="4982" y="174"/>
                </a:lnTo>
                <a:lnTo>
                  <a:pt x="4758" y="111"/>
                </a:lnTo>
                <a:lnTo>
                  <a:pt x="4532" y="63"/>
                </a:lnTo>
                <a:lnTo>
                  <a:pt x="4303" y="28"/>
                </a:lnTo>
                <a:lnTo>
                  <a:pt x="4071" y="7"/>
                </a:lnTo>
                <a:lnTo>
                  <a:pt x="3839" y="0"/>
                </a:lnTo>
                <a:lnTo>
                  <a:pt x="3608" y="7"/>
                </a:lnTo>
                <a:lnTo>
                  <a:pt x="3376" y="28"/>
                </a:lnTo>
                <a:lnTo>
                  <a:pt x="3148" y="63"/>
                </a:lnTo>
                <a:lnTo>
                  <a:pt x="2921" y="111"/>
                </a:lnTo>
                <a:lnTo>
                  <a:pt x="2698" y="174"/>
                </a:lnTo>
                <a:lnTo>
                  <a:pt x="2479" y="250"/>
                </a:lnTo>
                <a:lnTo>
                  <a:pt x="2264" y="339"/>
                </a:lnTo>
                <a:lnTo>
                  <a:pt x="2055" y="441"/>
                </a:lnTo>
                <a:lnTo>
                  <a:pt x="1853" y="554"/>
                </a:lnTo>
                <a:lnTo>
                  <a:pt x="1658" y="680"/>
                </a:lnTo>
                <a:lnTo>
                  <a:pt x="1472" y="818"/>
                </a:lnTo>
                <a:lnTo>
                  <a:pt x="1294" y="967"/>
                </a:lnTo>
                <a:lnTo>
                  <a:pt x="1124" y="1126"/>
                </a:lnTo>
                <a:lnTo>
                  <a:pt x="965" y="1294"/>
                </a:lnTo>
                <a:lnTo>
                  <a:pt x="817" y="1473"/>
                </a:lnTo>
                <a:lnTo>
                  <a:pt x="680" y="1659"/>
                </a:lnTo>
                <a:lnTo>
                  <a:pt x="554" y="1855"/>
                </a:lnTo>
                <a:lnTo>
                  <a:pt x="440" y="2057"/>
                </a:lnTo>
                <a:lnTo>
                  <a:pt x="339" y="2266"/>
                </a:lnTo>
                <a:lnTo>
                  <a:pt x="250" y="2480"/>
                </a:lnTo>
                <a:lnTo>
                  <a:pt x="173" y="2699"/>
                </a:lnTo>
                <a:lnTo>
                  <a:pt x="112" y="2924"/>
                </a:lnTo>
                <a:lnTo>
                  <a:pt x="63" y="3150"/>
                </a:lnTo>
                <a:lnTo>
                  <a:pt x="28" y="3380"/>
                </a:lnTo>
                <a:lnTo>
                  <a:pt x="7" y="3611"/>
                </a:lnTo>
                <a:lnTo>
                  <a:pt x="0" y="3843"/>
                </a:lnTo>
                <a:lnTo>
                  <a:pt x="7" y="4075"/>
                </a:lnTo>
                <a:lnTo>
                  <a:pt x="28" y="4306"/>
                </a:lnTo>
                <a:lnTo>
                  <a:pt x="63" y="4535"/>
                </a:lnTo>
                <a:lnTo>
                  <a:pt x="112" y="4763"/>
                </a:lnTo>
                <a:lnTo>
                  <a:pt x="173" y="4986"/>
                </a:lnTo>
                <a:lnTo>
                  <a:pt x="250" y="5205"/>
                </a:lnTo>
                <a:lnTo>
                  <a:pt x="339" y="5420"/>
                </a:lnTo>
                <a:lnTo>
                  <a:pt x="440" y="5629"/>
                </a:lnTo>
                <a:lnTo>
                  <a:pt x="554" y="5831"/>
                </a:lnTo>
                <a:lnTo>
                  <a:pt x="680" y="6026"/>
                </a:lnTo>
                <a:lnTo>
                  <a:pt x="817" y="6213"/>
                </a:lnTo>
                <a:lnTo>
                  <a:pt x="965" y="6391"/>
                </a:lnTo>
                <a:lnTo>
                  <a:pt x="1124" y="6561"/>
                </a:lnTo>
                <a:lnTo>
                  <a:pt x="1294" y="6719"/>
                </a:lnTo>
                <a:lnTo>
                  <a:pt x="1472" y="6868"/>
                </a:lnTo>
                <a:lnTo>
                  <a:pt x="1658" y="7005"/>
                </a:lnTo>
                <a:lnTo>
                  <a:pt x="1853" y="7131"/>
                </a:lnTo>
                <a:lnTo>
                  <a:pt x="2055" y="7246"/>
                </a:lnTo>
                <a:lnTo>
                  <a:pt x="2264" y="7347"/>
                </a:lnTo>
                <a:lnTo>
                  <a:pt x="2479" y="7436"/>
                </a:lnTo>
                <a:lnTo>
                  <a:pt x="2698" y="7511"/>
                </a:lnTo>
                <a:lnTo>
                  <a:pt x="2921" y="7574"/>
                </a:lnTo>
                <a:lnTo>
                  <a:pt x="3148" y="7623"/>
                </a:lnTo>
                <a:lnTo>
                  <a:pt x="3376" y="7658"/>
                </a:lnTo>
                <a:lnTo>
                  <a:pt x="3608" y="7679"/>
                </a:lnTo>
                <a:lnTo>
                  <a:pt x="3839" y="7686"/>
                </a:lnTo>
                <a:lnTo>
                  <a:pt x="4071" y="7679"/>
                </a:lnTo>
                <a:lnTo>
                  <a:pt x="4303" y="7658"/>
                </a:lnTo>
                <a:lnTo>
                  <a:pt x="4532" y="7623"/>
                </a:lnTo>
                <a:lnTo>
                  <a:pt x="4758" y="7574"/>
                </a:lnTo>
                <a:lnTo>
                  <a:pt x="4982" y="7511"/>
                </a:lnTo>
                <a:lnTo>
                  <a:pt x="5201" y="7436"/>
                </a:lnTo>
                <a:lnTo>
                  <a:pt x="5416" y="7347"/>
                </a:lnTo>
                <a:lnTo>
                  <a:pt x="5624" y="7246"/>
                </a:lnTo>
                <a:lnTo>
                  <a:pt x="5827" y="7131"/>
                </a:lnTo>
                <a:lnTo>
                  <a:pt x="6021" y="7005"/>
                </a:lnTo>
                <a:lnTo>
                  <a:pt x="6208" y="6868"/>
                </a:lnTo>
                <a:lnTo>
                  <a:pt x="6386" y="6719"/>
                </a:lnTo>
                <a:lnTo>
                  <a:pt x="6555" y="6561"/>
                </a:lnTo>
                <a:lnTo>
                  <a:pt x="6714" y="6391"/>
                </a:lnTo>
                <a:lnTo>
                  <a:pt x="6862" y="6213"/>
                </a:lnTo>
                <a:lnTo>
                  <a:pt x="7000" y="6026"/>
                </a:lnTo>
                <a:lnTo>
                  <a:pt x="7126" y="5831"/>
                </a:lnTo>
                <a:lnTo>
                  <a:pt x="7239" y="5629"/>
                </a:lnTo>
                <a:lnTo>
                  <a:pt x="7341" y="5420"/>
                </a:lnTo>
                <a:lnTo>
                  <a:pt x="7430" y="5205"/>
                </a:lnTo>
                <a:lnTo>
                  <a:pt x="7506" y="4986"/>
                </a:lnTo>
                <a:lnTo>
                  <a:pt x="7567" y="4763"/>
                </a:lnTo>
                <a:lnTo>
                  <a:pt x="7616" y="4535"/>
                </a:lnTo>
                <a:lnTo>
                  <a:pt x="7651" y="4306"/>
                </a:lnTo>
                <a:lnTo>
                  <a:pt x="7672" y="4075"/>
                </a:lnTo>
                <a:lnTo>
                  <a:pt x="7679" y="3843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9" name="Object 5"/>
          <p:cNvGraphicFramePr/>
          <p:nvPr/>
        </p:nvGraphicFramePr>
        <p:xfrm>
          <a:off x="755640" y="1131840"/>
          <a:ext cx="2303640" cy="11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31840"/>
                    <a:ext cx="2303640" cy="1192320"/>
                  </a:xfrm>
                  <a:prstGeom prst="rect">
                    <a:avLst/>
                  </a:prstGeom>
                  <a:ln w="28440">
                    <a:solidFill>
                      <a:srgbClr val="ff33cc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871" name="Object 6"/>
          <p:cNvGraphicFramePr/>
          <p:nvPr/>
        </p:nvGraphicFramePr>
        <p:xfrm>
          <a:off x="4500720" y="1131840"/>
          <a:ext cx="2303280" cy="11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131840"/>
                    <a:ext cx="2303280" cy="1138320"/>
                  </a:xfrm>
                  <a:prstGeom prst="rect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873" name="Text Box 7"/>
          <p:cNvSpPr/>
          <p:nvPr/>
        </p:nvSpPr>
        <p:spPr>
          <a:xfrm>
            <a:off x="755640" y="2421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隶书"/>
              </a:rPr>
              <a:t>公式的适用范围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Text Box 8"/>
          <p:cNvSpPr/>
          <p:nvPr/>
        </p:nvSpPr>
        <p:spPr>
          <a:xfrm>
            <a:off x="755640" y="28782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材料必须是弹性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Line 18"/>
          <p:cNvSpPr/>
          <p:nvPr/>
        </p:nvSpPr>
        <p:spPr>
          <a:xfrm flipV="1">
            <a:off x="8453520" y="4092480"/>
            <a:ext cx="1440" cy="144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Line 19"/>
          <p:cNvSpPr/>
          <p:nvPr/>
        </p:nvSpPr>
        <p:spPr>
          <a:xfrm flipV="1">
            <a:off x="8283600" y="4092120"/>
            <a:ext cx="144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Line 20"/>
          <p:cNvSpPr/>
          <p:nvPr/>
        </p:nvSpPr>
        <p:spPr>
          <a:xfrm flipH="1">
            <a:off x="8132400" y="4092480"/>
            <a:ext cx="49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Line 21"/>
          <p:cNvSpPr/>
          <p:nvPr/>
        </p:nvSpPr>
        <p:spPr>
          <a:xfrm flipV="1">
            <a:off x="7607160" y="49194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Line 22"/>
          <p:cNvSpPr/>
          <p:nvPr/>
        </p:nvSpPr>
        <p:spPr>
          <a:xfrm flipV="1">
            <a:off x="7607160" y="49086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Line 23"/>
          <p:cNvSpPr/>
          <p:nvPr/>
        </p:nvSpPr>
        <p:spPr>
          <a:xfrm flipV="1">
            <a:off x="7607160" y="48639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Line 24"/>
          <p:cNvSpPr/>
          <p:nvPr/>
        </p:nvSpPr>
        <p:spPr>
          <a:xfrm flipV="1">
            <a:off x="7607160" y="48513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Line 25"/>
          <p:cNvSpPr/>
          <p:nvPr/>
        </p:nvSpPr>
        <p:spPr>
          <a:xfrm flipV="1">
            <a:off x="7607160" y="480672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Line 26"/>
          <p:cNvSpPr/>
          <p:nvPr/>
        </p:nvSpPr>
        <p:spPr>
          <a:xfrm flipV="1">
            <a:off x="7607160" y="47941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Line 27"/>
          <p:cNvSpPr/>
          <p:nvPr/>
        </p:nvSpPr>
        <p:spPr>
          <a:xfrm flipV="1">
            <a:off x="7607160" y="47498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Line 28"/>
          <p:cNvSpPr/>
          <p:nvPr/>
        </p:nvSpPr>
        <p:spPr>
          <a:xfrm flipV="1">
            <a:off x="7607160" y="47368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Line 29"/>
          <p:cNvSpPr/>
          <p:nvPr/>
        </p:nvSpPr>
        <p:spPr>
          <a:xfrm flipV="1">
            <a:off x="7607160" y="469260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Line 30"/>
          <p:cNvSpPr/>
          <p:nvPr/>
        </p:nvSpPr>
        <p:spPr>
          <a:xfrm flipV="1">
            <a:off x="7607160" y="46800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Line 31"/>
          <p:cNvSpPr/>
          <p:nvPr/>
        </p:nvSpPr>
        <p:spPr>
          <a:xfrm flipV="1">
            <a:off x="7607160" y="46353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Line 32"/>
          <p:cNvSpPr/>
          <p:nvPr/>
        </p:nvSpPr>
        <p:spPr>
          <a:xfrm flipV="1">
            <a:off x="7607160" y="46227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Line 33"/>
          <p:cNvSpPr/>
          <p:nvPr/>
        </p:nvSpPr>
        <p:spPr>
          <a:xfrm flipV="1">
            <a:off x="7607160" y="457812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Line 34"/>
          <p:cNvSpPr/>
          <p:nvPr/>
        </p:nvSpPr>
        <p:spPr>
          <a:xfrm flipV="1">
            <a:off x="7607160" y="45655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Line 35"/>
          <p:cNvSpPr/>
          <p:nvPr/>
        </p:nvSpPr>
        <p:spPr>
          <a:xfrm flipV="1">
            <a:off x="7607160" y="45226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Line 36"/>
          <p:cNvSpPr/>
          <p:nvPr/>
        </p:nvSpPr>
        <p:spPr>
          <a:xfrm flipV="1">
            <a:off x="7607160" y="45100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Line 37"/>
          <p:cNvSpPr/>
          <p:nvPr/>
        </p:nvSpPr>
        <p:spPr>
          <a:xfrm flipV="1">
            <a:off x="7607160" y="446544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Line 38"/>
          <p:cNvSpPr/>
          <p:nvPr/>
        </p:nvSpPr>
        <p:spPr>
          <a:xfrm flipV="1">
            <a:off x="7607160" y="44528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Line 39"/>
          <p:cNvSpPr/>
          <p:nvPr/>
        </p:nvSpPr>
        <p:spPr>
          <a:xfrm flipV="1">
            <a:off x="7607160" y="44085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Line 40"/>
          <p:cNvSpPr/>
          <p:nvPr/>
        </p:nvSpPr>
        <p:spPr>
          <a:xfrm flipV="1">
            <a:off x="7607160" y="43956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Line 41"/>
          <p:cNvSpPr/>
          <p:nvPr/>
        </p:nvSpPr>
        <p:spPr>
          <a:xfrm flipV="1">
            <a:off x="7607160" y="43513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Line 42"/>
          <p:cNvSpPr/>
          <p:nvPr/>
        </p:nvSpPr>
        <p:spPr>
          <a:xfrm flipV="1">
            <a:off x="7607160" y="43383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Line 43"/>
          <p:cNvSpPr/>
          <p:nvPr/>
        </p:nvSpPr>
        <p:spPr>
          <a:xfrm flipV="1">
            <a:off x="7607160" y="42940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Line 44"/>
          <p:cNvSpPr/>
          <p:nvPr/>
        </p:nvSpPr>
        <p:spPr>
          <a:xfrm flipV="1">
            <a:off x="7607160" y="4281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Line 45"/>
          <p:cNvSpPr/>
          <p:nvPr/>
        </p:nvSpPr>
        <p:spPr>
          <a:xfrm flipV="1">
            <a:off x="7607160" y="423684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Line 46"/>
          <p:cNvSpPr/>
          <p:nvPr/>
        </p:nvSpPr>
        <p:spPr>
          <a:xfrm flipV="1">
            <a:off x="7607160" y="42242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Line 47"/>
          <p:cNvSpPr/>
          <p:nvPr/>
        </p:nvSpPr>
        <p:spPr>
          <a:xfrm flipV="1">
            <a:off x="7607160" y="41799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Line 48"/>
          <p:cNvSpPr/>
          <p:nvPr/>
        </p:nvSpPr>
        <p:spPr>
          <a:xfrm flipV="1">
            <a:off x="7607160" y="416736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Line 49"/>
          <p:cNvSpPr/>
          <p:nvPr/>
        </p:nvSpPr>
        <p:spPr>
          <a:xfrm flipV="1">
            <a:off x="7607160" y="4124160"/>
            <a:ext cx="18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Line 50"/>
          <p:cNvSpPr/>
          <p:nvPr/>
        </p:nvSpPr>
        <p:spPr>
          <a:xfrm flipV="1">
            <a:off x="7607160" y="41115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Line 51"/>
          <p:cNvSpPr/>
          <p:nvPr/>
        </p:nvSpPr>
        <p:spPr>
          <a:xfrm flipV="1">
            <a:off x="7607160" y="40672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Line 52"/>
          <p:cNvSpPr/>
          <p:nvPr/>
        </p:nvSpPr>
        <p:spPr>
          <a:xfrm flipV="1">
            <a:off x="7607160" y="40543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Line 53"/>
          <p:cNvSpPr/>
          <p:nvPr/>
        </p:nvSpPr>
        <p:spPr>
          <a:xfrm flipV="1">
            <a:off x="7607160" y="40100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Line 54"/>
          <p:cNvSpPr/>
          <p:nvPr/>
        </p:nvSpPr>
        <p:spPr>
          <a:xfrm flipV="1">
            <a:off x="7607160" y="39970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Line 55"/>
          <p:cNvSpPr/>
          <p:nvPr/>
        </p:nvSpPr>
        <p:spPr>
          <a:xfrm flipV="1">
            <a:off x="7607160" y="395280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Line 56"/>
          <p:cNvSpPr/>
          <p:nvPr/>
        </p:nvSpPr>
        <p:spPr>
          <a:xfrm flipV="1">
            <a:off x="7607160" y="39402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Line 57"/>
          <p:cNvSpPr/>
          <p:nvPr/>
        </p:nvSpPr>
        <p:spPr>
          <a:xfrm flipV="1">
            <a:off x="7607160" y="38955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Line 58"/>
          <p:cNvSpPr/>
          <p:nvPr/>
        </p:nvSpPr>
        <p:spPr>
          <a:xfrm flipV="1">
            <a:off x="7607160" y="38829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Line 59"/>
          <p:cNvSpPr/>
          <p:nvPr/>
        </p:nvSpPr>
        <p:spPr>
          <a:xfrm flipV="1">
            <a:off x="7607160" y="38386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Line 60"/>
          <p:cNvSpPr/>
          <p:nvPr/>
        </p:nvSpPr>
        <p:spPr>
          <a:xfrm flipV="1">
            <a:off x="7607160" y="38257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Line 61"/>
          <p:cNvSpPr/>
          <p:nvPr/>
        </p:nvSpPr>
        <p:spPr>
          <a:xfrm flipV="1">
            <a:off x="7607160" y="37814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Line 62"/>
          <p:cNvSpPr/>
          <p:nvPr/>
        </p:nvSpPr>
        <p:spPr>
          <a:xfrm flipV="1">
            <a:off x="7607160" y="376992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Line 63"/>
          <p:cNvSpPr/>
          <p:nvPr/>
        </p:nvSpPr>
        <p:spPr>
          <a:xfrm flipV="1">
            <a:off x="7607160" y="37206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Line 64"/>
          <p:cNvSpPr/>
          <p:nvPr/>
        </p:nvSpPr>
        <p:spPr>
          <a:xfrm>
            <a:off x="7607160" y="49626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Line 65"/>
          <p:cNvSpPr/>
          <p:nvPr/>
        </p:nvSpPr>
        <p:spPr>
          <a:xfrm>
            <a:off x="7607160" y="50133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Line 66"/>
          <p:cNvSpPr/>
          <p:nvPr/>
        </p:nvSpPr>
        <p:spPr>
          <a:xfrm>
            <a:off x="7607160" y="50259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Line 67"/>
          <p:cNvSpPr/>
          <p:nvPr/>
        </p:nvSpPr>
        <p:spPr>
          <a:xfrm>
            <a:off x="7607160" y="50706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68"/>
          <p:cNvSpPr/>
          <p:nvPr/>
        </p:nvSpPr>
        <p:spPr>
          <a:xfrm>
            <a:off x="7607160" y="508320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Line 69"/>
          <p:cNvSpPr/>
          <p:nvPr/>
        </p:nvSpPr>
        <p:spPr>
          <a:xfrm>
            <a:off x="7607160" y="5127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Line 70"/>
          <p:cNvSpPr/>
          <p:nvPr/>
        </p:nvSpPr>
        <p:spPr>
          <a:xfrm>
            <a:off x="7607160" y="514044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Line 71"/>
          <p:cNvSpPr/>
          <p:nvPr/>
        </p:nvSpPr>
        <p:spPr>
          <a:xfrm>
            <a:off x="7607160" y="518472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Line 72"/>
          <p:cNvSpPr/>
          <p:nvPr/>
        </p:nvSpPr>
        <p:spPr>
          <a:xfrm>
            <a:off x="7607160" y="5195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Line 73"/>
          <p:cNvSpPr/>
          <p:nvPr/>
        </p:nvSpPr>
        <p:spPr>
          <a:xfrm>
            <a:off x="7607160" y="52401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Line 74"/>
          <p:cNvSpPr/>
          <p:nvPr/>
        </p:nvSpPr>
        <p:spPr>
          <a:xfrm>
            <a:off x="7607160" y="5253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Line 75"/>
          <p:cNvSpPr/>
          <p:nvPr/>
        </p:nvSpPr>
        <p:spPr>
          <a:xfrm>
            <a:off x="7607160" y="52974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Line 76"/>
          <p:cNvSpPr/>
          <p:nvPr/>
        </p:nvSpPr>
        <p:spPr>
          <a:xfrm>
            <a:off x="7607160" y="531036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Line 77"/>
          <p:cNvSpPr/>
          <p:nvPr/>
        </p:nvSpPr>
        <p:spPr>
          <a:xfrm>
            <a:off x="7607160" y="53546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Line 78"/>
          <p:cNvSpPr/>
          <p:nvPr/>
        </p:nvSpPr>
        <p:spPr>
          <a:xfrm>
            <a:off x="7607160" y="53672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Line 79"/>
          <p:cNvSpPr/>
          <p:nvPr/>
        </p:nvSpPr>
        <p:spPr>
          <a:xfrm>
            <a:off x="7607160" y="54118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Line 80"/>
          <p:cNvSpPr/>
          <p:nvPr/>
        </p:nvSpPr>
        <p:spPr>
          <a:xfrm>
            <a:off x="7607160" y="54244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Line 81"/>
          <p:cNvSpPr/>
          <p:nvPr/>
        </p:nvSpPr>
        <p:spPr>
          <a:xfrm>
            <a:off x="7607160" y="54687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Line 82"/>
          <p:cNvSpPr/>
          <p:nvPr/>
        </p:nvSpPr>
        <p:spPr>
          <a:xfrm>
            <a:off x="7607160" y="5481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Line 83"/>
          <p:cNvSpPr/>
          <p:nvPr/>
        </p:nvSpPr>
        <p:spPr>
          <a:xfrm>
            <a:off x="7607160" y="55260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Line 84"/>
          <p:cNvSpPr/>
          <p:nvPr/>
        </p:nvSpPr>
        <p:spPr>
          <a:xfrm>
            <a:off x="7607160" y="553896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Line 85"/>
          <p:cNvSpPr/>
          <p:nvPr/>
        </p:nvSpPr>
        <p:spPr>
          <a:xfrm>
            <a:off x="7607160" y="558180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Line 86"/>
          <p:cNvSpPr/>
          <p:nvPr/>
        </p:nvSpPr>
        <p:spPr>
          <a:xfrm>
            <a:off x="7607160" y="559440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Line 87"/>
          <p:cNvSpPr/>
          <p:nvPr/>
        </p:nvSpPr>
        <p:spPr>
          <a:xfrm>
            <a:off x="7607160" y="56386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Line 88"/>
          <p:cNvSpPr/>
          <p:nvPr/>
        </p:nvSpPr>
        <p:spPr>
          <a:xfrm>
            <a:off x="7607160" y="565164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Line 89"/>
          <p:cNvSpPr/>
          <p:nvPr/>
        </p:nvSpPr>
        <p:spPr>
          <a:xfrm>
            <a:off x="7607160" y="56959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Line 90"/>
          <p:cNvSpPr/>
          <p:nvPr/>
        </p:nvSpPr>
        <p:spPr>
          <a:xfrm>
            <a:off x="7607160" y="57085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Line 91"/>
          <p:cNvSpPr/>
          <p:nvPr/>
        </p:nvSpPr>
        <p:spPr>
          <a:xfrm>
            <a:off x="7607160" y="57531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Line 92"/>
          <p:cNvSpPr/>
          <p:nvPr/>
        </p:nvSpPr>
        <p:spPr>
          <a:xfrm>
            <a:off x="7607160" y="57657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Line 93"/>
          <p:cNvSpPr/>
          <p:nvPr/>
        </p:nvSpPr>
        <p:spPr>
          <a:xfrm>
            <a:off x="7607160" y="58104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Line 94"/>
          <p:cNvSpPr/>
          <p:nvPr/>
        </p:nvSpPr>
        <p:spPr>
          <a:xfrm>
            <a:off x="7607160" y="582300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Line 95"/>
          <p:cNvSpPr/>
          <p:nvPr/>
        </p:nvSpPr>
        <p:spPr>
          <a:xfrm>
            <a:off x="7607160" y="58672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Line 96"/>
          <p:cNvSpPr/>
          <p:nvPr/>
        </p:nvSpPr>
        <p:spPr>
          <a:xfrm>
            <a:off x="7607160" y="588024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Line 97"/>
          <p:cNvSpPr/>
          <p:nvPr/>
        </p:nvSpPr>
        <p:spPr>
          <a:xfrm>
            <a:off x="7607160" y="59245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Line 98"/>
          <p:cNvSpPr/>
          <p:nvPr/>
        </p:nvSpPr>
        <p:spPr>
          <a:xfrm>
            <a:off x="7607160" y="5937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Line 99"/>
          <p:cNvSpPr/>
          <p:nvPr/>
        </p:nvSpPr>
        <p:spPr>
          <a:xfrm>
            <a:off x="7607160" y="59799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Line 100"/>
          <p:cNvSpPr/>
          <p:nvPr/>
        </p:nvSpPr>
        <p:spPr>
          <a:xfrm>
            <a:off x="7607160" y="5994360"/>
            <a:ext cx="18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Line 101"/>
          <p:cNvSpPr/>
          <p:nvPr/>
        </p:nvSpPr>
        <p:spPr>
          <a:xfrm>
            <a:off x="7607160" y="60372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Line 102"/>
          <p:cNvSpPr/>
          <p:nvPr/>
        </p:nvSpPr>
        <p:spPr>
          <a:xfrm>
            <a:off x="7607160" y="604980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Line 103"/>
          <p:cNvSpPr/>
          <p:nvPr/>
        </p:nvSpPr>
        <p:spPr>
          <a:xfrm>
            <a:off x="7607160" y="60944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Line 104"/>
          <p:cNvSpPr/>
          <p:nvPr/>
        </p:nvSpPr>
        <p:spPr>
          <a:xfrm>
            <a:off x="7607160" y="61070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Line 105"/>
          <p:cNvSpPr/>
          <p:nvPr/>
        </p:nvSpPr>
        <p:spPr>
          <a:xfrm>
            <a:off x="7607160" y="61516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Line 106"/>
          <p:cNvSpPr/>
          <p:nvPr/>
        </p:nvSpPr>
        <p:spPr>
          <a:xfrm>
            <a:off x="7607160" y="61642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Line 107"/>
          <p:cNvSpPr/>
          <p:nvPr/>
        </p:nvSpPr>
        <p:spPr>
          <a:xfrm>
            <a:off x="7607160" y="62085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Line 108"/>
          <p:cNvSpPr/>
          <p:nvPr/>
        </p:nvSpPr>
        <p:spPr>
          <a:xfrm>
            <a:off x="7607160" y="62215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Line 109"/>
          <p:cNvSpPr/>
          <p:nvPr/>
        </p:nvSpPr>
        <p:spPr>
          <a:xfrm>
            <a:off x="7607160" y="62658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Line 110"/>
          <p:cNvSpPr/>
          <p:nvPr/>
        </p:nvSpPr>
        <p:spPr>
          <a:xfrm>
            <a:off x="7607160" y="627840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Line 111"/>
          <p:cNvSpPr/>
          <p:nvPr/>
        </p:nvSpPr>
        <p:spPr>
          <a:xfrm flipH="1">
            <a:off x="7562520" y="496260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Line 112"/>
          <p:cNvSpPr/>
          <p:nvPr/>
        </p:nvSpPr>
        <p:spPr>
          <a:xfrm flipH="1">
            <a:off x="7549920" y="496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Line 113"/>
          <p:cNvSpPr/>
          <p:nvPr/>
        </p:nvSpPr>
        <p:spPr>
          <a:xfrm flipH="1">
            <a:off x="750564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Line 114"/>
          <p:cNvSpPr/>
          <p:nvPr/>
        </p:nvSpPr>
        <p:spPr>
          <a:xfrm flipH="1">
            <a:off x="749304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Line 115"/>
          <p:cNvSpPr/>
          <p:nvPr/>
        </p:nvSpPr>
        <p:spPr>
          <a:xfrm flipH="1">
            <a:off x="744840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Line 116"/>
          <p:cNvSpPr/>
          <p:nvPr/>
        </p:nvSpPr>
        <p:spPr>
          <a:xfrm flipH="1">
            <a:off x="743580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Line 117"/>
          <p:cNvSpPr/>
          <p:nvPr/>
        </p:nvSpPr>
        <p:spPr>
          <a:xfrm flipH="1">
            <a:off x="739152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Line 118"/>
          <p:cNvSpPr/>
          <p:nvPr/>
        </p:nvSpPr>
        <p:spPr>
          <a:xfrm flipH="1">
            <a:off x="737856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Line 119"/>
          <p:cNvSpPr/>
          <p:nvPr/>
        </p:nvSpPr>
        <p:spPr>
          <a:xfrm flipH="1">
            <a:off x="733428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Line 120"/>
          <p:cNvSpPr/>
          <p:nvPr/>
        </p:nvSpPr>
        <p:spPr>
          <a:xfrm flipH="1">
            <a:off x="732312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Line 121"/>
          <p:cNvSpPr/>
          <p:nvPr/>
        </p:nvSpPr>
        <p:spPr>
          <a:xfrm flipH="1">
            <a:off x="7278480" y="49626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Line 122"/>
          <p:cNvSpPr/>
          <p:nvPr/>
        </p:nvSpPr>
        <p:spPr>
          <a:xfrm flipH="1">
            <a:off x="726588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Line 123"/>
          <p:cNvSpPr/>
          <p:nvPr/>
        </p:nvSpPr>
        <p:spPr>
          <a:xfrm flipH="1">
            <a:off x="722160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Line 124"/>
          <p:cNvSpPr/>
          <p:nvPr/>
        </p:nvSpPr>
        <p:spPr>
          <a:xfrm flipH="1">
            <a:off x="7208640" y="496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Line 125"/>
          <p:cNvSpPr/>
          <p:nvPr/>
        </p:nvSpPr>
        <p:spPr>
          <a:xfrm flipH="1">
            <a:off x="716436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Line 126"/>
          <p:cNvSpPr/>
          <p:nvPr/>
        </p:nvSpPr>
        <p:spPr>
          <a:xfrm flipH="1">
            <a:off x="7151400" y="496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Line 127"/>
          <p:cNvSpPr/>
          <p:nvPr/>
        </p:nvSpPr>
        <p:spPr>
          <a:xfrm flipH="1">
            <a:off x="710712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Line 128"/>
          <p:cNvSpPr/>
          <p:nvPr/>
        </p:nvSpPr>
        <p:spPr>
          <a:xfrm flipH="1">
            <a:off x="709452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Line 129"/>
          <p:cNvSpPr/>
          <p:nvPr/>
        </p:nvSpPr>
        <p:spPr>
          <a:xfrm flipH="1">
            <a:off x="7049880" y="496260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Line 130"/>
          <p:cNvSpPr/>
          <p:nvPr/>
        </p:nvSpPr>
        <p:spPr>
          <a:xfrm flipH="1">
            <a:off x="703728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Line 131"/>
          <p:cNvSpPr/>
          <p:nvPr/>
        </p:nvSpPr>
        <p:spPr>
          <a:xfrm flipH="1">
            <a:off x="6994440" y="496260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Line 132"/>
          <p:cNvSpPr/>
          <p:nvPr/>
        </p:nvSpPr>
        <p:spPr>
          <a:xfrm flipH="1">
            <a:off x="6981480" y="49626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Line 133"/>
          <p:cNvSpPr/>
          <p:nvPr/>
        </p:nvSpPr>
        <p:spPr>
          <a:xfrm flipH="1">
            <a:off x="693720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Line 134"/>
          <p:cNvSpPr/>
          <p:nvPr/>
        </p:nvSpPr>
        <p:spPr>
          <a:xfrm flipH="1">
            <a:off x="692460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Line 135"/>
          <p:cNvSpPr/>
          <p:nvPr/>
        </p:nvSpPr>
        <p:spPr>
          <a:xfrm flipH="1">
            <a:off x="688032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Line 136"/>
          <p:cNvSpPr/>
          <p:nvPr/>
        </p:nvSpPr>
        <p:spPr>
          <a:xfrm flipH="1">
            <a:off x="686736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Line 137"/>
          <p:cNvSpPr/>
          <p:nvPr/>
        </p:nvSpPr>
        <p:spPr>
          <a:xfrm flipH="1">
            <a:off x="682308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Line 138"/>
          <p:cNvSpPr/>
          <p:nvPr/>
        </p:nvSpPr>
        <p:spPr>
          <a:xfrm flipH="1">
            <a:off x="6810120" y="496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Line 139"/>
          <p:cNvSpPr/>
          <p:nvPr/>
        </p:nvSpPr>
        <p:spPr>
          <a:xfrm flipH="1">
            <a:off x="676584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140"/>
          <p:cNvSpPr/>
          <p:nvPr/>
        </p:nvSpPr>
        <p:spPr>
          <a:xfrm flipH="1">
            <a:off x="675324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Line 141"/>
          <p:cNvSpPr/>
          <p:nvPr/>
        </p:nvSpPr>
        <p:spPr>
          <a:xfrm flipH="1">
            <a:off x="670860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Line 142"/>
          <p:cNvSpPr/>
          <p:nvPr/>
        </p:nvSpPr>
        <p:spPr>
          <a:xfrm flipH="1">
            <a:off x="669600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Line 143"/>
          <p:cNvSpPr/>
          <p:nvPr/>
        </p:nvSpPr>
        <p:spPr>
          <a:xfrm flipH="1">
            <a:off x="6653160" y="496260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Line 144"/>
          <p:cNvSpPr/>
          <p:nvPr/>
        </p:nvSpPr>
        <p:spPr>
          <a:xfrm flipH="1">
            <a:off x="664056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Line 145"/>
          <p:cNvSpPr/>
          <p:nvPr/>
        </p:nvSpPr>
        <p:spPr>
          <a:xfrm flipH="1">
            <a:off x="659592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Line 146"/>
          <p:cNvSpPr/>
          <p:nvPr/>
        </p:nvSpPr>
        <p:spPr>
          <a:xfrm flipH="1">
            <a:off x="658332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Line 147"/>
          <p:cNvSpPr/>
          <p:nvPr/>
        </p:nvSpPr>
        <p:spPr>
          <a:xfrm flipH="1">
            <a:off x="6538680" y="496260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Line 148"/>
          <p:cNvSpPr/>
          <p:nvPr/>
        </p:nvSpPr>
        <p:spPr>
          <a:xfrm flipH="1">
            <a:off x="652608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Line 149"/>
          <p:cNvSpPr/>
          <p:nvPr/>
        </p:nvSpPr>
        <p:spPr>
          <a:xfrm flipH="1">
            <a:off x="648180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Line 150"/>
          <p:cNvSpPr/>
          <p:nvPr/>
        </p:nvSpPr>
        <p:spPr>
          <a:xfrm flipH="1">
            <a:off x="6468840" y="496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Line 151"/>
          <p:cNvSpPr/>
          <p:nvPr/>
        </p:nvSpPr>
        <p:spPr>
          <a:xfrm flipH="1">
            <a:off x="642456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Line 152"/>
          <p:cNvSpPr/>
          <p:nvPr/>
        </p:nvSpPr>
        <p:spPr>
          <a:xfrm flipH="1">
            <a:off x="641196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Line 153"/>
          <p:cNvSpPr/>
          <p:nvPr/>
        </p:nvSpPr>
        <p:spPr>
          <a:xfrm flipH="1">
            <a:off x="636732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Line 154"/>
          <p:cNvSpPr/>
          <p:nvPr/>
        </p:nvSpPr>
        <p:spPr>
          <a:xfrm flipH="1">
            <a:off x="6356160" y="49626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Line 155"/>
          <p:cNvSpPr/>
          <p:nvPr/>
        </p:nvSpPr>
        <p:spPr>
          <a:xfrm flipH="1">
            <a:off x="6311520" y="49626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Line 156"/>
          <p:cNvSpPr/>
          <p:nvPr/>
        </p:nvSpPr>
        <p:spPr>
          <a:xfrm flipH="1">
            <a:off x="6298920" y="496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Line 157"/>
          <p:cNvSpPr/>
          <p:nvPr/>
        </p:nvSpPr>
        <p:spPr>
          <a:xfrm flipH="1">
            <a:off x="6248160" y="496260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Line 159"/>
          <p:cNvSpPr/>
          <p:nvPr/>
        </p:nvSpPr>
        <p:spPr>
          <a:xfrm>
            <a:off x="8623440" y="496260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Line 160"/>
          <p:cNvSpPr/>
          <p:nvPr/>
        </p:nvSpPr>
        <p:spPr>
          <a:xfrm>
            <a:off x="865656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Line 161"/>
          <p:cNvSpPr/>
          <p:nvPr/>
        </p:nvSpPr>
        <p:spPr>
          <a:xfrm>
            <a:off x="8669160" y="496260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Line 162"/>
          <p:cNvSpPr/>
          <p:nvPr/>
        </p:nvSpPr>
        <p:spPr>
          <a:xfrm>
            <a:off x="871380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Line 163"/>
          <p:cNvSpPr/>
          <p:nvPr/>
        </p:nvSpPr>
        <p:spPr>
          <a:xfrm>
            <a:off x="872496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Line 164"/>
          <p:cNvSpPr/>
          <p:nvPr/>
        </p:nvSpPr>
        <p:spPr>
          <a:xfrm>
            <a:off x="876924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Line 165"/>
          <p:cNvSpPr/>
          <p:nvPr/>
        </p:nvSpPr>
        <p:spPr>
          <a:xfrm>
            <a:off x="8782200" y="496260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Line 166"/>
          <p:cNvSpPr/>
          <p:nvPr/>
        </p:nvSpPr>
        <p:spPr>
          <a:xfrm flipV="1">
            <a:off x="8623440" y="4092120"/>
            <a:ext cx="1440" cy="870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Line 167"/>
          <p:cNvSpPr/>
          <p:nvPr/>
        </p:nvSpPr>
        <p:spPr>
          <a:xfrm>
            <a:off x="7607160" y="49626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Line 168"/>
          <p:cNvSpPr/>
          <p:nvPr/>
        </p:nvSpPr>
        <p:spPr>
          <a:xfrm>
            <a:off x="765648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Line 169"/>
          <p:cNvSpPr/>
          <p:nvPr/>
        </p:nvSpPr>
        <p:spPr>
          <a:xfrm>
            <a:off x="766908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Line 170"/>
          <p:cNvSpPr/>
          <p:nvPr/>
        </p:nvSpPr>
        <p:spPr>
          <a:xfrm>
            <a:off x="7713720" y="496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Line 171"/>
          <p:cNvSpPr/>
          <p:nvPr/>
        </p:nvSpPr>
        <p:spPr>
          <a:xfrm>
            <a:off x="772632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Line 172"/>
          <p:cNvSpPr/>
          <p:nvPr/>
        </p:nvSpPr>
        <p:spPr>
          <a:xfrm>
            <a:off x="7770960" y="496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Line 173"/>
          <p:cNvSpPr/>
          <p:nvPr/>
        </p:nvSpPr>
        <p:spPr>
          <a:xfrm>
            <a:off x="778356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Line 174"/>
          <p:cNvSpPr/>
          <p:nvPr/>
        </p:nvSpPr>
        <p:spPr>
          <a:xfrm>
            <a:off x="782784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Line 175"/>
          <p:cNvSpPr/>
          <p:nvPr/>
        </p:nvSpPr>
        <p:spPr>
          <a:xfrm>
            <a:off x="783900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Line 176"/>
          <p:cNvSpPr/>
          <p:nvPr/>
        </p:nvSpPr>
        <p:spPr>
          <a:xfrm>
            <a:off x="7883640" y="496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Line 177"/>
          <p:cNvSpPr/>
          <p:nvPr/>
        </p:nvSpPr>
        <p:spPr>
          <a:xfrm>
            <a:off x="789624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Line 178"/>
          <p:cNvSpPr/>
          <p:nvPr/>
        </p:nvSpPr>
        <p:spPr>
          <a:xfrm>
            <a:off x="794052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Line 179"/>
          <p:cNvSpPr/>
          <p:nvPr/>
        </p:nvSpPr>
        <p:spPr>
          <a:xfrm>
            <a:off x="795348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Line 180"/>
          <p:cNvSpPr/>
          <p:nvPr/>
        </p:nvSpPr>
        <p:spPr>
          <a:xfrm>
            <a:off x="799776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Line 181"/>
          <p:cNvSpPr/>
          <p:nvPr/>
        </p:nvSpPr>
        <p:spPr>
          <a:xfrm>
            <a:off x="801036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Line 182"/>
          <p:cNvSpPr/>
          <p:nvPr/>
        </p:nvSpPr>
        <p:spPr>
          <a:xfrm>
            <a:off x="805500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Line 183"/>
          <p:cNvSpPr/>
          <p:nvPr/>
        </p:nvSpPr>
        <p:spPr>
          <a:xfrm>
            <a:off x="806760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Line 184"/>
          <p:cNvSpPr/>
          <p:nvPr/>
        </p:nvSpPr>
        <p:spPr>
          <a:xfrm>
            <a:off x="8112240" y="496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Line 185"/>
          <p:cNvSpPr/>
          <p:nvPr/>
        </p:nvSpPr>
        <p:spPr>
          <a:xfrm>
            <a:off x="812484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Line 186"/>
          <p:cNvSpPr/>
          <p:nvPr/>
        </p:nvSpPr>
        <p:spPr>
          <a:xfrm>
            <a:off x="8167680" y="496260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Line 187"/>
          <p:cNvSpPr/>
          <p:nvPr/>
        </p:nvSpPr>
        <p:spPr>
          <a:xfrm>
            <a:off x="818028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Line 188"/>
          <p:cNvSpPr/>
          <p:nvPr/>
        </p:nvSpPr>
        <p:spPr>
          <a:xfrm>
            <a:off x="8224920" y="496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Line 189"/>
          <p:cNvSpPr/>
          <p:nvPr/>
        </p:nvSpPr>
        <p:spPr>
          <a:xfrm>
            <a:off x="823752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Line 190"/>
          <p:cNvSpPr/>
          <p:nvPr/>
        </p:nvSpPr>
        <p:spPr>
          <a:xfrm>
            <a:off x="8282160" y="496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Line 191"/>
          <p:cNvSpPr/>
          <p:nvPr/>
        </p:nvSpPr>
        <p:spPr>
          <a:xfrm>
            <a:off x="829476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Line 192"/>
          <p:cNvSpPr/>
          <p:nvPr/>
        </p:nvSpPr>
        <p:spPr>
          <a:xfrm>
            <a:off x="833904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Line 193"/>
          <p:cNvSpPr/>
          <p:nvPr/>
        </p:nvSpPr>
        <p:spPr>
          <a:xfrm>
            <a:off x="8352000" y="496260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Line 194"/>
          <p:cNvSpPr/>
          <p:nvPr/>
        </p:nvSpPr>
        <p:spPr>
          <a:xfrm>
            <a:off x="839628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Line 195"/>
          <p:cNvSpPr/>
          <p:nvPr/>
        </p:nvSpPr>
        <p:spPr>
          <a:xfrm>
            <a:off x="840888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Line 196"/>
          <p:cNvSpPr/>
          <p:nvPr/>
        </p:nvSpPr>
        <p:spPr>
          <a:xfrm>
            <a:off x="8453520" y="496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Line 197"/>
          <p:cNvSpPr/>
          <p:nvPr/>
        </p:nvSpPr>
        <p:spPr>
          <a:xfrm>
            <a:off x="8466120" y="496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Line 198"/>
          <p:cNvSpPr/>
          <p:nvPr/>
        </p:nvSpPr>
        <p:spPr>
          <a:xfrm>
            <a:off x="850896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Line 199"/>
          <p:cNvSpPr/>
          <p:nvPr/>
        </p:nvSpPr>
        <p:spPr>
          <a:xfrm>
            <a:off x="8523360" y="49626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Line 200"/>
          <p:cNvSpPr/>
          <p:nvPr/>
        </p:nvSpPr>
        <p:spPr>
          <a:xfrm>
            <a:off x="8566200" y="4962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Line 201"/>
          <p:cNvSpPr/>
          <p:nvPr/>
        </p:nvSpPr>
        <p:spPr>
          <a:xfrm>
            <a:off x="8578800" y="496260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Line 202"/>
          <p:cNvSpPr/>
          <p:nvPr/>
        </p:nvSpPr>
        <p:spPr>
          <a:xfrm flipV="1">
            <a:off x="7775640" y="4092120"/>
            <a:ext cx="1440" cy="870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Line 203"/>
          <p:cNvSpPr/>
          <p:nvPr/>
        </p:nvSpPr>
        <p:spPr>
          <a:xfrm flipV="1">
            <a:off x="7945560" y="4092120"/>
            <a:ext cx="1440" cy="870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Line 204"/>
          <p:cNvSpPr/>
          <p:nvPr/>
        </p:nvSpPr>
        <p:spPr>
          <a:xfrm flipV="1">
            <a:off x="8115480" y="4092120"/>
            <a:ext cx="1440" cy="870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Line 205"/>
          <p:cNvSpPr/>
          <p:nvPr/>
        </p:nvSpPr>
        <p:spPr>
          <a:xfrm flipV="1">
            <a:off x="8283600" y="4381560"/>
            <a:ext cx="1440" cy="581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Line 206"/>
          <p:cNvSpPr/>
          <p:nvPr/>
        </p:nvSpPr>
        <p:spPr>
          <a:xfrm flipV="1">
            <a:off x="8453520" y="4236840"/>
            <a:ext cx="1440" cy="725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Line 207"/>
          <p:cNvSpPr/>
          <p:nvPr/>
        </p:nvSpPr>
        <p:spPr>
          <a:xfrm flipH="1">
            <a:off x="7607160" y="4092480"/>
            <a:ext cx="52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Freeform 208"/>
          <p:cNvSpPr/>
          <p:nvPr/>
        </p:nvSpPr>
        <p:spPr>
          <a:xfrm>
            <a:off x="7054920" y="5211720"/>
            <a:ext cx="271440" cy="349200"/>
          </a:xfrm>
          <a:custGeom>
            <a:avLst/>
            <a:gdLst>
              <a:gd name="textAreaLeft" fmla="*/ 0 w 271440"/>
              <a:gd name="textAreaRight" fmla="*/ 271800 w 2714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029" h="1320">
                <a:moveTo>
                  <a:pt x="0" y="0"/>
                </a:moveTo>
                <a:lnTo>
                  <a:pt x="62" y="179"/>
                </a:lnTo>
                <a:lnTo>
                  <a:pt x="141" y="353"/>
                </a:lnTo>
                <a:lnTo>
                  <a:pt x="232" y="520"/>
                </a:lnTo>
                <a:lnTo>
                  <a:pt x="336" y="679"/>
                </a:lnTo>
                <a:lnTo>
                  <a:pt x="453" y="829"/>
                </a:lnTo>
                <a:lnTo>
                  <a:pt x="581" y="969"/>
                </a:lnTo>
                <a:lnTo>
                  <a:pt x="721" y="1098"/>
                </a:lnTo>
                <a:lnTo>
                  <a:pt x="871" y="1216"/>
                </a:lnTo>
                <a:lnTo>
                  <a:pt x="1029" y="1320"/>
                </a:lnTo>
              </a:path>
            </a:pathLst>
          </a:custGeom>
          <a:noFill/>
          <a:ln w="5724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Line 211"/>
          <p:cNvSpPr/>
          <p:nvPr/>
        </p:nvSpPr>
        <p:spPr>
          <a:xfrm flipV="1">
            <a:off x="5402160" y="4242960"/>
            <a:ext cx="1800" cy="725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Line 212"/>
          <p:cNvSpPr/>
          <p:nvPr/>
        </p:nvSpPr>
        <p:spPr>
          <a:xfrm flipV="1">
            <a:off x="5232240" y="4387680"/>
            <a:ext cx="1800" cy="581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Line 213"/>
          <p:cNvSpPr/>
          <p:nvPr/>
        </p:nvSpPr>
        <p:spPr>
          <a:xfrm flipV="1">
            <a:off x="5062680" y="4084200"/>
            <a:ext cx="1440" cy="870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Line 214"/>
          <p:cNvSpPr/>
          <p:nvPr/>
        </p:nvSpPr>
        <p:spPr>
          <a:xfrm flipV="1">
            <a:off x="4894200" y="4392360"/>
            <a:ext cx="1800" cy="561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Line 215"/>
          <p:cNvSpPr/>
          <p:nvPr/>
        </p:nvSpPr>
        <p:spPr>
          <a:xfrm flipV="1">
            <a:off x="4724280" y="4673160"/>
            <a:ext cx="1800" cy="281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Line 216"/>
          <p:cNvSpPr/>
          <p:nvPr/>
        </p:nvSpPr>
        <p:spPr>
          <a:xfrm>
            <a:off x="4554360" y="495468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Line 217"/>
          <p:cNvSpPr/>
          <p:nvPr/>
        </p:nvSpPr>
        <p:spPr>
          <a:xfrm>
            <a:off x="4605480" y="49546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Line 218"/>
          <p:cNvSpPr/>
          <p:nvPr/>
        </p:nvSpPr>
        <p:spPr>
          <a:xfrm>
            <a:off x="461808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Line 219"/>
          <p:cNvSpPr/>
          <p:nvPr/>
        </p:nvSpPr>
        <p:spPr>
          <a:xfrm>
            <a:off x="466236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Line 220"/>
          <p:cNvSpPr/>
          <p:nvPr/>
        </p:nvSpPr>
        <p:spPr>
          <a:xfrm>
            <a:off x="4675320" y="495468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Line 221"/>
          <p:cNvSpPr/>
          <p:nvPr/>
        </p:nvSpPr>
        <p:spPr>
          <a:xfrm>
            <a:off x="4718160" y="49546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Line 222"/>
          <p:cNvSpPr/>
          <p:nvPr/>
        </p:nvSpPr>
        <p:spPr>
          <a:xfrm>
            <a:off x="473076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Line 223"/>
          <p:cNvSpPr/>
          <p:nvPr/>
        </p:nvSpPr>
        <p:spPr>
          <a:xfrm>
            <a:off x="477504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Line 224"/>
          <p:cNvSpPr/>
          <p:nvPr/>
        </p:nvSpPr>
        <p:spPr>
          <a:xfrm>
            <a:off x="478800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Line 225"/>
          <p:cNvSpPr/>
          <p:nvPr/>
        </p:nvSpPr>
        <p:spPr>
          <a:xfrm>
            <a:off x="483228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Line 226"/>
          <p:cNvSpPr/>
          <p:nvPr/>
        </p:nvSpPr>
        <p:spPr>
          <a:xfrm>
            <a:off x="484488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Line 227"/>
          <p:cNvSpPr/>
          <p:nvPr/>
        </p:nvSpPr>
        <p:spPr>
          <a:xfrm>
            <a:off x="488952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Line 228"/>
          <p:cNvSpPr/>
          <p:nvPr/>
        </p:nvSpPr>
        <p:spPr>
          <a:xfrm>
            <a:off x="490212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Line 229"/>
          <p:cNvSpPr/>
          <p:nvPr/>
        </p:nvSpPr>
        <p:spPr>
          <a:xfrm>
            <a:off x="4946760" y="49546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Line 230"/>
          <p:cNvSpPr/>
          <p:nvPr/>
        </p:nvSpPr>
        <p:spPr>
          <a:xfrm>
            <a:off x="495936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Line 231"/>
          <p:cNvSpPr/>
          <p:nvPr/>
        </p:nvSpPr>
        <p:spPr>
          <a:xfrm>
            <a:off x="500364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Line 232"/>
          <p:cNvSpPr/>
          <p:nvPr/>
        </p:nvSpPr>
        <p:spPr>
          <a:xfrm>
            <a:off x="5016600" y="495468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Line 233"/>
          <p:cNvSpPr/>
          <p:nvPr/>
        </p:nvSpPr>
        <p:spPr>
          <a:xfrm>
            <a:off x="5059440" y="49546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Line 234"/>
          <p:cNvSpPr/>
          <p:nvPr/>
        </p:nvSpPr>
        <p:spPr>
          <a:xfrm>
            <a:off x="507204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Line 235"/>
          <p:cNvSpPr/>
          <p:nvPr/>
        </p:nvSpPr>
        <p:spPr>
          <a:xfrm>
            <a:off x="5116680" y="49546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Line 236"/>
          <p:cNvSpPr/>
          <p:nvPr/>
        </p:nvSpPr>
        <p:spPr>
          <a:xfrm>
            <a:off x="512928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Line 237"/>
          <p:cNvSpPr/>
          <p:nvPr/>
        </p:nvSpPr>
        <p:spPr>
          <a:xfrm>
            <a:off x="517356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Line 238"/>
          <p:cNvSpPr/>
          <p:nvPr/>
        </p:nvSpPr>
        <p:spPr>
          <a:xfrm>
            <a:off x="5186520" y="495468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Line 239"/>
          <p:cNvSpPr/>
          <p:nvPr/>
        </p:nvSpPr>
        <p:spPr>
          <a:xfrm>
            <a:off x="523080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Line 240"/>
          <p:cNvSpPr/>
          <p:nvPr/>
        </p:nvSpPr>
        <p:spPr>
          <a:xfrm>
            <a:off x="524340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Line 241"/>
          <p:cNvSpPr/>
          <p:nvPr/>
        </p:nvSpPr>
        <p:spPr>
          <a:xfrm>
            <a:off x="5288040" y="49546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Line 242"/>
          <p:cNvSpPr/>
          <p:nvPr/>
        </p:nvSpPr>
        <p:spPr>
          <a:xfrm>
            <a:off x="530064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Line 243"/>
          <p:cNvSpPr/>
          <p:nvPr/>
        </p:nvSpPr>
        <p:spPr>
          <a:xfrm>
            <a:off x="5343480" y="495468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Line 244"/>
          <p:cNvSpPr/>
          <p:nvPr/>
        </p:nvSpPr>
        <p:spPr>
          <a:xfrm>
            <a:off x="5357880" y="495468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Line 245"/>
          <p:cNvSpPr/>
          <p:nvPr/>
        </p:nvSpPr>
        <p:spPr>
          <a:xfrm>
            <a:off x="540072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Line 246"/>
          <p:cNvSpPr/>
          <p:nvPr/>
        </p:nvSpPr>
        <p:spPr>
          <a:xfrm>
            <a:off x="541332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Line 247"/>
          <p:cNvSpPr/>
          <p:nvPr/>
        </p:nvSpPr>
        <p:spPr>
          <a:xfrm>
            <a:off x="5457960" y="49546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Line 248"/>
          <p:cNvSpPr/>
          <p:nvPr/>
        </p:nvSpPr>
        <p:spPr>
          <a:xfrm>
            <a:off x="547056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Line 249"/>
          <p:cNvSpPr/>
          <p:nvPr/>
        </p:nvSpPr>
        <p:spPr>
          <a:xfrm>
            <a:off x="551484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Line 250"/>
          <p:cNvSpPr/>
          <p:nvPr/>
        </p:nvSpPr>
        <p:spPr>
          <a:xfrm>
            <a:off x="5527800" y="49546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Line 251"/>
          <p:cNvSpPr/>
          <p:nvPr/>
        </p:nvSpPr>
        <p:spPr>
          <a:xfrm flipV="1">
            <a:off x="5570640" y="4084200"/>
            <a:ext cx="1440" cy="870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Line 252"/>
          <p:cNvSpPr/>
          <p:nvPr/>
        </p:nvSpPr>
        <p:spPr>
          <a:xfrm>
            <a:off x="5570640" y="4954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Line 253"/>
          <p:cNvSpPr/>
          <p:nvPr/>
        </p:nvSpPr>
        <p:spPr>
          <a:xfrm>
            <a:off x="560376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Line 254"/>
          <p:cNvSpPr/>
          <p:nvPr/>
        </p:nvSpPr>
        <p:spPr>
          <a:xfrm>
            <a:off x="5616720" y="495468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Line 255"/>
          <p:cNvSpPr/>
          <p:nvPr/>
        </p:nvSpPr>
        <p:spPr>
          <a:xfrm>
            <a:off x="566100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Line 256"/>
          <p:cNvSpPr/>
          <p:nvPr/>
        </p:nvSpPr>
        <p:spPr>
          <a:xfrm>
            <a:off x="567360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Line 257"/>
          <p:cNvSpPr/>
          <p:nvPr/>
        </p:nvSpPr>
        <p:spPr>
          <a:xfrm>
            <a:off x="5718240" y="49546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Line 258"/>
          <p:cNvSpPr/>
          <p:nvPr/>
        </p:nvSpPr>
        <p:spPr>
          <a:xfrm>
            <a:off x="5730840" y="495468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Line 260"/>
          <p:cNvSpPr/>
          <p:nvPr/>
        </p:nvSpPr>
        <p:spPr>
          <a:xfrm flipH="1">
            <a:off x="4509720" y="49546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Line 261"/>
          <p:cNvSpPr/>
          <p:nvPr/>
        </p:nvSpPr>
        <p:spPr>
          <a:xfrm flipH="1">
            <a:off x="449892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Line 262"/>
          <p:cNvSpPr/>
          <p:nvPr/>
        </p:nvSpPr>
        <p:spPr>
          <a:xfrm flipH="1">
            <a:off x="4454280" y="495468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Line 263"/>
          <p:cNvSpPr/>
          <p:nvPr/>
        </p:nvSpPr>
        <p:spPr>
          <a:xfrm flipH="1">
            <a:off x="444168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Line 264"/>
          <p:cNvSpPr/>
          <p:nvPr/>
        </p:nvSpPr>
        <p:spPr>
          <a:xfrm flipH="1">
            <a:off x="439740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Line 265"/>
          <p:cNvSpPr/>
          <p:nvPr/>
        </p:nvSpPr>
        <p:spPr>
          <a:xfrm flipH="1">
            <a:off x="4384440" y="49546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Line 266"/>
          <p:cNvSpPr/>
          <p:nvPr/>
        </p:nvSpPr>
        <p:spPr>
          <a:xfrm flipH="1">
            <a:off x="434016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Line 267"/>
          <p:cNvSpPr/>
          <p:nvPr/>
        </p:nvSpPr>
        <p:spPr>
          <a:xfrm flipH="1">
            <a:off x="432756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Line 268"/>
          <p:cNvSpPr/>
          <p:nvPr/>
        </p:nvSpPr>
        <p:spPr>
          <a:xfrm flipH="1">
            <a:off x="428292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Line 269"/>
          <p:cNvSpPr/>
          <p:nvPr/>
        </p:nvSpPr>
        <p:spPr>
          <a:xfrm flipH="1">
            <a:off x="427032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Line 270"/>
          <p:cNvSpPr/>
          <p:nvPr/>
        </p:nvSpPr>
        <p:spPr>
          <a:xfrm flipH="1">
            <a:off x="422604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Line 271"/>
          <p:cNvSpPr/>
          <p:nvPr/>
        </p:nvSpPr>
        <p:spPr>
          <a:xfrm flipH="1">
            <a:off x="421308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Line 272"/>
          <p:cNvSpPr/>
          <p:nvPr/>
        </p:nvSpPr>
        <p:spPr>
          <a:xfrm flipH="1">
            <a:off x="4170240" y="495468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Line 273"/>
          <p:cNvSpPr/>
          <p:nvPr/>
        </p:nvSpPr>
        <p:spPr>
          <a:xfrm flipH="1">
            <a:off x="415764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Line 274"/>
          <p:cNvSpPr/>
          <p:nvPr/>
        </p:nvSpPr>
        <p:spPr>
          <a:xfrm flipH="1">
            <a:off x="4113000" y="495468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Line 275"/>
          <p:cNvSpPr/>
          <p:nvPr/>
        </p:nvSpPr>
        <p:spPr>
          <a:xfrm flipH="1">
            <a:off x="410040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Line 276"/>
          <p:cNvSpPr/>
          <p:nvPr/>
        </p:nvSpPr>
        <p:spPr>
          <a:xfrm flipH="1">
            <a:off x="405612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Line 277"/>
          <p:cNvSpPr/>
          <p:nvPr/>
        </p:nvSpPr>
        <p:spPr>
          <a:xfrm flipH="1">
            <a:off x="4043160" y="49546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Line 278"/>
          <p:cNvSpPr/>
          <p:nvPr/>
        </p:nvSpPr>
        <p:spPr>
          <a:xfrm flipH="1">
            <a:off x="399888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Line 279"/>
          <p:cNvSpPr/>
          <p:nvPr/>
        </p:nvSpPr>
        <p:spPr>
          <a:xfrm flipH="1">
            <a:off x="3985920" y="49546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Line 280"/>
          <p:cNvSpPr/>
          <p:nvPr/>
        </p:nvSpPr>
        <p:spPr>
          <a:xfrm flipH="1">
            <a:off x="394164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Line 281"/>
          <p:cNvSpPr/>
          <p:nvPr/>
        </p:nvSpPr>
        <p:spPr>
          <a:xfrm flipH="1">
            <a:off x="392904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Line 282"/>
          <p:cNvSpPr/>
          <p:nvPr/>
        </p:nvSpPr>
        <p:spPr>
          <a:xfrm flipH="1">
            <a:off x="3884400" y="495468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Line 283"/>
          <p:cNvSpPr/>
          <p:nvPr/>
        </p:nvSpPr>
        <p:spPr>
          <a:xfrm flipH="1">
            <a:off x="387180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Line 284"/>
          <p:cNvSpPr/>
          <p:nvPr/>
        </p:nvSpPr>
        <p:spPr>
          <a:xfrm flipH="1">
            <a:off x="3828960" y="495468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Line 285"/>
          <p:cNvSpPr/>
          <p:nvPr/>
        </p:nvSpPr>
        <p:spPr>
          <a:xfrm flipH="1">
            <a:off x="381636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Line 286"/>
          <p:cNvSpPr/>
          <p:nvPr/>
        </p:nvSpPr>
        <p:spPr>
          <a:xfrm flipH="1">
            <a:off x="3771720" y="495468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Line 287"/>
          <p:cNvSpPr/>
          <p:nvPr/>
        </p:nvSpPr>
        <p:spPr>
          <a:xfrm flipH="1">
            <a:off x="375912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Line 288"/>
          <p:cNvSpPr/>
          <p:nvPr/>
        </p:nvSpPr>
        <p:spPr>
          <a:xfrm flipH="1">
            <a:off x="371484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Line 289"/>
          <p:cNvSpPr/>
          <p:nvPr/>
        </p:nvSpPr>
        <p:spPr>
          <a:xfrm flipH="1">
            <a:off x="370188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Line 290"/>
          <p:cNvSpPr/>
          <p:nvPr/>
        </p:nvSpPr>
        <p:spPr>
          <a:xfrm flipH="1">
            <a:off x="365760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Line 291"/>
          <p:cNvSpPr/>
          <p:nvPr/>
        </p:nvSpPr>
        <p:spPr>
          <a:xfrm flipH="1">
            <a:off x="3644640" y="49546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Line 292"/>
          <p:cNvSpPr/>
          <p:nvPr/>
        </p:nvSpPr>
        <p:spPr>
          <a:xfrm flipH="1">
            <a:off x="360036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Line 293"/>
          <p:cNvSpPr/>
          <p:nvPr/>
        </p:nvSpPr>
        <p:spPr>
          <a:xfrm flipH="1">
            <a:off x="358776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Line 294"/>
          <p:cNvSpPr/>
          <p:nvPr/>
        </p:nvSpPr>
        <p:spPr>
          <a:xfrm flipH="1">
            <a:off x="3543120" y="495468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Line 295"/>
          <p:cNvSpPr/>
          <p:nvPr/>
        </p:nvSpPr>
        <p:spPr>
          <a:xfrm flipH="1">
            <a:off x="3531960" y="49546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Line 296"/>
          <p:cNvSpPr/>
          <p:nvPr/>
        </p:nvSpPr>
        <p:spPr>
          <a:xfrm flipH="1">
            <a:off x="3487680" y="495468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Line 297"/>
          <p:cNvSpPr/>
          <p:nvPr/>
        </p:nvSpPr>
        <p:spPr>
          <a:xfrm flipH="1">
            <a:off x="347508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Line 298"/>
          <p:cNvSpPr/>
          <p:nvPr/>
        </p:nvSpPr>
        <p:spPr>
          <a:xfrm flipH="1">
            <a:off x="343044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Line 299"/>
          <p:cNvSpPr/>
          <p:nvPr/>
        </p:nvSpPr>
        <p:spPr>
          <a:xfrm flipH="1">
            <a:off x="341784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Line 300"/>
          <p:cNvSpPr/>
          <p:nvPr/>
        </p:nvSpPr>
        <p:spPr>
          <a:xfrm flipH="1">
            <a:off x="3373200" y="495468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Line 301"/>
          <p:cNvSpPr/>
          <p:nvPr/>
        </p:nvSpPr>
        <p:spPr>
          <a:xfrm flipH="1">
            <a:off x="336060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Line 302"/>
          <p:cNvSpPr/>
          <p:nvPr/>
        </p:nvSpPr>
        <p:spPr>
          <a:xfrm flipH="1">
            <a:off x="331632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Line 303"/>
          <p:cNvSpPr/>
          <p:nvPr/>
        </p:nvSpPr>
        <p:spPr>
          <a:xfrm flipH="1">
            <a:off x="3303360" y="49546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Line 304"/>
          <p:cNvSpPr/>
          <p:nvPr/>
        </p:nvSpPr>
        <p:spPr>
          <a:xfrm flipH="1">
            <a:off x="3259080" y="4954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Line 305"/>
          <p:cNvSpPr/>
          <p:nvPr/>
        </p:nvSpPr>
        <p:spPr>
          <a:xfrm flipH="1">
            <a:off x="3246480" y="49546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Line 306"/>
          <p:cNvSpPr/>
          <p:nvPr/>
        </p:nvSpPr>
        <p:spPr>
          <a:xfrm flipH="1">
            <a:off x="3195360" y="49546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Line 307"/>
          <p:cNvSpPr/>
          <p:nvPr/>
        </p:nvSpPr>
        <p:spPr>
          <a:xfrm>
            <a:off x="4554360" y="49546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Line 308"/>
          <p:cNvSpPr/>
          <p:nvPr/>
        </p:nvSpPr>
        <p:spPr>
          <a:xfrm>
            <a:off x="4554360" y="50054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Line 309"/>
          <p:cNvSpPr/>
          <p:nvPr/>
        </p:nvSpPr>
        <p:spPr>
          <a:xfrm>
            <a:off x="4554360" y="50180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Line 310"/>
          <p:cNvSpPr/>
          <p:nvPr/>
        </p:nvSpPr>
        <p:spPr>
          <a:xfrm>
            <a:off x="4554360" y="50626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Line 311"/>
          <p:cNvSpPr/>
          <p:nvPr/>
        </p:nvSpPr>
        <p:spPr>
          <a:xfrm>
            <a:off x="4554360" y="50752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Line 312"/>
          <p:cNvSpPr/>
          <p:nvPr/>
        </p:nvSpPr>
        <p:spPr>
          <a:xfrm>
            <a:off x="4554360" y="51195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Line 313"/>
          <p:cNvSpPr/>
          <p:nvPr/>
        </p:nvSpPr>
        <p:spPr>
          <a:xfrm>
            <a:off x="4554360" y="51325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Line 314"/>
          <p:cNvSpPr/>
          <p:nvPr/>
        </p:nvSpPr>
        <p:spPr>
          <a:xfrm>
            <a:off x="4554360" y="517680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Line 315"/>
          <p:cNvSpPr/>
          <p:nvPr/>
        </p:nvSpPr>
        <p:spPr>
          <a:xfrm>
            <a:off x="4554360" y="51879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Line 316"/>
          <p:cNvSpPr/>
          <p:nvPr/>
        </p:nvSpPr>
        <p:spPr>
          <a:xfrm>
            <a:off x="4554360" y="52322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Line 317"/>
          <p:cNvSpPr/>
          <p:nvPr/>
        </p:nvSpPr>
        <p:spPr>
          <a:xfrm>
            <a:off x="4554360" y="524520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Line 318"/>
          <p:cNvSpPr/>
          <p:nvPr/>
        </p:nvSpPr>
        <p:spPr>
          <a:xfrm>
            <a:off x="4554360" y="5289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Line 319"/>
          <p:cNvSpPr/>
          <p:nvPr/>
        </p:nvSpPr>
        <p:spPr>
          <a:xfrm>
            <a:off x="4554360" y="53020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Line 320"/>
          <p:cNvSpPr/>
          <p:nvPr/>
        </p:nvSpPr>
        <p:spPr>
          <a:xfrm>
            <a:off x="4554360" y="53467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Line 321"/>
          <p:cNvSpPr/>
          <p:nvPr/>
        </p:nvSpPr>
        <p:spPr>
          <a:xfrm>
            <a:off x="4554360" y="53593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Line 322"/>
          <p:cNvSpPr/>
          <p:nvPr/>
        </p:nvSpPr>
        <p:spPr>
          <a:xfrm>
            <a:off x="4554360" y="54039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Line 323"/>
          <p:cNvSpPr/>
          <p:nvPr/>
        </p:nvSpPr>
        <p:spPr>
          <a:xfrm>
            <a:off x="4554360" y="54165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Line 324"/>
          <p:cNvSpPr/>
          <p:nvPr/>
        </p:nvSpPr>
        <p:spPr>
          <a:xfrm>
            <a:off x="4554360" y="54608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Line 325"/>
          <p:cNvSpPr/>
          <p:nvPr/>
        </p:nvSpPr>
        <p:spPr>
          <a:xfrm>
            <a:off x="4554360" y="547380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Line 326"/>
          <p:cNvSpPr/>
          <p:nvPr/>
        </p:nvSpPr>
        <p:spPr>
          <a:xfrm>
            <a:off x="4554360" y="55180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Line 327"/>
          <p:cNvSpPr/>
          <p:nvPr/>
        </p:nvSpPr>
        <p:spPr>
          <a:xfrm>
            <a:off x="4554360" y="55306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Line 328"/>
          <p:cNvSpPr/>
          <p:nvPr/>
        </p:nvSpPr>
        <p:spPr>
          <a:xfrm>
            <a:off x="4554360" y="55738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Line 329"/>
          <p:cNvSpPr/>
          <p:nvPr/>
        </p:nvSpPr>
        <p:spPr>
          <a:xfrm>
            <a:off x="4554360" y="55864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Line 330"/>
          <p:cNvSpPr/>
          <p:nvPr/>
        </p:nvSpPr>
        <p:spPr>
          <a:xfrm>
            <a:off x="4554360" y="56307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Line 331"/>
          <p:cNvSpPr/>
          <p:nvPr/>
        </p:nvSpPr>
        <p:spPr>
          <a:xfrm>
            <a:off x="4554360" y="564372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Line 332"/>
          <p:cNvSpPr/>
          <p:nvPr/>
        </p:nvSpPr>
        <p:spPr>
          <a:xfrm>
            <a:off x="4554360" y="56880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Line 333"/>
          <p:cNvSpPr/>
          <p:nvPr/>
        </p:nvSpPr>
        <p:spPr>
          <a:xfrm>
            <a:off x="4554360" y="570060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Line 334"/>
          <p:cNvSpPr/>
          <p:nvPr/>
        </p:nvSpPr>
        <p:spPr>
          <a:xfrm>
            <a:off x="4554360" y="57452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Line 335"/>
          <p:cNvSpPr/>
          <p:nvPr/>
        </p:nvSpPr>
        <p:spPr>
          <a:xfrm>
            <a:off x="4554360" y="57578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Line 336"/>
          <p:cNvSpPr/>
          <p:nvPr/>
        </p:nvSpPr>
        <p:spPr>
          <a:xfrm>
            <a:off x="4554360" y="58024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Line 337"/>
          <p:cNvSpPr/>
          <p:nvPr/>
        </p:nvSpPr>
        <p:spPr>
          <a:xfrm>
            <a:off x="4554360" y="58150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Line 338"/>
          <p:cNvSpPr/>
          <p:nvPr/>
        </p:nvSpPr>
        <p:spPr>
          <a:xfrm>
            <a:off x="4554360" y="58593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Line 339"/>
          <p:cNvSpPr/>
          <p:nvPr/>
        </p:nvSpPr>
        <p:spPr>
          <a:xfrm>
            <a:off x="4554360" y="587232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Line 340"/>
          <p:cNvSpPr/>
          <p:nvPr/>
        </p:nvSpPr>
        <p:spPr>
          <a:xfrm>
            <a:off x="4554360" y="59166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Line 341"/>
          <p:cNvSpPr/>
          <p:nvPr/>
        </p:nvSpPr>
        <p:spPr>
          <a:xfrm>
            <a:off x="4554360" y="592920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Line 342"/>
          <p:cNvSpPr/>
          <p:nvPr/>
        </p:nvSpPr>
        <p:spPr>
          <a:xfrm>
            <a:off x="4554360" y="59720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Line 343"/>
          <p:cNvSpPr/>
          <p:nvPr/>
        </p:nvSpPr>
        <p:spPr>
          <a:xfrm>
            <a:off x="4554360" y="598644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Line 344"/>
          <p:cNvSpPr/>
          <p:nvPr/>
        </p:nvSpPr>
        <p:spPr>
          <a:xfrm>
            <a:off x="4554360" y="60292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Line 345"/>
          <p:cNvSpPr/>
          <p:nvPr/>
        </p:nvSpPr>
        <p:spPr>
          <a:xfrm>
            <a:off x="4554360" y="6041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Line 346"/>
          <p:cNvSpPr/>
          <p:nvPr/>
        </p:nvSpPr>
        <p:spPr>
          <a:xfrm>
            <a:off x="4554360" y="60865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Line 347"/>
          <p:cNvSpPr/>
          <p:nvPr/>
        </p:nvSpPr>
        <p:spPr>
          <a:xfrm>
            <a:off x="4554360" y="6099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Line 348"/>
          <p:cNvSpPr/>
          <p:nvPr/>
        </p:nvSpPr>
        <p:spPr>
          <a:xfrm>
            <a:off x="4554360" y="61437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Line 349"/>
          <p:cNvSpPr/>
          <p:nvPr/>
        </p:nvSpPr>
        <p:spPr>
          <a:xfrm>
            <a:off x="4554360" y="61563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Line 350"/>
          <p:cNvSpPr/>
          <p:nvPr/>
        </p:nvSpPr>
        <p:spPr>
          <a:xfrm>
            <a:off x="4554360" y="62006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Line 351"/>
          <p:cNvSpPr/>
          <p:nvPr/>
        </p:nvSpPr>
        <p:spPr>
          <a:xfrm>
            <a:off x="4554360" y="621360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Line 352"/>
          <p:cNvSpPr/>
          <p:nvPr/>
        </p:nvSpPr>
        <p:spPr>
          <a:xfrm>
            <a:off x="4554360" y="62578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Line 353"/>
          <p:cNvSpPr/>
          <p:nvPr/>
        </p:nvSpPr>
        <p:spPr>
          <a:xfrm>
            <a:off x="4554360" y="627048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Line 354"/>
          <p:cNvSpPr/>
          <p:nvPr/>
        </p:nvSpPr>
        <p:spPr>
          <a:xfrm flipV="1">
            <a:off x="4554360" y="49114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Line 355"/>
          <p:cNvSpPr/>
          <p:nvPr/>
        </p:nvSpPr>
        <p:spPr>
          <a:xfrm flipV="1">
            <a:off x="4554360" y="4900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Line 356"/>
          <p:cNvSpPr/>
          <p:nvPr/>
        </p:nvSpPr>
        <p:spPr>
          <a:xfrm flipV="1">
            <a:off x="4554360" y="48560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Line 357"/>
          <p:cNvSpPr/>
          <p:nvPr/>
        </p:nvSpPr>
        <p:spPr>
          <a:xfrm flipV="1">
            <a:off x="4554360" y="48434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Line 358"/>
          <p:cNvSpPr/>
          <p:nvPr/>
        </p:nvSpPr>
        <p:spPr>
          <a:xfrm flipV="1">
            <a:off x="4554360" y="479880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Line 359"/>
          <p:cNvSpPr/>
          <p:nvPr/>
        </p:nvSpPr>
        <p:spPr>
          <a:xfrm flipV="1">
            <a:off x="4554360" y="47862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Line 360"/>
          <p:cNvSpPr/>
          <p:nvPr/>
        </p:nvSpPr>
        <p:spPr>
          <a:xfrm flipV="1">
            <a:off x="4554360" y="47419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Line 361"/>
          <p:cNvSpPr/>
          <p:nvPr/>
        </p:nvSpPr>
        <p:spPr>
          <a:xfrm flipV="1">
            <a:off x="4554360" y="47289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Line 362"/>
          <p:cNvSpPr/>
          <p:nvPr/>
        </p:nvSpPr>
        <p:spPr>
          <a:xfrm flipV="1">
            <a:off x="4554360" y="46846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Line 363"/>
          <p:cNvSpPr/>
          <p:nvPr/>
        </p:nvSpPr>
        <p:spPr>
          <a:xfrm flipV="1">
            <a:off x="4554360" y="46717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Line 364"/>
          <p:cNvSpPr/>
          <p:nvPr/>
        </p:nvSpPr>
        <p:spPr>
          <a:xfrm flipV="1">
            <a:off x="4554360" y="46274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Line 365"/>
          <p:cNvSpPr/>
          <p:nvPr/>
        </p:nvSpPr>
        <p:spPr>
          <a:xfrm flipV="1">
            <a:off x="4554360" y="46148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Line 366"/>
          <p:cNvSpPr/>
          <p:nvPr/>
        </p:nvSpPr>
        <p:spPr>
          <a:xfrm flipV="1">
            <a:off x="4554360" y="457020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Line 367"/>
          <p:cNvSpPr/>
          <p:nvPr/>
        </p:nvSpPr>
        <p:spPr>
          <a:xfrm flipV="1">
            <a:off x="4554360" y="45576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Line 368"/>
          <p:cNvSpPr/>
          <p:nvPr/>
        </p:nvSpPr>
        <p:spPr>
          <a:xfrm flipV="1">
            <a:off x="4554360" y="45147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Line 369"/>
          <p:cNvSpPr/>
          <p:nvPr/>
        </p:nvSpPr>
        <p:spPr>
          <a:xfrm flipV="1">
            <a:off x="4554360" y="45021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Line 370"/>
          <p:cNvSpPr/>
          <p:nvPr/>
        </p:nvSpPr>
        <p:spPr>
          <a:xfrm flipV="1">
            <a:off x="4554360" y="445752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Line 371"/>
          <p:cNvSpPr/>
          <p:nvPr/>
        </p:nvSpPr>
        <p:spPr>
          <a:xfrm flipV="1">
            <a:off x="4554360" y="44449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Line 372"/>
          <p:cNvSpPr/>
          <p:nvPr/>
        </p:nvSpPr>
        <p:spPr>
          <a:xfrm flipV="1">
            <a:off x="4554360" y="44006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Line 373"/>
          <p:cNvSpPr/>
          <p:nvPr/>
        </p:nvSpPr>
        <p:spPr>
          <a:xfrm flipV="1">
            <a:off x="4554360" y="43876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Line 374"/>
          <p:cNvSpPr/>
          <p:nvPr/>
        </p:nvSpPr>
        <p:spPr>
          <a:xfrm flipV="1">
            <a:off x="4554360" y="434340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Line 375"/>
          <p:cNvSpPr/>
          <p:nvPr/>
        </p:nvSpPr>
        <p:spPr>
          <a:xfrm flipV="1">
            <a:off x="4554360" y="43304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Line 376"/>
          <p:cNvSpPr/>
          <p:nvPr/>
        </p:nvSpPr>
        <p:spPr>
          <a:xfrm flipV="1">
            <a:off x="4554360" y="42861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Line 377"/>
          <p:cNvSpPr/>
          <p:nvPr/>
        </p:nvSpPr>
        <p:spPr>
          <a:xfrm flipV="1">
            <a:off x="4554360" y="42735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Line 378"/>
          <p:cNvSpPr/>
          <p:nvPr/>
        </p:nvSpPr>
        <p:spPr>
          <a:xfrm flipV="1">
            <a:off x="4554360" y="422892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Line 379"/>
          <p:cNvSpPr/>
          <p:nvPr/>
        </p:nvSpPr>
        <p:spPr>
          <a:xfrm flipV="1">
            <a:off x="4554360" y="42163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Line 380"/>
          <p:cNvSpPr/>
          <p:nvPr/>
        </p:nvSpPr>
        <p:spPr>
          <a:xfrm flipV="1">
            <a:off x="4554360" y="41720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Line 381"/>
          <p:cNvSpPr/>
          <p:nvPr/>
        </p:nvSpPr>
        <p:spPr>
          <a:xfrm flipV="1">
            <a:off x="4554360" y="4158720"/>
            <a:ext cx="1800" cy="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Line 382"/>
          <p:cNvSpPr/>
          <p:nvPr/>
        </p:nvSpPr>
        <p:spPr>
          <a:xfrm flipV="1">
            <a:off x="4554360" y="4116240"/>
            <a:ext cx="18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Line 383"/>
          <p:cNvSpPr/>
          <p:nvPr/>
        </p:nvSpPr>
        <p:spPr>
          <a:xfrm flipV="1">
            <a:off x="4554360" y="41036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Line 384"/>
          <p:cNvSpPr/>
          <p:nvPr/>
        </p:nvSpPr>
        <p:spPr>
          <a:xfrm flipV="1">
            <a:off x="4554360" y="405900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Line 385"/>
          <p:cNvSpPr/>
          <p:nvPr/>
        </p:nvSpPr>
        <p:spPr>
          <a:xfrm flipV="1">
            <a:off x="4554360" y="40464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Line 386"/>
          <p:cNvSpPr/>
          <p:nvPr/>
        </p:nvSpPr>
        <p:spPr>
          <a:xfrm flipV="1">
            <a:off x="4554360" y="4002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Line 387"/>
          <p:cNvSpPr/>
          <p:nvPr/>
        </p:nvSpPr>
        <p:spPr>
          <a:xfrm flipV="1">
            <a:off x="4554360" y="39891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Line 388"/>
          <p:cNvSpPr/>
          <p:nvPr/>
        </p:nvSpPr>
        <p:spPr>
          <a:xfrm flipV="1">
            <a:off x="4554360" y="394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Line 389"/>
          <p:cNvSpPr/>
          <p:nvPr/>
        </p:nvSpPr>
        <p:spPr>
          <a:xfrm flipV="1">
            <a:off x="4554360" y="39322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Line 390"/>
          <p:cNvSpPr/>
          <p:nvPr/>
        </p:nvSpPr>
        <p:spPr>
          <a:xfrm flipV="1">
            <a:off x="4554360" y="38876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Line 391"/>
          <p:cNvSpPr/>
          <p:nvPr/>
        </p:nvSpPr>
        <p:spPr>
          <a:xfrm flipV="1">
            <a:off x="4554360" y="38750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Line 392"/>
          <p:cNvSpPr/>
          <p:nvPr/>
        </p:nvSpPr>
        <p:spPr>
          <a:xfrm flipV="1">
            <a:off x="4554360" y="383040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Line 393"/>
          <p:cNvSpPr/>
          <p:nvPr/>
        </p:nvSpPr>
        <p:spPr>
          <a:xfrm flipV="1">
            <a:off x="4554360" y="38178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Line 394"/>
          <p:cNvSpPr/>
          <p:nvPr/>
        </p:nvSpPr>
        <p:spPr>
          <a:xfrm flipV="1">
            <a:off x="4554360" y="37735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Line 395"/>
          <p:cNvSpPr/>
          <p:nvPr/>
        </p:nvSpPr>
        <p:spPr>
          <a:xfrm flipV="1">
            <a:off x="4554360" y="376200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Line 396"/>
          <p:cNvSpPr/>
          <p:nvPr/>
        </p:nvSpPr>
        <p:spPr>
          <a:xfrm flipV="1">
            <a:off x="4554360" y="371268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Line 397"/>
          <p:cNvSpPr/>
          <p:nvPr/>
        </p:nvSpPr>
        <p:spPr>
          <a:xfrm flipH="1">
            <a:off x="5079600" y="4084560"/>
            <a:ext cx="49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Line 398"/>
          <p:cNvSpPr/>
          <p:nvPr/>
        </p:nvSpPr>
        <p:spPr>
          <a:xfrm flipV="1">
            <a:off x="5232240" y="4084200"/>
            <a:ext cx="180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Line 399"/>
          <p:cNvSpPr/>
          <p:nvPr/>
        </p:nvSpPr>
        <p:spPr>
          <a:xfrm flipV="1">
            <a:off x="5402160" y="4084560"/>
            <a:ext cx="1800" cy="144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Line 400"/>
          <p:cNvSpPr/>
          <p:nvPr/>
        </p:nvSpPr>
        <p:spPr>
          <a:xfrm flipH="1">
            <a:off x="4554360" y="4084560"/>
            <a:ext cx="525600" cy="87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Freeform 551"/>
          <p:cNvSpPr/>
          <p:nvPr/>
        </p:nvSpPr>
        <p:spPr>
          <a:xfrm>
            <a:off x="3948120" y="5238720"/>
            <a:ext cx="271440" cy="349200"/>
          </a:xfrm>
          <a:custGeom>
            <a:avLst/>
            <a:gdLst>
              <a:gd name="textAreaLeft" fmla="*/ 0 w 271440"/>
              <a:gd name="textAreaRight" fmla="*/ 271800 w 2714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029" h="1319">
                <a:moveTo>
                  <a:pt x="0" y="0"/>
                </a:moveTo>
                <a:lnTo>
                  <a:pt x="62" y="179"/>
                </a:lnTo>
                <a:lnTo>
                  <a:pt x="140" y="353"/>
                </a:lnTo>
                <a:lnTo>
                  <a:pt x="231" y="520"/>
                </a:lnTo>
                <a:lnTo>
                  <a:pt x="335" y="679"/>
                </a:lnTo>
                <a:lnTo>
                  <a:pt x="453" y="828"/>
                </a:lnTo>
                <a:lnTo>
                  <a:pt x="581" y="969"/>
                </a:lnTo>
                <a:lnTo>
                  <a:pt x="721" y="1097"/>
                </a:lnTo>
                <a:lnTo>
                  <a:pt x="870" y="1214"/>
                </a:lnTo>
                <a:lnTo>
                  <a:pt x="1029" y="1319"/>
                </a:lnTo>
              </a:path>
            </a:pathLst>
          </a:custGeom>
          <a:noFill/>
          <a:ln w="5724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5" name="Object 553"/>
          <p:cNvGraphicFramePr/>
          <p:nvPr/>
        </p:nvGraphicFramePr>
        <p:xfrm>
          <a:off x="4294080" y="5405400"/>
          <a:ext cx="43200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6" name="Object 5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94080" y="5405400"/>
                    <a:ext cx="4320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7" name="Object 554"/>
          <p:cNvGraphicFramePr/>
          <p:nvPr/>
        </p:nvGraphicFramePr>
        <p:xfrm>
          <a:off x="7372440" y="5462640"/>
          <a:ext cx="431640" cy="4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8" name="Object 5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72440" y="5462640"/>
                    <a:ext cx="4316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9" name="Object 555"/>
          <p:cNvGraphicFramePr/>
          <p:nvPr/>
        </p:nvGraphicFramePr>
        <p:xfrm>
          <a:off x="5673600" y="3824280"/>
          <a:ext cx="322560" cy="48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0" name="Object 55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73600" y="3824280"/>
                    <a:ext cx="322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1" name="Object 556"/>
          <p:cNvGraphicFramePr/>
          <p:nvPr/>
        </p:nvGraphicFramePr>
        <p:xfrm>
          <a:off x="8720280" y="3895560"/>
          <a:ext cx="322200" cy="4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62" name="Object 55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720280" y="3895560"/>
                    <a:ext cx="3222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3" name="Line 561"/>
          <p:cNvSpPr/>
          <p:nvPr/>
        </p:nvSpPr>
        <p:spPr>
          <a:xfrm flipV="1">
            <a:off x="1573200" y="3706920"/>
            <a:ext cx="1440" cy="12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Line 562"/>
          <p:cNvSpPr/>
          <p:nvPr/>
        </p:nvSpPr>
        <p:spPr>
          <a:xfrm>
            <a:off x="1573200" y="4948200"/>
            <a:ext cx="1440" cy="135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Line 563"/>
          <p:cNvSpPr/>
          <p:nvPr/>
        </p:nvSpPr>
        <p:spPr>
          <a:xfrm flipH="1">
            <a:off x="213840" y="4948200"/>
            <a:ext cx="135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Line 565"/>
          <p:cNvSpPr/>
          <p:nvPr/>
        </p:nvSpPr>
        <p:spPr>
          <a:xfrm>
            <a:off x="2589120" y="4948200"/>
            <a:ext cx="187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Line 566"/>
          <p:cNvSpPr/>
          <p:nvPr/>
        </p:nvSpPr>
        <p:spPr>
          <a:xfrm flipV="1">
            <a:off x="2589120" y="4473720"/>
            <a:ext cx="1800" cy="474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Line 567"/>
          <p:cNvSpPr/>
          <p:nvPr/>
        </p:nvSpPr>
        <p:spPr>
          <a:xfrm>
            <a:off x="1573200" y="4948200"/>
            <a:ext cx="10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Line 568"/>
          <p:cNvSpPr/>
          <p:nvPr/>
        </p:nvSpPr>
        <p:spPr>
          <a:xfrm flipV="1">
            <a:off x="1743120" y="4869000"/>
            <a:ext cx="1440" cy="79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Line 569"/>
          <p:cNvSpPr/>
          <p:nvPr/>
        </p:nvSpPr>
        <p:spPr>
          <a:xfrm flipV="1">
            <a:off x="1913040" y="4789080"/>
            <a:ext cx="1440" cy="158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Line 570"/>
          <p:cNvSpPr/>
          <p:nvPr/>
        </p:nvSpPr>
        <p:spPr>
          <a:xfrm flipV="1">
            <a:off x="2081160" y="4709880"/>
            <a:ext cx="1800" cy="237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Line 571"/>
          <p:cNvSpPr/>
          <p:nvPr/>
        </p:nvSpPr>
        <p:spPr>
          <a:xfrm flipV="1">
            <a:off x="2251080" y="4632120"/>
            <a:ext cx="1440" cy="315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Line 572"/>
          <p:cNvSpPr/>
          <p:nvPr/>
        </p:nvSpPr>
        <p:spPr>
          <a:xfrm flipV="1">
            <a:off x="2421000" y="4552920"/>
            <a:ext cx="1440" cy="39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Line 573"/>
          <p:cNvSpPr/>
          <p:nvPr/>
        </p:nvSpPr>
        <p:spPr>
          <a:xfrm flipV="1">
            <a:off x="1573200" y="4473720"/>
            <a:ext cx="1015920" cy="47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Freeform 574"/>
          <p:cNvSpPr/>
          <p:nvPr/>
        </p:nvSpPr>
        <p:spPr>
          <a:xfrm>
            <a:off x="965160" y="5180040"/>
            <a:ext cx="271440" cy="349200"/>
          </a:xfrm>
          <a:custGeom>
            <a:avLst/>
            <a:gdLst>
              <a:gd name="textAreaLeft" fmla="*/ 0 w 271440"/>
              <a:gd name="textAreaRight" fmla="*/ 271800 w 2714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029" h="1319">
                <a:moveTo>
                  <a:pt x="0" y="0"/>
                </a:moveTo>
                <a:lnTo>
                  <a:pt x="62" y="179"/>
                </a:lnTo>
                <a:lnTo>
                  <a:pt x="140" y="353"/>
                </a:lnTo>
                <a:lnTo>
                  <a:pt x="231" y="520"/>
                </a:lnTo>
                <a:lnTo>
                  <a:pt x="335" y="679"/>
                </a:lnTo>
                <a:lnTo>
                  <a:pt x="453" y="828"/>
                </a:lnTo>
                <a:lnTo>
                  <a:pt x="581" y="969"/>
                </a:lnTo>
                <a:lnTo>
                  <a:pt x="721" y="1097"/>
                </a:lnTo>
                <a:lnTo>
                  <a:pt x="870" y="1214"/>
                </a:lnTo>
                <a:lnTo>
                  <a:pt x="1029" y="1319"/>
                </a:lnTo>
              </a:path>
            </a:pathLst>
          </a:custGeom>
          <a:noFill/>
          <a:ln w="5724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6" name="Object 575"/>
          <p:cNvGraphicFramePr/>
          <p:nvPr/>
        </p:nvGraphicFramePr>
        <p:xfrm>
          <a:off x="1311120" y="5346720"/>
          <a:ext cx="432000" cy="409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77" name="Object 57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11120" y="5346720"/>
                    <a:ext cx="4320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8" name="AutoShape 576">
            <a:hlinkClick r:id="" action="ppaction://hlinkshowjump?jump=nextslide"/>
            <a:hlinkClick r:id="rId15"/>
          </p:cNvPr>
          <p:cNvSpPr/>
          <p:nvPr/>
        </p:nvSpPr>
        <p:spPr>
          <a:xfrm>
            <a:off x="8147160" y="58532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Line 577"/>
          <p:cNvSpPr/>
          <p:nvPr/>
        </p:nvSpPr>
        <p:spPr>
          <a:xfrm flipV="1">
            <a:off x="7608960" y="4092120"/>
            <a:ext cx="1440" cy="870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Freeform 17"/>
          <p:cNvSpPr/>
          <p:nvPr/>
        </p:nvSpPr>
        <p:spPr>
          <a:xfrm>
            <a:off x="2778120" y="4010040"/>
            <a:ext cx="2030400" cy="2033640"/>
          </a:xfrm>
          <a:custGeom>
            <a:avLst/>
            <a:gdLst>
              <a:gd name="textAreaLeft" fmla="*/ 0 w 2030400"/>
              <a:gd name="textAreaRight" fmla="*/ 2030760 w 203040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7680" h="7686">
                <a:moveTo>
                  <a:pt x="7680" y="3842"/>
                </a:moveTo>
                <a:lnTo>
                  <a:pt x="7672" y="3610"/>
                </a:lnTo>
                <a:lnTo>
                  <a:pt x="7651" y="3379"/>
                </a:lnTo>
                <a:lnTo>
                  <a:pt x="7616" y="3150"/>
                </a:lnTo>
                <a:lnTo>
                  <a:pt x="7568" y="2923"/>
                </a:lnTo>
                <a:lnTo>
                  <a:pt x="7505" y="2699"/>
                </a:lnTo>
                <a:lnTo>
                  <a:pt x="7430" y="2479"/>
                </a:lnTo>
                <a:lnTo>
                  <a:pt x="7341" y="2266"/>
                </a:lnTo>
                <a:lnTo>
                  <a:pt x="7239" y="2056"/>
                </a:lnTo>
                <a:lnTo>
                  <a:pt x="7126" y="1854"/>
                </a:lnTo>
                <a:lnTo>
                  <a:pt x="7000" y="1659"/>
                </a:lnTo>
                <a:lnTo>
                  <a:pt x="6862" y="1473"/>
                </a:lnTo>
                <a:lnTo>
                  <a:pt x="6714" y="1294"/>
                </a:lnTo>
                <a:lnTo>
                  <a:pt x="6554" y="1125"/>
                </a:lnTo>
                <a:lnTo>
                  <a:pt x="6386" y="965"/>
                </a:lnTo>
                <a:lnTo>
                  <a:pt x="6208" y="817"/>
                </a:lnTo>
                <a:lnTo>
                  <a:pt x="6021" y="679"/>
                </a:lnTo>
                <a:lnTo>
                  <a:pt x="5826" y="553"/>
                </a:lnTo>
                <a:lnTo>
                  <a:pt x="5624" y="439"/>
                </a:lnTo>
                <a:lnTo>
                  <a:pt x="5415" y="337"/>
                </a:lnTo>
                <a:lnTo>
                  <a:pt x="5201" y="250"/>
                </a:lnTo>
                <a:lnTo>
                  <a:pt x="4982" y="173"/>
                </a:lnTo>
                <a:lnTo>
                  <a:pt x="4759" y="111"/>
                </a:lnTo>
                <a:lnTo>
                  <a:pt x="4532" y="62"/>
                </a:lnTo>
                <a:lnTo>
                  <a:pt x="4302" y="27"/>
                </a:lnTo>
                <a:lnTo>
                  <a:pt x="4071" y="6"/>
                </a:lnTo>
                <a:lnTo>
                  <a:pt x="3839" y="0"/>
                </a:lnTo>
                <a:lnTo>
                  <a:pt x="3608" y="6"/>
                </a:lnTo>
                <a:lnTo>
                  <a:pt x="3377" y="27"/>
                </a:lnTo>
                <a:lnTo>
                  <a:pt x="3148" y="62"/>
                </a:lnTo>
                <a:lnTo>
                  <a:pt x="2920" y="111"/>
                </a:lnTo>
                <a:lnTo>
                  <a:pt x="2697" y="173"/>
                </a:lnTo>
                <a:lnTo>
                  <a:pt x="2478" y="250"/>
                </a:lnTo>
                <a:lnTo>
                  <a:pt x="2264" y="337"/>
                </a:lnTo>
                <a:lnTo>
                  <a:pt x="2055" y="439"/>
                </a:lnTo>
                <a:lnTo>
                  <a:pt x="1853" y="553"/>
                </a:lnTo>
                <a:lnTo>
                  <a:pt x="1658" y="679"/>
                </a:lnTo>
                <a:lnTo>
                  <a:pt x="1472" y="817"/>
                </a:lnTo>
                <a:lnTo>
                  <a:pt x="1293" y="965"/>
                </a:lnTo>
                <a:lnTo>
                  <a:pt x="1125" y="1125"/>
                </a:lnTo>
                <a:lnTo>
                  <a:pt x="966" y="1294"/>
                </a:lnTo>
                <a:lnTo>
                  <a:pt x="818" y="1473"/>
                </a:lnTo>
                <a:lnTo>
                  <a:pt x="680" y="1659"/>
                </a:lnTo>
                <a:lnTo>
                  <a:pt x="554" y="1854"/>
                </a:lnTo>
                <a:lnTo>
                  <a:pt x="440" y="2056"/>
                </a:lnTo>
                <a:lnTo>
                  <a:pt x="338" y="2266"/>
                </a:lnTo>
                <a:lnTo>
                  <a:pt x="249" y="2479"/>
                </a:lnTo>
                <a:lnTo>
                  <a:pt x="174" y="2699"/>
                </a:lnTo>
                <a:lnTo>
                  <a:pt x="111" y="2923"/>
                </a:lnTo>
                <a:lnTo>
                  <a:pt x="63" y="3150"/>
                </a:lnTo>
                <a:lnTo>
                  <a:pt x="28" y="3379"/>
                </a:lnTo>
                <a:lnTo>
                  <a:pt x="7" y="3610"/>
                </a:lnTo>
                <a:lnTo>
                  <a:pt x="0" y="3842"/>
                </a:lnTo>
                <a:lnTo>
                  <a:pt x="7" y="4074"/>
                </a:lnTo>
                <a:lnTo>
                  <a:pt x="28" y="4306"/>
                </a:lnTo>
                <a:lnTo>
                  <a:pt x="63" y="4535"/>
                </a:lnTo>
                <a:lnTo>
                  <a:pt x="111" y="4762"/>
                </a:lnTo>
                <a:lnTo>
                  <a:pt x="174" y="4986"/>
                </a:lnTo>
                <a:lnTo>
                  <a:pt x="249" y="5205"/>
                </a:lnTo>
                <a:lnTo>
                  <a:pt x="338" y="5420"/>
                </a:lnTo>
                <a:lnTo>
                  <a:pt x="440" y="5628"/>
                </a:lnTo>
                <a:lnTo>
                  <a:pt x="554" y="5831"/>
                </a:lnTo>
                <a:lnTo>
                  <a:pt x="680" y="6025"/>
                </a:lnTo>
                <a:lnTo>
                  <a:pt x="818" y="6212"/>
                </a:lnTo>
                <a:lnTo>
                  <a:pt x="966" y="6391"/>
                </a:lnTo>
                <a:lnTo>
                  <a:pt x="1125" y="6560"/>
                </a:lnTo>
                <a:lnTo>
                  <a:pt x="1293" y="6719"/>
                </a:lnTo>
                <a:lnTo>
                  <a:pt x="1472" y="6867"/>
                </a:lnTo>
                <a:lnTo>
                  <a:pt x="1658" y="7005"/>
                </a:lnTo>
                <a:lnTo>
                  <a:pt x="1853" y="7131"/>
                </a:lnTo>
                <a:lnTo>
                  <a:pt x="2055" y="7245"/>
                </a:lnTo>
                <a:lnTo>
                  <a:pt x="2264" y="7347"/>
                </a:lnTo>
                <a:lnTo>
                  <a:pt x="2478" y="7436"/>
                </a:lnTo>
                <a:lnTo>
                  <a:pt x="2697" y="7511"/>
                </a:lnTo>
                <a:lnTo>
                  <a:pt x="2920" y="7573"/>
                </a:lnTo>
                <a:lnTo>
                  <a:pt x="3148" y="7622"/>
                </a:lnTo>
                <a:lnTo>
                  <a:pt x="3377" y="7657"/>
                </a:lnTo>
                <a:lnTo>
                  <a:pt x="3608" y="7678"/>
                </a:lnTo>
                <a:lnTo>
                  <a:pt x="3839" y="7686"/>
                </a:lnTo>
                <a:lnTo>
                  <a:pt x="4071" y="7678"/>
                </a:lnTo>
                <a:lnTo>
                  <a:pt x="4302" y="7657"/>
                </a:lnTo>
                <a:lnTo>
                  <a:pt x="4532" y="7622"/>
                </a:lnTo>
                <a:lnTo>
                  <a:pt x="4759" y="7573"/>
                </a:lnTo>
                <a:lnTo>
                  <a:pt x="4982" y="7511"/>
                </a:lnTo>
                <a:lnTo>
                  <a:pt x="5201" y="7436"/>
                </a:lnTo>
                <a:lnTo>
                  <a:pt x="5415" y="7347"/>
                </a:lnTo>
                <a:lnTo>
                  <a:pt x="5624" y="7245"/>
                </a:lnTo>
                <a:lnTo>
                  <a:pt x="5826" y="7131"/>
                </a:lnTo>
                <a:lnTo>
                  <a:pt x="6021" y="7005"/>
                </a:lnTo>
                <a:lnTo>
                  <a:pt x="6208" y="6867"/>
                </a:lnTo>
                <a:lnTo>
                  <a:pt x="6386" y="6719"/>
                </a:lnTo>
                <a:lnTo>
                  <a:pt x="6554" y="6560"/>
                </a:lnTo>
                <a:lnTo>
                  <a:pt x="6714" y="6391"/>
                </a:lnTo>
                <a:lnTo>
                  <a:pt x="6862" y="6212"/>
                </a:lnTo>
                <a:lnTo>
                  <a:pt x="7000" y="6025"/>
                </a:lnTo>
                <a:lnTo>
                  <a:pt x="7126" y="5831"/>
                </a:lnTo>
                <a:lnTo>
                  <a:pt x="7239" y="5628"/>
                </a:lnTo>
                <a:lnTo>
                  <a:pt x="7341" y="5420"/>
                </a:lnTo>
                <a:lnTo>
                  <a:pt x="7430" y="5205"/>
                </a:lnTo>
                <a:lnTo>
                  <a:pt x="7505" y="4986"/>
                </a:lnTo>
                <a:lnTo>
                  <a:pt x="7568" y="4762"/>
                </a:lnTo>
                <a:lnTo>
                  <a:pt x="7616" y="4535"/>
                </a:lnTo>
                <a:lnTo>
                  <a:pt x="7651" y="4306"/>
                </a:lnTo>
                <a:lnTo>
                  <a:pt x="7672" y="4074"/>
                </a:lnTo>
                <a:lnTo>
                  <a:pt x="7680" y="3842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2" name="Object 5"/>
          <p:cNvGraphicFramePr/>
          <p:nvPr/>
        </p:nvGraphicFramePr>
        <p:xfrm>
          <a:off x="755640" y="1131840"/>
          <a:ext cx="2303640" cy="11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31840"/>
                    <a:ext cx="2303640" cy="1192320"/>
                  </a:xfrm>
                  <a:prstGeom prst="rect">
                    <a:avLst/>
                  </a:prstGeom>
                  <a:ln w="28440">
                    <a:solidFill>
                      <a:srgbClr val="ff33cc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284" name="Object 6"/>
          <p:cNvGraphicFramePr/>
          <p:nvPr/>
        </p:nvGraphicFramePr>
        <p:xfrm>
          <a:off x="4500720" y="1131840"/>
          <a:ext cx="2303280" cy="11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131840"/>
                    <a:ext cx="2303280" cy="1138320"/>
                  </a:xfrm>
                  <a:prstGeom prst="rect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286" name="Text Box 7"/>
          <p:cNvSpPr/>
          <p:nvPr/>
        </p:nvSpPr>
        <p:spPr>
          <a:xfrm>
            <a:off x="755640" y="2421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隶书"/>
              </a:rPr>
              <a:t>公式的适用范围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Text Box 8"/>
          <p:cNvSpPr/>
          <p:nvPr/>
        </p:nvSpPr>
        <p:spPr>
          <a:xfrm>
            <a:off x="755640" y="28782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材料必须是各向同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Line 12"/>
          <p:cNvSpPr/>
          <p:nvPr/>
        </p:nvSpPr>
        <p:spPr>
          <a:xfrm flipH="1">
            <a:off x="2435400" y="5027760"/>
            <a:ext cx="1357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Line 13"/>
          <p:cNvSpPr/>
          <p:nvPr/>
        </p:nvSpPr>
        <p:spPr>
          <a:xfrm>
            <a:off x="3792600" y="5027760"/>
            <a:ext cx="10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Line 14"/>
          <p:cNvSpPr/>
          <p:nvPr/>
        </p:nvSpPr>
        <p:spPr>
          <a:xfrm>
            <a:off x="4808520" y="5027760"/>
            <a:ext cx="187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Line 15"/>
          <p:cNvSpPr/>
          <p:nvPr/>
        </p:nvSpPr>
        <p:spPr>
          <a:xfrm>
            <a:off x="3792600" y="5027760"/>
            <a:ext cx="1440" cy="135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Line 16"/>
          <p:cNvSpPr/>
          <p:nvPr/>
        </p:nvSpPr>
        <p:spPr>
          <a:xfrm flipV="1">
            <a:off x="3792600" y="3785760"/>
            <a:ext cx="1440" cy="124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Freeform 18"/>
          <p:cNvSpPr/>
          <p:nvPr/>
        </p:nvSpPr>
        <p:spPr>
          <a:xfrm>
            <a:off x="3097080" y="4329000"/>
            <a:ext cx="1392480" cy="139536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395360"/>
              <a:gd name="textAreaBottom" fmla="*/ 1395720 h 1395360"/>
            </a:gdLst>
            <a:ahLst/>
            <a:rect l="textAreaLeft" t="textAreaTop" r="textAreaRight" b="textAreaBottom"/>
            <a:pathLst>
              <a:path w="5264" h="5269">
                <a:moveTo>
                  <a:pt x="5264" y="2634"/>
                </a:moveTo>
                <a:lnTo>
                  <a:pt x="5256" y="2437"/>
                </a:lnTo>
                <a:lnTo>
                  <a:pt x="5234" y="2241"/>
                </a:lnTo>
                <a:lnTo>
                  <a:pt x="5197" y="2049"/>
                </a:lnTo>
                <a:lnTo>
                  <a:pt x="5146" y="1858"/>
                </a:lnTo>
                <a:lnTo>
                  <a:pt x="5082" y="1672"/>
                </a:lnTo>
                <a:lnTo>
                  <a:pt x="5003" y="1492"/>
                </a:lnTo>
                <a:lnTo>
                  <a:pt x="4911" y="1317"/>
                </a:lnTo>
                <a:lnTo>
                  <a:pt x="4806" y="1151"/>
                </a:lnTo>
                <a:lnTo>
                  <a:pt x="4689" y="992"/>
                </a:lnTo>
                <a:lnTo>
                  <a:pt x="4561" y="843"/>
                </a:lnTo>
                <a:lnTo>
                  <a:pt x="4422" y="704"/>
                </a:lnTo>
                <a:lnTo>
                  <a:pt x="4273" y="575"/>
                </a:lnTo>
                <a:lnTo>
                  <a:pt x="4114" y="458"/>
                </a:lnTo>
                <a:lnTo>
                  <a:pt x="3948" y="353"/>
                </a:lnTo>
                <a:lnTo>
                  <a:pt x="3774" y="261"/>
                </a:lnTo>
                <a:lnTo>
                  <a:pt x="3593" y="182"/>
                </a:lnTo>
                <a:lnTo>
                  <a:pt x="3408" y="117"/>
                </a:lnTo>
                <a:lnTo>
                  <a:pt x="3217" y="67"/>
                </a:lnTo>
                <a:lnTo>
                  <a:pt x="3024" y="29"/>
                </a:lnTo>
                <a:lnTo>
                  <a:pt x="2828" y="7"/>
                </a:lnTo>
                <a:lnTo>
                  <a:pt x="2631" y="0"/>
                </a:lnTo>
                <a:lnTo>
                  <a:pt x="2435" y="7"/>
                </a:lnTo>
                <a:lnTo>
                  <a:pt x="2240" y="29"/>
                </a:lnTo>
                <a:lnTo>
                  <a:pt x="2046" y="67"/>
                </a:lnTo>
                <a:lnTo>
                  <a:pt x="1856" y="117"/>
                </a:lnTo>
                <a:lnTo>
                  <a:pt x="1670" y="182"/>
                </a:lnTo>
                <a:lnTo>
                  <a:pt x="1490" y="261"/>
                </a:lnTo>
                <a:lnTo>
                  <a:pt x="1315" y="353"/>
                </a:lnTo>
                <a:lnTo>
                  <a:pt x="1149" y="458"/>
                </a:lnTo>
                <a:lnTo>
                  <a:pt x="990" y="575"/>
                </a:lnTo>
                <a:lnTo>
                  <a:pt x="842" y="704"/>
                </a:lnTo>
                <a:lnTo>
                  <a:pt x="702" y="843"/>
                </a:lnTo>
                <a:lnTo>
                  <a:pt x="574" y="992"/>
                </a:lnTo>
                <a:lnTo>
                  <a:pt x="458" y="1151"/>
                </a:lnTo>
                <a:lnTo>
                  <a:pt x="353" y="1317"/>
                </a:lnTo>
                <a:lnTo>
                  <a:pt x="261" y="1492"/>
                </a:lnTo>
                <a:lnTo>
                  <a:pt x="181" y="1672"/>
                </a:lnTo>
                <a:lnTo>
                  <a:pt x="117" y="1858"/>
                </a:lnTo>
                <a:lnTo>
                  <a:pt x="66" y="2049"/>
                </a:lnTo>
                <a:lnTo>
                  <a:pt x="29" y="2241"/>
                </a:lnTo>
                <a:lnTo>
                  <a:pt x="8" y="2437"/>
                </a:lnTo>
                <a:lnTo>
                  <a:pt x="0" y="2634"/>
                </a:lnTo>
                <a:lnTo>
                  <a:pt x="8" y="2831"/>
                </a:lnTo>
                <a:lnTo>
                  <a:pt x="29" y="3027"/>
                </a:lnTo>
                <a:lnTo>
                  <a:pt x="66" y="3221"/>
                </a:lnTo>
                <a:lnTo>
                  <a:pt x="117" y="3410"/>
                </a:lnTo>
                <a:lnTo>
                  <a:pt x="181" y="3597"/>
                </a:lnTo>
                <a:lnTo>
                  <a:pt x="261" y="3777"/>
                </a:lnTo>
                <a:lnTo>
                  <a:pt x="353" y="3951"/>
                </a:lnTo>
                <a:lnTo>
                  <a:pt x="458" y="4118"/>
                </a:lnTo>
                <a:lnTo>
                  <a:pt x="574" y="4276"/>
                </a:lnTo>
                <a:lnTo>
                  <a:pt x="702" y="4426"/>
                </a:lnTo>
                <a:lnTo>
                  <a:pt x="842" y="4565"/>
                </a:lnTo>
                <a:lnTo>
                  <a:pt x="990" y="4694"/>
                </a:lnTo>
                <a:lnTo>
                  <a:pt x="1149" y="4811"/>
                </a:lnTo>
                <a:lnTo>
                  <a:pt x="1315" y="4916"/>
                </a:lnTo>
                <a:lnTo>
                  <a:pt x="1490" y="5007"/>
                </a:lnTo>
                <a:lnTo>
                  <a:pt x="1670" y="5086"/>
                </a:lnTo>
                <a:lnTo>
                  <a:pt x="1856" y="5151"/>
                </a:lnTo>
                <a:lnTo>
                  <a:pt x="2046" y="5202"/>
                </a:lnTo>
                <a:lnTo>
                  <a:pt x="2240" y="5239"/>
                </a:lnTo>
                <a:lnTo>
                  <a:pt x="2435" y="5261"/>
                </a:lnTo>
                <a:lnTo>
                  <a:pt x="2631" y="5269"/>
                </a:lnTo>
                <a:lnTo>
                  <a:pt x="2828" y="5261"/>
                </a:lnTo>
                <a:lnTo>
                  <a:pt x="3024" y="5239"/>
                </a:lnTo>
                <a:lnTo>
                  <a:pt x="3217" y="5202"/>
                </a:lnTo>
                <a:lnTo>
                  <a:pt x="3408" y="5151"/>
                </a:lnTo>
                <a:lnTo>
                  <a:pt x="3593" y="5086"/>
                </a:lnTo>
                <a:lnTo>
                  <a:pt x="3774" y="5007"/>
                </a:lnTo>
                <a:lnTo>
                  <a:pt x="3948" y="4916"/>
                </a:lnTo>
                <a:lnTo>
                  <a:pt x="4114" y="4811"/>
                </a:lnTo>
                <a:lnTo>
                  <a:pt x="4273" y="4694"/>
                </a:lnTo>
                <a:lnTo>
                  <a:pt x="4422" y="4565"/>
                </a:lnTo>
                <a:lnTo>
                  <a:pt x="4561" y="4426"/>
                </a:lnTo>
                <a:lnTo>
                  <a:pt x="4689" y="4276"/>
                </a:lnTo>
                <a:lnTo>
                  <a:pt x="4806" y="4118"/>
                </a:lnTo>
                <a:lnTo>
                  <a:pt x="4911" y="3951"/>
                </a:lnTo>
                <a:lnTo>
                  <a:pt x="5003" y="3777"/>
                </a:lnTo>
                <a:lnTo>
                  <a:pt x="5082" y="3597"/>
                </a:lnTo>
                <a:lnTo>
                  <a:pt x="5146" y="3410"/>
                </a:lnTo>
                <a:lnTo>
                  <a:pt x="5197" y="3221"/>
                </a:lnTo>
                <a:lnTo>
                  <a:pt x="5234" y="3027"/>
                </a:lnTo>
                <a:lnTo>
                  <a:pt x="5256" y="2831"/>
                </a:lnTo>
                <a:lnTo>
                  <a:pt x="5264" y="263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Line 19"/>
          <p:cNvSpPr/>
          <p:nvPr/>
        </p:nvSpPr>
        <p:spPr>
          <a:xfrm flipV="1">
            <a:off x="4249800" y="5293800"/>
            <a:ext cx="296640" cy="258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Line 20"/>
          <p:cNvSpPr/>
          <p:nvPr/>
        </p:nvSpPr>
        <p:spPr>
          <a:xfrm flipV="1">
            <a:off x="4489560" y="3806640"/>
            <a:ext cx="1440" cy="122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Line 21"/>
          <p:cNvSpPr/>
          <p:nvPr/>
        </p:nvSpPr>
        <p:spPr>
          <a:xfrm flipH="1" flipV="1">
            <a:off x="4081320" y="4225680"/>
            <a:ext cx="293760" cy="417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Line 22"/>
          <p:cNvSpPr/>
          <p:nvPr/>
        </p:nvSpPr>
        <p:spPr>
          <a:xfrm flipH="1">
            <a:off x="3165480" y="4329000"/>
            <a:ext cx="627120" cy="1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Line 23"/>
          <p:cNvSpPr/>
          <p:nvPr/>
        </p:nvSpPr>
        <p:spPr>
          <a:xfrm flipH="1">
            <a:off x="3005280" y="4497480"/>
            <a:ext cx="334800" cy="299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Line 24"/>
          <p:cNvSpPr/>
          <p:nvPr/>
        </p:nvSpPr>
        <p:spPr>
          <a:xfrm>
            <a:off x="3211560" y="5410080"/>
            <a:ext cx="422280" cy="482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Line 25"/>
          <p:cNvSpPr/>
          <p:nvPr/>
        </p:nvSpPr>
        <p:spPr>
          <a:xfrm>
            <a:off x="3097080" y="5027760"/>
            <a:ext cx="15840" cy="1008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Line 26"/>
          <p:cNvSpPr/>
          <p:nvPr/>
        </p:nvSpPr>
        <p:spPr>
          <a:xfrm>
            <a:off x="3792600" y="5724360"/>
            <a:ext cx="1117440" cy="1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2" name="Object 27"/>
          <p:cNvGraphicFramePr/>
          <p:nvPr/>
        </p:nvGraphicFramePr>
        <p:xfrm>
          <a:off x="4578480" y="3521160"/>
          <a:ext cx="288720" cy="47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3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8480" y="3521160"/>
                    <a:ext cx="28872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4" name="Object 28"/>
          <p:cNvGraphicFramePr/>
          <p:nvPr/>
        </p:nvGraphicFramePr>
        <p:xfrm>
          <a:off x="3971880" y="3855960"/>
          <a:ext cx="341280" cy="4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05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71880" y="3855960"/>
                    <a:ext cx="341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6" name="Object 29"/>
          <p:cNvGraphicFramePr/>
          <p:nvPr/>
        </p:nvGraphicFramePr>
        <p:xfrm>
          <a:off x="2895480" y="4044960"/>
          <a:ext cx="314280" cy="47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7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404496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8" name="Object 30"/>
          <p:cNvGraphicFramePr/>
          <p:nvPr/>
        </p:nvGraphicFramePr>
        <p:xfrm>
          <a:off x="2722680" y="4567320"/>
          <a:ext cx="341280" cy="47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9" name="Object 3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22680" y="4567320"/>
                    <a:ext cx="341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0" name="Object 31"/>
          <p:cNvGraphicFramePr/>
          <p:nvPr/>
        </p:nvGraphicFramePr>
        <p:xfrm>
          <a:off x="2967120" y="5845320"/>
          <a:ext cx="314280" cy="47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11" name="Object 3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67120" y="5845320"/>
                    <a:ext cx="314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2" name="Object 32"/>
          <p:cNvGraphicFramePr/>
          <p:nvPr/>
        </p:nvGraphicFramePr>
        <p:xfrm>
          <a:off x="4870440" y="5511960"/>
          <a:ext cx="341280" cy="471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13" name="Object 3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70440" y="5511960"/>
                    <a:ext cx="341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4" name="Object 33"/>
          <p:cNvGraphicFramePr/>
          <p:nvPr/>
        </p:nvGraphicFramePr>
        <p:xfrm>
          <a:off x="4549680" y="5003640"/>
          <a:ext cx="316080" cy="471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15" name="Object 3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49680" y="5003640"/>
                    <a:ext cx="316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6" name="Object 34"/>
          <p:cNvGraphicFramePr/>
          <p:nvPr/>
        </p:nvGraphicFramePr>
        <p:xfrm>
          <a:off x="3551400" y="5726160"/>
          <a:ext cx="341280" cy="471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17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51400" y="5726160"/>
                    <a:ext cx="341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8" name="AutoShape 35">
            <a:hlinkClick r:id="" action="ppaction://hlinkshowjump?jump=nextslide"/>
            <a:hlinkClick r:id="rId2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0" name="Object 5"/>
          <p:cNvGraphicFramePr/>
          <p:nvPr/>
        </p:nvGraphicFramePr>
        <p:xfrm>
          <a:off x="755640" y="1131840"/>
          <a:ext cx="2303640" cy="11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31840"/>
                    <a:ext cx="2303640" cy="1192320"/>
                  </a:xfrm>
                  <a:prstGeom prst="rect">
                    <a:avLst/>
                  </a:prstGeom>
                  <a:ln w="28440">
                    <a:solidFill>
                      <a:srgbClr val="ff33cc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22" name="Object 6"/>
          <p:cNvGraphicFramePr/>
          <p:nvPr/>
        </p:nvGraphicFramePr>
        <p:xfrm>
          <a:off x="4500720" y="1131840"/>
          <a:ext cx="2303280" cy="11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131840"/>
                    <a:ext cx="2303280" cy="1138320"/>
                  </a:xfrm>
                  <a:prstGeom prst="rect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324" name="Text Box 7"/>
          <p:cNvSpPr/>
          <p:nvPr/>
        </p:nvSpPr>
        <p:spPr>
          <a:xfrm>
            <a:off x="755640" y="2421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隶书"/>
              </a:rPr>
              <a:t>公式的适用范围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Text Box 8"/>
          <p:cNvSpPr/>
          <p:nvPr/>
        </p:nvSpPr>
        <p:spPr>
          <a:xfrm>
            <a:off x="755640" y="28782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必须是小变形条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6" name="Object 9"/>
          <p:cNvGraphicFramePr/>
          <p:nvPr/>
        </p:nvGraphicFramePr>
        <p:xfrm>
          <a:off x="1258920" y="3670200"/>
          <a:ext cx="1800360" cy="14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3670200"/>
                    <a:ext cx="180036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8" name="Freeform 10"/>
          <p:cNvSpPr/>
          <p:nvPr/>
        </p:nvSpPr>
        <p:spPr>
          <a:xfrm>
            <a:off x="5021280" y="2746440"/>
            <a:ext cx="3878280" cy="2414520"/>
          </a:xfrm>
          <a:custGeom>
            <a:avLst/>
            <a:gdLst>
              <a:gd name="textAreaLeft" fmla="*/ 0 w 3878280"/>
              <a:gd name="textAreaRight" fmla="*/ 3878640 w 3878280"/>
              <a:gd name="textAreaTop" fmla="*/ 0 h 2414520"/>
              <a:gd name="textAreaBottom" fmla="*/ 2414880 h 2414520"/>
            </a:gdLst>
            <a:ahLst/>
            <a:rect l="textAreaLeft" t="textAreaTop" r="textAreaRight" b="textAreaBottom"/>
            <a:pathLst>
              <a:path w="14661" h="9124">
                <a:moveTo>
                  <a:pt x="8775" y="0"/>
                </a:moveTo>
                <a:lnTo>
                  <a:pt x="0" y="9124"/>
                </a:lnTo>
                <a:lnTo>
                  <a:pt x="5886" y="9124"/>
                </a:lnTo>
                <a:lnTo>
                  <a:pt x="14661" y="0"/>
                </a:lnTo>
                <a:lnTo>
                  <a:pt x="8775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Freeform 11"/>
          <p:cNvSpPr/>
          <p:nvPr/>
        </p:nvSpPr>
        <p:spPr>
          <a:xfrm>
            <a:off x="6578640" y="2746440"/>
            <a:ext cx="2320920" cy="351468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3514680"/>
              <a:gd name="textAreaBottom" fmla="*/ 3515040 h 3514680"/>
            </a:gdLst>
            <a:ahLst/>
            <a:rect l="textAreaLeft" t="textAreaTop" r="textAreaRight" b="textAreaBottom"/>
            <a:pathLst>
              <a:path w="8775" h="13282">
                <a:moveTo>
                  <a:pt x="0" y="13282"/>
                </a:moveTo>
                <a:lnTo>
                  <a:pt x="0" y="9124"/>
                </a:lnTo>
                <a:lnTo>
                  <a:pt x="8775" y="0"/>
                </a:lnTo>
                <a:lnTo>
                  <a:pt x="0" y="13282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Rectangle 12"/>
          <p:cNvSpPr/>
          <p:nvPr/>
        </p:nvSpPr>
        <p:spPr>
          <a:xfrm>
            <a:off x="5021280" y="5151600"/>
            <a:ext cx="1557360" cy="1099800"/>
          </a:xfrm>
          <a:prstGeom prst="rect">
            <a:avLst/>
          </a:prstGeom>
          <a:solidFill>
            <a:srgbClr val="f7fd0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Text Box 13"/>
          <p:cNvSpPr/>
          <p:nvPr/>
        </p:nvSpPr>
        <p:spPr>
          <a:xfrm>
            <a:off x="7310520" y="5049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Text Box 14"/>
          <p:cNvSpPr/>
          <p:nvPr/>
        </p:nvSpPr>
        <p:spPr>
          <a:xfrm>
            <a:off x="6227640" y="5481720"/>
            <a:ext cx="5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Line 15"/>
          <p:cNvSpPr/>
          <p:nvPr/>
        </p:nvSpPr>
        <p:spPr>
          <a:xfrm flipV="1">
            <a:off x="5021280" y="2746080"/>
            <a:ext cx="2320920" cy="241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Line 16"/>
          <p:cNvSpPr/>
          <p:nvPr/>
        </p:nvSpPr>
        <p:spPr>
          <a:xfrm flipV="1">
            <a:off x="6578640" y="2746080"/>
            <a:ext cx="2320920" cy="241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Line 17"/>
          <p:cNvSpPr/>
          <p:nvPr/>
        </p:nvSpPr>
        <p:spPr>
          <a:xfrm>
            <a:off x="7342200" y="2746440"/>
            <a:ext cx="155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Line 18"/>
          <p:cNvSpPr/>
          <p:nvPr/>
        </p:nvSpPr>
        <p:spPr>
          <a:xfrm flipH="1">
            <a:off x="6578280" y="2746440"/>
            <a:ext cx="2320920" cy="351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Line 19"/>
          <p:cNvSpPr/>
          <p:nvPr/>
        </p:nvSpPr>
        <p:spPr>
          <a:xfrm flipH="1">
            <a:off x="5020920" y="2746440"/>
            <a:ext cx="2320920" cy="351468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Line 20"/>
          <p:cNvSpPr/>
          <p:nvPr/>
        </p:nvSpPr>
        <p:spPr>
          <a:xfrm>
            <a:off x="5021280" y="5160960"/>
            <a:ext cx="155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Line 21"/>
          <p:cNvSpPr/>
          <p:nvPr/>
        </p:nvSpPr>
        <p:spPr>
          <a:xfrm>
            <a:off x="6578640" y="5160960"/>
            <a:ext cx="1440" cy="1100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Line 22"/>
          <p:cNvSpPr/>
          <p:nvPr/>
        </p:nvSpPr>
        <p:spPr>
          <a:xfrm flipH="1">
            <a:off x="5021280" y="6261120"/>
            <a:ext cx="155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Line 23"/>
          <p:cNvSpPr/>
          <p:nvPr/>
        </p:nvSpPr>
        <p:spPr>
          <a:xfrm>
            <a:off x="5907240" y="4240080"/>
            <a:ext cx="1440" cy="68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Line 24"/>
          <p:cNvSpPr/>
          <p:nvPr/>
        </p:nvSpPr>
        <p:spPr>
          <a:xfrm>
            <a:off x="7464600" y="4240080"/>
            <a:ext cx="1440" cy="89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Line 25"/>
          <p:cNvSpPr/>
          <p:nvPr/>
        </p:nvSpPr>
        <p:spPr>
          <a:xfrm>
            <a:off x="6578640" y="6261120"/>
            <a:ext cx="1440" cy="34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Line 26"/>
          <p:cNvSpPr/>
          <p:nvPr/>
        </p:nvSpPr>
        <p:spPr>
          <a:xfrm flipV="1">
            <a:off x="6578640" y="2746080"/>
            <a:ext cx="2320920" cy="2762280"/>
          </a:xfrm>
          <a:prstGeom prst="line">
            <a:avLst/>
          </a:prstGeom>
          <a:ln w="0">
            <a:solidFill>
              <a:srgbClr val="ce3d1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Line 27"/>
          <p:cNvSpPr/>
          <p:nvPr/>
        </p:nvSpPr>
        <p:spPr>
          <a:xfrm flipV="1">
            <a:off x="6578640" y="2746080"/>
            <a:ext cx="2320920" cy="3862440"/>
          </a:xfrm>
          <a:prstGeom prst="line">
            <a:avLst/>
          </a:prstGeom>
          <a:ln w="0">
            <a:solidFill>
              <a:srgbClr val="ce3d1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Line 28"/>
          <p:cNvSpPr/>
          <p:nvPr/>
        </p:nvSpPr>
        <p:spPr>
          <a:xfrm>
            <a:off x="5021280" y="6261120"/>
            <a:ext cx="1557360" cy="347760"/>
          </a:xfrm>
          <a:prstGeom prst="line">
            <a:avLst/>
          </a:prstGeom>
          <a:ln w="0">
            <a:solidFill>
              <a:srgbClr val="ce3d1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Line 29"/>
          <p:cNvSpPr/>
          <p:nvPr/>
        </p:nvSpPr>
        <p:spPr>
          <a:xfrm>
            <a:off x="5021280" y="5160960"/>
            <a:ext cx="1557360" cy="347760"/>
          </a:xfrm>
          <a:prstGeom prst="line">
            <a:avLst/>
          </a:prstGeom>
          <a:ln w="0">
            <a:solidFill>
              <a:srgbClr val="ce3d1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Line 30"/>
          <p:cNvSpPr/>
          <p:nvPr/>
        </p:nvSpPr>
        <p:spPr>
          <a:xfrm flipV="1">
            <a:off x="7342200" y="240516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Line 31"/>
          <p:cNvSpPr/>
          <p:nvPr/>
        </p:nvSpPr>
        <p:spPr>
          <a:xfrm flipV="1">
            <a:off x="8888400" y="240516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Line 32"/>
          <p:cNvSpPr/>
          <p:nvPr/>
        </p:nvSpPr>
        <p:spPr>
          <a:xfrm>
            <a:off x="7342200" y="2500200"/>
            <a:ext cx="1546200" cy="180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Line 33"/>
          <p:cNvSpPr/>
          <p:nvPr/>
        </p:nvSpPr>
        <p:spPr>
          <a:xfrm flipH="1">
            <a:off x="5335560" y="4240080"/>
            <a:ext cx="571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Line 34"/>
          <p:cNvSpPr/>
          <p:nvPr/>
        </p:nvSpPr>
        <p:spPr>
          <a:xfrm flipH="1">
            <a:off x="6396120" y="2746440"/>
            <a:ext cx="9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Line 35"/>
          <p:cNvSpPr/>
          <p:nvPr/>
        </p:nvSpPr>
        <p:spPr>
          <a:xfrm flipH="1">
            <a:off x="5538960" y="2746440"/>
            <a:ext cx="1436400" cy="149364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Line 36"/>
          <p:cNvSpPr/>
          <p:nvPr/>
        </p:nvSpPr>
        <p:spPr>
          <a:xfrm flipH="1">
            <a:off x="4092480" y="5160960"/>
            <a:ext cx="9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Line 37"/>
          <p:cNvSpPr/>
          <p:nvPr/>
        </p:nvSpPr>
        <p:spPr>
          <a:xfrm flipH="1">
            <a:off x="4343040" y="2746440"/>
            <a:ext cx="2320920" cy="241452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Freeform 38"/>
          <p:cNvSpPr/>
          <p:nvPr/>
        </p:nvSpPr>
        <p:spPr>
          <a:xfrm>
            <a:off x="6613560" y="4240080"/>
            <a:ext cx="6480" cy="98640"/>
          </a:xfrm>
          <a:custGeom>
            <a:avLst/>
            <a:gdLst>
              <a:gd name="textAreaLeft" fmla="*/ 0 w 6480"/>
              <a:gd name="textAreaRight" fmla="*/ 6840 w 64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5" h="370">
                <a:moveTo>
                  <a:pt x="0" y="370"/>
                </a:moveTo>
                <a:lnTo>
                  <a:pt x="19" y="185"/>
                </a:lnTo>
                <a:lnTo>
                  <a:pt x="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Freeform 39"/>
          <p:cNvSpPr/>
          <p:nvPr/>
        </p:nvSpPr>
        <p:spPr>
          <a:xfrm>
            <a:off x="5815080" y="5151600"/>
            <a:ext cx="19080" cy="187200"/>
          </a:xfrm>
          <a:custGeom>
            <a:avLst/>
            <a:gdLst>
              <a:gd name="textAreaLeft" fmla="*/ 0 w 19080"/>
              <a:gd name="textAreaRight" fmla="*/ 19440 w 190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4" h="709">
                <a:moveTo>
                  <a:pt x="0" y="709"/>
                </a:moveTo>
                <a:lnTo>
                  <a:pt x="43" y="475"/>
                </a:lnTo>
                <a:lnTo>
                  <a:pt x="68" y="237"/>
                </a:lnTo>
                <a:lnTo>
                  <a:pt x="7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Freeform 40"/>
          <p:cNvSpPr/>
          <p:nvPr/>
        </p:nvSpPr>
        <p:spPr>
          <a:xfrm>
            <a:off x="8066160" y="3129120"/>
            <a:ext cx="199800" cy="277560"/>
          </a:xfrm>
          <a:custGeom>
            <a:avLst/>
            <a:gdLst>
              <a:gd name="textAreaLeft" fmla="*/ 0 w 199800"/>
              <a:gd name="textAreaRight" fmla="*/ 200160 w 19980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754" h="1046">
                <a:moveTo>
                  <a:pt x="0" y="0"/>
                </a:moveTo>
                <a:lnTo>
                  <a:pt x="97" y="192"/>
                </a:lnTo>
                <a:lnTo>
                  <a:pt x="206" y="380"/>
                </a:lnTo>
                <a:lnTo>
                  <a:pt x="327" y="559"/>
                </a:lnTo>
                <a:lnTo>
                  <a:pt x="459" y="730"/>
                </a:lnTo>
                <a:lnTo>
                  <a:pt x="601" y="892"/>
                </a:lnTo>
                <a:lnTo>
                  <a:pt x="754" y="1046"/>
                </a:lnTo>
              </a:path>
            </a:pathLst>
          </a:custGeom>
          <a:noFill/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Freeform 41"/>
          <p:cNvSpPr/>
          <p:nvPr/>
        </p:nvSpPr>
        <p:spPr>
          <a:xfrm>
            <a:off x="8312040" y="3446640"/>
            <a:ext cx="289080" cy="160200"/>
          </a:xfrm>
          <a:custGeom>
            <a:avLst/>
            <a:gdLst>
              <a:gd name="textAreaLeft" fmla="*/ 0 w 289080"/>
              <a:gd name="textAreaRight" fmla="*/ 289440 w 2890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094" h="607">
                <a:moveTo>
                  <a:pt x="0" y="0"/>
                </a:moveTo>
                <a:lnTo>
                  <a:pt x="166" y="129"/>
                </a:lnTo>
                <a:lnTo>
                  <a:pt x="339" y="247"/>
                </a:lnTo>
                <a:lnTo>
                  <a:pt x="519" y="354"/>
                </a:lnTo>
                <a:lnTo>
                  <a:pt x="705" y="450"/>
                </a:lnTo>
                <a:lnTo>
                  <a:pt x="897" y="534"/>
                </a:lnTo>
                <a:lnTo>
                  <a:pt x="1094" y="607"/>
                </a:lnTo>
              </a:path>
            </a:pathLst>
          </a:custGeom>
          <a:noFill/>
          <a:ln w="0">
            <a:solidFill>
              <a:srgbClr val="000000"/>
            </a:solidFill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Text Box 42"/>
          <p:cNvSpPr/>
          <p:nvPr/>
        </p:nvSpPr>
        <p:spPr>
          <a:xfrm>
            <a:off x="4788000" y="49068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Text Box 43"/>
          <p:cNvSpPr/>
          <p:nvPr/>
        </p:nvSpPr>
        <p:spPr>
          <a:xfrm>
            <a:off x="4734000" y="61070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Text Box 44"/>
          <p:cNvSpPr/>
          <p:nvPr/>
        </p:nvSpPr>
        <p:spPr>
          <a:xfrm>
            <a:off x="6299280" y="615456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Text Box 45"/>
          <p:cNvSpPr/>
          <p:nvPr/>
        </p:nvSpPr>
        <p:spPr>
          <a:xfrm>
            <a:off x="6372360" y="4906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Text Box 46"/>
          <p:cNvSpPr/>
          <p:nvPr/>
        </p:nvSpPr>
        <p:spPr>
          <a:xfrm>
            <a:off x="5651640" y="39639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Text Box 47"/>
          <p:cNvSpPr/>
          <p:nvPr/>
        </p:nvSpPr>
        <p:spPr>
          <a:xfrm>
            <a:off x="5651640" y="46832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Text Box 48"/>
          <p:cNvSpPr/>
          <p:nvPr/>
        </p:nvSpPr>
        <p:spPr>
          <a:xfrm>
            <a:off x="7451640" y="47563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Text Box 49"/>
          <p:cNvSpPr/>
          <p:nvPr/>
        </p:nvSpPr>
        <p:spPr>
          <a:xfrm>
            <a:off x="7236000" y="39639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Text Box 50"/>
          <p:cNvSpPr/>
          <p:nvPr/>
        </p:nvSpPr>
        <p:spPr>
          <a:xfrm>
            <a:off x="7380360" y="4330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Text Box 51"/>
          <p:cNvSpPr/>
          <p:nvPr/>
        </p:nvSpPr>
        <p:spPr>
          <a:xfrm rot="18678600">
            <a:off x="5325840" y="35708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Text Box 52"/>
          <p:cNvSpPr/>
          <p:nvPr/>
        </p:nvSpPr>
        <p:spPr>
          <a:xfrm rot="18611400">
            <a:off x="5948280" y="29541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Text Box 53"/>
          <p:cNvSpPr/>
          <p:nvPr/>
        </p:nvSpPr>
        <p:spPr>
          <a:xfrm>
            <a:off x="7956720" y="2170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2" name="Object 54"/>
          <p:cNvGraphicFramePr/>
          <p:nvPr/>
        </p:nvGraphicFramePr>
        <p:xfrm>
          <a:off x="6659640" y="3898800"/>
          <a:ext cx="299880" cy="40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73" name="Object 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3898800"/>
                    <a:ext cx="2998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4" name="Object 55"/>
          <p:cNvGraphicFramePr/>
          <p:nvPr/>
        </p:nvGraphicFramePr>
        <p:xfrm>
          <a:off x="5940360" y="5049720"/>
          <a:ext cx="312840" cy="40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5" name="Object 5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0360" y="5049720"/>
                    <a:ext cx="3128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6" name="Object 56"/>
          <p:cNvGraphicFramePr/>
          <p:nvPr/>
        </p:nvGraphicFramePr>
        <p:xfrm>
          <a:off x="8532720" y="3394080"/>
          <a:ext cx="360360" cy="32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77" name="Object 5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532720" y="3394080"/>
                    <a:ext cx="36036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8" name="Rectangle 57"/>
          <p:cNvSpPr/>
          <p:nvPr/>
        </p:nvSpPr>
        <p:spPr>
          <a:xfrm>
            <a:off x="5907240" y="4240080"/>
            <a:ext cx="1557360" cy="676440"/>
          </a:xfrm>
          <a:prstGeom prst="rect">
            <a:avLst/>
          </a:prstGeom>
          <a:noFill/>
          <a:ln w="0">
            <a:solidFill>
              <a:srgbClr val="ffcf01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Text Box 58"/>
          <p:cNvSpPr/>
          <p:nvPr/>
        </p:nvSpPr>
        <p:spPr>
          <a:xfrm>
            <a:off x="6330960" y="659124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Text Box 59"/>
          <p:cNvSpPr/>
          <p:nvPr/>
        </p:nvSpPr>
        <p:spPr>
          <a:xfrm>
            <a:off x="7020000" y="23860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Text Box 60"/>
          <p:cNvSpPr/>
          <p:nvPr/>
        </p:nvSpPr>
        <p:spPr>
          <a:xfrm>
            <a:off x="8799480" y="24066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Line 61"/>
          <p:cNvSpPr/>
          <p:nvPr/>
        </p:nvSpPr>
        <p:spPr>
          <a:xfrm>
            <a:off x="5900760" y="4238640"/>
            <a:ext cx="1562040" cy="21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Line 62"/>
          <p:cNvSpPr/>
          <p:nvPr/>
        </p:nvSpPr>
        <p:spPr>
          <a:xfrm>
            <a:off x="5905440" y="4915080"/>
            <a:ext cx="1557360" cy="214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Text Box 63"/>
          <p:cNvSpPr/>
          <p:nvPr/>
        </p:nvSpPr>
        <p:spPr>
          <a:xfrm>
            <a:off x="324000" y="54165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纵向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近似地为一条直线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AutoShape 64">
            <a:hlinkClick r:id="" action="ppaction://hlinkshowjump?jump=nextslide"/>
            <a:hlinkClick r:id="rId1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7" name="Object 5"/>
          <p:cNvGraphicFramePr/>
          <p:nvPr/>
        </p:nvGraphicFramePr>
        <p:xfrm>
          <a:off x="1547640" y="2060640"/>
          <a:ext cx="559764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060640"/>
                    <a:ext cx="559764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9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Text Box 8"/>
          <p:cNvSpPr/>
          <p:nvPr/>
        </p:nvSpPr>
        <p:spPr>
          <a:xfrm>
            <a:off x="1547640" y="114768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§9-2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剪应力互等定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扭转_透平"/>
          <p:cNvPicPr/>
          <p:nvPr/>
        </p:nvPicPr>
        <p:blipFill>
          <a:blip r:embed="rId1"/>
          <a:stretch/>
        </p:blipFill>
        <p:spPr>
          <a:xfrm>
            <a:off x="0" y="0"/>
            <a:ext cx="5977080" cy="3621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扭转_丝锥"/>
          <p:cNvPicPr/>
          <p:nvPr/>
        </p:nvPicPr>
        <p:blipFill>
          <a:blip r:embed="rId2"/>
          <a:stretch/>
        </p:blipFill>
        <p:spPr>
          <a:xfrm>
            <a:off x="0" y="3573360"/>
            <a:ext cx="3851280" cy="3286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扭转_齿轮轴"/>
          <p:cNvPicPr/>
          <p:nvPr/>
        </p:nvPicPr>
        <p:blipFill>
          <a:blip r:embed="rId3"/>
          <a:stretch/>
        </p:blipFill>
        <p:spPr>
          <a:xfrm>
            <a:off x="4788000" y="3462480"/>
            <a:ext cx="3671640" cy="3395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扭转_螺丝刀"/>
          <p:cNvPicPr/>
          <p:nvPr/>
        </p:nvPicPr>
        <p:blipFill>
          <a:blip r:embed="rId4"/>
          <a:stretch/>
        </p:blipFill>
        <p:spPr>
          <a:xfrm>
            <a:off x="6877080" y="0"/>
            <a:ext cx="15415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AutoShape 42">
            <a:hlinkClick r:id="" action="ppaction://hlinkshowjump?jump=nextslide"/>
          </p:cNvPr>
          <p:cNvSpPr/>
          <p:nvPr/>
        </p:nvSpPr>
        <p:spPr>
          <a:xfrm>
            <a:off x="8101080" y="5870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AutoShape 5"/>
          <p:cNvSpPr/>
          <p:nvPr/>
        </p:nvSpPr>
        <p:spPr>
          <a:xfrm>
            <a:off x="755640" y="2421000"/>
            <a:ext cx="2736720" cy="273672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Line 6"/>
          <p:cNvSpPr/>
          <p:nvPr/>
        </p:nvSpPr>
        <p:spPr>
          <a:xfrm>
            <a:off x="1476360" y="2421000"/>
            <a:ext cx="0" cy="202860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Line 7"/>
          <p:cNvSpPr/>
          <p:nvPr/>
        </p:nvSpPr>
        <p:spPr>
          <a:xfrm flipH="1">
            <a:off x="1476360" y="4437000"/>
            <a:ext cx="2016000" cy="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Line 8"/>
          <p:cNvSpPr/>
          <p:nvPr/>
        </p:nvSpPr>
        <p:spPr>
          <a:xfrm flipV="1">
            <a:off x="755640" y="4437000"/>
            <a:ext cx="720720" cy="72072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Line 9"/>
          <p:cNvSpPr/>
          <p:nvPr/>
        </p:nvSpPr>
        <p:spPr>
          <a:xfrm>
            <a:off x="3132000" y="3284640"/>
            <a:ext cx="0" cy="93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Line 12"/>
          <p:cNvSpPr/>
          <p:nvPr/>
        </p:nvSpPr>
        <p:spPr>
          <a:xfrm flipV="1">
            <a:off x="1157400" y="3284280"/>
            <a:ext cx="0" cy="93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Line 13"/>
          <p:cNvSpPr/>
          <p:nvPr/>
        </p:nvSpPr>
        <p:spPr>
          <a:xfrm>
            <a:off x="1806480" y="2751120"/>
            <a:ext cx="9367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Line 14"/>
          <p:cNvSpPr/>
          <p:nvPr/>
        </p:nvSpPr>
        <p:spPr>
          <a:xfrm>
            <a:off x="1806480" y="4826160"/>
            <a:ext cx="93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Text Box 15"/>
          <p:cNvSpPr/>
          <p:nvPr/>
        </p:nvSpPr>
        <p:spPr>
          <a:xfrm>
            <a:off x="1187280" y="981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隶书"/>
              </a:rPr>
              <a:t>剪应力互等定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Text Box 16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2" name="Object 17"/>
          <p:cNvGraphicFramePr/>
          <p:nvPr/>
        </p:nvGraphicFramePr>
        <p:xfrm>
          <a:off x="3203640" y="3141720"/>
          <a:ext cx="3920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141720"/>
                    <a:ext cx="3920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4" name="Object 18"/>
          <p:cNvGraphicFramePr/>
          <p:nvPr/>
        </p:nvGraphicFramePr>
        <p:xfrm>
          <a:off x="792000" y="3141720"/>
          <a:ext cx="39240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0" y="3141720"/>
                    <a:ext cx="392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6" name="Object 19"/>
          <p:cNvGraphicFramePr/>
          <p:nvPr/>
        </p:nvGraphicFramePr>
        <p:xfrm>
          <a:off x="2766960" y="2460600"/>
          <a:ext cx="471600" cy="5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7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6960" y="2460600"/>
                    <a:ext cx="4716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8" name="Object 20"/>
          <p:cNvGraphicFramePr/>
          <p:nvPr/>
        </p:nvGraphicFramePr>
        <p:xfrm>
          <a:off x="1415880" y="4554360"/>
          <a:ext cx="47016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9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15880" y="4554360"/>
                    <a:ext cx="4701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0" name="Line 21"/>
          <p:cNvSpPr/>
          <p:nvPr/>
        </p:nvSpPr>
        <p:spPr>
          <a:xfrm>
            <a:off x="768240" y="5154480"/>
            <a:ext cx="0" cy="71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Line 22"/>
          <p:cNvSpPr/>
          <p:nvPr/>
        </p:nvSpPr>
        <p:spPr>
          <a:xfrm>
            <a:off x="2809800" y="5154480"/>
            <a:ext cx="0" cy="71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Line 23"/>
          <p:cNvSpPr/>
          <p:nvPr/>
        </p:nvSpPr>
        <p:spPr>
          <a:xfrm>
            <a:off x="3498840" y="4491000"/>
            <a:ext cx="0" cy="71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Line 24"/>
          <p:cNvSpPr/>
          <p:nvPr/>
        </p:nvSpPr>
        <p:spPr>
          <a:xfrm flipH="1">
            <a:off x="263160" y="5154480"/>
            <a:ext cx="477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Line 25"/>
          <p:cNvSpPr/>
          <p:nvPr/>
        </p:nvSpPr>
        <p:spPr>
          <a:xfrm flipH="1">
            <a:off x="304920" y="3112920"/>
            <a:ext cx="436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Line 26"/>
          <p:cNvSpPr/>
          <p:nvPr/>
        </p:nvSpPr>
        <p:spPr>
          <a:xfrm>
            <a:off x="407880" y="3100320"/>
            <a:ext cx="0" cy="205416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Line 27"/>
          <p:cNvSpPr/>
          <p:nvPr/>
        </p:nvSpPr>
        <p:spPr>
          <a:xfrm>
            <a:off x="755640" y="5645160"/>
            <a:ext cx="2054160" cy="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Line 29"/>
          <p:cNvSpPr/>
          <p:nvPr/>
        </p:nvSpPr>
        <p:spPr>
          <a:xfrm flipV="1">
            <a:off x="2809800" y="4982760"/>
            <a:ext cx="689040" cy="66204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8" name="Object 30"/>
          <p:cNvGraphicFramePr/>
          <p:nvPr/>
        </p:nvGraphicFramePr>
        <p:xfrm>
          <a:off x="3059280" y="5200560"/>
          <a:ext cx="46008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9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5200560"/>
                    <a:ext cx="4600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0" name="Object 31"/>
          <p:cNvGraphicFramePr/>
          <p:nvPr/>
        </p:nvGraphicFramePr>
        <p:xfrm>
          <a:off x="11160" y="3851280"/>
          <a:ext cx="431640" cy="4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21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160" y="3851280"/>
                    <a:ext cx="4316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2" name="Object 33"/>
          <p:cNvGraphicFramePr/>
          <p:nvPr/>
        </p:nvGraphicFramePr>
        <p:xfrm>
          <a:off x="1628640" y="5229360"/>
          <a:ext cx="432000" cy="40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3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28640" y="5229360"/>
                    <a:ext cx="4320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4" name="Object 34"/>
          <p:cNvGraphicFramePr/>
          <p:nvPr/>
        </p:nvGraphicFramePr>
        <p:xfrm>
          <a:off x="4137120" y="1473120"/>
          <a:ext cx="1860480" cy="465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25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37120" y="1473120"/>
                    <a:ext cx="1860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6" name="Object 35"/>
          <p:cNvGraphicFramePr/>
          <p:nvPr/>
        </p:nvGraphicFramePr>
        <p:xfrm>
          <a:off x="6640560" y="1433520"/>
          <a:ext cx="1724040" cy="530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27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40560" y="1433520"/>
                    <a:ext cx="17240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8" name="Object 36"/>
          <p:cNvGraphicFramePr/>
          <p:nvPr/>
        </p:nvGraphicFramePr>
        <p:xfrm>
          <a:off x="6105600" y="1503360"/>
          <a:ext cx="530280" cy="477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29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05600" y="1503360"/>
                    <a:ext cx="5302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0" name="AutoShape 37"/>
          <p:cNvSpPr/>
          <p:nvPr/>
        </p:nvSpPr>
        <p:spPr>
          <a:xfrm>
            <a:off x="5997600" y="2101680"/>
            <a:ext cx="3747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1" name="Object 38"/>
          <p:cNvGraphicFramePr/>
          <p:nvPr/>
        </p:nvGraphicFramePr>
        <p:xfrm>
          <a:off x="5478480" y="2460600"/>
          <a:ext cx="1252440" cy="584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32" name="Object 3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78480" y="2460600"/>
                    <a:ext cx="12524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3" name="Text Box 39"/>
          <p:cNvSpPr/>
          <p:nvPr/>
        </p:nvSpPr>
        <p:spPr>
          <a:xfrm>
            <a:off x="4030560" y="3284640"/>
            <a:ext cx="4683240" cy="1137600"/>
          </a:xfrm>
          <a:prstGeom prst="rect">
            <a:avLst/>
          </a:prstGeom>
          <a:solidFill>
            <a:srgbClr val="00ffff"/>
          </a:solidFill>
          <a:ln w="0">
            <a:solidFill>
              <a:srgbClr val="ff0000"/>
            </a:solidFill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剪应力互等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在一个单元体中的两个互相垂直的面。如果一个面上有垂直于公共边的剪应力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，则另一个面上也一定存在着垂直于公共边的剪应力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，它们大小相等，同时指向或同时背离公共边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Freeform 5"/>
          <p:cNvSpPr/>
          <p:nvPr/>
        </p:nvSpPr>
        <p:spPr>
          <a:xfrm>
            <a:off x="1790640" y="1994040"/>
            <a:ext cx="4783320" cy="2436840"/>
          </a:xfrm>
          <a:custGeom>
            <a:avLst/>
            <a:gdLst>
              <a:gd name="textAreaLeft" fmla="*/ 0 w 4783320"/>
              <a:gd name="textAreaRight" fmla="*/ 4783680 w 4783320"/>
              <a:gd name="textAreaTop" fmla="*/ 0 h 2436840"/>
              <a:gd name="textAreaBottom" fmla="*/ 2437200 h 2436840"/>
            </a:gdLst>
            <a:ahLst/>
            <a:rect l="textAreaLeft" t="textAreaTop" r="textAreaRight" b="textAreaBottom"/>
            <a:pathLst>
              <a:path w="2048" h="950">
                <a:moveTo>
                  <a:pt x="1323" y="0"/>
                </a:moveTo>
                <a:lnTo>
                  <a:pt x="0" y="950"/>
                </a:lnTo>
                <a:lnTo>
                  <a:pt x="720" y="950"/>
                </a:lnTo>
                <a:lnTo>
                  <a:pt x="2048" y="6"/>
                </a:lnTo>
                <a:lnTo>
                  <a:pt x="1323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Freeform 6"/>
          <p:cNvSpPr/>
          <p:nvPr/>
        </p:nvSpPr>
        <p:spPr>
          <a:xfrm>
            <a:off x="3465360" y="2003400"/>
            <a:ext cx="3117960" cy="3954600"/>
          </a:xfrm>
          <a:custGeom>
            <a:avLst/>
            <a:gdLst>
              <a:gd name="textAreaLeft" fmla="*/ 0 w 3117960"/>
              <a:gd name="textAreaRight" fmla="*/ 3118320 w 3117960"/>
              <a:gd name="textAreaTop" fmla="*/ 0 h 3954600"/>
              <a:gd name="textAreaBottom" fmla="*/ 3954960 h 3954600"/>
            </a:gdLst>
            <a:ahLst/>
            <a:rect l="textAreaLeft" t="textAreaTop" r="textAreaRight" b="textAreaBottom"/>
            <a:pathLst>
              <a:path w="1335" h="1542">
                <a:moveTo>
                  <a:pt x="1335" y="0"/>
                </a:moveTo>
                <a:lnTo>
                  <a:pt x="0" y="948"/>
                </a:lnTo>
                <a:lnTo>
                  <a:pt x="6" y="1542"/>
                </a:lnTo>
                <a:lnTo>
                  <a:pt x="1335" y="0"/>
                </a:lnTo>
                <a:close/>
              </a:path>
            </a:pathLst>
          </a:custGeom>
          <a:solidFill>
            <a:srgbClr val="00ffff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Rectangle 7"/>
          <p:cNvSpPr/>
          <p:nvPr/>
        </p:nvSpPr>
        <p:spPr>
          <a:xfrm>
            <a:off x="1785960" y="4414680"/>
            <a:ext cx="1709640" cy="1546560"/>
          </a:xfrm>
          <a:prstGeom prst="rect">
            <a:avLst/>
          </a:prstGeom>
          <a:solidFill>
            <a:srgbClr val="f7fd03"/>
          </a:solidFill>
          <a:ln w="0">
            <a:solidFill>
              <a:srgbClr val="ffcf01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Rectangle 8"/>
          <p:cNvSpPr/>
          <p:nvPr/>
        </p:nvSpPr>
        <p:spPr>
          <a:xfrm>
            <a:off x="1797120" y="4424400"/>
            <a:ext cx="1682640" cy="1536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Line 9"/>
          <p:cNvSpPr/>
          <p:nvPr/>
        </p:nvSpPr>
        <p:spPr>
          <a:xfrm flipV="1">
            <a:off x="1797120" y="2014560"/>
            <a:ext cx="3106800" cy="240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Line 10"/>
          <p:cNvSpPr/>
          <p:nvPr/>
        </p:nvSpPr>
        <p:spPr>
          <a:xfrm flipV="1">
            <a:off x="3479760" y="2014560"/>
            <a:ext cx="3105360" cy="240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Line 11"/>
          <p:cNvSpPr/>
          <p:nvPr/>
        </p:nvSpPr>
        <p:spPr>
          <a:xfrm>
            <a:off x="4903920" y="2014560"/>
            <a:ext cx="16812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Line 12"/>
          <p:cNvSpPr/>
          <p:nvPr/>
        </p:nvSpPr>
        <p:spPr>
          <a:xfrm flipV="1">
            <a:off x="3479760" y="2014200"/>
            <a:ext cx="3105360" cy="394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Line 13"/>
          <p:cNvSpPr/>
          <p:nvPr/>
        </p:nvSpPr>
        <p:spPr>
          <a:xfrm flipV="1">
            <a:off x="1797120" y="2014200"/>
            <a:ext cx="3106800" cy="394668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Line 14"/>
          <p:cNvSpPr/>
          <p:nvPr/>
        </p:nvSpPr>
        <p:spPr>
          <a:xfrm flipH="1">
            <a:off x="3479760" y="2014560"/>
            <a:ext cx="3105360" cy="3363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Line 15"/>
          <p:cNvSpPr/>
          <p:nvPr/>
        </p:nvSpPr>
        <p:spPr>
          <a:xfrm flipV="1">
            <a:off x="2638440" y="2014560"/>
            <a:ext cx="3946680" cy="2409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Line 16"/>
          <p:cNvSpPr/>
          <p:nvPr/>
        </p:nvSpPr>
        <p:spPr>
          <a:xfrm>
            <a:off x="2638440" y="4424400"/>
            <a:ext cx="8413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Line 17"/>
          <p:cNvSpPr/>
          <p:nvPr/>
        </p:nvSpPr>
        <p:spPr>
          <a:xfrm>
            <a:off x="3294000" y="4024440"/>
            <a:ext cx="703440" cy="2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Line 18"/>
          <p:cNvSpPr/>
          <p:nvPr/>
        </p:nvSpPr>
        <p:spPr>
          <a:xfrm>
            <a:off x="3952800" y="3622680"/>
            <a:ext cx="560520" cy="14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Line 19"/>
          <p:cNvSpPr/>
          <p:nvPr/>
        </p:nvSpPr>
        <p:spPr>
          <a:xfrm>
            <a:off x="4611600" y="3219480"/>
            <a:ext cx="420840" cy="3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Line 20"/>
          <p:cNvSpPr/>
          <p:nvPr/>
        </p:nvSpPr>
        <p:spPr>
          <a:xfrm>
            <a:off x="5270400" y="2819520"/>
            <a:ext cx="279360" cy="2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Line 21"/>
          <p:cNvSpPr/>
          <p:nvPr/>
        </p:nvSpPr>
        <p:spPr>
          <a:xfrm>
            <a:off x="5925960" y="2417760"/>
            <a:ext cx="14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Line 22"/>
          <p:cNvSpPr/>
          <p:nvPr/>
        </p:nvSpPr>
        <p:spPr>
          <a:xfrm>
            <a:off x="3479760" y="4424400"/>
            <a:ext cx="1800" cy="9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Line 23"/>
          <p:cNvSpPr/>
          <p:nvPr/>
        </p:nvSpPr>
        <p:spPr>
          <a:xfrm>
            <a:off x="3983040" y="4024440"/>
            <a:ext cx="3240" cy="795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Line 24"/>
          <p:cNvSpPr/>
          <p:nvPr/>
        </p:nvSpPr>
        <p:spPr>
          <a:xfrm>
            <a:off x="4529160" y="3622680"/>
            <a:ext cx="3240" cy="608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Line 25"/>
          <p:cNvSpPr/>
          <p:nvPr/>
        </p:nvSpPr>
        <p:spPr>
          <a:xfrm>
            <a:off x="5048280" y="3219480"/>
            <a:ext cx="3240" cy="450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Line 26"/>
          <p:cNvSpPr/>
          <p:nvPr/>
        </p:nvSpPr>
        <p:spPr>
          <a:xfrm>
            <a:off x="5567400" y="2819520"/>
            <a:ext cx="1440" cy="295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Line 27"/>
          <p:cNvSpPr/>
          <p:nvPr/>
        </p:nvSpPr>
        <p:spPr>
          <a:xfrm>
            <a:off x="6083280" y="2417760"/>
            <a:ext cx="1440" cy="138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Line 28"/>
          <p:cNvSpPr/>
          <p:nvPr/>
        </p:nvSpPr>
        <p:spPr>
          <a:xfrm>
            <a:off x="3481560" y="4414680"/>
            <a:ext cx="28440" cy="876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Line 29"/>
          <p:cNvSpPr/>
          <p:nvPr/>
        </p:nvSpPr>
        <p:spPr>
          <a:xfrm flipH="1" flipV="1">
            <a:off x="2649240" y="4410000"/>
            <a:ext cx="803160" cy="2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0" name="Object 31"/>
          <p:cNvGraphicFramePr/>
          <p:nvPr/>
        </p:nvGraphicFramePr>
        <p:xfrm>
          <a:off x="3470400" y="5219640"/>
          <a:ext cx="455400" cy="5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0400" y="5219640"/>
                    <a:ext cx="4554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2" name="Object 32"/>
          <p:cNvGraphicFramePr/>
          <p:nvPr/>
        </p:nvGraphicFramePr>
        <p:xfrm>
          <a:off x="2219400" y="3844800"/>
          <a:ext cx="54756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3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9400" y="3844800"/>
                    <a:ext cx="5475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4" name="AutoShape 33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Oval 11"/>
          <p:cNvSpPr/>
          <p:nvPr/>
        </p:nvSpPr>
        <p:spPr>
          <a:xfrm>
            <a:off x="142920" y="2697120"/>
            <a:ext cx="5724360" cy="1668600"/>
          </a:xfrm>
          <a:prstGeom prst="ellipse">
            <a:avLst/>
          </a:prstGeom>
          <a:solidFill>
            <a:srgbClr val="ffcf01"/>
          </a:solidFill>
          <a:ln w="0">
            <a:solidFill>
              <a:srgbClr val="c420c0"/>
            </a:solidFill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7" name="Object 5"/>
          <p:cNvGraphicFramePr/>
          <p:nvPr/>
        </p:nvGraphicFramePr>
        <p:xfrm>
          <a:off x="716040" y="2697120"/>
          <a:ext cx="471960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2697120"/>
                    <a:ext cx="471960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9" name="Text Box 7"/>
          <p:cNvSpPr/>
          <p:nvPr/>
        </p:nvSpPr>
        <p:spPr>
          <a:xfrm>
            <a:off x="5977080" y="3057480"/>
            <a:ext cx="32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强度条件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Text Box 13"/>
          <p:cNvSpPr/>
          <p:nvPr/>
        </p:nvSpPr>
        <p:spPr>
          <a:xfrm>
            <a:off x="1042920" y="10526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§9-3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圆轴扭转时的强度计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  例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Text Box 5"/>
          <p:cNvSpPr/>
          <p:nvPr/>
        </p:nvSpPr>
        <p:spPr>
          <a:xfrm>
            <a:off x="1116000" y="981000"/>
            <a:ext cx="7128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我国建造万吨轮主机功率 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=7060.8kW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，推进轴的转速 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n=119 r/min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，轴的直径 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=430mm,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试求轴因扭转而产生的最大剪应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4" name="Picture 6" descr="BjXgTx4_2"/>
          <p:cNvPicPr/>
          <p:nvPr/>
        </p:nvPicPr>
        <p:blipFill>
          <a:blip r:embed="rId1"/>
          <a:stretch/>
        </p:blipFill>
        <p:spPr>
          <a:xfrm>
            <a:off x="1403280" y="2997360"/>
            <a:ext cx="6445440" cy="2409840"/>
          </a:xfrm>
          <a:prstGeom prst="rect">
            <a:avLst/>
          </a:prstGeom>
          <a:ln w="0">
            <a:noFill/>
          </a:ln>
        </p:spPr>
      </p:pic>
      <p:sp>
        <p:nvSpPr>
          <p:cNvPr id="2475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  例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7" name="Picture 5" descr="BjXgTx4_2"/>
          <p:cNvPicPr/>
          <p:nvPr/>
        </p:nvPicPr>
        <p:blipFill>
          <a:blip r:embed="rId1"/>
          <a:stretch/>
        </p:blipFill>
        <p:spPr>
          <a:xfrm>
            <a:off x="1881360" y="936720"/>
            <a:ext cx="4325760" cy="1617480"/>
          </a:xfrm>
          <a:prstGeom prst="rect">
            <a:avLst/>
          </a:prstGeom>
          <a:ln w="0">
            <a:noFill/>
          </a:ln>
        </p:spPr>
      </p:pic>
      <p:sp>
        <p:nvSpPr>
          <p:cNvPr id="2478" name="Text Box 6"/>
          <p:cNvSpPr/>
          <p:nvPr/>
        </p:nvSpPr>
        <p:spPr>
          <a:xfrm>
            <a:off x="324000" y="29242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9" name="Object 7"/>
          <p:cNvGraphicFramePr/>
          <p:nvPr/>
        </p:nvGraphicFramePr>
        <p:xfrm>
          <a:off x="1333440" y="2870280"/>
          <a:ext cx="548028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3440" y="2870280"/>
                    <a:ext cx="548028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1" name="Object 8"/>
          <p:cNvGraphicFramePr/>
          <p:nvPr/>
        </p:nvGraphicFramePr>
        <p:xfrm>
          <a:off x="1333440" y="4005360"/>
          <a:ext cx="3840120" cy="56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8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3440" y="4005360"/>
                    <a:ext cx="38401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3" name="Object 9"/>
          <p:cNvGraphicFramePr/>
          <p:nvPr/>
        </p:nvGraphicFramePr>
        <p:xfrm>
          <a:off x="1333440" y="4579920"/>
          <a:ext cx="6451560" cy="1028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84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3440" y="4579920"/>
                    <a:ext cx="64515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5" name="Object 10"/>
          <p:cNvGraphicFramePr/>
          <p:nvPr/>
        </p:nvGraphicFramePr>
        <p:xfrm>
          <a:off x="1333440" y="5608800"/>
          <a:ext cx="6726240" cy="1066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86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3440" y="5608800"/>
                    <a:ext cx="6726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7" name="AutoShape 11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  例四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Text Box 5"/>
          <p:cNvSpPr/>
          <p:nvPr/>
        </p:nvSpPr>
        <p:spPr>
          <a:xfrm>
            <a:off x="1042920" y="98100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一钢制阶梯轴如图所示 。若材料的许用剪应力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[</a:t>
            </a:r>
            <a:r>
              <a:rPr b="0" lang="el-GR" sz="2800" spc="-1" strike="noStrike">
                <a:solidFill>
                  <a:srgbClr val="ffffff"/>
                </a:solidFill>
                <a:latin typeface="隶书"/>
                <a:ea typeface="隶书"/>
              </a:rPr>
              <a:t>τ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]=60MPa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。试校核轴的强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Freeform 10"/>
          <p:cNvSpPr/>
          <p:nvPr/>
        </p:nvSpPr>
        <p:spPr>
          <a:xfrm>
            <a:off x="369720" y="2994120"/>
            <a:ext cx="230400" cy="809640"/>
          </a:xfrm>
          <a:custGeom>
            <a:avLst/>
            <a:gdLst>
              <a:gd name="textAreaLeft" fmla="*/ 0 w 230400"/>
              <a:gd name="textAreaRight" fmla="*/ 230760 w 23040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873" h="3058">
                <a:moveTo>
                  <a:pt x="873" y="0"/>
                </a:moveTo>
                <a:lnTo>
                  <a:pt x="790" y="7"/>
                </a:lnTo>
                <a:lnTo>
                  <a:pt x="707" y="28"/>
                </a:lnTo>
                <a:lnTo>
                  <a:pt x="627" y="62"/>
                </a:lnTo>
                <a:lnTo>
                  <a:pt x="548" y="109"/>
                </a:lnTo>
                <a:lnTo>
                  <a:pt x="472" y="170"/>
                </a:lnTo>
                <a:lnTo>
                  <a:pt x="400" y="243"/>
                </a:lnTo>
                <a:lnTo>
                  <a:pt x="332" y="327"/>
                </a:lnTo>
                <a:lnTo>
                  <a:pt x="270" y="423"/>
                </a:lnTo>
                <a:lnTo>
                  <a:pt x="212" y="528"/>
                </a:lnTo>
                <a:lnTo>
                  <a:pt x="161" y="642"/>
                </a:lnTo>
                <a:lnTo>
                  <a:pt x="115" y="765"/>
                </a:lnTo>
                <a:lnTo>
                  <a:pt x="77" y="894"/>
                </a:lnTo>
                <a:lnTo>
                  <a:pt x="46" y="1029"/>
                </a:lnTo>
                <a:lnTo>
                  <a:pt x="23" y="1168"/>
                </a:lnTo>
                <a:lnTo>
                  <a:pt x="7" y="1311"/>
                </a:lnTo>
                <a:lnTo>
                  <a:pt x="0" y="1456"/>
                </a:lnTo>
                <a:lnTo>
                  <a:pt x="0" y="1602"/>
                </a:lnTo>
                <a:lnTo>
                  <a:pt x="7" y="1746"/>
                </a:lnTo>
                <a:lnTo>
                  <a:pt x="23" y="1889"/>
                </a:lnTo>
                <a:lnTo>
                  <a:pt x="46" y="2029"/>
                </a:lnTo>
                <a:lnTo>
                  <a:pt x="77" y="2165"/>
                </a:lnTo>
                <a:lnTo>
                  <a:pt x="115" y="2294"/>
                </a:lnTo>
                <a:lnTo>
                  <a:pt x="161" y="2417"/>
                </a:lnTo>
                <a:lnTo>
                  <a:pt x="212" y="2531"/>
                </a:lnTo>
                <a:lnTo>
                  <a:pt x="270" y="2636"/>
                </a:lnTo>
                <a:lnTo>
                  <a:pt x="332" y="2731"/>
                </a:lnTo>
                <a:lnTo>
                  <a:pt x="400" y="2816"/>
                </a:lnTo>
                <a:lnTo>
                  <a:pt x="472" y="2889"/>
                </a:lnTo>
                <a:lnTo>
                  <a:pt x="548" y="2949"/>
                </a:lnTo>
                <a:lnTo>
                  <a:pt x="627" y="2997"/>
                </a:lnTo>
                <a:lnTo>
                  <a:pt x="707" y="3031"/>
                </a:lnTo>
                <a:lnTo>
                  <a:pt x="790" y="3052"/>
                </a:lnTo>
                <a:lnTo>
                  <a:pt x="873" y="30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Line 11"/>
          <p:cNvSpPr/>
          <p:nvPr/>
        </p:nvSpPr>
        <p:spPr>
          <a:xfrm>
            <a:off x="160200" y="3398760"/>
            <a:ext cx="4561200" cy="180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Freeform 12"/>
          <p:cNvSpPr/>
          <p:nvPr/>
        </p:nvSpPr>
        <p:spPr>
          <a:xfrm>
            <a:off x="2654280" y="2994120"/>
            <a:ext cx="439920" cy="807840"/>
          </a:xfrm>
          <a:custGeom>
            <a:avLst/>
            <a:gdLst>
              <a:gd name="textAreaLeft" fmla="*/ 0 w 439920"/>
              <a:gd name="textAreaRight" fmla="*/ 440280 w 439920"/>
              <a:gd name="textAreaTop" fmla="*/ 0 h 807840"/>
              <a:gd name="textAreaBottom" fmla="*/ 808200 h 807840"/>
            </a:gdLst>
            <a:ahLst/>
            <a:rect l="textAreaLeft" t="textAreaTop" r="textAreaRight" b="textAreaBottom"/>
            <a:pathLst>
              <a:path w="1661" h="3056">
                <a:moveTo>
                  <a:pt x="1661" y="860"/>
                </a:moveTo>
                <a:lnTo>
                  <a:pt x="1621" y="731"/>
                </a:lnTo>
                <a:lnTo>
                  <a:pt x="1573" y="609"/>
                </a:lnTo>
                <a:lnTo>
                  <a:pt x="1520" y="497"/>
                </a:lnTo>
                <a:lnTo>
                  <a:pt x="1460" y="393"/>
                </a:lnTo>
                <a:lnTo>
                  <a:pt x="1395" y="300"/>
                </a:lnTo>
                <a:lnTo>
                  <a:pt x="1325" y="218"/>
                </a:lnTo>
                <a:lnTo>
                  <a:pt x="1251" y="149"/>
                </a:lnTo>
                <a:lnTo>
                  <a:pt x="1174" y="91"/>
                </a:lnTo>
                <a:lnTo>
                  <a:pt x="1094" y="48"/>
                </a:lnTo>
                <a:lnTo>
                  <a:pt x="1012" y="18"/>
                </a:lnTo>
                <a:lnTo>
                  <a:pt x="928" y="1"/>
                </a:lnTo>
                <a:lnTo>
                  <a:pt x="845" y="0"/>
                </a:lnTo>
                <a:lnTo>
                  <a:pt x="761" y="12"/>
                </a:lnTo>
                <a:lnTo>
                  <a:pt x="678" y="37"/>
                </a:lnTo>
                <a:lnTo>
                  <a:pt x="597" y="78"/>
                </a:lnTo>
                <a:lnTo>
                  <a:pt x="519" y="131"/>
                </a:lnTo>
                <a:lnTo>
                  <a:pt x="443" y="196"/>
                </a:lnTo>
                <a:lnTo>
                  <a:pt x="372" y="275"/>
                </a:lnTo>
                <a:lnTo>
                  <a:pt x="307" y="365"/>
                </a:lnTo>
                <a:lnTo>
                  <a:pt x="245" y="465"/>
                </a:lnTo>
                <a:lnTo>
                  <a:pt x="189" y="575"/>
                </a:lnTo>
                <a:lnTo>
                  <a:pt x="141" y="695"/>
                </a:lnTo>
                <a:lnTo>
                  <a:pt x="98" y="822"/>
                </a:lnTo>
                <a:lnTo>
                  <a:pt x="63" y="955"/>
                </a:lnTo>
                <a:lnTo>
                  <a:pt x="36" y="1094"/>
                </a:lnTo>
                <a:lnTo>
                  <a:pt x="16" y="1236"/>
                </a:lnTo>
                <a:lnTo>
                  <a:pt x="3" y="1381"/>
                </a:lnTo>
                <a:lnTo>
                  <a:pt x="0" y="1528"/>
                </a:lnTo>
                <a:lnTo>
                  <a:pt x="3" y="1674"/>
                </a:lnTo>
                <a:lnTo>
                  <a:pt x="16" y="1820"/>
                </a:lnTo>
                <a:lnTo>
                  <a:pt x="36" y="1962"/>
                </a:lnTo>
                <a:lnTo>
                  <a:pt x="63" y="2101"/>
                </a:lnTo>
                <a:lnTo>
                  <a:pt x="98" y="2234"/>
                </a:lnTo>
                <a:lnTo>
                  <a:pt x="141" y="2362"/>
                </a:lnTo>
                <a:lnTo>
                  <a:pt x="189" y="2480"/>
                </a:lnTo>
                <a:lnTo>
                  <a:pt x="245" y="2591"/>
                </a:lnTo>
                <a:lnTo>
                  <a:pt x="307" y="2692"/>
                </a:lnTo>
                <a:lnTo>
                  <a:pt x="372" y="2781"/>
                </a:lnTo>
                <a:lnTo>
                  <a:pt x="443" y="2859"/>
                </a:lnTo>
                <a:lnTo>
                  <a:pt x="519" y="2926"/>
                </a:lnTo>
                <a:lnTo>
                  <a:pt x="597" y="2979"/>
                </a:lnTo>
                <a:lnTo>
                  <a:pt x="678" y="3018"/>
                </a:lnTo>
                <a:lnTo>
                  <a:pt x="761" y="3044"/>
                </a:lnTo>
                <a:lnTo>
                  <a:pt x="845" y="3056"/>
                </a:lnTo>
                <a:lnTo>
                  <a:pt x="928" y="3054"/>
                </a:lnTo>
                <a:lnTo>
                  <a:pt x="1012" y="3038"/>
                </a:lnTo>
                <a:lnTo>
                  <a:pt x="1094" y="3008"/>
                </a:lnTo>
                <a:lnTo>
                  <a:pt x="1174" y="2965"/>
                </a:lnTo>
                <a:lnTo>
                  <a:pt x="1251" y="2908"/>
                </a:lnTo>
                <a:lnTo>
                  <a:pt x="1325" y="2838"/>
                </a:lnTo>
                <a:lnTo>
                  <a:pt x="1395" y="2756"/>
                </a:lnTo>
                <a:lnTo>
                  <a:pt x="1460" y="2663"/>
                </a:lnTo>
                <a:lnTo>
                  <a:pt x="1520" y="2560"/>
                </a:lnTo>
                <a:lnTo>
                  <a:pt x="1573" y="2446"/>
                </a:lnTo>
                <a:lnTo>
                  <a:pt x="1621" y="2326"/>
                </a:lnTo>
                <a:lnTo>
                  <a:pt x="1661" y="21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Line 13"/>
          <p:cNvSpPr/>
          <p:nvPr/>
        </p:nvSpPr>
        <p:spPr>
          <a:xfrm>
            <a:off x="600120" y="2994120"/>
            <a:ext cx="2286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Freeform 14"/>
          <p:cNvSpPr/>
          <p:nvPr/>
        </p:nvSpPr>
        <p:spPr>
          <a:xfrm>
            <a:off x="2859120" y="3220920"/>
            <a:ext cx="144360" cy="354240"/>
          </a:xfrm>
          <a:custGeom>
            <a:avLst/>
            <a:gdLst>
              <a:gd name="textAreaLeft" fmla="*/ 0 w 144360"/>
              <a:gd name="textAreaRight" fmla="*/ 144720 w 144360"/>
              <a:gd name="textAreaTop" fmla="*/ 0 h 354240"/>
              <a:gd name="textAreaBottom" fmla="*/ 354600 h 354240"/>
            </a:gdLst>
            <a:ahLst/>
            <a:rect l="textAreaLeft" t="textAreaTop" r="textAreaRight" b="textAreaBottom"/>
            <a:pathLst>
              <a:path w="546" h="1336">
                <a:moveTo>
                  <a:pt x="546" y="0"/>
                </a:moveTo>
                <a:lnTo>
                  <a:pt x="468" y="6"/>
                </a:lnTo>
                <a:lnTo>
                  <a:pt x="392" y="27"/>
                </a:lnTo>
                <a:lnTo>
                  <a:pt x="318" y="60"/>
                </a:lnTo>
                <a:lnTo>
                  <a:pt x="251" y="106"/>
                </a:lnTo>
                <a:lnTo>
                  <a:pt x="188" y="163"/>
                </a:lnTo>
                <a:lnTo>
                  <a:pt x="133" y="230"/>
                </a:lnTo>
                <a:lnTo>
                  <a:pt x="87" y="306"/>
                </a:lnTo>
                <a:lnTo>
                  <a:pt x="48" y="390"/>
                </a:lnTo>
                <a:lnTo>
                  <a:pt x="22" y="480"/>
                </a:lnTo>
                <a:lnTo>
                  <a:pt x="5" y="573"/>
                </a:lnTo>
                <a:lnTo>
                  <a:pt x="0" y="668"/>
                </a:lnTo>
                <a:lnTo>
                  <a:pt x="5" y="762"/>
                </a:lnTo>
                <a:lnTo>
                  <a:pt x="21" y="857"/>
                </a:lnTo>
                <a:lnTo>
                  <a:pt x="48" y="946"/>
                </a:lnTo>
                <a:lnTo>
                  <a:pt x="86" y="1029"/>
                </a:lnTo>
                <a:lnTo>
                  <a:pt x="132" y="1106"/>
                </a:lnTo>
                <a:lnTo>
                  <a:pt x="188" y="1173"/>
                </a:lnTo>
                <a:lnTo>
                  <a:pt x="250" y="1230"/>
                </a:lnTo>
                <a:lnTo>
                  <a:pt x="318" y="1276"/>
                </a:lnTo>
                <a:lnTo>
                  <a:pt x="392" y="1309"/>
                </a:lnTo>
                <a:lnTo>
                  <a:pt x="468" y="1330"/>
                </a:lnTo>
                <a:lnTo>
                  <a:pt x="545" y="1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Freeform 15"/>
          <p:cNvSpPr/>
          <p:nvPr/>
        </p:nvSpPr>
        <p:spPr>
          <a:xfrm>
            <a:off x="4552920" y="3220920"/>
            <a:ext cx="289080" cy="354240"/>
          </a:xfrm>
          <a:custGeom>
            <a:avLst/>
            <a:gdLst>
              <a:gd name="textAreaLeft" fmla="*/ 0 w 289080"/>
              <a:gd name="textAreaRight" fmla="*/ 289440 w 289080"/>
              <a:gd name="textAreaTop" fmla="*/ 0 h 354240"/>
              <a:gd name="textAreaBottom" fmla="*/ 354600 h 354240"/>
            </a:gdLst>
            <a:ahLst/>
            <a:rect l="textAreaLeft" t="textAreaTop" r="textAreaRight" b="textAreaBottom"/>
            <a:pathLst>
              <a:path w="1092" h="1334">
                <a:moveTo>
                  <a:pt x="547" y="0"/>
                </a:moveTo>
                <a:lnTo>
                  <a:pt x="467" y="8"/>
                </a:lnTo>
                <a:lnTo>
                  <a:pt x="389" y="29"/>
                </a:lnTo>
                <a:lnTo>
                  <a:pt x="315" y="64"/>
                </a:lnTo>
                <a:lnTo>
                  <a:pt x="245" y="111"/>
                </a:lnTo>
                <a:lnTo>
                  <a:pt x="181" y="171"/>
                </a:lnTo>
                <a:lnTo>
                  <a:pt x="126" y="240"/>
                </a:lnTo>
                <a:lnTo>
                  <a:pt x="80" y="320"/>
                </a:lnTo>
                <a:lnTo>
                  <a:pt x="44" y="407"/>
                </a:lnTo>
                <a:lnTo>
                  <a:pt x="18" y="499"/>
                </a:lnTo>
                <a:lnTo>
                  <a:pt x="3" y="595"/>
                </a:lnTo>
                <a:lnTo>
                  <a:pt x="0" y="693"/>
                </a:lnTo>
                <a:lnTo>
                  <a:pt x="9" y="790"/>
                </a:lnTo>
                <a:lnTo>
                  <a:pt x="29" y="884"/>
                </a:lnTo>
                <a:lnTo>
                  <a:pt x="61" y="973"/>
                </a:lnTo>
                <a:lnTo>
                  <a:pt x="102" y="1057"/>
                </a:lnTo>
                <a:lnTo>
                  <a:pt x="153" y="1132"/>
                </a:lnTo>
                <a:lnTo>
                  <a:pt x="212" y="1197"/>
                </a:lnTo>
                <a:lnTo>
                  <a:pt x="279" y="1251"/>
                </a:lnTo>
                <a:lnTo>
                  <a:pt x="351" y="1292"/>
                </a:lnTo>
                <a:lnTo>
                  <a:pt x="428" y="1320"/>
                </a:lnTo>
                <a:lnTo>
                  <a:pt x="506" y="1334"/>
                </a:lnTo>
                <a:lnTo>
                  <a:pt x="586" y="1334"/>
                </a:lnTo>
                <a:lnTo>
                  <a:pt x="665" y="1320"/>
                </a:lnTo>
                <a:lnTo>
                  <a:pt x="741" y="1292"/>
                </a:lnTo>
                <a:lnTo>
                  <a:pt x="813" y="1251"/>
                </a:lnTo>
                <a:lnTo>
                  <a:pt x="880" y="1197"/>
                </a:lnTo>
                <a:lnTo>
                  <a:pt x="939" y="1132"/>
                </a:lnTo>
                <a:lnTo>
                  <a:pt x="990" y="1057"/>
                </a:lnTo>
                <a:lnTo>
                  <a:pt x="1033" y="973"/>
                </a:lnTo>
                <a:lnTo>
                  <a:pt x="1063" y="884"/>
                </a:lnTo>
                <a:lnTo>
                  <a:pt x="1083" y="790"/>
                </a:lnTo>
                <a:lnTo>
                  <a:pt x="1092" y="693"/>
                </a:lnTo>
                <a:lnTo>
                  <a:pt x="1090" y="595"/>
                </a:lnTo>
                <a:lnTo>
                  <a:pt x="1075" y="499"/>
                </a:lnTo>
                <a:lnTo>
                  <a:pt x="1050" y="407"/>
                </a:lnTo>
                <a:lnTo>
                  <a:pt x="1012" y="320"/>
                </a:lnTo>
                <a:lnTo>
                  <a:pt x="966" y="240"/>
                </a:lnTo>
                <a:lnTo>
                  <a:pt x="911" y="171"/>
                </a:lnTo>
                <a:lnTo>
                  <a:pt x="847" y="111"/>
                </a:lnTo>
                <a:lnTo>
                  <a:pt x="778" y="64"/>
                </a:lnTo>
                <a:lnTo>
                  <a:pt x="703" y="29"/>
                </a:lnTo>
                <a:lnTo>
                  <a:pt x="626" y="8"/>
                </a:lnTo>
                <a:lnTo>
                  <a:pt x="547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Line 16"/>
          <p:cNvSpPr/>
          <p:nvPr/>
        </p:nvSpPr>
        <p:spPr>
          <a:xfrm>
            <a:off x="3003480" y="3220920"/>
            <a:ext cx="1693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Line 17"/>
          <p:cNvSpPr/>
          <p:nvPr/>
        </p:nvSpPr>
        <p:spPr>
          <a:xfrm>
            <a:off x="3003480" y="3575160"/>
            <a:ext cx="1693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Line 18"/>
          <p:cNvSpPr/>
          <p:nvPr/>
        </p:nvSpPr>
        <p:spPr>
          <a:xfrm>
            <a:off x="600120" y="3803760"/>
            <a:ext cx="2286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Freeform 21"/>
          <p:cNvSpPr/>
          <p:nvPr/>
        </p:nvSpPr>
        <p:spPr>
          <a:xfrm>
            <a:off x="460440" y="3146400"/>
            <a:ext cx="50760" cy="504720"/>
          </a:xfrm>
          <a:custGeom>
            <a:avLst/>
            <a:gdLst>
              <a:gd name="textAreaLeft" fmla="*/ 0 w 50760"/>
              <a:gd name="textAreaRight" fmla="*/ 51120 w 507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193" h="1910">
                <a:moveTo>
                  <a:pt x="193" y="0"/>
                </a:moveTo>
                <a:lnTo>
                  <a:pt x="143" y="119"/>
                </a:lnTo>
                <a:lnTo>
                  <a:pt x="100" y="246"/>
                </a:lnTo>
                <a:lnTo>
                  <a:pt x="65" y="380"/>
                </a:lnTo>
                <a:lnTo>
                  <a:pt x="36" y="519"/>
                </a:lnTo>
                <a:lnTo>
                  <a:pt x="16" y="662"/>
                </a:lnTo>
                <a:lnTo>
                  <a:pt x="5" y="808"/>
                </a:lnTo>
                <a:lnTo>
                  <a:pt x="0" y="955"/>
                </a:lnTo>
                <a:lnTo>
                  <a:pt x="5" y="1102"/>
                </a:lnTo>
                <a:lnTo>
                  <a:pt x="16" y="1249"/>
                </a:lnTo>
                <a:lnTo>
                  <a:pt x="36" y="1391"/>
                </a:lnTo>
                <a:lnTo>
                  <a:pt x="65" y="1530"/>
                </a:lnTo>
                <a:lnTo>
                  <a:pt x="100" y="1665"/>
                </a:lnTo>
                <a:lnTo>
                  <a:pt x="143" y="1792"/>
                </a:lnTo>
                <a:lnTo>
                  <a:pt x="193" y="191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Freeform 22"/>
          <p:cNvSpPr/>
          <p:nvPr/>
        </p:nvSpPr>
        <p:spPr>
          <a:xfrm>
            <a:off x="2576520" y="3146400"/>
            <a:ext cx="50760" cy="504720"/>
          </a:xfrm>
          <a:custGeom>
            <a:avLst/>
            <a:gdLst>
              <a:gd name="textAreaLeft" fmla="*/ 0 w 50760"/>
              <a:gd name="textAreaRight" fmla="*/ 51120 w 507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193" h="1910">
                <a:moveTo>
                  <a:pt x="193" y="0"/>
                </a:moveTo>
                <a:lnTo>
                  <a:pt x="143" y="119"/>
                </a:lnTo>
                <a:lnTo>
                  <a:pt x="99" y="246"/>
                </a:lnTo>
                <a:lnTo>
                  <a:pt x="65" y="380"/>
                </a:lnTo>
                <a:lnTo>
                  <a:pt x="36" y="519"/>
                </a:lnTo>
                <a:lnTo>
                  <a:pt x="16" y="662"/>
                </a:lnTo>
                <a:lnTo>
                  <a:pt x="4" y="808"/>
                </a:lnTo>
                <a:lnTo>
                  <a:pt x="0" y="955"/>
                </a:lnTo>
                <a:lnTo>
                  <a:pt x="4" y="1102"/>
                </a:lnTo>
                <a:lnTo>
                  <a:pt x="16" y="1249"/>
                </a:lnTo>
                <a:lnTo>
                  <a:pt x="36" y="1391"/>
                </a:lnTo>
                <a:lnTo>
                  <a:pt x="65" y="1530"/>
                </a:lnTo>
                <a:lnTo>
                  <a:pt x="99" y="1665"/>
                </a:lnTo>
                <a:lnTo>
                  <a:pt x="143" y="1792"/>
                </a:lnTo>
                <a:lnTo>
                  <a:pt x="193" y="191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Freeform 23"/>
          <p:cNvSpPr/>
          <p:nvPr/>
        </p:nvSpPr>
        <p:spPr>
          <a:xfrm>
            <a:off x="4471920" y="3278160"/>
            <a:ext cx="38160" cy="239760"/>
          </a:xfrm>
          <a:custGeom>
            <a:avLst/>
            <a:gdLst>
              <a:gd name="textAreaLeft" fmla="*/ 0 w 38160"/>
              <a:gd name="textAreaRight" fmla="*/ 38520 w 381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45" h="908">
                <a:moveTo>
                  <a:pt x="145" y="0"/>
                </a:moveTo>
                <a:lnTo>
                  <a:pt x="98" y="70"/>
                </a:lnTo>
                <a:lnTo>
                  <a:pt x="59" y="148"/>
                </a:lnTo>
                <a:lnTo>
                  <a:pt x="30" y="231"/>
                </a:lnTo>
                <a:lnTo>
                  <a:pt x="11" y="319"/>
                </a:lnTo>
                <a:lnTo>
                  <a:pt x="0" y="409"/>
                </a:lnTo>
                <a:lnTo>
                  <a:pt x="0" y="500"/>
                </a:lnTo>
                <a:lnTo>
                  <a:pt x="11" y="590"/>
                </a:lnTo>
                <a:lnTo>
                  <a:pt x="30" y="677"/>
                </a:lnTo>
                <a:lnTo>
                  <a:pt x="59" y="760"/>
                </a:lnTo>
                <a:lnTo>
                  <a:pt x="98" y="839"/>
                </a:lnTo>
                <a:lnTo>
                  <a:pt x="145" y="908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Line 24"/>
          <p:cNvSpPr/>
          <p:nvPr/>
        </p:nvSpPr>
        <p:spPr>
          <a:xfrm>
            <a:off x="1484280" y="2827440"/>
            <a:ext cx="1800" cy="1160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Line 25"/>
          <p:cNvSpPr/>
          <p:nvPr/>
        </p:nvSpPr>
        <p:spPr>
          <a:xfrm>
            <a:off x="4199040" y="3095640"/>
            <a:ext cx="1440" cy="63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Line 26"/>
          <p:cNvSpPr/>
          <p:nvPr/>
        </p:nvSpPr>
        <p:spPr>
          <a:xfrm>
            <a:off x="1127160" y="2994120"/>
            <a:ext cx="1440" cy="80964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Line 27"/>
          <p:cNvSpPr/>
          <p:nvPr/>
        </p:nvSpPr>
        <p:spPr>
          <a:xfrm>
            <a:off x="3635280" y="3220920"/>
            <a:ext cx="1800" cy="35424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6" name="Object 28"/>
          <p:cNvGraphicFramePr/>
          <p:nvPr/>
        </p:nvGraphicFramePr>
        <p:xfrm>
          <a:off x="158760" y="4114800"/>
          <a:ext cx="161280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4114800"/>
                    <a:ext cx="161280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8" name="Object 29"/>
          <p:cNvGraphicFramePr/>
          <p:nvPr/>
        </p:nvGraphicFramePr>
        <p:xfrm>
          <a:off x="2157480" y="2543040"/>
          <a:ext cx="1479600" cy="4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57480" y="2543040"/>
                    <a:ext cx="14796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0" name="Object 30"/>
          <p:cNvGraphicFramePr/>
          <p:nvPr/>
        </p:nvGraphicFramePr>
        <p:xfrm>
          <a:off x="3692520" y="3827520"/>
          <a:ext cx="145584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1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2520" y="3827520"/>
                    <a:ext cx="14558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2" name="Object 31"/>
          <p:cNvGraphicFramePr/>
          <p:nvPr/>
        </p:nvGraphicFramePr>
        <p:xfrm>
          <a:off x="650880" y="3274920"/>
          <a:ext cx="520560" cy="2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3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0880" y="3274920"/>
                    <a:ext cx="5205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4" name="Object 32"/>
          <p:cNvGraphicFramePr/>
          <p:nvPr/>
        </p:nvGraphicFramePr>
        <p:xfrm>
          <a:off x="3137040" y="3286080"/>
          <a:ext cx="480960" cy="268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15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37040" y="3286080"/>
                    <a:ext cx="48096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6" name="Object 33"/>
          <p:cNvGraphicFramePr/>
          <p:nvPr/>
        </p:nvGraphicFramePr>
        <p:xfrm>
          <a:off x="1547640" y="2781360"/>
          <a:ext cx="14292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17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47640" y="2781360"/>
                    <a:ext cx="1429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8" name="Object 34"/>
          <p:cNvGraphicFramePr/>
          <p:nvPr/>
        </p:nvGraphicFramePr>
        <p:xfrm>
          <a:off x="1547640" y="3867120"/>
          <a:ext cx="14292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9" name="Object 3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47640" y="3867120"/>
                    <a:ext cx="1429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0" name="Object 35"/>
          <p:cNvGraphicFramePr/>
          <p:nvPr/>
        </p:nvGraphicFramePr>
        <p:xfrm>
          <a:off x="4235400" y="2967120"/>
          <a:ext cx="20340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21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35400" y="2967120"/>
                    <a:ext cx="2034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2" name="Object 36"/>
          <p:cNvGraphicFramePr/>
          <p:nvPr/>
        </p:nvGraphicFramePr>
        <p:xfrm>
          <a:off x="4195800" y="3629160"/>
          <a:ext cx="203040" cy="26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23" name="Object 3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3629160"/>
                    <a:ext cx="20304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4" name="Freeform 40"/>
          <p:cNvSpPr/>
          <p:nvPr/>
        </p:nvSpPr>
        <p:spPr>
          <a:xfrm>
            <a:off x="1305000" y="4738680"/>
            <a:ext cx="50760" cy="506520"/>
          </a:xfrm>
          <a:custGeom>
            <a:avLst/>
            <a:gdLst>
              <a:gd name="textAreaLeft" fmla="*/ 0 w 50760"/>
              <a:gd name="textAreaRight" fmla="*/ 51120 w 5076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93" h="1911">
                <a:moveTo>
                  <a:pt x="193" y="0"/>
                </a:moveTo>
                <a:lnTo>
                  <a:pt x="143" y="120"/>
                </a:lnTo>
                <a:lnTo>
                  <a:pt x="100" y="247"/>
                </a:lnTo>
                <a:lnTo>
                  <a:pt x="65" y="380"/>
                </a:lnTo>
                <a:lnTo>
                  <a:pt x="36" y="519"/>
                </a:lnTo>
                <a:lnTo>
                  <a:pt x="16" y="662"/>
                </a:lnTo>
                <a:lnTo>
                  <a:pt x="5" y="808"/>
                </a:lnTo>
                <a:lnTo>
                  <a:pt x="0" y="955"/>
                </a:lnTo>
                <a:lnTo>
                  <a:pt x="5" y="1102"/>
                </a:lnTo>
                <a:lnTo>
                  <a:pt x="16" y="1248"/>
                </a:lnTo>
                <a:lnTo>
                  <a:pt x="36" y="1391"/>
                </a:lnTo>
                <a:lnTo>
                  <a:pt x="65" y="1531"/>
                </a:lnTo>
                <a:lnTo>
                  <a:pt x="100" y="1665"/>
                </a:lnTo>
                <a:lnTo>
                  <a:pt x="143" y="1792"/>
                </a:lnTo>
                <a:lnTo>
                  <a:pt x="193" y="191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Freeform 41"/>
          <p:cNvSpPr/>
          <p:nvPr/>
        </p:nvSpPr>
        <p:spPr>
          <a:xfrm>
            <a:off x="361800" y="4738680"/>
            <a:ext cx="51120" cy="506520"/>
          </a:xfrm>
          <a:custGeom>
            <a:avLst/>
            <a:gdLst>
              <a:gd name="textAreaLeft" fmla="*/ 0 w 51120"/>
              <a:gd name="textAreaRight" fmla="*/ 51480 w 511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93" h="1911">
                <a:moveTo>
                  <a:pt x="193" y="0"/>
                </a:moveTo>
                <a:lnTo>
                  <a:pt x="143" y="120"/>
                </a:lnTo>
                <a:lnTo>
                  <a:pt x="100" y="247"/>
                </a:lnTo>
                <a:lnTo>
                  <a:pt x="65" y="380"/>
                </a:lnTo>
                <a:lnTo>
                  <a:pt x="36" y="519"/>
                </a:lnTo>
                <a:lnTo>
                  <a:pt x="16" y="662"/>
                </a:lnTo>
                <a:lnTo>
                  <a:pt x="5" y="808"/>
                </a:lnTo>
                <a:lnTo>
                  <a:pt x="0" y="955"/>
                </a:lnTo>
                <a:lnTo>
                  <a:pt x="5" y="1102"/>
                </a:lnTo>
                <a:lnTo>
                  <a:pt x="16" y="1248"/>
                </a:lnTo>
                <a:lnTo>
                  <a:pt x="36" y="1391"/>
                </a:lnTo>
                <a:lnTo>
                  <a:pt x="65" y="1531"/>
                </a:lnTo>
                <a:lnTo>
                  <a:pt x="100" y="1665"/>
                </a:lnTo>
                <a:lnTo>
                  <a:pt x="143" y="1792"/>
                </a:lnTo>
                <a:lnTo>
                  <a:pt x="193" y="1911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Line 42"/>
          <p:cNvSpPr/>
          <p:nvPr/>
        </p:nvSpPr>
        <p:spPr>
          <a:xfrm>
            <a:off x="514440" y="5397480"/>
            <a:ext cx="917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Line 43"/>
          <p:cNvSpPr/>
          <p:nvPr/>
        </p:nvSpPr>
        <p:spPr>
          <a:xfrm>
            <a:off x="514440" y="4587840"/>
            <a:ext cx="917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Line 44"/>
          <p:cNvSpPr/>
          <p:nvPr/>
        </p:nvSpPr>
        <p:spPr>
          <a:xfrm>
            <a:off x="146160" y="4992840"/>
            <a:ext cx="1285920" cy="144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Freeform 45"/>
          <p:cNvSpPr/>
          <p:nvPr/>
        </p:nvSpPr>
        <p:spPr>
          <a:xfrm>
            <a:off x="284040" y="4587840"/>
            <a:ext cx="230400" cy="809640"/>
          </a:xfrm>
          <a:custGeom>
            <a:avLst/>
            <a:gdLst>
              <a:gd name="textAreaLeft" fmla="*/ 0 w 230400"/>
              <a:gd name="textAreaRight" fmla="*/ 230760 w 23040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873" h="3059">
                <a:moveTo>
                  <a:pt x="873" y="0"/>
                </a:moveTo>
                <a:lnTo>
                  <a:pt x="790" y="8"/>
                </a:lnTo>
                <a:lnTo>
                  <a:pt x="707" y="28"/>
                </a:lnTo>
                <a:lnTo>
                  <a:pt x="627" y="63"/>
                </a:lnTo>
                <a:lnTo>
                  <a:pt x="548" y="109"/>
                </a:lnTo>
                <a:lnTo>
                  <a:pt x="472" y="171"/>
                </a:lnTo>
                <a:lnTo>
                  <a:pt x="400" y="243"/>
                </a:lnTo>
                <a:lnTo>
                  <a:pt x="332" y="327"/>
                </a:lnTo>
                <a:lnTo>
                  <a:pt x="270" y="423"/>
                </a:lnTo>
                <a:lnTo>
                  <a:pt x="212" y="528"/>
                </a:lnTo>
                <a:lnTo>
                  <a:pt x="161" y="643"/>
                </a:lnTo>
                <a:lnTo>
                  <a:pt x="115" y="765"/>
                </a:lnTo>
                <a:lnTo>
                  <a:pt x="77" y="894"/>
                </a:lnTo>
                <a:lnTo>
                  <a:pt x="46" y="1029"/>
                </a:lnTo>
                <a:lnTo>
                  <a:pt x="23" y="1169"/>
                </a:lnTo>
                <a:lnTo>
                  <a:pt x="7" y="1312"/>
                </a:lnTo>
                <a:lnTo>
                  <a:pt x="0" y="1457"/>
                </a:lnTo>
                <a:lnTo>
                  <a:pt x="0" y="1602"/>
                </a:lnTo>
                <a:lnTo>
                  <a:pt x="7" y="1747"/>
                </a:lnTo>
                <a:lnTo>
                  <a:pt x="23" y="1890"/>
                </a:lnTo>
                <a:lnTo>
                  <a:pt x="46" y="2030"/>
                </a:lnTo>
                <a:lnTo>
                  <a:pt x="77" y="2164"/>
                </a:lnTo>
                <a:lnTo>
                  <a:pt x="115" y="2294"/>
                </a:lnTo>
                <a:lnTo>
                  <a:pt x="161" y="2416"/>
                </a:lnTo>
                <a:lnTo>
                  <a:pt x="212" y="2531"/>
                </a:lnTo>
                <a:lnTo>
                  <a:pt x="270" y="2637"/>
                </a:lnTo>
                <a:lnTo>
                  <a:pt x="332" y="2732"/>
                </a:lnTo>
                <a:lnTo>
                  <a:pt x="400" y="2816"/>
                </a:lnTo>
                <a:lnTo>
                  <a:pt x="472" y="2889"/>
                </a:lnTo>
                <a:lnTo>
                  <a:pt x="548" y="2949"/>
                </a:lnTo>
                <a:lnTo>
                  <a:pt x="627" y="2997"/>
                </a:lnTo>
                <a:lnTo>
                  <a:pt x="707" y="3031"/>
                </a:lnTo>
                <a:lnTo>
                  <a:pt x="790" y="3052"/>
                </a:lnTo>
                <a:lnTo>
                  <a:pt x="873" y="30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Freeform 46"/>
          <p:cNvSpPr/>
          <p:nvPr/>
        </p:nvSpPr>
        <p:spPr>
          <a:xfrm>
            <a:off x="1200240" y="4587840"/>
            <a:ext cx="463320" cy="808200"/>
          </a:xfrm>
          <a:custGeom>
            <a:avLst/>
            <a:gdLst>
              <a:gd name="textAreaLeft" fmla="*/ 0 w 463320"/>
              <a:gd name="textAreaRight" fmla="*/ 463680 w 46332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50" h="3056">
                <a:moveTo>
                  <a:pt x="1662" y="860"/>
                </a:moveTo>
                <a:lnTo>
                  <a:pt x="1621" y="732"/>
                </a:lnTo>
                <a:lnTo>
                  <a:pt x="1574" y="611"/>
                </a:lnTo>
                <a:lnTo>
                  <a:pt x="1521" y="498"/>
                </a:lnTo>
                <a:lnTo>
                  <a:pt x="1462" y="395"/>
                </a:lnTo>
                <a:lnTo>
                  <a:pt x="1397" y="302"/>
                </a:lnTo>
                <a:lnTo>
                  <a:pt x="1328" y="221"/>
                </a:lnTo>
                <a:lnTo>
                  <a:pt x="1254" y="151"/>
                </a:lnTo>
                <a:lnTo>
                  <a:pt x="1178" y="93"/>
                </a:lnTo>
                <a:lnTo>
                  <a:pt x="1098" y="50"/>
                </a:lnTo>
                <a:lnTo>
                  <a:pt x="1016" y="19"/>
                </a:lnTo>
                <a:lnTo>
                  <a:pt x="933" y="2"/>
                </a:lnTo>
                <a:lnTo>
                  <a:pt x="850" y="0"/>
                </a:lnTo>
                <a:lnTo>
                  <a:pt x="766" y="11"/>
                </a:lnTo>
                <a:lnTo>
                  <a:pt x="684" y="36"/>
                </a:lnTo>
                <a:lnTo>
                  <a:pt x="603" y="74"/>
                </a:lnTo>
                <a:lnTo>
                  <a:pt x="526" y="126"/>
                </a:lnTo>
                <a:lnTo>
                  <a:pt x="450" y="191"/>
                </a:lnTo>
                <a:lnTo>
                  <a:pt x="379" y="268"/>
                </a:lnTo>
                <a:lnTo>
                  <a:pt x="313" y="356"/>
                </a:lnTo>
                <a:lnTo>
                  <a:pt x="251" y="456"/>
                </a:lnTo>
                <a:lnTo>
                  <a:pt x="195" y="565"/>
                </a:lnTo>
                <a:lnTo>
                  <a:pt x="147" y="682"/>
                </a:lnTo>
                <a:lnTo>
                  <a:pt x="103" y="808"/>
                </a:lnTo>
                <a:lnTo>
                  <a:pt x="67" y="939"/>
                </a:lnTo>
                <a:lnTo>
                  <a:pt x="39" y="1077"/>
                </a:lnTo>
                <a:lnTo>
                  <a:pt x="18" y="1219"/>
                </a:lnTo>
                <a:lnTo>
                  <a:pt x="5" y="1363"/>
                </a:lnTo>
                <a:lnTo>
                  <a:pt x="0" y="1509"/>
                </a:lnTo>
                <a:lnTo>
                  <a:pt x="3" y="1655"/>
                </a:lnTo>
                <a:lnTo>
                  <a:pt x="14" y="1799"/>
                </a:lnTo>
                <a:lnTo>
                  <a:pt x="32" y="1942"/>
                </a:lnTo>
                <a:lnTo>
                  <a:pt x="59" y="2081"/>
                </a:lnTo>
                <a:lnTo>
                  <a:pt x="93" y="2214"/>
                </a:lnTo>
                <a:lnTo>
                  <a:pt x="134" y="2341"/>
                </a:lnTo>
                <a:lnTo>
                  <a:pt x="181" y="2461"/>
                </a:lnTo>
                <a:lnTo>
                  <a:pt x="235" y="2573"/>
                </a:lnTo>
                <a:lnTo>
                  <a:pt x="296" y="2675"/>
                </a:lnTo>
                <a:lnTo>
                  <a:pt x="360" y="2766"/>
                </a:lnTo>
                <a:lnTo>
                  <a:pt x="430" y="2846"/>
                </a:lnTo>
                <a:lnTo>
                  <a:pt x="504" y="2914"/>
                </a:lnTo>
                <a:lnTo>
                  <a:pt x="582" y="2969"/>
                </a:lnTo>
                <a:lnTo>
                  <a:pt x="662" y="3012"/>
                </a:lnTo>
                <a:lnTo>
                  <a:pt x="744" y="3040"/>
                </a:lnTo>
                <a:lnTo>
                  <a:pt x="827" y="3055"/>
                </a:lnTo>
                <a:lnTo>
                  <a:pt x="911" y="3056"/>
                </a:lnTo>
                <a:lnTo>
                  <a:pt x="994" y="3043"/>
                </a:lnTo>
                <a:lnTo>
                  <a:pt x="1076" y="3017"/>
                </a:lnTo>
                <a:lnTo>
                  <a:pt x="1157" y="2976"/>
                </a:lnTo>
                <a:lnTo>
                  <a:pt x="1234" y="2923"/>
                </a:lnTo>
                <a:lnTo>
                  <a:pt x="1309" y="2856"/>
                </a:lnTo>
                <a:lnTo>
                  <a:pt x="1379" y="2778"/>
                </a:lnTo>
                <a:lnTo>
                  <a:pt x="1445" y="2688"/>
                </a:lnTo>
                <a:lnTo>
                  <a:pt x="1506" y="2587"/>
                </a:lnTo>
                <a:lnTo>
                  <a:pt x="1561" y="2477"/>
                </a:lnTo>
                <a:lnTo>
                  <a:pt x="1609" y="2358"/>
                </a:lnTo>
                <a:lnTo>
                  <a:pt x="1651" y="2232"/>
                </a:lnTo>
                <a:lnTo>
                  <a:pt x="1686" y="2099"/>
                </a:lnTo>
                <a:lnTo>
                  <a:pt x="1714" y="1961"/>
                </a:lnTo>
                <a:lnTo>
                  <a:pt x="1734" y="1819"/>
                </a:lnTo>
                <a:lnTo>
                  <a:pt x="1745" y="1674"/>
                </a:lnTo>
                <a:lnTo>
                  <a:pt x="1750" y="15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Freeform 47"/>
          <p:cNvSpPr/>
          <p:nvPr/>
        </p:nvSpPr>
        <p:spPr>
          <a:xfrm>
            <a:off x="1200240" y="4587840"/>
            <a:ext cx="463320" cy="808200"/>
          </a:xfrm>
          <a:custGeom>
            <a:avLst/>
            <a:gdLst>
              <a:gd name="textAreaLeft" fmla="*/ 0 w 463320"/>
              <a:gd name="textAreaRight" fmla="*/ 463680 w 46332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50" h="3057">
                <a:moveTo>
                  <a:pt x="1662" y="2196"/>
                </a:moveTo>
                <a:lnTo>
                  <a:pt x="1621" y="2324"/>
                </a:lnTo>
                <a:lnTo>
                  <a:pt x="1574" y="2446"/>
                </a:lnTo>
                <a:lnTo>
                  <a:pt x="1521" y="2558"/>
                </a:lnTo>
                <a:lnTo>
                  <a:pt x="1462" y="2661"/>
                </a:lnTo>
                <a:lnTo>
                  <a:pt x="1397" y="2754"/>
                </a:lnTo>
                <a:lnTo>
                  <a:pt x="1328" y="2836"/>
                </a:lnTo>
                <a:lnTo>
                  <a:pt x="1254" y="2906"/>
                </a:lnTo>
                <a:lnTo>
                  <a:pt x="1178" y="2963"/>
                </a:lnTo>
                <a:lnTo>
                  <a:pt x="1098" y="3007"/>
                </a:lnTo>
                <a:lnTo>
                  <a:pt x="1016" y="3037"/>
                </a:lnTo>
                <a:lnTo>
                  <a:pt x="933" y="3054"/>
                </a:lnTo>
                <a:lnTo>
                  <a:pt x="850" y="3057"/>
                </a:lnTo>
                <a:lnTo>
                  <a:pt x="766" y="3045"/>
                </a:lnTo>
                <a:lnTo>
                  <a:pt x="684" y="3021"/>
                </a:lnTo>
                <a:lnTo>
                  <a:pt x="603" y="2982"/>
                </a:lnTo>
                <a:lnTo>
                  <a:pt x="526" y="2930"/>
                </a:lnTo>
                <a:lnTo>
                  <a:pt x="450" y="2865"/>
                </a:lnTo>
                <a:lnTo>
                  <a:pt x="379" y="2789"/>
                </a:lnTo>
                <a:lnTo>
                  <a:pt x="313" y="2700"/>
                </a:lnTo>
                <a:lnTo>
                  <a:pt x="251" y="2601"/>
                </a:lnTo>
                <a:lnTo>
                  <a:pt x="195" y="2493"/>
                </a:lnTo>
                <a:lnTo>
                  <a:pt x="147" y="2374"/>
                </a:lnTo>
                <a:lnTo>
                  <a:pt x="103" y="2249"/>
                </a:lnTo>
                <a:lnTo>
                  <a:pt x="67" y="2117"/>
                </a:lnTo>
                <a:lnTo>
                  <a:pt x="39" y="1980"/>
                </a:lnTo>
                <a:lnTo>
                  <a:pt x="18" y="1838"/>
                </a:lnTo>
                <a:lnTo>
                  <a:pt x="5" y="1694"/>
                </a:lnTo>
                <a:lnTo>
                  <a:pt x="0" y="1548"/>
                </a:lnTo>
                <a:lnTo>
                  <a:pt x="3" y="1402"/>
                </a:lnTo>
                <a:lnTo>
                  <a:pt x="14" y="1257"/>
                </a:lnTo>
                <a:lnTo>
                  <a:pt x="32" y="1115"/>
                </a:lnTo>
                <a:lnTo>
                  <a:pt x="59" y="977"/>
                </a:lnTo>
                <a:lnTo>
                  <a:pt x="93" y="843"/>
                </a:lnTo>
                <a:lnTo>
                  <a:pt x="134" y="715"/>
                </a:lnTo>
                <a:lnTo>
                  <a:pt x="181" y="595"/>
                </a:lnTo>
                <a:lnTo>
                  <a:pt x="235" y="484"/>
                </a:lnTo>
                <a:lnTo>
                  <a:pt x="296" y="383"/>
                </a:lnTo>
                <a:lnTo>
                  <a:pt x="360" y="290"/>
                </a:lnTo>
                <a:lnTo>
                  <a:pt x="430" y="211"/>
                </a:lnTo>
                <a:lnTo>
                  <a:pt x="504" y="142"/>
                </a:lnTo>
                <a:lnTo>
                  <a:pt x="582" y="87"/>
                </a:lnTo>
                <a:lnTo>
                  <a:pt x="662" y="45"/>
                </a:lnTo>
                <a:lnTo>
                  <a:pt x="744" y="16"/>
                </a:lnTo>
                <a:lnTo>
                  <a:pt x="827" y="1"/>
                </a:lnTo>
                <a:lnTo>
                  <a:pt x="911" y="0"/>
                </a:lnTo>
                <a:lnTo>
                  <a:pt x="994" y="14"/>
                </a:lnTo>
                <a:lnTo>
                  <a:pt x="1076" y="41"/>
                </a:lnTo>
                <a:lnTo>
                  <a:pt x="1157" y="81"/>
                </a:lnTo>
                <a:lnTo>
                  <a:pt x="1234" y="135"/>
                </a:lnTo>
                <a:lnTo>
                  <a:pt x="1309" y="200"/>
                </a:lnTo>
                <a:lnTo>
                  <a:pt x="1379" y="280"/>
                </a:lnTo>
                <a:lnTo>
                  <a:pt x="1445" y="369"/>
                </a:lnTo>
                <a:lnTo>
                  <a:pt x="1506" y="469"/>
                </a:lnTo>
                <a:lnTo>
                  <a:pt x="1561" y="579"/>
                </a:lnTo>
                <a:lnTo>
                  <a:pt x="1609" y="699"/>
                </a:lnTo>
                <a:lnTo>
                  <a:pt x="1651" y="825"/>
                </a:lnTo>
                <a:lnTo>
                  <a:pt x="1686" y="957"/>
                </a:lnTo>
                <a:lnTo>
                  <a:pt x="1714" y="1096"/>
                </a:lnTo>
                <a:lnTo>
                  <a:pt x="1734" y="1238"/>
                </a:lnTo>
                <a:lnTo>
                  <a:pt x="1745" y="1382"/>
                </a:lnTo>
                <a:lnTo>
                  <a:pt x="1750" y="15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2" name="Object 48"/>
          <p:cNvGraphicFramePr/>
          <p:nvPr/>
        </p:nvGraphicFramePr>
        <p:xfrm>
          <a:off x="1200240" y="5440320"/>
          <a:ext cx="579240" cy="474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3" name="Object 4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00240" y="5440320"/>
                    <a:ext cx="5792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4" name="Freeform 60"/>
          <p:cNvSpPr/>
          <p:nvPr/>
        </p:nvSpPr>
        <p:spPr>
          <a:xfrm>
            <a:off x="4570560" y="5794200"/>
            <a:ext cx="37800" cy="239760"/>
          </a:xfrm>
          <a:custGeom>
            <a:avLst/>
            <a:gdLst>
              <a:gd name="textAreaLeft" fmla="*/ 0 w 37800"/>
              <a:gd name="textAreaRight" fmla="*/ 38160 w 378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45" h="909">
                <a:moveTo>
                  <a:pt x="145" y="0"/>
                </a:moveTo>
                <a:lnTo>
                  <a:pt x="98" y="71"/>
                </a:lnTo>
                <a:lnTo>
                  <a:pt x="59" y="148"/>
                </a:lnTo>
                <a:lnTo>
                  <a:pt x="30" y="232"/>
                </a:lnTo>
                <a:lnTo>
                  <a:pt x="11" y="319"/>
                </a:lnTo>
                <a:lnTo>
                  <a:pt x="0" y="409"/>
                </a:lnTo>
                <a:lnTo>
                  <a:pt x="0" y="500"/>
                </a:lnTo>
                <a:lnTo>
                  <a:pt x="11" y="590"/>
                </a:lnTo>
                <a:lnTo>
                  <a:pt x="30" y="678"/>
                </a:lnTo>
                <a:lnTo>
                  <a:pt x="59" y="760"/>
                </a:lnTo>
                <a:lnTo>
                  <a:pt x="98" y="839"/>
                </a:lnTo>
                <a:lnTo>
                  <a:pt x="145" y="909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Line 61"/>
          <p:cNvSpPr/>
          <p:nvPr/>
        </p:nvSpPr>
        <p:spPr>
          <a:xfrm>
            <a:off x="4361040" y="6091200"/>
            <a:ext cx="498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Line 62"/>
          <p:cNvSpPr/>
          <p:nvPr/>
        </p:nvSpPr>
        <p:spPr>
          <a:xfrm>
            <a:off x="4361040" y="5737320"/>
            <a:ext cx="498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Freeform 63"/>
          <p:cNvSpPr/>
          <p:nvPr/>
        </p:nvSpPr>
        <p:spPr>
          <a:xfrm>
            <a:off x="4714920" y="5737320"/>
            <a:ext cx="288720" cy="353880"/>
          </a:xfrm>
          <a:custGeom>
            <a:avLst/>
            <a:gdLst>
              <a:gd name="textAreaLeft" fmla="*/ 0 w 288720"/>
              <a:gd name="textAreaRight" fmla="*/ 289080 w 288720"/>
              <a:gd name="textAreaTop" fmla="*/ 0 h 353880"/>
              <a:gd name="textAreaBottom" fmla="*/ 353880 h 353880"/>
            </a:gdLst>
            <a:ahLst/>
            <a:rect l="textAreaLeft" t="textAreaTop" r="textAreaRight" b="textAreaBottom"/>
            <a:pathLst>
              <a:path w="1092" h="1335">
                <a:moveTo>
                  <a:pt x="547" y="0"/>
                </a:moveTo>
                <a:lnTo>
                  <a:pt x="467" y="7"/>
                </a:lnTo>
                <a:lnTo>
                  <a:pt x="389" y="29"/>
                </a:lnTo>
                <a:lnTo>
                  <a:pt x="315" y="64"/>
                </a:lnTo>
                <a:lnTo>
                  <a:pt x="245" y="111"/>
                </a:lnTo>
                <a:lnTo>
                  <a:pt x="181" y="171"/>
                </a:lnTo>
                <a:lnTo>
                  <a:pt x="126" y="241"/>
                </a:lnTo>
                <a:lnTo>
                  <a:pt x="80" y="320"/>
                </a:lnTo>
                <a:lnTo>
                  <a:pt x="44" y="407"/>
                </a:lnTo>
                <a:lnTo>
                  <a:pt x="18" y="500"/>
                </a:lnTo>
                <a:lnTo>
                  <a:pt x="3" y="595"/>
                </a:lnTo>
                <a:lnTo>
                  <a:pt x="0" y="693"/>
                </a:lnTo>
                <a:lnTo>
                  <a:pt x="9" y="790"/>
                </a:lnTo>
                <a:lnTo>
                  <a:pt x="29" y="884"/>
                </a:lnTo>
                <a:lnTo>
                  <a:pt x="61" y="974"/>
                </a:lnTo>
                <a:lnTo>
                  <a:pt x="102" y="1057"/>
                </a:lnTo>
                <a:lnTo>
                  <a:pt x="153" y="1132"/>
                </a:lnTo>
                <a:lnTo>
                  <a:pt x="212" y="1198"/>
                </a:lnTo>
                <a:lnTo>
                  <a:pt x="279" y="1252"/>
                </a:lnTo>
                <a:lnTo>
                  <a:pt x="351" y="1293"/>
                </a:lnTo>
                <a:lnTo>
                  <a:pt x="428" y="1320"/>
                </a:lnTo>
                <a:lnTo>
                  <a:pt x="506" y="1335"/>
                </a:lnTo>
                <a:lnTo>
                  <a:pt x="586" y="1335"/>
                </a:lnTo>
                <a:lnTo>
                  <a:pt x="665" y="1320"/>
                </a:lnTo>
                <a:lnTo>
                  <a:pt x="741" y="1293"/>
                </a:lnTo>
                <a:lnTo>
                  <a:pt x="813" y="1252"/>
                </a:lnTo>
                <a:lnTo>
                  <a:pt x="880" y="1198"/>
                </a:lnTo>
                <a:lnTo>
                  <a:pt x="939" y="1132"/>
                </a:lnTo>
                <a:lnTo>
                  <a:pt x="990" y="1057"/>
                </a:lnTo>
                <a:lnTo>
                  <a:pt x="1033" y="974"/>
                </a:lnTo>
                <a:lnTo>
                  <a:pt x="1063" y="884"/>
                </a:lnTo>
                <a:lnTo>
                  <a:pt x="1083" y="790"/>
                </a:lnTo>
                <a:lnTo>
                  <a:pt x="1092" y="693"/>
                </a:lnTo>
                <a:lnTo>
                  <a:pt x="1090" y="595"/>
                </a:lnTo>
                <a:lnTo>
                  <a:pt x="1075" y="500"/>
                </a:lnTo>
                <a:lnTo>
                  <a:pt x="1050" y="407"/>
                </a:lnTo>
                <a:lnTo>
                  <a:pt x="1012" y="320"/>
                </a:lnTo>
                <a:lnTo>
                  <a:pt x="966" y="241"/>
                </a:lnTo>
                <a:lnTo>
                  <a:pt x="911" y="171"/>
                </a:lnTo>
                <a:lnTo>
                  <a:pt x="847" y="111"/>
                </a:lnTo>
                <a:lnTo>
                  <a:pt x="778" y="64"/>
                </a:lnTo>
                <a:lnTo>
                  <a:pt x="703" y="29"/>
                </a:lnTo>
                <a:lnTo>
                  <a:pt x="626" y="7"/>
                </a:lnTo>
                <a:lnTo>
                  <a:pt x="54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Freeform 64"/>
          <p:cNvSpPr/>
          <p:nvPr/>
        </p:nvSpPr>
        <p:spPr>
          <a:xfrm>
            <a:off x="4216320" y="5737320"/>
            <a:ext cx="144720" cy="353880"/>
          </a:xfrm>
          <a:custGeom>
            <a:avLst/>
            <a:gdLst>
              <a:gd name="textAreaLeft" fmla="*/ 0 w 144720"/>
              <a:gd name="textAreaRight" fmla="*/ 145080 w 14472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546" h="1336">
                <a:moveTo>
                  <a:pt x="546" y="0"/>
                </a:moveTo>
                <a:lnTo>
                  <a:pt x="469" y="7"/>
                </a:lnTo>
                <a:lnTo>
                  <a:pt x="392" y="28"/>
                </a:lnTo>
                <a:lnTo>
                  <a:pt x="319" y="60"/>
                </a:lnTo>
                <a:lnTo>
                  <a:pt x="251" y="106"/>
                </a:lnTo>
                <a:lnTo>
                  <a:pt x="188" y="163"/>
                </a:lnTo>
                <a:lnTo>
                  <a:pt x="133" y="231"/>
                </a:lnTo>
                <a:lnTo>
                  <a:pt x="86" y="307"/>
                </a:lnTo>
                <a:lnTo>
                  <a:pt x="49" y="391"/>
                </a:lnTo>
                <a:lnTo>
                  <a:pt x="22" y="481"/>
                </a:lnTo>
                <a:lnTo>
                  <a:pt x="6" y="574"/>
                </a:lnTo>
                <a:lnTo>
                  <a:pt x="0" y="668"/>
                </a:lnTo>
                <a:lnTo>
                  <a:pt x="6" y="763"/>
                </a:lnTo>
                <a:lnTo>
                  <a:pt x="22" y="857"/>
                </a:lnTo>
                <a:lnTo>
                  <a:pt x="49" y="947"/>
                </a:lnTo>
                <a:lnTo>
                  <a:pt x="86" y="1030"/>
                </a:lnTo>
                <a:lnTo>
                  <a:pt x="133" y="1107"/>
                </a:lnTo>
                <a:lnTo>
                  <a:pt x="188" y="1173"/>
                </a:lnTo>
                <a:lnTo>
                  <a:pt x="251" y="1230"/>
                </a:lnTo>
                <a:lnTo>
                  <a:pt x="319" y="1276"/>
                </a:lnTo>
                <a:lnTo>
                  <a:pt x="392" y="1310"/>
                </a:lnTo>
                <a:lnTo>
                  <a:pt x="469" y="1330"/>
                </a:lnTo>
                <a:lnTo>
                  <a:pt x="546" y="133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Line 65"/>
          <p:cNvSpPr/>
          <p:nvPr/>
        </p:nvSpPr>
        <p:spPr>
          <a:xfrm flipH="1">
            <a:off x="4119120" y="5915160"/>
            <a:ext cx="739800" cy="144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0" name="Object 66"/>
          <p:cNvGraphicFramePr/>
          <p:nvPr/>
        </p:nvGraphicFramePr>
        <p:xfrm>
          <a:off x="3692520" y="5151600"/>
          <a:ext cx="1455840" cy="415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41" name="Object 6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692520" y="5151600"/>
                    <a:ext cx="14558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2" name="Freeform 67"/>
          <p:cNvSpPr/>
          <p:nvPr/>
        </p:nvSpPr>
        <p:spPr>
          <a:xfrm>
            <a:off x="4119480" y="5794200"/>
            <a:ext cx="38160" cy="239760"/>
          </a:xfrm>
          <a:custGeom>
            <a:avLst/>
            <a:gdLst>
              <a:gd name="textAreaLeft" fmla="*/ 0 w 38160"/>
              <a:gd name="textAreaRight" fmla="*/ 38520 w 381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45" h="909">
                <a:moveTo>
                  <a:pt x="145" y="0"/>
                </a:moveTo>
                <a:lnTo>
                  <a:pt x="98" y="71"/>
                </a:lnTo>
                <a:lnTo>
                  <a:pt x="59" y="148"/>
                </a:lnTo>
                <a:lnTo>
                  <a:pt x="30" y="232"/>
                </a:lnTo>
                <a:lnTo>
                  <a:pt x="11" y="319"/>
                </a:lnTo>
                <a:lnTo>
                  <a:pt x="0" y="409"/>
                </a:lnTo>
                <a:lnTo>
                  <a:pt x="0" y="500"/>
                </a:lnTo>
                <a:lnTo>
                  <a:pt x="11" y="590"/>
                </a:lnTo>
                <a:lnTo>
                  <a:pt x="30" y="678"/>
                </a:lnTo>
                <a:lnTo>
                  <a:pt x="59" y="760"/>
                </a:lnTo>
                <a:lnTo>
                  <a:pt x="98" y="839"/>
                </a:lnTo>
                <a:lnTo>
                  <a:pt x="145" y="909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3" name="Object 68"/>
          <p:cNvGraphicFramePr/>
          <p:nvPr/>
        </p:nvGraphicFramePr>
        <p:xfrm>
          <a:off x="3887640" y="6089760"/>
          <a:ext cx="605160" cy="474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44" name="Object 6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87640" y="6089760"/>
                    <a:ext cx="6051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5" name="Text Box 69"/>
          <p:cNvSpPr/>
          <p:nvPr/>
        </p:nvSpPr>
        <p:spPr>
          <a:xfrm>
            <a:off x="5292720" y="2085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6" name="Object 70"/>
          <p:cNvGraphicFramePr/>
          <p:nvPr/>
        </p:nvGraphicFramePr>
        <p:xfrm>
          <a:off x="5353200" y="2765520"/>
          <a:ext cx="3477960" cy="549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47" name="Object 7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353200" y="2765520"/>
                    <a:ext cx="34779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8" name="Object 71"/>
          <p:cNvGraphicFramePr/>
          <p:nvPr/>
        </p:nvGraphicFramePr>
        <p:xfrm>
          <a:off x="5353200" y="3614760"/>
          <a:ext cx="3450960" cy="569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549" name="Object 7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53200" y="3614760"/>
                    <a:ext cx="3450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0" name="AutoShape 72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1" name="Object 73"/>
          <p:cNvGraphicFramePr/>
          <p:nvPr/>
        </p:nvGraphicFramePr>
        <p:xfrm>
          <a:off x="184320" y="3660840"/>
          <a:ext cx="380880" cy="412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552" name="Object 7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84320" y="3660840"/>
                    <a:ext cx="3808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3" name="Object 74"/>
          <p:cNvGraphicFramePr/>
          <p:nvPr/>
        </p:nvGraphicFramePr>
        <p:xfrm>
          <a:off x="2911320" y="3762360"/>
          <a:ext cx="381240" cy="4129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554" name="Object 7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911320" y="3762360"/>
                    <a:ext cx="3812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5" name="Object 75"/>
          <p:cNvGraphicFramePr/>
          <p:nvPr/>
        </p:nvGraphicFramePr>
        <p:xfrm>
          <a:off x="4740120" y="3425760"/>
          <a:ext cx="38124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556" name="Object 75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740120" y="3425760"/>
                    <a:ext cx="3812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  例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Freeform 5"/>
          <p:cNvSpPr/>
          <p:nvPr/>
        </p:nvSpPr>
        <p:spPr>
          <a:xfrm>
            <a:off x="369720" y="1963800"/>
            <a:ext cx="230400" cy="809640"/>
          </a:xfrm>
          <a:custGeom>
            <a:avLst/>
            <a:gdLst>
              <a:gd name="textAreaLeft" fmla="*/ 0 w 230400"/>
              <a:gd name="textAreaRight" fmla="*/ 230760 w 23040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873" h="3058">
                <a:moveTo>
                  <a:pt x="873" y="0"/>
                </a:moveTo>
                <a:lnTo>
                  <a:pt x="790" y="7"/>
                </a:lnTo>
                <a:lnTo>
                  <a:pt x="707" y="28"/>
                </a:lnTo>
                <a:lnTo>
                  <a:pt x="627" y="62"/>
                </a:lnTo>
                <a:lnTo>
                  <a:pt x="548" y="109"/>
                </a:lnTo>
                <a:lnTo>
                  <a:pt x="472" y="170"/>
                </a:lnTo>
                <a:lnTo>
                  <a:pt x="400" y="243"/>
                </a:lnTo>
                <a:lnTo>
                  <a:pt x="332" y="327"/>
                </a:lnTo>
                <a:lnTo>
                  <a:pt x="270" y="423"/>
                </a:lnTo>
                <a:lnTo>
                  <a:pt x="212" y="528"/>
                </a:lnTo>
                <a:lnTo>
                  <a:pt x="161" y="642"/>
                </a:lnTo>
                <a:lnTo>
                  <a:pt x="115" y="765"/>
                </a:lnTo>
                <a:lnTo>
                  <a:pt x="77" y="894"/>
                </a:lnTo>
                <a:lnTo>
                  <a:pt x="46" y="1029"/>
                </a:lnTo>
                <a:lnTo>
                  <a:pt x="23" y="1168"/>
                </a:lnTo>
                <a:lnTo>
                  <a:pt x="7" y="1311"/>
                </a:lnTo>
                <a:lnTo>
                  <a:pt x="0" y="1456"/>
                </a:lnTo>
                <a:lnTo>
                  <a:pt x="0" y="1602"/>
                </a:lnTo>
                <a:lnTo>
                  <a:pt x="7" y="1746"/>
                </a:lnTo>
                <a:lnTo>
                  <a:pt x="23" y="1889"/>
                </a:lnTo>
                <a:lnTo>
                  <a:pt x="46" y="2029"/>
                </a:lnTo>
                <a:lnTo>
                  <a:pt x="77" y="2165"/>
                </a:lnTo>
                <a:lnTo>
                  <a:pt x="115" y="2294"/>
                </a:lnTo>
                <a:lnTo>
                  <a:pt x="161" y="2417"/>
                </a:lnTo>
                <a:lnTo>
                  <a:pt x="212" y="2531"/>
                </a:lnTo>
                <a:lnTo>
                  <a:pt x="270" y="2636"/>
                </a:lnTo>
                <a:lnTo>
                  <a:pt x="332" y="2731"/>
                </a:lnTo>
                <a:lnTo>
                  <a:pt x="400" y="2816"/>
                </a:lnTo>
                <a:lnTo>
                  <a:pt x="472" y="2889"/>
                </a:lnTo>
                <a:lnTo>
                  <a:pt x="548" y="2949"/>
                </a:lnTo>
                <a:lnTo>
                  <a:pt x="627" y="2997"/>
                </a:lnTo>
                <a:lnTo>
                  <a:pt x="707" y="3031"/>
                </a:lnTo>
                <a:lnTo>
                  <a:pt x="790" y="3052"/>
                </a:lnTo>
                <a:lnTo>
                  <a:pt x="873" y="30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Line 6"/>
          <p:cNvSpPr/>
          <p:nvPr/>
        </p:nvSpPr>
        <p:spPr>
          <a:xfrm>
            <a:off x="160200" y="2368440"/>
            <a:ext cx="4561200" cy="180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Freeform 7"/>
          <p:cNvSpPr/>
          <p:nvPr/>
        </p:nvSpPr>
        <p:spPr>
          <a:xfrm>
            <a:off x="2654280" y="1963800"/>
            <a:ext cx="439920" cy="807840"/>
          </a:xfrm>
          <a:custGeom>
            <a:avLst/>
            <a:gdLst>
              <a:gd name="textAreaLeft" fmla="*/ 0 w 439920"/>
              <a:gd name="textAreaRight" fmla="*/ 440280 w 439920"/>
              <a:gd name="textAreaTop" fmla="*/ 0 h 807840"/>
              <a:gd name="textAreaBottom" fmla="*/ 808200 h 807840"/>
            </a:gdLst>
            <a:ahLst/>
            <a:rect l="textAreaLeft" t="textAreaTop" r="textAreaRight" b="textAreaBottom"/>
            <a:pathLst>
              <a:path w="1661" h="3056">
                <a:moveTo>
                  <a:pt x="1661" y="860"/>
                </a:moveTo>
                <a:lnTo>
                  <a:pt x="1621" y="731"/>
                </a:lnTo>
                <a:lnTo>
                  <a:pt x="1573" y="609"/>
                </a:lnTo>
                <a:lnTo>
                  <a:pt x="1520" y="497"/>
                </a:lnTo>
                <a:lnTo>
                  <a:pt x="1460" y="393"/>
                </a:lnTo>
                <a:lnTo>
                  <a:pt x="1395" y="300"/>
                </a:lnTo>
                <a:lnTo>
                  <a:pt x="1325" y="218"/>
                </a:lnTo>
                <a:lnTo>
                  <a:pt x="1251" y="149"/>
                </a:lnTo>
                <a:lnTo>
                  <a:pt x="1174" y="91"/>
                </a:lnTo>
                <a:lnTo>
                  <a:pt x="1094" y="48"/>
                </a:lnTo>
                <a:lnTo>
                  <a:pt x="1012" y="18"/>
                </a:lnTo>
                <a:lnTo>
                  <a:pt x="928" y="1"/>
                </a:lnTo>
                <a:lnTo>
                  <a:pt x="845" y="0"/>
                </a:lnTo>
                <a:lnTo>
                  <a:pt x="761" y="12"/>
                </a:lnTo>
                <a:lnTo>
                  <a:pt x="678" y="37"/>
                </a:lnTo>
                <a:lnTo>
                  <a:pt x="597" y="78"/>
                </a:lnTo>
                <a:lnTo>
                  <a:pt x="519" y="131"/>
                </a:lnTo>
                <a:lnTo>
                  <a:pt x="443" y="196"/>
                </a:lnTo>
                <a:lnTo>
                  <a:pt x="372" y="275"/>
                </a:lnTo>
                <a:lnTo>
                  <a:pt x="307" y="365"/>
                </a:lnTo>
                <a:lnTo>
                  <a:pt x="245" y="465"/>
                </a:lnTo>
                <a:lnTo>
                  <a:pt x="189" y="575"/>
                </a:lnTo>
                <a:lnTo>
                  <a:pt x="141" y="695"/>
                </a:lnTo>
                <a:lnTo>
                  <a:pt x="98" y="822"/>
                </a:lnTo>
                <a:lnTo>
                  <a:pt x="63" y="955"/>
                </a:lnTo>
                <a:lnTo>
                  <a:pt x="36" y="1094"/>
                </a:lnTo>
                <a:lnTo>
                  <a:pt x="16" y="1236"/>
                </a:lnTo>
                <a:lnTo>
                  <a:pt x="3" y="1381"/>
                </a:lnTo>
                <a:lnTo>
                  <a:pt x="0" y="1528"/>
                </a:lnTo>
                <a:lnTo>
                  <a:pt x="3" y="1674"/>
                </a:lnTo>
                <a:lnTo>
                  <a:pt x="16" y="1820"/>
                </a:lnTo>
                <a:lnTo>
                  <a:pt x="36" y="1962"/>
                </a:lnTo>
                <a:lnTo>
                  <a:pt x="63" y="2101"/>
                </a:lnTo>
                <a:lnTo>
                  <a:pt x="98" y="2234"/>
                </a:lnTo>
                <a:lnTo>
                  <a:pt x="141" y="2362"/>
                </a:lnTo>
                <a:lnTo>
                  <a:pt x="189" y="2480"/>
                </a:lnTo>
                <a:lnTo>
                  <a:pt x="245" y="2591"/>
                </a:lnTo>
                <a:lnTo>
                  <a:pt x="307" y="2692"/>
                </a:lnTo>
                <a:lnTo>
                  <a:pt x="372" y="2781"/>
                </a:lnTo>
                <a:lnTo>
                  <a:pt x="443" y="2859"/>
                </a:lnTo>
                <a:lnTo>
                  <a:pt x="519" y="2926"/>
                </a:lnTo>
                <a:lnTo>
                  <a:pt x="597" y="2979"/>
                </a:lnTo>
                <a:lnTo>
                  <a:pt x="678" y="3018"/>
                </a:lnTo>
                <a:lnTo>
                  <a:pt x="761" y="3044"/>
                </a:lnTo>
                <a:lnTo>
                  <a:pt x="845" y="3056"/>
                </a:lnTo>
                <a:lnTo>
                  <a:pt x="928" y="3054"/>
                </a:lnTo>
                <a:lnTo>
                  <a:pt x="1012" y="3038"/>
                </a:lnTo>
                <a:lnTo>
                  <a:pt x="1094" y="3008"/>
                </a:lnTo>
                <a:lnTo>
                  <a:pt x="1174" y="2965"/>
                </a:lnTo>
                <a:lnTo>
                  <a:pt x="1251" y="2908"/>
                </a:lnTo>
                <a:lnTo>
                  <a:pt x="1325" y="2838"/>
                </a:lnTo>
                <a:lnTo>
                  <a:pt x="1395" y="2756"/>
                </a:lnTo>
                <a:lnTo>
                  <a:pt x="1460" y="2663"/>
                </a:lnTo>
                <a:lnTo>
                  <a:pt x="1520" y="2560"/>
                </a:lnTo>
                <a:lnTo>
                  <a:pt x="1573" y="2446"/>
                </a:lnTo>
                <a:lnTo>
                  <a:pt x="1621" y="2326"/>
                </a:lnTo>
                <a:lnTo>
                  <a:pt x="1661" y="21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Line 8"/>
          <p:cNvSpPr/>
          <p:nvPr/>
        </p:nvSpPr>
        <p:spPr>
          <a:xfrm>
            <a:off x="600120" y="1963800"/>
            <a:ext cx="2286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Freeform 9"/>
          <p:cNvSpPr/>
          <p:nvPr/>
        </p:nvSpPr>
        <p:spPr>
          <a:xfrm>
            <a:off x="2859120" y="2190600"/>
            <a:ext cx="144360" cy="354240"/>
          </a:xfrm>
          <a:custGeom>
            <a:avLst/>
            <a:gdLst>
              <a:gd name="textAreaLeft" fmla="*/ 0 w 144360"/>
              <a:gd name="textAreaRight" fmla="*/ 144720 w 144360"/>
              <a:gd name="textAreaTop" fmla="*/ 0 h 354240"/>
              <a:gd name="textAreaBottom" fmla="*/ 354600 h 354240"/>
            </a:gdLst>
            <a:ahLst/>
            <a:rect l="textAreaLeft" t="textAreaTop" r="textAreaRight" b="textAreaBottom"/>
            <a:pathLst>
              <a:path w="546" h="1336">
                <a:moveTo>
                  <a:pt x="546" y="0"/>
                </a:moveTo>
                <a:lnTo>
                  <a:pt x="468" y="6"/>
                </a:lnTo>
                <a:lnTo>
                  <a:pt x="392" y="27"/>
                </a:lnTo>
                <a:lnTo>
                  <a:pt x="318" y="60"/>
                </a:lnTo>
                <a:lnTo>
                  <a:pt x="251" y="106"/>
                </a:lnTo>
                <a:lnTo>
                  <a:pt x="188" y="163"/>
                </a:lnTo>
                <a:lnTo>
                  <a:pt x="133" y="230"/>
                </a:lnTo>
                <a:lnTo>
                  <a:pt x="87" y="306"/>
                </a:lnTo>
                <a:lnTo>
                  <a:pt x="48" y="390"/>
                </a:lnTo>
                <a:lnTo>
                  <a:pt x="22" y="480"/>
                </a:lnTo>
                <a:lnTo>
                  <a:pt x="5" y="573"/>
                </a:lnTo>
                <a:lnTo>
                  <a:pt x="0" y="668"/>
                </a:lnTo>
                <a:lnTo>
                  <a:pt x="5" y="762"/>
                </a:lnTo>
                <a:lnTo>
                  <a:pt x="21" y="857"/>
                </a:lnTo>
                <a:lnTo>
                  <a:pt x="48" y="946"/>
                </a:lnTo>
                <a:lnTo>
                  <a:pt x="86" y="1029"/>
                </a:lnTo>
                <a:lnTo>
                  <a:pt x="132" y="1106"/>
                </a:lnTo>
                <a:lnTo>
                  <a:pt x="188" y="1173"/>
                </a:lnTo>
                <a:lnTo>
                  <a:pt x="250" y="1230"/>
                </a:lnTo>
                <a:lnTo>
                  <a:pt x="318" y="1276"/>
                </a:lnTo>
                <a:lnTo>
                  <a:pt x="392" y="1309"/>
                </a:lnTo>
                <a:lnTo>
                  <a:pt x="468" y="1330"/>
                </a:lnTo>
                <a:lnTo>
                  <a:pt x="545" y="1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Freeform 10"/>
          <p:cNvSpPr/>
          <p:nvPr/>
        </p:nvSpPr>
        <p:spPr>
          <a:xfrm>
            <a:off x="4552920" y="2190600"/>
            <a:ext cx="289080" cy="354240"/>
          </a:xfrm>
          <a:custGeom>
            <a:avLst/>
            <a:gdLst>
              <a:gd name="textAreaLeft" fmla="*/ 0 w 289080"/>
              <a:gd name="textAreaRight" fmla="*/ 289440 w 289080"/>
              <a:gd name="textAreaTop" fmla="*/ 0 h 354240"/>
              <a:gd name="textAreaBottom" fmla="*/ 354600 h 354240"/>
            </a:gdLst>
            <a:ahLst/>
            <a:rect l="textAreaLeft" t="textAreaTop" r="textAreaRight" b="textAreaBottom"/>
            <a:pathLst>
              <a:path w="1092" h="1334">
                <a:moveTo>
                  <a:pt x="547" y="0"/>
                </a:moveTo>
                <a:lnTo>
                  <a:pt x="467" y="8"/>
                </a:lnTo>
                <a:lnTo>
                  <a:pt x="389" y="29"/>
                </a:lnTo>
                <a:lnTo>
                  <a:pt x="315" y="64"/>
                </a:lnTo>
                <a:lnTo>
                  <a:pt x="245" y="111"/>
                </a:lnTo>
                <a:lnTo>
                  <a:pt x="181" y="171"/>
                </a:lnTo>
                <a:lnTo>
                  <a:pt x="126" y="240"/>
                </a:lnTo>
                <a:lnTo>
                  <a:pt x="80" y="320"/>
                </a:lnTo>
                <a:lnTo>
                  <a:pt x="44" y="407"/>
                </a:lnTo>
                <a:lnTo>
                  <a:pt x="18" y="499"/>
                </a:lnTo>
                <a:lnTo>
                  <a:pt x="3" y="595"/>
                </a:lnTo>
                <a:lnTo>
                  <a:pt x="0" y="693"/>
                </a:lnTo>
                <a:lnTo>
                  <a:pt x="9" y="790"/>
                </a:lnTo>
                <a:lnTo>
                  <a:pt x="29" y="884"/>
                </a:lnTo>
                <a:lnTo>
                  <a:pt x="61" y="973"/>
                </a:lnTo>
                <a:lnTo>
                  <a:pt x="102" y="1057"/>
                </a:lnTo>
                <a:lnTo>
                  <a:pt x="153" y="1132"/>
                </a:lnTo>
                <a:lnTo>
                  <a:pt x="212" y="1197"/>
                </a:lnTo>
                <a:lnTo>
                  <a:pt x="279" y="1251"/>
                </a:lnTo>
                <a:lnTo>
                  <a:pt x="351" y="1292"/>
                </a:lnTo>
                <a:lnTo>
                  <a:pt x="428" y="1320"/>
                </a:lnTo>
                <a:lnTo>
                  <a:pt x="506" y="1334"/>
                </a:lnTo>
                <a:lnTo>
                  <a:pt x="586" y="1334"/>
                </a:lnTo>
                <a:lnTo>
                  <a:pt x="665" y="1320"/>
                </a:lnTo>
                <a:lnTo>
                  <a:pt x="741" y="1292"/>
                </a:lnTo>
                <a:lnTo>
                  <a:pt x="813" y="1251"/>
                </a:lnTo>
                <a:lnTo>
                  <a:pt x="880" y="1197"/>
                </a:lnTo>
                <a:lnTo>
                  <a:pt x="939" y="1132"/>
                </a:lnTo>
                <a:lnTo>
                  <a:pt x="990" y="1057"/>
                </a:lnTo>
                <a:lnTo>
                  <a:pt x="1033" y="973"/>
                </a:lnTo>
                <a:lnTo>
                  <a:pt x="1063" y="884"/>
                </a:lnTo>
                <a:lnTo>
                  <a:pt x="1083" y="790"/>
                </a:lnTo>
                <a:lnTo>
                  <a:pt x="1092" y="693"/>
                </a:lnTo>
                <a:lnTo>
                  <a:pt x="1090" y="595"/>
                </a:lnTo>
                <a:lnTo>
                  <a:pt x="1075" y="499"/>
                </a:lnTo>
                <a:lnTo>
                  <a:pt x="1050" y="407"/>
                </a:lnTo>
                <a:lnTo>
                  <a:pt x="1012" y="320"/>
                </a:lnTo>
                <a:lnTo>
                  <a:pt x="966" y="240"/>
                </a:lnTo>
                <a:lnTo>
                  <a:pt x="911" y="171"/>
                </a:lnTo>
                <a:lnTo>
                  <a:pt x="847" y="111"/>
                </a:lnTo>
                <a:lnTo>
                  <a:pt x="778" y="64"/>
                </a:lnTo>
                <a:lnTo>
                  <a:pt x="703" y="29"/>
                </a:lnTo>
                <a:lnTo>
                  <a:pt x="626" y="8"/>
                </a:lnTo>
                <a:lnTo>
                  <a:pt x="547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Line 11"/>
          <p:cNvSpPr/>
          <p:nvPr/>
        </p:nvSpPr>
        <p:spPr>
          <a:xfrm>
            <a:off x="3003480" y="2190600"/>
            <a:ext cx="1693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Line 12"/>
          <p:cNvSpPr/>
          <p:nvPr/>
        </p:nvSpPr>
        <p:spPr>
          <a:xfrm>
            <a:off x="3003480" y="2544840"/>
            <a:ext cx="1693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Line 13"/>
          <p:cNvSpPr/>
          <p:nvPr/>
        </p:nvSpPr>
        <p:spPr>
          <a:xfrm>
            <a:off x="600120" y="2773440"/>
            <a:ext cx="2286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Freeform 14"/>
          <p:cNvSpPr/>
          <p:nvPr/>
        </p:nvSpPr>
        <p:spPr>
          <a:xfrm>
            <a:off x="460440" y="2116080"/>
            <a:ext cx="50760" cy="504720"/>
          </a:xfrm>
          <a:custGeom>
            <a:avLst/>
            <a:gdLst>
              <a:gd name="textAreaLeft" fmla="*/ 0 w 50760"/>
              <a:gd name="textAreaRight" fmla="*/ 51120 w 507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193" h="1910">
                <a:moveTo>
                  <a:pt x="193" y="0"/>
                </a:moveTo>
                <a:lnTo>
                  <a:pt x="143" y="119"/>
                </a:lnTo>
                <a:lnTo>
                  <a:pt x="100" y="246"/>
                </a:lnTo>
                <a:lnTo>
                  <a:pt x="65" y="380"/>
                </a:lnTo>
                <a:lnTo>
                  <a:pt x="36" y="519"/>
                </a:lnTo>
                <a:lnTo>
                  <a:pt x="16" y="662"/>
                </a:lnTo>
                <a:lnTo>
                  <a:pt x="5" y="808"/>
                </a:lnTo>
                <a:lnTo>
                  <a:pt x="0" y="955"/>
                </a:lnTo>
                <a:lnTo>
                  <a:pt x="5" y="1102"/>
                </a:lnTo>
                <a:lnTo>
                  <a:pt x="16" y="1249"/>
                </a:lnTo>
                <a:lnTo>
                  <a:pt x="36" y="1391"/>
                </a:lnTo>
                <a:lnTo>
                  <a:pt x="65" y="1530"/>
                </a:lnTo>
                <a:lnTo>
                  <a:pt x="100" y="1665"/>
                </a:lnTo>
                <a:lnTo>
                  <a:pt x="143" y="1792"/>
                </a:lnTo>
                <a:lnTo>
                  <a:pt x="193" y="191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Freeform 15"/>
          <p:cNvSpPr/>
          <p:nvPr/>
        </p:nvSpPr>
        <p:spPr>
          <a:xfrm>
            <a:off x="2575080" y="2116080"/>
            <a:ext cx="50760" cy="504720"/>
          </a:xfrm>
          <a:custGeom>
            <a:avLst/>
            <a:gdLst>
              <a:gd name="textAreaLeft" fmla="*/ 0 w 50760"/>
              <a:gd name="textAreaRight" fmla="*/ 51120 w 507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193" h="1910">
                <a:moveTo>
                  <a:pt x="193" y="0"/>
                </a:moveTo>
                <a:lnTo>
                  <a:pt x="143" y="119"/>
                </a:lnTo>
                <a:lnTo>
                  <a:pt x="99" y="246"/>
                </a:lnTo>
                <a:lnTo>
                  <a:pt x="65" y="380"/>
                </a:lnTo>
                <a:lnTo>
                  <a:pt x="36" y="519"/>
                </a:lnTo>
                <a:lnTo>
                  <a:pt x="16" y="662"/>
                </a:lnTo>
                <a:lnTo>
                  <a:pt x="4" y="808"/>
                </a:lnTo>
                <a:lnTo>
                  <a:pt x="0" y="955"/>
                </a:lnTo>
                <a:lnTo>
                  <a:pt x="4" y="1102"/>
                </a:lnTo>
                <a:lnTo>
                  <a:pt x="16" y="1249"/>
                </a:lnTo>
                <a:lnTo>
                  <a:pt x="36" y="1391"/>
                </a:lnTo>
                <a:lnTo>
                  <a:pt x="65" y="1530"/>
                </a:lnTo>
                <a:lnTo>
                  <a:pt x="99" y="1665"/>
                </a:lnTo>
                <a:lnTo>
                  <a:pt x="143" y="1792"/>
                </a:lnTo>
                <a:lnTo>
                  <a:pt x="193" y="191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Freeform 16"/>
          <p:cNvSpPr/>
          <p:nvPr/>
        </p:nvSpPr>
        <p:spPr>
          <a:xfrm>
            <a:off x="4471920" y="2247840"/>
            <a:ext cx="38160" cy="239760"/>
          </a:xfrm>
          <a:custGeom>
            <a:avLst/>
            <a:gdLst>
              <a:gd name="textAreaLeft" fmla="*/ 0 w 38160"/>
              <a:gd name="textAreaRight" fmla="*/ 38520 w 381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45" h="908">
                <a:moveTo>
                  <a:pt x="145" y="0"/>
                </a:moveTo>
                <a:lnTo>
                  <a:pt x="98" y="70"/>
                </a:lnTo>
                <a:lnTo>
                  <a:pt x="59" y="148"/>
                </a:lnTo>
                <a:lnTo>
                  <a:pt x="30" y="231"/>
                </a:lnTo>
                <a:lnTo>
                  <a:pt x="11" y="319"/>
                </a:lnTo>
                <a:lnTo>
                  <a:pt x="0" y="409"/>
                </a:lnTo>
                <a:lnTo>
                  <a:pt x="0" y="500"/>
                </a:lnTo>
                <a:lnTo>
                  <a:pt x="11" y="590"/>
                </a:lnTo>
                <a:lnTo>
                  <a:pt x="30" y="677"/>
                </a:lnTo>
                <a:lnTo>
                  <a:pt x="59" y="760"/>
                </a:lnTo>
                <a:lnTo>
                  <a:pt x="98" y="839"/>
                </a:lnTo>
                <a:lnTo>
                  <a:pt x="145" y="908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Line 17"/>
          <p:cNvSpPr/>
          <p:nvPr/>
        </p:nvSpPr>
        <p:spPr>
          <a:xfrm>
            <a:off x="1484280" y="1797120"/>
            <a:ext cx="1800" cy="1160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Line 18"/>
          <p:cNvSpPr/>
          <p:nvPr/>
        </p:nvSpPr>
        <p:spPr>
          <a:xfrm>
            <a:off x="4199040" y="2065320"/>
            <a:ext cx="1440" cy="63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Line 19"/>
          <p:cNvSpPr/>
          <p:nvPr/>
        </p:nvSpPr>
        <p:spPr>
          <a:xfrm>
            <a:off x="1127160" y="1963800"/>
            <a:ext cx="1440" cy="80964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Line 20"/>
          <p:cNvSpPr/>
          <p:nvPr/>
        </p:nvSpPr>
        <p:spPr>
          <a:xfrm>
            <a:off x="3635280" y="2190600"/>
            <a:ext cx="1800" cy="35424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4" name="Object 21"/>
          <p:cNvGraphicFramePr/>
          <p:nvPr/>
        </p:nvGraphicFramePr>
        <p:xfrm>
          <a:off x="2157480" y="1512720"/>
          <a:ext cx="1479600" cy="4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1512720"/>
                    <a:ext cx="14796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6" name="Object 22"/>
          <p:cNvGraphicFramePr/>
          <p:nvPr/>
        </p:nvGraphicFramePr>
        <p:xfrm>
          <a:off x="3692520" y="2797200"/>
          <a:ext cx="1455840" cy="4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2520" y="2797200"/>
                    <a:ext cx="14558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8" name="Object 23"/>
          <p:cNvGraphicFramePr/>
          <p:nvPr/>
        </p:nvGraphicFramePr>
        <p:xfrm>
          <a:off x="650880" y="2244600"/>
          <a:ext cx="520560" cy="2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9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0880" y="2244600"/>
                    <a:ext cx="5205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0" name="Object 24"/>
          <p:cNvGraphicFramePr/>
          <p:nvPr/>
        </p:nvGraphicFramePr>
        <p:xfrm>
          <a:off x="3137040" y="2255760"/>
          <a:ext cx="480960" cy="26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1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7040" y="2255760"/>
                    <a:ext cx="48096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2" name="Object 25"/>
          <p:cNvGraphicFramePr/>
          <p:nvPr/>
        </p:nvGraphicFramePr>
        <p:xfrm>
          <a:off x="1547640" y="1751040"/>
          <a:ext cx="14292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83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47640" y="1751040"/>
                    <a:ext cx="1429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4" name="Object 26"/>
          <p:cNvGraphicFramePr/>
          <p:nvPr/>
        </p:nvGraphicFramePr>
        <p:xfrm>
          <a:off x="1547640" y="2836800"/>
          <a:ext cx="14292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5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47640" y="2836800"/>
                    <a:ext cx="1429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6" name="Object 27"/>
          <p:cNvGraphicFramePr/>
          <p:nvPr/>
        </p:nvGraphicFramePr>
        <p:xfrm>
          <a:off x="4235400" y="1936800"/>
          <a:ext cx="203400" cy="2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87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35400" y="1936800"/>
                    <a:ext cx="2034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8" name="Object 28"/>
          <p:cNvGraphicFramePr/>
          <p:nvPr/>
        </p:nvGraphicFramePr>
        <p:xfrm>
          <a:off x="4195800" y="2598840"/>
          <a:ext cx="20304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89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95800" y="2598840"/>
                    <a:ext cx="20304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0" name="Object 30"/>
          <p:cNvGraphicFramePr/>
          <p:nvPr/>
        </p:nvGraphicFramePr>
        <p:xfrm>
          <a:off x="5557680" y="2657520"/>
          <a:ext cx="3478320" cy="549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91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57680" y="2657520"/>
                    <a:ext cx="34783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2" name="Object 31"/>
          <p:cNvGraphicFramePr/>
          <p:nvPr/>
        </p:nvGraphicFramePr>
        <p:xfrm>
          <a:off x="5557680" y="3506760"/>
          <a:ext cx="3451320" cy="569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93" name="Object 3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57680" y="3506760"/>
                    <a:ext cx="34513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4" name="Line 35"/>
          <p:cNvSpPr/>
          <p:nvPr/>
        </p:nvSpPr>
        <p:spPr>
          <a:xfrm>
            <a:off x="411120" y="3965400"/>
            <a:ext cx="4232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Line 36"/>
          <p:cNvSpPr/>
          <p:nvPr/>
        </p:nvSpPr>
        <p:spPr>
          <a:xfrm>
            <a:off x="411120" y="3965400"/>
            <a:ext cx="180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Line 37"/>
          <p:cNvSpPr/>
          <p:nvPr/>
        </p:nvSpPr>
        <p:spPr>
          <a:xfrm>
            <a:off x="411120" y="5099040"/>
            <a:ext cx="2498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Line 38"/>
          <p:cNvSpPr/>
          <p:nvPr/>
        </p:nvSpPr>
        <p:spPr>
          <a:xfrm flipV="1">
            <a:off x="2909880" y="3965040"/>
            <a:ext cx="144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Line 39"/>
          <p:cNvSpPr/>
          <p:nvPr/>
        </p:nvSpPr>
        <p:spPr>
          <a:xfrm>
            <a:off x="2909880" y="4384800"/>
            <a:ext cx="1733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Line 40"/>
          <p:cNvSpPr/>
          <p:nvPr/>
        </p:nvSpPr>
        <p:spPr>
          <a:xfrm>
            <a:off x="4643280" y="3965400"/>
            <a:ext cx="1800" cy="41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Line 41"/>
          <p:cNvSpPr/>
          <p:nvPr/>
        </p:nvSpPr>
        <p:spPr>
          <a:xfrm flipV="1">
            <a:off x="563400" y="3965040"/>
            <a:ext cx="180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Line 42"/>
          <p:cNvSpPr/>
          <p:nvPr/>
        </p:nvSpPr>
        <p:spPr>
          <a:xfrm flipV="1">
            <a:off x="731880" y="3965040"/>
            <a:ext cx="144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Line 43"/>
          <p:cNvSpPr/>
          <p:nvPr/>
        </p:nvSpPr>
        <p:spPr>
          <a:xfrm flipV="1">
            <a:off x="900000" y="3965040"/>
            <a:ext cx="180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Line 44"/>
          <p:cNvSpPr/>
          <p:nvPr/>
        </p:nvSpPr>
        <p:spPr>
          <a:xfrm flipV="1">
            <a:off x="1068480" y="3965040"/>
            <a:ext cx="144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Line 45"/>
          <p:cNvSpPr/>
          <p:nvPr/>
        </p:nvSpPr>
        <p:spPr>
          <a:xfrm flipV="1">
            <a:off x="1236600" y="3965040"/>
            <a:ext cx="180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Line 46"/>
          <p:cNvSpPr/>
          <p:nvPr/>
        </p:nvSpPr>
        <p:spPr>
          <a:xfrm flipV="1">
            <a:off x="1405080" y="3965040"/>
            <a:ext cx="144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Line 47"/>
          <p:cNvSpPr/>
          <p:nvPr/>
        </p:nvSpPr>
        <p:spPr>
          <a:xfrm flipV="1">
            <a:off x="1573200" y="3965040"/>
            <a:ext cx="144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Line 48"/>
          <p:cNvSpPr/>
          <p:nvPr/>
        </p:nvSpPr>
        <p:spPr>
          <a:xfrm flipV="1">
            <a:off x="1741320" y="3965040"/>
            <a:ext cx="180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Line 49"/>
          <p:cNvSpPr/>
          <p:nvPr/>
        </p:nvSpPr>
        <p:spPr>
          <a:xfrm flipV="1">
            <a:off x="1909800" y="3965040"/>
            <a:ext cx="144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Line 50"/>
          <p:cNvSpPr/>
          <p:nvPr/>
        </p:nvSpPr>
        <p:spPr>
          <a:xfrm flipV="1">
            <a:off x="2077920" y="3965040"/>
            <a:ext cx="180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51"/>
          <p:cNvSpPr/>
          <p:nvPr/>
        </p:nvSpPr>
        <p:spPr>
          <a:xfrm flipV="1">
            <a:off x="2246400" y="3965040"/>
            <a:ext cx="144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Line 52"/>
          <p:cNvSpPr/>
          <p:nvPr/>
        </p:nvSpPr>
        <p:spPr>
          <a:xfrm flipV="1">
            <a:off x="2416320" y="3965040"/>
            <a:ext cx="144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Line 53"/>
          <p:cNvSpPr/>
          <p:nvPr/>
        </p:nvSpPr>
        <p:spPr>
          <a:xfrm flipV="1">
            <a:off x="2584440" y="3965040"/>
            <a:ext cx="144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Line 54"/>
          <p:cNvSpPr/>
          <p:nvPr/>
        </p:nvSpPr>
        <p:spPr>
          <a:xfrm flipV="1">
            <a:off x="2752560" y="3965040"/>
            <a:ext cx="1800" cy="113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Line 55"/>
          <p:cNvSpPr/>
          <p:nvPr/>
        </p:nvSpPr>
        <p:spPr>
          <a:xfrm flipV="1">
            <a:off x="3089160" y="3965040"/>
            <a:ext cx="1800" cy="41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56"/>
          <p:cNvSpPr/>
          <p:nvPr/>
        </p:nvSpPr>
        <p:spPr>
          <a:xfrm flipV="1">
            <a:off x="3257640" y="3965040"/>
            <a:ext cx="1440" cy="41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Line 57"/>
          <p:cNvSpPr/>
          <p:nvPr/>
        </p:nvSpPr>
        <p:spPr>
          <a:xfrm flipV="1">
            <a:off x="3425760" y="3965040"/>
            <a:ext cx="1800" cy="41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Line 58"/>
          <p:cNvSpPr/>
          <p:nvPr/>
        </p:nvSpPr>
        <p:spPr>
          <a:xfrm flipV="1">
            <a:off x="3594240" y="3965040"/>
            <a:ext cx="1440" cy="41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Line 59"/>
          <p:cNvSpPr/>
          <p:nvPr/>
        </p:nvSpPr>
        <p:spPr>
          <a:xfrm flipV="1">
            <a:off x="3762360" y="3965040"/>
            <a:ext cx="1440" cy="41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Line 60"/>
          <p:cNvSpPr/>
          <p:nvPr/>
        </p:nvSpPr>
        <p:spPr>
          <a:xfrm flipV="1">
            <a:off x="3930480" y="3965040"/>
            <a:ext cx="1800" cy="41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61"/>
          <p:cNvSpPr/>
          <p:nvPr/>
        </p:nvSpPr>
        <p:spPr>
          <a:xfrm flipV="1">
            <a:off x="4100400" y="3965040"/>
            <a:ext cx="1800" cy="41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62"/>
          <p:cNvSpPr/>
          <p:nvPr/>
        </p:nvSpPr>
        <p:spPr>
          <a:xfrm flipV="1">
            <a:off x="4268880" y="3965040"/>
            <a:ext cx="1440" cy="41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63"/>
          <p:cNvSpPr/>
          <p:nvPr/>
        </p:nvSpPr>
        <p:spPr>
          <a:xfrm flipV="1">
            <a:off x="4465800" y="3965040"/>
            <a:ext cx="1440" cy="41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70"/>
          <p:cNvGrpSpPr/>
          <p:nvPr/>
        </p:nvGrpSpPr>
        <p:grpSpPr>
          <a:xfrm>
            <a:off x="1550880" y="4491000"/>
            <a:ext cx="223920" cy="217440"/>
            <a:chOff x="1550880" y="4491000"/>
            <a:chExt cx="223920" cy="217440"/>
          </a:xfrm>
        </p:grpSpPr>
        <p:sp>
          <p:nvSpPr>
            <p:cNvPr id="2624" name="Oval 71"/>
            <p:cNvSpPr/>
            <p:nvPr/>
          </p:nvSpPr>
          <p:spPr>
            <a:xfrm>
              <a:off x="1557360" y="4491000"/>
              <a:ext cx="217440" cy="217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72"/>
            <p:cNvSpPr/>
            <p:nvPr/>
          </p:nvSpPr>
          <p:spPr>
            <a:xfrm>
              <a:off x="1550880" y="4605120"/>
              <a:ext cx="22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6" name="Group 73"/>
          <p:cNvGrpSpPr/>
          <p:nvPr/>
        </p:nvGrpSpPr>
        <p:grpSpPr>
          <a:xfrm>
            <a:off x="3583080" y="4113360"/>
            <a:ext cx="223920" cy="217440"/>
            <a:chOff x="3583080" y="4113360"/>
            <a:chExt cx="223920" cy="217440"/>
          </a:xfrm>
        </p:grpSpPr>
        <p:sp>
          <p:nvSpPr>
            <p:cNvPr id="2627" name="Oval 74"/>
            <p:cNvSpPr/>
            <p:nvPr/>
          </p:nvSpPr>
          <p:spPr>
            <a:xfrm>
              <a:off x="3589560" y="4113360"/>
              <a:ext cx="217440" cy="217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75"/>
            <p:cNvSpPr/>
            <p:nvPr/>
          </p:nvSpPr>
          <p:spPr>
            <a:xfrm>
              <a:off x="3583080" y="4227480"/>
              <a:ext cx="22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29" name="Object 76"/>
          <p:cNvGraphicFramePr/>
          <p:nvPr/>
        </p:nvGraphicFramePr>
        <p:xfrm>
          <a:off x="1100160" y="5183280"/>
          <a:ext cx="1243080" cy="395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30" name="Object 7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00160" y="5183280"/>
                    <a:ext cx="12430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1" name="Object 77"/>
          <p:cNvGraphicFramePr/>
          <p:nvPr/>
        </p:nvGraphicFramePr>
        <p:xfrm>
          <a:off x="3317760" y="4457880"/>
          <a:ext cx="1073160" cy="395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32" name="Object 7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17760" y="4457880"/>
                    <a:ext cx="10731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3" name="AutoShape 7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4" name="Object 79"/>
          <p:cNvGraphicFramePr/>
          <p:nvPr/>
        </p:nvGraphicFramePr>
        <p:xfrm>
          <a:off x="214200" y="2765520"/>
          <a:ext cx="330480" cy="358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635" name="Object 7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14200" y="2765520"/>
                    <a:ext cx="33048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6" name="Object 80"/>
          <p:cNvGraphicFramePr/>
          <p:nvPr/>
        </p:nvGraphicFramePr>
        <p:xfrm>
          <a:off x="2870280" y="2751120"/>
          <a:ext cx="330120" cy="358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637" name="Object 8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870280" y="2751120"/>
                    <a:ext cx="3301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8" name="Object 81"/>
          <p:cNvGraphicFramePr/>
          <p:nvPr/>
        </p:nvGraphicFramePr>
        <p:xfrm>
          <a:off x="4713120" y="2448000"/>
          <a:ext cx="330480" cy="387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639" name="Object 8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713120" y="2448000"/>
                    <a:ext cx="3304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Freeform 4"/>
          <p:cNvSpPr/>
          <p:nvPr/>
        </p:nvSpPr>
        <p:spPr>
          <a:xfrm>
            <a:off x="2338560" y="1339920"/>
            <a:ext cx="204480" cy="601560"/>
          </a:xfrm>
          <a:custGeom>
            <a:avLst/>
            <a:gdLst>
              <a:gd name="textAreaLeft" fmla="*/ 0 w 204480"/>
              <a:gd name="textAreaRight" fmla="*/ 204840 w 20448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873" h="3058">
                <a:moveTo>
                  <a:pt x="873" y="0"/>
                </a:moveTo>
                <a:lnTo>
                  <a:pt x="790" y="7"/>
                </a:lnTo>
                <a:lnTo>
                  <a:pt x="707" y="28"/>
                </a:lnTo>
                <a:lnTo>
                  <a:pt x="627" y="62"/>
                </a:lnTo>
                <a:lnTo>
                  <a:pt x="548" y="109"/>
                </a:lnTo>
                <a:lnTo>
                  <a:pt x="472" y="170"/>
                </a:lnTo>
                <a:lnTo>
                  <a:pt x="400" y="243"/>
                </a:lnTo>
                <a:lnTo>
                  <a:pt x="332" y="327"/>
                </a:lnTo>
                <a:lnTo>
                  <a:pt x="270" y="423"/>
                </a:lnTo>
                <a:lnTo>
                  <a:pt x="212" y="528"/>
                </a:lnTo>
                <a:lnTo>
                  <a:pt x="161" y="642"/>
                </a:lnTo>
                <a:lnTo>
                  <a:pt x="115" y="765"/>
                </a:lnTo>
                <a:lnTo>
                  <a:pt x="77" y="894"/>
                </a:lnTo>
                <a:lnTo>
                  <a:pt x="46" y="1029"/>
                </a:lnTo>
                <a:lnTo>
                  <a:pt x="23" y="1168"/>
                </a:lnTo>
                <a:lnTo>
                  <a:pt x="7" y="1311"/>
                </a:lnTo>
                <a:lnTo>
                  <a:pt x="0" y="1456"/>
                </a:lnTo>
                <a:lnTo>
                  <a:pt x="0" y="1602"/>
                </a:lnTo>
                <a:lnTo>
                  <a:pt x="7" y="1746"/>
                </a:lnTo>
                <a:lnTo>
                  <a:pt x="23" y="1889"/>
                </a:lnTo>
                <a:lnTo>
                  <a:pt x="46" y="2029"/>
                </a:lnTo>
                <a:lnTo>
                  <a:pt x="77" y="2165"/>
                </a:lnTo>
                <a:lnTo>
                  <a:pt x="115" y="2294"/>
                </a:lnTo>
                <a:lnTo>
                  <a:pt x="161" y="2417"/>
                </a:lnTo>
                <a:lnTo>
                  <a:pt x="212" y="2531"/>
                </a:lnTo>
                <a:lnTo>
                  <a:pt x="270" y="2636"/>
                </a:lnTo>
                <a:lnTo>
                  <a:pt x="332" y="2731"/>
                </a:lnTo>
                <a:lnTo>
                  <a:pt x="400" y="2816"/>
                </a:lnTo>
                <a:lnTo>
                  <a:pt x="472" y="2889"/>
                </a:lnTo>
                <a:lnTo>
                  <a:pt x="548" y="2949"/>
                </a:lnTo>
                <a:lnTo>
                  <a:pt x="627" y="2997"/>
                </a:lnTo>
                <a:lnTo>
                  <a:pt x="707" y="3031"/>
                </a:lnTo>
                <a:lnTo>
                  <a:pt x="790" y="3052"/>
                </a:lnTo>
                <a:lnTo>
                  <a:pt x="873" y="30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Line 5"/>
          <p:cNvSpPr/>
          <p:nvPr/>
        </p:nvSpPr>
        <p:spPr>
          <a:xfrm>
            <a:off x="2152800" y="1639800"/>
            <a:ext cx="4043160" cy="180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Freeform 6"/>
          <p:cNvSpPr/>
          <p:nvPr/>
        </p:nvSpPr>
        <p:spPr>
          <a:xfrm>
            <a:off x="4363920" y="1339920"/>
            <a:ext cx="389160" cy="600120"/>
          </a:xfrm>
          <a:custGeom>
            <a:avLst/>
            <a:gdLst>
              <a:gd name="textAreaLeft" fmla="*/ 0 w 389160"/>
              <a:gd name="textAreaRight" fmla="*/ 389520 w 389160"/>
              <a:gd name="textAreaTop" fmla="*/ 0 h 600120"/>
              <a:gd name="textAreaBottom" fmla="*/ 600120 h 600120"/>
            </a:gdLst>
            <a:ahLst/>
            <a:rect l="textAreaLeft" t="textAreaTop" r="textAreaRight" b="textAreaBottom"/>
            <a:pathLst>
              <a:path w="1661" h="3056">
                <a:moveTo>
                  <a:pt x="1661" y="860"/>
                </a:moveTo>
                <a:lnTo>
                  <a:pt x="1621" y="731"/>
                </a:lnTo>
                <a:lnTo>
                  <a:pt x="1573" y="609"/>
                </a:lnTo>
                <a:lnTo>
                  <a:pt x="1520" y="497"/>
                </a:lnTo>
                <a:lnTo>
                  <a:pt x="1460" y="393"/>
                </a:lnTo>
                <a:lnTo>
                  <a:pt x="1395" y="300"/>
                </a:lnTo>
                <a:lnTo>
                  <a:pt x="1325" y="218"/>
                </a:lnTo>
                <a:lnTo>
                  <a:pt x="1251" y="149"/>
                </a:lnTo>
                <a:lnTo>
                  <a:pt x="1174" y="91"/>
                </a:lnTo>
                <a:lnTo>
                  <a:pt x="1094" y="48"/>
                </a:lnTo>
                <a:lnTo>
                  <a:pt x="1012" y="18"/>
                </a:lnTo>
                <a:lnTo>
                  <a:pt x="928" y="1"/>
                </a:lnTo>
                <a:lnTo>
                  <a:pt x="845" y="0"/>
                </a:lnTo>
                <a:lnTo>
                  <a:pt x="761" y="12"/>
                </a:lnTo>
                <a:lnTo>
                  <a:pt x="678" y="37"/>
                </a:lnTo>
                <a:lnTo>
                  <a:pt x="597" y="78"/>
                </a:lnTo>
                <a:lnTo>
                  <a:pt x="519" y="131"/>
                </a:lnTo>
                <a:lnTo>
                  <a:pt x="443" y="196"/>
                </a:lnTo>
                <a:lnTo>
                  <a:pt x="372" y="275"/>
                </a:lnTo>
                <a:lnTo>
                  <a:pt x="307" y="365"/>
                </a:lnTo>
                <a:lnTo>
                  <a:pt x="245" y="465"/>
                </a:lnTo>
                <a:lnTo>
                  <a:pt x="189" y="575"/>
                </a:lnTo>
                <a:lnTo>
                  <a:pt x="141" y="695"/>
                </a:lnTo>
                <a:lnTo>
                  <a:pt x="98" y="822"/>
                </a:lnTo>
                <a:lnTo>
                  <a:pt x="63" y="955"/>
                </a:lnTo>
                <a:lnTo>
                  <a:pt x="36" y="1094"/>
                </a:lnTo>
                <a:lnTo>
                  <a:pt x="16" y="1236"/>
                </a:lnTo>
                <a:lnTo>
                  <a:pt x="3" y="1381"/>
                </a:lnTo>
                <a:lnTo>
                  <a:pt x="0" y="1528"/>
                </a:lnTo>
                <a:lnTo>
                  <a:pt x="3" y="1674"/>
                </a:lnTo>
                <a:lnTo>
                  <a:pt x="16" y="1820"/>
                </a:lnTo>
                <a:lnTo>
                  <a:pt x="36" y="1962"/>
                </a:lnTo>
                <a:lnTo>
                  <a:pt x="63" y="2101"/>
                </a:lnTo>
                <a:lnTo>
                  <a:pt x="98" y="2234"/>
                </a:lnTo>
                <a:lnTo>
                  <a:pt x="141" y="2362"/>
                </a:lnTo>
                <a:lnTo>
                  <a:pt x="189" y="2480"/>
                </a:lnTo>
                <a:lnTo>
                  <a:pt x="245" y="2591"/>
                </a:lnTo>
                <a:lnTo>
                  <a:pt x="307" y="2692"/>
                </a:lnTo>
                <a:lnTo>
                  <a:pt x="372" y="2781"/>
                </a:lnTo>
                <a:lnTo>
                  <a:pt x="443" y="2859"/>
                </a:lnTo>
                <a:lnTo>
                  <a:pt x="519" y="2926"/>
                </a:lnTo>
                <a:lnTo>
                  <a:pt x="597" y="2979"/>
                </a:lnTo>
                <a:lnTo>
                  <a:pt x="678" y="3018"/>
                </a:lnTo>
                <a:lnTo>
                  <a:pt x="761" y="3044"/>
                </a:lnTo>
                <a:lnTo>
                  <a:pt x="845" y="3056"/>
                </a:lnTo>
                <a:lnTo>
                  <a:pt x="928" y="3054"/>
                </a:lnTo>
                <a:lnTo>
                  <a:pt x="1012" y="3038"/>
                </a:lnTo>
                <a:lnTo>
                  <a:pt x="1094" y="3008"/>
                </a:lnTo>
                <a:lnTo>
                  <a:pt x="1174" y="2965"/>
                </a:lnTo>
                <a:lnTo>
                  <a:pt x="1251" y="2908"/>
                </a:lnTo>
                <a:lnTo>
                  <a:pt x="1325" y="2838"/>
                </a:lnTo>
                <a:lnTo>
                  <a:pt x="1395" y="2756"/>
                </a:lnTo>
                <a:lnTo>
                  <a:pt x="1460" y="2663"/>
                </a:lnTo>
                <a:lnTo>
                  <a:pt x="1520" y="2560"/>
                </a:lnTo>
                <a:lnTo>
                  <a:pt x="1573" y="2446"/>
                </a:lnTo>
                <a:lnTo>
                  <a:pt x="1621" y="2326"/>
                </a:lnTo>
                <a:lnTo>
                  <a:pt x="1661" y="21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Line 7"/>
          <p:cNvSpPr/>
          <p:nvPr/>
        </p:nvSpPr>
        <p:spPr>
          <a:xfrm>
            <a:off x="2543040" y="1339920"/>
            <a:ext cx="2025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Freeform 8"/>
          <p:cNvSpPr/>
          <p:nvPr/>
        </p:nvSpPr>
        <p:spPr>
          <a:xfrm>
            <a:off x="4545000" y="1508040"/>
            <a:ext cx="128520" cy="263520"/>
          </a:xfrm>
          <a:custGeom>
            <a:avLst/>
            <a:gdLst>
              <a:gd name="textAreaLeft" fmla="*/ 0 w 128520"/>
              <a:gd name="textAreaRight" fmla="*/ 128880 w 1285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46" h="1336">
                <a:moveTo>
                  <a:pt x="546" y="0"/>
                </a:moveTo>
                <a:lnTo>
                  <a:pt x="468" y="6"/>
                </a:lnTo>
                <a:lnTo>
                  <a:pt x="392" y="27"/>
                </a:lnTo>
                <a:lnTo>
                  <a:pt x="318" y="60"/>
                </a:lnTo>
                <a:lnTo>
                  <a:pt x="251" y="106"/>
                </a:lnTo>
                <a:lnTo>
                  <a:pt x="188" y="163"/>
                </a:lnTo>
                <a:lnTo>
                  <a:pt x="133" y="230"/>
                </a:lnTo>
                <a:lnTo>
                  <a:pt x="87" y="306"/>
                </a:lnTo>
                <a:lnTo>
                  <a:pt x="48" y="390"/>
                </a:lnTo>
                <a:lnTo>
                  <a:pt x="22" y="480"/>
                </a:lnTo>
                <a:lnTo>
                  <a:pt x="5" y="573"/>
                </a:lnTo>
                <a:lnTo>
                  <a:pt x="0" y="668"/>
                </a:lnTo>
                <a:lnTo>
                  <a:pt x="5" y="762"/>
                </a:lnTo>
                <a:lnTo>
                  <a:pt x="21" y="857"/>
                </a:lnTo>
                <a:lnTo>
                  <a:pt x="48" y="946"/>
                </a:lnTo>
                <a:lnTo>
                  <a:pt x="86" y="1029"/>
                </a:lnTo>
                <a:lnTo>
                  <a:pt x="132" y="1106"/>
                </a:lnTo>
                <a:lnTo>
                  <a:pt x="188" y="1173"/>
                </a:lnTo>
                <a:lnTo>
                  <a:pt x="250" y="1230"/>
                </a:lnTo>
                <a:lnTo>
                  <a:pt x="318" y="1276"/>
                </a:lnTo>
                <a:lnTo>
                  <a:pt x="392" y="1309"/>
                </a:lnTo>
                <a:lnTo>
                  <a:pt x="468" y="1330"/>
                </a:lnTo>
                <a:lnTo>
                  <a:pt x="545" y="1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Freeform 9"/>
          <p:cNvSpPr/>
          <p:nvPr/>
        </p:nvSpPr>
        <p:spPr>
          <a:xfrm>
            <a:off x="6046920" y="1508040"/>
            <a:ext cx="255600" cy="263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092" h="1334">
                <a:moveTo>
                  <a:pt x="547" y="0"/>
                </a:moveTo>
                <a:lnTo>
                  <a:pt x="467" y="8"/>
                </a:lnTo>
                <a:lnTo>
                  <a:pt x="389" y="29"/>
                </a:lnTo>
                <a:lnTo>
                  <a:pt x="315" y="64"/>
                </a:lnTo>
                <a:lnTo>
                  <a:pt x="245" y="111"/>
                </a:lnTo>
                <a:lnTo>
                  <a:pt x="181" y="171"/>
                </a:lnTo>
                <a:lnTo>
                  <a:pt x="126" y="240"/>
                </a:lnTo>
                <a:lnTo>
                  <a:pt x="80" y="320"/>
                </a:lnTo>
                <a:lnTo>
                  <a:pt x="44" y="407"/>
                </a:lnTo>
                <a:lnTo>
                  <a:pt x="18" y="499"/>
                </a:lnTo>
                <a:lnTo>
                  <a:pt x="3" y="595"/>
                </a:lnTo>
                <a:lnTo>
                  <a:pt x="0" y="693"/>
                </a:lnTo>
                <a:lnTo>
                  <a:pt x="9" y="790"/>
                </a:lnTo>
                <a:lnTo>
                  <a:pt x="29" y="884"/>
                </a:lnTo>
                <a:lnTo>
                  <a:pt x="61" y="973"/>
                </a:lnTo>
                <a:lnTo>
                  <a:pt x="102" y="1057"/>
                </a:lnTo>
                <a:lnTo>
                  <a:pt x="153" y="1132"/>
                </a:lnTo>
                <a:lnTo>
                  <a:pt x="212" y="1197"/>
                </a:lnTo>
                <a:lnTo>
                  <a:pt x="279" y="1251"/>
                </a:lnTo>
                <a:lnTo>
                  <a:pt x="351" y="1292"/>
                </a:lnTo>
                <a:lnTo>
                  <a:pt x="428" y="1320"/>
                </a:lnTo>
                <a:lnTo>
                  <a:pt x="506" y="1334"/>
                </a:lnTo>
                <a:lnTo>
                  <a:pt x="586" y="1334"/>
                </a:lnTo>
                <a:lnTo>
                  <a:pt x="665" y="1320"/>
                </a:lnTo>
                <a:lnTo>
                  <a:pt x="741" y="1292"/>
                </a:lnTo>
                <a:lnTo>
                  <a:pt x="813" y="1251"/>
                </a:lnTo>
                <a:lnTo>
                  <a:pt x="880" y="1197"/>
                </a:lnTo>
                <a:lnTo>
                  <a:pt x="939" y="1132"/>
                </a:lnTo>
                <a:lnTo>
                  <a:pt x="990" y="1057"/>
                </a:lnTo>
                <a:lnTo>
                  <a:pt x="1033" y="973"/>
                </a:lnTo>
                <a:lnTo>
                  <a:pt x="1063" y="884"/>
                </a:lnTo>
                <a:lnTo>
                  <a:pt x="1083" y="790"/>
                </a:lnTo>
                <a:lnTo>
                  <a:pt x="1092" y="693"/>
                </a:lnTo>
                <a:lnTo>
                  <a:pt x="1090" y="595"/>
                </a:lnTo>
                <a:lnTo>
                  <a:pt x="1075" y="499"/>
                </a:lnTo>
                <a:lnTo>
                  <a:pt x="1050" y="407"/>
                </a:lnTo>
                <a:lnTo>
                  <a:pt x="1012" y="320"/>
                </a:lnTo>
                <a:lnTo>
                  <a:pt x="966" y="240"/>
                </a:lnTo>
                <a:lnTo>
                  <a:pt x="911" y="171"/>
                </a:lnTo>
                <a:lnTo>
                  <a:pt x="847" y="111"/>
                </a:lnTo>
                <a:lnTo>
                  <a:pt x="778" y="64"/>
                </a:lnTo>
                <a:lnTo>
                  <a:pt x="703" y="29"/>
                </a:lnTo>
                <a:lnTo>
                  <a:pt x="626" y="8"/>
                </a:lnTo>
                <a:lnTo>
                  <a:pt x="547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6" name="Line 10"/>
          <p:cNvSpPr/>
          <p:nvPr/>
        </p:nvSpPr>
        <p:spPr>
          <a:xfrm>
            <a:off x="4673520" y="1508040"/>
            <a:ext cx="1500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Line 11"/>
          <p:cNvSpPr/>
          <p:nvPr/>
        </p:nvSpPr>
        <p:spPr>
          <a:xfrm>
            <a:off x="4673520" y="1771560"/>
            <a:ext cx="150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Line 12"/>
          <p:cNvSpPr/>
          <p:nvPr/>
        </p:nvSpPr>
        <p:spPr>
          <a:xfrm>
            <a:off x="2543040" y="1941480"/>
            <a:ext cx="202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Freeform 13"/>
          <p:cNvSpPr/>
          <p:nvPr/>
        </p:nvSpPr>
        <p:spPr>
          <a:xfrm>
            <a:off x="2416320" y="1452600"/>
            <a:ext cx="44280" cy="374760"/>
          </a:xfrm>
          <a:custGeom>
            <a:avLst/>
            <a:gdLst>
              <a:gd name="textAreaLeft" fmla="*/ 0 w 44280"/>
              <a:gd name="textAreaRight" fmla="*/ 44280 w 4428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93" h="1910">
                <a:moveTo>
                  <a:pt x="193" y="0"/>
                </a:moveTo>
                <a:lnTo>
                  <a:pt x="143" y="119"/>
                </a:lnTo>
                <a:lnTo>
                  <a:pt x="100" y="246"/>
                </a:lnTo>
                <a:lnTo>
                  <a:pt x="65" y="380"/>
                </a:lnTo>
                <a:lnTo>
                  <a:pt x="36" y="519"/>
                </a:lnTo>
                <a:lnTo>
                  <a:pt x="16" y="662"/>
                </a:lnTo>
                <a:lnTo>
                  <a:pt x="5" y="808"/>
                </a:lnTo>
                <a:lnTo>
                  <a:pt x="0" y="955"/>
                </a:lnTo>
                <a:lnTo>
                  <a:pt x="5" y="1102"/>
                </a:lnTo>
                <a:lnTo>
                  <a:pt x="16" y="1249"/>
                </a:lnTo>
                <a:lnTo>
                  <a:pt x="36" y="1391"/>
                </a:lnTo>
                <a:lnTo>
                  <a:pt x="65" y="1530"/>
                </a:lnTo>
                <a:lnTo>
                  <a:pt x="100" y="1665"/>
                </a:lnTo>
                <a:lnTo>
                  <a:pt x="143" y="1792"/>
                </a:lnTo>
                <a:lnTo>
                  <a:pt x="193" y="191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Freeform 14"/>
          <p:cNvSpPr/>
          <p:nvPr/>
        </p:nvSpPr>
        <p:spPr>
          <a:xfrm>
            <a:off x="4297320" y="1452600"/>
            <a:ext cx="44640" cy="374760"/>
          </a:xfrm>
          <a:custGeom>
            <a:avLst/>
            <a:gdLst>
              <a:gd name="textAreaLeft" fmla="*/ 0 w 44640"/>
              <a:gd name="textAreaRight" fmla="*/ 45000 w 4464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93" h="1910">
                <a:moveTo>
                  <a:pt x="193" y="0"/>
                </a:moveTo>
                <a:lnTo>
                  <a:pt x="143" y="119"/>
                </a:lnTo>
                <a:lnTo>
                  <a:pt x="99" y="246"/>
                </a:lnTo>
                <a:lnTo>
                  <a:pt x="65" y="380"/>
                </a:lnTo>
                <a:lnTo>
                  <a:pt x="36" y="519"/>
                </a:lnTo>
                <a:lnTo>
                  <a:pt x="16" y="662"/>
                </a:lnTo>
                <a:lnTo>
                  <a:pt x="4" y="808"/>
                </a:lnTo>
                <a:lnTo>
                  <a:pt x="0" y="955"/>
                </a:lnTo>
                <a:lnTo>
                  <a:pt x="4" y="1102"/>
                </a:lnTo>
                <a:lnTo>
                  <a:pt x="16" y="1249"/>
                </a:lnTo>
                <a:lnTo>
                  <a:pt x="36" y="1391"/>
                </a:lnTo>
                <a:lnTo>
                  <a:pt x="65" y="1530"/>
                </a:lnTo>
                <a:lnTo>
                  <a:pt x="99" y="1665"/>
                </a:lnTo>
                <a:lnTo>
                  <a:pt x="143" y="1792"/>
                </a:lnTo>
                <a:lnTo>
                  <a:pt x="193" y="191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Freeform 15"/>
          <p:cNvSpPr/>
          <p:nvPr/>
        </p:nvSpPr>
        <p:spPr>
          <a:xfrm>
            <a:off x="5943600" y="1550880"/>
            <a:ext cx="33480" cy="177840"/>
          </a:xfrm>
          <a:custGeom>
            <a:avLst/>
            <a:gdLst>
              <a:gd name="textAreaLeft" fmla="*/ 0 w 33480"/>
              <a:gd name="textAreaRight" fmla="*/ 33840 w 3348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45" h="908">
                <a:moveTo>
                  <a:pt x="145" y="0"/>
                </a:moveTo>
                <a:lnTo>
                  <a:pt x="98" y="70"/>
                </a:lnTo>
                <a:lnTo>
                  <a:pt x="59" y="148"/>
                </a:lnTo>
                <a:lnTo>
                  <a:pt x="30" y="231"/>
                </a:lnTo>
                <a:lnTo>
                  <a:pt x="11" y="319"/>
                </a:lnTo>
                <a:lnTo>
                  <a:pt x="0" y="409"/>
                </a:lnTo>
                <a:lnTo>
                  <a:pt x="0" y="500"/>
                </a:lnTo>
                <a:lnTo>
                  <a:pt x="11" y="590"/>
                </a:lnTo>
                <a:lnTo>
                  <a:pt x="30" y="677"/>
                </a:lnTo>
                <a:lnTo>
                  <a:pt x="59" y="760"/>
                </a:lnTo>
                <a:lnTo>
                  <a:pt x="98" y="839"/>
                </a:lnTo>
                <a:lnTo>
                  <a:pt x="145" y="908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Line 16"/>
          <p:cNvSpPr/>
          <p:nvPr/>
        </p:nvSpPr>
        <p:spPr>
          <a:xfrm>
            <a:off x="3325680" y="1216080"/>
            <a:ext cx="1800" cy="86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Line 17"/>
          <p:cNvSpPr/>
          <p:nvPr/>
        </p:nvSpPr>
        <p:spPr>
          <a:xfrm>
            <a:off x="5732640" y="1414440"/>
            <a:ext cx="1440" cy="47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Line 18"/>
          <p:cNvSpPr/>
          <p:nvPr/>
        </p:nvSpPr>
        <p:spPr>
          <a:xfrm>
            <a:off x="3009960" y="1339920"/>
            <a:ext cx="1440" cy="60156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Line 19"/>
          <p:cNvSpPr/>
          <p:nvPr/>
        </p:nvSpPr>
        <p:spPr>
          <a:xfrm>
            <a:off x="5232240" y="1508040"/>
            <a:ext cx="1800" cy="263520"/>
          </a:xfrm>
          <a:prstGeom prst="line">
            <a:avLst/>
          </a:prstGeom>
          <a:ln w="0">
            <a:solidFill>
              <a:srgbClr val="000000"/>
            </a:solidFill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6" name="Object 20"/>
          <p:cNvGraphicFramePr/>
          <p:nvPr/>
        </p:nvGraphicFramePr>
        <p:xfrm>
          <a:off x="3922560" y="1004760"/>
          <a:ext cx="131148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7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2560" y="1004760"/>
                    <a:ext cx="13114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8" name="Object 21"/>
          <p:cNvGraphicFramePr/>
          <p:nvPr/>
        </p:nvGraphicFramePr>
        <p:xfrm>
          <a:off x="5283360" y="1959120"/>
          <a:ext cx="1290600" cy="30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3360" y="1959120"/>
                    <a:ext cx="129060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0" name="Object 22"/>
          <p:cNvGraphicFramePr/>
          <p:nvPr/>
        </p:nvGraphicFramePr>
        <p:xfrm>
          <a:off x="2587680" y="1547640"/>
          <a:ext cx="461880" cy="1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1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87680" y="1547640"/>
                    <a:ext cx="46188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2" name="Object 23"/>
          <p:cNvGraphicFramePr/>
          <p:nvPr/>
        </p:nvGraphicFramePr>
        <p:xfrm>
          <a:off x="4791240" y="1555920"/>
          <a:ext cx="426960" cy="19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3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91240" y="1555920"/>
                    <a:ext cx="4269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4" name="Object 24"/>
          <p:cNvGraphicFramePr/>
          <p:nvPr/>
        </p:nvGraphicFramePr>
        <p:xfrm>
          <a:off x="3382920" y="1181160"/>
          <a:ext cx="125280" cy="19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5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82920" y="1181160"/>
                    <a:ext cx="125280" cy="1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6" name="Object 25"/>
          <p:cNvGraphicFramePr/>
          <p:nvPr/>
        </p:nvGraphicFramePr>
        <p:xfrm>
          <a:off x="3382920" y="1987560"/>
          <a:ext cx="125280" cy="196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67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82920" y="1987560"/>
                    <a:ext cx="125280" cy="1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8" name="Object 26"/>
          <p:cNvGraphicFramePr/>
          <p:nvPr/>
        </p:nvGraphicFramePr>
        <p:xfrm>
          <a:off x="5764320" y="1319040"/>
          <a:ext cx="180720" cy="196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69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64320" y="1319040"/>
                    <a:ext cx="180720" cy="1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0" name="Object 27"/>
          <p:cNvGraphicFramePr/>
          <p:nvPr/>
        </p:nvGraphicFramePr>
        <p:xfrm>
          <a:off x="5729400" y="1811160"/>
          <a:ext cx="180720" cy="196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71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29400" y="1811160"/>
                    <a:ext cx="180720" cy="1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2" name="Line 28"/>
          <p:cNvSpPr/>
          <p:nvPr/>
        </p:nvSpPr>
        <p:spPr>
          <a:xfrm>
            <a:off x="2438280" y="2320920"/>
            <a:ext cx="3751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Line 29"/>
          <p:cNvSpPr/>
          <p:nvPr/>
        </p:nvSpPr>
        <p:spPr>
          <a:xfrm>
            <a:off x="2438280" y="2320920"/>
            <a:ext cx="180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Line 30"/>
          <p:cNvSpPr/>
          <p:nvPr/>
        </p:nvSpPr>
        <p:spPr>
          <a:xfrm>
            <a:off x="2438280" y="3162240"/>
            <a:ext cx="221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Line 31"/>
          <p:cNvSpPr/>
          <p:nvPr/>
        </p:nvSpPr>
        <p:spPr>
          <a:xfrm flipV="1">
            <a:off x="4653000" y="2320560"/>
            <a:ext cx="144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Line 32"/>
          <p:cNvSpPr/>
          <p:nvPr/>
        </p:nvSpPr>
        <p:spPr>
          <a:xfrm>
            <a:off x="4653000" y="2631960"/>
            <a:ext cx="1536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Line 33"/>
          <p:cNvSpPr/>
          <p:nvPr/>
        </p:nvSpPr>
        <p:spPr>
          <a:xfrm>
            <a:off x="6189840" y="2320920"/>
            <a:ext cx="1440" cy="31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Line 34"/>
          <p:cNvSpPr/>
          <p:nvPr/>
        </p:nvSpPr>
        <p:spPr>
          <a:xfrm flipV="1">
            <a:off x="2573280" y="2320560"/>
            <a:ext cx="180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Line 35"/>
          <p:cNvSpPr/>
          <p:nvPr/>
        </p:nvSpPr>
        <p:spPr>
          <a:xfrm flipV="1">
            <a:off x="2722680" y="2320560"/>
            <a:ext cx="144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Line 36"/>
          <p:cNvSpPr/>
          <p:nvPr/>
        </p:nvSpPr>
        <p:spPr>
          <a:xfrm flipV="1">
            <a:off x="2871720" y="2320560"/>
            <a:ext cx="180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Line 37"/>
          <p:cNvSpPr/>
          <p:nvPr/>
        </p:nvSpPr>
        <p:spPr>
          <a:xfrm flipV="1">
            <a:off x="3021120" y="2320560"/>
            <a:ext cx="144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Line 38"/>
          <p:cNvSpPr/>
          <p:nvPr/>
        </p:nvSpPr>
        <p:spPr>
          <a:xfrm flipV="1">
            <a:off x="3170160" y="2320560"/>
            <a:ext cx="180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Line 39"/>
          <p:cNvSpPr/>
          <p:nvPr/>
        </p:nvSpPr>
        <p:spPr>
          <a:xfrm flipV="1">
            <a:off x="3319560" y="2320560"/>
            <a:ext cx="144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Line 40"/>
          <p:cNvSpPr/>
          <p:nvPr/>
        </p:nvSpPr>
        <p:spPr>
          <a:xfrm flipV="1">
            <a:off x="3468600" y="2320560"/>
            <a:ext cx="180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Line 41"/>
          <p:cNvSpPr/>
          <p:nvPr/>
        </p:nvSpPr>
        <p:spPr>
          <a:xfrm flipV="1">
            <a:off x="3618000" y="2320560"/>
            <a:ext cx="144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Line 42"/>
          <p:cNvSpPr/>
          <p:nvPr/>
        </p:nvSpPr>
        <p:spPr>
          <a:xfrm flipV="1">
            <a:off x="3767040" y="2320560"/>
            <a:ext cx="180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Line 43"/>
          <p:cNvSpPr/>
          <p:nvPr/>
        </p:nvSpPr>
        <p:spPr>
          <a:xfrm flipV="1">
            <a:off x="3916440" y="2320560"/>
            <a:ext cx="144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Line 44"/>
          <p:cNvSpPr/>
          <p:nvPr/>
        </p:nvSpPr>
        <p:spPr>
          <a:xfrm flipV="1">
            <a:off x="4065480" y="2320560"/>
            <a:ext cx="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Line 45"/>
          <p:cNvSpPr/>
          <p:nvPr/>
        </p:nvSpPr>
        <p:spPr>
          <a:xfrm flipV="1">
            <a:off x="4214880" y="2320560"/>
            <a:ext cx="144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Line 46"/>
          <p:cNvSpPr/>
          <p:nvPr/>
        </p:nvSpPr>
        <p:spPr>
          <a:xfrm flipV="1">
            <a:off x="4363920" y="2320560"/>
            <a:ext cx="180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Line 47"/>
          <p:cNvSpPr/>
          <p:nvPr/>
        </p:nvSpPr>
        <p:spPr>
          <a:xfrm flipV="1">
            <a:off x="4513320" y="2320560"/>
            <a:ext cx="1440" cy="84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Line 48"/>
          <p:cNvSpPr/>
          <p:nvPr/>
        </p:nvSpPr>
        <p:spPr>
          <a:xfrm flipV="1">
            <a:off x="4811760" y="2320920"/>
            <a:ext cx="1440" cy="31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Line 49"/>
          <p:cNvSpPr/>
          <p:nvPr/>
        </p:nvSpPr>
        <p:spPr>
          <a:xfrm flipV="1">
            <a:off x="4960800" y="2320920"/>
            <a:ext cx="1800" cy="31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Line 50"/>
          <p:cNvSpPr/>
          <p:nvPr/>
        </p:nvSpPr>
        <p:spPr>
          <a:xfrm flipV="1">
            <a:off x="5110200" y="2320920"/>
            <a:ext cx="1440" cy="31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Line 51"/>
          <p:cNvSpPr/>
          <p:nvPr/>
        </p:nvSpPr>
        <p:spPr>
          <a:xfrm flipV="1">
            <a:off x="5259240" y="2320920"/>
            <a:ext cx="1800" cy="31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Line 52"/>
          <p:cNvSpPr/>
          <p:nvPr/>
        </p:nvSpPr>
        <p:spPr>
          <a:xfrm flipV="1">
            <a:off x="5408640" y="2320920"/>
            <a:ext cx="1440" cy="31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Line 53"/>
          <p:cNvSpPr/>
          <p:nvPr/>
        </p:nvSpPr>
        <p:spPr>
          <a:xfrm flipV="1">
            <a:off x="5557680" y="2320920"/>
            <a:ext cx="1800" cy="31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Line 54"/>
          <p:cNvSpPr/>
          <p:nvPr/>
        </p:nvSpPr>
        <p:spPr>
          <a:xfrm flipV="1">
            <a:off x="5708520" y="2320920"/>
            <a:ext cx="1800" cy="31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Line 55"/>
          <p:cNvSpPr/>
          <p:nvPr/>
        </p:nvSpPr>
        <p:spPr>
          <a:xfrm flipV="1">
            <a:off x="5857920" y="2320920"/>
            <a:ext cx="1440" cy="31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Line 56"/>
          <p:cNvSpPr/>
          <p:nvPr/>
        </p:nvSpPr>
        <p:spPr>
          <a:xfrm flipV="1">
            <a:off x="6032520" y="2320920"/>
            <a:ext cx="1440" cy="31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1" name="Group 57"/>
          <p:cNvGrpSpPr/>
          <p:nvPr/>
        </p:nvGrpSpPr>
        <p:grpSpPr>
          <a:xfrm>
            <a:off x="3448080" y="2709720"/>
            <a:ext cx="198000" cy="162000"/>
            <a:chOff x="3448080" y="2709720"/>
            <a:chExt cx="198000" cy="162000"/>
          </a:xfrm>
        </p:grpSpPr>
        <p:sp>
          <p:nvSpPr>
            <p:cNvPr id="2702" name="Oval 58"/>
            <p:cNvSpPr/>
            <p:nvPr/>
          </p:nvSpPr>
          <p:spPr>
            <a:xfrm>
              <a:off x="3453480" y="2709720"/>
              <a:ext cx="192600" cy="162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Line 59"/>
            <p:cNvSpPr/>
            <p:nvPr/>
          </p:nvSpPr>
          <p:spPr>
            <a:xfrm>
              <a:off x="3448080" y="2794680"/>
              <a:ext cx="1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4" name="Group 60"/>
          <p:cNvGrpSpPr/>
          <p:nvPr/>
        </p:nvGrpSpPr>
        <p:grpSpPr>
          <a:xfrm>
            <a:off x="5249880" y="2430360"/>
            <a:ext cx="198000" cy="160560"/>
            <a:chOff x="5249880" y="2430360"/>
            <a:chExt cx="198000" cy="160560"/>
          </a:xfrm>
        </p:grpSpPr>
        <p:sp>
          <p:nvSpPr>
            <p:cNvPr id="2705" name="Oval 61"/>
            <p:cNvSpPr/>
            <p:nvPr/>
          </p:nvSpPr>
          <p:spPr>
            <a:xfrm>
              <a:off x="5255280" y="2430360"/>
              <a:ext cx="192600" cy="160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62"/>
            <p:cNvSpPr/>
            <p:nvPr/>
          </p:nvSpPr>
          <p:spPr>
            <a:xfrm>
              <a:off x="5249880" y="2514600"/>
              <a:ext cx="1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07" name="Object 63"/>
          <p:cNvGraphicFramePr/>
          <p:nvPr/>
        </p:nvGraphicFramePr>
        <p:xfrm>
          <a:off x="3049560" y="3224160"/>
          <a:ext cx="1101600" cy="293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08" name="Object 6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49560" y="3224160"/>
                    <a:ext cx="110160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9" name="Object 64"/>
          <p:cNvGraphicFramePr/>
          <p:nvPr/>
        </p:nvGraphicFramePr>
        <p:xfrm>
          <a:off x="5014800" y="2685960"/>
          <a:ext cx="951120" cy="293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10" name="Object 6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14800" y="2685960"/>
                    <a:ext cx="95112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1" name="Object 65"/>
          <p:cNvGraphicFramePr/>
          <p:nvPr/>
        </p:nvGraphicFramePr>
        <p:xfrm>
          <a:off x="2200320" y="1935000"/>
          <a:ext cx="29376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12" name="Object 6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00320" y="1935000"/>
                    <a:ext cx="2937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3" name="Object 66"/>
          <p:cNvGraphicFramePr/>
          <p:nvPr/>
        </p:nvGraphicFramePr>
        <p:xfrm>
          <a:off x="4554360" y="1924200"/>
          <a:ext cx="292320" cy="266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14" name="Object 6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54360" y="1924200"/>
                    <a:ext cx="29232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5" name="Object 67"/>
          <p:cNvGraphicFramePr/>
          <p:nvPr/>
        </p:nvGraphicFramePr>
        <p:xfrm>
          <a:off x="6188040" y="1698480"/>
          <a:ext cx="291960" cy="287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16" name="Object 6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188040" y="1698480"/>
                    <a:ext cx="291960" cy="2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7" name="Text Box 68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  例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8" name="Object 69"/>
          <p:cNvGraphicFramePr/>
          <p:nvPr/>
        </p:nvGraphicFramePr>
        <p:xfrm>
          <a:off x="716040" y="3786120"/>
          <a:ext cx="6699240" cy="1206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19" name="Object 6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16040" y="3786120"/>
                    <a:ext cx="669924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0" name="Object 70"/>
          <p:cNvGraphicFramePr/>
          <p:nvPr/>
        </p:nvGraphicFramePr>
        <p:xfrm>
          <a:off x="709560" y="4992840"/>
          <a:ext cx="6278760" cy="1139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721" name="Object 7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09560" y="4992840"/>
                    <a:ext cx="627876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2" name="AutoShape 71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3" name="Object 73"/>
          <p:cNvGraphicFramePr/>
          <p:nvPr/>
        </p:nvGraphicFramePr>
        <p:xfrm>
          <a:off x="1158840" y="6186600"/>
          <a:ext cx="4711680" cy="566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724" name="Object 7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158840" y="6186600"/>
                    <a:ext cx="47116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  例五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Text Box 5"/>
          <p:cNvSpPr/>
          <p:nvPr/>
        </p:nvSpPr>
        <p:spPr>
          <a:xfrm>
            <a:off x="468360" y="981000"/>
            <a:ext cx="792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某主传动轴，由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45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号无缝钢管制成，其外径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=90mm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，管厚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t=2.5mm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在工作时最大扭矩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=1.5k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隶书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已知材料的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隶书"/>
                <a:ea typeface="隶书"/>
              </a:rPr>
              <a:t>τ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]=60MPa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，试校核此轴的强度。若此轴为实心轴时，其重量为空心轴的几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Text Box 6"/>
          <p:cNvSpPr/>
          <p:nvPr/>
        </p:nvSpPr>
        <p:spPr>
          <a:xfrm>
            <a:off x="468360" y="25336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8" name="Object 7"/>
          <p:cNvGraphicFramePr/>
          <p:nvPr/>
        </p:nvGraphicFramePr>
        <p:xfrm>
          <a:off x="1009800" y="3251160"/>
          <a:ext cx="182232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3251160"/>
                    <a:ext cx="18223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0" name="Object 8"/>
          <p:cNvGraphicFramePr/>
          <p:nvPr/>
        </p:nvGraphicFramePr>
        <p:xfrm>
          <a:off x="969840" y="4067280"/>
          <a:ext cx="7137360" cy="13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9840" y="4067280"/>
                    <a:ext cx="713736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2" name="Object 9"/>
          <p:cNvGraphicFramePr/>
          <p:nvPr/>
        </p:nvGraphicFramePr>
        <p:xfrm>
          <a:off x="1201680" y="5699160"/>
          <a:ext cx="4473720" cy="5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1680" y="5699160"/>
                    <a:ext cx="44737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4" name="Text Box 10"/>
          <p:cNvSpPr/>
          <p:nvPr/>
        </p:nvSpPr>
        <p:spPr>
          <a:xfrm>
            <a:off x="946080" y="25336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对于无缝钢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AutoShape 11">
            <a:hlinkClick r:id="" action="ppaction://hlinkshowjump?jump=nextslide"/>
          </p:cNvPr>
          <p:cNvSpPr/>
          <p:nvPr/>
        </p:nvSpPr>
        <p:spPr>
          <a:xfrm>
            <a:off x="810720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  例五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7" name="Object 6"/>
          <p:cNvGraphicFramePr/>
          <p:nvPr/>
        </p:nvGraphicFramePr>
        <p:xfrm>
          <a:off x="453960" y="981000"/>
          <a:ext cx="847584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981000"/>
                    <a:ext cx="84758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9" name="Object 7"/>
          <p:cNvGraphicFramePr/>
          <p:nvPr/>
        </p:nvGraphicFramePr>
        <p:xfrm>
          <a:off x="2514600" y="2871720"/>
          <a:ext cx="32623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871720"/>
                    <a:ext cx="32623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1" name="Object 8"/>
          <p:cNvGraphicFramePr/>
          <p:nvPr/>
        </p:nvGraphicFramePr>
        <p:xfrm>
          <a:off x="2558880" y="3927600"/>
          <a:ext cx="4105440" cy="153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8880" y="3927600"/>
                    <a:ext cx="410544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3" name="Object 9"/>
          <p:cNvGraphicFramePr/>
          <p:nvPr/>
        </p:nvGraphicFramePr>
        <p:xfrm>
          <a:off x="2558880" y="5457960"/>
          <a:ext cx="4951440" cy="109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8880" y="5457960"/>
                    <a:ext cx="495144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5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09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Freeform 212"/>
          <p:cNvSpPr/>
          <p:nvPr/>
        </p:nvSpPr>
        <p:spPr>
          <a:xfrm>
            <a:off x="2093760" y="2757600"/>
            <a:ext cx="346320" cy="1703160"/>
          </a:xfrm>
          <a:custGeom>
            <a:avLst/>
            <a:gdLst>
              <a:gd name="textAreaLeft" fmla="*/ 0 w 346320"/>
              <a:gd name="textAreaRight" fmla="*/ 346680 w 346320"/>
              <a:gd name="textAreaTop" fmla="*/ 0 h 1703160"/>
              <a:gd name="textAreaBottom" fmla="*/ 1703520 h 1703160"/>
            </a:gdLst>
            <a:ahLst/>
            <a:rect l="textAreaLeft" t="textAreaTop" r="textAreaRight" b="textAreaBottom"/>
            <a:pathLst>
              <a:path w="1308" h="6440">
                <a:moveTo>
                  <a:pt x="1308" y="0"/>
                </a:moveTo>
                <a:lnTo>
                  <a:pt x="1227" y="6"/>
                </a:lnTo>
                <a:lnTo>
                  <a:pt x="1144" y="25"/>
                </a:lnTo>
                <a:lnTo>
                  <a:pt x="1064" y="57"/>
                </a:lnTo>
                <a:lnTo>
                  <a:pt x="983" y="101"/>
                </a:lnTo>
                <a:lnTo>
                  <a:pt x="904" y="158"/>
                </a:lnTo>
                <a:lnTo>
                  <a:pt x="827" y="226"/>
                </a:lnTo>
                <a:lnTo>
                  <a:pt x="752" y="306"/>
                </a:lnTo>
                <a:lnTo>
                  <a:pt x="678" y="398"/>
                </a:lnTo>
                <a:lnTo>
                  <a:pt x="608" y="501"/>
                </a:lnTo>
                <a:lnTo>
                  <a:pt x="540" y="614"/>
                </a:lnTo>
                <a:lnTo>
                  <a:pt x="474" y="738"/>
                </a:lnTo>
                <a:lnTo>
                  <a:pt x="413" y="871"/>
                </a:lnTo>
                <a:lnTo>
                  <a:pt x="354" y="1014"/>
                </a:lnTo>
                <a:lnTo>
                  <a:pt x="300" y="1167"/>
                </a:lnTo>
                <a:lnTo>
                  <a:pt x="250" y="1327"/>
                </a:lnTo>
                <a:lnTo>
                  <a:pt x="204" y="1494"/>
                </a:lnTo>
                <a:lnTo>
                  <a:pt x="162" y="1668"/>
                </a:lnTo>
                <a:lnTo>
                  <a:pt x="125" y="1848"/>
                </a:lnTo>
                <a:lnTo>
                  <a:pt x="92" y="2033"/>
                </a:lnTo>
                <a:lnTo>
                  <a:pt x="64" y="2224"/>
                </a:lnTo>
                <a:lnTo>
                  <a:pt x="41" y="2418"/>
                </a:lnTo>
                <a:lnTo>
                  <a:pt x="23" y="2615"/>
                </a:lnTo>
                <a:lnTo>
                  <a:pt x="10" y="2815"/>
                </a:lnTo>
                <a:lnTo>
                  <a:pt x="2" y="3017"/>
                </a:lnTo>
                <a:lnTo>
                  <a:pt x="0" y="3219"/>
                </a:lnTo>
                <a:lnTo>
                  <a:pt x="2" y="3421"/>
                </a:lnTo>
                <a:lnTo>
                  <a:pt x="10" y="3622"/>
                </a:lnTo>
                <a:lnTo>
                  <a:pt x="23" y="3822"/>
                </a:lnTo>
                <a:lnTo>
                  <a:pt x="41" y="4020"/>
                </a:lnTo>
                <a:lnTo>
                  <a:pt x="63" y="4214"/>
                </a:lnTo>
                <a:lnTo>
                  <a:pt x="91" y="4405"/>
                </a:lnTo>
                <a:lnTo>
                  <a:pt x="124" y="4590"/>
                </a:lnTo>
                <a:lnTo>
                  <a:pt x="162" y="4771"/>
                </a:lnTo>
                <a:lnTo>
                  <a:pt x="203" y="4945"/>
                </a:lnTo>
                <a:lnTo>
                  <a:pt x="250" y="5112"/>
                </a:lnTo>
                <a:lnTo>
                  <a:pt x="299" y="5272"/>
                </a:lnTo>
                <a:lnTo>
                  <a:pt x="354" y="5423"/>
                </a:lnTo>
                <a:lnTo>
                  <a:pt x="412" y="5567"/>
                </a:lnTo>
                <a:lnTo>
                  <a:pt x="474" y="5701"/>
                </a:lnTo>
                <a:lnTo>
                  <a:pt x="539" y="5825"/>
                </a:lnTo>
                <a:lnTo>
                  <a:pt x="606" y="5939"/>
                </a:lnTo>
                <a:lnTo>
                  <a:pt x="677" y="6042"/>
                </a:lnTo>
                <a:lnTo>
                  <a:pt x="750" y="6134"/>
                </a:lnTo>
                <a:lnTo>
                  <a:pt x="826" y="6214"/>
                </a:lnTo>
                <a:lnTo>
                  <a:pt x="903" y="6282"/>
                </a:lnTo>
                <a:lnTo>
                  <a:pt x="982" y="6339"/>
                </a:lnTo>
                <a:lnTo>
                  <a:pt x="1063" y="6383"/>
                </a:lnTo>
                <a:lnTo>
                  <a:pt x="1143" y="6414"/>
                </a:lnTo>
                <a:lnTo>
                  <a:pt x="1226" y="6433"/>
                </a:lnTo>
                <a:lnTo>
                  <a:pt x="1307" y="6440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reeform 213"/>
          <p:cNvSpPr/>
          <p:nvPr/>
        </p:nvSpPr>
        <p:spPr>
          <a:xfrm>
            <a:off x="3492360" y="2782800"/>
            <a:ext cx="346320" cy="1703520"/>
          </a:xfrm>
          <a:custGeom>
            <a:avLst/>
            <a:gdLst>
              <a:gd name="textAreaLeft" fmla="*/ 0 w 346320"/>
              <a:gd name="textAreaRight" fmla="*/ 346680 w 346320"/>
              <a:gd name="textAreaTop" fmla="*/ 0 h 1703520"/>
              <a:gd name="textAreaBottom" fmla="*/ 1703880 h 1703520"/>
            </a:gdLst>
            <a:ahLst/>
            <a:rect l="textAreaLeft" t="textAreaTop" r="textAreaRight" b="textAreaBottom"/>
            <a:pathLst>
              <a:path w="1308" h="6440">
                <a:moveTo>
                  <a:pt x="1307" y="0"/>
                </a:moveTo>
                <a:lnTo>
                  <a:pt x="1225" y="6"/>
                </a:lnTo>
                <a:lnTo>
                  <a:pt x="1143" y="27"/>
                </a:lnTo>
                <a:lnTo>
                  <a:pt x="1062" y="58"/>
                </a:lnTo>
                <a:lnTo>
                  <a:pt x="982" y="102"/>
                </a:lnTo>
                <a:lnTo>
                  <a:pt x="903" y="159"/>
                </a:lnTo>
                <a:lnTo>
                  <a:pt x="825" y="228"/>
                </a:lnTo>
                <a:lnTo>
                  <a:pt x="750" y="307"/>
                </a:lnTo>
                <a:lnTo>
                  <a:pt x="677" y="399"/>
                </a:lnTo>
                <a:lnTo>
                  <a:pt x="606" y="503"/>
                </a:lnTo>
                <a:lnTo>
                  <a:pt x="539" y="616"/>
                </a:lnTo>
                <a:lnTo>
                  <a:pt x="474" y="740"/>
                </a:lnTo>
                <a:lnTo>
                  <a:pt x="411" y="875"/>
                </a:lnTo>
                <a:lnTo>
                  <a:pt x="354" y="1018"/>
                </a:lnTo>
                <a:lnTo>
                  <a:pt x="299" y="1169"/>
                </a:lnTo>
                <a:lnTo>
                  <a:pt x="249" y="1329"/>
                </a:lnTo>
                <a:lnTo>
                  <a:pt x="203" y="1496"/>
                </a:lnTo>
                <a:lnTo>
                  <a:pt x="162" y="1671"/>
                </a:lnTo>
                <a:lnTo>
                  <a:pt x="125" y="1851"/>
                </a:lnTo>
                <a:lnTo>
                  <a:pt x="92" y="2036"/>
                </a:lnTo>
                <a:lnTo>
                  <a:pt x="63" y="2227"/>
                </a:lnTo>
                <a:lnTo>
                  <a:pt x="41" y="2421"/>
                </a:lnTo>
                <a:lnTo>
                  <a:pt x="23" y="2619"/>
                </a:lnTo>
                <a:lnTo>
                  <a:pt x="10" y="2818"/>
                </a:lnTo>
                <a:lnTo>
                  <a:pt x="3" y="3020"/>
                </a:lnTo>
                <a:lnTo>
                  <a:pt x="0" y="3221"/>
                </a:lnTo>
                <a:lnTo>
                  <a:pt x="3" y="3423"/>
                </a:lnTo>
                <a:lnTo>
                  <a:pt x="10" y="3624"/>
                </a:lnTo>
                <a:lnTo>
                  <a:pt x="23" y="3825"/>
                </a:lnTo>
                <a:lnTo>
                  <a:pt x="41" y="4023"/>
                </a:lnTo>
                <a:lnTo>
                  <a:pt x="64" y="4216"/>
                </a:lnTo>
                <a:lnTo>
                  <a:pt x="92" y="4407"/>
                </a:lnTo>
                <a:lnTo>
                  <a:pt x="125" y="4592"/>
                </a:lnTo>
                <a:lnTo>
                  <a:pt x="162" y="4772"/>
                </a:lnTo>
                <a:lnTo>
                  <a:pt x="204" y="4946"/>
                </a:lnTo>
                <a:lnTo>
                  <a:pt x="249" y="5113"/>
                </a:lnTo>
                <a:lnTo>
                  <a:pt x="300" y="5273"/>
                </a:lnTo>
                <a:lnTo>
                  <a:pt x="354" y="5424"/>
                </a:lnTo>
                <a:lnTo>
                  <a:pt x="413" y="5568"/>
                </a:lnTo>
                <a:lnTo>
                  <a:pt x="474" y="5702"/>
                </a:lnTo>
                <a:lnTo>
                  <a:pt x="540" y="5826"/>
                </a:lnTo>
                <a:lnTo>
                  <a:pt x="607" y="5939"/>
                </a:lnTo>
                <a:lnTo>
                  <a:pt x="678" y="6042"/>
                </a:lnTo>
                <a:lnTo>
                  <a:pt x="751" y="6134"/>
                </a:lnTo>
                <a:lnTo>
                  <a:pt x="827" y="6214"/>
                </a:lnTo>
                <a:lnTo>
                  <a:pt x="904" y="6283"/>
                </a:lnTo>
                <a:lnTo>
                  <a:pt x="982" y="6339"/>
                </a:lnTo>
                <a:lnTo>
                  <a:pt x="1063" y="6383"/>
                </a:lnTo>
                <a:lnTo>
                  <a:pt x="1144" y="6414"/>
                </a:lnTo>
                <a:lnTo>
                  <a:pt x="1226" y="6433"/>
                </a:lnTo>
                <a:lnTo>
                  <a:pt x="1308" y="644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Freeform 214"/>
          <p:cNvSpPr/>
          <p:nvPr/>
        </p:nvSpPr>
        <p:spPr>
          <a:xfrm>
            <a:off x="4940280" y="2757600"/>
            <a:ext cx="378000" cy="1703160"/>
          </a:xfrm>
          <a:custGeom>
            <a:avLst/>
            <a:gdLst>
              <a:gd name="textAreaLeft" fmla="*/ 0 w 378000"/>
              <a:gd name="textAreaRight" fmla="*/ 378360 w 378000"/>
              <a:gd name="textAreaTop" fmla="*/ 0 h 1703160"/>
              <a:gd name="textAreaBottom" fmla="*/ 1703520 h 1703160"/>
            </a:gdLst>
            <a:ahLst/>
            <a:rect l="textAreaLeft" t="textAreaTop" r="textAreaRight" b="textAreaBottom"/>
            <a:pathLst>
              <a:path w="1429" h="6439">
                <a:moveTo>
                  <a:pt x="1309" y="0"/>
                </a:moveTo>
                <a:lnTo>
                  <a:pt x="1226" y="6"/>
                </a:lnTo>
                <a:lnTo>
                  <a:pt x="1143" y="25"/>
                </a:lnTo>
                <a:lnTo>
                  <a:pt x="1061" y="58"/>
                </a:lnTo>
                <a:lnTo>
                  <a:pt x="981" y="103"/>
                </a:lnTo>
                <a:lnTo>
                  <a:pt x="900" y="160"/>
                </a:lnTo>
                <a:lnTo>
                  <a:pt x="823" y="230"/>
                </a:lnTo>
                <a:lnTo>
                  <a:pt x="747" y="311"/>
                </a:lnTo>
                <a:lnTo>
                  <a:pt x="673" y="405"/>
                </a:lnTo>
                <a:lnTo>
                  <a:pt x="602" y="509"/>
                </a:lnTo>
                <a:lnTo>
                  <a:pt x="533" y="626"/>
                </a:lnTo>
                <a:lnTo>
                  <a:pt x="468" y="752"/>
                </a:lnTo>
                <a:lnTo>
                  <a:pt x="406" y="887"/>
                </a:lnTo>
                <a:lnTo>
                  <a:pt x="348" y="1032"/>
                </a:lnTo>
                <a:lnTo>
                  <a:pt x="294" y="1187"/>
                </a:lnTo>
                <a:lnTo>
                  <a:pt x="243" y="1349"/>
                </a:lnTo>
                <a:lnTo>
                  <a:pt x="197" y="1519"/>
                </a:lnTo>
                <a:lnTo>
                  <a:pt x="156" y="1696"/>
                </a:lnTo>
                <a:lnTo>
                  <a:pt x="119" y="1878"/>
                </a:lnTo>
                <a:lnTo>
                  <a:pt x="86" y="2067"/>
                </a:lnTo>
                <a:lnTo>
                  <a:pt x="60" y="2260"/>
                </a:lnTo>
                <a:lnTo>
                  <a:pt x="38" y="2457"/>
                </a:lnTo>
                <a:lnTo>
                  <a:pt x="21" y="2657"/>
                </a:lnTo>
                <a:lnTo>
                  <a:pt x="8" y="2859"/>
                </a:lnTo>
                <a:lnTo>
                  <a:pt x="2" y="3062"/>
                </a:lnTo>
                <a:lnTo>
                  <a:pt x="0" y="3267"/>
                </a:lnTo>
                <a:lnTo>
                  <a:pt x="4" y="3471"/>
                </a:lnTo>
                <a:lnTo>
                  <a:pt x="13" y="3673"/>
                </a:lnTo>
                <a:lnTo>
                  <a:pt x="27" y="3874"/>
                </a:lnTo>
                <a:lnTo>
                  <a:pt x="47" y="4073"/>
                </a:lnTo>
                <a:lnTo>
                  <a:pt x="71" y="4268"/>
                </a:lnTo>
                <a:lnTo>
                  <a:pt x="101" y="4459"/>
                </a:lnTo>
                <a:lnTo>
                  <a:pt x="135" y="4645"/>
                </a:lnTo>
                <a:lnTo>
                  <a:pt x="174" y="4825"/>
                </a:lnTo>
                <a:lnTo>
                  <a:pt x="218" y="4999"/>
                </a:lnTo>
                <a:lnTo>
                  <a:pt x="265" y="5166"/>
                </a:lnTo>
                <a:lnTo>
                  <a:pt x="318" y="5324"/>
                </a:lnTo>
                <a:lnTo>
                  <a:pt x="374" y="5474"/>
                </a:lnTo>
                <a:lnTo>
                  <a:pt x="434" y="5616"/>
                </a:lnTo>
                <a:lnTo>
                  <a:pt x="497" y="5747"/>
                </a:lnTo>
                <a:lnTo>
                  <a:pt x="564" y="5869"/>
                </a:lnTo>
                <a:lnTo>
                  <a:pt x="634" y="5979"/>
                </a:lnTo>
                <a:lnTo>
                  <a:pt x="707" y="6079"/>
                </a:lnTo>
                <a:lnTo>
                  <a:pt x="781" y="6168"/>
                </a:lnTo>
                <a:lnTo>
                  <a:pt x="858" y="6244"/>
                </a:lnTo>
                <a:lnTo>
                  <a:pt x="936" y="6307"/>
                </a:lnTo>
                <a:lnTo>
                  <a:pt x="1017" y="6359"/>
                </a:lnTo>
                <a:lnTo>
                  <a:pt x="1098" y="6399"/>
                </a:lnTo>
                <a:lnTo>
                  <a:pt x="1181" y="6425"/>
                </a:lnTo>
                <a:lnTo>
                  <a:pt x="1264" y="6439"/>
                </a:lnTo>
                <a:lnTo>
                  <a:pt x="1346" y="6439"/>
                </a:lnTo>
                <a:lnTo>
                  <a:pt x="1429" y="642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15"/>
          <p:cNvSpPr/>
          <p:nvPr/>
        </p:nvSpPr>
        <p:spPr>
          <a:xfrm>
            <a:off x="3863880" y="2757600"/>
            <a:ext cx="1800" cy="85248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216"/>
          <p:cNvSpPr/>
          <p:nvPr/>
        </p:nvSpPr>
        <p:spPr>
          <a:xfrm>
            <a:off x="2440080" y="2757600"/>
            <a:ext cx="1440" cy="85248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217"/>
          <p:cNvSpPr/>
          <p:nvPr/>
        </p:nvSpPr>
        <p:spPr>
          <a:xfrm>
            <a:off x="2432160" y="2757600"/>
            <a:ext cx="350640" cy="1703160"/>
          </a:xfrm>
          <a:custGeom>
            <a:avLst/>
            <a:gdLst>
              <a:gd name="textAreaLeft" fmla="*/ 0 w 350640"/>
              <a:gd name="textAreaRight" fmla="*/ 350640 w 350640"/>
              <a:gd name="textAreaTop" fmla="*/ 0 h 1703160"/>
              <a:gd name="textAreaBottom" fmla="*/ 1703520 h 1703160"/>
            </a:gdLst>
            <a:ahLst/>
            <a:rect l="textAreaLeft" t="textAreaTop" r="textAreaRight" b="textAreaBottom"/>
            <a:pathLst>
              <a:path w="1324" h="6440">
                <a:moveTo>
                  <a:pt x="32" y="0"/>
                </a:moveTo>
                <a:lnTo>
                  <a:pt x="115" y="7"/>
                </a:lnTo>
                <a:lnTo>
                  <a:pt x="197" y="27"/>
                </a:lnTo>
                <a:lnTo>
                  <a:pt x="277" y="58"/>
                </a:lnTo>
                <a:lnTo>
                  <a:pt x="358" y="103"/>
                </a:lnTo>
                <a:lnTo>
                  <a:pt x="436" y="160"/>
                </a:lnTo>
                <a:lnTo>
                  <a:pt x="513" y="229"/>
                </a:lnTo>
                <a:lnTo>
                  <a:pt x="588" y="309"/>
                </a:lnTo>
                <a:lnTo>
                  <a:pt x="661" y="401"/>
                </a:lnTo>
                <a:lnTo>
                  <a:pt x="731" y="504"/>
                </a:lnTo>
                <a:lnTo>
                  <a:pt x="799" y="618"/>
                </a:lnTo>
                <a:lnTo>
                  <a:pt x="863" y="742"/>
                </a:lnTo>
                <a:lnTo>
                  <a:pt x="924" y="877"/>
                </a:lnTo>
                <a:lnTo>
                  <a:pt x="981" y="1020"/>
                </a:lnTo>
                <a:lnTo>
                  <a:pt x="1035" y="1172"/>
                </a:lnTo>
                <a:lnTo>
                  <a:pt x="1085" y="1332"/>
                </a:lnTo>
                <a:lnTo>
                  <a:pt x="1129" y="1499"/>
                </a:lnTo>
                <a:lnTo>
                  <a:pt x="1171" y="1674"/>
                </a:lnTo>
                <a:lnTo>
                  <a:pt x="1207" y="1854"/>
                </a:lnTo>
                <a:lnTo>
                  <a:pt x="1238" y="2040"/>
                </a:lnTo>
                <a:lnTo>
                  <a:pt x="1266" y="2230"/>
                </a:lnTo>
                <a:lnTo>
                  <a:pt x="1287" y="2425"/>
                </a:lnTo>
                <a:lnTo>
                  <a:pt x="1304" y="2623"/>
                </a:lnTo>
                <a:lnTo>
                  <a:pt x="1317" y="2822"/>
                </a:lnTo>
                <a:lnTo>
                  <a:pt x="1323" y="3024"/>
                </a:lnTo>
                <a:lnTo>
                  <a:pt x="1324" y="3226"/>
                </a:lnTo>
                <a:lnTo>
                  <a:pt x="1321" y="3429"/>
                </a:lnTo>
                <a:lnTo>
                  <a:pt x="1313" y="3630"/>
                </a:lnTo>
                <a:lnTo>
                  <a:pt x="1299" y="3829"/>
                </a:lnTo>
                <a:lnTo>
                  <a:pt x="1280" y="4027"/>
                </a:lnTo>
                <a:lnTo>
                  <a:pt x="1255" y="4221"/>
                </a:lnTo>
                <a:lnTo>
                  <a:pt x="1227" y="4411"/>
                </a:lnTo>
                <a:lnTo>
                  <a:pt x="1193" y="4596"/>
                </a:lnTo>
                <a:lnTo>
                  <a:pt x="1155" y="4776"/>
                </a:lnTo>
                <a:lnTo>
                  <a:pt x="1112" y="4950"/>
                </a:lnTo>
                <a:lnTo>
                  <a:pt x="1065" y="5117"/>
                </a:lnTo>
                <a:lnTo>
                  <a:pt x="1014" y="5277"/>
                </a:lnTo>
                <a:lnTo>
                  <a:pt x="959" y="5429"/>
                </a:lnTo>
                <a:lnTo>
                  <a:pt x="900" y="5572"/>
                </a:lnTo>
                <a:lnTo>
                  <a:pt x="837" y="5705"/>
                </a:lnTo>
                <a:lnTo>
                  <a:pt x="772" y="5829"/>
                </a:lnTo>
                <a:lnTo>
                  <a:pt x="704" y="5942"/>
                </a:lnTo>
                <a:lnTo>
                  <a:pt x="632" y="6045"/>
                </a:lnTo>
                <a:lnTo>
                  <a:pt x="559" y="6136"/>
                </a:lnTo>
                <a:lnTo>
                  <a:pt x="482" y="6216"/>
                </a:lnTo>
                <a:lnTo>
                  <a:pt x="405" y="6284"/>
                </a:lnTo>
                <a:lnTo>
                  <a:pt x="326" y="6340"/>
                </a:lnTo>
                <a:lnTo>
                  <a:pt x="245" y="6384"/>
                </a:lnTo>
                <a:lnTo>
                  <a:pt x="164" y="6415"/>
                </a:lnTo>
                <a:lnTo>
                  <a:pt x="82" y="6435"/>
                </a:lnTo>
                <a:lnTo>
                  <a:pt x="0" y="6440"/>
                </a:lnTo>
              </a:path>
            </a:pathLst>
          </a:custGeom>
          <a:noFill/>
          <a:ln w="38160">
            <a:solidFill>
              <a:srgbClr val="3333cc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218"/>
          <p:cNvSpPr/>
          <p:nvPr/>
        </p:nvSpPr>
        <p:spPr>
          <a:xfrm>
            <a:off x="3851280" y="2782800"/>
            <a:ext cx="345960" cy="1703520"/>
          </a:xfrm>
          <a:custGeom>
            <a:avLst/>
            <a:gdLst>
              <a:gd name="textAreaLeft" fmla="*/ 0 w 345960"/>
              <a:gd name="textAreaRight" fmla="*/ 346320 w 345960"/>
              <a:gd name="textAreaTop" fmla="*/ 0 h 1703520"/>
              <a:gd name="textAreaBottom" fmla="*/ 1703880 h 1703520"/>
            </a:gdLst>
            <a:ahLst/>
            <a:rect l="textAreaLeft" t="textAreaTop" r="textAreaRight" b="textAreaBottom"/>
            <a:pathLst>
              <a:path w="1310" h="6440">
                <a:moveTo>
                  <a:pt x="3" y="0"/>
                </a:moveTo>
                <a:lnTo>
                  <a:pt x="86" y="6"/>
                </a:lnTo>
                <a:lnTo>
                  <a:pt x="168" y="27"/>
                </a:lnTo>
                <a:lnTo>
                  <a:pt x="249" y="58"/>
                </a:lnTo>
                <a:lnTo>
                  <a:pt x="328" y="102"/>
                </a:lnTo>
                <a:lnTo>
                  <a:pt x="408" y="159"/>
                </a:lnTo>
                <a:lnTo>
                  <a:pt x="485" y="228"/>
                </a:lnTo>
                <a:lnTo>
                  <a:pt x="560" y="308"/>
                </a:lnTo>
                <a:lnTo>
                  <a:pt x="633" y="400"/>
                </a:lnTo>
                <a:lnTo>
                  <a:pt x="704" y="503"/>
                </a:lnTo>
                <a:lnTo>
                  <a:pt x="772" y="616"/>
                </a:lnTo>
                <a:lnTo>
                  <a:pt x="837" y="740"/>
                </a:lnTo>
                <a:lnTo>
                  <a:pt x="898" y="875"/>
                </a:lnTo>
                <a:lnTo>
                  <a:pt x="956" y="1018"/>
                </a:lnTo>
                <a:lnTo>
                  <a:pt x="1010" y="1169"/>
                </a:lnTo>
                <a:lnTo>
                  <a:pt x="1061" y="1329"/>
                </a:lnTo>
                <a:lnTo>
                  <a:pt x="1107" y="1496"/>
                </a:lnTo>
                <a:lnTo>
                  <a:pt x="1149" y="1671"/>
                </a:lnTo>
                <a:lnTo>
                  <a:pt x="1186" y="1851"/>
                </a:lnTo>
                <a:lnTo>
                  <a:pt x="1219" y="2036"/>
                </a:lnTo>
                <a:lnTo>
                  <a:pt x="1246" y="2227"/>
                </a:lnTo>
                <a:lnTo>
                  <a:pt x="1269" y="2422"/>
                </a:lnTo>
                <a:lnTo>
                  <a:pt x="1287" y="2619"/>
                </a:lnTo>
                <a:lnTo>
                  <a:pt x="1299" y="2819"/>
                </a:lnTo>
                <a:lnTo>
                  <a:pt x="1307" y="3020"/>
                </a:lnTo>
                <a:lnTo>
                  <a:pt x="1310" y="3222"/>
                </a:lnTo>
                <a:lnTo>
                  <a:pt x="1307" y="3424"/>
                </a:lnTo>
                <a:lnTo>
                  <a:pt x="1299" y="3625"/>
                </a:lnTo>
                <a:lnTo>
                  <a:pt x="1287" y="3826"/>
                </a:lnTo>
                <a:lnTo>
                  <a:pt x="1269" y="4023"/>
                </a:lnTo>
                <a:lnTo>
                  <a:pt x="1245" y="4216"/>
                </a:lnTo>
                <a:lnTo>
                  <a:pt x="1218" y="4407"/>
                </a:lnTo>
                <a:lnTo>
                  <a:pt x="1185" y="4592"/>
                </a:lnTo>
                <a:lnTo>
                  <a:pt x="1147" y="4772"/>
                </a:lnTo>
                <a:lnTo>
                  <a:pt x="1106" y="4947"/>
                </a:lnTo>
                <a:lnTo>
                  <a:pt x="1059" y="5114"/>
                </a:lnTo>
                <a:lnTo>
                  <a:pt x="1008" y="5274"/>
                </a:lnTo>
                <a:lnTo>
                  <a:pt x="954" y="5425"/>
                </a:lnTo>
                <a:lnTo>
                  <a:pt x="896" y="5568"/>
                </a:lnTo>
                <a:lnTo>
                  <a:pt x="835" y="5702"/>
                </a:lnTo>
                <a:lnTo>
                  <a:pt x="770" y="5826"/>
                </a:lnTo>
                <a:lnTo>
                  <a:pt x="701" y="5939"/>
                </a:lnTo>
                <a:lnTo>
                  <a:pt x="631" y="6043"/>
                </a:lnTo>
                <a:lnTo>
                  <a:pt x="557" y="6134"/>
                </a:lnTo>
                <a:lnTo>
                  <a:pt x="482" y="6214"/>
                </a:lnTo>
                <a:lnTo>
                  <a:pt x="405" y="6283"/>
                </a:lnTo>
                <a:lnTo>
                  <a:pt x="326" y="6339"/>
                </a:lnTo>
                <a:lnTo>
                  <a:pt x="246" y="6384"/>
                </a:lnTo>
                <a:lnTo>
                  <a:pt x="164" y="6414"/>
                </a:lnTo>
                <a:lnTo>
                  <a:pt x="83" y="6433"/>
                </a:lnTo>
                <a:lnTo>
                  <a:pt x="0" y="6440"/>
                </a:lnTo>
              </a:path>
            </a:pathLst>
          </a:custGeom>
          <a:noFill/>
          <a:ln w="38160">
            <a:solidFill>
              <a:srgbClr val="3333cc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Freeform 219"/>
          <p:cNvSpPr/>
          <p:nvPr/>
        </p:nvSpPr>
        <p:spPr>
          <a:xfrm>
            <a:off x="5219640" y="2782800"/>
            <a:ext cx="382680" cy="1703520"/>
          </a:xfrm>
          <a:custGeom>
            <a:avLst/>
            <a:gdLst>
              <a:gd name="textAreaLeft" fmla="*/ 0 w 382680"/>
              <a:gd name="textAreaRight" fmla="*/ 383040 w 382680"/>
              <a:gd name="textAreaTop" fmla="*/ 0 h 1703520"/>
              <a:gd name="textAreaBottom" fmla="*/ 1703880 h 1703520"/>
            </a:gdLst>
            <a:ahLst/>
            <a:rect l="textAreaLeft" t="textAreaTop" r="textAreaRight" b="textAreaBottom"/>
            <a:pathLst>
              <a:path w="1446" h="6439">
                <a:moveTo>
                  <a:pt x="154" y="0"/>
                </a:moveTo>
                <a:lnTo>
                  <a:pt x="238" y="7"/>
                </a:lnTo>
                <a:lnTo>
                  <a:pt x="319" y="27"/>
                </a:lnTo>
                <a:lnTo>
                  <a:pt x="402" y="59"/>
                </a:lnTo>
                <a:lnTo>
                  <a:pt x="482" y="105"/>
                </a:lnTo>
                <a:lnTo>
                  <a:pt x="562" y="162"/>
                </a:lnTo>
                <a:lnTo>
                  <a:pt x="639" y="232"/>
                </a:lnTo>
                <a:lnTo>
                  <a:pt x="715" y="315"/>
                </a:lnTo>
                <a:lnTo>
                  <a:pt x="788" y="409"/>
                </a:lnTo>
                <a:lnTo>
                  <a:pt x="858" y="514"/>
                </a:lnTo>
                <a:lnTo>
                  <a:pt x="926" y="629"/>
                </a:lnTo>
                <a:lnTo>
                  <a:pt x="990" y="756"/>
                </a:lnTo>
                <a:lnTo>
                  <a:pt x="1052" y="893"/>
                </a:lnTo>
                <a:lnTo>
                  <a:pt x="1110" y="1038"/>
                </a:lnTo>
                <a:lnTo>
                  <a:pt x="1163" y="1192"/>
                </a:lnTo>
                <a:lnTo>
                  <a:pt x="1213" y="1355"/>
                </a:lnTo>
                <a:lnTo>
                  <a:pt x="1258" y="1525"/>
                </a:lnTo>
                <a:lnTo>
                  <a:pt x="1299" y="1702"/>
                </a:lnTo>
                <a:lnTo>
                  <a:pt x="1335" y="1885"/>
                </a:lnTo>
                <a:lnTo>
                  <a:pt x="1365" y="2073"/>
                </a:lnTo>
                <a:lnTo>
                  <a:pt x="1392" y="2267"/>
                </a:lnTo>
                <a:lnTo>
                  <a:pt x="1413" y="2464"/>
                </a:lnTo>
                <a:lnTo>
                  <a:pt x="1429" y="2663"/>
                </a:lnTo>
                <a:lnTo>
                  <a:pt x="1439" y="2865"/>
                </a:lnTo>
                <a:lnTo>
                  <a:pt x="1446" y="3070"/>
                </a:lnTo>
                <a:lnTo>
                  <a:pt x="1446" y="3273"/>
                </a:lnTo>
                <a:lnTo>
                  <a:pt x="1441" y="3477"/>
                </a:lnTo>
                <a:lnTo>
                  <a:pt x="1431" y="3681"/>
                </a:lnTo>
                <a:lnTo>
                  <a:pt x="1415" y="3882"/>
                </a:lnTo>
                <a:lnTo>
                  <a:pt x="1395" y="4080"/>
                </a:lnTo>
                <a:lnTo>
                  <a:pt x="1369" y="4275"/>
                </a:lnTo>
                <a:lnTo>
                  <a:pt x="1339" y="4465"/>
                </a:lnTo>
                <a:lnTo>
                  <a:pt x="1304" y="4651"/>
                </a:lnTo>
                <a:lnTo>
                  <a:pt x="1264" y="4831"/>
                </a:lnTo>
                <a:lnTo>
                  <a:pt x="1219" y="5005"/>
                </a:lnTo>
                <a:lnTo>
                  <a:pt x="1170" y="5171"/>
                </a:lnTo>
                <a:lnTo>
                  <a:pt x="1117" y="5329"/>
                </a:lnTo>
                <a:lnTo>
                  <a:pt x="1060" y="5479"/>
                </a:lnTo>
                <a:lnTo>
                  <a:pt x="1000" y="5620"/>
                </a:lnTo>
                <a:lnTo>
                  <a:pt x="935" y="5752"/>
                </a:lnTo>
                <a:lnTo>
                  <a:pt x="868" y="5872"/>
                </a:lnTo>
                <a:lnTo>
                  <a:pt x="798" y="5983"/>
                </a:lnTo>
                <a:lnTo>
                  <a:pt x="725" y="6082"/>
                </a:lnTo>
                <a:lnTo>
                  <a:pt x="649" y="6170"/>
                </a:lnTo>
                <a:lnTo>
                  <a:pt x="572" y="6246"/>
                </a:lnTo>
                <a:lnTo>
                  <a:pt x="493" y="6310"/>
                </a:lnTo>
                <a:lnTo>
                  <a:pt x="412" y="6360"/>
                </a:lnTo>
                <a:lnTo>
                  <a:pt x="331" y="6400"/>
                </a:lnTo>
                <a:lnTo>
                  <a:pt x="248" y="6425"/>
                </a:lnTo>
                <a:lnTo>
                  <a:pt x="166" y="6439"/>
                </a:lnTo>
                <a:lnTo>
                  <a:pt x="83" y="6439"/>
                </a:lnTo>
                <a:lnTo>
                  <a:pt x="0" y="6425"/>
                </a:lnTo>
              </a:path>
            </a:pathLst>
          </a:custGeom>
          <a:noFill/>
          <a:ln w="38160">
            <a:solidFill>
              <a:srgbClr val="3333cc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20"/>
          <p:cNvSpPr/>
          <p:nvPr/>
        </p:nvSpPr>
        <p:spPr>
          <a:xfrm>
            <a:off x="5288040" y="2757600"/>
            <a:ext cx="1440" cy="85248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Freeform 221"/>
          <p:cNvSpPr/>
          <p:nvPr/>
        </p:nvSpPr>
        <p:spPr>
          <a:xfrm>
            <a:off x="6364440" y="2757600"/>
            <a:ext cx="379440" cy="1703160"/>
          </a:xfrm>
          <a:custGeom>
            <a:avLst/>
            <a:gdLst>
              <a:gd name="textAreaLeft" fmla="*/ 0 w 379440"/>
              <a:gd name="textAreaRight" fmla="*/ 379800 w 379440"/>
              <a:gd name="textAreaTop" fmla="*/ 0 h 1703160"/>
              <a:gd name="textAreaBottom" fmla="*/ 1703520 h 1703160"/>
            </a:gdLst>
            <a:ahLst/>
            <a:rect l="textAreaLeft" t="textAreaTop" r="textAreaRight" b="textAreaBottom"/>
            <a:pathLst>
              <a:path w="1430" h="6439">
                <a:moveTo>
                  <a:pt x="1310" y="0"/>
                </a:moveTo>
                <a:lnTo>
                  <a:pt x="1227" y="6"/>
                </a:lnTo>
                <a:lnTo>
                  <a:pt x="1144" y="25"/>
                </a:lnTo>
                <a:lnTo>
                  <a:pt x="1062" y="58"/>
                </a:lnTo>
                <a:lnTo>
                  <a:pt x="981" y="103"/>
                </a:lnTo>
                <a:lnTo>
                  <a:pt x="902" y="160"/>
                </a:lnTo>
                <a:lnTo>
                  <a:pt x="824" y="230"/>
                </a:lnTo>
                <a:lnTo>
                  <a:pt x="748" y="311"/>
                </a:lnTo>
                <a:lnTo>
                  <a:pt x="674" y="405"/>
                </a:lnTo>
                <a:lnTo>
                  <a:pt x="603" y="509"/>
                </a:lnTo>
                <a:lnTo>
                  <a:pt x="534" y="626"/>
                </a:lnTo>
                <a:lnTo>
                  <a:pt x="470" y="752"/>
                </a:lnTo>
                <a:lnTo>
                  <a:pt x="407" y="887"/>
                </a:lnTo>
                <a:lnTo>
                  <a:pt x="349" y="1032"/>
                </a:lnTo>
                <a:lnTo>
                  <a:pt x="295" y="1187"/>
                </a:lnTo>
                <a:lnTo>
                  <a:pt x="244" y="1349"/>
                </a:lnTo>
                <a:lnTo>
                  <a:pt x="198" y="1519"/>
                </a:lnTo>
                <a:lnTo>
                  <a:pt x="156" y="1696"/>
                </a:lnTo>
                <a:lnTo>
                  <a:pt x="120" y="1878"/>
                </a:lnTo>
                <a:lnTo>
                  <a:pt x="87" y="2067"/>
                </a:lnTo>
                <a:lnTo>
                  <a:pt x="61" y="2260"/>
                </a:lnTo>
                <a:lnTo>
                  <a:pt x="39" y="2457"/>
                </a:lnTo>
                <a:lnTo>
                  <a:pt x="21" y="2657"/>
                </a:lnTo>
                <a:lnTo>
                  <a:pt x="9" y="2859"/>
                </a:lnTo>
                <a:lnTo>
                  <a:pt x="3" y="3062"/>
                </a:lnTo>
                <a:lnTo>
                  <a:pt x="0" y="3267"/>
                </a:lnTo>
                <a:lnTo>
                  <a:pt x="5" y="3471"/>
                </a:lnTo>
                <a:lnTo>
                  <a:pt x="14" y="3673"/>
                </a:lnTo>
                <a:lnTo>
                  <a:pt x="28" y="3874"/>
                </a:lnTo>
                <a:lnTo>
                  <a:pt x="47" y="4073"/>
                </a:lnTo>
                <a:lnTo>
                  <a:pt x="72" y="4268"/>
                </a:lnTo>
                <a:lnTo>
                  <a:pt x="101" y="4459"/>
                </a:lnTo>
                <a:lnTo>
                  <a:pt x="136" y="4645"/>
                </a:lnTo>
                <a:lnTo>
                  <a:pt x="175" y="4825"/>
                </a:lnTo>
                <a:lnTo>
                  <a:pt x="219" y="4999"/>
                </a:lnTo>
                <a:lnTo>
                  <a:pt x="266" y="5166"/>
                </a:lnTo>
                <a:lnTo>
                  <a:pt x="319" y="5324"/>
                </a:lnTo>
                <a:lnTo>
                  <a:pt x="375" y="5474"/>
                </a:lnTo>
                <a:lnTo>
                  <a:pt x="435" y="5616"/>
                </a:lnTo>
                <a:lnTo>
                  <a:pt x="498" y="5747"/>
                </a:lnTo>
                <a:lnTo>
                  <a:pt x="565" y="5869"/>
                </a:lnTo>
                <a:lnTo>
                  <a:pt x="635" y="5979"/>
                </a:lnTo>
                <a:lnTo>
                  <a:pt x="707" y="6079"/>
                </a:lnTo>
                <a:lnTo>
                  <a:pt x="782" y="6168"/>
                </a:lnTo>
                <a:lnTo>
                  <a:pt x="859" y="6244"/>
                </a:lnTo>
                <a:lnTo>
                  <a:pt x="938" y="6307"/>
                </a:lnTo>
                <a:lnTo>
                  <a:pt x="1018" y="6359"/>
                </a:lnTo>
                <a:lnTo>
                  <a:pt x="1100" y="6399"/>
                </a:lnTo>
                <a:lnTo>
                  <a:pt x="1182" y="6425"/>
                </a:lnTo>
                <a:lnTo>
                  <a:pt x="1265" y="6439"/>
                </a:lnTo>
                <a:lnTo>
                  <a:pt x="1347" y="6439"/>
                </a:lnTo>
                <a:lnTo>
                  <a:pt x="1430" y="6426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reeform 222"/>
          <p:cNvSpPr/>
          <p:nvPr/>
        </p:nvSpPr>
        <p:spPr>
          <a:xfrm>
            <a:off x="6669000" y="2757600"/>
            <a:ext cx="382680" cy="1703160"/>
          </a:xfrm>
          <a:custGeom>
            <a:avLst/>
            <a:gdLst>
              <a:gd name="textAreaLeft" fmla="*/ 0 w 382680"/>
              <a:gd name="textAreaRight" fmla="*/ 383040 w 382680"/>
              <a:gd name="textAreaTop" fmla="*/ 0 h 1703160"/>
              <a:gd name="textAreaBottom" fmla="*/ 1703520 h 1703160"/>
            </a:gdLst>
            <a:ahLst/>
            <a:rect l="textAreaLeft" t="textAreaTop" r="textAreaRight" b="textAreaBottom"/>
            <a:pathLst>
              <a:path w="1447" h="6439">
                <a:moveTo>
                  <a:pt x="155" y="0"/>
                </a:moveTo>
                <a:lnTo>
                  <a:pt x="238" y="7"/>
                </a:lnTo>
                <a:lnTo>
                  <a:pt x="320" y="27"/>
                </a:lnTo>
                <a:lnTo>
                  <a:pt x="402" y="59"/>
                </a:lnTo>
                <a:lnTo>
                  <a:pt x="483" y="105"/>
                </a:lnTo>
                <a:lnTo>
                  <a:pt x="563" y="162"/>
                </a:lnTo>
                <a:lnTo>
                  <a:pt x="640" y="233"/>
                </a:lnTo>
                <a:lnTo>
                  <a:pt x="715" y="315"/>
                </a:lnTo>
                <a:lnTo>
                  <a:pt x="789" y="409"/>
                </a:lnTo>
                <a:lnTo>
                  <a:pt x="859" y="514"/>
                </a:lnTo>
                <a:lnTo>
                  <a:pt x="927" y="629"/>
                </a:lnTo>
                <a:lnTo>
                  <a:pt x="991" y="756"/>
                </a:lnTo>
                <a:lnTo>
                  <a:pt x="1053" y="893"/>
                </a:lnTo>
                <a:lnTo>
                  <a:pt x="1110" y="1038"/>
                </a:lnTo>
                <a:lnTo>
                  <a:pt x="1164" y="1192"/>
                </a:lnTo>
                <a:lnTo>
                  <a:pt x="1214" y="1355"/>
                </a:lnTo>
                <a:lnTo>
                  <a:pt x="1258" y="1525"/>
                </a:lnTo>
                <a:lnTo>
                  <a:pt x="1300" y="1702"/>
                </a:lnTo>
                <a:lnTo>
                  <a:pt x="1336" y="1885"/>
                </a:lnTo>
                <a:lnTo>
                  <a:pt x="1366" y="2073"/>
                </a:lnTo>
                <a:lnTo>
                  <a:pt x="1393" y="2267"/>
                </a:lnTo>
                <a:lnTo>
                  <a:pt x="1414" y="2464"/>
                </a:lnTo>
                <a:lnTo>
                  <a:pt x="1430" y="2663"/>
                </a:lnTo>
                <a:lnTo>
                  <a:pt x="1440" y="2865"/>
                </a:lnTo>
                <a:lnTo>
                  <a:pt x="1447" y="3070"/>
                </a:lnTo>
                <a:lnTo>
                  <a:pt x="1447" y="3273"/>
                </a:lnTo>
                <a:lnTo>
                  <a:pt x="1441" y="3477"/>
                </a:lnTo>
                <a:lnTo>
                  <a:pt x="1432" y="3681"/>
                </a:lnTo>
                <a:lnTo>
                  <a:pt x="1416" y="3882"/>
                </a:lnTo>
                <a:lnTo>
                  <a:pt x="1396" y="4080"/>
                </a:lnTo>
                <a:lnTo>
                  <a:pt x="1371" y="4275"/>
                </a:lnTo>
                <a:lnTo>
                  <a:pt x="1340" y="4465"/>
                </a:lnTo>
                <a:lnTo>
                  <a:pt x="1305" y="4651"/>
                </a:lnTo>
                <a:lnTo>
                  <a:pt x="1265" y="4831"/>
                </a:lnTo>
                <a:lnTo>
                  <a:pt x="1220" y="5005"/>
                </a:lnTo>
                <a:lnTo>
                  <a:pt x="1171" y="5171"/>
                </a:lnTo>
                <a:lnTo>
                  <a:pt x="1119" y="5329"/>
                </a:lnTo>
                <a:lnTo>
                  <a:pt x="1061" y="5479"/>
                </a:lnTo>
                <a:lnTo>
                  <a:pt x="1000" y="5620"/>
                </a:lnTo>
                <a:lnTo>
                  <a:pt x="936" y="5752"/>
                </a:lnTo>
                <a:lnTo>
                  <a:pt x="869" y="5872"/>
                </a:lnTo>
                <a:lnTo>
                  <a:pt x="799" y="5983"/>
                </a:lnTo>
                <a:lnTo>
                  <a:pt x="726" y="6082"/>
                </a:lnTo>
                <a:lnTo>
                  <a:pt x="651" y="6170"/>
                </a:lnTo>
                <a:lnTo>
                  <a:pt x="573" y="6246"/>
                </a:lnTo>
                <a:lnTo>
                  <a:pt x="494" y="6310"/>
                </a:lnTo>
                <a:lnTo>
                  <a:pt x="413" y="6360"/>
                </a:lnTo>
                <a:lnTo>
                  <a:pt x="332" y="6400"/>
                </a:lnTo>
                <a:lnTo>
                  <a:pt x="249" y="6425"/>
                </a:lnTo>
                <a:lnTo>
                  <a:pt x="167" y="6439"/>
                </a:lnTo>
                <a:lnTo>
                  <a:pt x="84" y="6439"/>
                </a:lnTo>
                <a:lnTo>
                  <a:pt x="0" y="6425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23"/>
          <p:cNvSpPr/>
          <p:nvPr/>
        </p:nvSpPr>
        <p:spPr>
          <a:xfrm>
            <a:off x="6710400" y="2757600"/>
            <a:ext cx="1440" cy="85248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224"/>
          <p:cNvSpPr/>
          <p:nvPr/>
        </p:nvSpPr>
        <p:spPr>
          <a:xfrm flipH="1">
            <a:off x="1833480" y="1774800"/>
            <a:ext cx="1214640" cy="90324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25"/>
          <p:cNvSpPr/>
          <p:nvPr/>
        </p:nvSpPr>
        <p:spPr>
          <a:xfrm>
            <a:off x="1833480" y="2678040"/>
            <a:ext cx="1800" cy="276552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26"/>
          <p:cNvSpPr/>
          <p:nvPr/>
        </p:nvSpPr>
        <p:spPr>
          <a:xfrm>
            <a:off x="2441520" y="2757600"/>
            <a:ext cx="3948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27"/>
          <p:cNvSpPr/>
          <p:nvPr/>
        </p:nvSpPr>
        <p:spPr>
          <a:xfrm>
            <a:off x="3659040" y="2922480"/>
            <a:ext cx="204840" cy="68760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28"/>
          <p:cNvSpPr/>
          <p:nvPr/>
        </p:nvSpPr>
        <p:spPr>
          <a:xfrm>
            <a:off x="5008680" y="3105000"/>
            <a:ext cx="277560" cy="50508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29"/>
          <p:cNvSpPr/>
          <p:nvPr/>
        </p:nvSpPr>
        <p:spPr>
          <a:xfrm>
            <a:off x="6389640" y="3290760"/>
            <a:ext cx="322200" cy="31932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30"/>
          <p:cNvSpPr/>
          <p:nvPr/>
        </p:nvSpPr>
        <p:spPr>
          <a:xfrm flipH="1">
            <a:off x="1407960" y="2678040"/>
            <a:ext cx="425520" cy="180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32"/>
          <p:cNvSpPr/>
          <p:nvPr/>
        </p:nvSpPr>
        <p:spPr>
          <a:xfrm flipH="1">
            <a:off x="2622600" y="1774800"/>
            <a:ext cx="425520" cy="144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34"/>
          <p:cNvSpPr/>
          <p:nvPr/>
        </p:nvSpPr>
        <p:spPr>
          <a:xfrm flipH="1" flipV="1">
            <a:off x="2439720" y="4460400"/>
            <a:ext cx="608040" cy="32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36"/>
          <p:cNvSpPr/>
          <p:nvPr/>
        </p:nvSpPr>
        <p:spPr>
          <a:xfrm flipV="1">
            <a:off x="3048120" y="4464000"/>
            <a:ext cx="1440" cy="7776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237"/>
          <p:cNvSpPr/>
          <p:nvPr/>
        </p:nvSpPr>
        <p:spPr>
          <a:xfrm>
            <a:off x="2441520" y="2757600"/>
            <a:ext cx="4268880" cy="1440"/>
          </a:xfrm>
          <a:custGeom>
            <a:avLst/>
            <a:gdLst>
              <a:gd name="textAreaLeft" fmla="*/ 0 w 4268880"/>
              <a:gd name="textAreaRight" fmla="*/ 4269240 w 4268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6136" h="1587">
                <a:moveTo>
                  <a:pt x="0" y="0"/>
                </a:moveTo>
                <a:lnTo>
                  <a:pt x="2293" y="0"/>
                </a:lnTo>
                <a:lnTo>
                  <a:pt x="16136" y="0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38"/>
          <p:cNvSpPr/>
          <p:nvPr/>
        </p:nvSpPr>
        <p:spPr>
          <a:xfrm>
            <a:off x="3048120" y="4464000"/>
            <a:ext cx="3657600" cy="9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40"/>
          <p:cNvSpPr/>
          <p:nvPr/>
        </p:nvSpPr>
        <p:spPr>
          <a:xfrm flipV="1">
            <a:off x="3048120" y="1774800"/>
            <a:ext cx="1440" cy="98280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43"/>
          <p:cNvSpPr/>
          <p:nvPr/>
        </p:nvSpPr>
        <p:spPr>
          <a:xfrm flipV="1">
            <a:off x="1833480" y="4538520"/>
            <a:ext cx="1219320" cy="90504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44"/>
          <p:cNvSpPr/>
          <p:nvPr/>
        </p:nvSpPr>
        <p:spPr>
          <a:xfrm>
            <a:off x="2411280" y="3575160"/>
            <a:ext cx="4948200" cy="144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245"/>
          <p:cNvSpPr/>
          <p:nvPr/>
        </p:nvSpPr>
        <p:spPr>
          <a:xfrm>
            <a:off x="1955880" y="3046320"/>
            <a:ext cx="85680" cy="955800"/>
          </a:xfrm>
          <a:custGeom>
            <a:avLst/>
            <a:gdLst>
              <a:gd name="textAreaLeft" fmla="*/ 0 w 85680"/>
              <a:gd name="textAreaRight" fmla="*/ 86040 w 8568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325" h="3611">
                <a:moveTo>
                  <a:pt x="325" y="0"/>
                </a:moveTo>
                <a:lnTo>
                  <a:pt x="273" y="157"/>
                </a:lnTo>
                <a:lnTo>
                  <a:pt x="224" y="321"/>
                </a:lnTo>
                <a:lnTo>
                  <a:pt x="180" y="493"/>
                </a:lnTo>
                <a:lnTo>
                  <a:pt x="141" y="672"/>
                </a:lnTo>
                <a:lnTo>
                  <a:pt x="106" y="856"/>
                </a:lnTo>
                <a:lnTo>
                  <a:pt x="75" y="1046"/>
                </a:lnTo>
                <a:lnTo>
                  <a:pt x="50" y="1239"/>
                </a:lnTo>
                <a:lnTo>
                  <a:pt x="29" y="1437"/>
                </a:lnTo>
                <a:lnTo>
                  <a:pt x="15" y="1637"/>
                </a:lnTo>
                <a:lnTo>
                  <a:pt x="5" y="1838"/>
                </a:lnTo>
                <a:lnTo>
                  <a:pt x="0" y="2041"/>
                </a:lnTo>
                <a:lnTo>
                  <a:pt x="0" y="2245"/>
                </a:lnTo>
                <a:lnTo>
                  <a:pt x="6" y="2448"/>
                </a:lnTo>
                <a:lnTo>
                  <a:pt x="17" y="2650"/>
                </a:lnTo>
                <a:lnTo>
                  <a:pt x="33" y="2849"/>
                </a:lnTo>
                <a:lnTo>
                  <a:pt x="54" y="3046"/>
                </a:lnTo>
                <a:lnTo>
                  <a:pt x="80" y="3239"/>
                </a:lnTo>
                <a:lnTo>
                  <a:pt x="111" y="3427"/>
                </a:lnTo>
                <a:lnTo>
                  <a:pt x="147" y="3611"/>
                </a:lnTo>
              </a:path>
            </a:pathLst>
          </a:custGeom>
          <a:noFill/>
          <a:ln w="5724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246"/>
          <p:cNvSpPr/>
          <p:nvPr/>
        </p:nvSpPr>
        <p:spPr>
          <a:xfrm>
            <a:off x="6227640" y="3046320"/>
            <a:ext cx="85680" cy="955800"/>
          </a:xfrm>
          <a:custGeom>
            <a:avLst/>
            <a:gdLst>
              <a:gd name="textAreaLeft" fmla="*/ 0 w 85680"/>
              <a:gd name="textAreaRight" fmla="*/ 86040 w 8568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326" h="3611">
                <a:moveTo>
                  <a:pt x="326" y="0"/>
                </a:moveTo>
                <a:lnTo>
                  <a:pt x="273" y="157"/>
                </a:lnTo>
                <a:lnTo>
                  <a:pt x="224" y="321"/>
                </a:lnTo>
                <a:lnTo>
                  <a:pt x="181" y="493"/>
                </a:lnTo>
                <a:lnTo>
                  <a:pt x="140" y="672"/>
                </a:lnTo>
                <a:lnTo>
                  <a:pt x="106" y="856"/>
                </a:lnTo>
                <a:lnTo>
                  <a:pt x="76" y="1046"/>
                </a:lnTo>
                <a:lnTo>
                  <a:pt x="50" y="1239"/>
                </a:lnTo>
                <a:lnTo>
                  <a:pt x="30" y="1437"/>
                </a:lnTo>
                <a:lnTo>
                  <a:pt x="14" y="1637"/>
                </a:lnTo>
                <a:lnTo>
                  <a:pt x="5" y="1838"/>
                </a:lnTo>
                <a:lnTo>
                  <a:pt x="0" y="2041"/>
                </a:lnTo>
                <a:lnTo>
                  <a:pt x="1" y="2245"/>
                </a:lnTo>
                <a:lnTo>
                  <a:pt x="6" y="2448"/>
                </a:lnTo>
                <a:lnTo>
                  <a:pt x="17" y="2650"/>
                </a:lnTo>
                <a:lnTo>
                  <a:pt x="32" y="2849"/>
                </a:lnTo>
                <a:lnTo>
                  <a:pt x="54" y="3046"/>
                </a:lnTo>
                <a:lnTo>
                  <a:pt x="80" y="3239"/>
                </a:lnTo>
                <a:lnTo>
                  <a:pt x="111" y="3427"/>
                </a:lnTo>
                <a:lnTo>
                  <a:pt x="147" y="3611"/>
                </a:lnTo>
              </a:path>
            </a:pathLst>
          </a:custGeom>
          <a:noFill/>
          <a:ln w="5724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247"/>
          <p:cNvSpPr/>
          <p:nvPr/>
        </p:nvSpPr>
        <p:spPr>
          <a:xfrm>
            <a:off x="3765600" y="3265560"/>
            <a:ext cx="98280" cy="14040"/>
          </a:xfrm>
          <a:custGeom>
            <a:avLst/>
            <a:gdLst>
              <a:gd name="textAreaLeft" fmla="*/ 0 w 98280"/>
              <a:gd name="textAreaRight" fmla="*/ 98640 w 9828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71" h="54">
                <a:moveTo>
                  <a:pt x="371" y="0"/>
                </a:moveTo>
                <a:lnTo>
                  <a:pt x="246" y="5"/>
                </a:lnTo>
                <a:lnTo>
                  <a:pt x="121" y="23"/>
                </a:lnTo>
                <a:lnTo>
                  <a:pt x="0" y="5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248"/>
          <p:cNvSpPr/>
          <p:nvPr/>
        </p:nvSpPr>
        <p:spPr>
          <a:xfrm>
            <a:off x="5119560" y="3265560"/>
            <a:ext cx="168480" cy="42840"/>
          </a:xfrm>
          <a:custGeom>
            <a:avLst/>
            <a:gdLst>
              <a:gd name="textAreaLeft" fmla="*/ 0 w 168480"/>
              <a:gd name="textAreaRight" fmla="*/ 168840 w 1684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631" h="162">
                <a:moveTo>
                  <a:pt x="631" y="0"/>
                </a:moveTo>
                <a:lnTo>
                  <a:pt x="500" y="6"/>
                </a:lnTo>
                <a:lnTo>
                  <a:pt x="370" y="26"/>
                </a:lnTo>
                <a:lnTo>
                  <a:pt x="242" y="59"/>
                </a:lnTo>
                <a:lnTo>
                  <a:pt x="119" y="104"/>
                </a:lnTo>
                <a:lnTo>
                  <a:pt x="0" y="1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Freeform 249"/>
          <p:cNvSpPr/>
          <p:nvPr/>
        </p:nvSpPr>
        <p:spPr>
          <a:xfrm>
            <a:off x="6465960" y="3265560"/>
            <a:ext cx="244440" cy="101520"/>
          </a:xfrm>
          <a:custGeom>
            <a:avLst/>
            <a:gdLst>
              <a:gd name="textAreaLeft" fmla="*/ 0 w 244440"/>
              <a:gd name="textAreaRight" fmla="*/ 244800 w 2444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925" h="385">
                <a:moveTo>
                  <a:pt x="925" y="0"/>
                </a:moveTo>
                <a:lnTo>
                  <a:pt x="796" y="6"/>
                </a:lnTo>
                <a:lnTo>
                  <a:pt x="669" y="25"/>
                </a:lnTo>
                <a:lnTo>
                  <a:pt x="545" y="56"/>
                </a:lnTo>
                <a:lnTo>
                  <a:pt x="424" y="100"/>
                </a:lnTo>
                <a:lnTo>
                  <a:pt x="308" y="155"/>
                </a:lnTo>
                <a:lnTo>
                  <a:pt x="198" y="222"/>
                </a:lnTo>
                <a:lnTo>
                  <a:pt x="95" y="298"/>
                </a:lnTo>
                <a:lnTo>
                  <a:pt x="0" y="3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250"/>
          <p:cNvSpPr/>
          <p:nvPr/>
        </p:nvSpPr>
        <p:spPr>
          <a:xfrm>
            <a:off x="1389240" y="2678040"/>
            <a:ext cx="150480" cy="2765520"/>
          </a:xfrm>
          <a:custGeom>
            <a:avLst/>
            <a:gdLst>
              <a:gd name="textAreaLeft" fmla="*/ 0 w 150480"/>
              <a:gd name="textAreaRight" fmla="*/ 150840 w 15048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573" h="10456">
                <a:moveTo>
                  <a:pt x="74" y="0"/>
                </a:moveTo>
                <a:lnTo>
                  <a:pt x="163" y="327"/>
                </a:lnTo>
                <a:lnTo>
                  <a:pt x="247" y="653"/>
                </a:lnTo>
                <a:lnTo>
                  <a:pt x="285" y="818"/>
                </a:lnTo>
                <a:lnTo>
                  <a:pt x="320" y="981"/>
                </a:lnTo>
                <a:lnTo>
                  <a:pt x="352" y="1144"/>
                </a:lnTo>
                <a:lnTo>
                  <a:pt x="378" y="1308"/>
                </a:lnTo>
                <a:lnTo>
                  <a:pt x="399" y="1471"/>
                </a:lnTo>
                <a:lnTo>
                  <a:pt x="414" y="1634"/>
                </a:lnTo>
                <a:lnTo>
                  <a:pt x="421" y="1798"/>
                </a:lnTo>
                <a:lnTo>
                  <a:pt x="422" y="1961"/>
                </a:lnTo>
                <a:lnTo>
                  <a:pt x="415" y="2125"/>
                </a:lnTo>
                <a:lnTo>
                  <a:pt x="399" y="2288"/>
                </a:lnTo>
                <a:lnTo>
                  <a:pt x="378" y="2452"/>
                </a:lnTo>
                <a:lnTo>
                  <a:pt x="350" y="2615"/>
                </a:lnTo>
                <a:lnTo>
                  <a:pt x="318" y="2780"/>
                </a:lnTo>
                <a:lnTo>
                  <a:pt x="283" y="2944"/>
                </a:lnTo>
                <a:lnTo>
                  <a:pt x="207" y="3271"/>
                </a:lnTo>
                <a:lnTo>
                  <a:pt x="132" y="3598"/>
                </a:lnTo>
                <a:lnTo>
                  <a:pt x="98" y="3761"/>
                </a:lnTo>
                <a:lnTo>
                  <a:pt x="66" y="3925"/>
                </a:lnTo>
                <a:lnTo>
                  <a:pt x="40" y="4088"/>
                </a:lnTo>
                <a:lnTo>
                  <a:pt x="20" y="4251"/>
                </a:lnTo>
                <a:lnTo>
                  <a:pt x="6" y="4415"/>
                </a:lnTo>
                <a:lnTo>
                  <a:pt x="0" y="4579"/>
                </a:lnTo>
                <a:lnTo>
                  <a:pt x="2" y="4742"/>
                </a:lnTo>
                <a:lnTo>
                  <a:pt x="12" y="4905"/>
                </a:lnTo>
                <a:lnTo>
                  <a:pt x="30" y="5068"/>
                </a:lnTo>
                <a:lnTo>
                  <a:pt x="54" y="5231"/>
                </a:lnTo>
                <a:lnTo>
                  <a:pt x="83" y="5394"/>
                </a:lnTo>
                <a:lnTo>
                  <a:pt x="116" y="5557"/>
                </a:lnTo>
                <a:lnTo>
                  <a:pt x="193" y="5883"/>
                </a:lnTo>
                <a:lnTo>
                  <a:pt x="363" y="6535"/>
                </a:lnTo>
                <a:lnTo>
                  <a:pt x="442" y="6861"/>
                </a:lnTo>
                <a:lnTo>
                  <a:pt x="477" y="7024"/>
                </a:lnTo>
                <a:lnTo>
                  <a:pt x="508" y="7187"/>
                </a:lnTo>
                <a:lnTo>
                  <a:pt x="533" y="7351"/>
                </a:lnTo>
                <a:lnTo>
                  <a:pt x="553" y="7514"/>
                </a:lnTo>
                <a:lnTo>
                  <a:pt x="566" y="7677"/>
                </a:lnTo>
                <a:lnTo>
                  <a:pt x="573" y="7840"/>
                </a:lnTo>
                <a:lnTo>
                  <a:pt x="573" y="8003"/>
                </a:lnTo>
                <a:lnTo>
                  <a:pt x="567" y="8167"/>
                </a:lnTo>
                <a:lnTo>
                  <a:pt x="555" y="8330"/>
                </a:lnTo>
                <a:lnTo>
                  <a:pt x="539" y="8493"/>
                </a:lnTo>
                <a:lnTo>
                  <a:pt x="516" y="8657"/>
                </a:lnTo>
                <a:lnTo>
                  <a:pt x="491" y="8820"/>
                </a:lnTo>
                <a:lnTo>
                  <a:pt x="460" y="8983"/>
                </a:lnTo>
                <a:lnTo>
                  <a:pt x="426" y="9147"/>
                </a:lnTo>
                <a:lnTo>
                  <a:pt x="349" y="9475"/>
                </a:lnTo>
                <a:lnTo>
                  <a:pt x="262" y="9802"/>
                </a:lnTo>
                <a:lnTo>
                  <a:pt x="74" y="10456"/>
                </a:lnTo>
              </a:path>
            </a:pathLst>
          </a:custGeom>
          <a:noFill/>
          <a:ln w="2844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251"/>
          <p:cNvSpPr/>
          <p:nvPr/>
        </p:nvSpPr>
        <p:spPr>
          <a:xfrm>
            <a:off x="1407960" y="1774800"/>
            <a:ext cx="1214640" cy="90324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903240"/>
              <a:gd name="textAreaBottom" fmla="*/ 903600 h 903240"/>
            </a:gdLst>
            <a:ahLst/>
            <a:rect l="textAreaLeft" t="textAreaTop" r="textAreaRight" b="textAreaBottom"/>
            <a:pathLst>
              <a:path w="4590" h="3408">
                <a:moveTo>
                  <a:pt x="4590" y="0"/>
                </a:moveTo>
                <a:lnTo>
                  <a:pt x="4281" y="190"/>
                </a:lnTo>
                <a:lnTo>
                  <a:pt x="4129" y="289"/>
                </a:lnTo>
                <a:lnTo>
                  <a:pt x="3981" y="391"/>
                </a:lnTo>
                <a:lnTo>
                  <a:pt x="3836" y="497"/>
                </a:lnTo>
                <a:lnTo>
                  <a:pt x="3696" y="611"/>
                </a:lnTo>
                <a:lnTo>
                  <a:pt x="3562" y="730"/>
                </a:lnTo>
                <a:lnTo>
                  <a:pt x="3435" y="859"/>
                </a:lnTo>
                <a:lnTo>
                  <a:pt x="3312" y="993"/>
                </a:lnTo>
                <a:lnTo>
                  <a:pt x="3192" y="1131"/>
                </a:lnTo>
                <a:lnTo>
                  <a:pt x="2955" y="1407"/>
                </a:lnTo>
                <a:lnTo>
                  <a:pt x="2833" y="1539"/>
                </a:lnTo>
                <a:lnTo>
                  <a:pt x="2706" y="1666"/>
                </a:lnTo>
                <a:lnTo>
                  <a:pt x="2574" y="1784"/>
                </a:lnTo>
                <a:lnTo>
                  <a:pt x="2504" y="1838"/>
                </a:lnTo>
                <a:lnTo>
                  <a:pt x="2432" y="1890"/>
                </a:lnTo>
                <a:lnTo>
                  <a:pt x="2358" y="1939"/>
                </a:lnTo>
                <a:lnTo>
                  <a:pt x="2283" y="1984"/>
                </a:lnTo>
                <a:lnTo>
                  <a:pt x="2125" y="2069"/>
                </a:lnTo>
                <a:lnTo>
                  <a:pt x="1963" y="2147"/>
                </a:lnTo>
                <a:lnTo>
                  <a:pt x="1797" y="2221"/>
                </a:lnTo>
                <a:lnTo>
                  <a:pt x="1462" y="2365"/>
                </a:lnTo>
                <a:lnTo>
                  <a:pt x="1297" y="2441"/>
                </a:lnTo>
                <a:lnTo>
                  <a:pt x="1136" y="2523"/>
                </a:lnTo>
                <a:lnTo>
                  <a:pt x="980" y="2613"/>
                </a:lnTo>
                <a:lnTo>
                  <a:pt x="830" y="2711"/>
                </a:lnTo>
                <a:lnTo>
                  <a:pt x="684" y="2817"/>
                </a:lnTo>
                <a:lnTo>
                  <a:pt x="542" y="2929"/>
                </a:lnTo>
                <a:lnTo>
                  <a:pt x="403" y="3044"/>
                </a:lnTo>
                <a:lnTo>
                  <a:pt x="268" y="3164"/>
                </a:lnTo>
                <a:lnTo>
                  <a:pt x="0" y="3408"/>
                </a:lnTo>
              </a:path>
            </a:pathLst>
          </a:custGeom>
          <a:noFill/>
          <a:ln w="2844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254"/>
          <p:cNvSpPr/>
          <p:nvPr/>
        </p:nvSpPr>
        <p:spPr>
          <a:xfrm>
            <a:off x="3841920" y="2736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62" h="163">
                <a:moveTo>
                  <a:pt x="162" y="81"/>
                </a:moveTo>
                <a:lnTo>
                  <a:pt x="156" y="50"/>
                </a:lnTo>
                <a:lnTo>
                  <a:pt x="138" y="24"/>
                </a:lnTo>
                <a:lnTo>
                  <a:pt x="112" y="6"/>
                </a:lnTo>
                <a:lnTo>
                  <a:pt x="81" y="0"/>
                </a:lnTo>
                <a:lnTo>
                  <a:pt x="49" y="6"/>
                </a:lnTo>
                <a:lnTo>
                  <a:pt x="23" y="24"/>
                </a:lnTo>
                <a:lnTo>
                  <a:pt x="6" y="50"/>
                </a:lnTo>
                <a:lnTo>
                  <a:pt x="0" y="81"/>
                </a:lnTo>
                <a:lnTo>
                  <a:pt x="6" y="113"/>
                </a:lnTo>
                <a:lnTo>
                  <a:pt x="23" y="139"/>
                </a:lnTo>
                <a:lnTo>
                  <a:pt x="49" y="156"/>
                </a:lnTo>
                <a:lnTo>
                  <a:pt x="81" y="163"/>
                </a:lnTo>
                <a:lnTo>
                  <a:pt x="112" y="156"/>
                </a:lnTo>
                <a:lnTo>
                  <a:pt x="138" y="139"/>
                </a:lnTo>
                <a:lnTo>
                  <a:pt x="156" y="113"/>
                </a:lnTo>
                <a:lnTo>
                  <a:pt x="162" y="81"/>
                </a:lnTo>
                <a:close/>
              </a:path>
            </a:pathLst>
          </a:cu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255"/>
          <p:cNvSpPr/>
          <p:nvPr/>
        </p:nvSpPr>
        <p:spPr>
          <a:xfrm>
            <a:off x="2419200" y="2736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63" h="163">
                <a:moveTo>
                  <a:pt x="163" y="81"/>
                </a:moveTo>
                <a:lnTo>
                  <a:pt x="157" y="50"/>
                </a:lnTo>
                <a:lnTo>
                  <a:pt x="139" y="24"/>
                </a:lnTo>
                <a:lnTo>
                  <a:pt x="113" y="6"/>
                </a:lnTo>
                <a:lnTo>
                  <a:pt x="81" y="0"/>
                </a:lnTo>
                <a:lnTo>
                  <a:pt x="51" y="6"/>
                </a:lnTo>
                <a:lnTo>
                  <a:pt x="24" y="24"/>
                </a:lnTo>
                <a:lnTo>
                  <a:pt x="6" y="50"/>
                </a:lnTo>
                <a:lnTo>
                  <a:pt x="0" y="81"/>
                </a:lnTo>
                <a:lnTo>
                  <a:pt x="6" y="113"/>
                </a:lnTo>
                <a:lnTo>
                  <a:pt x="24" y="139"/>
                </a:lnTo>
                <a:lnTo>
                  <a:pt x="51" y="156"/>
                </a:lnTo>
                <a:lnTo>
                  <a:pt x="81" y="163"/>
                </a:lnTo>
                <a:lnTo>
                  <a:pt x="113" y="156"/>
                </a:lnTo>
                <a:lnTo>
                  <a:pt x="139" y="139"/>
                </a:lnTo>
                <a:lnTo>
                  <a:pt x="157" y="113"/>
                </a:lnTo>
                <a:lnTo>
                  <a:pt x="163" y="81"/>
                </a:lnTo>
                <a:close/>
              </a:path>
            </a:pathLst>
          </a:custGeom>
          <a:solidFill>
            <a:srgbClr val="ff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256"/>
          <p:cNvSpPr/>
          <p:nvPr/>
        </p:nvSpPr>
        <p:spPr>
          <a:xfrm>
            <a:off x="3637080" y="2900520"/>
            <a:ext cx="42840" cy="44280"/>
          </a:xfrm>
          <a:custGeom>
            <a:avLst/>
            <a:gdLst>
              <a:gd name="textAreaLeft" fmla="*/ 0 w 42840"/>
              <a:gd name="textAreaRight" fmla="*/ 43200 w 428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62" h="163">
                <a:moveTo>
                  <a:pt x="162" y="82"/>
                </a:moveTo>
                <a:lnTo>
                  <a:pt x="157" y="50"/>
                </a:lnTo>
                <a:lnTo>
                  <a:pt x="139" y="24"/>
                </a:lnTo>
                <a:lnTo>
                  <a:pt x="112" y="6"/>
                </a:lnTo>
                <a:lnTo>
                  <a:pt x="81" y="0"/>
                </a:lnTo>
                <a:lnTo>
                  <a:pt x="50" y="6"/>
                </a:lnTo>
                <a:lnTo>
                  <a:pt x="23" y="24"/>
                </a:lnTo>
                <a:lnTo>
                  <a:pt x="6" y="50"/>
                </a:lnTo>
                <a:lnTo>
                  <a:pt x="0" y="82"/>
                </a:lnTo>
                <a:lnTo>
                  <a:pt x="6" y="112"/>
                </a:lnTo>
                <a:lnTo>
                  <a:pt x="23" y="139"/>
                </a:lnTo>
                <a:lnTo>
                  <a:pt x="50" y="157"/>
                </a:lnTo>
                <a:lnTo>
                  <a:pt x="81" y="163"/>
                </a:lnTo>
                <a:lnTo>
                  <a:pt x="112" y="157"/>
                </a:lnTo>
                <a:lnTo>
                  <a:pt x="139" y="139"/>
                </a:lnTo>
                <a:lnTo>
                  <a:pt x="157" y="112"/>
                </a:lnTo>
                <a:lnTo>
                  <a:pt x="162" y="82"/>
                </a:lnTo>
                <a:close/>
              </a:path>
            </a:pathLst>
          </a:cu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257"/>
          <p:cNvSpPr/>
          <p:nvPr/>
        </p:nvSpPr>
        <p:spPr>
          <a:xfrm>
            <a:off x="5265720" y="2736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63" h="163">
                <a:moveTo>
                  <a:pt x="163" y="81"/>
                </a:moveTo>
                <a:lnTo>
                  <a:pt x="156" y="50"/>
                </a:lnTo>
                <a:lnTo>
                  <a:pt x="138" y="24"/>
                </a:lnTo>
                <a:lnTo>
                  <a:pt x="112" y="6"/>
                </a:lnTo>
                <a:lnTo>
                  <a:pt x="81" y="0"/>
                </a:lnTo>
                <a:lnTo>
                  <a:pt x="49" y="6"/>
                </a:lnTo>
                <a:lnTo>
                  <a:pt x="24" y="24"/>
                </a:lnTo>
                <a:lnTo>
                  <a:pt x="6" y="50"/>
                </a:lnTo>
                <a:lnTo>
                  <a:pt x="0" y="81"/>
                </a:lnTo>
                <a:lnTo>
                  <a:pt x="6" y="113"/>
                </a:lnTo>
                <a:lnTo>
                  <a:pt x="24" y="139"/>
                </a:lnTo>
                <a:lnTo>
                  <a:pt x="49" y="156"/>
                </a:lnTo>
                <a:lnTo>
                  <a:pt x="81" y="163"/>
                </a:lnTo>
                <a:lnTo>
                  <a:pt x="112" y="156"/>
                </a:lnTo>
                <a:lnTo>
                  <a:pt x="138" y="139"/>
                </a:lnTo>
                <a:lnTo>
                  <a:pt x="156" y="113"/>
                </a:lnTo>
                <a:lnTo>
                  <a:pt x="163" y="81"/>
                </a:lnTo>
                <a:close/>
              </a:path>
            </a:pathLst>
          </a:cu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258"/>
          <p:cNvSpPr/>
          <p:nvPr/>
        </p:nvSpPr>
        <p:spPr>
          <a:xfrm>
            <a:off x="4986360" y="30830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63" h="162">
                <a:moveTo>
                  <a:pt x="163" y="81"/>
                </a:moveTo>
                <a:lnTo>
                  <a:pt x="157" y="50"/>
                </a:lnTo>
                <a:lnTo>
                  <a:pt x="139" y="24"/>
                </a:lnTo>
                <a:lnTo>
                  <a:pt x="112" y="7"/>
                </a:lnTo>
                <a:lnTo>
                  <a:pt x="82" y="0"/>
                </a:lnTo>
                <a:lnTo>
                  <a:pt x="51" y="7"/>
                </a:lnTo>
                <a:lnTo>
                  <a:pt x="24" y="24"/>
                </a:lnTo>
                <a:lnTo>
                  <a:pt x="6" y="50"/>
                </a:lnTo>
                <a:lnTo>
                  <a:pt x="0" y="81"/>
                </a:lnTo>
                <a:lnTo>
                  <a:pt x="6" y="113"/>
                </a:lnTo>
                <a:lnTo>
                  <a:pt x="24" y="139"/>
                </a:lnTo>
                <a:lnTo>
                  <a:pt x="51" y="156"/>
                </a:lnTo>
                <a:lnTo>
                  <a:pt x="82" y="162"/>
                </a:lnTo>
                <a:lnTo>
                  <a:pt x="112" y="156"/>
                </a:lnTo>
                <a:lnTo>
                  <a:pt x="139" y="139"/>
                </a:lnTo>
                <a:lnTo>
                  <a:pt x="157" y="113"/>
                </a:lnTo>
                <a:lnTo>
                  <a:pt x="163" y="81"/>
                </a:lnTo>
                <a:close/>
              </a:path>
            </a:pathLst>
          </a:cu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259"/>
          <p:cNvSpPr/>
          <p:nvPr/>
        </p:nvSpPr>
        <p:spPr>
          <a:xfrm>
            <a:off x="6369120" y="32702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63" h="163">
                <a:moveTo>
                  <a:pt x="163" y="81"/>
                </a:moveTo>
                <a:lnTo>
                  <a:pt x="157" y="50"/>
                </a:lnTo>
                <a:lnTo>
                  <a:pt x="139" y="24"/>
                </a:lnTo>
                <a:lnTo>
                  <a:pt x="112" y="6"/>
                </a:lnTo>
                <a:lnTo>
                  <a:pt x="82" y="0"/>
                </a:lnTo>
                <a:lnTo>
                  <a:pt x="50" y="6"/>
                </a:lnTo>
                <a:lnTo>
                  <a:pt x="25" y="24"/>
                </a:lnTo>
                <a:lnTo>
                  <a:pt x="7" y="50"/>
                </a:lnTo>
                <a:lnTo>
                  <a:pt x="0" y="81"/>
                </a:lnTo>
                <a:lnTo>
                  <a:pt x="7" y="112"/>
                </a:lnTo>
                <a:lnTo>
                  <a:pt x="25" y="138"/>
                </a:lnTo>
                <a:lnTo>
                  <a:pt x="50" y="156"/>
                </a:lnTo>
                <a:lnTo>
                  <a:pt x="82" y="163"/>
                </a:lnTo>
                <a:lnTo>
                  <a:pt x="112" y="156"/>
                </a:lnTo>
                <a:lnTo>
                  <a:pt x="139" y="138"/>
                </a:lnTo>
                <a:lnTo>
                  <a:pt x="157" y="112"/>
                </a:lnTo>
                <a:lnTo>
                  <a:pt x="163" y="81"/>
                </a:lnTo>
                <a:close/>
              </a:path>
            </a:pathLst>
          </a:cu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260"/>
          <p:cNvSpPr/>
          <p:nvPr/>
        </p:nvSpPr>
        <p:spPr>
          <a:xfrm>
            <a:off x="6689880" y="2736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63" h="163">
                <a:moveTo>
                  <a:pt x="163" y="81"/>
                </a:moveTo>
                <a:lnTo>
                  <a:pt x="156" y="50"/>
                </a:lnTo>
                <a:lnTo>
                  <a:pt x="138" y="24"/>
                </a:lnTo>
                <a:lnTo>
                  <a:pt x="112" y="6"/>
                </a:lnTo>
                <a:lnTo>
                  <a:pt x="81" y="0"/>
                </a:lnTo>
                <a:lnTo>
                  <a:pt x="49" y="6"/>
                </a:lnTo>
                <a:lnTo>
                  <a:pt x="24" y="24"/>
                </a:lnTo>
                <a:lnTo>
                  <a:pt x="6" y="50"/>
                </a:lnTo>
                <a:lnTo>
                  <a:pt x="0" y="81"/>
                </a:lnTo>
                <a:lnTo>
                  <a:pt x="6" y="113"/>
                </a:lnTo>
                <a:lnTo>
                  <a:pt x="24" y="139"/>
                </a:lnTo>
                <a:lnTo>
                  <a:pt x="49" y="156"/>
                </a:lnTo>
                <a:lnTo>
                  <a:pt x="81" y="163"/>
                </a:lnTo>
                <a:lnTo>
                  <a:pt x="112" y="156"/>
                </a:lnTo>
                <a:lnTo>
                  <a:pt x="138" y="139"/>
                </a:lnTo>
                <a:lnTo>
                  <a:pt x="156" y="113"/>
                </a:lnTo>
                <a:lnTo>
                  <a:pt x="163" y="81"/>
                </a:lnTo>
                <a:close/>
              </a:path>
            </a:pathLst>
          </a:cu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61"/>
          <p:cNvSpPr/>
          <p:nvPr/>
        </p:nvSpPr>
        <p:spPr>
          <a:xfrm>
            <a:off x="6543720" y="2436840"/>
            <a:ext cx="4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64"/>
          <p:cNvSpPr/>
          <p:nvPr/>
        </p:nvSpPr>
        <p:spPr>
          <a:xfrm>
            <a:off x="3706920" y="24541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66"/>
          <p:cNvSpPr/>
          <p:nvPr/>
        </p:nvSpPr>
        <p:spPr>
          <a:xfrm>
            <a:off x="1835280" y="27734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67"/>
          <p:cNvSpPr/>
          <p:nvPr/>
        </p:nvSpPr>
        <p:spPr>
          <a:xfrm>
            <a:off x="5940360" y="38545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Object 268"/>
          <p:cNvGraphicFramePr/>
          <p:nvPr/>
        </p:nvGraphicFramePr>
        <p:xfrm>
          <a:off x="4746600" y="3071880"/>
          <a:ext cx="25704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6600" y="3071880"/>
                    <a:ext cx="2570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269"/>
          <p:cNvGraphicFramePr/>
          <p:nvPr/>
        </p:nvGraphicFramePr>
        <p:xfrm>
          <a:off x="6084720" y="3265560"/>
          <a:ext cx="270000" cy="31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2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3265560"/>
                    <a:ext cx="2700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270"/>
          <p:cNvGraphicFramePr/>
          <p:nvPr/>
        </p:nvGraphicFramePr>
        <p:xfrm>
          <a:off x="3338640" y="2843280"/>
          <a:ext cx="290520" cy="33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Object 27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38640" y="2843280"/>
                    <a:ext cx="29052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271"/>
          <p:cNvGraphicFramePr/>
          <p:nvPr/>
        </p:nvGraphicFramePr>
        <p:xfrm>
          <a:off x="6732720" y="3133800"/>
          <a:ext cx="290520" cy="40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27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720" y="3133800"/>
                    <a:ext cx="29052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72"/>
          <p:cNvGraphicFramePr/>
          <p:nvPr/>
        </p:nvGraphicFramePr>
        <p:xfrm>
          <a:off x="5292720" y="3133800"/>
          <a:ext cx="3697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Object 27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92720" y="3133800"/>
                    <a:ext cx="3697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273"/>
          <p:cNvGraphicFramePr/>
          <p:nvPr/>
        </p:nvGraphicFramePr>
        <p:xfrm>
          <a:off x="3851280" y="3205080"/>
          <a:ext cx="312840" cy="40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0" name="Object 27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51280" y="3205080"/>
                    <a:ext cx="3128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297"/>
          <p:cNvSpPr/>
          <p:nvPr/>
        </p:nvSpPr>
        <p:spPr>
          <a:xfrm flipH="1">
            <a:off x="1407960" y="5443560"/>
            <a:ext cx="425520" cy="144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314">
            <a:hlinkClick r:id="" action="ppaction://hlinkshowjump?jump=nextslide"/>
            <a:hlinkClick r:id="rId1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15"/>
          <p:cNvSpPr/>
          <p:nvPr/>
        </p:nvSpPr>
        <p:spPr>
          <a:xfrm>
            <a:off x="2279520" y="24541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16"/>
          <p:cNvSpPr/>
          <p:nvPr/>
        </p:nvSpPr>
        <p:spPr>
          <a:xfrm>
            <a:off x="5130720" y="2446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19"/>
          <p:cNvSpPr/>
          <p:nvPr/>
        </p:nvSpPr>
        <p:spPr>
          <a:xfrm>
            <a:off x="611280" y="1052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§9-1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圆轴扭转时的扭矩及扭转应力计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  例五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Text Box 5"/>
          <p:cNvSpPr/>
          <p:nvPr/>
        </p:nvSpPr>
        <p:spPr>
          <a:xfrm>
            <a:off x="1042920" y="11844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在两长度相等、材料相同的情况下，其重量之比应等于面积之比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8" name="Object 6"/>
          <p:cNvGraphicFramePr/>
          <p:nvPr/>
        </p:nvGraphicFramePr>
        <p:xfrm>
          <a:off x="1714680" y="2351160"/>
          <a:ext cx="5344920" cy="18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2351160"/>
                    <a:ext cx="53449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0" name="Text Box 7"/>
          <p:cNvSpPr/>
          <p:nvPr/>
        </p:nvSpPr>
        <p:spPr>
          <a:xfrm>
            <a:off x="1042920" y="4665600"/>
            <a:ext cx="6735960" cy="581400"/>
          </a:xfrm>
          <a:prstGeom prst="rect">
            <a:avLst/>
          </a:prstGeom>
          <a:solidFill>
            <a:srgbClr val="00ffff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同样工作条件下，空心轴要比实心轴节省材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AutoShape 9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Text Box 5"/>
          <p:cNvSpPr/>
          <p:nvPr/>
        </p:nvSpPr>
        <p:spPr>
          <a:xfrm>
            <a:off x="1042920" y="10526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§9-4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圆轴扭转时的变形计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4" name="Object 6"/>
          <p:cNvGraphicFramePr/>
          <p:nvPr/>
        </p:nvGraphicFramePr>
        <p:xfrm>
          <a:off x="1514520" y="1893960"/>
          <a:ext cx="173196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893960"/>
                    <a:ext cx="173196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6" name="Object 7"/>
          <p:cNvGraphicFramePr/>
          <p:nvPr/>
        </p:nvGraphicFramePr>
        <p:xfrm>
          <a:off x="4370400" y="1878120"/>
          <a:ext cx="2106720" cy="10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0400" y="1878120"/>
                    <a:ext cx="210672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8" name="AutoShape 8"/>
          <p:cNvSpPr/>
          <p:nvPr/>
        </p:nvSpPr>
        <p:spPr>
          <a:xfrm>
            <a:off x="3468600" y="2263680"/>
            <a:ext cx="798480" cy="304920"/>
          </a:xfrm>
          <a:prstGeom prst="rightArrow">
            <a:avLst>
              <a:gd name="adj1" fmla="val 50000"/>
              <a:gd name="adj2" fmla="val 65466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9" name="Object 9"/>
          <p:cNvGraphicFramePr/>
          <p:nvPr/>
        </p:nvGraphicFramePr>
        <p:xfrm>
          <a:off x="2201760" y="3111480"/>
          <a:ext cx="2494080" cy="122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1760" y="3111480"/>
                    <a:ext cx="249408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1" name="Object 10"/>
          <p:cNvGraphicFramePr/>
          <p:nvPr/>
        </p:nvGraphicFramePr>
        <p:xfrm>
          <a:off x="1222200" y="4514760"/>
          <a:ext cx="668988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22200" y="4514760"/>
                    <a:ext cx="66898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3" name="Object 11"/>
          <p:cNvGraphicFramePr/>
          <p:nvPr/>
        </p:nvGraphicFramePr>
        <p:xfrm>
          <a:off x="2897280" y="5135400"/>
          <a:ext cx="1798560" cy="127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4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7280" y="5135400"/>
                    <a:ext cx="179856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Line 12"/>
          <p:cNvSpPr/>
          <p:nvPr/>
        </p:nvSpPr>
        <p:spPr>
          <a:xfrm>
            <a:off x="3665520" y="6324480"/>
            <a:ext cx="91584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Text Box 13"/>
          <p:cNvSpPr/>
          <p:nvPr/>
        </p:nvSpPr>
        <p:spPr>
          <a:xfrm>
            <a:off x="3448080" y="6410160"/>
            <a:ext cx="149544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抗扭刚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AutoShape 14">
            <a:hlinkClick r:id="" action="ppaction://hlinkshowjump?jump=nextslide"/>
          </p:cNvPr>
          <p:cNvSpPr/>
          <p:nvPr/>
        </p:nvSpPr>
        <p:spPr>
          <a:xfrm>
            <a:off x="8101080" y="5888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Text Box 5"/>
          <p:cNvSpPr/>
          <p:nvPr/>
        </p:nvSpPr>
        <p:spPr>
          <a:xfrm>
            <a:off x="826920" y="1125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隶书"/>
              </a:rPr>
              <a:t>圆轴扭转时刚度条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0" name="Object 7"/>
          <p:cNvGraphicFramePr/>
          <p:nvPr/>
        </p:nvGraphicFramePr>
        <p:xfrm>
          <a:off x="2057400" y="1989000"/>
          <a:ext cx="460368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89000"/>
                    <a:ext cx="460368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2" name="Object 8"/>
          <p:cNvGraphicFramePr/>
          <p:nvPr/>
        </p:nvGraphicFramePr>
        <p:xfrm>
          <a:off x="1763640" y="3997440"/>
          <a:ext cx="5438880" cy="14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997440"/>
                    <a:ext cx="543888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4" name="AutoShape 9">
            <a:hlinkClick r:id="" action="ppaction://hlinkshowjump?jump=nextslide"/>
          </p:cNvPr>
          <p:cNvSpPr/>
          <p:nvPr/>
        </p:nvSpPr>
        <p:spPr>
          <a:xfrm>
            <a:off x="8101080" y="587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   例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Text Box 5"/>
          <p:cNvSpPr/>
          <p:nvPr/>
        </p:nvSpPr>
        <p:spPr>
          <a:xfrm>
            <a:off x="900000" y="105264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一实心圆轴，传递功率为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12kW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，转速为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1450r/min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如果轴的许用剪应力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隶书"/>
                <a:ea typeface="隶书"/>
              </a:rPr>
              <a:t>τ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]=40MPa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，许用扭转角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隶书"/>
                <a:ea typeface="隶书"/>
              </a:rPr>
              <a:t>θ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]=0.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/m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G=80GPa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试求此轴的直径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Text Box 6"/>
          <p:cNvSpPr/>
          <p:nvPr/>
        </p:nvSpPr>
        <p:spPr>
          <a:xfrm>
            <a:off x="900000" y="2852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8" name="Object 7"/>
          <p:cNvGraphicFramePr/>
          <p:nvPr/>
        </p:nvGraphicFramePr>
        <p:xfrm>
          <a:off x="1979640" y="3112920"/>
          <a:ext cx="4441680" cy="7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112920"/>
                    <a:ext cx="444168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0" name="Text Box 8"/>
          <p:cNvSpPr/>
          <p:nvPr/>
        </p:nvSpPr>
        <p:spPr>
          <a:xfrm>
            <a:off x="1116000" y="407664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Text Box 9"/>
          <p:cNvSpPr/>
          <p:nvPr/>
        </p:nvSpPr>
        <p:spPr>
          <a:xfrm>
            <a:off x="1116000" y="38656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由强度条件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2" name="Object 10"/>
          <p:cNvGraphicFramePr/>
          <p:nvPr/>
        </p:nvGraphicFramePr>
        <p:xfrm>
          <a:off x="2830680" y="4308480"/>
          <a:ext cx="211104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0680" y="4308480"/>
                    <a:ext cx="211104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4" name="Object 11"/>
          <p:cNvGraphicFramePr/>
          <p:nvPr/>
        </p:nvGraphicFramePr>
        <p:xfrm>
          <a:off x="2049480" y="5378400"/>
          <a:ext cx="2430360" cy="13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49480" y="5378400"/>
                    <a:ext cx="243036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6" name="AutoShape 12"/>
          <p:cNvSpPr/>
          <p:nvPr/>
        </p:nvSpPr>
        <p:spPr>
          <a:xfrm>
            <a:off x="4656240" y="602136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7" name="Object 13"/>
          <p:cNvGraphicFramePr/>
          <p:nvPr/>
        </p:nvGraphicFramePr>
        <p:xfrm>
          <a:off x="5456160" y="5500800"/>
          <a:ext cx="1781280" cy="119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8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56160" y="5500800"/>
                    <a:ext cx="178128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9" name="AutoShape 14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九章  扭转   例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1" name="Object 5"/>
          <p:cNvGraphicFramePr/>
          <p:nvPr/>
        </p:nvGraphicFramePr>
        <p:xfrm>
          <a:off x="1015920" y="1154160"/>
          <a:ext cx="6077160" cy="12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1154160"/>
                    <a:ext cx="6077160" cy="12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3" name="Text Box 6"/>
          <p:cNvSpPr/>
          <p:nvPr/>
        </p:nvSpPr>
        <p:spPr>
          <a:xfrm>
            <a:off x="611280" y="2781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根据刚度条件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4" name="Object 7"/>
          <p:cNvGraphicFramePr/>
          <p:nvPr/>
        </p:nvGraphicFramePr>
        <p:xfrm>
          <a:off x="2484360" y="3446640"/>
          <a:ext cx="2936880" cy="9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3446640"/>
                    <a:ext cx="293688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6" name="Object 8"/>
          <p:cNvGraphicFramePr/>
          <p:nvPr/>
        </p:nvGraphicFramePr>
        <p:xfrm>
          <a:off x="287280" y="4830840"/>
          <a:ext cx="3324240" cy="13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7280" y="4830840"/>
                    <a:ext cx="332424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8" name="AutoShape 9"/>
          <p:cNvSpPr/>
          <p:nvPr/>
        </p:nvSpPr>
        <p:spPr>
          <a:xfrm>
            <a:off x="3851280" y="5445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9" name="Object 10"/>
          <p:cNvGraphicFramePr/>
          <p:nvPr/>
        </p:nvGraphicFramePr>
        <p:xfrm>
          <a:off x="4805280" y="4862520"/>
          <a:ext cx="2965680" cy="119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0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5280" y="4862520"/>
                    <a:ext cx="296568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1" name="AutoShape 11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2" name="Object 4"/>
          <p:cNvGraphicFramePr/>
          <p:nvPr/>
        </p:nvGraphicFramePr>
        <p:xfrm>
          <a:off x="2300400" y="1341360"/>
          <a:ext cx="2965320" cy="11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341360"/>
                    <a:ext cx="296532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4" name="Text Box 5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三章  扭转   例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5" name="Object 6"/>
          <p:cNvGraphicFramePr/>
          <p:nvPr/>
        </p:nvGraphicFramePr>
        <p:xfrm>
          <a:off x="1279440" y="2814480"/>
          <a:ext cx="7231320" cy="12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9440" y="2814480"/>
                    <a:ext cx="72313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7" name="Object 7"/>
          <p:cNvGraphicFramePr/>
          <p:nvPr/>
        </p:nvGraphicFramePr>
        <p:xfrm>
          <a:off x="4102200" y="4087800"/>
          <a:ext cx="217620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02200" y="4087800"/>
                    <a:ext cx="21762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9" name="Text Box 8"/>
          <p:cNvSpPr/>
          <p:nvPr/>
        </p:nvSpPr>
        <p:spPr>
          <a:xfrm>
            <a:off x="755640" y="5013360"/>
            <a:ext cx="77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所以，取二者较大值，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2.77m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。圆整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=33m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AutoShape 10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855720" y="1809720"/>
            <a:ext cx="226800" cy="1434960"/>
          </a:xfrm>
          <a:custGeom>
            <a:avLst/>
            <a:gdLst>
              <a:gd name="textAreaLeft" fmla="*/ 0 w 226800"/>
              <a:gd name="textAreaRight" fmla="*/ 227160 w 22680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1308" h="6440">
                <a:moveTo>
                  <a:pt x="1308" y="0"/>
                </a:moveTo>
                <a:lnTo>
                  <a:pt x="1227" y="6"/>
                </a:lnTo>
                <a:lnTo>
                  <a:pt x="1144" y="25"/>
                </a:lnTo>
                <a:lnTo>
                  <a:pt x="1064" y="57"/>
                </a:lnTo>
                <a:lnTo>
                  <a:pt x="983" y="101"/>
                </a:lnTo>
                <a:lnTo>
                  <a:pt x="904" y="158"/>
                </a:lnTo>
                <a:lnTo>
                  <a:pt x="827" y="226"/>
                </a:lnTo>
                <a:lnTo>
                  <a:pt x="752" y="306"/>
                </a:lnTo>
                <a:lnTo>
                  <a:pt x="678" y="398"/>
                </a:lnTo>
                <a:lnTo>
                  <a:pt x="608" y="501"/>
                </a:lnTo>
                <a:lnTo>
                  <a:pt x="540" y="614"/>
                </a:lnTo>
                <a:lnTo>
                  <a:pt x="474" y="738"/>
                </a:lnTo>
                <a:lnTo>
                  <a:pt x="413" y="871"/>
                </a:lnTo>
                <a:lnTo>
                  <a:pt x="354" y="1014"/>
                </a:lnTo>
                <a:lnTo>
                  <a:pt x="300" y="1167"/>
                </a:lnTo>
                <a:lnTo>
                  <a:pt x="250" y="1327"/>
                </a:lnTo>
                <a:lnTo>
                  <a:pt x="204" y="1494"/>
                </a:lnTo>
                <a:lnTo>
                  <a:pt x="162" y="1668"/>
                </a:lnTo>
                <a:lnTo>
                  <a:pt x="125" y="1848"/>
                </a:lnTo>
                <a:lnTo>
                  <a:pt x="92" y="2033"/>
                </a:lnTo>
                <a:lnTo>
                  <a:pt x="64" y="2224"/>
                </a:lnTo>
                <a:lnTo>
                  <a:pt x="41" y="2418"/>
                </a:lnTo>
                <a:lnTo>
                  <a:pt x="23" y="2615"/>
                </a:lnTo>
                <a:lnTo>
                  <a:pt x="10" y="2815"/>
                </a:lnTo>
                <a:lnTo>
                  <a:pt x="2" y="3017"/>
                </a:lnTo>
                <a:lnTo>
                  <a:pt x="0" y="3219"/>
                </a:lnTo>
                <a:lnTo>
                  <a:pt x="2" y="3421"/>
                </a:lnTo>
                <a:lnTo>
                  <a:pt x="10" y="3622"/>
                </a:lnTo>
                <a:lnTo>
                  <a:pt x="23" y="3822"/>
                </a:lnTo>
                <a:lnTo>
                  <a:pt x="41" y="4020"/>
                </a:lnTo>
                <a:lnTo>
                  <a:pt x="63" y="4214"/>
                </a:lnTo>
                <a:lnTo>
                  <a:pt x="91" y="4405"/>
                </a:lnTo>
                <a:lnTo>
                  <a:pt x="124" y="4590"/>
                </a:lnTo>
                <a:lnTo>
                  <a:pt x="162" y="4771"/>
                </a:lnTo>
                <a:lnTo>
                  <a:pt x="203" y="4945"/>
                </a:lnTo>
                <a:lnTo>
                  <a:pt x="250" y="5112"/>
                </a:lnTo>
                <a:lnTo>
                  <a:pt x="299" y="5272"/>
                </a:lnTo>
                <a:lnTo>
                  <a:pt x="354" y="5423"/>
                </a:lnTo>
                <a:lnTo>
                  <a:pt x="412" y="5567"/>
                </a:lnTo>
                <a:lnTo>
                  <a:pt x="474" y="5701"/>
                </a:lnTo>
                <a:lnTo>
                  <a:pt x="539" y="5825"/>
                </a:lnTo>
                <a:lnTo>
                  <a:pt x="606" y="5939"/>
                </a:lnTo>
                <a:lnTo>
                  <a:pt x="677" y="6042"/>
                </a:lnTo>
                <a:lnTo>
                  <a:pt x="750" y="6134"/>
                </a:lnTo>
                <a:lnTo>
                  <a:pt x="826" y="6214"/>
                </a:lnTo>
                <a:lnTo>
                  <a:pt x="903" y="6282"/>
                </a:lnTo>
                <a:lnTo>
                  <a:pt x="982" y="6339"/>
                </a:lnTo>
                <a:lnTo>
                  <a:pt x="1063" y="6383"/>
                </a:lnTo>
                <a:lnTo>
                  <a:pt x="1143" y="6414"/>
                </a:lnTo>
                <a:lnTo>
                  <a:pt x="1226" y="6433"/>
                </a:lnTo>
                <a:lnTo>
                  <a:pt x="1307" y="6440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4"/>
          <p:cNvSpPr/>
          <p:nvPr/>
        </p:nvSpPr>
        <p:spPr>
          <a:xfrm>
            <a:off x="1770120" y="1830240"/>
            <a:ext cx="226800" cy="1436760"/>
          </a:xfrm>
          <a:custGeom>
            <a:avLst/>
            <a:gdLst>
              <a:gd name="textAreaLeft" fmla="*/ 0 w 226800"/>
              <a:gd name="textAreaRight" fmla="*/ 227160 w 226800"/>
              <a:gd name="textAreaTop" fmla="*/ 0 h 1436760"/>
              <a:gd name="textAreaBottom" fmla="*/ 1437120 h 1436760"/>
            </a:gdLst>
            <a:ahLst/>
            <a:rect l="textAreaLeft" t="textAreaTop" r="textAreaRight" b="textAreaBottom"/>
            <a:pathLst>
              <a:path w="1308" h="6440">
                <a:moveTo>
                  <a:pt x="1307" y="0"/>
                </a:moveTo>
                <a:lnTo>
                  <a:pt x="1225" y="6"/>
                </a:lnTo>
                <a:lnTo>
                  <a:pt x="1143" y="27"/>
                </a:lnTo>
                <a:lnTo>
                  <a:pt x="1062" y="58"/>
                </a:lnTo>
                <a:lnTo>
                  <a:pt x="982" y="102"/>
                </a:lnTo>
                <a:lnTo>
                  <a:pt x="903" y="159"/>
                </a:lnTo>
                <a:lnTo>
                  <a:pt x="825" y="228"/>
                </a:lnTo>
                <a:lnTo>
                  <a:pt x="750" y="307"/>
                </a:lnTo>
                <a:lnTo>
                  <a:pt x="677" y="399"/>
                </a:lnTo>
                <a:lnTo>
                  <a:pt x="606" y="503"/>
                </a:lnTo>
                <a:lnTo>
                  <a:pt x="539" y="616"/>
                </a:lnTo>
                <a:lnTo>
                  <a:pt x="474" y="740"/>
                </a:lnTo>
                <a:lnTo>
                  <a:pt x="411" y="875"/>
                </a:lnTo>
                <a:lnTo>
                  <a:pt x="354" y="1018"/>
                </a:lnTo>
                <a:lnTo>
                  <a:pt x="299" y="1169"/>
                </a:lnTo>
                <a:lnTo>
                  <a:pt x="249" y="1329"/>
                </a:lnTo>
                <a:lnTo>
                  <a:pt x="203" y="1496"/>
                </a:lnTo>
                <a:lnTo>
                  <a:pt x="162" y="1671"/>
                </a:lnTo>
                <a:lnTo>
                  <a:pt x="125" y="1851"/>
                </a:lnTo>
                <a:lnTo>
                  <a:pt x="92" y="2036"/>
                </a:lnTo>
                <a:lnTo>
                  <a:pt x="63" y="2227"/>
                </a:lnTo>
                <a:lnTo>
                  <a:pt x="41" y="2421"/>
                </a:lnTo>
                <a:lnTo>
                  <a:pt x="23" y="2619"/>
                </a:lnTo>
                <a:lnTo>
                  <a:pt x="10" y="2818"/>
                </a:lnTo>
                <a:lnTo>
                  <a:pt x="3" y="3020"/>
                </a:lnTo>
                <a:lnTo>
                  <a:pt x="0" y="3221"/>
                </a:lnTo>
                <a:lnTo>
                  <a:pt x="3" y="3423"/>
                </a:lnTo>
                <a:lnTo>
                  <a:pt x="10" y="3624"/>
                </a:lnTo>
                <a:lnTo>
                  <a:pt x="23" y="3825"/>
                </a:lnTo>
                <a:lnTo>
                  <a:pt x="41" y="4023"/>
                </a:lnTo>
                <a:lnTo>
                  <a:pt x="64" y="4216"/>
                </a:lnTo>
                <a:lnTo>
                  <a:pt x="92" y="4407"/>
                </a:lnTo>
                <a:lnTo>
                  <a:pt x="125" y="4592"/>
                </a:lnTo>
                <a:lnTo>
                  <a:pt x="162" y="4772"/>
                </a:lnTo>
                <a:lnTo>
                  <a:pt x="204" y="4946"/>
                </a:lnTo>
                <a:lnTo>
                  <a:pt x="249" y="5113"/>
                </a:lnTo>
                <a:lnTo>
                  <a:pt x="300" y="5273"/>
                </a:lnTo>
                <a:lnTo>
                  <a:pt x="354" y="5424"/>
                </a:lnTo>
                <a:lnTo>
                  <a:pt x="413" y="5568"/>
                </a:lnTo>
                <a:lnTo>
                  <a:pt x="474" y="5702"/>
                </a:lnTo>
                <a:lnTo>
                  <a:pt x="540" y="5826"/>
                </a:lnTo>
                <a:lnTo>
                  <a:pt x="607" y="5939"/>
                </a:lnTo>
                <a:lnTo>
                  <a:pt x="678" y="6042"/>
                </a:lnTo>
                <a:lnTo>
                  <a:pt x="751" y="6134"/>
                </a:lnTo>
                <a:lnTo>
                  <a:pt x="827" y="6214"/>
                </a:lnTo>
                <a:lnTo>
                  <a:pt x="904" y="6283"/>
                </a:lnTo>
                <a:lnTo>
                  <a:pt x="982" y="6339"/>
                </a:lnTo>
                <a:lnTo>
                  <a:pt x="1063" y="6383"/>
                </a:lnTo>
                <a:lnTo>
                  <a:pt x="1144" y="6414"/>
                </a:lnTo>
                <a:lnTo>
                  <a:pt x="1226" y="6433"/>
                </a:lnTo>
                <a:lnTo>
                  <a:pt x="1308" y="644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reeform 5"/>
          <p:cNvSpPr/>
          <p:nvPr/>
        </p:nvSpPr>
        <p:spPr>
          <a:xfrm>
            <a:off x="2717640" y="1809720"/>
            <a:ext cx="246240" cy="1434960"/>
          </a:xfrm>
          <a:custGeom>
            <a:avLst/>
            <a:gdLst>
              <a:gd name="textAreaLeft" fmla="*/ 0 w 246240"/>
              <a:gd name="textAreaRight" fmla="*/ 246600 w 24624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1429" h="6439">
                <a:moveTo>
                  <a:pt x="1309" y="0"/>
                </a:moveTo>
                <a:lnTo>
                  <a:pt x="1226" y="6"/>
                </a:lnTo>
                <a:lnTo>
                  <a:pt x="1143" y="25"/>
                </a:lnTo>
                <a:lnTo>
                  <a:pt x="1061" y="58"/>
                </a:lnTo>
                <a:lnTo>
                  <a:pt x="981" y="103"/>
                </a:lnTo>
                <a:lnTo>
                  <a:pt x="900" y="160"/>
                </a:lnTo>
                <a:lnTo>
                  <a:pt x="823" y="230"/>
                </a:lnTo>
                <a:lnTo>
                  <a:pt x="747" y="311"/>
                </a:lnTo>
                <a:lnTo>
                  <a:pt x="673" y="405"/>
                </a:lnTo>
                <a:lnTo>
                  <a:pt x="602" y="509"/>
                </a:lnTo>
                <a:lnTo>
                  <a:pt x="533" y="626"/>
                </a:lnTo>
                <a:lnTo>
                  <a:pt x="468" y="752"/>
                </a:lnTo>
                <a:lnTo>
                  <a:pt x="406" y="887"/>
                </a:lnTo>
                <a:lnTo>
                  <a:pt x="348" y="1032"/>
                </a:lnTo>
                <a:lnTo>
                  <a:pt x="294" y="1187"/>
                </a:lnTo>
                <a:lnTo>
                  <a:pt x="243" y="1349"/>
                </a:lnTo>
                <a:lnTo>
                  <a:pt x="197" y="1519"/>
                </a:lnTo>
                <a:lnTo>
                  <a:pt x="156" y="1696"/>
                </a:lnTo>
                <a:lnTo>
                  <a:pt x="119" y="1878"/>
                </a:lnTo>
                <a:lnTo>
                  <a:pt x="86" y="2067"/>
                </a:lnTo>
                <a:lnTo>
                  <a:pt x="60" y="2260"/>
                </a:lnTo>
                <a:lnTo>
                  <a:pt x="38" y="2457"/>
                </a:lnTo>
                <a:lnTo>
                  <a:pt x="21" y="2657"/>
                </a:lnTo>
                <a:lnTo>
                  <a:pt x="8" y="2859"/>
                </a:lnTo>
                <a:lnTo>
                  <a:pt x="2" y="3062"/>
                </a:lnTo>
                <a:lnTo>
                  <a:pt x="0" y="3267"/>
                </a:lnTo>
                <a:lnTo>
                  <a:pt x="4" y="3471"/>
                </a:lnTo>
                <a:lnTo>
                  <a:pt x="13" y="3673"/>
                </a:lnTo>
                <a:lnTo>
                  <a:pt x="27" y="3874"/>
                </a:lnTo>
                <a:lnTo>
                  <a:pt x="47" y="4073"/>
                </a:lnTo>
                <a:lnTo>
                  <a:pt x="71" y="4268"/>
                </a:lnTo>
                <a:lnTo>
                  <a:pt x="101" y="4459"/>
                </a:lnTo>
                <a:lnTo>
                  <a:pt x="135" y="4645"/>
                </a:lnTo>
                <a:lnTo>
                  <a:pt x="174" y="4825"/>
                </a:lnTo>
                <a:lnTo>
                  <a:pt x="218" y="4999"/>
                </a:lnTo>
                <a:lnTo>
                  <a:pt x="265" y="5166"/>
                </a:lnTo>
                <a:lnTo>
                  <a:pt x="318" y="5324"/>
                </a:lnTo>
                <a:lnTo>
                  <a:pt x="374" y="5474"/>
                </a:lnTo>
                <a:lnTo>
                  <a:pt x="434" y="5616"/>
                </a:lnTo>
                <a:lnTo>
                  <a:pt x="497" y="5747"/>
                </a:lnTo>
                <a:lnTo>
                  <a:pt x="564" y="5869"/>
                </a:lnTo>
                <a:lnTo>
                  <a:pt x="634" y="5979"/>
                </a:lnTo>
                <a:lnTo>
                  <a:pt x="707" y="6079"/>
                </a:lnTo>
                <a:lnTo>
                  <a:pt x="781" y="6168"/>
                </a:lnTo>
                <a:lnTo>
                  <a:pt x="858" y="6244"/>
                </a:lnTo>
                <a:lnTo>
                  <a:pt x="936" y="6307"/>
                </a:lnTo>
                <a:lnTo>
                  <a:pt x="1017" y="6359"/>
                </a:lnTo>
                <a:lnTo>
                  <a:pt x="1098" y="6399"/>
                </a:lnTo>
                <a:lnTo>
                  <a:pt x="1181" y="6425"/>
                </a:lnTo>
                <a:lnTo>
                  <a:pt x="1264" y="6439"/>
                </a:lnTo>
                <a:lnTo>
                  <a:pt x="1346" y="6439"/>
                </a:lnTo>
                <a:lnTo>
                  <a:pt x="1429" y="642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2013120" y="1809720"/>
            <a:ext cx="1440" cy="71928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1082520" y="1824120"/>
            <a:ext cx="0" cy="68904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8"/>
          <p:cNvSpPr/>
          <p:nvPr/>
        </p:nvSpPr>
        <p:spPr>
          <a:xfrm>
            <a:off x="1077840" y="1809720"/>
            <a:ext cx="228600" cy="1434960"/>
          </a:xfrm>
          <a:custGeom>
            <a:avLst/>
            <a:gdLst>
              <a:gd name="textAreaLeft" fmla="*/ 0 w 228600"/>
              <a:gd name="textAreaRight" fmla="*/ 228960 w 22860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1324" h="6440">
                <a:moveTo>
                  <a:pt x="32" y="0"/>
                </a:moveTo>
                <a:lnTo>
                  <a:pt x="115" y="7"/>
                </a:lnTo>
                <a:lnTo>
                  <a:pt x="197" y="27"/>
                </a:lnTo>
                <a:lnTo>
                  <a:pt x="277" y="58"/>
                </a:lnTo>
                <a:lnTo>
                  <a:pt x="358" y="103"/>
                </a:lnTo>
                <a:lnTo>
                  <a:pt x="436" y="160"/>
                </a:lnTo>
                <a:lnTo>
                  <a:pt x="513" y="229"/>
                </a:lnTo>
                <a:lnTo>
                  <a:pt x="588" y="309"/>
                </a:lnTo>
                <a:lnTo>
                  <a:pt x="661" y="401"/>
                </a:lnTo>
                <a:lnTo>
                  <a:pt x="731" y="504"/>
                </a:lnTo>
                <a:lnTo>
                  <a:pt x="799" y="618"/>
                </a:lnTo>
                <a:lnTo>
                  <a:pt x="863" y="742"/>
                </a:lnTo>
                <a:lnTo>
                  <a:pt x="924" y="877"/>
                </a:lnTo>
                <a:lnTo>
                  <a:pt x="981" y="1020"/>
                </a:lnTo>
                <a:lnTo>
                  <a:pt x="1035" y="1172"/>
                </a:lnTo>
                <a:lnTo>
                  <a:pt x="1085" y="1332"/>
                </a:lnTo>
                <a:lnTo>
                  <a:pt x="1129" y="1499"/>
                </a:lnTo>
                <a:lnTo>
                  <a:pt x="1171" y="1674"/>
                </a:lnTo>
                <a:lnTo>
                  <a:pt x="1207" y="1854"/>
                </a:lnTo>
                <a:lnTo>
                  <a:pt x="1238" y="2040"/>
                </a:lnTo>
                <a:lnTo>
                  <a:pt x="1266" y="2230"/>
                </a:lnTo>
                <a:lnTo>
                  <a:pt x="1287" y="2425"/>
                </a:lnTo>
                <a:lnTo>
                  <a:pt x="1304" y="2623"/>
                </a:lnTo>
                <a:lnTo>
                  <a:pt x="1317" y="2822"/>
                </a:lnTo>
                <a:lnTo>
                  <a:pt x="1323" y="3024"/>
                </a:lnTo>
                <a:lnTo>
                  <a:pt x="1324" y="3226"/>
                </a:lnTo>
                <a:lnTo>
                  <a:pt x="1321" y="3429"/>
                </a:lnTo>
                <a:lnTo>
                  <a:pt x="1313" y="3630"/>
                </a:lnTo>
                <a:lnTo>
                  <a:pt x="1299" y="3829"/>
                </a:lnTo>
                <a:lnTo>
                  <a:pt x="1280" y="4027"/>
                </a:lnTo>
                <a:lnTo>
                  <a:pt x="1255" y="4221"/>
                </a:lnTo>
                <a:lnTo>
                  <a:pt x="1227" y="4411"/>
                </a:lnTo>
                <a:lnTo>
                  <a:pt x="1193" y="4596"/>
                </a:lnTo>
                <a:lnTo>
                  <a:pt x="1155" y="4776"/>
                </a:lnTo>
                <a:lnTo>
                  <a:pt x="1112" y="4950"/>
                </a:lnTo>
                <a:lnTo>
                  <a:pt x="1065" y="5117"/>
                </a:lnTo>
                <a:lnTo>
                  <a:pt x="1014" y="5277"/>
                </a:lnTo>
                <a:lnTo>
                  <a:pt x="959" y="5429"/>
                </a:lnTo>
                <a:lnTo>
                  <a:pt x="900" y="5572"/>
                </a:lnTo>
                <a:lnTo>
                  <a:pt x="837" y="5705"/>
                </a:lnTo>
                <a:lnTo>
                  <a:pt x="772" y="5829"/>
                </a:lnTo>
                <a:lnTo>
                  <a:pt x="704" y="5942"/>
                </a:lnTo>
                <a:lnTo>
                  <a:pt x="632" y="6045"/>
                </a:lnTo>
                <a:lnTo>
                  <a:pt x="559" y="6136"/>
                </a:lnTo>
                <a:lnTo>
                  <a:pt x="482" y="6216"/>
                </a:lnTo>
                <a:lnTo>
                  <a:pt x="405" y="6284"/>
                </a:lnTo>
                <a:lnTo>
                  <a:pt x="326" y="6340"/>
                </a:lnTo>
                <a:lnTo>
                  <a:pt x="245" y="6384"/>
                </a:lnTo>
                <a:lnTo>
                  <a:pt x="164" y="6415"/>
                </a:lnTo>
                <a:lnTo>
                  <a:pt x="82" y="6435"/>
                </a:lnTo>
                <a:lnTo>
                  <a:pt x="0" y="6440"/>
                </a:lnTo>
              </a:path>
            </a:pathLst>
          </a:custGeom>
          <a:noFill/>
          <a:ln w="38160">
            <a:solidFill>
              <a:srgbClr val="3333cc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9"/>
          <p:cNvSpPr/>
          <p:nvPr/>
        </p:nvSpPr>
        <p:spPr>
          <a:xfrm>
            <a:off x="2004840" y="1830240"/>
            <a:ext cx="227160" cy="1436760"/>
          </a:xfrm>
          <a:custGeom>
            <a:avLst/>
            <a:gdLst>
              <a:gd name="textAreaLeft" fmla="*/ 0 w 227160"/>
              <a:gd name="textAreaRight" fmla="*/ 227520 w 227160"/>
              <a:gd name="textAreaTop" fmla="*/ 0 h 1436760"/>
              <a:gd name="textAreaBottom" fmla="*/ 1437120 h 1436760"/>
            </a:gdLst>
            <a:ahLst/>
            <a:rect l="textAreaLeft" t="textAreaTop" r="textAreaRight" b="textAreaBottom"/>
            <a:pathLst>
              <a:path w="1310" h="6440">
                <a:moveTo>
                  <a:pt x="3" y="0"/>
                </a:moveTo>
                <a:lnTo>
                  <a:pt x="86" y="6"/>
                </a:lnTo>
                <a:lnTo>
                  <a:pt x="168" y="27"/>
                </a:lnTo>
                <a:lnTo>
                  <a:pt x="249" y="58"/>
                </a:lnTo>
                <a:lnTo>
                  <a:pt x="328" y="102"/>
                </a:lnTo>
                <a:lnTo>
                  <a:pt x="408" y="159"/>
                </a:lnTo>
                <a:lnTo>
                  <a:pt x="485" y="228"/>
                </a:lnTo>
                <a:lnTo>
                  <a:pt x="560" y="308"/>
                </a:lnTo>
                <a:lnTo>
                  <a:pt x="633" y="400"/>
                </a:lnTo>
                <a:lnTo>
                  <a:pt x="704" y="503"/>
                </a:lnTo>
                <a:lnTo>
                  <a:pt x="772" y="616"/>
                </a:lnTo>
                <a:lnTo>
                  <a:pt x="837" y="740"/>
                </a:lnTo>
                <a:lnTo>
                  <a:pt x="898" y="875"/>
                </a:lnTo>
                <a:lnTo>
                  <a:pt x="956" y="1018"/>
                </a:lnTo>
                <a:lnTo>
                  <a:pt x="1010" y="1169"/>
                </a:lnTo>
                <a:lnTo>
                  <a:pt x="1061" y="1329"/>
                </a:lnTo>
                <a:lnTo>
                  <a:pt x="1107" y="1496"/>
                </a:lnTo>
                <a:lnTo>
                  <a:pt x="1149" y="1671"/>
                </a:lnTo>
                <a:lnTo>
                  <a:pt x="1186" y="1851"/>
                </a:lnTo>
                <a:lnTo>
                  <a:pt x="1219" y="2036"/>
                </a:lnTo>
                <a:lnTo>
                  <a:pt x="1246" y="2227"/>
                </a:lnTo>
                <a:lnTo>
                  <a:pt x="1269" y="2422"/>
                </a:lnTo>
                <a:lnTo>
                  <a:pt x="1287" y="2619"/>
                </a:lnTo>
                <a:lnTo>
                  <a:pt x="1299" y="2819"/>
                </a:lnTo>
                <a:lnTo>
                  <a:pt x="1307" y="3020"/>
                </a:lnTo>
                <a:lnTo>
                  <a:pt x="1310" y="3222"/>
                </a:lnTo>
                <a:lnTo>
                  <a:pt x="1307" y="3424"/>
                </a:lnTo>
                <a:lnTo>
                  <a:pt x="1299" y="3625"/>
                </a:lnTo>
                <a:lnTo>
                  <a:pt x="1287" y="3826"/>
                </a:lnTo>
                <a:lnTo>
                  <a:pt x="1269" y="4023"/>
                </a:lnTo>
                <a:lnTo>
                  <a:pt x="1245" y="4216"/>
                </a:lnTo>
                <a:lnTo>
                  <a:pt x="1218" y="4407"/>
                </a:lnTo>
                <a:lnTo>
                  <a:pt x="1185" y="4592"/>
                </a:lnTo>
                <a:lnTo>
                  <a:pt x="1147" y="4772"/>
                </a:lnTo>
                <a:lnTo>
                  <a:pt x="1106" y="4947"/>
                </a:lnTo>
                <a:lnTo>
                  <a:pt x="1059" y="5114"/>
                </a:lnTo>
                <a:lnTo>
                  <a:pt x="1008" y="5274"/>
                </a:lnTo>
                <a:lnTo>
                  <a:pt x="954" y="5425"/>
                </a:lnTo>
                <a:lnTo>
                  <a:pt x="896" y="5568"/>
                </a:lnTo>
                <a:lnTo>
                  <a:pt x="835" y="5702"/>
                </a:lnTo>
                <a:lnTo>
                  <a:pt x="770" y="5826"/>
                </a:lnTo>
                <a:lnTo>
                  <a:pt x="701" y="5939"/>
                </a:lnTo>
                <a:lnTo>
                  <a:pt x="631" y="6043"/>
                </a:lnTo>
                <a:lnTo>
                  <a:pt x="557" y="6134"/>
                </a:lnTo>
                <a:lnTo>
                  <a:pt x="482" y="6214"/>
                </a:lnTo>
                <a:lnTo>
                  <a:pt x="405" y="6283"/>
                </a:lnTo>
                <a:lnTo>
                  <a:pt x="326" y="6339"/>
                </a:lnTo>
                <a:lnTo>
                  <a:pt x="246" y="6384"/>
                </a:lnTo>
                <a:lnTo>
                  <a:pt x="164" y="6414"/>
                </a:lnTo>
                <a:lnTo>
                  <a:pt x="83" y="6433"/>
                </a:lnTo>
                <a:lnTo>
                  <a:pt x="0" y="6440"/>
                </a:lnTo>
              </a:path>
            </a:pathLst>
          </a:custGeom>
          <a:noFill/>
          <a:ln w="38160">
            <a:solidFill>
              <a:srgbClr val="3333cc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10"/>
          <p:cNvSpPr/>
          <p:nvPr/>
        </p:nvSpPr>
        <p:spPr>
          <a:xfrm>
            <a:off x="2900520" y="1830240"/>
            <a:ext cx="249120" cy="1436760"/>
          </a:xfrm>
          <a:custGeom>
            <a:avLst/>
            <a:gdLst>
              <a:gd name="textAreaLeft" fmla="*/ 0 w 249120"/>
              <a:gd name="textAreaRight" fmla="*/ 249480 w 249120"/>
              <a:gd name="textAreaTop" fmla="*/ 0 h 1436760"/>
              <a:gd name="textAreaBottom" fmla="*/ 1436760 h 1436760"/>
            </a:gdLst>
            <a:ahLst/>
            <a:rect l="textAreaLeft" t="textAreaTop" r="textAreaRight" b="textAreaBottom"/>
            <a:pathLst>
              <a:path w="1446" h="6439">
                <a:moveTo>
                  <a:pt x="154" y="0"/>
                </a:moveTo>
                <a:lnTo>
                  <a:pt x="238" y="7"/>
                </a:lnTo>
                <a:lnTo>
                  <a:pt x="319" y="27"/>
                </a:lnTo>
                <a:lnTo>
                  <a:pt x="402" y="59"/>
                </a:lnTo>
                <a:lnTo>
                  <a:pt x="482" y="105"/>
                </a:lnTo>
                <a:lnTo>
                  <a:pt x="562" y="162"/>
                </a:lnTo>
                <a:lnTo>
                  <a:pt x="639" y="232"/>
                </a:lnTo>
                <a:lnTo>
                  <a:pt x="715" y="315"/>
                </a:lnTo>
                <a:lnTo>
                  <a:pt x="788" y="409"/>
                </a:lnTo>
                <a:lnTo>
                  <a:pt x="858" y="514"/>
                </a:lnTo>
                <a:lnTo>
                  <a:pt x="926" y="629"/>
                </a:lnTo>
                <a:lnTo>
                  <a:pt x="990" y="756"/>
                </a:lnTo>
                <a:lnTo>
                  <a:pt x="1052" y="893"/>
                </a:lnTo>
                <a:lnTo>
                  <a:pt x="1110" y="1038"/>
                </a:lnTo>
                <a:lnTo>
                  <a:pt x="1163" y="1192"/>
                </a:lnTo>
                <a:lnTo>
                  <a:pt x="1213" y="1355"/>
                </a:lnTo>
                <a:lnTo>
                  <a:pt x="1258" y="1525"/>
                </a:lnTo>
                <a:lnTo>
                  <a:pt x="1299" y="1702"/>
                </a:lnTo>
                <a:lnTo>
                  <a:pt x="1335" y="1885"/>
                </a:lnTo>
                <a:lnTo>
                  <a:pt x="1365" y="2073"/>
                </a:lnTo>
                <a:lnTo>
                  <a:pt x="1392" y="2267"/>
                </a:lnTo>
                <a:lnTo>
                  <a:pt x="1413" y="2464"/>
                </a:lnTo>
                <a:lnTo>
                  <a:pt x="1429" y="2663"/>
                </a:lnTo>
                <a:lnTo>
                  <a:pt x="1439" y="2865"/>
                </a:lnTo>
                <a:lnTo>
                  <a:pt x="1446" y="3070"/>
                </a:lnTo>
                <a:lnTo>
                  <a:pt x="1446" y="3273"/>
                </a:lnTo>
                <a:lnTo>
                  <a:pt x="1441" y="3477"/>
                </a:lnTo>
                <a:lnTo>
                  <a:pt x="1431" y="3681"/>
                </a:lnTo>
                <a:lnTo>
                  <a:pt x="1415" y="3882"/>
                </a:lnTo>
                <a:lnTo>
                  <a:pt x="1395" y="4080"/>
                </a:lnTo>
                <a:lnTo>
                  <a:pt x="1369" y="4275"/>
                </a:lnTo>
                <a:lnTo>
                  <a:pt x="1339" y="4465"/>
                </a:lnTo>
                <a:lnTo>
                  <a:pt x="1304" y="4651"/>
                </a:lnTo>
                <a:lnTo>
                  <a:pt x="1264" y="4831"/>
                </a:lnTo>
                <a:lnTo>
                  <a:pt x="1219" y="5005"/>
                </a:lnTo>
                <a:lnTo>
                  <a:pt x="1170" y="5171"/>
                </a:lnTo>
                <a:lnTo>
                  <a:pt x="1117" y="5329"/>
                </a:lnTo>
                <a:lnTo>
                  <a:pt x="1060" y="5479"/>
                </a:lnTo>
                <a:lnTo>
                  <a:pt x="1000" y="5620"/>
                </a:lnTo>
                <a:lnTo>
                  <a:pt x="935" y="5752"/>
                </a:lnTo>
                <a:lnTo>
                  <a:pt x="868" y="5872"/>
                </a:lnTo>
                <a:lnTo>
                  <a:pt x="798" y="5983"/>
                </a:lnTo>
                <a:lnTo>
                  <a:pt x="725" y="6082"/>
                </a:lnTo>
                <a:lnTo>
                  <a:pt x="649" y="6170"/>
                </a:lnTo>
                <a:lnTo>
                  <a:pt x="572" y="6246"/>
                </a:lnTo>
                <a:lnTo>
                  <a:pt x="493" y="6310"/>
                </a:lnTo>
                <a:lnTo>
                  <a:pt x="412" y="6360"/>
                </a:lnTo>
                <a:lnTo>
                  <a:pt x="331" y="6400"/>
                </a:lnTo>
                <a:lnTo>
                  <a:pt x="248" y="6425"/>
                </a:lnTo>
                <a:lnTo>
                  <a:pt x="166" y="6439"/>
                </a:lnTo>
                <a:lnTo>
                  <a:pt x="83" y="6439"/>
                </a:lnTo>
                <a:lnTo>
                  <a:pt x="0" y="6425"/>
                </a:lnTo>
              </a:path>
            </a:pathLst>
          </a:custGeom>
          <a:noFill/>
          <a:ln w="38160">
            <a:solidFill>
              <a:srgbClr val="3333cc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2944800" y="1809720"/>
            <a:ext cx="0" cy="71928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12"/>
          <p:cNvSpPr/>
          <p:nvPr/>
        </p:nvSpPr>
        <p:spPr>
          <a:xfrm>
            <a:off x="3648240" y="1809720"/>
            <a:ext cx="247320" cy="1434960"/>
          </a:xfrm>
          <a:custGeom>
            <a:avLst/>
            <a:gdLst>
              <a:gd name="textAreaLeft" fmla="*/ 0 w 247320"/>
              <a:gd name="textAreaRight" fmla="*/ 247680 w 24732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1430" h="6439">
                <a:moveTo>
                  <a:pt x="1310" y="0"/>
                </a:moveTo>
                <a:lnTo>
                  <a:pt x="1227" y="6"/>
                </a:lnTo>
                <a:lnTo>
                  <a:pt x="1144" y="25"/>
                </a:lnTo>
                <a:lnTo>
                  <a:pt x="1062" y="58"/>
                </a:lnTo>
                <a:lnTo>
                  <a:pt x="981" y="103"/>
                </a:lnTo>
                <a:lnTo>
                  <a:pt x="902" y="160"/>
                </a:lnTo>
                <a:lnTo>
                  <a:pt x="824" y="230"/>
                </a:lnTo>
                <a:lnTo>
                  <a:pt x="748" y="311"/>
                </a:lnTo>
                <a:lnTo>
                  <a:pt x="674" y="405"/>
                </a:lnTo>
                <a:lnTo>
                  <a:pt x="603" y="509"/>
                </a:lnTo>
                <a:lnTo>
                  <a:pt x="534" y="626"/>
                </a:lnTo>
                <a:lnTo>
                  <a:pt x="470" y="752"/>
                </a:lnTo>
                <a:lnTo>
                  <a:pt x="407" y="887"/>
                </a:lnTo>
                <a:lnTo>
                  <a:pt x="349" y="1032"/>
                </a:lnTo>
                <a:lnTo>
                  <a:pt x="295" y="1187"/>
                </a:lnTo>
                <a:lnTo>
                  <a:pt x="244" y="1349"/>
                </a:lnTo>
                <a:lnTo>
                  <a:pt x="198" y="1519"/>
                </a:lnTo>
                <a:lnTo>
                  <a:pt x="156" y="1696"/>
                </a:lnTo>
                <a:lnTo>
                  <a:pt x="120" y="1878"/>
                </a:lnTo>
                <a:lnTo>
                  <a:pt x="87" y="2067"/>
                </a:lnTo>
                <a:lnTo>
                  <a:pt x="61" y="2260"/>
                </a:lnTo>
                <a:lnTo>
                  <a:pt x="39" y="2457"/>
                </a:lnTo>
                <a:lnTo>
                  <a:pt x="21" y="2657"/>
                </a:lnTo>
                <a:lnTo>
                  <a:pt x="9" y="2859"/>
                </a:lnTo>
                <a:lnTo>
                  <a:pt x="3" y="3062"/>
                </a:lnTo>
                <a:lnTo>
                  <a:pt x="0" y="3267"/>
                </a:lnTo>
                <a:lnTo>
                  <a:pt x="5" y="3471"/>
                </a:lnTo>
                <a:lnTo>
                  <a:pt x="14" y="3673"/>
                </a:lnTo>
                <a:lnTo>
                  <a:pt x="28" y="3874"/>
                </a:lnTo>
                <a:lnTo>
                  <a:pt x="47" y="4073"/>
                </a:lnTo>
                <a:lnTo>
                  <a:pt x="72" y="4268"/>
                </a:lnTo>
                <a:lnTo>
                  <a:pt x="101" y="4459"/>
                </a:lnTo>
                <a:lnTo>
                  <a:pt x="136" y="4645"/>
                </a:lnTo>
                <a:lnTo>
                  <a:pt x="175" y="4825"/>
                </a:lnTo>
                <a:lnTo>
                  <a:pt x="219" y="4999"/>
                </a:lnTo>
                <a:lnTo>
                  <a:pt x="266" y="5166"/>
                </a:lnTo>
                <a:lnTo>
                  <a:pt x="319" y="5324"/>
                </a:lnTo>
                <a:lnTo>
                  <a:pt x="375" y="5474"/>
                </a:lnTo>
                <a:lnTo>
                  <a:pt x="435" y="5616"/>
                </a:lnTo>
                <a:lnTo>
                  <a:pt x="498" y="5747"/>
                </a:lnTo>
                <a:lnTo>
                  <a:pt x="565" y="5869"/>
                </a:lnTo>
                <a:lnTo>
                  <a:pt x="635" y="5979"/>
                </a:lnTo>
                <a:lnTo>
                  <a:pt x="707" y="6079"/>
                </a:lnTo>
                <a:lnTo>
                  <a:pt x="782" y="6168"/>
                </a:lnTo>
                <a:lnTo>
                  <a:pt x="859" y="6244"/>
                </a:lnTo>
                <a:lnTo>
                  <a:pt x="938" y="6307"/>
                </a:lnTo>
                <a:lnTo>
                  <a:pt x="1018" y="6359"/>
                </a:lnTo>
                <a:lnTo>
                  <a:pt x="1100" y="6399"/>
                </a:lnTo>
                <a:lnTo>
                  <a:pt x="1182" y="6425"/>
                </a:lnTo>
                <a:lnTo>
                  <a:pt x="1265" y="6439"/>
                </a:lnTo>
                <a:lnTo>
                  <a:pt x="1347" y="6439"/>
                </a:lnTo>
                <a:lnTo>
                  <a:pt x="1430" y="6426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reeform 13"/>
          <p:cNvSpPr/>
          <p:nvPr/>
        </p:nvSpPr>
        <p:spPr>
          <a:xfrm>
            <a:off x="3848040" y="1809720"/>
            <a:ext cx="249120" cy="1434960"/>
          </a:xfrm>
          <a:custGeom>
            <a:avLst/>
            <a:gdLst>
              <a:gd name="textAreaLeft" fmla="*/ 0 w 249120"/>
              <a:gd name="textAreaRight" fmla="*/ 249480 w 24912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1447" h="6439">
                <a:moveTo>
                  <a:pt x="155" y="0"/>
                </a:moveTo>
                <a:lnTo>
                  <a:pt x="238" y="7"/>
                </a:lnTo>
                <a:lnTo>
                  <a:pt x="320" y="27"/>
                </a:lnTo>
                <a:lnTo>
                  <a:pt x="402" y="59"/>
                </a:lnTo>
                <a:lnTo>
                  <a:pt x="483" y="105"/>
                </a:lnTo>
                <a:lnTo>
                  <a:pt x="563" y="162"/>
                </a:lnTo>
                <a:lnTo>
                  <a:pt x="640" y="233"/>
                </a:lnTo>
                <a:lnTo>
                  <a:pt x="715" y="315"/>
                </a:lnTo>
                <a:lnTo>
                  <a:pt x="789" y="409"/>
                </a:lnTo>
                <a:lnTo>
                  <a:pt x="859" y="514"/>
                </a:lnTo>
                <a:lnTo>
                  <a:pt x="927" y="629"/>
                </a:lnTo>
                <a:lnTo>
                  <a:pt x="991" y="756"/>
                </a:lnTo>
                <a:lnTo>
                  <a:pt x="1053" y="893"/>
                </a:lnTo>
                <a:lnTo>
                  <a:pt x="1110" y="1038"/>
                </a:lnTo>
                <a:lnTo>
                  <a:pt x="1164" y="1192"/>
                </a:lnTo>
                <a:lnTo>
                  <a:pt x="1214" y="1355"/>
                </a:lnTo>
                <a:lnTo>
                  <a:pt x="1258" y="1525"/>
                </a:lnTo>
                <a:lnTo>
                  <a:pt x="1300" y="1702"/>
                </a:lnTo>
                <a:lnTo>
                  <a:pt x="1336" y="1885"/>
                </a:lnTo>
                <a:lnTo>
                  <a:pt x="1366" y="2073"/>
                </a:lnTo>
                <a:lnTo>
                  <a:pt x="1393" y="2267"/>
                </a:lnTo>
                <a:lnTo>
                  <a:pt x="1414" y="2464"/>
                </a:lnTo>
                <a:lnTo>
                  <a:pt x="1430" y="2663"/>
                </a:lnTo>
                <a:lnTo>
                  <a:pt x="1440" y="2865"/>
                </a:lnTo>
                <a:lnTo>
                  <a:pt x="1447" y="3070"/>
                </a:lnTo>
                <a:lnTo>
                  <a:pt x="1447" y="3273"/>
                </a:lnTo>
                <a:lnTo>
                  <a:pt x="1441" y="3477"/>
                </a:lnTo>
                <a:lnTo>
                  <a:pt x="1432" y="3681"/>
                </a:lnTo>
                <a:lnTo>
                  <a:pt x="1416" y="3882"/>
                </a:lnTo>
                <a:lnTo>
                  <a:pt x="1396" y="4080"/>
                </a:lnTo>
                <a:lnTo>
                  <a:pt x="1371" y="4275"/>
                </a:lnTo>
                <a:lnTo>
                  <a:pt x="1340" y="4465"/>
                </a:lnTo>
                <a:lnTo>
                  <a:pt x="1305" y="4651"/>
                </a:lnTo>
                <a:lnTo>
                  <a:pt x="1265" y="4831"/>
                </a:lnTo>
                <a:lnTo>
                  <a:pt x="1220" y="5005"/>
                </a:lnTo>
                <a:lnTo>
                  <a:pt x="1171" y="5171"/>
                </a:lnTo>
                <a:lnTo>
                  <a:pt x="1119" y="5329"/>
                </a:lnTo>
                <a:lnTo>
                  <a:pt x="1061" y="5479"/>
                </a:lnTo>
                <a:lnTo>
                  <a:pt x="1000" y="5620"/>
                </a:lnTo>
                <a:lnTo>
                  <a:pt x="936" y="5752"/>
                </a:lnTo>
                <a:lnTo>
                  <a:pt x="869" y="5872"/>
                </a:lnTo>
                <a:lnTo>
                  <a:pt x="799" y="5983"/>
                </a:lnTo>
                <a:lnTo>
                  <a:pt x="726" y="6082"/>
                </a:lnTo>
                <a:lnTo>
                  <a:pt x="651" y="6170"/>
                </a:lnTo>
                <a:lnTo>
                  <a:pt x="573" y="6246"/>
                </a:lnTo>
                <a:lnTo>
                  <a:pt x="494" y="6310"/>
                </a:lnTo>
                <a:lnTo>
                  <a:pt x="413" y="6360"/>
                </a:lnTo>
                <a:lnTo>
                  <a:pt x="332" y="6400"/>
                </a:lnTo>
                <a:lnTo>
                  <a:pt x="249" y="6425"/>
                </a:lnTo>
                <a:lnTo>
                  <a:pt x="167" y="6439"/>
                </a:lnTo>
                <a:lnTo>
                  <a:pt x="84" y="6439"/>
                </a:lnTo>
                <a:lnTo>
                  <a:pt x="0" y="6425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3875040" y="1809720"/>
            <a:ext cx="0" cy="71928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 flipH="1">
            <a:off x="685440" y="981000"/>
            <a:ext cx="793800" cy="76212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685800" y="1743120"/>
            <a:ext cx="1440" cy="233028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7"/>
          <p:cNvSpPr/>
          <p:nvPr/>
        </p:nvSpPr>
        <p:spPr>
          <a:xfrm>
            <a:off x="1082520" y="1809720"/>
            <a:ext cx="2583000" cy="44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8"/>
          <p:cNvSpPr/>
          <p:nvPr/>
        </p:nvSpPr>
        <p:spPr>
          <a:xfrm>
            <a:off x="1879560" y="1947960"/>
            <a:ext cx="133560" cy="58104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2762280" y="2101680"/>
            <a:ext cx="181080" cy="42732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3665520" y="2259000"/>
            <a:ext cx="209520" cy="27000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 flipH="1">
            <a:off x="407880" y="1743120"/>
            <a:ext cx="277920" cy="144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 flipH="1">
            <a:off x="1201680" y="981000"/>
            <a:ext cx="277920" cy="180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3"/>
          <p:cNvSpPr/>
          <p:nvPr/>
        </p:nvSpPr>
        <p:spPr>
          <a:xfrm flipH="1" flipV="1">
            <a:off x="1082160" y="3244320"/>
            <a:ext cx="397080" cy="32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1479600" y="3247560"/>
            <a:ext cx="1440" cy="6516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25"/>
          <p:cNvSpPr/>
          <p:nvPr/>
        </p:nvSpPr>
        <p:spPr>
          <a:xfrm>
            <a:off x="1082520" y="1809720"/>
            <a:ext cx="2792520" cy="1440"/>
          </a:xfrm>
          <a:custGeom>
            <a:avLst/>
            <a:gdLst>
              <a:gd name="textAreaLeft" fmla="*/ 0 w 2792520"/>
              <a:gd name="textAreaRight" fmla="*/ 2792880 w 2792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6136" h="1588">
                <a:moveTo>
                  <a:pt x="0" y="0"/>
                </a:moveTo>
                <a:lnTo>
                  <a:pt x="2293" y="0"/>
                </a:lnTo>
                <a:lnTo>
                  <a:pt x="16136" y="0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26"/>
          <p:cNvSpPr/>
          <p:nvPr/>
        </p:nvSpPr>
        <p:spPr>
          <a:xfrm>
            <a:off x="1479600" y="3247920"/>
            <a:ext cx="2392200" cy="7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27"/>
          <p:cNvSpPr/>
          <p:nvPr/>
        </p:nvSpPr>
        <p:spPr>
          <a:xfrm flipV="1">
            <a:off x="1479600" y="981000"/>
            <a:ext cx="1440" cy="82872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8"/>
          <p:cNvSpPr/>
          <p:nvPr/>
        </p:nvSpPr>
        <p:spPr>
          <a:xfrm flipV="1">
            <a:off x="685800" y="3311640"/>
            <a:ext cx="797040" cy="76176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29"/>
          <p:cNvSpPr/>
          <p:nvPr/>
        </p:nvSpPr>
        <p:spPr>
          <a:xfrm>
            <a:off x="1077840" y="2498760"/>
            <a:ext cx="3206880" cy="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30"/>
          <p:cNvSpPr/>
          <p:nvPr/>
        </p:nvSpPr>
        <p:spPr>
          <a:xfrm>
            <a:off x="765000" y="2052720"/>
            <a:ext cx="57240" cy="806400"/>
          </a:xfrm>
          <a:custGeom>
            <a:avLst/>
            <a:gdLst>
              <a:gd name="textAreaLeft" fmla="*/ 0 w 57240"/>
              <a:gd name="textAreaRight" fmla="*/ 57600 w 5724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25" h="3611">
                <a:moveTo>
                  <a:pt x="325" y="0"/>
                </a:moveTo>
                <a:lnTo>
                  <a:pt x="273" y="157"/>
                </a:lnTo>
                <a:lnTo>
                  <a:pt x="224" y="321"/>
                </a:lnTo>
                <a:lnTo>
                  <a:pt x="180" y="493"/>
                </a:lnTo>
                <a:lnTo>
                  <a:pt x="141" y="672"/>
                </a:lnTo>
                <a:lnTo>
                  <a:pt x="106" y="856"/>
                </a:lnTo>
                <a:lnTo>
                  <a:pt x="75" y="1046"/>
                </a:lnTo>
                <a:lnTo>
                  <a:pt x="50" y="1239"/>
                </a:lnTo>
                <a:lnTo>
                  <a:pt x="29" y="1437"/>
                </a:lnTo>
                <a:lnTo>
                  <a:pt x="15" y="1637"/>
                </a:lnTo>
                <a:lnTo>
                  <a:pt x="5" y="1838"/>
                </a:lnTo>
                <a:lnTo>
                  <a:pt x="0" y="2041"/>
                </a:lnTo>
                <a:lnTo>
                  <a:pt x="0" y="2245"/>
                </a:lnTo>
                <a:lnTo>
                  <a:pt x="6" y="2448"/>
                </a:lnTo>
                <a:lnTo>
                  <a:pt x="17" y="2650"/>
                </a:lnTo>
                <a:lnTo>
                  <a:pt x="33" y="2849"/>
                </a:lnTo>
                <a:lnTo>
                  <a:pt x="54" y="3046"/>
                </a:lnTo>
                <a:lnTo>
                  <a:pt x="80" y="3239"/>
                </a:lnTo>
                <a:lnTo>
                  <a:pt x="111" y="3427"/>
                </a:lnTo>
                <a:lnTo>
                  <a:pt x="147" y="3611"/>
                </a:lnTo>
              </a:path>
            </a:pathLst>
          </a:custGeom>
          <a:noFill/>
          <a:ln w="5724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Freeform 31"/>
          <p:cNvSpPr/>
          <p:nvPr/>
        </p:nvSpPr>
        <p:spPr>
          <a:xfrm>
            <a:off x="3559320" y="2052720"/>
            <a:ext cx="55440" cy="806400"/>
          </a:xfrm>
          <a:custGeom>
            <a:avLst/>
            <a:gdLst>
              <a:gd name="textAreaLeft" fmla="*/ 0 w 55440"/>
              <a:gd name="textAreaRight" fmla="*/ 55800 w 5544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26" h="3611">
                <a:moveTo>
                  <a:pt x="326" y="0"/>
                </a:moveTo>
                <a:lnTo>
                  <a:pt x="273" y="157"/>
                </a:lnTo>
                <a:lnTo>
                  <a:pt x="224" y="321"/>
                </a:lnTo>
                <a:lnTo>
                  <a:pt x="181" y="493"/>
                </a:lnTo>
                <a:lnTo>
                  <a:pt x="140" y="672"/>
                </a:lnTo>
                <a:lnTo>
                  <a:pt x="106" y="856"/>
                </a:lnTo>
                <a:lnTo>
                  <a:pt x="76" y="1046"/>
                </a:lnTo>
                <a:lnTo>
                  <a:pt x="50" y="1239"/>
                </a:lnTo>
                <a:lnTo>
                  <a:pt x="30" y="1437"/>
                </a:lnTo>
                <a:lnTo>
                  <a:pt x="14" y="1637"/>
                </a:lnTo>
                <a:lnTo>
                  <a:pt x="5" y="1838"/>
                </a:lnTo>
                <a:lnTo>
                  <a:pt x="0" y="2041"/>
                </a:lnTo>
                <a:lnTo>
                  <a:pt x="1" y="2245"/>
                </a:lnTo>
                <a:lnTo>
                  <a:pt x="6" y="2448"/>
                </a:lnTo>
                <a:lnTo>
                  <a:pt x="17" y="2650"/>
                </a:lnTo>
                <a:lnTo>
                  <a:pt x="32" y="2849"/>
                </a:lnTo>
                <a:lnTo>
                  <a:pt x="54" y="3046"/>
                </a:lnTo>
                <a:lnTo>
                  <a:pt x="80" y="3239"/>
                </a:lnTo>
                <a:lnTo>
                  <a:pt x="111" y="3427"/>
                </a:lnTo>
                <a:lnTo>
                  <a:pt x="147" y="3611"/>
                </a:lnTo>
              </a:path>
            </a:pathLst>
          </a:custGeom>
          <a:noFill/>
          <a:ln w="5724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Freeform 32"/>
          <p:cNvSpPr/>
          <p:nvPr/>
        </p:nvSpPr>
        <p:spPr>
          <a:xfrm>
            <a:off x="1949400" y="2238480"/>
            <a:ext cx="63720" cy="11160"/>
          </a:xfrm>
          <a:custGeom>
            <a:avLst/>
            <a:gdLst>
              <a:gd name="textAreaLeft" fmla="*/ 0 w 63720"/>
              <a:gd name="textAreaRight" fmla="*/ 64080 w 637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71" h="54">
                <a:moveTo>
                  <a:pt x="371" y="0"/>
                </a:moveTo>
                <a:lnTo>
                  <a:pt x="246" y="5"/>
                </a:lnTo>
                <a:lnTo>
                  <a:pt x="121" y="23"/>
                </a:lnTo>
                <a:lnTo>
                  <a:pt x="0" y="5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Freeform 33"/>
          <p:cNvSpPr/>
          <p:nvPr/>
        </p:nvSpPr>
        <p:spPr>
          <a:xfrm>
            <a:off x="2833560" y="2238480"/>
            <a:ext cx="111240" cy="34920"/>
          </a:xfrm>
          <a:custGeom>
            <a:avLst/>
            <a:gdLst>
              <a:gd name="textAreaLeft" fmla="*/ 0 w 111240"/>
              <a:gd name="textAreaRight" fmla="*/ 111600 w 11124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631" h="162">
                <a:moveTo>
                  <a:pt x="631" y="0"/>
                </a:moveTo>
                <a:lnTo>
                  <a:pt x="500" y="6"/>
                </a:lnTo>
                <a:lnTo>
                  <a:pt x="370" y="26"/>
                </a:lnTo>
                <a:lnTo>
                  <a:pt x="242" y="59"/>
                </a:lnTo>
                <a:lnTo>
                  <a:pt x="119" y="104"/>
                </a:lnTo>
                <a:lnTo>
                  <a:pt x="0" y="1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Freeform 34"/>
          <p:cNvSpPr/>
          <p:nvPr/>
        </p:nvSpPr>
        <p:spPr>
          <a:xfrm>
            <a:off x="3714840" y="2238480"/>
            <a:ext cx="160200" cy="85680"/>
          </a:xfrm>
          <a:custGeom>
            <a:avLst/>
            <a:gdLst>
              <a:gd name="textAreaLeft" fmla="*/ 0 w 160200"/>
              <a:gd name="textAreaRight" fmla="*/ 160560 w 16020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925" h="385">
                <a:moveTo>
                  <a:pt x="925" y="0"/>
                </a:moveTo>
                <a:lnTo>
                  <a:pt x="796" y="6"/>
                </a:lnTo>
                <a:lnTo>
                  <a:pt x="669" y="25"/>
                </a:lnTo>
                <a:lnTo>
                  <a:pt x="545" y="56"/>
                </a:lnTo>
                <a:lnTo>
                  <a:pt x="424" y="100"/>
                </a:lnTo>
                <a:lnTo>
                  <a:pt x="308" y="155"/>
                </a:lnTo>
                <a:lnTo>
                  <a:pt x="198" y="222"/>
                </a:lnTo>
                <a:lnTo>
                  <a:pt x="95" y="298"/>
                </a:lnTo>
                <a:lnTo>
                  <a:pt x="0" y="3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Freeform 35"/>
          <p:cNvSpPr/>
          <p:nvPr/>
        </p:nvSpPr>
        <p:spPr>
          <a:xfrm>
            <a:off x="395280" y="1743120"/>
            <a:ext cx="98280" cy="2330280"/>
          </a:xfrm>
          <a:custGeom>
            <a:avLst/>
            <a:gdLst>
              <a:gd name="textAreaLeft" fmla="*/ 0 w 98280"/>
              <a:gd name="textAreaRight" fmla="*/ 98640 w 98280"/>
              <a:gd name="textAreaTop" fmla="*/ 0 h 2330280"/>
              <a:gd name="textAreaBottom" fmla="*/ 2330640 h 2330280"/>
            </a:gdLst>
            <a:ahLst/>
            <a:rect l="textAreaLeft" t="textAreaTop" r="textAreaRight" b="textAreaBottom"/>
            <a:pathLst>
              <a:path w="573" h="10456">
                <a:moveTo>
                  <a:pt x="74" y="0"/>
                </a:moveTo>
                <a:lnTo>
                  <a:pt x="163" y="327"/>
                </a:lnTo>
                <a:lnTo>
                  <a:pt x="247" y="653"/>
                </a:lnTo>
                <a:lnTo>
                  <a:pt x="285" y="818"/>
                </a:lnTo>
                <a:lnTo>
                  <a:pt x="320" y="981"/>
                </a:lnTo>
                <a:lnTo>
                  <a:pt x="352" y="1144"/>
                </a:lnTo>
                <a:lnTo>
                  <a:pt x="378" y="1308"/>
                </a:lnTo>
                <a:lnTo>
                  <a:pt x="399" y="1471"/>
                </a:lnTo>
                <a:lnTo>
                  <a:pt x="414" y="1634"/>
                </a:lnTo>
                <a:lnTo>
                  <a:pt x="421" y="1798"/>
                </a:lnTo>
                <a:lnTo>
                  <a:pt x="422" y="1961"/>
                </a:lnTo>
                <a:lnTo>
                  <a:pt x="415" y="2125"/>
                </a:lnTo>
                <a:lnTo>
                  <a:pt x="399" y="2288"/>
                </a:lnTo>
                <a:lnTo>
                  <a:pt x="378" y="2452"/>
                </a:lnTo>
                <a:lnTo>
                  <a:pt x="350" y="2615"/>
                </a:lnTo>
                <a:lnTo>
                  <a:pt x="318" y="2780"/>
                </a:lnTo>
                <a:lnTo>
                  <a:pt x="283" y="2944"/>
                </a:lnTo>
                <a:lnTo>
                  <a:pt x="207" y="3271"/>
                </a:lnTo>
                <a:lnTo>
                  <a:pt x="132" y="3598"/>
                </a:lnTo>
                <a:lnTo>
                  <a:pt x="98" y="3761"/>
                </a:lnTo>
                <a:lnTo>
                  <a:pt x="66" y="3925"/>
                </a:lnTo>
                <a:lnTo>
                  <a:pt x="40" y="4088"/>
                </a:lnTo>
                <a:lnTo>
                  <a:pt x="20" y="4251"/>
                </a:lnTo>
                <a:lnTo>
                  <a:pt x="6" y="4415"/>
                </a:lnTo>
                <a:lnTo>
                  <a:pt x="0" y="4579"/>
                </a:lnTo>
                <a:lnTo>
                  <a:pt x="2" y="4742"/>
                </a:lnTo>
                <a:lnTo>
                  <a:pt x="12" y="4905"/>
                </a:lnTo>
                <a:lnTo>
                  <a:pt x="30" y="5068"/>
                </a:lnTo>
                <a:lnTo>
                  <a:pt x="54" y="5231"/>
                </a:lnTo>
                <a:lnTo>
                  <a:pt x="83" y="5394"/>
                </a:lnTo>
                <a:lnTo>
                  <a:pt x="116" y="5557"/>
                </a:lnTo>
                <a:lnTo>
                  <a:pt x="193" y="5883"/>
                </a:lnTo>
                <a:lnTo>
                  <a:pt x="363" y="6535"/>
                </a:lnTo>
                <a:lnTo>
                  <a:pt x="442" y="6861"/>
                </a:lnTo>
                <a:lnTo>
                  <a:pt x="477" y="7024"/>
                </a:lnTo>
                <a:lnTo>
                  <a:pt x="508" y="7187"/>
                </a:lnTo>
                <a:lnTo>
                  <a:pt x="533" y="7351"/>
                </a:lnTo>
                <a:lnTo>
                  <a:pt x="553" y="7514"/>
                </a:lnTo>
                <a:lnTo>
                  <a:pt x="566" y="7677"/>
                </a:lnTo>
                <a:lnTo>
                  <a:pt x="573" y="7840"/>
                </a:lnTo>
                <a:lnTo>
                  <a:pt x="573" y="8003"/>
                </a:lnTo>
                <a:lnTo>
                  <a:pt x="567" y="8167"/>
                </a:lnTo>
                <a:lnTo>
                  <a:pt x="555" y="8330"/>
                </a:lnTo>
                <a:lnTo>
                  <a:pt x="539" y="8493"/>
                </a:lnTo>
                <a:lnTo>
                  <a:pt x="516" y="8657"/>
                </a:lnTo>
                <a:lnTo>
                  <a:pt x="491" y="8820"/>
                </a:lnTo>
                <a:lnTo>
                  <a:pt x="460" y="8983"/>
                </a:lnTo>
                <a:lnTo>
                  <a:pt x="426" y="9147"/>
                </a:lnTo>
                <a:lnTo>
                  <a:pt x="349" y="9475"/>
                </a:lnTo>
                <a:lnTo>
                  <a:pt x="262" y="9802"/>
                </a:lnTo>
                <a:lnTo>
                  <a:pt x="74" y="10456"/>
                </a:lnTo>
              </a:path>
            </a:pathLst>
          </a:custGeom>
          <a:noFill/>
          <a:ln w="2844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Freeform 36"/>
          <p:cNvSpPr/>
          <p:nvPr/>
        </p:nvSpPr>
        <p:spPr>
          <a:xfrm>
            <a:off x="407880" y="981000"/>
            <a:ext cx="793800" cy="762120"/>
          </a:xfrm>
          <a:custGeom>
            <a:avLst/>
            <a:gdLst>
              <a:gd name="textAreaLeft" fmla="*/ 0 w 793800"/>
              <a:gd name="textAreaRight" fmla="*/ 794160 w 793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590" h="3408">
                <a:moveTo>
                  <a:pt x="4590" y="0"/>
                </a:moveTo>
                <a:lnTo>
                  <a:pt x="4281" y="190"/>
                </a:lnTo>
                <a:lnTo>
                  <a:pt x="4129" y="289"/>
                </a:lnTo>
                <a:lnTo>
                  <a:pt x="3981" y="391"/>
                </a:lnTo>
                <a:lnTo>
                  <a:pt x="3836" y="497"/>
                </a:lnTo>
                <a:lnTo>
                  <a:pt x="3696" y="611"/>
                </a:lnTo>
                <a:lnTo>
                  <a:pt x="3562" y="730"/>
                </a:lnTo>
                <a:lnTo>
                  <a:pt x="3435" y="859"/>
                </a:lnTo>
                <a:lnTo>
                  <a:pt x="3312" y="993"/>
                </a:lnTo>
                <a:lnTo>
                  <a:pt x="3192" y="1131"/>
                </a:lnTo>
                <a:lnTo>
                  <a:pt x="2955" y="1407"/>
                </a:lnTo>
                <a:lnTo>
                  <a:pt x="2833" y="1539"/>
                </a:lnTo>
                <a:lnTo>
                  <a:pt x="2706" y="1666"/>
                </a:lnTo>
                <a:lnTo>
                  <a:pt x="2574" y="1784"/>
                </a:lnTo>
                <a:lnTo>
                  <a:pt x="2504" y="1838"/>
                </a:lnTo>
                <a:lnTo>
                  <a:pt x="2432" y="1890"/>
                </a:lnTo>
                <a:lnTo>
                  <a:pt x="2358" y="1939"/>
                </a:lnTo>
                <a:lnTo>
                  <a:pt x="2283" y="1984"/>
                </a:lnTo>
                <a:lnTo>
                  <a:pt x="2125" y="2069"/>
                </a:lnTo>
                <a:lnTo>
                  <a:pt x="1963" y="2147"/>
                </a:lnTo>
                <a:lnTo>
                  <a:pt x="1797" y="2221"/>
                </a:lnTo>
                <a:lnTo>
                  <a:pt x="1462" y="2365"/>
                </a:lnTo>
                <a:lnTo>
                  <a:pt x="1297" y="2441"/>
                </a:lnTo>
                <a:lnTo>
                  <a:pt x="1136" y="2523"/>
                </a:lnTo>
                <a:lnTo>
                  <a:pt x="980" y="2613"/>
                </a:lnTo>
                <a:lnTo>
                  <a:pt x="830" y="2711"/>
                </a:lnTo>
                <a:lnTo>
                  <a:pt x="684" y="2817"/>
                </a:lnTo>
                <a:lnTo>
                  <a:pt x="542" y="2929"/>
                </a:lnTo>
                <a:lnTo>
                  <a:pt x="403" y="3044"/>
                </a:lnTo>
                <a:lnTo>
                  <a:pt x="268" y="3164"/>
                </a:lnTo>
                <a:lnTo>
                  <a:pt x="0" y="3408"/>
                </a:lnTo>
              </a:path>
            </a:pathLst>
          </a:custGeom>
          <a:noFill/>
          <a:ln w="2844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Freeform 37"/>
          <p:cNvSpPr/>
          <p:nvPr/>
        </p:nvSpPr>
        <p:spPr>
          <a:xfrm>
            <a:off x="1998720" y="1792440"/>
            <a:ext cx="28440" cy="36360"/>
          </a:xfrm>
          <a:custGeom>
            <a:avLst/>
            <a:gdLst>
              <a:gd name="textAreaLeft" fmla="*/ 0 w 28440"/>
              <a:gd name="textAreaRight" fmla="*/ 28800 w 284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62" h="163">
                <a:moveTo>
                  <a:pt x="162" y="81"/>
                </a:moveTo>
                <a:lnTo>
                  <a:pt x="156" y="50"/>
                </a:lnTo>
                <a:lnTo>
                  <a:pt x="138" y="24"/>
                </a:lnTo>
                <a:lnTo>
                  <a:pt x="112" y="6"/>
                </a:lnTo>
                <a:lnTo>
                  <a:pt x="81" y="0"/>
                </a:lnTo>
                <a:lnTo>
                  <a:pt x="49" y="6"/>
                </a:lnTo>
                <a:lnTo>
                  <a:pt x="23" y="24"/>
                </a:lnTo>
                <a:lnTo>
                  <a:pt x="6" y="50"/>
                </a:lnTo>
                <a:lnTo>
                  <a:pt x="0" y="81"/>
                </a:lnTo>
                <a:lnTo>
                  <a:pt x="6" y="113"/>
                </a:lnTo>
                <a:lnTo>
                  <a:pt x="23" y="139"/>
                </a:lnTo>
                <a:lnTo>
                  <a:pt x="49" y="156"/>
                </a:lnTo>
                <a:lnTo>
                  <a:pt x="81" y="163"/>
                </a:lnTo>
                <a:lnTo>
                  <a:pt x="112" y="156"/>
                </a:lnTo>
                <a:lnTo>
                  <a:pt x="138" y="139"/>
                </a:lnTo>
                <a:lnTo>
                  <a:pt x="156" y="113"/>
                </a:lnTo>
                <a:lnTo>
                  <a:pt x="162" y="81"/>
                </a:lnTo>
                <a:close/>
              </a:path>
            </a:pathLst>
          </a:cu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8"/>
          <p:cNvSpPr/>
          <p:nvPr/>
        </p:nvSpPr>
        <p:spPr>
          <a:xfrm>
            <a:off x="1068480" y="1792440"/>
            <a:ext cx="28440" cy="36360"/>
          </a:xfrm>
          <a:custGeom>
            <a:avLst/>
            <a:gdLst>
              <a:gd name="textAreaLeft" fmla="*/ 0 w 28440"/>
              <a:gd name="textAreaRight" fmla="*/ 28800 w 284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63" h="163">
                <a:moveTo>
                  <a:pt x="163" y="81"/>
                </a:moveTo>
                <a:lnTo>
                  <a:pt x="157" y="50"/>
                </a:lnTo>
                <a:lnTo>
                  <a:pt x="139" y="24"/>
                </a:lnTo>
                <a:lnTo>
                  <a:pt x="113" y="6"/>
                </a:lnTo>
                <a:lnTo>
                  <a:pt x="81" y="0"/>
                </a:lnTo>
                <a:lnTo>
                  <a:pt x="51" y="6"/>
                </a:lnTo>
                <a:lnTo>
                  <a:pt x="24" y="24"/>
                </a:lnTo>
                <a:lnTo>
                  <a:pt x="6" y="50"/>
                </a:lnTo>
                <a:lnTo>
                  <a:pt x="0" y="81"/>
                </a:lnTo>
                <a:lnTo>
                  <a:pt x="6" y="113"/>
                </a:lnTo>
                <a:lnTo>
                  <a:pt x="24" y="139"/>
                </a:lnTo>
                <a:lnTo>
                  <a:pt x="51" y="156"/>
                </a:lnTo>
                <a:lnTo>
                  <a:pt x="81" y="163"/>
                </a:lnTo>
                <a:lnTo>
                  <a:pt x="113" y="156"/>
                </a:lnTo>
                <a:lnTo>
                  <a:pt x="139" y="139"/>
                </a:lnTo>
                <a:lnTo>
                  <a:pt x="157" y="113"/>
                </a:lnTo>
                <a:lnTo>
                  <a:pt x="163" y="81"/>
                </a:lnTo>
                <a:close/>
              </a:path>
            </a:pathLst>
          </a:custGeom>
          <a:solidFill>
            <a:srgbClr val="ff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Freeform 39"/>
          <p:cNvSpPr/>
          <p:nvPr/>
        </p:nvSpPr>
        <p:spPr>
          <a:xfrm>
            <a:off x="1865160" y="1930320"/>
            <a:ext cx="27000" cy="36720"/>
          </a:xfrm>
          <a:custGeom>
            <a:avLst/>
            <a:gdLst>
              <a:gd name="textAreaLeft" fmla="*/ 0 w 27000"/>
              <a:gd name="textAreaRight" fmla="*/ 27360 w 270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162" h="163">
                <a:moveTo>
                  <a:pt x="162" y="82"/>
                </a:moveTo>
                <a:lnTo>
                  <a:pt x="157" y="50"/>
                </a:lnTo>
                <a:lnTo>
                  <a:pt x="139" y="24"/>
                </a:lnTo>
                <a:lnTo>
                  <a:pt x="112" y="6"/>
                </a:lnTo>
                <a:lnTo>
                  <a:pt x="81" y="0"/>
                </a:lnTo>
                <a:lnTo>
                  <a:pt x="50" y="6"/>
                </a:lnTo>
                <a:lnTo>
                  <a:pt x="23" y="24"/>
                </a:lnTo>
                <a:lnTo>
                  <a:pt x="6" y="50"/>
                </a:lnTo>
                <a:lnTo>
                  <a:pt x="0" y="82"/>
                </a:lnTo>
                <a:lnTo>
                  <a:pt x="6" y="112"/>
                </a:lnTo>
                <a:lnTo>
                  <a:pt x="23" y="139"/>
                </a:lnTo>
                <a:lnTo>
                  <a:pt x="50" y="157"/>
                </a:lnTo>
                <a:lnTo>
                  <a:pt x="81" y="163"/>
                </a:lnTo>
                <a:lnTo>
                  <a:pt x="112" y="157"/>
                </a:lnTo>
                <a:lnTo>
                  <a:pt x="139" y="139"/>
                </a:lnTo>
                <a:lnTo>
                  <a:pt x="157" y="112"/>
                </a:lnTo>
                <a:lnTo>
                  <a:pt x="162" y="82"/>
                </a:lnTo>
                <a:close/>
              </a:path>
            </a:pathLst>
          </a:cu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40"/>
          <p:cNvSpPr/>
          <p:nvPr/>
        </p:nvSpPr>
        <p:spPr>
          <a:xfrm>
            <a:off x="2930400" y="1792440"/>
            <a:ext cx="27000" cy="36360"/>
          </a:xfrm>
          <a:custGeom>
            <a:avLst/>
            <a:gdLst>
              <a:gd name="textAreaLeft" fmla="*/ 0 w 27000"/>
              <a:gd name="textAreaRight" fmla="*/ 27360 w 270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63" h="163">
                <a:moveTo>
                  <a:pt x="163" y="81"/>
                </a:moveTo>
                <a:lnTo>
                  <a:pt x="156" y="50"/>
                </a:lnTo>
                <a:lnTo>
                  <a:pt x="138" y="24"/>
                </a:lnTo>
                <a:lnTo>
                  <a:pt x="112" y="6"/>
                </a:lnTo>
                <a:lnTo>
                  <a:pt x="81" y="0"/>
                </a:lnTo>
                <a:lnTo>
                  <a:pt x="49" y="6"/>
                </a:lnTo>
                <a:lnTo>
                  <a:pt x="24" y="24"/>
                </a:lnTo>
                <a:lnTo>
                  <a:pt x="6" y="50"/>
                </a:lnTo>
                <a:lnTo>
                  <a:pt x="0" y="81"/>
                </a:lnTo>
                <a:lnTo>
                  <a:pt x="6" y="113"/>
                </a:lnTo>
                <a:lnTo>
                  <a:pt x="24" y="139"/>
                </a:lnTo>
                <a:lnTo>
                  <a:pt x="49" y="156"/>
                </a:lnTo>
                <a:lnTo>
                  <a:pt x="81" y="163"/>
                </a:lnTo>
                <a:lnTo>
                  <a:pt x="112" y="156"/>
                </a:lnTo>
                <a:lnTo>
                  <a:pt x="138" y="139"/>
                </a:lnTo>
                <a:lnTo>
                  <a:pt x="156" y="113"/>
                </a:lnTo>
                <a:lnTo>
                  <a:pt x="163" y="81"/>
                </a:lnTo>
                <a:close/>
              </a:path>
            </a:pathLst>
          </a:cu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41"/>
          <p:cNvSpPr/>
          <p:nvPr/>
        </p:nvSpPr>
        <p:spPr>
          <a:xfrm>
            <a:off x="2747880" y="2084400"/>
            <a:ext cx="27000" cy="34920"/>
          </a:xfrm>
          <a:custGeom>
            <a:avLst/>
            <a:gdLst>
              <a:gd name="textAreaLeft" fmla="*/ 0 w 27000"/>
              <a:gd name="textAreaRight" fmla="*/ 27360 w 270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63" h="162">
                <a:moveTo>
                  <a:pt x="163" y="81"/>
                </a:moveTo>
                <a:lnTo>
                  <a:pt x="157" y="50"/>
                </a:lnTo>
                <a:lnTo>
                  <a:pt x="139" y="24"/>
                </a:lnTo>
                <a:lnTo>
                  <a:pt x="112" y="7"/>
                </a:lnTo>
                <a:lnTo>
                  <a:pt x="82" y="0"/>
                </a:lnTo>
                <a:lnTo>
                  <a:pt x="51" y="7"/>
                </a:lnTo>
                <a:lnTo>
                  <a:pt x="24" y="24"/>
                </a:lnTo>
                <a:lnTo>
                  <a:pt x="6" y="50"/>
                </a:lnTo>
                <a:lnTo>
                  <a:pt x="0" y="81"/>
                </a:lnTo>
                <a:lnTo>
                  <a:pt x="6" y="113"/>
                </a:lnTo>
                <a:lnTo>
                  <a:pt x="24" y="139"/>
                </a:lnTo>
                <a:lnTo>
                  <a:pt x="51" y="156"/>
                </a:lnTo>
                <a:lnTo>
                  <a:pt x="82" y="162"/>
                </a:lnTo>
                <a:lnTo>
                  <a:pt x="112" y="156"/>
                </a:lnTo>
                <a:lnTo>
                  <a:pt x="139" y="139"/>
                </a:lnTo>
                <a:lnTo>
                  <a:pt x="157" y="113"/>
                </a:lnTo>
                <a:lnTo>
                  <a:pt x="163" y="81"/>
                </a:lnTo>
                <a:close/>
              </a:path>
            </a:pathLst>
          </a:cu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42"/>
          <p:cNvSpPr/>
          <p:nvPr/>
        </p:nvSpPr>
        <p:spPr>
          <a:xfrm>
            <a:off x="3651120" y="2241720"/>
            <a:ext cx="28800" cy="36360"/>
          </a:xfrm>
          <a:custGeom>
            <a:avLst/>
            <a:gdLst>
              <a:gd name="textAreaLeft" fmla="*/ 0 w 28800"/>
              <a:gd name="textAreaRight" fmla="*/ 29160 w 288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63" h="163">
                <a:moveTo>
                  <a:pt x="163" y="81"/>
                </a:moveTo>
                <a:lnTo>
                  <a:pt x="157" y="50"/>
                </a:lnTo>
                <a:lnTo>
                  <a:pt x="139" y="24"/>
                </a:lnTo>
                <a:lnTo>
                  <a:pt x="112" y="6"/>
                </a:lnTo>
                <a:lnTo>
                  <a:pt x="82" y="0"/>
                </a:lnTo>
                <a:lnTo>
                  <a:pt x="50" y="6"/>
                </a:lnTo>
                <a:lnTo>
                  <a:pt x="25" y="24"/>
                </a:lnTo>
                <a:lnTo>
                  <a:pt x="7" y="50"/>
                </a:lnTo>
                <a:lnTo>
                  <a:pt x="0" y="81"/>
                </a:lnTo>
                <a:lnTo>
                  <a:pt x="7" y="112"/>
                </a:lnTo>
                <a:lnTo>
                  <a:pt x="25" y="138"/>
                </a:lnTo>
                <a:lnTo>
                  <a:pt x="50" y="156"/>
                </a:lnTo>
                <a:lnTo>
                  <a:pt x="82" y="163"/>
                </a:lnTo>
                <a:lnTo>
                  <a:pt x="112" y="156"/>
                </a:lnTo>
                <a:lnTo>
                  <a:pt x="139" y="138"/>
                </a:lnTo>
                <a:lnTo>
                  <a:pt x="157" y="112"/>
                </a:lnTo>
                <a:lnTo>
                  <a:pt x="163" y="81"/>
                </a:lnTo>
                <a:close/>
              </a:path>
            </a:pathLst>
          </a:cu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Freeform 43"/>
          <p:cNvSpPr/>
          <p:nvPr/>
        </p:nvSpPr>
        <p:spPr>
          <a:xfrm>
            <a:off x="3860640" y="1792440"/>
            <a:ext cx="28800" cy="36360"/>
          </a:xfrm>
          <a:custGeom>
            <a:avLst/>
            <a:gdLst>
              <a:gd name="textAreaLeft" fmla="*/ 0 w 28800"/>
              <a:gd name="textAreaRight" fmla="*/ 29160 w 288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63" h="163">
                <a:moveTo>
                  <a:pt x="163" y="81"/>
                </a:moveTo>
                <a:lnTo>
                  <a:pt x="156" y="50"/>
                </a:lnTo>
                <a:lnTo>
                  <a:pt x="138" y="24"/>
                </a:lnTo>
                <a:lnTo>
                  <a:pt x="112" y="6"/>
                </a:lnTo>
                <a:lnTo>
                  <a:pt x="81" y="0"/>
                </a:lnTo>
                <a:lnTo>
                  <a:pt x="49" y="6"/>
                </a:lnTo>
                <a:lnTo>
                  <a:pt x="24" y="24"/>
                </a:lnTo>
                <a:lnTo>
                  <a:pt x="6" y="50"/>
                </a:lnTo>
                <a:lnTo>
                  <a:pt x="0" y="81"/>
                </a:lnTo>
                <a:lnTo>
                  <a:pt x="6" y="113"/>
                </a:lnTo>
                <a:lnTo>
                  <a:pt x="24" y="139"/>
                </a:lnTo>
                <a:lnTo>
                  <a:pt x="49" y="156"/>
                </a:lnTo>
                <a:lnTo>
                  <a:pt x="81" y="163"/>
                </a:lnTo>
                <a:lnTo>
                  <a:pt x="112" y="156"/>
                </a:lnTo>
                <a:lnTo>
                  <a:pt x="138" y="139"/>
                </a:lnTo>
                <a:lnTo>
                  <a:pt x="156" y="113"/>
                </a:lnTo>
                <a:lnTo>
                  <a:pt x="163" y="81"/>
                </a:lnTo>
                <a:close/>
              </a:path>
            </a:pathLst>
          </a:cu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44"/>
          <p:cNvSpPr/>
          <p:nvPr/>
        </p:nvSpPr>
        <p:spPr>
          <a:xfrm>
            <a:off x="3701880" y="149544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2765520" y="148896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46"/>
          <p:cNvSpPr/>
          <p:nvPr/>
        </p:nvSpPr>
        <p:spPr>
          <a:xfrm>
            <a:off x="925560" y="149076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1849320" y="149544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48"/>
          <p:cNvSpPr/>
          <p:nvPr/>
        </p:nvSpPr>
        <p:spPr>
          <a:xfrm>
            <a:off x="687240" y="1822320"/>
            <a:ext cx="3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49"/>
          <p:cNvSpPr/>
          <p:nvPr/>
        </p:nvSpPr>
        <p:spPr>
          <a:xfrm>
            <a:off x="3370320" y="273384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Object 50"/>
          <p:cNvGraphicFramePr/>
          <p:nvPr/>
        </p:nvGraphicFramePr>
        <p:xfrm>
          <a:off x="1628640" y="1884240"/>
          <a:ext cx="182520" cy="2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884240"/>
                    <a:ext cx="18252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51"/>
          <p:cNvGraphicFramePr/>
          <p:nvPr/>
        </p:nvGraphicFramePr>
        <p:xfrm>
          <a:off x="2568600" y="2066760"/>
          <a:ext cx="176040" cy="2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8600" y="2066760"/>
                    <a:ext cx="17604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52"/>
          <p:cNvGraphicFramePr/>
          <p:nvPr/>
        </p:nvGraphicFramePr>
        <p:xfrm>
          <a:off x="3417840" y="2187720"/>
          <a:ext cx="176400" cy="26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7840" y="2187720"/>
                    <a:ext cx="17640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53"/>
          <p:cNvGraphicFramePr/>
          <p:nvPr/>
        </p:nvGraphicFramePr>
        <p:xfrm>
          <a:off x="3851280" y="2127240"/>
          <a:ext cx="189000" cy="33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1" name="Object 5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1280" y="2127240"/>
                    <a:ext cx="1890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54"/>
          <p:cNvGraphicFramePr/>
          <p:nvPr/>
        </p:nvGraphicFramePr>
        <p:xfrm>
          <a:off x="2890800" y="2127240"/>
          <a:ext cx="24120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3" name="Object 5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0800" y="2127240"/>
                    <a:ext cx="2412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55"/>
          <p:cNvGraphicFramePr/>
          <p:nvPr/>
        </p:nvGraphicFramePr>
        <p:xfrm>
          <a:off x="2004840" y="2187720"/>
          <a:ext cx="204840" cy="33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5" name="Object 5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04840" y="2187720"/>
                    <a:ext cx="20484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Line 56"/>
          <p:cNvSpPr/>
          <p:nvPr/>
        </p:nvSpPr>
        <p:spPr>
          <a:xfrm flipH="1">
            <a:off x="407880" y="4073400"/>
            <a:ext cx="277920" cy="180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" name="Object 87"/>
          <p:cNvGraphicFramePr/>
          <p:nvPr/>
        </p:nvGraphicFramePr>
        <p:xfrm>
          <a:off x="5343480" y="3357720"/>
          <a:ext cx="2490840" cy="900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8" name="Object 8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43480" y="3357720"/>
                    <a:ext cx="24908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Freeform 74"/>
          <p:cNvSpPr/>
          <p:nvPr/>
        </p:nvSpPr>
        <p:spPr>
          <a:xfrm>
            <a:off x="5694480" y="1809720"/>
            <a:ext cx="226800" cy="1401840"/>
          </a:xfrm>
          <a:custGeom>
            <a:avLst/>
            <a:gdLst>
              <a:gd name="textAreaLeft" fmla="*/ 0 w 226800"/>
              <a:gd name="textAreaRight" fmla="*/ 227160 w 226800"/>
              <a:gd name="textAreaTop" fmla="*/ 0 h 1401840"/>
              <a:gd name="textAreaBottom" fmla="*/ 1402200 h 1401840"/>
            </a:gdLst>
            <a:ahLst/>
            <a:rect l="textAreaLeft" t="textAreaTop" r="textAreaRight" b="textAreaBottom"/>
            <a:pathLst>
              <a:path w="1307" h="6440">
                <a:moveTo>
                  <a:pt x="1307" y="0"/>
                </a:moveTo>
                <a:lnTo>
                  <a:pt x="1221" y="7"/>
                </a:lnTo>
                <a:lnTo>
                  <a:pt x="1133" y="29"/>
                </a:lnTo>
                <a:lnTo>
                  <a:pt x="1047" y="64"/>
                </a:lnTo>
                <a:lnTo>
                  <a:pt x="962" y="114"/>
                </a:lnTo>
                <a:lnTo>
                  <a:pt x="879" y="177"/>
                </a:lnTo>
                <a:lnTo>
                  <a:pt x="797" y="254"/>
                </a:lnTo>
                <a:lnTo>
                  <a:pt x="718" y="346"/>
                </a:lnTo>
                <a:lnTo>
                  <a:pt x="640" y="448"/>
                </a:lnTo>
                <a:lnTo>
                  <a:pt x="567" y="565"/>
                </a:lnTo>
                <a:lnTo>
                  <a:pt x="496" y="692"/>
                </a:lnTo>
                <a:lnTo>
                  <a:pt x="430" y="830"/>
                </a:lnTo>
                <a:lnTo>
                  <a:pt x="367" y="981"/>
                </a:lnTo>
                <a:lnTo>
                  <a:pt x="308" y="1140"/>
                </a:lnTo>
                <a:lnTo>
                  <a:pt x="254" y="1309"/>
                </a:lnTo>
                <a:lnTo>
                  <a:pt x="204" y="1486"/>
                </a:lnTo>
                <a:lnTo>
                  <a:pt x="160" y="1671"/>
                </a:lnTo>
                <a:lnTo>
                  <a:pt x="121" y="1863"/>
                </a:lnTo>
                <a:lnTo>
                  <a:pt x="87" y="2062"/>
                </a:lnTo>
                <a:lnTo>
                  <a:pt x="58" y="2265"/>
                </a:lnTo>
                <a:lnTo>
                  <a:pt x="35" y="2473"/>
                </a:lnTo>
                <a:lnTo>
                  <a:pt x="17" y="2683"/>
                </a:lnTo>
                <a:lnTo>
                  <a:pt x="5" y="2896"/>
                </a:lnTo>
                <a:lnTo>
                  <a:pt x="0" y="3111"/>
                </a:lnTo>
                <a:lnTo>
                  <a:pt x="0" y="3326"/>
                </a:lnTo>
                <a:lnTo>
                  <a:pt x="5" y="3541"/>
                </a:lnTo>
                <a:lnTo>
                  <a:pt x="17" y="3755"/>
                </a:lnTo>
                <a:lnTo>
                  <a:pt x="34" y="3966"/>
                </a:lnTo>
                <a:lnTo>
                  <a:pt x="57" y="4173"/>
                </a:lnTo>
                <a:lnTo>
                  <a:pt x="86" y="4376"/>
                </a:lnTo>
                <a:lnTo>
                  <a:pt x="121" y="4574"/>
                </a:lnTo>
                <a:lnTo>
                  <a:pt x="160" y="4766"/>
                </a:lnTo>
                <a:lnTo>
                  <a:pt x="204" y="4951"/>
                </a:lnTo>
                <a:lnTo>
                  <a:pt x="254" y="5129"/>
                </a:lnTo>
                <a:lnTo>
                  <a:pt x="308" y="5299"/>
                </a:lnTo>
                <a:lnTo>
                  <a:pt x="366" y="5458"/>
                </a:lnTo>
                <a:lnTo>
                  <a:pt x="429" y="5608"/>
                </a:lnTo>
                <a:lnTo>
                  <a:pt x="495" y="5747"/>
                </a:lnTo>
                <a:lnTo>
                  <a:pt x="566" y="5875"/>
                </a:lnTo>
                <a:lnTo>
                  <a:pt x="640" y="5990"/>
                </a:lnTo>
                <a:lnTo>
                  <a:pt x="717" y="6094"/>
                </a:lnTo>
                <a:lnTo>
                  <a:pt x="796" y="6184"/>
                </a:lnTo>
                <a:lnTo>
                  <a:pt x="878" y="6261"/>
                </a:lnTo>
                <a:lnTo>
                  <a:pt x="961" y="6326"/>
                </a:lnTo>
                <a:lnTo>
                  <a:pt x="1046" y="6376"/>
                </a:lnTo>
                <a:lnTo>
                  <a:pt x="1133" y="6412"/>
                </a:lnTo>
                <a:lnTo>
                  <a:pt x="1220" y="6433"/>
                </a:lnTo>
                <a:lnTo>
                  <a:pt x="1306" y="6440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75"/>
          <p:cNvSpPr/>
          <p:nvPr/>
        </p:nvSpPr>
        <p:spPr>
          <a:xfrm>
            <a:off x="5923080" y="1809720"/>
            <a:ext cx="936360" cy="1440"/>
          </a:xfrm>
          <a:custGeom>
            <a:avLst/>
            <a:gdLst>
              <a:gd name="textAreaLeft" fmla="*/ 0 w 936360"/>
              <a:gd name="textAreaRight" fmla="*/ 936720 w 936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379" h="1588">
                <a:moveTo>
                  <a:pt x="0" y="0"/>
                </a:moveTo>
                <a:lnTo>
                  <a:pt x="2293" y="0"/>
                </a:lnTo>
                <a:lnTo>
                  <a:pt x="5379" y="0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76"/>
          <p:cNvSpPr/>
          <p:nvPr/>
        </p:nvSpPr>
        <p:spPr>
          <a:xfrm>
            <a:off x="6321600" y="3213000"/>
            <a:ext cx="53784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77"/>
          <p:cNvSpPr/>
          <p:nvPr/>
        </p:nvSpPr>
        <p:spPr>
          <a:xfrm>
            <a:off x="5929200" y="3211560"/>
            <a:ext cx="40032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78"/>
          <p:cNvSpPr/>
          <p:nvPr/>
        </p:nvSpPr>
        <p:spPr>
          <a:xfrm>
            <a:off x="6630840" y="1809720"/>
            <a:ext cx="228600" cy="140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1401840"/>
              <a:gd name="textAreaBottom" fmla="*/ 1402200 h 1401840"/>
            </a:gdLst>
            <a:ahLst/>
            <a:rect l="textAreaLeft" t="textAreaTop" r="textAreaRight" b="textAreaBottom"/>
            <a:pathLst>
              <a:path w="1307" h="6440">
                <a:moveTo>
                  <a:pt x="1306" y="0"/>
                </a:moveTo>
                <a:lnTo>
                  <a:pt x="1218" y="8"/>
                </a:lnTo>
                <a:lnTo>
                  <a:pt x="1132" y="29"/>
                </a:lnTo>
                <a:lnTo>
                  <a:pt x="1046" y="65"/>
                </a:lnTo>
                <a:lnTo>
                  <a:pt x="960" y="115"/>
                </a:lnTo>
                <a:lnTo>
                  <a:pt x="877" y="179"/>
                </a:lnTo>
                <a:lnTo>
                  <a:pt x="796" y="257"/>
                </a:lnTo>
                <a:lnTo>
                  <a:pt x="716" y="347"/>
                </a:lnTo>
                <a:lnTo>
                  <a:pt x="639" y="450"/>
                </a:lnTo>
                <a:lnTo>
                  <a:pt x="566" y="567"/>
                </a:lnTo>
                <a:lnTo>
                  <a:pt x="495" y="694"/>
                </a:lnTo>
                <a:lnTo>
                  <a:pt x="428" y="834"/>
                </a:lnTo>
                <a:lnTo>
                  <a:pt x="366" y="983"/>
                </a:lnTo>
                <a:lnTo>
                  <a:pt x="308" y="1143"/>
                </a:lnTo>
                <a:lnTo>
                  <a:pt x="254" y="1311"/>
                </a:lnTo>
                <a:lnTo>
                  <a:pt x="204" y="1489"/>
                </a:lnTo>
                <a:lnTo>
                  <a:pt x="160" y="1674"/>
                </a:lnTo>
                <a:lnTo>
                  <a:pt x="120" y="1866"/>
                </a:lnTo>
                <a:lnTo>
                  <a:pt x="86" y="2064"/>
                </a:lnTo>
                <a:lnTo>
                  <a:pt x="57" y="2267"/>
                </a:lnTo>
                <a:lnTo>
                  <a:pt x="35" y="2475"/>
                </a:lnTo>
                <a:lnTo>
                  <a:pt x="17" y="2686"/>
                </a:lnTo>
                <a:lnTo>
                  <a:pt x="5" y="2899"/>
                </a:lnTo>
                <a:lnTo>
                  <a:pt x="0" y="3113"/>
                </a:lnTo>
                <a:lnTo>
                  <a:pt x="0" y="3329"/>
                </a:lnTo>
                <a:lnTo>
                  <a:pt x="5" y="3543"/>
                </a:lnTo>
                <a:lnTo>
                  <a:pt x="17" y="3757"/>
                </a:lnTo>
                <a:lnTo>
                  <a:pt x="35" y="3968"/>
                </a:lnTo>
                <a:lnTo>
                  <a:pt x="58" y="4175"/>
                </a:lnTo>
                <a:lnTo>
                  <a:pt x="86" y="4379"/>
                </a:lnTo>
                <a:lnTo>
                  <a:pt x="120" y="4577"/>
                </a:lnTo>
                <a:lnTo>
                  <a:pt x="160" y="4768"/>
                </a:lnTo>
                <a:lnTo>
                  <a:pt x="204" y="4954"/>
                </a:lnTo>
                <a:lnTo>
                  <a:pt x="254" y="5130"/>
                </a:lnTo>
                <a:lnTo>
                  <a:pt x="308" y="5300"/>
                </a:lnTo>
                <a:lnTo>
                  <a:pt x="367" y="5459"/>
                </a:lnTo>
                <a:lnTo>
                  <a:pt x="430" y="5609"/>
                </a:lnTo>
                <a:lnTo>
                  <a:pt x="496" y="5748"/>
                </a:lnTo>
                <a:lnTo>
                  <a:pt x="567" y="5875"/>
                </a:lnTo>
                <a:lnTo>
                  <a:pt x="640" y="5991"/>
                </a:lnTo>
                <a:lnTo>
                  <a:pt x="718" y="6094"/>
                </a:lnTo>
                <a:lnTo>
                  <a:pt x="796" y="6185"/>
                </a:lnTo>
                <a:lnTo>
                  <a:pt x="878" y="6262"/>
                </a:lnTo>
                <a:lnTo>
                  <a:pt x="961" y="6326"/>
                </a:lnTo>
                <a:lnTo>
                  <a:pt x="1047" y="6376"/>
                </a:lnTo>
                <a:lnTo>
                  <a:pt x="1133" y="6412"/>
                </a:lnTo>
                <a:lnTo>
                  <a:pt x="1219" y="6433"/>
                </a:lnTo>
                <a:lnTo>
                  <a:pt x="1307" y="6440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reeform 79"/>
          <p:cNvSpPr/>
          <p:nvPr/>
        </p:nvSpPr>
        <p:spPr>
          <a:xfrm>
            <a:off x="6865920" y="1809720"/>
            <a:ext cx="228600" cy="140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1401840"/>
              <a:gd name="textAreaBottom" fmla="*/ 1402200 h 1401840"/>
            </a:gdLst>
            <a:ahLst/>
            <a:rect l="textAreaLeft" t="textAreaTop" r="textAreaRight" b="textAreaBottom"/>
            <a:pathLst>
              <a:path w="1309" h="6440">
                <a:moveTo>
                  <a:pt x="3" y="0"/>
                </a:moveTo>
                <a:lnTo>
                  <a:pt x="91" y="8"/>
                </a:lnTo>
                <a:lnTo>
                  <a:pt x="178" y="29"/>
                </a:lnTo>
                <a:lnTo>
                  <a:pt x="264" y="65"/>
                </a:lnTo>
                <a:lnTo>
                  <a:pt x="349" y="115"/>
                </a:lnTo>
                <a:lnTo>
                  <a:pt x="432" y="179"/>
                </a:lnTo>
                <a:lnTo>
                  <a:pt x="514" y="257"/>
                </a:lnTo>
                <a:lnTo>
                  <a:pt x="593" y="348"/>
                </a:lnTo>
                <a:lnTo>
                  <a:pt x="669" y="450"/>
                </a:lnTo>
                <a:lnTo>
                  <a:pt x="744" y="567"/>
                </a:lnTo>
                <a:lnTo>
                  <a:pt x="813" y="695"/>
                </a:lnTo>
                <a:lnTo>
                  <a:pt x="880" y="834"/>
                </a:lnTo>
                <a:lnTo>
                  <a:pt x="944" y="983"/>
                </a:lnTo>
                <a:lnTo>
                  <a:pt x="1002" y="1143"/>
                </a:lnTo>
                <a:lnTo>
                  <a:pt x="1056" y="1312"/>
                </a:lnTo>
                <a:lnTo>
                  <a:pt x="1106" y="1489"/>
                </a:lnTo>
                <a:lnTo>
                  <a:pt x="1150" y="1674"/>
                </a:lnTo>
                <a:lnTo>
                  <a:pt x="1189" y="1866"/>
                </a:lnTo>
                <a:lnTo>
                  <a:pt x="1223" y="2065"/>
                </a:lnTo>
                <a:lnTo>
                  <a:pt x="1252" y="2267"/>
                </a:lnTo>
                <a:lnTo>
                  <a:pt x="1274" y="2475"/>
                </a:lnTo>
                <a:lnTo>
                  <a:pt x="1292" y="2687"/>
                </a:lnTo>
                <a:lnTo>
                  <a:pt x="1304" y="2899"/>
                </a:lnTo>
                <a:lnTo>
                  <a:pt x="1309" y="3114"/>
                </a:lnTo>
                <a:lnTo>
                  <a:pt x="1309" y="3329"/>
                </a:lnTo>
                <a:lnTo>
                  <a:pt x="1303" y="3544"/>
                </a:lnTo>
                <a:lnTo>
                  <a:pt x="1291" y="3757"/>
                </a:lnTo>
                <a:lnTo>
                  <a:pt x="1274" y="3968"/>
                </a:lnTo>
                <a:lnTo>
                  <a:pt x="1251" y="4175"/>
                </a:lnTo>
                <a:lnTo>
                  <a:pt x="1222" y="4379"/>
                </a:lnTo>
                <a:lnTo>
                  <a:pt x="1187" y="4577"/>
                </a:lnTo>
                <a:lnTo>
                  <a:pt x="1148" y="4768"/>
                </a:lnTo>
                <a:lnTo>
                  <a:pt x="1104" y="4954"/>
                </a:lnTo>
                <a:lnTo>
                  <a:pt x="1054" y="5131"/>
                </a:lnTo>
                <a:lnTo>
                  <a:pt x="1000" y="5300"/>
                </a:lnTo>
                <a:lnTo>
                  <a:pt x="942" y="5460"/>
                </a:lnTo>
                <a:lnTo>
                  <a:pt x="878" y="5609"/>
                </a:lnTo>
                <a:lnTo>
                  <a:pt x="811" y="5748"/>
                </a:lnTo>
                <a:lnTo>
                  <a:pt x="741" y="5875"/>
                </a:lnTo>
                <a:lnTo>
                  <a:pt x="667" y="5991"/>
                </a:lnTo>
                <a:lnTo>
                  <a:pt x="591" y="6094"/>
                </a:lnTo>
                <a:lnTo>
                  <a:pt x="512" y="6185"/>
                </a:lnTo>
                <a:lnTo>
                  <a:pt x="430" y="6262"/>
                </a:lnTo>
                <a:lnTo>
                  <a:pt x="346" y="6326"/>
                </a:lnTo>
                <a:lnTo>
                  <a:pt x="261" y="6376"/>
                </a:lnTo>
                <a:lnTo>
                  <a:pt x="175" y="6412"/>
                </a:lnTo>
                <a:lnTo>
                  <a:pt x="88" y="6433"/>
                </a:lnTo>
                <a:lnTo>
                  <a:pt x="0" y="6440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80"/>
          <p:cNvSpPr/>
          <p:nvPr/>
        </p:nvSpPr>
        <p:spPr>
          <a:xfrm>
            <a:off x="6859440" y="2511360"/>
            <a:ext cx="349560" cy="180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81"/>
          <p:cNvSpPr/>
          <p:nvPr/>
        </p:nvSpPr>
        <p:spPr>
          <a:xfrm flipH="1">
            <a:off x="5435640" y="2511360"/>
            <a:ext cx="264960" cy="1800"/>
          </a:xfrm>
          <a:prstGeom prst="line">
            <a:avLst/>
          </a:prstGeom>
          <a:ln w="0">
            <a:solidFill>
              <a:srgbClr val="000000"/>
            </a:solidFill>
            <a:prstDash val="lgDash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Freeform 82"/>
          <p:cNvSpPr/>
          <p:nvPr/>
        </p:nvSpPr>
        <p:spPr>
          <a:xfrm>
            <a:off x="5513400" y="2154240"/>
            <a:ext cx="57240" cy="787320"/>
          </a:xfrm>
          <a:custGeom>
            <a:avLst/>
            <a:gdLst>
              <a:gd name="textAreaLeft" fmla="*/ 0 w 57240"/>
              <a:gd name="textAreaRight" fmla="*/ 57600 w 5724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325" h="3611">
                <a:moveTo>
                  <a:pt x="325" y="0"/>
                </a:moveTo>
                <a:lnTo>
                  <a:pt x="273" y="157"/>
                </a:lnTo>
                <a:lnTo>
                  <a:pt x="224" y="321"/>
                </a:lnTo>
                <a:lnTo>
                  <a:pt x="180" y="493"/>
                </a:lnTo>
                <a:lnTo>
                  <a:pt x="141" y="672"/>
                </a:lnTo>
                <a:lnTo>
                  <a:pt x="106" y="856"/>
                </a:lnTo>
                <a:lnTo>
                  <a:pt x="75" y="1046"/>
                </a:lnTo>
                <a:lnTo>
                  <a:pt x="50" y="1239"/>
                </a:lnTo>
                <a:lnTo>
                  <a:pt x="29" y="1437"/>
                </a:lnTo>
                <a:lnTo>
                  <a:pt x="15" y="1637"/>
                </a:lnTo>
                <a:lnTo>
                  <a:pt x="5" y="1838"/>
                </a:lnTo>
                <a:lnTo>
                  <a:pt x="0" y="2041"/>
                </a:lnTo>
                <a:lnTo>
                  <a:pt x="0" y="2245"/>
                </a:lnTo>
                <a:lnTo>
                  <a:pt x="6" y="2448"/>
                </a:lnTo>
                <a:lnTo>
                  <a:pt x="17" y="2650"/>
                </a:lnTo>
                <a:lnTo>
                  <a:pt x="33" y="2849"/>
                </a:lnTo>
                <a:lnTo>
                  <a:pt x="54" y="3046"/>
                </a:lnTo>
                <a:lnTo>
                  <a:pt x="80" y="3239"/>
                </a:lnTo>
                <a:lnTo>
                  <a:pt x="111" y="3427"/>
                </a:lnTo>
                <a:lnTo>
                  <a:pt x="147" y="3611"/>
                </a:lnTo>
              </a:path>
            </a:pathLst>
          </a:custGeom>
          <a:noFill/>
          <a:ln w="5724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83"/>
          <p:cNvSpPr/>
          <p:nvPr/>
        </p:nvSpPr>
        <p:spPr>
          <a:xfrm>
            <a:off x="5292720" y="184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Freeform 84"/>
          <p:cNvSpPr/>
          <p:nvPr/>
        </p:nvSpPr>
        <p:spPr>
          <a:xfrm>
            <a:off x="6764400" y="2095560"/>
            <a:ext cx="55440" cy="787320"/>
          </a:xfrm>
          <a:custGeom>
            <a:avLst/>
            <a:gdLst>
              <a:gd name="textAreaLeft" fmla="*/ 0 w 55440"/>
              <a:gd name="textAreaRight" fmla="*/ 55800 w 5544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326" h="3611">
                <a:moveTo>
                  <a:pt x="326" y="0"/>
                </a:moveTo>
                <a:lnTo>
                  <a:pt x="273" y="157"/>
                </a:lnTo>
                <a:lnTo>
                  <a:pt x="224" y="321"/>
                </a:lnTo>
                <a:lnTo>
                  <a:pt x="181" y="493"/>
                </a:lnTo>
                <a:lnTo>
                  <a:pt x="140" y="672"/>
                </a:lnTo>
                <a:lnTo>
                  <a:pt x="106" y="856"/>
                </a:lnTo>
                <a:lnTo>
                  <a:pt x="76" y="1046"/>
                </a:lnTo>
                <a:lnTo>
                  <a:pt x="50" y="1239"/>
                </a:lnTo>
                <a:lnTo>
                  <a:pt x="30" y="1437"/>
                </a:lnTo>
                <a:lnTo>
                  <a:pt x="14" y="1637"/>
                </a:lnTo>
                <a:lnTo>
                  <a:pt x="5" y="1838"/>
                </a:lnTo>
                <a:lnTo>
                  <a:pt x="0" y="2041"/>
                </a:lnTo>
                <a:lnTo>
                  <a:pt x="1" y="2245"/>
                </a:lnTo>
                <a:lnTo>
                  <a:pt x="6" y="2448"/>
                </a:lnTo>
                <a:lnTo>
                  <a:pt x="17" y="2650"/>
                </a:lnTo>
                <a:lnTo>
                  <a:pt x="32" y="2849"/>
                </a:lnTo>
                <a:lnTo>
                  <a:pt x="54" y="3046"/>
                </a:lnTo>
                <a:lnTo>
                  <a:pt x="80" y="3239"/>
                </a:lnTo>
                <a:lnTo>
                  <a:pt x="111" y="3427"/>
                </a:lnTo>
                <a:lnTo>
                  <a:pt x="147" y="3611"/>
                </a:lnTo>
              </a:path>
            </a:pathLst>
          </a:custGeom>
          <a:noFill/>
          <a:ln w="5724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85"/>
          <p:cNvSpPr/>
          <p:nvPr/>
        </p:nvSpPr>
        <p:spPr>
          <a:xfrm>
            <a:off x="6588000" y="2774880"/>
            <a:ext cx="6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86"/>
          <p:cNvSpPr/>
          <p:nvPr/>
        </p:nvSpPr>
        <p:spPr>
          <a:xfrm>
            <a:off x="7286760" y="2394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88"/>
          <p:cNvSpPr/>
          <p:nvPr/>
        </p:nvSpPr>
        <p:spPr>
          <a:xfrm>
            <a:off x="5767560" y="1484280"/>
            <a:ext cx="3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89"/>
          <p:cNvSpPr/>
          <p:nvPr/>
        </p:nvSpPr>
        <p:spPr>
          <a:xfrm>
            <a:off x="6659640" y="1484280"/>
            <a:ext cx="3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99">
            <a:hlinkClick r:id="" action="ppaction://hlinkshowjump?jump=nextslide"/>
            <a:hlinkClick r:id="rId15"/>
          </p:cNvPr>
          <p:cNvSpPr/>
          <p:nvPr/>
        </p:nvSpPr>
        <p:spPr>
          <a:xfrm>
            <a:off x="8101080" y="581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00"/>
          <p:cNvSpPr/>
          <p:nvPr/>
        </p:nvSpPr>
        <p:spPr>
          <a:xfrm>
            <a:off x="407880" y="4724280"/>
            <a:ext cx="35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05"/>
          <p:cNvGrpSpPr/>
          <p:nvPr/>
        </p:nvGrpSpPr>
        <p:grpSpPr>
          <a:xfrm>
            <a:off x="900000" y="4149720"/>
            <a:ext cx="6729480" cy="2711520"/>
            <a:chOff x="900000" y="4149720"/>
            <a:chExt cx="6729480" cy="2711520"/>
          </a:xfrm>
        </p:grpSpPr>
        <p:grpSp>
          <p:nvGrpSpPr>
            <p:cNvPr id="337" name="Group 98"/>
            <p:cNvGrpSpPr/>
            <p:nvPr/>
          </p:nvGrpSpPr>
          <p:grpSpPr>
            <a:xfrm>
              <a:off x="900000" y="4149720"/>
              <a:ext cx="6553440" cy="2711520"/>
              <a:chOff x="900000" y="4149720"/>
              <a:chExt cx="6553440" cy="2711520"/>
            </a:xfrm>
          </p:grpSpPr>
          <p:pic>
            <p:nvPicPr>
              <p:cNvPr id="338" name="Picture 93" descr="扭矩_方向"/>
              <p:cNvPicPr/>
              <p:nvPr/>
            </p:nvPicPr>
            <p:blipFill>
              <a:blip r:embed="rId16"/>
              <a:stretch/>
            </p:blipFill>
            <p:spPr>
              <a:xfrm>
                <a:off x="900000" y="4149720"/>
                <a:ext cx="6553440" cy="27115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9" name="Object 94"/>
              <p:cNvGraphicFramePr/>
              <p:nvPr/>
            </p:nvGraphicFramePr>
            <p:xfrm>
              <a:off x="1908000" y="4427640"/>
              <a:ext cx="576360" cy="29664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40" name="Object 9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1908000" y="4427640"/>
                        <a:ext cx="576360" cy="29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41" name="Object 95"/>
              <p:cNvGraphicFramePr/>
              <p:nvPr/>
            </p:nvGraphicFramePr>
            <p:xfrm>
              <a:off x="6012000" y="4460760"/>
              <a:ext cx="653760" cy="33660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342" name="Object 95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6012000" y="4460760"/>
                        <a:ext cx="653760" cy="33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43" name="Object 96"/>
              <p:cNvGraphicFramePr/>
              <p:nvPr/>
            </p:nvGraphicFramePr>
            <p:xfrm>
              <a:off x="1835280" y="6308640"/>
              <a:ext cx="582480" cy="30024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344" name="Object 96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1835280" y="6308640"/>
                        <a:ext cx="582480" cy="30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45" name="Object 97"/>
              <p:cNvGraphicFramePr/>
              <p:nvPr/>
            </p:nvGraphicFramePr>
            <p:xfrm>
              <a:off x="6076800" y="6308640"/>
              <a:ext cx="582840" cy="3002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346" name="Object 97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6076800" y="6308640"/>
                        <a:ext cx="582840" cy="30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47" name="Object 101"/>
            <p:cNvGraphicFramePr/>
            <p:nvPr/>
          </p:nvGraphicFramePr>
          <p:xfrm>
            <a:off x="1046160" y="4924440"/>
            <a:ext cx="260280" cy="2318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48" name="Object 101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046160" y="4924440"/>
                      <a:ext cx="260280" cy="2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9" name="Object 102"/>
            <p:cNvGraphicFramePr/>
            <p:nvPr/>
          </p:nvGraphicFramePr>
          <p:xfrm>
            <a:off x="1052640" y="5862600"/>
            <a:ext cx="260280" cy="2444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50" name="Object 102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052640" y="5862600"/>
                      <a:ext cx="260280" cy="24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Object 103"/>
            <p:cNvGraphicFramePr/>
            <p:nvPr/>
          </p:nvGraphicFramePr>
          <p:xfrm>
            <a:off x="7367760" y="4940280"/>
            <a:ext cx="261720" cy="2332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52" name="Object 103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7367760" y="4940280"/>
                      <a:ext cx="261720" cy="23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Object 104"/>
            <p:cNvGraphicFramePr/>
            <p:nvPr/>
          </p:nvGraphicFramePr>
          <p:xfrm>
            <a:off x="7337520" y="5864400"/>
            <a:ext cx="291960" cy="2458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354" name="Object 104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337520" y="5864400"/>
                      <a:ext cx="291960" cy="24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116000" y="1700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直接计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3" descr="TORS0200"/>
          <p:cNvPicPr/>
          <p:nvPr/>
        </p:nvPicPr>
        <p:blipFill>
          <a:blip r:embed="rId1"/>
          <a:stretch/>
        </p:blipFill>
        <p:spPr>
          <a:xfrm>
            <a:off x="1835280" y="2100240"/>
            <a:ext cx="5616360" cy="421164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6486480"/>
            <a:ext cx="2050920" cy="3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二、外力偶矩 扭矩和扭矩图</a:t>
            </a: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AutoShape 7">
            <a:hlinkClick r:id="" action="ppaction://hlinkshowjump?jump=previousslide"/>
          </p:cNvPr>
          <p:cNvSpPr/>
          <p:nvPr/>
        </p:nvSpPr>
        <p:spPr>
          <a:xfrm>
            <a:off x="7812000" y="6524640"/>
            <a:ext cx="432000" cy="144360"/>
          </a:xfrm>
          <a:custGeom>
            <a:avLst/>
            <a:gdLst>
              <a:gd name="textAreaLeft" fmla="*/ 9360 w 432000"/>
              <a:gd name="textAreaRight" fmla="*/ 422640 w 432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64531" h="21600">
                <a:moveTo>
                  <a:pt x="0" y="0"/>
                </a:moveTo>
                <a:lnTo>
                  <a:pt x="64531" y="0"/>
                </a:lnTo>
                <a:lnTo>
                  <a:pt x="64531" y="21600"/>
                </a:lnTo>
                <a:lnTo>
                  <a:pt x="0" y="21600"/>
                </a:lnTo>
                <a:close/>
              </a:path>
              <a:path fill="lightenLess" w="64531" h="21600">
                <a:moveTo>
                  <a:pt x="0" y="0"/>
                </a:moveTo>
                <a:lnTo>
                  <a:pt x="64531" y="0"/>
                </a:lnTo>
                <a:lnTo>
                  <a:pt x="63131" y="1400"/>
                </a:lnTo>
                <a:lnTo>
                  <a:pt x="1400" y="1400"/>
                </a:lnTo>
                <a:close/>
              </a:path>
              <a:path fill="darken" w="64531" h="21600">
                <a:moveTo>
                  <a:pt x="64531" y="0"/>
                </a:moveTo>
                <a:lnTo>
                  <a:pt x="64531" y="21600"/>
                </a:lnTo>
                <a:lnTo>
                  <a:pt x="63131" y="20200"/>
                </a:lnTo>
                <a:lnTo>
                  <a:pt x="63131" y="1400"/>
                </a:lnTo>
                <a:close/>
              </a:path>
              <a:path fill="darkenLess" w="64531" h="21600">
                <a:moveTo>
                  <a:pt x="6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31" y="20200"/>
                </a:lnTo>
                <a:close/>
              </a:path>
              <a:path fill="lighten" w="6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31" h="21600">
                <a:moveTo>
                  <a:pt x="25259" y="10800"/>
                </a:moveTo>
                <a:lnTo>
                  <a:pt x="39272" y="3794"/>
                </a:lnTo>
                <a:lnTo>
                  <a:pt x="3927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8">
            <a:hlinkClick r:id="" action="ppaction://hlinkshowjump?jump=nextslide"/>
          </p:cNvPr>
          <p:cNvSpPr/>
          <p:nvPr/>
        </p:nvSpPr>
        <p:spPr>
          <a:xfrm>
            <a:off x="8461440" y="6524640"/>
            <a:ext cx="503280" cy="144360"/>
          </a:xfrm>
          <a:custGeom>
            <a:avLst/>
            <a:gdLst>
              <a:gd name="textAreaLeft" fmla="*/ 9360 w 503280"/>
              <a:gd name="textAreaRight" fmla="*/ 493920 w 503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75170" h="21600">
                <a:moveTo>
                  <a:pt x="0" y="0"/>
                </a:moveTo>
                <a:lnTo>
                  <a:pt x="75170" y="0"/>
                </a:lnTo>
                <a:lnTo>
                  <a:pt x="75170" y="21600"/>
                </a:lnTo>
                <a:lnTo>
                  <a:pt x="0" y="21600"/>
                </a:lnTo>
                <a:close/>
              </a:path>
              <a:path fill="lightenLess" w="75170" h="21600">
                <a:moveTo>
                  <a:pt x="0" y="0"/>
                </a:moveTo>
                <a:lnTo>
                  <a:pt x="75170" y="0"/>
                </a:lnTo>
                <a:lnTo>
                  <a:pt x="73770" y="1400"/>
                </a:lnTo>
                <a:lnTo>
                  <a:pt x="1400" y="1400"/>
                </a:lnTo>
                <a:close/>
              </a:path>
              <a:path fill="darken" w="75170" h="21600">
                <a:moveTo>
                  <a:pt x="75170" y="0"/>
                </a:moveTo>
                <a:lnTo>
                  <a:pt x="75170" y="21600"/>
                </a:lnTo>
                <a:lnTo>
                  <a:pt x="73770" y="20200"/>
                </a:lnTo>
                <a:lnTo>
                  <a:pt x="73770" y="1400"/>
                </a:lnTo>
                <a:close/>
              </a:path>
              <a:path fill="darkenLess" w="75170" h="21600">
                <a:moveTo>
                  <a:pt x="7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770" y="20200"/>
                </a:lnTo>
                <a:close/>
              </a:path>
              <a:path fill="lighten" w="7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170" h="21600">
                <a:moveTo>
                  <a:pt x="30579" y="3794"/>
                </a:moveTo>
                <a:lnTo>
                  <a:pt x="44592" y="10800"/>
                </a:lnTo>
                <a:lnTo>
                  <a:pt x="3057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9">
            <a:hlinkClick r:id="rId2" action="ppaction://hlinksldjump"/>
          </p:cNvPr>
          <p:cNvSpPr/>
          <p:nvPr/>
        </p:nvSpPr>
        <p:spPr>
          <a:xfrm>
            <a:off x="7020000" y="6524640"/>
            <a:ext cx="574560" cy="144360"/>
          </a:xfrm>
          <a:custGeom>
            <a:avLst/>
            <a:gdLst>
              <a:gd name="textAreaLeft" fmla="*/ 9360 w 574560"/>
              <a:gd name="textAreaRight" fmla="*/ 565200 w 5745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85809" h="21600">
                <a:moveTo>
                  <a:pt x="0" y="0"/>
                </a:moveTo>
                <a:lnTo>
                  <a:pt x="85809" y="0"/>
                </a:lnTo>
                <a:lnTo>
                  <a:pt x="85809" y="21600"/>
                </a:lnTo>
                <a:lnTo>
                  <a:pt x="0" y="21600"/>
                </a:lnTo>
                <a:close/>
              </a:path>
              <a:path fill="lightenLess" w="85809" h="21600">
                <a:moveTo>
                  <a:pt x="0" y="0"/>
                </a:moveTo>
                <a:lnTo>
                  <a:pt x="85809" y="0"/>
                </a:lnTo>
                <a:lnTo>
                  <a:pt x="84409" y="1400"/>
                </a:lnTo>
                <a:lnTo>
                  <a:pt x="1400" y="1400"/>
                </a:lnTo>
                <a:close/>
              </a:path>
              <a:path fill="darken" w="85809" h="21600">
                <a:moveTo>
                  <a:pt x="85809" y="0"/>
                </a:moveTo>
                <a:lnTo>
                  <a:pt x="85809" y="21600"/>
                </a:lnTo>
                <a:lnTo>
                  <a:pt x="84409" y="20200"/>
                </a:lnTo>
                <a:lnTo>
                  <a:pt x="84409" y="1400"/>
                </a:lnTo>
                <a:close/>
              </a:path>
              <a:path fill="darkenLess" w="85809" h="21600">
                <a:moveTo>
                  <a:pt x="85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409" y="20200"/>
                </a:lnTo>
                <a:close/>
              </a:path>
              <a:path fill="lighten" w="85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809" h="21600">
                <a:moveTo>
                  <a:pt x="42904" y="3837"/>
                </a:moveTo>
                <a:lnTo>
                  <a:pt x="45481" y="6448"/>
                </a:lnTo>
                <a:lnTo>
                  <a:pt x="45481" y="4707"/>
                </a:lnTo>
                <a:lnTo>
                  <a:pt x="47256" y="4707"/>
                </a:lnTo>
                <a:lnTo>
                  <a:pt x="47256" y="8224"/>
                </a:lnTo>
                <a:lnTo>
                  <a:pt x="49867" y="10800"/>
                </a:lnTo>
                <a:lnTo>
                  <a:pt x="48214" y="10800"/>
                </a:lnTo>
                <a:lnTo>
                  <a:pt x="48214" y="17989"/>
                </a:lnTo>
                <a:lnTo>
                  <a:pt x="37595" y="17989"/>
                </a:lnTo>
                <a:lnTo>
                  <a:pt x="37595" y="10800"/>
                </a:lnTo>
                <a:lnTo>
                  <a:pt x="35942" y="10800"/>
                </a:lnTo>
                <a:close/>
              </a:path>
              <a:path fill="darkenLess" w="85809" h="21600">
                <a:moveTo>
                  <a:pt x="45481" y="6448"/>
                </a:moveTo>
                <a:lnTo>
                  <a:pt x="45481" y="4707"/>
                </a:lnTo>
                <a:lnTo>
                  <a:pt x="47256" y="4707"/>
                </a:lnTo>
                <a:lnTo>
                  <a:pt x="47256" y="8224"/>
                </a:lnTo>
                <a:close/>
              </a:path>
              <a:path fill="darkenLess" w="85809" h="21600">
                <a:moveTo>
                  <a:pt x="41982" y="14299"/>
                </a:moveTo>
                <a:lnTo>
                  <a:pt x="43827" y="14299"/>
                </a:lnTo>
                <a:lnTo>
                  <a:pt x="43827" y="17989"/>
                </a:lnTo>
                <a:lnTo>
                  <a:pt x="48214" y="17989"/>
                </a:lnTo>
                <a:lnTo>
                  <a:pt x="48214" y="10800"/>
                </a:lnTo>
                <a:lnTo>
                  <a:pt x="37595" y="10800"/>
                </a:lnTo>
                <a:lnTo>
                  <a:pt x="37595" y="17989"/>
                </a:lnTo>
                <a:lnTo>
                  <a:pt x="4198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539640" y="10382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按输入功率和转速计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403280" y="37638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电机每秒输入功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4" descr="电机"/>
          <p:cNvPicPr/>
          <p:nvPr/>
        </p:nvPicPr>
        <p:blipFill>
          <a:blip r:embed="rId1"/>
          <a:stretch/>
        </p:blipFill>
        <p:spPr>
          <a:xfrm>
            <a:off x="250920" y="1557360"/>
            <a:ext cx="4916520" cy="18716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5"/>
          <p:cNvSpPr/>
          <p:nvPr/>
        </p:nvSpPr>
        <p:spPr>
          <a:xfrm>
            <a:off x="1403280" y="43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外力偶作功完成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4781520" y="3821040"/>
                <a:ext cx="2448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4287960" y="4292640"/>
                <a:ext cx="18684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AutoShape 8">
            <a:hlinkClick r:id="" action="ppaction://hlinkshowjump?jump=previousslide"/>
          </p:cNvPr>
          <p:cNvSpPr/>
          <p:nvPr/>
        </p:nvSpPr>
        <p:spPr>
          <a:xfrm>
            <a:off x="7812000" y="6524640"/>
            <a:ext cx="432000" cy="144360"/>
          </a:xfrm>
          <a:custGeom>
            <a:avLst/>
            <a:gdLst>
              <a:gd name="textAreaLeft" fmla="*/ 9360 w 432000"/>
              <a:gd name="textAreaRight" fmla="*/ 422640 w 432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64531" h="21600">
                <a:moveTo>
                  <a:pt x="0" y="0"/>
                </a:moveTo>
                <a:lnTo>
                  <a:pt x="64531" y="0"/>
                </a:lnTo>
                <a:lnTo>
                  <a:pt x="64531" y="21600"/>
                </a:lnTo>
                <a:lnTo>
                  <a:pt x="0" y="21600"/>
                </a:lnTo>
                <a:close/>
              </a:path>
              <a:path fill="lightenLess" w="64531" h="21600">
                <a:moveTo>
                  <a:pt x="0" y="0"/>
                </a:moveTo>
                <a:lnTo>
                  <a:pt x="64531" y="0"/>
                </a:lnTo>
                <a:lnTo>
                  <a:pt x="63131" y="1400"/>
                </a:lnTo>
                <a:lnTo>
                  <a:pt x="1400" y="1400"/>
                </a:lnTo>
                <a:close/>
              </a:path>
              <a:path fill="darken" w="64531" h="21600">
                <a:moveTo>
                  <a:pt x="64531" y="0"/>
                </a:moveTo>
                <a:lnTo>
                  <a:pt x="64531" y="21600"/>
                </a:lnTo>
                <a:lnTo>
                  <a:pt x="63131" y="20200"/>
                </a:lnTo>
                <a:lnTo>
                  <a:pt x="63131" y="1400"/>
                </a:lnTo>
                <a:close/>
              </a:path>
              <a:path fill="darkenLess" w="64531" h="21600">
                <a:moveTo>
                  <a:pt x="6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31" y="20200"/>
                </a:lnTo>
                <a:close/>
              </a:path>
              <a:path fill="lighten" w="6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31" h="21600">
                <a:moveTo>
                  <a:pt x="25259" y="10800"/>
                </a:moveTo>
                <a:lnTo>
                  <a:pt x="39272" y="3794"/>
                </a:lnTo>
                <a:lnTo>
                  <a:pt x="3927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9">
            <a:hlinkClick r:id="" action="ppaction://hlinkshowjump?jump=nextslide"/>
          </p:cNvPr>
          <p:cNvSpPr/>
          <p:nvPr/>
        </p:nvSpPr>
        <p:spPr>
          <a:xfrm>
            <a:off x="8461440" y="6524640"/>
            <a:ext cx="503280" cy="144360"/>
          </a:xfrm>
          <a:custGeom>
            <a:avLst/>
            <a:gdLst>
              <a:gd name="textAreaLeft" fmla="*/ 9360 w 503280"/>
              <a:gd name="textAreaRight" fmla="*/ 493920 w 503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75170" h="21600">
                <a:moveTo>
                  <a:pt x="0" y="0"/>
                </a:moveTo>
                <a:lnTo>
                  <a:pt x="75170" y="0"/>
                </a:lnTo>
                <a:lnTo>
                  <a:pt x="75170" y="21600"/>
                </a:lnTo>
                <a:lnTo>
                  <a:pt x="0" y="21600"/>
                </a:lnTo>
                <a:close/>
              </a:path>
              <a:path fill="lightenLess" w="75170" h="21600">
                <a:moveTo>
                  <a:pt x="0" y="0"/>
                </a:moveTo>
                <a:lnTo>
                  <a:pt x="75170" y="0"/>
                </a:lnTo>
                <a:lnTo>
                  <a:pt x="73770" y="1400"/>
                </a:lnTo>
                <a:lnTo>
                  <a:pt x="1400" y="1400"/>
                </a:lnTo>
                <a:close/>
              </a:path>
              <a:path fill="darken" w="75170" h="21600">
                <a:moveTo>
                  <a:pt x="75170" y="0"/>
                </a:moveTo>
                <a:lnTo>
                  <a:pt x="75170" y="21600"/>
                </a:lnTo>
                <a:lnTo>
                  <a:pt x="73770" y="20200"/>
                </a:lnTo>
                <a:lnTo>
                  <a:pt x="73770" y="1400"/>
                </a:lnTo>
                <a:close/>
              </a:path>
              <a:path fill="darkenLess" w="75170" h="21600">
                <a:moveTo>
                  <a:pt x="7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770" y="20200"/>
                </a:lnTo>
                <a:close/>
              </a:path>
              <a:path fill="lighten" w="7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170" h="21600">
                <a:moveTo>
                  <a:pt x="30579" y="3794"/>
                </a:moveTo>
                <a:lnTo>
                  <a:pt x="44592" y="10800"/>
                </a:lnTo>
                <a:lnTo>
                  <a:pt x="3057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Group 10"/>
          <p:cNvGrpSpPr/>
          <p:nvPr/>
        </p:nvGrpSpPr>
        <p:grpSpPr>
          <a:xfrm>
            <a:off x="1619280" y="5157720"/>
            <a:ext cx="6388200" cy="884160"/>
            <a:chOff x="1619280" y="5157720"/>
            <a:chExt cx="6388200" cy="884160"/>
          </a:xfrm>
        </p:grpSpPr>
        <p:pic>
          <p:nvPicPr>
            <p:cNvPr id="371" name="Picture 11" descr="电机功率3"/>
            <p:cNvPicPr/>
            <p:nvPr/>
          </p:nvPicPr>
          <p:blipFill>
            <a:blip r:embed="rId2"/>
            <a:stretch/>
          </p:blipFill>
          <p:spPr>
            <a:xfrm>
              <a:off x="1619280" y="5229360"/>
              <a:ext cx="6388200" cy="812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2" name="Object 12"/>
                <p:cNvSpPr txBox="1"/>
                <p:nvPr/>
              </p:nvSpPr>
              <p:spPr>
                <a:xfrm>
                  <a:off x="3995640" y="5157720"/>
                  <a:ext cx="343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3" name="Object 13"/>
                <p:cNvSpPr txBox="1"/>
                <p:nvPr/>
              </p:nvSpPr>
              <p:spPr>
                <a:xfrm>
                  <a:off x="5651640" y="5157720"/>
                  <a:ext cx="34272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4" name="Text Box 14"/>
          <p:cNvSpPr/>
          <p:nvPr/>
        </p:nvSpPr>
        <p:spPr>
          <a:xfrm>
            <a:off x="5508720" y="1484280"/>
            <a:ext cx="34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已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轴转速－</a:t>
            </a:r>
            <a:r>
              <a:rPr b="1" i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n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转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分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输出功率－</a:t>
            </a:r>
            <a:r>
              <a:rPr b="1" i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k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千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求：力偶矩</a:t>
            </a:r>
            <a:r>
              <a:rPr b="1" i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15">
            <a:hlinkClick r:id="rId3" action="ppaction://hlinksldjump"/>
          </p:cNvPr>
          <p:cNvSpPr/>
          <p:nvPr/>
        </p:nvSpPr>
        <p:spPr>
          <a:xfrm>
            <a:off x="7020000" y="6524640"/>
            <a:ext cx="574560" cy="144360"/>
          </a:xfrm>
          <a:custGeom>
            <a:avLst/>
            <a:gdLst>
              <a:gd name="textAreaLeft" fmla="*/ 9360 w 574560"/>
              <a:gd name="textAreaRight" fmla="*/ 565200 w 5745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85809" h="21600">
                <a:moveTo>
                  <a:pt x="0" y="0"/>
                </a:moveTo>
                <a:lnTo>
                  <a:pt x="85809" y="0"/>
                </a:lnTo>
                <a:lnTo>
                  <a:pt x="85809" y="21600"/>
                </a:lnTo>
                <a:lnTo>
                  <a:pt x="0" y="21600"/>
                </a:lnTo>
                <a:close/>
              </a:path>
              <a:path fill="lightenLess" w="85809" h="21600">
                <a:moveTo>
                  <a:pt x="0" y="0"/>
                </a:moveTo>
                <a:lnTo>
                  <a:pt x="85809" y="0"/>
                </a:lnTo>
                <a:lnTo>
                  <a:pt x="84409" y="1400"/>
                </a:lnTo>
                <a:lnTo>
                  <a:pt x="1400" y="1400"/>
                </a:lnTo>
                <a:close/>
              </a:path>
              <a:path fill="darken" w="85809" h="21600">
                <a:moveTo>
                  <a:pt x="85809" y="0"/>
                </a:moveTo>
                <a:lnTo>
                  <a:pt x="85809" y="21600"/>
                </a:lnTo>
                <a:lnTo>
                  <a:pt x="84409" y="20200"/>
                </a:lnTo>
                <a:lnTo>
                  <a:pt x="84409" y="1400"/>
                </a:lnTo>
                <a:close/>
              </a:path>
              <a:path fill="darkenLess" w="85809" h="21600">
                <a:moveTo>
                  <a:pt x="85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409" y="20200"/>
                </a:lnTo>
                <a:close/>
              </a:path>
              <a:path fill="lighten" w="85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809" h="21600">
                <a:moveTo>
                  <a:pt x="42904" y="3837"/>
                </a:moveTo>
                <a:lnTo>
                  <a:pt x="45481" y="6448"/>
                </a:lnTo>
                <a:lnTo>
                  <a:pt x="45481" y="4707"/>
                </a:lnTo>
                <a:lnTo>
                  <a:pt x="47256" y="4707"/>
                </a:lnTo>
                <a:lnTo>
                  <a:pt x="47256" y="8224"/>
                </a:lnTo>
                <a:lnTo>
                  <a:pt x="49867" y="10800"/>
                </a:lnTo>
                <a:lnTo>
                  <a:pt x="48214" y="10800"/>
                </a:lnTo>
                <a:lnTo>
                  <a:pt x="48214" y="17989"/>
                </a:lnTo>
                <a:lnTo>
                  <a:pt x="37595" y="17989"/>
                </a:lnTo>
                <a:lnTo>
                  <a:pt x="37595" y="10800"/>
                </a:lnTo>
                <a:lnTo>
                  <a:pt x="35942" y="10800"/>
                </a:lnTo>
                <a:close/>
              </a:path>
              <a:path fill="darkenLess" w="85809" h="21600">
                <a:moveTo>
                  <a:pt x="45481" y="6448"/>
                </a:moveTo>
                <a:lnTo>
                  <a:pt x="45481" y="4707"/>
                </a:lnTo>
                <a:lnTo>
                  <a:pt x="47256" y="4707"/>
                </a:lnTo>
                <a:lnTo>
                  <a:pt x="47256" y="8224"/>
                </a:lnTo>
                <a:close/>
              </a:path>
              <a:path fill="darkenLess" w="85809" h="21600">
                <a:moveTo>
                  <a:pt x="41982" y="14299"/>
                </a:moveTo>
                <a:lnTo>
                  <a:pt x="43827" y="14299"/>
                </a:lnTo>
                <a:lnTo>
                  <a:pt x="43827" y="17989"/>
                </a:lnTo>
                <a:lnTo>
                  <a:pt x="48214" y="17989"/>
                </a:lnTo>
                <a:lnTo>
                  <a:pt x="48214" y="10800"/>
                </a:lnTo>
                <a:lnTo>
                  <a:pt x="37595" y="10800"/>
                </a:lnTo>
                <a:lnTo>
                  <a:pt x="37595" y="17989"/>
                </a:lnTo>
                <a:lnTo>
                  <a:pt x="4198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章  扭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章  扭转  例一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971640" y="765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扭矩和扭矩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900000" y="1125360"/>
            <a:ext cx="77043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如图所示，在转速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n=300r/min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的传动轴上共有三个轮子，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为主动轮，输入功率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=50kW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为从动轮，输出功率分别为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=30kW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， 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=20kW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试求轴上各截面扭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reeform 10"/>
          <p:cNvSpPr/>
          <p:nvPr/>
        </p:nvSpPr>
        <p:spPr>
          <a:xfrm>
            <a:off x="4181400" y="2978280"/>
            <a:ext cx="385920" cy="1457280"/>
          </a:xfrm>
          <a:custGeom>
            <a:avLst/>
            <a:gdLst>
              <a:gd name="textAreaLeft" fmla="*/ 0 w 385920"/>
              <a:gd name="textAreaRight" fmla="*/ 386280 w 3859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1041" h="2281">
                <a:moveTo>
                  <a:pt x="0" y="1279"/>
                </a:moveTo>
                <a:lnTo>
                  <a:pt x="6" y="1358"/>
                </a:lnTo>
                <a:lnTo>
                  <a:pt x="13" y="1437"/>
                </a:lnTo>
                <a:lnTo>
                  <a:pt x="25" y="1513"/>
                </a:lnTo>
                <a:lnTo>
                  <a:pt x="38" y="1588"/>
                </a:lnTo>
                <a:lnTo>
                  <a:pt x="54" y="1660"/>
                </a:lnTo>
                <a:lnTo>
                  <a:pt x="72" y="1730"/>
                </a:lnTo>
                <a:lnTo>
                  <a:pt x="92" y="1798"/>
                </a:lnTo>
                <a:lnTo>
                  <a:pt x="113" y="1861"/>
                </a:lnTo>
                <a:lnTo>
                  <a:pt x="137" y="1922"/>
                </a:lnTo>
                <a:lnTo>
                  <a:pt x="164" y="1978"/>
                </a:lnTo>
                <a:lnTo>
                  <a:pt x="191" y="2030"/>
                </a:lnTo>
                <a:lnTo>
                  <a:pt x="221" y="2078"/>
                </a:lnTo>
                <a:lnTo>
                  <a:pt x="252" y="2122"/>
                </a:lnTo>
                <a:lnTo>
                  <a:pt x="283" y="2160"/>
                </a:lnTo>
                <a:lnTo>
                  <a:pt x="317" y="2194"/>
                </a:lnTo>
                <a:lnTo>
                  <a:pt x="351" y="2221"/>
                </a:lnTo>
                <a:lnTo>
                  <a:pt x="386" y="2245"/>
                </a:lnTo>
                <a:lnTo>
                  <a:pt x="422" y="2262"/>
                </a:lnTo>
                <a:lnTo>
                  <a:pt x="458" y="2274"/>
                </a:lnTo>
                <a:lnTo>
                  <a:pt x="495" y="2281"/>
                </a:lnTo>
                <a:lnTo>
                  <a:pt x="531" y="2281"/>
                </a:lnTo>
                <a:lnTo>
                  <a:pt x="568" y="2276"/>
                </a:lnTo>
                <a:lnTo>
                  <a:pt x="604" y="2266"/>
                </a:lnTo>
                <a:lnTo>
                  <a:pt x="640" y="2250"/>
                </a:lnTo>
                <a:lnTo>
                  <a:pt x="676" y="2229"/>
                </a:lnTo>
                <a:lnTo>
                  <a:pt x="710" y="2201"/>
                </a:lnTo>
                <a:lnTo>
                  <a:pt x="744" y="2169"/>
                </a:lnTo>
                <a:lnTo>
                  <a:pt x="777" y="2132"/>
                </a:lnTo>
                <a:lnTo>
                  <a:pt x="808" y="2090"/>
                </a:lnTo>
                <a:lnTo>
                  <a:pt x="837" y="2043"/>
                </a:lnTo>
                <a:lnTo>
                  <a:pt x="866" y="1993"/>
                </a:lnTo>
                <a:lnTo>
                  <a:pt x="892" y="1937"/>
                </a:lnTo>
                <a:lnTo>
                  <a:pt x="917" y="1877"/>
                </a:lnTo>
                <a:lnTo>
                  <a:pt x="940" y="1815"/>
                </a:lnTo>
                <a:lnTo>
                  <a:pt x="960" y="1748"/>
                </a:lnTo>
                <a:lnTo>
                  <a:pt x="978" y="1679"/>
                </a:lnTo>
                <a:lnTo>
                  <a:pt x="995" y="1607"/>
                </a:lnTo>
                <a:lnTo>
                  <a:pt x="1009" y="1533"/>
                </a:lnTo>
                <a:lnTo>
                  <a:pt x="1020" y="1457"/>
                </a:lnTo>
                <a:lnTo>
                  <a:pt x="1029" y="1380"/>
                </a:lnTo>
                <a:lnTo>
                  <a:pt x="1035" y="1300"/>
                </a:lnTo>
                <a:lnTo>
                  <a:pt x="1039" y="1221"/>
                </a:lnTo>
                <a:lnTo>
                  <a:pt x="1041" y="1140"/>
                </a:lnTo>
                <a:lnTo>
                  <a:pt x="1039" y="1061"/>
                </a:lnTo>
                <a:lnTo>
                  <a:pt x="1035" y="980"/>
                </a:lnTo>
                <a:lnTo>
                  <a:pt x="1029" y="902"/>
                </a:lnTo>
                <a:lnTo>
                  <a:pt x="1020" y="824"/>
                </a:lnTo>
                <a:lnTo>
                  <a:pt x="1009" y="747"/>
                </a:lnTo>
                <a:lnTo>
                  <a:pt x="995" y="673"/>
                </a:lnTo>
                <a:lnTo>
                  <a:pt x="978" y="601"/>
                </a:lnTo>
                <a:lnTo>
                  <a:pt x="960" y="533"/>
                </a:lnTo>
                <a:lnTo>
                  <a:pt x="940" y="466"/>
                </a:lnTo>
                <a:lnTo>
                  <a:pt x="917" y="403"/>
                </a:lnTo>
                <a:lnTo>
                  <a:pt x="892" y="344"/>
                </a:lnTo>
                <a:lnTo>
                  <a:pt x="866" y="289"/>
                </a:lnTo>
                <a:lnTo>
                  <a:pt x="837" y="237"/>
                </a:lnTo>
                <a:lnTo>
                  <a:pt x="808" y="191"/>
                </a:lnTo>
                <a:lnTo>
                  <a:pt x="777" y="149"/>
                </a:lnTo>
                <a:lnTo>
                  <a:pt x="744" y="111"/>
                </a:lnTo>
                <a:lnTo>
                  <a:pt x="710" y="79"/>
                </a:lnTo>
                <a:lnTo>
                  <a:pt x="676" y="53"/>
                </a:lnTo>
                <a:lnTo>
                  <a:pt x="640" y="31"/>
                </a:lnTo>
                <a:lnTo>
                  <a:pt x="604" y="15"/>
                </a:lnTo>
                <a:lnTo>
                  <a:pt x="568" y="4"/>
                </a:lnTo>
                <a:lnTo>
                  <a:pt x="531" y="0"/>
                </a:lnTo>
                <a:lnTo>
                  <a:pt x="495" y="1"/>
                </a:lnTo>
                <a:lnTo>
                  <a:pt x="458" y="7"/>
                </a:lnTo>
                <a:lnTo>
                  <a:pt x="422" y="19"/>
                </a:lnTo>
                <a:lnTo>
                  <a:pt x="386" y="36"/>
                </a:lnTo>
                <a:lnTo>
                  <a:pt x="351" y="59"/>
                </a:lnTo>
                <a:lnTo>
                  <a:pt x="317" y="88"/>
                </a:lnTo>
                <a:lnTo>
                  <a:pt x="283" y="121"/>
                </a:lnTo>
                <a:lnTo>
                  <a:pt x="252" y="160"/>
                </a:lnTo>
                <a:lnTo>
                  <a:pt x="221" y="203"/>
                </a:lnTo>
                <a:lnTo>
                  <a:pt x="191" y="251"/>
                </a:lnTo>
                <a:lnTo>
                  <a:pt x="164" y="303"/>
                </a:lnTo>
                <a:lnTo>
                  <a:pt x="137" y="360"/>
                </a:lnTo>
                <a:lnTo>
                  <a:pt x="113" y="420"/>
                </a:lnTo>
                <a:lnTo>
                  <a:pt x="92" y="484"/>
                </a:lnTo>
                <a:lnTo>
                  <a:pt x="72" y="551"/>
                </a:lnTo>
                <a:lnTo>
                  <a:pt x="54" y="620"/>
                </a:lnTo>
                <a:lnTo>
                  <a:pt x="38" y="693"/>
                </a:lnTo>
                <a:lnTo>
                  <a:pt x="25" y="768"/>
                </a:lnTo>
                <a:lnTo>
                  <a:pt x="13" y="845"/>
                </a:lnTo>
                <a:lnTo>
                  <a:pt x="6" y="923"/>
                </a:lnTo>
                <a:lnTo>
                  <a:pt x="0" y="100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373640" y="2978280"/>
            <a:ext cx="25092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4376880" y="4435560"/>
            <a:ext cx="2523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Freeform 13"/>
          <p:cNvSpPr/>
          <p:nvPr/>
        </p:nvSpPr>
        <p:spPr>
          <a:xfrm>
            <a:off x="4621320" y="2978280"/>
            <a:ext cx="195120" cy="1457280"/>
          </a:xfrm>
          <a:custGeom>
            <a:avLst/>
            <a:gdLst>
              <a:gd name="textAreaLeft" fmla="*/ 0 w 195120"/>
              <a:gd name="textAreaRight" fmla="*/ 195480 w 1951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529" h="2282">
                <a:moveTo>
                  <a:pt x="0" y="2282"/>
                </a:moveTo>
                <a:lnTo>
                  <a:pt x="36" y="2280"/>
                </a:lnTo>
                <a:lnTo>
                  <a:pt x="73" y="2272"/>
                </a:lnTo>
                <a:lnTo>
                  <a:pt x="109" y="2259"/>
                </a:lnTo>
                <a:lnTo>
                  <a:pt x="144" y="2241"/>
                </a:lnTo>
                <a:lnTo>
                  <a:pt x="179" y="2218"/>
                </a:lnTo>
                <a:lnTo>
                  <a:pt x="214" y="2190"/>
                </a:lnTo>
                <a:lnTo>
                  <a:pt x="247" y="2155"/>
                </a:lnTo>
                <a:lnTo>
                  <a:pt x="278" y="2115"/>
                </a:lnTo>
                <a:lnTo>
                  <a:pt x="309" y="2072"/>
                </a:lnTo>
                <a:lnTo>
                  <a:pt x="339" y="2023"/>
                </a:lnTo>
                <a:lnTo>
                  <a:pt x="366" y="1970"/>
                </a:lnTo>
                <a:lnTo>
                  <a:pt x="392" y="1913"/>
                </a:lnTo>
                <a:lnTo>
                  <a:pt x="415" y="1853"/>
                </a:lnTo>
                <a:lnTo>
                  <a:pt x="437" y="1788"/>
                </a:lnTo>
                <a:lnTo>
                  <a:pt x="457" y="1722"/>
                </a:lnTo>
                <a:lnTo>
                  <a:pt x="474" y="1651"/>
                </a:lnTo>
                <a:lnTo>
                  <a:pt x="490" y="1579"/>
                </a:lnTo>
                <a:lnTo>
                  <a:pt x="503" y="1503"/>
                </a:lnTo>
                <a:lnTo>
                  <a:pt x="514" y="1426"/>
                </a:lnTo>
                <a:lnTo>
                  <a:pt x="521" y="1349"/>
                </a:lnTo>
                <a:lnTo>
                  <a:pt x="526" y="1269"/>
                </a:lnTo>
                <a:lnTo>
                  <a:pt x="529" y="1189"/>
                </a:lnTo>
                <a:lnTo>
                  <a:pt x="529" y="1110"/>
                </a:lnTo>
                <a:lnTo>
                  <a:pt x="527" y="1029"/>
                </a:lnTo>
                <a:lnTo>
                  <a:pt x="523" y="950"/>
                </a:lnTo>
                <a:lnTo>
                  <a:pt x="516" y="871"/>
                </a:lnTo>
                <a:lnTo>
                  <a:pt x="505" y="795"/>
                </a:lnTo>
                <a:lnTo>
                  <a:pt x="493" y="719"/>
                </a:lnTo>
                <a:lnTo>
                  <a:pt x="479" y="646"/>
                </a:lnTo>
                <a:lnTo>
                  <a:pt x="462" y="575"/>
                </a:lnTo>
                <a:lnTo>
                  <a:pt x="442" y="507"/>
                </a:lnTo>
                <a:lnTo>
                  <a:pt x="420" y="443"/>
                </a:lnTo>
                <a:lnTo>
                  <a:pt x="397" y="380"/>
                </a:lnTo>
                <a:lnTo>
                  <a:pt x="372" y="323"/>
                </a:lnTo>
                <a:lnTo>
                  <a:pt x="345" y="269"/>
                </a:lnTo>
                <a:lnTo>
                  <a:pt x="316" y="219"/>
                </a:lnTo>
                <a:lnTo>
                  <a:pt x="286" y="175"/>
                </a:lnTo>
                <a:lnTo>
                  <a:pt x="254" y="134"/>
                </a:lnTo>
                <a:lnTo>
                  <a:pt x="221" y="99"/>
                </a:lnTo>
                <a:lnTo>
                  <a:pt x="187" y="69"/>
                </a:lnTo>
                <a:lnTo>
                  <a:pt x="152" y="44"/>
                </a:lnTo>
                <a:lnTo>
                  <a:pt x="116" y="24"/>
                </a:lnTo>
                <a:lnTo>
                  <a:pt x="80" y="11"/>
                </a:lnTo>
                <a:lnTo>
                  <a:pt x="44" y="2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14"/>
          <p:cNvSpPr/>
          <p:nvPr/>
        </p:nvSpPr>
        <p:spPr>
          <a:xfrm>
            <a:off x="2340000" y="3618000"/>
            <a:ext cx="77760" cy="176040"/>
          </a:xfrm>
          <a:custGeom>
            <a:avLst/>
            <a:gdLst>
              <a:gd name="textAreaLeft" fmla="*/ 0 w 77760"/>
              <a:gd name="textAreaRight" fmla="*/ 78120 w 777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3" h="277">
                <a:moveTo>
                  <a:pt x="107" y="0"/>
                </a:moveTo>
                <a:lnTo>
                  <a:pt x="87" y="3"/>
                </a:lnTo>
                <a:lnTo>
                  <a:pt x="67" y="10"/>
                </a:lnTo>
                <a:lnTo>
                  <a:pt x="49" y="22"/>
                </a:lnTo>
                <a:lnTo>
                  <a:pt x="33" y="38"/>
                </a:lnTo>
                <a:lnTo>
                  <a:pt x="20" y="58"/>
                </a:lnTo>
                <a:lnTo>
                  <a:pt x="10" y="81"/>
                </a:lnTo>
                <a:lnTo>
                  <a:pt x="3" y="105"/>
                </a:lnTo>
                <a:lnTo>
                  <a:pt x="0" y="132"/>
                </a:lnTo>
                <a:lnTo>
                  <a:pt x="1" y="158"/>
                </a:lnTo>
                <a:lnTo>
                  <a:pt x="7" y="184"/>
                </a:lnTo>
                <a:lnTo>
                  <a:pt x="15" y="208"/>
                </a:lnTo>
                <a:lnTo>
                  <a:pt x="27" y="229"/>
                </a:lnTo>
                <a:lnTo>
                  <a:pt x="40" y="247"/>
                </a:lnTo>
                <a:lnTo>
                  <a:pt x="58" y="262"/>
                </a:lnTo>
                <a:lnTo>
                  <a:pt x="76" y="272"/>
                </a:lnTo>
                <a:lnTo>
                  <a:pt x="97" y="277"/>
                </a:lnTo>
                <a:lnTo>
                  <a:pt x="117" y="277"/>
                </a:lnTo>
                <a:lnTo>
                  <a:pt x="137" y="272"/>
                </a:lnTo>
                <a:lnTo>
                  <a:pt x="156" y="262"/>
                </a:lnTo>
                <a:lnTo>
                  <a:pt x="173" y="247"/>
                </a:lnTo>
                <a:lnTo>
                  <a:pt x="188" y="229"/>
                </a:lnTo>
                <a:lnTo>
                  <a:pt x="199" y="208"/>
                </a:lnTo>
                <a:lnTo>
                  <a:pt x="208" y="184"/>
                </a:lnTo>
                <a:lnTo>
                  <a:pt x="212" y="158"/>
                </a:lnTo>
                <a:lnTo>
                  <a:pt x="213" y="132"/>
                </a:lnTo>
                <a:lnTo>
                  <a:pt x="211" y="105"/>
                </a:lnTo>
                <a:lnTo>
                  <a:pt x="204" y="81"/>
                </a:lnTo>
                <a:lnTo>
                  <a:pt x="194" y="58"/>
                </a:lnTo>
                <a:lnTo>
                  <a:pt x="180" y="38"/>
                </a:lnTo>
                <a:lnTo>
                  <a:pt x="164" y="22"/>
                </a:lnTo>
                <a:lnTo>
                  <a:pt x="146" y="10"/>
                </a:lnTo>
                <a:lnTo>
                  <a:pt x="127" y="3"/>
                </a:lnTo>
                <a:lnTo>
                  <a:pt x="10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Freeform 15"/>
          <p:cNvSpPr/>
          <p:nvPr/>
        </p:nvSpPr>
        <p:spPr>
          <a:xfrm>
            <a:off x="6572160" y="3618000"/>
            <a:ext cx="79560" cy="176040"/>
          </a:xfrm>
          <a:custGeom>
            <a:avLst/>
            <a:gdLst>
              <a:gd name="textAreaLeft" fmla="*/ 0 w 79560"/>
              <a:gd name="textAreaRight" fmla="*/ 79920 w 795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4" h="277">
                <a:moveTo>
                  <a:pt x="107" y="0"/>
                </a:moveTo>
                <a:lnTo>
                  <a:pt x="87" y="3"/>
                </a:lnTo>
                <a:lnTo>
                  <a:pt x="67" y="10"/>
                </a:lnTo>
                <a:lnTo>
                  <a:pt x="49" y="22"/>
                </a:lnTo>
                <a:lnTo>
                  <a:pt x="34" y="38"/>
                </a:lnTo>
                <a:lnTo>
                  <a:pt x="20" y="58"/>
                </a:lnTo>
                <a:lnTo>
                  <a:pt x="9" y="81"/>
                </a:lnTo>
                <a:lnTo>
                  <a:pt x="3" y="105"/>
                </a:lnTo>
                <a:lnTo>
                  <a:pt x="0" y="132"/>
                </a:lnTo>
                <a:lnTo>
                  <a:pt x="1" y="158"/>
                </a:lnTo>
                <a:lnTo>
                  <a:pt x="6" y="184"/>
                </a:lnTo>
                <a:lnTo>
                  <a:pt x="15" y="208"/>
                </a:lnTo>
                <a:lnTo>
                  <a:pt x="26" y="229"/>
                </a:lnTo>
                <a:lnTo>
                  <a:pt x="41" y="247"/>
                </a:lnTo>
                <a:lnTo>
                  <a:pt x="58" y="262"/>
                </a:lnTo>
                <a:lnTo>
                  <a:pt x="77" y="272"/>
                </a:lnTo>
                <a:lnTo>
                  <a:pt x="96" y="277"/>
                </a:lnTo>
                <a:lnTo>
                  <a:pt x="117" y="277"/>
                </a:lnTo>
                <a:lnTo>
                  <a:pt x="136" y="272"/>
                </a:lnTo>
                <a:lnTo>
                  <a:pt x="155" y="262"/>
                </a:lnTo>
                <a:lnTo>
                  <a:pt x="172" y="247"/>
                </a:lnTo>
                <a:lnTo>
                  <a:pt x="187" y="229"/>
                </a:lnTo>
                <a:lnTo>
                  <a:pt x="199" y="208"/>
                </a:lnTo>
                <a:lnTo>
                  <a:pt x="207" y="184"/>
                </a:lnTo>
                <a:lnTo>
                  <a:pt x="213" y="158"/>
                </a:lnTo>
                <a:lnTo>
                  <a:pt x="214" y="132"/>
                </a:lnTo>
                <a:lnTo>
                  <a:pt x="210" y="105"/>
                </a:lnTo>
                <a:lnTo>
                  <a:pt x="204" y="81"/>
                </a:lnTo>
                <a:lnTo>
                  <a:pt x="193" y="58"/>
                </a:lnTo>
                <a:lnTo>
                  <a:pt x="181" y="38"/>
                </a:lnTo>
                <a:lnTo>
                  <a:pt x="164" y="22"/>
                </a:lnTo>
                <a:lnTo>
                  <a:pt x="146" y="10"/>
                </a:lnTo>
                <a:lnTo>
                  <a:pt x="127" y="3"/>
                </a:lnTo>
                <a:lnTo>
                  <a:pt x="10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2379600" y="3618000"/>
            <a:ext cx="639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2379600" y="3794040"/>
            <a:ext cx="639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4371840" y="361800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4371840" y="379404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20"/>
          <p:cNvSpPr/>
          <p:nvPr/>
        </p:nvSpPr>
        <p:spPr>
          <a:xfrm>
            <a:off x="4371840" y="3618000"/>
            <a:ext cx="39960" cy="176040"/>
          </a:xfrm>
          <a:custGeom>
            <a:avLst/>
            <a:gdLst>
              <a:gd name="textAreaLeft" fmla="*/ 0 w 39960"/>
              <a:gd name="textAreaRight" fmla="*/ 40320 w 399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08" h="277">
                <a:moveTo>
                  <a:pt x="0" y="277"/>
                </a:moveTo>
                <a:lnTo>
                  <a:pt x="14" y="276"/>
                </a:lnTo>
                <a:lnTo>
                  <a:pt x="28" y="273"/>
                </a:lnTo>
                <a:lnTo>
                  <a:pt x="41" y="267"/>
                </a:lnTo>
                <a:lnTo>
                  <a:pt x="52" y="261"/>
                </a:lnTo>
                <a:lnTo>
                  <a:pt x="64" y="252"/>
                </a:lnTo>
                <a:lnTo>
                  <a:pt x="75" y="240"/>
                </a:lnTo>
                <a:lnTo>
                  <a:pt x="84" y="227"/>
                </a:lnTo>
                <a:lnTo>
                  <a:pt x="91" y="213"/>
                </a:lnTo>
                <a:lnTo>
                  <a:pt x="99" y="199"/>
                </a:lnTo>
                <a:lnTo>
                  <a:pt x="103" y="182"/>
                </a:lnTo>
                <a:lnTo>
                  <a:pt x="107" y="165"/>
                </a:lnTo>
                <a:lnTo>
                  <a:pt x="108" y="148"/>
                </a:lnTo>
                <a:lnTo>
                  <a:pt x="108" y="130"/>
                </a:lnTo>
                <a:lnTo>
                  <a:pt x="107" y="113"/>
                </a:lnTo>
                <a:lnTo>
                  <a:pt x="104" y="96"/>
                </a:lnTo>
                <a:lnTo>
                  <a:pt x="99" y="79"/>
                </a:lnTo>
                <a:lnTo>
                  <a:pt x="93" y="64"/>
                </a:lnTo>
                <a:lnTo>
                  <a:pt x="84" y="50"/>
                </a:lnTo>
                <a:lnTo>
                  <a:pt x="76" y="38"/>
                </a:lnTo>
                <a:lnTo>
                  <a:pt x="65" y="26"/>
                </a:lnTo>
                <a:lnTo>
                  <a:pt x="53" y="17"/>
                </a:lnTo>
                <a:lnTo>
                  <a:pt x="41" y="9"/>
                </a:lnTo>
                <a:lnTo>
                  <a:pt x="28" y="4"/>
                </a:lnTo>
                <a:lnTo>
                  <a:pt x="15" y="1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21"/>
          <p:cNvSpPr/>
          <p:nvPr/>
        </p:nvSpPr>
        <p:spPr>
          <a:xfrm>
            <a:off x="3166920" y="3303720"/>
            <a:ext cx="117720" cy="874440"/>
          </a:xfrm>
          <a:custGeom>
            <a:avLst/>
            <a:gdLst>
              <a:gd name="textAreaLeft" fmla="*/ 0 w 117720"/>
              <a:gd name="textAreaRight" fmla="*/ 118080 w 117720"/>
              <a:gd name="textAreaTop" fmla="*/ 0 h 874440"/>
              <a:gd name="textAreaBottom" fmla="*/ 874800 h 874440"/>
            </a:gdLst>
            <a:ahLst/>
            <a:rect l="textAreaLeft" t="textAreaTop" r="textAreaRight" b="textAreaBottom"/>
            <a:pathLst>
              <a:path w="318" h="1369">
                <a:moveTo>
                  <a:pt x="0" y="1369"/>
                </a:moveTo>
                <a:lnTo>
                  <a:pt x="29" y="1367"/>
                </a:lnTo>
                <a:lnTo>
                  <a:pt x="56" y="1360"/>
                </a:lnTo>
                <a:lnTo>
                  <a:pt x="84" y="1347"/>
                </a:lnTo>
                <a:lnTo>
                  <a:pt x="111" y="1329"/>
                </a:lnTo>
                <a:lnTo>
                  <a:pt x="137" y="1306"/>
                </a:lnTo>
                <a:lnTo>
                  <a:pt x="162" y="1277"/>
                </a:lnTo>
                <a:lnTo>
                  <a:pt x="185" y="1243"/>
                </a:lnTo>
                <a:lnTo>
                  <a:pt x="208" y="1206"/>
                </a:lnTo>
                <a:lnTo>
                  <a:pt x="229" y="1164"/>
                </a:lnTo>
                <a:lnTo>
                  <a:pt x="248" y="1117"/>
                </a:lnTo>
                <a:lnTo>
                  <a:pt x="265" y="1069"/>
                </a:lnTo>
                <a:lnTo>
                  <a:pt x="280" y="1016"/>
                </a:lnTo>
                <a:lnTo>
                  <a:pt x="291" y="961"/>
                </a:lnTo>
                <a:lnTo>
                  <a:pt x="302" y="902"/>
                </a:lnTo>
                <a:lnTo>
                  <a:pt x="309" y="843"/>
                </a:lnTo>
                <a:lnTo>
                  <a:pt x="315" y="783"/>
                </a:lnTo>
                <a:lnTo>
                  <a:pt x="318" y="721"/>
                </a:lnTo>
                <a:lnTo>
                  <a:pt x="318" y="659"/>
                </a:lnTo>
                <a:lnTo>
                  <a:pt x="316" y="598"/>
                </a:lnTo>
                <a:lnTo>
                  <a:pt x="310" y="537"/>
                </a:lnTo>
                <a:lnTo>
                  <a:pt x="303" y="478"/>
                </a:lnTo>
                <a:lnTo>
                  <a:pt x="293" y="420"/>
                </a:lnTo>
                <a:lnTo>
                  <a:pt x="282" y="364"/>
                </a:lnTo>
                <a:lnTo>
                  <a:pt x="267" y="311"/>
                </a:lnTo>
                <a:lnTo>
                  <a:pt x="251" y="261"/>
                </a:lnTo>
                <a:lnTo>
                  <a:pt x="232" y="214"/>
                </a:lnTo>
                <a:lnTo>
                  <a:pt x="212" y="171"/>
                </a:lnTo>
                <a:lnTo>
                  <a:pt x="190" y="133"/>
                </a:lnTo>
                <a:lnTo>
                  <a:pt x="166" y="98"/>
                </a:lnTo>
                <a:lnTo>
                  <a:pt x="141" y="69"/>
                </a:lnTo>
                <a:lnTo>
                  <a:pt x="116" y="45"/>
                </a:lnTo>
                <a:lnTo>
                  <a:pt x="89" y="25"/>
                </a:lnTo>
                <a:lnTo>
                  <a:pt x="62" y="11"/>
                </a:lnTo>
                <a:lnTo>
                  <a:pt x="33" y="4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22"/>
          <p:cNvSpPr/>
          <p:nvPr/>
        </p:nvSpPr>
        <p:spPr>
          <a:xfrm>
            <a:off x="3019320" y="3303720"/>
            <a:ext cx="1508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23"/>
          <p:cNvSpPr/>
          <p:nvPr/>
        </p:nvSpPr>
        <p:spPr>
          <a:xfrm>
            <a:off x="2905200" y="3303720"/>
            <a:ext cx="230040" cy="874440"/>
          </a:xfrm>
          <a:custGeom>
            <a:avLst/>
            <a:gdLst>
              <a:gd name="textAreaLeft" fmla="*/ 0 w 230040"/>
              <a:gd name="textAreaRight" fmla="*/ 230400 w 230040"/>
              <a:gd name="textAreaTop" fmla="*/ 0 h 874440"/>
              <a:gd name="textAreaBottom" fmla="*/ 874800 h 874440"/>
            </a:gdLst>
            <a:ahLst/>
            <a:rect l="textAreaLeft" t="textAreaTop" r="textAreaRight" b="textAreaBottom"/>
            <a:pathLst>
              <a:path w="624" h="1369">
                <a:moveTo>
                  <a:pt x="0" y="768"/>
                </a:moveTo>
                <a:lnTo>
                  <a:pt x="6" y="829"/>
                </a:lnTo>
                <a:lnTo>
                  <a:pt x="12" y="889"/>
                </a:lnTo>
                <a:lnTo>
                  <a:pt x="22" y="947"/>
                </a:lnTo>
                <a:lnTo>
                  <a:pt x="34" y="1003"/>
                </a:lnTo>
                <a:lnTo>
                  <a:pt x="48" y="1056"/>
                </a:lnTo>
                <a:lnTo>
                  <a:pt x="65" y="1107"/>
                </a:lnTo>
                <a:lnTo>
                  <a:pt x="83" y="1153"/>
                </a:lnTo>
                <a:lnTo>
                  <a:pt x="103" y="1197"/>
                </a:lnTo>
                <a:lnTo>
                  <a:pt x="125" y="1236"/>
                </a:lnTo>
                <a:lnTo>
                  <a:pt x="149" y="1270"/>
                </a:lnTo>
                <a:lnTo>
                  <a:pt x="174" y="1300"/>
                </a:lnTo>
                <a:lnTo>
                  <a:pt x="199" y="1325"/>
                </a:lnTo>
                <a:lnTo>
                  <a:pt x="227" y="1344"/>
                </a:lnTo>
                <a:lnTo>
                  <a:pt x="254" y="1358"/>
                </a:lnTo>
                <a:lnTo>
                  <a:pt x="282" y="1366"/>
                </a:lnTo>
                <a:lnTo>
                  <a:pt x="311" y="1369"/>
                </a:lnTo>
                <a:lnTo>
                  <a:pt x="339" y="1367"/>
                </a:lnTo>
                <a:lnTo>
                  <a:pt x="367" y="1359"/>
                </a:lnTo>
                <a:lnTo>
                  <a:pt x="394" y="1345"/>
                </a:lnTo>
                <a:lnTo>
                  <a:pt x="422" y="1326"/>
                </a:lnTo>
                <a:lnTo>
                  <a:pt x="447" y="1302"/>
                </a:lnTo>
                <a:lnTo>
                  <a:pt x="473" y="1272"/>
                </a:lnTo>
                <a:lnTo>
                  <a:pt x="496" y="1238"/>
                </a:lnTo>
                <a:lnTo>
                  <a:pt x="518" y="1200"/>
                </a:lnTo>
                <a:lnTo>
                  <a:pt x="538" y="1157"/>
                </a:lnTo>
                <a:lnTo>
                  <a:pt x="557" y="1110"/>
                </a:lnTo>
                <a:lnTo>
                  <a:pt x="573" y="1060"/>
                </a:lnTo>
                <a:lnTo>
                  <a:pt x="588" y="1007"/>
                </a:lnTo>
                <a:lnTo>
                  <a:pt x="600" y="951"/>
                </a:lnTo>
                <a:lnTo>
                  <a:pt x="610" y="893"/>
                </a:lnTo>
                <a:lnTo>
                  <a:pt x="618" y="834"/>
                </a:lnTo>
                <a:lnTo>
                  <a:pt x="622" y="772"/>
                </a:lnTo>
                <a:lnTo>
                  <a:pt x="624" y="711"/>
                </a:lnTo>
                <a:lnTo>
                  <a:pt x="624" y="648"/>
                </a:lnTo>
                <a:lnTo>
                  <a:pt x="622" y="587"/>
                </a:lnTo>
                <a:lnTo>
                  <a:pt x="617" y="527"/>
                </a:lnTo>
                <a:lnTo>
                  <a:pt x="608" y="467"/>
                </a:lnTo>
                <a:lnTo>
                  <a:pt x="599" y="409"/>
                </a:lnTo>
                <a:lnTo>
                  <a:pt x="586" y="354"/>
                </a:lnTo>
                <a:lnTo>
                  <a:pt x="571" y="301"/>
                </a:lnTo>
                <a:lnTo>
                  <a:pt x="554" y="251"/>
                </a:lnTo>
                <a:lnTo>
                  <a:pt x="535" y="206"/>
                </a:lnTo>
                <a:lnTo>
                  <a:pt x="514" y="163"/>
                </a:lnTo>
                <a:lnTo>
                  <a:pt x="492" y="125"/>
                </a:lnTo>
                <a:lnTo>
                  <a:pt x="468" y="92"/>
                </a:lnTo>
                <a:lnTo>
                  <a:pt x="443" y="64"/>
                </a:lnTo>
                <a:lnTo>
                  <a:pt x="416" y="41"/>
                </a:lnTo>
                <a:lnTo>
                  <a:pt x="390" y="22"/>
                </a:lnTo>
                <a:lnTo>
                  <a:pt x="362" y="9"/>
                </a:lnTo>
                <a:lnTo>
                  <a:pt x="334" y="2"/>
                </a:lnTo>
                <a:lnTo>
                  <a:pt x="305" y="0"/>
                </a:lnTo>
                <a:lnTo>
                  <a:pt x="278" y="5"/>
                </a:lnTo>
                <a:lnTo>
                  <a:pt x="249" y="14"/>
                </a:lnTo>
                <a:lnTo>
                  <a:pt x="222" y="29"/>
                </a:lnTo>
                <a:lnTo>
                  <a:pt x="195" y="49"/>
                </a:lnTo>
                <a:lnTo>
                  <a:pt x="170" y="74"/>
                </a:lnTo>
                <a:lnTo>
                  <a:pt x="144" y="105"/>
                </a:lnTo>
                <a:lnTo>
                  <a:pt x="122" y="140"/>
                </a:lnTo>
                <a:lnTo>
                  <a:pt x="100" y="180"/>
                </a:lnTo>
                <a:lnTo>
                  <a:pt x="80" y="224"/>
                </a:lnTo>
                <a:lnTo>
                  <a:pt x="62" y="271"/>
                </a:lnTo>
                <a:lnTo>
                  <a:pt x="46" y="322"/>
                </a:lnTo>
                <a:lnTo>
                  <a:pt x="32" y="376"/>
                </a:lnTo>
                <a:lnTo>
                  <a:pt x="20" y="432"/>
                </a:lnTo>
                <a:lnTo>
                  <a:pt x="11" y="4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24"/>
          <p:cNvSpPr/>
          <p:nvPr/>
        </p:nvSpPr>
        <p:spPr>
          <a:xfrm>
            <a:off x="3021120" y="4178160"/>
            <a:ext cx="150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reeform 25"/>
          <p:cNvSpPr/>
          <p:nvPr/>
        </p:nvSpPr>
        <p:spPr>
          <a:xfrm>
            <a:off x="5802480" y="3270240"/>
            <a:ext cx="117360" cy="873000"/>
          </a:xfrm>
          <a:custGeom>
            <a:avLst/>
            <a:gdLst>
              <a:gd name="textAreaLeft" fmla="*/ 0 w 117360"/>
              <a:gd name="textAreaRight" fmla="*/ 117720 w 11736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317" h="1369">
                <a:moveTo>
                  <a:pt x="0" y="1369"/>
                </a:moveTo>
                <a:lnTo>
                  <a:pt x="26" y="1367"/>
                </a:lnTo>
                <a:lnTo>
                  <a:pt x="53" y="1361"/>
                </a:lnTo>
                <a:lnTo>
                  <a:pt x="79" y="1349"/>
                </a:lnTo>
                <a:lnTo>
                  <a:pt x="104" y="1333"/>
                </a:lnTo>
                <a:lnTo>
                  <a:pt x="129" y="1312"/>
                </a:lnTo>
                <a:lnTo>
                  <a:pt x="153" y="1287"/>
                </a:lnTo>
                <a:lnTo>
                  <a:pt x="176" y="1256"/>
                </a:lnTo>
                <a:lnTo>
                  <a:pt x="198" y="1222"/>
                </a:lnTo>
                <a:lnTo>
                  <a:pt x="218" y="1184"/>
                </a:lnTo>
                <a:lnTo>
                  <a:pt x="237" y="1143"/>
                </a:lnTo>
                <a:lnTo>
                  <a:pt x="254" y="1097"/>
                </a:lnTo>
                <a:lnTo>
                  <a:pt x="270" y="1050"/>
                </a:lnTo>
                <a:lnTo>
                  <a:pt x="282" y="999"/>
                </a:lnTo>
                <a:lnTo>
                  <a:pt x="294" y="946"/>
                </a:lnTo>
                <a:lnTo>
                  <a:pt x="302" y="891"/>
                </a:lnTo>
                <a:lnTo>
                  <a:pt x="310" y="835"/>
                </a:lnTo>
                <a:lnTo>
                  <a:pt x="314" y="777"/>
                </a:lnTo>
                <a:lnTo>
                  <a:pt x="317" y="719"/>
                </a:lnTo>
                <a:lnTo>
                  <a:pt x="317" y="661"/>
                </a:lnTo>
                <a:lnTo>
                  <a:pt x="315" y="603"/>
                </a:lnTo>
                <a:lnTo>
                  <a:pt x="311" y="545"/>
                </a:lnTo>
                <a:lnTo>
                  <a:pt x="305" y="488"/>
                </a:lnTo>
                <a:lnTo>
                  <a:pt x="295" y="433"/>
                </a:lnTo>
                <a:lnTo>
                  <a:pt x="284" y="379"/>
                </a:lnTo>
                <a:lnTo>
                  <a:pt x="272" y="329"/>
                </a:lnTo>
                <a:lnTo>
                  <a:pt x="257" y="280"/>
                </a:lnTo>
                <a:lnTo>
                  <a:pt x="240" y="234"/>
                </a:lnTo>
                <a:lnTo>
                  <a:pt x="222" y="192"/>
                </a:lnTo>
                <a:lnTo>
                  <a:pt x="202" y="153"/>
                </a:lnTo>
                <a:lnTo>
                  <a:pt x="181" y="119"/>
                </a:lnTo>
                <a:lnTo>
                  <a:pt x="157" y="87"/>
                </a:lnTo>
                <a:lnTo>
                  <a:pt x="134" y="62"/>
                </a:lnTo>
                <a:lnTo>
                  <a:pt x="109" y="39"/>
                </a:lnTo>
                <a:lnTo>
                  <a:pt x="83" y="23"/>
                </a:lnTo>
                <a:lnTo>
                  <a:pt x="57" y="10"/>
                </a:lnTo>
                <a:lnTo>
                  <a:pt x="30" y="2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26"/>
          <p:cNvSpPr/>
          <p:nvPr/>
        </p:nvSpPr>
        <p:spPr>
          <a:xfrm>
            <a:off x="5653080" y="4143240"/>
            <a:ext cx="150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reeform 27"/>
          <p:cNvSpPr/>
          <p:nvPr/>
        </p:nvSpPr>
        <p:spPr>
          <a:xfrm>
            <a:off x="5538960" y="3270240"/>
            <a:ext cx="226800" cy="873000"/>
          </a:xfrm>
          <a:custGeom>
            <a:avLst/>
            <a:gdLst>
              <a:gd name="textAreaLeft" fmla="*/ 0 w 226800"/>
              <a:gd name="textAreaRight" fmla="*/ 227160 w 22680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619" h="1369">
                <a:moveTo>
                  <a:pt x="0" y="823"/>
                </a:moveTo>
                <a:lnTo>
                  <a:pt x="6" y="883"/>
                </a:lnTo>
                <a:lnTo>
                  <a:pt x="16" y="942"/>
                </a:lnTo>
                <a:lnTo>
                  <a:pt x="28" y="998"/>
                </a:lnTo>
                <a:lnTo>
                  <a:pt x="42" y="1052"/>
                </a:lnTo>
                <a:lnTo>
                  <a:pt x="58" y="1101"/>
                </a:lnTo>
                <a:lnTo>
                  <a:pt x="76" y="1149"/>
                </a:lnTo>
                <a:lnTo>
                  <a:pt x="96" y="1193"/>
                </a:lnTo>
                <a:lnTo>
                  <a:pt x="119" y="1232"/>
                </a:lnTo>
                <a:lnTo>
                  <a:pt x="142" y="1267"/>
                </a:lnTo>
                <a:lnTo>
                  <a:pt x="166" y="1297"/>
                </a:lnTo>
                <a:lnTo>
                  <a:pt x="193" y="1322"/>
                </a:lnTo>
                <a:lnTo>
                  <a:pt x="219" y="1342"/>
                </a:lnTo>
                <a:lnTo>
                  <a:pt x="247" y="1357"/>
                </a:lnTo>
                <a:lnTo>
                  <a:pt x="275" y="1365"/>
                </a:lnTo>
                <a:lnTo>
                  <a:pt x="303" y="1369"/>
                </a:lnTo>
                <a:lnTo>
                  <a:pt x="331" y="1367"/>
                </a:lnTo>
                <a:lnTo>
                  <a:pt x="359" y="1359"/>
                </a:lnTo>
                <a:lnTo>
                  <a:pt x="388" y="1346"/>
                </a:lnTo>
                <a:lnTo>
                  <a:pt x="414" y="1327"/>
                </a:lnTo>
                <a:lnTo>
                  <a:pt x="441" y="1304"/>
                </a:lnTo>
                <a:lnTo>
                  <a:pt x="465" y="1275"/>
                </a:lnTo>
                <a:lnTo>
                  <a:pt x="489" y="1241"/>
                </a:lnTo>
                <a:lnTo>
                  <a:pt x="511" y="1203"/>
                </a:lnTo>
                <a:lnTo>
                  <a:pt x="532" y="1161"/>
                </a:lnTo>
                <a:lnTo>
                  <a:pt x="551" y="1114"/>
                </a:lnTo>
                <a:lnTo>
                  <a:pt x="568" y="1064"/>
                </a:lnTo>
                <a:lnTo>
                  <a:pt x="582" y="1011"/>
                </a:lnTo>
                <a:lnTo>
                  <a:pt x="594" y="955"/>
                </a:lnTo>
                <a:lnTo>
                  <a:pt x="605" y="897"/>
                </a:lnTo>
                <a:lnTo>
                  <a:pt x="612" y="838"/>
                </a:lnTo>
                <a:lnTo>
                  <a:pt x="617" y="777"/>
                </a:lnTo>
                <a:lnTo>
                  <a:pt x="619" y="715"/>
                </a:lnTo>
                <a:lnTo>
                  <a:pt x="619" y="654"/>
                </a:lnTo>
                <a:lnTo>
                  <a:pt x="617" y="592"/>
                </a:lnTo>
                <a:lnTo>
                  <a:pt x="612" y="531"/>
                </a:lnTo>
                <a:lnTo>
                  <a:pt x="605" y="471"/>
                </a:lnTo>
                <a:lnTo>
                  <a:pt x="594" y="413"/>
                </a:lnTo>
                <a:lnTo>
                  <a:pt x="582" y="358"/>
                </a:lnTo>
                <a:lnTo>
                  <a:pt x="568" y="305"/>
                </a:lnTo>
                <a:lnTo>
                  <a:pt x="551" y="255"/>
                </a:lnTo>
                <a:lnTo>
                  <a:pt x="532" y="209"/>
                </a:lnTo>
                <a:lnTo>
                  <a:pt x="511" y="167"/>
                </a:lnTo>
                <a:lnTo>
                  <a:pt x="489" y="128"/>
                </a:lnTo>
                <a:lnTo>
                  <a:pt x="465" y="95"/>
                </a:lnTo>
                <a:lnTo>
                  <a:pt x="441" y="65"/>
                </a:lnTo>
                <a:lnTo>
                  <a:pt x="414" y="42"/>
                </a:lnTo>
                <a:lnTo>
                  <a:pt x="388" y="23"/>
                </a:lnTo>
                <a:lnTo>
                  <a:pt x="359" y="10"/>
                </a:lnTo>
                <a:lnTo>
                  <a:pt x="331" y="2"/>
                </a:lnTo>
                <a:lnTo>
                  <a:pt x="303" y="0"/>
                </a:lnTo>
                <a:lnTo>
                  <a:pt x="275" y="3"/>
                </a:lnTo>
                <a:lnTo>
                  <a:pt x="247" y="12"/>
                </a:lnTo>
                <a:lnTo>
                  <a:pt x="219" y="27"/>
                </a:lnTo>
                <a:lnTo>
                  <a:pt x="193" y="47"/>
                </a:lnTo>
                <a:lnTo>
                  <a:pt x="166" y="72"/>
                </a:lnTo>
                <a:lnTo>
                  <a:pt x="142" y="102"/>
                </a:lnTo>
                <a:lnTo>
                  <a:pt x="119" y="137"/>
                </a:lnTo>
                <a:lnTo>
                  <a:pt x="96" y="176"/>
                </a:lnTo>
                <a:lnTo>
                  <a:pt x="76" y="219"/>
                </a:lnTo>
                <a:lnTo>
                  <a:pt x="58" y="267"/>
                </a:lnTo>
                <a:lnTo>
                  <a:pt x="42" y="318"/>
                </a:lnTo>
                <a:lnTo>
                  <a:pt x="28" y="371"/>
                </a:lnTo>
                <a:lnTo>
                  <a:pt x="16" y="428"/>
                </a:lnTo>
                <a:lnTo>
                  <a:pt x="6" y="486"/>
                </a:lnTo>
                <a:lnTo>
                  <a:pt x="0" y="5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28"/>
          <p:cNvSpPr/>
          <p:nvPr/>
        </p:nvSpPr>
        <p:spPr>
          <a:xfrm>
            <a:off x="5651640" y="3270240"/>
            <a:ext cx="150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reeform 29"/>
          <p:cNvSpPr/>
          <p:nvPr/>
        </p:nvSpPr>
        <p:spPr>
          <a:xfrm>
            <a:off x="3019320" y="3618000"/>
            <a:ext cx="39960" cy="176040"/>
          </a:xfrm>
          <a:custGeom>
            <a:avLst/>
            <a:gdLst>
              <a:gd name="textAreaLeft" fmla="*/ 0 w 39960"/>
              <a:gd name="textAreaRight" fmla="*/ 40320 w 399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08" h="277">
                <a:moveTo>
                  <a:pt x="0" y="277"/>
                </a:moveTo>
                <a:lnTo>
                  <a:pt x="20" y="275"/>
                </a:lnTo>
                <a:lnTo>
                  <a:pt x="39" y="269"/>
                </a:lnTo>
                <a:lnTo>
                  <a:pt x="57" y="257"/>
                </a:lnTo>
                <a:lnTo>
                  <a:pt x="73" y="242"/>
                </a:lnTo>
                <a:lnTo>
                  <a:pt x="86" y="223"/>
                </a:lnTo>
                <a:lnTo>
                  <a:pt x="97" y="201"/>
                </a:lnTo>
                <a:lnTo>
                  <a:pt x="103" y="177"/>
                </a:lnTo>
                <a:lnTo>
                  <a:pt x="108" y="152"/>
                </a:lnTo>
                <a:lnTo>
                  <a:pt x="108" y="127"/>
                </a:lnTo>
                <a:lnTo>
                  <a:pt x="104" y="101"/>
                </a:lnTo>
                <a:lnTo>
                  <a:pt x="97" y="77"/>
                </a:lnTo>
                <a:lnTo>
                  <a:pt x="86" y="55"/>
                </a:lnTo>
                <a:lnTo>
                  <a:pt x="73" y="36"/>
                </a:lnTo>
                <a:lnTo>
                  <a:pt x="57" y="21"/>
                </a:lnTo>
                <a:lnTo>
                  <a:pt x="40" y="9"/>
                </a:lnTo>
                <a:lnTo>
                  <a:pt x="21" y="2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30"/>
          <p:cNvSpPr/>
          <p:nvPr/>
        </p:nvSpPr>
        <p:spPr>
          <a:xfrm>
            <a:off x="3284640" y="3794040"/>
            <a:ext cx="10872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31"/>
          <p:cNvSpPr/>
          <p:nvPr/>
        </p:nvSpPr>
        <p:spPr>
          <a:xfrm>
            <a:off x="3281400" y="3618000"/>
            <a:ext cx="1090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32"/>
          <p:cNvSpPr/>
          <p:nvPr/>
        </p:nvSpPr>
        <p:spPr>
          <a:xfrm>
            <a:off x="4816440" y="3618000"/>
            <a:ext cx="8352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33"/>
          <p:cNvSpPr/>
          <p:nvPr/>
        </p:nvSpPr>
        <p:spPr>
          <a:xfrm>
            <a:off x="4816440" y="3794040"/>
            <a:ext cx="8352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Freeform 34"/>
          <p:cNvSpPr/>
          <p:nvPr/>
        </p:nvSpPr>
        <p:spPr>
          <a:xfrm>
            <a:off x="5651640" y="3618000"/>
            <a:ext cx="39600" cy="176040"/>
          </a:xfrm>
          <a:custGeom>
            <a:avLst/>
            <a:gdLst>
              <a:gd name="textAreaLeft" fmla="*/ 0 w 39600"/>
              <a:gd name="textAreaRight" fmla="*/ 39600 w 3960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08" h="277">
                <a:moveTo>
                  <a:pt x="0" y="277"/>
                </a:moveTo>
                <a:lnTo>
                  <a:pt x="19" y="275"/>
                </a:lnTo>
                <a:lnTo>
                  <a:pt x="39" y="269"/>
                </a:lnTo>
                <a:lnTo>
                  <a:pt x="56" y="257"/>
                </a:lnTo>
                <a:lnTo>
                  <a:pt x="73" y="242"/>
                </a:lnTo>
                <a:lnTo>
                  <a:pt x="86" y="223"/>
                </a:lnTo>
                <a:lnTo>
                  <a:pt x="96" y="201"/>
                </a:lnTo>
                <a:lnTo>
                  <a:pt x="104" y="177"/>
                </a:lnTo>
                <a:lnTo>
                  <a:pt x="108" y="152"/>
                </a:lnTo>
                <a:lnTo>
                  <a:pt x="108" y="127"/>
                </a:lnTo>
                <a:lnTo>
                  <a:pt x="104" y="101"/>
                </a:lnTo>
                <a:lnTo>
                  <a:pt x="97" y="77"/>
                </a:lnTo>
                <a:lnTo>
                  <a:pt x="87" y="55"/>
                </a:lnTo>
                <a:lnTo>
                  <a:pt x="73" y="36"/>
                </a:lnTo>
                <a:lnTo>
                  <a:pt x="57" y="21"/>
                </a:lnTo>
                <a:lnTo>
                  <a:pt x="39" y="9"/>
                </a:lnTo>
                <a:lnTo>
                  <a:pt x="20" y="2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35"/>
          <p:cNvSpPr/>
          <p:nvPr/>
        </p:nvSpPr>
        <p:spPr>
          <a:xfrm>
            <a:off x="5916600" y="3618000"/>
            <a:ext cx="695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36"/>
          <p:cNvSpPr/>
          <p:nvPr/>
        </p:nvSpPr>
        <p:spPr>
          <a:xfrm>
            <a:off x="5916600" y="3794040"/>
            <a:ext cx="695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37"/>
          <p:cNvSpPr/>
          <p:nvPr/>
        </p:nvSpPr>
        <p:spPr>
          <a:xfrm flipV="1">
            <a:off x="2452680" y="3360600"/>
            <a:ext cx="3168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38"/>
          <p:cNvSpPr/>
          <p:nvPr/>
        </p:nvSpPr>
        <p:spPr>
          <a:xfrm flipV="1">
            <a:off x="2452680" y="3360240"/>
            <a:ext cx="100080" cy="1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39"/>
          <p:cNvSpPr/>
          <p:nvPr/>
        </p:nvSpPr>
        <p:spPr>
          <a:xfrm flipV="1">
            <a:off x="2509920" y="3360600"/>
            <a:ext cx="10944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40"/>
          <p:cNvSpPr/>
          <p:nvPr/>
        </p:nvSpPr>
        <p:spPr>
          <a:xfrm flipV="1">
            <a:off x="2576520" y="3360600"/>
            <a:ext cx="10944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41"/>
          <p:cNvSpPr/>
          <p:nvPr/>
        </p:nvSpPr>
        <p:spPr>
          <a:xfrm flipV="1">
            <a:off x="2452680" y="3859200"/>
            <a:ext cx="126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42"/>
          <p:cNvSpPr/>
          <p:nvPr/>
        </p:nvSpPr>
        <p:spPr>
          <a:xfrm flipV="1">
            <a:off x="2644920" y="3457080"/>
            <a:ext cx="54000" cy="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43"/>
          <p:cNvSpPr/>
          <p:nvPr/>
        </p:nvSpPr>
        <p:spPr>
          <a:xfrm flipV="1">
            <a:off x="2452680" y="3859200"/>
            <a:ext cx="7956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44"/>
          <p:cNvSpPr/>
          <p:nvPr/>
        </p:nvSpPr>
        <p:spPr>
          <a:xfrm flipV="1">
            <a:off x="2492280" y="3858840"/>
            <a:ext cx="10980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45"/>
          <p:cNvSpPr/>
          <p:nvPr/>
        </p:nvSpPr>
        <p:spPr>
          <a:xfrm flipV="1">
            <a:off x="2558880" y="3858840"/>
            <a:ext cx="10800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46"/>
          <p:cNvSpPr/>
          <p:nvPr/>
        </p:nvSpPr>
        <p:spPr>
          <a:xfrm flipV="1">
            <a:off x="2625840" y="3924360"/>
            <a:ext cx="73080" cy="123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47"/>
          <p:cNvSpPr/>
          <p:nvPr/>
        </p:nvSpPr>
        <p:spPr>
          <a:xfrm flipV="1">
            <a:off x="2693880" y="4040280"/>
            <a:ext cx="50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48"/>
          <p:cNvSpPr/>
          <p:nvPr/>
        </p:nvSpPr>
        <p:spPr>
          <a:xfrm flipV="1">
            <a:off x="6313320" y="3360600"/>
            <a:ext cx="6696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49"/>
          <p:cNvSpPr/>
          <p:nvPr/>
        </p:nvSpPr>
        <p:spPr>
          <a:xfrm flipV="1">
            <a:off x="6337440" y="3360600"/>
            <a:ext cx="10764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50"/>
          <p:cNvSpPr/>
          <p:nvPr/>
        </p:nvSpPr>
        <p:spPr>
          <a:xfrm flipV="1">
            <a:off x="6405480" y="3360600"/>
            <a:ext cx="10980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51"/>
          <p:cNvSpPr/>
          <p:nvPr/>
        </p:nvSpPr>
        <p:spPr>
          <a:xfrm flipV="1">
            <a:off x="6472080" y="3403080"/>
            <a:ext cx="84240" cy="14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52"/>
          <p:cNvSpPr/>
          <p:nvPr/>
        </p:nvSpPr>
        <p:spPr>
          <a:xfrm flipV="1">
            <a:off x="6313320" y="3859200"/>
            <a:ext cx="4788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53"/>
          <p:cNvSpPr/>
          <p:nvPr/>
        </p:nvSpPr>
        <p:spPr>
          <a:xfrm flipV="1">
            <a:off x="6539040" y="3522600"/>
            <a:ext cx="1728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54"/>
          <p:cNvSpPr/>
          <p:nvPr/>
        </p:nvSpPr>
        <p:spPr>
          <a:xfrm flipV="1">
            <a:off x="6319800" y="3858840"/>
            <a:ext cx="10800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55"/>
          <p:cNvSpPr/>
          <p:nvPr/>
        </p:nvSpPr>
        <p:spPr>
          <a:xfrm flipV="1">
            <a:off x="6386400" y="3858840"/>
            <a:ext cx="10980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56"/>
          <p:cNvSpPr/>
          <p:nvPr/>
        </p:nvSpPr>
        <p:spPr>
          <a:xfrm flipV="1">
            <a:off x="6454800" y="3871800"/>
            <a:ext cx="101520" cy="176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57"/>
          <p:cNvSpPr/>
          <p:nvPr/>
        </p:nvSpPr>
        <p:spPr>
          <a:xfrm flipV="1">
            <a:off x="6521400" y="3986280"/>
            <a:ext cx="3492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58"/>
          <p:cNvSpPr/>
          <p:nvPr/>
        </p:nvSpPr>
        <p:spPr>
          <a:xfrm flipH="1">
            <a:off x="2452680" y="3552840"/>
            <a:ext cx="2462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59"/>
          <p:cNvSpPr/>
          <p:nvPr/>
        </p:nvSpPr>
        <p:spPr>
          <a:xfrm flipH="1">
            <a:off x="6312960" y="3552840"/>
            <a:ext cx="2430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60"/>
          <p:cNvSpPr/>
          <p:nvPr/>
        </p:nvSpPr>
        <p:spPr>
          <a:xfrm flipH="1">
            <a:off x="2452680" y="3859200"/>
            <a:ext cx="2462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61"/>
          <p:cNvSpPr/>
          <p:nvPr/>
        </p:nvSpPr>
        <p:spPr>
          <a:xfrm flipH="1">
            <a:off x="6312960" y="3859200"/>
            <a:ext cx="2430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reeform 62"/>
          <p:cNvSpPr/>
          <p:nvPr/>
        </p:nvSpPr>
        <p:spPr>
          <a:xfrm>
            <a:off x="3181320" y="3446640"/>
            <a:ext cx="28440" cy="520560"/>
          </a:xfrm>
          <a:custGeom>
            <a:avLst/>
            <a:gdLst>
              <a:gd name="textAreaLeft" fmla="*/ 0 w 28440"/>
              <a:gd name="textAreaRight" fmla="*/ 28800 w 2844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81" h="813">
                <a:moveTo>
                  <a:pt x="37" y="813"/>
                </a:moveTo>
                <a:lnTo>
                  <a:pt x="50" y="762"/>
                </a:lnTo>
                <a:lnTo>
                  <a:pt x="60" y="708"/>
                </a:lnTo>
                <a:lnTo>
                  <a:pt x="69" y="653"/>
                </a:lnTo>
                <a:lnTo>
                  <a:pt x="75" y="596"/>
                </a:lnTo>
                <a:lnTo>
                  <a:pt x="79" y="539"/>
                </a:lnTo>
                <a:lnTo>
                  <a:pt x="81" y="480"/>
                </a:lnTo>
                <a:lnTo>
                  <a:pt x="80" y="422"/>
                </a:lnTo>
                <a:lnTo>
                  <a:pt x="78" y="364"/>
                </a:lnTo>
                <a:lnTo>
                  <a:pt x="73" y="307"/>
                </a:lnTo>
                <a:lnTo>
                  <a:pt x="67" y="251"/>
                </a:lnTo>
                <a:lnTo>
                  <a:pt x="57" y="196"/>
                </a:lnTo>
                <a:lnTo>
                  <a:pt x="45" y="143"/>
                </a:lnTo>
                <a:lnTo>
                  <a:pt x="32" y="93"/>
                </a:lnTo>
                <a:lnTo>
                  <a:pt x="17" y="4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Freeform 63"/>
          <p:cNvSpPr/>
          <p:nvPr/>
        </p:nvSpPr>
        <p:spPr>
          <a:xfrm>
            <a:off x="4646520" y="3238560"/>
            <a:ext cx="44640" cy="934920"/>
          </a:xfrm>
          <a:custGeom>
            <a:avLst/>
            <a:gdLst>
              <a:gd name="textAreaLeft" fmla="*/ 0 w 44640"/>
              <a:gd name="textAreaRight" fmla="*/ 44640 w 446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121" h="1467">
                <a:moveTo>
                  <a:pt x="0" y="1467"/>
                </a:moveTo>
                <a:lnTo>
                  <a:pt x="22" y="1405"/>
                </a:lnTo>
                <a:lnTo>
                  <a:pt x="42" y="1338"/>
                </a:lnTo>
                <a:lnTo>
                  <a:pt x="60" y="1269"/>
                </a:lnTo>
                <a:lnTo>
                  <a:pt x="76" y="1198"/>
                </a:lnTo>
                <a:lnTo>
                  <a:pt x="90" y="1124"/>
                </a:lnTo>
                <a:lnTo>
                  <a:pt x="101" y="1048"/>
                </a:lnTo>
                <a:lnTo>
                  <a:pt x="110" y="970"/>
                </a:lnTo>
                <a:lnTo>
                  <a:pt x="116" y="892"/>
                </a:lnTo>
                <a:lnTo>
                  <a:pt x="120" y="813"/>
                </a:lnTo>
                <a:lnTo>
                  <a:pt x="121" y="733"/>
                </a:lnTo>
                <a:lnTo>
                  <a:pt x="120" y="654"/>
                </a:lnTo>
                <a:lnTo>
                  <a:pt x="116" y="574"/>
                </a:lnTo>
                <a:lnTo>
                  <a:pt x="110" y="496"/>
                </a:lnTo>
                <a:lnTo>
                  <a:pt x="101" y="419"/>
                </a:lnTo>
                <a:lnTo>
                  <a:pt x="90" y="343"/>
                </a:lnTo>
                <a:lnTo>
                  <a:pt x="76" y="270"/>
                </a:lnTo>
                <a:lnTo>
                  <a:pt x="60" y="198"/>
                </a:lnTo>
                <a:lnTo>
                  <a:pt x="42" y="129"/>
                </a:lnTo>
                <a:lnTo>
                  <a:pt x="22" y="6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Freeform 64"/>
          <p:cNvSpPr/>
          <p:nvPr/>
        </p:nvSpPr>
        <p:spPr>
          <a:xfrm>
            <a:off x="5819760" y="3446640"/>
            <a:ext cx="22320" cy="520560"/>
          </a:xfrm>
          <a:custGeom>
            <a:avLst/>
            <a:gdLst>
              <a:gd name="textAreaLeft" fmla="*/ 0 w 22320"/>
              <a:gd name="textAreaRight" fmla="*/ 22680 w 223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62" h="820">
                <a:moveTo>
                  <a:pt x="0" y="820"/>
                </a:moveTo>
                <a:lnTo>
                  <a:pt x="15" y="771"/>
                </a:lnTo>
                <a:lnTo>
                  <a:pt x="28" y="721"/>
                </a:lnTo>
                <a:lnTo>
                  <a:pt x="40" y="667"/>
                </a:lnTo>
                <a:lnTo>
                  <a:pt x="49" y="612"/>
                </a:lnTo>
                <a:lnTo>
                  <a:pt x="55" y="555"/>
                </a:lnTo>
                <a:lnTo>
                  <a:pt x="60" y="497"/>
                </a:lnTo>
                <a:lnTo>
                  <a:pt x="62" y="439"/>
                </a:lnTo>
                <a:lnTo>
                  <a:pt x="62" y="380"/>
                </a:lnTo>
                <a:lnTo>
                  <a:pt x="60" y="321"/>
                </a:lnTo>
                <a:lnTo>
                  <a:pt x="55" y="264"/>
                </a:lnTo>
                <a:lnTo>
                  <a:pt x="49" y="207"/>
                </a:lnTo>
                <a:lnTo>
                  <a:pt x="40" y="152"/>
                </a:lnTo>
                <a:lnTo>
                  <a:pt x="28" y="99"/>
                </a:lnTo>
                <a:lnTo>
                  <a:pt x="15" y="4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6"/>
          <p:cNvGraphicFramePr/>
          <p:nvPr/>
        </p:nvGraphicFramePr>
        <p:xfrm>
          <a:off x="4411800" y="4500720"/>
          <a:ext cx="33948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1800" y="4500720"/>
                    <a:ext cx="3394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67"/>
          <p:cNvGraphicFramePr/>
          <p:nvPr/>
        </p:nvGraphicFramePr>
        <p:xfrm>
          <a:off x="2989440" y="4267080"/>
          <a:ext cx="33948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9440" y="4267080"/>
                    <a:ext cx="3394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70"/>
          <p:cNvGraphicFramePr/>
          <p:nvPr/>
        </p:nvGraphicFramePr>
        <p:xfrm>
          <a:off x="5602320" y="4297320"/>
          <a:ext cx="339840" cy="39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7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2320" y="4297320"/>
                    <a:ext cx="33984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71"/>
          <p:cNvGraphicFramePr/>
          <p:nvPr/>
        </p:nvGraphicFramePr>
        <p:xfrm>
          <a:off x="2905200" y="2728800"/>
          <a:ext cx="50940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7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05200" y="2728800"/>
                    <a:ext cx="5094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74"/>
          <p:cNvGraphicFramePr/>
          <p:nvPr/>
        </p:nvGraphicFramePr>
        <p:xfrm>
          <a:off x="5510160" y="2722680"/>
          <a:ext cx="509760" cy="509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4" name="Object 7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10160" y="2722680"/>
                    <a:ext cx="50976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76"/>
          <p:cNvGraphicFramePr/>
          <p:nvPr/>
        </p:nvGraphicFramePr>
        <p:xfrm>
          <a:off x="4260960" y="2403360"/>
          <a:ext cx="509400" cy="50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6" name="Object 7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0960" y="2403360"/>
                    <a:ext cx="5094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78"/>
          <p:cNvGraphicFramePr/>
          <p:nvPr/>
        </p:nvGraphicFramePr>
        <p:xfrm>
          <a:off x="824040" y="5445000"/>
          <a:ext cx="2081160" cy="97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8" name="Object 7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4040" y="5445000"/>
                    <a:ext cx="2081160" cy="978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49" name="Object 79"/>
          <p:cNvGraphicFramePr/>
          <p:nvPr/>
        </p:nvGraphicFramePr>
        <p:xfrm>
          <a:off x="4376880" y="5095800"/>
          <a:ext cx="3200400" cy="169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0" name="Object 7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76880" y="5095800"/>
                    <a:ext cx="320040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AutoShape 8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4"/>
          <p:cNvSpPr/>
          <p:nvPr/>
        </p:nvSpPr>
        <p:spPr>
          <a:xfrm>
            <a:off x="248436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章  扭转  例一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Freeform 5"/>
          <p:cNvSpPr/>
          <p:nvPr/>
        </p:nvSpPr>
        <p:spPr>
          <a:xfrm>
            <a:off x="1949400" y="2330280"/>
            <a:ext cx="385920" cy="1457640"/>
          </a:xfrm>
          <a:custGeom>
            <a:avLst/>
            <a:gdLst>
              <a:gd name="textAreaLeft" fmla="*/ 0 w 385920"/>
              <a:gd name="textAreaRight" fmla="*/ 386280 w 385920"/>
              <a:gd name="textAreaTop" fmla="*/ 0 h 1457640"/>
              <a:gd name="textAreaBottom" fmla="*/ 1458000 h 1457640"/>
            </a:gdLst>
            <a:ahLst/>
            <a:rect l="textAreaLeft" t="textAreaTop" r="textAreaRight" b="textAreaBottom"/>
            <a:pathLst>
              <a:path w="1041" h="2281">
                <a:moveTo>
                  <a:pt x="0" y="1279"/>
                </a:moveTo>
                <a:lnTo>
                  <a:pt x="6" y="1358"/>
                </a:lnTo>
                <a:lnTo>
                  <a:pt x="13" y="1437"/>
                </a:lnTo>
                <a:lnTo>
                  <a:pt x="25" y="1513"/>
                </a:lnTo>
                <a:lnTo>
                  <a:pt x="38" y="1588"/>
                </a:lnTo>
                <a:lnTo>
                  <a:pt x="54" y="1660"/>
                </a:lnTo>
                <a:lnTo>
                  <a:pt x="72" y="1730"/>
                </a:lnTo>
                <a:lnTo>
                  <a:pt x="92" y="1798"/>
                </a:lnTo>
                <a:lnTo>
                  <a:pt x="113" y="1861"/>
                </a:lnTo>
                <a:lnTo>
                  <a:pt x="137" y="1922"/>
                </a:lnTo>
                <a:lnTo>
                  <a:pt x="164" y="1978"/>
                </a:lnTo>
                <a:lnTo>
                  <a:pt x="191" y="2030"/>
                </a:lnTo>
                <a:lnTo>
                  <a:pt x="221" y="2078"/>
                </a:lnTo>
                <a:lnTo>
                  <a:pt x="252" y="2122"/>
                </a:lnTo>
                <a:lnTo>
                  <a:pt x="283" y="2160"/>
                </a:lnTo>
                <a:lnTo>
                  <a:pt x="317" y="2194"/>
                </a:lnTo>
                <a:lnTo>
                  <a:pt x="351" y="2221"/>
                </a:lnTo>
                <a:lnTo>
                  <a:pt x="386" y="2245"/>
                </a:lnTo>
                <a:lnTo>
                  <a:pt x="422" y="2262"/>
                </a:lnTo>
                <a:lnTo>
                  <a:pt x="458" y="2274"/>
                </a:lnTo>
                <a:lnTo>
                  <a:pt x="495" y="2281"/>
                </a:lnTo>
                <a:lnTo>
                  <a:pt x="531" y="2281"/>
                </a:lnTo>
                <a:lnTo>
                  <a:pt x="568" y="2276"/>
                </a:lnTo>
                <a:lnTo>
                  <a:pt x="604" y="2266"/>
                </a:lnTo>
                <a:lnTo>
                  <a:pt x="640" y="2250"/>
                </a:lnTo>
                <a:lnTo>
                  <a:pt x="676" y="2229"/>
                </a:lnTo>
                <a:lnTo>
                  <a:pt x="710" y="2201"/>
                </a:lnTo>
                <a:lnTo>
                  <a:pt x="744" y="2169"/>
                </a:lnTo>
                <a:lnTo>
                  <a:pt x="777" y="2132"/>
                </a:lnTo>
                <a:lnTo>
                  <a:pt x="808" y="2090"/>
                </a:lnTo>
                <a:lnTo>
                  <a:pt x="837" y="2043"/>
                </a:lnTo>
                <a:lnTo>
                  <a:pt x="866" y="1993"/>
                </a:lnTo>
                <a:lnTo>
                  <a:pt x="892" y="1937"/>
                </a:lnTo>
                <a:lnTo>
                  <a:pt x="917" y="1877"/>
                </a:lnTo>
                <a:lnTo>
                  <a:pt x="940" y="1815"/>
                </a:lnTo>
                <a:lnTo>
                  <a:pt x="960" y="1748"/>
                </a:lnTo>
                <a:lnTo>
                  <a:pt x="978" y="1679"/>
                </a:lnTo>
                <a:lnTo>
                  <a:pt x="995" y="1607"/>
                </a:lnTo>
                <a:lnTo>
                  <a:pt x="1009" y="1533"/>
                </a:lnTo>
                <a:lnTo>
                  <a:pt x="1020" y="1457"/>
                </a:lnTo>
                <a:lnTo>
                  <a:pt x="1029" y="1380"/>
                </a:lnTo>
                <a:lnTo>
                  <a:pt x="1035" y="1300"/>
                </a:lnTo>
                <a:lnTo>
                  <a:pt x="1039" y="1221"/>
                </a:lnTo>
                <a:lnTo>
                  <a:pt x="1041" y="1140"/>
                </a:lnTo>
                <a:lnTo>
                  <a:pt x="1039" y="1061"/>
                </a:lnTo>
                <a:lnTo>
                  <a:pt x="1035" y="980"/>
                </a:lnTo>
                <a:lnTo>
                  <a:pt x="1029" y="902"/>
                </a:lnTo>
                <a:lnTo>
                  <a:pt x="1020" y="824"/>
                </a:lnTo>
                <a:lnTo>
                  <a:pt x="1009" y="747"/>
                </a:lnTo>
                <a:lnTo>
                  <a:pt x="995" y="673"/>
                </a:lnTo>
                <a:lnTo>
                  <a:pt x="978" y="601"/>
                </a:lnTo>
                <a:lnTo>
                  <a:pt x="960" y="533"/>
                </a:lnTo>
                <a:lnTo>
                  <a:pt x="940" y="466"/>
                </a:lnTo>
                <a:lnTo>
                  <a:pt x="917" y="403"/>
                </a:lnTo>
                <a:lnTo>
                  <a:pt x="892" y="344"/>
                </a:lnTo>
                <a:lnTo>
                  <a:pt x="866" y="289"/>
                </a:lnTo>
                <a:lnTo>
                  <a:pt x="837" y="237"/>
                </a:lnTo>
                <a:lnTo>
                  <a:pt x="808" y="191"/>
                </a:lnTo>
                <a:lnTo>
                  <a:pt x="777" y="149"/>
                </a:lnTo>
                <a:lnTo>
                  <a:pt x="744" y="111"/>
                </a:lnTo>
                <a:lnTo>
                  <a:pt x="710" y="79"/>
                </a:lnTo>
                <a:lnTo>
                  <a:pt x="676" y="53"/>
                </a:lnTo>
                <a:lnTo>
                  <a:pt x="640" y="31"/>
                </a:lnTo>
                <a:lnTo>
                  <a:pt x="604" y="15"/>
                </a:lnTo>
                <a:lnTo>
                  <a:pt x="568" y="4"/>
                </a:lnTo>
                <a:lnTo>
                  <a:pt x="531" y="0"/>
                </a:lnTo>
                <a:lnTo>
                  <a:pt x="495" y="1"/>
                </a:lnTo>
                <a:lnTo>
                  <a:pt x="458" y="7"/>
                </a:lnTo>
                <a:lnTo>
                  <a:pt x="422" y="19"/>
                </a:lnTo>
                <a:lnTo>
                  <a:pt x="386" y="36"/>
                </a:lnTo>
                <a:lnTo>
                  <a:pt x="351" y="59"/>
                </a:lnTo>
                <a:lnTo>
                  <a:pt x="317" y="88"/>
                </a:lnTo>
                <a:lnTo>
                  <a:pt x="283" y="121"/>
                </a:lnTo>
                <a:lnTo>
                  <a:pt x="252" y="160"/>
                </a:lnTo>
                <a:lnTo>
                  <a:pt x="221" y="203"/>
                </a:lnTo>
                <a:lnTo>
                  <a:pt x="191" y="251"/>
                </a:lnTo>
                <a:lnTo>
                  <a:pt x="164" y="303"/>
                </a:lnTo>
                <a:lnTo>
                  <a:pt x="137" y="360"/>
                </a:lnTo>
                <a:lnTo>
                  <a:pt x="113" y="420"/>
                </a:lnTo>
                <a:lnTo>
                  <a:pt x="92" y="484"/>
                </a:lnTo>
                <a:lnTo>
                  <a:pt x="72" y="551"/>
                </a:lnTo>
                <a:lnTo>
                  <a:pt x="54" y="620"/>
                </a:lnTo>
                <a:lnTo>
                  <a:pt x="38" y="693"/>
                </a:lnTo>
                <a:lnTo>
                  <a:pt x="25" y="768"/>
                </a:lnTo>
                <a:lnTo>
                  <a:pt x="13" y="845"/>
                </a:lnTo>
                <a:lnTo>
                  <a:pt x="6" y="923"/>
                </a:lnTo>
                <a:lnTo>
                  <a:pt x="0" y="100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2141640" y="2330280"/>
            <a:ext cx="250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7"/>
          <p:cNvSpPr/>
          <p:nvPr/>
        </p:nvSpPr>
        <p:spPr>
          <a:xfrm>
            <a:off x="2144880" y="3787920"/>
            <a:ext cx="25236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Freeform 8"/>
          <p:cNvSpPr/>
          <p:nvPr/>
        </p:nvSpPr>
        <p:spPr>
          <a:xfrm>
            <a:off x="2389320" y="2330280"/>
            <a:ext cx="195120" cy="1457640"/>
          </a:xfrm>
          <a:custGeom>
            <a:avLst/>
            <a:gdLst>
              <a:gd name="textAreaLeft" fmla="*/ 0 w 195120"/>
              <a:gd name="textAreaRight" fmla="*/ 195480 w 195120"/>
              <a:gd name="textAreaTop" fmla="*/ 0 h 1457640"/>
              <a:gd name="textAreaBottom" fmla="*/ 1458000 h 1457640"/>
            </a:gdLst>
            <a:ahLst/>
            <a:rect l="textAreaLeft" t="textAreaTop" r="textAreaRight" b="textAreaBottom"/>
            <a:pathLst>
              <a:path w="529" h="2282">
                <a:moveTo>
                  <a:pt x="0" y="2282"/>
                </a:moveTo>
                <a:lnTo>
                  <a:pt x="36" y="2280"/>
                </a:lnTo>
                <a:lnTo>
                  <a:pt x="73" y="2272"/>
                </a:lnTo>
                <a:lnTo>
                  <a:pt x="109" y="2259"/>
                </a:lnTo>
                <a:lnTo>
                  <a:pt x="144" y="2241"/>
                </a:lnTo>
                <a:lnTo>
                  <a:pt x="179" y="2218"/>
                </a:lnTo>
                <a:lnTo>
                  <a:pt x="214" y="2190"/>
                </a:lnTo>
                <a:lnTo>
                  <a:pt x="247" y="2155"/>
                </a:lnTo>
                <a:lnTo>
                  <a:pt x="278" y="2115"/>
                </a:lnTo>
                <a:lnTo>
                  <a:pt x="309" y="2072"/>
                </a:lnTo>
                <a:lnTo>
                  <a:pt x="339" y="2023"/>
                </a:lnTo>
                <a:lnTo>
                  <a:pt x="366" y="1970"/>
                </a:lnTo>
                <a:lnTo>
                  <a:pt x="392" y="1913"/>
                </a:lnTo>
                <a:lnTo>
                  <a:pt x="415" y="1853"/>
                </a:lnTo>
                <a:lnTo>
                  <a:pt x="437" y="1788"/>
                </a:lnTo>
                <a:lnTo>
                  <a:pt x="457" y="1722"/>
                </a:lnTo>
                <a:lnTo>
                  <a:pt x="474" y="1651"/>
                </a:lnTo>
                <a:lnTo>
                  <a:pt x="490" y="1579"/>
                </a:lnTo>
                <a:lnTo>
                  <a:pt x="503" y="1503"/>
                </a:lnTo>
                <a:lnTo>
                  <a:pt x="514" y="1426"/>
                </a:lnTo>
                <a:lnTo>
                  <a:pt x="521" y="1349"/>
                </a:lnTo>
                <a:lnTo>
                  <a:pt x="526" y="1269"/>
                </a:lnTo>
                <a:lnTo>
                  <a:pt x="529" y="1189"/>
                </a:lnTo>
                <a:lnTo>
                  <a:pt x="529" y="1110"/>
                </a:lnTo>
                <a:lnTo>
                  <a:pt x="527" y="1029"/>
                </a:lnTo>
                <a:lnTo>
                  <a:pt x="523" y="950"/>
                </a:lnTo>
                <a:lnTo>
                  <a:pt x="516" y="871"/>
                </a:lnTo>
                <a:lnTo>
                  <a:pt x="505" y="795"/>
                </a:lnTo>
                <a:lnTo>
                  <a:pt x="493" y="719"/>
                </a:lnTo>
                <a:lnTo>
                  <a:pt x="479" y="646"/>
                </a:lnTo>
                <a:lnTo>
                  <a:pt x="462" y="575"/>
                </a:lnTo>
                <a:lnTo>
                  <a:pt x="442" y="507"/>
                </a:lnTo>
                <a:lnTo>
                  <a:pt x="420" y="443"/>
                </a:lnTo>
                <a:lnTo>
                  <a:pt x="397" y="380"/>
                </a:lnTo>
                <a:lnTo>
                  <a:pt x="372" y="323"/>
                </a:lnTo>
                <a:lnTo>
                  <a:pt x="345" y="269"/>
                </a:lnTo>
                <a:lnTo>
                  <a:pt x="316" y="219"/>
                </a:lnTo>
                <a:lnTo>
                  <a:pt x="286" y="175"/>
                </a:lnTo>
                <a:lnTo>
                  <a:pt x="254" y="134"/>
                </a:lnTo>
                <a:lnTo>
                  <a:pt x="221" y="99"/>
                </a:lnTo>
                <a:lnTo>
                  <a:pt x="187" y="69"/>
                </a:lnTo>
                <a:lnTo>
                  <a:pt x="152" y="44"/>
                </a:lnTo>
                <a:lnTo>
                  <a:pt x="116" y="24"/>
                </a:lnTo>
                <a:lnTo>
                  <a:pt x="80" y="11"/>
                </a:lnTo>
                <a:lnTo>
                  <a:pt x="44" y="2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Freeform 9"/>
          <p:cNvSpPr/>
          <p:nvPr/>
        </p:nvSpPr>
        <p:spPr>
          <a:xfrm>
            <a:off x="108000" y="2970360"/>
            <a:ext cx="77760" cy="176040"/>
          </a:xfrm>
          <a:custGeom>
            <a:avLst/>
            <a:gdLst>
              <a:gd name="textAreaLeft" fmla="*/ 0 w 77760"/>
              <a:gd name="textAreaRight" fmla="*/ 78120 w 777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3" h="277">
                <a:moveTo>
                  <a:pt x="107" y="0"/>
                </a:moveTo>
                <a:lnTo>
                  <a:pt x="87" y="3"/>
                </a:lnTo>
                <a:lnTo>
                  <a:pt x="67" y="10"/>
                </a:lnTo>
                <a:lnTo>
                  <a:pt x="49" y="22"/>
                </a:lnTo>
                <a:lnTo>
                  <a:pt x="33" y="38"/>
                </a:lnTo>
                <a:lnTo>
                  <a:pt x="20" y="58"/>
                </a:lnTo>
                <a:lnTo>
                  <a:pt x="10" y="81"/>
                </a:lnTo>
                <a:lnTo>
                  <a:pt x="3" y="105"/>
                </a:lnTo>
                <a:lnTo>
                  <a:pt x="0" y="132"/>
                </a:lnTo>
                <a:lnTo>
                  <a:pt x="1" y="158"/>
                </a:lnTo>
                <a:lnTo>
                  <a:pt x="7" y="184"/>
                </a:lnTo>
                <a:lnTo>
                  <a:pt x="15" y="208"/>
                </a:lnTo>
                <a:lnTo>
                  <a:pt x="27" y="229"/>
                </a:lnTo>
                <a:lnTo>
                  <a:pt x="40" y="247"/>
                </a:lnTo>
                <a:lnTo>
                  <a:pt x="58" y="262"/>
                </a:lnTo>
                <a:lnTo>
                  <a:pt x="76" y="272"/>
                </a:lnTo>
                <a:lnTo>
                  <a:pt x="97" y="277"/>
                </a:lnTo>
                <a:lnTo>
                  <a:pt x="117" y="277"/>
                </a:lnTo>
                <a:lnTo>
                  <a:pt x="137" y="272"/>
                </a:lnTo>
                <a:lnTo>
                  <a:pt x="156" y="262"/>
                </a:lnTo>
                <a:lnTo>
                  <a:pt x="173" y="247"/>
                </a:lnTo>
                <a:lnTo>
                  <a:pt x="188" y="229"/>
                </a:lnTo>
                <a:lnTo>
                  <a:pt x="199" y="208"/>
                </a:lnTo>
                <a:lnTo>
                  <a:pt x="208" y="184"/>
                </a:lnTo>
                <a:lnTo>
                  <a:pt x="212" y="158"/>
                </a:lnTo>
                <a:lnTo>
                  <a:pt x="213" y="132"/>
                </a:lnTo>
                <a:lnTo>
                  <a:pt x="211" y="105"/>
                </a:lnTo>
                <a:lnTo>
                  <a:pt x="204" y="81"/>
                </a:lnTo>
                <a:lnTo>
                  <a:pt x="194" y="58"/>
                </a:lnTo>
                <a:lnTo>
                  <a:pt x="180" y="38"/>
                </a:lnTo>
                <a:lnTo>
                  <a:pt x="164" y="22"/>
                </a:lnTo>
                <a:lnTo>
                  <a:pt x="146" y="10"/>
                </a:lnTo>
                <a:lnTo>
                  <a:pt x="127" y="3"/>
                </a:lnTo>
                <a:lnTo>
                  <a:pt x="10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11"/>
          <p:cNvSpPr/>
          <p:nvPr/>
        </p:nvSpPr>
        <p:spPr>
          <a:xfrm>
            <a:off x="147600" y="2970360"/>
            <a:ext cx="639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12"/>
          <p:cNvSpPr/>
          <p:nvPr/>
        </p:nvSpPr>
        <p:spPr>
          <a:xfrm>
            <a:off x="147600" y="3146400"/>
            <a:ext cx="639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13"/>
          <p:cNvSpPr/>
          <p:nvPr/>
        </p:nvSpPr>
        <p:spPr>
          <a:xfrm>
            <a:off x="2139840" y="29703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>
            <a:off x="2139840" y="314640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reeform 15"/>
          <p:cNvSpPr/>
          <p:nvPr/>
        </p:nvSpPr>
        <p:spPr>
          <a:xfrm>
            <a:off x="2139840" y="2970360"/>
            <a:ext cx="39960" cy="176040"/>
          </a:xfrm>
          <a:custGeom>
            <a:avLst/>
            <a:gdLst>
              <a:gd name="textAreaLeft" fmla="*/ 0 w 39960"/>
              <a:gd name="textAreaRight" fmla="*/ 40320 w 399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08" h="277">
                <a:moveTo>
                  <a:pt x="0" y="277"/>
                </a:moveTo>
                <a:lnTo>
                  <a:pt x="14" y="276"/>
                </a:lnTo>
                <a:lnTo>
                  <a:pt x="28" y="273"/>
                </a:lnTo>
                <a:lnTo>
                  <a:pt x="41" y="267"/>
                </a:lnTo>
                <a:lnTo>
                  <a:pt x="52" y="261"/>
                </a:lnTo>
                <a:lnTo>
                  <a:pt x="64" y="252"/>
                </a:lnTo>
                <a:lnTo>
                  <a:pt x="75" y="240"/>
                </a:lnTo>
                <a:lnTo>
                  <a:pt x="84" y="227"/>
                </a:lnTo>
                <a:lnTo>
                  <a:pt x="91" y="213"/>
                </a:lnTo>
                <a:lnTo>
                  <a:pt x="99" y="199"/>
                </a:lnTo>
                <a:lnTo>
                  <a:pt x="103" y="182"/>
                </a:lnTo>
                <a:lnTo>
                  <a:pt x="107" y="165"/>
                </a:lnTo>
                <a:lnTo>
                  <a:pt x="108" y="148"/>
                </a:lnTo>
                <a:lnTo>
                  <a:pt x="108" y="130"/>
                </a:lnTo>
                <a:lnTo>
                  <a:pt x="107" y="113"/>
                </a:lnTo>
                <a:lnTo>
                  <a:pt x="104" y="96"/>
                </a:lnTo>
                <a:lnTo>
                  <a:pt x="99" y="79"/>
                </a:lnTo>
                <a:lnTo>
                  <a:pt x="93" y="64"/>
                </a:lnTo>
                <a:lnTo>
                  <a:pt x="84" y="50"/>
                </a:lnTo>
                <a:lnTo>
                  <a:pt x="76" y="38"/>
                </a:lnTo>
                <a:lnTo>
                  <a:pt x="65" y="26"/>
                </a:lnTo>
                <a:lnTo>
                  <a:pt x="53" y="17"/>
                </a:lnTo>
                <a:lnTo>
                  <a:pt x="41" y="9"/>
                </a:lnTo>
                <a:lnTo>
                  <a:pt x="28" y="4"/>
                </a:lnTo>
                <a:lnTo>
                  <a:pt x="15" y="1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Freeform 16"/>
          <p:cNvSpPr/>
          <p:nvPr/>
        </p:nvSpPr>
        <p:spPr>
          <a:xfrm>
            <a:off x="934920" y="2655720"/>
            <a:ext cx="117720" cy="874800"/>
          </a:xfrm>
          <a:custGeom>
            <a:avLst/>
            <a:gdLst>
              <a:gd name="textAreaLeft" fmla="*/ 0 w 117720"/>
              <a:gd name="textAreaRight" fmla="*/ 118080 w 11772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318" h="1369">
                <a:moveTo>
                  <a:pt x="0" y="1369"/>
                </a:moveTo>
                <a:lnTo>
                  <a:pt x="29" y="1367"/>
                </a:lnTo>
                <a:lnTo>
                  <a:pt x="56" y="1360"/>
                </a:lnTo>
                <a:lnTo>
                  <a:pt x="84" y="1347"/>
                </a:lnTo>
                <a:lnTo>
                  <a:pt x="111" y="1329"/>
                </a:lnTo>
                <a:lnTo>
                  <a:pt x="137" y="1306"/>
                </a:lnTo>
                <a:lnTo>
                  <a:pt x="162" y="1277"/>
                </a:lnTo>
                <a:lnTo>
                  <a:pt x="185" y="1243"/>
                </a:lnTo>
                <a:lnTo>
                  <a:pt x="208" y="1206"/>
                </a:lnTo>
                <a:lnTo>
                  <a:pt x="229" y="1164"/>
                </a:lnTo>
                <a:lnTo>
                  <a:pt x="248" y="1117"/>
                </a:lnTo>
                <a:lnTo>
                  <a:pt x="265" y="1069"/>
                </a:lnTo>
                <a:lnTo>
                  <a:pt x="280" y="1016"/>
                </a:lnTo>
                <a:lnTo>
                  <a:pt x="291" y="961"/>
                </a:lnTo>
                <a:lnTo>
                  <a:pt x="302" y="902"/>
                </a:lnTo>
                <a:lnTo>
                  <a:pt x="309" y="843"/>
                </a:lnTo>
                <a:lnTo>
                  <a:pt x="315" y="783"/>
                </a:lnTo>
                <a:lnTo>
                  <a:pt x="318" y="721"/>
                </a:lnTo>
                <a:lnTo>
                  <a:pt x="318" y="659"/>
                </a:lnTo>
                <a:lnTo>
                  <a:pt x="316" y="598"/>
                </a:lnTo>
                <a:lnTo>
                  <a:pt x="310" y="537"/>
                </a:lnTo>
                <a:lnTo>
                  <a:pt x="303" y="478"/>
                </a:lnTo>
                <a:lnTo>
                  <a:pt x="293" y="420"/>
                </a:lnTo>
                <a:lnTo>
                  <a:pt x="282" y="364"/>
                </a:lnTo>
                <a:lnTo>
                  <a:pt x="267" y="311"/>
                </a:lnTo>
                <a:lnTo>
                  <a:pt x="251" y="261"/>
                </a:lnTo>
                <a:lnTo>
                  <a:pt x="232" y="214"/>
                </a:lnTo>
                <a:lnTo>
                  <a:pt x="212" y="171"/>
                </a:lnTo>
                <a:lnTo>
                  <a:pt x="190" y="133"/>
                </a:lnTo>
                <a:lnTo>
                  <a:pt x="166" y="98"/>
                </a:lnTo>
                <a:lnTo>
                  <a:pt x="141" y="69"/>
                </a:lnTo>
                <a:lnTo>
                  <a:pt x="116" y="45"/>
                </a:lnTo>
                <a:lnTo>
                  <a:pt x="89" y="25"/>
                </a:lnTo>
                <a:lnTo>
                  <a:pt x="62" y="11"/>
                </a:lnTo>
                <a:lnTo>
                  <a:pt x="33" y="4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17"/>
          <p:cNvSpPr/>
          <p:nvPr/>
        </p:nvSpPr>
        <p:spPr>
          <a:xfrm>
            <a:off x="787320" y="2655720"/>
            <a:ext cx="15084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Freeform 18"/>
          <p:cNvSpPr/>
          <p:nvPr/>
        </p:nvSpPr>
        <p:spPr>
          <a:xfrm>
            <a:off x="673200" y="2655720"/>
            <a:ext cx="230040" cy="874800"/>
          </a:xfrm>
          <a:custGeom>
            <a:avLst/>
            <a:gdLst>
              <a:gd name="textAreaLeft" fmla="*/ 0 w 230040"/>
              <a:gd name="textAreaRight" fmla="*/ 230400 w 23004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624" h="1369">
                <a:moveTo>
                  <a:pt x="0" y="768"/>
                </a:moveTo>
                <a:lnTo>
                  <a:pt x="6" y="829"/>
                </a:lnTo>
                <a:lnTo>
                  <a:pt x="12" y="889"/>
                </a:lnTo>
                <a:lnTo>
                  <a:pt x="22" y="947"/>
                </a:lnTo>
                <a:lnTo>
                  <a:pt x="34" y="1003"/>
                </a:lnTo>
                <a:lnTo>
                  <a:pt x="48" y="1056"/>
                </a:lnTo>
                <a:lnTo>
                  <a:pt x="65" y="1107"/>
                </a:lnTo>
                <a:lnTo>
                  <a:pt x="83" y="1153"/>
                </a:lnTo>
                <a:lnTo>
                  <a:pt x="103" y="1197"/>
                </a:lnTo>
                <a:lnTo>
                  <a:pt x="125" y="1236"/>
                </a:lnTo>
                <a:lnTo>
                  <a:pt x="149" y="1270"/>
                </a:lnTo>
                <a:lnTo>
                  <a:pt x="174" y="1300"/>
                </a:lnTo>
                <a:lnTo>
                  <a:pt x="199" y="1325"/>
                </a:lnTo>
                <a:lnTo>
                  <a:pt x="227" y="1344"/>
                </a:lnTo>
                <a:lnTo>
                  <a:pt x="254" y="1358"/>
                </a:lnTo>
                <a:lnTo>
                  <a:pt x="282" y="1366"/>
                </a:lnTo>
                <a:lnTo>
                  <a:pt x="311" y="1369"/>
                </a:lnTo>
                <a:lnTo>
                  <a:pt x="339" y="1367"/>
                </a:lnTo>
                <a:lnTo>
                  <a:pt x="367" y="1359"/>
                </a:lnTo>
                <a:lnTo>
                  <a:pt x="394" y="1345"/>
                </a:lnTo>
                <a:lnTo>
                  <a:pt x="422" y="1326"/>
                </a:lnTo>
                <a:lnTo>
                  <a:pt x="447" y="1302"/>
                </a:lnTo>
                <a:lnTo>
                  <a:pt x="473" y="1272"/>
                </a:lnTo>
                <a:lnTo>
                  <a:pt x="496" y="1238"/>
                </a:lnTo>
                <a:lnTo>
                  <a:pt x="518" y="1200"/>
                </a:lnTo>
                <a:lnTo>
                  <a:pt x="538" y="1157"/>
                </a:lnTo>
                <a:lnTo>
                  <a:pt x="557" y="1110"/>
                </a:lnTo>
                <a:lnTo>
                  <a:pt x="573" y="1060"/>
                </a:lnTo>
                <a:lnTo>
                  <a:pt x="588" y="1007"/>
                </a:lnTo>
                <a:lnTo>
                  <a:pt x="600" y="951"/>
                </a:lnTo>
                <a:lnTo>
                  <a:pt x="610" y="893"/>
                </a:lnTo>
                <a:lnTo>
                  <a:pt x="618" y="834"/>
                </a:lnTo>
                <a:lnTo>
                  <a:pt x="622" y="772"/>
                </a:lnTo>
                <a:lnTo>
                  <a:pt x="624" y="711"/>
                </a:lnTo>
                <a:lnTo>
                  <a:pt x="624" y="648"/>
                </a:lnTo>
                <a:lnTo>
                  <a:pt x="622" y="587"/>
                </a:lnTo>
                <a:lnTo>
                  <a:pt x="617" y="527"/>
                </a:lnTo>
                <a:lnTo>
                  <a:pt x="608" y="467"/>
                </a:lnTo>
                <a:lnTo>
                  <a:pt x="599" y="409"/>
                </a:lnTo>
                <a:lnTo>
                  <a:pt x="586" y="354"/>
                </a:lnTo>
                <a:lnTo>
                  <a:pt x="571" y="301"/>
                </a:lnTo>
                <a:lnTo>
                  <a:pt x="554" y="251"/>
                </a:lnTo>
                <a:lnTo>
                  <a:pt x="535" y="206"/>
                </a:lnTo>
                <a:lnTo>
                  <a:pt x="514" y="163"/>
                </a:lnTo>
                <a:lnTo>
                  <a:pt x="492" y="125"/>
                </a:lnTo>
                <a:lnTo>
                  <a:pt x="468" y="92"/>
                </a:lnTo>
                <a:lnTo>
                  <a:pt x="443" y="64"/>
                </a:lnTo>
                <a:lnTo>
                  <a:pt x="416" y="41"/>
                </a:lnTo>
                <a:lnTo>
                  <a:pt x="390" y="22"/>
                </a:lnTo>
                <a:lnTo>
                  <a:pt x="362" y="9"/>
                </a:lnTo>
                <a:lnTo>
                  <a:pt x="334" y="2"/>
                </a:lnTo>
                <a:lnTo>
                  <a:pt x="305" y="0"/>
                </a:lnTo>
                <a:lnTo>
                  <a:pt x="278" y="5"/>
                </a:lnTo>
                <a:lnTo>
                  <a:pt x="249" y="14"/>
                </a:lnTo>
                <a:lnTo>
                  <a:pt x="222" y="29"/>
                </a:lnTo>
                <a:lnTo>
                  <a:pt x="195" y="49"/>
                </a:lnTo>
                <a:lnTo>
                  <a:pt x="170" y="74"/>
                </a:lnTo>
                <a:lnTo>
                  <a:pt x="144" y="105"/>
                </a:lnTo>
                <a:lnTo>
                  <a:pt x="122" y="140"/>
                </a:lnTo>
                <a:lnTo>
                  <a:pt x="100" y="180"/>
                </a:lnTo>
                <a:lnTo>
                  <a:pt x="80" y="224"/>
                </a:lnTo>
                <a:lnTo>
                  <a:pt x="62" y="271"/>
                </a:lnTo>
                <a:lnTo>
                  <a:pt x="46" y="322"/>
                </a:lnTo>
                <a:lnTo>
                  <a:pt x="32" y="376"/>
                </a:lnTo>
                <a:lnTo>
                  <a:pt x="20" y="432"/>
                </a:lnTo>
                <a:lnTo>
                  <a:pt x="11" y="4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19"/>
          <p:cNvSpPr/>
          <p:nvPr/>
        </p:nvSpPr>
        <p:spPr>
          <a:xfrm>
            <a:off x="789120" y="3530520"/>
            <a:ext cx="150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reeform 20"/>
          <p:cNvSpPr/>
          <p:nvPr/>
        </p:nvSpPr>
        <p:spPr>
          <a:xfrm>
            <a:off x="3570120" y="2622600"/>
            <a:ext cx="117720" cy="873000"/>
          </a:xfrm>
          <a:custGeom>
            <a:avLst/>
            <a:gdLst>
              <a:gd name="textAreaLeft" fmla="*/ 0 w 117720"/>
              <a:gd name="textAreaRight" fmla="*/ 118080 w 11772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317" h="1369">
                <a:moveTo>
                  <a:pt x="0" y="1369"/>
                </a:moveTo>
                <a:lnTo>
                  <a:pt x="26" y="1367"/>
                </a:lnTo>
                <a:lnTo>
                  <a:pt x="53" y="1361"/>
                </a:lnTo>
                <a:lnTo>
                  <a:pt x="79" y="1349"/>
                </a:lnTo>
                <a:lnTo>
                  <a:pt x="104" y="1333"/>
                </a:lnTo>
                <a:lnTo>
                  <a:pt x="129" y="1312"/>
                </a:lnTo>
                <a:lnTo>
                  <a:pt x="153" y="1287"/>
                </a:lnTo>
                <a:lnTo>
                  <a:pt x="176" y="1256"/>
                </a:lnTo>
                <a:lnTo>
                  <a:pt x="198" y="1222"/>
                </a:lnTo>
                <a:lnTo>
                  <a:pt x="218" y="1184"/>
                </a:lnTo>
                <a:lnTo>
                  <a:pt x="237" y="1143"/>
                </a:lnTo>
                <a:lnTo>
                  <a:pt x="254" y="1097"/>
                </a:lnTo>
                <a:lnTo>
                  <a:pt x="270" y="1050"/>
                </a:lnTo>
                <a:lnTo>
                  <a:pt x="282" y="999"/>
                </a:lnTo>
                <a:lnTo>
                  <a:pt x="294" y="946"/>
                </a:lnTo>
                <a:lnTo>
                  <a:pt x="302" y="891"/>
                </a:lnTo>
                <a:lnTo>
                  <a:pt x="310" y="835"/>
                </a:lnTo>
                <a:lnTo>
                  <a:pt x="314" y="777"/>
                </a:lnTo>
                <a:lnTo>
                  <a:pt x="317" y="719"/>
                </a:lnTo>
                <a:lnTo>
                  <a:pt x="317" y="661"/>
                </a:lnTo>
                <a:lnTo>
                  <a:pt x="315" y="603"/>
                </a:lnTo>
                <a:lnTo>
                  <a:pt x="311" y="545"/>
                </a:lnTo>
                <a:lnTo>
                  <a:pt x="305" y="488"/>
                </a:lnTo>
                <a:lnTo>
                  <a:pt x="295" y="433"/>
                </a:lnTo>
                <a:lnTo>
                  <a:pt x="284" y="379"/>
                </a:lnTo>
                <a:lnTo>
                  <a:pt x="272" y="329"/>
                </a:lnTo>
                <a:lnTo>
                  <a:pt x="257" y="280"/>
                </a:lnTo>
                <a:lnTo>
                  <a:pt x="240" y="234"/>
                </a:lnTo>
                <a:lnTo>
                  <a:pt x="222" y="192"/>
                </a:lnTo>
                <a:lnTo>
                  <a:pt x="202" y="153"/>
                </a:lnTo>
                <a:lnTo>
                  <a:pt x="181" y="119"/>
                </a:lnTo>
                <a:lnTo>
                  <a:pt x="157" y="87"/>
                </a:lnTo>
                <a:lnTo>
                  <a:pt x="134" y="62"/>
                </a:lnTo>
                <a:lnTo>
                  <a:pt x="109" y="39"/>
                </a:lnTo>
                <a:lnTo>
                  <a:pt x="83" y="23"/>
                </a:lnTo>
                <a:lnTo>
                  <a:pt x="57" y="10"/>
                </a:lnTo>
                <a:lnTo>
                  <a:pt x="30" y="2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21"/>
          <p:cNvSpPr/>
          <p:nvPr/>
        </p:nvSpPr>
        <p:spPr>
          <a:xfrm>
            <a:off x="3421080" y="3495600"/>
            <a:ext cx="150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Freeform 22"/>
          <p:cNvSpPr/>
          <p:nvPr/>
        </p:nvSpPr>
        <p:spPr>
          <a:xfrm>
            <a:off x="3306600" y="2622600"/>
            <a:ext cx="227160" cy="873000"/>
          </a:xfrm>
          <a:custGeom>
            <a:avLst/>
            <a:gdLst>
              <a:gd name="textAreaLeft" fmla="*/ 0 w 227160"/>
              <a:gd name="textAreaRight" fmla="*/ 227520 w 22716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619" h="1369">
                <a:moveTo>
                  <a:pt x="0" y="823"/>
                </a:moveTo>
                <a:lnTo>
                  <a:pt x="6" y="883"/>
                </a:lnTo>
                <a:lnTo>
                  <a:pt x="16" y="942"/>
                </a:lnTo>
                <a:lnTo>
                  <a:pt x="28" y="998"/>
                </a:lnTo>
                <a:lnTo>
                  <a:pt x="42" y="1052"/>
                </a:lnTo>
                <a:lnTo>
                  <a:pt x="58" y="1101"/>
                </a:lnTo>
                <a:lnTo>
                  <a:pt x="76" y="1149"/>
                </a:lnTo>
                <a:lnTo>
                  <a:pt x="96" y="1193"/>
                </a:lnTo>
                <a:lnTo>
                  <a:pt x="119" y="1232"/>
                </a:lnTo>
                <a:lnTo>
                  <a:pt x="142" y="1267"/>
                </a:lnTo>
                <a:lnTo>
                  <a:pt x="166" y="1297"/>
                </a:lnTo>
                <a:lnTo>
                  <a:pt x="193" y="1322"/>
                </a:lnTo>
                <a:lnTo>
                  <a:pt x="219" y="1342"/>
                </a:lnTo>
                <a:lnTo>
                  <a:pt x="247" y="1357"/>
                </a:lnTo>
                <a:lnTo>
                  <a:pt x="275" y="1365"/>
                </a:lnTo>
                <a:lnTo>
                  <a:pt x="303" y="1369"/>
                </a:lnTo>
                <a:lnTo>
                  <a:pt x="331" y="1367"/>
                </a:lnTo>
                <a:lnTo>
                  <a:pt x="359" y="1359"/>
                </a:lnTo>
                <a:lnTo>
                  <a:pt x="388" y="1346"/>
                </a:lnTo>
                <a:lnTo>
                  <a:pt x="414" y="1327"/>
                </a:lnTo>
                <a:lnTo>
                  <a:pt x="441" y="1304"/>
                </a:lnTo>
                <a:lnTo>
                  <a:pt x="465" y="1275"/>
                </a:lnTo>
                <a:lnTo>
                  <a:pt x="489" y="1241"/>
                </a:lnTo>
                <a:lnTo>
                  <a:pt x="511" y="1203"/>
                </a:lnTo>
                <a:lnTo>
                  <a:pt x="532" y="1161"/>
                </a:lnTo>
                <a:lnTo>
                  <a:pt x="551" y="1114"/>
                </a:lnTo>
                <a:lnTo>
                  <a:pt x="568" y="1064"/>
                </a:lnTo>
                <a:lnTo>
                  <a:pt x="582" y="1011"/>
                </a:lnTo>
                <a:lnTo>
                  <a:pt x="594" y="955"/>
                </a:lnTo>
                <a:lnTo>
                  <a:pt x="605" y="897"/>
                </a:lnTo>
                <a:lnTo>
                  <a:pt x="612" y="838"/>
                </a:lnTo>
                <a:lnTo>
                  <a:pt x="617" y="777"/>
                </a:lnTo>
                <a:lnTo>
                  <a:pt x="619" y="715"/>
                </a:lnTo>
                <a:lnTo>
                  <a:pt x="619" y="654"/>
                </a:lnTo>
                <a:lnTo>
                  <a:pt x="617" y="592"/>
                </a:lnTo>
                <a:lnTo>
                  <a:pt x="612" y="531"/>
                </a:lnTo>
                <a:lnTo>
                  <a:pt x="605" y="471"/>
                </a:lnTo>
                <a:lnTo>
                  <a:pt x="594" y="413"/>
                </a:lnTo>
                <a:lnTo>
                  <a:pt x="582" y="358"/>
                </a:lnTo>
                <a:lnTo>
                  <a:pt x="568" y="305"/>
                </a:lnTo>
                <a:lnTo>
                  <a:pt x="551" y="255"/>
                </a:lnTo>
                <a:lnTo>
                  <a:pt x="532" y="209"/>
                </a:lnTo>
                <a:lnTo>
                  <a:pt x="511" y="167"/>
                </a:lnTo>
                <a:lnTo>
                  <a:pt x="489" y="128"/>
                </a:lnTo>
                <a:lnTo>
                  <a:pt x="465" y="95"/>
                </a:lnTo>
                <a:lnTo>
                  <a:pt x="441" y="65"/>
                </a:lnTo>
                <a:lnTo>
                  <a:pt x="414" y="42"/>
                </a:lnTo>
                <a:lnTo>
                  <a:pt x="388" y="23"/>
                </a:lnTo>
                <a:lnTo>
                  <a:pt x="359" y="10"/>
                </a:lnTo>
                <a:lnTo>
                  <a:pt x="331" y="2"/>
                </a:lnTo>
                <a:lnTo>
                  <a:pt x="303" y="0"/>
                </a:lnTo>
                <a:lnTo>
                  <a:pt x="275" y="3"/>
                </a:lnTo>
                <a:lnTo>
                  <a:pt x="247" y="12"/>
                </a:lnTo>
                <a:lnTo>
                  <a:pt x="219" y="27"/>
                </a:lnTo>
                <a:lnTo>
                  <a:pt x="193" y="47"/>
                </a:lnTo>
                <a:lnTo>
                  <a:pt x="166" y="72"/>
                </a:lnTo>
                <a:lnTo>
                  <a:pt x="142" y="102"/>
                </a:lnTo>
                <a:lnTo>
                  <a:pt x="119" y="137"/>
                </a:lnTo>
                <a:lnTo>
                  <a:pt x="96" y="176"/>
                </a:lnTo>
                <a:lnTo>
                  <a:pt x="76" y="219"/>
                </a:lnTo>
                <a:lnTo>
                  <a:pt x="58" y="267"/>
                </a:lnTo>
                <a:lnTo>
                  <a:pt x="42" y="318"/>
                </a:lnTo>
                <a:lnTo>
                  <a:pt x="28" y="371"/>
                </a:lnTo>
                <a:lnTo>
                  <a:pt x="16" y="428"/>
                </a:lnTo>
                <a:lnTo>
                  <a:pt x="6" y="486"/>
                </a:lnTo>
                <a:lnTo>
                  <a:pt x="0" y="5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23"/>
          <p:cNvSpPr/>
          <p:nvPr/>
        </p:nvSpPr>
        <p:spPr>
          <a:xfrm>
            <a:off x="3419640" y="2622600"/>
            <a:ext cx="150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Freeform 24"/>
          <p:cNvSpPr/>
          <p:nvPr/>
        </p:nvSpPr>
        <p:spPr>
          <a:xfrm>
            <a:off x="787320" y="2970360"/>
            <a:ext cx="39600" cy="176040"/>
          </a:xfrm>
          <a:custGeom>
            <a:avLst/>
            <a:gdLst>
              <a:gd name="textAreaLeft" fmla="*/ 0 w 39600"/>
              <a:gd name="textAreaRight" fmla="*/ 39600 w 3960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08" h="277">
                <a:moveTo>
                  <a:pt x="0" y="277"/>
                </a:moveTo>
                <a:lnTo>
                  <a:pt x="20" y="275"/>
                </a:lnTo>
                <a:lnTo>
                  <a:pt x="39" y="269"/>
                </a:lnTo>
                <a:lnTo>
                  <a:pt x="57" y="257"/>
                </a:lnTo>
                <a:lnTo>
                  <a:pt x="73" y="242"/>
                </a:lnTo>
                <a:lnTo>
                  <a:pt x="86" y="223"/>
                </a:lnTo>
                <a:lnTo>
                  <a:pt x="97" y="201"/>
                </a:lnTo>
                <a:lnTo>
                  <a:pt x="103" y="177"/>
                </a:lnTo>
                <a:lnTo>
                  <a:pt x="108" y="152"/>
                </a:lnTo>
                <a:lnTo>
                  <a:pt x="108" y="127"/>
                </a:lnTo>
                <a:lnTo>
                  <a:pt x="104" y="101"/>
                </a:lnTo>
                <a:lnTo>
                  <a:pt x="97" y="77"/>
                </a:lnTo>
                <a:lnTo>
                  <a:pt x="86" y="55"/>
                </a:lnTo>
                <a:lnTo>
                  <a:pt x="73" y="36"/>
                </a:lnTo>
                <a:lnTo>
                  <a:pt x="57" y="21"/>
                </a:lnTo>
                <a:lnTo>
                  <a:pt x="40" y="9"/>
                </a:lnTo>
                <a:lnTo>
                  <a:pt x="21" y="2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25"/>
          <p:cNvSpPr/>
          <p:nvPr/>
        </p:nvSpPr>
        <p:spPr>
          <a:xfrm>
            <a:off x="1052640" y="3146400"/>
            <a:ext cx="10872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26"/>
          <p:cNvSpPr/>
          <p:nvPr/>
        </p:nvSpPr>
        <p:spPr>
          <a:xfrm>
            <a:off x="1049400" y="2970360"/>
            <a:ext cx="1090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27"/>
          <p:cNvSpPr/>
          <p:nvPr/>
        </p:nvSpPr>
        <p:spPr>
          <a:xfrm>
            <a:off x="2584440" y="2970360"/>
            <a:ext cx="8352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8"/>
          <p:cNvSpPr/>
          <p:nvPr/>
        </p:nvSpPr>
        <p:spPr>
          <a:xfrm>
            <a:off x="2584440" y="3146400"/>
            <a:ext cx="8352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Freeform 29"/>
          <p:cNvSpPr/>
          <p:nvPr/>
        </p:nvSpPr>
        <p:spPr>
          <a:xfrm>
            <a:off x="3419640" y="2970360"/>
            <a:ext cx="39600" cy="176040"/>
          </a:xfrm>
          <a:custGeom>
            <a:avLst/>
            <a:gdLst>
              <a:gd name="textAreaLeft" fmla="*/ 0 w 39600"/>
              <a:gd name="textAreaRight" fmla="*/ 39600 w 3960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08" h="277">
                <a:moveTo>
                  <a:pt x="0" y="277"/>
                </a:moveTo>
                <a:lnTo>
                  <a:pt x="19" y="275"/>
                </a:lnTo>
                <a:lnTo>
                  <a:pt x="39" y="269"/>
                </a:lnTo>
                <a:lnTo>
                  <a:pt x="56" y="257"/>
                </a:lnTo>
                <a:lnTo>
                  <a:pt x="73" y="242"/>
                </a:lnTo>
                <a:lnTo>
                  <a:pt x="86" y="223"/>
                </a:lnTo>
                <a:lnTo>
                  <a:pt x="96" y="201"/>
                </a:lnTo>
                <a:lnTo>
                  <a:pt x="104" y="177"/>
                </a:lnTo>
                <a:lnTo>
                  <a:pt x="108" y="152"/>
                </a:lnTo>
                <a:lnTo>
                  <a:pt x="108" y="127"/>
                </a:lnTo>
                <a:lnTo>
                  <a:pt x="104" y="101"/>
                </a:lnTo>
                <a:lnTo>
                  <a:pt x="97" y="77"/>
                </a:lnTo>
                <a:lnTo>
                  <a:pt x="87" y="55"/>
                </a:lnTo>
                <a:lnTo>
                  <a:pt x="73" y="36"/>
                </a:lnTo>
                <a:lnTo>
                  <a:pt x="57" y="21"/>
                </a:lnTo>
                <a:lnTo>
                  <a:pt x="39" y="9"/>
                </a:lnTo>
                <a:lnTo>
                  <a:pt x="20" y="2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30"/>
          <p:cNvSpPr/>
          <p:nvPr/>
        </p:nvSpPr>
        <p:spPr>
          <a:xfrm>
            <a:off x="3684600" y="2970360"/>
            <a:ext cx="695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31"/>
          <p:cNvSpPr/>
          <p:nvPr/>
        </p:nvSpPr>
        <p:spPr>
          <a:xfrm>
            <a:off x="3684600" y="3146400"/>
            <a:ext cx="695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32"/>
          <p:cNvSpPr/>
          <p:nvPr/>
        </p:nvSpPr>
        <p:spPr>
          <a:xfrm flipV="1">
            <a:off x="220680" y="2712960"/>
            <a:ext cx="3168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33"/>
          <p:cNvSpPr/>
          <p:nvPr/>
        </p:nvSpPr>
        <p:spPr>
          <a:xfrm flipV="1">
            <a:off x="220680" y="2712600"/>
            <a:ext cx="100080" cy="1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34"/>
          <p:cNvSpPr/>
          <p:nvPr/>
        </p:nvSpPr>
        <p:spPr>
          <a:xfrm flipV="1">
            <a:off x="277920" y="2712960"/>
            <a:ext cx="10944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35"/>
          <p:cNvSpPr/>
          <p:nvPr/>
        </p:nvSpPr>
        <p:spPr>
          <a:xfrm flipV="1">
            <a:off x="344520" y="2712960"/>
            <a:ext cx="10944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36"/>
          <p:cNvSpPr/>
          <p:nvPr/>
        </p:nvSpPr>
        <p:spPr>
          <a:xfrm flipV="1">
            <a:off x="220680" y="3211560"/>
            <a:ext cx="126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37"/>
          <p:cNvSpPr/>
          <p:nvPr/>
        </p:nvSpPr>
        <p:spPr>
          <a:xfrm flipV="1">
            <a:off x="412920" y="2809440"/>
            <a:ext cx="53640" cy="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38"/>
          <p:cNvSpPr/>
          <p:nvPr/>
        </p:nvSpPr>
        <p:spPr>
          <a:xfrm flipV="1">
            <a:off x="220680" y="3211560"/>
            <a:ext cx="7920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39"/>
          <p:cNvSpPr/>
          <p:nvPr/>
        </p:nvSpPr>
        <p:spPr>
          <a:xfrm flipV="1">
            <a:off x="260280" y="3211200"/>
            <a:ext cx="10944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40"/>
          <p:cNvSpPr/>
          <p:nvPr/>
        </p:nvSpPr>
        <p:spPr>
          <a:xfrm flipV="1">
            <a:off x="326880" y="3211200"/>
            <a:ext cx="10800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41"/>
          <p:cNvSpPr/>
          <p:nvPr/>
        </p:nvSpPr>
        <p:spPr>
          <a:xfrm flipV="1">
            <a:off x="393840" y="3276720"/>
            <a:ext cx="72720" cy="123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42"/>
          <p:cNvSpPr/>
          <p:nvPr/>
        </p:nvSpPr>
        <p:spPr>
          <a:xfrm flipV="1">
            <a:off x="461880" y="3392640"/>
            <a:ext cx="468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43"/>
          <p:cNvSpPr/>
          <p:nvPr/>
        </p:nvSpPr>
        <p:spPr>
          <a:xfrm flipV="1">
            <a:off x="4081320" y="2712960"/>
            <a:ext cx="6696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44"/>
          <p:cNvSpPr/>
          <p:nvPr/>
        </p:nvSpPr>
        <p:spPr>
          <a:xfrm flipV="1">
            <a:off x="4105440" y="2712960"/>
            <a:ext cx="10764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45"/>
          <p:cNvSpPr/>
          <p:nvPr/>
        </p:nvSpPr>
        <p:spPr>
          <a:xfrm flipV="1">
            <a:off x="4173480" y="2712960"/>
            <a:ext cx="109440" cy="1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46"/>
          <p:cNvSpPr/>
          <p:nvPr/>
        </p:nvSpPr>
        <p:spPr>
          <a:xfrm flipV="1">
            <a:off x="4240080" y="2755440"/>
            <a:ext cx="84240" cy="14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47"/>
          <p:cNvSpPr/>
          <p:nvPr/>
        </p:nvSpPr>
        <p:spPr>
          <a:xfrm flipV="1">
            <a:off x="4081320" y="3211560"/>
            <a:ext cx="4788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8"/>
          <p:cNvSpPr/>
          <p:nvPr/>
        </p:nvSpPr>
        <p:spPr>
          <a:xfrm flipV="1">
            <a:off x="4307040" y="2874960"/>
            <a:ext cx="1728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49"/>
          <p:cNvSpPr/>
          <p:nvPr/>
        </p:nvSpPr>
        <p:spPr>
          <a:xfrm flipV="1">
            <a:off x="4087800" y="3211200"/>
            <a:ext cx="10800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0"/>
          <p:cNvSpPr/>
          <p:nvPr/>
        </p:nvSpPr>
        <p:spPr>
          <a:xfrm flipV="1">
            <a:off x="4154400" y="3211200"/>
            <a:ext cx="10980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1"/>
          <p:cNvSpPr/>
          <p:nvPr/>
        </p:nvSpPr>
        <p:spPr>
          <a:xfrm flipV="1">
            <a:off x="4222800" y="3224160"/>
            <a:ext cx="101520" cy="176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52"/>
          <p:cNvSpPr/>
          <p:nvPr/>
        </p:nvSpPr>
        <p:spPr>
          <a:xfrm flipV="1">
            <a:off x="4289400" y="3338640"/>
            <a:ext cx="3492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3"/>
          <p:cNvSpPr/>
          <p:nvPr/>
        </p:nvSpPr>
        <p:spPr>
          <a:xfrm flipH="1">
            <a:off x="220320" y="2905200"/>
            <a:ext cx="2458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54"/>
          <p:cNvSpPr/>
          <p:nvPr/>
        </p:nvSpPr>
        <p:spPr>
          <a:xfrm flipH="1">
            <a:off x="4080960" y="2905200"/>
            <a:ext cx="2430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55"/>
          <p:cNvSpPr/>
          <p:nvPr/>
        </p:nvSpPr>
        <p:spPr>
          <a:xfrm flipH="1">
            <a:off x="220320" y="3211560"/>
            <a:ext cx="2458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56"/>
          <p:cNvSpPr/>
          <p:nvPr/>
        </p:nvSpPr>
        <p:spPr>
          <a:xfrm flipH="1">
            <a:off x="4080960" y="3211560"/>
            <a:ext cx="2430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Freeform 57"/>
          <p:cNvSpPr/>
          <p:nvPr/>
        </p:nvSpPr>
        <p:spPr>
          <a:xfrm>
            <a:off x="949320" y="2798640"/>
            <a:ext cx="28440" cy="520920"/>
          </a:xfrm>
          <a:custGeom>
            <a:avLst/>
            <a:gdLst>
              <a:gd name="textAreaLeft" fmla="*/ 0 w 28440"/>
              <a:gd name="textAreaRight" fmla="*/ 28800 w 284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81" h="813">
                <a:moveTo>
                  <a:pt x="37" y="813"/>
                </a:moveTo>
                <a:lnTo>
                  <a:pt x="50" y="762"/>
                </a:lnTo>
                <a:lnTo>
                  <a:pt x="60" y="708"/>
                </a:lnTo>
                <a:lnTo>
                  <a:pt x="69" y="653"/>
                </a:lnTo>
                <a:lnTo>
                  <a:pt x="75" y="596"/>
                </a:lnTo>
                <a:lnTo>
                  <a:pt x="79" y="539"/>
                </a:lnTo>
                <a:lnTo>
                  <a:pt x="81" y="480"/>
                </a:lnTo>
                <a:lnTo>
                  <a:pt x="80" y="422"/>
                </a:lnTo>
                <a:lnTo>
                  <a:pt x="78" y="364"/>
                </a:lnTo>
                <a:lnTo>
                  <a:pt x="73" y="307"/>
                </a:lnTo>
                <a:lnTo>
                  <a:pt x="67" y="251"/>
                </a:lnTo>
                <a:lnTo>
                  <a:pt x="57" y="196"/>
                </a:lnTo>
                <a:lnTo>
                  <a:pt x="45" y="143"/>
                </a:lnTo>
                <a:lnTo>
                  <a:pt x="32" y="93"/>
                </a:lnTo>
                <a:lnTo>
                  <a:pt x="17" y="4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Freeform 58"/>
          <p:cNvSpPr/>
          <p:nvPr/>
        </p:nvSpPr>
        <p:spPr>
          <a:xfrm>
            <a:off x="2414520" y="2590920"/>
            <a:ext cx="44640" cy="934920"/>
          </a:xfrm>
          <a:custGeom>
            <a:avLst/>
            <a:gdLst>
              <a:gd name="textAreaLeft" fmla="*/ 0 w 44640"/>
              <a:gd name="textAreaRight" fmla="*/ 44640 w 446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121" h="1467">
                <a:moveTo>
                  <a:pt x="0" y="1467"/>
                </a:moveTo>
                <a:lnTo>
                  <a:pt x="22" y="1405"/>
                </a:lnTo>
                <a:lnTo>
                  <a:pt x="42" y="1338"/>
                </a:lnTo>
                <a:lnTo>
                  <a:pt x="60" y="1269"/>
                </a:lnTo>
                <a:lnTo>
                  <a:pt x="76" y="1198"/>
                </a:lnTo>
                <a:lnTo>
                  <a:pt x="90" y="1124"/>
                </a:lnTo>
                <a:lnTo>
                  <a:pt x="101" y="1048"/>
                </a:lnTo>
                <a:lnTo>
                  <a:pt x="110" y="970"/>
                </a:lnTo>
                <a:lnTo>
                  <a:pt x="116" y="892"/>
                </a:lnTo>
                <a:lnTo>
                  <a:pt x="120" y="813"/>
                </a:lnTo>
                <a:lnTo>
                  <a:pt x="121" y="733"/>
                </a:lnTo>
                <a:lnTo>
                  <a:pt x="120" y="654"/>
                </a:lnTo>
                <a:lnTo>
                  <a:pt x="116" y="574"/>
                </a:lnTo>
                <a:lnTo>
                  <a:pt x="110" y="496"/>
                </a:lnTo>
                <a:lnTo>
                  <a:pt x="101" y="419"/>
                </a:lnTo>
                <a:lnTo>
                  <a:pt x="90" y="343"/>
                </a:lnTo>
                <a:lnTo>
                  <a:pt x="76" y="270"/>
                </a:lnTo>
                <a:lnTo>
                  <a:pt x="60" y="198"/>
                </a:lnTo>
                <a:lnTo>
                  <a:pt x="42" y="129"/>
                </a:lnTo>
                <a:lnTo>
                  <a:pt x="22" y="6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Freeform 59"/>
          <p:cNvSpPr/>
          <p:nvPr/>
        </p:nvSpPr>
        <p:spPr>
          <a:xfrm>
            <a:off x="3587760" y="2798640"/>
            <a:ext cx="22320" cy="520920"/>
          </a:xfrm>
          <a:custGeom>
            <a:avLst/>
            <a:gdLst>
              <a:gd name="textAreaLeft" fmla="*/ 0 w 22320"/>
              <a:gd name="textAreaRight" fmla="*/ 22680 w 223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62" h="820">
                <a:moveTo>
                  <a:pt x="0" y="820"/>
                </a:moveTo>
                <a:lnTo>
                  <a:pt x="15" y="771"/>
                </a:lnTo>
                <a:lnTo>
                  <a:pt x="28" y="721"/>
                </a:lnTo>
                <a:lnTo>
                  <a:pt x="40" y="667"/>
                </a:lnTo>
                <a:lnTo>
                  <a:pt x="49" y="612"/>
                </a:lnTo>
                <a:lnTo>
                  <a:pt x="55" y="555"/>
                </a:lnTo>
                <a:lnTo>
                  <a:pt x="60" y="497"/>
                </a:lnTo>
                <a:lnTo>
                  <a:pt x="62" y="439"/>
                </a:lnTo>
                <a:lnTo>
                  <a:pt x="62" y="380"/>
                </a:lnTo>
                <a:lnTo>
                  <a:pt x="60" y="321"/>
                </a:lnTo>
                <a:lnTo>
                  <a:pt x="55" y="264"/>
                </a:lnTo>
                <a:lnTo>
                  <a:pt x="49" y="207"/>
                </a:lnTo>
                <a:lnTo>
                  <a:pt x="40" y="152"/>
                </a:lnTo>
                <a:lnTo>
                  <a:pt x="28" y="99"/>
                </a:lnTo>
                <a:lnTo>
                  <a:pt x="15" y="4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c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60"/>
          <p:cNvGraphicFramePr/>
          <p:nvPr/>
        </p:nvGraphicFramePr>
        <p:xfrm>
          <a:off x="2179800" y="3852720"/>
          <a:ext cx="33948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9800" y="3852720"/>
                    <a:ext cx="3394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61"/>
          <p:cNvGraphicFramePr/>
          <p:nvPr/>
        </p:nvGraphicFramePr>
        <p:xfrm>
          <a:off x="757080" y="3619440"/>
          <a:ext cx="33984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6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080" y="3619440"/>
                    <a:ext cx="339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62"/>
          <p:cNvGraphicFramePr/>
          <p:nvPr/>
        </p:nvGraphicFramePr>
        <p:xfrm>
          <a:off x="3370320" y="3649680"/>
          <a:ext cx="33984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70320" y="3649680"/>
                    <a:ext cx="3398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63"/>
          <p:cNvGraphicFramePr/>
          <p:nvPr/>
        </p:nvGraphicFramePr>
        <p:xfrm>
          <a:off x="673200" y="2081160"/>
          <a:ext cx="50940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4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00" y="2081160"/>
                    <a:ext cx="5094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64"/>
          <p:cNvGraphicFramePr/>
          <p:nvPr/>
        </p:nvGraphicFramePr>
        <p:xfrm>
          <a:off x="3278160" y="2075040"/>
          <a:ext cx="509760" cy="509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6" name="Object 6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8160" y="2075040"/>
                    <a:ext cx="50976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65"/>
          <p:cNvGraphicFramePr/>
          <p:nvPr/>
        </p:nvGraphicFramePr>
        <p:xfrm>
          <a:off x="2028960" y="1755720"/>
          <a:ext cx="509400" cy="50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8" name="Object 6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28960" y="1755720"/>
                    <a:ext cx="5094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66"/>
          <p:cNvSpPr/>
          <p:nvPr/>
        </p:nvSpPr>
        <p:spPr>
          <a:xfrm>
            <a:off x="4419720" y="963720"/>
            <a:ext cx="49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解：首先计算各轮子的外力偶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0" name="Object 67"/>
          <p:cNvGraphicFramePr/>
          <p:nvPr/>
        </p:nvGraphicFramePr>
        <p:xfrm>
          <a:off x="2556000" y="3330720"/>
          <a:ext cx="431640" cy="45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1" name="Object 6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56000" y="3330720"/>
                    <a:ext cx="4316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8"/>
          <p:cNvGraphicFramePr/>
          <p:nvPr/>
        </p:nvGraphicFramePr>
        <p:xfrm>
          <a:off x="1031760" y="2517840"/>
          <a:ext cx="432000" cy="458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3" name="Object 6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31760" y="2517840"/>
                    <a:ext cx="4320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69"/>
          <p:cNvGraphicFramePr/>
          <p:nvPr/>
        </p:nvGraphicFramePr>
        <p:xfrm>
          <a:off x="3687840" y="2503440"/>
          <a:ext cx="431640" cy="459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5" name="Object 6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87840" y="2503440"/>
                    <a:ext cx="4316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71"/>
          <p:cNvGraphicFramePr/>
          <p:nvPr/>
        </p:nvGraphicFramePr>
        <p:xfrm>
          <a:off x="5135400" y="1535040"/>
          <a:ext cx="2706840" cy="830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27" name="Object 7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35400" y="1535040"/>
                    <a:ext cx="27068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72"/>
          <p:cNvGraphicFramePr/>
          <p:nvPr/>
        </p:nvGraphicFramePr>
        <p:xfrm>
          <a:off x="5643720" y="2527200"/>
          <a:ext cx="2097000" cy="425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29" name="Object 7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643720" y="2527200"/>
                    <a:ext cx="20970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73"/>
          <p:cNvGraphicFramePr/>
          <p:nvPr/>
        </p:nvGraphicFramePr>
        <p:xfrm>
          <a:off x="5194440" y="3218040"/>
          <a:ext cx="2751120" cy="844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31" name="Object 7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194440" y="3218040"/>
                    <a:ext cx="2751120" cy="84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74"/>
          <p:cNvGraphicFramePr/>
          <p:nvPr/>
        </p:nvGraphicFramePr>
        <p:xfrm>
          <a:off x="5675400" y="4281480"/>
          <a:ext cx="1938240" cy="423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33" name="Object 7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75400" y="4281480"/>
                    <a:ext cx="193824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75"/>
          <p:cNvGraphicFramePr/>
          <p:nvPr/>
        </p:nvGraphicFramePr>
        <p:xfrm>
          <a:off x="5194440" y="5013360"/>
          <a:ext cx="2606400" cy="799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35" name="Object 7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94440" y="5013360"/>
                    <a:ext cx="2606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76"/>
          <p:cNvGraphicFramePr/>
          <p:nvPr/>
        </p:nvGraphicFramePr>
        <p:xfrm>
          <a:off x="5595840" y="5996160"/>
          <a:ext cx="1944720" cy="419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37" name="Object 7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595840" y="5996160"/>
                    <a:ext cx="1944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AutoShape 7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Freeform 84"/>
          <p:cNvSpPr/>
          <p:nvPr/>
        </p:nvSpPr>
        <p:spPr>
          <a:xfrm>
            <a:off x="4332240" y="2970360"/>
            <a:ext cx="77760" cy="176040"/>
          </a:xfrm>
          <a:custGeom>
            <a:avLst/>
            <a:gdLst>
              <a:gd name="textAreaLeft" fmla="*/ 0 w 77760"/>
              <a:gd name="textAreaRight" fmla="*/ 78120 w 777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3" h="277">
                <a:moveTo>
                  <a:pt x="107" y="0"/>
                </a:moveTo>
                <a:lnTo>
                  <a:pt x="87" y="3"/>
                </a:lnTo>
                <a:lnTo>
                  <a:pt x="67" y="10"/>
                </a:lnTo>
                <a:lnTo>
                  <a:pt x="49" y="22"/>
                </a:lnTo>
                <a:lnTo>
                  <a:pt x="33" y="38"/>
                </a:lnTo>
                <a:lnTo>
                  <a:pt x="20" y="58"/>
                </a:lnTo>
                <a:lnTo>
                  <a:pt x="10" y="81"/>
                </a:lnTo>
                <a:lnTo>
                  <a:pt x="3" y="105"/>
                </a:lnTo>
                <a:lnTo>
                  <a:pt x="0" y="132"/>
                </a:lnTo>
                <a:lnTo>
                  <a:pt x="1" y="158"/>
                </a:lnTo>
                <a:lnTo>
                  <a:pt x="7" y="184"/>
                </a:lnTo>
                <a:lnTo>
                  <a:pt x="15" y="208"/>
                </a:lnTo>
                <a:lnTo>
                  <a:pt x="27" y="229"/>
                </a:lnTo>
                <a:lnTo>
                  <a:pt x="40" y="247"/>
                </a:lnTo>
                <a:lnTo>
                  <a:pt x="58" y="262"/>
                </a:lnTo>
                <a:lnTo>
                  <a:pt x="76" y="272"/>
                </a:lnTo>
                <a:lnTo>
                  <a:pt x="97" y="277"/>
                </a:lnTo>
                <a:lnTo>
                  <a:pt x="117" y="277"/>
                </a:lnTo>
                <a:lnTo>
                  <a:pt x="137" y="272"/>
                </a:lnTo>
                <a:lnTo>
                  <a:pt x="156" y="262"/>
                </a:lnTo>
                <a:lnTo>
                  <a:pt x="173" y="247"/>
                </a:lnTo>
                <a:lnTo>
                  <a:pt x="188" y="229"/>
                </a:lnTo>
                <a:lnTo>
                  <a:pt x="199" y="208"/>
                </a:lnTo>
                <a:lnTo>
                  <a:pt x="208" y="184"/>
                </a:lnTo>
                <a:lnTo>
                  <a:pt x="212" y="158"/>
                </a:lnTo>
                <a:lnTo>
                  <a:pt x="213" y="132"/>
                </a:lnTo>
                <a:lnTo>
                  <a:pt x="211" y="105"/>
                </a:lnTo>
                <a:lnTo>
                  <a:pt x="204" y="81"/>
                </a:lnTo>
                <a:lnTo>
                  <a:pt x="194" y="58"/>
                </a:lnTo>
                <a:lnTo>
                  <a:pt x="180" y="38"/>
                </a:lnTo>
                <a:lnTo>
                  <a:pt x="164" y="22"/>
                </a:lnTo>
                <a:lnTo>
                  <a:pt x="146" y="10"/>
                </a:lnTo>
                <a:lnTo>
                  <a:pt x="127" y="3"/>
                </a:lnTo>
                <a:lnTo>
                  <a:pt x="10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11:54:09Z</dcterms:created>
  <dc:creator>zgz</dc:creator>
  <dc:description/>
  <dc:language>en-US</dc:language>
  <cp:lastModifiedBy>yang liu</cp:lastModifiedBy>
  <dcterms:modified xsi:type="dcterms:W3CDTF">2019-06-11T01:19:36Z</dcterms:modified>
  <cp:revision>138</cp:revision>
  <dc:subject/>
  <dc:title>幻灯片 1</dc:title>
</cp:coreProperties>
</file>