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31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58.png" ContentType="image/png"/>
  <Override PartName="/ppt/media/image2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1.png" ContentType="image/png"/>
  <Override PartName="/ppt/media/image24.png" ContentType="image/png"/>
  <Override PartName="/ppt/media/image61.png" ContentType="image/png"/>
  <Override PartName="/ppt/media/image66.jpeg" ContentType="image/jpe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0.png" ContentType="image/pn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3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FB3-BBA6-4F99-9F0A-1648BCF5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7CA-9388-43DA-86EE-63D1D757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F50-9A4A-4AD4-8955-502F7E6A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757-4DD8-4792-9EDE-4BAE322A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03A-4C99-4D37-9CD0-DEA84020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2EC-4D47-4DB1-8389-9C32377D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C5A-C161-4127-825D-58754BFD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1FB-E10D-457B-B0E0-F1B368F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4360" y="-431640"/>
            <a:ext cx="77724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9C7-8AFE-44BE-9658-AABF768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197-20F0-45DC-8945-B4257B5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F7A-B4FB-4121-87CA-B4AD38AB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-445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527-428C-4C36-BB12-F247B27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-431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3C5-C58D-4B65-9708-31F043AD63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214200"/>
            <a:ext cx="43812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7174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7080" y="563400"/>
            <a:ext cx="560160" cy="42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80028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2800" y="8967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" Target="slide4.xml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" Target="slide4.xml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6.png"/><Relationship Id="rId11" Type="http://schemas.openxmlformats.org/officeDocument/2006/relationships/image" Target="../media/image30.png"/><Relationship Id="rId12" Type="http://schemas.openxmlformats.org/officeDocument/2006/relationships/slide" Target="slide4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76360" y="1700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黑体"/>
                <a:ea typeface="黑体"/>
              </a:rPr>
              <a:t>§10-2 </a:t>
            </a:r>
            <a:r>
              <a:rPr b="1" lang="zh-CN" sz="5400" spc="-1" strike="noStrike">
                <a:solidFill>
                  <a:srgbClr val="006600"/>
                </a:solidFill>
                <a:latin typeface="黑体"/>
                <a:ea typeface="黑体"/>
              </a:rPr>
              <a:t>梁的正应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48D-0056-4CAE-A78D-8F6A748839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981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应力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840360" y="1268280"/>
                <a:ext cx="1065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8320" y="1773360"/>
            <a:ext cx="548640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518160" y="2205000"/>
                <a:ext cx="1725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778800" y="4076640"/>
                <a:ext cx="1344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10480" y="3141720"/>
                <a:ext cx="1320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732720" y="5302080"/>
                <a:ext cx="836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53240" y="5157720"/>
                <a:ext cx="735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3EC-2D07-4883-87EB-E0B5794957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0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6920" y="965160"/>
            <a:ext cx="554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见截面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Z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8520" y="1424160"/>
            <a:ext cx="5772240" cy="4381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106800" y="35164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截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0640" y="50115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截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6440" y="42814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空心圆截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440" y="58910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空心矩形截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346800" y="1427040"/>
                <a:ext cx="1473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297480" y="2147760"/>
                <a:ext cx="1344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49760" y="3298680"/>
                <a:ext cx="1194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248600" y="3298680"/>
                <a:ext cx="1268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92520" y="4091040"/>
                <a:ext cx="2184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923160" y="4091040"/>
                <a:ext cx="22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505480" y="4821120"/>
                <a:ext cx="1143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262640" y="4811760"/>
                <a:ext cx="1243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24280" y="5675400"/>
                <a:ext cx="2057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481720" y="5675400"/>
                <a:ext cx="3298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22280" y="19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2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截面惯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658-A9A3-4897-89D3-D3D99B176E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28720" y="9651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横力弯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04840" y="1546200"/>
            <a:ext cx="3494160" cy="4114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4895640" cy="3671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00000" y="1951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§10-2-3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应力公式的推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6426000"/>
            <a:ext cx="719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8C5-ABAE-478C-B463-86B64727E1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55640" y="981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横力弯曲正应力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4840" y="1835280"/>
            <a:ext cx="34941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4356000" y="1052640"/>
            <a:ext cx="3924360" cy="1079280"/>
            <a:chOff x="4356000" y="1052640"/>
            <a:chExt cx="3924360" cy="1079280"/>
          </a:xfrm>
        </p:grpSpPr>
        <p:sp>
          <p:nvSpPr>
            <p:cNvPr id="204" name=""/>
            <p:cNvSpPr/>
            <p:nvPr/>
          </p:nvSpPr>
          <p:spPr>
            <a:xfrm>
              <a:off x="4356000" y="13399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弯曲正应力分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948360" y="1052640"/>
                  <a:ext cx="133200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y</m:t>
                          </m:r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3995640" y="23544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弹性力学精确分析表明，当跨度 </a:t>
            </a:r>
            <a:r>
              <a:rPr b="1" i="1" lang="en-US" sz="2800" spc="-1" strike="noStrike">
                <a:solidFill>
                  <a:srgbClr val="ff0101"/>
                </a:solidFill>
                <a:latin typeface="Times New Roman"/>
                <a:ea typeface="黑体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横截面高度 </a:t>
            </a:r>
            <a:r>
              <a:rPr b="1" i="1" lang="en-US" sz="2800" spc="-1" strike="noStrike">
                <a:solidFill>
                  <a:srgbClr val="ff0101"/>
                </a:solidFill>
                <a:latin typeface="Times New Roman"/>
                <a:ea typeface="黑体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比 </a:t>
            </a:r>
            <a:r>
              <a:rPr b="1" i="1" lang="en-US" sz="2800" spc="-1" strike="noStrike">
                <a:solidFill>
                  <a:srgbClr val="ff0101"/>
                </a:solidFill>
                <a:latin typeface="Times New Roman"/>
                <a:ea typeface="黑体"/>
              </a:rPr>
              <a:t>l / h &gt;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细长梁）时，纯弯曲正应力公式对于横力弯曲近似成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76720" y="5445000"/>
                <a:ext cx="2132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140360" y="472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横力弯曲最大正应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951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§10-2-3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应力公式的推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77B-B2AD-4712-AD8D-CAF4F76CD5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1052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曲正应力公式适用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71640" y="1917720"/>
            <a:ext cx="3924360" cy="1079640"/>
            <a:chOff x="1871640" y="1917720"/>
            <a:chExt cx="3924360" cy="1079640"/>
          </a:xfrm>
        </p:grpSpPr>
        <p:sp>
          <p:nvSpPr>
            <p:cNvPr id="215" name=""/>
            <p:cNvSpPr/>
            <p:nvPr/>
          </p:nvSpPr>
          <p:spPr>
            <a:xfrm>
              <a:off x="1871640" y="220536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弯曲正应力分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4464000" y="1917720"/>
                  <a:ext cx="133200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y</m:t>
                          </m:r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763640" y="32241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长梁的</a:t>
            </a:r>
            <a:r>
              <a:rPr b="1" lang="zh-CN" sz="2800" spc="-1" strike="noStrike">
                <a:solidFill>
                  <a:srgbClr val="ff0101"/>
                </a:solidFill>
                <a:latin typeface="黑体"/>
                <a:ea typeface="黑体"/>
              </a:rPr>
              <a:t>纯弯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101"/>
                </a:solidFill>
                <a:latin typeface="黑体"/>
                <a:ea typeface="黑体"/>
              </a:rPr>
              <a:t>横力弯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4062240"/>
            <a:ext cx="61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截面惯性积 </a:t>
            </a:r>
            <a:r>
              <a:rPr b="1" i="1" lang="en-US" sz="2800" spc="-1" strike="noStrike">
                <a:solidFill>
                  <a:srgbClr val="ff0101"/>
                </a:solidFill>
                <a:latin typeface="宋体"/>
              </a:rPr>
              <a:t>I</a:t>
            </a:r>
            <a:r>
              <a:rPr b="1" i="1" lang="en-US" sz="2800" spc="-1" strike="noStrike" baseline="-25000">
                <a:solidFill>
                  <a:srgbClr val="ff0101"/>
                </a:solidFill>
                <a:latin typeface="黑体"/>
                <a:ea typeface="黑体"/>
              </a:rPr>
              <a:t>YZ</a:t>
            </a:r>
            <a:r>
              <a:rPr b="1" lang="en-US" sz="2800" spc="-1" strike="noStrike">
                <a:solidFill>
                  <a:srgbClr val="ff0101"/>
                </a:solidFill>
                <a:latin typeface="黑体"/>
                <a:ea typeface="黑体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49258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弹性变形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1951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§10-2-3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应力公式的推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B5E-B803-40A7-AC4A-5F1505A95440}" type="slidenum">
              <a:t>14</a:t>
            </a:fld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3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矩形截面梁的切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97040" y="1773360"/>
          <a:ext cx="538956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773360"/>
                    <a:ext cx="538956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3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56360" y="5084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截面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60D-59F7-4762-A44D-011050C7C7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3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矩形截面梁的切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55640" y="1068480"/>
          <a:ext cx="7081920" cy="456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68480"/>
                    <a:ext cx="70819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268360" y="587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3440" y="587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立体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66240" y="90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截面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605-6970-49B9-9283-3A2075BC9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3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矩形截面梁的切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7840" y="128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力的平衡可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484360" y="2060640"/>
                <a:ext cx="3519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03280" y="3068640"/>
                <a:ext cx="4567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∗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/>
                            </m:sSubSup>
                          </m:sub>
                          <m:sup/>
                          <m:e/>
                        </m:nary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403280" y="4005360"/>
                <a:ext cx="6715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∗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/>
                            </m:sSubSup>
                          </m:sub>
                          <m:sup/>
                          <m:e/>
                        </m:nary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476360" y="5229360"/>
                <a:ext cx="1744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33289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1744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FA2-1739-40D6-95C4-309350B744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84200" y="157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56000" y="2060640"/>
                <a:ext cx="4027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  <m:sup/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  <m:sup/>
                    </m:sSubSup>
                    <m:r>
                      <m:t xml:space="preserve">−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d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71640" y="3573360"/>
                <a:ext cx="1735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547640" y="5084640"/>
                <a:ext cx="11559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859280" y="4941720"/>
                <a:ext cx="10875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80" y="33249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8560" y="294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简化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2720" y="522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53800" y="522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3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矩形截面梁的切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8DF-7C35-4751-B420-8CA86CA850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243400" y="4929120"/>
            <a:ext cx="1548000" cy="846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78000" y="1341360"/>
            <a:ext cx="3198600" cy="2863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429080" y="1801800"/>
            <a:ext cx="2106720" cy="1004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066680" y="4365720"/>
            <a:ext cx="1685880" cy="649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3227400" y="4438800"/>
            <a:ext cx="1461960" cy="42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1066680" y="5052960"/>
            <a:ext cx="1685880" cy="649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3227400" y="5126040"/>
            <a:ext cx="1969920" cy="547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rcRect l="0" t="0" r="64739" b="0"/>
          <a:stretch/>
        </p:blipFill>
        <p:spPr>
          <a:xfrm>
            <a:off x="4502160" y="2997360"/>
            <a:ext cx="792000" cy="906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3492360" y="1773360"/>
            <a:ext cx="1076400" cy="187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791400" y="4853160"/>
                <a:ext cx="11732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3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矩形截面梁的切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0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19640" y="1844640"/>
            <a:ext cx="1440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4873680" y="1873080"/>
            <a:ext cx="2070000" cy="800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572000" y="907920"/>
                <a:ext cx="16876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5365800" y="2924280"/>
            <a:ext cx="2301840" cy="977760"/>
            <a:chOff x="5365800" y="2924280"/>
            <a:chExt cx="2301840" cy="977760"/>
          </a:xfrm>
        </p:grpSpPr>
        <p:pic>
          <p:nvPicPr>
            <p:cNvPr id="286" name="" descr=""/>
            <p:cNvPicPr/>
            <p:nvPr/>
          </p:nvPicPr>
          <p:blipFill>
            <a:blip r:embed="rId12"/>
            <a:stretch/>
          </p:blipFill>
          <p:spPr>
            <a:xfrm>
              <a:off x="5365800" y="3040200"/>
              <a:ext cx="230184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724360" y="2924280"/>
              <a:ext cx="58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156360" y="4797360"/>
            <a:ext cx="58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80360" y="4797360"/>
            <a:ext cx="58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9BE-5E74-4939-B94F-CCE27E264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31752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回顾与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97280" cy="112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3548160" cy="131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76720" y="119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308720" y="1844640"/>
                <a:ext cx="14749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7453440" y="1197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应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189920" y="3284640"/>
                <a:ext cx="15588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ρ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356000" y="2997360"/>
            <a:ext cx="2303640" cy="1346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24360" y="1628640"/>
            <a:ext cx="3311640" cy="1190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08000" y="4724280"/>
            <a:ext cx="4048200" cy="1295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995640" y="4581360"/>
            <a:ext cx="3168720" cy="1862280"/>
            <a:chOff x="3995640" y="4581360"/>
            <a:chExt cx="3168720" cy="1862280"/>
          </a:xfrm>
        </p:grpSpPr>
        <p:grpSp>
          <p:nvGrpSpPr>
            <p:cNvPr id="61" name=""/>
            <p:cNvGrpSpPr/>
            <p:nvPr/>
          </p:nvGrpSpPr>
          <p:grpSpPr>
            <a:xfrm>
              <a:off x="3995640" y="4581360"/>
              <a:ext cx="3168720" cy="1862280"/>
              <a:chOff x="3995640" y="4581360"/>
              <a:chExt cx="3168720" cy="1862280"/>
            </a:xfrm>
          </p:grpSpPr>
          <p:pic>
            <p:nvPicPr>
              <p:cNvPr id="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81400" y="4581360"/>
                <a:ext cx="2982960" cy="186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flipV="1">
                <a:off x="4606920" y="5516280"/>
                <a:ext cx="0" cy="718920"/>
              </a:xfrm>
              <a:prstGeom prst="line">
                <a:avLst/>
              </a:prstGeom>
              <a:ln w="38160">
                <a:solidFill>
                  <a:srgbClr val="ff0101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95640" y="5851440"/>
                <a:ext cx="79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189840" y="5207040"/>
              <a:ext cx="0" cy="720720"/>
            </a:xfrm>
            <a:prstGeom prst="line">
              <a:avLst/>
            </a:prstGeom>
            <a:ln w="38160">
              <a:solidFill>
                <a:srgbClr val="ff010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46920" y="5757840"/>
              <a:ext cx="79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262200" y="4678200"/>
              <a:ext cx="719640" cy="1176120"/>
              <a:chOff x="6262200" y="4678200"/>
              <a:chExt cx="719640" cy="1176120"/>
            </a:xfrm>
          </p:grpSpPr>
          <p:sp>
            <p:nvSpPr>
              <p:cNvPr id="68" name=""/>
              <p:cNvSpPr/>
              <p:nvPr/>
            </p:nvSpPr>
            <p:spPr>
              <a:xfrm flipH="1" flipV="1">
                <a:off x="6261840" y="5062320"/>
                <a:ext cx="287640" cy="792000"/>
              </a:xfrm>
              <a:custGeom>
                <a:avLst/>
                <a:gdLst>
                  <a:gd name="textAreaLeft" fmla="*/ 38520 w 287640"/>
                  <a:gd name="textAreaRight" fmla="*/ 249120 w 287640"/>
                  <a:gd name="textAreaTop" fmla="*/ 142920 h 792000"/>
                  <a:gd name="textAreaBottom" fmla="*/ 53748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803" stAng="-5400000" swAng="-5400000"/>
                    <a:lnTo>
                      <a:pt x="0" y="10753"/>
                    </a:lnTo>
                    <a:arcTo wR="21600" hR="7803" stAng="10800000" swAng="-2736904"/>
                    <a:lnTo>
                      <a:pt x="14400" y="21154"/>
                    </a:lnTo>
                    <a:lnTo>
                      <a:pt x="21600" y="17080"/>
                    </a:lnTo>
                    <a:lnTo>
                      <a:pt x="14400" y="12114"/>
                    </a:lnTo>
                    <a:lnTo>
                      <a:pt x="14400" y="15159"/>
                    </a:lnTo>
                    <a:arcTo wR="21600" hR="7803" stAng="8063096" swAng="2498224"/>
                    <a:lnTo>
                      <a:pt x="389" y="9277"/>
                    </a:lnTo>
                    <a:arcTo wR="21600" hR="7803" stAng="-10561320" swAng="5161320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803" stAng="-5400000" swAng="-5400000"/>
                    <a:lnTo>
                      <a:pt x="0" y="7803"/>
                    </a:lnTo>
                    <a:arcTo wR="21600" hR="7803" stAng="10800000" swAng="-238680"/>
                    <a:lnTo>
                      <a:pt x="389" y="9277"/>
                    </a:lnTo>
                    <a:arcTo wR="21600" hR="7803" stAng="-10561320" swAng="5161320"/>
                    <a:close/>
                  </a:path>
                </a:pathLst>
              </a:custGeom>
              <a:solidFill>
                <a:srgbClr val="ff01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262560" y="46782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408800" y="5000760"/>
                <a:ext cx="12225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508880" y="5516640"/>
                <a:ext cx="1095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7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5F9-74C4-49BC-8326-6BF3CF568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4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981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曲正应力强度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5280" y="1560600"/>
                <a:ext cx="36385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382680" y="2693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矩最大的截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2680" y="3414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离中性轴最远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2680" y="4854600"/>
            <a:ext cx="82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脆性材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拉和抗压性能不同，二方面都要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60480" y="5556240"/>
                <a:ext cx="199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332240" y="5518080"/>
                <a:ext cx="2111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1" name=""/>
          <p:cNvGrpSpPr/>
          <p:nvPr/>
        </p:nvGrpSpPr>
        <p:grpSpPr>
          <a:xfrm>
            <a:off x="395280" y="4149720"/>
            <a:ext cx="5113440" cy="520560"/>
            <a:chOff x="395280" y="4149720"/>
            <a:chExt cx="5113440" cy="520560"/>
          </a:xfrm>
        </p:grpSpPr>
        <p:sp>
          <p:nvSpPr>
            <p:cNvPr id="302" name=""/>
            <p:cNvSpPr/>
            <p:nvPr/>
          </p:nvSpPr>
          <p:spPr>
            <a:xfrm>
              <a:off x="395280" y="4149720"/>
              <a:ext cx="48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变截面梁要综合考虑    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281480" y="4235400"/>
                  <a:ext cx="3967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187960" y="4221000"/>
                  <a:ext cx="3207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187880" y="1600200"/>
            <a:ext cx="4879800" cy="20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77C-342D-453A-9488-62F17E557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692360" y="1238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4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1469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曲剪应力强度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469880" y="2359080"/>
                <a:ext cx="1489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382680" y="3182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性轴上各点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3989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剪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47815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弯矩小、剪力很大，截面为薄壁形，如工字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187880" y="2089080"/>
            <a:ext cx="4879800" cy="20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58C-C524-4ABE-84E5-5F546A4FBD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914560" y="1785960"/>
            <a:ext cx="2952360" cy="1079280"/>
            <a:chOff x="2914560" y="1785960"/>
            <a:chExt cx="2952360" cy="1079280"/>
          </a:xfrm>
        </p:grpSpPr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914560" y="1785960"/>
                  <a:ext cx="196308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5006160" y="2055960"/>
                  <a:ext cx="860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σ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0" name=""/>
          <p:cNvSpPr/>
          <p:nvPr/>
        </p:nvSpPr>
        <p:spPr>
          <a:xfrm>
            <a:off x="1332000" y="3484440"/>
            <a:ext cx="23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降低 </a:t>
            </a:r>
            <a:r>
              <a:rPr b="1" i="1" lang="en-US" sz="2800" spc="-1" strike="noStrike">
                <a:solidFill>
                  <a:srgbClr val="ff0101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-25000">
                <a:solidFill>
                  <a:srgbClr val="ff0101"/>
                </a:solidFill>
                <a:latin typeface="黑体"/>
                <a:ea typeface="黑体"/>
              </a:rPr>
              <a:t>max</a:t>
            </a:r>
            <a:r>
              <a:rPr b="1" lang="en-US" sz="2800" spc="-1" strike="noStrike" baseline="-25000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80000" y="31971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安排支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80000" y="37735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布置载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6426000"/>
            <a:ext cx="574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1052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提高梁强度的主要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C1A-28D4-49C9-AB32-F670E81147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26920" y="98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合理布置支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95280" y="2139840"/>
            <a:ext cx="3351240" cy="251316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211640" y="1484280"/>
            <a:ext cx="4387680" cy="909000"/>
            <a:chOff x="4211640" y="1484280"/>
            <a:chExt cx="4387680" cy="909000"/>
          </a:xfrm>
        </p:grpSpPr>
        <p:grpSp>
          <p:nvGrpSpPr>
            <p:cNvPr id="334" name=""/>
            <p:cNvGrpSpPr/>
            <p:nvPr/>
          </p:nvGrpSpPr>
          <p:grpSpPr>
            <a:xfrm>
              <a:off x="4211640" y="1484280"/>
              <a:ext cx="2158920" cy="909000"/>
              <a:chOff x="4211640" y="1484280"/>
              <a:chExt cx="2158920" cy="9090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92720" y="2160000"/>
                <a:ext cx="182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6073920" y="2160000"/>
                <a:ext cx="296640" cy="233280"/>
                <a:chOff x="6073920" y="2160000"/>
                <a:chExt cx="296640" cy="233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172560" y="2160000"/>
                  <a:ext cx="99000" cy="117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197400" y="2277360"/>
                  <a:ext cx="49320" cy="58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73920" y="2336040"/>
                  <a:ext cx="296640" cy="572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211640" y="2142720"/>
                <a:ext cx="345960" cy="232200"/>
                <a:chOff x="4211640" y="2142720"/>
                <a:chExt cx="345960" cy="2322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320720" y="2142720"/>
                  <a:ext cx="14832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211640" y="2316240"/>
                  <a:ext cx="345960" cy="5868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327640" y="1484280"/>
                <a:ext cx="237960" cy="665640"/>
                <a:chOff x="5327640" y="1484280"/>
                <a:chExt cx="237960" cy="66564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5327640" y="1559880"/>
                  <a:ext cx="1800" cy="590040"/>
                </a:xfrm>
                <a:prstGeom prst="line">
                  <a:avLst/>
                </a:prstGeom>
                <a:ln cap="sq"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329800" y="1484280"/>
                  <a:ext cx="23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ff0101"/>
                      </a:solidFill>
                      <a:latin typeface="Times New Roman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6769080" y="216072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804000" y="1557000"/>
              <a:ext cx="936720" cy="5763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40720" y="1557360"/>
              <a:ext cx="849240" cy="590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392720" y="2852640"/>
            <a:ext cx="4241520" cy="909360"/>
            <a:chOff x="4392720" y="2852640"/>
            <a:chExt cx="4241520" cy="909360"/>
          </a:xfrm>
        </p:grpSpPr>
        <p:sp>
          <p:nvSpPr>
            <p:cNvPr id="350" name=""/>
            <p:cNvSpPr/>
            <p:nvPr/>
          </p:nvSpPr>
          <p:spPr>
            <a:xfrm>
              <a:off x="4392720" y="352908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796000" y="3529080"/>
              <a:ext cx="297000" cy="232920"/>
              <a:chOff x="5796000" y="3529080"/>
              <a:chExt cx="297000" cy="232920"/>
            </a:xfrm>
          </p:grpSpPr>
          <p:sp>
            <p:nvSpPr>
              <p:cNvPr id="352" name=""/>
              <p:cNvSpPr/>
              <p:nvPr/>
            </p:nvSpPr>
            <p:spPr>
              <a:xfrm>
                <a:off x="5894640" y="3529080"/>
                <a:ext cx="99000" cy="11700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19480" y="3646080"/>
                <a:ext cx="49320" cy="586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0" y="3704760"/>
                <a:ext cx="297000" cy="57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13320" y="3511440"/>
              <a:ext cx="345960" cy="231480"/>
              <a:chOff x="4513320" y="3511440"/>
              <a:chExt cx="345960" cy="231480"/>
            </a:xfrm>
          </p:grpSpPr>
          <p:sp>
            <p:nvSpPr>
              <p:cNvPr id="356" name=""/>
              <p:cNvSpPr/>
              <p:nvPr/>
            </p:nvSpPr>
            <p:spPr>
              <a:xfrm>
                <a:off x="4622400" y="3511440"/>
                <a:ext cx="148320" cy="1756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13320" y="3684600"/>
                <a:ext cx="345960" cy="58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327280" y="2852640"/>
              <a:ext cx="237960" cy="666360"/>
              <a:chOff x="5327280" y="2852640"/>
              <a:chExt cx="237960" cy="666360"/>
            </a:xfrm>
          </p:grpSpPr>
          <p:sp>
            <p:nvSpPr>
              <p:cNvPr id="359" name=""/>
              <p:cNvSpPr/>
              <p:nvPr/>
            </p:nvSpPr>
            <p:spPr>
              <a:xfrm flipH="1">
                <a:off x="5327280" y="2928240"/>
                <a:ext cx="1800" cy="59076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2852640"/>
                <a:ext cx="23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6804000" y="350028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164360" y="3125880"/>
              <a:ext cx="611280" cy="374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5640" y="3125880"/>
              <a:ext cx="541440" cy="374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56000" y="4336920"/>
            <a:ext cx="4278240" cy="963720"/>
            <a:chOff x="4356000" y="4336920"/>
            <a:chExt cx="4278240" cy="963720"/>
          </a:xfrm>
        </p:grpSpPr>
        <p:sp>
          <p:nvSpPr>
            <p:cNvPr id="365" name=""/>
            <p:cNvSpPr/>
            <p:nvPr/>
          </p:nvSpPr>
          <p:spPr>
            <a:xfrm>
              <a:off x="4356000" y="5013360"/>
              <a:ext cx="183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59280" y="5013360"/>
              <a:ext cx="297000" cy="232920"/>
              <a:chOff x="5759280" y="5013360"/>
              <a:chExt cx="297000" cy="232920"/>
            </a:xfrm>
          </p:grpSpPr>
          <p:sp>
            <p:nvSpPr>
              <p:cNvPr id="367" name=""/>
              <p:cNvSpPr/>
              <p:nvPr/>
            </p:nvSpPr>
            <p:spPr>
              <a:xfrm>
                <a:off x="5857920" y="5013360"/>
                <a:ext cx="99000" cy="11700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82760" y="5130360"/>
                <a:ext cx="49320" cy="586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59280" y="5189040"/>
                <a:ext cx="297000" cy="57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476600" y="4995720"/>
              <a:ext cx="346320" cy="231480"/>
              <a:chOff x="4476600" y="4995720"/>
              <a:chExt cx="346320" cy="231480"/>
            </a:xfrm>
          </p:grpSpPr>
          <p:sp>
            <p:nvSpPr>
              <p:cNvPr id="371" name=""/>
              <p:cNvSpPr/>
              <p:nvPr/>
            </p:nvSpPr>
            <p:spPr>
              <a:xfrm>
                <a:off x="4585680" y="4995720"/>
                <a:ext cx="148320" cy="1756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76600" y="5168880"/>
                <a:ext cx="346320" cy="58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133680" y="4336920"/>
              <a:ext cx="238320" cy="666360"/>
              <a:chOff x="6133680" y="4336920"/>
              <a:chExt cx="238320" cy="66636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6133680" y="4412520"/>
                <a:ext cx="1800" cy="59076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135840" y="433692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101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804000" y="5013360"/>
              <a:ext cx="18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64360" y="5013360"/>
              <a:ext cx="1079640" cy="2872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8273880" y="5013360"/>
              <a:ext cx="330480" cy="2872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6C4-8435-454F-A52B-59E3D88FE3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26920" y="98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合理布置支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4680000" cy="326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3382920" cy="247176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rId3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3DC-155C-415C-A170-38B7234A2E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977080" cy="338472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4292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布置载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132000" y="5013360"/>
            <a:ext cx="3311640" cy="1085400"/>
            <a:chOff x="3132000" y="5013360"/>
            <a:chExt cx="3311640" cy="1085400"/>
          </a:xfrm>
        </p:grpSpPr>
        <p:sp>
          <p:nvSpPr>
            <p:cNvPr id="393" name=""/>
            <p:cNvSpPr/>
            <p:nvPr/>
          </p:nvSpPr>
          <p:spPr>
            <a:xfrm>
              <a:off x="3995640" y="5624640"/>
              <a:ext cx="142920" cy="1429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08720" y="5624640"/>
              <a:ext cx="142920" cy="1429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09920" y="5784840"/>
              <a:ext cx="28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5987880" y="5784840"/>
              <a:ext cx="455760" cy="313920"/>
              <a:chOff x="5987880" y="5784840"/>
              <a:chExt cx="455760" cy="313920"/>
            </a:xfrm>
          </p:grpSpPr>
          <p:sp>
            <p:nvSpPr>
              <p:cNvPr id="397" name=""/>
              <p:cNvSpPr/>
              <p:nvPr/>
            </p:nvSpPr>
            <p:spPr>
              <a:xfrm>
                <a:off x="6139440" y="5784840"/>
                <a:ext cx="15192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77600" y="5942520"/>
                <a:ext cx="75960" cy="78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87880" y="6021720"/>
                <a:ext cx="455760" cy="770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132000" y="5761080"/>
              <a:ext cx="530280" cy="312480"/>
              <a:chOff x="3132000" y="5761080"/>
              <a:chExt cx="530280" cy="312480"/>
            </a:xfrm>
          </p:grpSpPr>
          <p:sp>
            <p:nvSpPr>
              <p:cNvPr id="401" name=""/>
              <p:cNvSpPr/>
              <p:nvPr/>
            </p:nvSpPr>
            <p:spPr>
              <a:xfrm>
                <a:off x="3299040" y="5761080"/>
                <a:ext cx="227160" cy="2368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32000" y="5994720"/>
                <a:ext cx="530280" cy="7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flipH="1">
              <a:off x="4844520" y="5164200"/>
              <a:ext cx="1800" cy="4618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48120" y="5013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101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8760" y="5624640"/>
              <a:ext cx="180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5BF-376D-4FA1-B649-9B4B9FD7F3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2914560" y="1844640"/>
            <a:ext cx="2952360" cy="1079280"/>
            <a:chOff x="2914560" y="1844640"/>
            <a:chExt cx="2952360" cy="1079280"/>
          </a:xfrm>
        </p:grpSpPr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2914560" y="1844640"/>
                  <a:ext cx="196308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5006160" y="2114640"/>
                  <a:ext cx="860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σ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0" name=""/>
          <p:cNvSpPr/>
          <p:nvPr/>
        </p:nvSpPr>
        <p:spPr>
          <a:xfrm>
            <a:off x="1763640" y="3835440"/>
            <a:ext cx="23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大 </a:t>
            </a:r>
            <a:r>
              <a:rPr b="1" i="1" lang="en-US" sz="2800" spc="-1" strike="noStrike">
                <a:solidFill>
                  <a:srgbClr val="ff0101"/>
                </a:solidFill>
                <a:latin typeface="黑体"/>
                <a:ea typeface="黑体"/>
              </a:rPr>
              <a:t>W</a:t>
            </a:r>
            <a:r>
              <a:rPr b="1" lang="en-US" sz="2800" spc="-1" strike="noStrike" baseline="-25000">
                <a:solidFill>
                  <a:srgbClr val="ff0101"/>
                </a:solidFill>
                <a:latin typeface="黑体"/>
                <a:ea typeface="黑体"/>
              </a:rPr>
              <a:t>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1640" y="3645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设计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2498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放置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6426000"/>
            <a:ext cx="574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F05-B8B0-4084-BED7-38772CCF8D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044720" y="98100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71640" y="98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设计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85E-532F-4193-B954-57A58A614F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55640" y="1527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718160" y="1527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755640" y="4408560"/>
            <a:ext cx="3672000" cy="233352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98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设计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351-3B3A-47CB-A0F6-1156AE5C16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7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2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558120" y="2681280"/>
                <a:ext cx="1685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左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5305320" cy="386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558120" y="4051440"/>
                <a:ext cx="1685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右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1600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理放置截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9C3-1C6C-478D-8031-7E88EA9C59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981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弯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50802"/>
          <a:stretch/>
        </p:blipFill>
        <p:spPr>
          <a:xfrm>
            <a:off x="306360" y="1536840"/>
            <a:ext cx="4143240" cy="1855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308560"/>
            <a:ext cx="73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梁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，只有弯矩，没有剪力－－</a:t>
            </a:r>
            <a:r>
              <a:rPr b="1" lang="zh-CN" sz="2800" spc="-1" strike="noStrike">
                <a:solidFill>
                  <a:srgbClr val="ff0101"/>
                </a:solidFill>
                <a:latin typeface="黑体"/>
                <a:ea typeface="黑体"/>
              </a:rPr>
              <a:t>纯弯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511520" cy="338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3680" y="5862600"/>
            <a:ext cx="80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梁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，既有弯矩，又有剪力－－</a:t>
            </a:r>
            <a:r>
              <a:rPr b="1" lang="zh-CN" sz="2800" spc="-1" strike="noStrike">
                <a:solidFill>
                  <a:srgbClr val="ff0101"/>
                </a:solidFill>
                <a:latin typeface="黑体"/>
                <a:ea typeface="黑体"/>
              </a:rPr>
              <a:t>横力弯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rcRect l="0" t="48492" r="0" b="-3025"/>
          <a:stretch/>
        </p:blipFill>
        <p:spPr>
          <a:xfrm>
            <a:off x="304920" y="3316320"/>
            <a:ext cx="414324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35F-291F-4F59-91D0-5F7EB3885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00000" y="981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等强度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55640" y="1517760"/>
            <a:ext cx="3854160" cy="2271600"/>
            <a:chOff x="755640" y="1517760"/>
            <a:chExt cx="3854160" cy="227160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755640" y="1517760"/>
              <a:ext cx="2616480" cy="22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3719880" y="1695240"/>
              <a:ext cx="889920" cy="109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2340000" y="5094360"/>
            <a:ext cx="3021120" cy="1287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2984400" y="3753000"/>
            <a:ext cx="2419560" cy="14047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5"/>
          <a:stretch/>
        </p:blipFill>
        <p:spPr>
          <a:xfrm>
            <a:off x="6227640" y="5003640"/>
            <a:ext cx="2881440" cy="12211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6"/>
          <a:stretch/>
        </p:blipFill>
        <p:spPr>
          <a:xfrm>
            <a:off x="6732720" y="3708360"/>
            <a:ext cx="2243160" cy="12510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7"/>
          <a:stretch/>
        </p:blipFill>
        <p:spPr>
          <a:xfrm>
            <a:off x="7164360" y="1074600"/>
            <a:ext cx="1440000" cy="613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8"/>
          <a:stretch/>
        </p:blipFill>
        <p:spPr>
          <a:xfrm>
            <a:off x="4572000" y="1073160"/>
            <a:ext cx="2193840" cy="57636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533680" y="3930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6732720" y="1844640"/>
            <a:ext cx="1295280" cy="1195560"/>
            <a:chOff x="6732720" y="1844640"/>
            <a:chExt cx="1295280" cy="1195560"/>
          </a:xfrm>
        </p:grpSpPr>
        <p:sp>
          <p:nvSpPr>
            <p:cNvPr id="455" name=""/>
            <p:cNvSpPr/>
            <p:nvPr/>
          </p:nvSpPr>
          <p:spPr>
            <a:xfrm>
              <a:off x="6732720" y="1844640"/>
              <a:ext cx="36036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62840" y="1859040"/>
              <a:ext cx="43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62840" y="2536920"/>
              <a:ext cx="43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32720" y="2535120"/>
              <a:ext cx="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64280" y="2535120"/>
              <a:ext cx="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80360" y="1844640"/>
              <a:ext cx="0" cy="647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32720" y="2924280"/>
              <a:ext cx="36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6804000" y="2637000"/>
                  <a:ext cx="20628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7553160" y="2030400"/>
                  <a:ext cx="47484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4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C97-0953-4AF5-B86A-614A3F6D50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4016520" cy="2880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465440" cy="960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4859280" y="2276640"/>
            <a:ext cx="4005360" cy="2884320"/>
          </a:xfrm>
          <a:prstGeom prst="rect">
            <a:avLst/>
          </a:prstGeom>
          <a:ln w="0">
            <a:noFill/>
          </a:ln>
        </p:spPr>
      </p:pic>
      <p:sp>
        <p:nvSpPr>
          <p:cNvPr id="468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32000" y="1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-4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梁的强度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53B-AD44-4E39-97C7-81C32AFA77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092640" cy="45687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0A4-24D1-4FAE-8E53-9B7B99183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5157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101"/>
                </a:solidFill>
                <a:latin typeface="黑体"/>
                <a:ea typeface="黑体"/>
              </a:rPr>
              <a:t>平面假设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截面变形后保持为平面，只是绕截面内某一轴线偏转了一个角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972480" cy="299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87D-4766-495A-BB75-9B5AE0E89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凹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侧纤维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缩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3954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突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侧纤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伸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1417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间一层纤维长度不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中性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2284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间层与横截面的交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中性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5229360" cy="22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23D-92F4-4A09-82A1-2432A1DC48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2585880" cy="45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427280" cy="326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240280" cy="488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35640" y="2349360"/>
            <a:ext cx="2239920" cy="489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580000" y="2997360"/>
            <a:ext cx="1795680" cy="49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940360" y="3573360"/>
            <a:ext cx="2489400" cy="46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5940360" y="4125960"/>
            <a:ext cx="879480" cy="382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076720" y="4508640"/>
            <a:ext cx="995400" cy="82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6084720" y="4510080"/>
            <a:ext cx="107496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7236000" y="4545000"/>
            <a:ext cx="817560" cy="711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508464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物理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56768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胡克定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59280" y="5603760"/>
                <a:ext cx="148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59280" y="5243400"/>
                <a:ext cx="167328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9079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几何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38B-EA95-4FE4-B8F4-D98D187F88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0000" y="981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静力学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5802480"/>
            <a:ext cx="2008080" cy="65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492360" y="5802480"/>
            <a:ext cx="1625760" cy="67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57800" y="1066680"/>
            <a:ext cx="2355840" cy="58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670720" y="1752480"/>
            <a:ext cx="2025360" cy="693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524560" y="2514600"/>
            <a:ext cx="2400120" cy="58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rcRect l="0" t="0" r="52752" b="0"/>
          <a:stretch/>
        </p:blipFill>
        <p:spPr>
          <a:xfrm>
            <a:off x="5257800" y="3124080"/>
            <a:ext cx="2305080" cy="69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5410080" y="4419720"/>
            <a:ext cx="2692440" cy="61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24000" y="5133960"/>
            <a:ext cx="4416120" cy="65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4788000" y="5207040"/>
            <a:ext cx="630000" cy="43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435640" y="5262480"/>
                <a:ext cx="1392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0"/>
          <a:srcRect l="47129" t="0" r="0" b="0"/>
          <a:stretch/>
        </p:blipFill>
        <p:spPr>
          <a:xfrm>
            <a:off x="5791320" y="3772080"/>
            <a:ext cx="2584440" cy="69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308720" y="5229360"/>
                <a:ext cx="14558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684360" y="1700280"/>
            <a:ext cx="4406760" cy="29718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2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E29-768A-4716-85D9-E62E1A5FD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5640" y="9651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应力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773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形几何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292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理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987640" y="1376280"/>
                <a:ext cx="1220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852640"/>
                <a:ext cx="148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859280" y="2492280"/>
                <a:ext cx="167328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898560" y="4122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静力学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276720" y="3933720"/>
                <a:ext cx="14554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64000" y="3862440"/>
                <a:ext cx="1597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4067280" y="5191200"/>
            <a:ext cx="3889440" cy="1046160"/>
            <a:chOff x="4067280" y="5191200"/>
            <a:chExt cx="3889440" cy="1046160"/>
          </a:xfrm>
        </p:grpSpPr>
        <p:sp>
          <p:nvSpPr>
            <p:cNvPr id="152" name=""/>
            <p:cNvSpPr/>
            <p:nvPr/>
          </p:nvSpPr>
          <p:spPr>
            <a:xfrm>
              <a:off x="4283280" y="5551560"/>
              <a:ext cx="36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梁弯曲变形后的曲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067280" y="5191200"/>
                  <a:ext cx="4431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1476360" y="5479920"/>
            <a:ext cx="2374920" cy="511200"/>
            <a:chOff x="1476360" y="5479920"/>
            <a:chExt cx="2374920" cy="511200"/>
          </a:xfrm>
        </p:grpSpPr>
        <p:sp>
          <p:nvSpPr>
            <p:cNvPr id="155" name=""/>
            <p:cNvSpPr/>
            <p:nvPr/>
          </p:nvSpPr>
          <p:spPr>
            <a:xfrm>
              <a:off x="1654200" y="54799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曲率半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476360" y="5580000"/>
                  <a:ext cx="3794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02000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10800"/>
                </a:moveTo>
                <a:lnTo>
                  <a:pt x="39139" y="3794"/>
                </a:lnTo>
                <a:lnTo>
                  <a:pt x="39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647640" cy="217440"/>
          </a:xfrm>
          <a:custGeom>
            <a:avLst/>
            <a:gdLst>
              <a:gd name="textAreaLeft" fmla="*/ 14040 w 647640"/>
              <a:gd name="textAreaRight" fmla="*/ 633600 w 64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64264" h="21600">
                <a:moveTo>
                  <a:pt x="0" y="0"/>
                </a:moveTo>
                <a:lnTo>
                  <a:pt x="64264" y="0"/>
                </a:lnTo>
                <a:lnTo>
                  <a:pt x="64264" y="21600"/>
                </a:lnTo>
                <a:lnTo>
                  <a:pt x="0" y="21600"/>
                </a:lnTo>
                <a:close/>
              </a:path>
              <a:path fill="lightenLess" w="64264" h="21600">
                <a:moveTo>
                  <a:pt x="0" y="0"/>
                </a:moveTo>
                <a:lnTo>
                  <a:pt x="64264" y="0"/>
                </a:lnTo>
                <a:lnTo>
                  <a:pt x="62864" y="1400"/>
                </a:lnTo>
                <a:lnTo>
                  <a:pt x="1400" y="1400"/>
                </a:lnTo>
                <a:close/>
              </a:path>
              <a:path fill="darken" w="64264" h="21600">
                <a:moveTo>
                  <a:pt x="64264" y="0"/>
                </a:moveTo>
                <a:lnTo>
                  <a:pt x="64264" y="21600"/>
                </a:lnTo>
                <a:lnTo>
                  <a:pt x="62864" y="20200"/>
                </a:lnTo>
                <a:lnTo>
                  <a:pt x="62864" y="1400"/>
                </a:lnTo>
                <a:close/>
              </a:path>
              <a:path fill="darkenLess" w="64264" h="21600">
                <a:moveTo>
                  <a:pt x="6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4" y="20200"/>
                </a:lnTo>
                <a:close/>
              </a:path>
              <a:path fill="lighten" w="6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264" h="21600">
                <a:moveTo>
                  <a:pt x="25126" y="3794"/>
                </a:moveTo>
                <a:lnTo>
                  <a:pt x="39139" y="10800"/>
                </a:lnTo>
                <a:lnTo>
                  <a:pt x="25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6012000" y="652464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89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§10-2-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纯弯曲时梁的正应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622-8FF0-4207-8A3E-FE9022F22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sun</cp:lastModifiedBy>
  <dcterms:modified xsi:type="dcterms:W3CDTF">2008-04-13T23:37:33Z</dcterms:modified>
  <cp:revision>618</cp:revision>
  <dc:subject/>
  <dc:title>PowerPoint Presentation</dc:title>
</cp:coreProperties>
</file>