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29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16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751-EDA6-46D9-ADC4-B73E40C1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E6C-F740-44E7-B583-7F838855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A6E-9281-4624-9206-8EBE6D47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4AB-A826-4DD1-BCA1-780A24D5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653-BF23-4F06-9B08-A2A052E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A86-927C-4990-B689-F6DFC4A3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C56-CC06-4EEA-8500-28ED21D1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107-D0B4-467A-9F6A-64DAD06E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360" y="-431640"/>
            <a:ext cx="77724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AD1-49B7-4B85-8C34-1A67F164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37E-B474-44DD-BB5B-7279A7D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8E6-963D-4808-9DB8-8BFF72A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8CA-6E3C-41B7-8445-65840AD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-431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CA59-1617-435E-825F-78940B521D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214200"/>
            <a:ext cx="43812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7174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7080" y="563400"/>
            <a:ext cx="560160" cy="42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80028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2800" y="8967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" Target="slide4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4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981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曲正应力强度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95280" y="1560600"/>
                <a:ext cx="36385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82680" y="2693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矩最大的截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680" y="3414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离中性轴最远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2680" y="485460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脆性材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拉和抗压性能不同，二方面都要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860480" y="5556240"/>
                <a:ext cx="199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332240" y="5518080"/>
                <a:ext cx="2111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395280" y="4149720"/>
            <a:ext cx="5113440" cy="520560"/>
            <a:chOff x="395280" y="4149720"/>
            <a:chExt cx="5113440" cy="520560"/>
          </a:xfrm>
        </p:grpSpPr>
        <p:sp>
          <p:nvSpPr>
            <p:cNvPr id="58" name=""/>
            <p:cNvSpPr/>
            <p:nvPr/>
          </p:nvSpPr>
          <p:spPr>
            <a:xfrm>
              <a:off x="395280" y="4149720"/>
              <a:ext cx="48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变截面梁要综合考虑    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81480" y="4235400"/>
                  <a:ext cx="3967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187960" y="4221000"/>
                  <a:ext cx="3207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87880" y="1600200"/>
            <a:ext cx="4879800" cy="20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015-8851-41E8-9F87-3354BCBCF2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37120" y="2841480"/>
                <a:ext cx="39258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b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den>
                    </m:f>
                    <m:r>
                      <m:t xml:space="preserve">≤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5410080" y="10825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按胶合面强度条件计算许可载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083280" y="2057400"/>
            <a:ext cx="1728720" cy="647640"/>
            <a:chOff x="6083280" y="2057400"/>
            <a:chExt cx="1728720" cy="647640"/>
          </a:xfrm>
        </p:grpSpPr>
        <p:sp>
          <p:nvSpPr>
            <p:cNvPr id="651" name=""/>
            <p:cNvSpPr/>
            <p:nvPr/>
          </p:nvSpPr>
          <p:spPr>
            <a:xfrm>
              <a:off x="7091280" y="2416320"/>
              <a:ext cx="720720" cy="287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83280" y="2057400"/>
              <a:ext cx="1728720" cy="358920"/>
            </a:xfrm>
            <a:custGeom>
              <a:avLst/>
              <a:gdLst/>
              <a:ahLst/>
              <a:rect l="l" t="t" r="r" b="b"/>
              <a:pathLst>
                <a:path w="1089" h="226">
                  <a:moveTo>
                    <a:pt x="635" y="226"/>
                  </a:moveTo>
                  <a:lnTo>
                    <a:pt x="0" y="0"/>
                  </a:lnTo>
                  <a:lnTo>
                    <a:pt x="499" y="0"/>
                  </a:lnTo>
                  <a:lnTo>
                    <a:pt x="1089" y="226"/>
                  </a:lnTo>
                  <a:lnTo>
                    <a:pt x="635" y="22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083280" y="2057400"/>
              <a:ext cx="1008000" cy="647640"/>
            </a:xfrm>
            <a:custGeom>
              <a:avLst/>
              <a:gdLst/>
              <a:ahLst/>
              <a:rect l="l" t="t" r="r" b="b"/>
              <a:pathLst>
                <a:path w="635" h="408">
                  <a:moveTo>
                    <a:pt x="0" y="0"/>
                  </a:moveTo>
                  <a:lnTo>
                    <a:pt x="0" y="181"/>
                  </a:lnTo>
                  <a:lnTo>
                    <a:pt x="635" y="408"/>
                  </a:lnTo>
                  <a:lnTo>
                    <a:pt x="635" y="22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101000" y="2411280"/>
            <a:ext cx="712800" cy="216000"/>
            <a:chOff x="7101000" y="2411280"/>
            <a:chExt cx="712800" cy="216000"/>
          </a:xfrm>
        </p:grpSpPr>
        <p:sp>
          <p:nvSpPr>
            <p:cNvPr id="655" name=""/>
            <p:cNvSpPr/>
            <p:nvPr/>
          </p:nvSpPr>
          <p:spPr>
            <a:xfrm>
              <a:off x="710100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3600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8972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2472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7700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81200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0244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3744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9152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2616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67880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13800" y="2411280"/>
              <a:ext cx="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103800" y="2057400"/>
            <a:ext cx="1730520" cy="360000"/>
            <a:chOff x="6103800" y="2057400"/>
            <a:chExt cx="1730520" cy="360000"/>
          </a:xfrm>
        </p:grpSpPr>
        <p:grpSp>
          <p:nvGrpSpPr>
            <p:cNvPr id="668" name=""/>
            <p:cNvGrpSpPr/>
            <p:nvPr/>
          </p:nvGrpSpPr>
          <p:grpSpPr>
            <a:xfrm>
              <a:off x="6889680" y="2345760"/>
              <a:ext cx="944640" cy="71640"/>
              <a:chOff x="6889680" y="2345760"/>
              <a:chExt cx="944640" cy="71640"/>
            </a:xfrm>
          </p:grpSpPr>
          <p:sp>
            <p:nvSpPr>
              <p:cNvPr id="669" name=""/>
              <p:cNvSpPr/>
              <p:nvPr/>
            </p:nvSpPr>
            <p:spPr>
              <a:xfrm flipH="1" flipV="1">
                <a:off x="688968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688968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flipV="1">
                <a:off x="688968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703260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7178040" y="234576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7320960" y="234576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746604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flipV="1">
                <a:off x="760896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637320" y="2245680"/>
              <a:ext cx="944640" cy="71640"/>
              <a:chOff x="6637320" y="2245680"/>
              <a:chExt cx="944640" cy="71640"/>
            </a:xfrm>
          </p:grpSpPr>
          <p:sp>
            <p:nvSpPr>
              <p:cNvPr id="678" name=""/>
              <p:cNvSpPr/>
              <p:nvPr/>
            </p:nvSpPr>
            <p:spPr>
              <a:xfrm flipH="1" flipV="1">
                <a:off x="663732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663732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663732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678024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>
                <a:off x="6925680" y="224568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7068600" y="224568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721368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735660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89680" y="2345760"/>
              <a:ext cx="944640" cy="71640"/>
              <a:chOff x="6889680" y="2345760"/>
              <a:chExt cx="944640" cy="71640"/>
            </a:xfrm>
          </p:grpSpPr>
          <p:sp>
            <p:nvSpPr>
              <p:cNvPr id="687" name=""/>
              <p:cNvSpPr/>
              <p:nvPr/>
            </p:nvSpPr>
            <p:spPr>
              <a:xfrm flipH="1" flipV="1">
                <a:off x="688968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>
                <a:off x="688968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688968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flipV="1">
                <a:off x="703260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7178040" y="234576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7320960" y="234576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746604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7608960" y="234576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637320" y="2245680"/>
              <a:ext cx="944640" cy="71640"/>
              <a:chOff x="6637320" y="2245680"/>
              <a:chExt cx="944640" cy="71640"/>
            </a:xfrm>
          </p:grpSpPr>
          <p:sp>
            <p:nvSpPr>
              <p:cNvPr id="696" name=""/>
              <p:cNvSpPr/>
              <p:nvPr/>
            </p:nvSpPr>
            <p:spPr>
              <a:xfrm flipH="1" flipV="1">
                <a:off x="663732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63732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663732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678024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6925680" y="224568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7068600" y="2245680"/>
                <a:ext cx="22572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721368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7356600" y="2245680"/>
                <a:ext cx="225360" cy="71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356160" y="2157480"/>
              <a:ext cx="944640" cy="71280"/>
              <a:chOff x="6356160" y="2157480"/>
              <a:chExt cx="944640" cy="7128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6356160" y="215748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6356160" y="215748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6356160" y="215748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6499080" y="215748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6644520" y="2157480"/>
                <a:ext cx="2257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6787440" y="2157480"/>
                <a:ext cx="2257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>
                <a:off x="6932520" y="215748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7075440" y="215748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103800" y="2057400"/>
              <a:ext cx="944640" cy="71280"/>
              <a:chOff x="6103800" y="2057400"/>
              <a:chExt cx="944640" cy="71280"/>
            </a:xfrm>
          </p:grpSpPr>
          <p:sp>
            <p:nvSpPr>
              <p:cNvPr id="714" name=""/>
              <p:cNvSpPr/>
              <p:nvPr/>
            </p:nvSpPr>
            <p:spPr>
              <a:xfrm flipH="1" flipV="1">
                <a:off x="6103800" y="205740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6103800" y="205740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6103800" y="205740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6246720" y="205740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flipV="1">
                <a:off x="6392160" y="2057400"/>
                <a:ext cx="2257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6535080" y="2057400"/>
                <a:ext cx="2257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6680160" y="205740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6823080" y="2057400"/>
                <a:ext cx="22536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3760920" y="4441680"/>
                <a:ext cx="5248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25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5k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30492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梁的许可载荷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881440" y="5867280"/>
                <a:ext cx="6008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5" name=""/>
          <p:cNvGrpSpPr/>
          <p:nvPr/>
        </p:nvGrpSpPr>
        <p:grpSpPr>
          <a:xfrm>
            <a:off x="477720" y="1125360"/>
            <a:ext cx="2919600" cy="1538280"/>
            <a:chOff x="477720" y="1125360"/>
            <a:chExt cx="2919600" cy="1538280"/>
          </a:xfrm>
        </p:grpSpPr>
        <p:sp>
          <p:nvSpPr>
            <p:cNvPr id="726" name=""/>
            <p:cNvSpPr/>
            <p:nvPr/>
          </p:nvSpPr>
          <p:spPr>
            <a:xfrm>
              <a:off x="761760" y="1910160"/>
              <a:ext cx="2635200" cy="137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7720" y="1600920"/>
              <a:ext cx="284040" cy="7534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71760" y="1161360"/>
              <a:ext cx="0" cy="753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97320" y="20476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1760" y="20476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1760" y="2499120"/>
              <a:ext cx="26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2" name=""/>
                <p:cNvSpPr txBox="1"/>
                <p:nvPr/>
              </p:nvSpPr>
              <p:spPr>
                <a:xfrm>
                  <a:off x="3040920" y="1125360"/>
                  <a:ext cx="3182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3" name=""/>
                <p:cNvSpPr txBox="1"/>
                <p:nvPr/>
              </p:nvSpPr>
              <p:spPr>
                <a:xfrm>
                  <a:off x="1971720" y="2185200"/>
                  <a:ext cx="170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4" name=""/>
          <p:cNvGrpSpPr/>
          <p:nvPr/>
        </p:nvGrpSpPr>
        <p:grpSpPr>
          <a:xfrm>
            <a:off x="3824280" y="1262160"/>
            <a:ext cx="1280880" cy="1572840"/>
            <a:chOff x="3824280" y="1262160"/>
            <a:chExt cx="1280880" cy="1572840"/>
          </a:xfrm>
        </p:grpSpPr>
        <p:grpSp>
          <p:nvGrpSpPr>
            <p:cNvPr id="735" name=""/>
            <p:cNvGrpSpPr/>
            <p:nvPr/>
          </p:nvGrpSpPr>
          <p:grpSpPr>
            <a:xfrm>
              <a:off x="3824280" y="1535040"/>
              <a:ext cx="712800" cy="820080"/>
              <a:chOff x="3824280" y="1535040"/>
              <a:chExt cx="712800" cy="820080"/>
            </a:xfrm>
          </p:grpSpPr>
          <p:sp>
            <p:nvSpPr>
              <p:cNvPr id="736" name=""/>
              <p:cNvSpPr/>
              <p:nvPr/>
            </p:nvSpPr>
            <p:spPr>
              <a:xfrm>
                <a:off x="3824280" y="1535040"/>
                <a:ext cx="712800" cy="2728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24280" y="1807920"/>
                <a:ext cx="712800" cy="272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24280" y="2082240"/>
                <a:ext cx="712800" cy="272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535280" y="153504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35280" y="180828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35280" y="208260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35280" y="235548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24280" y="2287800"/>
              <a:ext cx="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22680" y="2287800"/>
              <a:ext cx="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24280" y="276588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34960" y="12621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034960" y="234288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4960" y="1535040"/>
              <a:ext cx="0" cy="82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00400" y="1764360"/>
              <a:ext cx="7200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00400" y="2046240"/>
              <a:ext cx="720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3978000" y="2521080"/>
                  <a:ext cx="434520" cy="28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4723920" y="1535040"/>
                  <a:ext cx="326520" cy="28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4723920" y="1808280"/>
                  <a:ext cx="326520" cy="28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4723920" y="2082600"/>
                  <a:ext cx="326520" cy="28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"/>
          <p:cNvGrpSpPr/>
          <p:nvPr/>
        </p:nvGrpSpPr>
        <p:grpSpPr>
          <a:xfrm>
            <a:off x="228600" y="4616280"/>
            <a:ext cx="3168360" cy="946080"/>
            <a:chOff x="228600" y="4616280"/>
            <a:chExt cx="3168360" cy="946080"/>
          </a:xfrm>
        </p:grpSpPr>
        <p:sp>
          <p:nvSpPr>
            <p:cNvPr id="756" name=""/>
            <p:cNvSpPr/>
            <p:nvPr/>
          </p:nvSpPr>
          <p:spPr>
            <a:xfrm>
              <a:off x="761760" y="4753440"/>
              <a:ext cx="26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"/>
                <p:cNvSpPr txBox="1"/>
                <p:nvPr/>
              </p:nvSpPr>
              <p:spPr>
                <a:xfrm>
                  <a:off x="228600" y="4616280"/>
                  <a:ext cx="3924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8" name=""/>
                <p:cNvSpPr txBox="1"/>
                <p:nvPr/>
              </p:nvSpPr>
              <p:spPr>
                <a:xfrm>
                  <a:off x="1404000" y="4830480"/>
                  <a:ext cx="44064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9" name=""/>
                <p:cNvSpPr txBox="1"/>
                <p:nvPr/>
              </p:nvSpPr>
              <p:spPr>
                <a:xfrm>
                  <a:off x="335160" y="523188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"/>
            <p:cNvSpPr/>
            <p:nvPr/>
          </p:nvSpPr>
          <p:spPr>
            <a:xfrm>
              <a:off x="748080" y="4753440"/>
              <a:ext cx="2648880" cy="753120"/>
            </a:xfrm>
            <a:custGeom>
              <a:avLst/>
              <a:gdLst/>
              <a:ahLst/>
              <a:rect l="l" t="t" r="r" b="b"/>
              <a:pathLst>
                <a:path w="1688" h="362">
                  <a:moveTo>
                    <a:pt x="9" y="0"/>
                  </a:moveTo>
                  <a:lnTo>
                    <a:pt x="0" y="362"/>
                  </a:lnTo>
                  <a:lnTo>
                    <a:pt x="1688" y="0"/>
                  </a:ln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3681360" y="19461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94320" y="1876320"/>
                <a:ext cx="2268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3" name=""/>
          <p:cNvGrpSpPr/>
          <p:nvPr/>
        </p:nvGrpSpPr>
        <p:grpSpPr>
          <a:xfrm>
            <a:off x="163440" y="3213000"/>
            <a:ext cx="3516480" cy="863640"/>
            <a:chOff x="163440" y="3213000"/>
            <a:chExt cx="3516480" cy="863640"/>
          </a:xfrm>
        </p:grpSpPr>
        <p:sp>
          <p:nvSpPr>
            <p:cNvPr id="764" name=""/>
            <p:cNvSpPr/>
            <p:nvPr/>
          </p:nvSpPr>
          <p:spPr>
            <a:xfrm>
              <a:off x="692280" y="4005360"/>
              <a:ext cx="266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163440" y="3630600"/>
                  <a:ext cx="37296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6" name=""/>
            <p:cNvSpPr/>
            <p:nvPr/>
          </p:nvSpPr>
          <p:spPr>
            <a:xfrm rot="10800000">
              <a:off x="692280" y="3327120"/>
              <a:ext cx="2665440" cy="647640"/>
            </a:xfrm>
            <a:custGeom>
              <a:avLst/>
              <a:gdLst/>
              <a:ahLst/>
              <a:rect l="l" t="t" r="r" b="b"/>
              <a:pathLst>
                <a:path w="1679" h="408">
                  <a:moveTo>
                    <a:pt x="0" y="0"/>
                  </a:moveTo>
                  <a:lnTo>
                    <a:pt x="0" y="408"/>
                  </a:lnTo>
                  <a:lnTo>
                    <a:pt x="1679" y="408"/>
                  </a:lnTo>
                  <a:lnTo>
                    <a:pt x="1679" y="0"/>
                  </a:ln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1749600" y="3435480"/>
                  <a:ext cx="4460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+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3357720" y="3213000"/>
                  <a:ext cx="3222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9" name="">
            <a:hlinkClick r:id="rId8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6000" y="2595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29D-8D23-4FE2-A97A-8FC0B078FA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914560" y="1785960"/>
            <a:ext cx="2952360" cy="1079280"/>
            <a:chOff x="2914560" y="1785960"/>
            <a:chExt cx="2952360" cy="1079280"/>
          </a:xfrm>
        </p:grpSpPr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914560" y="1785960"/>
                  <a:ext cx="196308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5006160" y="2055960"/>
                  <a:ext cx="860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σ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6" name=""/>
          <p:cNvSpPr/>
          <p:nvPr/>
        </p:nvSpPr>
        <p:spPr>
          <a:xfrm>
            <a:off x="1332000" y="3484440"/>
            <a:ext cx="23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降低 </a:t>
            </a:r>
            <a:r>
              <a:rPr b="1" i="1" lang="en-US" sz="2800" spc="-1" strike="noStrike">
                <a:solidFill>
                  <a:srgbClr val="ff0101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-25000">
                <a:solidFill>
                  <a:srgbClr val="ff0101"/>
                </a:solidFill>
                <a:latin typeface="黑体"/>
                <a:ea typeface="黑体"/>
              </a:rPr>
              <a:t>max</a:t>
            </a:r>
            <a:r>
              <a:rPr b="1" lang="en-US" sz="2800" spc="-1" strike="noStrike" baseline="-25000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780000" y="31971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安排支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80000" y="37735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布置载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6426000"/>
            <a:ext cx="574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3280" y="1052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提高梁强度的主要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BF4-3F35-434E-9C00-21BAA2F8E5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826920" y="98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合理布置支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395280" y="2139840"/>
            <a:ext cx="3351240" cy="2513160"/>
          </a:xfrm>
          <a:prstGeom prst="rect">
            <a:avLst/>
          </a:prstGeom>
          <a:ln w="0">
            <a:noFill/>
          </a:ln>
        </p:spPr>
      </p:pic>
      <p:sp>
        <p:nvSpPr>
          <p:cNvPr id="786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211640" y="1484280"/>
            <a:ext cx="4387680" cy="909000"/>
            <a:chOff x="4211640" y="1484280"/>
            <a:chExt cx="4387680" cy="909000"/>
          </a:xfrm>
        </p:grpSpPr>
        <p:grpSp>
          <p:nvGrpSpPr>
            <p:cNvPr id="790" name=""/>
            <p:cNvGrpSpPr/>
            <p:nvPr/>
          </p:nvGrpSpPr>
          <p:grpSpPr>
            <a:xfrm>
              <a:off x="4211640" y="1484280"/>
              <a:ext cx="2158920" cy="909000"/>
              <a:chOff x="4211640" y="1484280"/>
              <a:chExt cx="2158920" cy="909000"/>
            </a:xfrm>
          </p:grpSpPr>
          <p:sp>
            <p:nvSpPr>
              <p:cNvPr id="791" name=""/>
              <p:cNvSpPr/>
              <p:nvPr/>
            </p:nvSpPr>
            <p:spPr>
              <a:xfrm>
                <a:off x="4392720" y="2160000"/>
                <a:ext cx="182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073920" y="2160000"/>
                <a:ext cx="296640" cy="233280"/>
                <a:chOff x="6073920" y="2160000"/>
                <a:chExt cx="296640" cy="2332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72560" y="2160000"/>
                  <a:ext cx="99000" cy="117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97400" y="2277360"/>
                  <a:ext cx="49320" cy="58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073920" y="2336040"/>
                  <a:ext cx="296640" cy="572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211640" y="2142720"/>
                <a:ext cx="345960" cy="232200"/>
                <a:chOff x="4211640" y="2142720"/>
                <a:chExt cx="345960" cy="2322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4320720" y="2142720"/>
                  <a:ext cx="14832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211640" y="2316240"/>
                  <a:ext cx="345960" cy="5868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327640" y="1484280"/>
                <a:ext cx="237960" cy="665640"/>
                <a:chOff x="5327640" y="1484280"/>
                <a:chExt cx="237960" cy="665640"/>
              </a:xfrm>
            </p:grpSpPr>
            <p:sp>
              <p:nvSpPr>
                <p:cNvPr id="800" name=""/>
                <p:cNvSpPr/>
                <p:nvPr/>
              </p:nvSpPr>
              <p:spPr>
                <a:xfrm flipH="1">
                  <a:off x="5327640" y="1559880"/>
                  <a:ext cx="1800" cy="590040"/>
                </a:xfrm>
                <a:prstGeom prst="line">
                  <a:avLst/>
                </a:prstGeom>
                <a:ln cap="sq"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329800" y="1484280"/>
                  <a:ext cx="23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ff0101"/>
                      </a:solidFill>
                      <a:latin typeface="Times New Roman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2" name=""/>
            <p:cNvSpPr/>
            <p:nvPr/>
          </p:nvSpPr>
          <p:spPr>
            <a:xfrm>
              <a:off x="6769080" y="216072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804000" y="1557000"/>
              <a:ext cx="936720" cy="5763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40720" y="1557360"/>
              <a:ext cx="849240" cy="590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4392720" y="2852640"/>
            <a:ext cx="4241520" cy="909360"/>
            <a:chOff x="4392720" y="2852640"/>
            <a:chExt cx="4241520" cy="909360"/>
          </a:xfrm>
        </p:grpSpPr>
        <p:sp>
          <p:nvSpPr>
            <p:cNvPr id="806" name=""/>
            <p:cNvSpPr/>
            <p:nvPr/>
          </p:nvSpPr>
          <p:spPr>
            <a:xfrm>
              <a:off x="4392720" y="352908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796000" y="3529080"/>
              <a:ext cx="297000" cy="232920"/>
              <a:chOff x="5796000" y="3529080"/>
              <a:chExt cx="297000" cy="232920"/>
            </a:xfrm>
          </p:grpSpPr>
          <p:sp>
            <p:nvSpPr>
              <p:cNvPr id="808" name=""/>
              <p:cNvSpPr/>
              <p:nvPr/>
            </p:nvSpPr>
            <p:spPr>
              <a:xfrm>
                <a:off x="5894640" y="3529080"/>
                <a:ext cx="99000" cy="117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19480" y="3646080"/>
                <a:ext cx="49320" cy="586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796000" y="3704760"/>
                <a:ext cx="297000" cy="57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4513320" y="3511440"/>
              <a:ext cx="345960" cy="231480"/>
              <a:chOff x="4513320" y="3511440"/>
              <a:chExt cx="345960" cy="231480"/>
            </a:xfrm>
          </p:grpSpPr>
          <p:sp>
            <p:nvSpPr>
              <p:cNvPr id="812" name=""/>
              <p:cNvSpPr/>
              <p:nvPr/>
            </p:nvSpPr>
            <p:spPr>
              <a:xfrm>
                <a:off x="4622400" y="3511440"/>
                <a:ext cx="148320" cy="1756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13320" y="3684600"/>
                <a:ext cx="345960" cy="58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5327280" y="2852640"/>
              <a:ext cx="237960" cy="666360"/>
              <a:chOff x="5327280" y="2852640"/>
              <a:chExt cx="237960" cy="666360"/>
            </a:xfrm>
          </p:grpSpPr>
          <p:sp>
            <p:nvSpPr>
              <p:cNvPr id="815" name=""/>
              <p:cNvSpPr/>
              <p:nvPr/>
            </p:nvSpPr>
            <p:spPr>
              <a:xfrm flipH="1">
                <a:off x="5327280" y="2928240"/>
                <a:ext cx="1800" cy="59076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329440" y="2852640"/>
                <a:ext cx="23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6804000" y="350028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164360" y="3125880"/>
              <a:ext cx="611280" cy="374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75640" y="3125880"/>
              <a:ext cx="541440" cy="374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356000" y="4336920"/>
            <a:ext cx="4278240" cy="963720"/>
            <a:chOff x="4356000" y="4336920"/>
            <a:chExt cx="4278240" cy="963720"/>
          </a:xfrm>
        </p:grpSpPr>
        <p:sp>
          <p:nvSpPr>
            <p:cNvPr id="821" name=""/>
            <p:cNvSpPr/>
            <p:nvPr/>
          </p:nvSpPr>
          <p:spPr>
            <a:xfrm>
              <a:off x="4356000" y="5013360"/>
              <a:ext cx="183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759280" y="5013360"/>
              <a:ext cx="297000" cy="232920"/>
              <a:chOff x="5759280" y="5013360"/>
              <a:chExt cx="297000" cy="232920"/>
            </a:xfrm>
          </p:grpSpPr>
          <p:sp>
            <p:nvSpPr>
              <p:cNvPr id="823" name=""/>
              <p:cNvSpPr/>
              <p:nvPr/>
            </p:nvSpPr>
            <p:spPr>
              <a:xfrm>
                <a:off x="5857920" y="5013360"/>
                <a:ext cx="99000" cy="117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82760" y="5130360"/>
                <a:ext cx="49320" cy="586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759280" y="5189040"/>
                <a:ext cx="297000" cy="57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476600" y="4995720"/>
              <a:ext cx="346320" cy="231480"/>
              <a:chOff x="4476600" y="4995720"/>
              <a:chExt cx="346320" cy="231480"/>
            </a:xfrm>
          </p:grpSpPr>
          <p:sp>
            <p:nvSpPr>
              <p:cNvPr id="827" name=""/>
              <p:cNvSpPr/>
              <p:nvPr/>
            </p:nvSpPr>
            <p:spPr>
              <a:xfrm>
                <a:off x="4585680" y="4995720"/>
                <a:ext cx="148320" cy="1756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76600" y="5168880"/>
                <a:ext cx="346320" cy="58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6133680" y="4336920"/>
              <a:ext cx="238320" cy="666360"/>
              <a:chOff x="6133680" y="4336920"/>
              <a:chExt cx="238320" cy="666360"/>
            </a:xfrm>
          </p:grpSpPr>
          <p:sp>
            <p:nvSpPr>
              <p:cNvPr id="830" name=""/>
              <p:cNvSpPr/>
              <p:nvPr/>
            </p:nvSpPr>
            <p:spPr>
              <a:xfrm flipH="1">
                <a:off x="6133680" y="4412520"/>
                <a:ext cx="1800" cy="59076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35840" y="433692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6804000" y="501336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64360" y="5013360"/>
              <a:ext cx="1079640" cy="287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273880" y="5013360"/>
              <a:ext cx="330480" cy="287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68F-63F6-4549-BF32-C59BAEAC3F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826920" y="98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合理布置支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4680000" cy="326376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3382920" cy="247176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rId3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E46-C457-4F2C-9907-9AEBED75A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977080" cy="338472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4292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布置载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132000" y="5013360"/>
            <a:ext cx="3311640" cy="1085400"/>
            <a:chOff x="3132000" y="5013360"/>
            <a:chExt cx="3311640" cy="1085400"/>
          </a:xfrm>
        </p:grpSpPr>
        <p:sp>
          <p:nvSpPr>
            <p:cNvPr id="849" name=""/>
            <p:cNvSpPr/>
            <p:nvPr/>
          </p:nvSpPr>
          <p:spPr>
            <a:xfrm>
              <a:off x="3995640" y="5624640"/>
              <a:ext cx="142920" cy="1429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08720" y="5624640"/>
              <a:ext cx="142920" cy="1429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09920" y="5784840"/>
              <a:ext cx="28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5987880" y="5784840"/>
              <a:ext cx="455760" cy="313920"/>
              <a:chOff x="5987880" y="5784840"/>
              <a:chExt cx="455760" cy="313920"/>
            </a:xfrm>
          </p:grpSpPr>
          <p:sp>
            <p:nvSpPr>
              <p:cNvPr id="853" name=""/>
              <p:cNvSpPr/>
              <p:nvPr/>
            </p:nvSpPr>
            <p:spPr>
              <a:xfrm>
                <a:off x="6139440" y="5784840"/>
                <a:ext cx="15192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77600" y="5942520"/>
                <a:ext cx="75960" cy="78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987880" y="6021720"/>
                <a:ext cx="455760" cy="77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3132000" y="5761080"/>
              <a:ext cx="530280" cy="312480"/>
              <a:chOff x="3132000" y="5761080"/>
              <a:chExt cx="530280" cy="312480"/>
            </a:xfrm>
          </p:grpSpPr>
          <p:sp>
            <p:nvSpPr>
              <p:cNvPr id="857" name=""/>
              <p:cNvSpPr/>
              <p:nvPr/>
            </p:nvSpPr>
            <p:spPr>
              <a:xfrm>
                <a:off x="3299040" y="5761080"/>
                <a:ext cx="227160" cy="2368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132000" y="5994720"/>
                <a:ext cx="530280" cy="7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 flipH="1">
              <a:off x="4844520" y="5164200"/>
              <a:ext cx="1800" cy="4618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8120" y="5013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101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38760" y="5624640"/>
              <a:ext cx="180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8FD-57B8-41D9-B8F6-4FB61F532F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2914560" y="1844640"/>
            <a:ext cx="2952360" cy="1079280"/>
            <a:chOff x="2914560" y="1844640"/>
            <a:chExt cx="2952360" cy="1079280"/>
          </a:xfrm>
        </p:grpSpPr>
        <mc:AlternateContent>
          <mc:Choice xmlns:a14="http://schemas.microsoft.com/office/drawing/2010/main" Requires="a14">
            <p:sp>
              <p:nvSpPr>
                <p:cNvPr id="864" name=""/>
                <p:cNvSpPr txBox="1"/>
                <p:nvPr/>
              </p:nvSpPr>
              <p:spPr>
                <a:xfrm>
                  <a:off x="2914560" y="1844640"/>
                  <a:ext cx="196308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5006160" y="2114640"/>
                  <a:ext cx="860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σ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6" name=""/>
          <p:cNvSpPr/>
          <p:nvPr/>
        </p:nvSpPr>
        <p:spPr>
          <a:xfrm>
            <a:off x="1763640" y="3835440"/>
            <a:ext cx="23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大 </a:t>
            </a:r>
            <a:r>
              <a:rPr b="1" i="1" lang="en-US" sz="2800" spc="-1" strike="noStrike">
                <a:solidFill>
                  <a:srgbClr val="ff0101"/>
                </a:solidFill>
                <a:latin typeface="黑体"/>
                <a:ea typeface="黑体"/>
              </a:rPr>
              <a:t>W</a:t>
            </a:r>
            <a:r>
              <a:rPr b="1" lang="en-US" sz="2800" spc="-1" strike="noStrike" baseline="-25000">
                <a:solidFill>
                  <a:srgbClr val="ff0101"/>
                </a:solidFill>
                <a:latin typeface="黑体"/>
                <a:ea typeface="黑体"/>
              </a:rPr>
              <a:t>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11640" y="3645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设计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11640" y="42498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放置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6426000"/>
            <a:ext cx="574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76B-7980-44E5-84C8-56EF2B443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1044720" y="98100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71640" y="98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设计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21F-0D46-49F2-A43E-1E16E284A4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755640" y="1527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4718160" y="1527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3"/>
          <a:stretch/>
        </p:blipFill>
        <p:spPr>
          <a:xfrm>
            <a:off x="755640" y="4408560"/>
            <a:ext cx="3672000" cy="233352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71640" y="98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设计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E53-3E66-485A-9280-B95631238A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6" dur="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1" dur="1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6558120" y="2681280"/>
                <a:ext cx="168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左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5305320" cy="386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6558120" y="4051440"/>
                <a:ext cx="168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右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1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11600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放置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465-D075-40A1-AB2F-D9DF96C16A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900000" y="981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等强度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755640" y="1517760"/>
            <a:ext cx="3854160" cy="2271600"/>
            <a:chOff x="755640" y="1517760"/>
            <a:chExt cx="3854160" cy="2271600"/>
          </a:xfrm>
        </p:grpSpPr>
        <p:pic>
          <p:nvPicPr>
            <p:cNvPr id="898" name="" descr=""/>
            <p:cNvPicPr/>
            <p:nvPr/>
          </p:nvPicPr>
          <p:blipFill>
            <a:blip r:embed="rId1"/>
            <a:stretch/>
          </p:blipFill>
          <p:spPr>
            <a:xfrm>
              <a:off x="755640" y="1517760"/>
              <a:ext cx="2616480" cy="22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2"/>
            <a:stretch/>
          </p:blipFill>
          <p:spPr>
            <a:xfrm>
              <a:off x="3719880" y="1695240"/>
              <a:ext cx="889920" cy="109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2340000" y="5094360"/>
            <a:ext cx="3021120" cy="128736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4"/>
          <a:stretch/>
        </p:blipFill>
        <p:spPr>
          <a:xfrm>
            <a:off x="2984400" y="3753000"/>
            <a:ext cx="2419560" cy="140472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5"/>
          <a:stretch/>
        </p:blipFill>
        <p:spPr>
          <a:xfrm>
            <a:off x="6227640" y="5003640"/>
            <a:ext cx="2881440" cy="12211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6"/>
          <a:stretch/>
        </p:blipFill>
        <p:spPr>
          <a:xfrm>
            <a:off x="6732720" y="3708360"/>
            <a:ext cx="2243160" cy="12510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7"/>
          <a:stretch/>
        </p:blipFill>
        <p:spPr>
          <a:xfrm>
            <a:off x="7164360" y="1074600"/>
            <a:ext cx="1440000" cy="61308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8"/>
          <a:stretch/>
        </p:blipFill>
        <p:spPr>
          <a:xfrm>
            <a:off x="4572000" y="1073160"/>
            <a:ext cx="2193840" cy="576360"/>
          </a:xfrm>
          <a:prstGeom prst="rect">
            <a:avLst/>
          </a:prstGeom>
          <a:ln w="0">
            <a:noFill/>
          </a:ln>
        </p:spPr>
      </p:pic>
      <p:sp>
        <p:nvSpPr>
          <p:cNvPr id="906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>
            <a:hlinkClick r:id="rId9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533680" y="3930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6732720" y="1844640"/>
            <a:ext cx="1295280" cy="1195560"/>
            <a:chOff x="6732720" y="1844640"/>
            <a:chExt cx="1295280" cy="1195560"/>
          </a:xfrm>
        </p:grpSpPr>
        <p:sp>
          <p:nvSpPr>
            <p:cNvPr id="911" name=""/>
            <p:cNvSpPr/>
            <p:nvPr/>
          </p:nvSpPr>
          <p:spPr>
            <a:xfrm>
              <a:off x="6732720" y="1844640"/>
              <a:ext cx="36036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62840" y="1859040"/>
              <a:ext cx="43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62840" y="2536920"/>
              <a:ext cx="43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32720" y="2535120"/>
              <a:ext cx="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64280" y="2535120"/>
              <a:ext cx="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80360" y="1844640"/>
              <a:ext cx="0" cy="647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32720" y="2924280"/>
              <a:ext cx="36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6804000" y="2637000"/>
                  <a:ext cx="20628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7553160" y="2030400"/>
                  <a:ext cx="47484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0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5F4-DBE1-4BDB-859E-901337E5B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4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469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曲剪应力强度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69880" y="2359080"/>
                <a:ext cx="1489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82680" y="3182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性轴上各点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989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剪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7815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矩小、剪力很大，截面为薄壁形，如工字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87880" y="2089080"/>
            <a:ext cx="4879800" cy="20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D67-5EFF-4B4D-A170-CC8655A26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016520" cy="288000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465440" cy="9604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859280" y="2276640"/>
            <a:ext cx="4005360" cy="288432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8A3-90F3-48FE-A30F-C7EB266EA4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161928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19280" y="16984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了解纯弯曲梁弯曲正应力的推导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19280" y="30672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熟练掌握弯曲正应力的计算、弯曲正应力强度条件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19280" y="4433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了解提高梁强度的主要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1A1-D1E8-4C11-BF5B-22B9F0C980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4600" y="99216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本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18200" y="104292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挠曲线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6462720" y="1681200"/>
                <a:ext cx="14191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520560" y="4867200"/>
            <a:ext cx="83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于小变形，截面形心在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的位移忽略不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74840" y="5545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挠度转角关系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732120" y="5383080"/>
                <a:ext cx="23130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888840" y="2552760"/>
            <a:ext cx="3797280" cy="1219320"/>
            <a:chOff x="888840" y="2552760"/>
            <a:chExt cx="3797280" cy="1219320"/>
          </a:xfrm>
        </p:grpSpPr>
        <p:grpSp>
          <p:nvGrpSpPr>
            <p:cNvPr id="945" name=""/>
            <p:cNvGrpSpPr/>
            <p:nvPr/>
          </p:nvGrpSpPr>
          <p:grpSpPr>
            <a:xfrm>
              <a:off x="888840" y="2666880"/>
              <a:ext cx="3797280" cy="1105200"/>
              <a:chOff x="888840" y="2666880"/>
              <a:chExt cx="3797280" cy="1105200"/>
            </a:xfrm>
          </p:grpSpPr>
          <p:sp>
            <p:nvSpPr>
              <p:cNvPr id="946" name=""/>
              <p:cNvSpPr/>
              <p:nvPr/>
            </p:nvSpPr>
            <p:spPr>
              <a:xfrm>
                <a:off x="888840" y="2666880"/>
                <a:ext cx="266760" cy="901800"/>
              </a:xfrm>
              <a:prstGeom prst="rect">
                <a:avLst/>
              </a:prstGeom>
              <a:gradFill rotWithShape="0">
                <a:gsLst>
                  <a:gs pos="0">
                    <a:srgbClr val="2b2b2b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79280" y="3009960"/>
                <a:ext cx="3606840" cy="889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2b2b2b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4647960" y="3060720"/>
                <a:ext cx="0" cy="7113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130400" y="2552760"/>
              <a:ext cx="3530520" cy="482400"/>
            </a:xfrm>
            <a:custGeom>
              <a:avLst/>
              <a:gdLst/>
              <a:ahLst/>
              <a:rect l="l" t="t" r="r" b="b"/>
              <a:pathLst>
                <a:path w="2224" h="304">
                  <a:moveTo>
                    <a:pt x="0" y="304"/>
                  </a:moveTo>
                  <a:cubicBezTo>
                    <a:pt x="426" y="285"/>
                    <a:pt x="853" y="267"/>
                    <a:pt x="1224" y="216"/>
                  </a:cubicBezTo>
                  <a:cubicBezTo>
                    <a:pt x="1595" y="165"/>
                    <a:pt x="1909" y="82"/>
                    <a:pt x="2224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330800" y="1906560"/>
            <a:ext cx="1549440" cy="709560"/>
            <a:chOff x="4330800" y="1906560"/>
            <a:chExt cx="1549440" cy="709560"/>
          </a:xfrm>
        </p:grpSpPr>
        <p:sp>
          <p:nvSpPr>
            <p:cNvPr id="951" name=""/>
            <p:cNvSpPr/>
            <p:nvPr/>
          </p:nvSpPr>
          <p:spPr>
            <a:xfrm flipV="1">
              <a:off x="4330800" y="2273400"/>
              <a:ext cx="215640" cy="342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10160" y="1906560"/>
              <a:ext cx="12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挠曲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143000" y="1841400"/>
            <a:ext cx="4038480" cy="1602000"/>
            <a:chOff x="1143000" y="1841400"/>
            <a:chExt cx="4038480" cy="1602000"/>
          </a:xfrm>
        </p:grpSpPr>
        <p:sp>
          <p:nvSpPr>
            <p:cNvPr id="954" name=""/>
            <p:cNvSpPr/>
            <p:nvPr/>
          </p:nvSpPr>
          <p:spPr>
            <a:xfrm flipV="1">
              <a:off x="1143000" y="200628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1168560" y="3035160"/>
              <a:ext cx="4012920" cy="12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1160640" y="1841400"/>
                  <a:ext cx="33948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4871880" y="3103560"/>
                  <a:ext cx="30816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8" name=""/>
          <p:cNvGrpSpPr/>
          <p:nvPr/>
        </p:nvGrpSpPr>
        <p:grpSpPr>
          <a:xfrm>
            <a:off x="1130400" y="3174840"/>
            <a:ext cx="2400120" cy="622440"/>
            <a:chOff x="1130400" y="3174840"/>
            <a:chExt cx="2400120" cy="622440"/>
          </a:xfrm>
        </p:grpSpPr>
        <p:sp>
          <p:nvSpPr>
            <p:cNvPr id="959" name=""/>
            <p:cNvSpPr/>
            <p:nvPr/>
          </p:nvSpPr>
          <p:spPr>
            <a:xfrm>
              <a:off x="1130400" y="3174840"/>
              <a:ext cx="0" cy="62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30520" y="3174840"/>
              <a:ext cx="0" cy="62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30400" y="3670200"/>
              <a:ext cx="2387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2205000" y="3306600"/>
                  <a:ext cx="30816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543480" y="2033640"/>
            <a:ext cx="1320480" cy="1420920"/>
            <a:chOff x="3543480" y="2033640"/>
            <a:chExt cx="1320480" cy="1420920"/>
          </a:xfrm>
        </p:grpSpPr>
        <p:sp>
          <p:nvSpPr>
            <p:cNvPr id="964" name=""/>
            <p:cNvSpPr/>
            <p:nvPr/>
          </p:nvSpPr>
          <p:spPr>
            <a:xfrm>
              <a:off x="3543480" y="2793960"/>
              <a:ext cx="761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949560" y="2438280"/>
              <a:ext cx="0" cy="38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49560" y="3073320"/>
              <a:ext cx="0" cy="38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3827520" y="2755800"/>
                  <a:ext cx="2761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8" name=""/>
            <p:cNvSpPr/>
            <p:nvPr/>
          </p:nvSpPr>
          <p:spPr>
            <a:xfrm>
              <a:off x="3594240" y="2033640"/>
              <a:ext cx="12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挠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313080" y="1474920"/>
            <a:ext cx="1513080" cy="1395360"/>
            <a:chOff x="3313080" y="1474920"/>
            <a:chExt cx="1513080" cy="1395360"/>
          </a:xfrm>
        </p:grpSpPr>
        <p:sp>
          <p:nvSpPr>
            <p:cNvPr id="970" name=""/>
            <p:cNvSpPr/>
            <p:nvPr/>
          </p:nvSpPr>
          <p:spPr>
            <a:xfrm>
              <a:off x="3556080" y="1714680"/>
              <a:ext cx="0" cy="115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313080" y="1779480"/>
              <a:ext cx="243000" cy="1040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348000" y="1550880"/>
                  <a:ext cx="23184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3352680" y="1849320"/>
              <a:ext cx="203400" cy="55800"/>
            </a:xfrm>
            <a:custGeom>
              <a:avLst/>
              <a:gdLst/>
              <a:ahLst/>
              <a:rect l="l" t="t" r="r" b="b"/>
              <a:pathLst>
                <a:path w="128" h="35">
                  <a:moveTo>
                    <a:pt x="128" y="19"/>
                  </a:moveTo>
                  <a:cubicBezTo>
                    <a:pt x="102" y="9"/>
                    <a:pt x="77" y="0"/>
                    <a:pt x="56" y="3"/>
                  </a:cubicBezTo>
                  <a:cubicBezTo>
                    <a:pt x="35" y="6"/>
                    <a:pt x="17" y="20"/>
                    <a:pt x="0" y="35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556080" y="1474920"/>
              <a:ext cx="12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转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5772240" y="2303640"/>
            <a:ext cx="300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挠度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截面形心在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的位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5854680" y="3519360"/>
            <a:ext cx="2757240" cy="520560"/>
            <a:chOff x="5854680" y="3519360"/>
            <a:chExt cx="2757240" cy="520560"/>
          </a:xfrm>
        </p:grpSpPr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5854680" y="3595680"/>
                  <a:ext cx="33948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8" name=""/>
            <p:cNvSpPr/>
            <p:nvPr/>
          </p:nvSpPr>
          <p:spPr>
            <a:xfrm>
              <a:off x="6215040" y="3519360"/>
              <a:ext cx="23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向上为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60520" y="414036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角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截面绕中性轴转过的角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213600" y="4146480"/>
            <a:ext cx="2741400" cy="520560"/>
            <a:chOff x="6213600" y="4146480"/>
            <a:chExt cx="2741400" cy="52056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6213600" y="4206960"/>
                  <a:ext cx="30780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2" name=""/>
            <p:cNvSpPr/>
            <p:nvPr/>
          </p:nvSpPr>
          <p:spPr>
            <a:xfrm>
              <a:off x="6558120" y="4146480"/>
              <a:ext cx="23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逆钟向为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6635520"/>
            <a:ext cx="88272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7-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rId1" action="ppaction://hlinksldjump"/>
          </p:cNvPr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E5F-C0B4-45F5-99BA-D95B0F3E78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430200" y="947880"/>
            <a:ext cx="51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挠曲线的近似微分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24040" y="1644480"/>
            <a:ext cx="53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推导弯曲正应力时，得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575080" y="2573280"/>
                <a:ext cx="14493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885960" y="400680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忽略剪力对变形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2155680" y="4989600"/>
                <a:ext cx="22510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0" name=""/>
          <p:cNvGrpSpPr/>
          <p:nvPr/>
        </p:nvGrpSpPr>
        <p:grpSpPr>
          <a:xfrm>
            <a:off x="5051880" y="531720"/>
            <a:ext cx="4543560" cy="4545360"/>
            <a:chOff x="5051880" y="531720"/>
            <a:chExt cx="4543560" cy="4545360"/>
          </a:xfrm>
        </p:grpSpPr>
        <p:sp>
          <p:nvSpPr>
            <p:cNvPr id="991" name=""/>
            <p:cNvSpPr/>
            <p:nvPr/>
          </p:nvSpPr>
          <p:spPr>
            <a:xfrm flipH="1">
              <a:off x="6198840" y="2235240"/>
              <a:ext cx="1103400" cy="17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02600" y="2232000"/>
              <a:ext cx="115236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240600" y="2232000"/>
              <a:ext cx="106200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8317200">
              <a:off x="6331320" y="1762560"/>
              <a:ext cx="2025720" cy="20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80" y="94"/>
                  </a:moveTo>
                  <a:arcTo wR="10800" hR="10800" stAng="-5853289" swAng="5950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80" y="94"/>
                  </a:moveTo>
                  <a:arcTo wR="10800" hR="10800" stAng="-5853289" swAng="5950112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8232600">
              <a:off x="6039360" y="1479600"/>
              <a:ext cx="2642040" cy="265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83" y="12"/>
                  </a:moveTo>
                  <a:arcTo wR="10800" hR="10800" stAng="-5564471" swAng="649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83" y="12"/>
                  </a:moveTo>
                  <a:arcTo wR="10800" hR="10800" stAng="-5564471" swAng="6490217"/>
                </a:path>
              </a:pathLst>
            </a:cu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8037600">
              <a:off x="5699520" y="1214640"/>
              <a:ext cx="3248280" cy="317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7" y="7"/>
                  </a:moveTo>
                  <a:arcTo wR="10800" hR="10800" stAng="-5273445" swAng="5273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7" y="7"/>
                  </a:moveTo>
                  <a:arcTo wR="10800" hR="10800" stAng="-5273445" swAng="5273445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219720" y="3424320"/>
              <a:ext cx="331920" cy="52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123400" y="3446280"/>
              <a:ext cx="311040" cy="5050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827680" y="2452680"/>
              <a:ext cx="600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434280" y="2468520"/>
                  <a:ext cx="3888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1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rId1" action="ppaction://hlinksldjump"/>
          </p:cNvPr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E25-A751-4A48-BF6A-AED81A13B3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84040" y="97776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数学知识可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22400" y="1555920"/>
                <a:ext cx="3144960" cy="20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285840" y="356400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略去高阶小量，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617840" y="4206960"/>
                <a:ext cx="17254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295200" y="55738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420920" y="5502240"/>
                <a:ext cx="23716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1" name="" descr=""/>
          <p:cNvPicPr/>
          <p:nvPr/>
        </p:nvPicPr>
        <p:blipFill>
          <a:blip r:embed="rId1"/>
          <a:srcRect l="13382" t="36092" r="56123" b="24938"/>
          <a:stretch/>
        </p:blipFill>
        <p:spPr>
          <a:xfrm>
            <a:off x="4867200" y="1482840"/>
            <a:ext cx="3159360" cy="229860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2"/>
          <a:srcRect l="48288" t="35808" r="19254" b="25506"/>
          <a:stretch/>
        </p:blipFill>
        <p:spPr>
          <a:xfrm>
            <a:off x="4865760" y="3925800"/>
            <a:ext cx="3170160" cy="215280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rId3" action="ppaction://hlinksldjump"/>
          </p:cNvPr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E77-7D98-4222-9C09-97BEE518F8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506520" y="1521000"/>
            <a:ext cx="839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弯矩的正负号规定可得，弯矩的符号与挠曲线的二阶导数符号一致，所以挠曲线的近似微分方程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189240" y="3103560"/>
            <a:ext cx="2895480" cy="1143000"/>
            <a:chOff x="3189240" y="3103560"/>
            <a:chExt cx="2895480" cy="1143000"/>
          </a:xfrm>
        </p:grpSpPr>
        <p:sp>
          <p:nvSpPr>
            <p:cNvPr id="1019" name=""/>
            <p:cNvSpPr/>
            <p:nvPr/>
          </p:nvSpPr>
          <p:spPr>
            <a:xfrm>
              <a:off x="3189240" y="3103560"/>
              <a:ext cx="2895480" cy="1143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3578040" y="3114720"/>
                  <a:ext cx="2093400" cy="11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I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1" name=""/>
          <p:cNvSpPr/>
          <p:nvPr/>
        </p:nvSpPr>
        <p:spPr>
          <a:xfrm>
            <a:off x="558720" y="470232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上式进行积分，就可以求出梁横截面的转角和挠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3F0-D9F4-42AE-B0ED-9AA4270AAE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303120" y="963720"/>
            <a:ext cx="58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挠曲线的近似微分方程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254240" y="1695600"/>
            <a:ext cx="2546280" cy="939600"/>
            <a:chOff x="1254240" y="1695600"/>
            <a:chExt cx="2546280" cy="939600"/>
          </a:xfrm>
        </p:grpSpPr>
        <p:sp>
          <p:nvSpPr>
            <p:cNvPr id="1028" name=""/>
            <p:cNvSpPr/>
            <p:nvPr/>
          </p:nvSpPr>
          <p:spPr>
            <a:xfrm>
              <a:off x="1254240" y="1695600"/>
              <a:ext cx="2546280" cy="93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1596240" y="1704600"/>
                  <a:ext cx="1841040" cy="91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I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0" name=""/>
          <p:cNvSpPr/>
          <p:nvPr/>
        </p:nvSpPr>
        <p:spPr>
          <a:xfrm>
            <a:off x="263520" y="28195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分一次得转角方程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206800" y="3564000"/>
            <a:ext cx="4725720" cy="982440"/>
            <a:chOff x="2206800" y="3564000"/>
            <a:chExt cx="4725720" cy="982440"/>
          </a:xfrm>
        </p:grpSpPr>
        <p:sp>
          <p:nvSpPr>
            <p:cNvPr id="1032" name=""/>
            <p:cNvSpPr/>
            <p:nvPr/>
          </p:nvSpPr>
          <p:spPr>
            <a:xfrm>
              <a:off x="2206800" y="3564000"/>
              <a:ext cx="4725720" cy="982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"/>
                <p:cNvSpPr txBox="1"/>
                <p:nvPr/>
              </p:nvSpPr>
              <p:spPr>
                <a:xfrm>
                  <a:off x="2267640" y="3638880"/>
                  <a:ext cx="4633920" cy="82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θ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4" name=""/>
          <p:cNvSpPr/>
          <p:nvPr/>
        </p:nvSpPr>
        <p:spPr>
          <a:xfrm>
            <a:off x="4417920" y="200016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5291280" y="1673280"/>
            <a:ext cx="2157120" cy="911160"/>
            <a:chOff x="5291280" y="1673280"/>
            <a:chExt cx="2157120" cy="911160"/>
          </a:xfrm>
        </p:grpSpPr>
        <p:sp>
          <p:nvSpPr>
            <p:cNvPr id="1036" name=""/>
            <p:cNvSpPr/>
            <p:nvPr/>
          </p:nvSpPr>
          <p:spPr>
            <a:xfrm>
              <a:off x="5291280" y="1673280"/>
              <a:ext cx="2157120" cy="911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5374080" y="1718640"/>
                  <a:ext cx="1973520" cy="81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8" name=""/>
          <p:cNvSpPr/>
          <p:nvPr/>
        </p:nvSpPr>
        <p:spPr>
          <a:xfrm>
            <a:off x="149400" y="45831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积分一次得挠度方程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244600" y="5292720"/>
            <a:ext cx="4726080" cy="982800"/>
            <a:chOff x="2244600" y="5292720"/>
            <a:chExt cx="4726080" cy="982800"/>
          </a:xfrm>
        </p:grpSpPr>
        <p:sp>
          <p:nvSpPr>
            <p:cNvPr id="1040" name=""/>
            <p:cNvSpPr/>
            <p:nvPr/>
          </p:nvSpPr>
          <p:spPr>
            <a:xfrm>
              <a:off x="2244600" y="5292720"/>
              <a:ext cx="4726080" cy="982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2351160" y="5486400"/>
                  <a:ext cx="45450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∬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dx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nary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2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-360" y="6622560"/>
            <a:ext cx="1057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7-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4CA-DFB6-4362-9062-DC7A8503E4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455760" y="950760"/>
            <a:ext cx="83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分常数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梁的位移边界条件和光滑连续条件确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17125" t="38380" r="72289" b="40419"/>
          <a:stretch/>
        </p:blipFill>
        <p:spPr>
          <a:xfrm>
            <a:off x="263520" y="2890800"/>
            <a:ext cx="1290600" cy="14731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2"/>
          <a:srcRect l="79192" t="40384" r="12848" b="43545"/>
          <a:stretch/>
        </p:blipFill>
        <p:spPr>
          <a:xfrm>
            <a:off x="7510320" y="2949480"/>
            <a:ext cx="1109880" cy="136044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rcRect l="33397" t="41229" r="58563" b="43581"/>
          <a:stretch/>
        </p:blipFill>
        <p:spPr>
          <a:xfrm>
            <a:off x="1989000" y="3056040"/>
            <a:ext cx="1138320" cy="122400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4"/>
          <a:srcRect l="48523" t="40696" r="41769" b="41577"/>
          <a:stretch/>
        </p:blipFill>
        <p:spPr>
          <a:xfrm>
            <a:off x="3811680" y="2739960"/>
            <a:ext cx="1404720" cy="146052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5"/>
          <a:srcRect l="63629" t="40668" r="28197" b="43552"/>
          <a:stretch/>
        </p:blipFill>
        <p:spPr>
          <a:xfrm>
            <a:off x="5850000" y="2949480"/>
            <a:ext cx="1123920" cy="136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493560" y="4406760"/>
                <a:ext cx="862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2286000" y="4265640"/>
                <a:ext cx="861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324160" y="4797360"/>
                <a:ext cx="836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037040" y="4273560"/>
                <a:ext cx="911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1481040" y="1951200"/>
            <a:ext cx="26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位移边界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75360" y="190332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光滑连续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5843520" y="4229280"/>
                <a:ext cx="1254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5857920" y="4851360"/>
                <a:ext cx="1206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510320" y="4268880"/>
                <a:ext cx="1254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3654360" y="4741920"/>
            <a:ext cx="1928880" cy="520560"/>
            <a:chOff x="3654360" y="4741920"/>
            <a:chExt cx="1928880" cy="520560"/>
          </a:xfrm>
        </p:grpSpPr>
        <p:sp>
          <p:nvSpPr>
            <p:cNvPr id="1063" name=""/>
            <p:cNvSpPr/>
            <p:nvPr/>
          </p:nvSpPr>
          <p:spPr>
            <a:xfrm>
              <a:off x="3654360" y="474192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弹簧变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3915000" y="4891320"/>
                  <a:ext cx="338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5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E87-0F91-4C87-8C16-D62E484C20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355680" y="853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梁的转角方程和挠度方程，并求最大转角和最大挠度，梁的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I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18960" y="1895400"/>
            <a:ext cx="5637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015920" y="1816200"/>
            <a:ext cx="50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由梁的整体平衡分析可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011240" y="2279520"/>
            <a:ext cx="5019480" cy="622440"/>
            <a:chOff x="1011240" y="2279520"/>
            <a:chExt cx="5019480" cy="622440"/>
          </a:xfrm>
        </p:grpSpPr>
        <p:grpSp>
          <p:nvGrpSpPr>
            <p:cNvPr id="1073" name=""/>
            <p:cNvGrpSpPr/>
            <p:nvPr/>
          </p:nvGrpSpPr>
          <p:grpSpPr>
            <a:xfrm>
              <a:off x="1011240" y="2279520"/>
              <a:ext cx="5019480" cy="622440"/>
              <a:chOff x="1011240" y="2279520"/>
              <a:chExt cx="5019480" cy="622440"/>
            </a:xfrm>
          </p:grpSpPr>
          <mc:AlternateContent>
            <mc:Choice xmlns:a14="http://schemas.microsoft.com/office/drawing/2010/main" Requires="a14">
              <p:sp>
                <p:nvSpPr>
                  <p:cNvPr id="1074" name=""/>
                  <p:cNvSpPr txBox="1"/>
                  <p:nvPr/>
                </p:nvSpPr>
                <p:spPr>
                  <a:xfrm>
                    <a:off x="1011240" y="2345040"/>
                    <a:ext cx="1232280" cy="44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5" name=""/>
                  <p:cNvSpPr txBox="1"/>
                  <p:nvPr/>
                </p:nvSpPr>
                <p:spPr>
                  <a:xfrm>
                    <a:off x="2299320" y="2320560"/>
                    <a:ext cx="1777320" cy="49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6" name=""/>
                  <p:cNvSpPr txBox="1"/>
                  <p:nvPr/>
                </p:nvSpPr>
                <p:spPr>
                  <a:xfrm>
                    <a:off x="4109400" y="2279520"/>
                    <a:ext cx="1921320" cy="62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/>
                          <m:sub/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77" name=""/>
            <p:cNvSpPr/>
            <p:nvPr/>
          </p:nvSpPr>
          <p:spPr>
            <a:xfrm>
              <a:off x="5623560" y="2424240"/>
              <a:ext cx="148680" cy="246600"/>
            </a:xfrm>
            <a:custGeom>
              <a:avLst/>
              <a:gdLst>
                <a:gd name="textAreaLeft" fmla="*/ 19800 w 148680"/>
                <a:gd name="textAreaRight" fmla="*/ 128880 w 148680"/>
                <a:gd name="textAreaTop" fmla="*/ 43200 h 246600"/>
                <a:gd name="textAreaBottom" fmla="*/ 178920 h 24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990720" y="2806560"/>
            <a:ext cx="50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写出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截面的弯矩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1214280" y="3338640"/>
                <a:ext cx="40705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"/>
          <p:cNvSpPr/>
          <p:nvPr/>
        </p:nvSpPr>
        <p:spPr>
          <a:xfrm>
            <a:off x="1028880" y="3746520"/>
            <a:ext cx="55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列挠曲线近似微分方程并积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766880" y="4154400"/>
                <a:ext cx="3497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766960" y="4916520"/>
                <a:ext cx="383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3139920" y="5742000"/>
                <a:ext cx="3341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851040" y="502920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积分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51040" y="584208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积分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4791240" y="1908000"/>
            <a:ext cx="4124160" cy="1541160"/>
            <a:chOff x="4791240" y="1908000"/>
            <a:chExt cx="4124160" cy="1541160"/>
          </a:xfrm>
        </p:grpSpPr>
        <p:sp>
          <p:nvSpPr>
            <p:cNvPr id="1087" name=""/>
            <p:cNvSpPr/>
            <p:nvPr/>
          </p:nvSpPr>
          <p:spPr>
            <a:xfrm>
              <a:off x="4791240" y="2617920"/>
              <a:ext cx="3340080" cy="83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795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795545"/>
                </a:path>
              </a:pathLst>
            </a:custGeom>
            <a:noFill/>
            <a:ln w="31680">
              <a:solidFill>
                <a:srgbClr val="ff66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7673040" y="2367000"/>
              <a:ext cx="953640" cy="834480"/>
              <a:chOff x="7673040" y="2367000"/>
              <a:chExt cx="953640" cy="834480"/>
            </a:xfrm>
          </p:grpSpPr>
          <p:sp>
            <p:nvSpPr>
              <p:cNvPr id="1089" name=""/>
              <p:cNvSpPr/>
              <p:nvPr/>
            </p:nvSpPr>
            <p:spPr>
              <a:xfrm flipH="1" rot="8947800">
                <a:off x="7786080" y="2480040"/>
                <a:ext cx="608400" cy="60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7108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710877"/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0" name=""/>
                  <p:cNvSpPr txBox="1"/>
                  <p:nvPr/>
                </p:nvSpPr>
                <p:spPr>
                  <a:xfrm>
                    <a:off x="8375760" y="2762280"/>
                    <a:ext cx="25092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1" name=""/>
              <p:cNvSpPr/>
              <p:nvPr/>
            </p:nvSpPr>
            <p:spPr>
              <a:xfrm>
                <a:off x="8070840" y="2914560"/>
                <a:ext cx="304920" cy="2286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213600" y="1908000"/>
              <a:ext cx="2701800" cy="1411560"/>
              <a:chOff x="6213600" y="1908000"/>
              <a:chExt cx="2701800" cy="1411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6448320" y="2389320"/>
                <a:ext cx="0" cy="42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48320" y="2598840"/>
                <a:ext cx="1659240" cy="0"/>
              </a:xfrm>
              <a:prstGeom prst="line">
                <a:avLst/>
              </a:prstGeom>
              <a:ln w="63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242200" y="2598840"/>
                <a:ext cx="384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375600" y="2430360"/>
                <a:ext cx="7128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6375600" y="2533680"/>
                <a:ext cx="7128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6375600" y="2631960"/>
                <a:ext cx="7128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6375600" y="2733840"/>
                <a:ext cx="7128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6451560" y="1986120"/>
                <a:ext cx="0" cy="33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13600" y="2424240"/>
                <a:ext cx="1252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058160" y="280980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48320" y="287820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099640" y="2627280"/>
                <a:ext cx="1440" cy="69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451560" y="29462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183520" y="2327400"/>
                <a:ext cx="16848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7" name=""/>
                  <p:cNvSpPr txBox="1"/>
                  <p:nvPr/>
                </p:nvSpPr>
                <p:spPr>
                  <a:xfrm>
                    <a:off x="8680680" y="2533680"/>
                    <a:ext cx="2347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08" name=""/>
                  <p:cNvSpPr txBox="1"/>
                  <p:nvPr/>
                </p:nvSpPr>
                <p:spPr>
                  <a:xfrm>
                    <a:off x="6510240" y="1908000"/>
                    <a:ext cx="238320" cy="27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09" name=""/>
                  <p:cNvSpPr txBox="1"/>
                  <p:nvPr/>
                </p:nvSpPr>
                <p:spPr>
                  <a:xfrm>
                    <a:off x="6632640" y="2714760"/>
                    <a:ext cx="201600" cy="22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10" name=""/>
                  <p:cNvSpPr txBox="1"/>
                  <p:nvPr/>
                </p:nvSpPr>
                <p:spPr>
                  <a:xfrm>
                    <a:off x="7213680" y="2986200"/>
                    <a:ext cx="154080" cy="27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11" name=""/>
              <p:cNvSpPr/>
              <p:nvPr/>
            </p:nvSpPr>
            <p:spPr>
              <a:xfrm>
                <a:off x="6448320" y="3252960"/>
                <a:ext cx="164160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096400" y="2054160"/>
                <a:ext cx="0" cy="533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175600" y="1944720"/>
                <a:ext cx="1857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7534440" y="2603520"/>
              <a:ext cx="561600" cy="349200"/>
              <a:chOff x="7534440" y="2603520"/>
              <a:chExt cx="561600" cy="349200"/>
            </a:xfrm>
          </p:grpSpPr>
          <p:sp>
            <p:nvSpPr>
              <p:cNvPr id="1115" name=""/>
              <p:cNvSpPr/>
              <p:nvPr/>
            </p:nvSpPr>
            <p:spPr>
              <a:xfrm>
                <a:off x="7861320" y="2603520"/>
                <a:ext cx="0" cy="33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7797600" y="2946240"/>
                <a:ext cx="298440" cy="64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7" name=""/>
                  <p:cNvSpPr txBox="1"/>
                  <p:nvPr/>
                </p:nvSpPr>
                <p:spPr>
                  <a:xfrm>
                    <a:off x="7534440" y="2629080"/>
                    <a:ext cx="26820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18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99E-C214-4174-8031-077CD9B5C5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304920" y="812880"/>
            <a:ext cx="55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由位移边界条件确定积分常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151000" y="1209600"/>
            <a:ext cx="2566800" cy="1220760"/>
            <a:chOff x="2151000" y="1209600"/>
            <a:chExt cx="2566800" cy="1220760"/>
          </a:xfrm>
        </p:grpSpPr>
        <mc:AlternateContent>
          <mc:Choice xmlns:a14="http://schemas.microsoft.com/office/drawing/2010/main" Requires="a14">
            <p:sp>
              <p:nvSpPr>
                <p:cNvPr id="1124" name=""/>
                <p:cNvSpPr txBox="1"/>
                <p:nvPr/>
              </p:nvSpPr>
              <p:spPr>
                <a:xfrm>
                  <a:off x="2425680" y="1692000"/>
                  <a:ext cx="2292120" cy="7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sSub>
                        <m:e/>
                        <m:sub/>
                      </m:sSub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2414520" y="1209600"/>
                  <a:ext cx="226224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sSub>
                        <m:e/>
                        <m:sub/>
                      </m:sSub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2151000" y="1458720"/>
              <a:ext cx="191880" cy="628920"/>
            </a:xfrm>
            <a:custGeom>
              <a:avLst/>
              <a:gdLst>
                <a:gd name="textAreaLeft" fmla="*/ 122760 w 191880"/>
                <a:gd name="textAreaRight" fmla="*/ 192240 w 191880"/>
                <a:gd name="textAreaTop" fmla="*/ 16200 h 628920"/>
                <a:gd name="textAreaBottom" fmla="*/ 612720 h 6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2327400" y="2262240"/>
                <a:ext cx="3200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b>
                      <m:e/>
                      <m:sub/>
                    </m:sSub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241200" y="23749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入求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43080" y="3073320"/>
            <a:ext cx="55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确定转角方程和挠度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55680" y="5067360"/>
            <a:ext cx="55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确定最大转角和最大挠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1870200" y="3506760"/>
                <a:ext cx="3290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758960" y="4243320"/>
                <a:ext cx="4327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328760" y="5462640"/>
                <a:ext cx="587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,</m:t>
                    </m:r>
                    <m:sSub>
                      <m:e/>
                      <m:sub/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,</m:t>
                    </m:r>
                    <m:sSub>
                      <m:e/>
                      <m:sub/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34" name=""/>
          <p:cNvGrpSpPr/>
          <p:nvPr/>
        </p:nvGrpSpPr>
        <p:grpSpPr>
          <a:xfrm>
            <a:off x="4689360" y="1908000"/>
            <a:ext cx="4124160" cy="1541160"/>
            <a:chOff x="4689360" y="1908000"/>
            <a:chExt cx="4124160" cy="1541160"/>
          </a:xfrm>
        </p:grpSpPr>
        <p:sp>
          <p:nvSpPr>
            <p:cNvPr id="1135" name=""/>
            <p:cNvSpPr/>
            <p:nvPr/>
          </p:nvSpPr>
          <p:spPr>
            <a:xfrm>
              <a:off x="4689360" y="2617920"/>
              <a:ext cx="3340080" cy="83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795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795545"/>
                </a:path>
              </a:pathLst>
            </a:custGeom>
            <a:noFill/>
            <a:ln w="31680">
              <a:solidFill>
                <a:srgbClr val="ff66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7571160" y="2367000"/>
              <a:ext cx="953640" cy="834480"/>
              <a:chOff x="7571160" y="2367000"/>
              <a:chExt cx="953640" cy="834480"/>
            </a:xfrm>
          </p:grpSpPr>
          <p:sp>
            <p:nvSpPr>
              <p:cNvPr id="1137" name=""/>
              <p:cNvSpPr/>
              <p:nvPr/>
            </p:nvSpPr>
            <p:spPr>
              <a:xfrm flipH="1" rot="8947800">
                <a:off x="7684200" y="2480040"/>
                <a:ext cx="608400" cy="60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7108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710877"/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8" name=""/>
                  <p:cNvSpPr txBox="1"/>
                  <p:nvPr/>
                </p:nvSpPr>
                <p:spPr>
                  <a:xfrm>
                    <a:off x="8273880" y="2762280"/>
                    <a:ext cx="25092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39" name=""/>
              <p:cNvSpPr/>
              <p:nvPr/>
            </p:nvSpPr>
            <p:spPr>
              <a:xfrm>
                <a:off x="7968960" y="2914560"/>
                <a:ext cx="304920" cy="2286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111720" y="1908000"/>
              <a:ext cx="2701800" cy="1411560"/>
              <a:chOff x="6111720" y="1908000"/>
              <a:chExt cx="2701800" cy="1411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6346440" y="2389320"/>
                <a:ext cx="0" cy="42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346440" y="2598840"/>
                <a:ext cx="1659240" cy="0"/>
              </a:xfrm>
              <a:prstGeom prst="line">
                <a:avLst/>
              </a:prstGeom>
              <a:ln w="63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140320" y="2598840"/>
                <a:ext cx="384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273720" y="2430360"/>
                <a:ext cx="7128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273720" y="2533680"/>
                <a:ext cx="7128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273720" y="2631960"/>
                <a:ext cx="7128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6273720" y="2733840"/>
                <a:ext cx="7128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6349680" y="1986120"/>
                <a:ext cx="0" cy="33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11720" y="2424240"/>
                <a:ext cx="1252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56280" y="280980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46440" y="287820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997760" y="2627280"/>
                <a:ext cx="1440" cy="69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349680" y="29462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081640" y="2327400"/>
                <a:ext cx="16848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5" name=""/>
                  <p:cNvSpPr txBox="1"/>
                  <p:nvPr/>
                </p:nvSpPr>
                <p:spPr>
                  <a:xfrm>
                    <a:off x="8578800" y="2533680"/>
                    <a:ext cx="2347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6" name=""/>
                  <p:cNvSpPr txBox="1"/>
                  <p:nvPr/>
                </p:nvSpPr>
                <p:spPr>
                  <a:xfrm>
                    <a:off x="6408360" y="1908000"/>
                    <a:ext cx="238320" cy="27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7" name=""/>
                  <p:cNvSpPr txBox="1"/>
                  <p:nvPr/>
                </p:nvSpPr>
                <p:spPr>
                  <a:xfrm>
                    <a:off x="6530760" y="2714760"/>
                    <a:ext cx="201600" cy="22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8" name=""/>
                  <p:cNvSpPr txBox="1"/>
                  <p:nvPr/>
                </p:nvSpPr>
                <p:spPr>
                  <a:xfrm>
                    <a:off x="7111800" y="2986200"/>
                    <a:ext cx="154080" cy="27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59" name=""/>
              <p:cNvSpPr/>
              <p:nvPr/>
            </p:nvSpPr>
            <p:spPr>
              <a:xfrm>
                <a:off x="6346440" y="3252960"/>
                <a:ext cx="164160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994520" y="2054160"/>
                <a:ext cx="0" cy="533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073720" y="1944720"/>
                <a:ext cx="1857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7432560" y="2603520"/>
              <a:ext cx="561600" cy="349200"/>
              <a:chOff x="7432560" y="2603520"/>
              <a:chExt cx="561600" cy="349200"/>
            </a:xfrm>
          </p:grpSpPr>
          <p:sp>
            <p:nvSpPr>
              <p:cNvPr id="1163" name=""/>
              <p:cNvSpPr/>
              <p:nvPr/>
            </p:nvSpPr>
            <p:spPr>
              <a:xfrm>
                <a:off x="7759440" y="2603520"/>
                <a:ext cx="0" cy="33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7695720" y="2946240"/>
                <a:ext cx="298440" cy="64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5" name=""/>
                  <p:cNvSpPr txBox="1"/>
                  <p:nvPr/>
                </p:nvSpPr>
                <p:spPr>
                  <a:xfrm>
                    <a:off x="7432560" y="2629080"/>
                    <a:ext cx="26964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66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>
            <a:hlinkClick r:id="" action="ppaction://hlinkshowjump?jump=nextslide"/>
          </p:cNvPr>
          <p:cNvSpPr/>
          <p:nvPr/>
        </p:nvSpPr>
        <p:spPr>
          <a:xfrm>
            <a:off x="7812000" y="652464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3794"/>
                </a:moveTo>
                <a:lnTo>
                  <a:pt x="33857" y="10800"/>
                </a:lnTo>
                <a:lnTo>
                  <a:pt x="1984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59360" y="6513480"/>
            <a:ext cx="696960" cy="276120"/>
          </a:xfrm>
          <a:custGeom>
            <a:avLst/>
            <a:gdLst>
              <a:gd name="textAreaLeft" fmla="*/ 17640 w 696960"/>
              <a:gd name="textAreaRight" fmla="*/ 679320 w 69696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54478" h="21600">
                <a:moveTo>
                  <a:pt x="0" y="0"/>
                </a:moveTo>
                <a:lnTo>
                  <a:pt x="54478" y="0"/>
                </a:lnTo>
                <a:lnTo>
                  <a:pt x="54478" y="21600"/>
                </a:lnTo>
                <a:lnTo>
                  <a:pt x="0" y="21600"/>
                </a:lnTo>
                <a:close/>
              </a:path>
              <a:path fill="lightenLess" w="54478" h="21600">
                <a:moveTo>
                  <a:pt x="0" y="0"/>
                </a:moveTo>
                <a:lnTo>
                  <a:pt x="54478" y="0"/>
                </a:lnTo>
                <a:lnTo>
                  <a:pt x="53078" y="1400"/>
                </a:lnTo>
                <a:lnTo>
                  <a:pt x="1400" y="1400"/>
                </a:lnTo>
                <a:close/>
              </a:path>
              <a:path fill="darken" w="54478" h="21600">
                <a:moveTo>
                  <a:pt x="54478" y="0"/>
                </a:moveTo>
                <a:lnTo>
                  <a:pt x="54478" y="21600"/>
                </a:lnTo>
                <a:lnTo>
                  <a:pt x="53078" y="20200"/>
                </a:lnTo>
                <a:lnTo>
                  <a:pt x="53078" y="1400"/>
                </a:lnTo>
                <a:close/>
              </a:path>
              <a:path fill="darkenLess" w="54478" h="21600">
                <a:moveTo>
                  <a:pt x="5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78" y="20200"/>
                </a:lnTo>
                <a:close/>
              </a:path>
              <a:path fill="lighten" w="5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004760" y="13032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5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变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E59-97A2-4300-90C3-559D265960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43000" y="2349000"/>
            <a:ext cx="3706560" cy="681840"/>
            <a:chOff x="243000" y="2349000"/>
            <a:chExt cx="3706560" cy="681840"/>
          </a:xfrm>
        </p:grpSpPr>
        <p:grpSp>
          <p:nvGrpSpPr>
            <p:cNvPr id="73" name=""/>
            <p:cNvGrpSpPr/>
            <p:nvPr/>
          </p:nvGrpSpPr>
          <p:grpSpPr>
            <a:xfrm>
              <a:off x="243000" y="2349000"/>
              <a:ext cx="455400" cy="650520"/>
              <a:chOff x="243000" y="2349000"/>
              <a:chExt cx="455400" cy="650520"/>
            </a:xfrm>
          </p:grpSpPr>
          <p:sp>
            <p:nvSpPr>
              <p:cNvPr id="74" name=""/>
              <p:cNvSpPr/>
              <p:nvPr/>
            </p:nvSpPr>
            <p:spPr>
              <a:xfrm flipV="1">
                <a:off x="698400" y="2349000"/>
                <a:ext cx="0" cy="53316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3000" y="262872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495960" y="2368080"/>
              <a:ext cx="453600" cy="662760"/>
              <a:chOff x="3495960" y="2368080"/>
              <a:chExt cx="453600" cy="662760"/>
            </a:xfrm>
          </p:grpSpPr>
          <p:sp>
            <p:nvSpPr>
              <p:cNvPr id="77" name=""/>
              <p:cNvSpPr/>
              <p:nvPr/>
            </p:nvSpPr>
            <p:spPr>
              <a:xfrm>
                <a:off x="3506760" y="2368080"/>
                <a:ext cx="0" cy="53352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95960" y="266004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27240" y="1166760"/>
            <a:ext cx="3690360" cy="1805040"/>
            <a:chOff x="327240" y="1166760"/>
            <a:chExt cx="3690360" cy="1805040"/>
          </a:xfrm>
        </p:grpSpPr>
        <p:grpSp>
          <p:nvGrpSpPr>
            <p:cNvPr id="80" name=""/>
            <p:cNvGrpSpPr/>
            <p:nvPr/>
          </p:nvGrpSpPr>
          <p:grpSpPr>
            <a:xfrm>
              <a:off x="327240" y="1728720"/>
              <a:ext cx="3596760" cy="691920"/>
              <a:chOff x="327240" y="1728720"/>
              <a:chExt cx="3596760" cy="691920"/>
            </a:xfrm>
          </p:grpSpPr>
          <p:sp>
            <p:nvSpPr>
              <p:cNvPr id="81" name=""/>
              <p:cNvSpPr/>
              <p:nvPr/>
            </p:nvSpPr>
            <p:spPr>
              <a:xfrm>
                <a:off x="677880" y="211752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3268800" y="2117520"/>
                <a:ext cx="457200" cy="303120"/>
                <a:chOff x="3268800" y="2117520"/>
                <a:chExt cx="457200" cy="303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421080" y="211752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459240" y="226980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68800" y="2346120"/>
                  <a:ext cx="457200" cy="745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3557520" y="17474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240" y="1728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398520" y="2095200"/>
                <a:ext cx="533160" cy="301680"/>
                <a:chOff x="398520" y="2095200"/>
                <a:chExt cx="533160" cy="301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66640" y="209520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8520" y="2320560"/>
                  <a:ext cx="533160" cy="76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1843200" y="2529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 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" y="213372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213372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2852640"/>
              <a:ext cx="280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stealth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40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180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040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3344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384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668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54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852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30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416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472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7512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816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676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1600200"/>
              <a:ext cx="2808360" cy="0"/>
            </a:xfrm>
            <a:prstGeom prst="line">
              <a:avLst/>
            </a:prstGeom>
            <a:ln w="2556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1200" y="1197000"/>
              <a:ext cx="151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kN/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09680" y="1166760"/>
              <a:ext cx="3607920" cy="1243440"/>
              <a:chOff x="409680" y="1166760"/>
              <a:chExt cx="3607920" cy="1243440"/>
            </a:xfrm>
          </p:grpSpPr>
          <p:sp>
            <p:nvSpPr>
              <p:cNvPr id="112" name=""/>
              <p:cNvSpPr/>
              <p:nvPr/>
            </p:nvSpPr>
            <p:spPr>
              <a:xfrm>
                <a:off x="409680" y="116676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8400" y="2120760"/>
                <a:ext cx="3311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98400" y="1256760"/>
                <a:ext cx="0" cy="86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24200" y="20113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90480" y="2390760"/>
              <a:ext cx="100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8480" y="1959120"/>
              <a:ext cx="0" cy="6094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9000" y="2149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4640" y="23734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2640" y="5013360"/>
            <a:ext cx="3735360" cy="1297440"/>
            <a:chOff x="242640" y="5013360"/>
            <a:chExt cx="3735360" cy="1297440"/>
          </a:xfrm>
        </p:grpSpPr>
        <p:grpSp>
          <p:nvGrpSpPr>
            <p:cNvPr id="121" name=""/>
            <p:cNvGrpSpPr/>
            <p:nvPr/>
          </p:nvGrpSpPr>
          <p:grpSpPr>
            <a:xfrm>
              <a:off x="242640" y="5084640"/>
              <a:ext cx="3735360" cy="1226160"/>
              <a:chOff x="242640" y="5084640"/>
              <a:chExt cx="3735360" cy="122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242640" y="50846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8800" y="6021360"/>
                <a:ext cx="3311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58800" y="5157360"/>
                <a:ext cx="0" cy="863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84600" y="59119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28560" y="5973840"/>
              <a:ext cx="7164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046160" y="5013360"/>
                  <a:ext cx="220032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k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2116080" y="5564160"/>
              <a:ext cx="71640" cy="716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68600" y="5973840"/>
              <a:ext cx="7164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4120" y="5445000"/>
              <a:ext cx="2879640" cy="576360"/>
            </a:xfrm>
            <a:custGeom>
              <a:avLst/>
              <a:gdLst/>
              <a:ahLst/>
              <a:rect l="l" t="t" r="r" b="b"/>
              <a:pathLst>
                <a:path w="1814" h="363">
                  <a:moveTo>
                    <a:pt x="0" y="363"/>
                  </a:moveTo>
                  <a:cubicBezTo>
                    <a:pt x="302" y="181"/>
                    <a:pt x="605" y="0"/>
                    <a:pt x="907" y="0"/>
                  </a:cubicBezTo>
                  <a:cubicBezTo>
                    <a:pt x="1209" y="0"/>
                    <a:pt x="1511" y="181"/>
                    <a:pt x="1814" y="36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92280" y="5462640"/>
              <a:ext cx="2770200" cy="558720"/>
              <a:chOff x="692280" y="5462640"/>
              <a:chExt cx="2770200" cy="558720"/>
            </a:xfrm>
          </p:grpSpPr>
          <p:sp>
            <p:nvSpPr>
              <p:cNvPr id="132" name=""/>
              <p:cNvSpPr/>
              <p:nvPr/>
            </p:nvSpPr>
            <p:spPr>
              <a:xfrm>
                <a:off x="692280" y="5462640"/>
                <a:ext cx="2770200" cy="558720"/>
              </a:xfrm>
              <a:custGeom>
                <a:avLst/>
                <a:gdLst/>
                <a:ahLst/>
                <a:rect l="l" t="t" r="r" b="b"/>
                <a:pathLst>
                  <a:path w="1745" h="352">
                    <a:moveTo>
                      <a:pt x="21" y="352"/>
                    </a:moveTo>
                    <a:lnTo>
                      <a:pt x="1745" y="352"/>
                    </a:lnTo>
                    <a:lnTo>
                      <a:pt x="1700" y="307"/>
                    </a:lnTo>
                    <a:lnTo>
                      <a:pt x="1557" y="225"/>
                    </a:lnTo>
                    <a:lnTo>
                      <a:pt x="1437" y="162"/>
                    </a:lnTo>
                    <a:lnTo>
                      <a:pt x="1341" y="117"/>
                    </a:lnTo>
                    <a:lnTo>
                      <a:pt x="1248" y="75"/>
                    </a:lnTo>
                    <a:lnTo>
                      <a:pt x="1125" y="33"/>
                    </a:lnTo>
                    <a:lnTo>
                      <a:pt x="1020" y="9"/>
                    </a:lnTo>
                    <a:lnTo>
                      <a:pt x="945" y="3"/>
                    </a:lnTo>
                    <a:lnTo>
                      <a:pt x="840" y="0"/>
                    </a:lnTo>
                    <a:lnTo>
                      <a:pt x="702" y="15"/>
                    </a:lnTo>
                    <a:lnTo>
                      <a:pt x="612" y="45"/>
                    </a:lnTo>
                    <a:lnTo>
                      <a:pt x="537" y="63"/>
                    </a:lnTo>
                    <a:lnTo>
                      <a:pt x="444" y="102"/>
                    </a:lnTo>
                    <a:lnTo>
                      <a:pt x="270" y="192"/>
                    </a:lnTo>
                    <a:lnTo>
                      <a:pt x="150" y="258"/>
                    </a:lnTo>
                    <a:lnTo>
                      <a:pt x="27" y="327"/>
                    </a:lnTo>
                    <a:lnTo>
                      <a:pt x="0" y="345"/>
                    </a:lnTo>
                    <a:lnTo>
                      <a:pt x="21" y="35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1878120" y="5589720"/>
                    <a:ext cx="41724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34" name=""/>
          <p:cNvGrpSpPr/>
          <p:nvPr/>
        </p:nvGrpSpPr>
        <p:grpSpPr>
          <a:xfrm>
            <a:off x="4064040" y="1268280"/>
            <a:ext cx="1803240" cy="1977840"/>
            <a:chOff x="4064040" y="1268280"/>
            <a:chExt cx="1803240" cy="1977840"/>
          </a:xfrm>
        </p:grpSpPr>
        <p:sp>
          <p:nvSpPr>
            <p:cNvPr id="135" name=""/>
            <p:cNvSpPr/>
            <p:nvPr/>
          </p:nvSpPr>
          <p:spPr>
            <a:xfrm>
              <a:off x="5184720" y="1683720"/>
              <a:ext cx="6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064040" y="1268280"/>
              <a:ext cx="1679760" cy="1977840"/>
              <a:chOff x="4064040" y="1268280"/>
              <a:chExt cx="1679760" cy="19778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4064040" y="1268280"/>
                <a:ext cx="1679760" cy="1977840"/>
                <a:chOff x="4064040" y="1268280"/>
                <a:chExt cx="1679760" cy="1977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501800" y="1752480"/>
                  <a:ext cx="682200" cy="8964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811040" y="2210760"/>
                  <a:ext cx="68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811040" y="2203200"/>
                  <a:ext cx="0" cy="829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33480" y="2027880"/>
                  <a:ext cx="31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3680" y="2786400"/>
                  <a:ext cx="31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01800" y="1959480"/>
                  <a:ext cx="68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57680" y="1926000"/>
                  <a:ext cx="60120" cy="66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4501800" y="1474920"/>
                  <a:ext cx="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5184360" y="1474920"/>
                  <a:ext cx="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52680" y="1752480"/>
                  <a:ext cx="18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52680" y="2649240"/>
                  <a:ext cx="18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501800" y="1545480"/>
                  <a:ext cx="68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315680" y="1752480"/>
                  <a:ext cx="0" cy="89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245920" y="1752480"/>
                  <a:ext cx="18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45920" y="1959480"/>
                  <a:ext cx="18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07480" y="1752480"/>
                  <a:ext cx="0" cy="20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16200000">
                  <a:off x="3867480" y="2010960"/>
                  <a:ext cx="76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8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499280" y="1268280"/>
                  <a:ext cx="68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470120" y="191052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5791320" y="1052640"/>
            <a:ext cx="32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截面上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正应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139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截面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应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754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应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260440"/>
            <a:ext cx="31716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00G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的曲率半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6040" y="3357720"/>
            <a:ext cx="4151880" cy="1694160"/>
            <a:chOff x="266040" y="3357720"/>
            <a:chExt cx="4151880" cy="1694160"/>
          </a:xfrm>
        </p:grpSpPr>
        <p:grpSp>
          <p:nvGrpSpPr>
            <p:cNvPr id="162" name=""/>
            <p:cNvGrpSpPr/>
            <p:nvPr/>
          </p:nvGrpSpPr>
          <p:grpSpPr>
            <a:xfrm>
              <a:off x="266040" y="3357720"/>
              <a:ext cx="4151880" cy="1694160"/>
              <a:chOff x="266040" y="3357720"/>
              <a:chExt cx="4151880" cy="16941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73200" y="3714840"/>
                <a:ext cx="2871360" cy="1213920"/>
                <a:chOff x="673200" y="3714840"/>
                <a:chExt cx="2871360" cy="12139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73200" y="3714840"/>
                  <a:ext cx="1436760" cy="615960"/>
                </a:xfrm>
                <a:prstGeom prst="rtTriangle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0800000">
                  <a:off x="2185560" y="4344480"/>
                  <a:ext cx="1359000" cy="584280"/>
                </a:xfrm>
                <a:prstGeom prst="rtTriangle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6" name=""/>
                    <p:cNvSpPr txBox="1"/>
                    <p:nvPr/>
                  </p:nvSpPr>
                  <p:spPr>
                    <a:xfrm>
                      <a:off x="2905200" y="436572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67" name=""/>
                    <p:cNvSpPr txBox="1"/>
                    <p:nvPr/>
                  </p:nvSpPr>
                  <p:spPr>
                    <a:xfrm>
                      <a:off x="817560" y="393372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+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68" name=""/>
              <p:cNvGrpSpPr/>
              <p:nvPr/>
            </p:nvGrpSpPr>
            <p:grpSpPr>
              <a:xfrm>
                <a:off x="266040" y="3402000"/>
                <a:ext cx="3731040" cy="1226160"/>
                <a:chOff x="266040" y="3402000"/>
                <a:chExt cx="3731040" cy="1226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66040" y="3402000"/>
                  <a:ext cx="41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77880" y="4338720"/>
                  <a:ext cx="33112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77880" y="3474720"/>
                  <a:ext cx="0" cy="863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703680" y="42292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73200" y="3716280"/>
                <a:ext cx="287964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4480" y="335772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52840" y="465300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 flipV="1">
              <a:off x="3536640" y="4331880"/>
              <a:ext cx="15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72840" y="3716280"/>
              <a:ext cx="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21280" y="3716280"/>
                <a:ext cx="387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572000" y="321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支反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227640" y="3213000"/>
                <a:ext cx="1333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718400" y="3213000"/>
                <a:ext cx="1333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21240" y="4149720"/>
                <a:ext cx="45259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40080" y="4869000"/>
                <a:ext cx="472464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/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M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265880" y="59785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压应力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187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101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367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EEC-A735-4E21-A814-02C31A783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25440" y="1166760"/>
            <a:ext cx="3774240" cy="1864440"/>
            <a:chOff x="325440" y="1166760"/>
            <a:chExt cx="3774240" cy="1864440"/>
          </a:xfrm>
        </p:grpSpPr>
        <p:grpSp>
          <p:nvGrpSpPr>
            <p:cNvPr id="192" name=""/>
            <p:cNvGrpSpPr/>
            <p:nvPr/>
          </p:nvGrpSpPr>
          <p:grpSpPr>
            <a:xfrm>
              <a:off x="409680" y="1728720"/>
              <a:ext cx="3596760" cy="691920"/>
              <a:chOff x="409680" y="1728720"/>
              <a:chExt cx="35967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760320" y="211752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351240" y="2117520"/>
                <a:ext cx="457200" cy="303120"/>
                <a:chOff x="3351240" y="2117520"/>
                <a:chExt cx="457200" cy="3031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503520" y="211752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541680" y="226980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51240" y="2346120"/>
                  <a:ext cx="457200" cy="745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3639960" y="17474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9680" y="1728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80960" y="2095200"/>
                <a:ext cx="533160" cy="301680"/>
                <a:chOff x="480960" y="2095200"/>
                <a:chExt cx="533160" cy="3016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49080" y="209520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80960" y="2320560"/>
                  <a:ext cx="533160" cy="76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1925280" y="2529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 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8240" y="213372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7400" y="213372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8240" y="2852640"/>
              <a:ext cx="2808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stealth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25440" y="2349000"/>
              <a:ext cx="455400" cy="650520"/>
              <a:chOff x="325440" y="2349000"/>
              <a:chExt cx="455400" cy="65052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780840" y="2349000"/>
                <a:ext cx="0" cy="53316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5440" y="262872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8084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38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24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588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4592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4932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7792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096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9516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2376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2716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5720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6060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9200" y="1600200"/>
              <a:ext cx="0" cy="5047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8240" y="1600200"/>
              <a:ext cx="2808000" cy="0"/>
            </a:xfrm>
            <a:prstGeom prst="line">
              <a:avLst/>
            </a:prstGeom>
            <a:ln w="2556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3640" y="1197000"/>
              <a:ext cx="151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kN/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578040" y="2368440"/>
              <a:ext cx="453600" cy="662760"/>
              <a:chOff x="3578040" y="2368440"/>
              <a:chExt cx="453600" cy="662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589200" y="2368440"/>
                <a:ext cx="0" cy="53352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78040" y="266040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91760" y="1166760"/>
              <a:ext cx="3607920" cy="1243440"/>
              <a:chOff x="491760" y="1166760"/>
              <a:chExt cx="3607920" cy="1243440"/>
            </a:xfrm>
          </p:grpSpPr>
          <p:sp>
            <p:nvSpPr>
              <p:cNvPr id="230" name=""/>
              <p:cNvSpPr/>
              <p:nvPr/>
            </p:nvSpPr>
            <p:spPr>
              <a:xfrm>
                <a:off x="491760" y="116676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0480" y="2120760"/>
                <a:ext cx="3311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780480" y="1256760"/>
                <a:ext cx="0" cy="86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06280" y="20113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772920" y="2390760"/>
              <a:ext cx="100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80920" y="1959120"/>
              <a:ext cx="0" cy="6094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1080" y="2149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6720" y="23734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5080" y="5013360"/>
            <a:ext cx="3735000" cy="1297440"/>
            <a:chOff x="325080" y="5013360"/>
            <a:chExt cx="3735000" cy="1297440"/>
          </a:xfrm>
        </p:grpSpPr>
        <p:grpSp>
          <p:nvGrpSpPr>
            <p:cNvPr id="239" name=""/>
            <p:cNvGrpSpPr/>
            <p:nvPr/>
          </p:nvGrpSpPr>
          <p:grpSpPr>
            <a:xfrm>
              <a:off x="325080" y="5084640"/>
              <a:ext cx="3735000" cy="1226160"/>
              <a:chOff x="325080" y="5084640"/>
              <a:chExt cx="3735000" cy="1226160"/>
            </a:xfrm>
          </p:grpSpPr>
          <p:sp>
            <p:nvSpPr>
              <p:cNvPr id="240" name=""/>
              <p:cNvSpPr/>
              <p:nvPr/>
            </p:nvSpPr>
            <p:spPr>
              <a:xfrm>
                <a:off x="325080" y="50846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1240" y="6021360"/>
                <a:ext cx="331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741240" y="5157360"/>
                <a:ext cx="0" cy="863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66680" y="59119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11000" y="5973840"/>
              <a:ext cx="7128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127160" y="5013360"/>
                  <a:ext cx="220140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k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2198520" y="5564160"/>
              <a:ext cx="71280" cy="716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51040" y="5973840"/>
              <a:ext cx="7128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6560" y="5445000"/>
              <a:ext cx="2879280" cy="576360"/>
            </a:xfrm>
            <a:custGeom>
              <a:avLst/>
              <a:gdLst/>
              <a:ahLst/>
              <a:rect l="l" t="t" r="r" b="b"/>
              <a:pathLst>
                <a:path w="1814" h="363">
                  <a:moveTo>
                    <a:pt x="0" y="363"/>
                  </a:moveTo>
                  <a:cubicBezTo>
                    <a:pt x="302" y="181"/>
                    <a:pt x="605" y="0"/>
                    <a:pt x="907" y="0"/>
                  </a:cubicBezTo>
                  <a:cubicBezTo>
                    <a:pt x="1209" y="0"/>
                    <a:pt x="1511" y="181"/>
                    <a:pt x="1814" y="36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74720" y="5462640"/>
              <a:ext cx="2769840" cy="558720"/>
              <a:chOff x="774720" y="5462640"/>
              <a:chExt cx="2769840" cy="558720"/>
            </a:xfrm>
          </p:grpSpPr>
          <p:sp>
            <p:nvSpPr>
              <p:cNvPr id="250" name=""/>
              <p:cNvSpPr/>
              <p:nvPr/>
            </p:nvSpPr>
            <p:spPr>
              <a:xfrm>
                <a:off x="774720" y="5462640"/>
                <a:ext cx="2769840" cy="558720"/>
              </a:xfrm>
              <a:custGeom>
                <a:avLst/>
                <a:gdLst/>
                <a:ahLst/>
                <a:rect l="l" t="t" r="r" b="b"/>
                <a:pathLst>
                  <a:path w="1745" h="352">
                    <a:moveTo>
                      <a:pt x="21" y="352"/>
                    </a:moveTo>
                    <a:lnTo>
                      <a:pt x="1745" y="352"/>
                    </a:lnTo>
                    <a:lnTo>
                      <a:pt x="1700" y="307"/>
                    </a:lnTo>
                    <a:lnTo>
                      <a:pt x="1557" y="225"/>
                    </a:lnTo>
                    <a:lnTo>
                      <a:pt x="1437" y="162"/>
                    </a:lnTo>
                    <a:lnTo>
                      <a:pt x="1341" y="117"/>
                    </a:lnTo>
                    <a:lnTo>
                      <a:pt x="1248" y="75"/>
                    </a:lnTo>
                    <a:lnTo>
                      <a:pt x="1125" y="33"/>
                    </a:lnTo>
                    <a:lnTo>
                      <a:pt x="1020" y="9"/>
                    </a:lnTo>
                    <a:lnTo>
                      <a:pt x="945" y="3"/>
                    </a:lnTo>
                    <a:lnTo>
                      <a:pt x="840" y="0"/>
                    </a:lnTo>
                    <a:lnTo>
                      <a:pt x="702" y="15"/>
                    </a:lnTo>
                    <a:lnTo>
                      <a:pt x="612" y="45"/>
                    </a:lnTo>
                    <a:lnTo>
                      <a:pt x="537" y="63"/>
                    </a:lnTo>
                    <a:lnTo>
                      <a:pt x="444" y="102"/>
                    </a:lnTo>
                    <a:lnTo>
                      <a:pt x="270" y="192"/>
                    </a:lnTo>
                    <a:lnTo>
                      <a:pt x="150" y="258"/>
                    </a:lnTo>
                    <a:lnTo>
                      <a:pt x="27" y="327"/>
                    </a:lnTo>
                    <a:lnTo>
                      <a:pt x="0" y="345"/>
                    </a:lnTo>
                    <a:lnTo>
                      <a:pt x="21" y="35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1960200" y="5589720"/>
                    <a:ext cx="4168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2" name=""/>
          <p:cNvGrpSpPr/>
          <p:nvPr/>
        </p:nvGrpSpPr>
        <p:grpSpPr>
          <a:xfrm>
            <a:off x="4067280" y="1268280"/>
            <a:ext cx="1799640" cy="1899360"/>
            <a:chOff x="4067280" y="1268280"/>
            <a:chExt cx="1799640" cy="1899360"/>
          </a:xfrm>
        </p:grpSpPr>
        <p:sp>
          <p:nvSpPr>
            <p:cNvPr id="253" name=""/>
            <p:cNvSpPr/>
            <p:nvPr/>
          </p:nvSpPr>
          <p:spPr>
            <a:xfrm>
              <a:off x="5184720" y="16606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067280" y="1268280"/>
              <a:ext cx="1675080" cy="1899360"/>
              <a:chOff x="4067280" y="1268280"/>
              <a:chExt cx="1675080" cy="18993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067280" y="1268280"/>
                <a:ext cx="1675080" cy="1899360"/>
                <a:chOff x="4067280" y="1268280"/>
                <a:chExt cx="1675080" cy="189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502160" y="1727280"/>
                  <a:ext cx="682200" cy="84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11040" y="2161440"/>
                  <a:ext cx="68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811040" y="2154240"/>
                  <a:ext cx="0" cy="785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32040" y="1986480"/>
                  <a:ext cx="31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875480" y="2707920"/>
                  <a:ext cx="30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02160" y="1923120"/>
                  <a:ext cx="68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658040" y="1891440"/>
                  <a:ext cx="60120" cy="63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502160" y="1464120"/>
                  <a:ext cx="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184720" y="1464120"/>
                  <a:ext cx="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53040" y="1727280"/>
                  <a:ext cx="185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253040" y="2576880"/>
                  <a:ext cx="185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502160" y="1530720"/>
                  <a:ext cx="68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316040" y="1727280"/>
                  <a:ext cx="0" cy="84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245920" y="1727280"/>
                  <a:ext cx="185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245920" y="1923120"/>
                  <a:ext cx="185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07840" y="1727280"/>
                  <a:ext cx="0" cy="1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16200000">
                  <a:off x="3891600" y="1965960"/>
                  <a:ext cx="71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8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00720" y="1268280"/>
                  <a:ext cx="682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4472280" y="1877040"/>
                <a:ext cx="43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48840" y="3357720"/>
            <a:ext cx="4151880" cy="1694160"/>
            <a:chOff x="348840" y="3357720"/>
            <a:chExt cx="4151880" cy="1694160"/>
          </a:xfrm>
        </p:grpSpPr>
        <p:grpSp>
          <p:nvGrpSpPr>
            <p:cNvPr id="276" name=""/>
            <p:cNvGrpSpPr/>
            <p:nvPr/>
          </p:nvGrpSpPr>
          <p:grpSpPr>
            <a:xfrm>
              <a:off x="348840" y="3357720"/>
              <a:ext cx="4151880" cy="1694160"/>
              <a:chOff x="348840" y="3357720"/>
              <a:chExt cx="4151880" cy="16941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756000" y="3714840"/>
                <a:ext cx="2871360" cy="1213920"/>
                <a:chOff x="756000" y="3714840"/>
                <a:chExt cx="2871360" cy="12139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56000" y="3714840"/>
                  <a:ext cx="1436760" cy="615960"/>
                </a:xfrm>
                <a:prstGeom prst="rtTriangle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0800000">
                  <a:off x="2268360" y="4344480"/>
                  <a:ext cx="1359000" cy="584280"/>
                </a:xfrm>
                <a:prstGeom prst="rtTriangle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80" name=""/>
                    <p:cNvSpPr txBox="1"/>
                    <p:nvPr/>
                  </p:nvSpPr>
                  <p:spPr>
                    <a:xfrm>
                      <a:off x="2988000" y="436572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81" name=""/>
                    <p:cNvSpPr txBox="1"/>
                    <p:nvPr/>
                  </p:nvSpPr>
                  <p:spPr>
                    <a:xfrm>
                      <a:off x="900360" y="393372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+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282" name=""/>
              <p:cNvGrpSpPr/>
              <p:nvPr/>
            </p:nvGrpSpPr>
            <p:grpSpPr>
              <a:xfrm>
                <a:off x="348840" y="3402000"/>
                <a:ext cx="3731040" cy="1226160"/>
                <a:chOff x="348840" y="3402000"/>
                <a:chExt cx="3731040" cy="1226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48840" y="3402000"/>
                  <a:ext cx="41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60680" y="4338720"/>
                  <a:ext cx="33112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60680" y="3474720"/>
                  <a:ext cx="0" cy="863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786480" y="42292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756000" y="3716280"/>
                <a:ext cx="287964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27280" y="335772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35640" y="465300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 flipV="1">
              <a:off x="3619440" y="4331880"/>
              <a:ext cx="15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55640" y="3716280"/>
              <a:ext cx="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580000" y="1052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最大正应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2160" y="15606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弯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297480" y="2060640"/>
                <a:ext cx="172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937120" y="25401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惯性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999040" y="3130560"/>
                <a:ext cx="2367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797360" y="3924360"/>
                <a:ext cx="3349800" cy="23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/>
                          <m:sub/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/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67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AC3-469F-4F5C-AB89-2CADCB25B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38400" y="1251000"/>
            <a:ext cx="3774240" cy="1864080"/>
            <a:chOff x="338400" y="1251000"/>
            <a:chExt cx="3774240" cy="1864080"/>
          </a:xfrm>
        </p:grpSpPr>
        <p:grpSp>
          <p:nvGrpSpPr>
            <p:cNvPr id="304" name=""/>
            <p:cNvGrpSpPr/>
            <p:nvPr/>
          </p:nvGrpSpPr>
          <p:grpSpPr>
            <a:xfrm>
              <a:off x="422640" y="1812600"/>
              <a:ext cx="3596760" cy="691920"/>
              <a:chOff x="422640" y="1812600"/>
              <a:chExt cx="3596760" cy="691920"/>
            </a:xfrm>
          </p:grpSpPr>
          <p:sp>
            <p:nvSpPr>
              <p:cNvPr id="305" name=""/>
              <p:cNvSpPr/>
              <p:nvPr/>
            </p:nvSpPr>
            <p:spPr>
              <a:xfrm>
                <a:off x="773280" y="220140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3364200" y="2201400"/>
                <a:ext cx="457200" cy="303120"/>
                <a:chOff x="3364200" y="2201400"/>
                <a:chExt cx="457200" cy="303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516480" y="220140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554640" y="235368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64200" y="2430000"/>
                  <a:ext cx="457200" cy="745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3652920" y="18313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2640" y="1812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493920" y="2179080"/>
                <a:ext cx="533160" cy="301680"/>
                <a:chOff x="493920" y="2179080"/>
                <a:chExt cx="533160" cy="301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62040" y="217908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93920" y="2404440"/>
                  <a:ext cx="533160" cy="76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1938240" y="2612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 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200" y="2217600"/>
              <a:ext cx="0" cy="837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0360" y="2217600"/>
              <a:ext cx="0" cy="837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200" y="2936520"/>
              <a:ext cx="2808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stealth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38400" y="2433240"/>
              <a:ext cx="455400" cy="649800"/>
              <a:chOff x="338400" y="2433240"/>
              <a:chExt cx="455400" cy="64980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793800" y="2433240"/>
                <a:ext cx="0" cy="53280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8400" y="271224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9380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9684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2544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2884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5888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228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9088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9392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812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3672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4012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7016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7356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02160" y="168408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1200" y="1684080"/>
              <a:ext cx="2808000" cy="0"/>
            </a:xfrm>
            <a:prstGeom prst="line">
              <a:avLst/>
            </a:prstGeom>
            <a:ln w="2556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06600" y="1280880"/>
              <a:ext cx="151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60kN/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3591000" y="2452320"/>
              <a:ext cx="453600" cy="662760"/>
              <a:chOff x="3591000" y="2452320"/>
              <a:chExt cx="453600" cy="662760"/>
            </a:xfrm>
          </p:grpSpPr>
          <p:sp>
            <p:nvSpPr>
              <p:cNvPr id="339" name=""/>
              <p:cNvSpPr/>
              <p:nvPr/>
            </p:nvSpPr>
            <p:spPr>
              <a:xfrm>
                <a:off x="3602160" y="2452320"/>
                <a:ext cx="0" cy="53352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91000" y="274428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04720" y="1251000"/>
              <a:ext cx="3607920" cy="1243440"/>
              <a:chOff x="504720" y="1251000"/>
              <a:chExt cx="3607920" cy="1243440"/>
            </a:xfrm>
          </p:grpSpPr>
          <p:sp>
            <p:nvSpPr>
              <p:cNvPr id="342" name=""/>
              <p:cNvSpPr/>
              <p:nvPr/>
            </p:nvSpPr>
            <p:spPr>
              <a:xfrm>
                <a:off x="504720" y="125100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93440" y="2205000"/>
                <a:ext cx="3311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93440" y="1341000"/>
                <a:ext cx="0" cy="86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19240" y="209556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85880" y="2474640"/>
              <a:ext cx="100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93880" y="2043000"/>
              <a:ext cx="0" cy="6091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24040" y="223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49680" y="24573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25080" y="5089680"/>
            <a:ext cx="3735000" cy="1297440"/>
            <a:chOff x="325080" y="5089680"/>
            <a:chExt cx="3735000" cy="1297440"/>
          </a:xfrm>
        </p:grpSpPr>
        <p:grpSp>
          <p:nvGrpSpPr>
            <p:cNvPr id="351" name=""/>
            <p:cNvGrpSpPr/>
            <p:nvPr/>
          </p:nvGrpSpPr>
          <p:grpSpPr>
            <a:xfrm>
              <a:off x="325080" y="5160960"/>
              <a:ext cx="3735000" cy="1226160"/>
              <a:chOff x="325080" y="5160960"/>
              <a:chExt cx="3735000" cy="1226160"/>
            </a:xfrm>
          </p:grpSpPr>
          <p:sp>
            <p:nvSpPr>
              <p:cNvPr id="352" name=""/>
              <p:cNvSpPr/>
              <p:nvPr/>
            </p:nvSpPr>
            <p:spPr>
              <a:xfrm>
                <a:off x="325080" y="51609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1240" y="6097680"/>
                <a:ext cx="331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741240" y="5233680"/>
                <a:ext cx="0" cy="863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66680" y="59882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711000" y="6050160"/>
              <a:ext cx="7128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1127160" y="5089680"/>
                  <a:ext cx="220140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k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2198520" y="5640480"/>
              <a:ext cx="71280" cy="716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51040" y="6050160"/>
              <a:ext cx="7128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6560" y="5521320"/>
              <a:ext cx="2879280" cy="576360"/>
            </a:xfrm>
            <a:custGeom>
              <a:avLst/>
              <a:gdLst/>
              <a:ahLst/>
              <a:rect l="l" t="t" r="r" b="b"/>
              <a:pathLst>
                <a:path w="1814" h="363">
                  <a:moveTo>
                    <a:pt x="0" y="363"/>
                  </a:moveTo>
                  <a:cubicBezTo>
                    <a:pt x="302" y="181"/>
                    <a:pt x="605" y="0"/>
                    <a:pt x="907" y="0"/>
                  </a:cubicBezTo>
                  <a:cubicBezTo>
                    <a:pt x="1209" y="0"/>
                    <a:pt x="1511" y="181"/>
                    <a:pt x="1814" y="36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774720" y="5538960"/>
              <a:ext cx="2769840" cy="558720"/>
              <a:chOff x="774720" y="5538960"/>
              <a:chExt cx="2769840" cy="558720"/>
            </a:xfrm>
          </p:grpSpPr>
          <p:sp>
            <p:nvSpPr>
              <p:cNvPr id="362" name=""/>
              <p:cNvSpPr/>
              <p:nvPr/>
            </p:nvSpPr>
            <p:spPr>
              <a:xfrm>
                <a:off x="774720" y="5538960"/>
                <a:ext cx="2769840" cy="558720"/>
              </a:xfrm>
              <a:custGeom>
                <a:avLst/>
                <a:gdLst/>
                <a:ahLst/>
                <a:rect l="l" t="t" r="r" b="b"/>
                <a:pathLst>
                  <a:path w="1745" h="352">
                    <a:moveTo>
                      <a:pt x="21" y="352"/>
                    </a:moveTo>
                    <a:lnTo>
                      <a:pt x="1745" y="352"/>
                    </a:lnTo>
                    <a:lnTo>
                      <a:pt x="1700" y="307"/>
                    </a:lnTo>
                    <a:lnTo>
                      <a:pt x="1557" y="225"/>
                    </a:lnTo>
                    <a:lnTo>
                      <a:pt x="1437" y="162"/>
                    </a:lnTo>
                    <a:lnTo>
                      <a:pt x="1341" y="117"/>
                    </a:lnTo>
                    <a:lnTo>
                      <a:pt x="1248" y="75"/>
                    </a:lnTo>
                    <a:lnTo>
                      <a:pt x="1125" y="33"/>
                    </a:lnTo>
                    <a:lnTo>
                      <a:pt x="1020" y="9"/>
                    </a:lnTo>
                    <a:lnTo>
                      <a:pt x="945" y="3"/>
                    </a:lnTo>
                    <a:lnTo>
                      <a:pt x="840" y="0"/>
                    </a:lnTo>
                    <a:lnTo>
                      <a:pt x="702" y="15"/>
                    </a:lnTo>
                    <a:lnTo>
                      <a:pt x="612" y="45"/>
                    </a:lnTo>
                    <a:lnTo>
                      <a:pt x="537" y="63"/>
                    </a:lnTo>
                    <a:lnTo>
                      <a:pt x="444" y="102"/>
                    </a:lnTo>
                    <a:lnTo>
                      <a:pt x="270" y="192"/>
                    </a:lnTo>
                    <a:lnTo>
                      <a:pt x="150" y="258"/>
                    </a:lnTo>
                    <a:lnTo>
                      <a:pt x="27" y="327"/>
                    </a:lnTo>
                    <a:lnTo>
                      <a:pt x="0" y="345"/>
                    </a:lnTo>
                    <a:lnTo>
                      <a:pt x="21" y="35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1960200" y="5666040"/>
                    <a:ext cx="4168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64" name=""/>
          <p:cNvGrpSpPr/>
          <p:nvPr/>
        </p:nvGrpSpPr>
        <p:grpSpPr>
          <a:xfrm>
            <a:off x="4067280" y="1344600"/>
            <a:ext cx="1723680" cy="1899360"/>
            <a:chOff x="4067280" y="1344600"/>
            <a:chExt cx="1723680" cy="1899360"/>
          </a:xfrm>
        </p:grpSpPr>
        <p:sp>
          <p:nvSpPr>
            <p:cNvPr id="365" name=""/>
            <p:cNvSpPr/>
            <p:nvPr/>
          </p:nvSpPr>
          <p:spPr>
            <a:xfrm>
              <a:off x="5137560" y="1737000"/>
              <a:ext cx="65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067280" y="1344600"/>
              <a:ext cx="1604520" cy="1899360"/>
              <a:chOff x="4067280" y="1344600"/>
              <a:chExt cx="1604520" cy="18993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4067280" y="1344600"/>
                <a:ext cx="1604520" cy="1899360"/>
                <a:chOff x="4067280" y="1344600"/>
                <a:chExt cx="1604520" cy="18993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483800" y="1803600"/>
                  <a:ext cx="653400" cy="84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779720" y="2237760"/>
                  <a:ext cx="65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779720" y="2230560"/>
                  <a:ext cx="0" cy="785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376240" y="2062800"/>
                  <a:ext cx="295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840200" y="2784240"/>
                  <a:ext cx="29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83800" y="1999440"/>
                  <a:ext cx="653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3200" y="1967760"/>
                  <a:ext cx="57600" cy="63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4483800" y="1540440"/>
                  <a:ext cx="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5137560" y="1540440"/>
                  <a:ext cx="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245480" y="180360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245480" y="265320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483800" y="1607040"/>
                  <a:ext cx="653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305600" y="1803600"/>
                  <a:ext cx="0" cy="84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96240" y="180360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196240" y="199944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255640" y="1803600"/>
                  <a:ext cx="0" cy="1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6200000">
                  <a:off x="3891600" y="2042280"/>
                  <a:ext cx="71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8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482360" y="1344600"/>
                  <a:ext cx="65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455000" y="1953360"/>
                <a:ext cx="4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348840" y="3433680"/>
            <a:ext cx="4151880" cy="1694160"/>
            <a:chOff x="348840" y="3433680"/>
            <a:chExt cx="4151880" cy="1694160"/>
          </a:xfrm>
        </p:grpSpPr>
        <p:grpSp>
          <p:nvGrpSpPr>
            <p:cNvPr id="388" name=""/>
            <p:cNvGrpSpPr/>
            <p:nvPr/>
          </p:nvGrpSpPr>
          <p:grpSpPr>
            <a:xfrm>
              <a:off x="348840" y="3433680"/>
              <a:ext cx="4151880" cy="1694160"/>
              <a:chOff x="348840" y="3433680"/>
              <a:chExt cx="4151880" cy="169416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756000" y="3790800"/>
                <a:ext cx="2871360" cy="1213920"/>
                <a:chOff x="756000" y="3790800"/>
                <a:chExt cx="2871360" cy="1213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56000" y="3790800"/>
                  <a:ext cx="1436760" cy="615960"/>
                </a:xfrm>
                <a:prstGeom prst="rtTriangle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0800000">
                  <a:off x="2268360" y="4420440"/>
                  <a:ext cx="1359000" cy="584280"/>
                </a:xfrm>
                <a:prstGeom prst="rtTriangle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92" name=""/>
                    <p:cNvSpPr txBox="1"/>
                    <p:nvPr/>
                  </p:nvSpPr>
                  <p:spPr>
                    <a:xfrm>
                      <a:off x="2988000" y="444168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93" name=""/>
                    <p:cNvSpPr txBox="1"/>
                    <p:nvPr/>
                  </p:nvSpPr>
                  <p:spPr>
                    <a:xfrm>
                      <a:off x="900360" y="400968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+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94" name=""/>
              <p:cNvGrpSpPr/>
              <p:nvPr/>
            </p:nvGrpSpPr>
            <p:grpSpPr>
              <a:xfrm>
                <a:off x="348840" y="3477960"/>
                <a:ext cx="3731040" cy="1226160"/>
                <a:chOff x="348840" y="3477960"/>
                <a:chExt cx="3731040" cy="12261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48840" y="3477960"/>
                  <a:ext cx="41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0680" y="4414680"/>
                  <a:ext cx="33112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760680" y="3550680"/>
                  <a:ext cx="0" cy="863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786480" y="430524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756000" y="3792240"/>
                <a:ext cx="287964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27280" y="343368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35640" y="472896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H="1" flipV="1">
              <a:off x="3619440" y="4407840"/>
              <a:ext cx="15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3792240"/>
              <a:ext cx="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715000" y="119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梁最大正应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6542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大弯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012000" y="2133720"/>
                <a:ext cx="23986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5943600" y="26449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惯性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012000" y="3233880"/>
                <a:ext cx="2251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32360" y="3827520"/>
                <a:ext cx="3730680" cy="24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/>
                          <m:sub/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/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M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51640" y="367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C29-3FF8-499E-AE23-26F3B3050C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25440" y="1266840"/>
            <a:ext cx="3774240" cy="1864080"/>
            <a:chOff x="325440" y="1266840"/>
            <a:chExt cx="3774240" cy="1864080"/>
          </a:xfrm>
        </p:grpSpPr>
        <p:grpSp>
          <p:nvGrpSpPr>
            <p:cNvPr id="416" name=""/>
            <p:cNvGrpSpPr/>
            <p:nvPr/>
          </p:nvGrpSpPr>
          <p:grpSpPr>
            <a:xfrm>
              <a:off x="409680" y="1828440"/>
              <a:ext cx="3596760" cy="691920"/>
              <a:chOff x="409680" y="1828440"/>
              <a:chExt cx="3596760" cy="691920"/>
            </a:xfrm>
          </p:grpSpPr>
          <p:sp>
            <p:nvSpPr>
              <p:cNvPr id="417" name=""/>
              <p:cNvSpPr/>
              <p:nvPr/>
            </p:nvSpPr>
            <p:spPr>
              <a:xfrm>
                <a:off x="760320" y="221724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3351240" y="2217240"/>
                <a:ext cx="457200" cy="303120"/>
                <a:chOff x="3351240" y="2217240"/>
                <a:chExt cx="457200" cy="303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503520" y="221724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541680" y="236952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51240" y="2445840"/>
                  <a:ext cx="457200" cy="745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3639960" y="18471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09680" y="18284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80960" y="2194920"/>
                <a:ext cx="533160" cy="301680"/>
                <a:chOff x="480960" y="2194920"/>
                <a:chExt cx="533160" cy="301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080" y="219492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80960" y="2420280"/>
                  <a:ext cx="533160" cy="76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1925280" y="262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 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8240" y="2233440"/>
              <a:ext cx="0" cy="837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7400" y="2233440"/>
              <a:ext cx="0" cy="837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8240" y="2952360"/>
              <a:ext cx="2808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stealth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25440" y="2449080"/>
              <a:ext cx="455400" cy="649800"/>
              <a:chOff x="325440" y="2449080"/>
              <a:chExt cx="455400" cy="64980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780840" y="2449080"/>
                <a:ext cx="0" cy="53280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5440" y="272808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8084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8388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1248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1588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592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4932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7792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096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9516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376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2716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5720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6060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9200" y="1699920"/>
              <a:ext cx="0" cy="50436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8240" y="1699920"/>
              <a:ext cx="2808000" cy="0"/>
            </a:xfrm>
            <a:prstGeom prst="line">
              <a:avLst/>
            </a:prstGeom>
            <a:ln w="2556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93640" y="1296720"/>
              <a:ext cx="151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60kN/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578040" y="2468160"/>
              <a:ext cx="453600" cy="662760"/>
              <a:chOff x="3578040" y="2468160"/>
              <a:chExt cx="453600" cy="662760"/>
            </a:xfrm>
          </p:grpSpPr>
          <p:sp>
            <p:nvSpPr>
              <p:cNvPr id="451" name=""/>
              <p:cNvSpPr/>
              <p:nvPr/>
            </p:nvSpPr>
            <p:spPr>
              <a:xfrm>
                <a:off x="3589200" y="2468160"/>
                <a:ext cx="0" cy="533520"/>
              </a:xfrm>
              <a:prstGeom prst="line">
                <a:avLst/>
              </a:prstGeom>
              <a:ln cap="sq" w="38160">
                <a:solidFill>
                  <a:srgbClr val="ff99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78040" y="2760120"/>
                <a:ext cx="453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ff0101"/>
                    </a:solidFill>
                    <a:latin typeface="Times New Roman"/>
                  </a:rPr>
                  <a:t>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91760" y="1266840"/>
              <a:ext cx="3607920" cy="1243440"/>
              <a:chOff x="491760" y="1266840"/>
              <a:chExt cx="3607920" cy="1243440"/>
            </a:xfrm>
          </p:grpSpPr>
          <p:sp>
            <p:nvSpPr>
              <p:cNvPr id="454" name=""/>
              <p:cNvSpPr/>
              <p:nvPr/>
            </p:nvSpPr>
            <p:spPr>
              <a:xfrm>
                <a:off x="491760" y="1266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0480" y="2220840"/>
                <a:ext cx="3311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780480" y="1356840"/>
                <a:ext cx="0" cy="86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06280" y="21114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772920" y="2490480"/>
              <a:ext cx="100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0920" y="2058840"/>
              <a:ext cx="0" cy="6091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11080" y="2249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36720" y="24732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25080" y="5113440"/>
            <a:ext cx="3735000" cy="1297440"/>
            <a:chOff x="325080" y="5113440"/>
            <a:chExt cx="3735000" cy="1297440"/>
          </a:xfrm>
        </p:grpSpPr>
        <p:grpSp>
          <p:nvGrpSpPr>
            <p:cNvPr id="463" name=""/>
            <p:cNvGrpSpPr/>
            <p:nvPr/>
          </p:nvGrpSpPr>
          <p:grpSpPr>
            <a:xfrm>
              <a:off x="325080" y="5184720"/>
              <a:ext cx="3735000" cy="1226160"/>
              <a:chOff x="325080" y="5184720"/>
              <a:chExt cx="3735000" cy="1226160"/>
            </a:xfrm>
          </p:grpSpPr>
          <p:sp>
            <p:nvSpPr>
              <p:cNvPr id="464" name=""/>
              <p:cNvSpPr/>
              <p:nvPr/>
            </p:nvSpPr>
            <p:spPr>
              <a:xfrm>
                <a:off x="325080" y="518472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1240" y="6121440"/>
                <a:ext cx="3310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41240" y="5257440"/>
                <a:ext cx="0" cy="863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66680" y="60120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11000" y="6073920"/>
              <a:ext cx="7128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1127160" y="5113440"/>
                  <a:ext cx="220140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k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>
              <a:off x="2198520" y="5664240"/>
              <a:ext cx="71280" cy="716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51040" y="6073920"/>
              <a:ext cx="71280" cy="71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6560" y="5545080"/>
              <a:ext cx="2879280" cy="576360"/>
            </a:xfrm>
            <a:custGeom>
              <a:avLst/>
              <a:gdLst/>
              <a:ahLst/>
              <a:rect l="l" t="t" r="r" b="b"/>
              <a:pathLst>
                <a:path w="1814" h="363">
                  <a:moveTo>
                    <a:pt x="0" y="363"/>
                  </a:moveTo>
                  <a:cubicBezTo>
                    <a:pt x="302" y="181"/>
                    <a:pt x="605" y="0"/>
                    <a:pt x="907" y="0"/>
                  </a:cubicBezTo>
                  <a:cubicBezTo>
                    <a:pt x="1209" y="0"/>
                    <a:pt x="1511" y="181"/>
                    <a:pt x="1814" y="36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74720" y="5562720"/>
              <a:ext cx="2769840" cy="558720"/>
              <a:chOff x="774720" y="5562720"/>
              <a:chExt cx="2769840" cy="558720"/>
            </a:xfrm>
          </p:grpSpPr>
          <p:sp>
            <p:nvSpPr>
              <p:cNvPr id="474" name=""/>
              <p:cNvSpPr/>
              <p:nvPr/>
            </p:nvSpPr>
            <p:spPr>
              <a:xfrm>
                <a:off x="774720" y="5562720"/>
                <a:ext cx="2769840" cy="558720"/>
              </a:xfrm>
              <a:custGeom>
                <a:avLst/>
                <a:gdLst/>
                <a:ahLst/>
                <a:rect l="l" t="t" r="r" b="b"/>
                <a:pathLst>
                  <a:path w="1745" h="352">
                    <a:moveTo>
                      <a:pt x="21" y="352"/>
                    </a:moveTo>
                    <a:lnTo>
                      <a:pt x="1745" y="352"/>
                    </a:lnTo>
                    <a:lnTo>
                      <a:pt x="1700" y="307"/>
                    </a:lnTo>
                    <a:lnTo>
                      <a:pt x="1557" y="225"/>
                    </a:lnTo>
                    <a:lnTo>
                      <a:pt x="1437" y="162"/>
                    </a:lnTo>
                    <a:lnTo>
                      <a:pt x="1341" y="117"/>
                    </a:lnTo>
                    <a:lnTo>
                      <a:pt x="1248" y="75"/>
                    </a:lnTo>
                    <a:lnTo>
                      <a:pt x="1125" y="33"/>
                    </a:lnTo>
                    <a:lnTo>
                      <a:pt x="1020" y="9"/>
                    </a:lnTo>
                    <a:lnTo>
                      <a:pt x="945" y="3"/>
                    </a:lnTo>
                    <a:lnTo>
                      <a:pt x="840" y="0"/>
                    </a:lnTo>
                    <a:lnTo>
                      <a:pt x="702" y="15"/>
                    </a:lnTo>
                    <a:lnTo>
                      <a:pt x="612" y="45"/>
                    </a:lnTo>
                    <a:lnTo>
                      <a:pt x="537" y="63"/>
                    </a:lnTo>
                    <a:lnTo>
                      <a:pt x="444" y="102"/>
                    </a:lnTo>
                    <a:lnTo>
                      <a:pt x="270" y="192"/>
                    </a:lnTo>
                    <a:lnTo>
                      <a:pt x="150" y="258"/>
                    </a:lnTo>
                    <a:lnTo>
                      <a:pt x="27" y="327"/>
                    </a:lnTo>
                    <a:lnTo>
                      <a:pt x="0" y="345"/>
                    </a:lnTo>
                    <a:lnTo>
                      <a:pt x="21" y="35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5" name=""/>
                  <p:cNvSpPr txBox="1"/>
                  <p:nvPr/>
                </p:nvSpPr>
                <p:spPr>
                  <a:xfrm>
                    <a:off x="1960200" y="5689800"/>
                    <a:ext cx="4168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76" name=""/>
          <p:cNvGrpSpPr/>
          <p:nvPr/>
        </p:nvGrpSpPr>
        <p:grpSpPr>
          <a:xfrm>
            <a:off x="4064040" y="1368360"/>
            <a:ext cx="1726920" cy="1945800"/>
            <a:chOff x="4064040" y="1368360"/>
            <a:chExt cx="1726920" cy="1945800"/>
          </a:xfrm>
        </p:grpSpPr>
        <p:sp>
          <p:nvSpPr>
            <p:cNvPr id="477" name=""/>
            <p:cNvSpPr/>
            <p:nvPr/>
          </p:nvSpPr>
          <p:spPr>
            <a:xfrm>
              <a:off x="5137200" y="1773360"/>
              <a:ext cx="6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4064040" y="1368360"/>
              <a:ext cx="1607760" cy="1945800"/>
              <a:chOff x="4064040" y="1368360"/>
              <a:chExt cx="1607760" cy="194580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4064040" y="1368360"/>
                <a:ext cx="1607760" cy="1945800"/>
                <a:chOff x="4064040" y="1368360"/>
                <a:chExt cx="1607760" cy="19458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483440" y="1841760"/>
                  <a:ext cx="653760" cy="876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779360" y="2289960"/>
                  <a:ext cx="65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779360" y="2282760"/>
                  <a:ext cx="0" cy="81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375880" y="2111400"/>
                  <a:ext cx="29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839840" y="2854440"/>
                  <a:ext cx="29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83440" y="2044080"/>
                  <a:ext cx="65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632840" y="2011320"/>
                  <a:ext cx="57600" cy="6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4483440" y="1570680"/>
                  <a:ext cx="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5137200" y="1570680"/>
                  <a:ext cx="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244760" y="184176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244760" y="271872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483440" y="1639440"/>
                  <a:ext cx="65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305240" y="1841760"/>
                  <a:ext cx="0" cy="87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196240" y="184176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196240" y="2044080"/>
                  <a:ext cx="17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255280" y="1841760"/>
                  <a:ext cx="0" cy="20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6200000">
                  <a:off x="3877560" y="2090520"/>
                  <a:ext cx="74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8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480920" y="1368360"/>
                  <a:ext cx="65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4453200" y="1996560"/>
                <a:ext cx="41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348840" y="3457440"/>
            <a:ext cx="4151880" cy="1694160"/>
            <a:chOff x="348840" y="3457440"/>
            <a:chExt cx="4151880" cy="1694160"/>
          </a:xfrm>
        </p:grpSpPr>
        <p:grpSp>
          <p:nvGrpSpPr>
            <p:cNvPr id="500" name=""/>
            <p:cNvGrpSpPr/>
            <p:nvPr/>
          </p:nvGrpSpPr>
          <p:grpSpPr>
            <a:xfrm>
              <a:off x="348840" y="3457440"/>
              <a:ext cx="4151880" cy="1694160"/>
              <a:chOff x="348840" y="3457440"/>
              <a:chExt cx="4151880" cy="16941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756000" y="3814560"/>
                <a:ext cx="2871360" cy="1213920"/>
                <a:chOff x="756000" y="3814560"/>
                <a:chExt cx="2871360" cy="1213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756000" y="3814560"/>
                  <a:ext cx="1436760" cy="615960"/>
                </a:xfrm>
                <a:prstGeom prst="rtTriangle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0800000">
                  <a:off x="2268360" y="4444200"/>
                  <a:ext cx="1359000" cy="584280"/>
                </a:xfrm>
                <a:prstGeom prst="rtTriangle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4" name=""/>
                    <p:cNvSpPr txBox="1"/>
                    <p:nvPr/>
                  </p:nvSpPr>
                  <p:spPr>
                    <a:xfrm>
                      <a:off x="2988000" y="446544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5" name=""/>
                    <p:cNvSpPr txBox="1"/>
                    <p:nvPr/>
                  </p:nvSpPr>
                  <p:spPr>
                    <a:xfrm>
                      <a:off x="900360" y="4033440"/>
                      <a:ext cx="41580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+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506" name=""/>
              <p:cNvGrpSpPr/>
              <p:nvPr/>
            </p:nvGrpSpPr>
            <p:grpSpPr>
              <a:xfrm>
                <a:off x="348840" y="3501720"/>
                <a:ext cx="3731040" cy="1226160"/>
                <a:chOff x="348840" y="3501720"/>
                <a:chExt cx="3731040" cy="122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48840" y="3501720"/>
                  <a:ext cx="41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60680" y="4438440"/>
                  <a:ext cx="33112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760680" y="3574440"/>
                  <a:ext cx="0" cy="863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786480" y="432900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756000" y="3816000"/>
                <a:ext cx="287964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27280" y="345744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35640" y="475272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0k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H="1" flipV="1">
              <a:off x="3619440" y="4431600"/>
              <a:ext cx="15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55640" y="3816000"/>
              <a:ext cx="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638680" y="126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曲率半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180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弯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278400" y="2293920"/>
                <a:ext cx="1749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5867280" y="26877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面惯性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084720" y="3213000"/>
                <a:ext cx="2544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695840" y="4702320"/>
                <a:ext cx="426888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/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235560" y="3735360"/>
                <a:ext cx="1405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1640" y="367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DE7-4534-4E46-B58F-C7C3C411B5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344880" y="4164120"/>
            <a:ext cx="4371480" cy="1352520"/>
            <a:chOff x="344880" y="4164120"/>
            <a:chExt cx="4371480" cy="13525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1476360" y="4475160"/>
                  <a:ext cx="32400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  <m:r>
                        <m:t xml:space="preserve">≤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344880" y="416412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析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32360" y="4627440"/>
            <a:ext cx="3780000" cy="459720"/>
            <a:chOff x="4932360" y="4627440"/>
            <a:chExt cx="3780000" cy="459720"/>
          </a:xfrm>
        </p:grpSpPr>
        <p:sp>
          <p:nvSpPr>
            <p:cNvPr id="532" name=""/>
            <p:cNvSpPr/>
            <p:nvPr/>
          </p:nvSpPr>
          <p:spPr>
            <a:xfrm>
              <a:off x="4932360" y="4627440"/>
              <a:ext cx="37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弯矩    最大的截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6523200" y="4691160"/>
                  <a:ext cx="4251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"/>
          <p:cNvGrpSpPr/>
          <p:nvPr/>
        </p:nvGrpSpPr>
        <p:grpSpPr>
          <a:xfrm>
            <a:off x="4932360" y="5208480"/>
            <a:ext cx="4140360" cy="1015920"/>
            <a:chOff x="4932360" y="5208480"/>
            <a:chExt cx="4140360" cy="1015920"/>
          </a:xfrm>
        </p:grpSpPr>
        <p:sp>
          <p:nvSpPr>
            <p:cNvPr id="535" name=""/>
            <p:cNvSpPr/>
            <p:nvPr/>
          </p:nvSpPr>
          <p:spPr>
            <a:xfrm>
              <a:off x="4932360" y="5208480"/>
              <a:ext cx="4140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抗弯截面系数    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的截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67640" y="5229360"/>
                  <a:ext cx="5047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7" name=""/>
          <p:cNvGrpSpPr/>
          <p:nvPr/>
        </p:nvGrpSpPr>
        <p:grpSpPr>
          <a:xfrm>
            <a:off x="539640" y="836640"/>
            <a:ext cx="8353440" cy="3510000"/>
            <a:chOff x="539640" y="836640"/>
            <a:chExt cx="8353440" cy="3510000"/>
          </a:xfrm>
        </p:grpSpPr>
        <p:pic>
          <p:nvPicPr>
            <p:cNvPr id="538" name="" descr=""/>
            <p:cNvPicPr/>
            <p:nvPr/>
          </p:nvPicPr>
          <p:blipFill>
            <a:blip r:embed="rId1"/>
            <a:stretch/>
          </p:blipFill>
          <p:spPr>
            <a:xfrm>
              <a:off x="1834920" y="2276640"/>
              <a:ext cx="5761080" cy="207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9" name=""/>
            <p:cNvGrpSpPr/>
            <p:nvPr/>
          </p:nvGrpSpPr>
          <p:grpSpPr>
            <a:xfrm>
              <a:off x="539640" y="836640"/>
              <a:ext cx="8353440" cy="1396440"/>
              <a:chOff x="539640" y="836640"/>
              <a:chExt cx="8353440" cy="1396440"/>
            </a:xfrm>
          </p:grpSpPr>
          <p:sp>
            <p:nvSpPr>
              <p:cNvPr id="540" name=""/>
              <p:cNvSpPr/>
              <p:nvPr/>
            </p:nvSpPr>
            <p:spPr>
              <a:xfrm>
                <a:off x="539640" y="836640"/>
                <a:ext cx="835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图示为机车轮轴的简图。试校核轮轴的强度。已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1" name=""/>
                  <p:cNvSpPr txBox="1"/>
                  <p:nvPr/>
                </p:nvSpPr>
                <p:spPr>
                  <a:xfrm>
                    <a:off x="2174760" y="1384200"/>
                    <a:ext cx="600696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7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42" name=""/>
              <p:cNvSpPr/>
              <p:nvPr/>
            </p:nvSpPr>
            <p:spPr>
              <a:xfrm>
                <a:off x="539640" y="1773360"/>
                <a:ext cx="28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材料的许用应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3" name=""/>
                  <p:cNvSpPr txBox="1"/>
                  <p:nvPr/>
                </p:nvSpPr>
                <p:spPr>
                  <a:xfrm>
                    <a:off x="2850840" y="1844640"/>
                    <a:ext cx="1633680" cy="34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P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44" name=""/>
                  <p:cNvSpPr txBox="1"/>
                  <p:nvPr/>
                </p:nvSpPr>
                <p:spPr>
                  <a:xfrm>
                    <a:off x="595080" y="1384200"/>
                    <a:ext cx="153504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45" name=""/>
          <p:cNvSpPr/>
          <p:nvPr/>
        </p:nvSpPr>
        <p:spPr>
          <a:xfrm>
            <a:off x="3564000" y="5373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01a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763640" y="5580000"/>
            <a:ext cx="2665080" cy="944280"/>
            <a:chOff x="1763640" y="5580000"/>
            <a:chExt cx="2665080" cy="944280"/>
          </a:xfrm>
        </p:grpSpPr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2458800" y="5580000"/>
                  <a:ext cx="196992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  <m:r>
                        <m:t xml:space="preserve">≤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1763640" y="5781960"/>
                  <a:ext cx="695160" cy="48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36000" y="2595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D08-5EC7-4D13-BCF0-0A23D2201D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042520" y="186048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截面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截面需校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00760" y="237960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度校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427640" y="2781360"/>
            <a:ext cx="4176720" cy="2087640"/>
            <a:chOff x="4427640" y="2781360"/>
            <a:chExt cx="4176720" cy="2087640"/>
          </a:xfrm>
        </p:grpSpPr>
        <p:sp>
          <p:nvSpPr>
            <p:cNvPr id="557" name=""/>
            <p:cNvSpPr/>
            <p:nvPr/>
          </p:nvSpPr>
          <p:spPr>
            <a:xfrm>
              <a:off x="4427640" y="2781360"/>
              <a:ext cx="16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截面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4567320" y="3270240"/>
                  <a:ext cx="4037040" cy="15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num>
                            <m:den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Fa</m:t>
                              </m:r>
                            </m:num>
                            <m:den>
                              <m:f>
                                <m:num>
                                  <m:sSubSup>
                                    <m:e>
                                      <m:r>
                                        <m:t xml:space="preserve">π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67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Pa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MP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9" name=""/>
          <p:cNvGrpSpPr/>
          <p:nvPr/>
        </p:nvGrpSpPr>
        <p:grpSpPr>
          <a:xfrm>
            <a:off x="250920" y="4869000"/>
            <a:ext cx="7850160" cy="1387440"/>
            <a:chOff x="250920" y="4869000"/>
            <a:chExt cx="7850160" cy="1387440"/>
          </a:xfrm>
        </p:grpSpPr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1290600" y="5157720"/>
                  <a:ext cx="6810480" cy="109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Fb</m:t>
                          </m:r>
                        </m:num>
                        <m:den>
                          <m:f>
                            <m:num>
                              <m:sSubSup>
                                <m:e>
                                  <m:r>
                                    <m:t xml:space="preserve">π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60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P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P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1" name=""/>
            <p:cNvSpPr/>
            <p:nvPr/>
          </p:nvSpPr>
          <p:spPr>
            <a:xfrm>
              <a:off x="250920" y="4869000"/>
              <a:ext cx="161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截面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50920" y="609300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94400" y="99072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计算简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50920" y="1712880"/>
            <a:ext cx="4025880" cy="13716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5011920" y="14270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绘弯矩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16080" y="2779560"/>
            <a:ext cx="4001760" cy="2133000"/>
            <a:chOff x="316080" y="2779560"/>
            <a:chExt cx="4001760" cy="2133000"/>
          </a:xfrm>
        </p:grpSpPr>
        <p:sp>
          <p:nvSpPr>
            <p:cNvPr id="567" name=""/>
            <p:cNvSpPr/>
            <p:nvPr/>
          </p:nvSpPr>
          <p:spPr>
            <a:xfrm flipH="1">
              <a:off x="3611520" y="411336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16080" y="2779560"/>
              <a:ext cx="4001760" cy="2133000"/>
              <a:chOff x="316080" y="2779560"/>
              <a:chExt cx="4001760" cy="2133000"/>
            </a:xfrm>
          </p:grpSpPr>
          <p:sp>
            <p:nvSpPr>
              <p:cNvPr id="569" name=""/>
              <p:cNvSpPr/>
              <p:nvPr/>
            </p:nvSpPr>
            <p:spPr>
              <a:xfrm>
                <a:off x="3622680" y="277956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60400" y="2779560"/>
                <a:ext cx="0" cy="18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6080" y="411336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925200" y="464652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544680" y="4113000"/>
                <a:ext cx="3808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499200" y="4452840"/>
                <a:ext cx="52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81800" y="4192560"/>
                <a:ext cx="53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21040" y="304632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6960" y="304632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4680" y="304632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83040" y="304632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4211640" y="914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101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36000" y="2595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2DA-5301-4A92-8F28-EB77D3F37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5216400" y="90792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悬臂梁由三块木板粘接而成。跨度为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m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胶合面的许可切应力为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0.34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MPa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木材的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〔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σ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〕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= 10 MPa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[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τ]=1MPa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求许可载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4478400" y="3733920"/>
                <a:ext cx="2894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28954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画梁的剪力图和弯矩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3352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按正应力强度条件计算许可载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63440" y="2852640"/>
            <a:ext cx="3516480" cy="863640"/>
            <a:chOff x="163440" y="2852640"/>
            <a:chExt cx="3516480" cy="863640"/>
          </a:xfrm>
        </p:grpSpPr>
        <p:sp>
          <p:nvSpPr>
            <p:cNvPr id="593" name=""/>
            <p:cNvSpPr/>
            <p:nvPr/>
          </p:nvSpPr>
          <p:spPr>
            <a:xfrm>
              <a:off x="692280" y="3645000"/>
              <a:ext cx="266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163440" y="3270240"/>
                  <a:ext cx="37296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5" name=""/>
            <p:cNvSpPr/>
            <p:nvPr/>
          </p:nvSpPr>
          <p:spPr>
            <a:xfrm rot="10800000">
              <a:off x="692280" y="2966760"/>
              <a:ext cx="2665440" cy="647640"/>
            </a:xfrm>
            <a:custGeom>
              <a:avLst/>
              <a:gdLst/>
              <a:ahLst/>
              <a:rect l="l" t="t" r="r" b="b"/>
              <a:pathLst>
                <a:path w="1679" h="408">
                  <a:moveTo>
                    <a:pt x="0" y="0"/>
                  </a:moveTo>
                  <a:lnTo>
                    <a:pt x="0" y="408"/>
                  </a:lnTo>
                  <a:lnTo>
                    <a:pt x="1679" y="408"/>
                  </a:lnTo>
                  <a:lnTo>
                    <a:pt x="1679" y="0"/>
                  </a:ln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1749600" y="3075120"/>
                  <a:ext cx="4460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+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3357720" y="2852640"/>
                  <a:ext cx="3222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152280" y="3903840"/>
            <a:ext cx="3205080" cy="994680"/>
            <a:chOff x="152280" y="3903840"/>
            <a:chExt cx="3205080" cy="994680"/>
          </a:xfrm>
        </p:grpSpPr>
        <p:sp>
          <p:nvSpPr>
            <p:cNvPr id="599" name=""/>
            <p:cNvSpPr/>
            <p:nvPr/>
          </p:nvSpPr>
          <p:spPr>
            <a:xfrm>
              <a:off x="691920" y="4047840"/>
              <a:ext cx="266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152280" y="3903840"/>
                  <a:ext cx="397080" cy="32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1" name=""/>
                <p:cNvSpPr txBox="1"/>
                <p:nvPr/>
              </p:nvSpPr>
              <p:spPr>
                <a:xfrm>
                  <a:off x="1341360" y="4128840"/>
                  <a:ext cx="446040" cy="42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260280" y="4551120"/>
                  <a:ext cx="39672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3" name=""/>
            <p:cNvSpPr/>
            <p:nvPr/>
          </p:nvSpPr>
          <p:spPr>
            <a:xfrm>
              <a:off x="677880" y="4047840"/>
              <a:ext cx="2679480" cy="792000"/>
            </a:xfrm>
            <a:custGeom>
              <a:avLst/>
              <a:gdLst/>
              <a:ahLst/>
              <a:rect l="l" t="t" r="r" b="b"/>
              <a:pathLst>
                <a:path w="1688" h="362">
                  <a:moveTo>
                    <a:pt x="9" y="0"/>
                  </a:moveTo>
                  <a:lnTo>
                    <a:pt x="0" y="362"/>
                  </a:lnTo>
                  <a:lnTo>
                    <a:pt x="1688" y="0"/>
                  </a:ln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3048120" y="4495680"/>
                <a:ext cx="59198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σ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50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4086360" y="5692680"/>
                <a:ext cx="3566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3924360" y="5194440"/>
            <a:ext cx="49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按切应力强度条件计算许可载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143000" y="6051600"/>
                <a:ext cx="7734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τ</m:t>
                        </m:r>
                      </m:e>
                    </m: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8" name=""/>
          <p:cNvGrpSpPr/>
          <p:nvPr/>
        </p:nvGrpSpPr>
        <p:grpSpPr>
          <a:xfrm>
            <a:off x="404640" y="990720"/>
            <a:ext cx="4680000" cy="1797840"/>
            <a:chOff x="404640" y="990720"/>
            <a:chExt cx="4680000" cy="1797840"/>
          </a:xfrm>
        </p:grpSpPr>
        <p:grpSp>
          <p:nvGrpSpPr>
            <p:cNvPr id="609" name=""/>
            <p:cNvGrpSpPr/>
            <p:nvPr/>
          </p:nvGrpSpPr>
          <p:grpSpPr>
            <a:xfrm>
              <a:off x="404640" y="990720"/>
              <a:ext cx="4680000" cy="1797840"/>
              <a:chOff x="404640" y="990720"/>
              <a:chExt cx="4680000" cy="179784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404640" y="990720"/>
                <a:ext cx="2952720" cy="1617120"/>
                <a:chOff x="404640" y="990720"/>
                <a:chExt cx="2952720" cy="1617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691920" y="1815840"/>
                  <a:ext cx="2665440" cy="1440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04640" y="1490400"/>
                  <a:ext cx="287280" cy="792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331800" y="1028520"/>
                  <a:ext cx="0" cy="791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357360" y="196020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91920" y="196020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91920" y="2435040"/>
                  <a:ext cx="266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7" name=""/>
                    <p:cNvSpPr txBox="1"/>
                    <p:nvPr/>
                  </p:nvSpPr>
                  <p:spPr>
                    <a:xfrm>
                      <a:off x="2997000" y="990720"/>
                      <a:ext cx="322200" cy="321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618" name=""/>
                    <p:cNvSpPr txBox="1"/>
                    <p:nvPr/>
                  </p:nvSpPr>
                  <p:spPr>
                    <a:xfrm>
                      <a:off x="1915920" y="2104920"/>
                      <a:ext cx="172800" cy="34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l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19" name=""/>
              <p:cNvGrpSpPr/>
              <p:nvPr/>
            </p:nvGrpSpPr>
            <p:grpSpPr>
              <a:xfrm>
                <a:off x="3789360" y="1133280"/>
                <a:ext cx="1295280" cy="1655280"/>
                <a:chOff x="3789360" y="1133280"/>
                <a:chExt cx="1295280" cy="165528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3789360" y="1420200"/>
                  <a:ext cx="720720" cy="862920"/>
                  <a:chOff x="3789360" y="1420200"/>
                  <a:chExt cx="720720" cy="8629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3789360" y="1420200"/>
                    <a:ext cx="720720" cy="28692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789360" y="1707120"/>
                    <a:ext cx="720720" cy="2869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789360" y="1996200"/>
                    <a:ext cx="720720" cy="2869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4" name=""/>
                <p:cNvSpPr/>
                <p:nvPr/>
              </p:nvSpPr>
              <p:spPr>
                <a:xfrm>
                  <a:off x="4508280" y="1420200"/>
                  <a:ext cx="5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508280" y="1707840"/>
                  <a:ext cx="5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508280" y="1996560"/>
                  <a:ext cx="5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508280" y="2283840"/>
                  <a:ext cx="5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789360" y="2212560"/>
                  <a:ext cx="0" cy="5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495680" y="2212560"/>
                  <a:ext cx="0" cy="5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789360" y="2715840"/>
                  <a:ext cx="71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013360" y="1133280"/>
                  <a:ext cx="0" cy="28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5013360" y="22712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013360" y="1420200"/>
                  <a:ext cx="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978440" y="1661760"/>
                  <a:ext cx="730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978440" y="1958400"/>
                  <a:ext cx="730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3944880" y="2458440"/>
                      <a:ext cx="43956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637" name=""/>
                    <p:cNvSpPr txBox="1"/>
                    <p:nvPr/>
                  </p:nvSpPr>
                  <p:spPr>
                    <a:xfrm>
                      <a:off x="4699080" y="1420200"/>
                      <a:ext cx="33012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638" name=""/>
                    <p:cNvSpPr txBox="1"/>
                    <p:nvPr/>
                  </p:nvSpPr>
                  <p:spPr>
                    <a:xfrm>
                      <a:off x="4699080" y="1707840"/>
                      <a:ext cx="330120" cy="296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639" name=""/>
                    <p:cNvSpPr txBox="1"/>
                    <p:nvPr/>
                  </p:nvSpPr>
                  <p:spPr>
                    <a:xfrm>
                      <a:off x="4699080" y="1996560"/>
                      <a:ext cx="33012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640" name=""/>
            <p:cNvSpPr/>
            <p:nvPr/>
          </p:nvSpPr>
          <p:spPr>
            <a:xfrm>
              <a:off x="3645000" y="1854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4567320" y="1781280"/>
                  <a:ext cx="230040" cy="22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2" name=""/>
          <p:cNvSpPr/>
          <p:nvPr/>
        </p:nvSpPr>
        <p:spPr>
          <a:xfrm>
            <a:off x="4038480" y="28954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101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rId5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6000" y="2595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101"/>
                </a:solidFill>
                <a:latin typeface="黑体"/>
                <a:ea typeface="黑体"/>
              </a:rPr>
              <a:t>例题</a:t>
            </a:r>
            <a:r>
              <a:rPr b="0" lang="en-US" sz="2000" spc="-1" strike="noStrike">
                <a:solidFill>
                  <a:srgbClr val="ff0101"/>
                </a:solidFill>
                <a:latin typeface="黑体"/>
                <a:ea typeface="黑体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A43-D4E7-40D1-A9BC-1813592070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6-26T14:05:45Z</dcterms:modified>
  <cp:revision>607</cp:revision>
  <dc:subject/>
  <dc:title>PowerPoint Presentation</dc:title>
</cp:coreProperties>
</file>