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DCF3-82D4-4AEE-89FF-226216D3F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1434-DF14-4460-853F-10C8C5BDF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81DC-AC44-4AFC-A329-438740DCC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F5DF-ED11-4D13-9B38-A1E53C49A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E9FC-72D4-421E-A0D2-7A2210E54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2331-DAFD-4124-BD33-B38C4F248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4FA2-70DC-4088-A3ED-D02C0DBC4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E4FE-A339-457F-8613-1BAF40F76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C012-CCB4-4731-9330-9362D174E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7F1F-BADA-4FDC-BBED-D53B97580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E4C2-B0F2-4379-B23E-8D0128F54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8A7B-61A1-41C3-8E65-06FC0A0DA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79280" y="653688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31A-6E64-41D8-932B-0D05D7789C1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524640"/>
            <a:ext cx="8886960" cy="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"/>
          <p:cNvGraphicFramePr/>
          <p:nvPr/>
        </p:nvGraphicFramePr>
        <p:xfrm>
          <a:off x="8298000" y="0"/>
          <a:ext cx="84600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98000" y="0"/>
                    <a:ext cx="846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499"/>
              </a:spcAft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Aft>
                <a:spcPts val="499"/>
              </a:spcAft>
              <a:buClr>
                <a:srgbClr val="0000ff"/>
              </a:buClr>
              <a:buFont typeface="Wingdings 2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378080" indent="-349200">
              <a:spcAft>
                <a:spcPts val="451"/>
              </a:spcAft>
              <a:buClr>
                <a:srgbClr val="0000ff"/>
              </a:buClr>
              <a:buFont typeface="Wingdings 2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886040" indent="-343080">
              <a:spcAft>
                <a:spcPts val="451"/>
              </a:spcAft>
              <a:buClr>
                <a:srgbClr val="0000ff"/>
              </a:buClr>
              <a:buFont typeface="Wingdings 2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2349360" indent="-349200">
              <a:spcAft>
                <a:spcPts val="451"/>
              </a:spcAft>
              <a:buClr>
                <a:srgbClr val="0000ff"/>
              </a:buClr>
              <a:buFont typeface="Wingdings 2" charset="2"/>
              <a:buChar char="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5" marL="2349360" indent="-34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6" marL="2349360" indent="-34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f4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63720" y="4087800"/>
            <a:ext cx="0" cy="13572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5320" y="2493720"/>
            <a:ext cx="8232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740720" y="189000"/>
          <a:ext cx="846000" cy="85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189000"/>
                    <a:ext cx="846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524720" y="907920"/>
            <a:ext cx="1285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L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57240" algn="ctr">
              <a:spcAft>
                <a:spcPts val="499"/>
              </a:spcAft>
              <a:buClr>
                <a:srgbClr val="0000ff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914400" indent="11448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371600" indent="17136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1828800" indent="17136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5" marL="1828800" indent="17136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6" marL="1828800" indent="17136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40000" y="2349360"/>
            <a:ext cx="4033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第八章 标准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62120" y="0"/>
            <a:ext cx="58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09720" y="0"/>
            <a:ext cx="55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08488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49320" y="260280"/>
            <a:ext cx="53215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6720" y="1271520"/>
            <a:ext cx="8352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61840" y="0"/>
            <a:ext cx="67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6920" y="384120"/>
            <a:ext cx="72741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26060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04960" y="333360"/>
            <a:ext cx="53722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02080" y="260280"/>
            <a:ext cx="38034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1:42:02Z</dcterms:created>
  <dc:creator>JXZR</dc:creator>
  <dc:description/>
  <dc:language>en-US</dc:language>
  <cp:lastModifiedBy>微软用户</cp:lastModifiedBy>
  <dcterms:modified xsi:type="dcterms:W3CDTF">2018-05-07T02:30:02Z</dcterms:modified>
  <cp:revision>419</cp:revision>
  <dc:subject/>
  <dc:title>PowerPoint 演示文稿</dc:title>
</cp:coreProperties>
</file>