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4BD9-ABDC-49CD-A234-F77E53119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A12F-8280-43F9-A3CF-7E622FBB3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6855-76AA-4B26-AF10-0D9B51EEE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C575-470F-461E-B9D1-0624E02A8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28F4-26C4-46F5-94CC-56E5B45E3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0EDA-AB32-4677-8387-792A7FDD5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F86B-F9BC-4072-9F1D-ACB927F5F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034E-643B-4389-B4C9-0B21211F0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7D54-0C8D-4160-BB57-56DB7BA35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8CCE-E98F-4A16-8E23-C2CAEE46A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FD19-DEB5-415C-BA41-837F593FD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A500-93A3-4BA0-BB2D-B7F76D388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79280" y="653688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990D-54C1-4AB8-AD3A-4942CD87A3B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524640"/>
            <a:ext cx="8886960" cy="8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" name=""/>
          <p:cNvGraphicFramePr/>
          <p:nvPr/>
        </p:nvGraphicFramePr>
        <p:xfrm>
          <a:off x="8298000" y="0"/>
          <a:ext cx="84600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98000" y="0"/>
                    <a:ext cx="8460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499"/>
              </a:spcAft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9960">
              <a:spcAft>
                <a:spcPts val="499"/>
              </a:spcAft>
              <a:buClr>
                <a:srgbClr val="0000ff"/>
              </a:buClr>
              <a:buFont typeface="Wingdings 2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378080" indent="-349200">
              <a:spcAft>
                <a:spcPts val="451"/>
              </a:spcAft>
              <a:buClr>
                <a:srgbClr val="0000ff"/>
              </a:buClr>
              <a:buFont typeface="Wingdings 2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3" marL="1886040" indent="-343080">
              <a:spcAft>
                <a:spcPts val="451"/>
              </a:spcAft>
              <a:buClr>
                <a:srgbClr val="0000ff"/>
              </a:buClr>
              <a:buFont typeface="Wingdings 2" charset="2"/>
              <a:buChar char="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4" marL="2349360" indent="-349200">
              <a:spcAft>
                <a:spcPts val="451"/>
              </a:spcAft>
              <a:buClr>
                <a:srgbClr val="0000ff"/>
              </a:buClr>
              <a:buFont typeface="Wingdings 2" charset="2"/>
              <a:buChar char="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5" marL="2349360" indent="-34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6" marL="2349360" indent="-34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f4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863720" y="4087800"/>
            <a:ext cx="0" cy="13572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5320" y="2493720"/>
            <a:ext cx="8232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740720" y="189000"/>
          <a:ext cx="846000" cy="85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189000"/>
                    <a:ext cx="8460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524720" y="907920"/>
            <a:ext cx="12859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L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7200" indent="57240" algn="ctr">
              <a:spcAft>
                <a:spcPts val="499"/>
              </a:spcAft>
              <a:buClr>
                <a:srgbClr val="0000ff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914400" indent="114480" algn="ctr">
              <a:spcAft>
                <a:spcPts val="451"/>
              </a:spcAft>
              <a:buClr>
                <a:srgbClr val="0000ff"/>
              </a:buClr>
              <a:buFont typeface="Wingdings 2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3" marL="1371600" indent="171360" algn="ctr">
              <a:spcAft>
                <a:spcPts val="451"/>
              </a:spcAft>
              <a:buClr>
                <a:srgbClr val="0000ff"/>
              </a:buClr>
              <a:buFont typeface="Wingdings 2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4" marL="1828800" indent="171360" algn="ctr">
              <a:spcAft>
                <a:spcPts val="451"/>
              </a:spcAft>
              <a:buClr>
                <a:srgbClr val="0000ff"/>
              </a:buClr>
              <a:buFont typeface="Wingdings 2" charset="2"/>
              <a:buChar char="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5" marL="1828800" indent="17136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6" marL="1828800" indent="17136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40000" y="2349360"/>
            <a:ext cx="4033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第五章 组合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838080" y="496800"/>
          <a:ext cx="7302600" cy="611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96800"/>
                    <a:ext cx="7302600" cy="61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430960" y="3956040"/>
            <a:ext cx="28288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5472000" cy="3771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30243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08720" y="3429000"/>
            <a:ext cx="3076560" cy="2800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44658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6379920" cy="4581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13240" y="536400"/>
            <a:ext cx="230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42685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7084800" cy="5848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41680" y="233280"/>
            <a:ext cx="280836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80080" y="3213000"/>
            <a:ext cx="38955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5708520" cy="4749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765000"/>
            <a:ext cx="288144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35640" y="3357720"/>
            <a:ext cx="30384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355160" cy="5467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95960" y="257040"/>
            <a:ext cx="223200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3280" y="2975040"/>
            <a:ext cx="45007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743040" y="631800"/>
          <a:ext cx="4803840" cy="54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31800"/>
                    <a:ext cx="480384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5960" y="660240"/>
          <a:ext cx="7661520" cy="568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660240"/>
                    <a:ext cx="766152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486400" y="3587760"/>
            <a:ext cx="346716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79560" y="420840"/>
          <a:ext cx="4368600" cy="57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420840"/>
                    <a:ext cx="436860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4876920" cy="3838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19640" y="3645000"/>
            <a:ext cx="367200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52400" y="344520"/>
          <a:ext cx="7209000" cy="57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344520"/>
                    <a:ext cx="720900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526000" y="3578400"/>
            <a:ext cx="294336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501480" y="655560"/>
          <a:ext cx="761220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55560"/>
                    <a:ext cx="761220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14440" y="458640"/>
          <a:ext cx="761184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58640"/>
                    <a:ext cx="761184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356080" y="3549600"/>
            <a:ext cx="348624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14240" y="547560"/>
          <a:ext cx="4368960" cy="57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547560"/>
                    <a:ext cx="43689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714240" y="407880"/>
          <a:ext cx="7209000" cy="575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407880"/>
                    <a:ext cx="720900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548320" y="3822840"/>
            <a:ext cx="27716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142120" cy="4268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6036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1360" y="0"/>
            <a:ext cx="8972640" cy="4721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92360" y="4365720"/>
            <a:ext cx="3240360" cy="2062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96000" y="2997360"/>
            <a:ext cx="29988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919080"/>
            <a:ext cx="76327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03280" y="833400"/>
            <a:ext cx="6481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16000" y="716040"/>
            <a:ext cx="684072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704880"/>
            <a:ext cx="59436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76360" y="4076640"/>
            <a:ext cx="2990880" cy="2419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8018280" cy="3390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3024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219720" cy="444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0" y="3357720"/>
            <a:ext cx="3024360" cy="20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58972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306440" y="341280"/>
          <a:ext cx="3938760" cy="59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341280"/>
                    <a:ext cx="3938760" cy="59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1:42:02Z</dcterms:created>
  <dc:creator>JXZR</dc:creator>
  <dc:description/>
  <dc:language>en-US</dc:language>
  <cp:lastModifiedBy>微软用户</cp:lastModifiedBy>
  <dcterms:modified xsi:type="dcterms:W3CDTF">2016-11-29T02:29:40Z</dcterms:modified>
  <cp:revision>390</cp:revision>
  <dc:subject/>
  <dc:title>PowerPoint 演示文稿</dc:title>
</cp:coreProperties>
</file>