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2D2C-AA08-4208-AFE8-EAF465499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F846-6286-41B9-BD0B-4CCB2E848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7F85-FBDB-4F45-A59F-D2AD1BA91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08BE-D84F-460A-92CB-0F238D85A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CDC8-4F79-4EE4-AA82-5FBB91844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D6FD-DAEE-4877-B3F8-2965E9506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89D6-8AC2-4861-8DCC-C89AB5AC7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7A83-9E4D-4A09-BCE7-63546385B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819B-5B93-4CFD-A51B-D399C0FD5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8F44-B6CE-47DF-B7AE-65A2BAE04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F86D-92CE-44AF-B84E-B6BB46F76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A0EF-DDC4-4CFD-BB5D-00F22F14E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79280" y="653688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4248-CD17-400B-B6E5-DAA23E59E6E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524640"/>
            <a:ext cx="8886960" cy="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"/>
          <p:cNvGraphicFramePr/>
          <p:nvPr/>
        </p:nvGraphicFramePr>
        <p:xfrm>
          <a:off x="8298000" y="0"/>
          <a:ext cx="84600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98000" y="0"/>
                    <a:ext cx="846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Aft>
                <a:spcPts val="499"/>
              </a:spcAft>
              <a:buClr>
                <a:srgbClr val="0000ff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Aft>
                <a:spcPts val="499"/>
              </a:spcAft>
              <a:buClr>
                <a:srgbClr val="0000ff"/>
              </a:buClr>
              <a:buFont typeface="Wingdings 2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378080" indent="-349200">
              <a:spcAft>
                <a:spcPts val="451"/>
              </a:spcAft>
              <a:buClr>
                <a:srgbClr val="0000ff"/>
              </a:buClr>
              <a:buFont typeface="Wingdings 2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886040" indent="-343080">
              <a:spcAft>
                <a:spcPts val="451"/>
              </a:spcAft>
              <a:buClr>
                <a:srgbClr val="0000ff"/>
              </a:buClr>
              <a:buFont typeface="Wingdings 2" charset="2"/>
              <a:buChar char="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2349360" indent="-349200">
              <a:spcAft>
                <a:spcPts val="451"/>
              </a:spcAft>
              <a:buClr>
                <a:srgbClr val="0000ff"/>
              </a:buClr>
              <a:buFont typeface="Wingdings 2" charset="2"/>
              <a:buChar char="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5" marL="2349360" indent="-34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6" marL="2349360" indent="-34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f4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63720" y="4087800"/>
            <a:ext cx="0" cy="13572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5320" y="2493720"/>
            <a:ext cx="8232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740720" y="189000"/>
          <a:ext cx="846000" cy="85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189000"/>
                    <a:ext cx="846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524720" y="907920"/>
            <a:ext cx="1285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L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57240" algn="ctr">
              <a:spcAft>
                <a:spcPts val="499"/>
              </a:spcAft>
              <a:buClr>
                <a:srgbClr val="0000ff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914400" indent="11448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3" marL="1371600" indent="17136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4" marL="1828800" indent="171360" algn="ctr">
              <a:spcAft>
                <a:spcPts val="451"/>
              </a:spcAft>
              <a:buClr>
                <a:srgbClr val="0000ff"/>
              </a:buClr>
              <a:buFont typeface="Wingdings 2" charset="2"/>
              <a:buChar char="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5" marL="1828800" indent="17136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6" marL="1828800" indent="17136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40000" y="2349360"/>
            <a:ext cx="4033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第七章 剖视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3527" t="4431" r="2458" b="12972"/>
          <a:stretch/>
        </p:blipFill>
        <p:spPr>
          <a:xfrm>
            <a:off x="1332000" y="1125360"/>
            <a:ext cx="6553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53659" t="12972" r="2458" b="15800"/>
          <a:stretch/>
        </p:blipFill>
        <p:spPr>
          <a:xfrm>
            <a:off x="6084720" y="2421000"/>
            <a:ext cx="3059280" cy="36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143520" cy="3466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492360" y="1125360"/>
            <a:ext cx="3191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6471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0454" t="28153" r="25225" b="14077"/>
          <a:stretch/>
        </p:blipFill>
        <p:spPr>
          <a:xfrm>
            <a:off x="2411280" y="2276640"/>
            <a:ext cx="202572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4204" t="21115" r="75679" b="17596"/>
          <a:stretch/>
        </p:blipFill>
        <p:spPr>
          <a:xfrm>
            <a:off x="179280" y="1484280"/>
            <a:ext cx="2368800" cy="431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74250" t="28153" r="4204" b="14077"/>
          <a:stretch/>
        </p:blipFill>
        <p:spPr>
          <a:xfrm>
            <a:off x="7093080" y="2276640"/>
            <a:ext cx="179388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29429" t="21115" r="50454" b="17596"/>
          <a:stretch/>
        </p:blipFill>
        <p:spPr>
          <a:xfrm>
            <a:off x="4572000" y="1557360"/>
            <a:ext cx="23922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3240000" cy="2463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4200" y="0"/>
            <a:ext cx="4719600" cy="666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1280" y="2276640"/>
            <a:ext cx="489744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19120" y="1333440"/>
            <a:ext cx="6305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686400" cy="501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60072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1360" y="476280"/>
            <a:ext cx="423720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104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286160" cy="5819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05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3086280" cy="550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2867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4867200" cy="6408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53000" y="1197000"/>
            <a:ext cx="3591000" cy="265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12000" y="3860640"/>
            <a:ext cx="2828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305240" cy="59533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4859280" y="3500280"/>
            <a:ext cx="3702240" cy="3043080"/>
            <a:chOff x="4859280" y="3500280"/>
            <a:chExt cx="3702240" cy="30430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859280" y="3500280"/>
              <a:ext cx="3702240" cy="30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 flipV="1">
              <a:off x="7527600" y="5962320"/>
              <a:ext cx="64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695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5267520" cy="343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84720" y="3197160"/>
            <a:ext cx="45352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38577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5244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824360" cy="2749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932360" cy="269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076720" y="836640"/>
            <a:ext cx="3745080" cy="255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859280" y="3382920"/>
            <a:ext cx="4127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848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867040" cy="524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59280" y="3500280"/>
            <a:ext cx="3529080" cy="2211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1308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943360" cy="551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394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066840" cy="538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95640" y="2708280"/>
            <a:ext cx="49244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368604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3009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591000" cy="4876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3981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168360" cy="272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24360" y="2205000"/>
            <a:ext cx="3124440" cy="3191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45435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5467320" cy="3638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665440" cy="2530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057560"/>
            <a:ext cx="3515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1:42:02Z</dcterms:created>
  <dc:creator>JXZR</dc:creator>
  <dc:description/>
  <dc:language>en-US</dc:language>
  <cp:lastModifiedBy>微软用户</cp:lastModifiedBy>
  <dcterms:modified xsi:type="dcterms:W3CDTF">2017-11-29T09:26:09Z</dcterms:modified>
  <cp:revision>408</cp:revision>
  <dc:subject/>
  <dc:title>PowerPoint 演示文稿</dc:title>
</cp:coreProperties>
</file>