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4" descr=""/>
          <p:cNvPicPr/>
          <p:nvPr/>
        </p:nvPicPr>
        <p:blipFill>
          <a:blip r:embed="rId3"/>
          <a:srcRect l="6055" t="6236" r="6055" b="782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23472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公文写作课程内容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00000" y="1714320"/>
            <a:ext cx="3959280" cy="2616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一、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二、事务公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三、党政公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四、日常文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6"/>
          <a:srcRect l="5321" t="863" r="12204" b="0"/>
          <a:stretch/>
        </p:blipFill>
        <p:spPr>
          <a:xfrm>
            <a:off x="5580000" y="1677960"/>
            <a:ext cx="34243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209080" cy="58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期请用语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；敬请；恳请；谨请；务请；特请；报请；望；希望；希；盼；烦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批复；请指示；请函复；请批示；请批转；希遵照执行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表态用语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行；同意；照办；准予；不可；按此办理；按此执行；暂不执行；遵照执行；参照执行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结尾用语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特此通知；特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现予以公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模糊用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绝大多数地区、少数地区、不同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1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缩略用语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缩（十六届五中全会）、统括（“三个代表”“两学一做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416480" y="3230640"/>
            <a:ext cx="31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28760"/>
            <a:ext cx="8423280" cy="3968640"/>
          </a:xfrm>
          <a:prstGeom prst="rect">
            <a:avLst/>
          </a:prstGeom>
          <a:solidFill>
            <a:srgbClr val="ffffff">
              <a:alpha val="94000"/>
            </a:srgbClr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公文（公务文书）：</a:t>
            </a: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是指各级各类机关、单位在公务活动中使用的文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党政机关公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党政机关在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实施领导、履行职能、处理公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程中形成的具有特定效力和规范体式的文书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。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党政机关公文处理工作条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7596360" y="28440"/>
            <a:ext cx="1504800" cy="1754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http://n1.itc.cn/img8/wb/recom/2016/08/09/147074170249869229.JPEG"/>
          <p:cNvPicPr/>
          <p:nvPr/>
        </p:nvPicPr>
        <p:blipFill>
          <a:blip r:embed="rId2"/>
          <a:srcRect l="17123" t="18183" r="15714" b="8475"/>
          <a:stretch/>
        </p:blipFill>
        <p:spPr>
          <a:xfrm>
            <a:off x="6659640" y="4578480"/>
            <a:ext cx="244152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395280" y="260280"/>
            <a:ext cx="8424720" cy="381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二、公文的种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、党政通用文种（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种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法定公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式公文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决议、决定、命令（令）、公报、公告、通告、意见、通知、通报、报告、请示、批复、议案、函、纪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、机关常用应用文（准公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）事务性公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、规划、总结、简报、大事记、先进事迹材料、竞聘演讲词、工作研究、调查报告、述职报告、讲话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395280" y="549360"/>
            <a:ext cx="8137440" cy="1860840"/>
          </a:xfrm>
          <a:prstGeom prst="rect">
            <a:avLst/>
          </a:prstGeom>
          <a:solidFill>
            <a:srgbClr val="d6ece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2716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）规约性公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章程、规则、制度、办法、规程、规范、细则、守则、公约、条例、规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2716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）会议公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幕词、闭幕词、主持词、会议记录、会议报告、会议讲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2716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）沟通交流性公文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欢迎词、答谢词、欢送词、公开信、证明信、介绍信、聘请书、邀请书、表扬信、感谢信、祝词、贺信（电）、慰问信、致敬信（电）、倡议书、建议、致辞、讣告、悼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三、公文写作概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19280" y="1341360"/>
            <a:ext cx="7705440" cy="43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（一）主旨（立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公文主要的观点、主张、要求、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以实际工作需要来确立主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依照和贯彻党和国家的方针、政策和法律法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坚持现实性和可行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主旨要鲜明、集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4360" y="333360"/>
            <a:ext cx="7488000" cy="619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（二）公文写作的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、积累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工作中获取第一手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调查采访，收集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学习文件，博览群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、选择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围绕主旨选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选择典型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必须真实准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、使用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材料叙述要详略适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先后有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692316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（三）公文语言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79640" y="1413000"/>
            <a:ext cx="4968720" cy="295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16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、准确、规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词语恰当，辨清词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16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、简练、平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16cc"/>
                </a:solidFill>
                <a:latin typeface="宋体"/>
              </a:rPr>
              <a:t>言简意明，朴实凝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0" y="61560"/>
            <a:ext cx="4464360" cy="692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（四）公文常用句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8209080" cy="5759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</a:rPr>
              <a:t>、陈述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实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家决定开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</a:rPr>
              <a:t>、肯定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树立科学发展观（动宾式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追求质量效益是经济工作的重点（主谓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</a:rPr>
              <a:t>、无主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党对一切工作的领导；坚持以人民为中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6cc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2716cc"/>
                </a:solidFill>
                <a:latin typeface="宋体"/>
              </a:rPr>
              <a:t>、大量使用介宾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科学发展观统领招商引资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、少用感叹句、否定句、疑问句、被动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啊！不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护社会道德的出路在哪里？科学发展观被树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</a:rPr>
              <a:t>五百万年前病毒被“唤醒”（歧义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12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（五）公文常用规范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开端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引据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、遵照、按照；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鉴于、由于、 基于；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目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为了、为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过渡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作如下指示；现作如下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决定如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特通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下；现报告如下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作如下安排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批复如下；函告如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引叙用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悉；收悉；悉；查；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经办用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经；已经；已将；现将；责成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征询用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否、妥否、是否可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呈递用语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奉上、呈上、送上、转呈、递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7:27:17Z</dcterms:created>
  <dc:creator>雨林木风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liangna</cp:lastModifiedBy>
  <cp:lastPrinted>2018-02-27T10:37:43Z</cp:lastPrinted>
  <dcterms:modified xsi:type="dcterms:W3CDTF">2020-02-26T11:41:57Z</dcterms:modified>
  <cp:revision>4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5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Spring</vt:lpwstr>
  </property>
</Properties>
</file>