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"/>
          <p:cNvPicPr/>
          <p:nvPr/>
        </p:nvPicPr>
        <p:blipFill>
          <a:blip r:embed="rId2"/>
          <a:srcRect l="0" t="0" r="0" b="1903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4" descr=""/>
          <p:cNvPicPr/>
          <p:nvPr/>
        </p:nvPicPr>
        <p:blipFill>
          <a:blip r:embed="rId2"/>
          <a:srcRect l="0" t="0" r="0" b="1903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4" descr=""/>
          <p:cNvPicPr/>
          <p:nvPr/>
        </p:nvPicPr>
        <p:blipFill>
          <a:blip r:embed="rId3"/>
          <a:srcRect l="2121" t="1279" r="4337" b="166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" descr=""/>
          <p:cNvPicPr/>
          <p:nvPr/>
        </p:nvPicPr>
        <p:blipFill>
          <a:blip r:embed="rId2"/>
          <a:srcRect l="0" t="0" r="0" b="1903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" descr=""/>
          <p:cNvPicPr/>
          <p:nvPr/>
        </p:nvPicPr>
        <p:blipFill>
          <a:blip r:embed="rId3"/>
          <a:srcRect l="3090" t="2753" r="2740" b="17033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第二节    请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7672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87280" y="1476360"/>
            <a:ext cx="8569440" cy="350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一、文种释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示适用于向上级机关请求指示、批准。上行文，具有强制回复的性质，与批复相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、分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请求指示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省人民政府法制办公室关于城市房屋拆迁补偿有关问题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请求批准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省外资局关于组团赴美检验引进设备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请求呈转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关于加强工商行政管理工作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1280" y="115560"/>
            <a:ext cx="8321760" cy="6697800"/>
          </a:xfrm>
          <a:prstGeom prst="rect">
            <a:avLst/>
          </a:prstGeom>
          <a:solidFill>
            <a:srgbClr val="d6f2f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关于在</a:t>
            </a:r>
            <a:r>
              <a:rPr b="1" lang="az-Cyrl-AZ" sz="2400" spc="-1" strike="noStrike">
                <a:solidFill>
                  <a:srgbClr val="000000"/>
                </a:solidFill>
                <a:latin typeface="宋体"/>
              </a:rPr>
              <a:t>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举办全国秋冬季服装展销会的请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市人民政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迎接建国</a:t>
            </a:r>
            <a:r>
              <a:rPr b="1" lang="az-Cyrl-AZ" sz="2400" spc="-1" strike="noStrike">
                <a:solidFill>
                  <a:srgbClr val="000000"/>
                </a:solidFill>
                <a:latin typeface="仿宋"/>
                <a:ea typeface="仿宋"/>
              </a:rPr>
              <a:t>Х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周年，繁荣市场，美化生活，进一步落实中央关于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的指示。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商业局定于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今年国庆节期间，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在</a:t>
            </a:r>
            <a:r>
              <a:rPr b="1" lang="az-Cyrl-AZ" sz="2400" spc="-1" strike="noStrike">
                <a:solidFill>
                  <a:srgbClr val="000000"/>
                </a:solidFill>
                <a:latin typeface="仿宋"/>
                <a:ea typeface="仿宋"/>
              </a:rPr>
              <a:t>Х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地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举办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全国秋冬季服装展销会。展销会由我局和商业部中国纺织品公司联合主办。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现将有关事项请示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一、参加展销的单位：北京市服装公司、上海市服装鞋帽公司、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二、展销时间和地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展销时间：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至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展销地点：</a:t>
            </a:r>
            <a:r>
              <a:rPr b="1" lang="az-Cyrl-AZ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az-Cyrl-AZ" sz="2400" spc="-1" strike="noStrike">
                <a:solidFill>
                  <a:srgbClr val="000000"/>
                </a:solidFill>
                <a:latin typeface="仿宋"/>
                <a:ea typeface="仿宋"/>
              </a:rPr>
              <a:t>Х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中央大厅、东一馆、东三馆，面积为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.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万平方米，预计每天可接待顾客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万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三、展销形式及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以秋冬季服装为主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四、组织领导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以上请示当否，请批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   </a:t>
            </a:r>
            <a:r>
              <a:rPr b="1" lang="az-Cyrl-AZ" sz="2400" spc="-1" strike="noStrike">
                <a:solidFill>
                  <a:srgbClr val="000000"/>
                </a:solidFill>
                <a:latin typeface="仿宋"/>
                <a:ea typeface="仿宋"/>
              </a:rPr>
              <a:t>Х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市商业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074080" cy="4969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请求指示的请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本机关在职权范围内没有遇到过的新情况、新问题，在有关方针、政策、规章以及上级的指示中，无处理依据，无章可循，因而没有对策而需要上级机关给予指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对有关方针政策和上级机关发布的规定、指示有疑问，不能擅自决定的，需上级机关给予解释和说明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与其他友邻机关或协作单位在比较重要的问题上出现意见分歧，需要请求上级机关裁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请求批准的请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下级机关在工作中已有新做法、新方案，但需上级机关批准后方可执行的，需请求上级批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依据有关规章和管理权限，下级机关制定的某些规定、规划等，需经上级部门批准，才能发布实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工作中遇到人、财、物等方面的困难，自己无法解决，可提出解决方案请上级机关审核批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请求批转的请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下级机关在自己的职权范围内，制定了相关的办法和措施，但不能直接要求平级机关和不相隶属机关按此办理的，可请求上级机关批转给有关部门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88640"/>
            <a:ext cx="712944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三、请示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仿宋"/>
                <a:ea typeface="仿宋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呈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请示是双向对应的文种之一，对应批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仿宋"/>
                <a:ea typeface="仿宋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针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就职权范围内的重大事项进行请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不得动辄向上级请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仿宋"/>
                <a:ea typeface="仿宋"/>
              </a:rPr>
              <a:t>3.</a:t>
            </a: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单一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文一事，主送机关的单一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仿宋"/>
                <a:ea typeface="仿宋"/>
              </a:rPr>
              <a:t>4.</a:t>
            </a: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请示事项的急迫性；及时撰写，及时发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上级及时批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834920" y="836280"/>
            <a:ext cx="50403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四、请示写作的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文一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头请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越级请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滥用请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可抄送下级机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437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五、请示的基本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640" y="990720"/>
            <a:ext cx="7488000" cy="5462640"/>
          </a:xfrm>
          <a:prstGeom prst="rect">
            <a:avLst/>
          </a:prstGeom>
          <a:solidFill>
            <a:srgbClr val="f2f2f2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标题：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发文机关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文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公安部、民航局关于简化购买国内飞机票手续问题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文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关于建立中国工程院有关问题的请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主送机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送一个直接上级机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注意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除上级机关负责人直接交办的事项外，不得以本机关名义向上级机关负责人报送公文，不得以本机关负责人名义向上级机关报送公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4920" y="259920"/>
            <a:ext cx="8497800" cy="6193080"/>
          </a:xfrm>
          <a:prstGeom prst="rect">
            <a:avLst/>
          </a:prstGeom>
          <a:solidFill>
            <a:srgbClr val="f2f2f2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正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）开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示缘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客观具体，理由要合理充分，信息要十分完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）主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示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一文一事原则，符合法律法规，符合工作实际，要有主次有条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）结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惯用语，不能遗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以上请示，请批复。” “妥否，请批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以上请示如无不妥，请批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以上请示（报告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意见），如无不妥，请批转各地贯彻执行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请批转有关单位执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落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署名，成文日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28760" y="655200"/>
            <a:ext cx="8362800" cy="5472360"/>
          </a:xfrm>
          <a:prstGeom prst="rect">
            <a:avLst/>
          </a:prstGeom>
          <a:solidFill>
            <a:srgbClr val="d6f2f6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区民政局关于紧急划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社会救助大平台专项资金的请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区人民政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按照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国务院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社会救助暂行办法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规定，根据省市会议精神，区委、区政府要求在全区建立社会救助大平台，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底前完成网络平台的搭建，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前完成社会救助大平台的试点运行，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前完成全市现场会议的前期准备工作，救助大平台建在区惠民帮扶中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认真落实区委、区政府的工作要求，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现急需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平台建设资金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9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万元，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恳请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予以划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妥否，请批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                                              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区民政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                                          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矩形 1" descr=""/>
          <p:cNvPicPr/>
          <p:nvPr/>
        </p:nvPicPr>
        <p:blipFill>
          <a:blip r:embed="rId1"/>
          <a:stretch/>
        </p:blipFill>
        <p:spPr>
          <a:xfrm>
            <a:off x="396720" y="396720"/>
            <a:ext cx="114624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335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国公民自费出国旅游管理暂行办法的请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国务院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随着对外改革开放的不断扩大，人民生活水平不断提高，近年来，中国公民自费出国旅游不断增加，为适应改革开放形势，加强中国公民自费出国旅游的管理，特制定了《中国公民自费出国旅游管理暂行办法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以上暂行办法如无不妥，请批转发布执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附件：中国公民自费出国旅游管理暂行办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国家旅游局（章）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公安部（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矩形 2" descr=""/>
          <p:cNvPicPr/>
          <p:nvPr/>
        </p:nvPicPr>
        <p:blipFill>
          <a:blip r:embed="rId1"/>
          <a:stretch/>
        </p:blipFill>
        <p:spPr>
          <a:xfrm>
            <a:off x="-19080" y="262080"/>
            <a:ext cx="1152720" cy="52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27:17Z</dcterms:created>
  <dc:creator>雨林木风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liangna</cp:lastModifiedBy>
  <cp:lastPrinted>2018-03-20T12:37:11Z</cp:lastPrinted>
  <dcterms:modified xsi:type="dcterms:W3CDTF">2020-03-27T10:43:58Z</dcterms:modified>
  <cp:revision>8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Spring</vt:lpwstr>
  </property>
</Properties>
</file>