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C71-8605-4C4B-B715-B1F79B98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FA2-EA50-4F31-8FDF-06BBA356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6E6-02E3-4799-9AD0-3028459E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373-F734-4B68-87EA-E1D8D171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D718-D85A-4037-8A8A-5648F6C9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06CF-7F47-4A2B-AA7E-E9745FEA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F933-3787-42B6-94FC-B3C94440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4B9D-2A11-42E2-92A2-D7D003B1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D2CB-5DEF-4DCB-B40D-BE4AB646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F43-68BE-4B66-8CFE-B8E31F94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9C93-90B1-4B6C-9C5A-325F250B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659-4FAA-4275-A47A-BEBBE5C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1F0-4FBC-4F86-9D1D-4E40F6A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6096-9C8B-40D1-983F-181E949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8F38-0F23-4858-A079-D2C5D903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CB7E-02B0-4BE9-A3D0-81628652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B8E4-8515-48B9-B362-8029EB30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B45E-CF99-46B1-BF75-3708305D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4864-E250-4750-AC77-8E7C3730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0A06-32A2-4B7E-AD6A-204A4F8B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BBD8-C2E5-4BBF-9703-AD07D38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D0CA-EF93-42FC-AA7B-0EDDD563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29A-B268-4D79-954E-47827594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C6C3-8737-48B6-9FB9-097D6DDF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63B5-5AC0-4B66-B431-B52F2DE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083B-6084-4AD9-B81C-3DE3FDA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354D-581F-4EF1-920F-A9E4A02C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5E05-71D8-4FCF-9710-0E5F7502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888A-18D1-46A7-8799-AD3A631C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9772-3E9C-4944-BC84-1346EB08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754-AC00-4306-8777-87C10E04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C46-9B00-4DC0-B61E-ACA3E1EF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930-DC49-4981-8FCD-6AAED19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8A6-1BB9-4921-8965-C65DB33A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3EE-8082-4815-ADEE-F6C0B94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2FD-4EB9-4A12-AE16-BD399E3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ABC3-28A3-447E-89D3-25F7044C5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rcRect l="4208" t="2751" r="3833" b="275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BEA3-848D-4F34-A155-7C5B3A1CF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DE88-3B63-4488-AC27-6C8A4D5268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401840" y="1522440"/>
            <a:ext cx="677052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一、文种释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194d"/>
                </a:solidFill>
                <a:latin typeface="宋体"/>
              </a:rPr>
              <a:t>如实记载和反映工作、生产和学习过程中涌现出来的先进单位、先进人物的优秀事迹的书面文字材料，又叫典型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二、用途：</a:t>
            </a:r>
            <a:r>
              <a:rPr b="1" lang="en-US" sz="2800" spc="-1" strike="noStrike">
                <a:solidFill>
                  <a:srgbClr val="19194d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19194d"/>
                </a:solidFill>
                <a:latin typeface="宋体"/>
              </a:rPr>
              <a:t>、评选先进 ；</a:t>
            </a:r>
            <a:r>
              <a:rPr b="1" lang="en-US" sz="2800" spc="-1" strike="noStrike">
                <a:solidFill>
                  <a:srgbClr val="19194d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19194d"/>
                </a:solidFill>
                <a:latin typeface="宋体"/>
              </a:rPr>
              <a:t>、宣传典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三、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真实性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充实性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典型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第三节  事迹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395280" y="115920"/>
            <a:ext cx="8640720" cy="597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四、基本结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、标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公文式标题：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志抗洪抢险的先进事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文章式标题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勤学勤做勤求索  助己助人助天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单行标题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主副标题（双行式标题）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造现代交通客运体系新亮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记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路客运枢纽站项目建设指挥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、正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）开头（导语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本情况介绍、概述先进事迹、已受表彰奖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）主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展开叙述先进事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具体、完整、准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）结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000" y="-36720"/>
            <a:ext cx="8604360" cy="66243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五、先进事迹材料开头的四种模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基本信息呈现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姓名、性别、单位、职务、荣誉等，自我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个人申请的奖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理想信念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远大理想，取得的成绩，根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先进典型、优秀人物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他人角度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人称角度描述和评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介绍成功经验，宣传先进事迹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落差悬念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不可能变成可能，出人意料又在情理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自强典型、行业模范、年度人物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7"/>
          <p:cNvSpPr/>
          <p:nvPr/>
        </p:nvSpPr>
        <p:spPr>
          <a:xfrm>
            <a:off x="1332000" y="476280"/>
            <a:ext cx="6553080" cy="454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六、正文写作要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站在时代高度，放眼全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合理安排和使用材料，选取三四个典型材料，提炼形成小标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小标题拟定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）对偶、对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）形式统一、对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）多用动宾、偏正结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）关键词融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各段落采用总分式结构，评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7"/>
          <p:cNvSpPr/>
          <p:nvPr/>
        </p:nvSpPr>
        <p:spPr>
          <a:xfrm>
            <a:off x="755640" y="476280"/>
            <a:ext cx="7993080" cy="417888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案例：</a:t>
            </a:r>
            <a:r>
              <a:rPr b="1" lang="en-US" sz="2800" spc="-1" strike="noStrike">
                <a:solidFill>
                  <a:srgbClr val="66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山泉无香  奔流不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        ——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记杭州</a:t>
            </a:r>
            <a:r>
              <a:rPr b="1" lang="az-Cyrl-AZ" sz="2800" spc="-1" strike="noStrike">
                <a:solidFill>
                  <a:srgbClr val="c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公司优秀企业家</a:t>
            </a:r>
            <a:r>
              <a:rPr b="1" lang="az-Cyrl-AZ" sz="2800" spc="-1" strike="noStrike">
                <a:solidFill>
                  <a:srgbClr val="c00000"/>
                </a:solidFill>
                <a:latin typeface="宋体"/>
              </a:rPr>
              <a:t>Х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开头（略）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1" lang="zh-CN" sz="2400" spc="-1" strike="noStrike">
                <a:solidFill>
                  <a:srgbClr val="0041c4"/>
                </a:solidFill>
                <a:latin typeface="华文仿宋"/>
                <a:ea typeface="华文仿宋"/>
              </a:rPr>
              <a:t>大人物  小架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0041c4"/>
                </a:solidFill>
                <a:latin typeface="华文仿宋"/>
                <a:ea typeface="华文仿宋"/>
              </a:rPr>
              <a:t>老党员  新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与时俱进，开拓创新。迈不开步子，融不了大流，想不出点子是无法引领一支企业迈向成功、走向辉煌的，</a:t>
            </a:r>
            <a:r>
              <a:rPr b="1" lang="az-Cyrl-AZ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1" lang="az-Cyrl-AZ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ХХ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作为一名党员，作为</a:t>
            </a:r>
            <a:r>
              <a:rPr b="1" lang="az-Cyrl-AZ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ХХ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公司的领航人，深知自己肩上的责任。他每天坚持学习，更坚持用长期发展的新理念来做人、办企业。 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0041c4"/>
                </a:solidFill>
                <a:latin typeface="华文仿宋"/>
                <a:ea typeface="华文仿宋"/>
              </a:rPr>
              <a:t>低起点  高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88640"/>
            <a:ext cx="8569080" cy="6335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七、结尾写作常用四个模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总结陈述式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展望未来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自我激励式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哲理思考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az-Cyrl-AZ" sz="24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教授是</a:t>
            </a:r>
            <a:r>
              <a:rPr b="1" lang="az-Cyrl-AZ" sz="24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学全体师生的光辉榜样，是国家“千人计划”入选专家的优秀典范，更是当代海归赤子科技报国的先锋楷模！他身上所体现出的爱国情怀和科学精神，深深地感染着</a:t>
            </a:r>
            <a:r>
              <a:rPr b="1" lang="az-Cyrl-AZ" sz="24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学全体师生和广大留学归国人员，激励着他们积极投身于国家改革发展、民族复兴的伟大事业中。他的逝世，是国际地球物理学界和</a:t>
            </a:r>
            <a:r>
              <a:rPr b="1" lang="az-Cyrl-AZ" sz="24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学的重大损失，他为中国科技事业、教育事业，为国防现代化建设做出的卓越贡献将永载史册！他的崇高品德和奉献精神将永远铭刻在我们心中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1258920" y="836640"/>
            <a:ext cx="7129440" cy="28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八、事迹材料写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整理材料，分类概括，善于取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整合材料，确定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结构完整，线索清楚，详略得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语言准确通达，生动鲜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5480"/>
            <a:ext cx="8964720" cy="6769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爱岗敬业 争创一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        ——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记滕州市劳动模范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×××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先进事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×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出生，中共党员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毕业于山东省城建学校，同年参加工作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8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毕业于同济大学，现任滕州市市政工程管理处副主任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滕州市政府授予劳动模范称号。</a:t>
            </a:r>
            <a:r>
              <a:rPr b="1" lang="zh-CN" sz="2400" spc="-1" strike="noStrike">
                <a:solidFill>
                  <a:srgbClr val="663300"/>
                </a:solidFill>
                <a:latin typeface="宋体"/>
              </a:rPr>
              <a:t>他在工作中勤勤恳恳、任劳任怨，用自己的辛勤和汗水换得市政工程建设的顺利进行，学习上他是先进分子和优秀代表，工作上他是好同志好榜样，生活上他是同事们的亲密挚友和好大哥。他用自己的实际行动诠释了一名市政人甘于奉献、爱岗敬业的优秀品质，诠释了市政人勤恳、敬业、创新的精神风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一、勤奋好学</a:t>
            </a: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刻苦钻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志在思想上严格要求自己，自觉同党中央保持高度一致，积极开展党的群众路线教育实践活动，把理论和实践紧密结合起来，开拓进取，不断创新，注重提高政治理论水平；在业务技术上，刻苦钻研，积极进取，善于学习，善于总结，具有较高技术和业务素质，出色完成各项工作任务，多次荣获省市级荣誉称号，在群众中具有很高的威信。特别是由于该同志在职工经济技术创新活动中表现出色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被山东省住建厅评为“市政工程优秀项目经理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1640" y="-360"/>
            <a:ext cx="8964360" cy="655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二、勇挑重担 不断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志从不向困难低头，在他的身上总是有一种坚韧不拔、奋发向上的力量。在青啤大道防汛工程管道工程中，他和其他同志刻苦钻研，大胆改良和革新施工工艺，解决了沙层施工难的问题；改造了设备有关部件，解决了地下水进入水管问题，并在具体施工中，为单位培养了多名能够独当一面的技术人才，保证了市政事业的良性发展。他担任项目经理的青啤大道排水工程被评为省级“市政金杯示范工程”、枣庄市级“水工杯”示范工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三、爱岗敬业 无私奉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志参加工作以来，始终严格要求自己，把努力工作作为自己的准则，做到干一行、爱一行、钻一行，具有较强的责任感、服务意识和协调能力，以高度的责任感、使命感和工作热情，积极负责地开展工作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志做好工程项目管理、技术指导工作的同时，长期坚持在施工一线跟班作业，他既是项目施工的管理者，又是操作者，正是他这种忘我的工作精神，为各项工程的顺利开展打下了坚实的基础。同志们都称他是“前方坚实的后盾”，只要哪里有问题，哪里就有他的身影。用他的话说，只要工程上的事做好了，我心里也就踏实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27:17Z</dcterms:created>
  <dc:creator>雨林木风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liangna</cp:lastModifiedBy>
  <cp:lastPrinted>2018-05-01T05:10:26Z</cp:lastPrinted>
  <dcterms:modified xsi:type="dcterms:W3CDTF">2020-03-05T02:08:39Z</dcterms:modified>
  <cp:revision>6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Spring</vt:lpwstr>
  </property>
</Properties>
</file>