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0BD0-480A-4AE4-AAC0-EAA240C6A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CD53-D4A8-448F-BE3C-5101D976A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4ECC-1906-448B-BD3B-EEBBC9DEF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884C-ED01-4595-8929-04C354F4D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03DE-E659-4C9A-BFCF-90271E26C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456C-A366-40A8-A425-A19E2585A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950E-51C5-4C1B-B373-A92E94D09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7228-F2E7-4B65-887E-0118FC41D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1EB4-B966-464A-A1E3-607584A3F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00A2-F508-4096-A15F-30A06B6D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B624-0E7E-446D-A88D-8A99C924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7739-F29E-4ADA-B3D8-001DA42A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Temp"/>
          <p:cNvPicPr/>
          <p:nvPr/>
        </p:nvPicPr>
        <p:blipFill>
          <a:blip r:embed="rId2"/>
          <a:srcRect l="0" t="22253" r="19201" b="-140"/>
          <a:stretch/>
        </p:blipFill>
        <p:spPr>
          <a:xfrm>
            <a:off x="-15840" y="0"/>
            <a:ext cx="915984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0F327-7984-4D8A-A05F-484AEEC3966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47280" y="333000"/>
            <a:ext cx="5185080" cy="934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Arial"/>
              </a:rPr>
              <a:t>第三章  日常文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755280" y="1628280"/>
            <a:ext cx="7705800" cy="42483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5392"/>
                </a:solidFill>
                <a:latin typeface="Arial"/>
              </a:rPr>
              <a:t>日常文书是党政机关、企事业单位、社会团体和人民群众在日常工作和生活中广泛使用的，用来沟通信息、联络感情、表达意愿的实用文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类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书信类文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求职类文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致辞类文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条据类文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宣告类文书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250920" y="115920"/>
            <a:ext cx="8785080" cy="6192720"/>
          </a:xfrm>
          <a:prstGeom prst="rect">
            <a:avLst/>
          </a:prstGeom>
          <a:solidFill>
            <a:srgbClr val="f2f2f2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22268"/>
                </a:solidFill>
                <a:latin typeface="宋体"/>
              </a:rPr>
              <a:t>           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中共中央 国务院 中央军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         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</a:rPr>
              <a:t>对“神舟”七号载人航天飞行成功的贺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宋体"/>
              </a:rPr>
              <a:t>总装备部、工业和信息化部、中国科学院、国家国防科技工业局、中国航天科技集团公司、中国电子科技集团公司并参加“神舟”七号载人航天飞行任务的全体同志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中华人民共和国成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9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周年到来之际，“神州”七号载人航天飞行获得圆满成功，中共中央、国务院和中央军委向圆满完成这次飞行任务的英雄航天员，向所有参加这次任务的广大科技工作者、干部职工和部队官兵，表示热烈的祝贺和亲切的慰问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神州”七号载人航天飞行圆满成功，实现了我国成为空间出舱关键技术的国家。这是我国航天科技领域的又一次重大胜利，是中国人民在建设中国特色社会主义伟大进程中取得的重大成果，对于增强我国经济实力、科技实力、国防实力和民族凝聚力，鼓舞全党全国各族人民夺取全面建设小康社会新胜利、开创中国特色社会主义新局面具有重大而深远的意义。祖国和人民将永远铭记你们的历史功勋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324000" y="476280"/>
            <a:ext cx="8532720" cy="4608360"/>
          </a:xfrm>
          <a:prstGeom prst="rect">
            <a:avLst/>
          </a:prstGeom>
          <a:solidFill>
            <a:srgbClr val="f2f2f2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发展载人航天技术，和平开发利用太空，始终是中国人民的不懈追求。希望你们在以胡锦涛同志为总书记的党中央领导下，高举中国特色社会主义的伟大旗帜，坚持以邓小平理论和“三个代表”重要思想为指导，深入贯彻落实科学发展观，大力弘扬“两弹一星”精神和载人航天精神，自力更生、艰苦奋斗、团结协作、拼搏进取，为继续推动我国航天事业发展，为实现中华民族伟大复兴不断作出新的更大贡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共中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国务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央军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00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250920" y="189000"/>
            <a:ext cx="8785080" cy="5904000"/>
          </a:xfrm>
          <a:prstGeom prst="rect">
            <a:avLst/>
          </a:prstGeom>
          <a:solidFill>
            <a:srgbClr val="f2f2f2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22268"/>
                </a:solidFill>
                <a:latin typeface="宋体"/>
              </a:rPr>
              <a:t>                   </a:t>
            </a:r>
            <a:r>
              <a:rPr b="1" lang="zh-CN" sz="2800" spc="-1" strike="noStrike">
                <a:solidFill>
                  <a:srgbClr val="222268"/>
                </a:solidFill>
                <a:latin typeface="宋体"/>
              </a:rPr>
              <a:t>贺  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刘枚学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欣闻你已被美国加利福尼亚大学录用，即将启程，远赴异域。我为你感到由衷地高兴。这是你勤奋苦读的成绩，是你用辛勤的汗水浇灌出来的结果。我祝你学业有成，一路顺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刘枚，从此你将开始新的人生里程，一步步进入科学的殿堂，去摄取人类文明的结晶，带着祖国的重托，母亲的叮咛，朋友的期望。请再一次接受我深深的祝福，祝你学成归国，大展宏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妹：</a:t>
            </a:r>
            <a:r>
              <a:rPr b="1" lang="el-GR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宋体"/>
              </a:rPr>
              <a:t>Χ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          </a:t>
            </a:r>
            <a:r>
              <a:rPr b="1" lang="el-GR" sz="2800" spc="-1" strike="noStrike">
                <a:solidFill>
                  <a:srgbClr val="000000"/>
                </a:solidFill>
                <a:latin typeface="宋体"/>
              </a:rPr>
              <a:t>Χ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l-GR" sz="2800" spc="-1" strike="noStrike">
                <a:solidFill>
                  <a:srgbClr val="000000"/>
                </a:solidFill>
                <a:latin typeface="宋体"/>
              </a:rPr>
              <a:t>Χ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l-GR" sz="2800" spc="-1" strike="noStrike">
                <a:solidFill>
                  <a:srgbClr val="000000"/>
                </a:solidFill>
                <a:latin typeface="宋体"/>
              </a:rPr>
              <a:t>Χ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84200" y="189000"/>
            <a:ext cx="38988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三、证明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1413000"/>
            <a:ext cx="7937640" cy="3456000"/>
          </a:xfrm>
          <a:prstGeom prst="rect">
            <a:avLst/>
          </a:prstGeom>
          <a:solidFill>
            <a:srgbClr val="ffffff">
              <a:alpha val="96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174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（一）释义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证明信是以党政机关、企事业的单位、社会团体或个人名义，凭借确凿的证据证明某人的身份、经历或某件事情的真实情况时，所使用的一种专用书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Arial"/>
              </a:rPr>
              <a:t>也称为“证明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Arial"/>
              </a:rPr>
              <a:t>写证明信必须对被证明人或事了解清楚，如实证明，措辞要肯定、确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505152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（二）证明信的写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39280" y="872640"/>
            <a:ext cx="8218440" cy="5472360"/>
          </a:xfrm>
          <a:prstGeom prst="rect">
            <a:avLst/>
          </a:prstGeom>
          <a:solidFill>
            <a:srgbClr val="ffffff">
              <a:alpha val="96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2060"/>
                </a:solidFill>
                <a:latin typeface="宋体"/>
              </a:rPr>
              <a:t>标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文种：证明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书；证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事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文种：关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**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学在学期间现实表现的证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2060"/>
                </a:solidFill>
                <a:latin typeface="宋体"/>
              </a:rPr>
              <a:t>称谓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文单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人名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员外出活动的证明信，没有确切受文对象，可以不写称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2060"/>
                </a:solidFill>
                <a:latin typeface="宋体"/>
              </a:rPr>
              <a:t>正文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实叙写内容事项，针对相关要求的要点来写，需要证明什么就证明什么事项，不要旁涉其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2060"/>
                </a:solidFill>
                <a:latin typeface="宋体"/>
              </a:rPr>
              <a:t>结语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“特此证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2060"/>
                </a:solidFill>
                <a:latin typeface="宋体"/>
              </a:rPr>
              <a:t>落款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单位（盖章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证明人（签名），日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395280" y="259920"/>
            <a:ext cx="8424720" cy="576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证明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Χ</a:t>
            </a:r>
            <a:r>
              <a:rPr b="1" lang="el-GR" sz="2800" spc="-1" strike="noStrike">
                <a:solidFill>
                  <a:srgbClr val="000000"/>
                </a:solidFill>
                <a:latin typeface="宋体"/>
              </a:rPr>
              <a:t>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大学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l-GR" sz="2800" spc="-1" strike="noStrike">
                <a:solidFill>
                  <a:srgbClr val="000000"/>
                </a:solidFill>
                <a:latin typeface="宋体"/>
              </a:rPr>
              <a:t>Χ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l-GR" sz="2800" spc="-1" strike="noStrike">
                <a:solidFill>
                  <a:srgbClr val="000000"/>
                </a:solidFill>
                <a:latin typeface="宋体"/>
              </a:rPr>
              <a:t>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l-GR" sz="2800" spc="-1" strike="noStrike">
                <a:solidFill>
                  <a:srgbClr val="000000"/>
                </a:solidFill>
                <a:latin typeface="宋体"/>
              </a:rPr>
              <a:t>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日来函收悉。现根据函中要求，将贵校</a:t>
            </a:r>
            <a:r>
              <a:rPr b="1" lang="el-GR" sz="2800" spc="-1" strike="noStrike">
                <a:solidFill>
                  <a:srgbClr val="000000"/>
                </a:solidFill>
                <a:latin typeface="宋体"/>
              </a:rPr>
              <a:t>Χ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志的有关情况介绍如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l-GR" sz="2800" spc="-1" strike="noStrike">
                <a:solidFill>
                  <a:srgbClr val="000000"/>
                </a:solidFill>
                <a:latin typeface="宋体"/>
              </a:rPr>
              <a:t>Χ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志，</a:t>
            </a:r>
            <a:r>
              <a:rPr b="1" lang="el-GR" sz="2800" spc="-1" strike="noStrike">
                <a:solidFill>
                  <a:srgbClr val="000000"/>
                </a:solidFill>
                <a:latin typeface="宋体"/>
              </a:rPr>
              <a:t>Χ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出生，中共党员，</a:t>
            </a:r>
            <a:r>
              <a:rPr b="1" lang="el-GR" sz="2800" spc="-1" strike="noStrike">
                <a:solidFill>
                  <a:srgbClr val="000000"/>
                </a:solidFill>
                <a:latin typeface="宋体"/>
              </a:rPr>
              <a:t>Χ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l-GR" sz="2800" spc="-1" strike="noStrike">
                <a:solidFill>
                  <a:srgbClr val="000000"/>
                </a:solidFill>
                <a:latin typeface="宋体"/>
              </a:rPr>
              <a:t>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月至</a:t>
            </a:r>
            <a:r>
              <a:rPr b="1" lang="el-GR" sz="2800" spc="-1" strike="noStrike">
                <a:solidFill>
                  <a:srgbClr val="000000"/>
                </a:solidFill>
                <a:latin typeface="宋体"/>
              </a:rPr>
              <a:t>Χ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l-GR" sz="2800" spc="-1" strike="noStrike">
                <a:solidFill>
                  <a:srgbClr val="000000"/>
                </a:solidFill>
                <a:latin typeface="宋体"/>
              </a:rPr>
              <a:t>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月在我院工作。该同志对教学工作认真负责，能够以身作则，团结同志，成绩突出，</a:t>
            </a:r>
            <a:r>
              <a:rPr b="1" lang="el-GR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宋体"/>
              </a:rPr>
              <a:t>Χ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、</a:t>
            </a:r>
            <a:r>
              <a:rPr b="1" lang="el-GR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宋体"/>
              </a:rPr>
              <a:t>Χ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两次被评为我院模范教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特此证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            </a:t>
            </a:r>
            <a:r>
              <a:rPr b="1" lang="el-GR" sz="2800" spc="-1" strike="noStrike">
                <a:solidFill>
                  <a:srgbClr val="000000"/>
                </a:solidFill>
                <a:latin typeface="宋体"/>
              </a:rPr>
              <a:t>Χ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院（章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            </a:t>
            </a:r>
            <a:r>
              <a:rPr b="1" lang="el-GR" sz="2800" spc="-1" strike="noStrike">
                <a:solidFill>
                  <a:srgbClr val="000000"/>
                </a:solidFill>
                <a:latin typeface="宋体"/>
              </a:rPr>
              <a:t>Χ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l-GR" sz="2800" spc="-1" strike="noStrike">
                <a:solidFill>
                  <a:srgbClr val="000000"/>
                </a:solidFill>
                <a:latin typeface="宋体"/>
              </a:rPr>
              <a:t>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l-GR" sz="2800" spc="-1" strike="noStrike">
                <a:solidFill>
                  <a:srgbClr val="000000"/>
                </a:solidFill>
                <a:latin typeface="宋体"/>
              </a:rPr>
              <a:t>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6560" y="404640"/>
            <a:ext cx="44038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四、邀请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39280" y="1483920"/>
            <a:ext cx="7993080" cy="35290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5392"/>
                </a:solidFill>
                <a:latin typeface="宋体"/>
              </a:rPr>
              <a:t>（一）释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邀请函（邀请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书）（请柬）是邀请有关单位和人员前来参加某项活动或某一会议，以及婚宴丧葬等事项时所使用的一种专用书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Arial"/>
              </a:rPr>
              <a:t>是党政机关、企事业单位、社会团体或个人邀请有关人士前往某地出席、参加某项活动的书信类文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394920" y="259920"/>
            <a:ext cx="84978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宋体"/>
              </a:rPr>
              <a:t>（二）邀请函的写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800000"/>
                </a:solidFill>
                <a:latin typeface="宋体"/>
              </a:rPr>
              <a:t>标题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文种：邀请函，邀请信，请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事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文种：关于出席</a:t>
            </a:r>
            <a:r>
              <a:rPr b="1" lang="az-Cyrl-AZ" sz="2800" spc="-1" strike="noStrike">
                <a:solidFill>
                  <a:srgbClr val="000000"/>
                </a:solidFill>
                <a:latin typeface="宋体"/>
              </a:rPr>
              <a:t>Х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会议的邀请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800000"/>
                </a:solidFill>
                <a:latin typeface="宋体"/>
              </a:rPr>
              <a:t>称谓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致送对象。被邀请的单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人的名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2800" spc="-1" strike="noStrike">
                <a:solidFill>
                  <a:srgbClr val="000000"/>
                </a:solidFill>
                <a:latin typeface="宋体"/>
              </a:rPr>
              <a:t>Х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大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az-Cyrl-AZ" sz="2800" spc="-1" strike="noStrike">
                <a:solidFill>
                  <a:srgbClr val="000000"/>
                </a:solidFill>
                <a:latin typeface="宋体"/>
              </a:rPr>
              <a:t> Х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800000"/>
                </a:solidFill>
                <a:latin typeface="宋体"/>
              </a:rPr>
              <a:t>正文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写明活动举办的背景、目的、时间、地点、内容、方式、邀请对象以及相关事宜。要清楚周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邀请外地来宾，要将报到地点、食宿安排、接站安排、乘车路线等信息告知对方。可采用附件来编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800000"/>
                </a:solidFill>
                <a:latin typeface="宋体"/>
              </a:rPr>
              <a:t>结语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表示欢迎的习惯用语。“敬请光临”“欢迎莅临指导”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800000"/>
                </a:solidFill>
                <a:latin typeface="宋体"/>
              </a:rPr>
              <a:t>落款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署名、署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52600" y="190080"/>
            <a:ext cx="763416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Arial"/>
              </a:rPr>
              <a:t>邀请函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zh-CN" sz="4400" spc="-1" strike="noStrike">
                <a:solidFill>
                  <a:srgbClr val="c00000"/>
                </a:solidFill>
                <a:latin typeface="Arial"/>
              </a:rPr>
              <a:t>请柬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区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52240" y="1267920"/>
            <a:ext cx="7475400" cy="201636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邀请函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篇幅长；可要求回执；交代有关事项较详细；内容较灵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请柬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篇幅短；外观要求高；不要求回执；内容简明；语句固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图片 1" descr=""/>
          <p:cNvPicPr/>
          <p:nvPr/>
        </p:nvPicPr>
        <p:blipFill>
          <a:blip r:embed="rId1"/>
          <a:stretch/>
        </p:blipFill>
        <p:spPr>
          <a:xfrm>
            <a:off x="1403280" y="3960720"/>
            <a:ext cx="4105440" cy="2371680"/>
          </a:xfrm>
          <a:prstGeom prst="rect">
            <a:avLst/>
          </a:prstGeom>
          <a:ln w="0">
            <a:noFill/>
          </a:ln>
        </p:spPr>
      </p:pic>
      <p:pic>
        <p:nvPicPr>
          <p:cNvPr id="71" name="图片 5" descr=""/>
          <p:cNvPicPr/>
          <p:nvPr/>
        </p:nvPicPr>
        <p:blipFill>
          <a:blip r:embed="rId2"/>
          <a:srcRect l="50004" t="0" r="0" b="0"/>
          <a:stretch/>
        </p:blipFill>
        <p:spPr>
          <a:xfrm>
            <a:off x="6230880" y="3573360"/>
            <a:ext cx="19274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77868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宋体"/>
              </a:rPr>
              <a:t>浙江大学建校</a:t>
            </a:r>
            <a:r>
              <a:rPr b="1" lang="en-US" sz="2400" spc="-1" strike="noStrike">
                <a:solidFill>
                  <a:srgbClr val="800000"/>
                </a:solidFill>
                <a:latin typeface="宋体"/>
              </a:rPr>
              <a:t>110</a:t>
            </a:r>
            <a:r>
              <a:rPr b="1" lang="zh-CN" sz="2400" spc="-1" strike="noStrike">
                <a:solidFill>
                  <a:srgbClr val="800000"/>
                </a:solidFill>
                <a:latin typeface="宋体"/>
              </a:rPr>
              <a:t>周年校庆邀请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rcRect l="0" t="5894" r="5902" b="42650"/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1234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黑体"/>
                <a:ea typeface="黑体"/>
              </a:rPr>
              <a:t>第一节    书信类文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360" y="988560"/>
            <a:ext cx="7921800" cy="5427720"/>
          </a:xfrm>
          <a:prstGeom prst="rect">
            <a:avLst/>
          </a:prstGeom>
          <a:solidFill>
            <a:srgbClr val="ffffff">
              <a:alpha val="94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Arial"/>
              </a:rPr>
              <a:t>书信类文书分为</a:t>
            </a:r>
            <a:r>
              <a:rPr b="1" lang="zh-CN" sz="2800" spc="-1" strike="noStrike" u="sng">
                <a:solidFill>
                  <a:srgbClr val="002060"/>
                </a:solidFill>
                <a:uFillTx/>
                <a:latin typeface="Arial"/>
              </a:rPr>
              <a:t>一般书信</a:t>
            </a:r>
            <a:r>
              <a:rPr b="1" lang="zh-CN" sz="2800" spc="-1" strike="noStrike">
                <a:solidFill>
                  <a:srgbClr val="002060"/>
                </a:solidFill>
                <a:latin typeface="Arial"/>
              </a:rPr>
              <a:t>和</a:t>
            </a:r>
            <a:r>
              <a:rPr b="1" lang="zh-CN" sz="2800" spc="-1" strike="noStrike" u="sng">
                <a:solidFill>
                  <a:srgbClr val="002060"/>
                </a:solidFill>
                <a:uFillTx/>
                <a:latin typeface="Arial"/>
              </a:rPr>
              <a:t>专用书信</a:t>
            </a:r>
            <a:r>
              <a:rPr b="1" lang="zh-CN" sz="2800" spc="-1" strike="noStrike">
                <a:solidFill>
                  <a:srgbClr val="00206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一、申请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一）是个人或集体向上级组织或有关部门表达愿望、提出请求时所写的一种专用书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5392"/>
                </a:solidFill>
                <a:latin typeface="宋体"/>
              </a:rPr>
              <a:t>（二）根据内容和目的，大致分为三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思想政治类申请书，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入党申请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入会申请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习工作类申请书，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奖学金申请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缓考申请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学申请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日常生活类申请书，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助学贷款申请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退宿申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办学生证申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rcRect l="0" t="57353" r="6689" b="939"/>
          <a:stretch/>
        </p:blipFill>
        <p:spPr>
          <a:xfrm>
            <a:off x="0" y="44280"/>
            <a:ext cx="9144000" cy="66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28480" y="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Arial"/>
              </a:rPr>
              <a:t>第二节    求职类文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971280" y="1052280"/>
            <a:ext cx="7127640" cy="531468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txBody>
          <a:bodyPr anchor="t">
            <a:normAutofit/>
          </a:bodyPr>
          <a:p>
            <a:pPr marL="263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宋体"/>
              </a:rPr>
              <a:t>求职类文书是大中专院校毕业生、无业待业人员求职，以及在职人员谋求转换工作时所使用的文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种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推荐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自荐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求职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聘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求职简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115640" y="1341000"/>
            <a:ext cx="7062840" cy="403236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txBody>
          <a:bodyPr anchor="t">
            <a:normAutofit/>
          </a:bodyPr>
          <a:p>
            <a:pPr marL="263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宋体"/>
              </a:rPr>
              <a:t>（一）含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宋体"/>
              </a:rPr>
              <a:t>是求职者根据自身条件和求职意向，向用人单位推荐自己担任某项工作或从事某项活动，请求对方聘请、接受的一种信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求职信的特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介绍性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自述性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请求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"/>
          <p:cNvSpPr/>
          <p:nvPr/>
        </p:nvSpPr>
        <p:spPr>
          <a:xfrm>
            <a:off x="2671920" y="2332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宋体"/>
              </a:rPr>
              <a:t>一、求职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142560" y="817200"/>
            <a:ext cx="9001080" cy="554508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txBody>
          <a:bodyPr anchor="t">
            <a:normAutofit/>
          </a:bodyPr>
          <a:p>
            <a:pPr marL="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2060"/>
                </a:solidFill>
                <a:latin typeface="宋体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文种：求职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事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文种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**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应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**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岗位的求职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2060"/>
                </a:solidFill>
                <a:latin typeface="宋体"/>
              </a:rPr>
              <a:t>称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应聘单位领导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招聘负责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联系人姓名和称呼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职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2060"/>
                </a:solidFill>
                <a:latin typeface="宋体"/>
              </a:rPr>
              <a:t>正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5392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5392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5392"/>
                </a:solidFill>
                <a:latin typeface="宋体"/>
              </a:rPr>
              <a:t>）开头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表示感谢，自我介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5392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5392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5392"/>
                </a:solidFill>
                <a:latin typeface="宋体"/>
              </a:rPr>
              <a:t>）主体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说明求职目标，具体岗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交代求职原因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说明求职动机、表现熟悉程度、表现钟爱程度、表明意愿决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"/>
          <p:cNvSpPr/>
          <p:nvPr/>
        </p:nvSpPr>
        <p:spPr>
          <a:xfrm>
            <a:off x="3008160" y="23328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宋体"/>
              </a:rPr>
              <a:t>（二）求职信的写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42560" y="817200"/>
            <a:ext cx="9001080" cy="554508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txBody>
          <a:bodyPr anchor="t">
            <a:normAutofit/>
          </a:bodyPr>
          <a:p>
            <a:pPr marL="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展示自身条件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专业背景（知识结构、学科能力、学习成绩等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专业技能（业务技能、参与科研实践和社会实践方面的经历和成绩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综合能力（参与课外活动、获奖情况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5392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5392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5392"/>
                </a:solidFill>
                <a:latin typeface="宋体"/>
              </a:rPr>
              <a:t>）结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表达应聘希望；表达态度决心；请求获得答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2060"/>
                </a:solidFill>
                <a:latin typeface="宋体"/>
              </a:rPr>
              <a:t>祝颂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此致敬礼”“祝贵单位事业蒸蒸日上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2060"/>
                </a:solidFill>
                <a:latin typeface="宋体"/>
              </a:rPr>
              <a:t>落款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署名、署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2060"/>
                </a:solidFill>
                <a:latin typeface="宋体"/>
              </a:rPr>
              <a:t>附件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相关佐证材料（个人简历，成绩单，证书等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"/>
          <p:cNvSpPr/>
          <p:nvPr/>
        </p:nvSpPr>
        <p:spPr>
          <a:xfrm>
            <a:off x="648720" y="442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00000"/>
                </a:solidFill>
                <a:uFillTx/>
                <a:latin typeface="宋体"/>
              </a:rPr>
              <a:t>求职信的写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3" descr=""/>
          <p:cNvPicPr/>
          <p:nvPr/>
        </p:nvPicPr>
        <p:blipFill>
          <a:blip r:embed="rId1"/>
          <a:srcRect l="12598" t="892" r="6299" b="-887"/>
          <a:stretch/>
        </p:blipFill>
        <p:spPr>
          <a:xfrm>
            <a:off x="684360" y="0"/>
            <a:ext cx="7488000" cy="692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1115640" y="1341360"/>
            <a:ext cx="7056360" cy="439128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txBody>
          <a:bodyPr anchor="t">
            <a:normAutofit/>
          </a:bodyPr>
          <a:p>
            <a:pPr marL="263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宋体"/>
              </a:rPr>
              <a:t>（一）简历相关的三个重要环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制作一份高水平的简历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将简历有效投递到招聘单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简历投递后实施投递记录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宋体"/>
              </a:rPr>
              <a:t>（二）制作简历时的换位思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招聘人员看重什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招聘人员习惯看什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招聘人员要找什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"/>
          <p:cNvSpPr/>
          <p:nvPr/>
        </p:nvSpPr>
        <p:spPr>
          <a:xfrm>
            <a:off x="3536640" y="23328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宋体"/>
              </a:rPr>
              <a:t>二、求职简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610920" y="836280"/>
            <a:ext cx="7777080" cy="576108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txBody>
          <a:bodyPr anchor="t">
            <a:normAutofit/>
          </a:bodyPr>
          <a:p>
            <a:pPr marL="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个人信息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姓名、性别、出生年月、政治面貌、民族、籍贯、户口所在地，学历、学位、学校、专业、毕业时间、联系方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求职意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教育背景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毕业院校、所学专业、业余所学专业、主要课程（与岗位有关）、成绩单、奖学金、培训、证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工作经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社团活动、社会实践、专业实习、科研经历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获奖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外语及计算机水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7.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兴趣特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"/>
          <p:cNvSpPr/>
          <p:nvPr/>
        </p:nvSpPr>
        <p:spPr>
          <a:xfrm>
            <a:off x="2322720" y="4428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宋体"/>
              </a:rPr>
              <a:t>（三）求职简历的主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24000" y="764640"/>
            <a:ext cx="8640720" cy="568836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txBody>
          <a:bodyPr anchor="t">
            <a:normAutofit/>
          </a:bodyPr>
          <a:p>
            <a:pPr marL="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简历内容一定要条理清晰、主次分明，突出重点信息，控制篇幅（一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纸之内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简历要最大程度体现针对性，特别是教育背景、实践实习经历等方面要突出与应聘职位的相关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获奖情况要以奖学金为主，重要的放在前面，注明获奖年份和地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工作经历是重中之重，包括实习实践、科研兼职、创业等，要注明时间、地点、单位、职位和职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校园经历部分，主要是在校期间担任团干部、学生社团干部、班干部等情况，写明任职时间，具体职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简历一般不要加入过多主观的自我评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"/>
          <p:cNvSpPr/>
          <p:nvPr/>
        </p:nvSpPr>
        <p:spPr>
          <a:xfrm>
            <a:off x="2417400" y="4428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宋体"/>
              </a:rPr>
              <a:t>（四）写作求职简历注意事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186920" y="765000"/>
            <a:ext cx="6264360" cy="395928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txBody>
          <a:bodyPr anchor="t">
            <a:normAutofit/>
          </a:bodyPr>
          <a:p>
            <a:pPr marL="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（五）撰写简历的原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对性原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时调整原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（六）简历的三种类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时序型简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功能型简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混合型简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546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（三）申请书的写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6840" y="1197000"/>
            <a:ext cx="8435880" cy="49291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宋体"/>
              </a:rPr>
              <a:t>内容：单一、主题要明确，一事一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宋体"/>
              </a:rPr>
              <a:t>结构：格式固定，由标题、称谓、正文、结语、落款五个部分组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800000"/>
                </a:solidFill>
                <a:latin typeface="宋体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文种：“申请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申请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文种  如：入党申请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800000"/>
                </a:solidFill>
                <a:latin typeface="宋体"/>
              </a:rPr>
              <a:t>称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文对象，接受申请书的组织、单位、团体的名称和有关负责人的姓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：尊敬的党组织；某公司人力资源部负责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10920" y="259920"/>
            <a:ext cx="7489800" cy="626436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体现能力的常见行为动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体现个人成就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简化、实施、执行、完成、改进、推广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体现指导他人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建议、指导、辅导、教导、协作、协助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体现行政管理能力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引导、制订、分配、建立、支持、安排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体现领导能力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挥、主持、发起、处理、决定、监督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体现沟通能力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调查、说服、沟通、宣传、访谈、建议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体现组织计划能力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计划、组织、分配、参加、收集、管理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900000" y="1052640"/>
            <a:ext cx="7128000" cy="302400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7.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体现创新创造能力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建立、开发、研发、设计、发明、起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8.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体现研究分析能力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、调研、分析、核实、研究、观察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宋体"/>
              </a:rPr>
              <a:t>9.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体现技术能力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护、测试、诊断、调试、修理、重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1" descr=""/>
          <p:cNvPicPr/>
          <p:nvPr/>
        </p:nvPicPr>
        <p:blipFill>
          <a:blip r:embed="rId1"/>
          <a:srcRect l="2591" t="19551" r="2593" b="11149"/>
          <a:stretch/>
        </p:blipFill>
        <p:spPr>
          <a:xfrm>
            <a:off x="539640" y="-6480"/>
            <a:ext cx="777744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3480"/>
            <a:ext cx="281952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00000"/>
                </a:solidFill>
                <a:uFillTx/>
                <a:latin typeface="Arial"/>
              </a:rPr>
              <a:t>申请书的写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9280" y="530280"/>
            <a:ext cx="8209080" cy="5976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800000"/>
                </a:solidFill>
                <a:latin typeface="宋体"/>
              </a:rPr>
              <a:t>正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开头：交代申请人的基本信息或基本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主体：要真实充分，有条理地写明申请依据和理由，提出申请的内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结尾：围绕所申请事项，写出相应的保证或相关说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800000"/>
                </a:solidFill>
                <a:latin typeface="宋体"/>
              </a:rPr>
              <a:t>结语（结尾语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长期形成的一些习惯用语，独立成段，表示感谢或祝颂的言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特此申请”“敬请领导批准”“此致敬礼”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800000"/>
                </a:solidFill>
                <a:latin typeface="宋体"/>
              </a:rPr>
              <a:t>落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署名、署时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24000" y="189000"/>
            <a:ext cx="8712000" cy="6192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宋体"/>
              </a:rPr>
              <a:t>范文：            入党申请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敬爱的党组织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我是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**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级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**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专业的一名学生。今天，我怀着无比激动的心情，郑重地向党组织提出申请，我请求加入中国共产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我生长在一个党员干部家庭，对党的认识从小时候就开始了。我认识到中国共产党是中国工人阶级的先锋队，是中国各族人民利益的忠实代表，</a:t>
            </a: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多么年来的学习和生活使我认识到，要想成为一名光荣的中国共产党员，必须</a:t>
            </a: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我是一名普普通通的学生，能够做到热爱祖国，热爱党，热爱人民，遵守</a:t>
            </a: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请党组织考验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申请人：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**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28120" y="0"/>
            <a:ext cx="46198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二、贺信（电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24000" y="921960"/>
            <a:ext cx="8208720" cy="5243400"/>
          </a:xfrm>
          <a:prstGeom prst="rect">
            <a:avLst/>
          </a:prstGeom>
          <a:solidFill>
            <a:srgbClr val="ffffff">
              <a:alpha val="9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（一）释义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贺信是党政机关、企事业单位、社会团体或个人向其他集体或个人取得的成就、获得某一职位、组织成立、纪念日期等表示祝贺的专用礼仪类书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单位与单位之间，单位与个人之间，以及个人与个人之间礼仪交往的重要载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22268"/>
                </a:solidFill>
                <a:latin typeface="宋体"/>
              </a:rPr>
              <a:t>适用场合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大成就和突出成绩，重要庆祝活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会议，完成某项重要工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物；个人婚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寿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升学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22268"/>
                </a:solidFill>
                <a:latin typeface="宋体"/>
              </a:rPr>
              <a:t>功能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表彰、赞扬、庆贺、慰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22268"/>
                </a:solidFill>
                <a:latin typeface="宋体"/>
              </a:rPr>
              <a:t>贺信可以宣读，也可以用函电发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24000" y="476280"/>
            <a:ext cx="8640720" cy="5905440"/>
          </a:xfrm>
          <a:prstGeom prst="rect">
            <a:avLst/>
          </a:prstGeom>
          <a:solidFill>
            <a:srgbClr val="d7edea"/>
          </a:solidFill>
          <a:ln w="0">
            <a:noFill/>
          </a:ln>
        </p:spPr>
        <p:txBody>
          <a:bodyPr anchor="t">
            <a:normAutofit/>
          </a:bodyPr>
          <a:p>
            <a:pPr marL="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宋体"/>
              </a:rPr>
              <a:t>（二）贺信的写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392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5392"/>
                </a:solidFill>
                <a:latin typeface="宋体"/>
              </a:rPr>
              <a:t>标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文种：贺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贺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信单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人名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庆贺事由：</a:t>
            </a:r>
            <a:r>
              <a:rPr b="1" lang="el-GR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l-GR" sz="2800" spc="-1" strike="noStrike">
                <a:solidFill>
                  <a:srgbClr val="000000"/>
                </a:solidFill>
                <a:latin typeface="宋体"/>
              </a:rPr>
              <a:t>Χ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于庆祝</a:t>
            </a:r>
            <a:r>
              <a:rPr b="1" lang="el-GR" sz="2800" spc="-1" strike="noStrike">
                <a:solidFill>
                  <a:srgbClr val="000000"/>
                </a:solidFill>
                <a:latin typeface="宋体"/>
              </a:rPr>
              <a:t>Χ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贺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信单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人名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信单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文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l-GR" sz="2800" spc="-1" strike="noStrike">
                <a:solidFill>
                  <a:srgbClr val="000000"/>
                </a:solidFill>
                <a:latin typeface="宋体"/>
              </a:rPr>
              <a:t>Χ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致</a:t>
            </a:r>
            <a:r>
              <a:rPr b="1" lang="el-GR" sz="2800" spc="-1" strike="noStrike">
                <a:solidFill>
                  <a:srgbClr val="000000"/>
                </a:solidFill>
                <a:latin typeface="宋体"/>
              </a:rPr>
              <a:t>Χ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贺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事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文种：庆祝新疆维吾尔自治区成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周年贺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392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5392"/>
                </a:solidFill>
                <a:latin typeface="宋体"/>
              </a:rPr>
              <a:t>、称谓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文单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95280" y="666720"/>
            <a:ext cx="8353440" cy="5904000"/>
          </a:xfrm>
          <a:prstGeom prst="rect">
            <a:avLst/>
          </a:prstGeom>
          <a:solidFill>
            <a:srgbClr val="d7edea">
              <a:alpha val="9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392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5392"/>
                </a:solidFill>
                <a:latin typeface="宋体"/>
              </a:rPr>
              <a:t>正文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开头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缘由、背景，表示祝贺。“欣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得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成绩），我们谨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表示真挚的祝贺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主体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概述对方取得的成绩，值得庆贺的事由或原因。重大意义、肯定成绩、赞扬和高度评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结尾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回顾双方的合作关系，展望未来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392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5392"/>
                </a:solidFill>
                <a:latin typeface="宋体"/>
              </a:rPr>
              <a:t>结语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表示祝贺、祝福的语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祝本次大会取得圆满成功！”“祝贵校建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周年庆祝活动圆满成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392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5392"/>
                </a:solidFill>
                <a:latin typeface="宋体"/>
              </a:rPr>
              <a:t>落款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署名和日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"/>
          <p:cNvSpPr/>
          <p:nvPr/>
        </p:nvSpPr>
        <p:spPr>
          <a:xfrm>
            <a:off x="479520" y="0"/>
            <a:ext cx="151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6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00000"/>
                </a:solidFill>
                <a:uFillTx/>
                <a:latin typeface="宋体"/>
              </a:rPr>
              <a:t>贺信的写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971640" y="1341360"/>
            <a:ext cx="7200720" cy="3456000"/>
          </a:xfrm>
          <a:prstGeom prst="rect">
            <a:avLst/>
          </a:prstGeom>
          <a:solidFill>
            <a:srgbClr val="d7edea">
              <a:alpha val="9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63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宋体"/>
              </a:rPr>
              <a:t>（三）贺信写作注意事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内容要实事求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对方的成绩或贡献的评价要恰如其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表示决心要切实可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语言要精炼明快，通俗易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篇幅宜短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4T07:27:17Z</dcterms:created>
  <dc:creator>雨林木风</dc:creator>
  <dc:description>Use this template to create beautiful presentations using Nature's themes.</dc:description>
  <cp:keywords>exciting online presentation communicate impactful exchange information broadcast collaborate on-screen projector white</cp:keywords>
  <dc:language>en-US</dc:language>
  <cp:lastModifiedBy>liangna</cp:lastModifiedBy>
  <dcterms:modified xsi:type="dcterms:W3CDTF">2020-04-12T09:05:14Z</dcterms:modified>
  <cp:revision>72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ttribution">
    <vt:lpwstr>Copyright © 2005 KMT Software, Inc.</vt:lpwstr>
  </property>
  <property fmtid="{D5CDD505-2E9C-101B-9397-08002B2CF9AE}" pid="3" name="Folder">
    <vt:lpwstr>Nature</vt:lpwstr>
  </property>
  <property fmtid="{D5CDD505-2E9C-101B-9397-08002B2CF9AE}" pid="4" name="Style">
    <vt:lpwstr>P</vt:lpwstr>
  </property>
  <property fmtid="{D5CDD505-2E9C-101B-9397-08002B2CF9AE}" pid="5" name="Template">
    <vt:lpwstr>Spring</vt:lpwstr>
  </property>
</Properties>
</file>