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1D6B3-2645-4B0F-9819-8D416F0F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832D8-7F10-4F33-A88C-418D4D3E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58431-AB11-4949-997F-BA3BBEE9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C65BC-964D-4E04-8A4F-DA5BB268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FFCE6-89F5-464B-8D70-2B55BF2F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684CF-6FE4-4A46-B01B-6C52F445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5D356-417D-4F9F-B37E-F0C823F4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9AC67-700A-4170-861E-9F93715B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198F2-1B57-4611-B45C-27D54B79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B7142-4A5B-4010-A8CB-528B42BF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D5250-F894-4F42-ABE5-37383CBF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1FC38-9996-46B5-9F0D-B0BF6158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2B35D-FE20-4281-82B1-BAB6A2C0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C2B3E-1B27-40AF-9120-AEF26691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F5485-9761-488C-9A5C-9E6C0BE7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EE505-186A-4D71-BC62-EE728558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C6F43-A530-46F5-8D61-CE5F5D2F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1834B-0E24-4F61-BDDB-3E8DB142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1A6B2-C9BF-47D3-A640-DBE8B970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4358E-11C2-47B0-92C9-F14DF5B2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3401C-0567-4968-B489-A5AE767E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186EE-5BF7-45B3-B504-2B50731C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F0EA7-E251-4413-8ECB-70F3AE3C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2B57F-2F01-450E-BEF6-7D8E32B7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DE02A-4CAF-43BD-A4AD-A2D5DDF3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EC736-1BDA-4548-98B0-C8026C0B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48D8C-F7FF-49C4-93B1-475F537E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78C18-3BE2-4976-BC98-197F2F00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F40AD-97E8-435B-B053-18F2C9D4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C2A2C-D8E7-4DCF-AD73-6FF11DA8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95F-D44D-41C1-88DD-7B0B743E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B9FB7-12FC-40F9-88E8-C700EA0E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CAF71-2388-40D7-9DC8-84C79D71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FEA0C-F6FF-476B-A172-46A72451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C13A6-B747-426A-85FE-95E00CCF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054B3-A865-479A-8271-B197FEA8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A382C-FEF1-41C5-80CB-139511BD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27C66-BA29-4AEC-9977-CC63BFEC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545BC-128C-472D-9BFC-C08579A3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5C833-19BF-4813-A2DB-03812692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8E34F-C2B1-40FE-9DD9-AA76A4E3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F96-4ABF-4D51-BBD8-BC7CD54A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CB907-E86E-4135-98AF-BE0885B2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C4974-7415-488C-8264-F8C7F888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E8C6C-D220-4984-BB07-493E7F29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D29C8-02A1-42AB-9EE2-62245F6F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DDF33-207B-4C74-94A9-5DFC6FB3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2E8EE-52F9-4118-819F-08E59C3A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C2C3F-1C11-42D5-942F-FD8A3AF4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498BD-83DB-458E-995B-871C4148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FFC0D-2272-432A-AEB8-7368053A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49FCD-2642-4018-9282-2C047AD6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AAE-CD16-4CDE-99F7-F76BBA3B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69D5B-759C-4693-B2C1-29144B3A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38155-6DCE-42DC-8324-D65C93B5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BDEF1-4AAC-4C3D-8EA9-C541893B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E37AC-D144-4479-9DF0-C5D9289E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C7F39-68E4-49CB-AE1B-F441E617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996CF-1A6B-4774-A626-C2E058DB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BA9C3-A7DF-4428-B5C7-07C0539D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C6675-6ABA-4E63-B3BC-48074722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970F7-9236-43ED-8257-302273C9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3DEB5-0123-4261-A164-012955CC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7DC-E48F-434D-AEDB-8EAA7234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965D9-4CE4-4972-979A-17A76AF6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5C6215-6D84-4C26-826B-774C4CF2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231B1-4024-4135-9007-2FC32A0C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0223A-9D8B-4E82-A8C9-A674D162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5858B-ADE9-4E0E-80F8-3DF20934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89B7C-D2CF-49AD-9717-DF223FC9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E6BF2-74EF-4CA2-AE47-549D3BF9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D37A1-0520-4ED6-B34E-148C6031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099BDF-78E0-4864-9D0C-DDB795DC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57D-9930-4BF4-9F53-1E521B69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B23-B3C4-4C91-977D-56367CF1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3CF-C0B6-408D-9BDB-146BD3A5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FBD-3DCA-4BA9-A8DF-08264085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1046-EF40-4D79-9A92-F6DBBB17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9B13-E13F-4034-A084-93A3653D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58F-FE9B-4191-AE26-9C997142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B44-3C35-46AC-B912-2342E110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481E-6514-4F0D-B5B6-A0CDDA9A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468C-C913-4BDA-B26F-8154FE71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B73F-963B-4CEF-9042-A452646B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885C-41CC-4972-93C5-B0ECD394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5EED-29DC-49EF-8A46-BACB3A9E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560A-2780-40AA-99C0-25642B96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A649-3CD2-407B-A203-449B8648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8482-5927-4E24-BD6D-3C831E3E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18D0-1F14-4F79-892D-A97BEA5D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9D52-C611-4B3D-A731-DCE2D220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0DF5-B9A0-4E87-BB73-698419BF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90F9-1442-4167-8CF4-A9622ABD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BA952-31DF-4548-BC1D-64A27836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CC8FF-7AAC-484F-A58B-1F86A932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FCAF9-B7A4-418A-A7B4-5CCA3F9E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90EEE-335A-49E7-9321-004BD95F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01DF2-A030-4495-B958-48150128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381A6-E80E-4037-B175-387035B9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3C59A-7E21-446D-9468-B6A48B74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54FB4-7C62-44B3-950E-5F754773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D9D77-6C3F-452D-9A5D-FFE28091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3EE23-A3D3-4221-91C3-FF81E49E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F31D7-1813-47E6-82F6-A3C8B909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D3FCA-E1B9-4825-A0A8-C910C16D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DFD71-C41D-452D-AE28-5A474051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F1985-8144-47F7-85E9-73D9AF60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E43B4-46AF-44CD-B86C-515824C6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B15FA-4892-49CE-8613-1E202FD3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4539A-F5F7-44C6-96E0-4231F7C7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DBD46-FE12-46CF-B65C-DBAD9584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63778-E0E7-4CEA-9CF9-820CF2F0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74F3A-AC0B-491C-AE1E-D9E5D454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A9A45-7426-4910-8B9B-289B8D2E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D4984-09BD-424D-BBA7-980B9CF8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46ABE-F49B-46E1-B705-3001FE1B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0FAEB-1B60-4C36-8141-0F690E70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F3E81-A85F-49B7-86A6-05B2D858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1FB1A-91C9-44E8-87C0-EF0144D5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9AFE9-C81F-41AB-92F5-F805E35F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90AD4-B0DA-4312-BD25-737EFFD7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F3066-C0B4-4E7B-AE03-6FF653A7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86F9F-D94E-4AA4-A7F8-DFEFF7D4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83C5E-CAC5-4A2E-9988-1DBB4C99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01F26-9385-4F68-8358-2C34B8F4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40FF4-4033-4DBC-A2B0-EF6E8259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19C39-596E-4C51-96F1-1F9DA7FE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A1198-71AB-4E4C-B764-5E123B87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79A16-037A-4ACC-86D9-F183CA53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B39B9-A23C-4246-B789-E506915A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EE645-BB34-4037-87AB-90142F78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C9715-F87A-4409-AF48-0CA47812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5B31A-215F-4A62-AAA6-6A8519E8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FECF6-FD21-4A0F-B317-FBCC4768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F6457-23B1-416E-B64C-DD19F5B1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D5AC7-DB7E-4E7B-8790-DB500A47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02168-D7FE-411A-A280-DB84A608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6EF4C-6C3F-439C-9E70-1E1CC566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63B15-4FA9-4620-AFC4-25C2F3CD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2F5C7-092B-498E-90FC-5F58A7C4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49BEC-F71E-4E65-8B5A-1227BDB4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DA957-0FBE-4B5F-9C5B-56D922DE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0A33D-6B79-4CB8-93EF-02FC5DB3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311DD-96F0-4AC7-A624-BD2AD4E6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6D0DD-F966-4950-B053-4C54D782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1C4D6-A5C8-4497-9DE3-3078BAF5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F2C45-44A7-4C6B-9EEB-1A82A517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3F1EF-B113-45F0-8E9A-7524C6C7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4ECF0-4077-42E0-A317-A73D149C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23561-5968-48D9-804A-9EED0A8A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71AB1-5C68-4D85-8814-C09C38CA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BCFAA-9FA8-40E3-9CF2-D2BAA0A9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4EE8B-3C26-46D7-919D-F974EAE7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875EB-65CC-4455-B20D-100FD73B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07A4A-7B7E-477F-8726-43215B42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1E7D4-0642-4DE3-A8FE-2BA3B5DB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矩形 1"/>
          <p:cNvGrpSpPr/>
          <p:nvPr/>
        </p:nvGrpSpPr>
        <p:grpSpPr>
          <a:xfrm>
            <a:off x="0" y="401760"/>
            <a:ext cx="9150480" cy="798480"/>
            <a:chOff x="0" y="401760"/>
            <a:chExt cx="9150480" cy="798480"/>
          </a:xfrm>
        </p:grpSpPr>
        <p:pic>
          <p:nvPicPr>
            <p:cNvPr id="3" name="矩形 1" descr=""/>
            <p:cNvPicPr/>
            <p:nvPr/>
          </p:nvPicPr>
          <p:blipFill>
            <a:blip r:embed="rId3"/>
            <a:stretch/>
          </p:blipFill>
          <p:spPr>
            <a:xfrm>
              <a:off x="0" y="401760"/>
              <a:ext cx="9150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404640"/>
              <a:ext cx="9144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矩形 1"/>
          <p:cNvGrpSpPr/>
          <p:nvPr/>
        </p:nvGrpSpPr>
        <p:grpSpPr>
          <a:xfrm>
            <a:off x="0" y="401760"/>
            <a:ext cx="9150480" cy="798480"/>
            <a:chOff x="0" y="401760"/>
            <a:chExt cx="9150480" cy="798480"/>
          </a:xfrm>
        </p:grpSpPr>
        <p:pic>
          <p:nvPicPr>
            <p:cNvPr id="388" name="矩形 1" descr=""/>
            <p:cNvPicPr/>
            <p:nvPr/>
          </p:nvPicPr>
          <p:blipFill>
            <a:blip r:embed="rId3"/>
            <a:stretch/>
          </p:blipFill>
          <p:spPr>
            <a:xfrm>
              <a:off x="0" y="401760"/>
              <a:ext cx="9150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0" y="404640"/>
              <a:ext cx="9144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70F7-7F66-46E4-BAC5-757BDECF5F3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矩形 1"/>
          <p:cNvGrpSpPr/>
          <p:nvPr/>
        </p:nvGrpSpPr>
        <p:grpSpPr>
          <a:xfrm>
            <a:off x="0" y="401760"/>
            <a:ext cx="9150480" cy="798480"/>
            <a:chOff x="0" y="401760"/>
            <a:chExt cx="9150480" cy="798480"/>
          </a:xfrm>
        </p:grpSpPr>
        <p:pic>
          <p:nvPicPr>
            <p:cNvPr id="432" name="矩形 1" descr=""/>
            <p:cNvPicPr/>
            <p:nvPr/>
          </p:nvPicPr>
          <p:blipFill>
            <a:blip r:embed="rId3"/>
            <a:stretch/>
          </p:blipFill>
          <p:spPr>
            <a:xfrm>
              <a:off x="0" y="401760"/>
              <a:ext cx="9150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0" y="404640"/>
              <a:ext cx="9144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8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9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0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0690-B1E6-423B-9CB2-11EA4DBA9D3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矩形 1"/>
          <p:cNvGrpSpPr/>
          <p:nvPr/>
        </p:nvGrpSpPr>
        <p:grpSpPr>
          <a:xfrm>
            <a:off x="0" y="401760"/>
            <a:ext cx="9150480" cy="798480"/>
            <a:chOff x="0" y="401760"/>
            <a:chExt cx="9150480" cy="798480"/>
          </a:xfrm>
        </p:grpSpPr>
        <p:pic>
          <p:nvPicPr>
            <p:cNvPr id="476" name="矩形 1" descr=""/>
            <p:cNvPicPr/>
            <p:nvPr/>
          </p:nvPicPr>
          <p:blipFill>
            <a:blip r:embed="rId3"/>
            <a:stretch/>
          </p:blipFill>
          <p:spPr>
            <a:xfrm>
              <a:off x="0" y="401760"/>
              <a:ext cx="9150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0" y="404640"/>
              <a:ext cx="9144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B684-FC01-479F-8410-5E65441BFA4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矩形 1"/>
          <p:cNvGrpSpPr/>
          <p:nvPr/>
        </p:nvGrpSpPr>
        <p:grpSpPr>
          <a:xfrm>
            <a:off x="0" y="401760"/>
            <a:ext cx="9150480" cy="798480"/>
            <a:chOff x="0" y="401760"/>
            <a:chExt cx="9150480" cy="798480"/>
          </a:xfrm>
        </p:grpSpPr>
        <p:pic>
          <p:nvPicPr>
            <p:cNvPr id="520" name="矩形 1" descr=""/>
            <p:cNvPicPr/>
            <p:nvPr/>
          </p:nvPicPr>
          <p:blipFill>
            <a:blip r:embed="rId3"/>
            <a:stretch/>
          </p:blipFill>
          <p:spPr>
            <a:xfrm>
              <a:off x="0" y="401760"/>
              <a:ext cx="9150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0" y="404640"/>
              <a:ext cx="9144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FADD-B51A-4A98-BA9D-02CB008670F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矩形 1"/>
          <p:cNvGrpSpPr/>
          <p:nvPr/>
        </p:nvGrpSpPr>
        <p:grpSpPr>
          <a:xfrm>
            <a:off x="0" y="401760"/>
            <a:ext cx="9150480" cy="798480"/>
            <a:chOff x="0" y="401760"/>
            <a:chExt cx="9150480" cy="798480"/>
          </a:xfrm>
        </p:grpSpPr>
        <p:pic>
          <p:nvPicPr>
            <p:cNvPr id="564" name="矩形 1" descr=""/>
            <p:cNvPicPr/>
            <p:nvPr/>
          </p:nvPicPr>
          <p:blipFill>
            <a:blip r:embed="rId3"/>
            <a:stretch/>
          </p:blipFill>
          <p:spPr>
            <a:xfrm>
              <a:off x="0" y="401760"/>
              <a:ext cx="9150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0" y="404640"/>
              <a:ext cx="9144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7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8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9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3411-3B27-4426-B7ED-5A9BD4CAB7C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118D-8404-46C8-9C55-1D8372AD840C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2596-47A2-48C3-8D30-2160E53A6B6D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矩形 1"/>
          <p:cNvGrpSpPr/>
          <p:nvPr/>
        </p:nvGrpSpPr>
        <p:grpSpPr>
          <a:xfrm>
            <a:off x="0" y="401760"/>
            <a:ext cx="9150480" cy="798480"/>
            <a:chOff x="0" y="401760"/>
            <a:chExt cx="9150480" cy="798480"/>
          </a:xfrm>
        </p:grpSpPr>
        <p:pic>
          <p:nvPicPr>
            <p:cNvPr id="124" name="矩形 1" descr=""/>
            <p:cNvPicPr/>
            <p:nvPr/>
          </p:nvPicPr>
          <p:blipFill>
            <a:blip r:embed="rId3"/>
            <a:stretch/>
          </p:blipFill>
          <p:spPr>
            <a:xfrm>
              <a:off x="0" y="401760"/>
              <a:ext cx="9150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404640"/>
              <a:ext cx="9144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55B7-17E6-4078-964F-917F52A271A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矩形 1"/>
          <p:cNvGrpSpPr/>
          <p:nvPr/>
        </p:nvGrpSpPr>
        <p:grpSpPr>
          <a:xfrm>
            <a:off x="0" y="401760"/>
            <a:ext cx="9150480" cy="798480"/>
            <a:chOff x="0" y="401760"/>
            <a:chExt cx="9150480" cy="798480"/>
          </a:xfrm>
        </p:grpSpPr>
        <p:pic>
          <p:nvPicPr>
            <p:cNvPr id="168" name="矩形 1" descr=""/>
            <p:cNvPicPr/>
            <p:nvPr/>
          </p:nvPicPr>
          <p:blipFill>
            <a:blip r:embed="rId3"/>
            <a:stretch/>
          </p:blipFill>
          <p:spPr>
            <a:xfrm>
              <a:off x="0" y="401760"/>
              <a:ext cx="9150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0" y="404640"/>
              <a:ext cx="9144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874C-7292-4494-994F-82C14E7DE86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矩形 1"/>
          <p:cNvGrpSpPr/>
          <p:nvPr/>
        </p:nvGrpSpPr>
        <p:grpSpPr>
          <a:xfrm>
            <a:off x="0" y="401760"/>
            <a:ext cx="9150480" cy="798480"/>
            <a:chOff x="0" y="401760"/>
            <a:chExt cx="9150480" cy="798480"/>
          </a:xfrm>
        </p:grpSpPr>
        <p:pic>
          <p:nvPicPr>
            <p:cNvPr id="212" name="矩形 1" descr=""/>
            <p:cNvPicPr/>
            <p:nvPr/>
          </p:nvPicPr>
          <p:blipFill>
            <a:blip r:embed="rId3"/>
            <a:stretch/>
          </p:blipFill>
          <p:spPr>
            <a:xfrm>
              <a:off x="0" y="401760"/>
              <a:ext cx="9150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404640"/>
              <a:ext cx="9144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27C5-1EE3-4D75-9B87-25B739D700E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矩形 1"/>
          <p:cNvGrpSpPr/>
          <p:nvPr/>
        </p:nvGrpSpPr>
        <p:grpSpPr>
          <a:xfrm>
            <a:off x="0" y="401760"/>
            <a:ext cx="9150480" cy="798480"/>
            <a:chOff x="0" y="401760"/>
            <a:chExt cx="9150480" cy="798480"/>
          </a:xfrm>
        </p:grpSpPr>
        <p:pic>
          <p:nvPicPr>
            <p:cNvPr id="256" name="矩形 1" descr=""/>
            <p:cNvPicPr/>
            <p:nvPr/>
          </p:nvPicPr>
          <p:blipFill>
            <a:blip r:embed="rId3"/>
            <a:stretch/>
          </p:blipFill>
          <p:spPr>
            <a:xfrm>
              <a:off x="0" y="401760"/>
              <a:ext cx="9150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404640"/>
              <a:ext cx="9144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E35E-30F8-4189-8208-38A1CBAD5BB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矩形 1"/>
          <p:cNvGrpSpPr/>
          <p:nvPr/>
        </p:nvGrpSpPr>
        <p:grpSpPr>
          <a:xfrm>
            <a:off x="0" y="401760"/>
            <a:ext cx="9150480" cy="798480"/>
            <a:chOff x="0" y="401760"/>
            <a:chExt cx="9150480" cy="798480"/>
          </a:xfrm>
        </p:grpSpPr>
        <p:pic>
          <p:nvPicPr>
            <p:cNvPr id="300" name="矩形 1" descr=""/>
            <p:cNvPicPr/>
            <p:nvPr/>
          </p:nvPicPr>
          <p:blipFill>
            <a:blip r:embed="rId3"/>
            <a:stretch/>
          </p:blipFill>
          <p:spPr>
            <a:xfrm>
              <a:off x="0" y="401760"/>
              <a:ext cx="9150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0" y="404640"/>
              <a:ext cx="9144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6CB7-5BC9-4C4A-AD03-24EBEC850B0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矩形 1"/>
          <p:cNvGrpSpPr/>
          <p:nvPr/>
        </p:nvGrpSpPr>
        <p:grpSpPr>
          <a:xfrm>
            <a:off x="0" y="401760"/>
            <a:ext cx="9150480" cy="798480"/>
            <a:chOff x="0" y="401760"/>
            <a:chExt cx="9150480" cy="798480"/>
          </a:xfrm>
        </p:grpSpPr>
        <p:pic>
          <p:nvPicPr>
            <p:cNvPr id="344" name="矩形 1" descr=""/>
            <p:cNvPicPr/>
            <p:nvPr/>
          </p:nvPicPr>
          <p:blipFill>
            <a:blip r:embed="rId3"/>
            <a:stretch/>
          </p:blipFill>
          <p:spPr>
            <a:xfrm>
              <a:off x="0" y="401760"/>
              <a:ext cx="9150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0" y="404640"/>
              <a:ext cx="9144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6D90-6D66-4529-A260-62FCB819005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1332000" y="549360"/>
            <a:ext cx="6624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宋体"/>
              </a:rPr>
              <a:t>党政公文写作技巧与规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250920" y="44280"/>
            <a:ext cx="8424720" cy="6669360"/>
          </a:xfrm>
          <a:prstGeom prst="rect">
            <a:avLst/>
          </a:prstGeom>
          <a:solidFill>
            <a:srgbClr val="dbe7f9"/>
          </a:solidFill>
          <a:ln w="9360">
            <a:solidFill>
              <a:srgbClr val="a33e0b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截止和截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止：到某个时间停止。“已于昨日截止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至：到某个时间为止。“截至目前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作与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对抽象的活动：作报告、作曲、作孽、佳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对具体：做作业、做手脚、做贼心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出席和列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席：法定成员参加本组织会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席：应邀参加会议的其他人员，没有表决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称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务在前，姓名在后，用于公文：局长某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在前，职务在后，称呼用语：某某局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离职的领导，某某局原局长某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179280" y="333000"/>
            <a:ext cx="8640720" cy="6264360"/>
          </a:xfrm>
          <a:prstGeom prst="rect">
            <a:avLst/>
          </a:prstGeom>
          <a:solidFill>
            <a:srgbClr val="f9f9db"/>
          </a:solidFill>
          <a:ln w="9360">
            <a:solidFill>
              <a:srgbClr val="a33e0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五、公文的时间表述规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用汉字数字书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干支纪年、农历月日、历史朝代纪年，传统上采用汉字形式的非公历纪年。“民国二十八年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长期使用已经稳定的包括汉字的数字形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星期五、八国联军、七上八下、二万五千里、十月革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数字连用表示概数。七八十岁、五六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含有月日简称的事件、节日和其他特定含义的词组。五四运动、九一八事变、十一国庆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古籍参考文献著录中的数字。卷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250560" y="620280"/>
            <a:ext cx="8713800" cy="6048360"/>
          </a:xfrm>
          <a:prstGeom prst="rect">
            <a:avLst/>
          </a:prstGeom>
          <a:solidFill>
            <a:srgbClr val="f9f9db"/>
          </a:solidFill>
          <a:ln w="9360">
            <a:solidFill>
              <a:srgbClr val="a33e0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阿拉伯数字使用规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依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版物上数字用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计量数字，统计表中的数值，含有物理量的量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编号、电话号码、邮政编码、汽车号牌、产品型号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表示公元、世纪、年代、年月日、时刻等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文后参考文献著录中的数字（古籍除外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公文成文日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表示数值范围时，用连接号“～”或者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，在不造成歧义的情况下，前一数值的附加符号或计量单位可以省略，如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，可为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-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元不写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-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179280" y="333000"/>
            <a:ext cx="8640720" cy="5832360"/>
          </a:xfrm>
          <a:prstGeom prst="rect">
            <a:avLst/>
          </a:prstGeom>
          <a:solidFill>
            <a:srgbClr val="f9f9db"/>
          </a:solidFill>
          <a:ln w="9360">
            <a:solidFill>
              <a:srgbClr val="a33e0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阿拉伯数字和汉字数字均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计量或编号所需用的数字个数不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七号，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工作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五个工作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余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十余次，下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午六点二十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季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四季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拉伯数字突出简洁醒目的效果，汉字数字突出庄重典雅的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零，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数字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25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千零二十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编号：二〇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份：二〇二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55440" y="333360"/>
            <a:ext cx="8980560" cy="6191280"/>
          </a:xfrm>
          <a:prstGeom prst="rect">
            <a:avLst/>
          </a:prstGeom>
          <a:solidFill>
            <a:srgbClr val="ffffff"/>
          </a:solidFill>
          <a:ln w="9360">
            <a:solidFill>
              <a:srgbClr val="4987e3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仿宋"/>
                <a:ea typeface="仿宋"/>
              </a:rPr>
              <a:t>六、标点符号使用规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标点符号用法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201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2716cc"/>
                </a:solidFill>
                <a:latin typeface="仿宋"/>
                <a:ea typeface="仿宋"/>
              </a:rPr>
              <a:t>、顿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并列词语之间。这里有民主、自由、平等、开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需要停顿的重复词。他几次三番、几次三番地辩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某些序次语之后。一、二、甲、乙、丙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相邻或相近两个数字连用为缩略形式。二、三产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标有引号、书名号的并列成分之间不用顿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日”“月” ；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红楼梦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三国演义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如有其他成分插入则用顿号，如：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人民日报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海外版）、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光明日报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时代周刊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324000" y="691920"/>
            <a:ext cx="842472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仿宋"/>
                <a:ea typeface="仿宋"/>
              </a:rPr>
              <a:t>2.</a:t>
            </a:r>
            <a:r>
              <a:rPr b="1" lang="zh-CN" sz="2800" spc="-1" strike="noStrike">
                <a:solidFill>
                  <a:srgbClr val="2716cc"/>
                </a:solidFill>
                <a:latin typeface="仿宋"/>
                <a:ea typeface="仿宋"/>
              </a:rPr>
              <a:t>分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表示复句内部并列关系分句之间的停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语言文字的学习，就理解方面说，是得到一种知识；就运用方面说，是养成一种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表示非并列关系的多重复句中第一层分句之间的停顿。如：人还没看见，已经先听见歌声了；或者人已经转过山头望不见了，歌声还余音袅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用于分项列举的各项之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特聘教授的岗位职责为：一、讲授本学科的主干基础课程；二、主持本学科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；三、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；四、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94920" y="404280"/>
            <a:ext cx="8064360" cy="5185080"/>
          </a:xfrm>
          <a:prstGeom prst="rect">
            <a:avLst/>
          </a:prstGeom>
          <a:solidFill>
            <a:srgbClr val="ffffff">
              <a:alpha val="94000"/>
            </a:srgbClr>
          </a:solidFill>
          <a:ln w="9360">
            <a:solidFill>
              <a:srgbClr val="4987e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一、公文写作的准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  <a:ea typeface="宋体"/>
              </a:rPr>
              <a:t>具备良好的基本素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高的政治修养和政治觉悟；注意学习和积累，具备多学科知识；具备较强的书面表达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  <a:ea typeface="宋体"/>
              </a:rPr>
              <a:t>掌握政策，领会领导意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真全面深刻地理解上级政策的精神实质，从实践出发，因地制宜，与时俱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写作之前，听取领导意见，领会意图，与领导共同确立主旨、确立范围，布局谋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要广泛调研，掌握全局情况，树立大局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610920" y="764640"/>
            <a:ext cx="8064360" cy="4464360"/>
          </a:xfrm>
          <a:prstGeom prst="rect">
            <a:avLst/>
          </a:prstGeom>
          <a:solidFill>
            <a:srgbClr val="ffffff">
              <a:alpha val="94000"/>
            </a:srgbClr>
          </a:solidFill>
          <a:ln w="9360">
            <a:solidFill>
              <a:srgbClr val="4987e3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  <a:ea typeface="宋体"/>
              </a:rPr>
              <a:t>了解实际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要掌握本地区、本部门的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本单位不同时期文件的继承性、创新性和延续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  <a:ea typeface="宋体"/>
              </a:rPr>
              <a:t>准备写作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面收集、大量占有各类材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公文的选材，贵在充分、真实，切合公文的主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重材料的代表性和典型性，注意特殊性和普遍性的统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6"/>
          <p:cNvSpPr/>
          <p:nvPr/>
        </p:nvSpPr>
        <p:spPr>
          <a:xfrm>
            <a:off x="1187280" y="549360"/>
            <a:ext cx="6050160" cy="39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宋体"/>
              </a:rPr>
              <a:t>二、公文写作的一般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  <a:ea typeface="宋体"/>
              </a:rPr>
              <a:t>（一）表达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  <a:ea typeface="宋体"/>
              </a:rPr>
              <a:t>叙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陈述事实、情况、问题等，要求简明、客观、平铺直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  <a:ea typeface="宋体"/>
              </a:rPr>
              <a:t>说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抓住本质，对事件进行概括性介绍和解说。要求浅显易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  <a:ea typeface="宋体"/>
              </a:rPr>
              <a:t>议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析情况，讲明道理，阐述观点。不需论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3"/>
          <p:cNvGrpSpPr/>
          <p:nvPr/>
        </p:nvGrpSpPr>
        <p:grpSpPr>
          <a:xfrm>
            <a:off x="260280" y="225360"/>
            <a:ext cx="8785080" cy="6176520"/>
            <a:chOff x="260280" y="225360"/>
            <a:chExt cx="8785080" cy="6176520"/>
          </a:xfrm>
        </p:grpSpPr>
        <p:sp>
          <p:nvSpPr>
            <p:cNvPr id="612" name="AutoShape 4"/>
            <p:cNvSpPr/>
            <p:nvPr/>
          </p:nvSpPr>
          <p:spPr>
            <a:xfrm>
              <a:off x="260280" y="225360"/>
              <a:ext cx="8785080" cy="6176520"/>
            </a:xfrm>
            <a:prstGeom prst="flowChartTerminator">
              <a:avLst/>
            </a:prstGeom>
            <a:gradFill rotWithShape="0">
              <a:gsLst>
                <a:gs pos="0">
                  <a:srgbClr val="d6f2f6"/>
                </a:gs>
                <a:gs pos="50000">
                  <a:srgbClr val="ffffff"/>
                </a:gs>
                <a:gs pos="100000">
                  <a:srgbClr val="d6f2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5"/>
            <p:cNvSpPr/>
            <p:nvPr/>
          </p:nvSpPr>
          <p:spPr>
            <a:xfrm>
              <a:off x="684000" y="436320"/>
              <a:ext cx="8125920" cy="356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2060"/>
                  </a:solidFill>
                  <a:latin typeface="宋体"/>
                  <a:ea typeface="宋体"/>
                </a:rPr>
                <a:t>（二）公文写作的用语要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宋体"/>
                  <a:ea typeface="宋体"/>
                </a:rPr>
                <a:t>1.</a:t>
              </a:r>
              <a:r>
                <a:rPr b="1" lang="zh-CN" sz="2800" spc="-1" strike="noStrike">
                  <a:solidFill>
                    <a:srgbClr val="c00000"/>
                  </a:solidFill>
                  <a:latin typeface="宋体"/>
                  <a:ea typeface="宋体"/>
                </a:rPr>
                <a:t>准确性：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最基本的要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材料要准确，不可虚构和编造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表达要准确，概念明确、推理判断正确，符合语法规范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宋体"/>
                  <a:ea typeface="宋体"/>
                </a:rPr>
                <a:t>2.</a:t>
              </a:r>
              <a:r>
                <a:rPr b="1" lang="zh-CN" sz="2800" spc="-1" strike="noStrike">
                  <a:solidFill>
                    <a:srgbClr val="c00000"/>
                  </a:solidFill>
                  <a:latin typeface="宋体"/>
                  <a:ea typeface="宋体"/>
                </a:rPr>
                <a:t>严谨性：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严密周全，交代清楚，合乎逻辑。注意用语用词的庄重性、书面性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不可随意使用方言、口语词、缩略语、字母词语、生僻词、网络新词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宋体"/>
                  <a:ea typeface="宋体"/>
                </a:rPr>
                <a:t>3.</a:t>
              </a:r>
              <a:r>
                <a:rPr b="1" lang="zh-CN" sz="2800" spc="-1" strike="noStrike">
                  <a:solidFill>
                    <a:srgbClr val="c00000"/>
                  </a:solidFill>
                  <a:latin typeface="宋体"/>
                  <a:ea typeface="宋体"/>
                </a:rPr>
                <a:t>简洁性：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简洁平实、简明扼要。段落层次要清晰，句式简洁。切忌堆砌辞藻和滥用修辞格，少用关系复杂的复句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94920" y="260280"/>
            <a:ext cx="8496360" cy="612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（三）公文常用规范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  <a:ea typeface="宋体"/>
              </a:rPr>
              <a:t>开端用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引据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、遵照、按照、据查、据反映、依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原因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鉴于、由于、 基于、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目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为了、为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时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兹、兹有、兹派、兹因、兹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范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于、对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  <a:ea typeface="宋体"/>
              </a:rPr>
              <a:t>称谓用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第一人称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、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第二人称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你、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第三人称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  <a:ea typeface="宋体"/>
              </a:rPr>
              <a:t>引叙用语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悉、收悉、悉、敬悉、查、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24000" y="620640"/>
            <a:ext cx="8496000" cy="5184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  <a:ea typeface="宋体"/>
              </a:rPr>
              <a:t>经办用语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、已经、已将、现将、责成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  <a:ea typeface="宋体"/>
              </a:rPr>
              <a:t>征询用语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否、妥否、是否可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  <a:ea typeface="宋体"/>
              </a:rPr>
              <a:t>呈递用语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奉上、呈上、送上、转呈、递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  <a:ea typeface="宋体"/>
              </a:rPr>
              <a:t>期请用语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、敬请、恳请、谨请、务请、特请、报请、望、希望、希、盼、烦请；请批复、请指示、请函复、请批示、请批转、希遵照执行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  <a:ea typeface="宋体"/>
              </a:rPr>
              <a:t>表态用语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行、同意、照办、准予、不可、按此办理、按此执行、暂不执行、遵照执行、参照执行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  <a:ea typeface="宋体"/>
              </a:rPr>
              <a:t>结尾用语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此通知；特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现予以公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  <a:ea typeface="宋体"/>
              </a:rPr>
              <a:t>模糊用语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大多数地区、少数地区、不同程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539280" y="259920"/>
            <a:ext cx="8209080" cy="648180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三、公文写作中的用语不当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词语的误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滥用不同领导级别有关的专用词汇，如“重要指示”“重要讲话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“视察”是上级人员到下级机构或现场检查工作，地方领导到基层检查工作一般用“考察”“检查”“指导”“调查研究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滥用指令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滥用“要”，“要”表示下达指令，有强制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滥用“应”“应该”“必须”“务必”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助词使用不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“的”“地”“得”混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词语搭配不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过多重复用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注意兼类词的使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4416480" y="3230640"/>
            <a:ext cx="31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250920" y="44280"/>
            <a:ext cx="8424720" cy="6669360"/>
          </a:xfrm>
          <a:prstGeom prst="rect">
            <a:avLst/>
          </a:prstGeom>
          <a:solidFill>
            <a:srgbClr val="dbe7f9"/>
          </a:solidFill>
          <a:ln w="9360">
            <a:solidFill>
              <a:srgbClr val="a33e0b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宋体"/>
              </a:rPr>
              <a:t>四、近义词的选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制定和制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制定：法律、规程、政策、方针、路线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制订：创制拟定，工作计划、方案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主管与分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管：负主要责任，管理某一方面工作。主管财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管：分工管理某方面工作。分管某部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权力和权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权力：与职务相关联，领导干部的权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权利：与义务相对应。公民的权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  <a:ea typeface="宋体"/>
              </a:rPr>
              <a:t>施行和实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公布之日起施行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制订实施细则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7:27:17Z</dcterms:created>
  <dc:creator>雨林木风</dc:creator>
  <dc:description>Use this template to create beautiful presentations using Nature's themes.</dc:description>
  <cp:keywords>exciting online presentation communicate impactful exchange information broadcast collaborate on-screen projector white</cp:keywords>
  <dc:language>en-US</dc:language>
  <cp:lastModifiedBy>liangna</cp:lastModifiedBy>
  <cp:lastPrinted>2018-02-27T10:37:43Z</cp:lastPrinted>
  <dcterms:modified xsi:type="dcterms:W3CDTF">2020-03-22T12:18:09Z</dcterms:modified>
  <cp:revision>5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ribution">
    <vt:lpwstr>Copyright © 2005 KMT Software, Inc.</vt:lpwstr>
  </property>
  <property fmtid="{D5CDD505-2E9C-101B-9397-08002B2CF9AE}" pid="3" name="Folder">
    <vt:lpwstr>Nature</vt:lpwstr>
  </property>
  <property fmtid="{D5CDD505-2E9C-101B-9397-08002B2CF9AE}" pid="4" name="Style">
    <vt:lpwstr>P</vt:lpwstr>
  </property>
  <property fmtid="{D5CDD505-2E9C-101B-9397-08002B2CF9AE}" pid="5" name="Template">
    <vt:lpwstr>Spring</vt:lpwstr>
  </property>
</Properties>
</file>