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12201" t="3049" r="0" b="2347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1" descr=""/>
          <p:cNvPicPr/>
          <p:nvPr/>
        </p:nvPicPr>
        <p:blipFill>
          <a:blip r:embed="rId2"/>
          <a:srcRect l="12201" t="3049" r="0" b="2347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图片 4" descr=""/>
          <p:cNvPicPr/>
          <p:nvPr/>
        </p:nvPicPr>
        <p:blipFill>
          <a:blip r:embed="rId3"/>
          <a:srcRect l="12201" t="3049" r="0" b="2347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5920" y="-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</a:rPr>
              <a:t>第六节    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250920" y="1136520"/>
            <a:ext cx="8713800" cy="454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一、文种释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函适用于不相隶属机关之间商洽工作，询问和答复问题，请求批准和答复审批事项。平行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、函的适用范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相隶属机关之间商洽工作、询问和答复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向有关主管部门请求批准事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向上级机关询问具体事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级机关答复下级机关的询问或请求批准事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级机关催办下级机关有关事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级机关对某原发文件作较小幅度的补充或更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8309160" cy="5021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省体育运动委员会关于询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举办全省农民运动会有关项目比赛的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市体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      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全省农民运动会各项目的比赛，分散在各地举行，拟让你市承办篮球、田径两项的比赛。能否承办，希于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日前答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                                                   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省体育运动委员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                                                        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179280" y="1159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例文三：询问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6192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国务院办公厅关于安徽合肥经济技术开发区的复函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国办函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〔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〕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安徽省人民政府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: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你省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关于要求批准合肥经济技术开发区为国家级经济技术开发区的请示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皖政秘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〔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999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〕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38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号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悉。经国务院领导同意，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现函复如下</a:t>
            </a:r>
            <a:r>
              <a:rPr b="1" lang="en-US" sz="2400" spc="-1" strike="noStrike">
                <a:solidFill>
                  <a:srgbClr val="3333cc"/>
                </a:solidFill>
                <a:latin typeface="仿宋"/>
                <a:ea typeface="仿宋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一、同意合肥经济技术开发区为国家经济技术开发区，实行现行的国家经济技术开发区的政策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二、合肥经济技术开发区位于合肥市南郊，东以始信路、耕耘路、清潭路为界，西至合安公路、石门路、高压走廊、锦绣大道，南至紫蓬路，北至繁华大道、明珠广场，规划范围总用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平方公里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三、合肥经济技术开发区的建设和发展，纳入合肥市经济技术发展总体规划，建设发展资金由你省自筹解决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四、合肥经济技术开发区要坚持以工业项目为主、吸收外资、出口和致力于发展高新技术的方针，积极改善投资环境，逐步完善综合服务功能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五、要加强领导和管理，促进合肥经济技术开发区各项工作的健康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国务院办公厅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179280" y="460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例文四：复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5"/>
          <p:cNvSpPr/>
          <p:nvPr/>
        </p:nvSpPr>
        <p:spPr>
          <a:xfrm>
            <a:off x="395280" y="404640"/>
            <a:ext cx="8209080" cy="368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三、函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e1c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使用广泛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受单位级别高低、大小限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格式灵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级各类机关单位均可使用，除国家高级机关重要函必须按照公文格式之外，其他的函格式比较灵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写法灵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根据内容而定，习惯用语也比较灵活，但要谦恭有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沟通功能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相隶属机关之间商洽、询问和答复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四、函的种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按内容和用途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商洽函、问答函、批请函、询问函、答复函、告知函、转办函、催办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395280" y="404640"/>
            <a:ext cx="8209080" cy="359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四、函的种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按性质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公函：用于机关单位正式公务活动往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函：不用正式的公文格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按行文方向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函：主动提出公务事项所发出的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复函：针对来函进行答复所发出的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3"/>
          <p:cNvSpPr/>
          <p:nvPr/>
        </p:nvSpPr>
        <p:spPr>
          <a:xfrm>
            <a:off x="539640" y="549360"/>
            <a:ext cx="8207640" cy="4786560"/>
          </a:xfrm>
          <a:prstGeom prst="rect">
            <a:avLst/>
          </a:prstGeom>
          <a:solidFill>
            <a:srgbClr val="d6f2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五、函的基本结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标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发文机关</a:t>
            </a: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事由</a:t>
            </a: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文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国务院办公厅关于羊毛产销和质量等问题的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事由</a:t>
            </a:r>
            <a:r>
              <a:rPr b="1" lang="en-US" sz="2800" spc="-1" strike="noStrike">
                <a:solidFill>
                  <a:srgbClr val="025e1c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文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请求批准</a:t>
            </a:r>
            <a:r>
              <a:rPr b="1" lang="az-Cyrl-AZ" sz="2800" spc="-1" strike="noStrike">
                <a:solidFill>
                  <a:srgbClr val="000000"/>
                </a:solidFill>
                <a:latin typeface="宋体"/>
              </a:rPr>
              <a:t>Х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市节约能源中心编制的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发文字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机关、单位代字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函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+﹝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年份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﹞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文件编号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：环办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5﹞20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主送机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受理来函事项的单位，顶格写全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3"/>
          <p:cNvSpPr/>
          <p:nvPr/>
        </p:nvSpPr>
        <p:spPr>
          <a:xfrm>
            <a:off x="468360" y="333360"/>
            <a:ext cx="8351640" cy="3035160"/>
          </a:xfrm>
          <a:prstGeom prst="rect">
            <a:avLst/>
          </a:prstGeom>
          <a:solidFill>
            <a:srgbClr val="d6f2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正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开头：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缘由、目的、依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现将有关情况说明如下”“现就有关事项函告如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复函需引用对方来函的标题、发文字号，来函主题等。“你局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收悉，现将有关事项函复如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主体：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说明事项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商洽、询问或答复，语言简洁得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结尾：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希望或请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支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批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复函可省略结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3"/>
          <p:cNvSpPr/>
          <p:nvPr/>
        </p:nvSpPr>
        <p:spPr>
          <a:xfrm>
            <a:off x="468360" y="333360"/>
            <a:ext cx="7848720" cy="4041000"/>
          </a:xfrm>
          <a:prstGeom prst="rect">
            <a:avLst/>
          </a:prstGeom>
          <a:solidFill>
            <a:srgbClr val="d6f2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5e1c"/>
                </a:solidFill>
                <a:latin typeface="宋体"/>
              </a:rPr>
              <a:t>结语：</a:t>
            </a:r>
            <a:r>
              <a:rPr b="1" lang="zh-CN" sz="2800" spc="-1" strike="noStrike">
                <a:solidFill>
                  <a:srgbClr val="025e1c"/>
                </a:solidFill>
                <a:latin typeface="仿宋"/>
                <a:ea typeface="仿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特此函达” “特此致函”“请予函复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请即复函” “特此函询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"/>
                <a:ea typeface="仿宋"/>
              </a:rPr>
              <a:t>商洽函：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“恳请协助，不知贵方意见如何，请函告。”“望协助办理，并请尽快见复。”“望大力协助，盼复。” “特此函商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"/>
                <a:ea typeface="仿宋"/>
              </a:rPr>
              <a:t>请批函：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“可否，请审批”“望准予为荷”“请审核批准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仿宋"/>
                <a:ea typeface="仿宋"/>
              </a:rPr>
              <a:t>答复函：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“此复” “特此函复” “特此函告”“专此函告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落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署名，成文日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9"/>
          <p:cNvSpPr/>
          <p:nvPr/>
        </p:nvSpPr>
        <p:spPr>
          <a:xfrm>
            <a:off x="1116000" y="404640"/>
            <a:ext cx="7099200" cy="5091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六、写作要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要正确区别公函与便函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公函”：正式公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函”：便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行文简洁，掌握分寸，用语平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要准确理解“函代批复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级机关的办公厅（室）代行“批复”时用“函”行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一函一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讲究时效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135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省人民政府办公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申请拨款维修省府机关办公室的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省财政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      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省府机关办公室多是五十、六十年代修建的，不少门窗破烂，漏水严重，急需维修。为保证省府机关正常办公，请拨给房屋修缮费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万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                                                    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省人民政府办公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                                                        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1337760" y="260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例文一：批请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0480" y="115920"/>
            <a:ext cx="8893080" cy="6742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国科学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研究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学商洽建立全面协作关系的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学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: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近年来，我们研究所与贵校在一些科学研究项目上互相支持，取得了令人满意的成绩，建立了良好的协作基础。为了巩固已取得的成果，取得更大的成就，建议我们双方今后能进一步在学术思想、科学研究、人员培训、仪器设备等方面建立全面的交流协作关系，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特提出如下意见</a:t>
            </a:r>
            <a:r>
              <a:rPr b="1" lang="en-US" sz="2400" spc="-1" strike="noStrike">
                <a:solidFill>
                  <a:srgbClr val="3333cc"/>
                </a:solidFill>
                <a:latin typeface="仿宋"/>
                <a:ea typeface="仿宋"/>
              </a:rPr>
              <a:t>: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一、定期就共同关心的学术问题举行所、校之间的学术讨论与学术交流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共同分析国内外同行的项目动态和发展趋势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互相参加对方组织的学术年会及专家讲学活动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互派专家参加对方的学术组织对科研发展方向、任务和学位、学术论文及重大科研成果的评审工作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二、根据所、校各自的科研发展方向和特点，对双方共同感兴趣的课题进行协作。协作形式和办法视课题性质和双方条件，制定单项协议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三、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 。    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四、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以上各项，如蒙同意，建议互派科研主管人员就有关内容进一步磋商，达成协议，以利工作 。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仿宋"/>
                <a:ea typeface="仿宋"/>
              </a:rPr>
              <a:t>特此函达，请即研究函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中国科学院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研究所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509040" y="-237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例文二：商洽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7:27:17Z</dcterms:created>
  <dc:creator>雨林木风</dc:creator>
  <dc:description>Use this template to create beautiful presentations using Nature's themes.</dc:description>
  <cp:keywords>exciting online presentation communicate impactful exchange information broadcast collaborate on-screen projector white</cp:keywords>
  <dc:language>en-US</dc:language>
  <cp:lastModifiedBy>liangna</cp:lastModifiedBy>
  <cp:lastPrinted>2018-04-15T07:23:19Z</cp:lastPrinted>
  <dcterms:modified xsi:type="dcterms:W3CDTF">2020-03-21T14:05:43Z</dcterms:modified>
  <cp:revision>7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5 KMT Software, Inc.</vt:lpwstr>
  </property>
  <property fmtid="{D5CDD505-2E9C-101B-9397-08002B2CF9AE}" pid="3" name="Folder">
    <vt:lpwstr>Nature</vt:lpwstr>
  </property>
  <property fmtid="{D5CDD505-2E9C-101B-9397-08002B2CF9AE}" pid="4" name="Style">
    <vt:lpwstr>P</vt:lpwstr>
  </property>
  <property fmtid="{D5CDD505-2E9C-101B-9397-08002B2CF9AE}" pid="5" name="Template">
    <vt:lpwstr>Spring</vt:lpwstr>
  </property>
</Properties>
</file>